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040-1394-4115-90E3-DF12B425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759-0390-429C-8599-4ACEEF48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CED-02E7-49EB-B477-97F3A3D3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06A-E69B-4701-AA0E-BB62A8D4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C8B-E171-4722-82AB-2C7632A2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EE3-1302-4AFC-9AC0-E0EEDB1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834-C3FC-4A15-9279-695E9AC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E80-A30C-417B-9F7F-F40C81F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AB0-AAC8-4C87-8A0A-17E2F5DD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286-3413-494C-8738-19361BE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EB0-63CA-4043-AA88-6BDC8A5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54C-4594-485C-82C5-2A1F435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vanced Feature: 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D12-E4DF-4F99-8625-38F2E519BF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095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Building an Internet Router</a:t>
            </a:r>
            <a:endParaRPr b="0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ced Featur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wo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d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s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962520"/>
            <a:ext cx="64771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David Erickson  Filip Paun  David Chana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derickso@stanford.edu  paun@stanford.edu  dchanady@stanford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6576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1504800" cy="15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FE9-B99B-4528-A3C9-EC7E42175D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Destination Unreachable &amp; Expired TT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wrap the ICMP data payload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CMP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5909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481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0481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505320"/>
            <a:ext cx="2590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0520" y="266688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47040" y="266688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53080" y="26668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Chk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72920" y="31240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Un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81240" y="3124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M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0600" y="3581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962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3886200"/>
            <a:ext cx="2057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2120" y="3505320"/>
            <a:ext cx="251460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19520" y="3962520"/>
            <a:ext cx="4572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819520" y="3505320"/>
            <a:ext cx="304776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819520" y="3962520"/>
            <a:ext cx="304776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72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3200" y="34290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800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IP Dst 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572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IP Src 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02320" y="4343400"/>
            <a:ext cx="6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IP S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800600"/>
            <a:ext cx="2057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962520"/>
            <a:ext cx="312408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962520"/>
            <a:ext cx="259092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312408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191120"/>
            <a:ext cx="19051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8520" y="434340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TCP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6600" y="480060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omic Sans MS"/>
              </a:rPr>
              <a:t>Dst 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68920" y="480060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omic Sans MS"/>
              </a:rPr>
              <a:t>Src 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213-CFFA-4E5D-BDE3-25689A3F4F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hecksum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209680"/>
            <a:ext cx="990360" cy="9907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881000" cy="1300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361960" y="2590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8288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CP Pack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9720" y="2590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2743200"/>
            <a:ext cx="762120" cy="380880"/>
          </a:xfrm>
          <a:prstGeom prst="rect">
            <a:avLst/>
          </a:prstGeom>
          <a:solidFill>
            <a:srgbClr val="4c7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58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omic Sans MS"/>
              </a:rPr>
              <a:t>NEW_TCP_S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14240" y="2819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3505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74320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9718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028840" y="2590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380880"/>
          </a:xfrm>
          <a:prstGeom prst="rect">
            <a:avLst/>
          </a:prstGeom>
          <a:solidFill>
            <a:srgbClr val="4c73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28195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358128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omic Sans MS"/>
              </a:rPr>
              <a:t>OLD_TCP_S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181480" y="28195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3505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09720" y="29718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9718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19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t Entry: Aux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352680" y="4648320"/>
          <a:ext cx="2209680" cy="555480"/>
        </p:xfrm>
        <a:graphic>
          <a:graphicData uri="http://schemas.openxmlformats.org/drawingml/2006/table">
            <a:tbl>
              <a:tblPr/>
              <a:tblGrid>
                <a:gridCol w="1104840"/>
                <a:gridCol w="1104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xt S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t S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42680" y="563868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New_TCP_SUM = OLD_TCP_SUM + X -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BB2-EC73-4402-B638-84839A65D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emonstration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P (SSH/HTT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DP (Tracerou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MP (Traceroute/P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ctive entry sor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ry expi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OSPF Router Interoper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63C-C36B-4335-B846-A992A79530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emonstration Topology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267080"/>
            <a:ext cx="1295640" cy="9907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881360" cy="1300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4267080"/>
            <a:ext cx="1295280" cy="9907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4267080"/>
            <a:ext cx="1295280" cy="9907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81120" y="4800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90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81080" y="3200040"/>
            <a:ext cx="17528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1676520"/>
            <a:ext cx="1600200" cy="9903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34120" y="2362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971800" y="23619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6760" y="534816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ur Router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5840" y="53341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ur Router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53341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NS Ap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94640" y="2057400"/>
            <a:ext cx="16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ismyip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680" y="2590920"/>
            <a:ext cx="21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OEmail.stanford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25880" y="274320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8160" y="39625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N 171.67.71.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2440" y="449568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2.168.130.8/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96880" y="4495680"/>
            <a:ext cx="139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192.168.130.14/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A74-E4A9-431C-8258-15EE378FE6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hat is NAT? Why Use it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ends data from one location to another, using 32 bit addr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294,967,296 possible addres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reports claim the address space could be fully allocated by 2010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824400" y="5791320"/>
            <a:ext cx="35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http://www.potaroo.net/tools/ipv4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EAC-44FC-4414-810D-6AA5056F9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igh Level Overview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362320"/>
            <a:ext cx="990360" cy="9903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2362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1523880" cy="1299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5028840" y="2743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2844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59720" y="274320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4419720"/>
          <a:ext cx="7696440" cy="60948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rnal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rnal 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nal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nal 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 B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’s B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070440" y="380988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 Look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828800" y="2133720"/>
          <a:ext cx="2057400" cy="485640"/>
        </p:xfrm>
        <a:graphic>
          <a:graphicData uri="http://schemas.openxmlformats.org/drawingml/2006/table">
            <a:tbl>
              <a:tblPr/>
              <a:tblGrid>
                <a:gridCol w="411120"/>
                <a:gridCol w="1069920"/>
                <a:gridCol w="576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 Bo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b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029200" y="2133720"/>
          <a:ext cx="2057400" cy="485640"/>
        </p:xfrm>
        <a:graphic>
          <a:graphicData uri="http://schemas.openxmlformats.org/drawingml/2006/table">
            <a:tbl>
              <a:tblPr/>
              <a:tblGrid>
                <a:gridCol w="411120"/>
                <a:gridCol w="1069920"/>
                <a:gridCol w="576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’s Bo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b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828800" y="3095640"/>
          <a:ext cx="2057400" cy="485640"/>
        </p:xfrm>
        <a:graphic>
          <a:graphicData uri="http://schemas.openxmlformats.org/drawingml/2006/table">
            <a:tbl>
              <a:tblPr/>
              <a:tblGrid>
                <a:gridCol w="411120"/>
                <a:gridCol w="1069920"/>
                <a:gridCol w="576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b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 Bo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029200" y="3095640"/>
          <a:ext cx="2057400" cy="485640"/>
        </p:xfrm>
        <a:graphic>
          <a:graphicData uri="http://schemas.openxmlformats.org/drawingml/2006/table">
            <a:tbl>
              <a:tblPr/>
              <a:tblGrid>
                <a:gridCol w="411120"/>
                <a:gridCol w="1069920"/>
                <a:gridCol w="576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b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’s Bo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 flipH="1">
            <a:off x="182844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028840" y="2971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8400" y="3352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avid’s Box 22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280" y="2590920"/>
            <a:ext cx="85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ebsite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6E5-A76D-4CC8-91A8-7A17DC41E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ur Architectur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’s Role –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fully func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anage NAT Table Entrie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ll ICMP rewriting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write any TCP/UDP packets passed from HW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ware’s Role –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al function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eck for NAT hit on packets traversing the WAN port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write TCP/UDP packet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orward misses, ICMP, and unknown types to software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B41-A3A8-42E0-B7C9-07D8174FF4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ardware Overview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pkt pipeline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198108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198108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98108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362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362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362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362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520" y="2887560"/>
            <a:ext cx="96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88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352680"/>
            <a:ext cx="7696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od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gure out what to do with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2670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Where should I send this pack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:           Make necessary changes before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4FB-C5C8-44B3-B30D-4479211231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ardware Routing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basic 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352680"/>
            <a:ext cx="8380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352680"/>
            <a:ext cx="8384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352680"/>
            <a:ext cx="8380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352680"/>
            <a:ext cx="8380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5" idx="6"/>
            <a:endCxn id="86" idx="2"/>
          </p:cNvCxnSpPr>
          <p:nvPr/>
        </p:nvCxnSpPr>
        <p:spPr>
          <a:xfrm>
            <a:off x="2666520" y="3733560"/>
            <a:ext cx="68652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/>
          <p:nvPr/>
        </p:nvCxnSpPr>
        <p:spPr>
          <a:xfrm>
            <a:off x="4190760" y="3733560"/>
            <a:ext cx="61020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7" idx="6"/>
            <a:endCxn id="88" idx="2"/>
          </p:cNvCxnSpPr>
          <p:nvPr/>
        </p:nvCxnSpPr>
        <p:spPr>
          <a:xfrm>
            <a:off x="5638680" y="3733560"/>
            <a:ext cx="61056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C15-7382-4B08-B815-5A271DFB6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ardware Routing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nat 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3352680"/>
            <a:ext cx="8380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752480"/>
            <a:ext cx="8384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AT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352680"/>
            <a:ext cx="8384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352680"/>
            <a:ext cx="8380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352680"/>
            <a:ext cx="8380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4876920"/>
            <a:ext cx="83808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AT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76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on-NA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6"/>
            <a:endCxn id="95" idx="2"/>
          </p:cNvCxnSpPr>
          <p:nvPr/>
        </p:nvCxnSpPr>
        <p:spPr>
          <a:xfrm>
            <a:off x="2666520" y="3733560"/>
            <a:ext cx="68652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6" idx="2"/>
          </p:cNvCxnSpPr>
          <p:nvPr/>
        </p:nvCxnSpPr>
        <p:spPr>
          <a:xfrm>
            <a:off x="4190760" y="3733560"/>
            <a:ext cx="61020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6" idx="6"/>
            <a:endCxn id="97" idx="2"/>
          </p:cNvCxnSpPr>
          <p:nvPr/>
        </p:nvCxnSpPr>
        <p:spPr>
          <a:xfrm>
            <a:off x="5638680" y="3733560"/>
            <a:ext cx="61056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0"/>
            <a:endCxn id="94" idx="2"/>
          </p:cNvCxnSpPr>
          <p:nvPr/>
        </p:nvCxnSpPr>
        <p:spPr>
          <a:xfrm flipH="1" flipV="1" rot="5400000">
            <a:off x="2190240" y="2190240"/>
            <a:ext cx="1219680" cy="110556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4" idx="4"/>
            <a:endCxn id="95" idx="0"/>
          </p:cNvCxnSpPr>
          <p:nvPr/>
        </p:nvCxnSpPr>
        <p:spPr>
          <a:xfrm flipV="1" rot="10800000">
            <a:off x="3771360" y="2514240"/>
            <a:ext cx="1080" cy="838800"/>
          </a:xfrm>
          <a:prstGeom prst="curvedConnector2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5" idx="4"/>
            <a:endCxn id="98" idx="2"/>
          </p:cNvCxnSpPr>
          <p:nvPr/>
        </p:nvCxnSpPr>
        <p:spPr>
          <a:xfrm flipH="1" rot="16200000">
            <a:off x="3713400" y="4171680"/>
            <a:ext cx="1143720" cy="1028880"/>
          </a:xfrm>
          <a:prstGeom prst="curvedConnector2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8" idx="0"/>
            <a:endCxn id="96" idx="4"/>
          </p:cNvCxnSpPr>
          <p:nvPr/>
        </p:nvCxnSpPr>
        <p:spPr>
          <a:xfrm flipV="1">
            <a:off x="5219280" y="4114080"/>
            <a:ext cx="1080" cy="762840"/>
          </a:xfrm>
          <a:prstGeom prst="straightConnector1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>
            <a:off x="609480" y="5028840"/>
            <a:ext cx="534240" cy="10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>
            <a:off x="609480" y="5333760"/>
            <a:ext cx="534240" cy="1080"/>
          </a:xfrm>
          <a:prstGeom prst="curvedConnector2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>
            <a:off x="609480" y="5638320"/>
            <a:ext cx="534240" cy="1080"/>
          </a:xfrm>
          <a:prstGeom prst="curvedConnector2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219320" y="5181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AT: in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86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AT: out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1E6-B2B6-4F05-BB85-05F990884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hallenges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MP pack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P/UDP packet checks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DC0-223A-4B87-9284-2F65F5A8A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CMP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Echo - No port number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ID field instea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895480"/>
            <a:ext cx="1295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8954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35268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3526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048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0360" y="297180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3360" y="29718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29400" y="29718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Chk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6720" y="34290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Seq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191120"/>
            <a:ext cx="2133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2040" y="426708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971800" y="33523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3526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0040" y="38098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38098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A69-C087-4AE8-9B4E-472DB6CB1B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0T18:54:40Z</dcterms:created>
  <dc:creator>Nick McKeown</dc:creator>
  <dc:description/>
  <dc:language>en-US</dc:language>
  <cp:lastModifiedBy>David</cp:lastModifiedBy>
  <dcterms:modified xsi:type="dcterms:W3CDTF">2007-06-05T23:53:30Z</dcterms:modified>
  <cp:revision>142</cp:revision>
  <dc:subject/>
  <dc:title>CS244a: An Introduction to Computer Networks</dc:title>
</cp:coreProperties>
</file>