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21B-CDE6-40F9-9897-7C50D1BC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17-A29E-41B0-9494-771B2F12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751-6517-41D2-B062-E7E9013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782-1141-40B6-8D4E-B184B427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D6B-7498-4171-821B-3E50F5C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C4F-5075-4AA6-85F1-4D7E5B1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7A0-C15E-4207-A59D-DB3C834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EF1-1037-4F3B-A9AC-4CD66E3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204-348F-44F2-AFBB-610D937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901-7F74-4260-BECE-8A41E1B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468-ECED-4890-AEF6-D95E4C39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6DD-0B3C-4981-A678-037C2DD3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019-571A-4B04-B8C8-43F9066A6245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0560" y="6477120"/>
            <a:ext cx="3733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C02-821A-4344-9CCF-40B5EB1581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PS: A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n-interfering Web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refetching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yste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vi Kokku, Praveen Yalagand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un Venkataramani, Mike Dah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oratory for Advanced System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ment of Computer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2: Separation of Concern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etching has two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diction – What all objects are beneficial to prefetch?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Resource management –How many can we actually prefetch?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techniques do not differen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 if prob(access) &gt; 25%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 only top 10 important URL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rong Way!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We lose the flexibility to adap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nciple 2: Decouple prediction from resourc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diction: Application identifies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useful object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ecreasing order of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Resource management: Uses Principle 1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– when abunda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– when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CF4-0670-4DA4-B1FC-8DD7F8D424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3: Deployability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 resource management vs. deploy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OS scheduling of CPU, Memory, Dis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mplexity – N-Tier systems, Databas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Use differentiated services/ router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Every router should suppor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OS scheduling, transparent informed prefe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Millions of deployed brow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nciple 3: End-to-end resourc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rver – External monitoring and contro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Network – TCP-Nic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lient – Javascript trick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4FC-E8BA-4AA2-8A01-83BDBC9182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Principles for a prefetching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lf-tuning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coupling prediction from resource managemen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nd-to-end resource managemen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S prototyp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ing mechanism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ternal monitoring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CP-Nic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383-3599-4BAC-B798-943461D36F8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 Mechanis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08200" y="1755720"/>
            <a:ext cx="1223640" cy="698400"/>
            <a:chOff x="808200" y="1755720"/>
            <a:chExt cx="1223640" cy="698400"/>
          </a:xfrm>
        </p:grpSpPr>
        <p:sp>
          <p:nvSpPr>
            <p:cNvPr id="220" name=""/>
            <p:cNvSpPr/>
            <p:nvPr/>
          </p:nvSpPr>
          <p:spPr>
            <a:xfrm>
              <a:off x="808200" y="1755720"/>
              <a:ext cx="1223640" cy="698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4240" y="193032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343400" y="914400"/>
            <a:ext cx="1531800" cy="884160"/>
            <a:chOff x="4343400" y="914400"/>
            <a:chExt cx="1531800" cy="884160"/>
          </a:xfrm>
        </p:grpSpPr>
        <p:sp>
          <p:nvSpPr>
            <p:cNvPr id="223" name=""/>
            <p:cNvSpPr/>
            <p:nvPr/>
          </p:nvSpPr>
          <p:spPr>
            <a:xfrm>
              <a:off x="4343400" y="91440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88120" y="1044360"/>
              <a:ext cx="118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e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43400" y="1905120"/>
            <a:ext cx="1531800" cy="884160"/>
            <a:chOff x="4343400" y="1905120"/>
            <a:chExt cx="1531800" cy="884160"/>
          </a:xfrm>
        </p:grpSpPr>
        <p:sp>
          <p:nvSpPr>
            <p:cNvPr id="226" name=""/>
            <p:cNvSpPr/>
            <p:nvPr/>
          </p:nvSpPr>
          <p:spPr>
            <a:xfrm>
              <a:off x="4343400" y="190512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8560" y="2001600"/>
              <a:ext cx="120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>
            <a:off x="5867280" y="137124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867280" y="18288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09920" y="1981080"/>
            <a:ext cx="1377000" cy="1155600"/>
            <a:chOff x="7009920" y="1981080"/>
            <a:chExt cx="1377000" cy="1155600"/>
          </a:xfrm>
        </p:grpSpPr>
        <p:grpSp>
          <p:nvGrpSpPr>
            <p:cNvPr id="231" name=""/>
            <p:cNvGrpSpPr/>
            <p:nvPr/>
          </p:nvGrpSpPr>
          <p:grpSpPr>
            <a:xfrm>
              <a:off x="7136280" y="2438280"/>
              <a:ext cx="1250640" cy="698400"/>
              <a:chOff x="7136280" y="2438280"/>
              <a:chExt cx="1250640" cy="698400"/>
            </a:xfrm>
          </p:grpSpPr>
          <p:sp>
            <p:nvSpPr>
              <p:cNvPr id="232" name=""/>
              <p:cNvSpPr/>
              <p:nvPr/>
            </p:nvSpPr>
            <p:spPr>
              <a:xfrm>
                <a:off x="7162920" y="2438280"/>
                <a:ext cx="1224000" cy="698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36280" y="2582640"/>
                <a:ext cx="113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un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H="1" flipV="1">
              <a:off x="7009920" y="1981080"/>
              <a:ext cx="381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001960" y="1905120"/>
            <a:ext cx="3179520" cy="398880"/>
            <a:chOff x="2001960" y="1905120"/>
            <a:chExt cx="3179520" cy="398880"/>
          </a:xfrm>
        </p:grpSpPr>
        <p:sp>
          <p:nvSpPr>
            <p:cNvPr id="236" name=""/>
            <p:cNvSpPr/>
            <p:nvPr/>
          </p:nvSpPr>
          <p:spPr>
            <a:xfrm>
              <a:off x="2001960" y="2197080"/>
              <a:ext cx="234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19051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 Re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43120" y="2401920"/>
            <a:ext cx="2600280" cy="950760"/>
            <a:chOff x="1743120" y="2401920"/>
            <a:chExt cx="2600280" cy="950760"/>
          </a:xfrm>
        </p:grpSpPr>
        <p:sp>
          <p:nvSpPr>
            <p:cNvPr id="239" name=""/>
            <p:cNvSpPr/>
            <p:nvPr/>
          </p:nvSpPr>
          <p:spPr>
            <a:xfrm>
              <a:off x="1743120" y="2401920"/>
              <a:ext cx="2600280" cy="9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895480"/>
              <a:ext cx="163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nt 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05120" y="990720"/>
            <a:ext cx="2438280" cy="914400"/>
            <a:chOff x="1905120" y="990720"/>
            <a:chExt cx="2438280" cy="914400"/>
          </a:xfrm>
        </p:grpSpPr>
        <p:sp>
          <p:nvSpPr>
            <p:cNvPr id="242" name=""/>
            <p:cNvSpPr/>
            <p:nvPr/>
          </p:nvSpPr>
          <p:spPr>
            <a:xfrm flipV="1">
              <a:off x="1905120" y="1371600"/>
              <a:ext cx="2438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990720"/>
              <a:ext cx="146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et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447920"/>
            <a:ext cx="914400" cy="53316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35480" y="3078000"/>
            <a:ext cx="1531800" cy="884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94320" y="3154320"/>
            <a:ext cx="9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838080"/>
            <a:ext cx="4419720" cy="3276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657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419720"/>
            <a:ext cx="7467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79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.  Munger adds Javascript to htm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4876920"/>
            <a:ext cx="76201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786240" indent="-687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.  Client fetches html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305320"/>
            <a:ext cx="7772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594360" indent="-51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.  Javascript on html page fetches h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5762520"/>
            <a:ext cx="7848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786240" indent="-687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4.  Javascript on html page prefetches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D08-9EC5-491B-AB30-179AD3490A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143000" y="1438200"/>
            <a:ext cx="7020000" cy="3438360"/>
            <a:chOff x="1143000" y="1438200"/>
            <a:chExt cx="7020000" cy="3438360"/>
          </a:xfrm>
        </p:grpSpPr>
        <p:sp>
          <p:nvSpPr>
            <p:cNvPr id="254" name=""/>
            <p:cNvSpPr/>
            <p:nvPr/>
          </p:nvSpPr>
          <p:spPr>
            <a:xfrm>
              <a:off x="1143000" y="1438200"/>
              <a:ext cx="2116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9520" y="4403520"/>
              <a:ext cx="65134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4040" y="1776240"/>
              <a:ext cx="20541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2092320"/>
              <a:ext cx="1889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01560" y="1731960"/>
            <a:ext cx="7500960" cy="4224240"/>
            <a:chOff x="601560" y="1731960"/>
            <a:chExt cx="7500960" cy="4224240"/>
          </a:xfrm>
        </p:grpSpPr>
        <p:sp>
          <p:nvSpPr>
            <p:cNvPr id="259" name=""/>
            <p:cNvSpPr/>
            <p:nvPr/>
          </p:nvSpPr>
          <p:spPr>
            <a:xfrm>
              <a:off x="1136520" y="5483160"/>
              <a:ext cx="69660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560" y="1731960"/>
              <a:ext cx="221940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143000" y="1695600"/>
            <a:ext cx="7408800" cy="3790440"/>
            <a:chOff x="1143000" y="1695600"/>
            <a:chExt cx="7408800" cy="3790440"/>
          </a:xfrm>
        </p:grpSpPr>
        <p:sp>
          <p:nvSpPr>
            <p:cNvPr id="262" name=""/>
            <p:cNvSpPr/>
            <p:nvPr/>
          </p:nvSpPr>
          <p:spPr>
            <a:xfrm>
              <a:off x="5952960" y="1695600"/>
              <a:ext cx="259884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3000" y="5013000"/>
              <a:ext cx="65134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00120" y="906480"/>
            <a:ext cx="7462800" cy="5511960"/>
            <a:chOff x="600120" y="906480"/>
            <a:chExt cx="7462800" cy="5511960"/>
          </a:xfrm>
        </p:grpSpPr>
        <p:sp>
          <p:nvSpPr>
            <p:cNvPr id="265" name=""/>
            <p:cNvSpPr/>
            <p:nvPr/>
          </p:nvSpPr>
          <p:spPr>
            <a:xfrm>
              <a:off x="1127160" y="5945040"/>
              <a:ext cx="69357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0120" y="153504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720" y="90648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6680" y="91584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nd-to-end Monitoring and Control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: Low response tim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er not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eriodic probing for response tim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stimation of spare resources (budget) at server – AIMD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Distribution of budge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number. of clients allowed to pref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27160" y="1392120"/>
            <a:ext cx="6513480" cy="3011760"/>
            <a:chOff x="1127160" y="1392120"/>
            <a:chExt cx="6513480" cy="3011760"/>
          </a:xfrm>
        </p:grpSpPr>
        <p:sp>
          <p:nvSpPr>
            <p:cNvPr id="272" name=""/>
            <p:cNvSpPr/>
            <p:nvPr/>
          </p:nvSpPr>
          <p:spPr>
            <a:xfrm>
              <a:off x="1127160" y="3930480"/>
              <a:ext cx="65134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59040" y="1392120"/>
              <a:ext cx="324648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971800" y="2362320"/>
            <a:ext cx="2549520" cy="1047600"/>
            <a:chOff x="2971800" y="2362320"/>
            <a:chExt cx="2549520" cy="1047600"/>
          </a:xfrm>
        </p:grpSpPr>
        <p:sp>
          <p:nvSpPr>
            <p:cNvPr id="275" name=""/>
            <p:cNvSpPr/>
            <p:nvPr/>
          </p:nvSpPr>
          <p:spPr>
            <a:xfrm>
              <a:off x="2971800" y="2362320"/>
              <a:ext cx="2549520" cy="1047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53760" y="264492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2530800"/>
              <a:ext cx="94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71760" y="236376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392880" y="1143000"/>
            <a:ext cx="1531800" cy="884160"/>
            <a:chOff x="6392880" y="1143000"/>
            <a:chExt cx="1531800" cy="884160"/>
          </a:xfrm>
        </p:grpSpPr>
        <p:sp>
          <p:nvSpPr>
            <p:cNvPr id="280" name=""/>
            <p:cNvSpPr/>
            <p:nvPr/>
          </p:nvSpPr>
          <p:spPr>
            <a:xfrm>
              <a:off x="6392880" y="114300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58040" y="1239480"/>
              <a:ext cx="120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838080" y="1143000"/>
            <a:ext cx="1224000" cy="698400"/>
            <a:chOff x="838080" y="1143000"/>
            <a:chExt cx="1224000" cy="698400"/>
          </a:xfrm>
        </p:grpSpPr>
        <p:sp>
          <p:nvSpPr>
            <p:cNvPr id="283" name=""/>
            <p:cNvSpPr/>
            <p:nvPr/>
          </p:nvSpPr>
          <p:spPr>
            <a:xfrm>
              <a:off x="838080" y="1143000"/>
              <a:ext cx="1224000" cy="698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24480" y="13176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 flipV="1">
            <a:off x="1676520" y="1828800"/>
            <a:ext cx="1295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5680" y="167940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http://repObj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24415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 OK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2520" y="917640"/>
            <a:ext cx="19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Hint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fetchHint( 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6640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budgetLef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(hint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(“return later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410080" y="1828800"/>
            <a:ext cx="11430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562720" y="1980720"/>
            <a:ext cx="121896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905120" y="167652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B66-BC6C-4753-A05F-7DC647BCC5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1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5790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monitoring makes prefetching saf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9400" y="51847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675560" y="51847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45840" y="5087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9400" y="457848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675560" y="457848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91040" y="44816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9400" y="39718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675560" y="39718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91040" y="38750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9400" y="33638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675560" y="33638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1040" y="32670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9400" y="275760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675560" y="275760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91040" y="26589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9400" y="21495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675560" y="21495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91040" y="2052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9400" y="154152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75560" y="154152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91040" y="1444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9400" y="9349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675560" y="9349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91040" y="838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7940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940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5000" y="5210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44008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008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1696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004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72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96072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072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3796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7214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14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982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8172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172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5860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2406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06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892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00092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092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7780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6124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6124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384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9400" y="934920"/>
            <a:ext cx="6081840" cy="4249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-804240" y="2996280"/>
            <a:ext cx="389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 Demand Response Time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3080" y="537228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0920" y="369576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14320" y="2438280"/>
            <a:ext cx="166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tun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19600" y="990720"/>
            <a:ext cx="270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tuning, Pfrate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4400" y="255276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60640" y="3111480"/>
            <a:ext cx="5700600" cy="2063880"/>
          </a:xfrm>
          <a:custGeom>
            <a:avLst/>
            <a:gdLst/>
            <a:ahLst/>
            <a:rect l="l" t="t" r="r" b="b"/>
            <a:pathLst>
              <a:path w="14366" h="5200">
                <a:moveTo>
                  <a:pt x="0" y="5199"/>
                </a:moveTo>
                <a:lnTo>
                  <a:pt x="958" y="5199"/>
                </a:lnTo>
                <a:lnTo>
                  <a:pt x="1916" y="5200"/>
                </a:lnTo>
                <a:lnTo>
                  <a:pt x="2873" y="5199"/>
                </a:lnTo>
                <a:lnTo>
                  <a:pt x="3831" y="5193"/>
                </a:lnTo>
                <a:lnTo>
                  <a:pt x="5747" y="5189"/>
                </a:lnTo>
                <a:lnTo>
                  <a:pt x="6704" y="5192"/>
                </a:lnTo>
                <a:lnTo>
                  <a:pt x="8620" y="5190"/>
                </a:lnTo>
                <a:lnTo>
                  <a:pt x="9578" y="5193"/>
                </a:lnTo>
                <a:lnTo>
                  <a:pt x="10536" y="5186"/>
                </a:lnTo>
                <a:lnTo>
                  <a:pt x="11492" y="5186"/>
                </a:lnTo>
                <a:lnTo>
                  <a:pt x="12450" y="5176"/>
                </a:lnTo>
                <a:lnTo>
                  <a:pt x="1436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17800" y="5133960"/>
            <a:ext cx="83880" cy="8244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97240" y="513396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78120" y="5133960"/>
            <a:ext cx="8424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7560" y="513396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37000" y="513072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97320" y="512928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8200" y="5130720"/>
            <a:ext cx="8604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38880" y="5130720"/>
            <a:ext cx="83880" cy="8280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8320" y="513072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97760" y="512748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78640" y="5127480"/>
            <a:ext cx="8424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8080" y="5124600"/>
            <a:ext cx="85680" cy="8244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18400" y="307008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0640" y="3137040"/>
            <a:ext cx="2660760" cy="2038320"/>
          </a:xfrm>
          <a:custGeom>
            <a:avLst/>
            <a:gdLst/>
            <a:ahLst/>
            <a:rect l="l" t="t" r="r" b="b"/>
            <a:pathLst>
              <a:path w="6704" h="5136">
                <a:moveTo>
                  <a:pt x="0" y="5131"/>
                </a:moveTo>
                <a:lnTo>
                  <a:pt x="958" y="5136"/>
                </a:lnTo>
                <a:lnTo>
                  <a:pt x="1916" y="5134"/>
                </a:lnTo>
                <a:lnTo>
                  <a:pt x="2873" y="5133"/>
                </a:lnTo>
                <a:lnTo>
                  <a:pt x="3831" y="5126"/>
                </a:lnTo>
                <a:lnTo>
                  <a:pt x="5747" y="5119"/>
                </a:lnTo>
                <a:lnTo>
                  <a:pt x="670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17800" y="5173560"/>
            <a:ext cx="838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06064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97240" y="517536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440080" y="51336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517356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81952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57560" y="517356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20040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37000" y="517032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579840" y="51289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7320" y="516744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0160" y="512568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78200" y="313704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721400" y="309528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0640" y="1327320"/>
            <a:ext cx="1139760" cy="3848040"/>
          </a:xfrm>
          <a:custGeom>
            <a:avLst/>
            <a:gdLst/>
            <a:ahLst/>
            <a:rect l="l" t="t" r="r" b="b"/>
            <a:pathLst>
              <a:path w="2873" h="9698">
                <a:moveTo>
                  <a:pt x="0" y="9698"/>
                </a:moveTo>
                <a:lnTo>
                  <a:pt x="958" y="9681"/>
                </a:lnTo>
                <a:lnTo>
                  <a:pt x="1916" y="9672"/>
                </a:lnTo>
                <a:lnTo>
                  <a:pt x="2873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30400" y="514656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09840" y="5138640"/>
            <a:ext cx="60480" cy="58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89280" y="5135400"/>
            <a:ext cx="60120" cy="59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0160" y="1297080"/>
            <a:ext cx="60480" cy="58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2778120"/>
            <a:ext cx="5700600" cy="2381400"/>
          </a:xfrm>
          <a:custGeom>
            <a:avLst/>
            <a:gdLst/>
            <a:ahLst/>
            <a:rect l="l" t="t" r="r" b="b"/>
            <a:pathLst>
              <a:path w="14366" h="6004">
                <a:moveTo>
                  <a:pt x="0" y="6004"/>
                </a:moveTo>
                <a:lnTo>
                  <a:pt x="958" y="5989"/>
                </a:lnTo>
                <a:lnTo>
                  <a:pt x="1916" y="5979"/>
                </a:lnTo>
                <a:lnTo>
                  <a:pt x="2873" y="5984"/>
                </a:lnTo>
                <a:lnTo>
                  <a:pt x="3831" y="5987"/>
                </a:lnTo>
                <a:lnTo>
                  <a:pt x="5747" y="5975"/>
                </a:lnTo>
                <a:lnTo>
                  <a:pt x="6704" y="5959"/>
                </a:lnTo>
                <a:lnTo>
                  <a:pt x="8620" y="5954"/>
                </a:lnTo>
                <a:lnTo>
                  <a:pt x="9578" y="5958"/>
                </a:lnTo>
                <a:lnTo>
                  <a:pt x="10536" y="5961"/>
                </a:lnTo>
                <a:lnTo>
                  <a:pt x="11492" y="5957"/>
                </a:lnTo>
                <a:lnTo>
                  <a:pt x="12450" y="5947"/>
                </a:lnTo>
                <a:lnTo>
                  <a:pt x="14366" y="0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030400" y="5130360"/>
            <a:ext cx="586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0400" y="5130720"/>
            <a:ext cx="586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409840" y="51242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09840" y="51246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89280" y="512100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89280" y="512136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170160" y="51224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70160" y="51228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549600" y="51242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9600" y="51246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309920" y="511956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09920" y="511956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691160" y="51130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91160" y="51134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451480" y="5111280"/>
            <a:ext cx="586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51480" y="5111640"/>
            <a:ext cx="586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830920" y="511344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30920" y="511344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210360" y="51130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10360" y="51134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591240" y="51112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91240" y="51116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970680" y="510840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70680" y="510840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731000" y="27475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31000" y="27478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77120" y="3848040"/>
            <a:ext cx="9144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293364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3124080"/>
            <a:ext cx="38088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295280"/>
            <a:ext cx="30492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A16-0AB3-4987-B18F-C33A036AAA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nual tuning is too damaging at high loa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79400" y="47671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675560" y="47671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5840" y="4672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79400" y="392580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675560" y="392580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2160" y="3828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79400" y="30844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675560" y="30844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2160" y="2987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9400" y="22431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675560" y="22431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2160" y="2146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79400" y="14000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675560" y="14000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2160" y="1305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67940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65000" y="479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44008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4008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16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200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77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96072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0720" y="91440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37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1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21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8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4817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17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586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2406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06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892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0009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009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778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76124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84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9400" y="920880"/>
            <a:ext cx="6081840" cy="384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116640" y="2442240"/>
            <a:ext cx="205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4240" y="499752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26600" y="4235400"/>
            <a:ext cx="94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8640" y="400680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78920" y="3092400"/>
            <a:ext cx="20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 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09120" y="121752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31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17800" y="4557600"/>
            <a:ext cx="83880" cy="828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7240" y="43894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78120" y="4221000"/>
            <a:ext cx="84240" cy="828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57560" y="40528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7000" y="38847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97320" y="35481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78200" y="3379680"/>
            <a:ext cx="86040" cy="81000"/>
          </a:xfrm>
          <a:custGeom>
            <a:avLst/>
            <a:gdLst/>
            <a:ahLst/>
            <a:rect l="l" t="t" r="r" b="b"/>
            <a:pathLst>
              <a:path w="215" h="205">
                <a:moveTo>
                  <a:pt x="0" y="103"/>
                </a:moveTo>
                <a:lnTo>
                  <a:pt x="107" y="205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3043080"/>
            <a:ext cx="838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18320" y="2874960"/>
            <a:ext cx="8568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97760" y="2706840"/>
            <a:ext cx="85680" cy="806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78640" y="2538360"/>
            <a:ext cx="8424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58080" y="2370240"/>
            <a:ext cx="856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8400" y="249552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106"/>
                </a:lnTo>
                <a:lnTo>
                  <a:pt x="8620" y="106"/>
                </a:lnTo>
                <a:lnTo>
                  <a:pt x="9578" y="106"/>
                </a:lnTo>
                <a:lnTo>
                  <a:pt x="10536" y="106"/>
                </a:lnTo>
                <a:lnTo>
                  <a:pt x="11492" y="318"/>
                </a:lnTo>
                <a:lnTo>
                  <a:pt x="12450" y="212"/>
                </a:lnTo>
                <a:lnTo>
                  <a:pt x="14366" y="10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17800" y="45990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60640" y="45576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97240" y="44308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440080" y="43891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8120" y="426240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19520" y="42210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57560" y="40942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00400" y="40525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37000" y="39258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79840" y="38844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97320" y="35892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340160" y="354780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78200" y="363060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7214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8880" y="36306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48172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86116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9776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406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78640" y="3714840"/>
            <a:ext cx="842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621480" y="3675240"/>
            <a:ext cx="1440" cy="80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58080" y="367344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000920" y="363204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840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761240" y="3590640"/>
            <a:ext cx="180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212"/>
                </a:lnTo>
                <a:lnTo>
                  <a:pt x="8620" y="424"/>
                </a:lnTo>
                <a:lnTo>
                  <a:pt x="9578" y="424"/>
                </a:lnTo>
                <a:lnTo>
                  <a:pt x="10536" y="530"/>
                </a:lnTo>
                <a:lnTo>
                  <a:pt x="11492" y="424"/>
                </a:lnTo>
                <a:lnTo>
                  <a:pt x="12450" y="530"/>
                </a:lnTo>
                <a:lnTo>
                  <a:pt x="14366" y="53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30400" y="4570560"/>
            <a:ext cx="5868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9840" y="44020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89280" y="423396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70160" y="40654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49600" y="38973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09920" y="35607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91160" y="364500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51480" y="372888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30920" y="37288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10360" y="37702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91240" y="37288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7068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3100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15200" y="1454040"/>
            <a:ext cx="304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335916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781680" y="38160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690-0A29-49EC-B5D9-F79574C9B9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nual tuning too timid or too damag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monitoring is both aggressive and saf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79400" y="47671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675560" y="47671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45840" y="4672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79400" y="392580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675560" y="392580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2160" y="3828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9400" y="30844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675560" y="30844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2160" y="2987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79400" y="22431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675560" y="22431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2160" y="2146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79400" y="14000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675560" y="14000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2160" y="1305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67940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65000" y="479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44008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4008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16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200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77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6072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0720" y="91440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37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21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1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98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4817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817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586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2406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406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1892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0009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009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778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76124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84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9400" y="920880"/>
            <a:ext cx="6081840" cy="384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116640" y="2442240"/>
            <a:ext cx="205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04240" y="499752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26600" y="4235400"/>
            <a:ext cx="94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98640" y="400680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78920" y="3092400"/>
            <a:ext cx="20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 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11720" y="1873080"/>
            <a:ext cx="188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09120" y="121752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25360" y="1644480"/>
            <a:ext cx="186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31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17800" y="4557600"/>
            <a:ext cx="83880" cy="828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97240" y="43894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78120" y="4221000"/>
            <a:ext cx="84240" cy="828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57560" y="40528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7000" y="38847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97320" y="35481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78200" y="3379680"/>
            <a:ext cx="86040" cy="81000"/>
          </a:xfrm>
          <a:custGeom>
            <a:avLst/>
            <a:gdLst/>
            <a:ahLst/>
            <a:rect l="l" t="t" r="r" b="b"/>
            <a:pathLst>
              <a:path w="215" h="205">
                <a:moveTo>
                  <a:pt x="0" y="103"/>
                </a:moveTo>
                <a:lnTo>
                  <a:pt x="107" y="205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38880" y="3043080"/>
            <a:ext cx="838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8320" y="2874960"/>
            <a:ext cx="8568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97760" y="2706840"/>
            <a:ext cx="85680" cy="806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78640" y="2538360"/>
            <a:ext cx="8424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58080" y="2370240"/>
            <a:ext cx="856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18400" y="249552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106"/>
                </a:lnTo>
                <a:lnTo>
                  <a:pt x="8620" y="106"/>
                </a:lnTo>
                <a:lnTo>
                  <a:pt x="9578" y="106"/>
                </a:lnTo>
                <a:lnTo>
                  <a:pt x="10536" y="106"/>
                </a:lnTo>
                <a:lnTo>
                  <a:pt x="11492" y="318"/>
                </a:lnTo>
                <a:lnTo>
                  <a:pt x="12450" y="212"/>
                </a:lnTo>
                <a:lnTo>
                  <a:pt x="14366" y="10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17800" y="45990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60640" y="45576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97240" y="44308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440080" y="43891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78120" y="426240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819520" y="42210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57560" y="40942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200400" y="40525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37000" y="39258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79840" y="38844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97320" y="35892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340160" y="354780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78200" y="363060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7214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38880" y="36306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48172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1832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86116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9776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2406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78640" y="3714840"/>
            <a:ext cx="842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621480" y="3675240"/>
            <a:ext cx="1440" cy="80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58080" y="367344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000920" y="363204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1840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761240" y="3590640"/>
            <a:ext cx="180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212"/>
                </a:lnTo>
                <a:lnTo>
                  <a:pt x="8620" y="424"/>
                </a:lnTo>
                <a:lnTo>
                  <a:pt x="9578" y="424"/>
                </a:lnTo>
                <a:lnTo>
                  <a:pt x="10536" y="530"/>
                </a:lnTo>
                <a:lnTo>
                  <a:pt x="11492" y="424"/>
                </a:lnTo>
                <a:lnTo>
                  <a:pt x="12450" y="530"/>
                </a:lnTo>
                <a:lnTo>
                  <a:pt x="14366" y="53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30400" y="4570560"/>
            <a:ext cx="5868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09840" y="44020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89280" y="423396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70160" y="40654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49600" y="38973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09920" y="35607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1160" y="364500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51480" y="372888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30920" y="37288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10360" y="37702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91240" y="37288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7068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3100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212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030400" y="457056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30400" y="457056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409840" y="440172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09840" y="440208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789280" y="423396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89280" y="423396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170160" y="406512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70160" y="406548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549600" y="389700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49600" y="389736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309920" y="356040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9920" y="356076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691160" y="33904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91160" y="33908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451480" y="305604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51480" y="305604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830920" y="2887200"/>
            <a:ext cx="6012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2887560"/>
            <a:ext cx="6012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210360" y="2717640"/>
            <a:ext cx="6012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10360" y="2717640"/>
            <a:ext cx="6012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591240" y="254916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591240" y="25495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70680" y="23810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70680" y="23814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7731000" y="24649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31000" y="24652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60640" y="2200320"/>
            <a:ext cx="5700600" cy="2566800"/>
          </a:xfrm>
          <a:custGeom>
            <a:avLst/>
            <a:gdLst/>
            <a:ahLst/>
            <a:rect l="l" t="t" r="r" b="b"/>
            <a:pathLst>
              <a:path w="14366" h="6468">
                <a:moveTo>
                  <a:pt x="0" y="0"/>
                </a:moveTo>
                <a:lnTo>
                  <a:pt x="958" y="318"/>
                </a:lnTo>
                <a:lnTo>
                  <a:pt x="1916" y="636"/>
                </a:lnTo>
                <a:lnTo>
                  <a:pt x="2873" y="1166"/>
                </a:lnTo>
                <a:lnTo>
                  <a:pt x="3831" y="1697"/>
                </a:lnTo>
                <a:lnTo>
                  <a:pt x="5747" y="2863"/>
                </a:lnTo>
                <a:lnTo>
                  <a:pt x="6704" y="3499"/>
                </a:lnTo>
                <a:lnTo>
                  <a:pt x="8620" y="4559"/>
                </a:lnTo>
                <a:lnTo>
                  <a:pt x="9578" y="4983"/>
                </a:lnTo>
                <a:lnTo>
                  <a:pt x="10536" y="5514"/>
                </a:lnTo>
                <a:lnTo>
                  <a:pt x="11492" y="5832"/>
                </a:lnTo>
                <a:lnTo>
                  <a:pt x="12450" y="6150"/>
                </a:lnTo>
                <a:lnTo>
                  <a:pt x="14366" y="6468"/>
                </a:ln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95480" y="1987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48520" y="213984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1454040"/>
            <a:ext cx="304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335916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81680" y="38160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54C-BA8C-4E75-B52A-5AC1C07EF4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etwork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emand and prefetch on separate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this requir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HTTP/1.1 persistent connecti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n-order delivery of TCP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 prefetch affects deman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ensure separ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ing on a separate server por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use the prefetched objec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Javascript tricks – In the pape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A60-9805-4959-AB37-71279F91FD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etwork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tch connections use TCP 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mechanism for background transf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TCP congestion contro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onitors RTTs and backs-off when conges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vious study [OSDI 2002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ably bounds self- and cross-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significant spare networ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erver-side deployabl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913-B55C-40C6-8341-23A48F819C0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ummary of the Talk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ing should be done aggressively, but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: Non-interference with demand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self-tuning architecture for web prefetch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 when abundant sp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when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PS: A prototype prefetching syste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deploy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5A8-F0F2-469A-8EAB-08FCFFACD3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avg. response times for demand req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mpare with No-Prefetching and Hand-tun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al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290600" y="3902040"/>
            <a:ext cx="1224000" cy="821880"/>
            <a:chOff x="1290600" y="3902040"/>
            <a:chExt cx="1224000" cy="821880"/>
          </a:xfrm>
        </p:grpSpPr>
        <p:sp>
          <p:nvSpPr>
            <p:cNvPr id="670" name=""/>
            <p:cNvSpPr/>
            <p:nvPr/>
          </p:nvSpPr>
          <p:spPr>
            <a:xfrm>
              <a:off x="1290600" y="3902040"/>
              <a:ext cx="1224000" cy="82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4840" y="4107240"/>
              <a:ext cx="1839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nd-to-end Evaluation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800600" y="3124080"/>
            <a:ext cx="1891440" cy="884160"/>
            <a:chOff x="4800600" y="3124080"/>
            <a:chExt cx="1891440" cy="884160"/>
          </a:xfrm>
        </p:grpSpPr>
        <p:sp>
          <p:nvSpPr>
            <p:cNvPr id="674" name=""/>
            <p:cNvSpPr/>
            <p:nvPr/>
          </p:nvSpPr>
          <p:spPr>
            <a:xfrm>
              <a:off x="4800600" y="3124080"/>
              <a:ext cx="189144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8640" y="3254040"/>
              <a:ext cx="172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Sv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ache:8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76920" y="4114800"/>
            <a:ext cx="1826640" cy="884160"/>
            <a:chOff x="4876920" y="4114800"/>
            <a:chExt cx="1826640" cy="884160"/>
          </a:xfrm>
        </p:grpSpPr>
        <p:sp>
          <p:nvSpPr>
            <p:cNvPr id="677" name=""/>
            <p:cNvSpPr/>
            <p:nvPr/>
          </p:nvSpPr>
          <p:spPr>
            <a:xfrm>
              <a:off x="4876920" y="4114800"/>
              <a:ext cx="182664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86000" y="421128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Sv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ache: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 flipV="1">
            <a:off x="6705720" y="358092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705720" y="40384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35120" y="4406760"/>
            <a:ext cx="2341800" cy="8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4648320"/>
            <a:ext cx="25146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438280" y="3581280"/>
            <a:ext cx="243864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62920" y="3657600"/>
            <a:ext cx="914400" cy="5335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69000" y="5288040"/>
            <a:ext cx="1836720" cy="884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5364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S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PM pred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61960" y="387972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62600" y="2819520"/>
            <a:ext cx="19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 mod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i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81160" y="4741920"/>
            <a:ext cx="14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316-0DCE-44C7-AD8D-625F47522C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Abundant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Hand-tuned and NPS give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: Hand-tuned is tuned to the be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495-1150-4535-910E-94AB964257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uning the No-Avoidance Cas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-tuning takes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is self-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B1E-047C-4203-905F-4D1B39E6FB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Scarce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-tuned damages by 2-8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causes little damage to de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835200" y="1071720"/>
          <a:ext cx="716904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071720"/>
                    <a:ext cx="716904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DF-224B-4310-8A59-F862376ABA9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tch aggressively, but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prefetching architectu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es prediction from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able – few modifications to exist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improvements with abunda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amage with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PS prototyp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</a:rPr>
              <a:t>http://www.cs.utexas.edu/~rkoku/RESEARCH/NP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ABB-FD96-4B71-9362-16B676FCCB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ank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6F0-F449-4508-BC6E-B0AEB2FE1B9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Abundant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Hand-tuned and NPS give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: Hand-tuned is tuned to the be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0C0-74C9-4DEF-9105-FD07A055861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lient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 – CPU, memory and disk c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uristics to control cache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mit the space prefetch objects tak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ort expiration time for prefetched objec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 to avoid CPU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tart prefetching after all demand don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self-interference – more common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What about cross-interference?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odifications might b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DD3-1DA6-4FAE-B56C-390331919DD8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/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E02-5D9B-492D-AEEB-30FB68A014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at is Web Prefetching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ulatively fetch data that will be accessed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prefetch mechanis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M96, MC98, CZ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581280"/>
            <a:ext cx="32004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9120" y="3260880"/>
            <a:ext cx="25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and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9466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es + Hint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7084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8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1240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819520"/>
            <a:ext cx="1066680" cy="3045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1240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819520"/>
            <a:ext cx="1066680" cy="3045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66880" y="4267080"/>
            <a:ext cx="3200400" cy="15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5029200"/>
            <a:ext cx="32004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66880" y="5715000"/>
            <a:ext cx="32004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53942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6F9-D2D4-45F5-BCA8-DC4268A560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y Web Prefetching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GA93, GS95, PM96, KLM97, CB98, D99, FCL99, KD99, VYKSD01, 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educes response times seen by us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mproves service availabi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ing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umerous web applications getting deploy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, banking, shopping, e-mai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echnology is improving rapidl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ie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ces of disks an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02640" y="533412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efetch Aggres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148-D139-4AB6-A975-6D6151B5F8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y doesn’t everyone prefetch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 resources on servers, network and cl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with demand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wo types of interferenc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erference– Applications hur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Interference– Applications hur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nterference at various componen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– Demand requests queued behind pref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– Demand packets queued or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– Caches polluted by displacing more usefu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21F-2211-485F-A832-9E18D4B577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xample: Server Interferenc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loa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ponse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nstant-rate prefetching reduces server capac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84440" y="516564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543720" y="516564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85800" y="5108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84440" y="474012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543720" y="474012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683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4440" y="4314960"/>
            <a:ext cx="5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543720" y="4314960"/>
            <a:ext cx="55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257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4440" y="389088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543720" y="389088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833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4440" y="346536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43720" y="346536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3408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4440" y="3040200"/>
            <a:ext cx="5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43720" y="3040200"/>
            <a:ext cx="55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9829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84440" y="2616120"/>
            <a:ext cx="540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543720" y="2616120"/>
            <a:ext cx="55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558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4440" y="2190600"/>
            <a:ext cx="540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543720" y="2190600"/>
            <a:ext cx="55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133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8444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8444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9888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1284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9892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9892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432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09896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9896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436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9900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9900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296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09904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9904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444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99080" y="51080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99080" y="219060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1448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9768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768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308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599160" y="51080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99160" y="219060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1312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2190600"/>
            <a:ext cx="3998880" cy="29750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6040" y="5470560"/>
            <a:ext cx="34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4000" y="3641760"/>
            <a:ext cx="76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7960" y="3714840"/>
            <a:ext cx="3751200" cy="1442880"/>
          </a:xfrm>
          <a:custGeom>
            <a:avLst/>
            <a:gdLst/>
            <a:ahLst/>
            <a:rect l="l" t="t" r="r" b="b"/>
            <a:pathLst>
              <a:path w="14032" h="5249">
                <a:moveTo>
                  <a:pt x="0" y="5248"/>
                </a:moveTo>
                <a:lnTo>
                  <a:pt x="935" y="5248"/>
                </a:lnTo>
                <a:lnTo>
                  <a:pt x="1871" y="5249"/>
                </a:lnTo>
                <a:lnTo>
                  <a:pt x="2806" y="5248"/>
                </a:lnTo>
                <a:lnTo>
                  <a:pt x="3742" y="5242"/>
                </a:lnTo>
                <a:lnTo>
                  <a:pt x="5612" y="5238"/>
                </a:lnTo>
                <a:lnTo>
                  <a:pt x="6548" y="5241"/>
                </a:lnTo>
                <a:lnTo>
                  <a:pt x="8419" y="5238"/>
                </a:lnTo>
                <a:lnTo>
                  <a:pt x="9355" y="5242"/>
                </a:lnTo>
                <a:lnTo>
                  <a:pt x="10291" y="5235"/>
                </a:lnTo>
                <a:lnTo>
                  <a:pt x="11225" y="5235"/>
                </a:lnTo>
                <a:lnTo>
                  <a:pt x="12161" y="5225"/>
                </a:lnTo>
                <a:lnTo>
                  <a:pt x="14032" y="0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0960" y="5129280"/>
            <a:ext cx="554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71880" y="5129280"/>
            <a:ext cx="5400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4" y="207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2800" y="5129280"/>
            <a:ext cx="536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4" y="207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0120" y="5129280"/>
            <a:ext cx="572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21040" y="5127480"/>
            <a:ext cx="55800" cy="57240"/>
          </a:xfrm>
          <a:custGeom>
            <a:avLst/>
            <a:gdLst/>
            <a:ahLst/>
            <a:rect l="l" t="t" r="r" b="b"/>
            <a:pathLst>
              <a:path w="208" h="207">
                <a:moveTo>
                  <a:pt x="0" y="103"/>
                </a:moveTo>
                <a:lnTo>
                  <a:pt x="104" y="207"/>
                </a:lnTo>
                <a:lnTo>
                  <a:pt x="208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1080" y="5127480"/>
            <a:ext cx="55800" cy="5580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27480"/>
            <a:ext cx="54000" cy="57240"/>
          </a:xfrm>
          <a:custGeom>
            <a:avLst/>
            <a:gdLst/>
            <a:ahLst/>
            <a:rect l="l" t="t" r="r" b="b"/>
            <a:pathLst>
              <a:path w="208" h="206">
                <a:moveTo>
                  <a:pt x="0" y="103"/>
                </a:moveTo>
                <a:lnTo>
                  <a:pt x="104" y="206"/>
                </a:lnTo>
                <a:lnTo>
                  <a:pt x="208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0600" y="5127480"/>
            <a:ext cx="56880" cy="5580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21160" y="5127480"/>
            <a:ext cx="5400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0640" y="5124600"/>
            <a:ext cx="55440" cy="5868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4" y="206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1200" y="5124600"/>
            <a:ext cx="55800" cy="5868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2120" y="5122800"/>
            <a:ext cx="54000" cy="5580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4"/>
                </a:moveTo>
                <a:lnTo>
                  <a:pt x="103" y="207"/>
                </a:lnTo>
                <a:lnTo>
                  <a:pt x="207" y="104"/>
                </a:lnTo>
                <a:lnTo>
                  <a:pt x="103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0720" y="3684600"/>
            <a:ext cx="57240" cy="5868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4"/>
                </a:moveTo>
                <a:lnTo>
                  <a:pt x="103" y="207"/>
                </a:lnTo>
                <a:lnTo>
                  <a:pt x="207" y="104"/>
                </a:lnTo>
                <a:lnTo>
                  <a:pt x="103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7960" y="3730680"/>
            <a:ext cx="1751040" cy="1427040"/>
          </a:xfrm>
          <a:custGeom>
            <a:avLst/>
            <a:gdLst/>
            <a:ahLst/>
            <a:rect l="l" t="t" r="r" b="b"/>
            <a:pathLst>
              <a:path w="6548" h="5184">
                <a:moveTo>
                  <a:pt x="0" y="5179"/>
                </a:moveTo>
                <a:lnTo>
                  <a:pt x="935" y="5184"/>
                </a:lnTo>
                <a:lnTo>
                  <a:pt x="1871" y="5182"/>
                </a:lnTo>
                <a:lnTo>
                  <a:pt x="2806" y="5181"/>
                </a:lnTo>
                <a:lnTo>
                  <a:pt x="3742" y="5174"/>
                </a:lnTo>
                <a:lnTo>
                  <a:pt x="5612" y="5167"/>
                </a:lnTo>
                <a:lnTo>
                  <a:pt x="6548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0960" y="5156280"/>
            <a:ext cx="55440" cy="1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47960" y="5127120"/>
            <a:ext cx="3240" cy="57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71880" y="5157720"/>
            <a:ext cx="5400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98880" y="5128920"/>
            <a:ext cx="1440" cy="57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2800" y="5157720"/>
            <a:ext cx="5364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348000" y="5129280"/>
            <a:ext cx="180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0120" y="5156280"/>
            <a:ext cx="57240" cy="1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98920" y="5129280"/>
            <a:ext cx="144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21040" y="5154480"/>
            <a:ext cx="5580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849840" y="5127120"/>
            <a:ext cx="1440" cy="55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21080" y="5151600"/>
            <a:ext cx="55800" cy="28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8080" y="5124600"/>
            <a:ext cx="3240" cy="568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730680"/>
            <a:ext cx="54000" cy="3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99000" y="3701880"/>
            <a:ext cx="1440" cy="590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7960" y="2465280"/>
            <a:ext cx="750960" cy="2692440"/>
          </a:xfrm>
          <a:custGeom>
            <a:avLst/>
            <a:gdLst/>
            <a:ahLst/>
            <a:rect l="l" t="t" r="r" b="b"/>
            <a:pathLst>
              <a:path w="2806" h="9790">
                <a:moveTo>
                  <a:pt x="0" y="9790"/>
                </a:moveTo>
                <a:lnTo>
                  <a:pt x="935" y="9773"/>
                </a:lnTo>
                <a:lnTo>
                  <a:pt x="1871" y="9763"/>
                </a:lnTo>
                <a:lnTo>
                  <a:pt x="2806" y="0"/>
                </a:lnTo>
              </a:path>
            </a:pathLst>
          </a:custGeom>
          <a:noFill/>
          <a:ln w="23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0680" y="5138640"/>
            <a:ext cx="37800" cy="38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8000" y="5132520"/>
            <a:ext cx="39960" cy="41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28920" y="5130720"/>
            <a:ext cx="39600" cy="4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30680" y="5137200"/>
            <a:ext cx="378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0680" y="5137200"/>
            <a:ext cx="378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78000" y="513720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78000" y="513720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28920" y="513720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8920" y="513720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79840" y="5137200"/>
            <a:ext cx="38160" cy="381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79840" y="5137200"/>
            <a:ext cx="38160" cy="381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28960" y="5133600"/>
            <a:ext cx="39600" cy="414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28960" y="5133960"/>
            <a:ext cx="39600" cy="414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27560" y="513396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27560" y="513396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8480" y="5124600"/>
            <a:ext cx="3960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8480" y="5124600"/>
            <a:ext cx="3960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78520" y="513252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8520" y="513252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29080" y="512928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80000" y="5124600"/>
            <a:ext cx="3816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124600"/>
            <a:ext cx="3816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121360"/>
            <a:ext cx="58680" cy="54000"/>
          </a:xfrm>
          <a:custGeom>
            <a:avLst/>
            <a:gdLst/>
            <a:ahLst/>
            <a:rect l="l" t="t" r="r" b="b"/>
            <a:pathLst>
              <a:path w="222" h="193">
                <a:moveTo>
                  <a:pt x="111" y="0"/>
                </a:moveTo>
                <a:lnTo>
                  <a:pt x="0" y="193"/>
                </a:lnTo>
                <a:lnTo>
                  <a:pt x="222" y="193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8640" y="5121360"/>
            <a:ext cx="60480" cy="5400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111" y="0"/>
                </a:moveTo>
                <a:lnTo>
                  <a:pt x="0" y="193"/>
                </a:lnTo>
                <a:lnTo>
                  <a:pt x="223" y="193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19560" y="5119560"/>
            <a:ext cx="58680" cy="54000"/>
          </a:xfrm>
          <a:custGeom>
            <a:avLst/>
            <a:gdLst/>
            <a:ahLst/>
            <a:rect l="l" t="t" r="r" b="b"/>
            <a:pathLst>
              <a:path w="222" h="192">
                <a:moveTo>
                  <a:pt x="111" y="0"/>
                </a:moveTo>
                <a:lnTo>
                  <a:pt x="0" y="192"/>
                </a:lnTo>
                <a:lnTo>
                  <a:pt x="222" y="192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8680" y="5119560"/>
            <a:ext cx="60480" cy="52560"/>
          </a:xfrm>
          <a:custGeom>
            <a:avLst/>
            <a:gdLst/>
            <a:ahLst/>
            <a:rect l="l" t="t" r="r" b="b"/>
            <a:pathLst>
              <a:path w="222" h="193">
                <a:moveTo>
                  <a:pt x="110" y="0"/>
                </a:moveTo>
                <a:lnTo>
                  <a:pt x="0" y="193"/>
                </a:lnTo>
                <a:lnTo>
                  <a:pt x="222" y="193"/>
                </a:lnTo>
                <a:lnTo>
                  <a:pt x="1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9600" y="5118120"/>
            <a:ext cx="60120" cy="5400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112" y="0"/>
                </a:moveTo>
                <a:lnTo>
                  <a:pt x="0" y="193"/>
                </a:lnTo>
                <a:lnTo>
                  <a:pt x="223" y="193"/>
                </a:lnTo>
                <a:lnTo>
                  <a:pt x="1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9640" y="5114880"/>
            <a:ext cx="58680" cy="54000"/>
          </a:xfrm>
          <a:custGeom>
            <a:avLst/>
            <a:gdLst/>
            <a:ahLst/>
            <a:rect l="l" t="t" r="r" b="b"/>
            <a:pathLst>
              <a:path w="222" h="192">
                <a:moveTo>
                  <a:pt x="110" y="0"/>
                </a:moveTo>
                <a:lnTo>
                  <a:pt x="0" y="192"/>
                </a:lnTo>
                <a:lnTo>
                  <a:pt x="222" y="192"/>
                </a:lnTo>
                <a:lnTo>
                  <a:pt x="1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47960" y="5124600"/>
            <a:ext cx="3240" cy="5688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82384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2384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98880" y="5121000"/>
            <a:ext cx="144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075120" y="5133960"/>
            <a:ext cx="460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75120" y="5133960"/>
            <a:ext cx="460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348000" y="5117760"/>
            <a:ext cx="180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325680" y="5132160"/>
            <a:ext cx="4608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325680" y="5132520"/>
            <a:ext cx="4608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98920" y="5119200"/>
            <a:ext cx="144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57516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7516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9840" y="5121360"/>
            <a:ext cx="1440" cy="55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2428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82428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32396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2396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6440" y="342900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9760" y="225432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rate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08680" y="3557520"/>
            <a:ext cx="300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. Demand Response Time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72240" y="580536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efetch Aggressively, BUT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2E8-BC9C-450E-9EAC-99810351AE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/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elf-tun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ecoupling prediction from resource managemen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resource managemen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2F-3AF6-4530-9E9B-4895657ECA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1: Self-tuning Syste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solutions use “magic numbe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 thresholds [D99, PM96, VYKSD01, …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ate limiting            [MC98, CB98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tions of manual 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ifficult to determine “good” threshold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thresholds depend on sp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Good” threshold varies over tim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arp performance penalty when mistun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ciple 1: Self-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 according to spare resources 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Benefit: Simplifies application desig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9DD-FF0E-4A07-B735-91CF3FE209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vi</cp:lastModifiedBy>
  <dcterms:modified xsi:type="dcterms:W3CDTF">2003-03-30T23:33:42Z</dcterms:modified>
  <cp:revision>3400</cp:revision>
  <dc:subject/>
  <dc:title>PowerPoint Presentation</dc:title>
</cp:coreProperties>
</file>