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383-9862-4A4D-944F-680254E3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642-FFFD-447A-9E8B-29E3D71C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591B-93AC-46DE-A64A-258706E2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E2FE-81C6-4909-A42E-4BDD329C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6616-74A7-4792-8B2F-F2BD0CC7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262F-80A6-478C-A6D6-6E216EAF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C724-6AFF-4EA5-A9A5-0A032703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B0EB-8D69-42DC-B2E8-43F2908B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3152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87B2-1635-4500-807F-FEFE66F8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038-5A8C-4696-AE24-30AFE439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E105-997C-43CB-93AE-11CB3C83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DDB-8F74-48CC-9100-6178BB2A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762120"/>
            <a:ext cx="8001000" cy="5638680"/>
          </a:xfrm>
          <a:prstGeom prst="rect">
            <a:avLst/>
          </a:prstGeom>
          <a:solidFill>
            <a:srgbClr val="dce0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solidFill>
            <a:srgbClr val="8e7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609480" cy="762120"/>
          </a:xfrm>
          <a:prstGeom prst="rect">
            <a:avLst/>
          </a:prstGeom>
          <a:solidFill>
            <a:srgbClr val="8e7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Click to edit the title text format</a:t>
            </a: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6320" y="6477120"/>
            <a:ext cx="1676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68CD-E541-42F3-AE04-00A0E7053615}" type="datetime3">
              <a:rPr b="0" lang="en-US" sz="9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047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partment of Computer Sciences, UT Aust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EA86-FA72-460E-8EE8-AD41BD7933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0"/>
            <a:ext cx="0" cy="640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6104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21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27200" y="1254240"/>
            <a:ext cx="777240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Lucida Calligraphy"/>
              </a:rPr>
              <a:t>Shruti: Dynamically Adapting Aggregation Aggressiv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44600" y="3537000"/>
            <a:ext cx="652608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veen Yalagandu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ke Dahl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University of Texas at Aust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13D5-6FB6-4D24-93FA-9C1DA2C472D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2994120" y="4363920"/>
            <a:ext cx="3024000" cy="1517760"/>
            <a:chOff x="2994120" y="4363920"/>
            <a:chExt cx="3024000" cy="1517760"/>
          </a:xfrm>
        </p:grpSpPr>
        <p:sp>
          <p:nvSpPr>
            <p:cNvPr id="289" name=""/>
            <p:cNvSpPr/>
            <p:nvPr/>
          </p:nvSpPr>
          <p:spPr>
            <a:xfrm>
              <a:off x="3573360" y="494820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299412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427640" y="436392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2" name="" descr=""/>
            <p:cNvPicPr/>
            <p:nvPr/>
          </p:nvPicPr>
          <p:blipFill>
            <a:blip r:embed="rId2"/>
            <a:stretch/>
          </p:blipFill>
          <p:spPr>
            <a:xfrm>
              <a:off x="3822840" y="552600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93" name=""/>
            <p:cNvCxnSpPr>
              <a:stCxn id="290" idx="0"/>
              <a:endCxn id="289" idx="3"/>
            </p:cNvCxnSpPr>
            <p:nvPr/>
          </p:nvCxnSpPr>
          <p:spPr>
            <a:xfrm flipV="1">
              <a:off x="3247560" y="5168520"/>
              <a:ext cx="359640" cy="3657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  <a:endCxn id="289" idx="5"/>
            </p:cNvCxnSpPr>
            <p:nvPr/>
          </p:nvCxnSpPr>
          <p:spPr>
            <a:xfrm flipH="1" flipV="1">
              <a:off x="3765240" y="5168520"/>
              <a:ext cx="310320" cy="3578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89" idx="7"/>
              <a:endCxn id="291" idx="3"/>
            </p:cNvCxnSpPr>
            <p:nvPr/>
          </p:nvCxnSpPr>
          <p:spPr>
            <a:xfrm flipV="1">
              <a:off x="3765240" y="4584240"/>
              <a:ext cx="694440" cy="388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296" name=""/>
            <p:cNvSpPr/>
            <p:nvPr/>
          </p:nvSpPr>
          <p:spPr>
            <a:xfrm>
              <a:off x="5262480" y="495612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3"/>
            <a:stretch/>
          </p:blipFill>
          <p:spPr>
            <a:xfrm>
              <a:off x="4683240" y="554184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4"/>
            <a:stretch/>
          </p:blipFill>
          <p:spPr>
            <a:xfrm>
              <a:off x="551196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99" name=""/>
            <p:cNvCxnSpPr>
              <a:stCxn id="297" idx="0"/>
              <a:endCxn id="296" idx="3"/>
            </p:cNvCxnSpPr>
            <p:nvPr/>
          </p:nvCxnSpPr>
          <p:spPr>
            <a:xfrm flipV="1">
              <a:off x="4936680" y="5176440"/>
              <a:ext cx="359640" cy="3657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" name=""/>
            <p:cNvCxnSpPr>
              <a:stCxn id="298" idx="0"/>
              <a:endCxn id="296" idx="5"/>
            </p:cNvCxnSpPr>
            <p:nvPr/>
          </p:nvCxnSpPr>
          <p:spPr>
            <a:xfrm flipH="1" flipV="1">
              <a:off x="5454360" y="5176440"/>
              <a:ext cx="310320" cy="3578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6" idx="1"/>
              <a:endCxn id="291" idx="5"/>
            </p:cNvCxnSpPr>
            <p:nvPr/>
          </p:nvCxnSpPr>
          <p:spPr>
            <a:xfrm flipH="1" flipV="1">
              <a:off x="4618800" y="4584240"/>
              <a:ext cx="677160" cy="39600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238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Shruti: Dynamically adapting strategy</a:t>
            </a: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ease based mechan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Lease from A to B impli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 updates at A are propagated to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 does not need to contact A on rea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leases based on observed read and write hi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3643200" y="4438800"/>
            <a:ext cx="870120" cy="604800"/>
          </a:xfrm>
          <a:custGeom>
            <a:avLst/>
            <a:gdLst/>
            <a:ahLst/>
            <a:rect l="l" t="t" r="r" b="b"/>
            <a:pathLst>
              <a:path w="548" h="381">
                <a:moveTo>
                  <a:pt x="548" y="0"/>
                </a:moveTo>
                <a:cubicBezTo>
                  <a:pt x="499" y="31"/>
                  <a:pt x="342" y="122"/>
                  <a:pt x="251" y="186"/>
                </a:cubicBezTo>
                <a:cubicBezTo>
                  <a:pt x="160" y="250"/>
                  <a:pt x="52" y="340"/>
                  <a:pt x="0" y="381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35640" y="4473720"/>
            <a:ext cx="817560" cy="569880"/>
          </a:xfrm>
          <a:custGeom>
            <a:avLst/>
            <a:gdLst/>
            <a:ahLst/>
            <a:rect l="l" t="t" r="r" b="b"/>
            <a:pathLst>
              <a:path w="515" h="359">
                <a:moveTo>
                  <a:pt x="0" y="0"/>
                </a:moveTo>
                <a:cubicBezTo>
                  <a:pt x="46" y="26"/>
                  <a:pt x="188" y="95"/>
                  <a:pt x="274" y="155"/>
                </a:cubicBezTo>
                <a:cubicBezTo>
                  <a:pt x="360" y="215"/>
                  <a:pt x="465" y="317"/>
                  <a:pt x="515" y="359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E1A-3FEF-4B88-84AB-B757CC7040C3}" type="slidenum">
              <a:t>10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2994120" y="4363920"/>
            <a:ext cx="3024000" cy="1517760"/>
            <a:chOff x="2994120" y="4363920"/>
            <a:chExt cx="3024000" cy="1517760"/>
          </a:xfrm>
        </p:grpSpPr>
        <p:sp>
          <p:nvSpPr>
            <p:cNvPr id="307" name=""/>
            <p:cNvSpPr/>
            <p:nvPr/>
          </p:nvSpPr>
          <p:spPr>
            <a:xfrm>
              <a:off x="3573360" y="494820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299412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427640" y="436392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0" name="" descr=""/>
            <p:cNvPicPr/>
            <p:nvPr/>
          </p:nvPicPr>
          <p:blipFill>
            <a:blip r:embed="rId2"/>
            <a:stretch/>
          </p:blipFill>
          <p:spPr>
            <a:xfrm>
              <a:off x="3822840" y="552600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11" name=""/>
            <p:cNvCxnSpPr>
              <a:stCxn id="308" idx="0"/>
              <a:endCxn id="307" idx="3"/>
            </p:cNvCxnSpPr>
            <p:nvPr/>
          </p:nvCxnSpPr>
          <p:spPr>
            <a:xfrm flipV="1">
              <a:off x="3247560" y="5168520"/>
              <a:ext cx="359640" cy="3657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0" idx="0"/>
              <a:endCxn id="307" idx="5"/>
            </p:cNvCxnSpPr>
            <p:nvPr/>
          </p:nvCxnSpPr>
          <p:spPr>
            <a:xfrm flipH="1" flipV="1">
              <a:off x="3765240" y="5168520"/>
              <a:ext cx="310320" cy="3578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"/>
            <p:cNvCxnSpPr>
              <a:stCxn id="307" idx="7"/>
              <a:endCxn id="309" idx="3"/>
            </p:cNvCxnSpPr>
            <p:nvPr/>
          </p:nvCxnSpPr>
          <p:spPr>
            <a:xfrm flipV="1">
              <a:off x="3765240" y="4584240"/>
              <a:ext cx="694440" cy="388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314" name=""/>
            <p:cNvSpPr/>
            <p:nvPr/>
          </p:nvSpPr>
          <p:spPr>
            <a:xfrm>
              <a:off x="5262480" y="495612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3"/>
            <a:stretch/>
          </p:blipFill>
          <p:spPr>
            <a:xfrm>
              <a:off x="4683240" y="554184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4"/>
            <a:stretch/>
          </p:blipFill>
          <p:spPr>
            <a:xfrm>
              <a:off x="551196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17" name=""/>
            <p:cNvCxnSpPr>
              <a:stCxn id="315" idx="0"/>
              <a:endCxn id="314" idx="3"/>
            </p:cNvCxnSpPr>
            <p:nvPr/>
          </p:nvCxnSpPr>
          <p:spPr>
            <a:xfrm flipV="1">
              <a:off x="4936680" y="5176440"/>
              <a:ext cx="359640" cy="3657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"/>
            <p:cNvCxnSpPr>
              <a:stCxn id="316" idx="0"/>
              <a:endCxn id="314" idx="5"/>
            </p:cNvCxnSpPr>
            <p:nvPr/>
          </p:nvCxnSpPr>
          <p:spPr>
            <a:xfrm flipH="1" flipV="1">
              <a:off x="5454360" y="5176440"/>
              <a:ext cx="310320" cy="3578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" name=""/>
            <p:cNvCxnSpPr>
              <a:stCxn id="314" idx="1"/>
              <a:endCxn id="309" idx="5"/>
            </p:cNvCxnSpPr>
            <p:nvPr/>
          </p:nvCxnSpPr>
          <p:spPr>
            <a:xfrm flipH="1" flipV="1">
              <a:off x="4618800" y="4584240"/>
              <a:ext cx="677160" cy="39600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238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Shruti: Dynamically adapting strategy</a:t>
            </a: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ease based mechan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Lease from A to B impli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 updates at A are propagated to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 does not need to contact A on rea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leases based on observed read and write hi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529160" y="4456080"/>
            <a:ext cx="1276200" cy="1131840"/>
          </a:xfrm>
          <a:custGeom>
            <a:avLst/>
            <a:gdLst/>
            <a:ahLst/>
            <a:rect l="l" t="t" r="r" b="b"/>
            <a:pathLst>
              <a:path w="804" h="713">
                <a:moveTo>
                  <a:pt x="804" y="713"/>
                </a:moveTo>
                <a:cubicBezTo>
                  <a:pt x="734" y="594"/>
                  <a:pt x="664" y="475"/>
                  <a:pt x="530" y="356"/>
                </a:cubicBezTo>
                <a:cubicBezTo>
                  <a:pt x="396" y="237"/>
                  <a:pt x="90" y="64"/>
                  <a:pt x="0" y="0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DE35-FA2D-4DDF-90D1-148FC7AAFAD1}" type="slidenum">
              <a:t>11</a:t>
            </a:fld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information about SDIMS 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825480" y="2905200"/>
            <a:ext cx="789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ttp://www.cs.utexas.edu/~ypraveen/sd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73DD-77D9-4AA8-B9BC-8DE944DCC965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SDIMS [Yalagandula &amp; Dahlin SIGCOMM’04]</a:t>
            </a: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01520"/>
            <a:ext cx="7772400" cy="55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calable Distributed Information Management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ggregation abstraction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ailed views of nearby in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marized views of global in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Key building block for large distributed application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ystem administration, multicast, object location, naming, 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552840" y="2963880"/>
            <a:ext cx="4110120" cy="1888920"/>
            <a:chOff x="3552840" y="2963880"/>
            <a:chExt cx="4110120" cy="1888920"/>
          </a:xfrm>
        </p:grpSpPr>
        <p:sp>
          <p:nvSpPr>
            <p:cNvPr id="53" name=""/>
            <p:cNvSpPr/>
            <p:nvPr/>
          </p:nvSpPr>
          <p:spPr>
            <a:xfrm>
              <a:off x="4340160" y="3690720"/>
              <a:ext cx="304920" cy="3049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3552840" y="4419360"/>
              <a:ext cx="689040" cy="4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500800" y="2963880"/>
              <a:ext cx="304560" cy="3045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4678560" y="4410000"/>
              <a:ext cx="688680" cy="423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7" name=""/>
            <p:cNvCxnSpPr>
              <a:stCxn id="54" idx="0"/>
              <a:endCxn id="53" idx="3"/>
            </p:cNvCxnSpPr>
            <p:nvPr/>
          </p:nvCxnSpPr>
          <p:spPr>
            <a:xfrm flipV="1">
              <a:off x="3897360" y="3964680"/>
              <a:ext cx="488160" cy="4546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58" name=""/>
            <p:cNvCxnSpPr>
              <a:stCxn id="56" idx="0"/>
              <a:endCxn id="53" idx="5"/>
            </p:cNvCxnSpPr>
            <p:nvPr/>
          </p:nvCxnSpPr>
          <p:spPr>
            <a:xfrm flipH="1" flipV="1">
              <a:off x="4600440" y="3964680"/>
              <a:ext cx="422640" cy="4453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59" name=""/>
            <p:cNvCxnSpPr>
              <a:stCxn id="53" idx="7"/>
              <a:endCxn id="55" idx="3"/>
            </p:cNvCxnSpPr>
            <p:nvPr/>
          </p:nvCxnSpPr>
          <p:spPr>
            <a:xfrm flipV="1">
              <a:off x="4600440" y="3238200"/>
              <a:ext cx="945000" cy="4831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60" name=""/>
            <p:cNvSpPr/>
            <p:nvPr/>
          </p:nvSpPr>
          <p:spPr>
            <a:xfrm>
              <a:off x="6635880" y="3700440"/>
              <a:ext cx="304560" cy="3045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848560" y="4429080"/>
              <a:ext cx="68868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973920" y="4419360"/>
              <a:ext cx="689040" cy="424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3" name=""/>
            <p:cNvCxnSpPr>
              <a:stCxn id="61" idx="0"/>
              <a:endCxn id="60" idx="3"/>
            </p:cNvCxnSpPr>
            <p:nvPr/>
          </p:nvCxnSpPr>
          <p:spPr>
            <a:xfrm flipV="1">
              <a:off x="6192720" y="3974400"/>
              <a:ext cx="488160" cy="4546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64" name=""/>
            <p:cNvCxnSpPr>
              <a:stCxn id="62" idx="0"/>
              <a:endCxn id="60" idx="5"/>
            </p:cNvCxnSpPr>
            <p:nvPr/>
          </p:nvCxnSpPr>
          <p:spPr>
            <a:xfrm flipH="1" flipV="1">
              <a:off x="6895440" y="3974760"/>
              <a:ext cx="423000" cy="4449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65" name=""/>
            <p:cNvCxnSpPr>
              <a:stCxn id="60" idx="1"/>
              <a:endCxn id="55" idx="5"/>
            </p:cNvCxnSpPr>
            <p:nvPr/>
          </p:nvCxnSpPr>
          <p:spPr>
            <a:xfrm flipH="1" flipV="1">
              <a:off x="5760360" y="3237840"/>
              <a:ext cx="919800" cy="492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sp>
        <p:nvSpPr>
          <p:cNvPr id="66" name=""/>
          <p:cNvSpPr/>
          <p:nvPr/>
        </p:nvSpPr>
        <p:spPr>
          <a:xfrm>
            <a:off x="3390840" y="481968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,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8480" y="4809960"/>
            <a:ext cx="9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,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19840" y="4788000"/>
            <a:ext cx="9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,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61040" y="4792680"/>
            <a:ext cx="9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,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38680" y="333540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,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62600" y="3370320"/>
            <a:ext cx="8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,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2563920"/>
            <a:ext cx="8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,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30280" y="4689360"/>
            <a:ext cx="11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,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5840" y="3203640"/>
            <a:ext cx="264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gregation Function: min 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F70-34D1-4682-A330-6869260AC8E1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38280" y="2075040"/>
            <a:ext cx="7954920" cy="22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Choosing Aggregation Strategy </a:t>
            </a: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ributes have different read-write patter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xamples:  machine-load, num-processor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38160" y="4316400"/>
            <a:ext cx="4010040" cy="2126160"/>
            <a:chOff x="938160" y="4316400"/>
            <a:chExt cx="4010040" cy="2126160"/>
          </a:xfrm>
        </p:grpSpPr>
        <p:grpSp>
          <p:nvGrpSpPr>
            <p:cNvPr id="79" name=""/>
            <p:cNvGrpSpPr/>
            <p:nvPr/>
          </p:nvGrpSpPr>
          <p:grpSpPr>
            <a:xfrm>
              <a:off x="1263600" y="4316400"/>
              <a:ext cx="3024360" cy="1517760"/>
              <a:chOff x="1263600" y="4316400"/>
              <a:chExt cx="3024360" cy="1517760"/>
            </a:xfrm>
          </p:grpSpPr>
          <p:sp>
            <p:nvSpPr>
              <p:cNvPr id="80" name=""/>
              <p:cNvSpPr/>
              <p:nvPr/>
            </p:nvSpPr>
            <p:spPr>
              <a:xfrm>
                <a:off x="1843200" y="4900680"/>
                <a:ext cx="223920" cy="24444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63600" y="5486400"/>
                <a:ext cx="506520" cy="33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2697120" y="4316400"/>
                <a:ext cx="223920" cy="24444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092320" y="5478480"/>
                <a:ext cx="506520" cy="3398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84" name=""/>
              <p:cNvCxnSpPr>
                <a:stCxn id="81" idx="0"/>
                <a:endCxn id="80" idx="3"/>
              </p:cNvCxnSpPr>
              <p:nvPr/>
            </p:nvCxnSpPr>
            <p:spPr>
              <a:xfrm flipV="1">
                <a:off x="1517760" y="5121000"/>
                <a:ext cx="358920" cy="36576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  <p:cxnSp>
            <p:nvCxnSpPr>
              <p:cNvPr id="85" name=""/>
              <p:cNvCxnSpPr>
                <a:stCxn id="83" idx="0"/>
                <a:endCxn id="80" idx="5"/>
              </p:cNvCxnSpPr>
              <p:nvPr/>
            </p:nvCxnSpPr>
            <p:spPr>
              <a:xfrm flipH="1" flipV="1">
                <a:off x="2034720" y="5121000"/>
                <a:ext cx="310320" cy="35784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  <p:cxnSp>
            <p:nvCxnSpPr>
              <p:cNvPr id="86" name=""/>
              <p:cNvCxnSpPr>
                <a:stCxn id="80" idx="7"/>
                <a:endCxn id="82" idx="3"/>
              </p:cNvCxnSpPr>
              <p:nvPr/>
            </p:nvCxnSpPr>
            <p:spPr>
              <a:xfrm flipV="1">
                <a:off x="2034720" y="4536720"/>
                <a:ext cx="694440" cy="38808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  <p:sp>
            <p:nvSpPr>
              <p:cNvPr id="87" name=""/>
              <p:cNvSpPr/>
              <p:nvPr/>
            </p:nvSpPr>
            <p:spPr>
              <a:xfrm>
                <a:off x="3532320" y="4908600"/>
                <a:ext cx="223920" cy="24444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952720" y="5494320"/>
                <a:ext cx="506520" cy="33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1440" y="5486400"/>
                <a:ext cx="506520" cy="3398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90" name=""/>
              <p:cNvCxnSpPr>
                <a:stCxn id="88" idx="0"/>
                <a:endCxn id="87" idx="3"/>
              </p:cNvCxnSpPr>
              <p:nvPr/>
            </p:nvCxnSpPr>
            <p:spPr>
              <a:xfrm flipV="1">
                <a:off x="3206880" y="5128920"/>
                <a:ext cx="358920" cy="36576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  <p:cxnSp>
            <p:nvCxnSpPr>
              <p:cNvPr id="91" name=""/>
              <p:cNvCxnSpPr>
                <a:stCxn id="89" idx="0"/>
                <a:endCxn id="87" idx="5"/>
              </p:cNvCxnSpPr>
              <p:nvPr/>
            </p:nvCxnSpPr>
            <p:spPr>
              <a:xfrm flipH="1" flipV="1">
                <a:off x="3723840" y="5128920"/>
                <a:ext cx="310320" cy="35784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  <p:cxnSp>
            <p:nvCxnSpPr>
              <p:cNvPr id="92" name=""/>
              <p:cNvCxnSpPr>
                <a:stCxn id="87" idx="1"/>
                <a:endCxn id="82" idx="5"/>
              </p:cNvCxnSpPr>
              <p:nvPr/>
            </p:nvCxnSpPr>
            <p:spPr>
              <a:xfrm flipH="1" flipV="1">
                <a:off x="2889000" y="4536720"/>
                <a:ext cx="676800" cy="39600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</p:grpSp>
        <p:sp>
          <p:nvSpPr>
            <p:cNvPr id="93" name=""/>
            <p:cNvSpPr/>
            <p:nvPr/>
          </p:nvSpPr>
          <p:spPr>
            <a:xfrm flipV="1">
              <a:off x="1351080" y="4951080"/>
              <a:ext cx="471240" cy="485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1827360" y="4395600"/>
              <a:ext cx="869760" cy="51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38160" y="5759280"/>
              <a:ext cx="132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644640" y="5202360"/>
              <a:ext cx="266760" cy="31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2793600" y="4603320"/>
              <a:ext cx="739800" cy="428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21240" y="5735520"/>
              <a:ext cx="132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639800" y="5165280"/>
              <a:ext cx="328680" cy="32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119320" y="4611240"/>
              <a:ext cx="681120" cy="382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1917360" y="5172120"/>
              <a:ext cx="282600" cy="32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322800" y="5210280"/>
              <a:ext cx="358560" cy="296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21040" y="6043680"/>
              <a:ext cx="170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Update-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022720" y="4376880"/>
            <a:ext cx="3965760" cy="2084760"/>
            <a:chOff x="5022720" y="4376880"/>
            <a:chExt cx="3965760" cy="2084760"/>
          </a:xfrm>
        </p:grpSpPr>
        <p:grpSp>
          <p:nvGrpSpPr>
            <p:cNvPr id="105" name=""/>
            <p:cNvGrpSpPr/>
            <p:nvPr/>
          </p:nvGrpSpPr>
          <p:grpSpPr>
            <a:xfrm>
              <a:off x="5241960" y="4411800"/>
              <a:ext cx="3023640" cy="1517040"/>
              <a:chOff x="5241960" y="4411800"/>
              <a:chExt cx="3023640" cy="1517040"/>
            </a:xfrm>
          </p:grpSpPr>
          <p:sp>
            <p:nvSpPr>
              <p:cNvPr id="106" name=""/>
              <p:cNvSpPr/>
              <p:nvPr/>
            </p:nvSpPr>
            <p:spPr>
              <a:xfrm>
                <a:off x="5821200" y="4995720"/>
                <a:ext cx="223560" cy="24408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241960" y="5581440"/>
                <a:ext cx="506160" cy="33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6675120" y="4411800"/>
                <a:ext cx="223560" cy="24408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70320" y="5573520"/>
                <a:ext cx="506160" cy="33948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10" name=""/>
              <p:cNvCxnSpPr>
                <a:stCxn id="107" idx="0"/>
                <a:endCxn id="106" idx="3"/>
              </p:cNvCxnSpPr>
              <p:nvPr/>
            </p:nvCxnSpPr>
            <p:spPr>
              <a:xfrm flipV="1">
                <a:off x="5495400" y="5216040"/>
                <a:ext cx="358920" cy="36504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  <p:cxnSp>
            <p:nvCxnSpPr>
              <p:cNvPr id="111" name=""/>
              <p:cNvCxnSpPr>
                <a:stCxn id="109" idx="0"/>
                <a:endCxn id="106" idx="5"/>
              </p:cNvCxnSpPr>
              <p:nvPr/>
            </p:nvCxnSpPr>
            <p:spPr>
              <a:xfrm flipH="1" flipV="1">
                <a:off x="6012360" y="5215680"/>
                <a:ext cx="309960" cy="35748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  <p:cxnSp>
            <p:nvCxnSpPr>
              <p:cNvPr id="112" name=""/>
              <p:cNvCxnSpPr>
                <a:stCxn id="106" idx="7"/>
                <a:endCxn id="108" idx="3"/>
              </p:cNvCxnSpPr>
              <p:nvPr/>
            </p:nvCxnSpPr>
            <p:spPr>
              <a:xfrm flipV="1">
                <a:off x="6013080" y="4631400"/>
                <a:ext cx="694080" cy="38772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  <p:sp>
            <p:nvSpPr>
              <p:cNvPr id="113" name=""/>
              <p:cNvSpPr/>
              <p:nvPr/>
            </p:nvSpPr>
            <p:spPr>
              <a:xfrm>
                <a:off x="7510320" y="5003640"/>
                <a:ext cx="223560" cy="24408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930720" y="5589360"/>
                <a:ext cx="506160" cy="33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759440" y="5581440"/>
                <a:ext cx="506160" cy="33948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16" name=""/>
              <p:cNvCxnSpPr>
                <a:stCxn id="114" idx="0"/>
                <a:endCxn id="113" idx="3"/>
              </p:cNvCxnSpPr>
              <p:nvPr/>
            </p:nvCxnSpPr>
            <p:spPr>
              <a:xfrm flipV="1">
                <a:off x="7184520" y="5223960"/>
                <a:ext cx="358920" cy="36504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  <p:cxnSp>
            <p:nvCxnSpPr>
              <p:cNvPr id="117" name=""/>
              <p:cNvCxnSpPr>
                <a:stCxn id="115" idx="0"/>
                <a:endCxn id="113" idx="5"/>
              </p:cNvCxnSpPr>
              <p:nvPr/>
            </p:nvCxnSpPr>
            <p:spPr>
              <a:xfrm flipH="1" flipV="1">
                <a:off x="7701480" y="5223600"/>
                <a:ext cx="309960" cy="35748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  <p:cxnSp>
            <p:nvCxnSpPr>
              <p:cNvPr id="118" name=""/>
              <p:cNvCxnSpPr>
                <a:stCxn id="113" idx="1"/>
                <a:endCxn id="108" idx="5"/>
              </p:cNvCxnSpPr>
              <p:nvPr/>
            </p:nvCxnSpPr>
            <p:spPr>
              <a:xfrm flipH="1" flipV="1">
                <a:off x="6866640" y="4631400"/>
                <a:ext cx="676440" cy="39564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</p:grpSp>
        <p:sp>
          <p:nvSpPr>
            <p:cNvPr id="119" name=""/>
            <p:cNvSpPr/>
            <p:nvPr/>
          </p:nvSpPr>
          <p:spPr>
            <a:xfrm flipV="1">
              <a:off x="5329080" y="5046480"/>
              <a:ext cx="471600" cy="485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805360" y="4490640"/>
              <a:ext cx="870120" cy="51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22720" y="5911920"/>
              <a:ext cx="132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7796160" y="5051160"/>
              <a:ext cx="325440" cy="500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6886080" y="4524480"/>
              <a:ext cx="88596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61160" y="5745240"/>
              <a:ext cx="132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7891560" y="4903560"/>
              <a:ext cx="442800" cy="662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6923160" y="4376880"/>
              <a:ext cx="94464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24600" y="6062760"/>
              <a:ext cx="183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Update-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924440" y="3849840"/>
            <a:ext cx="13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96280" y="3884760"/>
            <a:ext cx="13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376280" y="2355840"/>
            <a:ext cx="3024360" cy="1517760"/>
            <a:chOff x="1376280" y="2355840"/>
            <a:chExt cx="3024360" cy="1517760"/>
          </a:xfrm>
        </p:grpSpPr>
        <p:sp>
          <p:nvSpPr>
            <p:cNvPr id="131" name=""/>
            <p:cNvSpPr/>
            <p:nvPr/>
          </p:nvSpPr>
          <p:spPr>
            <a:xfrm>
              <a:off x="1955880" y="294012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9"/>
            <a:stretch/>
          </p:blipFill>
          <p:spPr>
            <a:xfrm>
              <a:off x="1376280" y="3525840"/>
              <a:ext cx="50652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809800" y="235584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0"/>
            <a:stretch/>
          </p:blipFill>
          <p:spPr>
            <a:xfrm>
              <a:off x="2205000" y="3517920"/>
              <a:ext cx="50652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5" name=""/>
            <p:cNvCxnSpPr>
              <a:stCxn id="132" idx="0"/>
              <a:endCxn id="131" idx="3"/>
            </p:cNvCxnSpPr>
            <p:nvPr/>
          </p:nvCxnSpPr>
          <p:spPr>
            <a:xfrm flipV="1">
              <a:off x="1630440" y="316044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36" name=""/>
            <p:cNvCxnSpPr>
              <a:stCxn id="134" idx="0"/>
              <a:endCxn id="131" idx="5"/>
            </p:cNvCxnSpPr>
            <p:nvPr/>
          </p:nvCxnSpPr>
          <p:spPr>
            <a:xfrm flipH="1" flipV="1">
              <a:off x="2147400" y="3160440"/>
              <a:ext cx="31032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37" name=""/>
            <p:cNvCxnSpPr>
              <a:stCxn id="131" idx="7"/>
              <a:endCxn id="133" idx="3"/>
            </p:cNvCxnSpPr>
            <p:nvPr/>
          </p:nvCxnSpPr>
          <p:spPr>
            <a:xfrm flipV="1">
              <a:off x="2147400" y="2576160"/>
              <a:ext cx="694440" cy="388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138" name=""/>
            <p:cNvSpPr/>
            <p:nvPr/>
          </p:nvSpPr>
          <p:spPr>
            <a:xfrm>
              <a:off x="3645000" y="294804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11"/>
            <a:stretch/>
          </p:blipFill>
          <p:spPr>
            <a:xfrm>
              <a:off x="3065400" y="3533760"/>
              <a:ext cx="50652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12"/>
            <a:stretch/>
          </p:blipFill>
          <p:spPr>
            <a:xfrm>
              <a:off x="3894120" y="3525840"/>
              <a:ext cx="50652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41" name=""/>
            <p:cNvCxnSpPr>
              <a:stCxn id="139" idx="0"/>
              <a:endCxn id="138" idx="3"/>
            </p:cNvCxnSpPr>
            <p:nvPr/>
          </p:nvCxnSpPr>
          <p:spPr>
            <a:xfrm flipV="1">
              <a:off x="3319560" y="316836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42" name=""/>
            <p:cNvCxnSpPr>
              <a:stCxn id="140" idx="0"/>
              <a:endCxn id="138" idx="5"/>
            </p:cNvCxnSpPr>
            <p:nvPr/>
          </p:nvCxnSpPr>
          <p:spPr>
            <a:xfrm flipH="1" flipV="1">
              <a:off x="3836520" y="3168360"/>
              <a:ext cx="31032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43" name=""/>
            <p:cNvCxnSpPr>
              <a:stCxn id="138" idx="1"/>
              <a:endCxn id="133" idx="5"/>
            </p:cNvCxnSpPr>
            <p:nvPr/>
          </p:nvCxnSpPr>
          <p:spPr>
            <a:xfrm flipH="1" flipV="1">
              <a:off x="3001680" y="2576160"/>
              <a:ext cx="676800" cy="39600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sp>
        <p:nvSpPr>
          <p:cNvPr id="144" name=""/>
          <p:cNvSpPr/>
          <p:nvPr/>
        </p:nvSpPr>
        <p:spPr>
          <a:xfrm flipH="1" flipV="1">
            <a:off x="3054240" y="2435040"/>
            <a:ext cx="860400" cy="515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00160" y="3870360"/>
            <a:ext cx="13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757680" y="3241800"/>
            <a:ext cx="280800" cy="311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906280" y="2642760"/>
            <a:ext cx="739800" cy="428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52480" y="3204720"/>
            <a:ext cx="328680" cy="327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232000" y="2650680"/>
            <a:ext cx="681120" cy="382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2030040" y="3211560"/>
            <a:ext cx="282600" cy="3254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435480" y="3249720"/>
            <a:ext cx="358560" cy="296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2000" y="3905280"/>
            <a:ext cx="13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1040" y="2125800"/>
            <a:ext cx="183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pdate-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938400" y="2992320"/>
            <a:ext cx="415800" cy="542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114880" y="2365200"/>
            <a:ext cx="3024360" cy="1517760"/>
            <a:chOff x="5114880" y="2365200"/>
            <a:chExt cx="3024360" cy="1517760"/>
          </a:xfrm>
        </p:grpSpPr>
        <p:sp>
          <p:nvSpPr>
            <p:cNvPr id="156" name=""/>
            <p:cNvSpPr/>
            <p:nvPr/>
          </p:nvSpPr>
          <p:spPr>
            <a:xfrm>
              <a:off x="5694480" y="294948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13"/>
            <a:stretch/>
          </p:blipFill>
          <p:spPr>
            <a:xfrm>
              <a:off x="5114880" y="3535200"/>
              <a:ext cx="50652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548400" y="236520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14"/>
            <a:stretch/>
          </p:blipFill>
          <p:spPr>
            <a:xfrm>
              <a:off x="5943600" y="3527280"/>
              <a:ext cx="50652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60" name=""/>
            <p:cNvCxnSpPr>
              <a:stCxn id="157" idx="0"/>
              <a:endCxn id="156" idx="3"/>
            </p:cNvCxnSpPr>
            <p:nvPr/>
          </p:nvCxnSpPr>
          <p:spPr>
            <a:xfrm flipV="1">
              <a:off x="5369040" y="316980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61" name=""/>
            <p:cNvCxnSpPr>
              <a:stCxn id="159" idx="0"/>
              <a:endCxn id="156" idx="5"/>
            </p:cNvCxnSpPr>
            <p:nvPr/>
          </p:nvCxnSpPr>
          <p:spPr>
            <a:xfrm flipH="1" flipV="1">
              <a:off x="5886000" y="3169800"/>
              <a:ext cx="31032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62" name=""/>
            <p:cNvCxnSpPr>
              <a:stCxn id="156" idx="7"/>
              <a:endCxn id="158" idx="3"/>
            </p:cNvCxnSpPr>
            <p:nvPr/>
          </p:nvCxnSpPr>
          <p:spPr>
            <a:xfrm flipV="1">
              <a:off x="5886000" y="2585520"/>
              <a:ext cx="694440" cy="388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163" name=""/>
            <p:cNvSpPr/>
            <p:nvPr/>
          </p:nvSpPr>
          <p:spPr>
            <a:xfrm>
              <a:off x="7383600" y="295740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5"/>
            <a:stretch/>
          </p:blipFill>
          <p:spPr>
            <a:xfrm>
              <a:off x="6804000" y="3543120"/>
              <a:ext cx="50652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16"/>
            <a:stretch/>
          </p:blipFill>
          <p:spPr>
            <a:xfrm>
              <a:off x="7632720" y="3535200"/>
              <a:ext cx="50652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66" name=""/>
            <p:cNvCxnSpPr>
              <a:stCxn id="164" idx="0"/>
              <a:endCxn id="163" idx="3"/>
            </p:cNvCxnSpPr>
            <p:nvPr/>
          </p:nvCxnSpPr>
          <p:spPr>
            <a:xfrm flipV="1">
              <a:off x="7058160" y="317772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67" name=""/>
            <p:cNvCxnSpPr>
              <a:stCxn id="165" idx="0"/>
              <a:endCxn id="163" idx="5"/>
            </p:cNvCxnSpPr>
            <p:nvPr/>
          </p:nvCxnSpPr>
          <p:spPr>
            <a:xfrm flipH="1" flipV="1">
              <a:off x="7575120" y="3177720"/>
              <a:ext cx="31032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68" name=""/>
            <p:cNvCxnSpPr>
              <a:stCxn id="163" idx="1"/>
              <a:endCxn id="158" idx="5"/>
            </p:cNvCxnSpPr>
            <p:nvPr/>
          </p:nvCxnSpPr>
          <p:spPr>
            <a:xfrm flipH="1" flipV="1">
              <a:off x="6740280" y="2585520"/>
              <a:ext cx="676800" cy="39600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sp>
        <p:nvSpPr>
          <p:cNvPr id="169" name=""/>
          <p:cNvSpPr/>
          <p:nvPr/>
        </p:nvSpPr>
        <p:spPr>
          <a:xfrm flipH="1" flipV="1">
            <a:off x="6792840" y="2444400"/>
            <a:ext cx="860400" cy="5158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7496280" y="3251160"/>
            <a:ext cx="280800" cy="311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644880" y="2652840"/>
            <a:ext cx="739800" cy="428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491080" y="3214800"/>
            <a:ext cx="328680" cy="326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970600" y="2660760"/>
            <a:ext cx="681120" cy="382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5768640" y="3220920"/>
            <a:ext cx="282600" cy="325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174080" y="3258720"/>
            <a:ext cx="358560" cy="297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7677000" y="3002040"/>
            <a:ext cx="416160" cy="5428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60600" y="213372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12160" y="2111400"/>
            <a:ext cx="119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DC3-E0BF-45EA-8FBB-F77DF103B065}" type="slidenum">
              <a:t>3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238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Shruti: Dynamically adapting strategy</a:t>
            </a: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ease based mechan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Lease from A to B impli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 updates at A are propagated to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 does not need to contact A on rea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leases based on observed read and write hi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994120" y="4363920"/>
            <a:ext cx="3023640" cy="1517760"/>
            <a:chOff x="2994120" y="4363920"/>
            <a:chExt cx="3023640" cy="1517760"/>
          </a:xfrm>
        </p:grpSpPr>
        <p:sp>
          <p:nvSpPr>
            <p:cNvPr id="182" name=""/>
            <p:cNvSpPr/>
            <p:nvPr/>
          </p:nvSpPr>
          <p:spPr>
            <a:xfrm>
              <a:off x="3573360" y="494820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299412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427280" y="436392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3822480" y="552600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86" name=""/>
            <p:cNvCxnSpPr>
              <a:stCxn id="183" idx="0"/>
              <a:endCxn id="182" idx="3"/>
            </p:cNvCxnSpPr>
            <p:nvPr/>
          </p:nvCxnSpPr>
          <p:spPr>
            <a:xfrm flipV="1">
              <a:off x="3247560" y="516852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87" name=""/>
            <p:cNvCxnSpPr>
              <a:stCxn id="185" idx="0"/>
              <a:endCxn id="182" idx="5"/>
            </p:cNvCxnSpPr>
            <p:nvPr/>
          </p:nvCxnSpPr>
          <p:spPr>
            <a:xfrm flipH="1" flipV="1">
              <a:off x="3764520" y="5168520"/>
              <a:ext cx="30996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88" name=""/>
            <p:cNvCxnSpPr>
              <a:stCxn id="182" idx="7"/>
              <a:endCxn id="184" idx="3"/>
            </p:cNvCxnSpPr>
            <p:nvPr/>
          </p:nvCxnSpPr>
          <p:spPr>
            <a:xfrm flipV="1">
              <a:off x="3765240" y="4584240"/>
              <a:ext cx="694080" cy="388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189" name=""/>
            <p:cNvSpPr/>
            <p:nvPr/>
          </p:nvSpPr>
          <p:spPr>
            <a:xfrm>
              <a:off x="5262480" y="495612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3"/>
            <a:stretch/>
          </p:blipFill>
          <p:spPr>
            <a:xfrm>
              <a:off x="4682880" y="554184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4"/>
            <a:stretch/>
          </p:blipFill>
          <p:spPr>
            <a:xfrm>
              <a:off x="551160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92" name=""/>
            <p:cNvCxnSpPr>
              <a:stCxn id="190" idx="0"/>
              <a:endCxn id="189" idx="3"/>
            </p:cNvCxnSpPr>
            <p:nvPr/>
          </p:nvCxnSpPr>
          <p:spPr>
            <a:xfrm flipV="1">
              <a:off x="4936680" y="517644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93" name=""/>
            <p:cNvCxnSpPr>
              <a:stCxn id="191" idx="0"/>
              <a:endCxn id="189" idx="5"/>
            </p:cNvCxnSpPr>
            <p:nvPr/>
          </p:nvCxnSpPr>
          <p:spPr>
            <a:xfrm flipH="1" flipV="1">
              <a:off x="5453640" y="5176440"/>
              <a:ext cx="30996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94" name=""/>
            <p:cNvCxnSpPr>
              <a:stCxn id="189" idx="1"/>
              <a:endCxn id="184" idx="5"/>
            </p:cNvCxnSpPr>
            <p:nvPr/>
          </p:nvCxnSpPr>
          <p:spPr>
            <a:xfrm flipH="1" flipV="1">
              <a:off x="4618800" y="4584240"/>
              <a:ext cx="676440" cy="39600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sp>
        <p:nvSpPr>
          <p:cNvPr id="195" name=""/>
          <p:cNvSpPr/>
          <p:nvPr/>
        </p:nvSpPr>
        <p:spPr>
          <a:xfrm>
            <a:off x="4529160" y="4456080"/>
            <a:ext cx="1276200" cy="1131840"/>
          </a:xfrm>
          <a:custGeom>
            <a:avLst/>
            <a:gdLst/>
            <a:ahLst/>
            <a:rect l="l" t="t" r="r" b="b"/>
            <a:pathLst>
              <a:path w="804" h="713">
                <a:moveTo>
                  <a:pt x="804" y="713"/>
                </a:moveTo>
                <a:cubicBezTo>
                  <a:pt x="734" y="594"/>
                  <a:pt x="664" y="475"/>
                  <a:pt x="530" y="356"/>
                </a:cubicBezTo>
                <a:cubicBezTo>
                  <a:pt x="396" y="237"/>
                  <a:pt x="90" y="64"/>
                  <a:pt x="0" y="0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414E-CD1A-4D1F-A00C-1A166E14DA75}" type="slidenum">
              <a:t>4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238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Shruti: Dynamically adapting strategy</a:t>
            </a: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ease based mechan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Lease from A to B impli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 updates at A are propagated to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 does not need to contact A on rea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leases based on observed read and write hi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994120" y="4363920"/>
            <a:ext cx="3023640" cy="1517760"/>
            <a:chOff x="2994120" y="4363920"/>
            <a:chExt cx="3023640" cy="1517760"/>
          </a:xfrm>
        </p:grpSpPr>
        <p:sp>
          <p:nvSpPr>
            <p:cNvPr id="199" name=""/>
            <p:cNvSpPr/>
            <p:nvPr/>
          </p:nvSpPr>
          <p:spPr>
            <a:xfrm>
              <a:off x="3573360" y="494820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299412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427280" y="436392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3822480" y="552600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03" name=""/>
            <p:cNvCxnSpPr>
              <a:stCxn id="200" idx="0"/>
              <a:endCxn id="199" idx="3"/>
            </p:cNvCxnSpPr>
            <p:nvPr/>
          </p:nvCxnSpPr>
          <p:spPr>
            <a:xfrm flipV="1">
              <a:off x="3247560" y="516852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04" name=""/>
            <p:cNvCxnSpPr>
              <a:stCxn id="202" idx="0"/>
              <a:endCxn id="199" idx="5"/>
            </p:cNvCxnSpPr>
            <p:nvPr/>
          </p:nvCxnSpPr>
          <p:spPr>
            <a:xfrm flipH="1" flipV="1">
              <a:off x="3764520" y="5168520"/>
              <a:ext cx="30996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05" name=""/>
            <p:cNvCxnSpPr>
              <a:stCxn id="199" idx="7"/>
              <a:endCxn id="201" idx="3"/>
            </p:cNvCxnSpPr>
            <p:nvPr/>
          </p:nvCxnSpPr>
          <p:spPr>
            <a:xfrm flipV="1">
              <a:off x="3765240" y="4584240"/>
              <a:ext cx="694080" cy="388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206" name=""/>
            <p:cNvSpPr/>
            <p:nvPr/>
          </p:nvSpPr>
          <p:spPr>
            <a:xfrm>
              <a:off x="5262480" y="495612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4682880" y="554184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551160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09" name=""/>
            <p:cNvCxnSpPr>
              <a:stCxn id="207" idx="0"/>
              <a:endCxn id="206" idx="3"/>
            </p:cNvCxnSpPr>
            <p:nvPr/>
          </p:nvCxnSpPr>
          <p:spPr>
            <a:xfrm flipV="1">
              <a:off x="4936680" y="517644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10" name=""/>
            <p:cNvCxnSpPr>
              <a:stCxn id="208" idx="0"/>
              <a:endCxn id="206" idx="5"/>
            </p:cNvCxnSpPr>
            <p:nvPr/>
          </p:nvCxnSpPr>
          <p:spPr>
            <a:xfrm flipH="1" flipV="1">
              <a:off x="5453640" y="5176440"/>
              <a:ext cx="30996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11" name=""/>
            <p:cNvCxnSpPr>
              <a:stCxn id="206" idx="1"/>
              <a:endCxn id="201" idx="5"/>
            </p:cNvCxnSpPr>
            <p:nvPr/>
          </p:nvCxnSpPr>
          <p:spPr>
            <a:xfrm flipH="1" flipV="1">
              <a:off x="4618800" y="4584240"/>
              <a:ext cx="676440" cy="39600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sp>
        <p:nvSpPr>
          <p:cNvPr id="212" name=""/>
          <p:cNvSpPr/>
          <p:nvPr/>
        </p:nvSpPr>
        <p:spPr>
          <a:xfrm>
            <a:off x="3200400" y="4438800"/>
            <a:ext cx="1312920" cy="1223640"/>
          </a:xfrm>
          <a:custGeom>
            <a:avLst/>
            <a:gdLst/>
            <a:ahLst/>
            <a:rect l="l" t="t" r="r" b="b"/>
            <a:pathLst>
              <a:path w="827" h="771">
                <a:moveTo>
                  <a:pt x="827" y="0"/>
                </a:moveTo>
                <a:cubicBezTo>
                  <a:pt x="626" y="117"/>
                  <a:pt x="426" y="234"/>
                  <a:pt x="288" y="362"/>
                </a:cubicBezTo>
                <a:cubicBezTo>
                  <a:pt x="150" y="490"/>
                  <a:pt x="48" y="703"/>
                  <a:pt x="0" y="771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533120" y="4473720"/>
            <a:ext cx="1252440" cy="1355760"/>
          </a:xfrm>
          <a:custGeom>
            <a:avLst/>
            <a:gdLst/>
            <a:ahLst/>
            <a:rect l="l" t="t" r="r" b="b"/>
            <a:pathLst>
              <a:path w="827" h="771">
                <a:moveTo>
                  <a:pt x="827" y="0"/>
                </a:moveTo>
                <a:cubicBezTo>
                  <a:pt x="626" y="117"/>
                  <a:pt x="426" y="234"/>
                  <a:pt x="288" y="362"/>
                </a:cubicBezTo>
                <a:cubicBezTo>
                  <a:pt x="150" y="490"/>
                  <a:pt x="48" y="703"/>
                  <a:pt x="0" y="771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27720" y="4483080"/>
            <a:ext cx="860400" cy="1195560"/>
          </a:xfrm>
          <a:custGeom>
            <a:avLst/>
            <a:gdLst/>
            <a:ahLst/>
            <a:rect l="l" t="t" r="r" b="b"/>
            <a:pathLst>
              <a:path w="542" h="753">
                <a:moveTo>
                  <a:pt x="0" y="0"/>
                </a:moveTo>
                <a:cubicBezTo>
                  <a:pt x="85" y="60"/>
                  <a:pt x="480" y="238"/>
                  <a:pt x="511" y="363"/>
                </a:cubicBezTo>
                <a:cubicBezTo>
                  <a:pt x="542" y="488"/>
                  <a:pt x="254" y="672"/>
                  <a:pt x="186" y="753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98920" y="4468680"/>
            <a:ext cx="987480" cy="1121040"/>
          </a:xfrm>
          <a:custGeom>
            <a:avLst/>
            <a:gdLst/>
            <a:ahLst/>
            <a:rect l="l" t="t" r="r" b="b"/>
            <a:pathLst>
              <a:path w="622" h="706">
                <a:moveTo>
                  <a:pt x="622" y="0"/>
                </a:moveTo>
                <a:cubicBezTo>
                  <a:pt x="526" y="65"/>
                  <a:pt x="112" y="272"/>
                  <a:pt x="56" y="390"/>
                </a:cubicBezTo>
                <a:cubicBezTo>
                  <a:pt x="0" y="508"/>
                  <a:pt x="240" y="640"/>
                  <a:pt x="288" y="706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673-15A0-4966-B885-A51E58182D49}" type="slidenum">
              <a:t>5</a:t>
            </a:fld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238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Shruti: Dynamically adapting strategy</a:t>
            </a: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ease based mechan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Lease from A to B impli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 updates at A are propagated to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 does not need to contact A on rea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leases based on observed read and write hi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994120" y="4363920"/>
            <a:ext cx="3023640" cy="1517760"/>
            <a:chOff x="2994120" y="4363920"/>
            <a:chExt cx="3023640" cy="1517760"/>
          </a:xfrm>
        </p:grpSpPr>
        <p:sp>
          <p:nvSpPr>
            <p:cNvPr id="219" name=""/>
            <p:cNvSpPr/>
            <p:nvPr/>
          </p:nvSpPr>
          <p:spPr>
            <a:xfrm>
              <a:off x="3573360" y="494820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299412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427280" y="436392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3822480" y="552600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23" name=""/>
            <p:cNvCxnSpPr>
              <a:stCxn id="220" idx="0"/>
              <a:endCxn id="219" idx="3"/>
            </p:cNvCxnSpPr>
            <p:nvPr/>
          </p:nvCxnSpPr>
          <p:spPr>
            <a:xfrm flipV="1">
              <a:off x="3247560" y="516852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24" name=""/>
            <p:cNvCxnSpPr>
              <a:stCxn id="222" idx="0"/>
              <a:endCxn id="219" idx="5"/>
            </p:cNvCxnSpPr>
            <p:nvPr/>
          </p:nvCxnSpPr>
          <p:spPr>
            <a:xfrm flipH="1" flipV="1">
              <a:off x="3764520" y="5168520"/>
              <a:ext cx="30996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25" name=""/>
            <p:cNvCxnSpPr>
              <a:stCxn id="219" idx="7"/>
              <a:endCxn id="221" idx="3"/>
            </p:cNvCxnSpPr>
            <p:nvPr/>
          </p:nvCxnSpPr>
          <p:spPr>
            <a:xfrm flipV="1">
              <a:off x="3765240" y="4584240"/>
              <a:ext cx="694080" cy="388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226" name=""/>
            <p:cNvSpPr/>
            <p:nvPr/>
          </p:nvSpPr>
          <p:spPr>
            <a:xfrm>
              <a:off x="5262480" y="495612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3"/>
            <a:stretch/>
          </p:blipFill>
          <p:spPr>
            <a:xfrm>
              <a:off x="4682880" y="554184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4"/>
            <a:stretch/>
          </p:blipFill>
          <p:spPr>
            <a:xfrm>
              <a:off x="551160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29" name=""/>
            <p:cNvCxnSpPr>
              <a:stCxn id="227" idx="0"/>
              <a:endCxn id="226" idx="3"/>
            </p:cNvCxnSpPr>
            <p:nvPr/>
          </p:nvCxnSpPr>
          <p:spPr>
            <a:xfrm flipV="1">
              <a:off x="4936680" y="517644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30" name=""/>
            <p:cNvCxnSpPr>
              <a:stCxn id="228" idx="0"/>
              <a:endCxn id="226" idx="5"/>
            </p:cNvCxnSpPr>
            <p:nvPr/>
          </p:nvCxnSpPr>
          <p:spPr>
            <a:xfrm flipH="1" flipV="1">
              <a:off x="5453640" y="5176440"/>
              <a:ext cx="30996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31" name=""/>
            <p:cNvCxnSpPr>
              <a:stCxn id="226" idx="1"/>
              <a:endCxn id="221" idx="5"/>
            </p:cNvCxnSpPr>
            <p:nvPr/>
          </p:nvCxnSpPr>
          <p:spPr>
            <a:xfrm flipH="1" flipV="1">
              <a:off x="4618800" y="4584240"/>
              <a:ext cx="676440" cy="39600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sp>
        <p:nvSpPr>
          <p:cNvPr id="232" name=""/>
          <p:cNvSpPr/>
          <p:nvPr/>
        </p:nvSpPr>
        <p:spPr>
          <a:xfrm>
            <a:off x="3200400" y="4438800"/>
            <a:ext cx="1312920" cy="1223640"/>
          </a:xfrm>
          <a:custGeom>
            <a:avLst/>
            <a:gdLst/>
            <a:ahLst/>
            <a:rect l="l" t="t" r="r" b="b"/>
            <a:pathLst>
              <a:path w="827" h="771">
                <a:moveTo>
                  <a:pt x="827" y="0"/>
                </a:moveTo>
                <a:cubicBezTo>
                  <a:pt x="626" y="117"/>
                  <a:pt x="426" y="234"/>
                  <a:pt x="288" y="362"/>
                </a:cubicBezTo>
                <a:cubicBezTo>
                  <a:pt x="150" y="490"/>
                  <a:pt x="48" y="703"/>
                  <a:pt x="0" y="771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533120" y="4473720"/>
            <a:ext cx="1252440" cy="1355760"/>
          </a:xfrm>
          <a:custGeom>
            <a:avLst/>
            <a:gdLst/>
            <a:ahLst/>
            <a:rect l="l" t="t" r="r" b="b"/>
            <a:pathLst>
              <a:path w="827" h="771">
                <a:moveTo>
                  <a:pt x="827" y="0"/>
                </a:moveTo>
                <a:cubicBezTo>
                  <a:pt x="626" y="117"/>
                  <a:pt x="426" y="234"/>
                  <a:pt x="288" y="362"/>
                </a:cubicBezTo>
                <a:cubicBezTo>
                  <a:pt x="150" y="490"/>
                  <a:pt x="48" y="703"/>
                  <a:pt x="0" y="771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27720" y="4483080"/>
            <a:ext cx="860400" cy="1195560"/>
          </a:xfrm>
          <a:custGeom>
            <a:avLst/>
            <a:gdLst/>
            <a:ahLst/>
            <a:rect l="l" t="t" r="r" b="b"/>
            <a:pathLst>
              <a:path w="542" h="753">
                <a:moveTo>
                  <a:pt x="0" y="0"/>
                </a:moveTo>
                <a:cubicBezTo>
                  <a:pt x="85" y="60"/>
                  <a:pt x="480" y="238"/>
                  <a:pt x="511" y="363"/>
                </a:cubicBezTo>
                <a:cubicBezTo>
                  <a:pt x="542" y="488"/>
                  <a:pt x="254" y="672"/>
                  <a:pt x="186" y="753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98920" y="4468680"/>
            <a:ext cx="987480" cy="1121040"/>
          </a:xfrm>
          <a:custGeom>
            <a:avLst/>
            <a:gdLst/>
            <a:ahLst/>
            <a:rect l="l" t="t" r="r" b="b"/>
            <a:pathLst>
              <a:path w="622" h="706">
                <a:moveTo>
                  <a:pt x="622" y="0"/>
                </a:moveTo>
                <a:cubicBezTo>
                  <a:pt x="526" y="65"/>
                  <a:pt x="112" y="272"/>
                  <a:pt x="56" y="390"/>
                </a:cubicBezTo>
                <a:cubicBezTo>
                  <a:pt x="0" y="508"/>
                  <a:pt x="240" y="640"/>
                  <a:pt x="288" y="706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9F9A-E06C-4C94-907C-709CC27E10E2}" type="slidenum">
              <a:t>6</a:t>
            </a:fld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238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Shruti: Dynamically adapting strategy</a:t>
            </a: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ease based mechan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Lease from A to B impli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 updates at A are propagated to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 does not need to contact A on rea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leases based on observed read and write hi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994120" y="4363920"/>
            <a:ext cx="3023640" cy="1517760"/>
            <a:chOff x="2994120" y="4363920"/>
            <a:chExt cx="3023640" cy="1517760"/>
          </a:xfrm>
        </p:grpSpPr>
        <p:sp>
          <p:nvSpPr>
            <p:cNvPr id="239" name=""/>
            <p:cNvSpPr/>
            <p:nvPr/>
          </p:nvSpPr>
          <p:spPr>
            <a:xfrm>
              <a:off x="3573360" y="494820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299412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427280" y="436392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3822480" y="552600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3" name=""/>
            <p:cNvCxnSpPr>
              <a:stCxn id="240" idx="0"/>
              <a:endCxn id="239" idx="3"/>
            </p:cNvCxnSpPr>
            <p:nvPr/>
          </p:nvCxnSpPr>
          <p:spPr>
            <a:xfrm flipV="1">
              <a:off x="3247560" y="516852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44" name=""/>
            <p:cNvCxnSpPr>
              <a:stCxn id="242" idx="0"/>
              <a:endCxn id="239" idx="5"/>
            </p:cNvCxnSpPr>
            <p:nvPr/>
          </p:nvCxnSpPr>
          <p:spPr>
            <a:xfrm flipH="1" flipV="1">
              <a:off x="3764520" y="5168520"/>
              <a:ext cx="30996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45" name=""/>
            <p:cNvCxnSpPr>
              <a:stCxn id="239" idx="7"/>
              <a:endCxn id="241" idx="3"/>
            </p:cNvCxnSpPr>
            <p:nvPr/>
          </p:nvCxnSpPr>
          <p:spPr>
            <a:xfrm flipV="1">
              <a:off x="3765240" y="4584240"/>
              <a:ext cx="694080" cy="388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246" name=""/>
            <p:cNvSpPr/>
            <p:nvPr/>
          </p:nvSpPr>
          <p:spPr>
            <a:xfrm>
              <a:off x="5262480" y="495612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4682880" y="554184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4"/>
            <a:stretch/>
          </p:blipFill>
          <p:spPr>
            <a:xfrm>
              <a:off x="551160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9" name=""/>
            <p:cNvCxnSpPr>
              <a:stCxn id="247" idx="0"/>
              <a:endCxn id="246" idx="3"/>
            </p:cNvCxnSpPr>
            <p:nvPr/>
          </p:nvCxnSpPr>
          <p:spPr>
            <a:xfrm flipV="1">
              <a:off x="4936680" y="517644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50" name=""/>
            <p:cNvCxnSpPr>
              <a:stCxn id="248" idx="0"/>
              <a:endCxn id="246" idx="5"/>
            </p:cNvCxnSpPr>
            <p:nvPr/>
          </p:nvCxnSpPr>
          <p:spPr>
            <a:xfrm flipH="1" flipV="1">
              <a:off x="5453640" y="5176440"/>
              <a:ext cx="30996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51" name=""/>
            <p:cNvCxnSpPr>
              <a:stCxn id="246" idx="1"/>
              <a:endCxn id="241" idx="5"/>
            </p:cNvCxnSpPr>
            <p:nvPr/>
          </p:nvCxnSpPr>
          <p:spPr>
            <a:xfrm flipH="1" flipV="1">
              <a:off x="4618800" y="4584240"/>
              <a:ext cx="676440" cy="39600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sp>
        <p:nvSpPr>
          <p:cNvPr id="252" name=""/>
          <p:cNvSpPr/>
          <p:nvPr/>
        </p:nvSpPr>
        <p:spPr>
          <a:xfrm>
            <a:off x="4529160" y="4456080"/>
            <a:ext cx="1276200" cy="1131840"/>
          </a:xfrm>
          <a:custGeom>
            <a:avLst/>
            <a:gdLst/>
            <a:ahLst/>
            <a:rect l="l" t="t" r="r" b="b"/>
            <a:pathLst>
              <a:path w="804" h="713">
                <a:moveTo>
                  <a:pt x="804" y="713"/>
                </a:moveTo>
                <a:cubicBezTo>
                  <a:pt x="734" y="594"/>
                  <a:pt x="664" y="475"/>
                  <a:pt x="530" y="356"/>
                </a:cubicBezTo>
                <a:cubicBezTo>
                  <a:pt x="396" y="237"/>
                  <a:pt x="90" y="64"/>
                  <a:pt x="0" y="0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72A9-E07E-41EF-9958-52AC812C4AD3}" type="slidenum">
              <a:t>7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238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Shruti: Dynamically adapting strategy</a:t>
            </a: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ease based mechan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Lease from A to B impli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 updates at A are propagated to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 does not need to contact A on rea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leases based on observed read and write hi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994120" y="4363920"/>
            <a:ext cx="3024000" cy="1517760"/>
            <a:chOff x="2994120" y="4363920"/>
            <a:chExt cx="3024000" cy="1517760"/>
          </a:xfrm>
        </p:grpSpPr>
        <p:sp>
          <p:nvSpPr>
            <p:cNvPr id="256" name=""/>
            <p:cNvSpPr/>
            <p:nvPr/>
          </p:nvSpPr>
          <p:spPr>
            <a:xfrm>
              <a:off x="3573360" y="494820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>
              <a:off x="299412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4427640" y="436392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2"/>
            <a:stretch/>
          </p:blipFill>
          <p:spPr>
            <a:xfrm>
              <a:off x="3822840" y="552600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60" name=""/>
            <p:cNvCxnSpPr>
              <a:stCxn id="257" idx="0"/>
              <a:endCxn id="256" idx="3"/>
            </p:cNvCxnSpPr>
            <p:nvPr/>
          </p:nvCxnSpPr>
          <p:spPr>
            <a:xfrm flipV="1">
              <a:off x="3247560" y="5168520"/>
              <a:ext cx="359640" cy="3657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9" idx="0"/>
              <a:endCxn id="256" idx="5"/>
            </p:cNvCxnSpPr>
            <p:nvPr/>
          </p:nvCxnSpPr>
          <p:spPr>
            <a:xfrm flipH="1" flipV="1">
              <a:off x="3765240" y="5168520"/>
              <a:ext cx="310320" cy="3578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56" idx="7"/>
              <a:endCxn id="258" idx="3"/>
            </p:cNvCxnSpPr>
            <p:nvPr/>
          </p:nvCxnSpPr>
          <p:spPr>
            <a:xfrm flipV="1">
              <a:off x="3765240" y="4584240"/>
              <a:ext cx="694440" cy="388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263" name=""/>
            <p:cNvSpPr/>
            <p:nvPr/>
          </p:nvSpPr>
          <p:spPr>
            <a:xfrm>
              <a:off x="5262480" y="495612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3"/>
            <a:stretch/>
          </p:blipFill>
          <p:spPr>
            <a:xfrm>
              <a:off x="4683240" y="554184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4"/>
            <a:stretch/>
          </p:blipFill>
          <p:spPr>
            <a:xfrm>
              <a:off x="551196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66" name=""/>
            <p:cNvCxnSpPr>
              <a:stCxn id="264" idx="0"/>
              <a:endCxn id="263" idx="3"/>
            </p:cNvCxnSpPr>
            <p:nvPr/>
          </p:nvCxnSpPr>
          <p:spPr>
            <a:xfrm flipV="1">
              <a:off x="4936680" y="5176440"/>
              <a:ext cx="359640" cy="3657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5" idx="0"/>
              <a:endCxn id="263" idx="5"/>
            </p:cNvCxnSpPr>
            <p:nvPr/>
          </p:nvCxnSpPr>
          <p:spPr>
            <a:xfrm flipH="1" flipV="1">
              <a:off x="5454360" y="5176440"/>
              <a:ext cx="310320" cy="3578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3" idx="1"/>
              <a:endCxn id="258" idx="5"/>
            </p:cNvCxnSpPr>
            <p:nvPr/>
          </p:nvCxnSpPr>
          <p:spPr>
            <a:xfrm flipH="1" flipV="1">
              <a:off x="4618800" y="4584240"/>
              <a:ext cx="677160" cy="39600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sp>
        <p:nvSpPr>
          <p:cNvPr id="269" name=""/>
          <p:cNvSpPr/>
          <p:nvPr/>
        </p:nvSpPr>
        <p:spPr>
          <a:xfrm>
            <a:off x="4529160" y="4456080"/>
            <a:ext cx="1276200" cy="1131840"/>
          </a:xfrm>
          <a:custGeom>
            <a:avLst/>
            <a:gdLst/>
            <a:ahLst/>
            <a:rect l="l" t="t" r="r" b="b"/>
            <a:pathLst>
              <a:path w="804" h="713">
                <a:moveTo>
                  <a:pt x="804" y="713"/>
                </a:moveTo>
                <a:cubicBezTo>
                  <a:pt x="734" y="594"/>
                  <a:pt x="664" y="475"/>
                  <a:pt x="530" y="356"/>
                </a:cubicBezTo>
                <a:cubicBezTo>
                  <a:pt x="396" y="237"/>
                  <a:pt x="90" y="64"/>
                  <a:pt x="0" y="0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F557-B579-49E7-9D42-AF0A90429359}" type="slidenum">
              <a:t>8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2994120" y="4307040"/>
            <a:ext cx="3024000" cy="1517040"/>
            <a:chOff x="2994120" y="4307040"/>
            <a:chExt cx="3024000" cy="1517040"/>
          </a:xfrm>
        </p:grpSpPr>
        <p:sp>
          <p:nvSpPr>
            <p:cNvPr id="271" name=""/>
            <p:cNvSpPr/>
            <p:nvPr/>
          </p:nvSpPr>
          <p:spPr>
            <a:xfrm>
              <a:off x="3573360" y="4890960"/>
              <a:ext cx="223920" cy="24408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2994120" y="5476680"/>
              <a:ext cx="50616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427640" y="4307040"/>
              <a:ext cx="223560" cy="24408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3822840" y="5468760"/>
              <a:ext cx="506160" cy="339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75" name=""/>
            <p:cNvCxnSpPr>
              <a:stCxn id="272" idx="0"/>
              <a:endCxn id="271" idx="3"/>
            </p:cNvCxnSpPr>
            <p:nvPr/>
          </p:nvCxnSpPr>
          <p:spPr>
            <a:xfrm flipV="1">
              <a:off x="3247560" y="5111280"/>
              <a:ext cx="359640" cy="3650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6" name=""/>
            <p:cNvCxnSpPr>
              <a:stCxn id="274" idx="0"/>
              <a:endCxn id="271" idx="5"/>
            </p:cNvCxnSpPr>
            <p:nvPr/>
          </p:nvCxnSpPr>
          <p:spPr>
            <a:xfrm flipH="1" flipV="1">
              <a:off x="3765240" y="5110920"/>
              <a:ext cx="310320" cy="3574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7" name=""/>
            <p:cNvCxnSpPr>
              <a:stCxn id="271" idx="7"/>
              <a:endCxn id="273" idx="3"/>
            </p:cNvCxnSpPr>
            <p:nvPr/>
          </p:nvCxnSpPr>
          <p:spPr>
            <a:xfrm flipV="1">
              <a:off x="3765240" y="4526640"/>
              <a:ext cx="694440" cy="3877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278" name=""/>
            <p:cNvSpPr/>
            <p:nvPr/>
          </p:nvSpPr>
          <p:spPr>
            <a:xfrm>
              <a:off x="5262480" y="4898880"/>
              <a:ext cx="223920" cy="24408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4683240" y="5484600"/>
              <a:ext cx="506160" cy="3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4"/>
            <a:stretch/>
          </p:blipFill>
          <p:spPr>
            <a:xfrm>
              <a:off x="5511960" y="5476680"/>
              <a:ext cx="506160" cy="339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81" name=""/>
            <p:cNvCxnSpPr>
              <a:stCxn id="279" idx="0"/>
              <a:endCxn id="278" idx="3"/>
            </p:cNvCxnSpPr>
            <p:nvPr/>
          </p:nvCxnSpPr>
          <p:spPr>
            <a:xfrm flipV="1">
              <a:off x="4936680" y="5119200"/>
              <a:ext cx="359640" cy="3650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2" name=""/>
            <p:cNvCxnSpPr>
              <a:stCxn id="280" idx="0"/>
              <a:endCxn id="278" idx="5"/>
            </p:cNvCxnSpPr>
            <p:nvPr/>
          </p:nvCxnSpPr>
          <p:spPr>
            <a:xfrm flipH="1" flipV="1">
              <a:off x="5454360" y="5118840"/>
              <a:ext cx="310320" cy="3574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" name=""/>
            <p:cNvCxnSpPr>
              <a:stCxn id="278" idx="1"/>
              <a:endCxn id="273" idx="5"/>
            </p:cNvCxnSpPr>
            <p:nvPr/>
          </p:nvCxnSpPr>
          <p:spPr>
            <a:xfrm flipH="1" flipV="1">
              <a:off x="4618800" y="4526640"/>
              <a:ext cx="677160" cy="3956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238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Shruti: Dynamically adapting strategy</a:t>
            </a: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ease based mechan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Lease from A to B impli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 updates at A are propagated to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 does not need to contact A on rea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leases based on observed read and write hi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3672000" y="4438800"/>
            <a:ext cx="841320" cy="620640"/>
          </a:xfrm>
          <a:custGeom>
            <a:avLst/>
            <a:gdLst/>
            <a:ahLst/>
            <a:rect l="l" t="t" r="r" b="b"/>
            <a:pathLst>
              <a:path w="530" h="391">
                <a:moveTo>
                  <a:pt x="530" y="0"/>
                </a:moveTo>
                <a:cubicBezTo>
                  <a:pt x="483" y="31"/>
                  <a:pt x="339" y="121"/>
                  <a:pt x="251" y="186"/>
                </a:cubicBezTo>
                <a:cubicBezTo>
                  <a:pt x="163" y="251"/>
                  <a:pt x="52" y="348"/>
                  <a:pt x="0" y="391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35640" y="4473720"/>
            <a:ext cx="774720" cy="555480"/>
          </a:xfrm>
          <a:custGeom>
            <a:avLst/>
            <a:gdLst/>
            <a:ahLst/>
            <a:rect l="l" t="t" r="r" b="b"/>
            <a:pathLst>
              <a:path w="488" h="350">
                <a:moveTo>
                  <a:pt x="0" y="0"/>
                </a:moveTo>
                <a:cubicBezTo>
                  <a:pt x="50" y="32"/>
                  <a:pt x="221" y="134"/>
                  <a:pt x="302" y="192"/>
                </a:cubicBezTo>
                <a:cubicBezTo>
                  <a:pt x="383" y="250"/>
                  <a:pt x="449" y="317"/>
                  <a:pt x="488" y="350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B4A-B1B1-4695-9BAA-43D5B5161F3D}" type="slidenum">
              <a:t>9</a:t>
            </a:fld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8T19:07:15Z</dcterms:created>
  <dc:creator>Valued Sony Customer</dc:creator>
  <dc:description/>
  <dc:language>en-US</dc:language>
  <cp:lastModifiedBy>Mike Dahlin</cp:lastModifiedBy>
  <dcterms:modified xsi:type="dcterms:W3CDTF">2005-02-20T18:55:23Z</dcterms:modified>
  <cp:revision>1192</cp:revision>
  <dc:subject/>
  <dc:title>No Slide Title</dc:title>
</cp:coreProperties>
</file>