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F57-65B2-42BE-8B72-E7A41F02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D83-52D0-4201-BF34-FCCEF9BB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E97-609C-4C73-9D5D-6EDA6999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01F-6ADB-42ED-A487-D43C9CD3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73C-EA81-4EF8-9AB1-5AD5FD5A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4AD-B778-4E28-BC57-85ED2A2D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15F-7FB4-42D5-AB3C-E6B3B7B6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061-2DA1-4CC4-907A-F983ADA7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315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33E-75D8-4EA2-A748-55F48AED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B8C-39CF-4163-8E55-A30B6E22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139-94FD-4877-A467-DE25D0F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990-D926-4B36-98E5-255F4D50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762120"/>
            <a:ext cx="8001000" cy="5638680"/>
          </a:xfrm>
          <a:prstGeom prst="rect">
            <a:avLst/>
          </a:prstGeom>
          <a:solidFill>
            <a:srgbClr val="dc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609480" cy="762120"/>
          </a:xfrm>
          <a:prstGeom prst="rect">
            <a:avLst/>
          </a:prstGeom>
          <a:solidFill>
            <a:srgbClr val="8e7e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4771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9198-B575-4543-BEE2-3D902317852E}" type="datetime3">
              <a:rPr b="0" lang="en-US" sz="9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047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artment of Computer Sciences, UT Aust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4F6F-0220-4024-9F01-DCA715DD9B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0"/>
            <a:ext cx="0" cy="640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6104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21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8400" y="1282680"/>
            <a:ext cx="77724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SDIMS: A Scalable Distributed Information Management System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44600" y="3537000"/>
            <a:ext cx="652608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veen Yalagandu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ke Dahl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oratory for Advanced Systems Research (LAS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versity of Texas at Aust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85A-99C5-4EFD-80EA-F4E12C094C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DHT trees as aggregation tree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s 111 and 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24000" y="3287880"/>
            <a:ext cx="7067520" cy="3090960"/>
            <a:chOff x="1224000" y="3287880"/>
            <a:chExt cx="7067520" cy="3090960"/>
          </a:xfrm>
        </p:grpSpPr>
        <p:sp>
          <p:nvSpPr>
            <p:cNvPr id="142" name=""/>
            <p:cNvSpPr/>
            <p:nvPr/>
          </p:nvSpPr>
          <p:spPr>
            <a:xfrm>
              <a:off x="2809800" y="5911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52840" y="59371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7760" y="4898880"/>
              <a:ext cx="354240" cy="33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63680" y="5546880"/>
              <a:ext cx="353880" cy="33948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46920" y="3287880"/>
              <a:ext cx="353880" cy="33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60840" y="4138560"/>
              <a:ext cx="353880" cy="33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89000" y="5938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8156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95680" y="591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48640" y="5979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8644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2400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47" idx="7"/>
              <a:endCxn id="146" idx="3"/>
            </p:cNvCxnSpPr>
            <p:nvPr/>
          </p:nvCxnSpPr>
          <p:spPr>
            <a:xfrm flipV="1">
              <a:off x="3962160" y="3592440"/>
              <a:ext cx="3037320" cy="581400"/>
            </a:xfrm>
            <a:prstGeom prst="straightConnector1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5" idx="7"/>
              <a:endCxn id="144" idx="3"/>
            </p:cNvCxnSpPr>
            <p:nvPr/>
          </p:nvCxnSpPr>
          <p:spPr>
            <a:xfrm flipV="1">
              <a:off x="1665360" y="5203440"/>
              <a:ext cx="535680" cy="378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4" idx="7"/>
              <a:endCxn id="147" idx="3"/>
            </p:cNvCxnSpPr>
            <p:nvPr/>
          </p:nvCxnSpPr>
          <p:spPr>
            <a:xfrm flipV="1">
              <a:off x="2449440" y="4443120"/>
              <a:ext cx="1264320" cy="491040"/>
            </a:xfrm>
            <a:prstGeom prst="straightConnector1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2125800" y="5549760"/>
              <a:ext cx="35388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0"/>
              <a:endCxn id="144" idx="4"/>
            </p:cNvCxnSpPr>
            <p:nvPr/>
          </p:nvCxnSpPr>
          <p:spPr>
            <a:xfrm flipV="1">
              <a:off x="2303280" y="5252400"/>
              <a:ext cx="22680" cy="283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>
              <a:off x="3665520" y="4915080"/>
              <a:ext cx="353880" cy="33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14560" y="5560920"/>
              <a:ext cx="35424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60" idx="7"/>
              <a:endCxn id="159" idx="3"/>
            </p:cNvCxnSpPr>
            <p:nvPr/>
          </p:nvCxnSpPr>
          <p:spPr>
            <a:xfrm flipV="1">
              <a:off x="3216240" y="5218920"/>
              <a:ext cx="502560" cy="3769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3676680" y="5564160"/>
              <a:ext cx="35388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0"/>
              <a:endCxn id="159" idx="4"/>
            </p:cNvCxnSpPr>
            <p:nvPr/>
          </p:nvCxnSpPr>
          <p:spPr>
            <a:xfrm flipH="1" flipV="1">
              <a:off x="3842640" y="5268600"/>
              <a:ext cx="11880" cy="281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9" idx="0"/>
              <a:endCxn id="147" idx="4"/>
            </p:cNvCxnSpPr>
            <p:nvPr/>
          </p:nvCxnSpPr>
          <p:spPr>
            <a:xfrm flipH="1" flipV="1">
              <a:off x="3837960" y="4492080"/>
              <a:ext cx="5400" cy="408600"/>
            </a:xfrm>
            <a:prstGeom prst="straightConnector1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>
              <a:off x="5372280" y="4910040"/>
              <a:ext cx="353880" cy="33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19520" y="5573880"/>
              <a:ext cx="354240" cy="33948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67440" y="4149720"/>
              <a:ext cx="354240" cy="33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7"/>
              <a:endCxn id="165" idx="3"/>
            </p:cNvCxnSpPr>
            <p:nvPr/>
          </p:nvCxnSpPr>
          <p:spPr>
            <a:xfrm flipV="1">
              <a:off x="4921200" y="5214600"/>
              <a:ext cx="504000" cy="394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5" idx="7"/>
              <a:endCxn id="167" idx="3"/>
            </p:cNvCxnSpPr>
            <p:nvPr/>
          </p:nvCxnSpPr>
          <p:spPr>
            <a:xfrm flipV="1">
              <a:off x="5673600" y="4454280"/>
              <a:ext cx="1347120" cy="491040"/>
            </a:xfrm>
            <a:prstGeom prst="straightConnector1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5381640" y="5576760"/>
              <a:ext cx="35388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0"/>
              <a:endCxn id="165" idx="4"/>
            </p:cNvCxnSpPr>
            <p:nvPr/>
          </p:nvCxnSpPr>
          <p:spPr>
            <a:xfrm flipH="1" flipV="1">
              <a:off x="5549040" y="5263560"/>
              <a:ext cx="10440" cy="299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6972480" y="4908600"/>
              <a:ext cx="353880" cy="33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70760" y="5587920"/>
              <a:ext cx="35388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3" idx="7"/>
              <a:endCxn id="172" idx="3"/>
            </p:cNvCxnSpPr>
            <p:nvPr/>
          </p:nvCxnSpPr>
          <p:spPr>
            <a:xfrm flipV="1">
              <a:off x="6471720" y="5212800"/>
              <a:ext cx="553320" cy="4100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6948360" y="5591160"/>
              <a:ext cx="354240" cy="33984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" name=""/>
            <p:cNvCxnSpPr>
              <a:stCxn id="175" idx="0"/>
              <a:endCxn id="172" idx="4"/>
            </p:cNvCxnSpPr>
            <p:nvPr/>
          </p:nvCxnSpPr>
          <p:spPr>
            <a:xfrm flipV="1">
              <a:off x="7126200" y="5261760"/>
              <a:ext cx="24480" cy="315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72" idx="0"/>
              <a:endCxn id="167" idx="4"/>
            </p:cNvCxnSpPr>
            <p:nvPr/>
          </p:nvCxnSpPr>
          <p:spPr>
            <a:xfrm flipH="1" flipV="1">
              <a:off x="7144560" y="4502880"/>
              <a:ext cx="5400" cy="391320"/>
            </a:xfrm>
            <a:prstGeom prst="straightConnector1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67" idx="0"/>
            </p:cNvCxnSpPr>
            <p:nvPr/>
          </p:nvCxnSpPr>
          <p:spPr>
            <a:xfrm flipH="1" flipV="1">
              <a:off x="7133400" y="3656880"/>
              <a:ext cx="11880" cy="478440"/>
            </a:xfrm>
            <a:prstGeom prst="straightConnector1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79" name=""/>
            <p:cNvSpPr/>
            <p:nvPr/>
          </p:nvSpPr>
          <p:spPr>
            <a:xfrm>
              <a:off x="7591320" y="4865760"/>
              <a:ext cx="6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x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02480" y="4121280"/>
              <a:ext cx="6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1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99240" y="3308400"/>
              <a:ext cx="6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22440" y="3260880"/>
            <a:ext cx="6973920" cy="3117960"/>
            <a:chOff x="622440" y="3260880"/>
            <a:chExt cx="6973920" cy="3117960"/>
          </a:xfrm>
        </p:grpSpPr>
        <p:sp>
          <p:nvSpPr>
            <p:cNvPr id="183" name=""/>
            <p:cNvSpPr/>
            <p:nvPr/>
          </p:nvSpPr>
          <p:spPr>
            <a:xfrm>
              <a:off x="2809800" y="5911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2840" y="59371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89000" y="5938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8156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95680" y="591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48640" y="59799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8644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24000" y="5956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363320" y="3287880"/>
              <a:ext cx="5962680" cy="2643120"/>
              <a:chOff x="1363320" y="3287880"/>
              <a:chExt cx="5962680" cy="264312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6187680" y="4898880"/>
                <a:ext cx="354240" cy="33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6971760" y="5546880"/>
                <a:ext cx="353880" cy="3394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388520" y="3287880"/>
                <a:ext cx="353880" cy="339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4674600" y="4138560"/>
                <a:ext cx="353880" cy="33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6" name=""/>
              <p:cNvCxnSpPr>
                <a:stCxn id="195" idx="7"/>
                <a:endCxn id="194" idx="3"/>
              </p:cNvCxnSpPr>
              <p:nvPr/>
            </p:nvCxnSpPr>
            <p:spPr>
              <a:xfrm flipH="1" flipV="1">
                <a:off x="1690560" y="3592440"/>
                <a:ext cx="3037320" cy="581400"/>
              </a:xfrm>
              <a:prstGeom prst="straightConnector1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197" name=""/>
              <p:cNvCxnSpPr>
                <a:stCxn id="193" idx="7"/>
                <a:endCxn id="192" idx="3"/>
              </p:cNvCxnSpPr>
              <p:nvPr/>
            </p:nvCxnSpPr>
            <p:spPr>
              <a:xfrm flipH="1" flipV="1">
                <a:off x="6489000" y="5203440"/>
                <a:ext cx="535680" cy="37872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98" name=""/>
              <p:cNvCxnSpPr>
                <a:stCxn id="192" idx="7"/>
                <a:endCxn id="195" idx="3"/>
              </p:cNvCxnSpPr>
              <p:nvPr/>
            </p:nvCxnSpPr>
            <p:spPr>
              <a:xfrm flipH="1" flipV="1">
                <a:off x="4976280" y="4443120"/>
                <a:ext cx="1264320" cy="491040"/>
              </a:xfrm>
              <a:prstGeom prst="straightConnector1">
                <a:avLst/>
              </a:prstGeom>
              <a:ln w="57240">
                <a:solidFill>
                  <a:srgbClr val="990033"/>
                </a:solidFill>
                <a:miter/>
                <a:tailEnd len="med" type="triangle" w="med"/>
              </a:ln>
            </p:spPr>
          </p:cxnSp>
          <p:sp>
            <p:nvSpPr>
              <p:cNvPr id="199" name=""/>
              <p:cNvSpPr/>
              <p:nvPr/>
            </p:nvSpPr>
            <p:spPr>
              <a:xfrm flipH="1">
                <a:off x="6209640" y="5549760"/>
                <a:ext cx="35388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9" idx="0"/>
                <a:endCxn id="192" idx="4"/>
              </p:cNvCxnSpPr>
              <p:nvPr/>
            </p:nvCxnSpPr>
            <p:spPr>
              <a:xfrm flipH="1" flipV="1">
                <a:off x="6364080" y="5252400"/>
                <a:ext cx="22680" cy="28332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01" name=""/>
              <p:cNvSpPr/>
              <p:nvPr/>
            </p:nvSpPr>
            <p:spPr>
              <a:xfrm flipH="1">
                <a:off x="4669920" y="4915080"/>
                <a:ext cx="353880" cy="339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5420880" y="5560920"/>
                <a:ext cx="35424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3" name=""/>
              <p:cNvCxnSpPr>
                <a:stCxn id="202" idx="7"/>
                <a:endCxn id="201" idx="3"/>
              </p:cNvCxnSpPr>
              <p:nvPr/>
            </p:nvCxnSpPr>
            <p:spPr>
              <a:xfrm flipH="1" flipV="1">
                <a:off x="4971240" y="5218920"/>
                <a:ext cx="502560" cy="37692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04" name=""/>
              <p:cNvSpPr/>
              <p:nvPr/>
            </p:nvSpPr>
            <p:spPr>
              <a:xfrm flipH="1">
                <a:off x="4658760" y="5564160"/>
                <a:ext cx="35388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204" idx="0"/>
                <a:endCxn id="201" idx="4"/>
              </p:cNvCxnSpPr>
              <p:nvPr/>
            </p:nvCxnSpPr>
            <p:spPr>
              <a:xfrm flipV="1">
                <a:off x="4835520" y="5268600"/>
                <a:ext cx="11880" cy="28152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06" name=""/>
              <p:cNvCxnSpPr>
                <a:stCxn id="201" idx="0"/>
                <a:endCxn id="195" idx="4"/>
              </p:cNvCxnSpPr>
              <p:nvPr/>
            </p:nvCxnSpPr>
            <p:spPr>
              <a:xfrm flipV="1">
                <a:off x="4846680" y="4492080"/>
                <a:ext cx="5400" cy="408600"/>
              </a:xfrm>
              <a:prstGeom prst="straightConnector1">
                <a:avLst/>
              </a:prstGeom>
              <a:ln w="57240">
                <a:solidFill>
                  <a:srgbClr val="990033"/>
                </a:solidFill>
                <a:miter/>
                <a:tailEnd len="med" type="triangle" w="med"/>
              </a:ln>
            </p:spPr>
          </p:cxnSp>
          <p:sp>
            <p:nvSpPr>
              <p:cNvPr id="207" name=""/>
              <p:cNvSpPr/>
              <p:nvPr/>
            </p:nvSpPr>
            <p:spPr>
              <a:xfrm flipH="1">
                <a:off x="2963160" y="4910040"/>
                <a:ext cx="353880" cy="33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3715920" y="5573880"/>
                <a:ext cx="354240" cy="3394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368000" y="4149720"/>
                <a:ext cx="354240" cy="33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0" name=""/>
              <p:cNvCxnSpPr>
                <a:stCxn id="208" idx="7"/>
                <a:endCxn id="207" idx="3"/>
              </p:cNvCxnSpPr>
              <p:nvPr/>
            </p:nvCxnSpPr>
            <p:spPr>
              <a:xfrm flipH="1" flipV="1">
                <a:off x="3264840" y="5214600"/>
                <a:ext cx="504000" cy="39456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1" name=""/>
              <p:cNvCxnSpPr>
                <a:stCxn id="207" idx="7"/>
                <a:endCxn id="209" idx="3"/>
              </p:cNvCxnSpPr>
              <p:nvPr/>
            </p:nvCxnSpPr>
            <p:spPr>
              <a:xfrm flipH="1" flipV="1">
                <a:off x="1669320" y="4454280"/>
                <a:ext cx="1347120" cy="491040"/>
              </a:xfrm>
              <a:prstGeom prst="straightConnector1">
                <a:avLst/>
              </a:prstGeom>
              <a:ln w="57240">
                <a:solidFill>
                  <a:srgbClr val="990033"/>
                </a:solidFill>
                <a:miter/>
                <a:tailEnd len="med" type="triangle" w="med"/>
              </a:ln>
            </p:spPr>
          </p:cxnSp>
          <p:sp>
            <p:nvSpPr>
              <p:cNvPr id="212" name=""/>
              <p:cNvSpPr/>
              <p:nvPr/>
            </p:nvSpPr>
            <p:spPr>
              <a:xfrm flipH="1">
                <a:off x="2953800" y="5576760"/>
                <a:ext cx="35388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3" name=""/>
              <p:cNvCxnSpPr>
                <a:stCxn id="212" idx="0"/>
                <a:endCxn id="207" idx="4"/>
              </p:cNvCxnSpPr>
              <p:nvPr/>
            </p:nvCxnSpPr>
            <p:spPr>
              <a:xfrm flipV="1">
                <a:off x="3130560" y="5263560"/>
                <a:ext cx="10440" cy="29916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4" name=""/>
              <p:cNvSpPr/>
              <p:nvPr/>
            </p:nvSpPr>
            <p:spPr>
              <a:xfrm flipH="1">
                <a:off x="1362960" y="4908600"/>
                <a:ext cx="353880" cy="33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164680" y="5587920"/>
                <a:ext cx="35388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6" name=""/>
              <p:cNvCxnSpPr>
                <a:stCxn id="215" idx="7"/>
                <a:endCxn id="214" idx="3"/>
              </p:cNvCxnSpPr>
              <p:nvPr/>
            </p:nvCxnSpPr>
            <p:spPr>
              <a:xfrm flipH="1" flipV="1">
                <a:off x="1665000" y="5212800"/>
                <a:ext cx="553320" cy="41004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7" name=""/>
              <p:cNvSpPr/>
              <p:nvPr/>
            </p:nvSpPr>
            <p:spPr>
              <a:xfrm flipH="1">
                <a:off x="1387080" y="5591160"/>
                <a:ext cx="354240" cy="3398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8" name=""/>
              <p:cNvCxnSpPr>
                <a:stCxn id="217" idx="0"/>
                <a:endCxn id="214" idx="4"/>
              </p:cNvCxnSpPr>
              <p:nvPr/>
            </p:nvCxnSpPr>
            <p:spPr>
              <a:xfrm flipH="1" flipV="1">
                <a:off x="1539360" y="5261760"/>
                <a:ext cx="24480" cy="31500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14" idx="0"/>
                <a:endCxn id="209" idx="4"/>
              </p:cNvCxnSpPr>
              <p:nvPr/>
            </p:nvCxnSpPr>
            <p:spPr>
              <a:xfrm flipV="1">
                <a:off x="1540080" y="4502880"/>
                <a:ext cx="5400" cy="391320"/>
              </a:xfrm>
              <a:prstGeom prst="straightConnector1">
                <a:avLst/>
              </a:prstGeom>
              <a:ln w="57240">
                <a:solidFill>
                  <a:srgbClr val="990033"/>
                </a:solidFill>
                <a:miter/>
                <a:tailEnd len="med" type="triangle" w="med"/>
              </a:ln>
            </p:spPr>
          </p:cxnSp>
          <p:cxnSp>
            <p:nvCxnSpPr>
              <p:cNvPr id="220" name=""/>
              <p:cNvCxnSpPr>
                <a:stCxn id="209" idx="0"/>
              </p:cNvCxnSpPr>
              <p:nvPr/>
            </p:nvCxnSpPr>
            <p:spPr>
              <a:xfrm flipV="1">
                <a:off x="1544760" y="3656880"/>
                <a:ext cx="11880" cy="478440"/>
              </a:xfrm>
              <a:prstGeom prst="straightConnector1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221" name=""/>
            <p:cNvSpPr/>
            <p:nvPr/>
          </p:nvSpPr>
          <p:spPr>
            <a:xfrm>
              <a:off x="622440" y="4818240"/>
              <a:ext cx="68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0x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3240" y="4073400"/>
              <a:ext cx="6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00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0360" y="3260880"/>
              <a:ext cx="68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9BF-9263-4321-986D-A8E303A83955}" type="slidenum">
              <a:t>10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7 L 0.05174 -0.38171 E">
                                      <p:cBhvr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PI – Design Goal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4240" y="969480"/>
            <a:ext cx="7772400" cy="52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se scalable aggregation trees from D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exibility: Expose several aggregation mechanis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ttributes with different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read-to-write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ratio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PU load” changes often: a write-dominated attribu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ggregate on every writ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oo much communication c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CPUs” changes rarely: a read-dominated attribu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ggregate on read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unnecessary lat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patial and temporal heterogeneity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n-uniform and changing read-to-write rates across t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 a multicast session with changing membersh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sparse attributes of same functionality efficie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: file location, multicast, etc.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Not all nodes are interested in all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95D-59EE-4390-9F2B-F6B9B29BFB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Design of Flexible API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82440"/>
            <a:ext cx="777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abstraction: separate attribute type from attribute 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ttribute = (attribute type, attribute name)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: type=“fileLocation”, name=“fileFoo”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nst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n aggregation function for a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mortize installation cost across attributes of same typ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rguments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control aggregation on updat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he value of a particular attrib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ggregation performed according to up and dow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ggregation along tree with key=hash(Attribute)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for an aggregated value at som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If required, aggregation done to produce this resul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Two modes: one-shot and continuou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EE3-356C-4E05-890D-BB02CAA486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and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0656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l time aggregation and propagation strate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specify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 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Lo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tial and temporal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exploit continuous mode in prob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ropagate aggregate values to only interested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expiry time, to propagate for a fixed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so implies scalability with sparse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AA2-291D-41D4-B98E-99525803558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and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00656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l time aggregation and propagation strate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specify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Update-Lo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up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own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tial and temporal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exploit continuous mode in prob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ropagate aggregate values to only interested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expiry time, to propagate for a fixed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so implies scalability with sparse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10000" y="2147760"/>
            <a:ext cx="4110120" cy="1888920"/>
            <a:chOff x="4410000" y="2147760"/>
            <a:chExt cx="4110120" cy="1888920"/>
          </a:xfrm>
        </p:grpSpPr>
        <p:sp>
          <p:nvSpPr>
            <p:cNvPr id="233" name=""/>
            <p:cNvSpPr/>
            <p:nvPr/>
          </p:nvSpPr>
          <p:spPr>
            <a:xfrm>
              <a:off x="5197320" y="2874960"/>
              <a:ext cx="30492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4410000" y="360360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357960" y="214776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5535360" y="359388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7" name=""/>
            <p:cNvCxnSpPr>
              <a:stCxn id="234" idx="0"/>
              <a:endCxn id="233" idx="3"/>
            </p:cNvCxnSpPr>
            <p:nvPr/>
          </p:nvCxnSpPr>
          <p:spPr>
            <a:xfrm flipV="1">
              <a:off x="4754520" y="3148920"/>
              <a:ext cx="488160" cy="4550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38" name=""/>
            <p:cNvCxnSpPr>
              <a:stCxn id="236" idx="0"/>
              <a:endCxn id="233" idx="5"/>
            </p:cNvCxnSpPr>
            <p:nvPr/>
          </p:nvCxnSpPr>
          <p:spPr>
            <a:xfrm flipH="1" flipV="1">
              <a:off x="5456880" y="314856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39" name=""/>
            <p:cNvCxnSpPr>
              <a:stCxn id="233" idx="7"/>
              <a:endCxn id="235" idx="3"/>
            </p:cNvCxnSpPr>
            <p:nvPr/>
          </p:nvCxnSpPr>
          <p:spPr>
            <a:xfrm flipV="1">
              <a:off x="5457600" y="2422080"/>
              <a:ext cx="945360" cy="4831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7493040" y="288432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6705360" y="361296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7831080" y="360360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3" name=""/>
            <p:cNvCxnSpPr>
              <a:stCxn id="241" idx="0"/>
              <a:endCxn id="240" idx="3"/>
            </p:cNvCxnSpPr>
            <p:nvPr/>
          </p:nvCxnSpPr>
          <p:spPr>
            <a:xfrm flipV="1">
              <a:off x="7049880" y="315828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44" name=""/>
            <p:cNvCxnSpPr>
              <a:stCxn id="242" idx="0"/>
              <a:endCxn id="240" idx="5"/>
            </p:cNvCxnSpPr>
            <p:nvPr/>
          </p:nvCxnSpPr>
          <p:spPr>
            <a:xfrm flipH="1" flipV="1">
              <a:off x="7752600" y="315828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45" name=""/>
            <p:cNvCxnSpPr>
              <a:stCxn id="240" idx="1"/>
              <a:endCxn id="235" idx="5"/>
            </p:cNvCxnSpPr>
            <p:nvPr/>
          </p:nvCxnSpPr>
          <p:spPr>
            <a:xfrm flipH="1" flipV="1">
              <a:off x="6617520" y="2421720"/>
              <a:ext cx="919800" cy="492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4243320" y="3594240"/>
            <a:ext cx="515880" cy="404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5576760" y="3613320"/>
            <a:ext cx="516240" cy="404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7983360" y="3357720"/>
            <a:ext cx="520920" cy="657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5168880" y="2827440"/>
            <a:ext cx="314280" cy="396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6321600" y="1965240"/>
            <a:ext cx="431640" cy="54468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6275520" y="1936800"/>
            <a:ext cx="506160" cy="577800"/>
            <a:chOff x="6275520" y="1936800"/>
            <a:chExt cx="506160" cy="577800"/>
          </a:xfrm>
        </p:grpSpPr>
        <p:sp>
          <p:nvSpPr>
            <p:cNvPr id="252" name=""/>
            <p:cNvSpPr/>
            <p:nvPr/>
          </p:nvSpPr>
          <p:spPr>
            <a:xfrm>
              <a:off x="6275520" y="1936800"/>
              <a:ext cx="50616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93880" y="194724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57680" y="2046960"/>
              <a:ext cx="28080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3440" y="2286360"/>
              <a:ext cx="39024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468680" y="3562200"/>
            <a:ext cx="255600" cy="385920"/>
            <a:chOff x="4468680" y="3562200"/>
            <a:chExt cx="255600" cy="385920"/>
          </a:xfrm>
        </p:grpSpPr>
        <p:sp>
          <p:nvSpPr>
            <p:cNvPr id="257" name=""/>
            <p:cNvSpPr/>
            <p:nvPr/>
          </p:nvSpPr>
          <p:spPr>
            <a:xfrm>
              <a:off x="4468680" y="356220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78040" y="356904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60480" y="363564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18000" y="379584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189400" y="2797200"/>
            <a:ext cx="346320" cy="431640"/>
            <a:chOff x="5189400" y="2797200"/>
            <a:chExt cx="346320" cy="431640"/>
          </a:xfrm>
        </p:grpSpPr>
        <p:sp>
          <p:nvSpPr>
            <p:cNvPr id="262" name=""/>
            <p:cNvSpPr/>
            <p:nvPr/>
          </p:nvSpPr>
          <p:spPr>
            <a:xfrm>
              <a:off x="5189400" y="2797200"/>
              <a:ext cx="346320" cy="43164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02000" y="2804760"/>
              <a:ext cx="163080" cy="41580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13960" y="2879640"/>
              <a:ext cx="19224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6360" y="3058560"/>
              <a:ext cx="26712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6296040" y="1930320"/>
            <a:ext cx="431640" cy="544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1"/>
          <a:stretch/>
        </p:blipFill>
        <p:spPr>
          <a:xfrm>
            <a:off x="5181480" y="2832120"/>
            <a:ext cx="314280" cy="396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2"/>
          <a:stretch/>
        </p:blipFill>
        <p:spPr>
          <a:xfrm>
            <a:off x="7500960" y="2844720"/>
            <a:ext cx="314280" cy="397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7493040" y="2828880"/>
            <a:ext cx="314280" cy="39708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5832360" y="3616200"/>
            <a:ext cx="255600" cy="385920"/>
            <a:chOff x="5832360" y="3616200"/>
            <a:chExt cx="255600" cy="385920"/>
          </a:xfrm>
        </p:grpSpPr>
        <p:sp>
          <p:nvSpPr>
            <p:cNvPr id="271" name=""/>
            <p:cNvSpPr/>
            <p:nvPr/>
          </p:nvSpPr>
          <p:spPr>
            <a:xfrm>
              <a:off x="5832360" y="361620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41720" y="362304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24160" y="368964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1680" y="384984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878520" y="3570120"/>
            <a:ext cx="255600" cy="385920"/>
            <a:chOff x="6878520" y="3570120"/>
            <a:chExt cx="255600" cy="385920"/>
          </a:xfrm>
        </p:grpSpPr>
        <p:sp>
          <p:nvSpPr>
            <p:cNvPr id="276" name=""/>
            <p:cNvSpPr/>
            <p:nvPr/>
          </p:nvSpPr>
          <p:spPr>
            <a:xfrm>
              <a:off x="6878520" y="357012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87880" y="357696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70320" y="364356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27840" y="380376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8105760" y="3533760"/>
            <a:ext cx="255600" cy="385920"/>
            <a:chOff x="8105760" y="3533760"/>
            <a:chExt cx="255600" cy="385920"/>
          </a:xfrm>
        </p:grpSpPr>
        <p:sp>
          <p:nvSpPr>
            <p:cNvPr id="281" name=""/>
            <p:cNvSpPr/>
            <p:nvPr/>
          </p:nvSpPr>
          <p:spPr>
            <a:xfrm>
              <a:off x="8105760" y="353376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15120" y="354060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97560" y="360720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55080" y="376740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469280" y="2787480"/>
            <a:ext cx="345960" cy="432000"/>
            <a:chOff x="7469280" y="2787480"/>
            <a:chExt cx="345960" cy="432000"/>
          </a:xfrm>
        </p:grpSpPr>
        <p:sp>
          <p:nvSpPr>
            <p:cNvPr id="286" name=""/>
            <p:cNvSpPr/>
            <p:nvPr/>
          </p:nvSpPr>
          <p:spPr>
            <a:xfrm>
              <a:off x="7469280" y="2787480"/>
              <a:ext cx="345960" cy="4320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1880" y="2795040"/>
              <a:ext cx="162720" cy="41616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93840" y="2869920"/>
              <a:ext cx="19188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36240" y="3048840"/>
              <a:ext cx="26676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B2B-53B9-4F94-8716-BC9031A1DA75}" type="slidenum">
              <a:t>14</a:t>
            </a:fld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-0.06545 -0.10208 E">
                                      <p:cBhvr>
                                        <p:cTn id="247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45 -0.10208 L -0.19063 -0.20648 E">
                                      <p:cBhvr>
                                        <p:cTn id="250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0579 L 0.1184 0.12315 E">
                                      <p:cBhvr>
                                        <p:cTn id="264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486 L -0.13559 0.11944 E">
                                      <p:cBhvr>
                                        <p:cTn id="266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111E-006 L -0.07552 0.10949 E">
                                      <p:cBhvr>
                                        <p:cTn id="285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0.00371 L 0.06788 0.11459 E">
                                      <p:cBhvr>
                                        <p:cTn id="287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111E-006 L -0.07552 0.10949 E">
                                      <p:cBhvr>
                                        <p:cTn id="289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601 L 0.06528 0.10348 E">
                                      <p:cBhvr>
                                        <p:cTn id="291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0.08716 -0.12246 E">
                                      <p:cBhvr>
                                        <p:cTn id="320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0115 L -0.06511 -0.11551 E">
                                      <p:cBhvr>
                                        <p:cTn id="322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0463 L 0.06771 -0.10486 E">
                                      <p:cBhvr>
                                        <p:cTn id="324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0.00162 L -0.07326 -0.10186 E">
                                      <p:cBhvr>
                                        <p:cTn id="32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0255 L -0.12639 -0.1088 E">
                                      <p:cBhvr>
                                        <p:cTn id="347" dur="1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0.1276 -0.11203 E">
                                      <p:cBhvr>
                                        <p:cTn id="349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0.19045 0.22176 E">
                                      <p:cBhvr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and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0656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l time aggregation and propagation strate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specify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Lo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pdate-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ALL,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down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tial and temporal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exploit continuous mode in prob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ropagate aggregate values to only interested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expiry time, to propagate for a fixed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so implies scalability with sparse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433760" y="2162160"/>
            <a:ext cx="4110120" cy="1888920"/>
            <a:chOff x="4433760" y="2162160"/>
            <a:chExt cx="4110120" cy="1888920"/>
          </a:xfrm>
        </p:grpSpPr>
        <p:sp>
          <p:nvSpPr>
            <p:cNvPr id="293" name=""/>
            <p:cNvSpPr/>
            <p:nvPr/>
          </p:nvSpPr>
          <p:spPr>
            <a:xfrm>
              <a:off x="5221080" y="2889360"/>
              <a:ext cx="30492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4433760" y="361800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381720" y="216216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5559120" y="360828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97" name=""/>
            <p:cNvCxnSpPr>
              <a:stCxn id="294" idx="0"/>
              <a:endCxn id="293" idx="3"/>
            </p:cNvCxnSpPr>
            <p:nvPr/>
          </p:nvCxnSpPr>
          <p:spPr>
            <a:xfrm flipV="1">
              <a:off x="4778280" y="3163320"/>
              <a:ext cx="488160" cy="4550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98" name=""/>
            <p:cNvCxnSpPr>
              <a:stCxn id="296" idx="0"/>
              <a:endCxn id="293" idx="5"/>
            </p:cNvCxnSpPr>
            <p:nvPr/>
          </p:nvCxnSpPr>
          <p:spPr>
            <a:xfrm flipH="1" flipV="1">
              <a:off x="5480640" y="316296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299" name=""/>
            <p:cNvCxnSpPr>
              <a:stCxn id="293" idx="7"/>
              <a:endCxn id="295" idx="3"/>
            </p:cNvCxnSpPr>
            <p:nvPr/>
          </p:nvCxnSpPr>
          <p:spPr>
            <a:xfrm flipV="1">
              <a:off x="5481360" y="2436480"/>
              <a:ext cx="945360" cy="4831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300" name=""/>
            <p:cNvSpPr/>
            <p:nvPr/>
          </p:nvSpPr>
          <p:spPr>
            <a:xfrm>
              <a:off x="7516800" y="289872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6729120" y="362736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4"/>
            <a:stretch/>
          </p:blipFill>
          <p:spPr>
            <a:xfrm>
              <a:off x="7854840" y="361800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03" name=""/>
            <p:cNvCxnSpPr>
              <a:stCxn id="301" idx="0"/>
              <a:endCxn id="300" idx="3"/>
            </p:cNvCxnSpPr>
            <p:nvPr/>
          </p:nvCxnSpPr>
          <p:spPr>
            <a:xfrm flipV="1">
              <a:off x="7073640" y="317268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04" name=""/>
            <p:cNvCxnSpPr>
              <a:stCxn id="302" idx="0"/>
              <a:endCxn id="300" idx="5"/>
            </p:cNvCxnSpPr>
            <p:nvPr/>
          </p:nvCxnSpPr>
          <p:spPr>
            <a:xfrm flipH="1" flipV="1">
              <a:off x="7776360" y="317268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05" name=""/>
            <p:cNvCxnSpPr>
              <a:stCxn id="300" idx="1"/>
              <a:endCxn id="295" idx="5"/>
            </p:cNvCxnSpPr>
            <p:nvPr/>
          </p:nvCxnSpPr>
          <p:spPr>
            <a:xfrm flipH="1" flipV="1">
              <a:off x="6641280" y="2436120"/>
              <a:ext cx="919800" cy="492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4267080" y="3608280"/>
            <a:ext cx="515880" cy="405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7994520" y="3475080"/>
            <a:ext cx="520920" cy="65736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4446720" y="3668760"/>
            <a:ext cx="255600" cy="385560"/>
            <a:chOff x="4446720" y="3668760"/>
            <a:chExt cx="255600" cy="385560"/>
          </a:xfrm>
        </p:grpSpPr>
        <p:sp>
          <p:nvSpPr>
            <p:cNvPr id="309" name=""/>
            <p:cNvSpPr/>
            <p:nvPr/>
          </p:nvSpPr>
          <p:spPr>
            <a:xfrm>
              <a:off x="4446720" y="3668760"/>
              <a:ext cx="255600" cy="38556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56080" y="3675600"/>
              <a:ext cx="120240" cy="3715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38520" y="374220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96040" y="3902040"/>
              <a:ext cx="197280" cy="12168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337440" y="2033640"/>
            <a:ext cx="506160" cy="577800"/>
            <a:chOff x="6337440" y="2033640"/>
            <a:chExt cx="506160" cy="577800"/>
          </a:xfrm>
        </p:grpSpPr>
        <p:sp>
          <p:nvSpPr>
            <p:cNvPr id="314" name=""/>
            <p:cNvSpPr/>
            <p:nvPr/>
          </p:nvSpPr>
          <p:spPr>
            <a:xfrm>
              <a:off x="6337440" y="2033640"/>
              <a:ext cx="50616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55800" y="204408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19600" y="2143800"/>
              <a:ext cx="28080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35360" y="2383200"/>
              <a:ext cx="39024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251320" y="2806560"/>
            <a:ext cx="346320" cy="432000"/>
            <a:chOff x="5251320" y="2806560"/>
            <a:chExt cx="346320" cy="432000"/>
          </a:xfrm>
        </p:grpSpPr>
        <p:sp>
          <p:nvSpPr>
            <p:cNvPr id="319" name=""/>
            <p:cNvSpPr/>
            <p:nvPr/>
          </p:nvSpPr>
          <p:spPr>
            <a:xfrm>
              <a:off x="5251320" y="2806560"/>
              <a:ext cx="346320" cy="4320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63920" y="2814120"/>
              <a:ext cx="163080" cy="41616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75880" y="2889000"/>
              <a:ext cx="19224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18280" y="3067920"/>
              <a:ext cx="26712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240160" y="2814480"/>
            <a:ext cx="346320" cy="432000"/>
            <a:chOff x="5240160" y="2814480"/>
            <a:chExt cx="346320" cy="432000"/>
          </a:xfrm>
        </p:grpSpPr>
        <p:sp>
          <p:nvSpPr>
            <p:cNvPr id="324" name=""/>
            <p:cNvSpPr/>
            <p:nvPr/>
          </p:nvSpPr>
          <p:spPr>
            <a:xfrm>
              <a:off x="5240160" y="2814480"/>
              <a:ext cx="346320" cy="4320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52760" y="2822040"/>
              <a:ext cx="163080" cy="41616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64720" y="2896920"/>
              <a:ext cx="19224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07120" y="3075840"/>
              <a:ext cx="26712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424640" y="2701800"/>
            <a:ext cx="506520" cy="577800"/>
            <a:chOff x="7424640" y="2701800"/>
            <a:chExt cx="506520" cy="577800"/>
          </a:xfrm>
        </p:grpSpPr>
        <p:sp>
          <p:nvSpPr>
            <p:cNvPr id="329" name=""/>
            <p:cNvSpPr/>
            <p:nvPr/>
          </p:nvSpPr>
          <p:spPr>
            <a:xfrm>
              <a:off x="7424640" y="2701800"/>
              <a:ext cx="50652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43000" y="271224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6800" y="2811960"/>
              <a:ext cx="28116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22560" y="3051360"/>
              <a:ext cx="39060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326280" y="2038320"/>
            <a:ext cx="506160" cy="577800"/>
            <a:chOff x="6326280" y="2038320"/>
            <a:chExt cx="506160" cy="577800"/>
          </a:xfrm>
        </p:grpSpPr>
        <p:sp>
          <p:nvSpPr>
            <p:cNvPr id="334" name=""/>
            <p:cNvSpPr/>
            <p:nvPr/>
          </p:nvSpPr>
          <p:spPr>
            <a:xfrm>
              <a:off x="6326280" y="2038320"/>
              <a:ext cx="50616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44640" y="204876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08440" y="2148480"/>
              <a:ext cx="28080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24200" y="2387880"/>
              <a:ext cx="39024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170320" y="2738520"/>
            <a:ext cx="506520" cy="577800"/>
            <a:chOff x="5170320" y="2738520"/>
            <a:chExt cx="506520" cy="577800"/>
          </a:xfrm>
        </p:grpSpPr>
        <p:sp>
          <p:nvSpPr>
            <p:cNvPr id="339" name=""/>
            <p:cNvSpPr/>
            <p:nvPr/>
          </p:nvSpPr>
          <p:spPr>
            <a:xfrm>
              <a:off x="5170320" y="2738520"/>
              <a:ext cx="50652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8680" y="274896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52480" y="2848680"/>
              <a:ext cx="28116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68240" y="3088080"/>
              <a:ext cx="39060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246640" y="2819520"/>
            <a:ext cx="345960" cy="431640"/>
            <a:chOff x="5246640" y="2819520"/>
            <a:chExt cx="345960" cy="431640"/>
          </a:xfrm>
        </p:grpSpPr>
        <p:sp>
          <p:nvSpPr>
            <p:cNvPr id="344" name=""/>
            <p:cNvSpPr/>
            <p:nvPr/>
          </p:nvSpPr>
          <p:spPr>
            <a:xfrm>
              <a:off x="5246640" y="2819520"/>
              <a:ext cx="345960" cy="43164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59240" y="2827080"/>
              <a:ext cx="162720" cy="41580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71200" y="2901960"/>
              <a:ext cx="19188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13600" y="3080880"/>
              <a:ext cx="26676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3D2-EE7A-4232-A502-2F326E8178A8}" type="slidenum">
              <a:t>15</a:t>
            </a:fld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0.08716 -0.12246 E">
                                      <p:cBhvr>
                                        <p:cTn id="380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0.00093 L 0.05642 0.11736 E">
                                      <p:cBhvr>
                                        <p:cTn id="395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0023 L 0.11997 -0.10347 E">
                                      <p:cBhvr>
                                        <p:cTn id="397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6296E-006 L -0.09393 0.12315 E">
                                      <p:cBhvr>
                                        <p:cTn id="399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500"/>
                            </p:stCondLst>
                            <p:childTnLst>
                              <p:par>
                                <p:cTn id="4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0.00069 L 0.1151 0.10833 E">
                                      <p:cBhvr>
                                        <p:cTn id="421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07407E-006 L -0.12917 0.10764 E">
                                      <p:cBhvr>
                                        <p:cTn id="423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000"/>
                            </p:stCondLst>
                            <p:childTnLst>
                              <p:par>
                                <p:cTn id="4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L 0.06614 0.12269 E">
                                      <p:cBhvr>
                                        <p:cTn id="433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0.10393 L -0.21406 0.22431 E">
                                      <p:cBhvr>
                                        <p:cTn id="435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1 0.10833 L 0.0441 0.2287 E">
                                      <p:cBhvr>
                                        <p:cTn id="437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06788 0.11621 E">
                                      <p:cBhvr>
                                        <p:cTn id="439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4443480" y="2089080"/>
            <a:ext cx="4110120" cy="1888920"/>
            <a:chOff x="4443480" y="2089080"/>
            <a:chExt cx="4110120" cy="1888920"/>
          </a:xfrm>
        </p:grpSpPr>
        <p:sp>
          <p:nvSpPr>
            <p:cNvPr id="349" name=""/>
            <p:cNvSpPr/>
            <p:nvPr/>
          </p:nvSpPr>
          <p:spPr>
            <a:xfrm>
              <a:off x="5230800" y="2816280"/>
              <a:ext cx="30492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4443480" y="354492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391440" y="208908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5568840" y="353520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53" name=""/>
            <p:cNvCxnSpPr>
              <a:stCxn id="350" idx="0"/>
              <a:endCxn id="349" idx="3"/>
            </p:cNvCxnSpPr>
            <p:nvPr/>
          </p:nvCxnSpPr>
          <p:spPr>
            <a:xfrm flipV="1">
              <a:off x="4788000" y="3090240"/>
              <a:ext cx="488160" cy="4550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54" name=""/>
            <p:cNvCxnSpPr>
              <a:stCxn id="352" idx="0"/>
              <a:endCxn id="349" idx="5"/>
            </p:cNvCxnSpPr>
            <p:nvPr/>
          </p:nvCxnSpPr>
          <p:spPr>
            <a:xfrm flipH="1" flipV="1">
              <a:off x="5490360" y="308988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55" name=""/>
            <p:cNvCxnSpPr>
              <a:stCxn id="349" idx="7"/>
              <a:endCxn id="351" idx="3"/>
            </p:cNvCxnSpPr>
            <p:nvPr/>
          </p:nvCxnSpPr>
          <p:spPr>
            <a:xfrm flipV="1">
              <a:off x="5491080" y="2363400"/>
              <a:ext cx="945360" cy="4831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356" name=""/>
            <p:cNvSpPr/>
            <p:nvPr/>
          </p:nvSpPr>
          <p:spPr>
            <a:xfrm>
              <a:off x="7526520" y="282564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3"/>
            <a:stretch/>
          </p:blipFill>
          <p:spPr>
            <a:xfrm>
              <a:off x="6738840" y="355428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4"/>
            <a:stretch/>
          </p:blipFill>
          <p:spPr>
            <a:xfrm>
              <a:off x="7864560" y="354492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59" name=""/>
            <p:cNvCxnSpPr>
              <a:stCxn id="357" idx="0"/>
              <a:endCxn id="356" idx="3"/>
            </p:cNvCxnSpPr>
            <p:nvPr/>
          </p:nvCxnSpPr>
          <p:spPr>
            <a:xfrm flipV="1">
              <a:off x="7083360" y="309960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60" name=""/>
            <p:cNvCxnSpPr>
              <a:stCxn id="358" idx="0"/>
              <a:endCxn id="356" idx="5"/>
            </p:cNvCxnSpPr>
            <p:nvPr/>
          </p:nvCxnSpPr>
          <p:spPr>
            <a:xfrm flipH="1" flipV="1">
              <a:off x="7786080" y="309960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61" name=""/>
            <p:cNvCxnSpPr>
              <a:stCxn id="356" idx="1"/>
              <a:endCxn id="351" idx="5"/>
            </p:cNvCxnSpPr>
            <p:nvPr/>
          </p:nvCxnSpPr>
          <p:spPr>
            <a:xfrm flipH="1" flipV="1">
              <a:off x="6651000" y="2363040"/>
              <a:ext cx="919800" cy="492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grpSp>
        <p:nvGrpSpPr>
          <p:cNvPr id="362" name=""/>
          <p:cNvGrpSpPr/>
          <p:nvPr/>
        </p:nvGrpSpPr>
        <p:grpSpPr>
          <a:xfrm>
            <a:off x="6319800" y="1951200"/>
            <a:ext cx="506520" cy="577800"/>
            <a:chOff x="6319800" y="1951200"/>
            <a:chExt cx="506520" cy="577800"/>
          </a:xfrm>
        </p:grpSpPr>
        <p:sp>
          <p:nvSpPr>
            <p:cNvPr id="363" name=""/>
            <p:cNvSpPr/>
            <p:nvPr/>
          </p:nvSpPr>
          <p:spPr>
            <a:xfrm>
              <a:off x="6319800" y="1951200"/>
              <a:ext cx="50652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38160" y="196164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01960" y="2061360"/>
              <a:ext cx="28116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17720" y="2300760"/>
              <a:ext cx="39060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and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00656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l time aggregation and propagation strate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specify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Lo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pdate-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ALL,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down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tial and temporal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exploit continuous mode in prob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ropagate aggregate values to only interested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expiry time, to propagate for a fixed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so implies scalability with sparse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4276800" y="3535200"/>
            <a:ext cx="515880" cy="405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8004240" y="3402000"/>
            <a:ext cx="520560" cy="65736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4456080" y="3595680"/>
            <a:ext cx="255600" cy="385920"/>
            <a:chOff x="4456080" y="3595680"/>
            <a:chExt cx="255600" cy="385920"/>
          </a:xfrm>
        </p:grpSpPr>
        <p:sp>
          <p:nvSpPr>
            <p:cNvPr id="372" name=""/>
            <p:cNvSpPr/>
            <p:nvPr/>
          </p:nvSpPr>
          <p:spPr>
            <a:xfrm>
              <a:off x="4456080" y="359568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65440" y="360252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47880" y="366912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05400" y="382932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261040" y="2733840"/>
            <a:ext cx="345960" cy="431640"/>
            <a:chOff x="5261040" y="2733840"/>
            <a:chExt cx="345960" cy="431640"/>
          </a:xfrm>
        </p:grpSpPr>
        <p:sp>
          <p:nvSpPr>
            <p:cNvPr id="377" name=""/>
            <p:cNvSpPr/>
            <p:nvPr/>
          </p:nvSpPr>
          <p:spPr>
            <a:xfrm>
              <a:off x="5261040" y="2733840"/>
              <a:ext cx="345960" cy="43164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3640" y="2741400"/>
              <a:ext cx="162720" cy="41580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85600" y="2816280"/>
              <a:ext cx="19188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28000" y="2995200"/>
              <a:ext cx="26676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A35-3B91-43B3-BD81-C1C34DB428F1}" type="slidenum">
              <a:t>16</a:t>
            </a:fld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0.08716 -0.12246 E">
                                      <p:cBhvr>
                                        <p:cTn id="479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0023 L 0.11997 -0.10347 E">
                                      <p:cBhvr>
                                        <p:cTn id="489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48148E-006 L -0.06614 -0.10116 E">
                                      <p:cBhvr>
                                        <p:cTn id="505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96 -0.10903 L -0.18784 -0.21875 E">
                                      <p:cBhvr>
                                        <p:cTn id="508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0.00069 L 0.1151 0.10833 E">
                                      <p:cBhvr>
                                        <p:cTn id="515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1 0.10834 L 0.18767 0.20741 E">
                                      <p:cBhvr>
                                        <p:cTn id="518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and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00656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l time aggregation and propagation strate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specify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660033"/>
                </a:solidFill>
                <a:latin typeface="Comic Sans MS"/>
              </a:rPr>
              <a:t>dow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Lo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-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ALL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atial and temporal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can exploit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ntinuous mode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in prob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ropagate aggregate values to only interested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expiry time, to propagate for a finite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so implies scalability with sparse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443480" y="2089080"/>
            <a:ext cx="4110120" cy="1888920"/>
            <a:chOff x="4443480" y="2089080"/>
            <a:chExt cx="4110120" cy="1888920"/>
          </a:xfrm>
        </p:grpSpPr>
        <p:sp>
          <p:nvSpPr>
            <p:cNvPr id="384" name=""/>
            <p:cNvSpPr/>
            <p:nvPr/>
          </p:nvSpPr>
          <p:spPr>
            <a:xfrm>
              <a:off x="5230800" y="2816280"/>
              <a:ext cx="304920" cy="3045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4443480" y="354492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391440" y="208908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5568840" y="3535200"/>
              <a:ext cx="689040" cy="424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88" name=""/>
            <p:cNvCxnSpPr>
              <a:stCxn id="385" idx="0"/>
              <a:endCxn id="384" idx="3"/>
            </p:cNvCxnSpPr>
            <p:nvPr/>
          </p:nvCxnSpPr>
          <p:spPr>
            <a:xfrm flipV="1">
              <a:off x="4788000" y="3090240"/>
              <a:ext cx="488160" cy="4550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89" name=""/>
            <p:cNvCxnSpPr>
              <a:stCxn id="387" idx="0"/>
              <a:endCxn id="384" idx="5"/>
            </p:cNvCxnSpPr>
            <p:nvPr/>
          </p:nvCxnSpPr>
          <p:spPr>
            <a:xfrm flipH="1" flipV="1">
              <a:off x="5490360" y="308988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90" name=""/>
            <p:cNvCxnSpPr>
              <a:stCxn id="384" idx="7"/>
              <a:endCxn id="386" idx="3"/>
            </p:cNvCxnSpPr>
            <p:nvPr/>
          </p:nvCxnSpPr>
          <p:spPr>
            <a:xfrm flipV="1">
              <a:off x="5491080" y="2363400"/>
              <a:ext cx="945360" cy="4831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391" name=""/>
            <p:cNvSpPr/>
            <p:nvPr/>
          </p:nvSpPr>
          <p:spPr>
            <a:xfrm>
              <a:off x="7526520" y="2825640"/>
              <a:ext cx="304560" cy="3049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6738840" y="355428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>
              <a:off x="7864560" y="3544920"/>
              <a:ext cx="689040" cy="42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94" name=""/>
            <p:cNvCxnSpPr>
              <a:stCxn id="392" idx="0"/>
              <a:endCxn id="391" idx="3"/>
            </p:cNvCxnSpPr>
            <p:nvPr/>
          </p:nvCxnSpPr>
          <p:spPr>
            <a:xfrm flipV="1">
              <a:off x="7083360" y="3099600"/>
              <a:ext cx="488160" cy="4546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95" name=""/>
            <p:cNvCxnSpPr>
              <a:stCxn id="393" idx="0"/>
              <a:endCxn id="391" idx="5"/>
            </p:cNvCxnSpPr>
            <p:nvPr/>
          </p:nvCxnSpPr>
          <p:spPr>
            <a:xfrm flipH="1" flipV="1">
              <a:off x="7786080" y="3099600"/>
              <a:ext cx="423000" cy="4453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396" name=""/>
            <p:cNvCxnSpPr>
              <a:stCxn id="391" idx="1"/>
              <a:endCxn id="386" idx="5"/>
            </p:cNvCxnSpPr>
            <p:nvPr/>
          </p:nvCxnSpPr>
          <p:spPr>
            <a:xfrm flipH="1" flipV="1">
              <a:off x="6651000" y="2363040"/>
              <a:ext cx="919800" cy="49284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</a:ln>
          </p:spPr>
        </p:cxnSp>
      </p:grp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4276800" y="3535200"/>
            <a:ext cx="515880" cy="405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8004240" y="3402000"/>
            <a:ext cx="520560" cy="65736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4456080" y="3595680"/>
            <a:ext cx="255600" cy="385920"/>
            <a:chOff x="4456080" y="3595680"/>
            <a:chExt cx="255600" cy="385920"/>
          </a:xfrm>
        </p:grpSpPr>
        <p:sp>
          <p:nvSpPr>
            <p:cNvPr id="400" name=""/>
            <p:cNvSpPr/>
            <p:nvPr/>
          </p:nvSpPr>
          <p:spPr>
            <a:xfrm>
              <a:off x="4456080" y="3595680"/>
              <a:ext cx="255600" cy="38592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65440" y="3602520"/>
              <a:ext cx="120240" cy="37188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47880" y="366912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05400" y="3829320"/>
              <a:ext cx="197280" cy="1220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" descr=""/>
          <p:cNvPicPr/>
          <p:nvPr/>
        </p:nvPicPr>
        <p:blipFill>
          <a:blip r:embed="rId7"/>
          <a:stretch/>
        </p:blipFill>
        <p:spPr>
          <a:xfrm>
            <a:off x="7364520" y="2604960"/>
            <a:ext cx="520560" cy="6573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8"/>
          <a:stretch/>
        </p:blipFill>
        <p:spPr>
          <a:xfrm>
            <a:off x="5651640" y="3571920"/>
            <a:ext cx="515880" cy="40464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5857920" y="3579840"/>
            <a:ext cx="255600" cy="385560"/>
            <a:chOff x="5857920" y="3579840"/>
            <a:chExt cx="255600" cy="385560"/>
          </a:xfrm>
        </p:grpSpPr>
        <p:sp>
          <p:nvSpPr>
            <p:cNvPr id="407" name=""/>
            <p:cNvSpPr/>
            <p:nvPr/>
          </p:nvSpPr>
          <p:spPr>
            <a:xfrm>
              <a:off x="5857920" y="3579840"/>
              <a:ext cx="255600" cy="38556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67280" y="3586680"/>
              <a:ext cx="120240" cy="3715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49720" y="3653280"/>
              <a:ext cx="141840" cy="16128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07240" y="3813120"/>
              <a:ext cx="197280" cy="12168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319800" y="1951200"/>
            <a:ext cx="506520" cy="577800"/>
            <a:chOff x="6319800" y="1951200"/>
            <a:chExt cx="506520" cy="577800"/>
          </a:xfrm>
        </p:grpSpPr>
        <p:sp>
          <p:nvSpPr>
            <p:cNvPr id="412" name=""/>
            <p:cNvSpPr/>
            <p:nvPr/>
          </p:nvSpPr>
          <p:spPr>
            <a:xfrm>
              <a:off x="6319800" y="1951200"/>
              <a:ext cx="50652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38160" y="196164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1960" y="2061360"/>
              <a:ext cx="28116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17720" y="2300760"/>
              <a:ext cx="39060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261040" y="2733840"/>
            <a:ext cx="345960" cy="431640"/>
            <a:chOff x="5261040" y="2733840"/>
            <a:chExt cx="345960" cy="431640"/>
          </a:xfrm>
        </p:grpSpPr>
        <p:sp>
          <p:nvSpPr>
            <p:cNvPr id="417" name=""/>
            <p:cNvSpPr/>
            <p:nvPr/>
          </p:nvSpPr>
          <p:spPr>
            <a:xfrm>
              <a:off x="5261040" y="2733840"/>
              <a:ext cx="345960" cy="43164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73640" y="2741400"/>
              <a:ext cx="162720" cy="41580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85600" y="2816280"/>
              <a:ext cx="19188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28000" y="2995200"/>
              <a:ext cx="26676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284800" y="2732040"/>
            <a:ext cx="345960" cy="432000"/>
            <a:chOff x="5284800" y="2732040"/>
            <a:chExt cx="345960" cy="432000"/>
          </a:xfrm>
        </p:grpSpPr>
        <p:sp>
          <p:nvSpPr>
            <p:cNvPr id="422" name=""/>
            <p:cNvSpPr/>
            <p:nvPr/>
          </p:nvSpPr>
          <p:spPr>
            <a:xfrm>
              <a:off x="5284800" y="2732040"/>
              <a:ext cx="345960" cy="4320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97400" y="2739600"/>
              <a:ext cx="162720" cy="41616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09360" y="2814480"/>
              <a:ext cx="191880" cy="1803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51760" y="2993400"/>
              <a:ext cx="266760" cy="13644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343560" y="1936800"/>
            <a:ext cx="506520" cy="577800"/>
            <a:chOff x="6343560" y="1936800"/>
            <a:chExt cx="506520" cy="577800"/>
          </a:xfrm>
        </p:grpSpPr>
        <p:sp>
          <p:nvSpPr>
            <p:cNvPr id="427" name=""/>
            <p:cNvSpPr/>
            <p:nvPr/>
          </p:nvSpPr>
          <p:spPr>
            <a:xfrm>
              <a:off x="6343560" y="1936800"/>
              <a:ext cx="506520" cy="577800"/>
            </a:xfrm>
            <a:custGeom>
              <a:avLst/>
              <a:gdLst/>
              <a:ahLst/>
              <a:rect l="l" t="t" r="r" b="b"/>
              <a:pathLst>
                <a:path w="1084" h="1102">
                  <a:moveTo>
                    <a:pt x="139" y="263"/>
                  </a:moveTo>
                  <a:lnTo>
                    <a:pt x="168" y="310"/>
                  </a:lnTo>
                  <a:lnTo>
                    <a:pt x="163" y="317"/>
                  </a:lnTo>
                  <a:lnTo>
                    <a:pt x="152" y="336"/>
                  </a:lnTo>
                  <a:lnTo>
                    <a:pt x="134" y="362"/>
                  </a:lnTo>
                  <a:lnTo>
                    <a:pt x="114" y="397"/>
                  </a:lnTo>
                  <a:lnTo>
                    <a:pt x="92" y="435"/>
                  </a:lnTo>
                  <a:lnTo>
                    <a:pt x="71" y="474"/>
                  </a:lnTo>
                  <a:lnTo>
                    <a:pt x="54" y="512"/>
                  </a:lnTo>
                  <a:lnTo>
                    <a:pt x="41" y="546"/>
                  </a:lnTo>
                  <a:lnTo>
                    <a:pt x="31" y="617"/>
                  </a:lnTo>
                  <a:lnTo>
                    <a:pt x="32" y="693"/>
                  </a:lnTo>
                  <a:lnTo>
                    <a:pt x="39" y="763"/>
                  </a:lnTo>
                  <a:lnTo>
                    <a:pt x="48" y="817"/>
                  </a:lnTo>
                  <a:lnTo>
                    <a:pt x="53" y="841"/>
                  </a:lnTo>
                  <a:lnTo>
                    <a:pt x="59" y="869"/>
                  </a:lnTo>
                  <a:lnTo>
                    <a:pt x="66" y="898"/>
                  </a:lnTo>
                  <a:lnTo>
                    <a:pt x="74" y="927"/>
                  </a:lnTo>
                  <a:lnTo>
                    <a:pt x="81" y="952"/>
                  </a:lnTo>
                  <a:lnTo>
                    <a:pt x="87" y="973"/>
                  </a:lnTo>
                  <a:lnTo>
                    <a:pt x="92" y="988"/>
                  </a:lnTo>
                  <a:lnTo>
                    <a:pt x="93" y="992"/>
                  </a:lnTo>
                  <a:lnTo>
                    <a:pt x="93" y="996"/>
                  </a:lnTo>
                  <a:lnTo>
                    <a:pt x="93" y="1006"/>
                  </a:lnTo>
                  <a:lnTo>
                    <a:pt x="93" y="1020"/>
                  </a:lnTo>
                  <a:lnTo>
                    <a:pt x="94" y="1037"/>
                  </a:lnTo>
                  <a:lnTo>
                    <a:pt x="98" y="1054"/>
                  </a:lnTo>
                  <a:lnTo>
                    <a:pt x="102" y="1072"/>
                  </a:lnTo>
                  <a:lnTo>
                    <a:pt x="111" y="1087"/>
                  </a:lnTo>
                  <a:lnTo>
                    <a:pt x="123" y="1096"/>
                  </a:lnTo>
                  <a:lnTo>
                    <a:pt x="137" y="1100"/>
                  </a:lnTo>
                  <a:lnTo>
                    <a:pt x="150" y="1102"/>
                  </a:lnTo>
                  <a:lnTo>
                    <a:pt x="165" y="1100"/>
                  </a:lnTo>
                  <a:lnTo>
                    <a:pt x="179" y="1098"/>
                  </a:lnTo>
                  <a:lnTo>
                    <a:pt x="192" y="1094"/>
                  </a:lnTo>
                  <a:lnTo>
                    <a:pt x="203" y="1088"/>
                  </a:lnTo>
                  <a:lnTo>
                    <a:pt x="213" y="1082"/>
                  </a:lnTo>
                  <a:lnTo>
                    <a:pt x="221" y="1076"/>
                  </a:lnTo>
                  <a:lnTo>
                    <a:pt x="229" y="1071"/>
                  </a:lnTo>
                  <a:lnTo>
                    <a:pt x="239" y="1066"/>
                  </a:lnTo>
                  <a:lnTo>
                    <a:pt x="251" y="1061"/>
                  </a:lnTo>
                  <a:lnTo>
                    <a:pt x="263" y="1057"/>
                  </a:lnTo>
                  <a:lnTo>
                    <a:pt x="275" y="1053"/>
                  </a:lnTo>
                  <a:lnTo>
                    <a:pt x="284" y="1050"/>
                  </a:lnTo>
                  <a:lnTo>
                    <a:pt x="291" y="1049"/>
                  </a:lnTo>
                  <a:lnTo>
                    <a:pt x="293" y="1047"/>
                  </a:lnTo>
                  <a:lnTo>
                    <a:pt x="294" y="1047"/>
                  </a:lnTo>
                  <a:lnTo>
                    <a:pt x="299" y="1047"/>
                  </a:lnTo>
                  <a:lnTo>
                    <a:pt x="306" y="1049"/>
                  </a:lnTo>
                  <a:lnTo>
                    <a:pt x="315" y="1049"/>
                  </a:lnTo>
                  <a:lnTo>
                    <a:pt x="326" y="1049"/>
                  </a:lnTo>
                  <a:lnTo>
                    <a:pt x="339" y="1047"/>
                  </a:lnTo>
                  <a:lnTo>
                    <a:pt x="354" y="1047"/>
                  </a:lnTo>
                  <a:lnTo>
                    <a:pt x="371" y="1045"/>
                  </a:lnTo>
                  <a:lnTo>
                    <a:pt x="389" y="1043"/>
                  </a:lnTo>
                  <a:lnTo>
                    <a:pt x="409" y="1041"/>
                  </a:lnTo>
                  <a:lnTo>
                    <a:pt x="428" y="1036"/>
                  </a:lnTo>
                  <a:lnTo>
                    <a:pt x="449" y="1031"/>
                  </a:lnTo>
                  <a:lnTo>
                    <a:pt x="471" y="1026"/>
                  </a:lnTo>
                  <a:lnTo>
                    <a:pt x="493" y="1018"/>
                  </a:lnTo>
                  <a:lnTo>
                    <a:pt x="516" y="1008"/>
                  </a:lnTo>
                  <a:lnTo>
                    <a:pt x="538" y="998"/>
                  </a:lnTo>
                  <a:lnTo>
                    <a:pt x="574" y="978"/>
                  </a:lnTo>
                  <a:lnTo>
                    <a:pt x="609" y="960"/>
                  </a:lnTo>
                  <a:lnTo>
                    <a:pt x="640" y="942"/>
                  </a:lnTo>
                  <a:lnTo>
                    <a:pt x="669" y="923"/>
                  </a:lnTo>
                  <a:lnTo>
                    <a:pt x="695" y="906"/>
                  </a:lnTo>
                  <a:lnTo>
                    <a:pt x="720" y="889"/>
                  </a:lnTo>
                  <a:lnTo>
                    <a:pt x="741" y="874"/>
                  </a:lnTo>
                  <a:lnTo>
                    <a:pt x="762" y="859"/>
                  </a:lnTo>
                  <a:lnTo>
                    <a:pt x="781" y="845"/>
                  </a:lnTo>
                  <a:lnTo>
                    <a:pt x="797" y="833"/>
                  </a:lnTo>
                  <a:lnTo>
                    <a:pt x="813" y="822"/>
                  </a:lnTo>
                  <a:lnTo>
                    <a:pt x="827" y="813"/>
                  </a:lnTo>
                  <a:lnTo>
                    <a:pt x="839" y="806"/>
                  </a:lnTo>
                  <a:lnTo>
                    <a:pt x="851" y="799"/>
                  </a:lnTo>
                  <a:lnTo>
                    <a:pt x="862" y="795"/>
                  </a:lnTo>
                  <a:lnTo>
                    <a:pt x="873" y="793"/>
                  </a:lnTo>
                  <a:lnTo>
                    <a:pt x="884" y="792"/>
                  </a:lnTo>
                  <a:lnTo>
                    <a:pt x="898" y="789"/>
                  </a:lnTo>
                  <a:lnTo>
                    <a:pt x="913" y="786"/>
                  </a:lnTo>
                  <a:lnTo>
                    <a:pt x="929" y="783"/>
                  </a:lnTo>
                  <a:lnTo>
                    <a:pt x="947" y="778"/>
                  </a:lnTo>
                  <a:lnTo>
                    <a:pt x="964" y="773"/>
                  </a:lnTo>
                  <a:lnTo>
                    <a:pt x="981" y="768"/>
                  </a:lnTo>
                  <a:lnTo>
                    <a:pt x="999" y="763"/>
                  </a:lnTo>
                  <a:lnTo>
                    <a:pt x="1016" y="758"/>
                  </a:lnTo>
                  <a:lnTo>
                    <a:pt x="1032" y="753"/>
                  </a:lnTo>
                  <a:lnTo>
                    <a:pt x="1046" y="749"/>
                  </a:lnTo>
                  <a:lnTo>
                    <a:pt x="1058" y="745"/>
                  </a:lnTo>
                  <a:lnTo>
                    <a:pt x="1069" y="741"/>
                  </a:lnTo>
                  <a:lnTo>
                    <a:pt x="1077" y="739"/>
                  </a:lnTo>
                  <a:lnTo>
                    <a:pt x="1081" y="738"/>
                  </a:lnTo>
                  <a:lnTo>
                    <a:pt x="1084" y="736"/>
                  </a:lnTo>
                  <a:lnTo>
                    <a:pt x="1027" y="643"/>
                  </a:lnTo>
                  <a:lnTo>
                    <a:pt x="1026" y="639"/>
                  </a:lnTo>
                  <a:lnTo>
                    <a:pt x="1021" y="627"/>
                  </a:lnTo>
                  <a:lnTo>
                    <a:pt x="1014" y="610"/>
                  </a:lnTo>
                  <a:lnTo>
                    <a:pt x="1005" y="587"/>
                  </a:lnTo>
                  <a:lnTo>
                    <a:pt x="994" y="560"/>
                  </a:lnTo>
                  <a:lnTo>
                    <a:pt x="981" y="531"/>
                  </a:lnTo>
                  <a:lnTo>
                    <a:pt x="968" y="502"/>
                  </a:lnTo>
                  <a:lnTo>
                    <a:pt x="953" y="472"/>
                  </a:lnTo>
                  <a:lnTo>
                    <a:pt x="950" y="464"/>
                  </a:lnTo>
                  <a:lnTo>
                    <a:pt x="945" y="455"/>
                  </a:lnTo>
                  <a:lnTo>
                    <a:pt x="940" y="445"/>
                  </a:lnTo>
                  <a:lnTo>
                    <a:pt x="934" y="435"/>
                  </a:lnTo>
                  <a:lnTo>
                    <a:pt x="927" y="423"/>
                  </a:lnTo>
                  <a:lnTo>
                    <a:pt x="919" y="412"/>
                  </a:lnTo>
                  <a:lnTo>
                    <a:pt x="910" y="399"/>
                  </a:lnTo>
                  <a:lnTo>
                    <a:pt x="899" y="386"/>
                  </a:lnTo>
                  <a:lnTo>
                    <a:pt x="887" y="374"/>
                  </a:lnTo>
                  <a:lnTo>
                    <a:pt x="874" y="361"/>
                  </a:lnTo>
                  <a:lnTo>
                    <a:pt x="860" y="348"/>
                  </a:lnTo>
                  <a:lnTo>
                    <a:pt x="844" y="336"/>
                  </a:lnTo>
                  <a:lnTo>
                    <a:pt x="827" y="324"/>
                  </a:lnTo>
                  <a:lnTo>
                    <a:pt x="807" y="313"/>
                  </a:lnTo>
                  <a:lnTo>
                    <a:pt x="786" y="301"/>
                  </a:lnTo>
                  <a:lnTo>
                    <a:pt x="764" y="292"/>
                  </a:lnTo>
                  <a:lnTo>
                    <a:pt x="755" y="288"/>
                  </a:lnTo>
                  <a:lnTo>
                    <a:pt x="744" y="285"/>
                  </a:lnTo>
                  <a:lnTo>
                    <a:pt x="731" y="280"/>
                  </a:lnTo>
                  <a:lnTo>
                    <a:pt x="717" y="277"/>
                  </a:lnTo>
                  <a:lnTo>
                    <a:pt x="703" y="273"/>
                  </a:lnTo>
                  <a:lnTo>
                    <a:pt x="688" y="270"/>
                  </a:lnTo>
                  <a:lnTo>
                    <a:pt x="675" y="268"/>
                  </a:lnTo>
                  <a:lnTo>
                    <a:pt x="660" y="264"/>
                  </a:lnTo>
                  <a:lnTo>
                    <a:pt x="645" y="262"/>
                  </a:lnTo>
                  <a:lnTo>
                    <a:pt x="631" y="258"/>
                  </a:lnTo>
                  <a:lnTo>
                    <a:pt x="617" y="256"/>
                  </a:lnTo>
                  <a:lnTo>
                    <a:pt x="606" y="255"/>
                  </a:lnTo>
                  <a:lnTo>
                    <a:pt x="594" y="253"/>
                  </a:lnTo>
                  <a:lnTo>
                    <a:pt x="585" y="252"/>
                  </a:lnTo>
                  <a:lnTo>
                    <a:pt x="578" y="250"/>
                  </a:lnTo>
                  <a:lnTo>
                    <a:pt x="572" y="250"/>
                  </a:lnTo>
                  <a:lnTo>
                    <a:pt x="566" y="248"/>
                  </a:lnTo>
                  <a:lnTo>
                    <a:pt x="564" y="244"/>
                  </a:lnTo>
                  <a:lnTo>
                    <a:pt x="565" y="237"/>
                  </a:lnTo>
                  <a:lnTo>
                    <a:pt x="569" y="229"/>
                  </a:lnTo>
                  <a:lnTo>
                    <a:pt x="573" y="218"/>
                  </a:lnTo>
                  <a:lnTo>
                    <a:pt x="580" y="209"/>
                  </a:lnTo>
                  <a:lnTo>
                    <a:pt x="586" y="199"/>
                  </a:lnTo>
                  <a:lnTo>
                    <a:pt x="592" y="188"/>
                  </a:lnTo>
                  <a:lnTo>
                    <a:pt x="593" y="178"/>
                  </a:lnTo>
                  <a:lnTo>
                    <a:pt x="586" y="167"/>
                  </a:lnTo>
                  <a:lnTo>
                    <a:pt x="576" y="157"/>
                  </a:lnTo>
                  <a:lnTo>
                    <a:pt x="563" y="148"/>
                  </a:lnTo>
                  <a:lnTo>
                    <a:pt x="549" y="140"/>
                  </a:lnTo>
                  <a:lnTo>
                    <a:pt x="536" y="133"/>
                  </a:lnTo>
                  <a:lnTo>
                    <a:pt x="527" y="128"/>
                  </a:lnTo>
                  <a:lnTo>
                    <a:pt x="524" y="127"/>
                  </a:lnTo>
                  <a:lnTo>
                    <a:pt x="526" y="119"/>
                  </a:lnTo>
                  <a:lnTo>
                    <a:pt x="531" y="100"/>
                  </a:lnTo>
                  <a:lnTo>
                    <a:pt x="533" y="70"/>
                  </a:lnTo>
                  <a:lnTo>
                    <a:pt x="528" y="35"/>
                  </a:lnTo>
                  <a:lnTo>
                    <a:pt x="521" y="20"/>
                  </a:lnTo>
                  <a:lnTo>
                    <a:pt x="512" y="11"/>
                  </a:lnTo>
                  <a:lnTo>
                    <a:pt x="500" y="5"/>
                  </a:lnTo>
                  <a:lnTo>
                    <a:pt x="487" y="3"/>
                  </a:lnTo>
                  <a:lnTo>
                    <a:pt x="474" y="4"/>
                  </a:lnTo>
                  <a:lnTo>
                    <a:pt x="464" y="5"/>
                  </a:lnTo>
                  <a:lnTo>
                    <a:pt x="456" y="6"/>
                  </a:lnTo>
                  <a:lnTo>
                    <a:pt x="453" y="7"/>
                  </a:lnTo>
                  <a:lnTo>
                    <a:pt x="350" y="7"/>
                  </a:lnTo>
                  <a:lnTo>
                    <a:pt x="267" y="48"/>
                  </a:lnTo>
                  <a:lnTo>
                    <a:pt x="268" y="41"/>
                  </a:lnTo>
                  <a:lnTo>
                    <a:pt x="269" y="24"/>
                  </a:lnTo>
                  <a:lnTo>
                    <a:pt x="266" y="7"/>
                  </a:lnTo>
                  <a:lnTo>
                    <a:pt x="252" y="0"/>
                  </a:lnTo>
                  <a:lnTo>
                    <a:pt x="241" y="4"/>
                  </a:lnTo>
                  <a:lnTo>
                    <a:pt x="230" y="13"/>
                  </a:lnTo>
                  <a:lnTo>
                    <a:pt x="217" y="27"/>
                  </a:lnTo>
                  <a:lnTo>
                    <a:pt x="206" y="42"/>
                  </a:lnTo>
                  <a:lnTo>
                    <a:pt x="197" y="58"/>
                  </a:lnTo>
                  <a:lnTo>
                    <a:pt x="187" y="72"/>
                  </a:lnTo>
                  <a:lnTo>
                    <a:pt x="183" y="81"/>
                  </a:lnTo>
                  <a:lnTo>
                    <a:pt x="180" y="85"/>
                  </a:lnTo>
                  <a:lnTo>
                    <a:pt x="177" y="82"/>
                  </a:lnTo>
                  <a:lnTo>
                    <a:pt x="169" y="75"/>
                  </a:lnTo>
                  <a:lnTo>
                    <a:pt x="156" y="67"/>
                  </a:lnTo>
                  <a:lnTo>
                    <a:pt x="141" y="57"/>
                  </a:lnTo>
                  <a:lnTo>
                    <a:pt x="124" y="49"/>
                  </a:lnTo>
                  <a:lnTo>
                    <a:pt x="106" y="43"/>
                  </a:lnTo>
                  <a:lnTo>
                    <a:pt x="88" y="42"/>
                  </a:lnTo>
                  <a:lnTo>
                    <a:pt x="72" y="47"/>
                  </a:lnTo>
                  <a:lnTo>
                    <a:pt x="61" y="57"/>
                  </a:lnTo>
                  <a:lnTo>
                    <a:pt x="56" y="72"/>
                  </a:lnTo>
                  <a:lnTo>
                    <a:pt x="57" y="88"/>
                  </a:lnTo>
                  <a:lnTo>
                    <a:pt x="61" y="105"/>
                  </a:lnTo>
                  <a:lnTo>
                    <a:pt x="66" y="121"/>
                  </a:lnTo>
                  <a:lnTo>
                    <a:pt x="72" y="135"/>
                  </a:lnTo>
                  <a:lnTo>
                    <a:pt x="77" y="144"/>
                  </a:lnTo>
                  <a:lnTo>
                    <a:pt x="79" y="148"/>
                  </a:lnTo>
                  <a:lnTo>
                    <a:pt x="76" y="151"/>
                  </a:lnTo>
                  <a:lnTo>
                    <a:pt x="65" y="159"/>
                  </a:lnTo>
                  <a:lnTo>
                    <a:pt x="51" y="171"/>
                  </a:lnTo>
                  <a:lnTo>
                    <a:pt x="35" y="186"/>
                  </a:lnTo>
                  <a:lnTo>
                    <a:pt x="20" y="203"/>
                  </a:lnTo>
                  <a:lnTo>
                    <a:pt x="8" y="219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9" y="257"/>
                  </a:lnTo>
                  <a:lnTo>
                    <a:pt x="26" y="263"/>
                  </a:lnTo>
                  <a:lnTo>
                    <a:pt x="48" y="267"/>
                  </a:lnTo>
                  <a:lnTo>
                    <a:pt x="73" y="268"/>
                  </a:lnTo>
                  <a:lnTo>
                    <a:pt x="98" y="267"/>
                  </a:lnTo>
                  <a:lnTo>
                    <a:pt x="118" y="265"/>
                  </a:lnTo>
                  <a:lnTo>
                    <a:pt x="133" y="264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61920" y="1947240"/>
              <a:ext cx="238320" cy="556920"/>
            </a:xfrm>
            <a:custGeom>
              <a:avLst/>
              <a:gdLst/>
              <a:ahLst/>
              <a:rect l="l" t="t" r="r" b="b"/>
              <a:pathLst>
                <a:path w="510" h="1061">
                  <a:moveTo>
                    <a:pt x="155" y="95"/>
                  </a:moveTo>
                  <a:lnTo>
                    <a:pt x="160" y="82"/>
                  </a:lnTo>
                  <a:lnTo>
                    <a:pt x="166" y="69"/>
                  </a:lnTo>
                  <a:lnTo>
                    <a:pt x="173" y="59"/>
                  </a:lnTo>
                  <a:lnTo>
                    <a:pt x="179" y="48"/>
                  </a:lnTo>
                  <a:lnTo>
                    <a:pt x="188" y="38"/>
                  </a:lnTo>
                  <a:lnTo>
                    <a:pt x="196" y="29"/>
                  </a:lnTo>
                  <a:lnTo>
                    <a:pt x="205" y="21"/>
                  </a:lnTo>
                  <a:lnTo>
                    <a:pt x="213" y="12"/>
                  </a:lnTo>
                  <a:lnTo>
                    <a:pt x="216" y="16"/>
                  </a:lnTo>
                  <a:lnTo>
                    <a:pt x="220" y="30"/>
                  </a:lnTo>
                  <a:lnTo>
                    <a:pt x="223" y="46"/>
                  </a:lnTo>
                  <a:lnTo>
                    <a:pt x="228" y="61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54" y="42"/>
                  </a:lnTo>
                  <a:lnTo>
                    <a:pt x="268" y="31"/>
                  </a:lnTo>
                  <a:lnTo>
                    <a:pt x="283" y="21"/>
                  </a:lnTo>
                  <a:lnTo>
                    <a:pt x="299" y="12"/>
                  </a:lnTo>
                  <a:lnTo>
                    <a:pt x="314" y="5"/>
                  </a:lnTo>
                  <a:lnTo>
                    <a:pt x="328" y="1"/>
                  </a:lnTo>
                  <a:lnTo>
                    <a:pt x="337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4" y="1"/>
                  </a:lnTo>
                  <a:lnTo>
                    <a:pt x="367" y="5"/>
                  </a:lnTo>
                  <a:lnTo>
                    <a:pt x="371" y="9"/>
                  </a:lnTo>
                  <a:lnTo>
                    <a:pt x="374" y="15"/>
                  </a:lnTo>
                  <a:lnTo>
                    <a:pt x="371" y="25"/>
                  </a:lnTo>
                  <a:lnTo>
                    <a:pt x="366" y="35"/>
                  </a:lnTo>
                  <a:lnTo>
                    <a:pt x="360" y="44"/>
                  </a:lnTo>
                  <a:lnTo>
                    <a:pt x="356" y="52"/>
                  </a:lnTo>
                  <a:lnTo>
                    <a:pt x="350" y="60"/>
                  </a:lnTo>
                  <a:lnTo>
                    <a:pt x="344" y="69"/>
                  </a:lnTo>
                  <a:lnTo>
                    <a:pt x="338" y="77"/>
                  </a:lnTo>
                  <a:lnTo>
                    <a:pt x="334" y="88"/>
                  </a:lnTo>
                  <a:lnTo>
                    <a:pt x="327" y="90"/>
                  </a:lnTo>
                  <a:lnTo>
                    <a:pt x="319" y="95"/>
                  </a:lnTo>
                  <a:lnTo>
                    <a:pt x="311" y="101"/>
                  </a:lnTo>
                  <a:lnTo>
                    <a:pt x="302" y="107"/>
                  </a:lnTo>
                  <a:lnTo>
                    <a:pt x="294" y="114"/>
                  </a:lnTo>
                  <a:lnTo>
                    <a:pt x="285" y="119"/>
                  </a:lnTo>
                  <a:lnTo>
                    <a:pt x="280" y="121"/>
                  </a:lnTo>
                  <a:lnTo>
                    <a:pt x="275" y="121"/>
                  </a:lnTo>
                  <a:lnTo>
                    <a:pt x="277" y="118"/>
                  </a:lnTo>
                  <a:lnTo>
                    <a:pt x="282" y="108"/>
                  </a:lnTo>
                  <a:lnTo>
                    <a:pt x="289" y="97"/>
                  </a:lnTo>
                  <a:lnTo>
                    <a:pt x="298" y="82"/>
                  </a:lnTo>
                  <a:lnTo>
                    <a:pt x="307" y="67"/>
                  </a:lnTo>
                  <a:lnTo>
                    <a:pt x="319" y="51"/>
                  </a:lnTo>
                  <a:lnTo>
                    <a:pt x="329" y="36"/>
                  </a:lnTo>
                  <a:lnTo>
                    <a:pt x="338" y="24"/>
                  </a:lnTo>
                  <a:lnTo>
                    <a:pt x="322" y="30"/>
                  </a:lnTo>
                  <a:lnTo>
                    <a:pt x="307" y="38"/>
                  </a:lnTo>
                  <a:lnTo>
                    <a:pt x="294" y="46"/>
                  </a:lnTo>
                  <a:lnTo>
                    <a:pt x="280" y="56"/>
                  </a:lnTo>
                  <a:lnTo>
                    <a:pt x="267" y="68"/>
                  </a:lnTo>
                  <a:lnTo>
                    <a:pt x="255" y="81"/>
                  </a:lnTo>
                  <a:lnTo>
                    <a:pt x="245" y="95"/>
                  </a:lnTo>
                  <a:lnTo>
                    <a:pt x="236" y="111"/>
                  </a:lnTo>
                  <a:lnTo>
                    <a:pt x="231" y="105"/>
                  </a:lnTo>
                  <a:lnTo>
                    <a:pt x="223" y="91"/>
                  </a:lnTo>
                  <a:lnTo>
                    <a:pt x="215" y="74"/>
                  </a:lnTo>
                  <a:lnTo>
                    <a:pt x="211" y="58"/>
                  </a:lnTo>
                  <a:lnTo>
                    <a:pt x="207" y="62"/>
                  </a:lnTo>
                  <a:lnTo>
                    <a:pt x="205" y="71"/>
                  </a:lnTo>
                  <a:lnTo>
                    <a:pt x="201" y="84"/>
                  </a:lnTo>
                  <a:lnTo>
                    <a:pt x="198" y="99"/>
                  </a:lnTo>
                  <a:lnTo>
                    <a:pt x="193" y="113"/>
                  </a:lnTo>
                  <a:lnTo>
                    <a:pt x="188" y="127"/>
                  </a:lnTo>
                  <a:lnTo>
                    <a:pt x="181" y="137"/>
                  </a:lnTo>
                  <a:lnTo>
                    <a:pt x="171" y="144"/>
                  </a:lnTo>
                  <a:lnTo>
                    <a:pt x="163" y="137"/>
                  </a:lnTo>
                  <a:lnTo>
                    <a:pt x="155" y="130"/>
                  </a:lnTo>
                  <a:lnTo>
                    <a:pt x="147" y="123"/>
                  </a:lnTo>
                  <a:lnTo>
                    <a:pt x="140" y="115"/>
                  </a:lnTo>
                  <a:lnTo>
                    <a:pt x="132" y="107"/>
                  </a:lnTo>
                  <a:lnTo>
                    <a:pt x="125" y="100"/>
                  </a:lnTo>
                  <a:lnTo>
                    <a:pt x="116" y="93"/>
                  </a:lnTo>
                  <a:lnTo>
                    <a:pt x="107" y="88"/>
                  </a:lnTo>
                  <a:lnTo>
                    <a:pt x="130" y="175"/>
                  </a:lnTo>
                  <a:lnTo>
                    <a:pt x="128" y="176"/>
                  </a:lnTo>
                  <a:lnTo>
                    <a:pt x="123" y="176"/>
                  </a:lnTo>
                  <a:lnTo>
                    <a:pt x="115" y="176"/>
                  </a:lnTo>
                  <a:lnTo>
                    <a:pt x="107" y="175"/>
                  </a:lnTo>
                  <a:lnTo>
                    <a:pt x="97" y="173"/>
                  </a:lnTo>
                  <a:lnTo>
                    <a:pt x="87" y="171"/>
                  </a:lnTo>
                  <a:lnTo>
                    <a:pt x="79" y="169"/>
                  </a:lnTo>
                  <a:lnTo>
                    <a:pt x="72" y="168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3" y="175"/>
                  </a:lnTo>
                  <a:lnTo>
                    <a:pt x="47" y="179"/>
                  </a:lnTo>
                  <a:lnTo>
                    <a:pt x="42" y="182"/>
                  </a:lnTo>
                  <a:lnTo>
                    <a:pt x="38" y="187"/>
                  </a:lnTo>
                  <a:lnTo>
                    <a:pt x="35" y="192"/>
                  </a:lnTo>
                  <a:lnTo>
                    <a:pt x="33" y="199"/>
                  </a:lnTo>
                  <a:lnTo>
                    <a:pt x="47" y="198"/>
                  </a:lnTo>
                  <a:lnTo>
                    <a:pt x="61" y="197"/>
                  </a:lnTo>
                  <a:lnTo>
                    <a:pt x="75" y="196"/>
                  </a:lnTo>
                  <a:lnTo>
                    <a:pt x="88" y="196"/>
                  </a:lnTo>
                  <a:lnTo>
                    <a:pt x="102" y="197"/>
                  </a:lnTo>
                  <a:lnTo>
                    <a:pt x="116" y="199"/>
                  </a:lnTo>
                  <a:lnTo>
                    <a:pt x="130" y="204"/>
                  </a:lnTo>
                  <a:lnTo>
                    <a:pt x="143" y="211"/>
                  </a:lnTo>
                  <a:lnTo>
                    <a:pt x="152" y="205"/>
                  </a:lnTo>
                  <a:lnTo>
                    <a:pt x="164" y="197"/>
                  </a:lnTo>
                  <a:lnTo>
                    <a:pt x="182" y="188"/>
                  </a:lnTo>
                  <a:lnTo>
                    <a:pt x="200" y="179"/>
                  </a:lnTo>
                  <a:lnTo>
                    <a:pt x="219" y="168"/>
                  </a:lnTo>
                  <a:lnTo>
                    <a:pt x="237" y="159"/>
                  </a:lnTo>
                  <a:lnTo>
                    <a:pt x="252" y="152"/>
                  </a:lnTo>
                  <a:lnTo>
                    <a:pt x="264" y="146"/>
                  </a:lnTo>
                  <a:lnTo>
                    <a:pt x="262" y="149"/>
                  </a:lnTo>
                  <a:lnTo>
                    <a:pt x="260" y="154"/>
                  </a:lnTo>
                  <a:lnTo>
                    <a:pt x="259" y="161"/>
                  </a:lnTo>
                  <a:lnTo>
                    <a:pt x="261" y="168"/>
                  </a:lnTo>
                  <a:lnTo>
                    <a:pt x="249" y="175"/>
                  </a:lnTo>
                  <a:lnTo>
                    <a:pt x="235" y="183"/>
                  </a:lnTo>
                  <a:lnTo>
                    <a:pt x="220" y="192"/>
                  </a:lnTo>
                  <a:lnTo>
                    <a:pt x="205" y="200"/>
                  </a:lnTo>
                  <a:lnTo>
                    <a:pt x="191" y="209"/>
                  </a:lnTo>
                  <a:lnTo>
                    <a:pt x="179" y="214"/>
                  </a:lnTo>
                  <a:lnTo>
                    <a:pt x="171" y="219"/>
                  </a:lnTo>
                  <a:lnTo>
                    <a:pt x="169" y="220"/>
                  </a:lnTo>
                  <a:lnTo>
                    <a:pt x="155" y="233"/>
                  </a:lnTo>
                  <a:lnTo>
                    <a:pt x="153" y="242"/>
                  </a:lnTo>
                  <a:lnTo>
                    <a:pt x="159" y="249"/>
                  </a:lnTo>
                  <a:lnTo>
                    <a:pt x="169" y="250"/>
                  </a:lnTo>
                  <a:lnTo>
                    <a:pt x="183" y="248"/>
                  </a:lnTo>
                  <a:lnTo>
                    <a:pt x="196" y="243"/>
                  </a:lnTo>
                  <a:lnTo>
                    <a:pt x="208" y="238"/>
                  </a:lnTo>
                  <a:lnTo>
                    <a:pt x="222" y="233"/>
                  </a:lnTo>
                  <a:lnTo>
                    <a:pt x="235" y="228"/>
                  </a:lnTo>
                  <a:lnTo>
                    <a:pt x="247" y="222"/>
                  </a:lnTo>
                  <a:lnTo>
                    <a:pt x="260" y="218"/>
                  </a:lnTo>
                  <a:lnTo>
                    <a:pt x="273" y="213"/>
                  </a:lnTo>
                  <a:lnTo>
                    <a:pt x="279" y="206"/>
                  </a:lnTo>
                  <a:lnTo>
                    <a:pt x="285" y="200"/>
                  </a:lnTo>
                  <a:lnTo>
                    <a:pt x="290" y="194"/>
                  </a:lnTo>
                  <a:lnTo>
                    <a:pt x="290" y="185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79" y="179"/>
                  </a:lnTo>
                  <a:lnTo>
                    <a:pt x="277" y="173"/>
                  </a:lnTo>
                  <a:lnTo>
                    <a:pt x="284" y="168"/>
                  </a:lnTo>
                  <a:lnTo>
                    <a:pt x="292" y="158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2" y="136"/>
                  </a:lnTo>
                  <a:lnTo>
                    <a:pt x="340" y="136"/>
                  </a:lnTo>
                  <a:lnTo>
                    <a:pt x="357" y="136"/>
                  </a:lnTo>
                  <a:lnTo>
                    <a:pt x="374" y="138"/>
                  </a:lnTo>
                  <a:lnTo>
                    <a:pt x="390" y="141"/>
                  </a:lnTo>
                  <a:lnTo>
                    <a:pt x="403" y="143"/>
                  </a:lnTo>
                  <a:lnTo>
                    <a:pt x="412" y="145"/>
                  </a:lnTo>
                  <a:lnTo>
                    <a:pt x="414" y="147"/>
                  </a:lnTo>
                  <a:lnTo>
                    <a:pt x="411" y="151"/>
                  </a:lnTo>
                  <a:lnTo>
                    <a:pt x="406" y="152"/>
                  </a:lnTo>
                  <a:lnTo>
                    <a:pt x="402" y="153"/>
                  </a:lnTo>
                  <a:lnTo>
                    <a:pt x="397" y="153"/>
                  </a:lnTo>
                  <a:lnTo>
                    <a:pt x="393" y="154"/>
                  </a:lnTo>
                  <a:lnTo>
                    <a:pt x="388" y="154"/>
                  </a:lnTo>
                  <a:lnTo>
                    <a:pt x="383" y="156"/>
                  </a:lnTo>
                  <a:lnTo>
                    <a:pt x="379" y="157"/>
                  </a:lnTo>
                  <a:lnTo>
                    <a:pt x="389" y="162"/>
                  </a:lnTo>
                  <a:lnTo>
                    <a:pt x="399" y="168"/>
                  </a:lnTo>
                  <a:lnTo>
                    <a:pt x="410" y="173"/>
                  </a:lnTo>
                  <a:lnTo>
                    <a:pt x="420" y="177"/>
                  </a:lnTo>
                  <a:lnTo>
                    <a:pt x="429" y="181"/>
                  </a:lnTo>
                  <a:lnTo>
                    <a:pt x="440" y="182"/>
                  </a:lnTo>
                  <a:lnTo>
                    <a:pt x="450" y="180"/>
                  </a:lnTo>
                  <a:lnTo>
                    <a:pt x="461" y="174"/>
                  </a:lnTo>
                  <a:lnTo>
                    <a:pt x="465" y="167"/>
                  </a:lnTo>
                  <a:lnTo>
                    <a:pt x="469" y="161"/>
                  </a:lnTo>
                  <a:lnTo>
                    <a:pt x="471" y="154"/>
                  </a:lnTo>
                  <a:lnTo>
                    <a:pt x="471" y="147"/>
                  </a:lnTo>
                  <a:lnTo>
                    <a:pt x="466" y="141"/>
                  </a:lnTo>
                  <a:lnTo>
                    <a:pt x="459" y="134"/>
                  </a:lnTo>
                  <a:lnTo>
                    <a:pt x="451" y="129"/>
                  </a:lnTo>
                  <a:lnTo>
                    <a:pt x="443" y="126"/>
                  </a:lnTo>
                  <a:lnTo>
                    <a:pt x="435" y="126"/>
                  </a:lnTo>
                  <a:lnTo>
                    <a:pt x="427" y="124"/>
                  </a:lnTo>
                  <a:lnTo>
                    <a:pt x="419" y="122"/>
                  </a:lnTo>
                  <a:lnTo>
                    <a:pt x="417" y="121"/>
                  </a:lnTo>
                  <a:lnTo>
                    <a:pt x="424" y="114"/>
                  </a:lnTo>
                  <a:lnTo>
                    <a:pt x="431" y="106"/>
                  </a:lnTo>
                  <a:lnTo>
                    <a:pt x="436" y="98"/>
                  </a:lnTo>
                  <a:lnTo>
                    <a:pt x="443" y="90"/>
                  </a:lnTo>
                  <a:lnTo>
                    <a:pt x="449" y="82"/>
                  </a:lnTo>
                  <a:lnTo>
                    <a:pt x="455" y="73"/>
                  </a:lnTo>
                  <a:lnTo>
                    <a:pt x="459" y="63"/>
                  </a:lnTo>
                  <a:lnTo>
                    <a:pt x="465" y="54"/>
                  </a:lnTo>
                  <a:lnTo>
                    <a:pt x="465" y="46"/>
                  </a:lnTo>
                  <a:lnTo>
                    <a:pt x="465" y="39"/>
                  </a:lnTo>
                  <a:lnTo>
                    <a:pt x="464" y="31"/>
                  </a:lnTo>
                  <a:lnTo>
                    <a:pt x="461" y="24"/>
                  </a:lnTo>
                  <a:lnTo>
                    <a:pt x="452" y="21"/>
                  </a:lnTo>
                  <a:lnTo>
                    <a:pt x="447" y="22"/>
                  </a:lnTo>
                  <a:lnTo>
                    <a:pt x="441" y="24"/>
                  </a:lnTo>
                  <a:lnTo>
                    <a:pt x="435" y="29"/>
                  </a:lnTo>
                  <a:lnTo>
                    <a:pt x="431" y="35"/>
                  </a:lnTo>
                  <a:lnTo>
                    <a:pt x="426" y="40"/>
                  </a:lnTo>
                  <a:lnTo>
                    <a:pt x="421" y="46"/>
                  </a:lnTo>
                  <a:lnTo>
                    <a:pt x="417" y="51"/>
                  </a:lnTo>
                  <a:lnTo>
                    <a:pt x="412" y="59"/>
                  </a:lnTo>
                  <a:lnTo>
                    <a:pt x="408" y="67"/>
                  </a:lnTo>
                  <a:lnTo>
                    <a:pt x="402" y="74"/>
                  </a:lnTo>
                  <a:lnTo>
                    <a:pt x="396" y="82"/>
                  </a:lnTo>
                  <a:lnTo>
                    <a:pt x="390" y="88"/>
                  </a:lnTo>
                  <a:lnTo>
                    <a:pt x="383" y="93"/>
                  </a:lnTo>
                  <a:lnTo>
                    <a:pt x="375" y="97"/>
                  </a:lnTo>
                  <a:lnTo>
                    <a:pt x="366" y="99"/>
                  </a:lnTo>
                  <a:lnTo>
                    <a:pt x="367" y="96"/>
                  </a:lnTo>
                  <a:lnTo>
                    <a:pt x="370" y="89"/>
                  </a:lnTo>
                  <a:lnTo>
                    <a:pt x="374" y="82"/>
                  </a:lnTo>
                  <a:lnTo>
                    <a:pt x="379" y="77"/>
                  </a:lnTo>
                  <a:lnTo>
                    <a:pt x="387" y="58"/>
                  </a:lnTo>
                  <a:lnTo>
                    <a:pt x="394" y="42"/>
                  </a:lnTo>
                  <a:lnTo>
                    <a:pt x="401" y="29"/>
                  </a:lnTo>
                  <a:lnTo>
                    <a:pt x="409" y="18"/>
                  </a:lnTo>
                  <a:lnTo>
                    <a:pt x="418" y="12"/>
                  </a:lnTo>
                  <a:lnTo>
                    <a:pt x="428" y="7"/>
                  </a:lnTo>
                  <a:lnTo>
                    <a:pt x="441" y="4"/>
                  </a:lnTo>
                  <a:lnTo>
                    <a:pt x="456" y="2"/>
                  </a:lnTo>
                  <a:lnTo>
                    <a:pt x="463" y="4"/>
                  </a:lnTo>
                  <a:lnTo>
                    <a:pt x="469" y="7"/>
                  </a:lnTo>
                  <a:lnTo>
                    <a:pt x="474" y="12"/>
                  </a:lnTo>
                  <a:lnTo>
                    <a:pt x="479" y="16"/>
                  </a:lnTo>
                  <a:lnTo>
                    <a:pt x="485" y="40"/>
                  </a:lnTo>
                  <a:lnTo>
                    <a:pt x="484" y="63"/>
                  </a:lnTo>
                  <a:lnTo>
                    <a:pt x="476" y="86"/>
                  </a:lnTo>
                  <a:lnTo>
                    <a:pt x="462" y="106"/>
                  </a:lnTo>
                  <a:lnTo>
                    <a:pt x="467" y="108"/>
                  </a:lnTo>
                  <a:lnTo>
                    <a:pt x="473" y="111"/>
                  </a:lnTo>
                  <a:lnTo>
                    <a:pt x="479" y="113"/>
                  </a:lnTo>
                  <a:lnTo>
                    <a:pt x="485" y="116"/>
                  </a:lnTo>
                  <a:lnTo>
                    <a:pt x="489" y="120"/>
                  </a:lnTo>
                  <a:lnTo>
                    <a:pt x="495" y="124"/>
                  </a:lnTo>
                  <a:lnTo>
                    <a:pt x="499" y="129"/>
                  </a:lnTo>
                  <a:lnTo>
                    <a:pt x="502" y="134"/>
                  </a:lnTo>
                  <a:lnTo>
                    <a:pt x="505" y="144"/>
                  </a:lnTo>
                  <a:lnTo>
                    <a:pt x="509" y="154"/>
                  </a:lnTo>
                  <a:lnTo>
                    <a:pt x="510" y="166"/>
                  </a:lnTo>
                  <a:lnTo>
                    <a:pt x="505" y="176"/>
                  </a:lnTo>
                  <a:lnTo>
                    <a:pt x="501" y="182"/>
                  </a:lnTo>
                  <a:lnTo>
                    <a:pt x="496" y="188"/>
                  </a:lnTo>
                  <a:lnTo>
                    <a:pt x="492" y="192"/>
                  </a:lnTo>
                  <a:lnTo>
                    <a:pt x="486" y="197"/>
                  </a:lnTo>
                  <a:lnTo>
                    <a:pt x="480" y="200"/>
                  </a:lnTo>
                  <a:lnTo>
                    <a:pt x="473" y="204"/>
                  </a:lnTo>
                  <a:lnTo>
                    <a:pt x="466" y="205"/>
                  </a:lnTo>
                  <a:lnTo>
                    <a:pt x="458" y="206"/>
                  </a:lnTo>
                  <a:lnTo>
                    <a:pt x="442" y="204"/>
                  </a:lnTo>
                  <a:lnTo>
                    <a:pt x="427" y="200"/>
                  </a:lnTo>
                  <a:lnTo>
                    <a:pt x="412" y="195"/>
                  </a:lnTo>
                  <a:lnTo>
                    <a:pt x="398" y="189"/>
                  </a:lnTo>
                  <a:lnTo>
                    <a:pt x="385" y="182"/>
                  </a:lnTo>
                  <a:lnTo>
                    <a:pt x="371" y="175"/>
                  </a:lnTo>
                  <a:lnTo>
                    <a:pt x="357" y="169"/>
                  </a:lnTo>
                  <a:lnTo>
                    <a:pt x="343" y="162"/>
                  </a:lnTo>
                  <a:lnTo>
                    <a:pt x="338" y="165"/>
                  </a:lnTo>
                  <a:lnTo>
                    <a:pt x="333" y="165"/>
                  </a:lnTo>
                  <a:lnTo>
                    <a:pt x="328" y="165"/>
                  </a:lnTo>
                  <a:lnTo>
                    <a:pt x="322" y="165"/>
                  </a:lnTo>
                  <a:lnTo>
                    <a:pt x="318" y="165"/>
                  </a:lnTo>
                  <a:lnTo>
                    <a:pt x="313" y="166"/>
                  </a:lnTo>
                  <a:lnTo>
                    <a:pt x="308" y="168"/>
                  </a:lnTo>
                  <a:lnTo>
                    <a:pt x="305" y="172"/>
                  </a:lnTo>
                  <a:lnTo>
                    <a:pt x="308" y="174"/>
                  </a:lnTo>
                  <a:lnTo>
                    <a:pt x="312" y="176"/>
                  </a:lnTo>
                  <a:lnTo>
                    <a:pt x="315" y="180"/>
                  </a:lnTo>
                  <a:lnTo>
                    <a:pt x="314" y="184"/>
                  </a:lnTo>
                  <a:lnTo>
                    <a:pt x="314" y="188"/>
                  </a:lnTo>
                  <a:lnTo>
                    <a:pt x="312" y="191"/>
                  </a:lnTo>
                  <a:lnTo>
                    <a:pt x="311" y="195"/>
                  </a:lnTo>
                  <a:lnTo>
                    <a:pt x="308" y="198"/>
                  </a:lnTo>
                  <a:lnTo>
                    <a:pt x="312" y="202"/>
                  </a:lnTo>
                  <a:lnTo>
                    <a:pt x="318" y="206"/>
                  </a:lnTo>
                  <a:lnTo>
                    <a:pt x="325" y="211"/>
                  </a:lnTo>
                  <a:lnTo>
                    <a:pt x="333" y="215"/>
                  </a:lnTo>
                  <a:lnTo>
                    <a:pt x="340" y="219"/>
                  </a:lnTo>
                  <a:lnTo>
                    <a:pt x="346" y="224"/>
                  </a:lnTo>
                  <a:lnTo>
                    <a:pt x="351" y="227"/>
                  </a:lnTo>
                  <a:lnTo>
                    <a:pt x="355" y="230"/>
                  </a:lnTo>
                  <a:lnTo>
                    <a:pt x="366" y="248"/>
                  </a:lnTo>
                  <a:lnTo>
                    <a:pt x="378" y="265"/>
                  </a:lnTo>
                  <a:lnTo>
                    <a:pt x="390" y="282"/>
                  </a:lnTo>
                  <a:lnTo>
                    <a:pt x="403" y="300"/>
                  </a:lnTo>
                  <a:lnTo>
                    <a:pt x="414" y="317"/>
                  </a:lnTo>
                  <a:lnTo>
                    <a:pt x="427" y="334"/>
                  </a:lnTo>
                  <a:lnTo>
                    <a:pt x="439" y="351"/>
                  </a:lnTo>
                  <a:lnTo>
                    <a:pt x="450" y="370"/>
                  </a:lnTo>
                  <a:lnTo>
                    <a:pt x="455" y="376"/>
                  </a:lnTo>
                  <a:lnTo>
                    <a:pt x="461" y="377"/>
                  </a:lnTo>
                  <a:lnTo>
                    <a:pt x="465" y="376"/>
                  </a:lnTo>
                  <a:lnTo>
                    <a:pt x="470" y="373"/>
                  </a:lnTo>
                  <a:lnTo>
                    <a:pt x="474" y="370"/>
                  </a:lnTo>
                  <a:lnTo>
                    <a:pt x="480" y="369"/>
                  </a:lnTo>
                  <a:lnTo>
                    <a:pt x="485" y="369"/>
                  </a:lnTo>
                  <a:lnTo>
                    <a:pt x="490" y="373"/>
                  </a:lnTo>
                  <a:lnTo>
                    <a:pt x="486" y="380"/>
                  </a:lnTo>
                  <a:lnTo>
                    <a:pt x="480" y="386"/>
                  </a:lnTo>
                  <a:lnTo>
                    <a:pt x="473" y="391"/>
                  </a:lnTo>
                  <a:lnTo>
                    <a:pt x="465" y="395"/>
                  </a:lnTo>
                  <a:lnTo>
                    <a:pt x="457" y="397"/>
                  </a:lnTo>
                  <a:lnTo>
                    <a:pt x="449" y="400"/>
                  </a:lnTo>
                  <a:lnTo>
                    <a:pt x="441" y="400"/>
                  </a:lnTo>
                  <a:lnTo>
                    <a:pt x="432" y="399"/>
                  </a:lnTo>
                  <a:lnTo>
                    <a:pt x="418" y="393"/>
                  </a:lnTo>
                  <a:lnTo>
                    <a:pt x="408" y="385"/>
                  </a:lnTo>
                  <a:lnTo>
                    <a:pt x="398" y="373"/>
                  </a:lnTo>
                  <a:lnTo>
                    <a:pt x="391" y="362"/>
                  </a:lnTo>
                  <a:lnTo>
                    <a:pt x="385" y="349"/>
                  </a:lnTo>
                  <a:lnTo>
                    <a:pt x="379" y="336"/>
                  </a:lnTo>
                  <a:lnTo>
                    <a:pt x="373" y="324"/>
                  </a:lnTo>
                  <a:lnTo>
                    <a:pt x="365" y="312"/>
                  </a:lnTo>
                  <a:lnTo>
                    <a:pt x="359" y="297"/>
                  </a:lnTo>
                  <a:lnTo>
                    <a:pt x="352" y="285"/>
                  </a:lnTo>
                  <a:lnTo>
                    <a:pt x="343" y="272"/>
                  </a:lnTo>
                  <a:lnTo>
                    <a:pt x="334" y="260"/>
                  </a:lnTo>
                  <a:lnTo>
                    <a:pt x="322" y="249"/>
                  </a:lnTo>
                  <a:lnTo>
                    <a:pt x="311" y="240"/>
                  </a:lnTo>
                  <a:lnTo>
                    <a:pt x="298" y="230"/>
                  </a:lnTo>
                  <a:lnTo>
                    <a:pt x="284" y="222"/>
                  </a:lnTo>
                  <a:lnTo>
                    <a:pt x="276" y="228"/>
                  </a:lnTo>
                  <a:lnTo>
                    <a:pt x="267" y="233"/>
                  </a:lnTo>
                  <a:lnTo>
                    <a:pt x="258" y="237"/>
                  </a:lnTo>
                  <a:lnTo>
                    <a:pt x="250" y="241"/>
                  </a:lnTo>
                  <a:lnTo>
                    <a:pt x="241" y="245"/>
                  </a:lnTo>
                  <a:lnTo>
                    <a:pt x="231" y="250"/>
                  </a:lnTo>
                  <a:lnTo>
                    <a:pt x="222" y="255"/>
                  </a:lnTo>
                  <a:lnTo>
                    <a:pt x="214" y="260"/>
                  </a:lnTo>
                  <a:lnTo>
                    <a:pt x="220" y="273"/>
                  </a:lnTo>
                  <a:lnTo>
                    <a:pt x="226" y="300"/>
                  </a:lnTo>
                  <a:lnTo>
                    <a:pt x="232" y="334"/>
                  </a:lnTo>
                  <a:lnTo>
                    <a:pt x="238" y="373"/>
                  </a:lnTo>
                  <a:lnTo>
                    <a:pt x="243" y="412"/>
                  </a:lnTo>
                  <a:lnTo>
                    <a:pt x="246" y="446"/>
                  </a:lnTo>
                  <a:lnTo>
                    <a:pt x="247" y="468"/>
                  </a:lnTo>
                  <a:lnTo>
                    <a:pt x="245" y="476"/>
                  </a:lnTo>
                  <a:lnTo>
                    <a:pt x="241" y="467"/>
                  </a:lnTo>
                  <a:lnTo>
                    <a:pt x="236" y="447"/>
                  </a:lnTo>
                  <a:lnTo>
                    <a:pt x="230" y="420"/>
                  </a:lnTo>
                  <a:lnTo>
                    <a:pt x="226" y="389"/>
                  </a:lnTo>
                  <a:lnTo>
                    <a:pt x="220" y="357"/>
                  </a:lnTo>
                  <a:lnTo>
                    <a:pt x="212" y="326"/>
                  </a:lnTo>
                  <a:lnTo>
                    <a:pt x="201" y="300"/>
                  </a:lnTo>
                  <a:lnTo>
                    <a:pt x="189" y="281"/>
                  </a:lnTo>
                  <a:lnTo>
                    <a:pt x="184" y="294"/>
                  </a:lnTo>
                  <a:lnTo>
                    <a:pt x="185" y="310"/>
                  </a:lnTo>
                  <a:lnTo>
                    <a:pt x="183" y="321"/>
                  </a:lnTo>
                  <a:lnTo>
                    <a:pt x="167" y="319"/>
                  </a:lnTo>
                  <a:lnTo>
                    <a:pt x="141" y="364"/>
                  </a:lnTo>
                  <a:lnTo>
                    <a:pt x="121" y="411"/>
                  </a:lnTo>
                  <a:lnTo>
                    <a:pt x="105" y="458"/>
                  </a:lnTo>
                  <a:lnTo>
                    <a:pt x="92" y="506"/>
                  </a:lnTo>
                  <a:lnTo>
                    <a:pt x="83" y="554"/>
                  </a:lnTo>
                  <a:lnTo>
                    <a:pt x="77" y="602"/>
                  </a:lnTo>
                  <a:lnTo>
                    <a:pt x="73" y="651"/>
                  </a:lnTo>
                  <a:lnTo>
                    <a:pt x="73" y="699"/>
                  </a:lnTo>
                  <a:lnTo>
                    <a:pt x="76" y="731"/>
                  </a:lnTo>
                  <a:lnTo>
                    <a:pt x="82" y="764"/>
                  </a:lnTo>
                  <a:lnTo>
                    <a:pt x="88" y="795"/>
                  </a:lnTo>
                  <a:lnTo>
                    <a:pt x="97" y="826"/>
                  </a:lnTo>
                  <a:lnTo>
                    <a:pt x="105" y="858"/>
                  </a:lnTo>
                  <a:lnTo>
                    <a:pt x="111" y="889"/>
                  </a:lnTo>
                  <a:lnTo>
                    <a:pt x="117" y="920"/>
                  </a:lnTo>
                  <a:lnTo>
                    <a:pt x="120" y="953"/>
                  </a:lnTo>
                  <a:lnTo>
                    <a:pt x="117" y="974"/>
                  </a:lnTo>
                  <a:lnTo>
                    <a:pt x="114" y="996"/>
                  </a:lnTo>
                  <a:lnTo>
                    <a:pt x="114" y="1018"/>
                  </a:lnTo>
                  <a:lnTo>
                    <a:pt x="122" y="1038"/>
                  </a:lnTo>
                  <a:lnTo>
                    <a:pt x="131" y="1034"/>
                  </a:lnTo>
                  <a:lnTo>
                    <a:pt x="139" y="1030"/>
                  </a:lnTo>
                  <a:lnTo>
                    <a:pt x="147" y="1025"/>
                  </a:lnTo>
                  <a:lnTo>
                    <a:pt x="154" y="1021"/>
                  </a:lnTo>
                  <a:lnTo>
                    <a:pt x="162" y="1016"/>
                  </a:lnTo>
                  <a:lnTo>
                    <a:pt x="170" y="1013"/>
                  </a:lnTo>
                  <a:lnTo>
                    <a:pt x="179" y="1011"/>
                  </a:lnTo>
                  <a:lnTo>
                    <a:pt x="189" y="1013"/>
                  </a:lnTo>
                  <a:lnTo>
                    <a:pt x="188" y="1018"/>
                  </a:lnTo>
                  <a:lnTo>
                    <a:pt x="181" y="1026"/>
                  </a:lnTo>
                  <a:lnTo>
                    <a:pt x="170" y="1034"/>
                  </a:lnTo>
                  <a:lnTo>
                    <a:pt x="156" y="1042"/>
                  </a:lnTo>
                  <a:lnTo>
                    <a:pt x="143" y="1049"/>
                  </a:lnTo>
                  <a:lnTo>
                    <a:pt x="128" y="1056"/>
                  </a:lnTo>
                  <a:lnTo>
                    <a:pt x="115" y="1060"/>
                  </a:lnTo>
                  <a:lnTo>
                    <a:pt x="105" y="1061"/>
                  </a:lnTo>
                  <a:lnTo>
                    <a:pt x="93" y="1054"/>
                  </a:lnTo>
                  <a:lnTo>
                    <a:pt x="86" y="1046"/>
                  </a:lnTo>
                  <a:lnTo>
                    <a:pt x="83" y="1036"/>
                  </a:lnTo>
                  <a:lnTo>
                    <a:pt x="83" y="1024"/>
                  </a:lnTo>
                  <a:lnTo>
                    <a:pt x="84" y="1013"/>
                  </a:lnTo>
                  <a:lnTo>
                    <a:pt x="85" y="1001"/>
                  </a:lnTo>
                  <a:lnTo>
                    <a:pt x="86" y="988"/>
                  </a:lnTo>
                  <a:lnTo>
                    <a:pt x="84" y="978"/>
                  </a:lnTo>
                  <a:lnTo>
                    <a:pt x="80" y="955"/>
                  </a:lnTo>
                  <a:lnTo>
                    <a:pt x="75" y="934"/>
                  </a:lnTo>
                  <a:lnTo>
                    <a:pt x="67" y="913"/>
                  </a:lnTo>
                  <a:lnTo>
                    <a:pt x="57" y="894"/>
                  </a:lnTo>
                  <a:lnTo>
                    <a:pt x="49" y="873"/>
                  </a:lnTo>
                  <a:lnTo>
                    <a:pt x="41" y="854"/>
                  </a:lnTo>
                  <a:lnTo>
                    <a:pt x="37" y="832"/>
                  </a:lnTo>
                  <a:lnTo>
                    <a:pt x="34" y="809"/>
                  </a:lnTo>
                  <a:lnTo>
                    <a:pt x="24" y="674"/>
                  </a:lnTo>
                  <a:lnTo>
                    <a:pt x="24" y="630"/>
                  </a:lnTo>
                  <a:lnTo>
                    <a:pt x="27" y="587"/>
                  </a:lnTo>
                  <a:lnTo>
                    <a:pt x="35" y="544"/>
                  </a:lnTo>
                  <a:lnTo>
                    <a:pt x="46" y="501"/>
                  </a:lnTo>
                  <a:lnTo>
                    <a:pt x="61" y="460"/>
                  </a:lnTo>
                  <a:lnTo>
                    <a:pt x="77" y="418"/>
                  </a:lnTo>
                  <a:lnTo>
                    <a:pt x="97" y="379"/>
                  </a:lnTo>
                  <a:lnTo>
                    <a:pt x="118" y="340"/>
                  </a:lnTo>
                  <a:lnTo>
                    <a:pt x="129" y="319"/>
                  </a:lnTo>
                  <a:lnTo>
                    <a:pt x="137" y="306"/>
                  </a:lnTo>
                  <a:lnTo>
                    <a:pt x="143" y="294"/>
                  </a:lnTo>
                  <a:lnTo>
                    <a:pt x="148" y="280"/>
                  </a:lnTo>
                  <a:lnTo>
                    <a:pt x="143" y="275"/>
                  </a:lnTo>
                  <a:lnTo>
                    <a:pt x="137" y="270"/>
                  </a:lnTo>
                  <a:lnTo>
                    <a:pt x="130" y="263"/>
                  </a:lnTo>
                  <a:lnTo>
                    <a:pt x="124" y="255"/>
                  </a:lnTo>
                  <a:lnTo>
                    <a:pt x="120" y="247"/>
                  </a:lnTo>
                  <a:lnTo>
                    <a:pt x="117" y="238"/>
                  </a:lnTo>
                  <a:lnTo>
                    <a:pt x="116" y="232"/>
                  </a:lnTo>
                  <a:lnTo>
                    <a:pt x="117" y="225"/>
                  </a:lnTo>
                  <a:lnTo>
                    <a:pt x="105" y="222"/>
                  </a:lnTo>
                  <a:lnTo>
                    <a:pt x="94" y="221"/>
                  </a:lnTo>
                  <a:lnTo>
                    <a:pt x="85" y="219"/>
                  </a:lnTo>
                  <a:lnTo>
                    <a:pt x="75" y="218"/>
                  </a:lnTo>
                  <a:lnTo>
                    <a:pt x="62" y="217"/>
                  </a:lnTo>
                  <a:lnTo>
                    <a:pt x="47" y="215"/>
                  </a:lnTo>
                  <a:lnTo>
                    <a:pt x="29" y="215"/>
                  </a:lnTo>
                  <a:lnTo>
                    <a:pt x="4" y="215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9" y="182"/>
                  </a:lnTo>
                  <a:lnTo>
                    <a:pt x="19" y="169"/>
                  </a:lnTo>
                  <a:lnTo>
                    <a:pt x="26" y="165"/>
                  </a:lnTo>
                  <a:lnTo>
                    <a:pt x="34" y="160"/>
                  </a:lnTo>
                  <a:lnTo>
                    <a:pt x="41" y="156"/>
                  </a:lnTo>
                  <a:lnTo>
                    <a:pt x="48" y="151"/>
                  </a:lnTo>
                  <a:lnTo>
                    <a:pt x="56" y="149"/>
                  </a:lnTo>
                  <a:lnTo>
                    <a:pt x="64" y="146"/>
                  </a:lnTo>
                  <a:lnTo>
                    <a:pt x="72" y="146"/>
                  </a:lnTo>
                  <a:lnTo>
                    <a:pt x="82" y="147"/>
                  </a:lnTo>
                  <a:lnTo>
                    <a:pt x="70" y="123"/>
                  </a:lnTo>
                  <a:lnTo>
                    <a:pt x="63" y="97"/>
                  </a:lnTo>
                  <a:lnTo>
                    <a:pt x="57" y="69"/>
                  </a:lnTo>
                  <a:lnTo>
                    <a:pt x="53" y="43"/>
                  </a:lnTo>
                  <a:lnTo>
                    <a:pt x="57" y="39"/>
                  </a:lnTo>
                  <a:lnTo>
                    <a:pt x="68" y="42"/>
                  </a:lnTo>
                  <a:lnTo>
                    <a:pt x="82" y="46"/>
                  </a:lnTo>
                  <a:lnTo>
                    <a:pt x="98" y="54"/>
                  </a:lnTo>
                  <a:lnTo>
                    <a:pt x="115" y="63"/>
                  </a:lnTo>
                  <a:lnTo>
                    <a:pt x="131" y="74"/>
                  </a:lnTo>
                  <a:lnTo>
                    <a:pt x="145" y="85"/>
                  </a:lnTo>
                  <a:lnTo>
                    <a:pt x="15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5720" y="2046960"/>
              <a:ext cx="281160" cy="241560"/>
            </a:xfrm>
            <a:custGeom>
              <a:avLst/>
              <a:gdLst/>
              <a:ahLst/>
              <a:rect l="l" t="t" r="r" b="b"/>
              <a:pathLst>
                <a:path w="602" h="462">
                  <a:moveTo>
                    <a:pt x="0" y="0"/>
                  </a:moveTo>
                  <a:lnTo>
                    <a:pt x="24" y="12"/>
                  </a:lnTo>
                  <a:lnTo>
                    <a:pt x="48" y="22"/>
                  </a:lnTo>
                  <a:lnTo>
                    <a:pt x="73" y="30"/>
                  </a:lnTo>
                  <a:lnTo>
                    <a:pt x="94" y="37"/>
                  </a:lnTo>
                  <a:lnTo>
                    <a:pt x="114" y="43"/>
                  </a:lnTo>
                  <a:lnTo>
                    <a:pt x="129" y="47"/>
                  </a:lnTo>
                  <a:lnTo>
                    <a:pt x="139" y="50"/>
                  </a:lnTo>
                  <a:lnTo>
                    <a:pt x="143" y="51"/>
                  </a:lnTo>
                  <a:lnTo>
                    <a:pt x="155" y="52"/>
                  </a:lnTo>
                  <a:lnTo>
                    <a:pt x="168" y="54"/>
                  </a:lnTo>
                  <a:lnTo>
                    <a:pt x="182" y="57"/>
                  </a:lnTo>
                  <a:lnTo>
                    <a:pt x="195" y="59"/>
                  </a:lnTo>
                  <a:lnTo>
                    <a:pt x="207" y="61"/>
                  </a:lnTo>
                  <a:lnTo>
                    <a:pt x="220" y="65"/>
                  </a:lnTo>
                  <a:lnTo>
                    <a:pt x="233" y="67"/>
                  </a:lnTo>
                  <a:lnTo>
                    <a:pt x="245" y="70"/>
                  </a:lnTo>
                  <a:lnTo>
                    <a:pt x="258" y="74"/>
                  </a:lnTo>
                  <a:lnTo>
                    <a:pt x="271" y="77"/>
                  </a:lnTo>
                  <a:lnTo>
                    <a:pt x="283" y="81"/>
                  </a:lnTo>
                  <a:lnTo>
                    <a:pt x="295" y="84"/>
                  </a:lnTo>
                  <a:lnTo>
                    <a:pt x="308" y="88"/>
                  </a:lnTo>
                  <a:lnTo>
                    <a:pt x="320" y="91"/>
                  </a:lnTo>
                  <a:lnTo>
                    <a:pt x="333" y="95"/>
                  </a:lnTo>
                  <a:lnTo>
                    <a:pt x="346" y="98"/>
                  </a:lnTo>
                  <a:lnTo>
                    <a:pt x="363" y="107"/>
                  </a:lnTo>
                  <a:lnTo>
                    <a:pt x="379" y="116"/>
                  </a:lnTo>
                  <a:lnTo>
                    <a:pt x="395" y="126"/>
                  </a:lnTo>
                  <a:lnTo>
                    <a:pt x="410" y="136"/>
                  </a:lnTo>
                  <a:lnTo>
                    <a:pt x="425" y="148"/>
                  </a:lnTo>
                  <a:lnTo>
                    <a:pt x="440" y="158"/>
                  </a:lnTo>
                  <a:lnTo>
                    <a:pt x="454" y="171"/>
                  </a:lnTo>
                  <a:lnTo>
                    <a:pt x="468" y="182"/>
                  </a:lnTo>
                  <a:lnTo>
                    <a:pt x="481" y="195"/>
                  </a:lnTo>
                  <a:lnTo>
                    <a:pt x="494" y="209"/>
                  </a:lnTo>
                  <a:lnTo>
                    <a:pt x="506" y="221"/>
                  </a:lnTo>
                  <a:lnTo>
                    <a:pt x="517" y="236"/>
                  </a:lnTo>
                  <a:lnTo>
                    <a:pt x="529" y="250"/>
                  </a:lnTo>
                  <a:lnTo>
                    <a:pt x="539" y="265"/>
                  </a:lnTo>
                  <a:lnTo>
                    <a:pt x="549" y="280"/>
                  </a:lnTo>
                  <a:lnTo>
                    <a:pt x="559" y="296"/>
                  </a:lnTo>
                  <a:lnTo>
                    <a:pt x="568" y="316"/>
                  </a:lnTo>
                  <a:lnTo>
                    <a:pt x="575" y="334"/>
                  </a:lnTo>
                  <a:lnTo>
                    <a:pt x="581" y="354"/>
                  </a:lnTo>
                  <a:lnTo>
                    <a:pt x="586" y="372"/>
                  </a:lnTo>
                  <a:lnTo>
                    <a:pt x="591" y="392"/>
                  </a:lnTo>
                  <a:lnTo>
                    <a:pt x="594" y="411"/>
                  </a:lnTo>
                  <a:lnTo>
                    <a:pt x="599" y="431"/>
                  </a:lnTo>
                  <a:lnTo>
                    <a:pt x="602" y="450"/>
                  </a:lnTo>
                  <a:lnTo>
                    <a:pt x="597" y="455"/>
                  </a:lnTo>
                  <a:lnTo>
                    <a:pt x="591" y="459"/>
                  </a:lnTo>
                  <a:lnTo>
                    <a:pt x="584" y="461"/>
                  </a:lnTo>
                  <a:lnTo>
                    <a:pt x="578" y="462"/>
                  </a:lnTo>
                  <a:lnTo>
                    <a:pt x="562" y="453"/>
                  </a:lnTo>
                  <a:lnTo>
                    <a:pt x="555" y="438"/>
                  </a:lnTo>
                  <a:lnTo>
                    <a:pt x="552" y="421"/>
                  </a:lnTo>
                  <a:lnTo>
                    <a:pt x="547" y="404"/>
                  </a:lnTo>
                  <a:lnTo>
                    <a:pt x="530" y="339"/>
                  </a:lnTo>
                  <a:lnTo>
                    <a:pt x="522" y="324"/>
                  </a:lnTo>
                  <a:lnTo>
                    <a:pt x="514" y="310"/>
                  </a:lnTo>
                  <a:lnTo>
                    <a:pt x="505" y="295"/>
                  </a:lnTo>
                  <a:lnTo>
                    <a:pt x="496" y="281"/>
                  </a:lnTo>
                  <a:lnTo>
                    <a:pt x="486" y="267"/>
                  </a:lnTo>
                  <a:lnTo>
                    <a:pt x="477" y="255"/>
                  </a:lnTo>
                  <a:lnTo>
                    <a:pt x="467" y="242"/>
                  </a:lnTo>
                  <a:lnTo>
                    <a:pt x="455" y="229"/>
                  </a:lnTo>
                  <a:lnTo>
                    <a:pt x="443" y="218"/>
                  </a:lnTo>
                  <a:lnTo>
                    <a:pt x="432" y="206"/>
                  </a:lnTo>
                  <a:lnTo>
                    <a:pt x="419" y="196"/>
                  </a:lnTo>
                  <a:lnTo>
                    <a:pt x="405" y="186"/>
                  </a:lnTo>
                  <a:lnTo>
                    <a:pt x="392" y="176"/>
                  </a:lnTo>
                  <a:lnTo>
                    <a:pt x="377" y="167"/>
                  </a:lnTo>
                  <a:lnTo>
                    <a:pt x="361" y="159"/>
                  </a:lnTo>
                  <a:lnTo>
                    <a:pt x="344" y="152"/>
                  </a:lnTo>
                  <a:lnTo>
                    <a:pt x="325" y="142"/>
                  </a:lnTo>
                  <a:lnTo>
                    <a:pt x="305" y="134"/>
                  </a:lnTo>
                  <a:lnTo>
                    <a:pt x="284" y="126"/>
                  </a:lnTo>
                  <a:lnTo>
                    <a:pt x="265" y="119"/>
                  </a:lnTo>
                  <a:lnTo>
                    <a:pt x="244" y="113"/>
                  </a:lnTo>
                  <a:lnTo>
                    <a:pt x="225" y="107"/>
                  </a:lnTo>
                  <a:lnTo>
                    <a:pt x="204" y="101"/>
                  </a:lnTo>
                  <a:lnTo>
                    <a:pt x="183" y="96"/>
                  </a:lnTo>
                  <a:lnTo>
                    <a:pt x="162" y="90"/>
                  </a:lnTo>
                  <a:lnTo>
                    <a:pt x="143" y="83"/>
                  </a:lnTo>
                  <a:lnTo>
                    <a:pt x="123" y="76"/>
                  </a:lnTo>
                  <a:lnTo>
                    <a:pt x="102" y="69"/>
                  </a:lnTo>
                  <a:lnTo>
                    <a:pt x="83" y="60"/>
                  </a:lnTo>
                  <a:lnTo>
                    <a:pt x="64" y="50"/>
                  </a:lnTo>
                  <a:lnTo>
                    <a:pt x="45" y="38"/>
                  </a:lnTo>
                  <a:lnTo>
                    <a:pt x="2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41480" y="2286360"/>
              <a:ext cx="390600" cy="182520"/>
            </a:xfrm>
            <a:custGeom>
              <a:avLst/>
              <a:gdLst/>
              <a:ahLst/>
              <a:rect l="l" t="t" r="r" b="b"/>
              <a:pathLst>
                <a:path w="835" h="348">
                  <a:moveTo>
                    <a:pt x="835" y="51"/>
                  </a:moveTo>
                  <a:lnTo>
                    <a:pt x="822" y="60"/>
                  </a:lnTo>
                  <a:lnTo>
                    <a:pt x="803" y="70"/>
                  </a:lnTo>
                  <a:lnTo>
                    <a:pt x="780" y="81"/>
                  </a:lnTo>
                  <a:lnTo>
                    <a:pt x="756" y="90"/>
                  </a:lnTo>
                  <a:lnTo>
                    <a:pt x="732" y="98"/>
                  </a:lnTo>
                  <a:lnTo>
                    <a:pt x="709" y="104"/>
                  </a:lnTo>
                  <a:lnTo>
                    <a:pt x="691" y="106"/>
                  </a:lnTo>
                  <a:lnTo>
                    <a:pt x="679" y="106"/>
                  </a:lnTo>
                  <a:lnTo>
                    <a:pt x="655" y="114"/>
                  </a:lnTo>
                  <a:lnTo>
                    <a:pt x="630" y="125"/>
                  </a:lnTo>
                  <a:lnTo>
                    <a:pt x="607" y="136"/>
                  </a:lnTo>
                  <a:lnTo>
                    <a:pt x="585" y="149"/>
                  </a:lnTo>
                  <a:lnTo>
                    <a:pt x="564" y="163"/>
                  </a:lnTo>
                  <a:lnTo>
                    <a:pt x="543" y="178"/>
                  </a:lnTo>
                  <a:lnTo>
                    <a:pt x="523" y="193"/>
                  </a:lnTo>
                  <a:lnTo>
                    <a:pt x="504" y="209"/>
                  </a:lnTo>
                  <a:lnTo>
                    <a:pt x="490" y="214"/>
                  </a:lnTo>
                  <a:lnTo>
                    <a:pt x="477" y="221"/>
                  </a:lnTo>
                  <a:lnTo>
                    <a:pt x="464" y="231"/>
                  </a:lnTo>
                  <a:lnTo>
                    <a:pt x="453" y="239"/>
                  </a:lnTo>
                  <a:lnTo>
                    <a:pt x="441" y="247"/>
                  </a:lnTo>
                  <a:lnTo>
                    <a:pt x="429" y="255"/>
                  </a:lnTo>
                  <a:lnTo>
                    <a:pt x="416" y="263"/>
                  </a:lnTo>
                  <a:lnTo>
                    <a:pt x="402" y="269"/>
                  </a:lnTo>
                  <a:lnTo>
                    <a:pt x="385" y="278"/>
                  </a:lnTo>
                  <a:lnTo>
                    <a:pt x="368" y="286"/>
                  </a:lnTo>
                  <a:lnTo>
                    <a:pt x="349" y="294"/>
                  </a:lnTo>
                  <a:lnTo>
                    <a:pt x="332" y="302"/>
                  </a:lnTo>
                  <a:lnTo>
                    <a:pt x="312" y="310"/>
                  </a:lnTo>
                  <a:lnTo>
                    <a:pt x="294" y="317"/>
                  </a:lnTo>
                  <a:lnTo>
                    <a:pt x="276" y="324"/>
                  </a:lnTo>
                  <a:lnTo>
                    <a:pt x="257" y="330"/>
                  </a:lnTo>
                  <a:lnTo>
                    <a:pt x="251" y="333"/>
                  </a:lnTo>
                  <a:lnTo>
                    <a:pt x="242" y="337"/>
                  </a:lnTo>
                  <a:lnTo>
                    <a:pt x="229" y="339"/>
                  </a:lnTo>
                  <a:lnTo>
                    <a:pt x="216" y="341"/>
                  </a:lnTo>
                  <a:lnTo>
                    <a:pt x="200" y="343"/>
                  </a:lnTo>
                  <a:lnTo>
                    <a:pt x="181" y="345"/>
                  </a:lnTo>
                  <a:lnTo>
                    <a:pt x="162" y="346"/>
                  </a:lnTo>
                  <a:lnTo>
                    <a:pt x="142" y="347"/>
                  </a:lnTo>
                  <a:lnTo>
                    <a:pt x="121" y="347"/>
                  </a:lnTo>
                  <a:lnTo>
                    <a:pt x="102" y="348"/>
                  </a:lnTo>
                  <a:lnTo>
                    <a:pt x="81" y="348"/>
                  </a:lnTo>
                  <a:lnTo>
                    <a:pt x="62" y="347"/>
                  </a:lnTo>
                  <a:lnTo>
                    <a:pt x="44" y="347"/>
                  </a:lnTo>
                  <a:lnTo>
                    <a:pt x="27" y="347"/>
                  </a:lnTo>
                  <a:lnTo>
                    <a:pt x="13" y="346"/>
                  </a:lnTo>
                  <a:lnTo>
                    <a:pt x="0" y="345"/>
                  </a:lnTo>
                  <a:lnTo>
                    <a:pt x="1" y="345"/>
                  </a:lnTo>
                  <a:lnTo>
                    <a:pt x="7" y="343"/>
                  </a:lnTo>
                  <a:lnTo>
                    <a:pt x="18" y="341"/>
                  </a:lnTo>
                  <a:lnTo>
                    <a:pt x="30" y="340"/>
                  </a:lnTo>
                  <a:lnTo>
                    <a:pt x="46" y="338"/>
                  </a:lnTo>
                  <a:lnTo>
                    <a:pt x="66" y="334"/>
                  </a:lnTo>
                  <a:lnTo>
                    <a:pt x="87" y="331"/>
                  </a:lnTo>
                  <a:lnTo>
                    <a:pt x="109" y="326"/>
                  </a:lnTo>
                  <a:lnTo>
                    <a:pt x="133" y="322"/>
                  </a:lnTo>
                  <a:lnTo>
                    <a:pt x="157" y="316"/>
                  </a:lnTo>
                  <a:lnTo>
                    <a:pt x="181" y="310"/>
                  </a:lnTo>
                  <a:lnTo>
                    <a:pt x="205" y="303"/>
                  </a:lnTo>
                  <a:lnTo>
                    <a:pt x="228" y="296"/>
                  </a:lnTo>
                  <a:lnTo>
                    <a:pt x="251" y="288"/>
                  </a:lnTo>
                  <a:lnTo>
                    <a:pt x="272" y="279"/>
                  </a:lnTo>
                  <a:lnTo>
                    <a:pt x="291" y="270"/>
                  </a:lnTo>
                  <a:lnTo>
                    <a:pt x="311" y="262"/>
                  </a:lnTo>
                  <a:lnTo>
                    <a:pt x="331" y="252"/>
                  </a:lnTo>
                  <a:lnTo>
                    <a:pt x="349" y="242"/>
                  </a:lnTo>
                  <a:lnTo>
                    <a:pt x="368" y="232"/>
                  </a:lnTo>
                  <a:lnTo>
                    <a:pt x="386" y="220"/>
                  </a:lnTo>
                  <a:lnTo>
                    <a:pt x="405" y="209"/>
                  </a:lnTo>
                  <a:lnTo>
                    <a:pt x="422" y="197"/>
                  </a:lnTo>
                  <a:lnTo>
                    <a:pt x="439" y="186"/>
                  </a:lnTo>
                  <a:lnTo>
                    <a:pt x="456" y="173"/>
                  </a:lnTo>
                  <a:lnTo>
                    <a:pt x="474" y="161"/>
                  </a:lnTo>
                  <a:lnTo>
                    <a:pt x="492" y="150"/>
                  </a:lnTo>
                  <a:lnTo>
                    <a:pt x="509" y="138"/>
                  </a:lnTo>
                  <a:lnTo>
                    <a:pt x="528" y="127"/>
                  </a:lnTo>
                  <a:lnTo>
                    <a:pt x="546" y="117"/>
                  </a:lnTo>
                  <a:lnTo>
                    <a:pt x="566" y="107"/>
                  </a:lnTo>
                  <a:lnTo>
                    <a:pt x="585" y="98"/>
                  </a:lnTo>
                  <a:lnTo>
                    <a:pt x="599" y="91"/>
                  </a:lnTo>
                  <a:lnTo>
                    <a:pt x="613" y="85"/>
                  </a:lnTo>
                  <a:lnTo>
                    <a:pt x="627" y="81"/>
                  </a:lnTo>
                  <a:lnTo>
                    <a:pt x="641" y="77"/>
                  </a:lnTo>
                  <a:lnTo>
                    <a:pt x="655" y="75"/>
                  </a:lnTo>
                  <a:lnTo>
                    <a:pt x="668" y="73"/>
                  </a:lnTo>
                  <a:lnTo>
                    <a:pt x="682" y="70"/>
                  </a:lnTo>
                  <a:lnTo>
                    <a:pt x="697" y="69"/>
                  </a:lnTo>
                  <a:lnTo>
                    <a:pt x="711" y="67"/>
                  </a:lnTo>
                  <a:lnTo>
                    <a:pt x="725" y="66"/>
                  </a:lnTo>
                  <a:lnTo>
                    <a:pt x="739" y="65"/>
                  </a:lnTo>
                  <a:lnTo>
                    <a:pt x="752" y="62"/>
                  </a:lnTo>
                  <a:lnTo>
                    <a:pt x="766" y="60"/>
                  </a:lnTo>
                  <a:lnTo>
                    <a:pt x="780" y="57"/>
                  </a:lnTo>
                  <a:lnTo>
                    <a:pt x="794" y="52"/>
                  </a:lnTo>
                  <a:lnTo>
                    <a:pt x="808" y="47"/>
                  </a:lnTo>
                  <a:lnTo>
                    <a:pt x="809" y="37"/>
                  </a:lnTo>
                  <a:lnTo>
                    <a:pt x="810" y="22"/>
                  </a:lnTo>
                  <a:lnTo>
                    <a:pt x="812" y="8"/>
                  </a:lnTo>
                  <a:lnTo>
                    <a:pt x="816" y="0"/>
                  </a:lnTo>
                  <a:lnTo>
                    <a:pt x="819" y="6"/>
                  </a:lnTo>
                  <a:lnTo>
                    <a:pt x="827" y="21"/>
                  </a:lnTo>
                  <a:lnTo>
                    <a:pt x="834" y="38"/>
                  </a:lnTo>
                  <a:lnTo>
                    <a:pt x="8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150-0E7D-4D65-9852-266A5EB8CC89}" type="slidenum">
              <a:t>17</a:t>
            </a:fld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48148E-006 L -0.06614 -0.10116 E">
                                      <p:cBhvr>
                                        <p:cTn id="528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98262E-006 L -0.11788 -0.10984 E">
                                      <p:cBhvr>
                                        <p:cTn id="53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0.08716 -0.12246 E">
                                      <p:cBhvr>
                                        <p:cTn id="550" dur="1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0023 L 0.11997 -0.10347 E">
                                      <p:cBhvr>
                                        <p:cTn id="560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0.00069 L 0.1151 0.10833 E">
                                      <p:cBhvr>
                                        <p:cTn id="571" dur="1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1 0.10834 L 0.18767 0.20741 E">
                                      <p:cBhvr>
                                        <p:cTn id="574" dur="1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7000"/>
                            </p:stCondLst>
                            <p:childTnLst>
                              <p:par>
                                <p:cTn id="5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-0.00139 L -0.06615 -0.12025 E">
                                      <p:cBhvr>
                                        <p:cTn id="593" dur="1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0023 L 0.11997 -0.10347 E">
                                      <p:cBhvr>
                                        <p:cTn id="603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0.00069 L 0.1151 0.10833 E">
                                      <p:cBhvr>
                                        <p:cTn id="614" dur="1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1 0.10834 L 0.18767 0.20741 E">
                                      <p:cBhvr>
                                        <p:cTn id="617" dur="1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utonom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14240" y="94428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spanning multiple administrative domai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llow a domain administrator control information flow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ent external observer from observing the information in the 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ent external failures from affecting the operations in the 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upport for efficient domain wise aggregatio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HT trees might not con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nomous D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Two properti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th Loc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th Converg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Reach domain root firs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5967360" y="4444920"/>
            <a:ext cx="1490760" cy="168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68840" y="3740040"/>
            <a:ext cx="1311120" cy="2424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10600" y="3009960"/>
            <a:ext cx="936360" cy="3128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63960" y="568944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75480" y="57466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45320" y="4794120"/>
            <a:ext cx="307800" cy="2890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11720" y="4797360"/>
            <a:ext cx="308160" cy="2890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40640" y="5440320"/>
            <a:ext cx="306360" cy="2872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548320" y="5430960"/>
            <a:ext cx="306360" cy="2872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24880" y="3352680"/>
            <a:ext cx="307800" cy="2890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67160" y="4083120"/>
            <a:ext cx="308160" cy="2887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69080" y="5440320"/>
            <a:ext cx="306360" cy="2872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5442120"/>
            <a:ext cx="307800" cy="2887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07040" y="5119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19880" y="4513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65680" y="41101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43880" y="30718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99240" y="5759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95960" y="56754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43" idx="7"/>
            <a:endCxn id="442" idx="2"/>
          </p:cNvCxnSpPr>
          <p:nvPr/>
        </p:nvCxnSpPr>
        <p:spPr>
          <a:xfrm flipV="1">
            <a:off x="5528880" y="3496680"/>
            <a:ext cx="2183400" cy="61668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0" idx="0"/>
            <a:endCxn id="438" idx="4"/>
          </p:cNvCxnSpPr>
          <p:nvPr/>
        </p:nvCxnSpPr>
        <p:spPr>
          <a:xfrm flipV="1">
            <a:off x="6894360" y="5094000"/>
            <a:ext cx="7200" cy="334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4" idx="0"/>
            <a:endCxn id="442" idx="4"/>
          </p:cNvCxnSpPr>
          <p:nvPr/>
        </p:nvCxnSpPr>
        <p:spPr>
          <a:xfrm flipV="1">
            <a:off x="7823160" y="3652560"/>
            <a:ext cx="56160" cy="1775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41" idx="0"/>
            <a:endCxn id="439" idx="4"/>
          </p:cNvCxnSpPr>
          <p:nvPr/>
        </p:nvCxnSpPr>
        <p:spPr>
          <a:xfrm flipV="1">
            <a:off x="5702040" y="5098680"/>
            <a:ext cx="564120" cy="319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39" idx="0"/>
            <a:endCxn id="443" idx="5"/>
          </p:cNvCxnSpPr>
          <p:nvPr/>
        </p:nvCxnSpPr>
        <p:spPr>
          <a:xfrm flipH="1" flipV="1">
            <a:off x="5528880" y="4341600"/>
            <a:ext cx="737280" cy="44496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45" idx="0"/>
            <a:endCxn id="443" idx="3"/>
          </p:cNvCxnSpPr>
          <p:nvPr/>
        </p:nvCxnSpPr>
        <p:spPr>
          <a:xfrm flipV="1">
            <a:off x="5092200" y="4341240"/>
            <a:ext cx="221400" cy="108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38" idx="0"/>
            <a:endCxn id="442" idx="3"/>
          </p:cNvCxnSpPr>
          <p:nvPr/>
        </p:nvCxnSpPr>
        <p:spPr>
          <a:xfrm flipV="1">
            <a:off x="6900480" y="3611160"/>
            <a:ext cx="870840" cy="117072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4799160" y="6094440"/>
            <a:ext cx="175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omai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86600" y="608976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omai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41" idx="0"/>
            <a:endCxn id="443" idx="4"/>
          </p:cNvCxnSpPr>
          <p:nvPr/>
        </p:nvCxnSpPr>
        <p:spPr>
          <a:xfrm flipH="1" flipV="1">
            <a:off x="5420520" y="4385880"/>
            <a:ext cx="281880" cy="1031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2" name=""/>
          <p:cNvSpPr/>
          <p:nvPr/>
        </p:nvSpPr>
        <p:spPr>
          <a:xfrm>
            <a:off x="7404120" y="609588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omain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/>
          <p:nvPr/>
        </p:nvCxnSpPr>
        <p:spPr>
          <a:xfrm flipV="1">
            <a:off x="6434280" y="4938480"/>
            <a:ext cx="297360" cy="360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802-F37B-4BF3-8FD7-87ED64EF8CA7}" type="slidenum">
              <a:t>18</a:t>
            </a:fld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utline 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IMS: a distributed operating system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ion abs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Leverage Distributed Hash Tabl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Separate attribute type from nam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Flexible API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Prototype and evaluation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2E8-661A-40EE-9B85-0EFD88C2E6C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Goal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28800"/>
            <a:ext cx="77724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istributed Operating System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collection and managemen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e functionality of large distributed syste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Monitor, query and react to changes in the system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xamples: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ase development of new servic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Facilitate deploymen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void repetition of same task by different servic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Optimize system performanc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771480" y="2851200"/>
            <a:ext cx="487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ystem administration and management     Service placement and location                    Sensor monitoring and control              Distributed Denial-of-Service attack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26120" y="2854440"/>
            <a:ext cx="32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 location service      Multicast tree construction Naming and request routing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………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A24-D4A9-41D9-B286-C5E3794D119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rototype and Evalua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IMS proto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Built on top of FreePastry [Druschel et al, Rice U.]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Two layer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tom: Autonomous D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: Aggregation Management Lay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imulatio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Prototyp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cro-benchmarks on real network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lanetLab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S Depart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ADB-90B2-4806-A6A9-89709A7BCF8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92280" y="820800"/>
            <a:ext cx="77724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omic Sans MS"/>
              </a:rPr>
              <a:t>Sparse attributes: multicast sessions with small size membership</a:t>
            </a:r>
            <a:endParaRPr b="0" lang="en-US" sz="16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omic Sans MS"/>
              </a:rPr>
              <a:t>Node Stress = Amt. of incoming and outgoing info</a:t>
            </a:r>
            <a:endParaRPr b="0" lang="en-US" sz="1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poi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omic Sans MS"/>
              </a:rPr>
              <a:t>Max Node Stress an order of magnitude less than Astrolabe</a:t>
            </a:r>
            <a:endParaRPr b="0" lang="en-US" sz="16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omic Sans MS"/>
              </a:rPr>
              <a:t>Max Node Stress decreases as the number of nodes increases</a:t>
            </a:r>
            <a:endParaRPr b="0" lang="en-US" sz="16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rcRect l="0" t="10389" r="0" b="0"/>
          <a:stretch/>
        </p:blipFill>
        <p:spPr>
          <a:xfrm>
            <a:off x="1130400" y="2386080"/>
            <a:ext cx="6400800" cy="40496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imulation Results - Scala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08480" y="3378240"/>
            <a:ext cx="1419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trolabe 25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78240" y="3059280"/>
            <a:ext cx="1540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trolabe 409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48280" y="2724120"/>
            <a:ext cx="171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trolabe 6553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188120" y="3421080"/>
            <a:ext cx="110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DIMS 25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0200" y="3852720"/>
            <a:ext cx="122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DIMS 409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69040" y="4300560"/>
            <a:ext cx="1347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DIMS 6553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98960" y="2863800"/>
            <a:ext cx="560520" cy="370080"/>
          </a:xfrm>
          <a:custGeom>
            <a:avLst/>
            <a:gdLst/>
            <a:ahLst/>
            <a:rect l="l" t="t" r="r" b="b"/>
            <a:pathLst>
              <a:path w="353" h="233">
                <a:moveTo>
                  <a:pt x="0" y="10"/>
                </a:moveTo>
                <a:cubicBezTo>
                  <a:pt x="63" y="5"/>
                  <a:pt x="127" y="0"/>
                  <a:pt x="186" y="37"/>
                </a:cubicBezTo>
                <a:cubicBezTo>
                  <a:pt x="245" y="74"/>
                  <a:pt x="327" y="202"/>
                  <a:pt x="353" y="2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15080" y="3147840"/>
            <a:ext cx="510840" cy="279720"/>
          </a:xfrm>
          <a:custGeom>
            <a:avLst/>
            <a:gdLst/>
            <a:ahLst/>
            <a:rect l="l" t="t" r="r" b="b"/>
            <a:pathLst>
              <a:path w="353" h="233">
                <a:moveTo>
                  <a:pt x="0" y="10"/>
                </a:moveTo>
                <a:cubicBezTo>
                  <a:pt x="63" y="5"/>
                  <a:pt x="127" y="0"/>
                  <a:pt x="186" y="37"/>
                </a:cubicBezTo>
                <a:cubicBezTo>
                  <a:pt x="245" y="74"/>
                  <a:pt x="327" y="202"/>
                  <a:pt x="353" y="2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65720" y="3630600"/>
            <a:ext cx="563400" cy="552600"/>
          </a:xfrm>
          <a:custGeom>
            <a:avLst/>
            <a:gdLst/>
            <a:ahLst/>
            <a:rect l="l" t="t" r="r" b="b"/>
            <a:pathLst>
              <a:path w="355" h="348">
                <a:moveTo>
                  <a:pt x="0" y="0"/>
                </a:moveTo>
                <a:cubicBezTo>
                  <a:pt x="6" y="124"/>
                  <a:pt x="12" y="248"/>
                  <a:pt x="65" y="298"/>
                </a:cubicBezTo>
                <a:cubicBezTo>
                  <a:pt x="118" y="348"/>
                  <a:pt x="277" y="329"/>
                  <a:pt x="316" y="298"/>
                </a:cubicBezTo>
                <a:cubicBezTo>
                  <a:pt x="355" y="267"/>
                  <a:pt x="300" y="141"/>
                  <a:pt x="297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DA0-4459-4782-AB1B-D9E213FDB17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imulation Results - Flexibility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006200"/>
            <a:ext cx="777240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with 4096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s with different up and down strateg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795320" y="2062080"/>
            <a:ext cx="5589720" cy="40356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5308560" y="241776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-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30560" y="484200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70280" y="2563920"/>
            <a:ext cx="23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-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853160" y="4410000"/>
            <a:ext cx="15840" cy="35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19640" y="2567160"/>
            <a:ext cx="233280" cy="177480"/>
          </a:xfrm>
          <a:custGeom>
            <a:avLst/>
            <a:gdLst/>
            <a:ahLst/>
            <a:rect l="l" t="t" r="r" b="b"/>
            <a:pathLst>
              <a:path w="119" h="102">
                <a:moveTo>
                  <a:pt x="102" y="0"/>
                </a:moveTo>
                <a:cubicBezTo>
                  <a:pt x="110" y="33"/>
                  <a:pt x="119" y="66"/>
                  <a:pt x="102" y="83"/>
                </a:cubicBezTo>
                <a:cubicBezTo>
                  <a:pt x="85" y="100"/>
                  <a:pt x="15" y="97"/>
                  <a:pt x="0" y="1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43440" y="2335320"/>
            <a:ext cx="11772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21680" y="3014640"/>
            <a:ext cx="136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=5, down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340760" y="4241880"/>
            <a:ext cx="107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=all, down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0640" y="3362400"/>
            <a:ext cx="844560" cy="341280"/>
          </a:xfrm>
          <a:custGeom>
            <a:avLst/>
            <a:gdLst/>
            <a:ahLst/>
            <a:rect l="l" t="t" r="r" b="b"/>
            <a:pathLst>
              <a:path w="532" h="215">
                <a:moveTo>
                  <a:pt x="67" y="0"/>
                </a:moveTo>
                <a:cubicBezTo>
                  <a:pt x="33" y="87"/>
                  <a:pt x="0" y="175"/>
                  <a:pt x="77" y="195"/>
                </a:cubicBezTo>
                <a:cubicBezTo>
                  <a:pt x="154" y="215"/>
                  <a:pt x="458" y="133"/>
                  <a:pt x="532" y="1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83400" y="4513320"/>
            <a:ext cx="646200" cy="306360"/>
          </a:xfrm>
          <a:custGeom>
            <a:avLst/>
            <a:gdLst/>
            <a:ahLst/>
            <a:rect l="l" t="t" r="r" b="b"/>
            <a:pathLst>
              <a:path w="407" h="193">
                <a:moveTo>
                  <a:pt x="82" y="0"/>
                </a:moveTo>
                <a:cubicBezTo>
                  <a:pt x="41" y="70"/>
                  <a:pt x="0" y="141"/>
                  <a:pt x="54" y="167"/>
                </a:cubicBezTo>
                <a:cubicBezTo>
                  <a:pt x="108" y="193"/>
                  <a:pt x="257" y="175"/>
                  <a:pt x="407" y="1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EE4-3B97-4A5A-BA1B-F0576343DB2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rototype Result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 department: 180 machines (283 SDIMS nod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etLab: 70 machin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853920" y="2496960"/>
            <a:ext cx="3635640" cy="3175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2920" y="3192480"/>
            <a:ext cx="31320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2920" y="508644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12920" y="481500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12920" y="454500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12920" y="4275000"/>
            <a:ext cx="3132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12920" y="4003560"/>
            <a:ext cx="3132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12920" y="373392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12920" y="346392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12920" y="3192480"/>
            <a:ext cx="3132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12920" y="3192480"/>
            <a:ext cx="3132000" cy="216360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12920" y="3192480"/>
            <a:ext cx="1440" cy="216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12920" y="5356080"/>
            <a:ext cx="3132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2357280" y="5324040"/>
            <a:ext cx="180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402000" y="532404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444920" y="5324040"/>
            <a:ext cx="180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38160" y="5337000"/>
            <a:ext cx="1800" cy="19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81440" y="4718160"/>
            <a:ext cx="1440" cy="63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25800" y="3314880"/>
            <a:ext cx="1800" cy="138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22320" y="5330880"/>
            <a:ext cx="30240" cy="612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67040" y="4711680"/>
            <a:ext cx="302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11760" y="330840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22320" y="5349960"/>
            <a:ext cx="30240" cy="612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67040" y="5343480"/>
            <a:ext cx="302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11760" y="469260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03240" y="5311800"/>
            <a:ext cx="69840" cy="88920"/>
          </a:xfrm>
          <a:custGeom>
            <a:avLst/>
            <a:gdLst/>
            <a:ahLst/>
            <a:rect l="l" t="t" r="r" b="b"/>
            <a:pathLst>
              <a:path w="44" h="56">
                <a:moveTo>
                  <a:pt x="22" y="0"/>
                </a:moveTo>
                <a:lnTo>
                  <a:pt x="44" y="28"/>
                </a:lnTo>
                <a:lnTo>
                  <a:pt x="22" y="56"/>
                </a:lnTo>
                <a:lnTo>
                  <a:pt x="0" y="28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47960" y="5195880"/>
            <a:ext cx="68400" cy="88920"/>
          </a:xfrm>
          <a:custGeom>
            <a:avLst/>
            <a:gdLst/>
            <a:ahLst/>
            <a:rect l="l" t="t" r="r" b="b"/>
            <a:pathLst>
              <a:path w="43" h="56">
                <a:moveTo>
                  <a:pt x="21" y="0"/>
                </a:moveTo>
                <a:lnTo>
                  <a:pt x="43" y="28"/>
                </a:lnTo>
                <a:lnTo>
                  <a:pt x="21" y="56"/>
                </a:lnTo>
                <a:lnTo>
                  <a:pt x="0" y="28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90880" y="4165560"/>
            <a:ext cx="69840" cy="88920"/>
          </a:xfrm>
          <a:custGeom>
            <a:avLst/>
            <a:gdLst/>
            <a:ahLst/>
            <a:rect l="l" t="t" r="r" b="b"/>
            <a:pathLst>
              <a:path w="44" h="56">
                <a:moveTo>
                  <a:pt x="22" y="0"/>
                </a:moveTo>
                <a:lnTo>
                  <a:pt x="44" y="28"/>
                </a:lnTo>
                <a:lnTo>
                  <a:pt x="22" y="56"/>
                </a:lnTo>
                <a:lnTo>
                  <a:pt x="0" y="28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75160" y="2631960"/>
            <a:ext cx="186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77120" y="5297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86760" y="50277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86760" y="47577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86760" y="44863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86760" y="42163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86760" y="39466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86760" y="3675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86760" y="3405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86760" y="3135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5452920"/>
            <a:ext cx="84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05160" y="545292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99840" y="5452920"/>
            <a:ext cx="10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6200000">
            <a:off x="108720" y="3983040"/>
            <a:ext cx="124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ncy (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53920" y="2496960"/>
            <a:ext cx="3635640" cy="3175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35680" y="2503440"/>
            <a:ext cx="3352680" cy="3159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06920" y="3192480"/>
            <a:ext cx="28400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06920" y="504360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06920" y="473076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06920" y="442440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06920" y="411804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06920" y="381168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06920" y="349884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06920" y="319248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06920" y="3192480"/>
            <a:ext cx="2840040" cy="21574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06920" y="3192480"/>
            <a:ext cx="1800" cy="215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06920" y="5349960"/>
            <a:ext cx="2840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53360" y="531828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7402680" y="531828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8346960" y="531828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79960" y="5343480"/>
            <a:ext cx="1800" cy="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29280" y="5062680"/>
            <a:ext cx="18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75720" y="3517920"/>
            <a:ext cx="1440" cy="165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65920" y="533700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915240" y="505620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861320" y="3511440"/>
            <a:ext cx="2700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965920" y="534348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15240" y="5343480"/>
            <a:ext cx="28440" cy="648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61320" y="5164200"/>
            <a:ext cx="27000" cy="6120"/>
          </a:xfrm>
          <a:prstGeom prst="rect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48280" y="530532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20" y="0"/>
                </a:moveTo>
                <a:lnTo>
                  <a:pt x="40" y="28"/>
                </a:lnTo>
                <a:lnTo>
                  <a:pt x="20" y="56"/>
                </a:lnTo>
                <a:lnTo>
                  <a:pt x="0" y="28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97600" y="5229360"/>
            <a:ext cx="65160" cy="88920"/>
          </a:xfrm>
          <a:custGeom>
            <a:avLst/>
            <a:gdLst/>
            <a:ahLst/>
            <a:rect l="l" t="t" r="r" b="b"/>
            <a:pathLst>
              <a:path w="41" h="56">
                <a:moveTo>
                  <a:pt x="20" y="0"/>
                </a:moveTo>
                <a:lnTo>
                  <a:pt x="41" y="28"/>
                </a:lnTo>
                <a:lnTo>
                  <a:pt x="20" y="56"/>
                </a:lnTo>
                <a:lnTo>
                  <a:pt x="0" y="28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842240" y="4884840"/>
            <a:ext cx="65160" cy="88920"/>
          </a:xfrm>
          <a:custGeom>
            <a:avLst/>
            <a:gdLst/>
            <a:ahLst/>
            <a:rect l="l" t="t" r="r" b="b"/>
            <a:pathLst>
              <a:path w="41" h="56">
                <a:moveTo>
                  <a:pt x="21" y="0"/>
                </a:moveTo>
                <a:lnTo>
                  <a:pt x="41" y="28"/>
                </a:lnTo>
                <a:lnTo>
                  <a:pt x="21" y="56"/>
                </a:lnTo>
                <a:lnTo>
                  <a:pt x="0" y="28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276240" y="2638440"/>
            <a:ext cx="7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et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14240" y="529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30360" y="49863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86800" y="46735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86800" y="43671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86800" y="40608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86800" y="37544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86800" y="34416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86800" y="31352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62640" y="5445000"/>
            <a:ext cx="84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04040" y="544500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01880" y="5445000"/>
            <a:ext cx="10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-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5680" y="2503440"/>
            <a:ext cx="3352680" cy="3159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87D-36B0-4C40-AC4D-0BEC26AB425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IMS – basic building block for large-scale distributed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Provides information collection and managemen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calability and Flexibility through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raging DH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parating attribute type from attribute n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ing flexible API: install, update and pro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utonomy through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ing Autonomous DH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Robustness through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ault lazy reaggreg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tional on-demand reaggreg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25B-F409-4990-9956-5452964BB01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For more information: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984240" y="3209400"/>
            <a:ext cx="7275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www.cs.utexas.edu/users/ypraveen/sdi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B6E-2BD0-48ED-9FD8-70C68ABD5C7C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ontributions – SDIM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8800" y="930240"/>
            <a:ext cx="777240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an important basic building blo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Information collection and management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isfies key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calability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both nodes and attribu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rage Distributed Hash Tables (DH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Flexibility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e applications to control the aggreg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flexible API: install, update and pro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utonomy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e administrators to control flow of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Autonomous DH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Robustnes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ndle failures gracefu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 re-aggregation upon fail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zy (by default) and On-demand (optional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074-EA0F-4C06-A902-AC489C29B9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utline 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IMS: a distributed operating system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ion abs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sig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Prototyp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imulation and experimental result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A5E-53BD-455D-8F32-8C2BE36FB90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ggregation Abstrac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2800" y="1415520"/>
            <a:ext cx="77724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Information at machin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ion t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Physical nodes are leav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ach virtual node represents a logical group of nod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ministrative domains, groups within domain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ion function, f, for attribute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Computes the aggregated value A</a:t>
            </a:r>
            <a:r>
              <a:rPr b="0" lang="en-US" sz="20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for level-i subtre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locally stored value at the physical node or NU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f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…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 for virtual node with k child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ach virtual node is simulated by one or more machin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Total users logged in th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ttribute: numUser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ggregation Function: Summation 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5770440" y="1674720"/>
            <a:ext cx="223920" cy="2444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91200" y="2260440"/>
            <a:ext cx="506160" cy="339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24720" y="1090440"/>
            <a:ext cx="223920" cy="2448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19920" y="2252520"/>
            <a:ext cx="506160" cy="339840"/>
          </a:xfrm>
          <a:prstGeom prst="rect">
            <a:avLst/>
          </a:prstGeom>
          <a:ln w="0">
            <a:noFill/>
          </a:ln>
        </p:spPr>
      </p:pic>
      <p:cxnSp>
        <p:nvCxnSpPr>
          <p:cNvPr id="64" name=""/>
          <p:cNvCxnSpPr>
            <a:stCxn id="61" idx="0"/>
            <a:endCxn id="60" idx="3"/>
          </p:cNvCxnSpPr>
          <p:nvPr/>
        </p:nvCxnSpPr>
        <p:spPr>
          <a:xfrm flipV="1">
            <a:off x="5444640" y="1895040"/>
            <a:ext cx="359640" cy="36576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5" name=""/>
          <p:cNvCxnSpPr>
            <a:stCxn id="63" idx="0"/>
            <a:endCxn id="60" idx="5"/>
          </p:cNvCxnSpPr>
          <p:nvPr/>
        </p:nvCxnSpPr>
        <p:spPr>
          <a:xfrm flipH="1" flipV="1">
            <a:off x="5962320" y="1895040"/>
            <a:ext cx="310320" cy="3578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6" name=""/>
          <p:cNvCxnSpPr>
            <a:stCxn id="60" idx="7"/>
            <a:endCxn id="62" idx="3"/>
          </p:cNvCxnSpPr>
          <p:nvPr/>
        </p:nvCxnSpPr>
        <p:spPr>
          <a:xfrm flipV="1">
            <a:off x="5962320" y="1310760"/>
            <a:ext cx="694440" cy="38808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7459560" y="1682640"/>
            <a:ext cx="223920" cy="2444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80320" y="2268360"/>
            <a:ext cx="506160" cy="33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709040" y="2260440"/>
            <a:ext cx="506160" cy="339840"/>
          </a:xfrm>
          <a:prstGeom prst="rect">
            <a:avLst/>
          </a:prstGeom>
          <a:ln w="0">
            <a:noFill/>
          </a:ln>
        </p:spPr>
      </p:pic>
      <p:cxnSp>
        <p:nvCxnSpPr>
          <p:cNvPr id="70" name=""/>
          <p:cNvCxnSpPr>
            <a:stCxn id="68" idx="0"/>
            <a:endCxn id="67" idx="3"/>
          </p:cNvCxnSpPr>
          <p:nvPr/>
        </p:nvCxnSpPr>
        <p:spPr>
          <a:xfrm flipV="1">
            <a:off x="7133760" y="1902960"/>
            <a:ext cx="359640" cy="36576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71" name=""/>
          <p:cNvCxnSpPr>
            <a:stCxn id="69" idx="0"/>
            <a:endCxn id="67" idx="5"/>
          </p:cNvCxnSpPr>
          <p:nvPr/>
        </p:nvCxnSpPr>
        <p:spPr>
          <a:xfrm flipH="1" flipV="1">
            <a:off x="7651440" y="1902960"/>
            <a:ext cx="310320" cy="3578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72" name=""/>
          <p:cNvCxnSpPr>
            <a:stCxn id="67" idx="1"/>
            <a:endCxn id="62" idx="5"/>
          </p:cNvCxnSpPr>
          <p:nvPr/>
        </p:nvCxnSpPr>
        <p:spPr>
          <a:xfrm flipH="1" flipV="1">
            <a:off x="6815880" y="1310760"/>
            <a:ext cx="677160" cy="3960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5127480" y="2575080"/>
            <a:ext cx="5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53040" y="2568600"/>
            <a:ext cx="6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50160" y="2548080"/>
            <a:ext cx="5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00840" y="2546280"/>
            <a:ext cx="5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86760" y="2219400"/>
            <a:ext cx="58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37440" y="1566720"/>
            <a:ext cx="58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20160" y="974880"/>
            <a:ext cx="58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67160" y="1347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(a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35800" y="13590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(c,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42000" y="736560"/>
            <a:ext cx="23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(f(a,b), f(c,d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72040" y="25876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51600" y="257328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15240" y="257508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7960" y="256068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3320" y="137628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5240" y="13701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08800" y="76212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6960" y="760320"/>
            <a:ext cx="49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trolabe [VanRenesse et al TOCS’0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F40-4D5F-4CA2-9437-F4A035499D5B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utline 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IMS: a distributed operating system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ion abs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sign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Prototyp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Simulation and experimental result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AC2-783C-4813-8D54-6A4C815BA5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calability with nodes and attributes 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200" y="965160"/>
            <a:ext cx="78980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be a basic building block, SDIMS should sup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Large number of machin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terprise and global-scale servi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end: Large number of small devi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Applications with a large number of attribut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 File location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file is an attribu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rge number of attribu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llenges: build aggregation trees in a scalable 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Build multiple trees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gle tree for all attribut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load imbal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Ensure small number of children per node in the tree</a:t>
            </a:r>
            <a:endParaRPr b="0" lang="en-US" sz="20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uces maximum node str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60F-87BE-4276-9FA8-6B12243F31D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Building aggregation trees: Exploit DHT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3200" y="990360"/>
            <a:ext cx="777240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HT can be viewed as multiple aggregation tr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Hash Tables (DH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Each node assigned an ID from large space (160-bit)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For each prefix (k), each node has a link to another node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ching k bi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matching on the k+1 b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Each key from ID space mapped to a node with closest ID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Routing for a key: Bit correction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ample: from 0101 for key 10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10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0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10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Lots of different algorithms with different properties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stry, Tapestry, CAN, CHORD, SkipNet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ad-balancing, robustness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HT can be viewed as a mesh of tr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Routes from all nodes to a particular key form a tree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Different trees for different keys</a:t>
            </a:r>
            <a:endParaRPr b="0" lang="en-US" sz="1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C61-9CCD-496D-8E99-461FEB87C29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DHT trees as aggregation trees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 1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809800" y="5911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52840" y="5937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7760" y="4898880"/>
            <a:ext cx="354240" cy="33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63680" y="5546880"/>
            <a:ext cx="353880" cy="3394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46920" y="3287880"/>
            <a:ext cx="353880" cy="33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60840" y="4138560"/>
            <a:ext cx="353880" cy="33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9000" y="5938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81560" y="5956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5680" y="5913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8640" y="597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6440" y="5956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5956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4" idx="7"/>
            <a:endCxn id="103" idx="3"/>
          </p:cNvCxnSpPr>
          <p:nvPr/>
        </p:nvCxnSpPr>
        <p:spPr>
          <a:xfrm flipV="1">
            <a:off x="3962160" y="3592440"/>
            <a:ext cx="3037320" cy="5814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2" idx="7"/>
            <a:endCxn id="101" idx="3"/>
          </p:cNvCxnSpPr>
          <p:nvPr/>
        </p:nvCxnSpPr>
        <p:spPr>
          <a:xfrm flipV="1">
            <a:off x="1665360" y="5203440"/>
            <a:ext cx="535680" cy="378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7"/>
            <a:endCxn id="104" idx="3"/>
          </p:cNvCxnSpPr>
          <p:nvPr/>
        </p:nvCxnSpPr>
        <p:spPr>
          <a:xfrm flipV="1">
            <a:off x="2449440" y="4443120"/>
            <a:ext cx="1264320" cy="49104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125800" y="5549760"/>
            <a:ext cx="35388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0"/>
            <a:endCxn id="101" idx="4"/>
          </p:cNvCxnSpPr>
          <p:nvPr/>
        </p:nvCxnSpPr>
        <p:spPr>
          <a:xfrm flipV="1">
            <a:off x="2303280" y="5252400"/>
            <a:ext cx="22680" cy="28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3665520" y="4915080"/>
            <a:ext cx="353880" cy="33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14560" y="5560920"/>
            <a:ext cx="35424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7"/>
            <a:endCxn id="116" idx="3"/>
          </p:cNvCxnSpPr>
          <p:nvPr/>
        </p:nvCxnSpPr>
        <p:spPr>
          <a:xfrm flipV="1">
            <a:off x="3216240" y="5218920"/>
            <a:ext cx="502560" cy="376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76680" y="5564160"/>
            <a:ext cx="35388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0"/>
            <a:endCxn id="116" idx="4"/>
          </p:cNvCxnSpPr>
          <p:nvPr/>
        </p:nvCxnSpPr>
        <p:spPr>
          <a:xfrm flipH="1" flipV="1">
            <a:off x="3842640" y="5268600"/>
            <a:ext cx="11880" cy="281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6" idx="0"/>
            <a:endCxn id="104" idx="4"/>
          </p:cNvCxnSpPr>
          <p:nvPr/>
        </p:nvCxnSpPr>
        <p:spPr>
          <a:xfrm flipH="1" flipV="1">
            <a:off x="3837960" y="4492080"/>
            <a:ext cx="5400" cy="40860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372280" y="4910040"/>
            <a:ext cx="353880" cy="33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9520" y="5573880"/>
            <a:ext cx="354240" cy="3394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67440" y="4149720"/>
            <a:ext cx="354240" cy="33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7"/>
            <a:endCxn id="122" idx="3"/>
          </p:cNvCxnSpPr>
          <p:nvPr/>
        </p:nvCxnSpPr>
        <p:spPr>
          <a:xfrm flipV="1">
            <a:off x="4921200" y="5214600"/>
            <a:ext cx="504000" cy="3945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2" idx="7"/>
            <a:endCxn id="124" idx="3"/>
          </p:cNvCxnSpPr>
          <p:nvPr/>
        </p:nvCxnSpPr>
        <p:spPr>
          <a:xfrm flipV="1">
            <a:off x="5673600" y="4454280"/>
            <a:ext cx="1347120" cy="49104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381640" y="5576760"/>
            <a:ext cx="35388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0"/>
            <a:endCxn id="122" idx="4"/>
          </p:cNvCxnSpPr>
          <p:nvPr/>
        </p:nvCxnSpPr>
        <p:spPr>
          <a:xfrm flipH="1" flipV="1">
            <a:off x="5549040" y="5263560"/>
            <a:ext cx="10440" cy="29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72480" y="4908600"/>
            <a:ext cx="353880" cy="33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0760" y="5587920"/>
            <a:ext cx="35388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7"/>
            <a:endCxn id="129" idx="3"/>
          </p:cNvCxnSpPr>
          <p:nvPr/>
        </p:nvCxnSpPr>
        <p:spPr>
          <a:xfrm flipV="1">
            <a:off x="6471720" y="5212800"/>
            <a:ext cx="553320" cy="410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948360" y="5591160"/>
            <a:ext cx="354240" cy="3398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0"/>
            <a:endCxn id="129" idx="4"/>
          </p:cNvCxnSpPr>
          <p:nvPr/>
        </p:nvCxnSpPr>
        <p:spPr>
          <a:xfrm flipV="1">
            <a:off x="7126200" y="5261760"/>
            <a:ext cx="24480" cy="315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0"/>
            <a:endCxn id="124" idx="4"/>
          </p:cNvCxnSpPr>
          <p:nvPr/>
        </p:nvCxnSpPr>
        <p:spPr>
          <a:xfrm flipH="1" flipV="1">
            <a:off x="7144560" y="4502880"/>
            <a:ext cx="5400" cy="391320"/>
          </a:xfrm>
          <a:prstGeom prst="straightConnector1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4" idx="0"/>
          </p:cNvCxnSpPr>
          <p:nvPr/>
        </p:nvCxnSpPr>
        <p:spPr>
          <a:xfrm flipH="1" flipV="1">
            <a:off x="7133400" y="3656880"/>
            <a:ext cx="11880" cy="47844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7591320" y="48657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02480" y="412128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1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99240" y="330840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555-1BED-40BF-9D55-D3DFA9CE23B3}" type="slidenum">
              <a:t>9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8T19:07:15Z</dcterms:created>
  <dc:creator>Valued Sony Customer</dc:creator>
  <dc:description/>
  <dc:language>en-US</dc:language>
  <cp:lastModifiedBy>Mike Dahlin</cp:lastModifiedBy>
  <dcterms:modified xsi:type="dcterms:W3CDTF">2004-09-09T14:36:50Z</dcterms:modified>
  <cp:revision>1329</cp:revision>
  <dc:subject/>
  <dc:title>No Slide Title</dc:title>
</cp:coreProperties>
</file>