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260-8BDB-4AAB-9F30-D648A82F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126-A2DD-4920-B1AC-8FE4B12C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6B3-CA04-414C-B330-A9E5B2D3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7E5-C437-42DC-9607-8E9BA708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117-5569-4EB1-A2F3-A1E4EF4B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0EDE-1423-4519-9460-E36C7289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A45-D353-4A27-B012-FE7BDA91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3368-FED9-4217-B144-D0AC7650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913-7D2C-4EF1-8EB1-964A9884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5A8-D10E-48F6-ABE2-8AF55F10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A17-CD84-450C-899C-C266700C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B1E-700C-4490-8C93-B95E3E1C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4CDA-2ADE-46DB-8E46-60557A38B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iveness of Using Interactive Technology in a Programming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yamal Mi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Computer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Texas at Au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CPS is positive – engages all students in the class and provides them with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st help to students who had done their reading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CPS performance add a small fraction of CPS scores to final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ul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is an effective tool for engaging students but has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nsu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deal with open-end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ssess ability to writ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based on this study in Frontiers of Education Conference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ie.engrng.pitt.edu/fie2005/index.h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Learning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03E introductory programming course in Java for non-CS maj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course for the Elements of Computing Certif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section in the CS department with the highest drop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rop view programming as too challe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Learning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learn better if they are lead through a series of activities that challeng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perse lecture with multiple choic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lassroom Performance System (CPS) to provide assess students’ responses and provid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ors in this Stud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yamal Mitra – 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o Lopez - 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wn Zimmaro – 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 Johnson – 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rie Schulman - 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Methodology -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03E course Summer 2004 involved 44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Survey – pre and post course survey using MSLQ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self assessment questions at the beginning and end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room Performance System (C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Methodology -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ute Paper at the end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room obser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on final exam – questions coded as CPS or non-CP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-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observ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more att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decrease in the Motivation and Self-Efficacy sc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less confident in their abilities at the end of the sem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S was helpful if a detailed explanation of answer is also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-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ute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S helped students who had already read through the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core was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Exam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ignificant correlation between CPS and Final exam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23:12:42Z</dcterms:created>
  <dc:creator>Shyamal Mitra</dc:creator>
  <dc:description/>
  <dc:language>en-US</dc:language>
  <cp:lastModifiedBy>Shyamal Mitra</cp:lastModifiedBy>
  <dcterms:modified xsi:type="dcterms:W3CDTF">2006-03-22T00:18:49Z</dcterms:modified>
  <cp:revision>7</cp:revision>
  <dc:subject/>
  <dc:title>Effectiveness of Using Interactive Technology in a Programming Course</dc:title>
</cp:coreProperties>
</file>