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D95-9DB0-465B-A2A8-0A16C5D8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F55-81E4-4F99-8DE7-88DC33C4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BBA-23FF-421D-9B12-29A4F7E5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8F4-2314-4423-A75A-1578288E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98F-F5F9-48C4-B388-5583A5EF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BEA-CF38-48D6-80CB-CFA6B085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E6F-D955-4DBD-B189-D93BD180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2AA-D9D0-44B8-A3BB-736C69D4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30B-E9B2-4196-BC35-3E57755A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A55-3DB5-432B-9959-FC907DE4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B23-C146-4F2F-989C-E3796F8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4CB-E468-4FD0-B343-5EE1F60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5482-9EC3-4F32-B1E5-801D3612A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ness of Using Interactive Technology in a Programming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yamal Mi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PS is positive – engages all students in the class and provides them with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help to students who had done their reading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CPS performance add a small fraction of CPS scores to final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l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is an effective tool for engaging students but has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deal with open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ssess ability to writ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based on this study in Frontiers of Education Conference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ie.engrng.pitt.edu/fie2005/index.h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03E introductory programming course in Java for non-CS maj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course for the Elements of Computing Certif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section in the CS department with the highest drop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rop view programming as too 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earn better if they are lead through a series of activities that challeng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perse lecture with multiple choic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assroom Performance System (CPS) to provide assess students’ responses and provid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ors in this Stud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yamal Mitra – 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o Lopez - 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n Zimmaro –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Johnson –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rie Schulman - 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Methodology -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03E course Summer 2004 involved 44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Survey – pre and post course survey using MSLQ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elf assessment questions at the beginning and end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Performance System (C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Methodology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 Paper at the end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ob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on final exam – questions coded as CPS or non-CP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-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observ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decrease in the Motivation and Self-Efficacy sc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less confident in their abilities at the end of the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was helpful if a detailed explanation of answer is also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S helped students who had already read through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core was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ignificant correlation between CPS and Final exa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23:12:42Z</dcterms:created>
  <dc:creator>Shyamal Mitra</dc:creator>
  <dc:description/>
  <dc:language>en-US</dc:language>
  <cp:lastModifiedBy>Shyamal Mitra</cp:lastModifiedBy>
  <dcterms:modified xsi:type="dcterms:W3CDTF">2006-03-22T00:18:49Z</dcterms:modified>
  <cp:revision>7</cp:revision>
  <dc:subject/>
  <dc:title>Effectiveness of Using Interactive Technology in a Programming Course</dc:title>
</cp:coreProperties>
</file>