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ccuracy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9296</c:v>
                </c:pt>
                <c:pt idx="1">
                  <c:v>0.51</c:v>
                </c:pt>
                <c:pt idx="2">
                  <c:v>0.57</c:v>
                </c:pt>
                <c:pt idx="3">
                  <c:v>0.8242</c:v>
                </c:pt>
                <c:pt idx="4">
                  <c:v>0.9609</c:v>
                </c:pt>
                <c:pt idx="5">
                  <c:v>1</c:v>
                </c:pt>
              </c:numCache>
            </c:numRef>
          </c:val>
        </c:ser>
        <c:gapWidth val="100"/>
        <c:overlap val="0"/>
        <c:axId val="12547592"/>
        <c:axId val="59464220"/>
      </c:barChart>
      <c:catAx>
        <c:axId val="12547592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4220"/>
        <c:crosses val="autoZero"/>
        <c:auto val="1"/>
        <c:lblAlgn val="ctr"/>
        <c:lblOffset val="100"/>
        <c:noMultiLvlLbl val="0"/>
      </c:catAx>
      <c:valAx>
        <c:axId val="59464220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47592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ccuracy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56</c:v>
                </c:pt>
                <c:pt idx="1">
                  <c:v>0.68</c:v>
                </c:pt>
                <c:pt idx="2">
                  <c:v>0.68</c:v>
                </c:pt>
                <c:pt idx="3">
                  <c:v>0.68</c:v>
                </c:pt>
                <c:pt idx="4">
                  <c:v>0.76</c:v>
                </c:pt>
                <c:pt idx="5">
                  <c:v>0.76</c:v>
                </c:pt>
              </c:numCache>
            </c:numRef>
          </c:val>
        </c:ser>
        <c:gapWidth val="100"/>
        <c:overlap val="0"/>
        <c:axId val="19238414"/>
        <c:axId val="16457584"/>
      </c:barChart>
      <c:catAx>
        <c:axId val="1923841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57584"/>
        <c:crosses val="autoZero"/>
        <c:auto val="1"/>
        <c:lblAlgn val="ctr"/>
        <c:lblOffset val="100"/>
        <c:noMultiLvlLbl val="0"/>
      </c:catAx>
      <c:valAx>
        <c:axId val="16457584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8414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old parses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48</c:v>
                </c:pt>
                <c:pt idx="1">
                  <c:v>0.5</c:v>
                </c:pt>
                <c:pt idx="2">
                  <c:v>0.435</c:v>
                </c:pt>
                <c:pt idx="3">
                  <c:v>0.63</c:v>
                </c:pt>
                <c:pt idx="4">
                  <c:v>1</c:v>
                </c:pt>
                <c:pt idx="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tandard parses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48</c:v>
                </c:pt>
                <c:pt idx="1">
                  <c:v>0.44</c:v>
                </c:pt>
                <c:pt idx="2">
                  <c:v>0.37</c:v>
                </c:pt>
                <c:pt idx="3">
                  <c:v>0.5</c:v>
                </c:pt>
                <c:pt idx="4">
                  <c:v>0.85</c:v>
                </c:pt>
                <c:pt idx="5">
                  <c:v>0.85</c:v>
                </c:pt>
              </c:numCache>
            </c:numRef>
          </c:val>
        </c:ser>
        <c:gapWidth val="100"/>
        <c:overlap val="0"/>
        <c:axId val="69661993"/>
        <c:axId val="79343229"/>
      </c:barChart>
      <c:catAx>
        <c:axId val="6966199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3229"/>
        <c:crosses val="autoZero"/>
        <c:auto val="1"/>
        <c:lblAlgn val="ctr"/>
        <c:lblOffset val="100"/>
        <c:noMultiLvlLbl val="0"/>
      </c:catAx>
      <c:valAx>
        <c:axId val="79343229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1993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9120" y="693360"/>
            <a:ext cx="448308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2"/>
          </p:nvPr>
        </p:nvSpPr>
        <p:spPr>
          <a:xfrm>
            <a:off x="3881520" y="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66304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1520" y="866304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22A00-5A61-4525-8B8E-EEED26BBEF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3438A-753C-4D35-A7C4-F96317974B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AB5B2-3151-4A68-AD54-C8DA28EABF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C3EEE-6AB3-4607-B07F-FE4AEB74568A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Treatment of Quantification in Ordinary English”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Montague, 197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30800"/>
            <a:ext cx="54450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constants to avoid empty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80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V - 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80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V - 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29B3-E540-4FF7-84DE-72D2C0F2D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3317-E54F-46DA-888E-3E7A8A437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8098-05F9-427D-ABBB-847436B63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8A3D-7BD3-4BBD-A4E9-757365C98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51E4-D189-4D1C-8DB8-3095DF28A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BF03-B92C-42C8-BD66-6B48B95BA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DF48-8492-49B3-A4B4-746C830B7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4B46-B3F8-4930-BECC-ED92222C5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2462-59DF-41AE-81E5-7E91619E6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EB74-6B4A-45C5-8D9D-8337397E3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77EF-69EE-497B-8EB6-8BF946AE1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02C3-003A-4EED-9596-D967FC40F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563D8-01B8-4A7A-9D31-AF0D69D087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n the Proper Treatment of Quantifiers in Probabilistic Logic Semantic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327924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eltagy and Katrin 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CS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158C-CC6A-44C8-AB22-37B5729168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E requires deep semantic understanding [Dagan et al., 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sentences Text (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ypothesis (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ing if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tails, Contradicts or not related (Neutral) to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F830-A3C3-43CC-B748-45B8F3913E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(from the SICK datase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arelli et al., 201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ail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walking through the w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walking through a wooded are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radi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jumping into an empty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jumping into a full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young girl is danc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young girl is standing on one le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BEE19-2382-407D-AC74-A5FB19CCB6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 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sentences to logic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Bos 20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John is driving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John is driving a veh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vehicle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ollected from difference 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ca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vehicle(x) |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 Math"/>
              </a:rPr>
              <a:t>P(H|T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F60F-C103-4714-BC8E-219E4BDFB9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1C2AD-5B05-4CEE-B0C7-2A0A8408B1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objects in the world other than the named constant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ite 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3338-9EEF-4C3F-9878-27E2F20673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28880" y="3929040"/>
            <a:ext cx="7124040" cy="2471400"/>
            <a:chOff x="1028880" y="3929040"/>
            <a:chExt cx="7124040" cy="2471400"/>
          </a:xfrm>
        </p:grpSpPr>
        <p:sp>
          <p:nvSpPr>
            <p:cNvPr id="169" name=""/>
            <p:cNvSpPr/>
            <p:nvPr/>
          </p:nvSpPr>
          <p:spPr>
            <a:xfrm>
              <a:off x="1973520" y="5746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r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7040" y="4801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okes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8880" y="4801320"/>
              <a:ext cx="152640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A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63880" y="5891760"/>
              <a:ext cx="16718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B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81600" y="4801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okes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0"/>
              <a:endCxn id="170" idx="4"/>
            </p:cNvCxnSpPr>
            <p:nvPr/>
          </p:nvCxnSpPr>
          <p:spPr>
            <a:xfrm flipH="1" flipV="1">
              <a:off x="3790800" y="5309640"/>
              <a:ext cx="909360" cy="5821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5" name=""/>
            <p:cNvCxnSpPr>
              <a:stCxn id="170" idx="6"/>
              <a:endCxn id="173" idx="2"/>
            </p:cNvCxnSpPr>
            <p:nvPr/>
          </p:nvCxnSpPr>
          <p:spPr>
            <a:xfrm>
              <a:off x="4444920" y="5055840"/>
              <a:ext cx="43668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6" name=""/>
            <p:cNvCxnSpPr>
              <a:stCxn id="173" idx="4"/>
              <a:endCxn id="172" idx="0"/>
            </p:cNvCxnSpPr>
            <p:nvPr/>
          </p:nvCxnSpPr>
          <p:spPr>
            <a:xfrm flipH="1">
              <a:off x="4699440" y="5310000"/>
              <a:ext cx="836640" cy="5821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7" name=""/>
            <p:cNvCxnSpPr>
              <a:stCxn id="170" idx="3"/>
              <a:endCxn id="169" idx="7"/>
            </p:cNvCxnSpPr>
            <p:nvPr/>
          </p:nvCxnSpPr>
          <p:spPr>
            <a:xfrm flipH="1">
              <a:off x="3089520" y="5235480"/>
              <a:ext cx="238320" cy="5864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78" name=""/>
            <p:cNvCxnSpPr>
              <a:stCxn id="171" idx="6"/>
              <a:endCxn id="170" idx="2"/>
            </p:cNvCxnSpPr>
            <p:nvPr/>
          </p:nvCxnSpPr>
          <p:spPr>
            <a:xfrm>
              <a:off x="2554920" y="5055840"/>
              <a:ext cx="58212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3899880" y="3929040"/>
              <a:ext cx="159948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4"/>
              <a:endCxn id="170" idx="0"/>
            </p:cNvCxnSpPr>
            <p:nvPr/>
          </p:nvCxnSpPr>
          <p:spPr>
            <a:xfrm flipH="1">
              <a:off x="3790800" y="4437360"/>
              <a:ext cx="909360" cy="3639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81" name=""/>
            <p:cNvCxnSpPr>
              <a:stCxn id="173" idx="0"/>
              <a:endCxn id="179" idx="4"/>
            </p:cNvCxnSpPr>
            <p:nvPr/>
          </p:nvCxnSpPr>
          <p:spPr>
            <a:xfrm flipH="1" flipV="1">
              <a:off x="4699440" y="4437000"/>
              <a:ext cx="836640" cy="3639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6117480" y="5746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r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6520" y="4801320"/>
              <a:ext cx="152640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B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73" idx="5"/>
              <a:endCxn id="182" idx="1"/>
            </p:cNvCxnSpPr>
            <p:nvPr/>
          </p:nvCxnSpPr>
          <p:spPr>
            <a:xfrm>
              <a:off x="5997960" y="5235480"/>
              <a:ext cx="311040" cy="5864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85" name=""/>
            <p:cNvCxnSpPr>
              <a:stCxn id="183" idx="2"/>
              <a:endCxn id="173" idx="6"/>
            </p:cNvCxnSpPr>
            <p:nvPr/>
          </p:nvCxnSpPr>
          <p:spPr>
            <a:xfrm flipH="1">
              <a:off x="6189480" y="5055840"/>
              <a:ext cx="43668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 flipV="1">
              <a:off x="4408560" y="5144760"/>
              <a:ext cx="495720" cy="360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67816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638320" y="39625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72200" y="41148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46712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429000"/>
            <a:ext cx="4495680" cy="457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objects in the universe other than the named constants (Finite Doma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 need to be explicit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quantifiers do not behave as expected because of finit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“Tweety is a bird and it flies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All birds 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14400" y="4083120"/>
          <a:ext cx="6934320" cy="193680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297180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H|T,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le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s in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271A-3F0F-4022-A63C-A9EB8C5846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70E5-6996-4744-AA22-206D74CCC6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kolemization (  </a:t>
            </a:r>
            <a:r>
              <a:rPr b="1" lang="en-US" sz="3200" spc="-1" strike="noStrike">
                <a:solidFill>
                  <a:srgbClr val="000080"/>
                </a:solidFill>
                <a:latin typeface="Symbol"/>
                <a:ea typeface="Symbol"/>
              </a:rPr>
              <a:t>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ly introducing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ole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john(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T, 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exis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.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lemized T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skolem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1, C1),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2, C2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921F-2FA4-493A-B0B3-D13D33E78E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EDEE2-2790-45CD-8620-8AC57F8CC6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gic-based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order logic and theorem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semantic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on, Quantifiers, Conjunction, Disjunction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4CF7-502D-426D-94D1-61F542B250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xistence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All birds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Some birds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,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⇏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pragmatically it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presupposes that “there exist bir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simulate this existential presup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arse tree,  Q(restrictor,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becomes: all(bird, f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dditional evidence for the restrictor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F0B94-7F01-47F2-BA45-49A41B807E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xistence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ed Exis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No bird flies =  no (bird, f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evidence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There are no bird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al evidence because the exis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licitly neg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4640A-2D8B-46ED-A500-687EEFD58B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77956-455E-4206-84B4-228498FB64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Universals in Hypothesis 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H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Tweety is a bird, and Tweety f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bird(Twee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Twee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 fly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All birds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 because universal quantifiers work only on the constants of the giv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t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Existence, add evidence for the restrictor: 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bird(Wo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new bird can be shown to fly, then there is an explicit universal quantification i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87CB-0BC2-4D9A-BD46-EDCD66DBBA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F59EF-47B3-4C7B-97ED-923349DAE6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that everything (all ground atoms) have ver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 p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WA fits the RTE tas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orld, most things a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results are less sensitive to the dom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ference optimization [Beltagy and Mooney, 201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1E136-FD9A-4480-A7E5-AB22F060A3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CWA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s true regardless of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ositive evidence that contradicts the negated parts of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round atoms with high prior probability (in contrast with low prior probability on all other ground ato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R: bird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F)  | w=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 CW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R, CW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5B3B-7911-4865-8129-F266C22509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ailing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o bird fl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No penguin flie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pengui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enguin(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F, 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F)  | w=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pengui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bird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H|T, R, K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dicts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ts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A0A57-79EB-4C29-BE78-C9926F6E3F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68A1D-0320-48FF-8B4B-78AAFD03E3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CD8F0-F6EE-465E-85D3-2E77AFB7CC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Framework: Markov Log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andling of DCA and CWA applies to other Probabilistic Logic frameworks that make similar assumptions, e.g, PSL (Probabilistic Soft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Task: 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andling of DCA and CWA applies to other tasks where the logical formulas have existential and universal quantifiers, e.g, STS (Textual Similarity) and Question Ans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ing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rating of Word Sense Disambig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of Paraphrase 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al similarity values [Beltagy et al.,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ddler |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do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ying with a toy |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84DC6-7106-4C04-B406-D7EA01A14B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A7CF1-9197-42E8-9EAC-F7CC52B0A8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: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V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No man eats all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Some hungry men eat not all deliciou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586728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6C960-7856-41A6-9948-F72DEDE149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2214720"/>
          <a:ext cx="7848360" cy="4414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2" name=""/>
          <p:cNvSpPr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Synthet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size: 952 Neutral + 72 Entail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EE1E-74A0-498F-A36F-F86C6167CF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etection of Contradi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: P(H| T, KB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,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diction: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| T, KB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6765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274320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946680"/>
            <a:ext cx="2971800" cy="13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ld config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m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2133720"/>
            <a:ext cx="3429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02080" y="3187800"/>
            <a:ext cx="2819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7D189-84C2-4BA1-B4A4-8705FE4B37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Sentences Involving Compositional Knowledge (SICK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arelli et al., SemEval 201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pairs of sentences annotated as Entail, Contradict or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62120" y="2281320"/>
          <a:ext cx="800100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54ACE-C60A-4445-9FB3-FE11BFB995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FraC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oper et al., 1996]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built entailments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valuate of the first section (out of 9 s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upported quantifiers (few, most, many, at least)  (28/74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62120" y="2293920"/>
          <a:ext cx="8113680" cy="4564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8F9C-CC06-489C-8EAD-A32B05EFC4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Quant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xtend this work to generalized quantifiers lik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8D8F9-DDD5-4893-9150-06A4EACE43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E767-C665-4E58-9E20-9CD4324186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, its implication on the probabilistic logic inferences, and how to formulate the RTE problem in a way that we get the expected 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, why we make that assumption, and what its effect on the negation, and how to formulate the RTE problem to get correct in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770120"/>
            <a:ext cx="9144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0EF17-05FC-4406-A5DC-0E6298AC7A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ers and Negations do not work a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: finit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ntif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ty is a bird and it flies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All birds 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: low prior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The sky is not blu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1E46-765F-4A7D-884F-EDF850E921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 (ML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extual Entailment (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9F0D-0B17-4A34-B3FE-5592B5942A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3934-C70F-47A4-8492-203D693459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8D10B-AE3A-41FB-9D69-4C283B1B5D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s that combine logical and statistical knowledge [Nilsson, 1986], [Getoor and Taskar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eighted first-order logi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ed rul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les (compared to hard logical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mechanism for probabilistic inference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yesian Logic Programs (BLP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ersting &amp; De Raedt,  20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ov Logic Network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L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Richardson and Domingos, 200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Soft Logic (PS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immig et al., NIPS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620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813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3480" y="518148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01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0"/>
            <a:endCxn id="116" idx="4"/>
          </p:cNvCxnSpPr>
          <p:nvPr/>
        </p:nvCxnSpPr>
        <p:spPr>
          <a:xfrm flipH="1" flipV="1">
            <a:off x="3466800" y="4571280"/>
            <a:ext cx="95328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1" name=""/>
          <p:cNvCxnSpPr>
            <a:stCxn id="116" idx="6"/>
            <a:endCxn id="119" idx="2"/>
          </p:cNvCxnSpPr>
          <p:nvPr/>
        </p:nvCxnSpPr>
        <p:spPr>
          <a:xfrm>
            <a:off x="415296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2" name=""/>
          <p:cNvCxnSpPr>
            <a:stCxn id="119" idx="4"/>
            <a:endCxn id="118" idx="0"/>
          </p:cNvCxnSpPr>
          <p:nvPr/>
        </p:nvCxnSpPr>
        <p:spPr>
          <a:xfrm flipH="1">
            <a:off x="4419360" y="4571640"/>
            <a:ext cx="87696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3" name=""/>
          <p:cNvCxnSpPr>
            <a:stCxn id="116" idx="3"/>
            <a:endCxn id="115" idx="7"/>
          </p:cNvCxnSpPr>
          <p:nvPr/>
        </p:nvCxnSpPr>
        <p:spPr>
          <a:xfrm flipH="1">
            <a:off x="2731680" y="4494240"/>
            <a:ext cx="24984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24" name=""/>
          <p:cNvCxnSpPr>
            <a:stCxn id="117" idx="6"/>
            <a:endCxn id="116" idx="2"/>
          </p:cNvCxnSpPr>
          <p:nvPr/>
        </p:nvCxnSpPr>
        <p:spPr>
          <a:xfrm>
            <a:off x="2171520" y="430488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581280" y="312408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4"/>
            <a:endCxn id="116" idx="0"/>
          </p:cNvCxnSpPr>
          <p:nvPr/>
        </p:nvCxnSpPr>
        <p:spPr>
          <a:xfrm flipH="1">
            <a:off x="3466800" y="3657600"/>
            <a:ext cx="95328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7" name=""/>
          <p:cNvCxnSpPr>
            <a:stCxn id="119" idx="0"/>
            <a:endCxn id="125" idx="4"/>
          </p:cNvCxnSpPr>
          <p:nvPr/>
        </p:nvCxnSpPr>
        <p:spPr>
          <a:xfrm flipH="1" flipV="1">
            <a:off x="4419360" y="3657240"/>
            <a:ext cx="87696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9054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3896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19" idx="5"/>
            <a:endCxn id="128" idx="1"/>
          </p:cNvCxnSpPr>
          <p:nvPr/>
        </p:nvCxnSpPr>
        <p:spPr>
          <a:xfrm>
            <a:off x="5780160" y="4494240"/>
            <a:ext cx="32616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31" name=""/>
          <p:cNvCxnSpPr>
            <a:stCxn id="129" idx="2"/>
            <a:endCxn id="119" idx="6"/>
          </p:cNvCxnSpPr>
          <p:nvPr/>
        </p:nvCxnSpPr>
        <p:spPr>
          <a:xfrm flipH="1">
            <a:off x="598140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7772400" y="16765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05596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 flipV="1">
            <a:off x="4114800" y="4398120"/>
            <a:ext cx="519840" cy="396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C83FE-8754-4142-9109-6BEE27F09D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calculate probability of atoms given evidenc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37160" y="2565360"/>
            <a:ext cx="1031760" cy="8604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19520" y="2650680"/>
            <a:ext cx="685800" cy="717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B7CA-62CA-4663-B418-BEFBF5306E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8" idx="3"/>
          </p:cNvCxnSpPr>
          <p:nvPr/>
        </p:nvCxnSpPr>
        <p:spPr>
          <a:xfrm flipV="1">
            <a:off x="1828800" y="2557080"/>
            <a:ext cx="589680" cy="2325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69920" y="2468520"/>
            <a:ext cx="16588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75160" y="2650680"/>
            <a:ext cx="685800" cy="717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bil</cp:lastModifiedBy>
  <dcterms:modified xsi:type="dcterms:W3CDTF">2015-04-22T23:37:52Z</dcterms:modified>
  <cp:revision>1342</cp:revision>
  <dc:subject/>
  <dc:title>Intelligent Information Retrieval and Web Search</dc:title>
</cp:coreProperties>
</file>