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Accuracy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Baseline</c:v>
                </c:pt>
                <c:pt idx="1">
                  <c:v>Skolem</c:v>
                </c:pt>
                <c:pt idx="2">
                  <c:v>Skolem + Existence</c:v>
                </c:pt>
                <c:pt idx="3">
                  <c:v>Skolem + Univ in H</c:v>
                </c:pt>
                <c:pt idx="4">
                  <c:v>Skolem + Univ in H + CWA</c:v>
                </c:pt>
                <c:pt idx="5">
                  <c:v>Al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0.9296</c:v>
                </c:pt>
                <c:pt idx="1">
                  <c:v>0.51</c:v>
                </c:pt>
                <c:pt idx="2">
                  <c:v>0.57</c:v>
                </c:pt>
                <c:pt idx="3">
                  <c:v>0.8242</c:v>
                </c:pt>
                <c:pt idx="4">
                  <c:v>0.9609</c:v>
                </c:pt>
                <c:pt idx="5">
                  <c:v>1</c:v>
                </c:pt>
              </c:numCache>
            </c:numRef>
          </c:val>
        </c:ser>
        <c:gapWidth val="100"/>
        <c:overlap val="0"/>
        <c:axId val="53357239"/>
        <c:axId val="52618939"/>
      </c:barChart>
      <c:catAx>
        <c:axId val="53357239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18939"/>
        <c:crosses val="autoZero"/>
        <c:auto val="1"/>
        <c:lblAlgn val="ctr"/>
        <c:lblOffset val="100"/>
        <c:noMultiLvlLbl val="0"/>
      </c:catAx>
      <c:valAx>
        <c:axId val="52618939"/>
        <c:scaling>
          <c:orientation val="minMax"/>
          <c:max val="1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57239"/>
        <c:crossesAt val="1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Accuracy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Baseline</c:v>
                </c:pt>
                <c:pt idx="1">
                  <c:v>Skolem</c:v>
                </c:pt>
                <c:pt idx="2">
                  <c:v>Skolem + Existence</c:v>
                </c:pt>
                <c:pt idx="3">
                  <c:v>Skolem + Univ in H</c:v>
                </c:pt>
                <c:pt idx="4">
                  <c:v>Skolem + Univ in H + CWA</c:v>
                </c:pt>
                <c:pt idx="5">
                  <c:v>Al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0.56</c:v>
                </c:pt>
                <c:pt idx="1">
                  <c:v>0.68</c:v>
                </c:pt>
                <c:pt idx="2">
                  <c:v>0.68</c:v>
                </c:pt>
                <c:pt idx="3">
                  <c:v>0.68</c:v>
                </c:pt>
                <c:pt idx="4">
                  <c:v>0.76</c:v>
                </c:pt>
                <c:pt idx="5">
                  <c:v>0.76</c:v>
                </c:pt>
              </c:numCache>
            </c:numRef>
          </c:val>
        </c:ser>
        <c:gapWidth val="100"/>
        <c:overlap val="0"/>
        <c:axId val="62418095"/>
        <c:axId val="65803851"/>
      </c:barChart>
      <c:catAx>
        <c:axId val="62418095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03851"/>
        <c:crosses val="autoZero"/>
        <c:auto val="1"/>
        <c:lblAlgn val="ctr"/>
        <c:lblOffset val="100"/>
        <c:noMultiLvlLbl val="0"/>
      </c:catAx>
      <c:valAx>
        <c:axId val="65803851"/>
        <c:scaling>
          <c:orientation val="minMax"/>
          <c:max val="1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18095"/>
        <c:crossesAt val="1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Gold parses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Baseline</c:v>
                </c:pt>
                <c:pt idx="1">
                  <c:v>Skolem</c:v>
                </c:pt>
                <c:pt idx="2">
                  <c:v>Skolem + Existence</c:v>
                </c:pt>
                <c:pt idx="3">
                  <c:v>Skolem + Univ in H</c:v>
                </c:pt>
                <c:pt idx="4">
                  <c:v>Skolem + Univ in H + CWA</c:v>
                </c:pt>
                <c:pt idx="5">
                  <c:v>Al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0.48</c:v>
                </c:pt>
                <c:pt idx="1">
                  <c:v>0.5</c:v>
                </c:pt>
                <c:pt idx="2">
                  <c:v>0.435</c:v>
                </c:pt>
                <c:pt idx="3">
                  <c:v>0.63</c:v>
                </c:pt>
                <c:pt idx="4">
                  <c:v>1</c:v>
                </c:pt>
                <c:pt idx="5">
                  <c:v>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tandard parses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Baseline</c:v>
                </c:pt>
                <c:pt idx="1">
                  <c:v>Skolem</c:v>
                </c:pt>
                <c:pt idx="2">
                  <c:v>Skolem + Existence</c:v>
                </c:pt>
                <c:pt idx="3">
                  <c:v>Skolem + Univ in H</c:v>
                </c:pt>
                <c:pt idx="4">
                  <c:v>Skolem + Univ in H + CWA</c:v>
                </c:pt>
                <c:pt idx="5">
                  <c:v>All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6"/>
                <c:pt idx="0">
                  <c:v>0.48</c:v>
                </c:pt>
                <c:pt idx="1">
                  <c:v>0.44</c:v>
                </c:pt>
                <c:pt idx="2">
                  <c:v>0.37</c:v>
                </c:pt>
                <c:pt idx="3">
                  <c:v>0.5</c:v>
                </c:pt>
                <c:pt idx="4">
                  <c:v>0.85</c:v>
                </c:pt>
                <c:pt idx="5">
                  <c:v>0.85</c:v>
                </c:pt>
              </c:numCache>
            </c:numRef>
          </c:val>
        </c:ser>
        <c:gapWidth val="100"/>
        <c:overlap val="0"/>
        <c:axId val="21686486"/>
        <c:axId val="60449695"/>
      </c:barChart>
      <c:catAx>
        <c:axId val="21686486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49695"/>
        <c:crosses val="autoZero"/>
        <c:auto val="1"/>
        <c:lblAlgn val="ctr"/>
        <c:lblOffset val="100"/>
        <c:noMultiLvlLbl val="0"/>
      </c:catAx>
      <c:valAx>
        <c:axId val="60449695"/>
        <c:scaling>
          <c:orientation val="minMax"/>
          <c:max val="1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86486"/>
        <c:crossesAt val="1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9120" y="693360"/>
            <a:ext cx="4483080" cy="33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1008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89872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2"/>
          </p:nvPr>
        </p:nvSpPr>
        <p:spPr>
          <a:xfrm>
            <a:off x="3881520" y="0"/>
            <a:ext cx="289872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8663040"/>
            <a:ext cx="289872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1520" y="8663040"/>
            <a:ext cx="289872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24029-C2B4-4CBD-89D8-3EBFAFE0FF3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DC728-FF9F-4187-966C-235FB205885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4626A-B6A1-4BC3-A5B3-3F361C2131B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353C3-C760-4BAD-9CC9-E38FFFD787BC}" type="slidenum">
              <a:rPr b="1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1008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Treatment of Quantification in Ordinary English”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[Montague, 1973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440" y="4330800"/>
            <a:ext cx="54450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of constants to avoid empty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468680" cy="3351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1800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N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V - 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N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468680" cy="3351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1800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N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V - 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N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E540D-521F-40EE-8EE3-50C413108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5008-F50B-4EA6-999E-D42AE8578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7149F-41E3-4AFD-864F-133104C4E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EC3FD-E466-496E-B4CF-8975B189F7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88478-0D8C-4D49-A081-4D56F99BB7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DAE6-2513-4F2A-AB26-56276C53B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B38A-0374-4AB3-8ABD-8CC794F8B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A3982-1AB0-4D46-A4F6-6D2B48C96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90AD3-0FE4-417C-9E39-194D72B87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C047-C0A6-4A83-A49B-DCBEFBA90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C325-1F74-4B25-AAE5-9230A25B7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6D56-41B0-4663-89E3-438A4F6B7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DDF3C-96CE-4715-89D9-DC37013473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On the Proper Treatment of Quantifiers in Probabilistic Logic Semantic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440" y="327924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Beltagy and Katrin 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versity of Texas at Aus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CS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Logic Semantics (overview of previous 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arkov Logic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ing Textual Entail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Domain Closure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 problems with Quant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osed-World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 and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02D6C-9FF9-4D7D-A6AF-17326653CA8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Recognizing Textual Entailment (RTE)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E requires deep semantic understanding [Dagan et al., 201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wo sentences Text (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Hypothesis (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H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inding if 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ntails, Contradicts or not related (Neutral) to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2D0CE-1553-4C8F-A21B-C0AAE7269A8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Recognizing Textual Entailment (RTE)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(from the SICK dataset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Marelli et al., 201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tailmen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“A man is walking through the wo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: “A man is walking through a wooded area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radic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“A man is jumping into an empty pool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: “A man is jumping into a full pool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utral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“A young girl is danc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: “A young girl is standing on one le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9CF4B-F30A-474D-A0E8-847B873173B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Recognizing Textual Entailment (RTE) 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sentences to logic usi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ox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Bos 200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John is driving a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,y,z.  john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drive(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patient(y, z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car(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: John is driving a vehi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,y,z.  john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drive(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patient(y, z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vehicle(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(collected from difference sou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. car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vehicle(x) |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 Math"/>
              </a:rPr>
              <a:t>P(H|T, K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5CDF9-72DB-4D1C-B5A2-74D3993F0D8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robabilistic Logic Semantics (overview of previous 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arkov Logic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Recognizing Textual Entail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Closure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 problems with Quant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osed-World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 and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9B8D0-DE6F-452C-AFAF-D993BCF8315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Domain Closure Assumption (DCA)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no objects in the world other than the named constants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nite 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   smoke(x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cancer(x)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| 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,y. friend(x,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(smoke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smoke(y)) | 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nstants: Anna (A) and Bob 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D740B-E087-4930-929E-5C21CDB8E75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28880" y="3929040"/>
            <a:ext cx="7124040" cy="2471400"/>
            <a:chOff x="1028880" y="3929040"/>
            <a:chExt cx="7124040" cy="2471400"/>
          </a:xfrm>
        </p:grpSpPr>
        <p:sp>
          <p:nvSpPr>
            <p:cNvPr id="169" name=""/>
            <p:cNvSpPr/>
            <p:nvPr/>
          </p:nvSpPr>
          <p:spPr>
            <a:xfrm>
              <a:off x="1973520" y="5746320"/>
              <a:ext cx="1308240" cy="508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ncer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37040" y="4801320"/>
              <a:ext cx="1308240" cy="508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mokes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28880" y="4801320"/>
              <a:ext cx="1526400" cy="508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iends(A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63880" y="5891760"/>
              <a:ext cx="1671840" cy="508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iends(B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81600" y="4801320"/>
              <a:ext cx="1308240" cy="508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mokes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4" name=""/>
            <p:cNvCxnSpPr>
              <a:stCxn id="172" idx="0"/>
              <a:endCxn id="170" idx="4"/>
            </p:cNvCxnSpPr>
            <p:nvPr/>
          </p:nvCxnSpPr>
          <p:spPr>
            <a:xfrm flipH="1" flipV="1">
              <a:off x="3790800" y="5309640"/>
              <a:ext cx="909360" cy="582120"/>
            </a:xfrm>
            <a:prstGeom prst="straightConnector1">
              <a:avLst/>
            </a:prstGeom>
            <a:ln w="38160">
              <a:solidFill>
                <a:srgbClr val="00cc00"/>
              </a:solidFill>
              <a:miter/>
            </a:ln>
          </p:spPr>
        </p:cxnSp>
        <p:cxnSp>
          <p:nvCxnSpPr>
            <p:cNvPr id="175" name=""/>
            <p:cNvCxnSpPr>
              <a:stCxn id="170" idx="6"/>
              <a:endCxn id="173" idx="2"/>
            </p:cNvCxnSpPr>
            <p:nvPr/>
          </p:nvCxnSpPr>
          <p:spPr>
            <a:xfrm>
              <a:off x="4444920" y="5055840"/>
              <a:ext cx="436680" cy="2160"/>
            </a:xfrm>
            <a:prstGeom prst="straightConnector1">
              <a:avLst/>
            </a:prstGeom>
            <a:ln w="38160">
              <a:solidFill>
                <a:srgbClr val="00cc00"/>
              </a:solidFill>
              <a:miter/>
            </a:ln>
          </p:spPr>
        </p:cxnSp>
        <p:cxnSp>
          <p:nvCxnSpPr>
            <p:cNvPr id="176" name=""/>
            <p:cNvCxnSpPr>
              <a:stCxn id="173" idx="4"/>
              <a:endCxn id="172" idx="0"/>
            </p:cNvCxnSpPr>
            <p:nvPr/>
          </p:nvCxnSpPr>
          <p:spPr>
            <a:xfrm flipH="1">
              <a:off x="4699440" y="5310000"/>
              <a:ext cx="836640" cy="582120"/>
            </a:xfrm>
            <a:prstGeom prst="straightConnector1">
              <a:avLst/>
            </a:prstGeom>
            <a:ln w="38160">
              <a:solidFill>
                <a:srgbClr val="00cc00"/>
              </a:solidFill>
              <a:miter/>
            </a:ln>
          </p:spPr>
        </p:cxnSp>
        <p:cxnSp>
          <p:nvCxnSpPr>
            <p:cNvPr id="177" name=""/>
            <p:cNvCxnSpPr>
              <a:stCxn id="170" idx="3"/>
              <a:endCxn id="169" idx="7"/>
            </p:cNvCxnSpPr>
            <p:nvPr/>
          </p:nvCxnSpPr>
          <p:spPr>
            <a:xfrm flipH="1">
              <a:off x="3089520" y="5235480"/>
              <a:ext cx="238320" cy="586440"/>
            </a:xfrm>
            <a:prstGeom prst="straightConnector1">
              <a:avLst/>
            </a:prstGeom>
            <a:ln w="38160">
              <a:solidFill>
                <a:srgbClr val="990099"/>
              </a:solidFill>
              <a:miter/>
            </a:ln>
          </p:spPr>
        </p:cxnSp>
        <p:cxnSp>
          <p:nvCxnSpPr>
            <p:cNvPr id="178" name=""/>
            <p:cNvCxnSpPr>
              <a:stCxn id="171" idx="6"/>
              <a:endCxn id="170" idx="2"/>
            </p:cNvCxnSpPr>
            <p:nvPr/>
          </p:nvCxnSpPr>
          <p:spPr>
            <a:xfrm>
              <a:off x="2554920" y="5055840"/>
              <a:ext cx="582120" cy="2160"/>
            </a:xfrm>
            <a:prstGeom prst="straightConnector1">
              <a:avLst/>
            </a:prstGeom>
            <a:ln w="38160">
              <a:solidFill>
                <a:srgbClr val="00cc00"/>
              </a:solidFill>
              <a:miter/>
            </a:ln>
          </p:spPr>
        </p:cxnSp>
        <p:sp>
          <p:nvSpPr>
            <p:cNvPr id="179" name=""/>
            <p:cNvSpPr/>
            <p:nvPr/>
          </p:nvSpPr>
          <p:spPr>
            <a:xfrm>
              <a:off x="3899880" y="3929040"/>
              <a:ext cx="1599480" cy="508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iends(A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"/>
            <p:cNvCxnSpPr>
              <a:stCxn id="179" idx="4"/>
              <a:endCxn id="170" idx="0"/>
            </p:cNvCxnSpPr>
            <p:nvPr/>
          </p:nvCxnSpPr>
          <p:spPr>
            <a:xfrm flipH="1">
              <a:off x="3790800" y="4437360"/>
              <a:ext cx="909360" cy="363960"/>
            </a:xfrm>
            <a:prstGeom prst="straightConnector1">
              <a:avLst/>
            </a:prstGeom>
            <a:ln w="38160">
              <a:solidFill>
                <a:srgbClr val="00cc00"/>
              </a:solidFill>
              <a:miter/>
            </a:ln>
          </p:spPr>
        </p:cxnSp>
        <p:cxnSp>
          <p:nvCxnSpPr>
            <p:cNvPr id="181" name=""/>
            <p:cNvCxnSpPr>
              <a:stCxn id="173" idx="0"/>
              <a:endCxn id="179" idx="4"/>
            </p:cNvCxnSpPr>
            <p:nvPr/>
          </p:nvCxnSpPr>
          <p:spPr>
            <a:xfrm flipH="1" flipV="1">
              <a:off x="4699440" y="4437000"/>
              <a:ext cx="836640" cy="363960"/>
            </a:xfrm>
            <a:prstGeom prst="straightConnector1">
              <a:avLst/>
            </a:prstGeom>
            <a:ln w="38160">
              <a:solidFill>
                <a:srgbClr val="00cc00"/>
              </a:solidFill>
              <a:miter/>
            </a:ln>
          </p:spPr>
        </p:cxnSp>
        <p:sp>
          <p:nvSpPr>
            <p:cNvPr id="182" name=""/>
            <p:cNvSpPr/>
            <p:nvPr/>
          </p:nvSpPr>
          <p:spPr>
            <a:xfrm>
              <a:off x="6117480" y="5746320"/>
              <a:ext cx="1308240" cy="508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ncer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6520" y="4801320"/>
              <a:ext cx="1526400" cy="508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iends(B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4" name=""/>
            <p:cNvCxnSpPr>
              <a:stCxn id="173" idx="5"/>
              <a:endCxn id="182" idx="1"/>
            </p:cNvCxnSpPr>
            <p:nvPr/>
          </p:nvCxnSpPr>
          <p:spPr>
            <a:xfrm>
              <a:off x="5997960" y="5235480"/>
              <a:ext cx="311040" cy="586440"/>
            </a:xfrm>
            <a:prstGeom prst="straightConnector1">
              <a:avLst/>
            </a:prstGeom>
            <a:ln w="38160">
              <a:solidFill>
                <a:srgbClr val="990099"/>
              </a:solidFill>
              <a:miter/>
            </a:ln>
          </p:spPr>
        </p:cxnSp>
        <p:cxnSp>
          <p:nvCxnSpPr>
            <p:cNvPr id="185" name=""/>
            <p:cNvCxnSpPr>
              <a:stCxn id="183" idx="2"/>
              <a:endCxn id="173" idx="6"/>
            </p:cNvCxnSpPr>
            <p:nvPr/>
          </p:nvCxnSpPr>
          <p:spPr>
            <a:xfrm flipH="1">
              <a:off x="6189480" y="5055840"/>
              <a:ext cx="436680" cy="2160"/>
            </a:xfrm>
            <a:prstGeom prst="straightConnector1">
              <a:avLst/>
            </a:prstGeom>
            <a:ln w="38160">
              <a:solidFill>
                <a:srgbClr val="00cc00"/>
              </a:solidFill>
              <a:miter/>
            </a:ln>
          </p:spPr>
        </p:cxnSp>
        <p:cxnSp>
          <p:nvCxnSpPr>
            <p:cNvPr id="186" name=""/>
            <p:cNvCxnSpPr/>
            <p:nvPr/>
          </p:nvCxnSpPr>
          <p:spPr>
            <a:xfrm flipV="1">
              <a:off x="4408560" y="5144760"/>
              <a:ext cx="495720" cy="3600"/>
            </a:xfrm>
            <a:prstGeom prst="straightConnector1">
              <a:avLst/>
            </a:prstGeom>
            <a:ln w="38160">
              <a:solidFill>
                <a:srgbClr val="00cc00"/>
              </a:solidFill>
              <a:miter/>
            </a:ln>
          </p:spPr>
        </p:cxnSp>
      </p:grpSp>
      <p:sp>
        <p:nvSpPr>
          <p:cNvPr id="187" name=""/>
          <p:cNvSpPr/>
          <p:nvPr/>
        </p:nvSpPr>
        <p:spPr>
          <a:xfrm>
            <a:off x="6781680" y="3733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638320" y="396252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172200" y="411480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746712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3429000"/>
            <a:ext cx="4495680" cy="457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Domain Closure Assumption (DCA)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no objects in the universe other than the named constants (Finite Domai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s need to be explicitly a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al quantifiers do not behave as expected because of finite dom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“Tweety is a bird and it flies”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All birds f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14400" y="4083120"/>
          <a:ext cx="6934320" cy="1936800"/>
        </p:xfrm>
        <a:graphic>
          <a:graphicData uri="http://schemas.openxmlformats.org/drawingml/2006/table">
            <a:tbl>
              <a:tblPr/>
              <a:tblGrid>
                <a:gridCol w="1600200"/>
                <a:gridCol w="2362320"/>
                <a:gridCol w="297180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H|T,K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olem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robl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als in 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EC002-DCCC-40EC-9446-190D5D029D1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babilistic Logic Semantics (overview of previous 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arkov Logic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ecognizing Textual Entail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 Closure As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ence problems with Quan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olemization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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 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Existence: </a:t>
            </a:r>
            <a:r>
              <a:rPr b="0" lang="en-US" sz="1600" spc="-1" strike="noStrike">
                <a:solidFill>
                  <a:srgbClr val="80808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 in  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Universals in Hypothesis : </a:t>
            </a:r>
            <a:r>
              <a:rPr b="0" lang="en-US" sz="1600" spc="-1" strike="noStrike">
                <a:solidFill>
                  <a:srgbClr val="80808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 in  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losed-World As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uture work and 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3627D-A35F-4E5F-989B-5BF5583192A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Skolemization (  </a:t>
            </a:r>
            <a:r>
              <a:rPr b="1" lang="en-US" sz="3200" spc="-1" strike="noStrike">
                <a:solidFill>
                  <a:srgbClr val="000080"/>
                </a:solidFill>
                <a:latin typeface="Symbol"/>
                <a:ea typeface="Symbol"/>
              </a:rPr>
              <a:t>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  in  T  )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ly introducing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,y.  john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eat(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olem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      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john(J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T, J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eat(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ded existen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bird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. agent(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fly(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olemized T: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bird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f(x)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fly(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f(x)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e skolem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bird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y. skole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 Math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(x,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fly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skole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 Math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(B1, C1), skole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 Math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(B2, C2)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53136-B74C-4CB7-88A8-06073108A45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babilistic Logic Semantics (overview of previous 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arkov Logic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ecognizing Textual Entail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 Closure As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ence problems with Quan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kolemization: </a:t>
            </a:r>
            <a:r>
              <a:rPr b="0" lang="en-US" sz="1600" spc="-1" strike="noStrike">
                <a:solidFill>
                  <a:srgbClr val="808080"/>
                </a:solidFill>
                <a:latin typeface="Symbol"/>
                <a:ea typeface="Symbol"/>
              </a:rPr>
              <a:t>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 in  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stence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 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Universals in Hypothesis : </a:t>
            </a:r>
            <a:r>
              <a:rPr b="0" lang="en-US" sz="1600" spc="-1" strike="noStrike">
                <a:solidFill>
                  <a:srgbClr val="80808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 in  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losed-World As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uture work and 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14A9E-E84C-41E4-9432-1377A2CAEBB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Logic-based Semantics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-order logic and theorem pr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semantic represent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on, Quantifiers, Conjunction, Disjunction 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61FAE-8EBF-4FDF-B643-A6F6A3459A7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xistence (  </a:t>
            </a:r>
            <a:r>
              <a:rPr b="0" lang="en-US" sz="4000" spc="-1" strike="noStrike">
                <a:solidFill>
                  <a:srgbClr val="000080"/>
                </a:solidFill>
                <a:latin typeface="Symbol"/>
                <a:ea typeface="Symbol"/>
              </a:rPr>
              <a:t></a:t>
            </a: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  in  T  )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All birds 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: Some birds 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ly,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⇏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t pragmatically it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birds fly” presupposes that “there exist bir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simulate this existential presup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parse tree,  Q(restrictor, bod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birds fly” becomes: all(bird, f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additional evidence for the restrictor 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bird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D252D-106A-4198-9344-D04BAB18280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xistence (  </a:t>
            </a:r>
            <a:r>
              <a:rPr b="0" lang="en-US" sz="4000" spc="-1" strike="noStrike">
                <a:solidFill>
                  <a:srgbClr val="000080"/>
                </a:solidFill>
                <a:latin typeface="Symbol"/>
                <a:ea typeface="Symbol"/>
              </a:rPr>
              <a:t></a:t>
            </a: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  in  T  )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ed Exis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No bird flies =  no (bird, f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,y. bird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fly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. bird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y.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fly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evidence </a:t>
            </a:r>
            <a:r>
              <a:rPr b="1" lang="en-US" sz="2000" spc="-1" strike="noStrike">
                <a:solidFill>
                  <a:srgbClr val="ff0000"/>
                </a:solidFill>
                <a:latin typeface="Cambria Math"/>
              </a:rPr>
              <a:t>bird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There are no birds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bird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dditional evidence because the exist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uppos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xplicitly neg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CAE63-781D-4B86-9406-2AEAF0DE345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babilistic Logic Semantics (overview of previous 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arkov Logic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ecognizing Textual Entail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 Closure As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ence problems with Quan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kolemization: </a:t>
            </a:r>
            <a:r>
              <a:rPr b="0" lang="en-US" sz="1600" spc="-1" strike="noStrike">
                <a:solidFill>
                  <a:srgbClr val="808080"/>
                </a:solidFill>
                <a:latin typeface="Symbol"/>
                <a:ea typeface="Symbol"/>
              </a:rPr>
              <a:t>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 in  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Existence: </a:t>
            </a:r>
            <a:r>
              <a:rPr b="0" lang="en-US" sz="1600" spc="-1" strike="noStrike">
                <a:solidFill>
                  <a:srgbClr val="80808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 in  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als in Hypothesis 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 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losed-World As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uture work and 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AEC98-CCED-4C02-85B6-CCB30FE57E6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Universals in Hypothesis  (  </a:t>
            </a:r>
            <a:r>
              <a:rPr b="0" lang="en-US" sz="4000" spc="-1" strike="noStrike">
                <a:solidFill>
                  <a:srgbClr val="000080"/>
                </a:solidFill>
                <a:latin typeface="Symbol"/>
                <a:ea typeface="Symbol"/>
              </a:rPr>
              <a:t></a:t>
            </a: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  in  H  )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Tweety is a bird, and Tweety f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bird(Tweet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F, Tweet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 fly (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: All birds 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x. bird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y. agent(y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fly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 because universal quantifiers work only on the constants of the giv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nite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in Existence, add evidence for the restrictor: </a:t>
            </a:r>
            <a:r>
              <a:rPr b="1" lang="en-US" sz="1800" spc="-1" strike="noStrike">
                <a:solidFill>
                  <a:srgbClr val="ff0000"/>
                </a:solidFill>
                <a:latin typeface="Cambria Math"/>
              </a:rPr>
              <a:t>bird(Woo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new bird can be shown to fly, then there is an explicit universal quantification in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DBBAE-0336-48FD-884B-2CE1430C204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robabilistic Logic Semantics (overview of previous 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arkov Logic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Recognizing Textual Entail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Domain Closure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 problems with Quant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-World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 and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31A3D-0A16-4CEF-943F-C561291F084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Closed-World Assumption (CWA)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umption that everything (all ground atoms) have ver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ow p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b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WA fits the RTE task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world, most things are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results are less sensitive to the domain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inference optimization [Beltagy and Mooney, 201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D0607-F3FB-4930-B307-D2DDC0E198D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Closed-World Assumption (CWA)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CWA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g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es true regardless of 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,y. bird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fly(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positive evidence that contradicts the negated parts of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ground atoms with high prior probability (in contrast with low prior probability on all other ground ato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R: bird(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agent(F, 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fly(F)  | w=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P(H| CWA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P(H|R, CWA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F64C9-1555-4EE8-A8B9-93D52595F31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Closed-World Assumption (CWA)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ailing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o bird fli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,y. bird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fly(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: No penguin flie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,y. penguin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fly(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penguin(P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agent(F, P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fly(F)  | w=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B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. penguin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bird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P(H|T, R, K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radicts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lets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0E7CA-B13F-41DC-86CA-1801112AB82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robabilistic Logic Semantics (overview of previous 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arkov Logic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Recognizing Textual Entail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Domain Closure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 problems with Quant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osed-World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 and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C351D-90A3-47E4-AA80-C8D50170B07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2C7D0-238F-4FB3-9A5E-415C045F3EB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valuation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Logic Framework: Markov Logic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andling of DCA and CWA applies to other Probabilistic Logic frameworks that make similar assumptions, e.g, PSL (Probabilistic Soft Log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Task: 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andling of DCA and CWA applies to other tasks where the logical formulas have existential and universal quantifiers, e.g, STS (Textual Similarity) and Question Answ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Probabilistic Logic Semantics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ing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rating of Word Sense Disambig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 of Paraphrase ru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al similarity values [Beltagy et al., 201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b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ddler | 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ing dol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ying with a toy | 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762D1-E8CD-4426-B09B-AADCF44FD5F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C4DC4-36A4-49E0-A610-37C0B9B5602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valuation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tic Data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late: 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V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: No man eats all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: Some hungry men eat not all delicious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5867280" cy="32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valuation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7E813-D624-4992-AC24-1C56E5826B2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990720" y="2214720"/>
          <a:ext cx="7848360" cy="4414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42" name=""/>
          <p:cNvSpPr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Synthetic Data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size: 952 Neutral + 72 Entail = 10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0BFD0-1E9E-4B15-8EFB-DF741E0982F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Detection of Contradiction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ailment: P(H| T, KB,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,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diction: 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| T, KB,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67280" y="1676520"/>
            <a:ext cx="60948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24280" y="2743200"/>
            <a:ext cx="60984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67280" y="3946680"/>
            <a:ext cx="2971800" cy="131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orld configu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omain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ior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2133720"/>
            <a:ext cx="34290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02080" y="3187800"/>
            <a:ext cx="28195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7DB4E-E969-4F2A-90DB-5AA064DBEAB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valuation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Sentences Involving Compositional Knowledge (SICK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Marelli et al., SemEval 201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000 pairs of sentences annotated as Entail, Contradict or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762120" y="2281320"/>
          <a:ext cx="8001000" cy="45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9001F-C537-443B-817A-BB3AC1C79B5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valuation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FraC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oper et al., 1996]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built entailments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evaluate of the first section (out of 9 sec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upported quantifiers (few, most, many, at least)  (28/74 pa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762120" y="2293920"/>
          <a:ext cx="8113680" cy="4564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robabilistic Logic Semantics (overview of previous 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arkov Logic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Recognizing Textual Entail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Domain Closure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 problems with Quant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osed-World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work and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7A40C-A08A-4C79-B016-96AC4CC8958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Future Work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zed Quantifi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extend this work to generalized quantifiers lik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9620E-CDE3-459F-9A61-3914C6DF951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A2EAF-2544-43B7-876F-3EB8F0ACDFB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Closure Assumption, its implication on the probabilistic logic inferences, and how to formulate the RTE problem in a way that we get the expected i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-World Assumption, why we make that assumption, and what its effect on the negation, and how to formulate the RTE problem to get correct inferen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1770120"/>
            <a:ext cx="914400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D50E7-4DA9-4F73-8D3D-1457D6B8051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Probabilistic Logic Semantics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fiers and Negations do not work as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Closure Assumption: finit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s with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uantifi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ty is a bird and it flies”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All birds f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-World Assumption: low prior prob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s with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birds fly”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The sky is not blu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8E514-3C30-4C15-BC1C-E4BEF3FF01C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Logic Semantics (overview of previous 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ov Logic Networks (ML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ing Textual Entailment (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Closure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problems with Quant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-World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work and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20ED2-F4D4-4D86-B42A-147566E8808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Logic Semantics (overview of previous 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ov Logic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Recognizing Textual Entail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Domain Closure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Inference problems with Quant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osed-World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uture work and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F52B6-5E09-4402-8C93-F86F85F6844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4A3C4-755A-4B76-ABA4-FCD18617247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Probabilistic Logic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works that combine logical and statistical knowledge [Nilsson, 1986], [Getoor and Taskar, 2007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eighted first-order logic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ed rules a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f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ules (compared to hard logical constra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mechanism for probabilistic inference: 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P(Q|E, K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yesian Logic Programs (BLP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Kersting &amp; De Raedt,  200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kov Logic Networks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L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[Richardson and Domingos, 200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stic Soft Logic (PSL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Kimmig et al., NIPS 201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Markov Logic Networks</a:t>
            </a:r>
            <a:br>
              <a:rPr sz="32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[Richardson and Domingos, 2006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.    smoke(x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cancer(x)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|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x,y. friend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(smoke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smoke(y)) |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Anna (A) and Bob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P(Cancer(Anna) | Friends(Anna,Bob), Smokes(Bob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62040" y="502920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81360" y="403848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1680" y="4038480"/>
            <a:ext cx="1600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43480" y="5181480"/>
            <a:ext cx="17524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10160" y="403848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8" idx="0"/>
            <a:endCxn id="116" idx="4"/>
          </p:cNvCxnSpPr>
          <p:nvPr/>
        </p:nvCxnSpPr>
        <p:spPr>
          <a:xfrm flipH="1" flipV="1">
            <a:off x="3466800" y="4571280"/>
            <a:ext cx="953280" cy="61020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21" name=""/>
          <p:cNvCxnSpPr>
            <a:stCxn id="116" idx="6"/>
            <a:endCxn id="119" idx="2"/>
          </p:cNvCxnSpPr>
          <p:nvPr/>
        </p:nvCxnSpPr>
        <p:spPr>
          <a:xfrm>
            <a:off x="4152960" y="4304880"/>
            <a:ext cx="457920" cy="252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22" name=""/>
          <p:cNvCxnSpPr>
            <a:stCxn id="119" idx="4"/>
            <a:endCxn id="118" idx="0"/>
          </p:cNvCxnSpPr>
          <p:nvPr/>
        </p:nvCxnSpPr>
        <p:spPr>
          <a:xfrm flipH="1">
            <a:off x="4419360" y="4571640"/>
            <a:ext cx="876960" cy="61020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23" name=""/>
          <p:cNvCxnSpPr>
            <a:stCxn id="116" idx="3"/>
            <a:endCxn id="115" idx="7"/>
          </p:cNvCxnSpPr>
          <p:nvPr/>
        </p:nvCxnSpPr>
        <p:spPr>
          <a:xfrm flipH="1">
            <a:off x="2731680" y="4494240"/>
            <a:ext cx="249840" cy="614880"/>
          </a:xfrm>
          <a:prstGeom prst="straightConnector1">
            <a:avLst/>
          </a:prstGeom>
          <a:ln w="38160">
            <a:solidFill>
              <a:srgbClr val="990099"/>
            </a:solidFill>
            <a:miter/>
          </a:ln>
        </p:spPr>
      </p:cxnSp>
      <p:cxnSp>
        <p:nvCxnSpPr>
          <p:cNvPr id="124" name=""/>
          <p:cNvCxnSpPr>
            <a:stCxn id="117" idx="6"/>
            <a:endCxn id="116" idx="2"/>
          </p:cNvCxnSpPr>
          <p:nvPr/>
        </p:nvCxnSpPr>
        <p:spPr>
          <a:xfrm>
            <a:off x="2171520" y="4304880"/>
            <a:ext cx="610200" cy="252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3581280" y="3124080"/>
            <a:ext cx="1676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4"/>
            <a:endCxn id="116" idx="0"/>
          </p:cNvCxnSpPr>
          <p:nvPr/>
        </p:nvCxnSpPr>
        <p:spPr>
          <a:xfrm flipH="1">
            <a:off x="3466800" y="3657600"/>
            <a:ext cx="953280" cy="38160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27" name=""/>
          <p:cNvCxnSpPr>
            <a:stCxn id="119" idx="0"/>
            <a:endCxn id="125" idx="4"/>
          </p:cNvCxnSpPr>
          <p:nvPr/>
        </p:nvCxnSpPr>
        <p:spPr>
          <a:xfrm flipH="1" flipV="1">
            <a:off x="4419360" y="3657240"/>
            <a:ext cx="876960" cy="38160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905440" y="502920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38960" y="4038480"/>
            <a:ext cx="1600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19" idx="5"/>
            <a:endCxn id="128" idx="1"/>
          </p:cNvCxnSpPr>
          <p:nvPr/>
        </p:nvCxnSpPr>
        <p:spPr>
          <a:xfrm>
            <a:off x="5780160" y="4494240"/>
            <a:ext cx="326160" cy="614880"/>
          </a:xfrm>
          <a:prstGeom prst="straightConnector1">
            <a:avLst/>
          </a:prstGeom>
          <a:ln w="38160">
            <a:solidFill>
              <a:srgbClr val="990099"/>
            </a:solidFill>
            <a:miter/>
          </a:ln>
        </p:spPr>
      </p:cxnSp>
      <p:cxnSp>
        <p:nvCxnSpPr>
          <p:cNvPr id="131" name=""/>
          <p:cNvCxnSpPr>
            <a:stCxn id="129" idx="2"/>
            <a:endCxn id="119" idx="6"/>
          </p:cNvCxnSpPr>
          <p:nvPr/>
        </p:nvCxnSpPr>
        <p:spPr>
          <a:xfrm flipH="1">
            <a:off x="5981400" y="4304880"/>
            <a:ext cx="457920" cy="252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7772400" y="1676520"/>
            <a:ext cx="762120" cy="14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72400" y="2055960"/>
            <a:ext cx="76212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 flipV="1">
            <a:off x="4114800" y="4398120"/>
            <a:ext cx="519840" cy="396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050A6-C405-48CA-9DB6-D6E1C60F61B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Markov Logic Networks</a:t>
            </a:r>
            <a:br>
              <a:rPr sz="32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[Richardson and Domingos, 2006]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Mass Function (P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ce: calculate probability of atoms given evidenc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mbria Mat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</a:rPr>
              <a:t>P(Cancer(Anna) | Friends(Anna,Bob), Smokes(Bob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35320" y="3286080"/>
            <a:ext cx="210816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70640" y="3027240"/>
            <a:ext cx="1841400" cy="91692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 of true groundings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537160" y="2565360"/>
            <a:ext cx="1031760" cy="8604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/>
          <p:nvPr/>
        </p:nvCxnSpPr>
        <p:spPr>
          <a:xfrm flipV="1">
            <a:off x="1828800" y="2557080"/>
            <a:ext cx="953280" cy="729360"/>
          </a:xfrm>
          <a:prstGeom prst="straightConnector1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828800" y="2038320"/>
                <a:ext cx="4694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=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2362320" y="3286080"/>
            <a:ext cx="1646280" cy="64260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ation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819520" y="2650680"/>
            <a:ext cx="685800" cy="71748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4680" y="3286080"/>
            <a:ext cx="1933560" cy="64260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ssible truth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BFDFA-F001-43BA-902D-682C47D82EA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8" idx="3"/>
          </p:cNvCxnSpPr>
          <p:nvPr/>
        </p:nvCxnSpPr>
        <p:spPr>
          <a:xfrm flipV="1">
            <a:off x="1828800" y="2557080"/>
            <a:ext cx="589680" cy="232560"/>
          </a:xfrm>
          <a:prstGeom prst="straightConnector1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169920" y="2468520"/>
            <a:ext cx="1658880" cy="64260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f all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475160" y="2650680"/>
            <a:ext cx="685800" cy="71748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bil</cp:lastModifiedBy>
  <dcterms:modified xsi:type="dcterms:W3CDTF">2015-04-22T23:37:52Z</dcterms:modified>
  <cp:revision>1342</cp:revision>
  <dc:subject/>
  <dc:title>Intelligent Information Retrieval and Web Search</dc:title>
</cp:coreProperties>
</file>