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9480" y="693360"/>
            <a:ext cx="4481280" cy="33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08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8972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3881520" y="0"/>
            <a:ext cx="28972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662680"/>
            <a:ext cx="2897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1520" y="8662680"/>
            <a:ext cx="2897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7DB12-273F-4E2B-A322-C1B2F82095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01BD-2AF8-4CF6-8C74-CE036CD529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8BF6B-D6D4-451A-97D0-6E4E4A23CD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2FD29-3F67-40E6-BA47-54098146F717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008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4143-E352-48BD-AEE9-B24F45AEDCC3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E75F4-19DB-4737-9A99-A4B94A167255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87C16-A2CD-43E4-A32F-39D7C9F5081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C2EC1-D002-428B-A143-B8B8550BB17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505E5-2825-4425-8D81-1AF1999933D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25933-8F47-441E-802E-09BC01A3E8E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FD7D3-AD39-4C9C-98B2-4DF5BEA97C26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5B72A-F41D-4BD3-9E1A-03A533F3AB4F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85891-AF58-4D12-A99D-815907BFB752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B5FD2-2BCB-4A2E-A033-022B563736C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ED11-78E9-44A0-A2CA-266F18629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8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1800"/>
            <a:ext cx="8228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BDD2-5229-48B9-BB04-94219D083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3220-0988-4639-9CC2-77F990B4C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1932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1932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180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78180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78180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9683-1552-4C28-9A32-816F2C5CF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81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C3B6-2833-46BC-BBFA-28607545A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8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A2CF-FCE8-403E-ACE2-44970BA7B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79C5-D1DB-42B9-AAD8-DE589EB13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59D1-059B-4B42-AB25-60FC2797B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7141-29ED-4324-AA78-1F637FF7A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833F-2B4B-4037-B798-4C171995C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5136-0106-4501-90E3-82161F98C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1800"/>
            <a:ext cx="8228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8668-64DE-4689-8CBF-61D9AA1B2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8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ar-SA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64DEC-D944-4452-9493-67E0A4A12BE4}" type="slidenum">
              <a:rPr b="0" lang="ar-S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Natural Language Semantics using Probabilistic Logic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327924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elt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toral Disser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ing Professors: Raymond J. Mooney, Katrin 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D7FC-891E-4DF0-910D-0997BC941A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Relational Learning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Getoor and Taskar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logical and statist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mechanism for probabilistic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-order log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ru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s (compared to hard logical constra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ctly encode complex probabilistic graph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P(Q|E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ov Logic Network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N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Soft Logic (PSL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Kimmig et al., NIPS 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   smoke(x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ncer(x)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|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friend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(smok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smoke(y)) |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Anna (A) and Bob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620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813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5181480"/>
            <a:ext cx="1752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0"/>
            <a:endCxn id="132" idx="4"/>
          </p:cNvCxnSpPr>
          <p:nvPr/>
        </p:nvCxnSpPr>
        <p:spPr>
          <a:xfrm flipH="1" flipV="1">
            <a:off x="3466800" y="4571280"/>
            <a:ext cx="95328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7" name=""/>
          <p:cNvCxnSpPr>
            <a:stCxn id="132" idx="6"/>
            <a:endCxn id="135" idx="2"/>
          </p:cNvCxnSpPr>
          <p:nvPr/>
        </p:nvCxnSpPr>
        <p:spPr>
          <a:xfrm>
            <a:off x="415296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8" name=""/>
          <p:cNvCxnSpPr>
            <a:stCxn id="135" idx="4"/>
            <a:endCxn id="134" idx="0"/>
          </p:cNvCxnSpPr>
          <p:nvPr/>
        </p:nvCxnSpPr>
        <p:spPr>
          <a:xfrm flipH="1">
            <a:off x="4419360" y="4571640"/>
            <a:ext cx="87696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9" name=""/>
          <p:cNvCxnSpPr>
            <a:stCxn id="132" idx="3"/>
            <a:endCxn id="131" idx="7"/>
          </p:cNvCxnSpPr>
          <p:nvPr/>
        </p:nvCxnSpPr>
        <p:spPr>
          <a:xfrm flipH="1">
            <a:off x="2731680" y="4494240"/>
            <a:ext cx="24984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40" name=""/>
          <p:cNvCxnSpPr>
            <a:stCxn id="133" idx="6"/>
            <a:endCxn id="132" idx="2"/>
          </p:cNvCxnSpPr>
          <p:nvPr/>
        </p:nvCxnSpPr>
        <p:spPr>
          <a:xfrm>
            <a:off x="2171520" y="4304880"/>
            <a:ext cx="61020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581280" y="312408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4"/>
            <a:endCxn id="132" idx="0"/>
          </p:cNvCxnSpPr>
          <p:nvPr/>
        </p:nvCxnSpPr>
        <p:spPr>
          <a:xfrm flipH="1">
            <a:off x="3466800" y="3657600"/>
            <a:ext cx="95328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43" name=""/>
          <p:cNvCxnSpPr>
            <a:stCxn id="135" idx="0"/>
            <a:endCxn id="141" idx="4"/>
          </p:cNvCxnSpPr>
          <p:nvPr/>
        </p:nvCxnSpPr>
        <p:spPr>
          <a:xfrm flipH="1" flipV="1">
            <a:off x="4419360" y="3657240"/>
            <a:ext cx="87696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59054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3896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5" idx="5"/>
            <a:endCxn id="144" idx="1"/>
          </p:cNvCxnSpPr>
          <p:nvPr/>
        </p:nvCxnSpPr>
        <p:spPr>
          <a:xfrm>
            <a:off x="5780160" y="4494240"/>
            <a:ext cx="32616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47" name=""/>
          <p:cNvCxnSpPr>
            <a:stCxn id="145" idx="2"/>
            <a:endCxn id="135" idx="6"/>
          </p:cNvCxnSpPr>
          <p:nvPr/>
        </p:nvCxnSpPr>
        <p:spPr>
          <a:xfrm flipH="1">
            <a:off x="598140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772400" y="1676520"/>
            <a:ext cx="762120" cy="14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2055960"/>
            <a:ext cx="76212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 flipV="1">
            <a:off x="4114800" y="4396680"/>
            <a:ext cx="519840" cy="396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1D41-B9F7-42CA-A342-1D56DE8C24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Mass Function (P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calculate probability of atoms given evidenc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35320" y="3286080"/>
            <a:ext cx="2108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0640" y="3027240"/>
            <a:ext cx="18414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35360" y="2563560"/>
            <a:ext cx="1035000" cy="8636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V="1">
            <a:off x="1828800" y="2557080"/>
            <a:ext cx="95328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2038320"/>
                <a:ext cx="4694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362320" y="328608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2649600"/>
            <a:ext cx="685800" cy="7207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680" y="3286080"/>
            <a:ext cx="193356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F8BC1-D8BA-4D19-B0A1-CB3C5303BF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4" idx="3"/>
          </p:cNvCxnSpPr>
          <p:nvPr/>
        </p:nvCxnSpPr>
        <p:spPr>
          <a:xfrm flipV="1">
            <a:off x="1828800" y="2557080"/>
            <a:ext cx="589680" cy="2325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69920" y="2468520"/>
            <a:ext cx="16588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75160" y="2649600"/>
            <a:ext cx="685800" cy="7207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SL: Probabilistic Soft Logic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Kimmig et al., NIPS 2012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framework designed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ha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th values in interval [0,1] (Boolean atoms in ML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ukasiewicz relaxation of 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ℓ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2) = max {0, I(ℓ1) + I(ℓ2) –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ℓ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2) = min {1, I(ℓ1) + I(ℓ2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1)      = 1 – I(ℓ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(combinatorial counting problem in ML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CB5E8-4529-4430-B8EA-FE94DDBEFD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SL: Probabilistic Soft Logic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Kimmig et al., NIPS 2012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Most Probable Explanation (M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06720" y="1955880"/>
            <a:ext cx="5172120" cy="110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624640" y="3251160"/>
            <a:ext cx="127944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18280" y="2990880"/>
            <a:ext cx="14922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o satisfaction of rul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546520" y="2495160"/>
            <a:ext cx="495000" cy="8002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153120" y="2535120"/>
            <a:ext cx="1022400" cy="851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V="1">
            <a:off x="1757160" y="2520720"/>
            <a:ext cx="95292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757600" y="325116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41720" y="2620800"/>
            <a:ext cx="326880" cy="6955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680" y="3251160"/>
            <a:ext cx="239400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251160"/>
            <a:ext cx="84132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57680" y="2860560"/>
            <a:ext cx="49536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AA71F-BB4A-4B45-B5B1-48028D9111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2240" y="2214720"/>
            <a:ext cx="152280" cy="22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10566-034C-492B-93A5-73EB733F3A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Task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asks that require deep semantic understanding to do well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Recognizing Textual Entailment (RTE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Dagan et al., 20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sentence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inding if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ails, Contradicts or not related (Neutral) to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ail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walking through the w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walking through a wooded are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radic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jumping into an empty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jumping into a full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tr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young girl is danc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young girl is standing on one le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9EE5-9334-4803-9E80-55A048ABF0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Task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asks that require deep semantic understanding to do well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emantic Textual Similarity (STS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Agirre et al., 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sentence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judge their semantic similarity on a scale from 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: “A man is playing a guit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: “A woman is playing the guitar.” 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ore: 2.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: “A car is park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: “A cat is playing.”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ore: 0.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11A40-1C7E-469E-8016-D192A4CAA6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395AD-272F-4D7E-B74A-72C504A52E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ystem Architecture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Beltagy et al., *SEM 2013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B9F6B-9C24-4455-9641-0051887077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0" y="1752480"/>
            <a:ext cx="117000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/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25760" y="1752480"/>
            <a:ext cx="1143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72240" y="1874880"/>
            <a:ext cx="1073160" cy="592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82000" y="5481720"/>
            <a:ext cx="1904760" cy="91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(RTE/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160" y="2276640"/>
            <a:ext cx="1181160" cy="38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17760" y="1790640"/>
            <a:ext cx="95904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17760" y="2224080"/>
            <a:ext cx="95904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5040" y="1676520"/>
            <a:ext cx="15843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nowledge Base Co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3"/>
            <a:endCxn id="200" idx="2"/>
          </p:cNvCxnSpPr>
          <p:nvPr/>
        </p:nvCxnSpPr>
        <p:spPr>
          <a:xfrm>
            <a:off x="6629040" y="2171880"/>
            <a:ext cx="94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4"/>
            <a:endCxn id="208" idx="0"/>
          </p:cNvCxnSpPr>
          <p:nvPr/>
        </p:nvCxnSpPr>
        <p:spPr>
          <a:xfrm>
            <a:off x="8109000" y="2466720"/>
            <a:ext cx="720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1231920" y="194940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1981080"/>
            <a:ext cx="752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2414520"/>
            <a:ext cx="752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198108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1360" y="19810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68760" y="241308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038480"/>
            <a:ext cx="19270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 Math"/>
              </a:rPr>
              <a:t>P(Q|E,KB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MLN/PS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5" idx="2"/>
            <a:endCxn id="201" idx="0"/>
          </p:cNvCxnSpPr>
          <p:nvPr/>
        </p:nvCxnSpPr>
        <p:spPr>
          <a:xfrm>
            <a:off x="8126280" y="5105160"/>
            <a:ext cx="864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3920" y="327672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25909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1920" y="24703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720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dvantage of using logic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743200"/>
            <a:ext cx="190476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TE/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37339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05160" y="1752480"/>
            <a:ext cx="488880" cy="398880"/>
            <a:chOff x="2405160" y="1752480"/>
            <a:chExt cx="488880" cy="398880"/>
          </a:xfrm>
        </p:grpSpPr>
        <p:sp>
          <p:nvSpPr>
            <p:cNvPr id="223" name=""/>
            <p:cNvSpPr/>
            <p:nvPr/>
          </p:nvSpPr>
          <p:spPr>
            <a:xfrm>
              <a:off x="2405160" y="175248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8280" y="1752480"/>
              <a:ext cx="4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8653320" y="2743200"/>
            <a:ext cx="489240" cy="398880"/>
            <a:chOff x="8653320" y="2743200"/>
            <a:chExt cx="489240" cy="398880"/>
          </a:xfrm>
        </p:grpSpPr>
        <p:sp>
          <p:nvSpPr>
            <p:cNvPr id="226" name=""/>
            <p:cNvSpPr/>
            <p:nvPr/>
          </p:nvSpPr>
          <p:spPr>
            <a:xfrm>
              <a:off x="8653320" y="274320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86800" y="2743200"/>
              <a:ext cx="4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215040" y="1981080"/>
            <a:ext cx="488880" cy="398880"/>
            <a:chOff x="6215040" y="1981080"/>
            <a:chExt cx="488880" cy="398880"/>
          </a:xfrm>
        </p:grpSpPr>
        <p:sp>
          <p:nvSpPr>
            <p:cNvPr id="229" name=""/>
            <p:cNvSpPr/>
            <p:nvPr/>
          </p:nvSpPr>
          <p:spPr>
            <a:xfrm>
              <a:off x="6215040" y="198108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1981080"/>
              <a:ext cx="4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686800" y="4343400"/>
            <a:ext cx="488880" cy="398880"/>
            <a:chOff x="8686800" y="4343400"/>
            <a:chExt cx="488880" cy="398880"/>
          </a:xfrm>
        </p:grpSpPr>
        <p:sp>
          <p:nvSpPr>
            <p:cNvPr id="232" name=""/>
            <p:cNvSpPr/>
            <p:nvPr/>
          </p:nvSpPr>
          <p:spPr>
            <a:xfrm>
              <a:off x="8686800" y="434340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0280" y="4343400"/>
              <a:ext cx="4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86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second president of the U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“John Ada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president that came after the first US pres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ntic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the meaning of natural text is re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to draw conclusions from that semantic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391520" y="1371600"/>
            <a:ext cx="1665000" cy="1665360"/>
            <a:chOff x="7391520" y="1371600"/>
            <a:chExt cx="1665000" cy="16653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391520" y="1371600"/>
              <a:ext cx="16650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391520" y="1371600"/>
              <a:ext cx="166500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8F228-AF76-4C94-8F86-821B569601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30C0F-7A91-4650-9C18-758714D1C0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arsing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input sentences to log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rule based system on top of a CCG parser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Bos, 20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driving a c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r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0B730-AF00-4168-ABA7-115DC34963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sk Representation</a:t>
            </a:r>
            <a:br>
              <a:rPr sz="3200"/>
            </a:br>
            <a:r>
              <a:rPr b="0" lang="da-DK" sz="2000" spc="-1" strike="noStrike">
                <a:solidFill>
                  <a:srgbClr val="000080"/>
                </a:solidFill>
                <a:latin typeface="Arial"/>
              </a:rPr>
              <a:t>[Beltagy et al., SemEval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all tasks as inferences of the form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Q|E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ferences: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P(H|T, KB), P(H|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T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classifier to map probabilities to RT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ferences: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P(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|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, KB), P(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|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gression to map probabilities to overall similar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F6DAF-B8B0-40C8-B7DC-54BE296838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2452680"/>
            <a:ext cx="838080" cy="83808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2438280"/>
            <a:ext cx="83844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809880"/>
            <a:ext cx="83808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809880"/>
            <a:ext cx="83808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1523880"/>
            <a:ext cx="83844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omain Closure Assumption (DC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universe other than the named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s need to be explicitly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quantifiers do not behave as expected becaus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te 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weety is a bird and it fl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birds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4400" y="3733920"/>
          <a:ext cx="6934320" cy="237780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2971800"/>
              </a:tblGrid>
              <a:tr h="565200"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Q|E,K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le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l birds 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A6305-2AA4-401B-A1C0-E803D37652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ole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john(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T, 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exis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.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olemized E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skolem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y.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1, C1),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2, C2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C7A4C-CA8D-49CB-82F6-6F667B6296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52440" y="152280"/>
          <a:ext cx="8458200" cy="1460520"/>
        </p:xfrm>
        <a:graphic>
          <a:graphicData uri="http://schemas.openxmlformats.org/drawingml/2006/table">
            <a:tbl>
              <a:tblPr/>
              <a:tblGrid>
                <a:gridCol w="1295280"/>
                <a:gridCol w="3124440"/>
                <a:gridCol w="4038480"/>
              </a:tblGrid>
              <a:tr h="36540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utur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: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introduce additional evidence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bird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gmatically, birds exis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s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ed exis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al constant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901ED-9982-471C-98F3-C3BB7B11C4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920" y="152280"/>
          <a:ext cx="8534160" cy="1339560"/>
        </p:xfrm>
        <a:graphic>
          <a:graphicData uri="http://schemas.openxmlformats.org/drawingml/2006/table">
            <a:tbl>
              <a:tblPr/>
              <a:tblGrid>
                <a:gridCol w="1136520"/>
                <a:gridCol w="3381480"/>
                <a:gridCol w="4016160"/>
              </a:tblGrid>
              <a:tr h="3340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26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utur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bird(         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F,         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 fly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   (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quantifiers work only on the constants of the giv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it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an extra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bird( 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ew bird can be shown to fly, then there is an explicit universal quantification in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5EEB-32D5-42BA-A5D0-F3429436CE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152280"/>
          <a:ext cx="8610480" cy="1460520"/>
        </p:xfrm>
        <a:graphic>
          <a:graphicData uri="http://schemas.openxmlformats.org/drawingml/2006/table">
            <a:tbl>
              <a:tblPr/>
              <a:tblGrid>
                <a:gridCol w="1143000"/>
                <a:gridCol w="3124080"/>
                <a:gridCol w="4343400"/>
              </a:tblGrid>
              <a:tr h="36540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26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utur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339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071800" y="2209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267080" y="2205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32B96-B8D0-4B75-B22E-A34102E286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Knowledge Base Construc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ackground knowledge as weighted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ordNe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Net: lexical database of word and their semantic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guy(x)    | w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nym: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car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vehicle(x) | w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ym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tall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hort(x) | w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EBEC2-1B84-4A65-8FC0-1245109B7F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24A43-F9FC-4E3C-B862-C7ACDFF48D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Knowledge Base Construc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ackground knowledge as weighted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Distributional rules (on-the-fly r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pairs of words 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a, b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/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H/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a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→ b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  | f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w 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cosine(a, b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f(w) = log(w/(1-w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42670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42670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67080" y="3962520"/>
            <a:ext cx="4951440" cy="2328840"/>
            <a:chOff x="4267080" y="3962520"/>
            <a:chExt cx="4951440" cy="23288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952880" y="3962520"/>
              <a:ext cx="339120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267080" y="5867280"/>
              <a:ext cx="4951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</a:rPr>
                <a:t>x.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</a:rPr>
                <a:t> hamster(x) → gerbil(x)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 Math"/>
                </a:rPr>
                <a:t>|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</a:rPr>
                <a:t>f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57800" y="4343400"/>
              <a:ext cx="53172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57800" y="422280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“semantic representation” 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utomated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? more NLP applications more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 Answering, Automated Grading, Machine Translation, Summarizatio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39EE9-0862-4B80-B5D5-10F8A550CD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4C51C-4CCA-4E20-BB91-84A97FBA24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Inferenc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problem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Q|E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it using MLN and PSL for RTE and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E using ML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S using ML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S using P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EC82D-74E3-4091-B498-C1062C77E4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PS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54BE8-8AB0-4047-8148-0F614036D6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LNs for RTE - Query Formula (QF) 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hemy (MLN’s implementation) calculates only probabilitie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nd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algorithm suppor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ery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Q|R) = Z(Q U R) / Z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[Gogate and Domingos,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33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 Math"/>
              </a:rPr>
              <a:t>Z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 constant of the probabilit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partition function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pl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[Gogate and Dechter,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earch is an algorithm to estimate the partition function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ixed graphical models (probabilistic and determinis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59B6D-4D5C-49E7-B2F1-E42C402417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MLNs for RTE - Modified Closed-world (MCW) </a:t>
            </a:r>
            <a:br>
              <a:rPr sz="3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N’s grounding generates very large graphic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O(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mbria Math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un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v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variables in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umber of constants in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36C5C-9551-4CD7-B5EB-9AA3208893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MLNs for RTE - Modified Closed-world (MCW) </a:t>
            </a:r>
            <a:br>
              <a:rPr sz="3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pr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y default, ground atoms have very low probabilities, unless shown otherwise thought 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 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man(M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D, M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man(x) | -2,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guy(x) | -2,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drive(x) |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B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guy(x) | 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guy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Atoms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man(M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 Math"/>
              </a:rPr>
              <a:t>man(D),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guy(M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 Math"/>
              </a:rPr>
              <a:t>guy(D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 Math"/>
              </a:rPr>
              <a:t>drive(M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drive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 MCW to eliminate unimportant ground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evidence  (evidence propa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ct version of low pr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atically reduces size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225E5-4080-44C4-9960-B020B4DD09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3819-296D-4DA1-9D3B-1DF3E78C18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LNs for ST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et al., *SEM 2013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conjunction in Q does not fit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“A man is driving”: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  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“A man is driving a bus”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bus(z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i-cla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combine their evidences using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eraging comb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atarajan et al., 2010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man(x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 z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bus(z)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 z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EF5F4-82DF-470A-8D30-BE3D9A99D0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S using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AAD2A-7BD6-438B-83D2-64B4CA4ACA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SL for ST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Erk and Mooney, ACL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MLN, conjunction in PSL does not fit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conjunctions in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ℓ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n) = avg( I(ℓ1), …, I(ℓ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” i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in the optimiz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ur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nding (details omit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4454C-630E-453F-8ADE-3D564CBD5F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E39A7-0FDD-4040-9481-FA537D5EED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10086-9126-4700-A3B7-FAAD386700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BB715-79F1-4524-9493-3DE663D125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</a:t>
            </a:r>
            <a:r>
              <a:rPr b="0" lang="ar-SA" sz="3600" spc="-1" strike="noStrike">
                <a:solidFill>
                  <a:srgbClr val="00008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ataset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K (RTE and ST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emEval 201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s Involving Compositional Knowled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pairs of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r-vid (ST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emEval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video description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00 pair of short video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r-par (ST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emEval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araphras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00 pair of long news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C309-77C3-4FE5-9968-FD23A7B141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– Knowledge Bas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+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tt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ett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is doing much better than MLN for the STS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F5733-9FD0-4E7A-976E-5D6C4B8F6C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600" y="1284120"/>
            <a:ext cx="9066240" cy="2905200"/>
            <a:chOff x="12600" y="1284120"/>
            <a:chExt cx="9066240" cy="29052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rcRect l="0" t="0" r="0" b="13594"/>
            <a:stretch/>
          </p:blipFill>
          <p:spPr>
            <a:xfrm>
              <a:off x="12600" y="1284120"/>
              <a:ext cx="9066240" cy="29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600" y="1284120"/>
              <a:ext cx="9066240" cy="29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581280" y="2057400"/>
            <a:ext cx="5408640" cy="2208240"/>
            <a:chOff x="3581280" y="2057400"/>
            <a:chExt cx="5408640" cy="2208240"/>
          </a:xfrm>
        </p:grpSpPr>
        <p:sp>
          <p:nvSpPr>
            <p:cNvPr id="326" name=""/>
            <p:cNvSpPr/>
            <p:nvPr/>
          </p:nvSpPr>
          <p:spPr>
            <a:xfrm>
              <a:off x="3581280" y="2057400"/>
              <a:ext cx="1293840" cy="1370160"/>
            </a:xfrm>
            <a:custGeom>
              <a:avLst/>
              <a:gdLst>
                <a:gd name="textAreaLeft" fmla="*/ 63000 w 1293840"/>
                <a:gd name="textAreaRight" fmla="*/ 1230840 w 1293840"/>
                <a:gd name="textAreaTop" fmla="*/ 63000 h 1370160"/>
                <a:gd name="textAreaBottom" fmla="*/ 1307160 h 1370160"/>
              </a:gdLst>
              <a:ahLst/>
              <a:rect l="textAreaLeft" t="textAreaTop" r="textAreaRight" b="textAreaBottom"/>
              <a:pathLst>
                <a:path w="21600" h="22874">
                  <a:moveTo>
                    <a:pt x="3600" y="0"/>
                  </a:moveTo>
                  <a:arcTo wR="3600" hR="3600" stAng="16200000" swAng="-5400000"/>
                  <a:lnTo>
                    <a:pt x="0" y="19274"/>
                  </a:lnTo>
                  <a:arcTo wR="3600" hR="3600" stAng="10800000" swAng="-5400000"/>
                  <a:lnTo>
                    <a:pt x="18000" y="22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52880" y="3276720"/>
              <a:ext cx="1293840" cy="98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2880" y="2057400"/>
              <a:ext cx="12938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1880" y="3276720"/>
              <a:ext cx="1293840" cy="98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11880" y="2057400"/>
              <a:ext cx="12938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96080" y="3276720"/>
              <a:ext cx="1293840" cy="98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6080" y="2057400"/>
              <a:ext cx="12938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952880" y="2895480"/>
            <a:ext cx="4037040" cy="1370160"/>
            <a:chOff x="4952880" y="2895480"/>
            <a:chExt cx="4037040" cy="1370160"/>
          </a:xfrm>
        </p:grpSpPr>
        <p:sp>
          <p:nvSpPr>
            <p:cNvPr id="334" name=""/>
            <p:cNvSpPr/>
            <p:nvPr/>
          </p:nvSpPr>
          <p:spPr>
            <a:xfrm>
              <a:off x="4952880" y="3733920"/>
              <a:ext cx="40370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2895480"/>
              <a:ext cx="4037040" cy="532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– Error analysis of RT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’s accuracy: 77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22.28%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ailment pairs classified as Neutral: 15.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diction pairs classified as Neutral: 6.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: 0.8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recision: 98.9%, recall: 78.5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 precision, low rec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behavior of logic-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(future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knowledge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some limitations in the detection of contra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418C3-A299-4115-BDEE-637CED778C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C05C3-E16E-46E5-8978-CF0909FCA2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aluation – Inference (RTE)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: SICK (from SemEval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: using Alchemy out-of-the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+qf: our algorithm to calculate probability of query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+mcw: mln with our modified-closed-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+qf+mcw: both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imeouts(3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in 27s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+q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in 51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+mc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+qf+mc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F3720-84E9-4F3B-B837-7577C64544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5638680"/>
            <a:ext cx="44956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aluation – Inference (STS)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Erk and Mooney, ACL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LN with PSL on the STS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L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LN timeouts (1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r-v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m 31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r-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1m 49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4m 24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MCW to MLN for a fairer comparison because PSL already h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zy g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BA48F-E87F-4D26-BE26-11D434C513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2971800"/>
            <a:ext cx="762120" cy="121932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1219320"/>
              <a:gd name="textAreaBottom" fmla="*/ 1182240 h 121932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65777-7DBF-4CFF-A777-8C540CF13D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1A8FF-299A-405B-8EC6-3233F2937D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RTE Task formul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Better detecting of 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where the current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P(H|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T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“No man is playing a flu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“A man is playing a large flu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on of contradic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Cambria Mat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fals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the logic point of 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    probabilis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  P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|T)  = 1 – P(H|T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T     probabilis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ambria Math"/>
              </a:rPr>
              <a:t>P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ff0000"/>
                </a:solidFill>
                <a:latin typeface="Cambria Math"/>
              </a:rPr>
              <a:t>T|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04A71-487B-44E0-9A49-48C1828E59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3F851-2C47-41DC-8E5B-9363B661DF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RTE Task formul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H|T) / P(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|H) / 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closed-world,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s tru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rue only when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d in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negation of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MLN with high weight not 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bird(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F,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F)  | w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 (Q|R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Q|E, R)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gating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13A81-61EB-4FF3-BAB5-04C48945B5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52440" y="152280"/>
          <a:ext cx="8458200" cy="1460520"/>
        </p:xfrm>
        <a:graphic>
          <a:graphicData uri="http://schemas.openxmlformats.org/drawingml/2006/table">
            <a:tbl>
              <a:tblPr/>
              <a:tblGrid>
                <a:gridCol w="1295280"/>
                <a:gridCol w="3124440"/>
                <a:gridCol w="4038480"/>
              </a:tblGrid>
              <a:tr h="36540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Work: 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876CA-02C6-4F62-9361-DCE21840CF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ture Work – Knowledge Base Construction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Precompiled rules of paraphrase collections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P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Ganitkevitch et al., NAACL 20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: “solves =&gt; finds a solution t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e,x. solve(e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e,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. find(e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e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solution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to(t,x)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able bi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tri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between logical expressions of the sentence with and without the rule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EC82-4AEC-4966-8BB4-E6FBBFA248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ture Work – Knowledge Base Construction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Phrasal distribution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inguistically motiv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mp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-phrase =&gt; noun-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x. little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kid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smart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boy(x) |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-verb-object =&gt; subject-verb-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x,y,z. man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agent(y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patient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car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guy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agent(y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ride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patient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bike(z) |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5853-05AC-42B1-BE03-0EE315F2B0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Inferenc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Better MLN inference with query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we estimate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Z(K U 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Z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both runs in one that expl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ila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Q U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nly ne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the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373B-D7BF-4E19-8A98-94310F8ED8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Inferenc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Generalized modified 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clear how to propagate evidence of rule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dea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live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W needs to be generalized to arbitrary ML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eliminate ground atoms that have: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ginal probability = prior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46607-D4FA-4571-8380-388D121207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Weight Learning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earning for infer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a better mapping from the weights we have on resources to MLN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how to weight different rule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t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earning for the STS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different parts of the sentence differ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“black dog” is more similar to “white dog” that “black c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hort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2203C-E9E8-4B72-8E23-2F5E09868C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Long-term Future Work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Question Ans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emantic representation is a general and expressive one, so apply it to mor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query, find an answer for it from large corpus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struct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finds best filling for existentially quantified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ference is the bottle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Generalized Quant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, most, many, … are not natively supported in first-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upport for them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on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Few and Most as weighted universally quantified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78E14-8A43-47BE-AA43-1A56EB9CBF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Long-term Future Work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Contextualize WordNe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ord Sense Disambiguation, then generate weighted inference rules from Word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Othe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ly, this is a language independent semantic re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ly, resources are not available especial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CGBa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rain parsers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Inference In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e the inference process and highlight most effectiv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ivial in MLN because all rules affect the final result to some ex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05628-BB41-4A33-B2E3-F3B81F5AC0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Semantic Representations - Formal Semantics</a:t>
            </a:r>
            <a:endParaRPr b="0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natural language to som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mal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first-order logic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Montague, 197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driving a c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car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 Relations, Negations, Disjunctions, Quantifier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utomated i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: Unable to handl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certain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. Why important ? (pickle, cucumber), (cut, sl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9B925-DEF8-4737-BABB-043FF4FA92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72080" y="6661080"/>
            <a:ext cx="181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59FE7-24EB-4147-A54F-5EBB8637E8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logic for semantic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vity, automated inference and grad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n RTE and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ing tasks as probabilistic logic 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a 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ing inference efficiently base on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hort term future work, 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formulation of the RTE task, build bigger knowledge base from more resources, generalize the modified closed-world assumption, enhance our MLN inference algorithm, and use some weight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long term future work, 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our semantic representation to the question answering task, support generalized quantifiers, contextualize WordNet rules, apply our semantic representation to other languages and implementing a probabilistic logic inference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1770120"/>
            <a:ext cx="9144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mantic Representations - Distributional Semantics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words and phrases occu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ilar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text to represent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high-dimensional sp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and phrases similarit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imilarity(“water”, “bathtub”) = cosine(water, batht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: robust probabilistic model that captur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on of simila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on for the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ACB8D-5212-44A6-AE63-EB7CDEA6C4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1840" y="32148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96240" y="32148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84CBB-CE72-4718-895A-9B55B91F2F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posed Semantic Represent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emantic representation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abilist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dvantag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Semantics (expressive + automated in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al Semantics (graded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065BC-3AE8-4CD7-8FE1-4408EF45A4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bil</cp:lastModifiedBy>
  <dcterms:modified xsi:type="dcterms:W3CDTF">2014-10-27T17:19:22Z</dcterms:modified>
  <cp:revision>1102</cp:revision>
  <dc:subject/>
  <dc:title>Intelligent Information Retrieval and Web Search</dc:title>
</cp:coreProperties>
</file>