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9480" y="693360"/>
            <a:ext cx="4481280" cy="33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08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8972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3881520" y="0"/>
            <a:ext cx="28972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662680"/>
            <a:ext cx="2897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1520" y="8662680"/>
            <a:ext cx="2897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DA70-3097-47A1-AD76-2DEF888F7E6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B7893-B0BA-4281-8D7A-9590CDDEA8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2364E-05D6-474A-8882-983C6A1B82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D4EE8-3703-4E84-BD41-3BB1F1110691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008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D805A-E5C0-4AB3-B398-D837701517DC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92B4-25C3-49D6-B800-3CAEDD1CC28E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EAE26-7359-4037-A6AC-321B414C9FC9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BCB92-18CD-46A5-A32B-80DB556CC376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9B716-60EE-4373-B960-1C0E5A808A3E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74C9D-C15A-44A3-92F0-91D87A89795F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AA691-2E2D-46A9-864A-B17A59948DF4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D9A58-6073-4E0A-AFB3-9068D27C1068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145040" y="9118440"/>
            <a:ext cx="310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604E7-45FC-47B0-AAD1-A6EA7AD3830B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5BEEB-CEDA-449B-8877-B3455C6CE6C9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2CF5-8610-44A0-BFB9-2E59A0C9B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8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81800"/>
            <a:ext cx="8228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3CE7-24F6-4F75-B5A4-289B58F6E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C921-7F3E-4A89-883D-409590C24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1932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1932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8180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78180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781800"/>
            <a:ext cx="2649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80BA-ED0A-4C69-816B-439F91484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81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A386-779E-4972-B13A-3DB9CF8A0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8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5718-5C4C-4FFC-9651-4E8B3E464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BB9A-3A77-4E15-8753-401AD0A11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D0B3-0081-42D5-823D-0D2B64D52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FE7A-F05F-40EE-A138-67D5AAEF5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DB61-6D13-482E-B49E-814D1CD55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78180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7AD0-30EE-4A7D-82C6-3E85E3747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19320"/>
            <a:ext cx="40150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81800"/>
            <a:ext cx="8228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DDB2-E96C-4511-9091-7169003C4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8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ar-SA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D6D4C-803C-4235-9195-693E2F5F32D0}" type="slidenum">
              <a:rPr b="0" lang="ar-S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Natural Language Semantics using Probabilistic Logic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327924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elt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toral Disser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ing Professors: Raymond J. Mooney, Katrin 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CA6A-5995-4170-8C5E-5F1D122573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Relational Learning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Getoor and Taskar, 20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logical and statist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mechanism for probabilistic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-order logi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ru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ules (compared to hard logical constra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ctly encode complex probabilistic graph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P(Q|E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ov Logic Network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N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Soft Logic (PSL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Kimmig et al., NIPS 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   smoke(x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ncer(x)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|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friend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(smok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smoke(y)) |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Anna (A) and Bob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620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813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5181480"/>
            <a:ext cx="1752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0"/>
            <a:endCxn id="132" idx="4"/>
          </p:cNvCxnSpPr>
          <p:nvPr/>
        </p:nvCxnSpPr>
        <p:spPr>
          <a:xfrm flipH="1" flipV="1">
            <a:off x="3466800" y="4571280"/>
            <a:ext cx="95328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7" name=""/>
          <p:cNvCxnSpPr>
            <a:stCxn id="132" idx="6"/>
            <a:endCxn id="135" idx="2"/>
          </p:cNvCxnSpPr>
          <p:nvPr/>
        </p:nvCxnSpPr>
        <p:spPr>
          <a:xfrm>
            <a:off x="415296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8" name=""/>
          <p:cNvCxnSpPr>
            <a:stCxn id="135" idx="4"/>
            <a:endCxn id="134" idx="0"/>
          </p:cNvCxnSpPr>
          <p:nvPr/>
        </p:nvCxnSpPr>
        <p:spPr>
          <a:xfrm flipH="1">
            <a:off x="4419360" y="4571640"/>
            <a:ext cx="87696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9" name=""/>
          <p:cNvCxnSpPr>
            <a:stCxn id="132" idx="3"/>
            <a:endCxn id="131" idx="7"/>
          </p:cNvCxnSpPr>
          <p:nvPr/>
        </p:nvCxnSpPr>
        <p:spPr>
          <a:xfrm flipH="1">
            <a:off x="2731680" y="4494240"/>
            <a:ext cx="24984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40" name=""/>
          <p:cNvCxnSpPr>
            <a:stCxn id="133" idx="6"/>
            <a:endCxn id="132" idx="2"/>
          </p:cNvCxnSpPr>
          <p:nvPr/>
        </p:nvCxnSpPr>
        <p:spPr>
          <a:xfrm>
            <a:off x="2171520" y="4304880"/>
            <a:ext cx="61020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581280" y="312408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4"/>
            <a:endCxn id="132" idx="0"/>
          </p:cNvCxnSpPr>
          <p:nvPr/>
        </p:nvCxnSpPr>
        <p:spPr>
          <a:xfrm flipH="1">
            <a:off x="3466800" y="3657600"/>
            <a:ext cx="95328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43" name=""/>
          <p:cNvCxnSpPr>
            <a:stCxn id="135" idx="0"/>
            <a:endCxn id="141" idx="4"/>
          </p:cNvCxnSpPr>
          <p:nvPr/>
        </p:nvCxnSpPr>
        <p:spPr>
          <a:xfrm flipH="1" flipV="1">
            <a:off x="4419360" y="3657240"/>
            <a:ext cx="87696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59054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3896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5" idx="5"/>
            <a:endCxn id="144" idx="1"/>
          </p:cNvCxnSpPr>
          <p:nvPr/>
        </p:nvCxnSpPr>
        <p:spPr>
          <a:xfrm>
            <a:off x="5780160" y="4494240"/>
            <a:ext cx="32616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47" name=""/>
          <p:cNvCxnSpPr>
            <a:stCxn id="145" idx="2"/>
            <a:endCxn id="135" idx="6"/>
          </p:cNvCxnSpPr>
          <p:nvPr/>
        </p:nvCxnSpPr>
        <p:spPr>
          <a:xfrm flipH="1">
            <a:off x="598140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772400" y="1676520"/>
            <a:ext cx="762120" cy="14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2055960"/>
            <a:ext cx="76212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 flipV="1">
            <a:off x="4114800" y="4396680"/>
            <a:ext cx="519840" cy="396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D2B83-66FC-47B9-8D64-93579D499F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Mass Function (P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calculate probability of atoms given evidenc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35320" y="3286080"/>
            <a:ext cx="2108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0640" y="3027240"/>
            <a:ext cx="18414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35360" y="2563560"/>
            <a:ext cx="1035000" cy="8636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V="1">
            <a:off x="1828800" y="2557080"/>
            <a:ext cx="95328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28800" y="2038320"/>
                <a:ext cx="4694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362320" y="328608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2649600"/>
            <a:ext cx="685800" cy="7207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680" y="3286080"/>
            <a:ext cx="193356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550C3-DF96-4857-93CE-D2AA7095AF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4" idx="3"/>
          </p:cNvCxnSpPr>
          <p:nvPr/>
        </p:nvCxnSpPr>
        <p:spPr>
          <a:xfrm flipV="1">
            <a:off x="1828800" y="2557080"/>
            <a:ext cx="589680" cy="2325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169920" y="2468520"/>
            <a:ext cx="16588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475160" y="2649600"/>
            <a:ext cx="685800" cy="7207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SL: Probabilistic Soft Logic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Kimmig et al., NIPS 2012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framework designed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ha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th values in interval [0,1] (Boolean atoms in ML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ukasiewicz relaxation of 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ℓ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2) = max {0, I(ℓ1) + I(ℓ2) –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ℓ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2) = min {1, I(ℓ1) + I(ℓ2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1)      = 1 – I(ℓ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(combinatorial counting problem in ML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98715-829C-47D2-9D32-90071DEB86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SL: Probabilistic Soft Logic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Kimmig et al., NIPS 2012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Most Probable Explanation (M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06720" y="1955880"/>
            <a:ext cx="5172120" cy="1108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624640" y="3251160"/>
            <a:ext cx="127944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18280" y="2990880"/>
            <a:ext cx="14922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o satisfaction of rul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546520" y="2495160"/>
            <a:ext cx="495000" cy="8002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153120" y="2535120"/>
            <a:ext cx="1022400" cy="8510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V="1">
            <a:off x="1757160" y="2520720"/>
            <a:ext cx="95292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757600" y="325116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41720" y="2620800"/>
            <a:ext cx="326880" cy="6955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680" y="3251160"/>
            <a:ext cx="239400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251160"/>
            <a:ext cx="84132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57680" y="2860560"/>
            <a:ext cx="49536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57A47-76DF-4512-909E-F53DFDD5B3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2240" y="2214720"/>
            <a:ext cx="152280" cy="22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2B57-0C87-4F82-9CA9-B49060C6F3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Task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asks that require deep semantic understanding to do well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Recognizing Textual Entailment (RTE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Dagan et al., 20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sentence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inding if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ails, Contradicts or not related (Neutral) to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ail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walking through the w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walking through a wooded are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radic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jumping into an empty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jumping into a full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tr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young girl is danc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young girl is standing on one le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EDB8D-9373-4C77-89BB-11C01510A5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Task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asks that require deep semantic understanding to do well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emantic Textual Similarity (STS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Agirre et al., 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sentence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judge their semantic similarity on a scale from 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: “A man is playing a guit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: “A woman is playing the guitar.” 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ore: 2.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: “A car is park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: “A cat is playing.”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ore: 0.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10ECE-32D3-4DD0-9555-CB6A61D7C9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4C7BE-FC9E-4AEC-8672-D04399ECEB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ystem Architecture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Beltagy et al., *SEM 2013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01C8D-811C-4A91-A441-136A709E4E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0" y="1752480"/>
            <a:ext cx="117000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/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25760" y="1752480"/>
            <a:ext cx="1143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72240" y="1874880"/>
            <a:ext cx="1073160" cy="592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82000" y="5481720"/>
            <a:ext cx="1904760" cy="91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(RTE/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160" y="2276640"/>
            <a:ext cx="1181160" cy="38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17760" y="1790640"/>
            <a:ext cx="95904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17760" y="2224080"/>
            <a:ext cx="95904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45040" y="1676520"/>
            <a:ext cx="15843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nowledge Base Co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3"/>
            <a:endCxn id="200" idx="2"/>
          </p:cNvCxnSpPr>
          <p:nvPr/>
        </p:nvCxnSpPr>
        <p:spPr>
          <a:xfrm>
            <a:off x="6629040" y="2171880"/>
            <a:ext cx="94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4"/>
            <a:endCxn id="208" idx="0"/>
          </p:cNvCxnSpPr>
          <p:nvPr/>
        </p:nvCxnSpPr>
        <p:spPr>
          <a:xfrm>
            <a:off x="8109000" y="2466720"/>
            <a:ext cx="720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1231920" y="194940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76800" y="1981080"/>
            <a:ext cx="752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2414520"/>
            <a:ext cx="752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198108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1360" y="19810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68760" y="241308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038480"/>
            <a:ext cx="19270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 Math"/>
              </a:rPr>
              <a:t>P(Q|E,KB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MLN/PS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5" idx="2"/>
            <a:endCxn id="201" idx="0"/>
          </p:cNvCxnSpPr>
          <p:nvPr/>
        </p:nvCxnSpPr>
        <p:spPr>
          <a:xfrm>
            <a:off x="8126280" y="5105160"/>
            <a:ext cx="864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3920" y="327672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25909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1920" y="24703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5720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dvantage of using logic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2743200"/>
            <a:ext cx="190476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TE/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37339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405160" y="1752480"/>
            <a:ext cx="488880" cy="398880"/>
            <a:chOff x="2405160" y="1752480"/>
            <a:chExt cx="488880" cy="398880"/>
          </a:xfrm>
        </p:grpSpPr>
        <p:sp>
          <p:nvSpPr>
            <p:cNvPr id="223" name=""/>
            <p:cNvSpPr/>
            <p:nvPr/>
          </p:nvSpPr>
          <p:spPr>
            <a:xfrm>
              <a:off x="2405160" y="175248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8280" y="1752480"/>
              <a:ext cx="4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8653320" y="2743200"/>
            <a:ext cx="489240" cy="398880"/>
            <a:chOff x="8653320" y="2743200"/>
            <a:chExt cx="489240" cy="398880"/>
          </a:xfrm>
        </p:grpSpPr>
        <p:sp>
          <p:nvSpPr>
            <p:cNvPr id="226" name=""/>
            <p:cNvSpPr/>
            <p:nvPr/>
          </p:nvSpPr>
          <p:spPr>
            <a:xfrm>
              <a:off x="8653320" y="274320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86800" y="2743200"/>
              <a:ext cx="4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215040" y="1981080"/>
            <a:ext cx="488880" cy="398880"/>
            <a:chOff x="6215040" y="1981080"/>
            <a:chExt cx="488880" cy="398880"/>
          </a:xfrm>
        </p:grpSpPr>
        <p:sp>
          <p:nvSpPr>
            <p:cNvPr id="229" name=""/>
            <p:cNvSpPr/>
            <p:nvPr/>
          </p:nvSpPr>
          <p:spPr>
            <a:xfrm>
              <a:off x="6215040" y="198108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8520" y="1981080"/>
              <a:ext cx="4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686800" y="4343400"/>
            <a:ext cx="488880" cy="398880"/>
            <a:chOff x="8686800" y="4343400"/>
            <a:chExt cx="488880" cy="398880"/>
          </a:xfrm>
        </p:grpSpPr>
        <p:sp>
          <p:nvSpPr>
            <p:cNvPr id="232" name=""/>
            <p:cNvSpPr/>
            <p:nvPr/>
          </p:nvSpPr>
          <p:spPr>
            <a:xfrm>
              <a:off x="8686800" y="4343400"/>
              <a:ext cx="379440" cy="379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0280" y="4343400"/>
              <a:ext cx="4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86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second president of the U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“John Ada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president that came after the first US pres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ntic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the meaning of natural text is re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to draw conclusions from that semantic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391520" y="1371600"/>
            <a:ext cx="1665000" cy="1665360"/>
            <a:chOff x="7391520" y="1371600"/>
            <a:chExt cx="1665000" cy="16653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391520" y="1371600"/>
              <a:ext cx="16650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391520" y="1371600"/>
              <a:ext cx="166500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9C20B-1E69-4A78-A4C6-6D775AA239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2EE5E-CC8E-4BC8-A85D-AE82B8B4C4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arsing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input sentences to log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rule based system on top of a CCG parser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Bos, 20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driving a c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r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4131C-CCA0-4CD0-B1C7-D0840E634A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sk Representation</a:t>
            </a:r>
            <a:br>
              <a:rPr sz="3200"/>
            </a:br>
            <a:r>
              <a:rPr b="0" lang="da-DK" sz="2000" spc="-1" strike="noStrike">
                <a:solidFill>
                  <a:srgbClr val="000080"/>
                </a:solidFill>
                <a:latin typeface="Arial"/>
              </a:rPr>
              <a:t>[Beltagy et al., SemEval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all tasks as inferences of the form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Q|E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ferences: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P(H|T, KB), P(H|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T,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classifier to map probabilities to RT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ferences: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P(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|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, KB), P(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|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mbria Math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,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gression to map probabilities to overall similar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F5862-2DCB-4311-82CD-E67BDA9DD0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2452680"/>
            <a:ext cx="838080" cy="83808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2438280"/>
            <a:ext cx="83844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809880"/>
            <a:ext cx="83808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809880"/>
            <a:ext cx="83808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1523880"/>
            <a:ext cx="838440" cy="83844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omain Closure Assumption (DC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universe other than the named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s need to be explicitly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quantifiers do not behave as expected becaus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te 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weety is a bird and it fli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birds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4400" y="3733920"/>
          <a:ext cx="6934320" cy="237780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2971800"/>
              </a:tblGrid>
              <a:tr h="565200"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Q|E,K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le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l birds 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81D44-0F05-4434-9BE2-B9C051AE06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ole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john(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T, 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exis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.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olemized E: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skolem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y.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1, C1),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2, C2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513F0-A7D1-4384-B0D8-8AB4707034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52440" y="152280"/>
          <a:ext cx="8458200" cy="1460520"/>
        </p:xfrm>
        <a:graphic>
          <a:graphicData uri="http://schemas.openxmlformats.org/drawingml/2006/table">
            <a:tbl>
              <a:tblPr/>
              <a:tblGrid>
                <a:gridCol w="1295280"/>
                <a:gridCol w="3124440"/>
                <a:gridCol w="4038480"/>
              </a:tblGrid>
              <a:tr h="36540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utur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: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introduce additional evidence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bird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gmatically, birds exis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s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ed exis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ditional constant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E7A61-76B3-4B10-BCC6-8FA7C9435C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04920" y="152280"/>
          <a:ext cx="8534160" cy="1339560"/>
        </p:xfrm>
        <a:graphic>
          <a:graphicData uri="http://schemas.openxmlformats.org/drawingml/2006/table">
            <a:tbl>
              <a:tblPr/>
              <a:tblGrid>
                <a:gridCol w="1136520"/>
                <a:gridCol w="3381480"/>
                <a:gridCol w="4016160"/>
              </a:tblGrid>
              <a:tr h="3340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26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utur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bird(         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F,         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 fly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   (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quantifiers work only on the constants of the giv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it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an extra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bird( 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ew bird can be shown to fly, then there is an explicit universal quantification in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B1949-0BBE-40F0-9F6A-0B9F0BE82F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152280"/>
          <a:ext cx="8610480" cy="1460520"/>
        </p:xfrm>
        <a:graphic>
          <a:graphicData uri="http://schemas.openxmlformats.org/drawingml/2006/table">
            <a:tbl>
              <a:tblPr/>
              <a:tblGrid>
                <a:gridCol w="1143000"/>
                <a:gridCol w="3124080"/>
                <a:gridCol w="4343400"/>
              </a:tblGrid>
              <a:tr h="36540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26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utur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63392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071800" y="2209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267080" y="2205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6D8C8-A43F-4E10-9FB9-26D51291DB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Knowledge Base Construc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background knowledge as weighted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ordNe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Net: lexical database of word and their semantic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guy(x)    | w =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nym: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car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vehicle(x) | w =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ym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tall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hort(x) | w =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E8845-9472-4458-B0F8-DDCF5ADED5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04B04-F40F-41C7-94EE-961627326A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Knowledge Base Construc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background knowledge as weighted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Distributional rules (on-the-fly r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pairs of words 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a, b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/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H/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e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a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→ b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  | f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w 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cosine(a, b</a:t>
            </a:r>
            <a:r>
              <a:rPr b="0" lang="ar-SA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f(w) = log(w/(1-w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42670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42670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67080" y="3962520"/>
            <a:ext cx="4951440" cy="2328840"/>
            <a:chOff x="4267080" y="3962520"/>
            <a:chExt cx="4951440" cy="23288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4952880" y="3962520"/>
              <a:ext cx="339120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267080" y="5867280"/>
              <a:ext cx="4951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</a:rPr>
                <a:t>x.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</a:rPr>
                <a:t> hamster(x) → gerbil(x)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 Math"/>
                </a:rPr>
                <a:t>|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</a:rPr>
                <a:t>f(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57800" y="4343400"/>
              <a:ext cx="53172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57800" y="422280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“semantic representation” 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utomated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? more NLP applications more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 Answering, Automated Grading, Machine Translation, Summarizatio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3FC3F-456C-4909-9C51-6F91356856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4FF38-CE6D-41A1-BF88-9548D0EE74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Inferenc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problem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Q|E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it using MLN and PSL for RTE and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E using ML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S using ML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S using P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E19FA-514C-413E-80BD-1F1A1DADE7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PS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D6172-001F-4596-B3F4-0DBB237033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LNs for RTE - Query Formula (QF) 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hemy (MLN’s implementation) calculates only probabilitie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und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algorithm suppor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ery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Q|R) = Z(Q U R) / Z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[Gogate and Domingos,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33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 Math"/>
              </a:rPr>
              <a:t>Z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 constant of the probabilit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partition function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pl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[Gogate and Dechter,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Search is an algorithm to estimate the partition function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ixed graphical models (probabilistic and determinis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0CE5B-270B-475F-9E61-B7DD6D6D23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MLNs for RTE - Modified Closed-world (MCW) </a:t>
            </a:r>
            <a:br>
              <a:rPr sz="3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N’s grounding generates very large graphic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O(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mbria Math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mbria Math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un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v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variables in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umber of constants in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1A554-5A0A-432A-A505-7D54D1BEB1C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MLNs for RTE - Modified Closed-world (MCW) </a:t>
            </a:r>
            <a:br>
              <a:rPr sz="3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pr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y default, ground atoms have very low probabilities, unless shown otherwise thought 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 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man(M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D, M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man(x) | -2,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guy(x) | -2,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drive(x) |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B: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guy(x) | 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guy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Atoms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man(M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 Math"/>
              </a:rPr>
              <a:t>man(D),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guy(M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 Math"/>
              </a:rPr>
              <a:t>guy(D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 Math"/>
              </a:rPr>
              <a:t>drive(M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drive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 MCW to eliminate unimportant ground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evidence  (evidence propa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ct version of low pr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matically reduces size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24576-4155-4673-8650-EF416A02CC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FE73D-4665-48BC-9B20-B6C6A553C4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LNs for ST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et al., *SEM 2013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conjunction in Q does not fit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“A man is driving”: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  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“A man is driving a bus”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ma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bus(z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i-cla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combine their evidences using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veraging combi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atarajan et al., 2010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man(x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 z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bus(z)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 z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result(x,y,z)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4FA7B-B293-43AC-A2A2-D796917122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TE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TS using ML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S using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89EDC-68A0-4054-B9A2-2B7D675CFF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SL for ST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Erk and Mooney, ACL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MLN, conjunction in PSL does not fit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conjunctions in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I(ℓ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ℓn) = avg( I(ℓ1), …, I(ℓ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” i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in the optimiz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ur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nding (details omit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71139-A163-47AA-87AE-F89F842395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AA1ED-94CD-4A54-9AD6-3279907324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3087A-2035-4F43-8B81-3C0E764247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E94D3-4D1C-4676-ADB5-7437FFE7A6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</a:t>
            </a:r>
            <a:r>
              <a:rPr b="0" lang="ar-SA" sz="3600" spc="-1" strike="noStrike">
                <a:solidFill>
                  <a:srgbClr val="00008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ataset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K (RTE and ST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emEval 201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s Involving Compositional Knowled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pairs of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r-vid (ST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emEval 20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video description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00 pair of short video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r-par (ST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emEval 20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araphras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00 pair of long news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5F108-BB31-4AE3-AC77-496C9AC8EC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– Knowledge Bas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+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tter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etter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is doing much better than MLN for the STS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C4B5A-5A3F-425B-9C51-201F9F56C0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600" y="1284120"/>
            <a:ext cx="9066240" cy="2905200"/>
            <a:chOff x="12600" y="1284120"/>
            <a:chExt cx="9066240" cy="290520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rcRect l="0" t="0" r="0" b="13594"/>
            <a:stretch/>
          </p:blipFill>
          <p:spPr>
            <a:xfrm>
              <a:off x="12600" y="1284120"/>
              <a:ext cx="9066240" cy="29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600" y="1284120"/>
              <a:ext cx="9066240" cy="29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581280" y="2057400"/>
            <a:ext cx="5408640" cy="2208240"/>
            <a:chOff x="3581280" y="2057400"/>
            <a:chExt cx="5408640" cy="2208240"/>
          </a:xfrm>
        </p:grpSpPr>
        <p:sp>
          <p:nvSpPr>
            <p:cNvPr id="326" name=""/>
            <p:cNvSpPr/>
            <p:nvPr/>
          </p:nvSpPr>
          <p:spPr>
            <a:xfrm>
              <a:off x="3581280" y="2057400"/>
              <a:ext cx="1293840" cy="1370160"/>
            </a:xfrm>
            <a:custGeom>
              <a:avLst/>
              <a:gdLst>
                <a:gd name="textAreaLeft" fmla="*/ 63000 w 1293840"/>
                <a:gd name="textAreaRight" fmla="*/ 1230840 w 1293840"/>
                <a:gd name="textAreaTop" fmla="*/ 63000 h 1370160"/>
                <a:gd name="textAreaBottom" fmla="*/ 1307160 h 1370160"/>
              </a:gdLst>
              <a:ahLst/>
              <a:rect l="textAreaLeft" t="textAreaTop" r="textAreaRight" b="textAreaBottom"/>
              <a:pathLst>
                <a:path w="21600" h="22874">
                  <a:moveTo>
                    <a:pt x="3600" y="0"/>
                  </a:moveTo>
                  <a:arcTo wR="3600" hR="3600" stAng="16200000" swAng="-5400000"/>
                  <a:lnTo>
                    <a:pt x="0" y="19274"/>
                  </a:lnTo>
                  <a:arcTo wR="3600" hR="3600" stAng="10800000" swAng="-5400000"/>
                  <a:lnTo>
                    <a:pt x="18000" y="22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52880" y="3276720"/>
              <a:ext cx="1293840" cy="98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52880" y="2057400"/>
              <a:ext cx="12938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1880" y="3276720"/>
              <a:ext cx="1293840" cy="98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11880" y="2057400"/>
              <a:ext cx="12938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96080" y="3276720"/>
              <a:ext cx="1293840" cy="98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6080" y="2057400"/>
              <a:ext cx="12938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952880" y="2895480"/>
            <a:ext cx="4037040" cy="1370160"/>
            <a:chOff x="4952880" y="2895480"/>
            <a:chExt cx="4037040" cy="1370160"/>
          </a:xfrm>
        </p:grpSpPr>
        <p:sp>
          <p:nvSpPr>
            <p:cNvPr id="334" name=""/>
            <p:cNvSpPr/>
            <p:nvPr/>
          </p:nvSpPr>
          <p:spPr>
            <a:xfrm>
              <a:off x="4952880" y="3733920"/>
              <a:ext cx="4037040" cy="531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2895480"/>
              <a:ext cx="4037040" cy="532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 – Error analysis of RT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’s accuracy: 77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22.28%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ailment pairs classified as Neutral: 15.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diction pairs classified as Neutral: 6.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: 0.8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recision: 98.9%, recall: 78.5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 precision, low rec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behavior of logic-ba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(future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knowledge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some limitations in the detection of contra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ABDA9-253F-4E8E-8F0B-1A8943EEC1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FBDF6-D2D9-4534-A040-18E917EBD0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aluation – Inference (RTE)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Mooney, StarAI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: SICK (from SemEval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: using Alchemy out-of-the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+qf: our algorithm to calculate probability of query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+mcw: mln with our modified-closed-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+qf+mcw: both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U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imeouts(3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min 27se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+q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min 51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+mc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+qf+mc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9980F-B288-44C9-BE81-78FD62A85D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5638680"/>
            <a:ext cx="44956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aluation – Inference (STS)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[Beltagy and Erk and Mooney, ACL 2014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LN with PSL on the STS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L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N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LN timeouts (1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r-v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m 31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r-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1m 49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4m 24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MCW to MLN for a fairer comparison because PSL already h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zy g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8D8C5-B1A3-4DE7-9ED2-6EAFBDCF6B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2971800"/>
            <a:ext cx="762120" cy="121932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1219320"/>
              <a:gd name="textAreaBottom" fmla="*/ 1182240 h 121932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4B7D7-6697-4415-A532-18F707E478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59854-8C3D-4E5A-B227-290D31CBE1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RTE Task formul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Better detecting of contra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where the current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P(H|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T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“No man is playing a flu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: “A man is playing a large flu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on of contradic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Cambria Mat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fals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the logic point of 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    probabilis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  P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|T)  = 1 – P(H|T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T     probabilisti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ambria Math"/>
              </a:rPr>
              <a:t>P(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ff0000"/>
                </a:solidFill>
                <a:latin typeface="Cambria Math"/>
              </a:rPr>
              <a:t>T|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D9EF9-304F-4E68-A65D-05BCFAE4C0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F0123-97D2-4F9C-9FA5-B98E4DC91E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RTE Task formul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H|T) / P(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|H) / 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closed-world,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s tru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true only when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d in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negation of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MLN with high weight not in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bird(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F,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F)  | w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 (Q|R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Q|E, R)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gating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BE679-C9A1-4643-83F9-16BB13D2A5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52440" y="152280"/>
          <a:ext cx="8458200" cy="1460520"/>
        </p:xfrm>
        <a:graphic>
          <a:graphicData uri="http://schemas.openxmlformats.org/drawingml/2006/table">
            <a:tbl>
              <a:tblPr/>
              <a:tblGrid>
                <a:gridCol w="1295280"/>
                <a:gridCol w="3124440"/>
                <a:gridCol w="4038480"/>
              </a:tblGrid>
              <a:tr h="36540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(Q|E,K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kolem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l birds fly ⇏ Some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weety is a bird. It flies 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All birds 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Work: 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B377-5330-4745-AE6F-6BD838C460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uture Work – Knowledge Base Construction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Precompiled rules of paraphrase collections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P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Ganitkevitch et al., NAACL 20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: “solves =&gt; finds a solution t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e,x. solve(e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e,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. find(e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e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solution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to(t,x) |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riable bi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tri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between logical expressions of the sentence with and without the rule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53194-7AF4-42C3-BA48-CA3140210A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uture Work – Knowledge Base Construction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Phrasal distribution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inguistically motiv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mp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-phrase =&gt; noun-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x. little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kid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smart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boy(x) |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-verb-object =&gt; subject-verb-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x,y,z. man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agent(y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patient(y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car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guy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agent(y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ride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patient(y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bike(z) |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ABF0D-7FCF-42B3-AA42-083BD5F88C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Inferenc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Better MLN inference with query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we estimate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Z(K U 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Z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both runs in one that expl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ila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Q U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nly ne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t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the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C342F-57B3-4CAE-97DD-7E00C0B0F6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Inferenc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Generalized modified 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clear how to propagate evidence of rule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dea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live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W needs to be generalized to arbitrary ML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eliminate ground atoms that have: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rginal probability = prior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80791-6602-4246-B9ED-3210F4EAF5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 – Weight Learning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earning for infer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a better mapping from the weights we have on resources to MLN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how to weight different rule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t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earning for the STS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different parts of the sentence differ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“black dog” is more similar to “white dog” that “black c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hort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A48AA-1E87-4478-B9EC-D52729802C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Long-term Future Work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Question Ans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emantic representation is a general and expressive one, so apply it to mor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query, find an answer for it from large corpus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structu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finds best filling for existentially quantified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ference is the bottle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Generalized Quant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, most, many, … are not natively supported in first-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upport for them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on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Few and Most as weighted universally quantified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C2BB-79F3-4919-B8FD-4D80A62EC4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Long-term Future Work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Contextualize WordNe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ord Sense Disambiguation, then generate weighted inference rules from Word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Other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tically, this is a language independent semantic re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ly, resources are not available especial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CGBa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rain parsers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Inference Insp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e the inference process and highlight most effectiv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ivial in MLN because all rules affect the final result to some ex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5DBC-76EA-4C58-9410-4B2B48C994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Arial"/>
              </a:rPr>
              <a:t>Semantic Representations - Formal Semantics</a:t>
            </a:r>
            <a:endParaRPr b="0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natural language to som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mal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first-order logic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Montague, 197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driving a c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car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 Relations, Negations, Disjunctions, Quantifier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automated i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: Unable to handl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certain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. Why important ? (pickle, cucumber), (cut, sl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0ECD1-7611-4042-9DD2-9B81BC21F6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72080" y="6661080"/>
            <a:ext cx="181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DE398-8AD4-423F-94C5-8646BAC9A8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logic for semantic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vity, automated inference and grad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n RTE and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ing tasks as probabilistic logic 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a knowledg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ing inference efficiently base on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hort term future work, 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formulation of the RTE task, build bigger knowledge base from more resources, generalize the modified closed-world assumption, enhance our MLN inference algorithm, and use some weight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long term future work, 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our semantic representation to the question answering task, support generalized quantifiers, contextualize WordNet rules, apply our semantic representation to other languages and implementing a probabilistic logic inference insp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1770120"/>
            <a:ext cx="91440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mantic Representations - Distributional Semantics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words and phrases occu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ilar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text to represent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high-dimensional sp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and phrases similarit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imilarity(“water”, “bathtub”) = cosine(water, batht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: robust probabilistic model that captur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on of simila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on for the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43D53-2CE5-4A24-A437-54B1825818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1840" y="32148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96240" y="32148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CBA36-51FC-44F9-89FC-D553527C7F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posed Semantic Represent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emantic representation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abilist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dvantag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Semantics (expressive + automated infe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al Semantics (graded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mantic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sing and task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Knowledge 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50F3E-F172-4524-9F3F-738122DBCD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bil</cp:lastModifiedBy>
  <dcterms:modified xsi:type="dcterms:W3CDTF">2014-10-27T17:19:22Z</dcterms:modified>
  <cp:revision>1102</cp:revision>
  <dc:subject/>
  <dc:title>Intelligent Information Retrieval and Web Search</dc:title>
</cp:coreProperties>
</file>