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495680" cy="33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49672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3885840" y="8659800"/>
            <a:ext cx="290988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BB2DF-8CCB-41F0-93E2-5141A89A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A684A-50C2-454D-B358-9D5F6C90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3AE42-D528-46FA-8270-08B005BEB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B0873-6AB8-4D3A-8F20-CD321FD589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3EB34-BE02-4498-B0A0-C3FE92B6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rittle: It fails to capture the graded, uncertain nature of meaning in N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rittle: It fails to capture the graded, uncertain nature of meaning in N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ights: Larger weight indicates stronger belief that the clause should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5712-3744-44EE-801B-AD8A35495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1048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7920"/>
            <a:ext cx="771048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14B7-DE7E-4EA0-BCF4-32569D971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E188-1D53-4947-B54D-FFC706FB0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37160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0040" y="137160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792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8792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0040" y="3787920"/>
            <a:ext cx="24825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6F8C-2419-41EC-B66C-EE3042E7B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104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214F-FCF8-448A-B66C-5C8EACC19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10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C555-0061-479C-BFCB-9240E701C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C09C-9436-45EC-BDD1-339B153F5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710A-2120-49C4-BD53-F27EF7411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10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BF39-9468-4E12-B0E7-24A5BF0B4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89F4-A648-4AB3-AB6F-4B5E7AC23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800" y="378792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43B5-DC19-4A8B-940B-AE9AB43E0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800" y="1371600"/>
            <a:ext cx="3762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7920"/>
            <a:ext cx="771048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952F-4D13-4D60-AD80-8D85CC528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10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842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DC29D-6C24-41DE-815B-679F37E7678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69840" y="3780000"/>
            <a:ext cx="77184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 Belta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uong Chau, Gemma Bole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Garrette, Katrin Erk, Raymond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" y="90360"/>
            <a:ext cx="1951200" cy="23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98640" y="42840"/>
            <a:ext cx="1474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Mont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9469" t="4341" r="18348" b="29026"/>
          <a:stretch/>
        </p:blipFill>
        <p:spPr>
          <a:xfrm>
            <a:off x="7157880" y="77760"/>
            <a:ext cx="1947960" cy="24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89840" y="49320"/>
            <a:ext cx="102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y Mar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tague Meets Markov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ep Semantics with Probabilistic Logical 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gnizing Textual Entailment (RT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sentences,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m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the first entails the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A male gorilla escaped from his cage in Berlin zoo and sent terrified visitors running for cover, the zoo said yesterd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A gorilla escaped from his cage in a zoo in Germany.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74A32-7730-4982-84A9-25621926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ystem Archite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64EBD-04CB-49DE-B300-79CF2FB5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5000" y="1409760"/>
            <a:ext cx="114624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73360" y="1500120"/>
            <a:ext cx="115236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5080" y="1533600"/>
            <a:ext cx="1073160" cy="592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18320" y="3641760"/>
            <a:ext cx="1065240" cy="47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5000" y="1843200"/>
            <a:ext cx="1146240" cy="38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1409760"/>
            <a:ext cx="95868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1843200"/>
            <a:ext cx="958680" cy="38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45040" y="1500120"/>
            <a:ext cx="153036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.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2419200"/>
            <a:ext cx="2281320" cy="38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 flipH="1" flipV="1">
            <a:off x="5790960" y="2152080"/>
            <a:ext cx="216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6" idx="3"/>
            <a:endCxn id="171" idx="2"/>
          </p:cNvCxnSpPr>
          <p:nvPr/>
        </p:nvCxnSpPr>
        <p:spPr>
          <a:xfrm>
            <a:off x="6575400" y="1828800"/>
            <a:ext cx="104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4"/>
            <a:endCxn id="181" idx="0"/>
          </p:cNvCxnSpPr>
          <p:nvPr/>
        </p:nvCxnSpPr>
        <p:spPr>
          <a:xfrm>
            <a:off x="8151840" y="2125440"/>
            <a:ext cx="21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279440" y="160020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81240" y="203364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97320" y="1600200"/>
            <a:ext cx="752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97320" y="2033640"/>
            <a:ext cx="752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6160" y="1592280"/>
            <a:ext cx="144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25720" y="1600200"/>
            <a:ext cx="412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25720" y="2033640"/>
            <a:ext cx="412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15120" y="2579760"/>
            <a:ext cx="187488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H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N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1" idx="2"/>
            <a:endCxn id="172" idx="0"/>
          </p:cNvCxnSpPr>
          <p:nvPr/>
        </p:nvCxnSpPr>
        <p:spPr>
          <a:xfrm flipH="1">
            <a:off x="8151480" y="3238560"/>
            <a:ext cx="21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20" y="3429000"/>
            <a:ext cx="6813360" cy="3124080"/>
          </a:xfrm>
          <a:prstGeom prst="rect">
            <a:avLst/>
          </a:prstGeom>
          <a:noFill/>
          <a:ln w="648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Bos, et al. 2004]: maps sentence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al Rule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enerates relev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rules based on distributional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HE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babilistic MLN 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g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40120" y="2921040"/>
            <a:ext cx="337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43360" y="2225520"/>
            <a:ext cx="144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1790640"/>
            <a:ext cx="7620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e Logical For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se: “A man is cutting pick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man(x) ^ cut(y) ^ agent(y, x) ^ pickles(z) ^ patient(y, 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: “A guy is slicing cucum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guy(x) ^ slice(y) ^ agent(y, x) ^ cucumber(z) ^ patient(y, z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in the que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 to negated hypothesis in standard theorem 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guy(x) ^ slice(y) ^ agent(y, x) ^ cucumber(z) ^ patient(y, z) → resul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resul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Degree of Entail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292640"/>
            <a:ext cx="75438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5DD7-7234-4732-8FCA-9520DAE5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5C6C1-C200-469F-8EE3-621D0648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tributional Lexical Ru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pair of wor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 a soft rule relating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a(x) → b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a, b) = f( cos(a, 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e: “A man is cutting  pick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 “A guy is slicing cucumb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man(x) → guy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man, gu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cut(x) → slice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cut, sl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pickle(x) → cucumber(x)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wt(pickle, cuc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9440" y="26161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 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tributional Phrase Ru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 boy is play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y is play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rules for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sana Math"/>
              </a:rPr>
              <a:t>x boy(x) → little(x) ^ boy(x) | wt(boy, "little boy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vectors for phrases using vector ad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itchell &amp; Lapata,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ittle boy" = little + b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57200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5720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45720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2D3C9-B19C-427F-8C0C-3626BE58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4988D-7FDE-436A-986D-050CF8D4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1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liminary Results: RTE-1(2005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16960" cy="1447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only: [Bos &amp; Markert, 200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383A9-A388-44A7-A0C4-F31A6899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mantic Textual Similarity (STS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the semantic similarity of two sentences on a 0 to 5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standards are averaged over multiple human ju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y measuring correlation to human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y is cutt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y is cutting a zucchi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man is cooking a zucchi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is slicing a cuc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key is riding a bicy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2B407-3945-4662-A7FE-9195487F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ftening Conjunction for 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734D5-7FDE-4755-85EF-5717B647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conjunctions requires satisfying all conjuncts to satisfy the clause, which is too strict fo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( guy(x) ^ cut(y) ^ agent(y, x) ^ cucumber(z) ^ patient(y, z) → resul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sentence into “micro-clauses” then combine them using an “averaging combiner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atarajan et al.,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guy(x) ^ agent(y, x)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cut(y) ^ agent(y, x)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cut(y) ^ patient(y, z) 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840" indent="-265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x,y,z cucumber(z) ^ patient(y, z) → resul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liminary Results: STS 201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E6974-AA14-4C85-8504-4F1DC42B8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video description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pairs given human 0-5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500 pairs equally split into training/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rs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ystem with no distributional rules [Logic only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ystem with lexical r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ystem with lexical and phrase r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Addition [Distributional only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e our best score with vector ad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system in STS 2012 (large ensem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15920" y="3733920"/>
            <a:ext cx="66801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15920" y="4800600"/>
            <a:ext cx="6680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15920" y="3733920"/>
            <a:ext cx="6680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15920" y="4419720"/>
            <a:ext cx="66801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15920" y="5181480"/>
            <a:ext cx="6680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15920" y="5562720"/>
            <a:ext cx="6680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Semantic Re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79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first-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6000" y="1371600"/>
            <a:ext cx="45180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ion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06826-3967-40CF-BD7A-825FEBEA8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984480"/>
            <a:ext cx="769932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combine advantages of bo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antics in on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C613A-A08A-4924-B3D2-41151FE4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2AA4C-E5BB-49C1-8F22-77DF29D2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MLN inference to longer and more complex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parses to reduce impact of 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Rul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space methods for asymmetric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wt(cucumber→vegetable) </a:t>
            </a:r>
            <a:r>
              <a:rPr b="1" lang="en-US" sz="2000" spc="-1" strike="noStrike">
                <a:solidFill>
                  <a:srgbClr val="000000"/>
                </a:solidFill>
                <a:latin typeface="Asana Math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 wt(vegetable→cuc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rules from existing paraphrase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ophisticated phrase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75F05-A672-422C-AC4E-5909CE2ED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LN to represent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ical and distributional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semantics: represent sentences usin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logic and Soft inferenc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coverage of distributional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25480"/>
            <a:ext cx="914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10960"/>
            <a:ext cx="7728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8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mantic Re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both logical and distribution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meaning us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abi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ic (in contrast with standard first-order log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 (ML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distributional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9F954-9D01-41A8-8751-22A6A5F8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6840" y="4268880"/>
            <a:ext cx="3392640" cy="1893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64040" y="5176800"/>
            <a:ext cx="4572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Asana Math"/>
              </a:rPr>
              <a:t>x hamster(x) → gerbil(x)  </a:t>
            </a:r>
            <a:r>
              <a:rPr b="1" lang="en-US" sz="2200" spc="-1" strike="noStrike">
                <a:solidFill>
                  <a:srgbClr val="000000"/>
                </a:solidFill>
                <a:latin typeface="Asana Math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Asana Math"/>
              </a:rPr>
              <a:t>f(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D23EE-F821-4175-9FDD-C8AC01338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F85F2-4331-42BC-A4D8-3C9D7762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81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ichardson &amp; Domingos, 2006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N: Soft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5600" y="2884320"/>
            <a:ext cx="6553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8800" y="2971800"/>
                <a:ext cx="6026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09800" y="2884320"/>
            <a:ext cx="685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9480" y="2951280"/>
            <a:ext cx="425160" cy="803160"/>
          </a:xfrm>
          <a:prstGeom prst="rect">
            <a:avLst/>
          </a:prstGeom>
          <a:ln w="0">
            <a:noFill/>
          </a:ln>
        </p:spPr>
      </p:pic>
      <p:cxnSp>
        <p:nvCxnSpPr>
          <p:cNvPr id="115" name=""/>
          <p:cNvCxnSpPr/>
          <p:nvPr/>
        </p:nvCxnSpPr>
        <p:spPr>
          <a:xfrm flipH="1" flipV="1">
            <a:off x="4763520" y="3884040"/>
            <a:ext cx="1408680" cy="5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46640" y="4121280"/>
            <a:ext cx="19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flipV="1">
            <a:off x="1288440" y="3891960"/>
            <a:ext cx="1408680" cy="5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671920" y="4129200"/>
            <a:ext cx="25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4C45A-806E-473E-9791-1DC62E5B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81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ichardson &amp; Domingos, 2006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3440" y="2057400"/>
            <a:ext cx="6553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65120" y="2133720"/>
            <a:ext cx="6034320" cy="790560"/>
            <a:chOff x="1365120" y="2133720"/>
            <a:chExt cx="6034320" cy="79056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1365120" y="2133720"/>
                  <a:ext cx="60343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mokes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nc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x,y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riend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x,y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mokes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⇔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es</m:t>
                              </m:r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1365120" y="2133720"/>
              <a:ext cx="60343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7640" y="2057400"/>
            <a:ext cx="685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7320" y="2124000"/>
            <a:ext cx="425520" cy="803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62040" y="581652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81360" y="4826160"/>
            <a:ext cx="1371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680" y="4826160"/>
            <a:ext cx="1600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43480" y="6121440"/>
            <a:ext cx="1752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10160" y="4826160"/>
            <a:ext cx="1371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0"/>
            <a:endCxn id="128" idx="4"/>
          </p:cNvCxnSpPr>
          <p:nvPr/>
        </p:nvCxnSpPr>
        <p:spPr>
          <a:xfrm flipH="1" flipV="1">
            <a:off x="3466800" y="5358600"/>
            <a:ext cx="95328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3" name=""/>
          <p:cNvCxnSpPr>
            <a:stCxn id="128" idx="6"/>
            <a:endCxn id="131" idx="2"/>
          </p:cNvCxnSpPr>
          <p:nvPr/>
        </p:nvCxnSpPr>
        <p:spPr>
          <a:xfrm>
            <a:off x="4152960" y="509220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4" name=""/>
          <p:cNvCxnSpPr>
            <a:stCxn id="131" idx="4"/>
            <a:endCxn id="130" idx="0"/>
          </p:cNvCxnSpPr>
          <p:nvPr/>
        </p:nvCxnSpPr>
        <p:spPr>
          <a:xfrm flipH="1">
            <a:off x="4419360" y="5358960"/>
            <a:ext cx="876960" cy="7628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5" name=""/>
          <p:cNvCxnSpPr>
            <a:stCxn id="128" idx="3"/>
            <a:endCxn id="127" idx="7"/>
          </p:cNvCxnSpPr>
          <p:nvPr/>
        </p:nvCxnSpPr>
        <p:spPr>
          <a:xfrm flipH="1">
            <a:off x="2731680" y="5281200"/>
            <a:ext cx="249840" cy="61524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36" name=""/>
          <p:cNvCxnSpPr>
            <a:stCxn id="129" idx="6"/>
            <a:endCxn id="128" idx="2"/>
          </p:cNvCxnSpPr>
          <p:nvPr/>
        </p:nvCxnSpPr>
        <p:spPr>
          <a:xfrm>
            <a:off x="2171520" y="5092200"/>
            <a:ext cx="61020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3581280" y="375912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4"/>
            <a:endCxn id="128" idx="0"/>
          </p:cNvCxnSpPr>
          <p:nvPr/>
        </p:nvCxnSpPr>
        <p:spPr>
          <a:xfrm flipH="1">
            <a:off x="3466800" y="4292640"/>
            <a:ext cx="953280" cy="5342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cxnSp>
        <p:nvCxnSpPr>
          <p:cNvPr id="139" name=""/>
          <p:cNvCxnSpPr>
            <a:stCxn id="131" idx="0"/>
            <a:endCxn id="137" idx="4"/>
          </p:cNvCxnSpPr>
          <p:nvPr/>
        </p:nvCxnSpPr>
        <p:spPr>
          <a:xfrm flipH="1" flipV="1">
            <a:off x="4419360" y="4292280"/>
            <a:ext cx="876960" cy="53424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5905440" y="581652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38960" y="4826160"/>
            <a:ext cx="1600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1" idx="5"/>
            <a:endCxn id="140" idx="1"/>
          </p:cNvCxnSpPr>
          <p:nvPr/>
        </p:nvCxnSpPr>
        <p:spPr>
          <a:xfrm>
            <a:off x="5780160" y="5281200"/>
            <a:ext cx="326160" cy="615240"/>
          </a:xfrm>
          <a:prstGeom prst="straightConnector1">
            <a:avLst/>
          </a:prstGeom>
          <a:ln w="38160">
            <a:solidFill>
              <a:srgbClr val="990099"/>
            </a:solidFill>
            <a:miter/>
          </a:ln>
        </p:spPr>
      </p:cxnSp>
      <p:cxnSp>
        <p:nvCxnSpPr>
          <p:cNvPr id="143" name=""/>
          <p:cNvCxnSpPr>
            <a:stCxn id="141" idx="2"/>
            <a:endCxn id="131" idx="6"/>
          </p:cNvCxnSpPr>
          <p:nvPr/>
        </p:nvCxnSpPr>
        <p:spPr>
          <a:xfrm flipH="1">
            <a:off x="5981400" y="5092200"/>
            <a:ext cx="457920" cy="252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8039160" y="2362320"/>
            <a:ext cx="762120" cy="14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39160" y="2743200"/>
            <a:ext cx="76212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/>
          <p:nvPr/>
        </p:nvCxnSpPr>
        <p:spPr>
          <a:xfrm flipV="1">
            <a:off x="4114800" y="5186160"/>
            <a:ext cx="519840" cy="360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N: Template for constructing Markov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0C0CE-1CAA-4455-B1BF-B5493195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81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ov Logic Networks</a:t>
            </a:r>
            <a:br>
              <a:rPr sz="32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ichardson &amp; Domingos, 2006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0">
              <a:spcBef>
                <a:spcPts val="799"/>
              </a:spcBef>
              <a:buNone/>
              <a:tabLst>
                <a:tab algn="l" pos="0"/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: calculate probability of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sana Math"/>
              </a:rPr>
              <a:t>P(Cancer(Anna) | Friends(Anna,Bob), Smokes(Bo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35320" y="3286080"/>
            <a:ext cx="2108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0640" y="3027240"/>
            <a:ext cx="1841400" cy="9169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7680" y="2639880"/>
            <a:ext cx="609480" cy="6573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611680" y="2639880"/>
            <a:ext cx="882720" cy="7113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1828800" y="2557080"/>
            <a:ext cx="953280" cy="7293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828800" y="2038320"/>
                <a:ext cx="4694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362320" y="3286080"/>
            <a:ext cx="164628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2725200"/>
            <a:ext cx="685800" cy="5684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680" y="3286080"/>
            <a:ext cx="1933560" cy="64260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truth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E098-D6DD-4E1B-B73C-FA786F15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2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28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ckground: M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uture work and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A9C0A-0421-44CD-A6FC-8B03063F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a</cp:lastModifiedBy>
  <dcterms:modified xsi:type="dcterms:W3CDTF">2013-06-12T17:47:11Z</dcterms:modified>
  <cp:revision>444</cp:revision>
  <dc:subject/>
  <dc:title>Intelligent Information Retrieval and Web Search</dc:title>
</cp:coreProperties>
</file>