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495680" cy="335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496728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2"/>
          </p:nvPr>
        </p:nvSpPr>
        <p:spPr>
          <a:xfrm>
            <a:off x="3885840" y="8659800"/>
            <a:ext cx="290988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3696C-06A3-4E53-AC34-591A1CEA4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C0775-527A-4839-AE04-8787558E1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8715B-8AD3-40B0-9F8C-AB82D1054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1663D-554B-4E9D-ABBA-66525647BD8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97409-CB51-4ED0-93A1-6797550ED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Weights: Larger weight indicates stronger belief that the clause should 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Brittle: It fails to capture the graded, uncertain nature of meaning in N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Weights: Larger weight indicates stronger belief that the clause should 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Brittle: It fails to capture the graded, uncertain nature of meaning in N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Weights: Larger weight indicates stronger belief that the clause should 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Weights: Larger weight indicates stronger belief that the clause should 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Weights: Larger weight indicates stronger belief that the clause should 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Weights: Larger weight indicates stronger belief that the clause should 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FCC1-5F4E-4AFE-A79D-32C1CA635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1048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87920"/>
            <a:ext cx="771048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2093-7C7E-43A8-80F5-120331EC2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623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6800" y="1371600"/>
            <a:ext cx="37623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87920"/>
            <a:ext cx="37623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6800" y="3787920"/>
            <a:ext cx="37623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3FCD-22D7-4AEE-A813-6C5B48B17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4825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371600"/>
            <a:ext cx="24825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0040" y="1371600"/>
            <a:ext cx="24825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87920"/>
            <a:ext cx="24825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87920"/>
            <a:ext cx="24825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0040" y="3787920"/>
            <a:ext cx="24825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DE02-5EE2-4228-AEE2-9385B8A341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1048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94A1-68BE-433B-AE3F-6B7867591D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1048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FF28-81E7-449C-A552-E8A237118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6236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6800" y="1371600"/>
            <a:ext cx="376236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E60C-AF41-4568-9735-8DC78F1D7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322E-69A9-47DD-95C6-F90D0D182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10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599C-8FAF-4BD6-AEBC-189F1A575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623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6800" y="1371600"/>
            <a:ext cx="376236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87920"/>
            <a:ext cx="37623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3BC9-2687-4894-8177-B8DAD83BA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6236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800" y="1371600"/>
            <a:ext cx="37623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6800" y="3787920"/>
            <a:ext cx="37623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C8D2-5FD5-44CF-AAEB-BFC4F9F39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623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800" y="1371600"/>
            <a:ext cx="37623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87920"/>
            <a:ext cx="771048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6C86-CABF-49FD-90DD-E5310621E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1048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933960" y="6400800"/>
            <a:ext cx="1842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29595-34ED-4317-83C2-D08E876BF72C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69840" y="3780000"/>
            <a:ext cx="771840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 Belta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uong Chau, Gemma Bole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 Garrette, Katrin Erk, Raymond Mo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3200" y="90360"/>
            <a:ext cx="1951200" cy="2395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98640" y="42840"/>
            <a:ext cx="1474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Mont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19469" t="4341" r="18348" b="29026"/>
          <a:stretch/>
        </p:blipFill>
        <p:spPr>
          <a:xfrm>
            <a:off x="7157880" y="77760"/>
            <a:ext cx="1947960" cy="2409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89840" y="49320"/>
            <a:ext cx="102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ey Mark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ntague Meets Markov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ep Semantics with Probabilistic Logical For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cognizing Textual Entailment (RTE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wo sentences,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m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ypothe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es the first entails the seco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m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“A male gorilla escaped from his cage in Berlin zoo and sent terrified visitors running for cover, the zoo said yesterda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“A gorilla escaped from his cage in a zoo in Germany.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a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50817-DB19-4294-AD17-B02AD6928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ystem Architectur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F39B2-4EFE-4A0E-9857-64FDEB5F0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5000" y="1409760"/>
            <a:ext cx="1146240" cy="382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73360" y="1500120"/>
            <a:ext cx="1152360" cy="65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15080" y="1533600"/>
            <a:ext cx="1073160" cy="592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18320" y="3641760"/>
            <a:ext cx="1065240" cy="473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5000" y="1843200"/>
            <a:ext cx="1146240" cy="38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38640" y="1409760"/>
            <a:ext cx="958680" cy="382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38640" y="1843200"/>
            <a:ext cx="958680" cy="38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45040" y="1500120"/>
            <a:ext cx="1530360" cy="65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.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70280" y="2419200"/>
            <a:ext cx="2281320" cy="382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tor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/>
          <p:nvPr/>
        </p:nvCxnSpPr>
        <p:spPr>
          <a:xfrm flipH="1" flipV="1">
            <a:off x="5790960" y="2152080"/>
            <a:ext cx="216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6" idx="3"/>
            <a:endCxn id="171" idx="2"/>
          </p:cNvCxnSpPr>
          <p:nvPr/>
        </p:nvCxnSpPr>
        <p:spPr>
          <a:xfrm>
            <a:off x="6575400" y="1828800"/>
            <a:ext cx="1040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1" idx="4"/>
            <a:endCxn id="181" idx="0"/>
          </p:cNvCxnSpPr>
          <p:nvPr/>
        </p:nvCxnSpPr>
        <p:spPr>
          <a:xfrm>
            <a:off x="8151840" y="2125440"/>
            <a:ext cx="21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1279440" y="160020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81240" y="203364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97320" y="1600200"/>
            <a:ext cx="752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97320" y="2033640"/>
            <a:ext cx="752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56160" y="1592280"/>
            <a:ext cx="1440" cy="13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25720" y="1600200"/>
            <a:ext cx="412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25720" y="2033640"/>
            <a:ext cx="412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15120" y="2579760"/>
            <a:ext cx="1874880" cy="65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CH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N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81" idx="2"/>
            <a:endCxn id="172" idx="0"/>
          </p:cNvCxnSpPr>
          <p:nvPr/>
        </p:nvCxnSpPr>
        <p:spPr>
          <a:xfrm flipH="1">
            <a:off x="8151480" y="3238560"/>
            <a:ext cx="21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320" y="3429000"/>
            <a:ext cx="6813360" cy="3124080"/>
          </a:xfrm>
          <a:prstGeom prst="rect">
            <a:avLst/>
          </a:prstGeom>
          <a:noFill/>
          <a:ln w="648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X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Bos, et al. 2004]: maps sentences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ional Rule constr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generates releva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erence rules based on distributional simi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HEM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robabilistic MLN i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g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entai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40120" y="2921040"/>
            <a:ext cx="3375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43360" y="2225520"/>
            <a:ext cx="1440" cy="7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38080" y="1790640"/>
            <a:ext cx="76201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ample Logical For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mise: “A man is cutting pick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x,y,z ( man(x) ^ cut(y) ^ agent(y, x) ^ pickles(z) ^ patient(y, z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: “A guy is slicing cucumb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x,y,z ( guy(x) ^ slice(y) ^ agent(y, x) ^ cucumber(z) ^ patient(y, z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 in the query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y to negated hypothesis in standard theorem 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x,y,z ( guy(x) ^ slice(y) ^ agent(y, x) ^ cucumber(z) ^ patient(y, z) → result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result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Degree of Entailme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4292640"/>
            <a:ext cx="7543800" cy="5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1D785-BEE9-4D90-9EF1-ABF6EC962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1C4F1-0C5A-438C-B007-2A2B1A92A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istributional Lexical Rul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pair of word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d a soft rule relating the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x a(x) → b(x)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sana Math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wt(a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wt(a, b) = f( cos(a, b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ise: “A man is cutting  pick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: “A guy is slicing cucumb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x man(x) → guy(x)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sana Math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wt(man, gu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x cut(x) → slice(x)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sana Math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wt(cut, sl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x pickle(x) → cucumber(x)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sana Math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wt(pickle, cucu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9440" y="26161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→  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istributional Phrase Rul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i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A boy is play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t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y is play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rules for ph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x boy(x) → little(x) ^ boy(x) | wt(boy, "little boy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vectors for phrases using vector addi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Mitchell &amp; Lapata, 20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little boy" = little + b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457200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457200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457200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AA96D-FFE6-4574-A5E1-BF8BE682A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0284A-7587-436E-AFE8-0DBF55DD0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1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eliminary Results: RTE-1(2005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16960" cy="1447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only: [Bos &amp; Markert, 2005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Background: M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uture work and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108D3-73D4-4D45-AC00-7420141DE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mantic Textual Similarity (STS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the semantic similarity of two sentences on a 0 to 5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 standards are averaged over multiple human jud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by measuring correlation to human 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n is slicing a cuc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uy is cutting a cuc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n is slicing a cuc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uy is cutting a zucchi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n is slicing a cuc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oman is cooking a zucchi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n is slicing a cuc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nkey is riding a bicyc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06210-5CD4-4BA5-A9D2-BE8DA30BD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oftening Conjunction for 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C92E3-A146-4279-98F0-8E67DFBE7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1840" indent="-321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conjunctions requires satisfying all conjuncts to satisfy the clause, which is too strict fo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1840" indent="-321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840" indent="-265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x,y,z ( guy(x) ^ cut(y) ^ agent(y, x) ^ cucumber(z) ^ patient(y, z) → result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840" indent="-321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sentence into “micro-clauses” then combine them using an “averaging combiner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atarajan et al., 201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840" indent="-321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840" indent="-265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x,y,z guy(x) ^ agent(y, x)→ resul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7840" indent="-265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x,y,z cut(y) ^ agent(y, x)→ resul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7840" indent="-265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x,y,z cut(y) ^ patient(y, z) → resul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7840" indent="-265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x,y,z cucumber(z) ^ patient(y, z) → resul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eliminary Results: STS 2012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6FD03-D0C6-435C-8791-41C8AB3F7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video description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 pairs given human 0-5 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500 pairs equally split into training/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arson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System with no distributional rules [Logic only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System with lexical ru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System with lexical and phrase ru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ctor Addition [Distributional only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emble our best score with vector ad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system in STS 2012 (large ensembl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15920" y="3733920"/>
            <a:ext cx="66801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15920" y="4800600"/>
            <a:ext cx="66801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15920" y="3733920"/>
            <a:ext cx="66801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15920" y="4419720"/>
            <a:ext cx="66801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15920" y="5181480"/>
            <a:ext cx="66801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15920" y="5562720"/>
            <a:ext cx="66801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dur="indefinite" fill="hold">
                      <p:stCondLst>
                        <p:cond delay="indefinite"/>
                      </p:stCondLst>
                      <p:childTnLst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dur="indefinite" fill="hold">
                      <p:stCondLst>
                        <p:cond delay="indefinite"/>
                      </p:stCondLst>
                      <p:childTnLst>
                        <p:par>
                          <p:cTn id="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dur="indefinite" fill="hold">
                      <p:stCondLst>
                        <p:cond delay="indefinite"/>
                      </p:stCondLst>
                      <p:childTnLst>
                        <p:par>
                          <p:cTn id="3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Semantic Representa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879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mal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s first-orde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itt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6000" y="1371600"/>
            <a:ext cx="45180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tributional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stical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b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D2912-3A6C-48DD-A85A-2B5FB2FE0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984480"/>
            <a:ext cx="769932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combine advantages of bot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g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tribu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mantics in on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Background: M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 and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633BB-7F33-4341-9F32-EF9470F47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F95E1-B5FA-4B74-BF13-8D0BE460F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uture Work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 MLN inference to longer and more complex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ultiple parses to reduce impact of parse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Rul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 space methods for asymmetric w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wt(cucumber→vegetable) </a:t>
            </a:r>
            <a:r>
              <a:rPr b="1" lang="en-US" sz="2000" spc="-1" strike="noStrike">
                <a:solidFill>
                  <a:srgbClr val="000000"/>
                </a:solidFill>
                <a:latin typeface="Asana Math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 wt(vegetable→cucu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e rules from existing paraphrase col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ophisticated phrase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AA0FF-143A-47F7-AAA2-24BEFE34B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LN to represent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ical and distributional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semantics: represent sentences using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logic and Soft inferenc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coverage of distributional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825480"/>
            <a:ext cx="9144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10960"/>
            <a:ext cx="77281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28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mantic Representa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ing both logical and distributional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 meaning using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babili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gic (in contrast with standard first-order log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ov Logic Network (ML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erenc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distributional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00136-F504-461C-888F-380A578E6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6840" y="4268880"/>
            <a:ext cx="3392640" cy="1893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064040" y="5176800"/>
            <a:ext cx="4572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000000"/>
                </a:solidFill>
                <a:latin typeface="Asana Math"/>
              </a:rPr>
              <a:t>x hamster(x) → gerbil(x)  </a:t>
            </a:r>
            <a:r>
              <a:rPr b="1" lang="en-US" sz="2200" spc="-1" strike="noStrike">
                <a:solidFill>
                  <a:srgbClr val="000000"/>
                </a:solidFill>
                <a:latin typeface="Asana Math"/>
              </a:rPr>
              <a:t>| </a:t>
            </a:r>
            <a:r>
              <a:rPr b="0" lang="en-US" sz="2200" spc="-1" strike="noStrike">
                <a:solidFill>
                  <a:srgbClr val="000000"/>
                </a:solidFill>
                <a:latin typeface="Asana Math"/>
              </a:rPr>
              <a:t>f(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: M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 and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01775-5B4D-4274-ADA8-FFDCA485B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: M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uture work and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49B4E-5BFC-46A1-800D-83B976E9C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281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rkov Logic Networks</a:t>
            </a:r>
            <a:br>
              <a:rPr sz="32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[Richardson &amp; Domingos, 2006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N: Soft F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ed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5600" y="2884320"/>
            <a:ext cx="65530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28800" y="2971800"/>
                <a:ext cx="60260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1009800" y="2884320"/>
            <a:ext cx="685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9480" y="2951280"/>
            <a:ext cx="425160" cy="803160"/>
          </a:xfrm>
          <a:prstGeom prst="rect">
            <a:avLst/>
          </a:prstGeom>
          <a:ln w="0">
            <a:noFill/>
          </a:ln>
        </p:spPr>
      </p:pic>
      <p:cxnSp>
        <p:nvCxnSpPr>
          <p:cNvPr id="115" name=""/>
          <p:cNvCxnSpPr/>
          <p:nvPr/>
        </p:nvCxnSpPr>
        <p:spPr>
          <a:xfrm flipH="1" flipV="1">
            <a:off x="4763520" y="3884040"/>
            <a:ext cx="1408680" cy="554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146640" y="4121280"/>
            <a:ext cx="19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H="1" flipV="1">
            <a:off x="1288440" y="3891960"/>
            <a:ext cx="1408680" cy="554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671920" y="4129200"/>
            <a:ext cx="25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we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0FF1C-B9B0-42AF-97F0-79071F3A1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281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rkov Logic Networks</a:t>
            </a:r>
            <a:br>
              <a:rPr sz="32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[Richardson &amp; Domingos, 2006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3440" y="2057400"/>
            <a:ext cx="6553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365120" y="2133720"/>
            <a:ext cx="6034320" cy="790560"/>
            <a:chOff x="1365120" y="2133720"/>
            <a:chExt cx="6034320" cy="790560"/>
          </a:xfrm>
        </p:grpSpPr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1365120" y="2133720"/>
                  <a:ext cx="603432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∀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mokes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⇒</m:t>
                          </m:r>
                          <m:r>
                            <m:rPr>
                              <m:lit/>
                              <m:nor/>
                            </m:rPr>
                            <m:t xml:space="preserve">Cancer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∀</m:t>
                          </m:r>
                          <m:r>
                            <m:rPr>
                              <m:lit/>
                              <m:nor/>
                            </m:rPr>
                            <m:t xml:space="preserve">x,y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Friend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x,y</m:t>
                          </m:r>
                          <m:r>
                            <m:t xml:space="preserve">)</m:t>
                          </m:r>
                          <m:r>
                            <m:t xml:space="preserve">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mokes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r>
                                <m:t xml:space="preserve">⇔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mokes</m:t>
                              </m:r>
                              <m:r>
                                <m:t xml:space="preserve">(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"/>
            <p:cNvSpPr/>
            <p:nvPr/>
          </p:nvSpPr>
          <p:spPr>
            <a:xfrm>
              <a:off x="1365120" y="2133720"/>
              <a:ext cx="60343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47640" y="2057400"/>
            <a:ext cx="685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7320" y="2124000"/>
            <a:ext cx="425520" cy="803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62040" y="581652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81360" y="4826160"/>
            <a:ext cx="13716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1680" y="4826160"/>
            <a:ext cx="16002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43480" y="6121440"/>
            <a:ext cx="17524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10160" y="4826160"/>
            <a:ext cx="13716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30" idx="0"/>
            <a:endCxn id="128" idx="4"/>
          </p:cNvCxnSpPr>
          <p:nvPr/>
        </p:nvCxnSpPr>
        <p:spPr>
          <a:xfrm flipH="1" flipV="1">
            <a:off x="3466800" y="5358600"/>
            <a:ext cx="953280" cy="76284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33" name=""/>
          <p:cNvCxnSpPr>
            <a:stCxn id="128" idx="6"/>
            <a:endCxn id="131" idx="2"/>
          </p:cNvCxnSpPr>
          <p:nvPr/>
        </p:nvCxnSpPr>
        <p:spPr>
          <a:xfrm>
            <a:off x="4152960" y="5092200"/>
            <a:ext cx="457920" cy="252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34" name=""/>
          <p:cNvCxnSpPr>
            <a:stCxn id="131" idx="4"/>
            <a:endCxn id="130" idx="0"/>
          </p:cNvCxnSpPr>
          <p:nvPr/>
        </p:nvCxnSpPr>
        <p:spPr>
          <a:xfrm flipH="1">
            <a:off x="4419360" y="5358960"/>
            <a:ext cx="876960" cy="76284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35" name=""/>
          <p:cNvCxnSpPr>
            <a:stCxn id="128" idx="3"/>
            <a:endCxn id="127" idx="7"/>
          </p:cNvCxnSpPr>
          <p:nvPr/>
        </p:nvCxnSpPr>
        <p:spPr>
          <a:xfrm flipH="1">
            <a:off x="2731680" y="5281200"/>
            <a:ext cx="249840" cy="615240"/>
          </a:xfrm>
          <a:prstGeom prst="straightConnector1">
            <a:avLst/>
          </a:prstGeom>
          <a:ln w="38160">
            <a:solidFill>
              <a:srgbClr val="990099"/>
            </a:solidFill>
            <a:miter/>
          </a:ln>
        </p:spPr>
      </p:cxnSp>
      <p:cxnSp>
        <p:nvCxnSpPr>
          <p:cNvPr id="136" name=""/>
          <p:cNvCxnSpPr>
            <a:stCxn id="129" idx="6"/>
            <a:endCxn id="128" idx="2"/>
          </p:cNvCxnSpPr>
          <p:nvPr/>
        </p:nvCxnSpPr>
        <p:spPr>
          <a:xfrm>
            <a:off x="2171520" y="5092200"/>
            <a:ext cx="610200" cy="252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3581280" y="3759120"/>
            <a:ext cx="1676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4"/>
            <a:endCxn id="128" idx="0"/>
          </p:cNvCxnSpPr>
          <p:nvPr/>
        </p:nvCxnSpPr>
        <p:spPr>
          <a:xfrm flipH="1">
            <a:off x="3466800" y="4292640"/>
            <a:ext cx="953280" cy="53424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39" name=""/>
          <p:cNvCxnSpPr>
            <a:stCxn id="131" idx="0"/>
            <a:endCxn id="137" idx="4"/>
          </p:cNvCxnSpPr>
          <p:nvPr/>
        </p:nvCxnSpPr>
        <p:spPr>
          <a:xfrm flipH="1" flipV="1">
            <a:off x="4419360" y="4292280"/>
            <a:ext cx="876960" cy="53424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5905440" y="581652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38960" y="4826160"/>
            <a:ext cx="16002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31" idx="5"/>
            <a:endCxn id="140" idx="1"/>
          </p:cNvCxnSpPr>
          <p:nvPr/>
        </p:nvCxnSpPr>
        <p:spPr>
          <a:xfrm>
            <a:off x="5780160" y="5281200"/>
            <a:ext cx="326160" cy="615240"/>
          </a:xfrm>
          <a:prstGeom prst="straightConnector1">
            <a:avLst/>
          </a:prstGeom>
          <a:ln w="38160">
            <a:solidFill>
              <a:srgbClr val="990099"/>
            </a:solidFill>
            <a:miter/>
          </a:ln>
        </p:spPr>
      </p:cxnSp>
      <p:cxnSp>
        <p:nvCxnSpPr>
          <p:cNvPr id="143" name=""/>
          <p:cNvCxnSpPr>
            <a:stCxn id="141" idx="2"/>
            <a:endCxn id="131" idx="6"/>
          </p:cNvCxnSpPr>
          <p:nvPr/>
        </p:nvCxnSpPr>
        <p:spPr>
          <a:xfrm flipH="1">
            <a:off x="5981400" y="5092200"/>
            <a:ext cx="457920" cy="252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44" name=""/>
          <p:cNvSpPr/>
          <p:nvPr/>
        </p:nvSpPr>
        <p:spPr>
          <a:xfrm>
            <a:off x="8039160" y="2362320"/>
            <a:ext cx="762120" cy="14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39160" y="2743200"/>
            <a:ext cx="76212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/>
          <p:nvPr/>
        </p:nvCxnSpPr>
        <p:spPr>
          <a:xfrm flipV="1">
            <a:off x="4114800" y="5186160"/>
            <a:ext cx="519840" cy="360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N: Template for constructing Markov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00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00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00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00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75F6A-A6E9-4FA1-80D8-8AAECBA4D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281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rkov Logic Networks</a:t>
            </a:r>
            <a:br>
              <a:rPr sz="32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[Richardson &amp; Domingos, 2006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Mass Function (PM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: calculate probability of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P(Cancer(Anna) | Friends(Anna,Bob), Smokes(Bob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35320" y="3286080"/>
            <a:ext cx="210816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70640" y="3027240"/>
            <a:ext cx="1841400" cy="91692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7680" y="2639880"/>
            <a:ext cx="609480" cy="65736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611680" y="2639880"/>
            <a:ext cx="882720" cy="71136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/>
          <p:nvPr/>
        </p:nvCxnSpPr>
        <p:spPr>
          <a:xfrm flipV="1">
            <a:off x="1828800" y="2557080"/>
            <a:ext cx="953280" cy="729360"/>
          </a:xfrm>
          <a:prstGeom prst="straightConnector1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828800" y="2038320"/>
                <a:ext cx="4694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=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2362320" y="3286080"/>
            <a:ext cx="164628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ation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819520" y="2725200"/>
            <a:ext cx="685800" cy="56844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4680" y="3286080"/>
            <a:ext cx="193356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ssible truth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24113-2D7B-4B4C-8A33-21279D0CC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Background: M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uture work and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D46F1-3504-4799-A695-8D69B6393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a</cp:lastModifiedBy>
  <dcterms:modified xsi:type="dcterms:W3CDTF">2013-06-12T17:47:11Z</dcterms:modified>
  <cp:revision>444</cp:revision>
  <dc:subject/>
  <dc:title>Intelligent Information Retrieval and Web Search</dc:title>
</cp:coreProperties>
</file>