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1.gif" ContentType="image/gif"/>
  <Override PartName="/ppt/media/image10.gif" ContentType="image/gif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04758-1FDC-4C3A-A8AB-653C7C8F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0798B-7C80-425A-BD90-824448B5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B342C7-52A3-42F6-AE71-003CF5556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DDB028-9093-4A04-9400-DE9FC297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1255070C-2FC8-4A48-8789-A70512DC01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7EBAEE-B598-486E-B976-C2ECEFEC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10FC84F-B4B3-42AA-A58A-24566F7051A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C19167-2C8F-4025-A85A-12876353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long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55E86FD9-0D9D-4A81-B064-05AAA931FB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FB9222-801C-4C3B-943C-331EBA0E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4BE6CBE-882A-48DD-8497-F12FB84B84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 Korean data collected by JooHyun, but results not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1C3551-08DE-4671-88D1-5004F1C583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0D6DAA-805F-421B-880D-F4B052CC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2C7-9976-4360-BD24-04EFCBDC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24E-F567-4142-AEEA-A105B63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FF1-9D46-452E-8EA1-CFF4BE65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6DC-8138-4478-8E9E-E8B578C6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2FF2-281F-4E80-8540-C6AD7629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EB7-7938-4F49-9E56-AF8C8669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5D4-BB2B-496A-9FB1-12DFD14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1733-07BD-496C-BE68-F07BF59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BB2C-7823-4A02-966F-46E3397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F58-DA67-4BFD-A5C7-85313E9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AC3-CEDA-4DB7-8805-AAF718E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F1B-9095-4BD7-9747-33B93AFA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FC5-E223-44DC-86E2-C862C63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20CD-5C1B-4E0A-88E8-90E038D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6E8-A65A-4E91-AD62-E2E6FB9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1969-66F0-4E51-9927-3A37A917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B73F-8EE1-4755-89B5-D8A7CA6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25C8-32FD-4546-ABD0-9B2002F6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0535-6C7E-4FEA-846E-FF333AE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E4FE-89BE-4B8F-B0A9-EF9167BC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4880-62AA-4E0B-9025-79B166F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1DA8-1F44-4A4F-A6B7-CCD4975B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817-B3FD-4C19-B138-3C44108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13BA-E03F-4945-A0F6-031CFE1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712F-F87E-417E-8F84-19A23BC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B37D-2C44-4903-B8B8-8B9DB7F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1D58-5AAF-47A5-8271-6B44770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E021-FB84-4F05-9524-3D95D43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1CF9-E4EB-43B1-A37C-7582C9F5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AE57-0901-4AB5-A0F3-AA3E6FE2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A0F9-2CE5-43F4-B729-0F635FDD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A41F-92FC-491E-A3F9-99EB3F8F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3A43-CE12-43D5-AC68-A07BFEA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DAA-8248-4780-B370-111E0C0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1D20-D1E6-4B70-B331-698BC02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6244-618D-4B68-9D70-908A314B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216B-970A-482E-BE58-75C3A31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6EA9-5EB6-40A3-8C53-1699DA5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9A4B-6513-4488-9DC9-EFE3124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A13C-06AA-4AA7-AD77-C7AFC7C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C554-FB4A-4EFE-812B-6CCEAAE0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0283-2A43-4E0F-9D3F-1D695CEA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FF52-9553-46DB-89E8-701FC47F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064-4F15-41C7-AFC6-4A9D467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95E-80AF-4254-AA10-C0F116D3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4E1-8DF7-4B4E-A7B6-7BB40E4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BF8-6BA6-42B9-B4DD-5D477B8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E8E-A59D-460D-8AC2-8F26216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C29E3D1-D87D-46AD-B42F-94BCD6E479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0981C84-5F74-4B76-BB73-A37B44B506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C63BD44-916B-4E20-B05C-4234B1B303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E6F285-3853-410D-A553-A91EA15166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video" Target="file://localhost/Users/dlcc/Documents/research/dissertation/2004%20Final%20(Korean).mp4" TargetMode="External"/><Relationship Id="rId2" Type="http://schemas.microsoft.com/office/2007/relationships/media" Target="file://localhost/Users/dlcc/Documents/research/dissertation/2004%20Final%20(Korean).mp4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video" Target="file://localhost/Users/dlcc/Documents/research/dissertation/2004%20Final%20(English).mp4" TargetMode="External"/><Relationship Id="rId2" Type="http://schemas.microsoft.com/office/2007/relationships/media" Target="file://localhost/Users/dlcc/Documents/research/dissertation/2004%20Final%20(English).mp4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jpeg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4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14.jpeg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1.gif"/><Relationship Id="rId31" Type="http://schemas.openxmlformats.org/officeDocument/2006/relationships/image" Target="../media/image11.gif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0.gif"/><Relationship Id="rId39" Type="http://schemas.openxmlformats.org/officeDocument/2006/relationships/image" Target="../media/image10.gif"/><Relationship Id="rId40" Type="http://schemas.openxmlformats.org/officeDocument/2006/relationships/image" Target="../media/image17.jpeg"/><Relationship Id="rId41" Type="http://schemas.openxmlformats.org/officeDocument/2006/relationships/image" Target="../media/image18.jpeg"/><Relationship Id="rId42" Type="http://schemas.openxmlformats.org/officeDocument/2006/relationships/image" Target="../media/image19.jpeg"/><Relationship Id="rId43" Type="http://schemas.openxmlformats.org/officeDocument/2006/relationships/image" Target="../media/image14.jpeg"/><Relationship Id="rId4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1.gif"/><Relationship Id="rId6" Type="http://schemas.openxmlformats.org/officeDocument/2006/relationships/image" Target="../media/image14.jpe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1.gif"/><Relationship Id="rId6" Type="http://schemas.openxmlformats.org/officeDocument/2006/relationships/image" Target="../media/image14.jpe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vid L. 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or: Professor Raymond J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Ph.D. Dissertation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January 2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543440" cy="22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Learning Language from Ambiguous Perceptu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240" y="6095880"/>
            <a:ext cx="914040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2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language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Issue commands and queries in natur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omputer responds with answer in natur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sted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0948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structo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a randomly generated simulation that contains 1 to 4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s asked to write an instruction that would lead someone to perform those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Intended to be single sentences, but not enfor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ollowe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an instruction and placed at the starting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asked to follow the instruction as best as they 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Rectangle 3"/>
          <p:cNvSpPr/>
          <p:nvPr/>
        </p:nvSpPr>
        <p:spPr>
          <a:xfrm>
            <a:off x="457200" y="1752480"/>
            <a:ext cx="822924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month period, 653 workers, $277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2,400 instructions and 14,000 follower t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 so that instructions need to have &gt; 5 followers and majority agreement on a singl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Box 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5" name="Table 9"/>
          <p:cNvGraphicFramePr/>
          <p:nvPr/>
        </p:nvGraphicFramePr>
        <p:xfrm>
          <a:off x="685800" y="3772080"/>
          <a:ext cx="7695720" cy="24001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98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Tu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gina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#  Instru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ocabulary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69 (±7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8 (±5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84 (±1.2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 (±2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echanical Turk Training Data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8" name="Table 5"/>
          <p:cNvGraphicFramePr/>
          <p:nvPr/>
        </p:nvGraphicFramePr>
        <p:xfrm>
          <a:off x="609480" y="2590920"/>
          <a:ext cx="8000640" cy="180000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with additional training data from Mechanical Tur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109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3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ystem Impr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29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ghter integration of the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higher-order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ng syntactic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ing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cast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etailed meaning 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tainment (variability, emotion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ation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ng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ogue system for more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Line 5"/>
          <p:cNvSpPr/>
          <p:nvPr/>
        </p:nvSpPr>
        <p:spPr>
          <a:xfrm>
            <a:off x="533160" y="15238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ng-term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29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quisition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users of the system also provide train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 per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mputer vision to recognize objects and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translation models from comparable corp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Line 5"/>
          <p:cNvSpPr/>
          <p:nvPr/>
        </p:nvSpPr>
        <p:spPr>
          <a:xfrm>
            <a:off x="533160" y="15238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raditional language learning approach relies on expensive, annotated training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have developed language learning systems that can learn by observing language used in a relevant, perceptu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have devised two test applications that address two different scen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arning to sportscast (limited ambigu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arning to follow navigation instructions (exponential ambigu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6" name="Line 5"/>
          <p:cNvSpPr/>
          <p:nvPr/>
        </p:nvSpPr>
        <p:spPr>
          <a:xfrm>
            <a:off x="533160" y="16761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ditional Learn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80"/>
          <p:cNvSpPr/>
          <p:nvPr/>
        </p:nvSpPr>
        <p:spPr>
          <a:xfrm>
            <a:off x="623520" y="3276720"/>
            <a:ext cx="2351520" cy="1008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 Annot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6"/>
          <p:cNvSpPr/>
          <p:nvPr/>
        </p:nvSpPr>
        <p:spPr>
          <a:xfrm>
            <a:off x="2743200" y="2361960"/>
            <a:ext cx="1143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258"/>
          <p:cNvSpPr/>
          <p:nvPr/>
        </p:nvSpPr>
        <p:spPr>
          <a:xfrm>
            <a:off x="4876560" y="3047760"/>
            <a:ext cx="360" cy="19051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259"/>
          <p:cNvSpPr/>
          <p:nvPr/>
        </p:nvSpPr>
        <p:spPr>
          <a:xfrm>
            <a:off x="2743200" y="5333760"/>
            <a:ext cx="1143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160" y="12189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218"/>
          <p:cNvSpPr/>
          <p:nvPr/>
        </p:nvSpPr>
        <p:spPr>
          <a:xfrm>
            <a:off x="3962520" y="5105520"/>
            <a:ext cx="1980720" cy="394560"/>
          </a:xfrm>
          <a:prstGeom prst="rect">
            <a:avLst/>
          </a:prstGeom>
          <a:solidFill>
            <a:srgbClr val="00ccff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antic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90"/>
          <p:cNvSpPr/>
          <p:nvPr/>
        </p:nvSpPr>
        <p:spPr>
          <a:xfrm>
            <a:off x="5943600" y="5943600"/>
            <a:ext cx="2819160" cy="398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38"/>
          <p:cNvGrpSpPr/>
          <p:nvPr/>
        </p:nvGrpSpPr>
        <p:grpSpPr>
          <a:xfrm>
            <a:off x="1523880" y="4724280"/>
            <a:ext cx="990360" cy="1142640"/>
            <a:chOff x="1523880" y="4724280"/>
            <a:chExt cx="990360" cy="1142640"/>
          </a:xfrm>
        </p:grpSpPr>
        <p:sp>
          <p:nvSpPr>
            <p:cNvPr id="256" name="Line 184"/>
            <p:cNvSpPr/>
            <p:nvPr/>
          </p:nvSpPr>
          <p:spPr>
            <a:xfrm>
              <a:off x="1600200" y="48006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185"/>
            <p:cNvSpPr/>
            <p:nvPr/>
          </p:nvSpPr>
          <p:spPr>
            <a:xfrm>
              <a:off x="1600200" y="48765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186"/>
            <p:cNvSpPr/>
            <p:nvPr/>
          </p:nvSpPr>
          <p:spPr>
            <a:xfrm>
              <a:off x="1600200" y="49528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187"/>
            <p:cNvSpPr/>
            <p:nvPr/>
          </p:nvSpPr>
          <p:spPr>
            <a:xfrm>
              <a:off x="1600200" y="50292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188"/>
            <p:cNvSpPr/>
            <p:nvPr/>
          </p:nvSpPr>
          <p:spPr>
            <a:xfrm>
              <a:off x="1600200" y="51051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189"/>
            <p:cNvSpPr/>
            <p:nvPr/>
          </p:nvSpPr>
          <p:spPr>
            <a:xfrm>
              <a:off x="1600200" y="51814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190"/>
            <p:cNvSpPr/>
            <p:nvPr/>
          </p:nvSpPr>
          <p:spPr>
            <a:xfrm>
              <a:off x="1600200" y="52578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91"/>
            <p:cNvSpPr/>
            <p:nvPr/>
          </p:nvSpPr>
          <p:spPr>
            <a:xfrm>
              <a:off x="1600200" y="53337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192"/>
            <p:cNvSpPr/>
            <p:nvPr/>
          </p:nvSpPr>
          <p:spPr>
            <a:xfrm>
              <a:off x="1600200" y="54100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93"/>
            <p:cNvSpPr/>
            <p:nvPr/>
          </p:nvSpPr>
          <p:spPr>
            <a:xfrm>
              <a:off x="1600200" y="54864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94"/>
            <p:cNvSpPr/>
            <p:nvPr/>
          </p:nvSpPr>
          <p:spPr>
            <a:xfrm>
              <a:off x="1600200" y="55623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95"/>
            <p:cNvSpPr/>
            <p:nvPr/>
          </p:nvSpPr>
          <p:spPr>
            <a:xfrm>
              <a:off x="1600200" y="56386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96"/>
            <p:cNvSpPr/>
            <p:nvPr/>
          </p:nvSpPr>
          <p:spPr>
            <a:xfrm>
              <a:off x="1600200" y="57150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Line 197"/>
            <p:cNvSpPr/>
            <p:nvPr/>
          </p:nvSpPr>
          <p:spPr>
            <a:xfrm>
              <a:off x="1600200" y="57909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237"/>
            <p:cNvSpPr/>
            <p:nvPr/>
          </p:nvSpPr>
          <p:spPr>
            <a:xfrm>
              <a:off x="1523880" y="4724280"/>
              <a:ext cx="990360" cy="1142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255"/>
          <p:cNvGrpSpPr/>
          <p:nvPr/>
        </p:nvGrpSpPr>
        <p:grpSpPr>
          <a:xfrm>
            <a:off x="6858000" y="4724280"/>
            <a:ext cx="990360" cy="1142640"/>
            <a:chOff x="6858000" y="4724280"/>
            <a:chExt cx="990360" cy="1142640"/>
          </a:xfrm>
        </p:grpSpPr>
        <p:sp>
          <p:nvSpPr>
            <p:cNvPr id="272" name="Line 184"/>
            <p:cNvSpPr/>
            <p:nvPr/>
          </p:nvSpPr>
          <p:spPr>
            <a:xfrm>
              <a:off x="6933960" y="48006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185"/>
            <p:cNvSpPr/>
            <p:nvPr/>
          </p:nvSpPr>
          <p:spPr>
            <a:xfrm>
              <a:off x="6933960" y="48765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186"/>
            <p:cNvSpPr/>
            <p:nvPr/>
          </p:nvSpPr>
          <p:spPr>
            <a:xfrm>
              <a:off x="6933960" y="49528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Line 187"/>
            <p:cNvSpPr/>
            <p:nvPr/>
          </p:nvSpPr>
          <p:spPr>
            <a:xfrm>
              <a:off x="6933960" y="50292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Line 188"/>
            <p:cNvSpPr/>
            <p:nvPr/>
          </p:nvSpPr>
          <p:spPr>
            <a:xfrm>
              <a:off x="6933960" y="51051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189"/>
            <p:cNvSpPr/>
            <p:nvPr/>
          </p:nvSpPr>
          <p:spPr>
            <a:xfrm>
              <a:off x="6933960" y="51814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190"/>
            <p:cNvSpPr/>
            <p:nvPr/>
          </p:nvSpPr>
          <p:spPr>
            <a:xfrm>
              <a:off x="6933960" y="52578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191"/>
            <p:cNvSpPr/>
            <p:nvPr/>
          </p:nvSpPr>
          <p:spPr>
            <a:xfrm>
              <a:off x="6933960" y="53337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192"/>
            <p:cNvSpPr/>
            <p:nvPr/>
          </p:nvSpPr>
          <p:spPr>
            <a:xfrm>
              <a:off x="6933960" y="54100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193"/>
            <p:cNvSpPr/>
            <p:nvPr/>
          </p:nvSpPr>
          <p:spPr>
            <a:xfrm>
              <a:off x="6933960" y="54864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194"/>
            <p:cNvSpPr/>
            <p:nvPr/>
          </p:nvSpPr>
          <p:spPr>
            <a:xfrm>
              <a:off x="6933960" y="55623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195"/>
            <p:cNvSpPr/>
            <p:nvPr/>
          </p:nvSpPr>
          <p:spPr>
            <a:xfrm>
              <a:off x="6933960" y="56386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196"/>
            <p:cNvSpPr/>
            <p:nvPr/>
          </p:nvSpPr>
          <p:spPr>
            <a:xfrm>
              <a:off x="6933960" y="57150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197"/>
            <p:cNvSpPr/>
            <p:nvPr/>
          </p:nvSpPr>
          <p:spPr>
            <a:xfrm>
              <a:off x="6933960" y="57909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254"/>
            <p:cNvSpPr/>
            <p:nvPr/>
          </p:nvSpPr>
          <p:spPr>
            <a:xfrm>
              <a:off x="6858000" y="4724280"/>
              <a:ext cx="990360" cy="1142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488"/>
          <p:cNvGrpSpPr/>
          <p:nvPr/>
        </p:nvGrpSpPr>
        <p:grpSpPr>
          <a:xfrm>
            <a:off x="914400" y="1447920"/>
            <a:ext cx="1675800" cy="1752120"/>
            <a:chOff x="914400" y="1447920"/>
            <a:chExt cx="1675800" cy="1752120"/>
          </a:xfrm>
        </p:grpSpPr>
        <p:grpSp>
          <p:nvGrpSpPr>
            <p:cNvPr id="288" name="Group 289"/>
            <p:cNvGrpSpPr/>
            <p:nvPr/>
          </p:nvGrpSpPr>
          <p:grpSpPr>
            <a:xfrm>
              <a:off x="914400" y="1447920"/>
              <a:ext cx="1066320" cy="1142640"/>
              <a:chOff x="914400" y="1447920"/>
              <a:chExt cx="1066320" cy="1142640"/>
            </a:xfrm>
          </p:grpSpPr>
          <p:sp>
            <p:nvSpPr>
              <p:cNvPr id="289" name="Rectangle 271"/>
              <p:cNvSpPr/>
              <p:nvPr/>
            </p:nvSpPr>
            <p:spPr>
              <a:xfrm>
                <a:off x="914400" y="144792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0" name="Group 288"/>
              <p:cNvGrpSpPr/>
              <p:nvPr/>
            </p:nvGrpSpPr>
            <p:grpSpPr>
              <a:xfrm>
                <a:off x="990360" y="1523880"/>
                <a:ext cx="914400" cy="991080"/>
                <a:chOff x="990360" y="1523880"/>
                <a:chExt cx="914400" cy="991080"/>
              </a:xfrm>
            </p:grpSpPr>
            <p:grpSp>
              <p:nvGrpSpPr>
                <p:cNvPr id="291" name="Group 272"/>
                <p:cNvGrpSpPr/>
                <p:nvPr/>
              </p:nvGrpSpPr>
              <p:grpSpPr>
                <a:xfrm>
                  <a:off x="990360" y="1523880"/>
                  <a:ext cx="457200" cy="991080"/>
                  <a:chOff x="990360" y="1523880"/>
                  <a:chExt cx="457200" cy="991080"/>
                </a:xfrm>
              </p:grpSpPr>
              <p:sp>
                <p:nvSpPr>
                  <p:cNvPr id="292" name="Line 184"/>
                  <p:cNvSpPr/>
                  <p:nvPr/>
                </p:nvSpPr>
                <p:spPr>
                  <a:xfrm>
                    <a:off x="990360" y="1523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3" name="Line 185"/>
                  <p:cNvSpPr/>
                  <p:nvPr/>
                </p:nvSpPr>
                <p:spPr>
                  <a:xfrm>
                    <a:off x="990360" y="1600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4" name="Line 186"/>
                  <p:cNvSpPr/>
                  <p:nvPr/>
                </p:nvSpPr>
                <p:spPr>
                  <a:xfrm>
                    <a:off x="99036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5" name="Line 187"/>
                  <p:cNvSpPr/>
                  <p:nvPr/>
                </p:nvSpPr>
                <p:spPr>
                  <a:xfrm>
                    <a:off x="99036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6" name="Line 188"/>
                  <p:cNvSpPr/>
                  <p:nvPr/>
                </p:nvSpPr>
                <p:spPr>
                  <a:xfrm>
                    <a:off x="99036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7" name="Line 189"/>
                  <p:cNvSpPr/>
                  <p:nvPr/>
                </p:nvSpPr>
                <p:spPr>
                  <a:xfrm>
                    <a:off x="99036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Line 190"/>
                  <p:cNvSpPr/>
                  <p:nvPr/>
                </p:nvSpPr>
                <p:spPr>
                  <a:xfrm>
                    <a:off x="9903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Line 191"/>
                  <p:cNvSpPr/>
                  <p:nvPr/>
                </p:nvSpPr>
                <p:spPr>
                  <a:xfrm>
                    <a:off x="9903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Line 192"/>
                  <p:cNvSpPr/>
                  <p:nvPr/>
                </p:nvSpPr>
                <p:spPr>
                  <a:xfrm>
                    <a:off x="9903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Line 193"/>
                  <p:cNvSpPr/>
                  <p:nvPr/>
                </p:nvSpPr>
                <p:spPr>
                  <a:xfrm>
                    <a:off x="9903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2" name="Line 194"/>
                  <p:cNvSpPr/>
                  <p:nvPr/>
                </p:nvSpPr>
                <p:spPr>
                  <a:xfrm>
                    <a:off x="9903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3" name="Line 195"/>
                  <p:cNvSpPr/>
                  <p:nvPr/>
                </p:nvSpPr>
                <p:spPr>
                  <a:xfrm>
                    <a:off x="9903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4" name="Line 196"/>
                  <p:cNvSpPr/>
                  <p:nvPr/>
                </p:nvSpPr>
                <p:spPr>
                  <a:xfrm>
                    <a:off x="9903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5" name="Line 197"/>
                  <p:cNvSpPr/>
                  <p:nvPr/>
                </p:nvSpPr>
                <p:spPr>
                  <a:xfrm>
                    <a:off x="9903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6" name="Group 273"/>
                <p:cNvGrpSpPr/>
                <p:nvPr/>
              </p:nvGrpSpPr>
              <p:grpSpPr>
                <a:xfrm>
                  <a:off x="1447560" y="1523880"/>
                  <a:ext cx="457200" cy="991080"/>
                  <a:chOff x="1447560" y="1523880"/>
                  <a:chExt cx="457200" cy="991080"/>
                </a:xfrm>
              </p:grpSpPr>
              <p:sp>
                <p:nvSpPr>
                  <p:cNvPr id="307" name="Line 184"/>
                  <p:cNvSpPr/>
                  <p:nvPr/>
                </p:nvSpPr>
                <p:spPr>
                  <a:xfrm>
                    <a:off x="1447560" y="1523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Line 185"/>
                  <p:cNvSpPr/>
                  <p:nvPr/>
                </p:nvSpPr>
                <p:spPr>
                  <a:xfrm>
                    <a:off x="1447560" y="1600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9" name="Line 186"/>
                  <p:cNvSpPr/>
                  <p:nvPr/>
                </p:nvSpPr>
                <p:spPr>
                  <a:xfrm>
                    <a:off x="144756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0" name="Line 187"/>
                  <p:cNvSpPr/>
                  <p:nvPr/>
                </p:nvSpPr>
                <p:spPr>
                  <a:xfrm>
                    <a:off x="144756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1" name="Line 188"/>
                  <p:cNvSpPr/>
                  <p:nvPr/>
                </p:nvSpPr>
                <p:spPr>
                  <a:xfrm>
                    <a:off x="144756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Line 189"/>
                  <p:cNvSpPr/>
                  <p:nvPr/>
                </p:nvSpPr>
                <p:spPr>
                  <a:xfrm>
                    <a:off x="144756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3" name="Line 190"/>
                  <p:cNvSpPr/>
                  <p:nvPr/>
                </p:nvSpPr>
                <p:spPr>
                  <a:xfrm>
                    <a:off x="14475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4" name="Line 191"/>
                  <p:cNvSpPr/>
                  <p:nvPr/>
                </p:nvSpPr>
                <p:spPr>
                  <a:xfrm>
                    <a:off x="14475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5" name="Line 192"/>
                  <p:cNvSpPr/>
                  <p:nvPr/>
                </p:nvSpPr>
                <p:spPr>
                  <a:xfrm>
                    <a:off x="14475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6" name="Line 193"/>
                  <p:cNvSpPr/>
                  <p:nvPr/>
                </p:nvSpPr>
                <p:spPr>
                  <a:xfrm>
                    <a:off x="14475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7" name="Line 194"/>
                  <p:cNvSpPr/>
                  <p:nvPr/>
                </p:nvSpPr>
                <p:spPr>
                  <a:xfrm>
                    <a:off x="14475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8" name="Line 195"/>
                  <p:cNvSpPr/>
                  <p:nvPr/>
                </p:nvSpPr>
                <p:spPr>
                  <a:xfrm>
                    <a:off x="14475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9" name="Line 196"/>
                  <p:cNvSpPr/>
                  <p:nvPr/>
                </p:nvSpPr>
                <p:spPr>
                  <a:xfrm>
                    <a:off x="14475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0" name="Line 197"/>
                  <p:cNvSpPr/>
                  <p:nvPr/>
                </p:nvSpPr>
                <p:spPr>
                  <a:xfrm>
                    <a:off x="14475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21" name="Group 356"/>
            <p:cNvGrpSpPr/>
            <p:nvPr/>
          </p:nvGrpSpPr>
          <p:grpSpPr>
            <a:xfrm>
              <a:off x="1066680" y="1600200"/>
              <a:ext cx="1066320" cy="1142640"/>
              <a:chOff x="1066680" y="1600200"/>
              <a:chExt cx="1066320" cy="1142640"/>
            </a:xfrm>
          </p:grpSpPr>
          <p:sp>
            <p:nvSpPr>
              <p:cNvPr id="322" name="Rectangle 357"/>
              <p:cNvSpPr/>
              <p:nvPr/>
            </p:nvSpPr>
            <p:spPr>
              <a:xfrm>
                <a:off x="1066680" y="160020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23" name="Group 358"/>
              <p:cNvGrpSpPr/>
              <p:nvPr/>
            </p:nvGrpSpPr>
            <p:grpSpPr>
              <a:xfrm>
                <a:off x="1143000" y="1676160"/>
                <a:ext cx="914400" cy="991080"/>
                <a:chOff x="1143000" y="1676160"/>
                <a:chExt cx="914400" cy="991080"/>
              </a:xfrm>
            </p:grpSpPr>
            <p:grpSp>
              <p:nvGrpSpPr>
                <p:cNvPr id="324" name="Group 359"/>
                <p:cNvGrpSpPr/>
                <p:nvPr/>
              </p:nvGrpSpPr>
              <p:grpSpPr>
                <a:xfrm>
                  <a:off x="1143000" y="1676160"/>
                  <a:ext cx="457200" cy="991080"/>
                  <a:chOff x="1143000" y="1676160"/>
                  <a:chExt cx="457200" cy="991080"/>
                </a:xfrm>
              </p:grpSpPr>
              <p:sp>
                <p:nvSpPr>
                  <p:cNvPr id="325" name="Line 184"/>
                  <p:cNvSpPr/>
                  <p:nvPr/>
                </p:nvSpPr>
                <p:spPr>
                  <a:xfrm>
                    <a:off x="114300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6" name="Line 185"/>
                  <p:cNvSpPr/>
                  <p:nvPr/>
                </p:nvSpPr>
                <p:spPr>
                  <a:xfrm>
                    <a:off x="114300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7" name="Line 186"/>
                  <p:cNvSpPr/>
                  <p:nvPr/>
                </p:nvSpPr>
                <p:spPr>
                  <a:xfrm>
                    <a:off x="114300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8" name="Line 187"/>
                  <p:cNvSpPr/>
                  <p:nvPr/>
                </p:nvSpPr>
                <p:spPr>
                  <a:xfrm>
                    <a:off x="114300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9" name="Line 188"/>
                  <p:cNvSpPr/>
                  <p:nvPr/>
                </p:nvSpPr>
                <p:spPr>
                  <a:xfrm>
                    <a:off x="114300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Line 189"/>
                  <p:cNvSpPr/>
                  <p:nvPr/>
                </p:nvSpPr>
                <p:spPr>
                  <a:xfrm>
                    <a:off x="114300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Line 190"/>
                  <p:cNvSpPr/>
                  <p:nvPr/>
                </p:nvSpPr>
                <p:spPr>
                  <a:xfrm>
                    <a:off x="11430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2" name="Line 191"/>
                  <p:cNvSpPr/>
                  <p:nvPr/>
                </p:nvSpPr>
                <p:spPr>
                  <a:xfrm>
                    <a:off x="11430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3" name="Line 192"/>
                  <p:cNvSpPr/>
                  <p:nvPr/>
                </p:nvSpPr>
                <p:spPr>
                  <a:xfrm>
                    <a:off x="11430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4" name="Line 193"/>
                  <p:cNvSpPr/>
                  <p:nvPr/>
                </p:nvSpPr>
                <p:spPr>
                  <a:xfrm>
                    <a:off x="11430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5" name="Line 194"/>
                  <p:cNvSpPr/>
                  <p:nvPr/>
                </p:nvSpPr>
                <p:spPr>
                  <a:xfrm>
                    <a:off x="11430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Line 195"/>
                  <p:cNvSpPr/>
                  <p:nvPr/>
                </p:nvSpPr>
                <p:spPr>
                  <a:xfrm>
                    <a:off x="11430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Line 196"/>
                  <p:cNvSpPr/>
                  <p:nvPr/>
                </p:nvSpPr>
                <p:spPr>
                  <a:xfrm>
                    <a:off x="11430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8" name="Line 197"/>
                  <p:cNvSpPr/>
                  <p:nvPr/>
                </p:nvSpPr>
                <p:spPr>
                  <a:xfrm>
                    <a:off x="11430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9" name="Group 374"/>
                <p:cNvGrpSpPr/>
                <p:nvPr/>
              </p:nvGrpSpPr>
              <p:grpSpPr>
                <a:xfrm>
                  <a:off x="1600200" y="1676160"/>
                  <a:ext cx="457200" cy="991080"/>
                  <a:chOff x="1600200" y="1676160"/>
                  <a:chExt cx="457200" cy="991080"/>
                </a:xfrm>
              </p:grpSpPr>
              <p:sp>
                <p:nvSpPr>
                  <p:cNvPr id="340" name="Line 184"/>
                  <p:cNvSpPr/>
                  <p:nvPr/>
                </p:nvSpPr>
                <p:spPr>
                  <a:xfrm>
                    <a:off x="160020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Line 185"/>
                  <p:cNvSpPr/>
                  <p:nvPr/>
                </p:nvSpPr>
                <p:spPr>
                  <a:xfrm>
                    <a:off x="160020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Line 186"/>
                  <p:cNvSpPr/>
                  <p:nvPr/>
                </p:nvSpPr>
                <p:spPr>
                  <a:xfrm>
                    <a:off x="160020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Line 187"/>
                  <p:cNvSpPr/>
                  <p:nvPr/>
                </p:nvSpPr>
                <p:spPr>
                  <a:xfrm>
                    <a:off x="160020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Line 188"/>
                  <p:cNvSpPr/>
                  <p:nvPr/>
                </p:nvSpPr>
                <p:spPr>
                  <a:xfrm>
                    <a:off x="160020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Line 189"/>
                  <p:cNvSpPr/>
                  <p:nvPr/>
                </p:nvSpPr>
                <p:spPr>
                  <a:xfrm>
                    <a:off x="160020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Line 190"/>
                  <p:cNvSpPr/>
                  <p:nvPr/>
                </p:nvSpPr>
                <p:spPr>
                  <a:xfrm>
                    <a:off x="16002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7" name="Line 191"/>
                  <p:cNvSpPr/>
                  <p:nvPr/>
                </p:nvSpPr>
                <p:spPr>
                  <a:xfrm>
                    <a:off x="16002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8" name="Line 192"/>
                  <p:cNvSpPr/>
                  <p:nvPr/>
                </p:nvSpPr>
                <p:spPr>
                  <a:xfrm>
                    <a:off x="16002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Line 193"/>
                  <p:cNvSpPr/>
                  <p:nvPr/>
                </p:nvSpPr>
                <p:spPr>
                  <a:xfrm>
                    <a:off x="16002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0" name="Line 194"/>
                  <p:cNvSpPr/>
                  <p:nvPr/>
                </p:nvSpPr>
                <p:spPr>
                  <a:xfrm>
                    <a:off x="16002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Line 195"/>
                  <p:cNvSpPr/>
                  <p:nvPr/>
                </p:nvSpPr>
                <p:spPr>
                  <a:xfrm>
                    <a:off x="16002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Line 196"/>
                  <p:cNvSpPr/>
                  <p:nvPr/>
                </p:nvSpPr>
                <p:spPr>
                  <a:xfrm>
                    <a:off x="16002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Line 197"/>
                  <p:cNvSpPr/>
                  <p:nvPr/>
                </p:nvSpPr>
                <p:spPr>
                  <a:xfrm>
                    <a:off x="16002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54" name="Group 389"/>
            <p:cNvGrpSpPr/>
            <p:nvPr/>
          </p:nvGrpSpPr>
          <p:grpSpPr>
            <a:xfrm>
              <a:off x="1219320" y="1752480"/>
              <a:ext cx="1066320" cy="1142640"/>
              <a:chOff x="1219320" y="1752480"/>
              <a:chExt cx="1066320" cy="1142640"/>
            </a:xfrm>
          </p:grpSpPr>
          <p:sp>
            <p:nvSpPr>
              <p:cNvPr id="355" name="Rectangle 390"/>
              <p:cNvSpPr/>
              <p:nvPr/>
            </p:nvSpPr>
            <p:spPr>
              <a:xfrm>
                <a:off x="1219320" y="175248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6" name="Group 391"/>
              <p:cNvGrpSpPr/>
              <p:nvPr/>
            </p:nvGrpSpPr>
            <p:grpSpPr>
              <a:xfrm>
                <a:off x="1295280" y="1828800"/>
                <a:ext cx="914400" cy="990720"/>
                <a:chOff x="1295280" y="1828800"/>
                <a:chExt cx="914400" cy="990720"/>
              </a:xfrm>
            </p:grpSpPr>
            <p:grpSp>
              <p:nvGrpSpPr>
                <p:cNvPr id="357" name="Group 392"/>
                <p:cNvGrpSpPr/>
                <p:nvPr/>
              </p:nvGrpSpPr>
              <p:grpSpPr>
                <a:xfrm>
                  <a:off x="1295280" y="1828800"/>
                  <a:ext cx="457200" cy="990720"/>
                  <a:chOff x="1295280" y="1828800"/>
                  <a:chExt cx="457200" cy="990720"/>
                </a:xfrm>
              </p:grpSpPr>
              <p:sp>
                <p:nvSpPr>
                  <p:cNvPr id="358" name="Line 184"/>
                  <p:cNvSpPr/>
                  <p:nvPr/>
                </p:nvSpPr>
                <p:spPr>
                  <a:xfrm>
                    <a:off x="129528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9" name="Line 185"/>
                  <p:cNvSpPr/>
                  <p:nvPr/>
                </p:nvSpPr>
                <p:spPr>
                  <a:xfrm>
                    <a:off x="129528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0" name="Line 186"/>
                  <p:cNvSpPr/>
                  <p:nvPr/>
                </p:nvSpPr>
                <p:spPr>
                  <a:xfrm>
                    <a:off x="129528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Line 187"/>
                  <p:cNvSpPr/>
                  <p:nvPr/>
                </p:nvSpPr>
                <p:spPr>
                  <a:xfrm>
                    <a:off x="129528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2" name="Line 188"/>
                  <p:cNvSpPr/>
                  <p:nvPr/>
                </p:nvSpPr>
                <p:spPr>
                  <a:xfrm>
                    <a:off x="129528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Line 189"/>
                  <p:cNvSpPr/>
                  <p:nvPr/>
                </p:nvSpPr>
                <p:spPr>
                  <a:xfrm>
                    <a:off x="129528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Line 190"/>
                  <p:cNvSpPr/>
                  <p:nvPr/>
                </p:nvSpPr>
                <p:spPr>
                  <a:xfrm>
                    <a:off x="129528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5" name="Line 191"/>
                  <p:cNvSpPr/>
                  <p:nvPr/>
                </p:nvSpPr>
                <p:spPr>
                  <a:xfrm>
                    <a:off x="129528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6" name="Line 192"/>
                  <p:cNvSpPr/>
                  <p:nvPr/>
                </p:nvSpPr>
                <p:spPr>
                  <a:xfrm>
                    <a:off x="129528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7" name="Line 193"/>
                  <p:cNvSpPr/>
                  <p:nvPr/>
                </p:nvSpPr>
                <p:spPr>
                  <a:xfrm>
                    <a:off x="129528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8" name="Line 194"/>
                  <p:cNvSpPr/>
                  <p:nvPr/>
                </p:nvSpPr>
                <p:spPr>
                  <a:xfrm>
                    <a:off x="129528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9" name="Line 195"/>
                  <p:cNvSpPr/>
                  <p:nvPr/>
                </p:nvSpPr>
                <p:spPr>
                  <a:xfrm>
                    <a:off x="129528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0" name="Line 196"/>
                  <p:cNvSpPr/>
                  <p:nvPr/>
                </p:nvSpPr>
                <p:spPr>
                  <a:xfrm>
                    <a:off x="129528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1" name="Line 197"/>
                  <p:cNvSpPr/>
                  <p:nvPr/>
                </p:nvSpPr>
                <p:spPr>
                  <a:xfrm>
                    <a:off x="129528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2" name="Group 407"/>
                <p:cNvGrpSpPr/>
                <p:nvPr/>
              </p:nvGrpSpPr>
              <p:grpSpPr>
                <a:xfrm>
                  <a:off x="1752480" y="1828800"/>
                  <a:ext cx="457200" cy="990720"/>
                  <a:chOff x="1752480" y="1828800"/>
                  <a:chExt cx="457200" cy="990720"/>
                </a:xfrm>
              </p:grpSpPr>
              <p:sp>
                <p:nvSpPr>
                  <p:cNvPr id="373" name="Line 184"/>
                  <p:cNvSpPr/>
                  <p:nvPr/>
                </p:nvSpPr>
                <p:spPr>
                  <a:xfrm>
                    <a:off x="175248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4" name="Line 185"/>
                  <p:cNvSpPr/>
                  <p:nvPr/>
                </p:nvSpPr>
                <p:spPr>
                  <a:xfrm>
                    <a:off x="175248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5" name="Line 186"/>
                  <p:cNvSpPr/>
                  <p:nvPr/>
                </p:nvSpPr>
                <p:spPr>
                  <a:xfrm>
                    <a:off x="175248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6" name="Line 187"/>
                  <p:cNvSpPr/>
                  <p:nvPr/>
                </p:nvSpPr>
                <p:spPr>
                  <a:xfrm>
                    <a:off x="175248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Line 188"/>
                  <p:cNvSpPr/>
                  <p:nvPr/>
                </p:nvSpPr>
                <p:spPr>
                  <a:xfrm>
                    <a:off x="175248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Line 189"/>
                  <p:cNvSpPr/>
                  <p:nvPr/>
                </p:nvSpPr>
                <p:spPr>
                  <a:xfrm>
                    <a:off x="175248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9" name="Line 190"/>
                  <p:cNvSpPr/>
                  <p:nvPr/>
                </p:nvSpPr>
                <p:spPr>
                  <a:xfrm>
                    <a:off x="175248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Line 191"/>
                  <p:cNvSpPr/>
                  <p:nvPr/>
                </p:nvSpPr>
                <p:spPr>
                  <a:xfrm>
                    <a:off x="175248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Line 192"/>
                  <p:cNvSpPr/>
                  <p:nvPr/>
                </p:nvSpPr>
                <p:spPr>
                  <a:xfrm>
                    <a:off x="175248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Line 193"/>
                  <p:cNvSpPr/>
                  <p:nvPr/>
                </p:nvSpPr>
                <p:spPr>
                  <a:xfrm>
                    <a:off x="175248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Line 194"/>
                  <p:cNvSpPr/>
                  <p:nvPr/>
                </p:nvSpPr>
                <p:spPr>
                  <a:xfrm>
                    <a:off x="175248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Line 195"/>
                  <p:cNvSpPr/>
                  <p:nvPr/>
                </p:nvSpPr>
                <p:spPr>
                  <a:xfrm>
                    <a:off x="175248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5" name="Line 196"/>
                  <p:cNvSpPr/>
                  <p:nvPr/>
                </p:nvSpPr>
                <p:spPr>
                  <a:xfrm>
                    <a:off x="175248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Line 197"/>
                  <p:cNvSpPr/>
                  <p:nvPr/>
                </p:nvSpPr>
                <p:spPr>
                  <a:xfrm>
                    <a:off x="175248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87" name="Group 422"/>
            <p:cNvGrpSpPr/>
            <p:nvPr/>
          </p:nvGrpSpPr>
          <p:grpSpPr>
            <a:xfrm>
              <a:off x="1371600" y="1905120"/>
              <a:ext cx="1066320" cy="1142640"/>
              <a:chOff x="1371600" y="1905120"/>
              <a:chExt cx="1066320" cy="1142640"/>
            </a:xfrm>
          </p:grpSpPr>
          <p:sp>
            <p:nvSpPr>
              <p:cNvPr id="388" name="Rectangle 423"/>
              <p:cNvSpPr/>
              <p:nvPr/>
            </p:nvSpPr>
            <p:spPr>
              <a:xfrm>
                <a:off x="1371600" y="190512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9" name="Group 424"/>
              <p:cNvGrpSpPr/>
              <p:nvPr/>
            </p:nvGrpSpPr>
            <p:grpSpPr>
              <a:xfrm>
                <a:off x="1447560" y="1981080"/>
                <a:ext cx="914400" cy="991080"/>
                <a:chOff x="1447560" y="1981080"/>
                <a:chExt cx="914400" cy="991080"/>
              </a:xfrm>
            </p:grpSpPr>
            <p:grpSp>
              <p:nvGrpSpPr>
                <p:cNvPr id="390" name="Group 425"/>
                <p:cNvGrpSpPr/>
                <p:nvPr/>
              </p:nvGrpSpPr>
              <p:grpSpPr>
                <a:xfrm>
                  <a:off x="1447560" y="1981080"/>
                  <a:ext cx="457200" cy="991080"/>
                  <a:chOff x="1447560" y="1981080"/>
                  <a:chExt cx="457200" cy="991080"/>
                </a:xfrm>
              </p:grpSpPr>
              <p:sp>
                <p:nvSpPr>
                  <p:cNvPr id="391" name="Line 184"/>
                  <p:cNvSpPr/>
                  <p:nvPr/>
                </p:nvSpPr>
                <p:spPr>
                  <a:xfrm>
                    <a:off x="14475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Line 185"/>
                  <p:cNvSpPr/>
                  <p:nvPr/>
                </p:nvSpPr>
                <p:spPr>
                  <a:xfrm>
                    <a:off x="14475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Line 186"/>
                  <p:cNvSpPr/>
                  <p:nvPr/>
                </p:nvSpPr>
                <p:spPr>
                  <a:xfrm>
                    <a:off x="14475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4" name="Line 187"/>
                  <p:cNvSpPr/>
                  <p:nvPr/>
                </p:nvSpPr>
                <p:spPr>
                  <a:xfrm>
                    <a:off x="14475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5" name="Line 188"/>
                  <p:cNvSpPr/>
                  <p:nvPr/>
                </p:nvSpPr>
                <p:spPr>
                  <a:xfrm>
                    <a:off x="14475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6" name="Line 189"/>
                  <p:cNvSpPr/>
                  <p:nvPr/>
                </p:nvSpPr>
                <p:spPr>
                  <a:xfrm>
                    <a:off x="14475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Line 190"/>
                  <p:cNvSpPr/>
                  <p:nvPr/>
                </p:nvSpPr>
                <p:spPr>
                  <a:xfrm>
                    <a:off x="14475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8" name="Line 191"/>
                  <p:cNvSpPr/>
                  <p:nvPr/>
                </p:nvSpPr>
                <p:spPr>
                  <a:xfrm>
                    <a:off x="14475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9" name="Line 192"/>
                  <p:cNvSpPr/>
                  <p:nvPr/>
                </p:nvSpPr>
                <p:spPr>
                  <a:xfrm>
                    <a:off x="144756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0" name="Line 193"/>
                  <p:cNvSpPr/>
                  <p:nvPr/>
                </p:nvSpPr>
                <p:spPr>
                  <a:xfrm>
                    <a:off x="144756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1" name="Line 194"/>
                  <p:cNvSpPr/>
                  <p:nvPr/>
                </p:nvSpPr>
                <p:spPr>
                  <a:xfrm>
                    <a:off x="144756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2" name="Line 195"/>
                  <p:cNvSpPr/>
                  <p:nvPr/>
                </p:nvSpPr>
                <p:spPr>
                  <a:xfrm>
                    <a:off x="144756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3" name="Line 196"/>
                  <p:cNvSpPr/>
                  <p:nvPr/>
                </p:nvSpPr>
                <p:spPr>
                  <a:xfrm>
                    <a:off x="144756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Line 197"/>
                  <p:cNvSpPr/>
                  <p:nvPr/>
                </p:nvSpPr>
                <p:spPr>
                  <a:xfrm>
                    <a:off x="144756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5" name="Group 440"/>
                <p:cNvGrpSpPr/>
                <p:nvPr/>
              </p:nvGrpSpPr>
              <p:grpSpPr>
                <a:xfrm>
                  <a:off x="1904760" y="1981080"/>
                  <a:ext cx="457200" cy="991080"/>
                  <a:chOff x="1904760" y="1981080"/>
                  <a:chExt cx="457200" cy="991080"/>
                </a:xfrm>
              </p:grpSpPr>
              <p:sp>
                <p:nvSpPr>
                  <p:cNvPr id="406" name="Line 184"/>
                  <p:cNvSpPr/>
                  <p:nvPr/>
                </p:nvSpPr>
                <p:spPr>
                  <a:xfrm>
                    <a:off x="19047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7" name="Line 185"/>
                  <p:cNvSpPr/>
                  <p:nvPr/>
                </p:nvSpPr>
                <p:spPr>
                  <a:xfrm>
                    <a:off x="19047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8" name="Line 186"/>
                  <p:cNvSpPr/>
                  <p:nvPr/>
                </p:nvSpPr>
                <p:spPr>
                  <a:xfrm>
                    <a:off x="19047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Line 187"/>
                  <p:cNvSpPr/>
                  <p:nvPr/>
                </p:nvSpPr>
                <p:spPr>
                  <a:xfrm>
                    <a:off x="19047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Line 188"/>
                  <p:cNvSpPr/>
                  <p:nvPr/>
                </p:nvSpPr>
                <p:spPr>
                  <a:xfrm>
                    <a:off x="19047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1" name="Line 189"/>
                  <p:cNvSpPr/>
                  <p:nvPr/>
                </p:nvSpPr>
                <p:spPr>
                  <a:xfrm>
                    <a:off x="19047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2" name="Line 190"/>
                  <p:cNvSpPr/>
                  <p:nvPr/>
                </p:nvSpPr>
                <p:spPr>
                  <a:xfrm>
                    <a:off x="19047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3" name="Line 191"/>
                  <p:cNvSpPr/>
                  <p:nvPr/>
                </p:nvSpPr>
                <p:spPr>
                  <a:xfrm>
                    <a:off x="19047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Line 192"/>
                  <p:cNvSpPr/>
                  <p:nvPr/>
                </p:nvSpPr>
                <p:spPr>
                  <a:xfrm>
                    <a:off x="190476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Line 193"/>
                  <p:cNvSpPr/>
                  <p:nvPr/>
                </p:nvSpPr>
                <p:spPr>
                  <a:xfrm>
                    <a:off x="190476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6" name="Line 194"/>
                  <p:cNvSpPr/>
                  <p:nvPr/>
                </p:nvSpPr>
                <p:spPr>
                  <a:xfrm>
                    <a:off x="190476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7" name="Line 195"/>
                  <p:cNvSpPr/>
                  <p:nvPr/>
                </p:nvSpPr>
                <p:spPr>
                  <a:xfrm>
                    <a:off x="190476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8" name="Line 196"/>
                  <p:cNvSpPr/>
                  <p:nvPr/>
                </p:nvSpPr>
                <p:spPr>
                  <a:xfrm>
                    <a:off x="190476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9" name="Line 197"/>
                  <p:cNvSpPr/>
                  <p:nvPr/>
                </p:nvSpPr>
                <p:spPr>
                  <a:xfrm>
                    <a:off x="190476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0" name="Group 455"/>
            <p:cNvGrpSpPr/>
            <p:nvPr/>
          </p:nvGrpSpPr>
          <p:grpSpPr>
            <a:xfrm>
              <a:off x="1523880" y="2057400"/>
              <a:ext cx="1066320" cy="1142640"/>
              <a:chOff x="1523880" y="2057400"/>
              <a:chExt cx="1066320" cy="1142640"/>
            </a:xfrm>
          </p:grpSpPr>
          <p:sp>
            <p:nvSpPr>
              <p:cNvPr id="421" name="Rectangle 456"/>
              <p:cNvSpPr/>
              <p:nvPr/>
            </p:nvSpPr>
            <p:spPr>
              <a:xfrm>
                <a:off x="1523880" y="205740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Group 457"/>
              <p:cNvGrpSpPr/>
              <p:nvPr/>
            </p:nvGrpSpPr>
            <p:grpSpPr>
              <a:xfrm>
                <a:off x="1600200" y="2133360"/>
                <a:ext cx="914400" cy="991080"/>
                <a:chOff x="1600200" y="2133360"/>
                <a:chExt cx="914400" cy="991080"/>
              </a:xfrm>
            </p:grpSpPr>
            <p:grpSp>
              <p:nvGrpSpPr>
                <p:cNvPr id="423" name="Group 458"/>
                <p:cNvGrpSpPr/>
                <p:nvPr/>
              </p:nvGrpSpPr>
              <p:grpSpPr>
                <a:xfrm>
                  <a:off x="1600200" y="2133360"/>
                  <a:ext cx="457200" cy="991080"/>
                  <a:chOff x="1600200" y="2133360"/>
                  <a:chExt cx="457200" cy="991080"/>
                </a:xfrm>
              </p:grpSpPr>
              <p:sp>
                <p:nvSpPr>
                  <p:cNvPr id="424" name="Line 184"/>
                  <p:cNvSpPr/>
                  <p:nvPr/>
                </p:nvSpPr>
                <p:spPr>
                  <a:xfrm>
                    <a:off x="16002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5" name="Line 185"/>
                  <p:cNvSpPr/>
                  <p:nvPr/>
                </p:nvSpPr>
                <p:spPr>
                  <a:xfrm>
                    <a:off x="16002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6" name="Line 186"/>
                  <p:cNvSpPr/>
                  <p:nvPr/>
                </p:nvSpPr>
                <p:spPr>
                  <a:xfrm>
                    <a:off x="16002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7" name="Line 187"/>
                  <p:cNvSpPr/>
                  <p:nvPr/>
                </p:nvSpPr>
                <p:spPr>
                  <a:xfrm>
                    <a:off x="16002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8" name="Line 188"/>
                  <p:cNvSpPr/>
                  <p:nvPr/>
                </p:nvSpPr>
                <p:spPr>
                  <a:xfrm>
                    <a:off x="16002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9" name="Line 189"/>
                  <p:cNvSpPr/>
                  <p:nvPr/>
                </p:nvSpPr>
                <p:spPr>
                  <a:xfrm>
                    <a:off x="16002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0" name="Line 190"/>
                  <p:cNvSpPr/>
                  <p:nvPr/>
                </p:nvSpPr>
                <p:spPr>
                  <a:xfrm>
                    <a:off x="16002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1" name="Line 191"/>
                  <p:cNvSpPr/>
                  <p:nvPr/>
                </p:nvSpPr>
                <p:spPr>
                  <a:xfrm>
                    <a:off x="16002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2" name="Line 192"/>
                  <p:cNvSpPr/>
                  <p:nvPr/>
                </p:nvSpPr>
                <p:spPr>
                  <a:xfrm>
                    <a:off x="160020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3" name="Line 193"/>
                  <p:cNvSpPr/>
                  <p:nvPr/>
                </p:nvSpPr>
                <p:spPr>
                  <a:xfrm>
                    <a:off x="160020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4" name="Line 194"/>
                  <p:cNvSpPr/>
                  <p:nvPr/>
                </p:nvSpPr>
                <p:spPr>
                  <a:xfrm>
                    <a:off x="160020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5" name="Line 195"/>
                  <p:cNvSpPr/>
                  <p:nvPr/>
                </p:nvSpPr>
                <p:spPr>
                  <a:xfrm>
                    <a:off x="160020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6" name="Line 196"/>
                  <p:cNvSpPr/>
                  <p:nvPr/>
                </p:nvSpPr>
                <p:spPr>
                  <a:xfrm>
                    <a:off x="1600200" y="3047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7" name="Line 197"/>
                  <p:cNvSpPr/>
                  <p:nvPr/>
                </p:nvSpPr>
                <p:spPr>
                  <a:xfrm>
                    <a:off x="1600200" y="3124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8" name="Group 473"/>
                <p:cNvGrpSpPr/>
                <p:nvPr/>
              </p:nvGrpSpPr>
              <p:grpSpPr>
                <a:xfrm>
                  <a:off x="2057400" y="2133360"/>
                  <a:ext cx="457200" cy="991080"/>
                  <a:chOff x="2057400" y="2133360"/>
                  <a:chExt cx="457200" cy="991080"/>
                </a:xfrm>
              </p:grpSpPr>
              <p:sp>
                <p:nvSpPr>
                  <p:cNvPr id="439" name="Line 184"/>
                  <p:cNvSpPr/>
                  <p:nvPr/>
                </p:nvSpPr>
                <p:spPr>
                  <a:xfrm>
                    <a:off x="20574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0" name="Line 185"/>
                  <p:cNvSpPr/>
                  <p:nvPr/>
                </p:nvSpPr>
                <p:spPr>
                  <a:xfrm>
                    <a:off x="20574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1" name="Line 186"/>
                  <p:cNvSpPr/>
                  <p:nvPr/>
                </p:nvSpPr>
                <p:spPr>
                  <a:xfrm>
                    <a:off x="20574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2" name="Line 187"/>
                  <p:cNvSpPr/>
                  <p:nvPr/>
                </p:nvSpPr>
                <p:spPr>
                  <a:xfrm>
                    <a:off x="20574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3" name="Line 188"/>
                  <p:cNvSpPr/>
                  <p:nvPr/>
                </p:nvSpPr>
                <p:spPr>
                  <a:xfrm>
                    <a:off x="20574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4" name="Line 189"/>
                  <p:cNvSpPr/>
                  <p:nvPr/>
                </p:nvSpPr>
                <p:spPr>
                  <a:xfrm>
                    <a:off x="20574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5" name="Line 190"/>
                  <p:cNvSpPr/>
                  <p:nvPr/>
                </p:nvSpPr>
                <p:spPr>
                  <a:xfrm>
                    <a:off x="20574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6" name="Line 191"/>
                  <p:cNvSpPr/>
                  <p:nvPr/>
                </p:nvSpPr>
                <p:spPr>
                  <a:xfrm>
                    <a:off x="20574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7" name="Line 192"/>
                  <p:cNvSpPr/>
                  <p:nvPr/>
                </p:nvSpPr>
                <p:spPr>
                  <a:xfrm>
                    <a:off x="205740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8" name="Line 193"/>
                  <p:cNvSpPr/>
                  <p:nvPr/>
                </p:nvSpPr>
                <p:spPr>
                  <a:xfrm>
                    <a:off x="205740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9" name="Line 194"/>
                  <p:cNvSpPr/>
                  <p:nvPr/>
                </p:nvSpPr>
                <p:spPr>
                  <a:xfrm>
                    <a:off x="205740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0" name="Line 195"/>
                  <p:cNvSpPr/>
                  <p:nvPr/>
                </p:nvSpPr>
                <p:spPr>
                  <a:xfrm>
                    <a:off x="205740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1" name="Line 196"/>
                  <p:cNvSpPr/>
                  <p:nvPr/>
                </p:nvSpPr>
                <p:spPr>
                  <a:xfrm>
                    <a:off x="2057400" y="3047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2" name="Line 197"/>
                  <p:cNvSpPr/>
                  <p:nvPr/>
                </p:nvSpPr>
                <p:spPr>
                  <a:xfrm>
                    <a:off x="2057400" y="3124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453" name="Line 259"/>
          <p:cNvSpPr/>
          <p:nvPr/>
        </p:nvSpPr>
        <p:spPr>
          <a:xfrm>
            <a:off x="6019560" y="5333760"/>
            <a:ext cx="76212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90"/>
          <p:cNvSpPr/>
          <p:nvPr/>
        </p:nvSpPr>
        <p:spPr>
          <a:xfrm>
            <a:off x="1753200" y="5943600"/>
            <a:ext cx="456840" cy="398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93"/>
          <p:cNvSpPr/>
          <p:nvPr/>
        </p:nvSpPr>
        <p:spPr>
          <a:xfrm>
            <a:off x="3962520" y="2133720"/>
            <a:ext cx="1980720" cy="699480"/>
          </a:xfrm>
          <a:prstGeom prst="rect">
            <a:avLst/>
          </a:prstGeom>
          <a:solidFill>
            <a:srgbClr val="00ccff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antic Parser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552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of Annotat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ining Cor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9" name="Table 9"/>
          <p:cNvGraphicFramePr/>
          <p:nvPr/>
        </p:nvGraphicFramePr>
        <p:xfrm>
          <a:off x="914400" y="2209680"/>
          <a:ext cx="7238520" cy="47746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25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Natural Language (N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Meaning Representation Language (M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lice passes the ball to 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Alice, Bo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Bob turns the ball over to 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urnover(Bob, Joh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ohn passes to 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John, Fr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red shoots for the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ick(Fr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aul blocks the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lock(Pau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aul kicks off to 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Paul, Nanc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arning Language from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ceptu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ng annotated corpora for language learning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cquire language through exposure to linguistic input in the context of a rich, relevant, perceptual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a computer system can learn language in the same m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72" name="Curved Connector 12"/>
          <p:cNvCxnSpPr>
            <a:stCxn id="471" idx="3"/>
            <a:endCxn id="46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7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Bent Arrow 19"/>
          <p:cNvSpPr/>
          <p:nvPr/>
        </p:nvSpPr>
        <p:spPr>
          <a:xfrm>
            <a:off x="5076720" y="4956840"/>
            <a:ext cx="914040" cy="11476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1359360" y="231516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餐廳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3"/>
          <p:cNvSpPr/>
          <p:nvPr/>
        </p:nvSpPr>
        <p:spPr>
          <a:xfrm>
            <a:off x="473400" y="2313360"/>
            <a:ext cx="88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4"/>
          <p:cNvSpPr/>
          <p:nvPr/>
        </p:nvSpPr>
        <p:spPr>
          <a:xfrm>
            <a:off x="4732920" y="6104880"/>
            <a:ext cx="72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6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87" name="Curved Connector 12"/>
          <p:cNvCxnSpPr>
            <a:stCxn id="486" idx="3"/>
            <a:endCxn id="483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88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Bent Arrow 19"/>
          <p:cNvSpPr/>
          <p:nvPr/>
        </p:nvSpPr>
        <p:spPr>
          <a:xfrm>
            <a:off x="5076720" y="3636360"/>
            <a:ext cx="914040" cy="24678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1359360" y="231516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醫院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473400" y="2313360"/>
            <a:ext cx="88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7"/>
          <p:cNvSpPr/>
          <p:nvPr/>
        </p:nvSpPr>
        <p:spPr>
          <a:xfrm>
            <a:off x="4732920" y="6104880"/>
            <a:ext cx="72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0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1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02" name="Curved Connector 12"/>
          <p:cNvCxnSpPr>
            <a:stCxn id="501" idx="3"/>
            <a:endCxn id="49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0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17" name="Curved Connector 12"/>
          <p:cNvCxnSpPr>
            <a:stCxn id="516" idx="3"/>
            <a:endCxn id="513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18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32" name="Curved Connector 12"/>
          <p:cNvCxnSpPr>
            <a:stCxn id="531" idx="3"/>
            <a:endCxn id="52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3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7"/>
          <p:cNvSpPr/>
          <p:nvPr/>
        </p:nvSpPr>
        <p:spPr>
          <a:xfrm>
            <a:off x="838080" y="55306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Make a righ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9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2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48" name="Curved Connector 12"/>
          <p:cNvCxnSpPr>
            <a:stCxn id="547" idx="3"/>
            <a:endCxn id="544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49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s of Langu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ords, phrases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semantics of language is one of the ultimate goals in natural language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s of many words are grounded in our perception of the physical world: red, ball, cup, run, hit, fall, etc. [Harnad, 199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representation should also be grounded in real world per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63" name="Curved Connector 12"/>
          <p:cNvCxnSpPr>
            <a:stCxn id="562" idx="3"/>
            <a:endCxn id="559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64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9"/>
          <p:cNvSpPr/>
          <p:nvPr/>
        </p:nvSpPr>
        <p:spPr>
          <a:xfrm>
            <a:off x="5257800" y="5213520"/>
            <a:ext cx="1059120" cy="1142640"/>
          </a:xfrm>
          <a:prstGeom prst="ellipse">
            <a:avLst/>
          </a:prstGeom>
          <a:noFill/>
          <a:ln w="60325">
            <a:solidFill>
              <a:srgbClr val="ff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9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2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78" name="Curved Connector 12"/>
          <p:cNvCxnSpPr>
            <a:stCxn id="577" idx="3"/>
            <a:endCxn id="574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79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93" name="Curved Connector 12"/>
          <p:cNvCxnSpPr>
            <a:stCxn id="592" idx="3"/>
            <a:endCxn id="589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94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ction Button: Help 17"/>
          <p:cNvSpPr/>
          <p:nvPr/>
        </p:nvSpPr>
        <p:spPr>
          <a:xfrm>
            <a:off x="4395240" y="466884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ction Button: Help 19"/>
          <p:cNvSpPr/>
          <p:nvPr/>
        </p:nvSpPr>
        <p:spPr>
          <a:xfrm>
            <a:off x="5801040" y="350928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ction Button: Help 20"/>
          <p:cNvSpPr/>
          <p:nvPr/>
        </p:nvSpPr>
        <p:spPr>
          <a:xfrm>
            <a:off x="8496720" y="294804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1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hesis 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44520" indent="-344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casting tas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Chen &amp; Mooney, ICML, 2008; Chen, Kim &amp; Mooney, JAIR, 201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ed English corpus of 2000 sentences that has been adopted by other researchers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Liang et al., 2009; Bordes, Usunier, &amp; Weston, 2010; Angeli et al., 2010; Hajishirzi, Hockenmaier, Muellar, &amp; Amir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from ambiguously supervised relat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gation tas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Chen &amp; Mooney, AAAI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and semantically annotated corpus from MacMahon et al. (200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468000" y="14475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er Lear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earn a function from </a:t>
            </a:r>
            <a:r>
              <a:rPr b="0" lang="en-US" sz="2800" spc="-1" strike="noStrike">
                <a:solidFill>
                  <a:srgbClr val="3366ff"/>
                </a:solidFill>
                <a:latin typeface="Calibri"/>
                <a:ea typeface="宋体"/>
              </a:rPr>
              <a:t>N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o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宋体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143000" y="2514600"/>
            <a:ext cx="723852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NL: “Purple3 passes the ball to Purple5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1676520" y="4038480"/>
            <a:ext cx="556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</a:rPr>
              <a:t>MR: Pass ( Purple3, Purple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3733920" y="2971800"/>
            <a:ext cx="456840" cy="914040"/>
          </a:xfrm>
          <a:prstGeom prst="curvedRightArrow">
            <a:avLst>
              <a:gd name="adj1" fmla="val 40000"/>
              <a:gd name="adj2" fmla="val 8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AutoShape 9"/>
          <p:cNvSpPr/>
          <p:nvPr/>
        </p:nvSpPr>
        <p:spPr>
          <a:xfrm rot="10778400">
            <a:off x="4494240" y="2892960"/>
            <a:ext cx="456840" cy="991800"/>
          </a:xfrm>
          <a:prstGeom prst="curvedRightArrow">
            <a:avLst>
              <a:gd name="adj1" fmla="val 43403"/>
              <a:gd name="adj2" fmla="val 8680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1676520" y="3124080"/>
            <a:ext cx="1980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mantic Pars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257800" y="3124080"/>
            <a:ext cx="25905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face Realization (</a:t>
            </a:r>
            <a:r>
              <a:rPr b="0" lang="en-US" sz="20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62120" y="4724280"/>
            <a:ext cx="7848360" cy="15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experiment with two semantic parser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80000"/>
              </a:lnSpc>
              <a:buClr>
                <a:srgbClr val="0099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宋体"/>
              </a:rPr>
              <a:t>WAS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[Wong &amp; Mooney, 2006; 200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80000"/>
              </a:lnSpc>
              <a:buClr>
                <a:srgbClr val="0099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宋体"/>
              </a:rPr>
              <a:t>KRIS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[Kate &amp; Mooney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ynchronous context-free grammars (SCFG) [Wu, 1997; Melamed, 2004; Chiang, 2005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ord alignments [Brown et al., 1993; Och &amp; Ney, 200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pable of both semantic parsing and surface re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533160" y="16761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WASP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W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or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lignment-base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emantic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P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ar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KRISP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rnel-base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obust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nterpretation by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mantic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ar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ons of MR language are treated like semantic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VM classifier is trained for each production with string subsequence ker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lassifiers are used to compositionally build MRs of  the sen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sistant to noisy supervision but incapable of language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ctable Challenge Problem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arning to Be a Sportsc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earn from textually annotated traces of activity in a simulated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ces of games in the RoboCup simulator paired with textual sportscaster commen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rounding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10"/>
          <p:cNvSpPr/>
          <p:nvPr/>
        </p:nvSpPr>
        <p:spPr>
          <a:xfrm rot="5314200">
            <a:off x="4614120" y="298476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1"/>
          <p:cNvSpPr/>
          <p:nvPr/>
        </p:nvSpPr>
        <p:spPr>
          <a:xfrm rot="16180200">
            <a:off x="4726440" y="363132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994680" y="3277800"/>
            <a:ext cx="3500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David\桌面\block.jpg"/>
          <p:cNvPicPr/>
          <p:nvPr/>
        </p:nvPicPr>
        <p:blipFill>
          <a:blip r:embed="rId1"/>
          <a:stretch/>
        </p:blipFill>
        <p:spPr>
          <a:xfrm>
            <a:off x="5791320" y="2666880"/>
            <a:ext cx="1966680" cy="23619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Human Sportscast in Kor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990720"/>
            <a:ext cx="7467120" cy="53204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6"/>
          <p:cNvSpPr/>
          <p:nvPr/>
        </p:nvSpPr>
        <p:spPr>
          <a:xfrm>
            <a:off x="8305920" y="626004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64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642"/>
                </p:tgtEl>
              </p:cMediaNode>
            </p:vide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4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5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6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7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0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1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2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3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4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35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obocup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vents/game = 2,6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nglish sentences/game = 5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Korean sentences/game = 4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MRs/sentence =  2.5 (min 1, max 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1028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Line 5"/>
          <p:cNvSpPr/>
          <p:nvPr/>
        </p:nvSpPr>
        <p:spPr>
          <a:xfrm>
            <a:off x="457200" y="1600200"/>
            <a:ext cx="807696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chine Sportscast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1066680"/>
            <a:ext cx="7423560" cy="5289120"/>
          </a:xfrm>
          <a:prstGeom prst="rect">
            <a:avLst/>
          </a:prstGeom>
          <a:ln w="0">
            <a:noFill/>
          </a:ln>
        </p:spPr>
      </p:pic>
      <p:sp>
        <p:nvSpPr>
          <p:cNvPr id="778" name="TextBox 6"/>
          <p:cNvSpPr/>
          <p:nvPr/>
        </p:nvSpPr>
        <p:spPr>
          <a:xfrm>
            <a:off x="8381880" y="626004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delay="0" evt="onClick">
                    <p:tgtEl>
                      <p:spTgt spid="777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777"/>
                </p:tgtEl>
              </p:cMediaNode>
            </p:video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to interpret and follow free-form navigation instru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27468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e.g. </a:t>
            </a: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Go down this hall and make a right when you see an elevator to your left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no prior linguistic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by observing how humans follow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virtual worlds and instructor/follower data from MacMahon et al. (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88" name="Straight Connector 5"/>
          <p:cNvCxnSpPr/>
          <p:nvPr/>
        </p:nvCxnSpPr>
        <p:spPr>
          <a:xfrm>
            <a:off x="945720" y="1658880"/>
            <a:ext cx="5533200" cy="14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pic>
        <p:nvPicPr>
          <p:cNvPr id="789" name="Picture 32" descr="bluetile.jpg"/>
          <p:cNvPicPr/>
          <p:nvPr/>
        </p:nvPicPr>
        <p:blipFill>
          <a:blip r:embed="rId1"/>
          <a:stretch/>
        </p:blipFill>
        <p:spPr>
          <a:xfrm>
            <a:off x="3204360" y="3372120"/>
            <a:ext cx="173160" cy="350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5" descr="floral10.gif"/>
          <p:cNvPicPr/>
          <p:nvPr/>
        </p:nvPicPr>
        <p:blipFill>
          <a:blip r:embed="rId2"/>
          <a:stretch/>
        </p:blipFill>
        <p:spPr>
          <a:xfrm rot="16200000">
            <a:off x="3523320" y="3573000"/>
            <a:ext cx="136440" cy="443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6" descr="honeycomb.gif"/>
          <p:cNvPicPr/>
          <p:nvPr/>
        </p:nvPicPr>
        <p:blipFill>
          <a:blip r:embed="rId3"/>
          <a:stretch/>
        </p:blipFill>
        <p:spPr>
          <a:xfrm rot="16200000">
            <a:off x="2901240" y="5532840"/>
            <a:ext cx="136440" cy="44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7" descr="rock14.gif"/>
          <p:cNvPicPr/>
          <p:nvPr/>
        </p:nvPicPr>
        <p:blipFill>
          <a:blip r:embed="rId4"/>
          <a:stretch/>
        </p:blipFill>
        <p:spPr>
          <a:xfrm>
            <a:off x="2578320" y="43578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6"/>
          <p:cNvSpPr/>
          <p:nvPr/>
        </p:nvSpPr>
        <p:spPr>
          <a:xfrm>
            <a:off x="1338840" y="176580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4" name="Picture 31" descr="grass14.gif"/>
          <p:cNvPicPr/>
          <p:nvPr/>
        </p:nvPicPr>
        <p:blipFill>
          <a:blip r:embed="rId5"/>
          <a:stretch/>
        </p:blipFill>
        <p:spPr>
          <a:xfrm>
            <a:off x="1338840" y="1906200"/>
            <a:ext cx="177480" cy="3502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9" descr="Cement1.jpg"/>
          <p:cNvPicPr/>
          <p:nvPr/>
        </p:nvPicPr>
        <p:blipFill>
          <a:blip r:embed="rId6"/>
          <a:stretch/>
        </p:blipFill>
        <p:spPr>
          <a:xfrm rot="16200000">
            <a:off x="1668600" y="161424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50"/>
          <p:cNvSpPr/>
          <p:nvPr/>
        </p:nvSpPr>
        <p:spPr>
          <a:xfrm>
            <a:off x="133884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7" name="Picture 51" descr="grass14.gif"/>
          <p:cNvPicPr/>
          <p:nvPr/>
        </p:nvPicPr>
        <p:blipFill>
          <a:blip r:embed="rId7"/>
          <a:stretch/>
        </p:blipFill>
        <p:spPr>
          <a:xfrm>
            <a:off x="1338840" y="239688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2"/>
          <p:cNvSpPr/>
          <p:nvPr/>
        </p:nvSpPr>
        <p:spPr>
          <a:xfrm>
            <a:off x="1338840" y="27475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9" name="Picture 53" descr="grass14.gif"/>
          <p:cNvPicPr/>
          <p:nvPr/>
        </p:nvPicPr>
        <p:blipFill>
          <a:blip r:embed="rId8"/>
          <a:stretch/>
        </p:blipFill>
        <p:spPr>
          <a:xfrm>
            <a:off x="1338840" y="28875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54"/>
          <p:cNvSpPr/>
          <p:nvPr/>
        </p:nvSpPr>
        <p:spPr>
          <a:xfrm>
            <a:off x="133884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1" name="Picture 55" descr="grass14.gif"/>
          <p:cNvPicPr/>
          <p:nvPr/>
        </p:nvPicPr>
        <p:blipFill>
          <a:blip r:embed="rId9"/>
          <a:stretch/>
        </p:blipFill>
        <p:spPr>
          <a:xfrm>
            <a:off x="1338840" y="337212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56"/>
          <p:cNvSpPr/>
          <p:nvPr/>
        </p:nvSpPr>
        <p:spPr>
          <a:xfrm>
            <a:off x="133884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3" name="Picture 57" descr="grass14.gif"/>
          <p:cNvPicPr/>
          <p:nvPr/>
        </p:nvPicPr>
        <p:blipFill>
          <a:blip r:embed="rId10"/>
          <a:stretch/>
        </p:blipFill>
        <p:spPr>
          <a:xfrm>
            <a:off x="133884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59"/>
          <p:cNvSpPr/>
          <p:nvPr/>
        </p:nvSpPr>
        <p:spPr>
          <a:xfrm>
            <a:off x="133884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5" name="Picture 60" descr="Cement1.jpg"/>
          <p:cNvPicPr/>
          <p:nvPr/>
        </p:nvPicPr>
        <p:blipFill>
          <a:blip r:embed="rId11"/>
          <a:stretch/>
        </p:blipFill>
        <p:spPr>
          <a:xfrm>
            <a:off x="1960560" y="190620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1"/>
          <p:cNvSpPr/>
          <p:nvPr/>
        </p:nvSpPr>
        <p:spPr>
          <a:xfrm>
            <a:off x="1960560" y="176580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7" name="Picture 62" descr="Cement1.jpg"/>
          <p:cNvPicPr/>
          <p:nvPr/>
        </p:nvPicPr>
        <p:blipFill>
          <a:blip r:embed="rId12"/>
          <a:stretch/>
        </p:blipFill>
        <p:spPr>
          <a:xfrm rot="16200000">
            <a:off x="2290320" y="210492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3"/>
          <p:cNvSpPr/>
          <p:nvPr/>
        </p:nvSpPr>
        <p:spPr>
          <a:xfrm>
            <a:off x="196056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9" name="Rectangle 64"/>
          <p:cNvSpPr/>
          <p:nvPr/>
        </p:nvSpPr>
        <p:spPr>
          <a:xfrm>
            <a:off x="258264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0" name="Picture 65" descr="wood018.jpg"/>
          <p:cNvPicPr/>
          <p:nvPr/>
        </p:nvPicPr>
        <p:blipFill>
          <a:blip r:embed="rId13"/>
          <a:stretch/>
        </p:blipFill>
        <p:spPr>
          <a:xfrm>
            <a:off x="2586600" y="239688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66"/>
          <p:cNvSpPr/>
          <p:nvPr/>
        </p:nvSpPr>
        <p:spPr>
          <a:xfrm>
            <a:off x="2578320" y="27410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2" name="Picture 67" descr="wood018.jpg"/>
          <p:cNvPicPr/>
          <p:nvPr/>
        </p:nvPicPr>
        <p:blipFill>
          <a:blip r:embed="rId14"/>
          <a:stretch/>
        </p:blipFill>
        <p:spPr>
          <a:xfrm>
            <a:off x="2582640" y="288144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68"/>
          <p:cNvSpPr/>
          <p:nvPr/>
        </p:nvSpPr>
        <p:spPr>
          <a:xfrm>
            <a:off x="258264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4" name="Picture 69" descr="wood018.jpg"/>
          <p:cNvPicPr/>
          <p:nvPr/>
        </p:nvPicPr>
        <p:blipFill>
          <a:blip r:embed="rId15"/>
          <a:stretch/>
        </p:blipFill>
        <p:spPr>
          <a:xfrm>
            <a:off x="2586600" y="337212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70"/>
          <p:cNvSpPr/>
          <p:nvPr/>
        </p:nvSpPr>
        <p:spPr>
          <a:xfrm>
            <a:off x="257832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6" name="Rectangle 71"/>
          <p:cNvSpPr/>
          <p:nvPr/>
        </p:nvSpPr>
        <p:spPr>
          <a:xfrm>
            <a:off x="196488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7" name="Picture 72" descr="Cement1.jpg"/>
          <p:cNvPicPr/>
          <p:nvPr/>
        </p:nvPicPr>
        <p:blipFill>
          <a:blip r:embed="rId16"/>
          <a:stretch/>
        </p:blipFill>
        <p:spPr>
          <a:xfrm rot="16200000">
            <a:off x="2294640" y="308016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3" descr="Cement1.jpg"/>
          <p:cNvPicPr/>
          <p:nvPr/>
        </p:nvPicPr>
        <p:blipFill>
          <a:blip r:embed="rId17"/>
          <a:stretch/>
        </p:blipFill>
        <p:spPr>
          <a:xfrm rot="16200000">
            <a:off x="2920320" y="308016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19" name="Rectangle 74"/>
          <p:cNvSpPr/>
          <p:nvPr/>
        </p:nvSpPr>
        <p:spPr>
          <a:xfrm>
            <a:off x="320436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0" name="Picture 75" descr="brick001.jpg"/>
          <p:cNvPicPr/>
          <p:nvPr/>
        </p:nvPicPr>
        <p:blipFill>
          <a:blip r:embed="rId18"/>
          <a:stretch/>
        </p:blipFill>
        <p:spPr>
          <a:xfrm>
            <a:off x="1964880" y="337212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76"/>
          <p:cNvSpPr/>
          <p:nvPr/>
        </p:nvSpPr>
        <p:spPr>
          <a:xfrm>
            <a:off x="196056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2" name="Picture 77" descr="brick001.jpg"/>
          <p:cNvPicPr/>
          <p:nvPr/>
        </p:nvPicPr>
        <p:blipFill>
          <a:blip r:embed="rId19"/>
          <a:stretch/>
        </p:blipFill>
        <p:spPr>
          <a:xfrm>
            <a:off x="196056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78"/>
          <p:cNvSpPr/>
          <p:nvPr/>
        </p:nvSpPr>
        <p:spPr>
          <a:xfrm>
            <a:off x="196056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4" name="Picture 79" descr="brick001.jpg"/>
          <p:cNvPicPr/>
          <p:nvPr/>
        </p:nvPicPr>
        <p:blipFill>
          <a:blip r:embed="rId20"/>
          <a:stretch/>
        </p:blipFill>
        <p:spPr>
          <a:xfrm>
            <a:off x="1960560" y="435384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80"/>
          <p:cNvSpPr/>
          <p:nvPr/>
        </p:nvSpPr>
        <p:spPr>
          <a:xfrm>
            <a:off x="1960560" y="4704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6" name="Picture 81" descr="Cement1.jpg"/>
          <p:cNvPicPr/>
          <p:nvPr/>
        </p:nvPicPr>
        <p:blipFill>
          <a:blip r:embed="rId21"/>
          <a:stretch/>
        </p:blipFill>
        <p:spPr>
          <a:xfrm rot="16200000">
            <a:off x="1672560" y="357120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85" descr="bluetile.jpg"/>
          <p:cNvPicPr/>
          <p:nvPr/>
        </p:nvPicPr>
        <p:blipFill>
          <a:blip r:embed="rId22"/>
          <a:stretch/>
        </p:blipFill>
        <p:spPr>
          <a:xfrm>
            <a:off x="3200040" y="386316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86"/>
          <p:cNvSpPr/>
          <p:nvPr/>
        </p:nvSpPr>
        <p:spPr>
          <a:xfrm>
            <a:off x="320004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9" name="Picture 87" descr="bluetile.jpg"/>
          <p:cNvPicPr/>
          <p:nvPr/>
        </p:nvPicPr>
        <p:blipFill>
          <a:blip r:embed="rId23"/>
          <a:stretch/>
        </p:blipFill>
        <p:spPr>
          <a:xfrm>
            <a:off x="3212640" y="43578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88"/>
          <p:cNvSpPr/>
          <p:nvPr/>
        </p:nvSpPr>
        <p:spPr>
          <a:xfrm>
            <a:off x="3212640" y="4217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1" name="Picture 89" descr="bluetile.jpg"/>
          <p:cNvPicPr/>
          <p:nvPr/>
        </p:nvPicPr>
        <p:blipFill>
          <a:blip r:embed="rId24"/>
          <a:stretch/>
        </p:blipFill>
        <p:spPr>
          <a:xfrm>
            <a:off x="3208680" y="484884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2" name="Rectangle 90"/>
          <p:cNvSpPr/>
          <p:nvPr/>
        </p:nvSpPr>
        <p:spPr>
          <a:xfrm>
            <a:off x="3208680" y="4708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3" name="Picture 91" descr="bluetile.jpg"/>
          <p:cNvPicPr/>
          <p:nvPr/>
        </p:nvPicPr>
        <p:blipFill>
          <a:blip r:embed="rId25"/>
          <a:stretch/>
        </p:blipFill>
        <p:spPr>
          <a:xfrm>
            <a:off x="3200040" y="533952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92"/>
          <p:cNvSpPr/>
          <p:nvPr/>
        </p:nvSpPr>
        <p:spPr>
          <a:xfrm>
            <a:off x="3200040" y="5199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5" name="Picture 93" descr="bluetile.jpg"/>
          <p:cNvPicPr/>
          <p:nvPr/>
        </p:nvPicPr>
        <p:blipFill>
          <a:blip r:embed="rId26"/>
          <a:stretch/>
        </p:blipFill>
        <p:spPr>
          <a:xfrm>
            <a:off x="3196080" y="58302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94"/>
          <p:cNvSpPr/>
          <p:nvPr/>
        </p:nvSpPr>
        <p:spPr>
          <a:xfrm>
            <a:off x="3196080" y="56901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7" name="Rectangle 95"/>
          <p:cNvSpPr/>
          <p:nvPr/>
        </p:nvSpPr>
        <p:spPr>
          <a:xfrm>
            <a:off x="3191760" y="61808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8" name="Picture 96" descr="Cement1.jpg"/>
          <p:cNvPicPr/>
          <p:nvPr/>
        </p:nvPicPr>
        <p:blipFill>
          <a:blip r:embed="rId27"/>
          <a:stretch/>
        </p:blipFill>
        <p:spPr>
          <a:xfrm rot="16200000">
            <a:off x="2294640" y="406584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97"/>
          <p:cNvSpPr/>
          <p:nvPr/>
        </p:nvSpPr>
        <p:spPr>
          <a:xfrm>
            <a:off x="259092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0" name="Picture 98" descr="rock14.gif"/>
          <p:cNvPicPr/>
          <p:nvPr/>
        </p:nvPicPr>
        <p:blipFill>
          <a:blip r:embed="rId28"/>
          <a:stretch/>
        </p:blipFill>
        <p:spPr>
          <a:xfrm>
            <a:off x="2578320" y="485208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99"/>
          <p:cNvSpPr/>
          <p:nvPr/>
        </p:nvSpPr>
        <p:spPr>
          <a:xfrm>
            <a:off x="2590920" y="47116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2" name="Picture 100" descr="rock14.gif"/>
          <p:cNvPicPr/>
          <p:nvPr/>
        </p:nvPicPr>
        <p:blipFill>
          <a:blip r:embed="rId29"/>
          <a:stretch/>
        </p:blipFill>
        <p:spPr>
          <a:xfrm>
            <a:off x="2574360" y="53352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01"/>
          <p:cNvSpPr/>
          <p:nvPr/>
        </p:nvSpPr>
        <p:spPr>
          <a:xfrm>
            <a:off x="2590920" y="5202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4" name="Rectangle 102"/>
          <p:cNvSpPr/>
          <p:nvPr/>
        </p:nvSpPr>
        <p:spPr>
          <a:xfrm>
            <a:off x="2578320" y="56901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5" name="Picture 103" descr="honeycomb.gif"/>
          <p:cNvPicPr/>
          <p:nvPr/>
        </p:nvPicPr>
        <p:blipFill>
          <a:blip r:embed="rId30"/>
          <a:stretch/>
        </p:blipFill>
        <p:spPr>
          <a:xfrm rot="16200000">
            <a:off x="3544200" y="554004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104"/>
          <p:cNvSpPr/>
          <p:nvPr/>
        </p:nvSpPr>
        <p:spPr>
          <a:xfrm>
            <a:off x="3838680" y="5697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7" name="Picture 105" descr="honeycomb.gif"/>
          <p:cNvPicPr/>
          <p:nvPr/>
        </p:nvPicPr>
        <p:blipFill>
          <a:blip r:embed="rId31"/>
          <a:stretch/>
        </p:blipFill>
        <p:spPr>
          <a:xfrm rot="16200000">
            <a:off x="4174200" y="55476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106"/>
          <p:cNvSpPr/>
          <p:nvPr/>
        </p:nvSpPr>
        <p:spPr>
          <a:xfrm>
            <a:off x="4464720" y="57009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9" name="Picture 107" descr="Cement1.jpg"/>
          <p:cNvPicPr/>
          <p:nvPr/>
        </p:nvPicPr>
        <p:blipFill>
          <a:blip r:embed="rId32"/>
          <a:stretch/>
        </p:blipFill>
        <p:spPr>
          <a:xfrm>
            <a:off x="3843000" y="5841000"/>
            <a:ext cx="177480" cy="35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09" descr="Cement1.jpg"/>
          <p:cNvPicPr/>
          <p:nvPr/>
        </p:nvPicPr>
        <p:blipFill>
          <a:blip r:embed="rId33"/>
          <a:stretch/>
        </p:blipFill>
        <p:spPr>
          <a:xfrm rot="16200000">
            <a:off x="4172400" y="604008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110"/>
          <p:cNvSpPr/>
          <p:nvPr/>
        </p:nvSpPr>
        <p:spPr>
          <a:xfrm>
            <a:off x="3843000" y="61916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2" name="Rectangle 111"/>
          <p:cNvSpPr/>
          <p:nvPr/>
        </p:nvSpPr>
        <p:spPr>
          <a:xfrm>
            <a:off x="4464720" y="61916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3" name="Picture 112" descr="Cement1.jpg"/>
          <p:cNvPicPr/>
          <p:nvPr/>
        </p:nvPicPr>
        <p:blipFill>
          <a:blip r:embed="rId34"/>
          <a:stretch/>
        </p:blipFill>
        <p:spPr>
          <a:xfrm rot="16200000">
            <a:off x="3546360" y="456012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13" descr="Cement1.jpg"/>
          <p:cNvPicPr/>
          <p:nvPr/>
        </p:nvPicPr>
        <p:blipFill>
          <a:blip r:embed="rId35"/>
          <a:stretch/>
        </p:blipFill>
        <p:spPr>
          <a:xfrm>
            <a:off x="3838680" y="485208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14"/>
          <p:cNvSpPr/>
          <p:nvPr/>
        </p:nvSpPr>
        <p:spPr>
          <a:xfrm>
            <a:off x="3838680" y="47116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6" name="Rectangle 115"/>
          <p:cNvSpPr/>
          <p:nvPr/>
        </p:nvSpPr>
        <p:spPr>
          <a:xfrm>
            <a:off x="3838680" y="5202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7" name="Picture 116" descr="Cement1.jpg"/>
          <p:cNvPicPr/>
          <p:nvPr/>
        </p:nvPicPr>
        <p:blipFill>
          <a:blip r:embed="rId36"/>
          <a:stretch/>
        </p:blipFill>
        <p:spPr>
          <a:xfrm rot="16200000">
            <a:off x="3550680" y="505080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17" descr="Cement1.jpg"/>
          <p:cNvPicPr/>
          <p:nvPr/>
        </p:nvPicPr>
        <p:blipFill>
          <a:blip r:embed="rId37"/>
          <a:stretch/>
        </p:blipFill>
        <p:spPr>
          <a:xfrm>
            <a:off x="384300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118"/>
          <p:cNvSpPr/>
          <p:nvPr/>
        </p:nvSpPr>
        <p:spPr>
          <a:xfrm>
            <a:off x="384300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0" name="Rectangle 119"/>
          <p:cNvSpPr/>
          <p:nvPr/>
        </p:nvSpPr>
        <p:spPr>
          <a:xfrm>
            <a:off x="384300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1" name="Picture 120" descr="floral10.gif"/>
          <p:cNvPicPr/>
          <p:nvPr/>
        </p:nvPicPr>
        <p:blipFill>
          <a:blip r:embed="rId38"/>
          <a:stretch/>
        </p:blipFill>
        <p:spPr>
          <a:xfrm rot="16200000">
            <a:off x="4174200" y="35730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21"/>
          <p:cNvSpPr/>
          <p:nvPr/>
        </p:nvSpPr>
        <p:spPr>
          <a:xfrm>
            <a:off x="449388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3" name="Picture 122" descr="floral10.gif"/>
          <p:cNvPicPr/>
          <p:nvPr/>
        </p:nvPicPr>
        <p:blipFill>
          <a:blip r:embed="rId39"/>
          <a:stretch/>
        </p:blipFill>
        <p:spPr>
          <a:xfrm rot="16200000">
            <a:off x="4825440" y="35694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23"/>
          <p:cNvSpPr/>
          <p:nvPr/>
        </p:nvSpPr>
        <p:spPr>
          <a:xfrm>
            <a:off x="5145120" y="37195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5" name="Picture 124" descr="fish.jpg"/>
          <p:cNvPicPr/>
          <p:nvPr/>
        </p:nvPicPr>
        <p:blipFill>
          <a:blip r:embed="rId40"/>
          <a:stretch/>
        </p:blipFill>
        <p:spPr>
          <a:xfrm>
            <a:off x="1127520" y="5383080"/>
            <a:ext cx="1253160" cy="879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25" descr="eiffel.jpg"/>
          <p:cNvPicPr/>
          <p:nvPr/>
        </p:nvPicPr>
        <p:blipFill>
          <a:blip r:embed="rId41"/>
          <a:stretch/>
        </p:blipFill>
        <p:spPr>
          <a:xfrm>
            <a:off x="5400360" y="3165120"/>
            <a:ext cx="954000" cy="11214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26" descr="butterfly.jpg"/>
          <p:cNvPicPr/>
          <p:nvPr/>
        </p:nvPicPr>
        <p:blipFill>
          <a:blip r:embed="rId42"/>
          <a:stretch/>
        </p:blipFill>
        <p:spPr>
          <a:xfrm>
            <a:off x="2983680" y="1765800"/>
            <a:ext cx="1480680" cy="828360"/>
          </a:xfrm>
          <a:prstGeom prst="rect">
            <a:avLst/>
          </a:prstGeom>
          <a:ln w="0">
            <a:noFill/>
          </a:ln>
        </p:spPr>
      </p:pic>
      <p:cxnSp>
        <p:nvCxnSpPr>
          <p:cNvPr id="868" name="Straight Connector 127"/>
          <p:cNvCxnSpPr/>
          <p:nvPr/>
        </p:nvCxnSpPr>
        <p:spPr>
          <a:xfrm>
            <a:off x="945720" y="6507360"/>
            <a:ext cx="5533200" cy="36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69" name="Straight Connector 128"/>
          <p:cNvCxnSpPr/>
          <p:nvPr/>
        </p:nvCxnSpPr>
        <p:spPr>
          <a:xfrm>
            <a:off x="945720" y="1656720"/>
            <a:ext cx="360" cy="48510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0" name="Straight Connector 137"/>
          <p:cNvCxnSpPr/>
          <p:nvPr/>
        </p:nvCxnSpPr>
        <p:spPr>
          <a:xfrm>
            <a:off x="6478560" y="1656720"/>
            <a:ext cx="360" cy="48510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1" name="Straight Connector 138"/>
          <p:cNvCxnSpPr/>
          <p:nvPr/>
        </p:nvCxnSpPr>
        <p:spPr>
          <a:xfrm>
            <a:off x="945720" y="4851720"/>
            <a:ext cx="2246400" cy="18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2" name="Straight Connector 148"/>
          <p:cNvCxnSpPr/>
          <p:nvPr/>
        </p:nvCxnSpPr>
        <p:spPr>
          <a:xfrm>
            <a:off x="3386160" y="4711680"/>
            <a:ext cx="3092760" cy="14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3" name="Straight Connector 150"/>
          <p:cNvCxnSpPr/>
          <p:nvPr/>
        </p:nvCxnSpPr>
        <p:spPr>
          <a:xfrm flipV="1">
            <a:off x="3191760" y="4704120"/>
            <a:ext cx="207000" cy="1494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4" name="Straight Connector 157"/>
          <p:cNvCxnSpPr/>
          <p:nvPr/>
        </p:nvCxnSpPr>
        <p:spPr>
          <a:xfrm>
            <a:off x="3212640" y="2888640"/>
            <a:ext cx="3278880" cy="36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5" name="Straight Connector 158"/>
          <p:cNvCxnSpPr/>
          <p:nvPr/>
        </p:nvCxnSpPr>
        <p:spPr>
          <a:xfrm flipV="1">
            <a:off x="1765800" y="2888640"/>
            <a:ext cx="1447200" cy="114156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6" name="Straight Connector 162"/>
          <p:cNvCxnSpPr/>
          <p:nvPr/>
        </p:nvCxnSpPr>
        <p:spPr>
          <a:xfrm flipV="1">
            <a:off x="1763640" y="4029840"/>
            <a:ext cx="1800" cy="8150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pic>
        <p:nvPicPr>
          <p:cNvPr id="877" name="Picture 168" descr="Cement1.jpg"/>
          <p:cNvPicPr/>
          <p:nvPr/>
        </p:nvPicPr>
        <p:blipFill>
          <a:blip r:embed="rId43"/>
          <a:stretch/>
        </p:blipFill>
        <p:spPr>
          <a:xfrm rot="16200000">
            <a:off x="2920320" y="455256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70"/>
          <p:cNvSpPr/>
          <p:nvPr/>
        </p:nvSpPr>
        <p:spPr>
          <a:xfrm>
            <a:off x="1050120" y="16603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72"/>
          <p:cNvSpPr/>
          <p:nvPr/>
        </p:nvSpPr>
        <p:spPr>
          <a:xfrm>
            <a:off x="1050120" y="356868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73"/>
          <p:cNvSpPr/>
          <p:nvPr/>
        </p:nvSpPr>
        <p:spPr>
          <a:xfrm>
            <a:off x="1765800" y="20991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74"/>
          <p:cNvSpPr/>
          <p:nvPr/>
        </p:nvSpPr>
        <p:spPr>
          <a:xfrm>
            <a:off x="1763640" y="40431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75"/>
          <p:cNvSpPr/>
          <p:nvPr/>
        </p:nvSpPr>
        <p:spPr>
          <a:xfrm>
            <a:off x="2459160" y="397224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176"/>
          <p:cNvSpPr/>
          <p:nvPr/>
        </p:nvSpPr>
        <p:spPr>
          <a:xfrm>
            <a:off x="2381040" y="455580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77"/>
          <p:cNvSpPr/>
          <p:nvPr/>
        </p:nvSpPr>
        <p:spPr>
          <a:xfrm>
            <a:off x="2983680" y="439848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78"/>
          <p:cNvSpPr/>
          <p:nvPr/>
        </p:nvSpPr>
        <p:spPr>
          <a:xfrm>
            <a:off x="2983680" y="53863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79"/>
          <p:cNvSpPr/>
          <p:nvPr/>
        </p:nvSpPr>
        <p:spPr>
          <a:xfrm>
            <a:off x="2381040" y="29235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80"/>
          <p:cNvSpPr/>
          <p:nvPr/>
        </p:nvSpPr>
        <p:spPr>
          <a:xfrm>
            <a:off x="3669480" y="60235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81"/>
          <p:cNvSpPr/>
          <p:nvPr/>
        </p:nvSpPr>
        <p:spPr>
          <a:xfrm>
            <a:off x="4383000" y="34113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1"/>
          <p:cNvSpPr/>
          <p:nvPr/>
        </p:nvSpPr>
        <p:spPr>
          <a:xfrm>
            <a:off x="6781680" y="1671120"/>
            <a:ext cx="19047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 – Ha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 –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– 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– S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– Bars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-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08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rounding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0"/>
          <p:cNvSpPr/>
          <p:nvPr/>
        </p:nvSpPr>
        <p:spPr>
          <a:xfrm rot="5314200">
            <a:off x="3166200" y="332388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1"/>
          <p:cNvSpPr/>
          <p:nvPr/>
        </p:nvSpPr>
        <p:spPr>
          <a:xfrm rot="16180200">
            <a:off x="3278520" y="397044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966480" y="3818160"/>
            <a:ext cx="2209320" cy="4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C:\Documents and Settings\David\桌面\block.jpg"/>
          <p:cNvPicPr/>
          <p:nvPr/>
        </p:nvPicPr>
        <p:blipFill>
          <a:blip r:embed="rId1"/>
          <a:stretch/>
        </p:blipFill>
        <p:spPr>
          <a:xfrm>
            <a:off x="6934320" y="2878560"/>
            <a:ext cx="1966680" cy="2361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0"/>
          <p:cNvSpPr/>
          <p:nvPr/>
        </p:nvSpPr>
        <p:spPr>
          <a:xfrm rot="5314200">
            <a:off x="5958000" y="332172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11"/>
          <p:cNvSpPr/>
          <p:nvPr/>
        </p:nvSpPr>
        <p:spPr>
          <a:xfrm rot="16180200">
            <a:off x="6070320" y="396828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13800" y="3716640"/>
            <a:ext cx="24339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4000"/>
          </a:bodyPr>
          <a:p>
            <a:pPr marL="295920" indent="-29592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Group 12"/>
          <p:cNvGrpSpPr/>
          <p:nvPr/>
        </p:nvGrpSpPr>
        <p:grpSpPr>
          <a:xfrm>
            <a:off x="1419480" y="1790640"/>
            <a:ext cx="6230520" cy="4775040"/>
            <a:chOff x="1419480" y="1790640"/>
            <a:chExt cx="6230520" cy="4775040"/>
          </a:xfrm>
        </p:grpSpPr>
        <p:pic>
          <p:nvPicPr>
            <p:cNvPr id="895" name="Picture 5" descr="DirectionDemo_11_11_180.jpg"/>
            <p:cNvPicPr/>
            <p:nvPr/>
          </p:nvPicPr>
          <p:blipFill>
            <a:blip r:embed="rId1"/>
            <a:stretch/>
          </p:blipFill>
          <p:spPr>
            <a:xfrm>
              <a:off x="1419480" y="179064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9" descr="DirectionDemo_13_12_270.jpg"/>
            <p:cNvPicPr/>
            <p:nvPr/>
          </p:nvPicPr>
          <p:blipFill>
            <a:blip r:embed="rId2"/>
            <a:stretch/>
          </p:blipFill>
          <p:spPr>
            <a:xfrm>
              <a:off x="4724280" y="179064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0" descr="DirectionDemo_10_10_180.jpg"/>
            <p:cNvPicPr/>
            <p:nvPr/>
          </p:nvPicPr>
          <p:blipFill>
            <a:blip r:embed="rId3"/>
            <a:stretch/>
          </p:blipFill>
          <p:spPr>
            <a:xfrm>
              <a:off x="1419480" y="436896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1" descr="DirectionDemo_9_11_180.jpg"/>
            <p:cNvPicPr/>
            <p:nvPr/>
          </p:nvPicPr>
          <p:blipFill>
            <a:blip r:embed="rId4"/>
            <a:stretch/>
          </p:blipFill>
          <p:spPr>
            <a:xfrm>
              <a:off x="4724280" y="4368960"/>
              <a:ext cx="2925720" cy="21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51"/>
          <p:cNvSpPr/>
          <p:nvPr/>
        </p:nvSpPr>
        <p:spPr>
          <a:xfrm>
            <a:off x="4419720" y="1417680"/>
            <a:ext cx="4495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your first left.  Go all the way down until you hit a dead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wards the coat hanger and turn left at it.  Go straight down the hallway and the dead end is posit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to the hat rack.  Turn left.  The carpet should have green octagons.  Go to the end of this alley. This is p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forward once.  Turn left.   Walk forwar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56"/>
          <p:cNvSpPr/>
          <p:nvPr/>
        </p:nvSpPr>
        <p:spPr>
          <a:xfrm>
            <a:off x="533520" y="3088440"/>
            <a:ext cx="104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57" descr="bluetile.jpg"/>
          <p:cNvPicPr/>
          <p:nvPr/>
        </p:nvPicPr>
        <p:blipFill>
          <a:blip r:embed="rId1"/>
          <a:stretch/>
        </p:blipFill>
        <p:spPr>
          <a:xfrm>
            <a:off x="1481400" y="225648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58"/>
          <p:cNvSpPr/>
          <p:nvPr/>
        </p:nvSpPr>
        <p:spPr>
          <a:xfrm>
            <a:off x="1481400" y="316080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59" descr="Cement1.jpg"/>
          <p:cNvPicPr/>
          <p:nvPr/>
        </p:nvPicPr>
        <p:blipFill>
          <a:blip r:embed="rId2"/>
          <a:stretch/>
        </p:blipFill>
        <p:spPr>
          <a:xfrm rot="16200000">
            <a:off x="2055600" y="3034800"/>
            <a:ext cx="439920" cy="6926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0" descr="bluetile.jpg"/>
          <p:cNvPicPr/>
          <p:nvPr/>
        </p:nvPicPr>
        <p:blipFill>
          <a:blip r:embed="rId3"/>
          <a:stretch/>
        </p:blipFill>
        <p:spPr>
          <a:xfrm>
            <a:off x="1481400" y="3601080"/>
            <a:ext cx="447120" cy="9039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61" descr="bluetile.jpg"/>
          <p:cNvPicPr/>
          <p:nvPr/>
        </p:nvPicPr>
        <p:blipFill>
          <a:blip r:embed="rId4"/>
          <a:stretch/>
        </p:blipFill>
        <p:spPr>
          <a:xfrm>
            <a:off x="1481400" y="495324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62"/>
          <p:cNvSpPr/>
          <p:nvPr/>
        </p:nvSpPr>
        <p:spPr>
          <a:xfrm>
            <a:off x="1461600" y="451332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63" descr="honeycomb.gif"/>
          <p:cNvPicPr/>
          <p:nvPr/>
        </p:nvPicPr>
        <p:blipFill>
          <a:blip r:embed="rId5"/>
          <a:stretch/>
        </p:blipFill>
        <p:spPr>
          <a:xfrm rot="16200000">
            <a:off x="205128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4"/>
          <p:cNvSpPr/>
          <p:nvPr/>
        </p:nvSpPr>
        <p:spPr>
          <a:xfrm>
            <a:off x="37400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65" descr="Cement1.jpg"/>
          <p:cNvPicPr/>
          <p:nvPr/>
        </p:nvPicPr>
        <p:blipFill>
          <a:blip r:embed="rId6"/>
          <a:stretch/>
        </p:blipFill>
        <p:spPr>
          <a:xfrm rot="10800000">
            <a:off x="2615040" y="4953960"/>
            <a:ext cx="454680" cy="9039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6" descr="honeycomb.gif"/>
          <p:cNvPicPr/>
          <p:nvPr/>
        </p:nvPicPr>
        <p:blipFill>
          <a:blip r:embed="rId7"/>
          <a:stretch/>
        </p:blipFill>
        <p:spPr>
          <a:xfrm rot="16200000">
            <a:off x="918360" y="4382640"/>
            <a:ext cx="447840" cy="6775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7" descr="honeycomb.gif"/>
          <p:cNvPicPr/>
          <p:nvPr/>
        </p:nvPicPr>
        <p:blipFill>
          <a:blip r:embed="rId8"/>
          <a:stretch/>
        </p:blipFill>
        <p:spPr>
          <a:xfrm rot="16200000">
            <a:off x="317700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68"/>
          <p:cNvSpPr/>
          <p:nvPr/>
        </p:nvSpPr>
        <p:spPr>
          <a:xfrm>
            <a:off x="26222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TextBox 18"/>
          <p:cNvSpPr/>
          <p:nvPr/>
        </p:nvSpPr>
        <p:spPr>
          <a:xfrm>
            <a:off x="3499200" y="3960000"/>
            <a:ext cx="9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0" name="Picture 5" descr="bluetile.jpg"/>
          <p:cNvPicPr/>
          <p:nvPr/>
        </p:nvPicPr>
        <p:blipFill>
          <a:blip r:embed="rId1"/>
          <a:stretch/>
        </p:blipFill>
        <p:spPr>
          <a:xfrm>
            <a:off x="1481400" y="225648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8"/>
          <p:cNvSpPr/>
          <p:nvPr/>
        </p:nvSpPr>
        <p:spPr>
          <a:xfrm>
            <a:off x="1481400" y="316080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9" descr="Cement1.jpg"/>
          <p:cNvPicPr/>
          <p:nvPr/>
        </p:nvPicPr>
        <p:blipFill>
          <a:blip r:embed="rId2"/>
          <a:stretch/>
        </p:blipFill>
        <p:spPr>
          <a:xfrm rot="16200000">
            <a:off x="2055600" y="3034800"/>
            <a:ext cx="439920" cy="692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2" descr="bluetile.jpg"/>
          <p:cNvPicPr/>
          <p:nvPr/>
        </p:nvPicPr>
        <p:blipFill>
          <a:blip r:embed="rId3"/>
          <a:stretch/>
        </p:blipFill>
        <p:spPr>
          <a:xfrm>
            <a:off x="1481400" y="3601080"/>
            <a:ext cx="447120" cy="903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4" descr="bluetile.jpg"/>
          <p:cNvPicPr/>
          <p:nvPr/>
        </p:nvPicPr>
        <p:blipFill>
          <a:blip r:embed="rId4"/>
          <a:stretch/>
        </p:blipFill>
        <p:spPr>
          <a:xfrm>
            <a:off x="1481400" y="495324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25" name="Rectangle 45"/>
          <p:cNvSpPr/>
          <p:nvPr/>
        </p:nvSpPr>
        <p:spPr>
          <a:xfrm>
            <a:off x="1461600" y="451332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46" descr="honeycomb.gif"/>
          <p:cNvPicPr/>
          <p:nvPr/>
        </p:nvPicPr>
        <p:blipFill>
          <a:blip r:embed="rId5"/>
          <a:stretch/>
        </p:blipFill>
        <p:spPr>
          <a:xfrm rot="16200000">
            <a:off x="205128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47"/>
          <p:cNvSpPr/>
          <p:nvPr/>
        </p:nvSpPr>
        <p:spPr>
          <a:xfrm>
            <a:off x="37400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50" descr="Cement1.jpg"/>
          <p:cNvPicPr/>
          <p:nvPr/>
        </p:nvPicPr>
        <p:blipFill>
          <a:blip r:embed="rId6"/>
          <a:stretch/>
        </p:blipFill>
        <p:spPr>
          <a:xfrm rot="10800000">
            <a:off x="2615040" y="4953960"/>
            <a:ext cx="454680" cy="903960"/>
          </a:xfrm>
          <a:prstGeom prst="rect">
            <a:avLst/>
          </a:prstGeom>
          <a:ln w="0">
            <a:noFill/>
          </a:ln>
        </p:spPr>
      </p:pic>
      <p:sp>
        <p:nvSpPr>
          <p:cNvPr id="929" name="TextBox 51"/>
          <p:cNvSpPr/>
          <p:nvPr/>
        </p:nvSpPr>
        <p:spPr>
          <a:xfrm>
            <a:off x="4419720" y="1417680"/>
            <a:ext cx="4495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your first left.  Go all the way down until you hit a dead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wards the coat hanger and turn left at it.  Go straight down the hallway and the dead end is posit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to the hat rack.  Turn left.  The carpet should have green octagons.  Go to the end of this alley. This is p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forward once.  Turn left.   Walk forwar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1" name="Picture 53" descr="honeycomb.gif"/>
          <p:cNvPicPr/>
          <p:nvPr/>
        </p:nvPicPr>
        <p:blipFill>
          <a:blip r:embed="rId7"/>
          <a:stretch/>
        </p:blipFill>
        <p:spPr>
          <a:xfrm rot="16200000">
            <a:off x="918360" y="4382640"/>
            <a:ext cx="447840" cy="677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4" descr="honeycomb.gif"/>
          <p:cNvPicPr/>
          <p:nvPr/>
        </p:nvPicPr>
        <p:blipFill>
          <a:blip r:embed="rId8"/>
          <a:stretch/>
        </p:blipFill>
        <p:spPr>
          <a:xfrm rot="16200000">
            <a:off x="317700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55"/>
          <p:cNvSpPr/>
          <p:nvPr/>
        </p:nvSpPr>
        <p:spPr>
          <a:xfrm>
            <a:off x="26222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Down Arrow 17"/>
          <p:cNvSpPr/>
          <p:nvPr/>
        </p:nvSpPr>
        <p:spPr>
          <a:xfrm>
            <a:off x="1481400" y="3601080"/>
            <a:ext cx="297360" cy="75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Bent-Up Arrow 18"/>
          <p:cNvSpPr/>
          <p:nvPr/>
        </p:nvSpPr>
        <p:spPr>
          <a:xfrm rot="5400000">
            <a:off x="1574280" y="4397400"/>
            <a:ext cx="573120" cy="538560"/>
          </a:xfrm>
          <a:prstGeom prst="ben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ight Arrow 19"/>
          <p:cNvSpPr/>
          <p:nvPr/>
        </p:nvSpPr>
        <p:spPr>
          <a:xfrm>
            <a:off x="2251080" y="4687200"/>
            <a:ext cx="72684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Right Arrow 20"/>
          <p:cNvSpPr/>
          <p:nvPr/>
        </p:nvSpPr>
        <p:spPr>
          <a:xfrm>
            <a:off x="3009600" y="4703040"/>
            <a:ext cx="72684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TextBox 21"/>
          <p:cNvSpPr/>
          <p:nvPr/>
        </p:nvSpPr>
        <p:spPr>
          <a:xfrm>
            <a:off x="665280" y="5857920"/>
            <a:ext cx="3509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ed primitive 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ward, Left, Forward,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3"/>
          <p:cNvSpPr/>
          <p:nvPr/>
        </p:nvSpPr>
        <p:spPr>
          <a:xfrm>
            <a:off x="533520" y="3088440"/>
            <a:ext cx="104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24"/>
          <p:cNvSpPr/>
          <p:nvPr/>
        </p:nvSpPr>
        <p:spPr>
          <a:xfrm>
            <a:off x="3499200" y="3960000"/>
            <a:ext cx="9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2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ormal Problem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… 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 natural languag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n observed action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 world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system that produces the correc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given a previously unseen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ifferent instructions for the same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Describe differe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Use differen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Different ways to describe the same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dde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Needs to infer the plans from observed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nential number of possibl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9"/>
          <p:cNvGrpSpPr/>
          <p:nvPr/>
        </p:nvGrpSpPr>
        <p:grpSpPr>
          <a:xfrm>
            <a:off x="495000" y="541440"/>
            <a:ext cx="8153640" cy="3528360"/>
            <a:chOff x="495000" y="541440"/>
            <a:chExt cx="8153640" cy="3528360"/>
          </a:xfrm>
        </p:grpSpPr>
        <p:sp>
          <p:nvSpPr>
            <p:cNvPr id="951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4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55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59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64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7" name="Straight Arrow Connector 153"/>
            <p:cNvCxnSpPr>
              <a:stCxn id="965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68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969" name="TextBox 14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71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76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Straight Arrow Connector 153"/>
            <p:cNvCxnSpPr>
              <a:stCxn id="977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1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2" name="Straight Arrow Connector 164"/>
            <p:cNvCxnSpPr>
              <a:stCxn id="978" idx="2"/>
              <a:endCxn id="979" idx="0"/>
            </p:cNvCxnSpPr>
            <p:nvPr/>
          </p:nvCxnSpPr>
          <p:spPr>
            <a:xfrm flipH="1">
              <a:off x="6399720" y="1984680"/>
              <a:ext cx="2160" cy="14432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3" name="Straight Arrow Connector 43"/>
            <p:cNvCxnSpPr>
              <a:stCxn id="973" idx="3"/>
              <a:endCxn id="979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984" name="TextBox 1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86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0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91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Straight Arrow Connector 153"/>
            <p:cNvCxnSpPr>
              <a:stCxn id="992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7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8" name="Straight Arrow Connector 161"/>
            <p:cNvCxnSpPr>
              <a:stCxn id="988" idx="3"/>
              <a:endCxn id="995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9" name="Straight Arrow Connector 164"/>
            <p:cNvCxnSpPr>
              <a:stCxn id="993" idx="2"/>
              <a:endCxn id="995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00" name="Straight Arrow Connector 167"/>
            <p:cNvCxnSpPr>
              <a:stCxn id="995" idx="2"/>
              <a:endCxn id="994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01" name="Straight Arrow Connector 43"/>
            <p:cNvCxnSpPr>
              <a:stCxn id="988" idx="3"/>
              <a:endCxn id="994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02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04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11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7" name="Straight Arrow Connector 153"/>
            <p:cNvCxnSpPr>
              <a:stCxn id="1013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18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19" name="Straight Arrow Connector 161"/>
            <p:cNvCxnSpPr>
              <a:stCxn id="1006" idx="3"/>
              <a:endCxn id="1016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0" name="Straight Arrow Connector 164"/>
            <p:cNvCxnSpPr>
              <a:stCxn id="1014" idx="2"/>
              <a:endCxn id="1016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1" name="Straight Arrow Connector 167"/>
            <p:cNvCxnSpPr>
              <a:stCxn id="1016" idx="2"/>
              <a:endCxn id="1015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2" name="Straight Arrow Connector 43"/>
            <p:cNvCxnSpPr>
              <a:stCxn id="1006" idx="3"/>
              <a:endCxn id="1015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23" name="TextBox 22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5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6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25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32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9" name="Straight Arrow Connector 153"/>
            <p:cNvCxnSpPr>
              <a:stCxn id="1034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0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1" name="Straight Arrow Connector 161"/>
            <p:cNvCxnSpPr>
              <a:stCxn id="1027" idx="3"/>
              <a:endCxn id="1037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2" name="Straight Arrow Connector 164"/>
            <p:cNvCxnSpPr>
              <a:stCxn id="1035" idx="2"/>
              <a:endCxn id="1037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3" name="Straight Arrow Connector 167"/>
            <p:cNvCxnSpPr>
              <a:stCxn id="1037" idx="2"/>
              <a:endCxn id="1036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4" name="Straight Arrow Connector 171"/>
            <p:cNvCxnSpPr>
              <a:stCxn id="1036" idx="2"/>
              <a:endCxn id="1038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5" name="Straight Arrow Connector 174"/>
            <p:cNvCxnSpPr>
              <a:stCxn id="1029" idx="3"/>
              <a:endCxn id="1038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6" name="Straight Arrow Connector 43"/>
            <p:cNvCxnSpPr>
              <a:stCxn id="1027" idx="3"/>
              <a:endCxn id="1036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47" name="TextBox 24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49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ounded Rectangle 10"/>
            <p:cNvSpPr/>
            <p:nvPr/>
          </p:nvSpPr>
          <p:spPr>
            <a:xfrm>
              <a:off x="4533840" y="55911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xecution Module (MAR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6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57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4" name="Straight Arrow Connector 153"/>
            <p:cNvCxnSpPr>
              <a:stCxn id="1059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5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6" name="Straight Arrow Connector 161"/>
            <p:cNvCxnSpPr>
              <a:stCxn id="1051" idx="3"/>
              <a:endCxn id="1062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7" name="Straight Arrow Connector 164"/>
            <p:cNvCxnSpPr>
              <a:stCxn id="1060" idx="2"/>
              <a:endCxn id="1062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8" name="Straight Arrow Connector 167"/>
            <p:cNvCxnSpPr>
              <a:stCxn id="1062" idx="2"/>
              <a:endCxn id="1061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9" name="Straight Arrow Connector 171"/>
            <p:cNvCxnSpPr>
              <a:stCxn id="1061" idx="2"/>
              <a:endCxn id="1063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0" name="Straight Arrow Connector 174"/>
            <p:cNvCxnSpPr>
              <a:stCxn id="1054" idx="3"/>
              <a:endCxn id="1063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1" name="Straight Arrow Connector 177"/>
            <p:cNvCxnSpPr>
              <a:stCxn id="1055" idx="3"/>
              <a:endCxn id="1053" idx="1"/>
            </p:cNvCxnSpPr>
            <p:nvPr/>
          </p:nvCxnSpPr>
          <p:spPr>
            <a:xfrm>
              <a:off x="3238200" y="559116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2" name="Straight Arrow Connector 180"/>
            <p:cNvCxnSpPr>
              <a:stCxn id="1063" idx="2"/>
              <a:endCxn id="1053" idx="0"/>
            </p:cNvCxnSpPr>
            <p:nvPr/>
          </p:nvCxnSpPr>
          <p:spPr>
            <a:xfrm flipH="1">
              <a:off x="6399000" y="5191920"/>
              <a:ext cx="3600" cy="4014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sp>
          <p:nvSpPr>
            <p:cNvPr id="1073" name="Rounded Rectangle 25"/>
            <p:cNvSpPr/>
            <p:nvPr/>
          </p:nvSpPr>
          <p:spPr>
            <a:xfrm>
              <a:off x="1409760" y="59922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Straight Arrow Connector 28"/>
            <p:cNvCxnSpPr>
              <a:endCxn id="1073" idx="3"/>
            </p:cNvCxnSpPr>
            <p:nvPr/>
          </p:nvCxnSpPr>
          <p:spPr>
            <a:xfrm flipH="1">
              <a:off x="3238200" y="599184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5" name="Straight Arrow Connector 43"/>
            <p:cNvCxnSpPr>
              <a:stCxn id="1051" idx="3"/>
              <a:endCxn id="1061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76" name="TextBox 2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78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ounded Rectangle 10"/>
            <p:cNvSpPr/>
            <p:nvPr/>
          </p:nvSpPr>
          <p:spPr>
            <a:xfrm>
              <a:off x="4533840" y="55911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xecution Module (MAR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5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86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3" name="Straight Arrow Connector 153"/>
            <p:cNvCxnSpPr>
              <a:stCxn id="1088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4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5" name="Straight Arrow Connector 161"/>
            <p:cNvCxnSpPr>
              <a:stCxn id="1080" idx="3"/>
              <a:endCxn id="1091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6" name="Straight Arrow Connector 164"/>
            <p:cNvCxnSpPr>
              <a:stCxn id="1089" idx="2"/>
              <a:endCxn id="1091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7" name="Straight Arrow Connector 167"/>
            <p:cNvCxnSpPr>
              <a:stCxn id="1091" idx="2"/>
              <a:endCxn id="1090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8" name="Straight Arrow Connector 171"/>
            <p:cNvCxnSpPr>
              <a:stCxn id="1090" idx="2"/>
              <a:endCxn id="1092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9" name="Straight Arrow Connector 174"/>
            <p:cNvCxnSpPr>
              <a:stCxn id="1083" idx="3"/>
              <a:endCxn id="1092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0" name="Straight Arrow Connector 177"/>
            <p:cNvCxnSpPr>
              <a:stCxn id="1084" idx="3"/>
              <a:endCxn id="1082" idx="1"/>
            </p:cNvCxnSpPr>
            <p:nvPr/>
          </p:nvCxnSpPr>
          <p:spPr>
            <a:xfrm>
              <a:off x="3238200" y="559116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1" name="Straight Arrow Connector 180"/>
            <p:cNvCxnSpPr>
              <a:stCxn id="1092" idx="2"/>
              <a:endCxn id="1082" idx="0"/>
            </p:cNvCxnSpPr>
            <p:nvPr/>
          </p:nvCxnSpPr>
          <p:spPr>
            <a:xfrm flipH="1">
              <a:off x="6399000" y="5191920"/>
              <a:ext cx="3600" cy="4014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sp>
          <p:nvSpPr>
            <p:cNvPr id="1102" name="Rounded Rectangle 25"/>
            <p:cNvSpPr/>
            <p:nvPr/>
          </p:nvSpPr>
          <p:spPr>
            <a:xfrm>
              <a:off x="1409760" y="59922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3" name="Straight Arrow Connector 28"/>
            <p:cNvCxnSpPr>
              <a:endCxn id="1102" idx="3"/>
            </p:cNvCxnSpPr>
            <p:nvPr/>
          </p:nvCxnSpPr>
          <p:spPr>
            <a:xfrm flipH="1">
              <a:off x="3238200" y="599184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4" name="Straight Arrow Connector 43"/>
            <p:cNvCxnSpPr>
              <a:stCxn id="1080" idx="3"/>
              <a:endCxn id="1090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105" name="TextBox 2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structing Navigation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Line 5"/>
          <p:cNvSpPr/>
          <p:nvPr/>
        </p:nvSpPr>
        <p:spPr>
          <a:xfrm>
            <a:off x="53316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4"/>
          <p:cNvSpPr/>
          <p:nvPr/>
        </p:nvSpPr>
        <p:spPr>
          <a:xfrm>
            <a:off x="685800" y="420120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ndmarks pl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dd interleaving verification ste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685800" y="244872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pl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irectly model the observed a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89"/>
          <p:cNvGrpSpPr/>
          <p:nvPr/>
        </p:nvGrpSpPr>
        <p:grpSpPr>
          <a:xfrm>
            <a:off x="756360" y="4793760"/>
            <a:ext cx="7783200" cy="1378080"/>
            <a:chOff x="756360" y="4793760"/>
            <a:chExt cx="7783200" cy="1378080"/>
          </a:xfrm>
        </p:grpSpPr>
        <p:sp>
          <p:nvSpPr>
            <p:cNvPr id="1111" name="Rounded Rectangle 7"/>
            <p:cNvSpPr/>
            <p:nvPr/>
          </p:nvSpPr>
          <p:spPr>
            <a:xfrm>
              <a:off x="295920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ounded Rectangle 8"/>
            <p:cNvSpPr/>
            <p:nvPr/>
          </p:nvSpPr>
          <p:spPr>
            <a:xfrm>
              <a:off x="75636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ounded Rectangle 9"/>
            <p:cNvSpPr/>
            <p:nvPr/>
          </p:nvSpPr>
          <p:spPr>
            <a:xfrm>
              <a:off x="516204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ounded Rectangle 10"/>
            <p:cNvSpPr/>
            <p:nvPr/>
          </p:nvSpPr>
          <p:spPr>
            <a:xfrm>
              <a:off x="721836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1"/>
            <p:cNvSpPr/>
            <p:nvPr/>
          </p:nvSpPr>
          <p:spPr>
            <a:xfrm>
              <a:off x="736524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6" name="Straight Arrow Connector 12"/>
            <p:cNvCxnSpPr>
              <a:stCxn id="1112" idx="3"/>
              <a:endCxn id="1111" idx="1"/>
            </p:cNvCxnSpPr>
            <p:nvPr/>
          </p:nvCxnSpPr>
          <p:spPr>
            <a:xfrm>
              <a:off x="2077920" y="502308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17" name="Straight Arrow Connector 13"/>
            <p:cNvCxnSpPr>
              <a:stCxn id="1111" idx="3"/>
              <a:endCxn id="1113" idx="1"/>
            </p:cNvCxnSpPr>
            <p:nvPr/>
          </p:nvCxnSpPr>
          <p:spPr>
            <a:xfrm>
              <a:off x="4280760" y="502308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18" name="Straight Arrow Connector 14"/>
            <p:cNvCxnSpPr>
              <a:stCxn id="1113" idx="3"/>
              <a:endCxn id="1114" idx="1"/>
            </p:cNvCxnSpPr>
            <p:nvPr/>
          </p:nvCxnSpPr>
          <p:spPr>
            <a:xfrm>
              <a:off x="6483600" y="502308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19" name="Oval 15"/>
            <p:cNvSpPr/>
            <p:nvPr/>
          </p:nvSpPr>
          <p:spPr>
            <a:xfrm>
              <a:off x="90324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6"/>
            <p:cNvSpPr/>
            <p:nvPr/>
          </p:nvSpPr>
          <p:spPr>
            <a:xfrm>
              <a:off x="310608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7"/>
            <p:cNvSpPr/>
            <p:nvPr/>
          </p:nvSpPr>
          <p:spPr>
            <a:xfrm>
              <a:off x="530892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2" name="Straight Connector 18"/>
            <p:cNvCxnSpPr>
              <a:stCxn id="1112" idx="2"/>
              <a:endCxn id="1119" idx="0"/>
            </p:cNvCxnSpPr>
            <p:nvPr/>
          </p:nvCxnSpPr>
          <p:spPr>
            <a:xfrm flipH="1">
              <a:off x="141552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3" name="Straight Connector 19"/>
            <p:cNvCxnSpPr>
              <a:stCxn id="1111" idx="2"/>
              <a:endCxn id="1120" idx="0"/>
            </p:cNvCxnSpPr>
            <p:nvPr/>
          </p:nvCxnSpPr>
          <p:spPr>
            <a:xfrm flipH="1">
              <a:off x="361836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4" name="Straight Connector 20"/>
            <p:cNvCxnSpPr>
              <a:stCxn id="1113" idx="2"/>
              <a:endCxn id="1121" idx="0"/>
            </p:cNvCxnSpPr>
            <p:nvPr/>
          </p:nvCxnSpPr>
          <p:spPr>
            <a:xfrm flipH="1">
              <a:off x="582120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5" name="Straight Connector 21"/>
            <p:cNvCxnSpPr>
              <a:stCxn id="1114" idx="2"/>
              <a:endCxn id="1115" idx="0"/>
            </p:cNvCxnSpPr>
            <p:nvPr/>
          </p:nvCxnSpPr>
          <p:spPr>
            <a:xfrm flipH="1">
              <a:off x="7877520" y="525312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grpSp>
        <p:nvGrpSpPr>
          <p:cNvPr id="1126" name="Group 40"/>
          <p:cNvGrpSpPr/>
          <p:nvPr/>
        </p:nvGrpSpPr>
        <p:grpSpPr>
          <a:xfrm>
            <a:off x="2514600" y="3039840"/>
            <a:ext cx="3516840" cy="1150920"/>
            <a:chOff x="2514600" y="3039840"/>
            <a:chExt cx="3516840" cy="1150920"/>
          </a:xfrm>
        </p:grpSpPr>
        <p:sp>
          <p:nvSpPr>
            <p:cNvPr id="1127" name="Rounded Rectangle 25"/>
            <p:cNvSpPr/>
            <p:nvPr/>
          </p:nvSpPr>
          <p:spPr>
            <a:xfrm>
              <a:off x="2514600" y="3039840"/>
              <a:ext cx="1321200" cy="3830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ounded Rectangle 26"/>
            <p:cNvSpPr/>
            <p:nvPr/>
          </p:nvSpPr>
          <p:spPr>
            <a:xfrm>
              <a:off x="4710240" y="3040920"/>
              <a:ext cx="1321200" cy="3830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9" name="Straight Arrow Connector 29"/>
            <p:cNvCxnSpPr>
              <a:stCxn id="1127" idx="3"/>
              <a:endCxn id="1128" idx="1"/>
            </p:cNvCxnSpPr>
            <p:nvPr/>
          </p:nvCxnSpPr>
          <p:spPr>
            <a:xfrm>
              <a:off x="3836160" y="3231360"/>
              <a:ext cx="874440" cy="14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30" name="Oval 32"/>
            <p:cNvSpPr/>
            <p:nvPr/>
          </p:nvSpPr>
          <p:spPr>
            <a:xfrm>
              <a:off x="2661480" y="3593160"/>
              <a:ext cx="1027800" cy="5961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4"/>
            <p:cNvSpPr/>
            <p:nvPr/>
          </p:nvSpPr>
          <p:spPr>
            <a:xfrm>
              <a:off x="4857120" y="3594600"/>
              <a:ext cx="1027800" cy="5961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2" name="Straight Connector 35"/>
            <p:cNvCxnSpPr>
              <a:stCxn id="1127" idx="2"/>
              <a:endCxn id="1130" idx="0"/>
            </p:cNvCxnSpPr>
            <p:nvPr/>
          </p:nvCxnSpPr>
          <p:spPr>
            <a:xfrm flipH="1">
              <a:off x="3173760" y="3422880"/>
              <a:ext cx="3240" cy="1717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33" name="Straight Connector 37"/>
            <p:cNvCxnSpPr>
              <a:stCxn id="1128" idx="2"/>
              <a:endCxn id="1131" idx="0"/>
            </p:cNvCxnSpPr>
            <p:nvPr/>
          </p:nvCxnSpPr>
          <p:spPr>
            <a:xfrm flipH="1">
              <a:off x="5369400" y="3424320"/>
              <a:ext cx="3600" cy="171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34" name="TextBox 30"/>
          <p:cNvSpPr/>
          <p:nvPr/>
        </p:nvSpPr>
        <p:spPr>
          <a:xfrm>
            <a:off x="685800" y="144792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: 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1"/>
          <p:cNvSpPr/>
          <p:nvPr/>
        </p:nvSpPr>
        <p:spPr>
          <a:xfrm>
            <a:off x="685800" y="191520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Trace: Forward,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40"/>
          <p:cNvSpPr/>
          <p:nvPr/>
        </p:nvSpPr>
        <p:spPr>
          <a:xfrm>
            <a:off x="609480" y="1942200"/>
            <a:ext cx="7878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generally many ways to describe the same route.  The plan refinement step aims to find the correct plan that corresponds to the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41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9" name="Straight Arrow Connector 50"/>
            <p:cNvCxnSpPr>
              <a:stCxn id="1143" idx="3"/>
              <a:endCxn id="1141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50" name="Straight Arrow Connector 51"/>
            <p:cNvCxnSpPr>
              <a:stCxn id="1141" idx="3"/>
              <a:endCxn id="1142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51" name="Straight Arrow Connector 52"/>
            <p:cNvCxnSpPr>
              <a:stCxn id="1142" idx="3"/>
              <a:endCxn id="1144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52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3" name="Straight Connector 54"/>
            <p:cNvCxnSpPr>
              <a:stCxn id="1143" idx="2"/>
              <a:endCxn id="1145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4" name="Straight Connector 55"/>
            <p:cNvCxnSpPr>
              <a:stCxn id="1141" idx="2"/>
              <a:endCxn id="1152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5" name="Straight Connector 56"/>
            <p:cNvCxnSpPr>
              <a:stCxn id="1141" idx="2"/>
              <a:endCxn id="1148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6" name="Straight Connector 57"/>
            <p:cNvCxnSpPr>
              <a:stCxn id="1142" idx="2"/>
              <a:endCxn id="1146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7" name="Straight Connector 58"/>
            <p:cNvCxnSpPr>
              <a:stCxn id="1144" idx="2"/>
              <a:endCxn id="1147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58" name="TextBox 5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40"/>
          <p:cNvSpPr/>
          <p:nvPr/>
        </p:nvSpPr>
        <p:spPr>
          <a:xfrm>
            <a:off x="1512000" y="2234520"/>
            <a:ext cx="55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63" name="Rounded Rectangle 60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ounded Rectangle 61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ounded Rectangle 62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ounded Rectangle 63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64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65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67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1" name="Straight Arrow Connector 68"/>
            <p:cNvCxnSpPr>
              <a:stCxn id="1165" idx="3"/>
              <a:endCxn id="1163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2" name="Straight Arrow Connector 69"/>
            <p:cNvCxnSpPr>
              <a:stCxn id="1163" idx="3"/>
              <a:endCxn id="1164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3" name="Straight Arrow Connector 70"/>
            <p:cNvCxnSpPr>
              <a:stCxn id="1164" idx="3"/>
              <a:endCxn id="1166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74" name="Oval 71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5" name="Straight Connector 72"/>
            <p:cNvCxnSpPr>
              <a:stCxn id="1165" idx="2"/>
              <a:endCxn id="1167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6" name="Straight Connector 73"/>
            <p:cNvCxnSpPr>
              <a:stCxn id="1163" idx="2"/>
              <a:endCxn id="1174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7" name="Straight Connector 74"/>
            <p:cNvCxnSpPr>
              <a:stCxn id="1163" idx="2"/>
              <a:endCxn id="1170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8" name="Straight Connector 75"/>
            <p:cNvCxnSpPr>
              <a:stCxn id="1164" idx="2"/>
              <a:endCxn id="1168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9" name="Straight Connector 76"/>
            <p:cNvCxnSpPr>
              <a:stCxn id="1166" idx="2"/>
              <a:endCxn id="1169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80" name="TextBox 7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40"/>
          <p:cNvSpPr/>
          <p:nvPr/>
        </p:nvSpPr>
        <p:spPr>
          <a:xfrm>
            <a:off x="1512000" y="2234520"/>
            <a:ext cx="6361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the blue hall and walk 2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85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3" name="Straight Arrow Connector 50"/>
            <p:cNvCxnSpPr>
              <a:stCxn id="1187" idx="3"/>
              <a:endCxn id="1185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94" name="Straight Arrow Connector 51"/>
            <p:cNvCxnSpPr>
              <a:stCxn id="1185" idx="3"/>
              <a:endCxn id="1186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95" name="Straight Arrow Connector 52"/>
            <p:cNvCxnSpPr>
              <a:stCxn id="1186" idx="3"/>
              <a:endCxn id="1188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96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7" name="Straight Connector 54"/>
            <p:cNvCxnSpPr>
              <a:stCxn id="1187" idx="2"/>
              <a:endCxn id="1189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98" name="Straight Connector 55"/>
            <p:cNvCxnSpPr>
              <a:stCxn id="1185" idx="2"/>
              <a:endCxn id="1196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99" name="Straight Connector 56"/>
            <p:cNvCxnSpPr>
              <a:stCxn id="1185" idx="2"/>
              <a:endCxn id="1192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00" name="Straight Connector 57"/>
            <p:cNvCxnSpPr>
              <a:stCxn id="1186" idx="2"/>
              <a:endCxn id="1190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01" name="Straight Connector 58"/>
            <p:cNvCxnSpPr>
              <a:stCxn id="1188" idx="2"/>
              <a:endCxn id="1191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02" name="TextBox 5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40"/>
          <p:cNvSpPr/>
          <p:nvPr/>
        </p:nvSpPr>
        <p:spPr>
          <a:xfrm>
            <a:off x="1512000" y="2234520"/>
            <a:ext cx="6361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left.  Walk forward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207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5" name="Straight Arrow Connector 50"/>
            <p:cNvCxnSpPr>
              <a:stCxn id="1209" idx="3"/>
              <a:endCxn id="1207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16" name="Straight Arrow Connector 51"/>
            <p:cNvCxnSpPr>
              <a:stCxn id="1207" idx="3"/>
              <a:endCxn id="1208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17" name="Straight Arrow Connector 52"/>
            <p:cNvCxnSpPr>
              <a:stCxn id="1208" idx="3"/>
              <a:endCxn id="1210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18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9" name="Straight Connector 54"/>
            <p:cNvCxnSpPr>
              <a:stCxn id="1209" idx="2"/>
              <a:endCxn id="1211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0" name="Straight Connector 55"/>
            <p:cNvCxnSpPr>
              <a:stCxn id="1207" idx="2"/>
              <a:endCxn id="1218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1" name="Straight Connector 56"/>
            <p:cNvCxnSpPr>
              <a:stCxn id="1207" idx="2"/>
              <a:endCxn id="1214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2" name="Straight Connector 57"/>
            <p:cNvCxnSpPr>
              <a:stCxn id="1208" idx="2"/>
              <a:endCxn id="1212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3" name="Straight Connector 58"/>
            <p:cNvCxnSpPr>
              <a:stCxn id="1210" idx="2"/>
              <a:endCxn id="1213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24" name="TextBox 23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extraneous details in th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earn the meaning of words and short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learned lexicon to remove parts of the plans unrelated to the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230" name="Rounded Rectangle 1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ounded Rectangle 2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ounded Rectangle 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ounded Rectangle 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9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10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3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14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8" name="Straight Arrow Connector 24"/>
            <p:cNvCxnSpPr>
              <a:stCxn id="1232" idx="3"/>
              <a:endCxn id="1230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39" name="Straight Arrow Connector 27"/>
            <p:cNvCxnSpPr>
              <a:stCxn id="1230" idx="3"/>
              <a:endCxn id="1231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40" name="Straight Arrow Connector 30"/>
            <p:cNvCxnSpPr>
              <a:stCxn id="1231" idx="3"/>
              <a:endCxn id="1233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41" name="Oval 41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2" name="Straight Connector 44"/>
            <p:cNvCxnSpPr>
              <a:stCxn id="1232" idx="2"/>
              <a:endCxn id="1234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3" name="Straight Connector 45"/>
            <p:cNvCxnSpPr>
              <a:stCxn id="1230" idx="2"/>
              <a:endCxn id="1241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4" name="Straight Connector 48"/>
            <p:cNvCxnSpPr>
              <a:stCxn id="1230" idx="2"/>
              <a:endCxn id="1237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5" name="Straight Connector 51"/>
            <p:cNvCxnSpPr>
              <a:stCxn id="1231" idx="2"/>
              <a:endCxn id="1235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6" name="Straight Connector 54"/>
            <p:cNvCxnSpPr>
              <a:stCxn id="1233" idx="2"/>
              <a:endCxn id="1236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47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77"/>
          <p:cNvSpPr/>
          <p:nvPr/>
        </p:nvSpPr>
        <p:spPr>
          <a:xfrm>
            <a:off x="1546560" y="2819520"/>
            <a:ext cx="55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Box 81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s an example comes in, break down the sentence and the graph into n-grams and connected sub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Box 2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09480" y="2209680"/>
            <a:ext cx="2971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atural Language (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09480" y="4267080"/>
            <a:ext cx="7848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PMingLiU"/>
              </a:rPr>
              <a:t>N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A language that has evolved naturally, such as English, German, French, Chines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4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0" name="Straight Arrow Connector 24"/>
          <p:cNvCxnSpPr>
            <a:stCxn id="1254" idx="3"/>
            <a:endCxn id="1252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1" name="Straight Arrow Connector 27"/>
          <p:cNvCxnSpPr>
            <a:stCxn id="1252" idx="3"/>
            <a:endCxn id="1253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2" name="Straight Arrow Connector 30"/>
          <p:cNvCxnSpPr>
            <a:stCxn id="1253" idx="3"/>
            <a:endCxn id="1255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63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Straight Connector 44"/>
          <p:cNvCxnSpPr>
            <a:stCxn id="1254" idx="2"/>
            <a:endCxn id="1256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5" name="Straight Connector 45"/>
          <p:cNvCxnSpPr>
            <a:stCxn id="1252" idx="2"/>
            <a:endCxn id="1263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6" name="Straight Connector 48"/>
          <p:cNvCxnSpPr>
            <a:stCxn id="1252" idx="2"/>
            <a:endCxn id="1259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7" name="Straight Connector 51"/>
          <p:cNvCxnSpPr>
            <a:stCxn id="1253" idx="2"/>
            <a:endCxn id="1257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8" name="Straight Connector 54"/>
          <p:cNvCxnSpPr>
            <a:stCxn id="1255" idx="2"/>
            <a:endCxn id="1258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6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33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34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Straight Connector 46"/>
          <p:cNvCxnSpPr>
            <a:stCxn id="1286" idx="2"/>
            <a:endCxn id="128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8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Straight Arrow Connector 50"/>
          <p:cNvCxnSpPr>
            <a:stCxn id="1290" idx="3"/>
            <a:endCxn id="128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92" name="TextBox 5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1" name="Straight Arrow Connector 24"/>
          <p:cNvCxnSpPr>
            <a:stCxn id="1295" idx="3"/>
            <a:endCxn id="1293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02" name="Straight Arrow Connector 27"/>
          <p:cNvCxnSpPr>
            <a:stCxn id="1293" idx="3"/>
            <a:endCxn id="1294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03" name="Straight Arrow Connector 30"/>
          <p:cNvCxnSpPr>
            <a:stCxn id="1294" idx="3"/>
            <a:endCxn id="1296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04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Straight Connector 44"/>
          <p:cNvCxnSpPr>
            <a:stCxn id="1295" idx="2"/>
            <a:endCxn id="1297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6" name="Straight Connector 45"/>
          <p:cNvCxnSpPr>
            <a:stCxn id="1293" idx="2"/>
            <a:endCxn id="1304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7" name="Straight Connector 48"/>
          <p:cNvCxnSpPr>
            <a:stCxn id="1293" idx="2"/>
            <a:endCxn id="1300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8" name="Straight Connector 51"/>
          <p:cNvCxnSpPr>
            <a:stCxn id="1294" idx="2"/>
            <a:endCxn id="1298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9" name="Straight Connector 54"/>
          <p:cNvCxnSpPr>
            <a:stCxn id="1296" idx="2"/>
            <a:endCxn id="1299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1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7" name="Straight Connector 46"/>
          <p:cNvCxnSpPr>
            <a:stCxn id="1325" idx="2"/>
            <a:endCxn id="1326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28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0" name="Straight Arrow Connector 50"/>
          <p:cNvCxnSpPr>
            <a:stCxn id="1329" idx="3"/>
            <a:endCxn id="1328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31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2" name="Straight Arrow Connector 24"/>
          <p:cNvCxnSpPr>
            <a:stCxn id="1336" idx="3"/>
            <a:endCxn id="1334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3" name="Straight Arrow Connector 27"/>
          <p:cNvCxnSpPr>
            <a:stCxn id="1334" idx="3"/>
            <a:endCxn id="1335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4" name="Straight Arrow Connector 30"/>
          <p:cNvCxnSpPr>
            <a:stCxn id="1335" idx="3"/>
            <a:endCxn id="1337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45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6" name="Straight Connector 44"/>
          <p:cNvCxnSpPr>
            <a:stCxn id="1336" idx="2"/>
            <a:endCxn id="1338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7" name="Straight Connector 45"/>
          <p:cNvCxnSpPr>
            <a:stCxn id="1334" idx="2"/>
            <a:endCxn id="1345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8" name="Straight Connector 48"/>
          <p:cNvCxnSpPr>
            <a:stCxn id="1334" idx="2"/>
            <a:endCxn id="1341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9" name="Straight Connector 51"/>
          <p:cNvCxnSpPr>
            <a:stCxn id="1335" idx="2"/>
            <a:endCxn id="1339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50" name="Straight Connector 54"/>
          <p:cNvCxnSpPr>
            <a:stCxn id="1337" idx="2"/>
            <a:endCxn id="1340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51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8" name="Straight Connector 46"/>
          <p:cNvCxnSpPr>
            <a:stCxn id="1366" idx="2"/>
            <a:endCxn id="136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6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1" name="Straight Arrow Connector 50"/>
          <p:cNvCxnSpPr>
            <a:stCxn id="1370" idx="3"/>
            <a:endCxn id="136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72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3" name="Straight Arrow Connector 24"/>
          <p:cNvCxnSpPr>
            <a:stCxn id="1377" idx="3"/>
            <a:endCxn id="1375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4" name="Straight Arrow Connector 27"/>
          <p:cNvCxnSpPr>
            <a:stCxn id="1375" idx="3"/>
            <a:endCxn id="1376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5" name="Straight Arrow Connector 30"/>
          <p:cNvCxnSpPr>
            <a:stCxn id="1376" idx="3"/>
            <a:endCxn id="1378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6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7" name="Straight Connector 44"/>
          <p:cNvCxnSpPr>
            <a:stCxn id="1377" idx="2"/>
            <a:endCxn id="1379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88" name="Straight Connector 45"/>
          <p:cNvCxnSpPr>
            <a:stCxn id="1375" idx="2"/>
            <a:endCxn id="1386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89" name="Straight Connector 48"/>
          <p:cNvCxnSpPr>
            <a:stCxn id="1375" idx="2"/>
            <a:endCxn id="1382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90" name="Straight Connector 51"/>
          <p:cNvCxnSpPr>
            <a:stCxn id="1376" idx="2"/>
            <a:endCxn id="1380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91" name="Straight Connector 54"/>
          <p:cNvCxnSpPr>
            <a:stCxn id="1378" idx="2"/>
            <a:endCxn id="1381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9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9" name="Straight Connector 46"/>
          <p:cNvCxnSpPr>
            <a:stCxn id="1407" idx="2"/>
            <a:endCxn id="1408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10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2" name="Straight Arrow Connector 50"/>
          <p:cNvCxnSpPr>
            <a:stCxn id="1411" idx="3"/>
            <a:endCxn id="1410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13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4" name="Straight Arrow Connector 24"/>
          <p:cNvCxnSpPr>
            <a:stCxn id="1418" idx="3"/>
            <a:endCxn id="1416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5" name="Straight Arrow Connector 27"/>
          <p:cNvCxnSpPr>
            <a:stCxn id="1416" idx="3"/>
            <a:endCxn id="1417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6" name="Straight Arrow Connector 30"/>
          <p:cNvCxnSpPr>
            <a:stCxn id="1417" idx="3"/>
            <a:endCxn id="1419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27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8" name="Straight Connector 44"/>
          <p:cNvCxnSpPr>
            <a:stCxn id="1418" idx="2"/>
            <a:endCxn id="1420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29" name="Straight Connector 45"/>
          <p:cNvCxnSpPr>
            <a:stCxn id="1416" idx="2"/>
            <a:endCxn id="1427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0" name="Straight Connector 48"/>
          <p:cNvCxnSpPr>
            <a:stCxn id="1416" idx="2"/>
            <a:endCxn id="1423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1" name="Straight Connector 51"/>
          <p:cNvCxnSpPr>
            <a:stCxn id="1417" idx="2"/>
            <a:endCxn id="1421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2" name="Straight Connector 54"/>
          <p:cNvCxnSpPr>
            <a:stCxn id="1419" idx="2"/>
            <a:endCxn id="1422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33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0" name="Straight Connector 46"/>
          <p:cNvCxnSpPr>
            <a:stCxn id="1448" idx="2"/>
            <a:endCxn id="1449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51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3" name="Straight Arrow Connector 50"/>
          <p:cNvCxnSpPr>
            <a:stCxn id="1452" idx="3"/>
            <a:endCxn id="1451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54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5" name="Straight Arrow Connector 24"/>
          <p:cNvCxnSpPr>
            <a:stCxn id="1459" idx="3"/>
            <a:endCxn id="1457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66" name="Straight Arrow Connector 27"/>
          <p:cNvCxnSpPr>
            <a:stCxn id="1457" idx="3"/>
            <a:endCxn id="1458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67" name="Straight Arrow Connector 30"/>
          <p:cNvCxnSpPr>
            <a:stCxn id="1458" idx="3"/>
            <a:endCxn id="1460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68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9" name="Straight Connector 44"/>
          <p:cNvCxnSpPr>
            <a:stCxn id="1459" idx="2"/>
            <a:endCxn id="1461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0" name="Straight Connector 45"/>
          <p:cNvCxnSpPr>
            <a:stCxn id="1457" idx="2"/>
            <a:endCxn id="1468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1" name="Straight Connector 48"/>
          <p:cNvCxnSpPr>
            <a:stCxn id="1457" idx="2"/>
            <a:endCxn id="1464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2" name="Straight Connector 51"/>
          <p:cNvCxnSpPr>
            <a:stCxn id="1458" idx="2"/>
            <a:endCxn id="1462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3" name="Straight Connector 54"/>
          <p:cNvCxnSpPr>
            <a:stCxn id="1460" idx="2"/>
            <a:endCxn id="1463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74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1" name="Straight Connector 46"/>
          <p:cNvCxnSpPr>
            <a:stCxn id="1489" idx="2"/>
            <a:endCxn id="1490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92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4" name="Straight Arrow Connector 50"/>
          <p:cNvCxnSpPr>
            <a:stCxn id="1493" idx="3"/>
            <a:endCxn id="1492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95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6" name="Straight Arrow Connector 24"/>
          <p:cNvCxnSpPr>
            <a:stCxn id="1500" idx="3"/>
            <a:endCxn id="1498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7" name="Straight Arrow Connector 27"/>
          <p:cNvCxnSpPr>
            <a:stCxn id="1498" idx="3"/>
            <a:endCxn id="1499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8" name="Straight Arrow Connector 30"/>
          <p:cNvCxnSpPr>
            <a:stCxn id="1499" idx="3"/>
            <a:endCxn id="1501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09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0" name="Straight Connector 44"/>
          <p:cNvCxnSpPr>
            <a:stCxn id="1500" idx="2"/>
            <a:endCxn id="1502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1" name="Straight Connector 45"/>
          <p:cNvCxnSpPr>
            <a:stCxn id="1498" idx="2"/>
            <a:endCxn id="1509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2" name="Straight Connector 48"/>
          <p:cNvCxnSpPr>
            <a:stCxn id="1498" idx="2"/>
            <a:endCxn id="1505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3" name="Straight Connector 51"/>
          <p:cNvCxnSpPr>
            <a:stCxn id="1499" idx="2"/>
            <a:endCxn id="1503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4" name="Straight Connector 54"/>
          <p:cNvCxnSpPr>
            <a:stCxn id="1501" idx="2"/>
            <a:endCxn id="1504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15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2" name="Straight Connector 46"/>
          <p:cNvCxnSpPr>
            <a:stCxn id="1530" idx="2"/>
            <a:endCxn id="1531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33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Straight Arrow Connector 50"/>
          <p:cNvCxnSpPr>
            <a:stCxn id="1534" idx="3"/>
            <a:endCxn id="1533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36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7" name="Straight Arrow Connector 24"/>
          <p:cNvCxnSpPr>
            <a:stCxn id="1541" idx="3"/>
            <a:endCxn id="1539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8" name="Straight Arrow Connector 27"/>
          <p:cNvCxnSpPr>
            <a:stCxn id="1539" idx="3"/>
            <a:endCxn id="1540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9" name="Straight Arrow Connector 30"/>
          <p:cNvCxnSpPr>
            <a:stCxn id="1540" idx="3"/>
            <a:endCxn id="1542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0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1" name="Straight Connector 44"/>
          <p:cNvCxnSpPr>
            <a:stCxn id="1541" idx="2"/>
            <a:endCxn id="1543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2" name="Straight Connector 45"/>
          <p:cNvCxnSpPr>
            <a:stCxn id="1539" idx="2"/>
            <a:endCxn id="1550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3" name="Straight Connector 48"/>
          <p:cNvCxnSpPr>
            <a:stCxn id="1539" idx="2"/>
            <a:endCxn id="1546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4" name="Straight Connector 51"/>
          <p:cNvCxnSpPr>
            <a:stCxn id="1540" idx="2"/>
            <a:endCxn id="1544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5" name="Straight Connector 54"/>
          <p:cNvCxnSpPr>
            <a:stCxn id="1542" idx="2"/>
            <a:endCxn id="1545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56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 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3" name="Straight Connector 46"/>
          <p:cNvCxnSpPr>
            <a:stCxn id="1571" idx="2"/>
            <a:endCxn id="1572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74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6" name="Straight Arrow Connector 50"/>
          <p:cNvCxnSpPr>
            <a:stCxn id="1575" idx="3"/>
            <a:endCxn id="1574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77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8" name="Straight Arrow Connector 24"/>
          <p:cNvCxnSpPr>
            <a:stCxn id="1582" idx="3"/>
            <a:endCxn id="1580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89" name="Straight Arrow Connector 27"/>
          <p:cNvCxnSpPr>
            <a:stCxn id="1580" idx="3"/>
            <a:endCxn id="1581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90" name="Straight Arrow Connector 30"/>
          <p:cNvCxnSpPr>
            <a:stCxn id="1581" idx="3"/>
            <a:endCxn id="1583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91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2" name="Straight Connector 44"/>
          <p:cNvCxnSpPr>
            <a:stCxn id="1582" idx="2"/>
            <a:endCxn id="1584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3" name="Straight Connector 45"/>
          <p:cNvCxnSpPr>
            <a:stCxn id="1580" idx="2"/>
            <a:endCxn id="1591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4" name="Straight Connector 48"/>
          <p:cNvCxnSpPr>
            <a:stCxn id="1580" idx="2"/>
            <a:endCxn id="1587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5" name="Straight Connector 51"/>
          <p:cNvCxnSpPr>
            <a:stCxn id="1581" idx="2"/>
            <a:endCxn id="1585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6" name="Straight Connector 54"/>
          <p:cNvCxnSpPr>
            <a:stCxn id="1583" idx="2"/>
            <a:endCxn id="1586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97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 walk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 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4" name="Straight Connector 46"/>
          <p:cNvCxnSpPr>
            <a:stCxn id="1612" idx="2"/>
            <a:endCxn id="1613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15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7" name="Straight Arrow Connector 50"/>
          <p:cNvCxnSpPr>
            <a:stCxn id="1616" idx="3"/>
            <a:endCxn id="1615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18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9" name="Straight Arrow Connector 24"/>
          <p:cNvCxnSpPr>
            <a:stCxn id="1623" idx="3"/>
            <a:endCxn id="1621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0" name="Straight Arrow Connector 27"/>
          <p:cNvCxnSpPr>
            <a:stCxn id="1621" idx="3"/>
            <a:endCxn id="1622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1" name="Straight Arrow Connector 30"/>
          <p:cNvCxnSpPr>
            <a:stCxn id="1622" idx="3"/>
            <a:endCxn id="1624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32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3" name="Straight Connector 44"/>
          <p:cNvCxnSpPr>
            <a:stCxn id="1623" idx="2"/>
            <a:endCxn id="1625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4" name="Straight Connector 45"/>
          <p:cNvCxnSpPr>
            <a:stCxn id="1621" idx="2"/>
            <a:endCxn id="1632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5" name="Straight Connector 48"/>
          <p:cNvCxnSpPr>
            <a:stCxn id="1621" idx="2"/>
            <a:endCxn id="1628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6" name="Straight Connector 51"/>
          <p:cNvCxnSpPr>
            <a:stCxn id="1622" idx="2"/>
            <a:endCxn id="1626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7" name="Straight Connector 54"/>
          <p:cNvCxnSpPr>
            <a:stCxn id="1624" idx="2"/>
            <a:endCxn id="1627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38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5" name="Straight Connector 46"/>
          <p:cNvCxnSpPr>
            <a:stCxn id="1653" idx="2"/>
            <a:endCxn id="1654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56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Straight Arrow Connector 50"/>
          <p:cNvCxnSpPr>
            <a:stCxn id="1657" idx="3"/>
            <a:endCxn id="1656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59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09480" y="4267080"/>
            <a:ext cx="7848360" cy="197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PMingLiU"/>
              </a:rPr>
              <a:t>NL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  <a:ea typeface="PMingLiU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A language that has evolved naturally, such as English, German, French, Chines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PMingLiU"/>
              </a:rPr>
              <a:t>MR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Formal languages such as logic or any computer-executa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419720" y="2057400"/>
            <a:ext cx="4266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eaning Representation Language (M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14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09480" y="2209680"/>
            <a:ext cx="2971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atural Language (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0" name="Straight Arrow Connector 24"/>
          <p:cNvCxnSpPr>
            <a:stCxn id="1664" idx="3"/>
            <a:endCxn id="1662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71" name="Straight Arrow Connector 27"/>
          <p:cNvCxnSpPr>
            <a:stCxn id="1662" idx="3"/>
            <a:endCxn id="1663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72" name="Straight Arrow Connector 30"/>
          <p:cNvCxnSpPr>
            <a:stCxn id="1663" idx="3"/>
            <a:endCxn id="1665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73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4" name="Straight Connector 44"/>
          <p:cNvCxnSpPr>
            <a:stCxn id="1664" idx="2"/>
            <a:endCxn id="1666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5" name="Straight Connector 45"/>
          <p:cNvCxnSpPr>
            <a:stCxn id="1662" idx="2"/>
            <a:endCxn id="1673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6" name="Straight Connector 48"/>
          <p:cNvCxnSpPr>
            <a:stCxn id="1662" idx="2"/>
            <a:endCxn id="1669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7" name="Straight Connector 51"/>
          <p:cNvCxnSpPr>
            <a:stCxn id="1663" idx="2"/>
            <a:endCxn id="1667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8" name="Straight Connector 54"/>
          <p:cNvCxnSpPr>
            <a:stCxn id="1665" idx="2"/>
            <a:endCxn id="1668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7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6" name="Straight Connector 46"/>
          <p:cNvCxnSpPr>
            <a:stCxn id="1694" idx="2"/>
            <a:endCxn id="1695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97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9" name="Straight Arrow Connector 50"/>
          <p:cNvCxnSpPr>
            <a:stCxn id="1698" idx="3"/>
            <a:endCxn id="1697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00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1" name="Straight Arrow Connector 24"/>
          <p:cNvCxnSpPr>
            <a:stCxn id="1705" idx="3"/>
            <a:endCxn id="1703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2" name="Straight Arrow Connector 27"/>
          <p:cNvCxnSpPr>
            <a:stCxn id="1703" idx="3"/>
            <a:endCxn id="1704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3" name="Straight Arrow Connector 30"/>
          <p:cNvCxnSpPr>
            <a:stCxn id="1704" idx="3"/>
            <a:endCxn id="1706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14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5" name="Straight Connector 44"/>
          <p:cNvCxnSpPr>
            <a:stCxn id="1705" idx="2"/>
            <a:endCxn id="1707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6" name="Straight Connector 45"/>
          <p:cNvCxnSpPr>
            <a:stCxn id="1703" idx="2"/>
            <a:endCxn id="1714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7" name="Straight Connector 48"/>
          <p:cNvCxnSpPr>
            <a:stCxn id="1703" idx="2"/>
            <a:endCxn id="1710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8" name="Straight Connector 51"/>
          <p:cNvCxnSpPr>
            <a:stCxn id="1704" idx="2"/>
            <a:endCxn id="1708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9" name="Straight Connector 54"/>
          <p:cNvCxnSpPr>
            <a:stCxn id="1706" idx="2"/>
            <a:endCxn id="1709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2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7" name="Straight Connector 46"/>
          <p:cNvCxnSpPr>
            <a:stCxn id="1735" idx="2"/>
            <a:endCxn id="1736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38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0" name="Straight Arrow Connector 50"/>
          <p:cNvCxnSpPr>
            <a:stCxn id="1739" idx="3"/>
            <a:endCxn id="1738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1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2" name="Straight Arrow Connector 24"/>
          <p:cNvCxnSpPr>
            <a:stCxn id="1746" idx="3"/>
            <a:endCxn id="1744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3" name="Straight Arrow Connector 27"/>
          <p:cNvCxnSpPr>
            <a:stCxn id="1744" idx="3"/>
            <a:endCxn id="1745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4" name="Straight Arrow Connector 30"/>
          <p:cNvCxnSpPr>
            <a:stCxn id="1745" idx="3"/>
            <a:endCxn id="1747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55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6" name="Straight Connector 44"/>
          <p:cNvCxnSpPr>
            <a:stCxn id="1746" idx="2"/>
            <a:endCxn id="1748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7" name="Straight Connector 45"/>
          <p:cNvCxnSpPr>
            <a:stCxn id="1744" idx="2"/>
            <a:endCxn id="1755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8" name="Straight Connector 48"/>
          <p:cNvCxnSpPr>
            <a:stCxn id="1744" idx="2"/>
            <a:endCxn id="1751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9" name="Straight Connector 51"/>
          <p:cNvCxnSpPr>
            <a:stCxn id="1745" idx="2"/>
            <a:endCxn id="1749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60" name="Straight Connector 54"/>
          <p:cNvCxnSpPr>
            <a:stCxn id="1747" idx="2"/>
            <a:endCxn id="1750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61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8" name="Straight Connector 46"/>
          <p:cNvCxnSpPr>
            <a:stCxn id="1776" idx="2"/>
            <a:endCxn id="177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7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1" name="Straight Arrow Connector 50"/>
          <p:cNvCxnSpPr>
            <a:stCxn id="1780" idx="3"/>
            <a:endCxn id="177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2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3" name="Straight Arrow Connector 24"/>
          <p:cNvCxnSpPr>
            <a:stCxn id="1787" idx="3"/>
            <a:endCxn id="1785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4" name="Straight Arrow Connector 27"/>
          <p:cNvCxnSpPr>
            <a:stCxn id="1785" idx="3"/>
            <a:endCxn id="1786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5" name="Straight Arrow Connector 30"/>
          <p:cNvCxnSpPr>
            <a:stCxn id="1786" idx="3"/>
            <a:endCxn id="1788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6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7" name="Straight Connector 44"/>
          <p:cNvCxnSpPr>
            <a:stCxn id="1787" idx="2"/>
            <a:endCxn id="1789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98" name="Straight Connector 45"/>
          <p:cNvCxnSpPr>
            <a:stCxn id="1785" idx="2"/>
            <a:endCxn id="1796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99" name="Straight Connector 48"/>
          <p:cNvCxnSpPr>
            <a:stCxn id="1785" idx="2"/>
            <a:endCxn id="1792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800" name="Straight Connector 51"/>
          <p:cNvCxnSpPr>
            <a:stCxn id="1786" idx="2"/>
            <a:endCxn id="1790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801" name="Straight Connector 54"/>
          <p:cNvCxnSpPr>
            <a:stCxn id="1788" idx="2"/>
            <a:endCxn id="1791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80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Straight Connector 46"/>
          <p:cNvCxnSpPr>
            <a:stCxn id="1817" idx="2"/>
            <a:endCxn id="1818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820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2" name="Straight Arrow Connector 50"/>
          <p:cNvCxnSpPr>
            <a:stCxn id="1821" idx="3"/>
            <a:endCxn id="1820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3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32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4" name="Straight Connector 46"/>
            <p:cNvCxnSpPr>
              <a:stCxn id="1832" idx="2"/>
              <a:endCxn id="1833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35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40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2" name="Straight Connector 65"/>
            <p:cNvCxnSpPr>
              <a:stCxn id="1840" idx="2"/>
              <a:endCxn id="1841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43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9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50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2" name="Straight Connector 46"/>
            <p:cNvCxnSpPr>
              <a:stCxn id="1850" idx="2"/>
              <a:endCxn id="1851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53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58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0" name="Straight Connector 65"/>
            <p:cNvCxnSpPr>
              <a:stCxn id="1858" idx="2"/>
              <a:endCxn id="1859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61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68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0" name="Straight Connector 46"/>
            <p:cNvCxnSpPr>
              <a:stCxn id="1868" idx="2"/>
              <a:endCxn id="1869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71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5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76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8" name="Straight Connector 65"/>
            <p:cNvCxnSpPr>
              <a:stCxn id="1876" idx="2"/>
              <a:endCxn id="1877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79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Group 56"/>
          <p:cNvGrpSpPr/>
          <p:nvPr/>
        </p:nvGrpSpPr>
        <p:grpSpPr>
          <a:xfrm>
            <a:off x="3811680" y="4867560"/>
            <a:ext cx="1371240" cy="1174320"/>
            <a:chOff x="3811680" y="4867560"/>
            <a:chExt cx="1371240" cy="1174320"/>
          </a:xfrm>
        </p:grpSpPr>
        <p:sp>
          <p:nvSpPr>
            <p:cNvPr id="1886" name="Rounded Rectangle 42"/>
            <p:cNvSpPr/>
            <p:nvPr/>
          </p:nvSpPr>
          <p:spPr>
            <a:xfrm>
              <a:off x="3811680" y="486756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43"/>
            <p:cNvSpPr/>
            <p:nvPr/>
          </p:nvSpPr>
          <p:spPr>
            <a:xfrm>
              <a:off x="3963960" y="543276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8" name="Straight Connector 46"/>
            <p:cNvCxnSpPr>
              <a:stCxn id="1886" idx="2"/>
              <a:endCxn id="1887" idx="0"/>
            </p:cNvCxnSpPr>
            <p:nvPr/>
          </p:nvCxnSpPr>
          <p:spPr>
            <a:xfrm flipH="1">
              <a:off x="4497120" y="5258880"/>
              <a:ext cx="216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89" name="TextBox 52"/>
          <p:cNvSpPr/>
          <p:nvPr/>
        </p:nvSpPr>
        <p:spPr>
          <a:xfrm>
            <a:off x="884160" y="1295280"/>
            <a:ext cx="7469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Rank the entries by the scor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Group 62"/>
          <p:cNvGrpSpPr/>
          <p:nvPr/>
        </p:nvGrpSpPr>
        <p:grpSpPr>
          <a:xfrm>
            <a:off x="3584520" y="3502800"/>
            <a:ext cx="1828440" cy="1121040"/>
            <a:chOff x="3584520" y="3502800"/>
            <a:chExt cx="1828440" cy="1121040"/>
          </a:xfrm>
        </p:grpSpPr>
        <p:sp>
          <p:nvSpPr>
            <p:cNvPr id="1894" name="Rounded Rectangle 63"/>
            <p:cNvSpPr/>
            <p:nvPr/>
          </p:nvSpPr>
          <p:spPr>
            <a:xfrm>
              <a:off x="3584520" y="350280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64"/>
            <p:cNvSpPr/>
            <p:nvPr/>
          </p:nvSpPr>
          <p:spPr>
            <a:xfrm>
              <a:off x="3787920" y="404244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6" name="Straight Connector 65"/>
            <p:cNvCxnSpPr>
              <a:stCxn id="1894" idx="2"/>
              <a:endCxn id="1895" idx="0"/>
            </p:cNvCxnSpPr>
            <p:nvPr/>
          </p:nvCxnSpPr>
          <p:spPr>
            <a:xfrm flipH="1">
              <a:off x="4498920" y="3876480"/>
              <a:ext cx="252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pic>
        <p:nvPicPr>
          <p:cNvPr id="1897" name="Picture 18" descr=""/>
          <p:cNvPicPr/>
          <p:nvPr/>
        </p:nvPicPr>
        <p:blipFill>
          <a:blip r:embed="rId1"/>
          <a:stretch/>
        </p:blipFill>
        <p:spPr>
          <a:xfrm>
            <a:off x="1066680" y="1775880"/>
            <a:ext cx="6603480" cy="814320"/>
          </a:xfrm>
          <a:prstGeom prst="rect">
            <a:avLst/>
          </a:prstGeom>
          <a:ln w="0">
            <a:noFill/>
          </a:ln>
        </p:spPr>
      </p:pic>
      <p:sp>
        <p:nvSpPr>
          <p:cNvPr id="1898" name="TextBox 20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1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02" name="Rounded Rectangle 43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ounded Rectangle 46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ounded Rectangle 47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ounded Rectangle 49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50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7" name="Straight Arrow Connector 52"/>
            <p:cNvCxnSpPr>
              <a:stCxn id="1903" idx="3"/>
              <a:endCxn id="1902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08" name="Straight Arrow Connector 56"/>
            <p:cNvCxnSpPr>
              <a:stCxn id="1902" idx="3"/>
              <a:endCxn id="1904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09" name="Straight Arrow Connector 58"/>
            <p:cNvCxnSpPr>
              <a:stCxn id="1904" idx="3"/>
              <a:endCxn id="1905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10" name="Oval 59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61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62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3" name="Straight Connector 64"/>
            <p:cNvCxnSpPr>
              <a:stCxn id="1903" idx="2"/>
              <a:endCxn id="1910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4" name="Straight Connector 65"/>
            <p:cNvCxnSpPr>
              <a:stCxn id="1902" idx="2"/>
              <a:endCxn id="1911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5" name="Straight Connector 67"/>
            <p:cNvCxnSpPr>
              <a:stCxn id="1904" idx="2"/>
              <a:endCxn id="1912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6" name="Straight Connector 68"/>
            <p:cNvCxnSpPr>
              <a:stCxn id="1905" idx="2"/>
              <a:endCxn id="1906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17" name="TextBox 69"/>
          <p:cNvSpPr/>
          <p:nvPr/>
        </p:nvSpPr>
        <p:spPr>
          <a:xfrm>
            <a:off x="1050120" y="1414800"/>
            <a:ext cx="5433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Box 21"/>
          <p:cNvSpPr/>
          <p:nvPr/>
        </p:nvSpPr>
        <p:spPr>
          <a:xfrm>
            <a:off x="1050120" y="4474800"/>
            <a:ext cx="72554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highest-scoring lexical entry that matches both the words in the instruction and the nodes in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Box 22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TextBox 69"/>
          <p:cNvSpPr/>
          <p:nvPr/>
        </p:nvSpPr>
        <p:spPr>
          <a:xfrm>
            <a:off x="1050120" y="1414800"/>
            <a:ext cx="557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Box 70"/>
          <p:cNvSpPr/>
          <p:nvPr/>
        </p:nvSpPr>
        <p:spPr>
          <a:xfrm>
            <a:off x="609480" y="4262760"/>
            <a:ext cx="4917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xicon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Box 71"/>
          <p:cNvSpPr/>
          <p:nvPr/>
        </p:nvSpPr>
        <p:spPr>
          <a:xfrm>
            <a:off x="1265040" y="5148720"/>
            <a:ext cx="323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left (score: 0.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ounded Rectangle 72"/>
          <p:cNvSpPr/>
          <p:nvPr/>
        </p:nvSpPr>
        <p:spPr>
          <a:xfrm>
            <a:off x="5307480" y="482112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73"/>
          <p:cNvSpPr/>
          <p:nvPr/>
        </p:nvSpPr>
        <p:spPr>
          <a:xfrm>
            <a:off x="5454360" y="5374800"/>
            <a:ext cx="1027800" cy="596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Straight Connector 74"/>
          <p:cNvCxnSpPr>
            <a:stCxn id="1925" idx="2"/>
            <a:endCxn id="1926" idx="0"/>
          </p:cNvCxnSpPr>
          <p:nvPr/>
        </p:nvCxnSpPr>
        <p:spPr>
          <a:xfrm flipH="1">
            <a:off x="5966640" y="5204520"/>
            <a:ext cx="3600" cy="171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1928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29" name="Rounded Rectangle 25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ounded Rectangle 26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ounded Rectangle 27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ounded Rectangle 28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29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4" name="Straight Arrow Connector 30"/>
            <p:cNvCxnSpPr>
              <a:stCxn id="1930" idx="3"/>
              <a:endCxn id="1929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35" name="Straight Arrow Connector 31"/>
            <p:cNvCxnSpPr>
              <a:stCxn id="1929" idx="3"/>
              <a:endCxn id="1931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36" name="Straight Arrow Connector 32"/>
            <p:cNvCxnSpPr>
              <a:stCxn id="1931" idx="3"/>
              <a:endCxn id="1932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37" name="Oval 33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34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35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0" name="Straight Connector 36"/>
            <p:cNvCxnSpPr>
              <a:stCxn id="1930" idx="2"/>
              <a:endCxn id="1937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1" name="Straight Connector 37"/>
            <p:cNvCxnSpPr>
              <a:stCxn id="1929" idx="2"/>
              <a:endCxn id="1938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2" name="Straight Connector 38"/>
            <p:cNvCxnSpPr>
              <a:stCxn id="1931" idx="2"/>
              <a:endCxn id="1939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3" name="Straight Connector 39"/>
            <p:cNvCxnSpPr>
              <a:stCxn id="1932" idx="2"/>
              <a:endCxn id="1933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44" name="TextBox 41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and Surface Re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838080" y="2209680"/>
            <a:ext cx="2742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4495680"/>
            <a:ext cx="7848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PMingLiU"/>
              </a:rPr>
              <a:t>Semantic Pars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ps a natural-language sentence to a complete, detailed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419720" y="22096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895480" y="3886200"/>
            <a:ext cx="3885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mantic Pars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8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lk to the couc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70"/>
          <p:cNvSpPr/>
          <p:nvPr/>
        </p:nvSpPr>
        <p:spPr>
          <a:xfrm>
            <a:off x="609480" y="4262760"/>
            <a:ext cx="4917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xicon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Box 71"/>
          <p:cNvSpPr/>
          <p:nvPr/>
        </p:nvSpPr>
        <p:spPr>
          <a:xfrm>
            <a:off x="1219320" y="5134680"/>
            <a:ext cx="2862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core: 0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ounded Rectangle 24"/>
          <p:cNvSpPr/>
          <p:nvPr/>
        </p:nvSpPr>
        <p:spPr>
          <a:xfrm>
            <a:off x="6851160" y="501300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ounded Rectangle 25"/>
          <p:cNvSpPr/>
          <p:nvPr/>
        </p:nvSpPr>
        <p:spPr>
          <a:xfrm>
            <a:off x="4648320" y="501300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2" name="Straight Arrow Connector 26"/>
          <p:cNvCxnSpPr>
            <a:stCxn id="1951" idx="3"/>
            <a:endCxn id="1950" idx="1"/>
          </p:cNvCxnSpPr>
          <p:nvPr/>
        </p:nvCxnSpPr>
        <p:spPr>
          <a:xfrm>
            <a:off x="5969880" y="5204520"/>
            <a:ext cx="8812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53" name="Oval 28"/>
          <p:cNvSpPr/>
          <p:nvPr/>
        </p:nvSpPr>
        <p:spPr>
          <a:xfrm>
            <a:off x="6998040" y="5566320"/>
            <a:ext cx="1027800" cy="596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4" name="Straight Connector 30"/>
          <p:cNvCxnSpPr>
            <a:stCxn id="1950" idx="2"/>
            <a:endCxn id="1953" idx="0"/>
          </p:cNvCxnSpPr>
          <p:nvPr/>
        </p:nvCxnSpPr>
        <p:spPr>
          <a:xfrm flipH="1">
            <a:off x="7510320" y="5396040"/>
            <a:ext cx="3240" cy="171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1955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56" name="Rounded Rectangle 29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ounded Rectangle 31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ounded Rectangle 32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ounded Rectangle 33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34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1" name="Straight Arrow Connector 35"/>
            <p:cNvCxnSpPr>
              <a:stCxn id="1957" idx="3"/>
              <a:endCxn id="1956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62" name="Straight Arrow Connector 36"/>
            <p:cNvCxnSpPr>
              <a:stCxn id="1956" idx="3"/>
              <a:endCxn id="1958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63" name="Straight Arrow Connector 37"/>
            <p:cNvCxnSpPr>
              <a:stCxn id="1958" idx="3"/>
              <a:endCxn id="1959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64" name="Oval 38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39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40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7" name="Straight Connector 41"/>
            <p:cNvCxnSpPr>
              <a:stCxn id="1957" idx="2"/>
              <a:endCxn id="1964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68" name="Straight Connector 42"/>
            <p:cNvCxnSpPr>
              <a:stCxn id="1956" idx="2"/>
              <a:endCxn id="1965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69" name="Straight Connector 44"/>
            <p:cNvCxnSpPr>
              <a:stCxn id="1958" idx="2"/>
              <a:endCxn id="1966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70" name="Straight Connector 45"/>
            <p:cNvCxnSpPr>
              <a:stCxn id="1959" idx="2"/>
              <a:endCxn id="1960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71" name="TextBox 43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Box 71"/>
          <p:cNvSpPr/>
          <p:nvPr/>
        </p:nvSpPr>
        <p:spPr>
          <a:xfrm>
            <a:off x="1565640" y="5134680"/>
            <a:ext cx="646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xicon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77" name="Rounded Rectangle 21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ounded Rectangle 22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ounded Rectangle 23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ounded Rectangle 24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25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2" name="Straight Arrow Connector 26"/>
            <p:cNvCxnSpPr>
              <a:stCxn id="1978" idx="3"/>
              <a:endCxn id="1977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83" name="Straight Arrow Connector 27"/>
            <p:cNvCxnSpPr>
              <a:stCxn id="1977" idx="3"/>
              <a:endCxn id="1979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84" name="Straight Arrow Connector 28"/>
            <p:cNvCxnSpPr>
              <a:stCxn id="1979" idx="3"/>
              <a:endCxn id="1980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85" name="Oval 29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30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31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8" name="Straight Connector 32"/>
            <p:cNvCxnSpPr>
              <a:stCxn id="1978" idx="2"/>
              <a:endCxn id="1985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89" name="Straight Connector 33"/>
            <p:cNvCxnSpPr>
              <a:stCxn id="1977" idx="2"/>
              <a:endCxn id="1986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90" name="Straight Connector 34"/>
            <p:cNvCxnSpPr>
              <a:stCxn id="1979" idx="2"/>
              <a:endCxn id="1987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91" name="Straight Connector 35"/>
            <p:cNvCxnSpPr>
              <a:stCxn id="1980" idx="2"/>
              <a:endCxn id="1981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92" name="TextBox 3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Box 71"/>
          <p:cNvSpPr/>
          <p:nvPr/>
        </p:nvSpPr>
        <p:spPr>
          <a:xfrm>
            <a:off x="1565640" y="5134680"/>
            <a:ext cx="646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unmarked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Group 89"/>
          <p:cNvGrpSpPr/>
          <p:nvPr/>
        </p:nvGrpSpPr>
        <p:grpSpPr>
          <a:xfrm>
            <a:off x="903240" y="2433600"/>
            <a:ext cx="5726880" cy="1375920"/>
            <a:chOff x="903240" y="2433600"/>
            <a:chExt cx="5726880" cy="1375920"/>
          </a:xfrm>
        </p:grpSpPr>
        <p:sp>
          <p:nvSpPr>
            <p:cNvPr id="1998" name="Rounded Rectangle 31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ounded Rectangle 32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ounded Rectangle 33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1" name="Straight Arrow Connector 36"/>
            <p:cNvCxnSpPr>
              <a:stCxn id="1999" idx="3"/>
              <a:endCxn id="1998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002" name="Straight Arrow Connector 37"/>
            <p:cNvCxnSpPr>
              <a:stCxn id="1998" idx="3"/>
              <a:endCxn id="2000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003" name="Oval 40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41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5" name="Straight Connector 44"/>
            <p:cNvCxnSpPr>
              <a:stCxn id="1998" idx="2"/>
              <a:endCxn id="2003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006" name="Straight Connector 45"/>
            <p:cNvCxnSpPr>
              <a:stCxn id="2000" idx="2"/>
              <a:endCxn id="2004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2007" name="TextBox 1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TextBox 69"/>
          <p:cNvSpPr/>
          <p:nvPr/>
        </p:nvSpPr>
        <p:spPr>
          <a:xfrm>
            <a:off x="1050120" y="1414800"/>
            <a:ext cx="603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Group 89"/>
          <p:cNvGrpSpPr/>
          <p:nvPr/>
        </p:nvGrpSpPr>
        <p:grpSpPr>
          <a:xfrm>
            <a:off x="903240" y="2433600"/>
            <a:ext cx="5726880" cy="1375920"/>
            <a:chOff x="903240" y="2433600"/>
            <a:chExt cx="5726880" cy="1375920"/>
          </a:xfrm>
        </p:grpSpPr>
        <p:sp>
          <p:nvSpPr>
            <p:cNvPr id="2012" name="Rounded Rectangle 30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ounded Rectangle 31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ounded Rectangle 32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5" name="Straight Arrow Connector 33"/>
            <p:cNvCxnSpPr>
              <a:stCxn id="2013" idx="3"/>
              <a:endCxn id="2012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016" name="Straight Arrow Connector 34"/>
            <p:cNvCxnSpPr>
              <a:stCxn id="2012" idx="3"/>
              <a:endCxn id="2014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017" name="Oval 35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36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9" name="Straight Connector 37"/>
            <p:cNvCxnSpPr>
              <a:stCxn id="2012" idx="2"/>
              <a:endCxn id="2017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020" name="Straight Connector 38"/>
            <p:cNvCxnSpPr>
              <a:stCxn id="2014" idx="2"/>
              <a:endCxn id="2018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2021" name="TextBox 1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on 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Line 5"/>
          <p:cNvSpPr/>
          <p:nvPr/>
        </p:nvSpPr>
        <p:spPr>
          <a:xfrm>
            <a:off x="53316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Rectangle 3"/>
          <p:cNvSpPr/>
          <p:nvPr/>
        </p:nvSpPr>
        <p:spPr>
          <a:xfrm>
            <a:off x="457200" y="1295280"/>
            <a:ext cx="8229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maps, 6 instructors, 1-15 followers/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-segmented into single sentence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Box 8"/>
          <p:cNvSpPr/>
          <p:nvPr/>
        </p:nvSpPr>
        <p:spPr>
          <a:xfrm>
            <a:off x="838080" y="2895480"/>
            <a:ext cx="7772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 the wood path towards the easel.  At the easel, go left and then take a right on the the blue path at the corner.  Follow the blue path towards the chair and at the chair, take a right towards the stool.  When you reach the stool, you are at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Box 9"/>
          <p:cNvSpPr/>
          <p:nvPr/>
        </p:nvSpPr>
        <p:spPr>
          <a:xfrm>
            <a:off x="762120" y="2438280"/>
            <a:ext cx="358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Box 10"/>
          <p:cNvSpPr/>
          <p:nvPr/>
        </p:nvSpPr>
        <p:spPr>
          <a:xfrm>
            <a:off x="762120" y="4124880"/>
            <a:ext cx="358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ngle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1"/>
          <p:cNvSpPr/>
          <p:nvPr/>
        </p:nvSpPr>
        <p:spPr>
          <a:xfrm>
            <a:off x="838080" y="4406400"/>
            <a:ext cx="73260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 the wood path towards the ea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e easel, go left and then take a right on the the blue path at the cor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11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Box 120"/>
          <p:cNvSpPr/>
          <p:nvPr/>
        </p:nvSpPr>
        <p:spPr>
          <a:xfrm>
            <a:off x="914400" y="381888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Turn, Forward, Turn left, Forward, Turn right, Forward x 3, Turn right, For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21"/>
          <p:cNvSpPr/>
          <p:nvPr/>
        </p:nvSpPr>
        <p:spPr>
          <a:xfrm>
            <a:off x="914400" y="488844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Box 122"/>
          <p:cNvSpPr/>
          <p:nvPr/>
        </p:nvSpPr>
        <p:spPr>
          <a:xfrm>
            <a:off x="914400" y="572652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Forward, Turn left, Forward, Tur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on 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5" name="Table 5"/>
          <p:cNvGraphicFramePr/>
          <p:nvPr/>
        </p:nvGraphicFramePr>
        <p:xfrm>
          <a:off x="533520" y="2362320"/>
          <a:ext cx="8076960" cy="2552400"/>
        </p:xfrm>
        <a:graphic>
          <a:graphicData uri="http://schemas.openxmlformats.org/drawingml/2006/table">
            <a:tbl>
              <a:tblPr/>
              <a:tblGrid>
                <a:gridCol w="2692080"/>
                <a:gridCol w="2692080"/>
                <a:gridCol w="2692080"/>
              </a:tblGrid>
              <a:tr h="5104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-Sent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#  Instru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0 (±2.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0 (±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.6 (±21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8 (±5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.4 (±5.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 (±2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36" name="TextBox 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how well the system infers the correct navigati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-standard plans annotated man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artial parse accuracy as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edit for the correct action type (e.g. Tu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dditional credit for correct arguments (e.g. LE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con learned and tested on the same data from two maps out of th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3" name="Table 4"/>
          <p:cNvGraphicFramePr/>
          <p:nvPr/>
        </p:nvGraphicFramePr>
        <p:xfrm>
          <a:off x="533520" y="1981080"/>
          <a:ext cx="7772040" cy="4433040"/>
        </p:xfrm>
        <a:graphic>
          <a:graphicData uri="http://schemas.openxmlformats.org/drawingml/2006/table">
            <a:tbl>
              <a:tblPr/>
              <a:tblGrid>
                <a:gridCol w="3006000"/>
                <a:gridCol w="1686240"/>
                <a:gridCol w="1539720"/>
                <a:gridCol w="1539720"/>
              </a:tblGrid>
              <a:tr h="838080">
                <a:tc>
                  <a:txBody>
                    <a:bodyPr anchor="ctr">
                      <a:noAutofit/>
                    </a:bodyPr>
                    <a:p>
                      <a:endParaRPr b="1" lang="en-US" sz="2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1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6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053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67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7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44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rse 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ine how well the learned semantic parsers can parse nove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 semantic parsers on the inferred plans using KRISP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[Kate and Mooney, 2006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-one-map-out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artial parse accuracy as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baseline: train on human annotated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rse 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1" name="Content Placeholder 5"/>
          <p:cNvGraphicFramePr/>
          <p:nvPr/>
        </p:nvGraphicFramePr>
        <p:xfrm>
          <a:off x="457200" y="1905120"/>
          <a:ext cx="8229240" cy="2946240"/>
        </p:xfrm>
        <a:graphic>
          <a:graphicData uri="http://schemas.openxmlformats.org/drawingml/2006/table">
            <a:tbl>
              <a:tblPr/>
              <a:tblGrid>
                <a:gridCol w="2666880"/>
                <a:gridCol w="1981080"/>
                <a:gridCol w="1904760"/>
                <a:gridCol w="167616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8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6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2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52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and Surface Re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2209680"/>
            <a:ext cx="2742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09480" y="4495680"/>
            <a:ext cx="7848360" cy="170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PMingLiU"/>
              </a:rPr>
              <a:t>Semantic Pars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ps a natural-language sentence to a complete, detailed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宋体"/>
              </a:rPr>
              <a:t>Surface Realiz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Generates a natural-language sentence from a meaning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22096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895480" y="3886200"/>
            <a:ext cx="3885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mantic Pars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362320" y="2209680"/>
            <a:ext cx="3962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urface Realiza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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17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how well the system can perform the overall navigation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-one-map-out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metric: Only successful if the final position matches exa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 simple generative model based on the frequency of actions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bas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Training with human annotated gold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omplete MARCO system [MacMahon, 200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Hum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3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64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7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68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1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72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5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76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Pa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9" name="表格 4"/>
          <p:cNvGraphicFramePr/>
          <p:nvPr/>
        </p:nvGraphicFramePr>
        <p:xfrm>
          <a:off x="609480" y="1600200"/>
          <a:ext cx="8000640" cy="4001400"/>
        </p:xfrm>
        <a:graphic>
          <a:graphicData uri="http://schemas.openxmlformats.org/drawingml/2006/table">
            <a:tbl>
              <a:tblPr/>
              <a:tblGrid>
                <a:gridCol w="1543680"/>
                <a:gridCol w="6456960"/>
              </a:tblGrid>
              <a:tr h="65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stru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ce your back against the wall of the ‘T’ intersection.  Turn left.  Go forward along the pink-flowered carpet hall two segments to the intersection with the brick hall.  This intersection contains a hatrack.  Turn left.  Go forward three segments to an intersection with a bare concrete hall, passing a lamp.  This is Position 5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back: WALL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LEFT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vel (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side: BRICK HALLWAY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LEFT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vel ( steps: 3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side: CONCRETE HALLWAY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ndarin Chinese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d all the instructions from English to 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 and test i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nese does not include word boundaries (spa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ively segment each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trained Chinese word segmenter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[Chang, Galley &amp; Manning, 20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ndarin Chinese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7" name="Table 5"/>
          <p:cNvGraphicFramePr/>
          <p:nvPr/>
        </p:nvGraphicFramePr>
        <p:xfrm>
          <a:off x="609480" y="2590920"/>
          <a:ext cx="8000640" cy="210492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segment by charac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segment by Stanford segmen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.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88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llect Additional Training Data Using Mechanical Tu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2 types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Navigation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ction traces corresponding to those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2 Human Intelligence Tasks (HITs) to collect them from Amazon’s Mechanical Tu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7</TotalTime>
  <Application>LibreOffice/7.4.7.2$Linux_X86_64 LibreOffice_project/40$Build-2</Application>
  <AppVersion>15.0000</AppVersion>
  <Words>5467</Words>
  <Paragraphs>1472</Paragraphs>
  <Company>UT Austi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8:00:01Z</dcterms:created>
  <dc:creator>David Chen</dc:creator>
  <dc:description/>
  <dc:language>en-US</dc:language>
  <cp:lastModifiedBy>David Chen</cp:lastModifiedBy>
  <dcterms:modified xsi:type="dcterms:W3CDTF">2012-04-28T08:01:29Z</dcterms:modified>
  <cp:revision>1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8</vt:r8>
  </property>
  <property fmtid="{D5CDD505-2E9C-101B-9397-08002B2CF9AE}" pid="4" name="PresentationFormat">
    <vt:lpwstr>On-screen Show (4:3)</vt:lpwstr>
  </property>
  <property fmtid="{D5CDD505-2E9C-101B-9397-08002B2CF9AE}" pid="5" name="Slides">
    <vt:r8>107</vt:r8>
  </property>
</Properties>
</file>