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3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ftr" idx="3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 type="sldNum" idx="3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94EA-F432-4B5C-BF4D-D50DCBE39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8783-0D63-4BBB-87A8-1F2CFF5F6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8FEA-C2F5-44C5-9CD8-DCC2FACBF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5534-EC7D-4644-AEF5-46A5DB0CD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2D97-5C9C-45FF-9539-641172593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0A64-2452-42A6-A685-438486407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BE41-4577-4D45-A954-FE4FCC849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A0EE-5E25-4E0B-AF9D-5E04FD6EC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9D6E-B284-45D4-B686-00663FC00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F047-AD7A-40B4-A4B1-4DE54A802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495C-3D3D-4FC0-87FC-0EA25B4FE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D55E-A256-4F79-BC1B-952372DB6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40F3-6443-4BE1-B7C2-339265D8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49C5-169E-4798-B0FC-C67D8718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3F105-6346-4F28-8EA4-9B12FB60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BCEC4-77DE-44B5-8F7F-DFDDBCC2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41B27-9F92-47E4-A757-1642D2CC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49A25-B5F5-4028-85B0-CFC8ACDF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AC1D7-B6F0-40B5-9700-81BB45B0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5F463-1628-4550-BF35-132A4161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CAF71-86AF-4F22-A15E-EC25135A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2B71C-EF7C-4243-8F49-7E6EDC23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1B0EF-38C3-4E11-BB3D-D604F6A46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43BA2-1618-412E-B4D9-5766A0BC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9337-8EAD-4B7F-B4D9-54A566C6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B82BA-9CDD-4370-B70C-85AB1C05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0F355-F8FF-438A-AD5E-1C8B2F8D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119EA-BA6E-449C-8C6D-F0DFD983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87594-1F6B-4521-8A50-AC44DB3B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E561A-BA35-4224-9220-5BEF0A28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4C51F-ABAE-4E20-91A8-862521F3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C4128-B981-40F3-B8AD-0A6CED02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9049E-BAB8-423D-85DD-6A88B6EA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8603C-6FB2-4B65-9D67-B083CF54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F98E6-E87F-41E2-A9C1-5ACE87B4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74A8-AB5E-47D7-B443-AD0F549E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0F741-7E8B-43B0-9A86-A3B0EBE6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997C-4694-43C1-AE58-052F1598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4728-3495-4F3F-A528-EAE9FAB3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5D2C-7084-4CD5-8192-D213B394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77B1-7875-4AC2-BFF2-A3620040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93D4-2E03-4B23-9385-DA03BE4E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4E7F-0400-48D1-9733-11D7AC19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2834-6893-452D-BC3B-30739CFE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F750-D298-44BE-B0DF-D2C80F64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06F0-C257-4686-A3B6-24CCB709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D259-E4CF-4C4A-80ED-FEF59F88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3340-8901-4514-98E7-3B3E354C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31AD-D2AF-44EA-A47E-9744B2F5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38B3-A5A9-42AC-BD8D-25D424E67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3992D-5391-4637-924A-F87C08D1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E67CA-0BCD-4074-B642-CB62FD6E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9CDF53-7CC9-48C7-9589-C1E29925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70D35-EAAF-4342-BAE2-E13C7423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BAB1E-BBF3-4774-AAB4-C8DACFAF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E7AF-1877-4A69-92FF-186E93D5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965C05-42E4-477B-B730-26BB0F75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092DEF-07C3-482F-B264-BCC47ED4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8A9745-2548-4F06-B4ED-0DBDB8CA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DE81B4-EEEB-4046-8067-0C3F376F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4B9634-4DC2-4943-A698-D666994E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232269-27DD-486C-8C2B-1CC6F2D6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F7280D-387C-499E-99D7-ACA10E074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7C5C18-E21F-4F95-89C8-07529DF5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71B4B4-5568-48AA-9597-358A35CE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BC52C0-6E43-4328-9F90-2895C9C7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3005-C0C1-4F60-88B2-34A3926E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74BE21-99DF-4AA4-91C8-106CF484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F5C12A-C057-47D5-B1DF-50C2306A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EC561D-EB1F-4EAD-910C-A41C4144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5F844F-0916-447F-A4A6-A61D5813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6FDDAD-2008-4901-B738-73FBDB6D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574D0C-F760-4967-9116-C944E190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4C9600-D39D-4071-B565-DF413131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BB56DF-E324-407E-9716-D3F006EC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BEFB64-11C5-4DBC-9F11-D3ECB90D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BEF467-B2A0-446A-A7DC-1769A1FF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5842-1EB0-4E03-A893-94E75C94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955075-25C1-416B-A447-588FF417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2BC86A-A4EB-42C1-8F09-1BC03A5D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59DF17-F969-46B6-B13D-1E3B9047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C1F7F5-C095-4279-B626-5820B7B9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5577EB-D676-4090-9172-AB5EA742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1FD6A8-C790-4C10-A903-7D0B75FC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990E64-96B0-4D12-ABC3-CD7D993D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B2060E-932B-4BAC-8C66-DC149771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E49C2D-B18A-4F77-9B5D-5C395E2C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E8586E-F2AD-4E28-8D0E-280BE092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B2A7-C0A8-48B6-886B-6813DA51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7290E9-0A55-4AB7-B2A0-0C2C430D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8AEB2-C1AC-41C4-B998-C04412FB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A5F8A-E608-4072-BA25-88391162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B7761-C760-4ED9-9665-1152483E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53A62-4358-494C-9724-1E406EF6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684A9-DE46-48D7-B393-84F4EB8E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24263-C67D-4711-A3F6-21A2EA0E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DDAFB-FAAA-48DD-8923-1D34A0FF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2657D-13EB-47B3-8F0F-595EDD44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777EF-63D9-47B4-9562-A7EBD845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B928-2741-43BD-A53F-07BB3D1B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5B935-6847-4452-963A-C2F72464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1D4DD-D067-4855-AD6A-BA2811CCA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FEA7D-FC9B-40FF-BE2A-205569AA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E86F6-3360-412E-BC94-CCB9BAAE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B2563-8553-4165-982C-3EB42658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05497-1EF2-4413-BBB6-256D3C98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6C7F7-D74B-45E2-AD79-666D0235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C7B56-051C-404E-B465-9DF8A2C6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0FEAF-2ADE-42A4-B9B0-EA9E2E65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8EBA4-9D98-481F-9D0E-C8F6A561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0515-5EC7-4E60-BE2E-22676B0A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C10A1-4C0B-46B8-8E62-E5CAEA8C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BAC2C-5FBF-4D98-BE9A-F4E0EABF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EFD56-0997-47B1-B552-0B139438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51202-9C5D-4B4C-B199-47325A14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78B48-D2C4-4CD7-8C91-DF9DAAD3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06D108-DD84-4671-BE58-F2B11FD0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50130A-A5FE-43C1-A30D-795DFC35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2BAD91-C334-4B43-8A4C-C8D2D114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A74D9C-752E-4222-8B5B-E7440D60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C82BBF-7661-4478-94F8-AE9092D6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6A99-632B-4AF2-A00D-F6B032A3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58F8A1-62CA-46C1-8819-0C6881F1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7A7F97-A4F7-45A2-A148-1A8320FB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945618-258D-42A4-A09D-93313018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6173F9-F4E1-434F-888F-74253686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686457-E498-42A6-8A81-084FF400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F48378-AC28-43B8-985D-ACD49864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3ECC1B-44EE-4FDD-BEBD-9B7DF6C4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A8C76-774D-4628-AE3C-B15452F1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9AB8B-D226-4012-A408-7C243976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BF19B-D2F5-465C-929E-56CBCC12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92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CEE7-92AF-407E-96A7-EC57B5B62D88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AF0C-ED49-44DA-8B6F-5A5823499618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D8C3-1C48-4BF0-A11A-7AB3B34BEB23}" type="slidenum">
              <a:rPr b="1" lang="en-US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CB55-2535-4877-A3FF-D71E7219DA33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92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8784-5AA3-4485-BBD1-0C1127267AEA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92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2A72-6C28-44AE-8CFF-18CFD5C79222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C0B3-5CF4-43B7-A3D0-1A8D24807FA1}" type="slidenum">
              <a:rPr b="1" lang="en-US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1279440"/>
            <a:ext cx="5335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590400" y="1279440"/>
            <a:ext cx="8553600" cy="92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1647-415E-4036-8E0E-AD2CFC4CF03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2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E4D0-764A-4A62-9BEC-4D5E1301FEB6}" type="slidenum">
              <a:rPr b="1" lang="en-US" sz="28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92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1685-8017-4876-A965-0B4E9914BEF1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w Cen MT"/>
              </a:rPr>
              <a:t>Max-Margin Weight Learning </a:t>
            </a:r>
            <a:br>
              <a:rPr sz="3200"/>
            </a:br>
            <a:r>
              <a:rPr b="1" lang="en-US" sz="3200" spc="-1" strike="noStrike">
                <a:solidFill>
                  <a:srgbClr val="04617b"/>
                </a:solidFill>
                <a:latin typeface="Tw Cen MT"/>
              </a:rPr>
              <a:t>for Markov Logic Networks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Tw Cen MT"/>
              </a:rPr>
              <a:t>Tuyen N. Huynh and Raymond J. Moone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2745000" y="3733920"/>
            <a:ext cx="38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Times New Roman"/>
                <a:ea typeface="华文仿宋"/>
              </a:rPr>
              <a:t>Machine Learning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Times New Roman"/>
                <a:ea typeface="华文仿宋"/>
              </a:rPr>
              <a:t>Department of Computer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Times New Roman"/>
                <a:ea typeface="华文仿宋"/>
              </a:rPr>
              <a:t>The University of Texas at Aus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Box 4"/>
          <p:cNvSpPr/>
          <p:nvPr/>
        </p:nvSpPr>
        <p:spPr>
          <a:xfrm>
            <a:off x="2759400" y="5334120"/>
            <a:ext cx="36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6fc6"/>
                </a:solidFill>
                <a:latin typeface="Times New Roman"/>
              </a:rPr>
              <a:t>ECML-PKDD-2009, Bled, Slov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Generic Strutural SVMs (cont.)</a:t>
            </a:r>
            <a:r>
              <a:rPr b="0" lang="en-US" sz="4400" spc="-1" strike="noStrike">
                <a:solidFill>
                  <a:srgbClr val="55a839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8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64F9-F352-4952-B994-D5D84D4B0AC7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a839"/>
                </a:solidFill>
                <a:latin typeface="Tw Cen MT"/>
              </a:rPr>
              <a:t>[Joachims et.al., 2009]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posed the 1-slack formulation of the Structural SV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ke the original cutting-plane algorithm </a:t>
            </a:r>
            <a:r>
              <a:rPr b="0" lang="en-US" sz="2900" spc="-1" strike="noStrike">
                <a:solidFill>
                  <a:srgbClr val="55a839"/>
                </a:solidFill>
                <a:latin typeface="Tw Cen MT"/>
              </a:rPr>
              <a:t>[Tsochantaridis et.al., 2004]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run faster and more scalab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Object 2"/>
              <p:cNvSpPr txBox="1"/>
              <p:nvPr/>
            </p:nvSpPr>
            <p:spPr>
              <a:xfrm>
                <a:off x="254160" y="2590920"/>
                <a:ext cx="879444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,</m:t>
                            </m:r>
                            <m:r>
                              <m:t xml:space="preserve">ξ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Cξ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: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[</m:t>
                            </m:r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≥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t xml:space="preserve">ξ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1" name="Oval 5"/>
          <p:cNvSpPr/>
          <p:nvPr/>
        </p:nvSpPr>
        <p:spPr>
          <a:xfrm>
            <a:off x="2085840" y="2819520"/>
            <a:ext cx="381240" cy="380880"/>
          </a:xfrm>
          <a:prstGeom prst="ellipse">
            <a:avLst/>
          </a:prstGeom>
          <a:noFill/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Oval 6"/>
          <p:cNvSpPr/>
          <p:nvPr/>
        </p:nvSpPr>
        <p:spPr>
          <a:xfrm>
            <a:off x="1066680" y="3429000"/>
            <a:ext cx="1295640" cy="762120"/>
          </a:xfrm>
          <a:prstGeom prst="ellipse">
            <a:avLst/>
          </a:prstGeom>
          <a:noFill/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7"/>
          <p:cNvSpPr/>
          <p:nvPr/>
        </p:nvSpPr>
        <p:spPr>
          <a:xfrm>
            <a:off x="8721720" y="3657600"/>
            <a:ext cx="380880" cy="380880"/>
          </a:xfrm>
          <a:prstGeom prst="ellipse">
            <a:avLst/>
          </a:prstGeom>
          <a:noFill/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Tw Cen MT"/>
              </a:rPr>
              <a:t>Cutting plane algorithm for solving the structural SVMs</a:t>
            </a:r>
            <a:endParaRPr b="0" lang="en-US" sz="2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4038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ructural SVM Probl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xponential constrai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ost are dominated by a small set of “important” constrai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48320" y="4343400"/>
            <a:ext cx="40384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utting plane algorith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peatedly finds the next most violated constraint…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until cannot find any new constrain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7" name="Picture 15" descr="constraints"/>
          <p:cNvPicPr/>
          <p:nvPr/>
        </p:nvPicPr>
        <p:blipFill>
          <a:blip r:embed="rId1"/>
          <a:stretch/>
        </p:blipFill>
        <p:spPr>
          <a:xfrm>
            <a:off x="609480" y="1504800"/>
            <a:ext cx="358164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8" name="TextBox 4"/>
          <p:cNvSpPr/>
          <p:nvPr/>
        </p:nvSpPr>
        <p:spPr>
          <a:xfrm>
            <a:off x="181440" y="6335640"/>
            <a:ext cx="3359880" cy="459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Slide credit: Yisong Y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16" descr="cutting_plane"/>
          <p:cNvPicPr/>
          <p:nvPr/>
        </p:nvPicPr>
        <p:blipFill>
          <a:blip r:embed="rId2"/>
          <a:stretch/>
        </p:blipFill>
        <p:spPr>
          <a:xfrm>
            <a:off x="4800600" y="1504800"/>
            <a:ext cx="358128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0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5CE6-72C9-4D28-827D-6D3D6B3FA2C1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Tw Cen MT"/>
              </a:rPr>
              <a:t>Cutting plane algorithm for solving the 1-slack SVMs</a:t>
            </a:r>
            <a:endParaRPr b="0" lang="en-US" sz="2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4038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ructural SVM Probl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xponential constrai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ost are dominated by a small set of “important” constrai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48320" y="4343400"/>
            <a:ext cx="40384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utting plane algorith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peatedly finds the next most violated constraint…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until cannot find any new constrain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4" name="Picture 15" descr="constraints"/>
          <p:cNvPicPr/>
          <p:nvPr/>
        </p:nvPicPr>
        <p:blipFill>
          <a:blip r:embed="rId1"/>
          <a:stretch/>
        </p:blipFill>
        <p:spPr>
          <a:xfrm>
            <a:off x="609480" y="1504800"/>
            <a:ext cx="358164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5" name="TextBox 4"/>
          <p:cNvSpPr/>
          <p:nvPr/>
        </p:nvSpPr>
        <p:spPr>
          <a:xfrm>
            <a:off x="181440" y="6335640"/>
            <a:ext cx="3359880" cy="459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Slide credit: Yisong Y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16" descr="cutting_plane"/>
          <p:cNvPicPr/>
          <p:nvPr/>
        </p:nvPicPr>
        <p:blipFill>
          <a:blip r:embed="rId2"/>
          <a:stretch/>
        </p:blipFill>
        <p:spPr>
          <a:xfrm>
            <a:off x="4800600" y="1504800"/>
            <a:ext cx="358128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7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1D1B-FBA8-4F56-9A3E-E5ECEBD7A73A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Tw Cen MT"/>
              </a:rPr>
              <a:t>Cutting plane algorithm for solving the 1-slack SVMs</a:t>
            </a:r>
            <a:endParaRPr b="0" lang="en-US" sz="2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4038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ructural SVM Probl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xponential constrai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ost are dominated by a small set of “important” constrai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48320" y="4343400"/>
            <a:ext cx="40384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utting plane algorith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peatedly finds the next most violated constraint…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until cannot find any new constrain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1" name="Picture 15" descr="constraints"/>
          <p:cNvPicPr/>
          <p:nvPr/>
        </p:nvPicPr>
        <p:blipFill>
          <a:blip r:embed="rId1"/>
          <a:stretch/>
        </p:blipFill>
        <p:spPr>
          <a:xfrm>
            <a:off x="609480" y="1504800"/>
            <a:ext cx="358164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2" name="TextBox 4"/>
          <p:cNvSpPr/>
          <p:nvPr/>
        </p:nvSpPr>
        <p:spPr>
          <a:xfrm>
            <a:off x="181440" y="6335640"/>
            <a:ext cx="3359880" cy="459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Slide credit: Yisong Y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16" descr="cutting_plane"/>
          <p:cNvPicPr/>
          <p:nvPr/>
        </p:nvPicPr>
        <p:blipFill>
          <a:blip r:embed="rId2"/>
          <a:stretch/>
        </p:blipFill>
        <p:spPr>
          <a:xfrm>
            <a:off x="4800600" y="1504800"/>
            <a:ext cx="358128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4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D166-6228-4B60-8F52-CE07A3301D87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Tw Cen MT"/>
              </a:rPr>
              <a:t>Cutting plane algorithm for solving the 1-slack SVMs</a:t>
            </a:r>
            <a:endParaRPr b="0" lang="en-US" sz="2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4038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ructural SVM Probl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xponential constrai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ost are dominated by a small set of “important” constrai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48320" y="4343400"/>
            <a:ext cx="40384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utting plane algorith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peatedly finds the next most violated constraint…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until cannot find any new constrain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8" name="Picture 15" descr="constraints"/>
          <p:cNvPicPr/>
          <p:nvPr/>
        </p:nvPicPr>
        <p:blipFill>
          <a:blip r:embed="rId1"/>
          <a:stretch/>
        </p:blipFill>
        <p:spPr>
          <a:xfrm>
            <a:off x="609480" y="1504800"/>
            <a:ext cx="358164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16" descr="cutting_plane"/>
          <p:cNvPicPr/>
          <p:nvPr/>
        </p:nvPicPr>
        <p:blipFill>
          <a:blip r:embed="rId2"/>
          <a:stretch/>
        </p:blipFill>
        <p:spPr>
          <a:xfrm>
            <a:off x="4800600" y="1504800"/>
            <a:ext cx="358128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TextBox 4"/>
          <p:cNvSpPr/>
          <p:nvPr/>
        </p:nvSpPr>
        <p:spPr>
          <a:xfrm>
            <a:off x="181440" y="6335640"/>
            <a:ext cx="3359880" cy="459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Slide credit: Yisong Y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8060-7352-4A63-ACE1-55083449BBCD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w Cen MT"/>
              </a:rPr>
              <a:t>Applying the generic structural SVMs to a new problem</a:t>
            </a:r>
            <a:endParaRPr b="0" lang="en-US" sz="2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23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0DE6-4444-4472-8437-615E16BEC203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presentation: </a:t>
            </a:r>
            <a:r>
              <a:rPr b="0" lang="el-GR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oss function: </a:t>
            </a:r>
            <a:r>
              <a:rPr b="0" lang="el-GR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lgorithms to comput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ediction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ost violated constraint: separation oracle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Tsochantaridis et.al., 2004]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r l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oss-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ugmented inference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Taskar et.al.,2005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5"/>
              <p:cNvSpPr txBox="1"/>
              <p:nvPr/>
            </p:nvSpPr>
            <p:spPr>
              <a:xfrm>
                <a:off x="1400040" y="3736800"/>
                <a:ext cx="34768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5"/>
              <p:cNvSpPr txBox="1"/>
              <p:nvPr/>
            </p:nvSpPr>
            <p:spPr>
              <a:xfrm>
                <a:off x="2112840" y="5640480"/>
                <a:ext cx="42879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Y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Box 5"/>
          <p:cNvSpPr/>
          <p:nvPr/>
        </p:nvSpPr>
        <p:spPr>
          <a:xfrm>
            <a:off x="315000" y="2895480"/>
            <a:ext cx="87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dd9"/>
                </a:solidFill>
                <a:latin typeface="Times New Roman"/>
              </a:rPr>
              <a:t>Max-Margin Markov Logic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7775-FF3D-4B69-9CA3-FC449A654881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8"/>
          <p:cNvSpPr/>
          <p:nvPr/>
        </p:nvSpPr>
        <p:spPr>
          <a:xfrm>
            <a:off x="3224160" y="4876920"/>
            <a:ext cx="838080" cy="304560"/>
          </a:xfrm>
          <a:prstGeom prst="rect">
            <a:avLst/>
          </a:prstGeom>
          <a:solidFill>
            <a:srgbClr val="009dd9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9"/>
          <p:cNvSpPr/>
          <p:nvPr/>
        </p:nvSpPr>
        <p:spPr>
          <a:xfrm>
            <a:off x="5268960" y="4876920"/>
            <a:ext cx="838080" cy="304560"/>
          </a:xfrm>
          <a:prstGeom prst="rect">
            <a:avLst/>
          </a:prstGeom>
          <a:solidFill>
            <a:srgbClr val="009dd9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Object 5"/>
              <p:cNvSpPr txBox="1"/>
              <p:nvPr/>
            </p:nvSpPr>
            <p:spPr>
              <a:xfrm>
                <a:off x="1432080" y="4267080"/>
                <a:ext cx="474012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∈</m:t>
                            </m:r>
                            <m:r>
                              <m:t xml:space="preserve">Y</m:t>
                            </m:r>
                          </m:lim>
                        </m:limLow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2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ximize the ratio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quivalent to maximize the separation margi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n be formulated as a 1-slack Structural SV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Formulat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4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AF7F-4772-4D2E-B082-619A62F39CFE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3"/>
              <p:cNvSpPr txBox="1"/>
              <p:nvPr/>
            </p:nvSpPr>
            <p:spPr>
              <a:xfrm>
                <a:off x="2755800" y="2108160"/>
                <a:ext cx="35830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4"/>
              <p:cNvSpPr txBox="1"/>
              <p:nvPr/>
            </p:nvSpPr>
            <p:spPr>
              <a:xfrm>
                <a:off x="3048120" y="3200400"/>
                <a:ext cx="30621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∈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Flowchart: Process 10"/>
          <p:cNvSpPr/>
          <p:nvPr/>
        </p:nvSpPr>
        <p:spPr>
          <a:xfrm>
            <a:off x="6386400" y="4785120"/>
            <a:ext cx="2590920" cy="488160"/>
          </a:xfrm>
          <a:prstGeom prst="flowChartProcess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Joint feature: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Content Placeholder 3"/>
          <p:cNvSpPr/>
          <p:nvPr/>
        </p:nvSpPr>
        <p:spPr>
          <a:xfrm>
            <a:off x="612720" y="1430280"/>
            <a:ext cx="815328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PE inference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oss-augmented MPE inference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Tw Cen MT"/>
              </a:rPr>
              <a:t>Problem: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act MPE inference in MLNs are intracta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c00"/>
                </a:solidFill>
                <a:latin typeface="Tw Cen MT"/>
              </a:rPr>
              <a:t>Solution: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pproximation inference via relaxation methods </a:t>
            </a:r>
            <a:r>
              <a:rPr b="0" lang="en-US" sz="2900" spc="-1" strike="noStrike">
                <a:solidFill>
                  <a:srgbClr val="55a839"/>
                </a:solidFill>
                <a:latin typeface="Tw Cen MT"/>
              </a:rPr>
              <a:t>[Finley et.al.,2008]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Problems need to be solved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41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6154-CDEC-4711-8823-2BB0632E941F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2"/>
              <p:cNvSpPr txBox="1"/>
              <p:nvPr/>
            </p:nvSpPr>
            <p:spPr>
              <a:xfrm>
                <a:off x="2384280" y="3200400"/>
                <a:ext cx="4168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∈</m:t>
                        </m:r>
                        <m:r>
                          <m:t xml:space="preserve">Y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3"/>
              <p:cNvSpPr txBox="1"/>
              <p:nvPr/>
            </p:nvSpPr>
            <p:spPr>
              <a:xfrm>
                <a:off x="2406600" y="2006640"/>
                <a:ext cx="3232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∈</m:t>
                        </m:r>
                        <m:r>
                          <m:t xml:space="preserve">Y</m:t>
                        </m:r>
                      </m:sub>
                    </m:sSub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Relaxation MPE inference for MLNs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45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BA79-E7B5-4A1E-8D28-70E8387FB5EE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any work on approximating the Weighted MAX-SAT via Linear Programming (LP) relaxation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Goemans and Williamson, 1994], [Asano and Williamson, 2002], [Asano, 2006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onvert the problem into an Integer Linear Programming (ILP) problem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lax the integer constraints to linear constraint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ound the LP solution by some randomized procedur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w Cen MT"/>
              </a:rPr>
              <a:t>Assume the weights are finite and positiv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Motivation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rkov Logic Network (MLN) combining probability and first-order logic is an expressive formalism which subsumes other SRL mode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 of the existing training methods for MLNs learn a model that produce good predictive probabiliti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91DA-FAE6-4090-8DD5-897D6D96F053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Relaxation MPE inference for MLNs (cont.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48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8655-267C-4525-8E29-C030B46D0CF7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anslate the MPE inference in a ground MLN into an Integer Linear Programming (ILP) proble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nvert all the ground clauses into clausal for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ssign a binary variable 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y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to each unknown ground atom and a binary variable 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z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w Cen MT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to each non-deterministic ground claus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ranslate each ground clause into linear constraints of 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y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’s and 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z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w Cen MT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’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0"/>
          <p:cNvSpPr/>
          <p:nvPr/>
        </p:nvSpPr>
        <p:spPr>
          <a:xfrm>
            <a:off x="6705720" y="5562720"/>
            <a:ext cx="1447560" cy="304560"/>
          </a:xfrm>
          <a:prstGeom prst="rect">
            <a:avLst/>
          </a:prstGeom>
          <a:noFill/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18"/>
          <p:cNvSpPr/>
          <p:nvPr/>
        </p:nvSpPr>
        <p:spPr>
          <a:xfrm>
            <a:off x="152280" y="4267080"/>
            <a:ext cx="5486400" cy="1067040"/>
          </a:xfrm>
          <a:prstGeom prst="rect">
            <a:avLst/>
          </a:prstGeom>
          <a:solidFill>
            <a:srgbClr val="ff00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19"/>
          <p:cNvSpPr/>
          <p:nvPr/>
        </p:nvSpPr>
        <p:spPr>
          <a:xfrm>
            <a:off x="6705720" y="4267080"/>
            <a:ext cx="2209680" cy="1219320"/>
          </a:xfrm>
          <a:prstGeom prst="rect">
            <a:avLst/>
          </a:prstGeom>
          <a:solidFill>
            <a:srgbClr val="ff00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15"/>
          <p:cNvSpPr/>
          <p:nvPr/>
        </p:nvSpPr>
        <p:spPr>
          <a:xfrm>
            <a:off x="141120" y="3400560"/>
            <a:ext cx="5410440" cy="380880"/>
          </a:xfrm>
          <a:prstGeom prst="rect">
            <a:avLst/>
          </a:prstGeom>
          <a:solidFill>
            <a:srgbClr val="ffff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16"/>
          <p:cNvSpPr/>
          <p:nvPr/>
        </p:nvSpPr>
        <p:spPr>
          <a:xfrm>
            <a:off x="6705720" y="3429000"/>
            <a:ext cx="1218960" cy="762120"/>
          </a:xfrm>
          <a:prstGeom prst="rect">
            <a:avLst/>
          </a:prstGeom>
          <a:solidFill>
            <a:srgbClr val="ffff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17"/>
          <p:cNvSpPr/>
          <p:nvPr/>
        </p:nvSpPr>
        <p:spPr>
          <a:xfrm>
            <a:off x="8129520" y="2479680"/>
            <a:ext cx="304920" cy="304920"/>
          </a:xfrm>
          <a:prstGeom prst="rect">
            <a:avLst/>
          </a:prstGeom>
          <a:solidFill>
            <a:srgbClr val="ffff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11"/>
          <p:cNvSpPr/>
          <p:nvPr/>
        </p:nvSpPr>
        <p:spPr>
          <a:xfrm>
            <a:off x="152280" y="3065400"/>
            <a:ext cx="5639040" cy="304920"/>
          </a:xfrm>
          <a:prstGeom prst="rect">
            <a:avLst/>
          </a:prstGeom>
          <a:solidFill>
            <a:srgbClr val="00cc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12"/>
          <p:cNvSpPr/>
          <p:nvPr/>
        </p:nvSpPr>
        <p:spPr>
          <a:xfrm>
            <a:off x="6705720" y="3048120"/>
            <a:ext cx="1295280" cy="304560"/>
          </a:xfrm>
          <a:prstGeom prst="rect">
            <a:avLst/>
          </a:prstGeom>
          <a:solidFill>
            <a:srgbClr val="00cc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14"/>
          <p:cNvSpPr/>
          <p:nvPr/>
        </p:nvSpPr>
        <p:spPr>
          <a:xfrm>
            <a:off x="7326360" y="2490840"/>
            <a:ext cx="533520" cy="304920"/>
          </a:xfrm>
          <a:prstGeom prst="rect">
            <a:avLst/>
          </a:prstGeom>
          <a:solidFill>
            <a:srgbClr val="00cc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8"/>
          <p:cNvSpPr/>
          <p:nvPr/>
        </p:nvSpPr>
        <p:spPr>
          <a:xfrm>
            <a:off x="152280" y="2514600"/>
            <a:ext cx="2743200" cy="304920"/>
          </a:xfrm>
          <a:prstGeom prst="rect">
            <a:avLst/>
          </a:prstGeom>
          <a:solidFill>
            <a:srgbClr val="00b0f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10"/>
          <p:cNvSpPr/>
          <p:nvPr/>
        </p:nvSpPr>
        <p:spPr>
          <a:xfrm>
            <a:off x="6705720" y="2490840"/>
            <a:ext cx="380880" cy="304920"/>
          </a:xfrm>
          <a:prstGeom prst="rect">
            <a:avLst/>
          </a:prstGeom>
          <a:solidFill>
            <a:srgbClr val="00b0f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4617b"/>
                </a:solidFill>
                <a:latin typeface="Tw Cen MT"/>
              </a:rPr>
              <a:t>Relaxation MPE inference for MLNs (cont.)</a:t>
            </a:r>
            <a:endParaRPr b="0" lang="en-US" sz="3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2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551A-D23B-4590-81A2-356E5B4C3511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Box 6"/>
          <p:cNvSpPr/>
          <p:nvPr/>
        </p:nvSpPr>
        <p:spPr>
          <a:xfrm>
            <a:off x="88920" y="2438280"/>
            <a:ext cx="5778360" cy="350532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InField(B1,Fauthor,P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5 InField(B1,Fauthor,P01) v InField(B1,Fvenue,P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 InField(B1,Ftitle,P01) v InField(B1,Fvenue,P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InField(B1,Fauthor,P01) v !InField(a1,Ftitle,P0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InField(B1,Fauthor,P01) v !InField(a1,Fvenue,P0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InField(B1,Ftitle,P01) v !InField(a1,Fvenue,P0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2040840" y="1963800"/>
            <a:ext cx="1864800" cy="45972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 M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Box 9"/>
          <p:cNvSpPr/>
          <p:nvPr/>
        </p:nvSpPr>
        <p:spPr>
          <a:xfrm>
            <a:off x="5977440" y="1957320"/>
            <a:ext cx="3097800" cy="45972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ed IL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Object 3"/>
              <p:cNvSpPr txBox="1"/>
              <p:nvPr/>
            </p:nvSpPr>
            <p:spPr>
              <a:xfrm>
                <a:off x="6183360" y="2435400"/>
                <a:ext cx="2797200" cy="34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lim>
                        </m:limLow>
                        <m:r>
                          <m:t xml:space="preserve">3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A421-047F-4A54-8135-6A8338576B67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P-relaxation: relax the integer constraints {0,1} to linear constraints [0,1]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apt the ROUNDUP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Boros and Hammer, 2002]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procedure to round the solution of the LP probl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ick a non-integral component and round it in each ste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4617b"/>
                </a:solidFill>
                <a:latin typeface="Tw Cen MT"/>
              </a:rPr>
              <a:t>Relaxation MPE inference for MLNs (cont.)</a:t>
            </a:r>
            <a:endParaRPr b="0" lang="en-US" sz="3400" spc="-1" strike="noStrike">
              <a:solidFill>
                <a:srgbClr val="04617b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Loss-augmented LP-relaxation MPE inference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1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880A-CD91-482F-9BFB-B8D7285FC792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present the loss function as a linear function of y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’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d the loss term to the objective of the LP-relaxation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the problem is still a LP problem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can be solved by the previous algorith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2"/>
              <p:cNvSpPr txBox="1"/>
              <p:nvPr/>
            </p:nvSpPr>
            <p:spPr>
              <a:xfrm>
                <a:off x="2235240" y="2687760"/>
                <a:ext cx="46990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ammming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: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/>
                      <m:e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: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Box 5"/>
          <p:cNvSpPr/>
          <p:nvPr/>
        </p:nvSpPr>
        <p:spPr>
          <a:xfrm>
            <a:off x="3168000" y="2895480"/>
            <a:ext cx="300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dd9"/>
                </a:solidFill>
                <a:latin typeface="Times New Roman"/>
              </a:rPr>
              <a:t>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7020-05B7-4C35-AA4F-E943406069F0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Collective multi-label webpage classification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08E2-7BDE-417B-B97C-37CA3CE3A425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bKB dataset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Craven and Slattery, 2001] [Lowd and Domingos, 2007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4,165 web pages and 10,935 web links of 4 departm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ch page is labeled with a subset of 7 categories: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Course, Department, Faculty, Person, Professor, Research Project, Stud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LN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Lowd and Domingos, 2007]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TextBox 4"/>
          <p:cNvSpPr/>
          <p:nvPr/>
        </p:nvSpPr>
        <p:spPr>
          <a:xfrm>
            <a:off x="1140120" y="5337000"/>
            <a:ext cx="7287120" cy="1280520"/>
          </a:xfrm>
          <a:prstGeom prst="rect">
            <a:avLst/>
          </a:prstGeom>
          <a:noFill/>
          <a:ln w="93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(+word,pag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Class(+class,p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(+word,pag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PageClass(+class,p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Class(+c1,p1) ^ Linked(p1,p2) → PageClass(+c2,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w Cen MT"/>
              </a:rPr>
              <a:t>Collective multi-label webpage classification (cont.)</a:t>
            </a:r>
            <a:endParaRPr b="0" lang="en-US" sz="2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1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A9A7-623B-4425-A2AF-D38B864C0413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argest ground MLN for one departmen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8,876 query atom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74,594 ground clau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itation segmentat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4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F224-1F4E-46CB-9676-66CF10D1D2B1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iteseer dataset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Lawrence et.al., 1999]</a:t>
            </a:r>
            <a:r>
              <a:rPr b="0" lang="en-US" sz="2000" spc="-1" strike="noStrike">
                <a:solidFill>
                  <a:srgbClr val="55a839"/>
                </a:solidFill>
                <a:latin typeface="Times New Roman"/>
              </a:rPr>
              <a:t> [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Poon and Domingos, 2007</a:t>
            </a:r>
            <a:r>
              <a:rPr b="0" lang="en-US" sz="2000" spc="-1" strike="noStrike">
                <a:solidFill>
                  <a:srgbClr val="55a839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,563 citations, divided into 4 research topic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ch citation is segmented into 3 fields: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Author, Title, Venu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d the simplest MLN in </a:t>
            </a:r>
            <a:r>
              <a:rPr b="0" lang="en-US" sz="2000" spc="-1" strike="noStrike">
                <a:solidFill>
                  <a:srgbClr val="55a839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Poon and Domingos, 2007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argest ground MLN for one topic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37,692 query atom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31,573 ground clau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Experimental setup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4-fold cross-valid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tric: F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sco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pare against the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reconditioned Scaled Conjugated Gradient (PSCG) algorith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rain with 5 different values of C: 1, 10, 100, 1000, 10000 and test with the one that performs best on traini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e Mosek to solve the QP and LP problem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C10B-65FE-42B2-A81D-0EE031E26A4E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F</a:t>
            </a:r>
            <a:r>
              <a:rPr b="0" lang="en-US" sz="4400" spc="-1" strike="noStrike" baseline="-25000">
                <a:solidFill>
                  <a:srgbClr val="04617b"/>
                </a:solidFill>
                <a:latin typeface="Tw Cen MT"/>
              </a:rPr>
              <a:t>1</a:t>
            </a: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 scores on WebKB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0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F620-0921-46A2-B516-8A7D636DA514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Chart 5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391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Motivation (cont.)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 many applications, the actual goal is to optimize some application specific performance measures such as classification accuracy, F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score,  etc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x-margin training methods, especially Structural Support Vector Machines (SVMs), provide the framework to optimize these application specific measur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ff0000"/>
                </a:solidFill>
                <a:latin typeface="Tw Cen MT"/>
              </a:rPr>
              <a:t>Training MLNs under the max-margin framework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4D66-56C4-4F92-8EF8-6062F6CBBE02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Where does the improvement come from?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3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731A-6A19-4483-8F72-369554ECA114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SCG-LPRelax: run the new LP-relaxation MPE algorithm on the model learnt by PSCG-MCS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M-Hamming-MCSAT: run the MCSAT inference on the model learnt by MM-Hamming-LPRelax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F</a:t>
            </a:r>
            <a:r>
              <a:rPr b="0" lang="en-US" sz="4400" spc="-1" strike="noStrike" baseline="-25000">
                <a:solidFill>
                  <a:srgbClr val="04617b"/>
                </a:solidFill>
                <a:latin typeface="Tw Cen MT"/>
              </a:rPr>
              <a:t>1</a:t>
            </a: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 scores on WebKB(cont.)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995D-D759-45CE-AAD9-45CC9B616E45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Chart 6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467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F</a:t>
            </a:r>
            <a:r>
              <a:rPr b="0" lang="en-US" sz="4400" spc="-1" strike="noStrike" baseline="-25000">
                <a:solidFill>
                  <a:srgbClr val="04617b"/>
                </a:solidFill>
                <a:latin typeface="Tw Cen MT"/>
              </a:rPr>
              <a:t>1</a:t>
            </a: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 scores on Citeseer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9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300E-FD37-4961-99C2-BC2B04F8E631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Chart 5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7816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Sensitivity to the tuning parameter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2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74B1-27B8-483A-8A83-5BEDCB7AF9FA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Chart 6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114800" cy="3784680"/>
          </a:xfrm>
          <a:prstGeom prst="rect">
            <a:avLst/>
          </a:prstGeom>
          <a:ln w="0">
            <a:noFill/>
          </a:ln>
        </p:spPr>
      </p:pic>
      <p:pic>
        <p:nvPicPr>
          <p:cNvPr id="604" name="Chart 4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11480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Future work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6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98F2-2FD2-4438-A2B5-1D028818F458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pproximation algorithms for optimizing other application specific loss func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re efficient inference algorith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nline max-margin weight learn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-best MIRA </a:t>
            </a:r>
            <a:r>
              <a:rPr b="0" lang="en-US" sz="2600" spc="-1" strike="noStrike">
                <a:solidFill>
                  <a:srgbClr val="55a839"/>
                </a:solidFill>
                <a:latin typeface="Times New Roman"/>
              </a:rPr>
              <a:t>[Crammer et.al., 2005]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re experiments on structured prediction and compare to other existing mode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Summary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 existing discriminative weight learners for MLNs try to optimize the CL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posed a max-margin approach to weight learning in MLNs, which can optimize application specific measur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veloped a new LP-relaxation MPE inference for ML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max-margin weight learner achieves better or equally good but more stable performanc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AD39-F601-48FE-BA48-A17615028916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28600" y="2895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Thank you!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2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CD1A-7B45-4A36-804C-25BD1A1B9474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itle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Outline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56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B1CE-1BF6-436B-AE34-AED57B891EE9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ackgroun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L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tructural SVM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x-Margin Markov Logic Network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rmul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P-relaxation MPE inferen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perim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uture wor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umma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Box 5"/>
          <p:cNvSpPr/>
          <p:nvPr/>
        </p:nvSpPr>
        <p:spPr>
          <a:xfrm>
            <a:off x="3165480" y="2895480"/>
            <a:ext cx="291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dd9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035C-D1AA-47BB-B4F5-3275A218FDF1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 MLN is a weighted set of first-order formul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Larger weight indicates stronger belief that the clause should hol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robability of a possible world (a truth assignment to all ground atoms) x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61" name="Group 18"/>
          <p:cNvGrpSpPr/>
          <p:nvPr/>
        </p:nvGrpSpPr>
        <p:grpSpPr>
          <a:xfrm>
            <a:off x="4495680" y="5322960"/>
            <a:ext cx="997200" cy="380880"/>
            <a:chOff x="4495680" y="5322960"/>
            <a:chExt cx="997200" cy="380880"/>
          </a:xfrm>
        </p:grpSpPr>
        <p:sp>
          <p:nvSpPr>
            <p:cNvPr id="462" name="Rectangle 26"/>
            <p:cNvSpPr/>
            <p:nvPr/>
          </p:nvSpPr>
          <p:spPr>
            <a:xfrm>
              <a:off x="4756320" y="5322960"/>
              <a:ext cx="73656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27"/>
            <p:cNvSpPr/>
            <p:nvPr/>
          </p:nvSpPr>
          <p:spPr>
            <a:xfrm>
              <a:off x="4495680" y="5322960"/>
              <a:ext cx="25380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Markov Logic Networks (MLNs)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grpSp>
        <p:nvGrpSpPr>
          <p:cNvPr id="465" name="Group 19"/>
          <p:cNvGrpSpPr/>
          <p:nvPr/>
        </p:nvGrpSpPr>
        <p:grpSpPr>
          <a:xfrm>
            <a:off x="1152360" y="4948200"/>
            <a:ext cx="7252200" cy="1663920"/>
            <a:chOff x="1152360" y="4948200"/>
            <a:chExt cx="7252200" cy="1663920"/>
          </a:xfrm>
        </p:grpSpPr>
        <mc:AlternateContent>
          <mc:Choice xmlns:a14="http://schemas.microsoft.com/office/drawing/2010/main" Requires="a14">
            <p:sp>
              <p:nvSpPr>
                <p:cNvPr id="466" name="Object 2"/>
                <p:cNvSpPr txBox="1"/>
                <p:nvPr/>
              </p:nvSpPr>
              <p:spPr>
                <a:xfrm>
                  <a:off x="1152360" y="4948200"/>
                  <a:ext cx="458496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i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67" name="Text Box 28"/>
            <p:cNvSpPr/>
            <p:nvPr/>
          </p:nvSpPr>
          <p:spPr>
            <a:xfrm>
              <a:off x="2208240" y="6243840"/>
              <a:ext cx="2009520" cy="368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eight of formula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Text Box 29"/>
            <p:cNvSpPr/>
            <p:nvPr/>
          </p:nvSpPr>
          <p:spPr>
            <a:xfrm>
              <a:off x="4587480" y="6243840"/>
              <a:ext cx="3817080" cy="368280"/>
            </a:xfrm>
            <a:prstGeom prst="rect">
              <a:avLst/>
            </a:prstGeom>
            <a:noFill/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. of true groundings of formula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30"/>
            <p:cNvSpPr/>
            <p:nvPr/>
          </p:nvSpPr>
          <p:spPr>
            <a:xfrm flipV="1">
              <a:off x="4038480" y="5710320"/>
              <a:ext cx="609480" cy="5335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31"/>
            <p:cNvSpPr/>
            <p:nvPr/>
          </p:nvSpPr>
          <p:spPr>
            <a:xfrm flipH="1" flipV="1">
              <a:off x="5029200" y="5710320"/>
              <a:ext cx="304560" cy="533520"/>
            </a:xfrm>
            <a:prstGeom prst="line">
              <a:avLst/>
            </a:prstGeom>
            <a:ln w="1908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Text Box 4"/>
          <p:cNvSpPr/>
          <p:nvPr/>
        </p:nvSpPr>
        <p:spPr>
          <a:xfrm>
            <a:off x="5724000" y="88668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Tw Cen MT"/>
              </a:rPr>
              <a:t>[Richardson &amp; Domingos, 200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5"/>
          <p:cNvSpPr/>
          <p:nvPr/>
        </p:nvSpPr>
        <p:spPr>
          <a:xfrm>
            <a:off x="380880" y="2205000"/>
            <a:ext cx="8715600" cy="1054080"/>
          </a:xfrm>
          <a:prstGeom prst="rect">
            <a:avLst/>
          </a:prstGeom>
          <a:noFill/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w Cen MT"/>
              </a:rPr>
              <a:t>0.25</a:t>
            </a:r>
            <a:r>
              <a:rPr b="0" lang="en-US" sz="2100" spc="-1" strike="noStrike">
                <a:solidFill>
                  <a:srgbClr val="009dd9"/>
                </a:solidFill>
                <a:latin typeface="Tw Cen MT"/>
              </a:rPr>
              <a:t>   </a:t>
            </a:r>
            <a:r>
              <a:rPr b="0" lang="en-US" sz="2100" spc="-1" strike="noStrike">
                <a:solidFill>
                  <a:srgbClr val="0f6fc6"/>
                </a:solidFill>
                <a:latin typeface="Tw Cen MT"/>
              </a:rPr>
              <a:t>HasWord(“assignment”,p) =&gt; PageClass(Course,p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w Cen MT"/>
              </a:rPr>
              <a:t>0.19</a:t>
            </a:r>
            <a:r>
              <a:rPr b="0" lang="en-US" sz="2100" spc="-1" strike="noStrike">
                <a:solidFill>
                  <a:srgbClr val="009dd9"/>
                </a:solidFill>
                <a:latin typeface="Tw Cen MT"/>
              </a:rPr>
              <a:t>   </a:t>
            </a:r>
            <a:r>
              <a:rPr b="0" lang="en-US" sz="2100" spc="-1" strike="noStrike">
                <a:solidFill>
                  <a:srgbClr val="0f6fc6"/>
                </a:solidFill>
                <a:latin typeface="Tw Cen MT"/>
              </a:rPr>
              <a:t>PageClass(Course,p1) ^ Linked(p1,p2) =&gt; PageClass(Faculty,p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CDAD-1ECA-4B8E-BA9E-AEE85B9763C4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Inference in MLNs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0456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MAP/MPE inference: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find the most likely state of a set of query atoms given the evide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axWalkSAT algorithm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Kautz et al., 1997]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Cutting Plane Inference algorithm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Riedel, 2008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omputing the marginal conditional probability of a set of query atoms: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(y|x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C-SAT algorithm 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Poon &amp; Domingos, 2006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ifted first-order belief propagation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Singla &amp; Domingos, 2008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2"/>
              <p:cNvSpPr txBox="1"/>
              <p:nvPr/>
            </p:nvSpPr>
            <p:spPr>
              <a:xfrm>
                <a:off x="2865600" y="2496960"/>
                <a:ext cx="3263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7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8C64-113C-4D7A-9AD3-77B3E1B40CD6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Existing weight learning methods in MLNs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Generative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: maximize the Pseudo-Log Likelihood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Richardson &amp; Domingos, 2006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Discriminative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: maximize the Conditional Log Likelihood (CLL)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55a839"/>
                </a:solidFill>
                <a:latin typeface="Tw Cen MT"/>
              </a:rPr>
              <a:t>[Singla &amp; Domingos, 2005], [Lowd &amp; Domingos, 2007], [Huynh &amp; Mooney, 2008</a:t>
            </a:r>
            <a:r>
              <a:rPr b="0" lang="en-US" sz="1800" spc="-1" strike="noStrike">
                <a:solidFill>
                  <a:srgbClr val="55a839"/>
                </a:solidFill>
                <a:latin typeface="Tw Cen MT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DCF4-41D2-48E6-938D-300BA01D3E52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Generic Strutural SVMs</a:t>
            </a:r>
            <a:r>
              <a:rPr b="0" lang="en-US" sz="1800" spc="-1" strike="noStrike">
                <a:solidFill>
                  <a:srgbClr val="55a839"/>
                </a:solidFill>
                <a:latin typeface="Tw Cen MT"/>
              </a:rPr>
              <a:t>[Tsochantaridis et.al., 2004]</a:t>
            </a: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2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79AA-C64E-4AA3-B028-8B2A1B749FF4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12720" y="15998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arn a discriminant function f: </a:t>
            </a:r>
            <a:r>
              <a:rPr b="1" lang="en-US" sz="2900" spc="-1" strike="noStrike">
                <a:solidFill>
                  <a:srgbClr val="000000"/>
                </a:solidFill>
                <a:latin typeface="Cambria Math"/>
                <a:ea typeface="Cambria Math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x </a:t>
            </a:r>
            <a:r>
              <a:rPr b="1" lang="en-US" sz="2900" spc="-1" strike="noStrike">
                <a:solidFill>
                  <a:srgbClr val="000000"/>
                </a:solidFill>
                <a:latin typeface="Cambria Math"/>
                <a:ea typeface="Cambria Math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900" spc="-1" strike="noStrike">
                <a:solidFill>
                  <a:srgbClr val="000000"/>
                </a:solidFill>
                <a:latin typeface="Cambria Math"/>
                <a:ea typeface="Cambria Math"/>
              </a:rPr>
              <a:t>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Cambria Math"/>
              </a:rPr>
              <a:t>Predict for a given input x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Cambria Math"/>
              </a:rPr>
              <a:t>Maximize the separation margi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Cambria Math"/>
              </a:rPr>
              <a:t>Can be formulated as a quadratic optimization probl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Object 2"/>
              <p:cNvSpPr txBox="1"/>
              <p:nvPr/>
            </p:nvSpPr>
            <p:spPr>
              <a:xfrm>
                <a:off x="2220840" y="4300560"/>
                <a:ext cx="4943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Y</m:t>
                        </m:r>
                      </m:lim>
                    </m:limLow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Object 2"/>
              <p:cNvSpPr txBox="1"/>
              <p:nvPr/>
            </p:nvSpPr>
            <p:spPr>
              <a:xfrm>
                <a:off x="3197160" y="2209680"/>
                <a:ext cx="28148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6"/>
              <p:cNvSpPr txBox="1"/>
              <p:nvPr/>
            </p:nvSpPr>
            <p:spPr>
              <a:xfrm>
                <a:off x="2795760" y="3162240"/>
                <a:ext cx="34732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Y</m:t>
                        </m:r>
                      </m:lim>
                    </m:limLow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20:34:32Z</dcterms:created>
  <dc:creator>Tuyen Ngoc Huynh</dc:creator>
  <dc:description/>
  <dc:language>en-US</dc:language>
  <cp:lastModifiedBy>Tuyen Ngoc Huynh</cp:lastModifiedBy>
  <dcterms:modified xsi:type="dcterms:W3CDTF">2009-11-07T22:30:01Z</dcterms:modified>
  <cp:revision>812</cp:revision>
  <dc:subject/>
  <dc:title>Discriminative Structure and Parameter Learning for Markov Logic Networks</dc:title>
</cp:coreProperties>
</file>