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dt" idx="3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ftr" idx="3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 type="sldNum" idx="3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5ACB-5DA6-413B-866B-4E27F9128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4D4F-9F87-4941-8683-847740879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B4CB-7A7B-410A-8A67-544416F9C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7B4D-B9BA-4B31-9C5A-BCC20FFBB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681E-511B-4065-9803-240D7AC25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AE24-71C7-4DF1-9DB8-E98922202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D074-F2D2-4F4B-B981-762A5C982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5D5B-8E22-4A8F-B536-688E92338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808D-F3D1-4314-97C8-5D1FC69D5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AAAE-A526-43B2-A1DC-600DDBC49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547D-788B-4398-8A45-02F886A73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8C8D-6278-4F89-847C-7FC50C3C3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0125-64D2-48DD-B8B4-BC4C3921D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9EEA-B6B7-4D10-B060-DC5CC9E9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1A5234-ED73-465F-A909-9A4E671E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96A528-0D83-4BAA-91FB-222ADC3D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E55DCF-6EED-42EB-8483-EABF61B9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D1B7AD-BFDC-4C8F-928B-215D9D66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3172B2-8E9E-4245-AE92-5CFFB1DE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A129AF-85C7-4BF7-BF12-4833B35C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4AF266-2BEF-4B2F-AA16-AE24A285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0378F3-D757-4197-84E4-11AA7348B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0F9EF9-2A8C-4B50-99CA-A9B874115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ACA7DE-8E5B-4D89-A5A8-1E9E22D69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1162-7B92-411B-BE5C-B5B669B5A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F90BA2-128B-4214-BCC3-7141FA5B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71A3B2-EE63-414B-87A3-D4551E10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EDEBA3-9242-4E22-8C6E-F60BC693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CB1584-0C31-4DD1-A963-2592B307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16F000-5BAC-450A-B3AE-E4E2549A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367032-EB1F-4C08-940F-3073958A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D0193C-8FF4-46FA-8F02-F8D09F76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802FF5-54B0-4313-AB6F-384D330A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40DE35-D1EE-4C8E-8F02-637ABCEC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D1428C-ABA4-4161-A0EA-0DD34C494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184A-0BBB-46A3-8A75-03F10E27D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303D9E-F3C5-449F-8B8C-51296FCFA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72AF9-6D44-4D92-B0A5-19F5B04A6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0571-3CC8-478A-B2F0-F2E7529D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728A2-B138-4ED3-9EC5-3335EDEC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A908-2A40-4F3B-99B4-F2F191C5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88E6-FA55-412B-93B2-974EEA87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5412-E1DF-415F-9427-6041AF6A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C118-54DA-483F-A4CE-B4BF3EA9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464B-4D0E-4F73-A5C1-1695582C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AEB4-BFE4-4D92-A535-96BA8FD8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74F4D-D5E1-43B6-A31E-998E181F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A320-AA57-4E40-B755-6FA6694D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886A-5681-44D5-934B-2DFF100D1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0141-E2B6-4891-AC5C-FC7C37174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9A0F0A-2767-4DEF-B538-46DE5D69D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A815C4-3F0B-4A69-8D49-BCDCF276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243C81-7478-40D6-A05A-A8B1B147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379C39-55B7-477B-8769-045E1C23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DFC09B-9E7D-4176-9EE3-96CC1F6D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3413-2B2F-4EF5-B40C-889F7D6D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48FFD3-E416-47F4-AA25-CC3FDC4B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5A2FB9-66FA-4E89-A8B1-EF56FE82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7ECB3D-5F90-4FE7-9470-7D1D9B27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AEE691-124E-4EE5-A059-1BB2FAA5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D6FE20-0B74-4564-9551-F86D3267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0A761B-69C0-4254-84F8-C6A6A945A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88C5DD-B5EE-48C9-8757-5099387A4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FBB970-8E7A-4326-95D4-AACDCB66E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41F595-4F70-4EE6-8D55-B2F2A101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7C38B9-2F7A-43F0-A100-DEB82F18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0C51-FECE-488D-9F8F-774A9600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60C4FB-E3A7-4632-ABA0-3A6936A4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543C75-472E-428C-B14E-CCF619DB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C1AEE6-ACF5-4982-874E-A4607185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7F8893-AB94-429B-9FE5-87546DA7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3FA8D5-D5B0-494B-82B9-B19F0DD8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25E47D-2A87-4634-BFD0-EF8C6E7B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4E850A-25B6-46C0-9CF7-8945461C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809689-F3CD-46C0-A8C9-ABC203824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8E6DE7-ABF7-485A-819F-2422ACBAE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B9DD66-B742-4853-A3DC-FE0BE530C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B59E-4BFB-4D69-A9AA-AB280C0D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0691EA-1F51-48D4-B8CF-45154690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CA34BD-F12F-496B-A909-2C0572E0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BE7162-7BCE-46A9-B101-D2291342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347BDE-A650-475A-86D3-C632CCFC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FB13C6-57D6-4C61-99B8-9E0A338D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AE94A7-05E2-45B5-8CB1-0E351B68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A1DC55-F8FF-4A49-8B90-95AA5625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B04AA4-6D5B-49D9-9079-497F12F5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DC2780-F686-478E-950A-5F78F065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D80EDE-A8A4-4984-82E0-DE3D88D98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A83B-1B57-44CD-B1A9-7F5CB3FD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F8D282-A00A-4AF8-99A1-8BDFA3B17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6F8A5-12FF-4B2F-96ED-0D7EEDE92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14E38-EE66-4107-9F04-BA058CB8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88BAD-D755-4C74-B248-6195150E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6237A-FCAC-42F8-AC3F-F57E183B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596E3-8E60-4A8D-96F5-58DA8018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52736-B5F1-426E-BA85-AE60A13A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64E3E-33F4-483A-BBF7-6D92679A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B35EE-CAD7-4D54-8338-A263A0EA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FF294-EB60-4C45-8AAD-07482268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B963-6B28-45DE-8488-EDE2BE7E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28B4D-E59A-4D5E-B417-0DF3CDB5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0F636-1E94-4FB3-A954-56FFDCDFD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16AF1-1B98-49A9-A500-7D036D66C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EDCE8-D2A5-4881-95BD-4362AD54A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14999-1818-4AEC-A962-91E1A4DB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8DFE5-7678-43BD-879E-FC2D2DBB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6FEA7-A427-47AC-8B7E-FC512E5C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EB9BE-8FE1-4BF1-8F65-1E0922C6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56F62-540B-4BF4-8C3E-1CB84A24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EA881-F0D1-4A97-93E8-3B296E66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2FB5-0463-499F-8822-7D4198C9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F9645-8618-4C56-B168-6B7E2335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70664-206F-4D02-81B2-FA6D4DA0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AA716-C507-4F7C-8E4A-38625334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E3DFF-2B7C-4AE9-BE79-7CABFF9EE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89C10-1248-4E71-AC9D-B7F132794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9FC142-5465-48B1-9106-D6516997F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C9BD12-E62F-4B39-8CB6-5715974D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33514A-7D0F-4214-AE77-824D9BF0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5939B2-1BF5-44F7-B0B8-F0D2162B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B233D3-1406-4FA0-9168-CDDEFA53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1686-C28C-46F8-9987-C33BFFB6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4EC829-74CE-48BB-BBA7-F0A8DF3B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347555-3777-485B-885C-530DA19E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084C43-9534-4D56-90FC-0A758069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4470B1-3030-4911-A6D4-AB295EF5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FA4FDF-095E-46C6-A4B1-5CD13137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F706AE-83AC-4AAC-8F57-D374D1E15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A9D1FD-1D2A-43A0-AC6D-CC00E817F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B81D28-B248-4118-8302-7D6B5920C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35EE87-E7C7-473B-9529-8899B754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D8279A-BC7E-4044-ADF5-82967D20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9216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FC93-6AEF-4B39-ADF0-50F05AA97C5A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963B-34D5-4CB4-962C-CAEA9E0EC293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33AA-B420-4D15-955D-EB2B84ABCB44}" type="slidenum">
              <a:rPr b="1" lang="en-US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F9E3-286F-4027-9200-73151E26D6F9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9216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6B7E-F7F5-449E-8891-3A63E5FC8903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9216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4009-F657-4F21-B553-2E76F452A236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3045-E4AB-4B7D-B1A5-72C4503D1C2A}" type="slidenum">
              <a:rPr b="1" lang="en-US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1279440"/>
            <a:ext cx="53352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590400" y="1279440"/>
            <a:ext cx="8553600" cy="9216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8D4C-18D6-48DC-8B64-86CD7532270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23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CEFC-89DE-47D8-83E3-4790177221D7}" type="slidenum">
              <a:rPr b="1" lang="en-US" sz="28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24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0" y="1279440"/>
            <a:ext cx="53352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590400" y="1279440"/>
            <a:ext cx="8553600" cy="9216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B591-C6D1-4BC0-A2C2-CAF90D630B02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Tw Cen MT"/>
              </a:rPr>
              <a:t>Max-Margin Weight Learning </a:t>
            </a:r>
            <a:br>
              <a:rPr sz="3200"/>
            </a:br>
            <a:r>
              <a:rPr b="1" lang="en-US" sz="3200" spc="-1" strike="noStrike">
                <a:solidFill>
                  <a:srgbClr val="04617b"/>
                </a:solidFill>
                <a:latin typeface="Tw Cen MT"/>
              </a:rPr>
              <a:t>for Markov Logic Networks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371600" y="281916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6fc6"/>
                </a:solidFill>
                <a:latin typeface="Tw Cen MT"/>
              </a:rPr>
              <a:t>Tuyen N. Huynh and Raymond J. Moone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Text Box 5"/>
          <p:cNvSpPr/>
          <p:nvPr/>
        </p:nvSpPr>
        <p:spPr>
          <a:xfrm>
            <a:off x="2745000" y="3733920"/>
            <a:ext cx="384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Times New Roman"/>
                <a:ea typeface="华文仿宋"/>
              </a:rPr>
              <a:t>Machine Learning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Times New Roman"/>
                <a:ea typeface="华文仿宋"/>
              </a:rPr>
              <a:t>Department of Computer Sc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Times New Roman"/>
                <a:ea typeface="华文仿宋"/>
              </a:rPr>
              <a:t>The University of Texas at Aust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Box 4"/>
          <p:cNvSpPr/>
          <p:nvPr/>
        </p:nvSpPr>
        <p:spPr>
          <a:xfrm>
            <a:off x="2759400" y="5334120"/>
            <a:ext cx="36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6fc6"/>
                </a:solidFill>
                <a:latin typeface="Times New Roman"/>
              </a:rPr>
              <a:t>ECML-PKDD-2009, Bled, Slove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Generic Strutural SVMs (cont.)</a:t>
            </a:r>
            <a:r>
              <a:rPr b="0" lang="en-US" sz="4400" spc="-1" strike="noStrike">
                <a:solidFill>
                  <a:srgbClr val="55a839"/>
                </a:solidFill>
                <a:latin typeface="Tw Cen MT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88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EEC5-A318-4594-AE2C-CA8D00A6DFED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55a839"/>
                </a:solidFill>
                <a:latin typeface="Tw Cen MT"/>
              </a:rPr>
              <a:t>[Joachims et.al., 2009]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oposed the 1-slack formulation of the Structural SVM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ke the original cutting-plane algorithm </a:t>
            </a:r>
            <a:r>
              <a:rPr b="0" lang="en-US" sz="2900" spc="-1" strike="noStrike">
                <a:solidFill>
                  <a:srgbClr val="55a839"/>
                </a:solidFill>
                <a:latin typeface="Tw Cen MT"/>
              </a:rPr>
              <a:t>[Tsochantaridis et.al., 2004]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run faster and more scalabl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Object 2"/>
              <p:cNvSpPr txBox="1"/>
              <p:nvPr/>
            </p:nvSpPr>
            <p:spPr>
              <a:xfrm>
                <a:off x="254160" y="2590920"/>
                <a:ext cx="879444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,</m:t>
                            </m:r>
                            <m:r>
                              <m:t xml:space="preserve">ξ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Cξ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: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[</m:t>
                            </m:r>
                            <m:r>
                              <m:t xml:space="preserve">Φ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Φ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e>
                        </m:nary>
                        <m:r>
                          <m:t xml:space="preserve">≥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−</m:t>
                        </m:r>
                        <m:r>
                          <m:t xml:space="preserve">ξ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91" name="Oval 5"/>
          <p:cNvSpPr/>
          <p:nvPr/>
        </p:nvSpPr>
        <p:spPr>
          <a:xfrm>
            <a:off x="2085840" y="2819520"/>
            <a:ext cx="381240" cy="380880"/>
          </a:xfrm>
          <a:prstGeom prst="ellipse">
            <a:avLst/>
          </a:prstGeom>
          <a:noFill/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Oval 6"/>
          <p:cNvSpPr/>
          <p:nvPr/>
        </p:nvSpPr>
        <p:spPr>
          <a:xfrm>
            <a:off x="1066680" y="3429000"/>
            <a:ext cx="1295640" cy="762120"/>
          </a:xfrm>
          <a:prstGeom prst="ellipse">
            <a:avLst/>
          </a:prstGeom>
          <a:noFill/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Oval 7"/>
          <p:cNvSpPr/>
          <p:nvPr/>
        </p:nvSpPr>
        <p:spPr>
          <a:xfrm>
            <a:off x="8721720" y="3657600"/>
            <a:ext cx="380880" cy="380880"/>
          </a:xfrm>
          <a:prstGeom prst="ellipse">
            <a:avLst/>
          </a:prstGeom>
          <a:noFill/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Tw Cen MT"/>
              </a:rPr>
              <a:t>Cutting plane algorithm for solving the structural SVMs</a:t>
            </a:r>
            <a:endParaRPr b="0" lang="en-US" sz="2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4343400"/>
            <a:ext cx="4038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tructural SVM Proble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Exponential constrain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Most are dominated by a small set of “important” constrain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48320" y="4343400"/>
            <a:ext cx="403848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utting plane algorith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epeatedly finds the next most violated constraint…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until cannot find any new constrain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97" name="Picture 15" descr="constraints"/>
          <p:cNvPicPr/>
          <p:nvPr/>
        </p:nvPicPr>
        <p:blipFill>
          <a:blip r:embed="rId1"/>
          <a:stretch/>
        </p:blipFill>
        <p:spPr>
          <a:xfrm>
            <a:off x="609480" y="1504800"/>
            <a:ext cx="3581640" cy="268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8" name="TextBox 4"/>
          <p:cNvSpPr/>
          <p:nvPr/>
        </p:nvSpPr>
        <p:spPr>
          <a:xfrm>
            <a:off x="181440" y="6335640"/>
            <a:ext cx="3359880" cy="4597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Slide credit: Yisong Y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Picture 16" descr="cutting_plane"/>
          <p:cNvPicPr/>
          <p:nvPr/>
        </p:nvPicPr>
        <p:blipFill>
          <a:blip r:embed="rId2"/>
          <a:stretch/>
        </p:blipFill>
        <p:spPr>
          <a:xfrm>
            <a:off x="4800600" y="1504800"/>
            <a:ext cx="3581280" cy="268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0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45E5-7594-440B-9424-8CEC55BF778E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Tw Cen MT"/>
              </a:rPr>
              <a:t>Cutting plane algorithm for solving the 1-slack SVMs</a:t>
            </a:r>
            <a:endParaRPr b="0" lang="en-US" sz="2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4343400"/>
            <a:ext cx="4038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tructural SVM Proble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Exponential constrain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Most are dominated by a small set of “important” constrain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48320" y="4343400"/>
            <a:ext cx="403848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utting plane algorith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epeatedly finds the next most violated constraint…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until cannot find any new constrain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04" name="Picture 15" descr="constraints"/>
          <p:cNvPicPr/>
          <p:nvPr/>
        </p:nvPicPr>
        <p:blipFill>
          <a:blip r:embed="rId1"/>
          <a:stretch/>
        </p:blipFill>
        <p:spPr>
          <a:xfrm>
            <a:off x="609480" y="1504800"/>
            <a:ext cx="3581640" cy="268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5" name="TextBox 4"/>
          <p:cNvSpPr/>
          <p:nvPr/>
        </p:nvSpPr>
        <p:spPr>
          <a:xfrm>
            <a:off x="181440" y="6335640"/>
            <a:ext cx="3359880" cy="4597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Slide credit: Yisong Y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Picture 16" descr="cutting_plane"/>
          <p:cNvPicPr/>
          <p:nvPr/>
        </p:nvPicPr>
        <p:blipFill>
          <a:blip r:embed="rId2"/>
          <a:stretch/>
        </p:blipFill>
        <p:spPr>
          <a:xfrm>
            <a:off x="4800600" y="1504800"/>
            <a:ext cx="3581280" cy="268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7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B968-5424-4AAC-B29F-53277BF5884E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Tw Cen MT"/>
              </a:rPr>
              <a:t>Cutting plane algorithm for solving the 1-slack SVMs</a:t>
            </a:r>
            <a:endParaRPr b="0" lang="en-US" sz="2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4343400"/>
            <a:ext cx="4038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tructural SVM Proble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Exponential constrain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Most are dominated by a small set of “important” constrain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48320" y="4343400"/>
            <a:ext cx="403848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utting plane algorith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epeatedly finds the next most violated constraint…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until cannot find any new constrain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11" name="Picture 15" descr="constraints"/>
          <p:cNvPicPr/>
          <p:nvPr/>
        </p:nvPicPr>
        <p:blipFill>
          <a:blip r:embed="rId1"/>
          <a:stretch/>
        </p:blipFill>
        <p:spPr>
          <a:xfrm>
            <a:off x="609480" y="1504800"/>
            <a:ext cx="3581640" cy="268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2" name="TextBox 4"/>
          <p:cNvSpPr/>
          <p:nvPr/>
        </p:nvSpPr>
        <p:spPr>
          <a:xfrm>
            <a:off x="181440" y="6335640"/>
            <a:ext cx="3359880" cy="4597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Slide credit: Yisong Y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Picture 16" descr="cutting_plane"/>
          <p:cNvPicPr/>
          <p:nvPr/>
        </p:nvPicPr>
        <p:blipFill>
          <a:blip r:embed="rId2"/>
          <a:stretch/>
        </p:blipFill>
        <p:spPr>
          <a:xfrm>
            <a:off x="4800600" y="1504800"/>
            <a:ext cx="3581280" cy="268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4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91D9-BAD5-4753-8427-A13F1A1ACD5A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Tw Cen MT"/>
              </a:rPr>
              <a:t>Cutting plane algorithm for solving the 1-slack SVMs</a:t>
            </a:r>
            <a:endParaRPr b="0" lang="en-US" sz="2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4343400"/>
            <a:ext cx="4038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tructural SVM Proble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Exponential constrain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Most are dominated by a small set of “important” constrain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48320" y="4343400"/>
            <a:ext cx="403848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utting plane algorith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epeatedly finds the next most violated constraint…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until cannot find any new constrain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18" name="Picture 15" descr="constraints"/>
          <p:cNvPicPr/>
          <p:nvPr/>
        </p:nvPicPr>
        <p:blipFill>
          <a:blip r:embed="rId1"/>
          <a:stretch/>
        </p:blipFill>
        <p:spPr>
          <a:xfrm>
            <a:off x="609480" y="1504800"/>
            <a:ext cx="3581640" cy="268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9" name="Picture 16" descr="cutting_plane"/>
          <p:cNvPicPr/>
          <p:nvPr/>
        </p:nvPicPr>
        <p:blipFill>
          <a:blip r:embed="rId2"/>
          <a:stretch/>
        </p:blipFill>
        <p:spPr>
          <a:xfrm>
            <a:off x="4800600" y="1504800"/>
            <a:ext cx="3581280" cy="268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0" name="TextBox 4"/>
          <p:cNvSpPr/>
          <p:nvPr/>
        </p:nvSpPr>
        <p:spPr>
          <a:xfrm>
            <a:off x="181440" y="6335640"/>
            <a:ext cx="3359880" cy="4597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Slide credit: Yisong Y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554B-E4E1-4B89-B660-F946B2024213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w Cen MT"/>
              </a:rPr>
              <a:t>Applying the generic structural SVMs to a new problem</a:t>
            </a:r>
            <a:endParaRPr b="0" lang="en-US" sz="28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23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1142-5E1A-483F-851B-F9B032B89A4E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presentation: </a:t>
            </a:r>
            <a:r>
              <a:rPr b="0" lang="el-GR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oss function: </a:t>
            </a:r>
            <a:r>
              <a:rPr b="0" lang="el-GR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Algorithms to comput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ediction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ost violated constraint: separation oracle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Tsochantaridis et.al., 2004]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or l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oss-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ugmented inference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Taskar et.al.,2005]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Object 5"/>
              <p:cNvSpPr txBox="1"/>
              <p:nvPr/>
            </p:nvSpPr>
            <p:spPr>
              <a:xfrm>
                <a:off x="1400040" y="3736800"/>
                <a:ext cx="347688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sub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Object 5"/>
              <p:cNvSpPr txBox="1"/>
              <p:nvPr/>
            </p:nvSpPr>
            <p:spPr>
              <a:xfrm>
                <a:off x="2112840" y="5640480"/>
                <a:ext cx="428796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Y</m:t>
                        </m:r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Box 5"/>
          <p:cNvSpPr/>
          <p:nvPr/>
        </p:nvSpPr>
        <p:spPr>
          <a:xfrm>
            <a:off x="315000" y="2895480"/>
            <a:ext cx="87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dd9"/>
                </a:solidFill>
                <a:latin typeface="Times New Roman"/>
              </a:rPr>
              <a:t>Max-Margin Markov Logic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C66E-BE5D-4BE7-8C25-980F3064CDAD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8"/>
          <p:cNvSpPr/>
          <p:nvPr/>
        </p:nvSpPr>
        <p:spPr>
          <a:xfrm>
            <a:off x="3224160" y="4876920"/>
            <a:ext cx="838080" cy="304560"/>
          </a:xfrm>
          <a:prstGeom prst="rect">
            <a:avLst/>
          </a:prstGeom>
          <a:solidFill>
            <a:srgbClr val="009dd9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9"/>
          <p:cNvSpPr/>
          <p:nvPr/>
        </p:nvSpPr>
        <p:spPr>
          <a:xfrm>
            <a:off x="5268960" y="4876920"/>
            <a:ext cx="838080" cy="304560"/>
          </a:xfrm>
          <a:prstGeom prst="rect">
            <a:avLst/>
          </a:prstGeom>
          <a:solidFill>
            <a:srgbClr val="009dd9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Object 5"/>
              <p:cNvSpPr txBox="1"/>
              <p:nvPr/>
            </p:nvSpPr>
            <p:spPr>
              <a:xfrm>
                <a:off x="1432080" y="4267080"/>
                <a:ext cx="4740120" cy="11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∈</m:t>
                            </m:r>
                            <m:r>
                              <m:t xml:space="preserve">Y</m:t>
                            </m:r>
                          </m:lim>
                        </m:limLow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2" name=""/>
          <p:cNvSpPr txBox="1"/>
          <p:nvPr/>
        </p:nvSpPr>
        <p:spPr>
          <a:xfrm>
            <a:off x="61272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ximize the ratio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quivalent to maximize the separation margi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an be formulated as a 1-slack Structural SVM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Formulation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34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8026-1333-47CF-BB97-3213B8C314E5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5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Object 3"/>
              <p:cNvSpPr txBox="1"/>
              <p:nvPr/>
            </p:nvSpPr>
            <p:spPr>
              <a:xfrm>
                <a:off x="2755800" y="2108160"/>
                <a:ext cx="358308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Object 4"/>
              <p:cNvSpPr txBox="1"/>
              <p:nvPr/>
            </p:nvSpPr>
            <p:spPr>
              <a:xfrm>
                <a:off x="3048120" y="3200400"/>
                <a:ext cx="30621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∈</m:t>
                        </m:r>
                        <m:r>
                          <m:t xml:space="preserve">Y</m:t>
                        </m:r>
                      </m:sub>
                    </m:sSub>
                    <m:r>
                      <m:t xml:space="preserve">P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8" name="Flowchart: Process 10"/>
          <p:cNvSpPr/>
          <p:nvPr/>
        </p:nvSpPr>
        <p:spPr>
          <a:xfrm>
            <a:off x="6386400" y="4785120"/>
            <a:ext cx="2590920" cy="488160"/>
          </a:xfrm>
          <a:prstGeom prst="flowChartProcess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Joint feature: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x,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Content Placeholder 3"/>
          <p:cNvSpPr/>
          <p:nvPr/>
        </p:nvSpPr>
        <p:spPr>
          <a:xfrm>
            <a:off x="612720" y="1430280"/>
            <a:ext cx="815328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PE inference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oss-augmented MPE inference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Tw Cen MT"/>
              </a:rPr>
              <a:t>Problem: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xact MPE inference in MLNs are intractab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c00"/>
                </a:solidFill>
                <a:latin typeface="Tw Cen MT"/>
              </a:rPr>
              <a:t>Solution: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pproximation inference via relaxation methods </a:t>
            </a:r>
            <a:r>
              <a:rPr b="0" lang="en-US" sz="2900" spc="-1" strike="noStrike">
                <a:solidFill>
                  <a:srgbClr val="55a839"/>
                </a:solidFill>
                <a:latin typeface="Tw Cen MT"/>
              </a:rPr>
              <a:t>[Finley et.al.,2008]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Problems need to be solved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41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BFB5-5E3D-400C-9FF6-C9D489FE8EFE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Object 2"/>
              <p:cNvSpPr txBox="1"/>
              <p:nvPr/>
            </p:nvSpPr>
            <p:spPr>
              <a:xfrm>
                <a:off x="2384280" y="3200400"/>
                <a:ext cx="41688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y</m:t>
                        </m:r>
                        <m:r>
                          <m:t xml:space="preserve">'</m:t>
                        </m:r>
                        <m:r>
                          <m:t xml:space="preserve">∈</m:t>
                        </m:r>
                        <m:r>
                          <m:t xml:space="preserve">Y</m:t>
                        </m:r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Object 3"/>
              <p:cNvSpPr txBox="1"/>
              <p:nvPr/>
            </p:nvSpPr>
            <p:spPr>
              <a:xfrm>
                <a:off x="2406600" y="2006640"/>
                <a:ext cx="32320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'</m:t>
                        </m:r>
                        <m:r>
                          <m:t xml:space="preserve">∈</m:t>
                        </m:r>
                        <m:r>
                          <m:t xml:space="preserve">Y</m:t>
                        </m:r>
                      </m:sub>
                    </m:sSub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53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w Cen MT"/>
              </a:rPr>
              <a:t>Relaxation MPE inference for MLNs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45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DC62-C2A2-42C3-AE8E-E426BD0892A5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Many work on approximating the Weighted MAX-SAT via Linear Programming (LP) relaxation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Goemans and Williamson, 1994], [Asano and Williamson, 2002], [Asano, 2006]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Convert the problem into an Integer Linear Programming (ILP) problem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Relax the integer constraints to linear constraint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Round the LP solution by some randomized procedure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w Cen MT"/>
              </a:rPr>
              <a:t>Assume the weights are finite and positiv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w Cen MT"/>
              </a:rPr>
              <a:t>Motivation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61272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rkov Logic Network (MLN) combining probability and first-order logic is an expressive formalism which subsumes other SRL mode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ll of the existing training methods for MLNs learn a model that produce good predictive probabiliti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8C1C-C742-4910-B0A9-C995F7D40D65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53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w Cen MT"/>
              </a:rPr>
              <a:t>Relaxation MPE inference for MLNs (cont.)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48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101F-2DDE-4464-BE7C-EBC5E1649A6F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ranslate the MPE inference in a ground MLN into an Integer Linear Programming (ILP) problem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nvert all the ground clauses into clausal form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ssign a binary variable </a:t>
            </a:r>
            <a:r>
              <a:rPr b="0" i="1" lang="en-US" sz="2600" spc="-1" strike="noStrike">
                <a:solidFill>
                  <a:srgbClr val="000000"/>
                </a:solidFill>
                <a:latin typeface="Tw Cen MT"/>
              </a:rPr>
              <a:t>y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w Cen MT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to each unknown ground atom and a binary variable </a:t>
            </a:r>
            <a:r>
              <a:rPr b="0" i="1" lang="en-US" sz="2600" spc="-1" strike="noStrike">
                <a:solidFill>
                  <a:srgbClr val="000000"/>
                </a:solidFill>
                <a:latin typeface="Tw Cen MT"/>
              </a:rPr>
              <a:t>z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w Cen MT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to each non-deterministic ground claus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ranslate each ground clause into linear constraints of </a:t>
            </a:r>
            <a:r>
              <a:rPr b="0" i="1" lang="en-US" sz="2600" spc="-1" strike="noStrike">
                <a:solidFill>
                  <a:srgbClr val="000000"/>
                </a:solidFill>
                <a:latin typeface="Tw Cen MT"/>
              </a:rPr>
              <a:t>y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w Cen MT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’s and </a:t>
            </a:r>
            <a:r>
              <a:rPr b="0" i="1" lang="en-US" sz="2600" spc="-1" strike="noStrike">
                <a:solidFill>
                  <a:srgbClr val="000000"/>
                </a:solidFill>
                <a:latin typeface="Tw Cen MT"/>
              </a:rPr>
              <a:t>z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w Cen MT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’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0"/>
          <p:cNvSpPr/>
          <p:nvPr/>
        </p:nvSpPr>
        <p:spPr>
          <a:xfrm>
            <a:off x="6705720" y="5562720"/>
            <a:ext cx="1447560" cy="304560"/>
          </a:xfrm>
          <a:prstGeom prst="rect">
            <a:avLst/>
          </a:prstGeom>
          <a:noFill/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18"/>
          <p:cNvSpPr/>
          <p:nvPr/>
        </p:nvSpPr>
        <p:spPr>
          <a:xfrm>
            <a:off x="152280" y="4267080"/>
            <a:ext cx="5486400" cy="1067040"/>
          </a:xfrm>
          <a:prstGeom prst="rect">
            <a:avLst/>
          </a:prstGeom>
          <a:solidFill>
            <a:srgbClr val="ff000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19"/>
          <p:cNvSpPr/>
          <p:nvPr/>
        </p:nvSpPr>
        <p:spPr>
          <a:xfrm>
            <a:off x="6705720" y="4267080"/>
            <a:ext cx="2209680" cy="1219320"/>
          </a:xfrm>
          <a:prstGeom prst="rect">
            <a:avLst/>
          </a:prstGeom>
          <a:solidFill>
            <a:srgbClr val="ff000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15"/>
          <p:cNvSpPr/>
          <p:nvPr/>
        </p:nvSpPr>
        <p:spPr>
          <a:xfrm>
            <a:off x="141120" y="3400560"/>
            <a:ext cx="5410440" cy="380880"/>
          </a:xfrm>
          <a:prstGeom prst="rect">
            <a:avLst/>
          </a:prstGeom>
          <a:solidFill>
            <a:srgbClr val="ffff0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16"/>
          <p:cNvSpPr/>
          <p:nvPr/>
        </p:nvSpPr>
        <p:spPr>
          <a:xfrm>
            <a:off x="6705720" y="3429000"/>
            <a:ext cx="1218960" cy="762120"/>
          </a:xfrm>
          <a:prstGeom prst="rect">
            <a:avLst/>
          </a:prstGeom>
          <a:solidFill>
            <a:srgbClr val="ffff0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17"/>
          <p:cNvSpPr/>
          <p:nvPr/>
        </p:nvSpPr>
        <p:spPr>
          <a:xfrm>
            <a:off x="8129520" y="2479680"/>
            <a:ext cx="304920" cy="304920"/>
          </a:xfrm>
          <a:prstGeom prst="rect">
            <a:avLst/>
          </a:prstGeom>
          <a:solidFill>
            <a:srgbClr val="ffff0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11"/>
          <p:cNvSpPr/>
          <p:nvPr/>
        </p:nvSpPr>
        <p:spPr>
          <a:xfrm>
            <a:off x="152280" y="3065400"/>
            <a:ext cx="5639040" cy="304920"/>
          </a:xfrm>
          <a:prstGeom prst="rect">
            <a:avLst/>
          </a:prstGeom>
          <a:solidFill>
            <a:srgbClr val="00cc0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12"/>
          <p:cNvSpPr/>
          <p:nvPr/>
        </p:nvSpPr>
        <p:spPr>
          <a:xfrm>
            <a:off x="6705720" y="3048120"/>
            <a:ext cx="1295280" cy="304560"/>
          </a:xfrm>
          <a:prstGeom prst="rect">
            <a:avLst/>
          </a:prstGeom>
          <a:solidFill>
            <a:srgbClr val="00cc0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14"/>
          <p:cNvSpPr/>
          <p:nvPr/>
        </p:nvSpPr>
        <p:spPr>
          <a:xfrm>
            <a:off x="7326360" y="2490840"/>
            <a:ext cx="533520" cy="304920"/>
          </a:xfrm>
          <a:prstGeom prst="rect">
            <a:avLst/>
          </a:prstGeom>
          <a:solidFill>
            <a:srgbClr val="00cc0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8"/>
          <p:cNvSpPr/>
          <p:nvPr/>
        </p:nvSpPr>
        <p:spPr>
          <a:xfrm>
            <a:off x="152280" y="2514600"/>
            <a:ext cx="2743200" cy="304920"/>
          </a:xfrm>
          <a:prstGeom prst="rect">
            <a:avLst/>
          </a:prstGeom>
          <a:solidFill>
            <a:srgbClr val="00b0f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10"/>
          <p:cNvSpPr/>
          <p:nvPr/>
        </p:nvSpPr>
        <p:spPr>
          <a:xfrm>
            <a:off x="6705720" y="2490840"/>
            <a:ext cx="380880" cy="304920"/>
          </a:xfrm>
          <a:prstGeom prst="rect">
            <a:avLst/>
          </a:prstGeom>
          <a:solidFill>
            <a:srgbClr val="00b0f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4617b"/>
                </a:solidFill>
                <a:latin typeface="Tw Cen MT"/>
              </a:rPr>
              <a:t>Relaxation MPE inference for MLNs (cont.)</a:t>
            </a:r>
            <a:endParaRPr b="0" lang="en-US" sz="3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62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10EF-7C75-49C7-9AB0-EF9554E93CAC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Box 6"/>
          <p:cNvSpPr/>
          <p:nvPr/>
        </p:nvSpPr>
        <p:spPr>
          <a:xfrm>
            <a:off x="88920" y="2438280"/>
            <a:ext cx="5778360" cy="3505320"/>
          </a:xfrm>
          <a:prstGeom prst="rect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InField(B1,Fauthor,P0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5 InField(B1,Fauthor,P01) v InField(B1,Fvenue,P0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 InField(B1,Ftitle,P01) v InField(B1,Fvenue,P0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!InField(B1,Fauthor,P01) v !InField(a1,Ftitle,P0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!InField(B1,Fauthor,P01) v !InField(a1,Fvenue,P0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!InField(B1,Ftitle,P01) v !InField(a1,Fvenue,P0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Box 7"/>
          <p:cNvSpPr/>
          <p:nvPr/>
        </p:nvSpPr>
        <p:spPr>
          <a:xfrm>
            <a:off x="2040840" y="1963800"/>
            <a:ext cx="1864800" cy="459720"/>
          </a:xfrm>
          <a:prstGeom prst="rect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nd M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Box 9"/>
          <p:cNvSpPr/>
          <p:nvPr/>
        </p:nvSpPr>
        <p:spPr>
          <a:xfrm>
            <a:off x="5977440" y="1957320"/>
            <a:ext cx="3097800" cy="459720"/>
          </a:xfrm>
          <a:prstGeom prst="rect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lated ILP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6" name="Object 3"/>
              <p:cNvSpPr txBox="1"/>
              <p:nvPr/>
            </p:nvSpPr>
            <p:spPr>
              <a:xfrm>
                <a:off x="6183360" y="2435400"/>
                <a:ext cx="2797200" cy="34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</m:lim>
                        </m:limLow>
                        <m:r>
                          <m:t xml:space="preserve">3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FD3E-E6D7-48BE-8C2B-412CC2283CD5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P-relaxation: relax the integer constraints {0,1} to linear constraints [0,1]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dapt the ROUNDUP </a:t>
            </a:r>
            <a:r>
              <a:rPr b="0" lang="en-US" sz="2400" spc="-1" strike="noStrike">
                <a:solidFill>
                  <a:srgbClr val="55a839"/>
                </a:solidFill>
                <a:latin typeface="Tw Cen MT"/>
              </a:rPr>
              <a:t>[Boros and Hammer, 2002]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procedure to round the solution of the LP proble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ick a non-integral component and round it in each step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4617b"/>
                </a:solidFill>
                <a:latin typeface="Tw Cen MT"/>
              </a:rPr>
              <a:t>Relaxation MPE inference for MLNs (cont.)</a:t>
            </a:r>
            <a:endParaRPr b="0" lang="en-US" sz="3400" spc="-1" strike="noStrike">
              <a:solidFill>
                <a:srgbClr val="04617b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w Cen MT"/>
              </a:rPr>
              <a:t>Loss-augmented LP-relaxation MPE inference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71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698A-85BC-4B34-B4BB-EB7C9E0CF78B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present the loss function as a linear function of y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’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dd the loss term to the objective of the LP-relaxation </a:t>
            </a:r>
            <a:r>
              <a:rPr b="0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the problem is still a LP problem </a:t>
            </a:r>
            <a:r>
              <a:rPr b="0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can be solved by the previous algorith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3" name="Object 2"/>
              <p:cNvSpPr txBox="1"/>
              <p:nvPr/>
            </p:nvSpPr>
            <p:spPr>
              <a:xfrm>
                <a:off x="2235240" y="2687760"/>
                <a:ext cx="469908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ammming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: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/>
                      <m:e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:</m:t>
                            </m:r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Box 5"/>
          <p:cNvSpPr/>
          <p:nvPr/>
        </p:nvSpPr>
        <p:spPr>
          <a:xfrm>
            <a:off x="3168000" y="2895480"/>
            <a:ext cx="300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dd9"/>
                </a:solidFill>
                <a:latin typeface="Times New Roman"/>
              </a:rPr>
              <a:t>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B906-4D36-4C48-B13C-C8DCD2F72F3B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w Cen MT"/>
              </a:rPr>
              <a:t>Collective multi-label webpage classification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BA28-8E35-4752-9686-E47E59A8C32C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61272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bKB dataset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Craven and Slattery, 2001] [Lowd and Domingos, 2007]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4,165 web pages and 10,935 web links of 4 departmen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ach page is labeled with a subset of 7 categories: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Course, Department, Faculty, Person, Professor, Research Project, Stud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LN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Lowd and Domingos, 2007]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TextBox 4"/>
          <p:cNvSpPr/>
          <p:nvPr/>
        </p:nvSpPr>
        <p:spPr>
          <a:xfrm>
            <a:off x="1140120" y="5337000"/>
            <a:ext cx="7287120" cy="1280520"/>
          </a:xfrm>
          <a:prstGeom prst="rect">
            <a:avLst/>
          </a:prstGeom>
          <a:noFill/>
          <a:ln w="93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(+word,page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Class(+class,p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(+word,page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PageClass(+class,p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Class(+c1,p1) ^ Linked(p1,p2) → PageClass(+c2,p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53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w Cen MT"/>
              </a:rPr>
              <a:t>Collective multi-label webpage classification (cont.)</a:t>
            </a:r>
            <a:endParaRPr b="0" lang="en-US" sz="28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81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84AA-335B-4517-9B6A-0AC06BE60C3D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argest ground MLN for one department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8,876 query atom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174,594 ground claus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itation segmentation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84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A60C-E72E-4297-8932-22BBC42C3736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iteseer dataset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Lawrence et.al., 1999]</a:t>
            </a:r>
            <a:r>
              <a:rPr b="0" lang="en-US" sz="2000" spc="-1" strike="noStrike">
                <a:solidFill>
                  <a:srgbClr val="55a839"/>
                </a:solidFill>
                <a:latin typeface="Times New Roman"/>
              </a:rPr>
              <a:t> [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Poon and Domingos, 2007</a:t>
            </a:r>
            <a:r>
              <a:rPr b="0" lang="en-US" sz="2000" spc="-1" strike="noStrike">
                <a:solidFill>
                  <a:srgbClr val="55a839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,563 citations, divided into 4 research topic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ach citation is segmented into 3 fields: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Author, Title, Venu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d the simplest MLN in </a:t>
            </a:r>
            <a:r>
              <a:rPr b="0" lang="en-US" sz="2000" spc="-1" strike="noStrike">
                <a:solidFill>
                  <a:srgbClr val="55a839"/>
                </a:solidFill>
                <a:latin typeface="Times New Roman"/>
              </a:rPr>
              <a:t>[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Poon and Domingos, 2007]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argest ground MLN for one topic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37,692 query atom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131,573 ground claus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Experimental setup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4-fold cross-valid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etric: F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scor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mpare against the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Preconditioned Scaled Conjugated Gradient (PSCG) algorithm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rain with 5 different values of C: 1, 10, 100, 1000, 10000 and test with the one that performs best on trainin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se Mosek to solve the QP and LP problem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C5FE-E5B8-4583-BF70-3DF8D4A60F14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F</a:t>
            </a:r>
            <a:r>
              <a:rPr b="0" lang="en-US" sz="4400" spc="-1" strike="noStrike" baseline="-25000">
                <a:solidFill>
                  <a:srgbClr val="04617b"/>
                </a:solidFill>
                <a:latin typeface="Tw Cen MT"/>
              </a:rPr>
              <a:t>1</a:t>
            </a: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 scores on WebKB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90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336B-0F96-4E7E-8311-E241371833F4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Chart 5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3915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w Cen MT"/>
              </a:rPr>
              <a:t>Motivation (cont.)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61272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 many applications, the actual goal is to optimize some application specific performance measures such as classification accuracy, F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score,  etc…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x-margin training methods, especially Structural Support Vector Machines (SVMs), provide the framework to optimize these application specific measur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ff0000"/>
                </a:solidFill>
                <a:latin typeface="Tw Cen MT"/>
              </a:rPr>
              <a:t>Training MLNs under the max-margin framework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7239-3357-41DE-BE6F-7E7786917C86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w Cen MT"/>
              </a:rPr>
              <a:t>Where does the improvement come from?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93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589F-180D-402F-9AD4-3204F49AA5FB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SCG-LPRelax: run the new LP-relaxation MPE algorithm on the model learnt by PSCG-MCS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M-Hamming-MCSAT: run the MCSAT inference on the model learnt by MM-Hamming-LPRelax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F</a:t>
            </a:r>
            <a:r>
              <a:rPr b="0" lang="en-US" sz="4400" spc="-1" strike="noStrike" baseline="-25000">
                <a:solidFill>
                  <a:srgbClr val="04617b"/>
                </a:solidFill>
                <a:latin typeface="Tw Cen MT"/>
              </a:rPr>
              <a:t>1</a:t>
            </a: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 scores on WebKB(cont.)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1143-841C-4706-B9BD-C9F031F2F850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7" name="Chart 6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467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F</a:t>
            </a:r>
            <a:r>
              <a:rPr b="0" lang="en-US" sz="4400" spc="-1" strike="noStrike" baseline="-25000">
                <a:solidFill>
                  <a:srgbClr val="04617b"/>
                </a:solidFill>
                <a:latin typeface="Tw Cen MT"/>
              </a:rPr>
              <a:t>1</a:t>
            </a: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 scores on Citeseer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99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F73E-B6E8-4737-B561-18796CAC8CF1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Chart 5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7816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w Cen MT"/>
              </a:rPr>
              <a:t>Sensitivity to the tuning parameter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02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D754-EA70-45F9-B42B-466AFF1333D9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Chart 6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4114800" cy="3784680"/>
          </a:xfrm>
          <a:prstGeom prst="rect">
            <a:avLst/>
          </a:prstGeom>
          <a:ln w="0">
            <a:noFill/>
          </a:ln>
        </p:spPr>
      </p:pic>
      <p:pic>
        <p:nvPicPr>
          <p:cNvPr id="604" name="Chart 4" descr=""/>
          <p:cNvPicPr/>
          <p:nvPr/>
        </p:nvPicPr>
        <p:blipFill>
          <a:blip r:embed="rId2"/>
          <a:stretch/>
        </p:blipFill>
        <p:spPr>
          <a:xfrm>
            <a:off x="4572000" y="1981080"/>
            <a:ext cx="411480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Future work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06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9079-3D93-4B3E-92BD-CE1906837209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pproximation algorithms for optimizing other application specific loss func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ore efficient inference algorith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nline max-margin weight learn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1-best MIRA </a:t>
            </a:r>
            <a:r>
              <a:rPr b="0" lang="en-US" sz="2600" spc="-1" strike="noStrike">
                <a:solidFill>
                  <a:srgbClr val="55a839"/>
                </a:solidFill>
                <a:latin typeface="Times New Roman"/>
              </a:rPr>
              <a:t>[Crammer et.al., 2005]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ore experiments on structured prediction and compare to other existing mode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Summary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ll existing discriminative weight learners for MLNs try to optimize the CL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oposed a max-margin approach to weight learning in MLNs, which can optimize application specific measur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eveloped a new LP-relaxation MPE inference for ML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max-margin weight learner achieves better or equally good but more stable performanc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7AA4-F213-4D77-B8BE-6E32F3FBA352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28600" y="2895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4617b"/>
                </a:solidFill>
                <a:latin typeface="Tw Cen MT"/>
              </a:rPr>
              <a:t>Thank you!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12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2514-3847-4E6C-ADD6-A3AA3B7728DD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itle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Outline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56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E223-D182-49AB-AE92-1AD355CD3596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ackgroun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LN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tructural SVM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x-Margin Markov Logic Network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ormula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P-relaxation MPE inferenc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xperimen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uture wor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ummar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Box 5"/>
          <p:cNvSpPr/>
          <p:nvPr/>
        </p:nvSpPr>
        <p:spPr>
          <a:xfrm>
            <a:off x="3165480" y="2895480"/>
            <a:ext cx="291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dd9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ED05-D2E5-41F6-87E7-BEC295F301EE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n MLN is a weighted set of first-order formula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Larger weight indicates stronger belief that the clause should hol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Probability of a possible world (a truth assignment to all ground atoms) x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461" name="Group 18"/>
          <p:cNvGrpSpPr/>
          <p:nvPr/>
        </p:nvGrpSpPr>
        <p:grpSpPr>
          <a:xfrm>
            <a:off x="4495680" y="5322960"/>
            <a:ext cx="997200" cy="380880"/>
            <a:chOff x="4495680" y="5322960"/>
            <a:chExt cx="997200" cy="380880"/>
          </a:xfrm>
        </p:grpSpPr>
        <p:sp>
          <p:nvSpPr>
            <p:cNvPr id="462" name="Rectangle 26"/>
            <p:cNvSpPr/>
            <p:nvPr/>
          </p:nvSpPr>
          <p:spPr>
            <a:xfrm>
              <a:off x="4756320" y="5322960"/>
              <a:ext cx="736560" cy="380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Rectangle 27"/>
            <p:cNvSpPr/>
            <p:nvPr/>
          </p:nvSpPr>
          <p:spPr>
            <a:xfrm>
              <a:off x="4495680" y="5322960"/>
              <a:ext cx="25380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w Cen MT"/>
              </a:rPr>
              <a:t>Markov Logic Networks (MLNs)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grpSp>
        <p:nvGrpSpPr>
          <p:cNvPr id="465" name="Group 19"/>
          <p:cNvGrpSpPr/>
          <p:nvPr/>
        </p:nvGrpSpPr>
        <p:grpSpPr>
          <a:xfrm>
            <a:off x="1152360" y="4948200"/>
            <a:ext cx="7252200" cy="1663920"/>
            <a:chOff x="1152360" y="4948200"/>
            <a:chExt cx="7252200" cy="1663920"/>
          </a:xfrm>
        </p:grpSpPr>
        <mc:AlternateContent>
          <mc:Choice xmlns:a14="http://schemas.microsoft.com/office/drawing/2010/main" Requires="a14">
            <p:sp>
              <p:nvSpPr>
                <p:cNvPr id="466" name="Object 2"/>
                <p:cNvSpPr txBox="1"/>
                <p:nvPr/>
              </p:nvSpPr>
              <p:spPr>
                <a:xfrm>
                  <a:off x="1152360" y="4948200"/>
                  <a:ext cx="4584960" cy="109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Z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exp</m:t>
                      </m:r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i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</m:e>
                          </m:nary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467" name="Text Box 28"/>
            <p:cNvSpPr/>
            <p:nvPr/>
          </p:nvSpPr>
          <p:spPr>
            <a:xfrm>
              <a:off x="2208240" y="6243840"/>
              <a:ext cx="2009520" cy="36828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eight of formula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Text Box 29"/>
            <p:cNvSpPr/>
            <p:nvPr/>
          </p:nvSpPr>
          <p:spPr>
            <a:xfrm>
              <a:off x="4587480" y="6243840"/>
              <a:ext cx="3817080" cy="368280"/>
            </a:xfrm>
            <a:prstGeom prst="rect">
              <a:avLst/>
            </a:prstGeom>
            <a:noFill/>
            <a:ln w="1908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o. of true groundings of formula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30"/>
            <p:cNvSpPr/>
            <p:nvPr/>
          </p:nvSpPr>
          <p:spPr>
            <a:xfrm flipV="1">
              <a:off x="4038480" y="5710320"/>
              <a:ext cx="609480" cy="5335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31"/>
            <p:cNvSpPr/>
            <p:nvPr/>
          </p:nvSpPr>
          <p:spPr>
            <a:xfrm flipH="1" flipV="1">
              <a:off x="5029200" y="5710320"/>
              <a:ext cx="304560" cy="533520"/>
            </a:xfrm>
            <a:prstGeom prst="line">
              <a:avLst/>
            </a:prstGeom>
            <a:ln w="1908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Text Box 4"/>
          <p:cNvSpPr/>
          <p:nvPr/>
        </p:nvSpPr>
        <p:spPr>
          <a:xfrm>
            <a:off x="5724000" y="886680"/>
            <a:ext cx="35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a839"/>
                </a:solidFill>
                <a:latin typeface="Tw Cen MT"/>
              </a:rPr>
              <a:t>[Richardson &amp; Domingos, 200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15"/>
          <p:cNvSpPr/>
          <p:nvPr/>
        </p:nvSpPr>
        <p:spPr>
          <a:xfrm>
            <a:off x="380880" y="2205000"/>
            <a:ext cx="8715600" cy="1054080"/>
          </a:xfrm>
          <a:prstGeom prst="rect">
            <a:avLst/>
          </a:prstGeom>
          <a:noFill/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Tw Cen MT"/>
              </a:rPr>
              <a:t>0.25</a:t>
            </a:r>
            <a:r>
              <a:rPr b="0" lang="en-US" sz="2100" spc="-1" strike="noStrike">
                <a:solidFill>
                  <a:srgbClr val="009dd9"/>
                </a:solidFill>
                <a:latin typeface="Tw Cen MT"/>
              </a:rPr>
              <a:t>   </a:t>
            </a:r>
            <a:r>
              <a:rPr b="0" lang="en-US" sz="2100" spc="-1" strike="noStrike">
                <a:solidFill>
                  <a:srgbClr val="0f6fc6"/>
                </a:solidFill>
                <a:latin typeface="Tw Cen MT"/>
              </a:rPr>
              <a:t>HasWord(“assignment”,p) =&gt; PageClass(Course,p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Tw Cen MT"/>
              </a:rPr>
              <a:t>0.19</a:t>
            </a:r>
            <a:r>
              <a:rPr b="0" lang="en-US" sz="2100" spc="-1" strike="noStrike">
                <a:solidFill>
                  <a:srgbClr val="009dd9"/>
                </a:solidFill>
                <a:latin typeface="Tw Cen MT"/>
              </a:rPr>
              <a:t>   </a:t>
            </a:r>
            <a:r>
              <a:rPr b="0" lang="en-US" sz="2100" spc="-1" strike="noStrike">
                <a:solidFill>
                  <a:srgbClr val="0f6fc6"/>
                </a:solidFill>
                <a:latin typeface="Tw Cen MT"/>
              </a:rPr>
              <a:t>PageClass(Course,p1) ^ Linked(p1,p2) =&gt; PageClass(Faculty,p2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FF85-BADB-4E7D-A58A-17C41F2CE48A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Inference in MLNs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0456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MAP/MPE inference: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find the most likely state of a set of query atoms given the eviden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axWalkSAT algorithm </a:t>
            </a:r>
            <a:r>
              <a:rPr b="0" lang="en-US" sz="2400" spc="-1" strike="noStrike">
                <a:solidFill>
                  <a:srgbClr val="55a839"/>
                </a:solidFill>
                <a:latin typeface="Tw Cen MT"/>
              </a:rPr>
              <a:t>[Kautz et al., 1997]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Cutting Plane Inference algorithm </a:t>
            </a:r>
            <a:r>
              <a:rPr b="0" lang="en-US" sz="2400" spc="-1" strike="noStrike">
                <a:solidFill>
                  <a:srgbClr val="55a839"/>
                </a:solidFill>
                <a:latin typeface="Tw Cen MT"/>
              </a:rPr>
              <a:t>[Riedel, 2008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Computing the marginal conditional probability of a set of query atoms: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(y|x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C-SAT algorithm  </a:t>
            </a:r>
            <a:r>
              <a:rPr b="0" lang="en-US" sz="2400" spc="-1" strike="noStrike">
                <a:solidFill>
                  <a:srgbClr val="55a839"/>
                </a:solidFill>
                <a:latin typeface="Tw Cen MT"/>
              </a:rPr>
              <a:t>[Poon &amp; Domingos, 2006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ifted first-order belief propagation </a:t>
            </a:r>
            <a:r>
              <a:rPr b="0" lang="en-US" sz="2400" spc="-1" strike="noStrike">
                <a:solidFill>
                  <a:srgbClr val="55a839"/>
                </a:solidFill>
                <a:latin typeface="Tw Cen MT"/>
              </a:rPr>
              <a:t>[Singla &amp; Domingos, 2008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Object 2"/>
              <p:cNvSpPr txBox="1"/>
              <p:nvPr/>
            </p:nvSpPr>
            <p:spPr>
              <a:xfrm>
                <a:off x="2865600" y="2496960"/>
                <a:ext cx="32637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∈</m:t>
                        </m:r>
                        <m:r>
                          <m:t xml:space="preserve">Y</m:t>
                        </m:r>
                      </m:sub>
                    </m:sSub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7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A666-A511-4F41-8781-E61E60C7312A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w Cen MT"/>
              </a:rPr>
              <a:t>Existing weight learning methods in MLNs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Generative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: maximize the Pseudo-Log Likelihood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55a839"/>
                </a:solidFill>
                <a:latin typeface="Tw Cen MT"/>
              </a:rPr>
              <a:t>[Richardson &amp; Domingos, 2006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Discriminative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: maximize the Conditional Log Likelihood (CLL)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55a839"/>
                </a:solidFill>
                <a:latin typeface="Tw Cen MT"/>
              </a:rPr>
              <a:t>[Singla &amp; Domingos, 2005], [Lowd &amp; Domingos, 2007], [Huynh &amp; Mooney, 2008</a:t>
            </a:r>
            <a:r>
              <a:rPr b="0" lang="en-US" sz="1800" spc="-1" strike="noStrike">
                <a:solidFill>
                  <a:srgbClr val="55a839"/>
                </a:solidFill>
                <a:latin typeface="Tw Cen MT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760A-00C8-4864-A07B-2A86F81D8967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53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w Cen MT"/>
              </a:rPr>
              <a:t>Generic Strutural SVMs</a:t>
            </a:r>
            <a:r>
              <a:rPr b="0" lang="en-US" sz="1800" spc="-1" strike="noStrike">
                <a:solidFill>
                  <a:srgbClr val="55a839"/>
                </a:solidFill>
                <a:latin typeface="Tw Cen MT"/>
              </a:rPr>
              <a:t>[Tsochantaridis et.al., 2004]</a:t>
            </a:r>
            <a:r>
              <a:rPr b="0" lang="en-US" sz="4000" spc="-1" strike="noStrike">
                <a:solidFill>
                  <a:srgbClr val="04617b"/>
                </a:solidFill>
                <a:latin typeface="Tw Cen MT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82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86BC-F59D-4117-A0DB-25E0CD34B05E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612720" y="159984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earn a discriminant function f: </a:t>
            </a:r>
            <a:r>
              <a:rPr b="1" lang="en-US" sz="2900" spc="-1" strike="noStrike">
                <a:solidFill>
                  <a:srgbClr val="000000"/>
                </a:solidFill>
                <a:latin typeface="Cambria Math"/>
                <a:ea typeface="Cambria Math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x </a:t>
            </a:r>
            <a:r>
              <a:rPr b="1" lang="en-US" sz="2900" spc="-1" strike="noStrike">
                <a:solidFill>
                  <a:srgbClr val="000000"/>
                </a:solidFill>
                <a:latin typeface="Cambria Math"/>
                <a:ea typeface="Cambria Math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2900" spc="-1" strike="noStrike">
                <a:solidFill>
                  <a:srgbClr val="000000"/>
                </a:solidFill>
                <a:latin typeface="Cambria Math"/>
                <a:ea typeface="Cambria Math"/>
              </a:rPr>
              <a:t>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Cambria Math"/>
              </a:rPr>
              <a:t>Predict for a given input x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Cambria Math"/>
              </a:rPr>
              <a:t>Maximize the separation margi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Cambria Math"/>
              </a:rPr>
              <a:t>Can be formulated as a quadratic optimization proble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4" name="Object 2"/>
              <p:cNvSpPr txBox="1"/>
              <p:nvPr/>
            </p:nvSpPr>
            <p:spPr>
              <a:xfrm>
                <a:off x="2220840" y="4300560"/>
                <a:ext cx="4943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;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−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Y</m:t>
                        </m:r>
                      </m:lim>
                    </m:limLow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Object 2"/>
              <p:cNvSpPr txBox="1"/>
              <p:nvPr/>
            </p:nvSpPr>
            <p:spPr>
              <a:xfrm>
                <a:off x="3197160" y="2209680"/>
                <a:ext cx="281484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;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Object 6"/>
              <p:cNvSpPr txBox="1"/>
              <p:nvPr/>
            </p:nvSpPr>
            <p:spPr>
              <a:xfrm>
                <a:off x="2795760" y="3162240"/>
                <a:ext cx="34732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y</m:t>
                        </m:r>
                        <m:r>
                          <m:t xml:space="preserve">∈</m:t>
                        </m:r>
                        <m:r>
                          <m:t xml:space="preserve">Y</m:t>
                        </m:r>
                      </m:lim>
                    </m:limLow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20:34:32Z</dcterms:created>
  <dc:creator>Tuyen Ngoc Huynh</dc:creator>
  <dc:description/>
  <dc:language>en-US</dc:language>
  <cp:lastModifiedBy>Tuyen Ngoc Huynh</cp:lastModifiedBy>
  <dcterms:modified xsi:type="dcterms:W3CDTF">2009-11-07T22:30:01Z</dcterms:modified>
  <cp:revision>812</cp:revision>
  <dc:subject/>
  <dc:title>Discriminative Structure and Parameter Learning for Markov Logic Networks</dc:title>
</cp:coreProperties>
</file>