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13.png" ContentType="image/png"/>
  <Override PartName="/ppt/media/image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74EDB-F414-47BB-AF70-930F8DB486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57A53-97B4-4847-A00E-4932AECDC2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2FCFC-FFBA-415F-88C0-61DACEB239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7E630-A5D7-43A9-9E62-5F4498AD44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1A484-846B-4077-8296-87C3A21CA8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7918F-8103-4D4D-B217-7284760032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85FC4-888D-45AC-8096-D89AB6F1D4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06484-B920-445E-A5F7-BD6DC844E0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70F18-8804-4ACB-B8FE-FD6D052EEF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36C70-51E3-474B-BF90-8F4462092E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70476-FE9D-44DA-A5EC-C5DFAD8651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D806D-B27E-445D-ADCE-4F89CA4731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D4C5B-CDC6-474D-8A8D-21F9BF76D7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4CCA7-2AFE-4AA9-8BD6-AF628EAE4B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84C86-E14D-423D-9C09-901883A7D6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565C2-F24A-49DC-923B-C5D7DC75EA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8B4BD-F16D-47FB-BF1F-A3280748BD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3FDFD-A31E-49DA-813C-1572E3C299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9BF9A-F2F9-4B8F-8686-D78303267F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2E126-C5FF-4FFD-8643-A8753027EB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F3692-53AA-484F-BF73-47E3B2CF36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F2A91-E6A9-4EAB-B5C2-2C91F6DAA4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8502F-47C9-411F-9943-FC3C65307A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866C6-3F17-48C8-A25A-D5B556650F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42B64-DAF8-4360-8CE6-AFFF42B1C9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B6E22-3B83-47E5-B9E5-205805EC97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98415-BCE3-4F12-BA05-1141E1C5EB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C7C71-ADD1-4841-A494-9CFACD4089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37126-EE61-4A28-95AF-F6C360186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376992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F29C6-E12F-4817-A8A7-B27DBAA4C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376992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376992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FE230-F9B1-4E6E-9395-70B85C28C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1430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1430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376992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376992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376992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7C452-F8F2-4CF7-9E21-AA5B99A43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78078-BCAA-4DB2-B58F-3272FA124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11430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2F7B1-C7F1-46DE-95B6-6A1B06057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BE3E8-57BB-496E-94E9-6C79A9120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191DC-8834-46D7-B42C-DA8B7ADD4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C9071-6C63-4E28-86DD-DD340DCB8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33303-25D4-4FEF-858F-B47581FE3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376992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C3E82-E0BC-4210-9DD2-59C74C0CC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1430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930DA-07C9-498A-901E-A7862CADC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8480" y="376992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23D2C-080A-4D53-947B-211530A1E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376992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91B2D-7045-4BE5-A400-1ECBA6D0E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376992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539EC-752E-4AAA-BF64-382EA94CD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376992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8480" y="376992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35263-2747-4119-AAE0-588598022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800" y="11430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1440" y="11430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376992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800" y="376992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1440" y="376992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D37C6-9010-4A5E-8021-97D115060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88731-DEF9-4B0B-992A-E60CA46D3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26D9E-8BCB-420B-88D0-E685967A9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2303D-EA97-4BD4-BDA3-770CAD863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DD1E8-08A2-4D9C-ABF0-C29A72F85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376992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84840-21FE-4B89-B782-05FA9400C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376992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17238-B030-446A-BA24-F63B42BE5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376992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72753-FCAD-406E-ACD6-9CB8E2077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slideLayout" Target="../slideLayouts/slideLayout13.xml"/><Relationship Id="rId13" Type="http://schemas.openxmlformats.org/officeDocument/2006/relationships/slideLayout" Target="../slideLayouts/slideLayout14.xml"/><Relationship Id="rId14" Type="http://schemas.openxmlformats.org/officeDocument/2006/relationships/slideLayout" Target="../slideLayouts/slideLayout15.xml"/><Relationship Id="rId15" Type="http://schemas.openxmlformats.org/officeDocument/2006/relationships/slideLayout" Target="../slideLayouts/slideLayout16.xml"/><Relationship Id="rId16" Type="http://schemas.openxmlformats.org/officeDocument/2006/relationships/slideLayout" Target="../slideLayouts/slideLayout17.xml"/><Relationship Id="rId17" Type="http://schemas.openxmlformats.org/officeDocument/2006/relationships/slideLayout" Target="../slideLayouts/slideLayout18.xml"/><Relationship Id="rId18" Type="http://schemas.openxmlformats.org/officeDocument/2006/relationships/slideLayout" Target="../slideLayouts/slideLayout19.xml"/><Relationship Id="rId19" Type="http://schemas.openxmlformats.org/officeDocument/2006/relationships/slideLayout" Target="../slideLayouts/slideLayout20.xml"/><Relationship Id="rId20" Type="http://schemas.openxmlformats.org/officeDocument/2006/relationships/slideLayout" Target="../slideLayouts/slideLayout21.xml"/><Relationship Id="rId21" Type="http://schemas.openxmlformats.org/officeDocument/2006/relationships/slideLayout" Target="../slideLayouts/slideLayout22.xml"/><Relationship Id="rId22" Type="http://schemas.openxmlformats.org/officeDocument/2006/relationships/slideLayout" Target="../slideLayouts/slideLayout23.xml"/><Relationship Id="rId2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1" descr="border"/>
          <p:cNvPicPr/>
          <p:nvPr/>
        </p:nvPicPr>
        <p:blipFill>
          <a:blip r:embed="rId2"/>
          <a:stretch/>
        </p:blipFill>
        <p:spPr>
          <a:xfrm>
            <a:off x="76320" y="152280"/>
            <a:ext cx="8991360" cy="66294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1430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25005-FED7-4D53-90B0-2E8FC28744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Text Box 10"/>
          <p:cNvSpPr/>
          <p:nvPr/>
        </p:nvSpPr>
        <p:spPr>
          <a:xfrm>
            <a:off x="8001000" y="6576840"/>
            <a:ext cx="380880" cy="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8886A-13A5-47FF-8886-7177FF2609EE}" type="slidenum">
              <a:rPr b="1" lang="en-US" sz="11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Text Box 15"/>
          <p:cNvSpPr/>
          <p:nvPr/>
        </p:nvSpPr>
        <p:spPr>
          <a:xfrm>
            <a:off x="762120" y="6586560"/>
            <a:ext cx="2133360" cy="26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ahoma"/>
              </a:rPr>
              <a:t>University of Texas at Aust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Text Box 16"/>
          <p:cNvSpPr/>
          <p:nvPr/>
        </p:nvSpPr>
        <p:spPr>
          <a:xfrm>
            <a:off x="6400800" y="76320"/>
            <a:ext cx="1828800" cy="26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ahoma"/>
              </a:rPr>
              <a:t>Machine Learning Group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045" descr="border"/>
          <p:cNvPicPr/>
          <p:nvPr/>
        </p:nvPicPr>
        <p:blipFill>
          <a:blip r:embed="rId2"/>
          <a:stretch/>
        </p:blipFill>
        <p:spPr>
          <a:xfrm>
            <a:off x="228600" y="228600"/>
            <a:ext cx="8686800" cy="6334200"/>
          </a:xfrm>
          <a:prstGeom prst="rect">
            <a:avLst/>
          </a:prstGeom>
          <a:ln w="0">
            <a:noFill/>
          </a:ln>
        </p:spPr>
      </p:pic>
      <p:sp>
        <p:nvSpPr>
          <p:cNvPr id="46" name="Text Box 1032"/>
          <p:cNvSpPr/>
          <p:nvPr/>
        </p:nvSpPr>
        <p:spPr>
          <a:xfrm>
            <a:off x="762120" y="6351480"/>
            <a:ext cx="2133360" cy="26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ahoma"/>
              </a:rPr>
              <a:t>University of Texas at Aust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1033"/>
          <p:cNvSpPr/>
          <p:nvPr/>
        </p:nvSpPr>
        <p:spPr>
          <a:xfrm>
            <a:off x="6477120" y="152280"/>
            <a:ext cx="1828800" cy="26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ahoma"/>
              </a:rPr>
              <a:t>Machine Learning Group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Line 1036"/>
          <p:cNvSpPr/>
          <p:nvPr/>
        </p:nvSpPr>
        <p:spPr>
          <a:xfrm>
            <a:off x="838080" y="2286000"/>
            <a:ext cx="7467840" cy="0"/>
          </a:xfrm>
          <a:prstGeom prst="line">
            <a:avLst/>
          </a:prstGeom>
          <a:ln w="507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1037"/>
          <p:cNvSpPr/>
          <p:nvPr/>
        </p:nvSpPr>
        <p:spPr>
          <a:xfrm>
            <a:off x="1373040" y="2362320"/>
            <a:ext cx="7770960" cy="11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038"/>
          <p:cNvSpPr/>
          <p:nvPr/>
        </p:nvSpPr>
        <p:spPr>
          <a:xfrm>
            <a:off x="1371600" y="2971800"/>
            <a:ext cx="6475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4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1043" descr="seal1"/>
          <p:cNvPicPr/>
          <p:nvPr/>
        </p:nvPicPr>
        <p:blipFill>
          <a:blip r:embed="rId3"/>
          <a:stretch/>
        </p:blipFill>
        <p:spPr>
          <a:xfrm>
            <a:off x="4114800" y="4952880"/>
            <a:ext cx="985680" cy="976320"/>
          </a:xfrm>
          <a:prstGeom prst="rect">
            <a:avLst/>
          </a:prstGeom>
          <a:ln w="0">
            <a:noFill/>
          </a:ln>
        </p:spPr>
      </p:pic>
      <p:sp>
        <p:nvSpPr>
          <p:cNvPr id="52" name="Text Box 1039"/>
          <p:cNvSpPr/>
          <p:nvPr/>
        </p:nvSpPr>
        <p:spPr>
          <a:xfrm>
            <a:off x="2819520" y="32767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1040"/>
          <p:cNvSpPr/>
          <p:nvPr/>
        </p:nvSpPr>
        <p:spPr>
          <a:xfrm>
            <a:off x="2819520" y="358128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041"/>
          <p:cNvSpPr/>
          <p:nvPr/>
        </p:nvSpPr>
        <p:spPr>
          <a:xfrm>
            <a:off x="2819520" y="388620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15"/>
          <p:cNvSpPr/>
          <p:nvPr/>
        </p:nvSpPr>
        <p:spPr>
          <a:xfrm>
            <a:off x="2819520" y="380988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Machine Learning Gro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16"/>
          <p:cNvSpPr/>
          <p:nvPr/>
        </p:nvSpPr>
        <p:spPr>
          <a:xfrm>
            <a:off x="2666880" y="419112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Department of Computer Scien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17"/>
          <p:cNvSpPr/>
          <p:nvPr/>
        </p:nvSpPr>
        <p:spPr>
          <a:xfrm>
            <a:off x="2971800" y="4572000"/>
            <a:ext cx="3200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University of Texas at Aust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4" descr="tex-logo-small"/>
          <p:cNvPicPr/>
          <p:nvPr/>
        </p:nvPicPr>
        <p:blipFill>
          <a:blip r:embed="rId4"/>
          <a:stretch/>
        </p:blipFill>
        <p:spPr>
          <a:xfrm>
            <a:off x="1287360" y="5894280"/>
            <a:ext cx="922320" cy="50652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11430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EE354-ED20-477C-B2F0-1B63C6E353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2"/>
    <p:sldLayoutId id="2147483663" r:id="rId13"/>
    <p:sldLayoutId id="2147483664" r:id="rId14"/>
    <p:sldLayoutId id="2147483665" r:id="rId15"/>
    <p:sldLayoutId id="2147483666" r:id="rId16"/>
    <p:sldLayoutId id="2147483667" r:id="rId17"/>
    <p:sldLayoutId id="2147483668" r:id="rId18"/>
    <p:sldLayoutId id="2147483669" r:id="rId19"/>
    <p:sldLayoutId id="2147483670" r:id="rId20"/>
    <p:sldLayoutId id="2147483671" r:id="rId21"/>
    <p:sldLayoutId id="2147483672" r:id="rId22"/>
    <p:sldLayoutId id="2147483673" r:id="rId2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Discriminative Structure and Parameter Learning for Markov Logic Networks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371600" y="25142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uyen N. Huynh and Raymond J. Moon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3395520" y="6019920"/>
            <a:ext cx="245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ICML’08, Helsinki, Finl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586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Proposed approach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grpSp>
        <p:nvGrpSpPr>
          <p:cNvPr id="143" name="Group 3"/>
          <p:cNvGrpSpPr/>
          <p:nvPr/>
        </p:nvGrpSpPr>
        <p:grpSpPr>
          <a:xfrm>
            <a:off x="533520" y="1371600"/>
            <a:ext cx="4266720" cy="4443120"/>
            <a:chOff x="533520" y="1371600"/>
            <a:chExt cx="4266720" cy="4443120"/>
          </a:xfrm>
        </p:grpSpPr>
        <p:sp>
          <p:nvSpPr>
            <p:cNvPr id="144" name="Rectangle 4"/>
            <p:cNvSpPr/>
            <p:nvPr/>
          </p:nvSpPr>
          <p:spPr>
            <a:xfrm>
              <a:off x="830880" y="1972800"/>
              <a:ext cx="2381400" cy="20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Rectangle 5"/>
            <p:cNvSpPr/>
            <p:nvPr/>
          </p:nvSpPr>
          <p:spPr>
            <a:xfrm>
              <a:off x="762480" y="2487960"/>
              <a:ext cx="3144240" cy="2146320"/>
            </a:xfrm>
            <a:prstGeom prst="rect">
              <a:avLst/>
            </a:prstGeom>
            <a:noFill/>
            <a:ln w="507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ahoma"/>
                </a:rPr>
                <a:t>Clause Learner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Text Box 6"/>
            <p:cNvSpPr/>
            <p:nvPr/>
          </p:nvSpPr>
          <p:spPr>
            <a:xfrm>
              <a:off x="632160" y="1371600"/>
              <a:ext cx="3374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ahoma"/>
                </a:rPr>
                <a:t>Step 1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Text Box 7"/>
            <p:cNvSpPr/>
            <p:nvPr/>
          </p:nvSpPr>
          <p:spPr>
            <a:xfrm>
              <a:off x="533520" y="5415840"/>
              <a:ext cx="4266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(Generating candidate clause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Group 20"/>
          <p:cNvGrpSpPr/>
          <p:nvPr/>
        </p:nvGrpSpPr>
        <p:grpSpPr>
          <a:xfrm>
            <a:off x="4419720" y="1447920"/>
            <a:ext cx="4266720" cy="4398120"/>
            <a:chOff x="4419720" y="1447920"/>
            <a:chExt cx="4266720" cy="4398120"/>
          </a:xfrm>
        </p:grpSpPr>
        <p:sp>
          <p:nvSpPr>
            <p:cNvPr id="149" name="Text Box 21"/>
            <p:cNvSpPr/>
            <p:nvPr/>
          </p:nvSpPr>
          <p:spPr>
            <a:xfrm>
              <a:off x="4419720" y="1447920"/>
              <a:ext cx="4266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ahoma"/>
                </a:rPr>
                <a:t>Step 2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Text Box 22"/>
            <p:cNvSpPr/>
            <p:nvPr/>
          </p:nvSpPr>
          <p:spPr>
            <a:xfrm>
              <a:off x="4571280" y="5447160"/>
              <a:ext cx="4114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(Selecting good clause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1" name="Group 23"/>
            <p:cNvGrpSpPr/>
            <p:nvPr/>
          </p:nvGrpSpPr>
          <p:grpSpPr>
            <a:xfrm>
              <a:off x="5104440" y="2784240"/>
              <a:ext cx="3180960" cy="2009880"/>
              <a:chOff x="5104440" y="2784240"/>
              <a:chExt cx="3180960" cy="2009880"/>
            </a:xfrm>
          </p:grpSpPr>
          <p:grpSp>
            <p:nvGrpSpPr>
              <p:cNvPr id="152" name="Group 25"/>
              <p:cNvGrpSpPr/>
              <p:nvPr/>
            </p:nvGrpSpPr>
            <p:grpSpPr>
              <a:xfrm>
                <a:off x="5172480" y="2784240"/>
                <a:ext cx="3110400" cy="1994400"/>
                <a:chOff x="5172480" y="2784240"/>
                <a:chExt cx="3110400" cy="1994400"/>
              </a:xfrm>
            </p:grpSpPr>
            <p:sp>
              <p:nvSpPr>
                <p:cNvPr id="153" name="Freeform 26"/>
                <p:cNvSpPr/>
                <p:nvPr/>
              </p:nvSpPr>
              <p:spPr>
                <a:xfrm>
                  <a:off x="5624640" y="4019760"/>
                  <a:ext cx="151560" cy="50400"/>
                </a:xfrm>
                <a:custGeom>
                  <a:avLst/>
                  <a:gdLst>
                    <a:gd name="textAreaLeft" fmla="*/ 0 w 151560"/>
                    <a:gd name="textAreaRight" fmla="*/ 151920 w 151560"/>
                    <a:gd name="textAreaTop" fmla="*/ 0 h 50400"/>
                    <a:gd name="textAreaBottom" fmla="*/ 50760 h 50400"/>
                  </a:gdLst>
                  <a:ahLst/>
                  <a:rect l="textAreaLeft" t="textAreaTop" r="textAreaRight" b="textAreaBottom"/>
                  <a:pathLst>
                    <a:path w="117" h="92">
                      <a:moveTo>
                        <a:pt x="117" y="26"/>
                      </a:moveTo>
                      <a:lnTo>
                        <a:pt x="110" y="30"/>
                      </a:lnTo>
                      <a:lnTo>
                        <a:pt x="85" y="43"/>
                      </a:lnTo>
                      <a:lnTo>
                        <a:pt x="60" y="58"/>
                      </a:lnTo>
                      <a:lnTo>
                        <a:pt x="35" y="73"/>
                      </a:lnTo>
                      <a:lnTo>
                        <a:pt x="11" y="89"/>
                      </a:lnTo>
                      <a:lnTo>
                        <a:pt x="6" y="92"/>
                      </a:lnTo>
                      <a:lnTo>
                        <a:pt x="6" y="81"/>
                      </a:lnTo>
                      <a:lnTo>
                        <a:pt x="5" y="70"/>
                      </a:lnTo>
                      <a:lnTo>
                        <a:pt x="5" y="58"/>
                      </a:lnTo>
                      <a:lnTo>
                        <a:pt x="4" y="47"/>
                      </a:lnTo>
                      <a:lnTo>
                        <a:pt x="2" y="35"/>
                      </a:lnTo>
                      <a:lnTo>
                        <a:pt x="2" y="24"/>
                      </a:lnTo>
                      <a:lnTo>
                        <a:pt x="1" y="12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1" y="2"/>
                      </a:lnTo>
                      <a:lnTo>
                        <a:pt x="4" y="5"/>
                      </a:lnTo>
                      <a:lnTo>
                        <a:pt x="6" y="8"/>
                      </a:lnTo>
                      <a:lnTo>
                        <a:pt x="7" y="12"/>
                      </a:lnTo>
                      <a:lnTo>
                        <a:pt x="9" y="16"/>
                      </a:lnTo>
                      <a:lnTo>
                        <a:pt x="11" y="21"/>
                      </a:lnTo>
                      <a:lnTo>
                        <a:pt x="11" y="26"/>
                      </a:lnTo>
                      <a:lnTo>
                        <a:pt x="24" y="26"/>
                      </a:lnTo>
                      <a:lnTo>
                        <a:pt x="37" y="26"/>
                      </a:lnTo>
                      <a:lnTo>
                        <a:pt x="51" y="26"/>
                      </a:lnTo>
                      <a:lnTo>
                        <a:pt x="64" y="26"/>
                      </a:lnTo>
                      <a:lnTo>
                        <a:pt x="78" y="26"/>
                      </a:lnTo>
                      <a:lnTo>
                        <a:pt x="90" y="26"/>
                      </a:lnTo>
                      <a:lnTo>
                        <a:pt x="104" y="26"/>
                      </a:lnTo>
                      <a:lnTo>
                        <a:pt x="117" y="26"/>
                      </a:lnTo>
                      <a:close/>
                    </a:path>
                  </a:pathLst>
                </a:custGeom>
                <a:solidFill>
                  <a:srgbClr val="d5e6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Freeform 27"/>
                <p:cNvSpPr/>
                <p:nvPr/>
              </p:nvSpPr>
              <p:spPr>
                <a:xfrm>
                  <a:off x="5630040" y="4033080"/>
                  <a:ext cx="1476360" cy="110160"/>
                </a:xfrm>
                <a:custGeom>
                  <a:avLst/>
                  <a:gdLst>
                    <a:gd name="textAreaLeft" fmla="*/ 0 w 1476360"/>
                    <a:gd name="textAreaRight" fmla="*/ 1476720 w 1476360"/>
                    <a:gd name="textAreaTop" fmla="*/ 0 h 110160"/>
                    <a:gd name="textAreaBottom" fmla="*/ 110520 h 110160"/>
                  </a:gdLst>
                  <a:ahLst/>
                  <a:rect l="textAreaLeft" t="textAreaTop" r="textAreaRight" b="textAreaBottom"/>
                  <a:pathLst>
                    <a:path w="1129" h="198">
                      <a:moveTo>
                        <a:pt x="111" y="0"/>
                      </a:moveTo>
                      <a:lnTo>
                        <a:pt x="104" y="4"/>
                      </a:lnTo>
                      <a:lnTo>
                        <a:pt x="79" y="17"/>
                      </a:lnTo>
                      <a:lnTo>
                        <a:pt x="54" y="32"/>
                      </a:lnTo>
                      <a:lnTo>
                        <a:pt x="29" y="47"/>
                      </a:lnTo>
                      <a:lnTo>
                        <a:pt x="5" y="63"/>
                      </a:lnTo>
                      <a:lnTo>
                        <a:pt x="0" y="66"/>
                      </a:lnTo>
                      <a:lnTo>
                        <a:pt x="1" y="84"/>
                      </a:lnTo>
                      <a:lnTo>
                        <a:pt x="2" y="100"/>
                      </a:lnTo>
                      <a:lnTo>
                        <a:pt x="2" y="118"/>
                      </a:lnTo>
                      <a:lnTo>
                        <a:pt x="3" y="134"/>
                      </a:lnTo>
                      <a:lnTo>
                        <a:pt x="3" y="150"/>
                      </a:lnTo>
                      <a:lnTo>
                        <a:pt x="3" y="166"/>
                      </a:lnTo>
                      <a:lnTo>
                        <a:pt x="3" y="183"/>
                      </a:lnTo>
                      <a:lnTo>
                        <a:pt x="3" y="198"/>
                      </a:lnTo>
                      <a:lnTo>
                        <a:pt x="9" y="194"/>
                      </a:lnTo>
                      <a:lnTo>
                        <a:pt x="30" y="177"/>
                      </a:lnTo>
                      <a:lnTo>
                        <a:pt x="53" y="162"/>
                      </a:lnTo>
                      <a:lnTo>
                        <a:pt x="75" y="147"/>
                      </a:lnTo>
                      <a:lnTo>
                        <a:pt x="98" y="134"/>
                      </a:lnTo>
                      <a:lnTo>
                        <a:pt x="121" y="120"/>
                      </a:lnTo>
                      <a:lnTo>
                        <a:pt x="145" y="107"/>
                      </a:lnTo>
                      <a:lnTo>
                        <a:pt x="168" y="94"/>
                      </a:lnTo>
                      <a:lnTo>
                        <a:pt x="192" y="84"/>
                      </a:lnTo>
                      <a:lnTo>
                        <a:pt x="216" y="73"/>
                      </a:lnTo>
                      <a:lnTo>
                        <a:pt x="241" y="62"/>
                      </a:lnTo>
                      <a:lnTo>
                        <a:pt x="266" y="52"/>
                      </a:lnTo>
                      <a:lnTo>
                        <a:pt x="292" y="44"/>
                      </a:lnTo>
                      <a:lnTo>
                        <a:pt x="316" y="36"/>
                      </a:lnTo>
                      <a:lnTo>
                        <a:pt x="343" y="28"/>
                      </a:lnTo>
                      <a:lnTo>
                        <a:pt x="368" y="23"/>
                      </a:lnTo>
                      <a:lnTo>
                        <a:pt x="395" y="16"/>
                      </a:lnTo>
                      <a:lnTo>
                        <a:pt x="420" y="12"/>
                      </a:lnTo>
                      <a:lnTo>
                        <a:pt x="447" y="6"/>
                      </a:lnTo>
                      <a:lnTo>
                        <a:pt x="469" y="4"/>
                      </a:lnTo>
                      <a:lnTo>
                        <a:pt x="424" y="2"/>
                      </a:lnTo>
                      <a:lnTo>
                        <a:pt x="380" y="2"/>
                      </a:lnTo>
                      <a:lnTo>
                        <a:pt x="335" y="1"/>
                      </a:lnTo>
                      <a:lnTo>
                        <a:pt x="289" y="1"/>
                      </a:lnTo>
                      <a:lnTo>
                        <a:pt x="245" y="1"/>
                      </a:lnTo>
                      <a:lnTo>
                        <a:pt x="200" y="0"/>
                      </a:lnTo>
                      <a:lnTo>
                        <a:pt x="156" y="0"/>
                      </a:lnTo>
                      <a:lnTo>
                        <a:pt x="111" y="0"/>
                      </a:lnTo>
                      <a:close/>
                      <a:moveTo>
                        <a:pt x="1129" y="173"/>
                      </a:moveTo>
                      <a:lnTo>
                        <a:pt x="1113" y="162"/>
                      </a:lnTo>
                      <a:lnTo>
                        <a:pt x="1091" y="147"/>
                      </a:lnTo>
                      <a:lnTo>
                        <a:pt x="1068" y="134"/>
                      </a:lnTo>
                      <a:lnTo>
                        <a:pt x="1044" y="120"/>
                      </a:lnTo>
                      <a:lnTo>
                        <a:pt x="1021" y="107"/>
                      </a:lnTo>
                      <a:lnTo>
                        <a:pt x="997" y="94"/>
                      </a:lnTo>
                      <a:lnTo>
                        <a:pt x="974" y="84"/>
                      </a:lnTo>
                      <a:lnTo>
                        <a:pt x="949" y="73"/>
                      </a:lnTo>
                      <a:lnTo>
                        <a:pt x="924" y="62"/>
                      </a:lnTo>
                      <a:lnTo>
                        <a:pt x="900" y="52"/>
                      </a:lnTo>
                      <a:lnTo>
                        <a:pt x="874" y="44"/>
                      </a:lnTo>
                      <a:lnTo>
                        <a:pt x="849" y="36"/>
                      </a:lnTo>
                      <a:lnTo>
                        <a:pt x="823" y="28"/>
                      </a:lnTo>
                      <a:lnTo>
                        <a:pt x="798" y="23"/>
                      </a:lnTo>
                      <a:lnTo>
                        <a:pt x="779" y="19"/>
                      </a:lnTo>
                      <a:lnTo>
                        <a:pt x="820" y="21"/>
                      </a:lnTo>
                      <a:lnTo>
                        <a:pt x="860" y="24"/>
                      </a:lnTo>
                      <a:lnTo>
                        <a:pt x="900" y="28"/>
                      </a:lnTo>
                      <a:lnTo>
                        <a:pt x="940" y="32"/>
                      </a:lnTo>
                      <a:lnTo>
                        <a:pt x="981" y="36"/>
                      </a:lnTo>
                      <a:lnTo>
                        <a:pt x="1020" y="40"/>
                      </a:lnTo>
                      <a:lnTo>
                        <a:pt x="1061" y="46"/>
                      </a:lnTo>
                      <a:lnTo>
                        <a:pt x="1100" y="51"/>
                      </a:lnTo>
                      <a:lnTo>
                        <a:pt x="1105" y="66"/>
                      </a:lnTo>
                      <a:lnTo>
                        <a:pt x="1108" y="80"/>
                      </a:lnTo>
                      <a:lnTo>
                        <a:pt x="1113" y="94"/>
                      </a:lnTo>
                      <a:lnTo>
                        <a:pt x="1116" y="111"/>
                      </a:lnTo>
                      <a:lnTo>
                        <a:pt x="1120" y="126"/>
                      </a:lnTo>
                      <a:lnTo>
                        <a:pt x="1123" y="142"/>
                      </a:lnTo>
                      <a:lnTo>
                        <a:pt x="1127" y="157"/>
                      </a:lnTo>
                      <a:lnTo>
                        <a:pt x="1129" y="173"/>
                      </a:lnTo>
                      <a:close/>
                    </a:path>
                  </a:pathLst>
                </a:custGeom>
                <a:solidFill>
                  <a:srgbClr val="d8e8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Freeform 28"/>
                <p:cNvSpPr/>
                <p:nvPr/>
              </p:nvSpPr>
              <p:spPr>
                <a:xfrm>
                  <a:off x="5624640" y="4036680"/>
                  <a:ext cx="1518480" cy="188640"/>
                </a:xfrm>
                <a:custGeom>
                  <a:avLst/>
                  <a:gdLst>
                    <a:gd name="textAreaLeft" fmla="*/ 0 w 1518480"/>
                    <a:gd name="textAreaRight" fmla="*/ 1518840 w 1518480"/>
                    <a:gd name="textAreaTop" fmla="*/ 0 h 188640"/>
                    <a:gd name="textAreaBottom" fmla="*/ 189000 h 188640"/>
                  </a:gdLst>
                  <a:ahLst/>
                  <a:rect l="textAreaLeft" t="textAreaTop" r="textAreaRight" b="textAreaBottom"/>
                  <a:pathLst>
                    <a:path w="1163" h="340">
                      <a:moveTo>
                        <a:pt x="1135" y="169"/>
                      </a:moveTo>
                      <a:lnTo>
                        <a:pt x="1119" y="158"/>
                      </a:lnTo>
                      <a:lnTo>
                        <a:pt x="1097" y="143"/>
                      </a:lnTo>
                      <a:lnTo>
                        <a:pt x="1074" y="130"/>
                      </a:lnTo>
                      <a:lnTo>
                        <a:pt x="1050" y="116"/>
                      </a:lnTo>
                      <a:lnTo>
                        <a:pt x="1027" y="103"/>
                      </a:lnTo>
                      <a:lnTo>
                        <a:pt x="1003" y="90"/>
                      </a:lnTo>
                      <a:lnTo>
                        <a:pt x="980" y="80"/>
                      </a:lnTo>
                      <a:lnTo>
                        <a:pt x="955" y="69"/>
                      </a:lnTo>
                      <a:lnTo>
                        <a:pt x="930" y="58"/>
                      </a:lnTo>
                      <a:lnTo>
                        <a:pt x="906" y="48"/>
                      </a:lnTo>
                      <a:lnTo>
                        <a:pt x="880" y="40"/>
                      </a:lnTo>
                      <a:lnTo>
                        <a:pt x="855" y="32"/>
                      </a:lnTo>
                      <a:lnTo>
                        <a:pt x="829" y="24"/>
                      </a:lnTo>
                      <a:lnTo>
                        <a:pt x="804" y="19"/>
                      </a:lnTo>
                      <a:lnTo>
                        <a:pt x="785" y="15"/>
                      </a:lnTo>
                      <a:lnTo>
                        <a:pt x="747" y="12"/>
                      </a:lnTo>
                      <a:lnTo>
                        <a:pt x="708" y="9"/>
                      </a:lnTo>
                      <a:lnTo>
                        <a:pt x="669" y="6"/>
                      </a:lnTo>
                      <a:lnTo>
                        <a:pt x="630" y="5"/>
                      </a:lnTo>
                      <a:lnTo>
                        <a:pt x="592" y="4"/>
                      </a:lnTo>
                      <a:lnTo>
                        <a:pt x="552" y="2"/>
                      </a:lnTo>
                      <a:lnTo>
                        <a:pt x="514" y="1"/>
                      </a:lnTo>
                      <a:lnTo>
                        <a:pt x="475" y="0"/>
                      </a:lnTo>
                      <a:lnTo>
                        <a:pt x="453" y="2"/>
                      </a:lnTo>
                      <a:lnTo>
                        <a:pt x="426" y="8"/>
                      </a:lnTo>
                      <a:lnTo>
                        <a:pt x="401" y="12"/>
                      </a:lnTo>
                      <a:lnTo>
                        <a:pt x="374" y="19"/>
                      </a:lnTo>
                      <a:lnTo>
                        <a:pt x="349" y="24"/>
                      </a:lnTo>
                      <a:lnTo>
                        <a:pt x="322" y="32"/>
                      </a:lnTo>
                      <a:lnTo>
                        <a:pt x="298" y="40"/>
                      </a:lnTo>
                      <a:lnTo>
                        <a:pt x="272" y="48"/>
                      </a:lnTo>
                      <a:lnTo>
                        <a:pt x="247" y="58"/>
                      </a:lnTo>
                      <a:lnTo>
                        <a:pt x="222" y="69"/>
                      </a:lnTo>
                      <a:lnTo>
                        <a:pt x="198" y="80"/>
                      </a:lnTo>
                      <a:lnTo>
                        <a:pt x="174" y="90"/>
                      </a:lnTo>
                      <a:lnTo>
                        <a:pt x="151" y="103"/>
                      </a:lnTo>
                      <a:lnTo>
                        <a:pt x="127" y="116"/>
                      </a:lnTo>
                      <a:lnTo>
                        <a:pt x="104" y="130"/>
                      </a:lnTo>
                      <a:lnTo>
                        <a:pt x="81" y="143"/>
                      </a:lnTo>
                      <a:lnTo>
                        <a:pt x="59" y="158"/>
                      </a:lnTo>
                      <a:lnTo>
                        <a:pt x="36" y="173"/>
                      </a:lnTo>
                      <a:lnTo>
                        <a:pt x="15" y="190"/>
                      </a:lnTo>
                      <a:lnTo>
                        <a:pt x="9" y="194"/>
                      </a:lnTo>
                      <a:lnTo>
                        <a:pt x="8" y="213"/>
                      </a:lnTo>
                      <a:lnTo>
                        <a:pt x="8" y="232"/>
                      </a:lnTo>
                      <a:lnTo>
                        <a:pt x="7" y="251"/>
                      </a:lnTo>
                      <a:lnTo>
                        <a:pt x="6" y="268"/>
                      </a:lnTo>
                      <a:lnTo>
                        <a:pt x="5" y="287"/>
                      </a:lnTo>
                      <a:lnTo>
                        <a:pt x="4" y="305"/>
                      </a:lnTo>
                      <a:lnTo>
                        <a:pt x="2" y="323"/>
                      </a:lnTo>
                      <a:lnTo>
                        <a:pt x="0" y="340"/>
                      </a:lnTo>
                      <a:lnTo>
                        <a:pt x="9" y="332"/>
                      </a:lnTo>
                      <a:lnTo>
                        <a:pt x="48" y="299"/>
                      </a:lnTo>
                      <a:lnTo>
                        <a:pt x="87" y="271"/>
                      </a:lnTo>
                      <a:lnTo>
                        <a:pt x="127" y="242"/>
                      </a:lnTo>
                      <a:lnTo>
                        <a:pt x="169" y="218"/>
                      </a:lnTo>
                      <a:lnTo>
                        <a:pt x="212" y="195"/>
                      </a:lnTo>
                      <a:lnTo>
                        <a:pt x="234" y="185"/>
                      </a:lnTo>
                      <a:lnTo>
                        <a:pt x="256" y="175"/>
                      </a:lnTo>
                      <a:lnTo>
                        <a:pt x="278" y="165"/>
                      </a:lnTo>
                      <a:lnTo>
                        <a:pt x="301" y="157"/>
                      </a:lnTo>
                      <a:lnTo>
                        <a:pt x="323" y="149"/>
                      </a:lnTo>
                      <a:lnTo>
                        <a:pt x="346" y="142"/>
                      </a:lnTo>
                      <a:lnTo>
                        <a:pt x="371" y="135"/>
                      </a:lnTo>
                      <a:lnTo>
                        <a:pt x="394" y="128"/>
                      </a:lnTo>
                      <a:lnTo>
                        <a:pt x="417" y="124"/>
                      </a:lnTo>
                      <a:lnTo>
                        <a:pt x="441" y="119"/>
                      </a:lnTo>
                      <a:lnTo>
                        <a:pt x="466" y="115"/>
                      </a:lnTo>
                      <a:lnTo>
                        <a:pt x="490" y="112"/>
                      </a:lnTo>
                      <a:lnTo>
                        <a:pt x="514" y="109"/>
                      </a:lnTo>
                      <a:lnTo>
                        <a:pt x="539" y="108"/>
                      </a:lnTo>
                      <a:lnTo>
                        <a:pt x="564" y="107"/>
                      </a:lnTo>
                      <a:lnTo>
                        <a:pt x="588" y="107"/>
                      </a:lnTo>
                      <a:lnTo>
                        <a:pt x="614" y="107"/>
                      </a:lnTo>
                      <a:lnTo>
                        <a:pt x="638" y="108"/>
                      </a:lnTo>
                      <a:lnTo>
                        <a:pt x="664" y="109"/>
                      </a:lnTo>
                      <a:lnTo>
                        <a:pt x="688" y="112"/>
                      </a:lnTo>
                      <a:lnTo>
                        <a:pt x="712" y="115"/>
                      </a:lnTo>
                      <a:lnTo>
                        <a:pt x="737" y="119"/>
                      </a:lnTo>
                      <a:lnTo>
                        <a:pt x="760" y="124"/>
                      </a:lnTo>
                      <a:lnTo>
                        <a:pt x="784" y="128"/>
                      </a:lnTo>
                      <a:lnTo>
                        <a:pt x="807" y="135"/>
                      </a:lnTo>
                      <a:lnTo>
                        <a:pt x="830" y="142"/>
                      </a:lnTo>
                      <a:lnTo>
                        <a:pt x="854" y="149"/>
                      </a:lnTo>
                      <a:lnTo>
                        <a:pt x="877" y="157"/>
                      </a:lnTo>
                      <a:lnTo>
                        <a:pt x="899" y="165"/>
                      </a:lnTo>
                      <a:lnTo>
                        <a:pt x="922" y="175"/>
                      </a:lnTo>
                      <a:lnTo>
                        <a:pt x="944" y="185"/>
                      </a:lnTo>
                      <a:lnTo>
                        <a:pt x="966" y="195"/>
                      </a:lnTo>
                      <a:lnTo>
                        <a:pt x="1009" y="218"/>
                      </a:lnTo>
                      <a:lnTo>
                        <a:pt x="1050" y="242"/>
                      </a:lnTo>
                      <a:lnTo>
                        <a:pt x="1091" y="271"/>
                      </a:lnTo>
                      <a:lnTo>
                        <a:pt x="1130" y="299"/>
                      </a:lnTo>
                      <a:lnTo>
                        <a:pt x="1163" y="327"/>
                      </a:lnTo>
                      <a:lnTo>
                        <a:pt x="1159" y="308"/>
                      </a:lnTo>
                      <a:lnTo>
                        <a:pt x="1156" y="287"/>
                      </a:lnTo>
                      <a:lnTo>
                        <a:pt x="1152" y="267"/>
                      </a:lnTo>
                      <a:lnTo>
                        <a:pt x="1149" y="248"/>
                      </a:lnTo>
                      <a:lnTo>
                        <a:pt x="1145" y="228"/>
                      </a:lnTo>
                      <a:lnTo>
                        <a:pt x="1142" y="209"/>
                      </a:lnTo>
                      <a:lnTo>
                        <a:pt x="1138" y="188"/>
                      </a:lnTo>
                      <a:lnTo>
                        <a:pt x="1135" y="169"/>
                      </a:lnTo>
                      <a:close/>
                    </a:path>
                  </a:pathLst>
                </a:custGeom>
                <a:solidFill>
                  <a:srgbClr val="dbea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Freeform 29"/>
                <p:cNvSpPr/>
                <p:nvPr/>
              </p:nvSpPr>
              <p:spPr>
                <a:xfrm>
                  <a:off x="5180040" y="4095000"/>
                  <a:ext cx="2475000" cy="672120"/>
                </a:xfrm>
                <a:custGeom>
                  <a:avLst/>
                  <a:gdLst>
                    <a:gd name="textAreaLeft" fmla="*/ 0 w 2475000"/>
                    <a:gd name="textAreaRight" fmla="*/ 2475360 w 2475000"/>
                    <a:gd name="textAreaTop" fmla="*/ 0 h 672120"/>
                    <a:gd name="textAreaBottom" fmla="*/ 672480 h 672120"/>
                  </a:gdLst>
                  <a:ahLst/>
                  <a:rect l="textAreaLeft" t="textAreaTop" r="textAreaRight" b="textAreaBottom"/>
                  <a:pathLst>
                    <a:path w="1894" h="1205">
                      <a:moveTo>
                        <a:pt x="1502" y="220"/>
                      </a:moveTo>
                      <a:lnTo>
                        <a:pt x="1469" y="192"/>
                      </a:lnTo>
                      <a:lnTo>
                        <a:pt x="1430" y="164"/>
                      </a:lnTo>
                      <a:lnTo>
                        <a:pt x="1389" y="135"/>
                      </a:lnTo>
                      <a:lnTo>
                        <a:pt x="1348" y="111"/>
                      </a:lnTo>
                      <a:lnTo>
                        <a:pt x="1305" y="88"/>
                      </a:lnTo>
                      <a:lnTo>
                        <a:pt x="1283" y="78"/>
                      </a:lnTo>
                      <a:lnTo>
                        <a:pt x="1261" y="68"/>
                      </a:lnTo>
                      <a:lnTo>
                        <a:pt x="1238" y="58"/>
                      </a:lnTo>
                      <a:lnTo>
                        <a:pt x="1216" y="50"/>
                      </a:lnTo>
                      <a:lnTo>
                        <a:pt x="1193" y="42"/>
                      </a:lnTo>
                      <a:lnTo>
                        <a:pt x="1169" y="35"/>
                      </a:lnTo>
                      <a:lnTo>
                        <a:pt x="1146" y="28"/>
                      </a:lnTo>
                      <a:lnTo>
                        <a:pt x="1123" y="21"/>
                      </a:lnTo>
                      <a:lnTo>
                        <a:pt x="1099" y="17"/>
                      </a:lnTo>
                      <a:lnTo>
                        <a:pt x="1076" y="12"/>
                      </a:lnTo>
                      <a:lnTo>
                        <a:pt x="1051" y="8"/>
                      </a:lnTo>
                      <a:lnTo>
                        <a:pt x="1027" y="5"/>
                      </a:lnTo>
                      <a:lnTo>
                        <a:pt x="1003" y="2"/>
                      </a:lnTo>
                      <a:lnTo>
                        <a:pt x="977" y="1"/>
                      </a:lnTo>
                      <a:lnTo>
                        <a:pt x="953" y="0"/>
                      </a:lnTo>
                      <a:lnTo>
                        <a:pt x="927" y="0"/>
                      </a:lnTo>
                      <a:lnTo>
                        <a:pt x="903" y="0"/>
                      </a:lnTo>
                      <a:lnTo>
                        <a:pt x="878" y="1"/>
                      </a:lnTo>
                      <a:lnTo>
                        <a:pt x="853" y="2"/>
                      </a:lnTo>
                      <a:lnTo>
                        <a:pt x="829" y="5"/>
                      </a:lnTo>
                      <a:lnTo>
                        <a:pt x="805" y="8"/>
                      </a:lnTo>
                      <a:lnTo>
                        <a:pt x="780" y="12"/>
                      </a:lnTo>
                      <a:lnTo>
                        <a:pt x="756" y="17"/>
                      </a:lnTo>
                      <a:lnTo>
                        <a:pt x="733" y="21"/>
                      </a:lnTo>
                      <a:lnTo>
                        <a:pt x="710" y="28"/>
                      </a:lnTo>
                      <a:lnTo>
                        <a:pt x="685" y="35"/>
                      </a:lnTo>
                      <a:lnTo>
                        <a:pt x="662" y="42"/>
                      </a:lnTo>
                      <a:lnTo>
                        <a:pt x="640" y="50"/>
                      </a:lnTo>
                      <a:lnTo>
                        <a:pt x="617" y="58"/>
                      </a:lnTo>
                      <a:lnTo>
                        <a:pt x="595" y="68"/>
                      </a:lnTo>
                      <a:lnTo>
                        <a:pt x="573" y="78"/>
                      </a:lnTo>
                      <a:lnTo>
                        <a:pt x="551" y="88"/>
                      </a:lnTo>
                      <a:lnTo>
                        <a:pt x="508" y="111"/>
                      </a:lnTo>
                      <a:lnTo>
                        <a:pt x="466" y="135"/>
                      </a:lnTo>
                      <a:lnTo>
                        <a:pt x="426" y="164"/>
                      </a:lnTo>
                      <a:lnTo>
                        <a:pt x="387" y="192"/>
                      </a:lnTo>
                      <a:lnTo>
                        <a:pt x="348" y="225"/>
                      </a:lnTo>
                      <a:lnTo>
                        <a:pt x="339" y="233"/>
                      </a:lnTo>
                      <a:lnTo>
                        <a:pt x="337" y="258"/>
                      </a:lnTo>
                      <a:lnTo>
                        <a:pt x="333" y="281"/>
                      </a:lnTo>
                      <a:lnTo>
                        <a:pt x="330" y="304"/>
                      </a:lnTo>
                      <a:lnTo>
                        <a:pt x="326" y="327"/>
                      </a:lnTo>
                      <a:lnTo>
                        <a:pt x="322" y="350"/>
                      </a:lnTo>
                      <a:lnTo>
                        <a:pt x="318" y="372"/>
                      </a:lnTo>
                      <a:lnTo>
                        <a:pt x="312" y="395"/>
                      </a:lnTo>
                      <a:lnTo>
                        <a:pt x="308" y="416"/>
                      </a:lnTo>
                      <a:lnTo>
                        <a:pt x="311" y="412"/>
                      </a:lnTo>
                      <a:lnTo>
                        <a:pt x="341" y="378"/>
                      </a:lnTo>
                      <a:lnTo>
                        <a:pt x="374" y="346"/>
                      </a:lnTo>
                      <a:lnTo>
                        <a:pt x="406" y="316"/>
                      </a:lnTo>
                      <a:lnTo>
                        <a:pt x="441" y="287"/>
                      </a:lnTo>
                      <a:lnTo>
                        <a:pt x="476" y="260"/>
                      </a:lnTo>
                      <a:lnTo>
                        <a:pt x="513" y="236"/>
                      </a:lnTo>
                      <a:lnTo>
                        <a:pt x="550" y="213"/>
                      </a:lnTo>
                      <a:lnTo>
                        <a:pt x="588" y="192"/>
                      </a:lnTo>
                      <a:lnTo>
                        <a:pt x="629" y="175"/>
                      </a:lnTo>
                      <a:lnTo>
                        <a:pt x="669" y="159"/>
                      </a:lnTo>
                      <a:lnTo>
                        <a:pt x="710" y="145"/>
                      </a:lnTo>
                      <a:lnTo>
                        <a:pt x="752" y="133"/>
                      </a:lnTo>
                      <a:lnTo>
                        <a:pt x="795" y="125"/>
                      </a:lnTo>
                      <a:lnTo>
                        <a:pt x="838" y="118"/>
                      </a:lnTo>
                      <a:lnTo>
                        <a:pt x="883" y="114"/>
                      </a:lnTo>
                      <a:lnTo>
                        <a:pt x="927" y="112"/>
                      </a:lnTo>
                      <a:lnTo>
                        <a:pt x="973" y="114"/>
                      </a:lnTo>
                      <a:lnTo>
                        <a:pt x="1017" y="118"/>
                      </a:lnTo>
                      <a:lnTo>
                        <a:pt x="1061" y="125"/>
                      </a:lnTo>
                      <a:lnTo>
                        <a:pt x="1103" y="133"/>
                      </a:lnTo>
                      <a:lnTo>
                        <a:pt x="1145" y="145"/>
                      </a:lnTo>
                      <a:lnTo>
                        <a:pt x="1187" y="159"/>
                      </a:lnTo>
                      <a:lnTo>
                        <a:pt x="1227" y="175"/>
                      </a:lnTo>
                      <a:lnTo>
                        <a:pt x="1267" y="192"/>
                      </a:lnTo>
                      <a:lnTo>
                        <a:pt x="1306" y="213"/>
                      </a:lnTo>
                      <a:lnTo>
                        <a:pt x="1343" y="236"/>
                      </a:lnTo>
                      <a:lnTo>
                        <a:pt x="1379" y="260"/>
                      </a:lnTo>
                      <a:lnTo>
                        <a:pt x="1415" y="287"/>
                      </a:lnTo>
                      <a:lnTo>
                        <a:pt x="1448" y="316"/>
                      </a:lnTo>
                      <a:lnTo>
                        <a:pt x="1482" y="346"/>
                      </a:lnTo>
                      <a:lnTo>
                        <a:pt x="1513" y="378"/>
                      </a:lnTo>
                      <a:lnTo>
                        <a:pt x="1542" y="410"/>
                      </a:lnTo>
                      <a:lnTo>
                        <a:pt x="1535" y="388"/>
                      </a:lnTo>
                      <a:lnTo>
                        <a:pt x="1530" y="365"/>
                      </a:lnTo>
                      <a:lnTo>
                        <a:pt x="1524" y="342"/>
                      </a:lnTo>
                      <a:lnTo>
                        <a:pt x="1519" y="319"/>
                      </a:lnTo>
                      <a:lnTo>
                        <a:pt x="1514" y="294"/>
                      </a:lnTo>
                      <a:lnTo>
                        <a:pt x="1510" y="270"/>
                      </a:lnTo>
                      <a:lnTo>
                        <a:pt x="1505" y="244"/>
                      </a:lnTo>
                      <a:lnTo>
                        <a:pt x="1502" y="220"/>
                      </a:lnTo>
                      <a:close/>
                      <a:moveTo>
                        <a:pt x="1855" y="1134"/>
                      </a:moveTo>
                      <a:lnTo>
                        <a:pt x="1799" y="1134"/>
                      </a:lnTo>
                      <a:lnTo>
                        <a:pt x="1798" y="1081"/>
                      </a:lnTo>
                      <a:lnTo>
                        <a:pt x="1795" y="1030"/>
                      </a:lnTo>
                      <a:lnTo>
                        <a:pt x="1794" y="1019"/>
                      </a:lnTo>
                      <a:lnTo>
                        <a:pt x="1800" y="1034"/>
                      </a:lnTo>
                      <a:lnTo>
                        <a:pt x="1807" y="1049"/>
                      </a:lnTo>
                      <a:lnTo>
                        <a:pt x="1816" y="1062"/>
                      </a:lnTo>
                      <a:lnTo>
                        <a:pt x="1822" y="1077"/>
                      </a:lnTo>
                      <a:lnTo>
                        <a:pt x="1831" y="1091"/>
                      </a:lnTo>
                      <a:lnTo>
                        <a:pt x="1839" y="1106"/>
                      </a:lnTo>
                      <a:lnTo>
                        <a:pt x="1847" y="1119"/>
                      </a:lnTo>
                      <a:lnTo>
                        <a:pt x="1855" y="1134"/>
                      </a:lnTo>
                      <a:close/>
                      <a:moveTo>
                        <a:pt x="1562" y="434"/>
                      </a:moveTo>
                      <a:lnTo>
                        <a:pt x="1547" y="415"/>
                      </a:lnTo>
                      <a:lnTo>
                        <a:pt x="1555" y="415"/>
                      </a:lnTo>
                      <a:lnTo>
                        <a:pt x="1555" y="418"/>
                      </a:lnTo>
                      <a:lnTo>
                        <a:pt x="1556" y="420"/>
                      </a:lnTo>
                      <a:lnTo>
                        <a:pt x="1557" y="422"/>
                      </a:lnTo>
                      <a:lnTo>
                        <a:pt x="1558" y="424"/>
                      </a:lnTo>
                      <a:lnTo>
                        <a:pt x="1560" y="427"/>
                      </a:lnTo>
                      <a:lnTo>
                        <a:pt x="1561" y="430"/>
                      </a:lnTo>
                      <a:lnTo>
                        <a:pt x="1561" y="431"/>
                      </a:lnTo>
                      <a:lnTo>
                        <a:pt x="1562" y="434"/>
                      </a:lnTo>
                      <a:close/>
                      <a:moveTo>
                        <a:pt x="59" y="1054"/>
                      </a:moveTo>
                      <a:lnTo>
                        <a:pt x="58" y="1081"/>
                      </a:lnTo>
                      <a:lnTo>
                        <a:pt x="57" y="1134"/>
                      </a:lnTo>
                      <a:lnTo>
                        <a:pt x="58" y="1186"/>
                      </a:lnTo>
                      <a:lnTo>
                        <a:pt x="59" y="1201"/>
                      </a:lnTo>
                      <a:lnTo>
                        <a:pt x="51" y="1201"/>
                      </a:lnTo>
                      <a:lnTo>
                        <a:pt x="44" y="1201"/>
                      </a:lnTo>
                      <a:lnTo>
                        <a:pt x="36" y="1199"/>
                      </a:lnTo>
                      <a:lnTo>
                        <a:pt x="29" y="1199"/>
                      </a:lnTo>
                      <a:lnTo>
                        <a:pt x="22" y="1199"/>
                      </a:lnTo>
                      <a:lnTo>
                        <a:pt x="14" y="1198"/>
                      </a:lnTo>
                      <a:lnTo>
                        <a:pt x="7" y="1198"/>
                      </a:lnTo>
                      <a:lnTo>
                        <a:pt x="0" y="1198"/>
                      </a:lnTo>
                      <a:lnTo>
                        <a:pt x="7" y="1179"/>
                      </a:lnTo>
                      <a:lnTo>
                        <a:pt x="15" y="1160"/>
                      </a:lnTo>
                      <a:lnTo>
                        <a:pt x="22" y="1142"/>
                      </a:lnTo>
                      <a:lnTo>
                        <a:pt x="30" y="1125"/>
                      </a:lnTo>
                      <a:lnTo>
                        <a:pt x="37" y="1107"/>
                      </a:lnTo>
                      <a:lnTo>
                        <a:pt x="45" y="1089"/>
                      </a:lnTo>
                      <a:lnTo>
                        <a:pt x="52" y="1072"/>
                      </a:lnTo>
                      <a:lnTo>
                        <a:pt x="59" y="1054"/>
                      </a:lnTo>
                      <a:close/>
                      <a:moveTo>
                        <a:pt x="1797" y="1205"/>
                      </a:moveTo>
                      <a:lnTo>
                        <a:pt x="1798" y="1186"/>
                      </a:lnTo>
                      <a:lnTo>
                        <a:pt x="1799" y="1134"/>
                      </a:lnTo>
                      <a:lnTo>
                        <a:pt x="1855" y="1134"/>
                      </a:lnTo>
                      <a:lnTo>
                        <a:pt x="1860" y="1142"/>
                      </a:lnTo>
                      <a:lnTo>
                        <a:pt x="1864" y="1150"/>
                      </a:lnTo>
                      <a:lnTo>
                        <a:pt x="1869" y="1159"/>
                      </a:lnTo>
                      <a:lnTo>
                        <a:pt x="1873" y="1165"/>
                      </a:lnTo>
                      <a:lnTo>
                        <a:pt x="1879" y="1173"/>
                      </a:lnTo>
                      <a:lnTo>
                        <a:pt x="1884" y="1182"/>
                      </a:lnTo>
                      <a:lnTo>
                        <a:pt x="1888" y="1190"/>
                      </a:lnTo>
                      <a:lnTo>
                        <a:pt x="1894" y="1198"/>
                      </a:lnTo>
                      <a:lnTo>
                        <a:pt x="1882" y="1199"/>
                      </a:lnTo>
                      <a:lnTo>
                        <a:pt x="1870" y="1199"/>
                      </a:lnTo>
                      <a:lnTo>
                        <a:pt x="1857" y="1201"/>
                      </a:lnTo>
                      <a:lnTo>
                        <a:pt x="1846" y="1202"/>
                      </a:lnTo>
                      <a:lnTo>
                        <a:pt x="1833" y="1202"/>
                      </a:lnTo>
                      <a:lnTo>
                        <a:pt x="1821" y="1203"/>
                      </a:lnTo>
                      <a:lnTo>
                        <a:pt x="1809" y="1205"/>
                      </a:lnTo>
                      <a:lnTo>
                        <a:pt x="1797" y="1205"/>
                      </a:lnTo>
                      <a:close/>
                    </a:path>
                  </a:pathLst>
                </a:custGeom>
                <a:solidFill>
                  <a:srgbClr val="deece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Freeform 30"/>
                <p:cNvSpPr/>
                <p:nvPr/>
              </p:nvSpPr>
              <p:spPr>
                <a:xfrm>
                  <a:off x="5253480" y="4158360"/>
                  <a:ext cx="2278800" cy="612000"/>
                </a:xfrm>
                <a:custGeom>
                  <a:avLst/>
                  <a:gdLst>
                    <a:gd name="textAreaLeft" fmla="*/ 0 w 2278800"/>
                    <a:gd name="textAreaRight" fmla="*/ 2279160 w 2278800"/>
                    <a:gd name="textAreaTop" fmla="*/ 0 h 612000"/>
                    <a:gd name="textAreaBottom" fmla="*/ 612360 h 612000"/>
                  </a:gdLst>
                  <a:ahLst/>
                  <a:rect l="textAreaLeft" t="textAreaTop" r="textAreaRight" b="textAreaBottom"/>
                  <a:pathLst>
                    <a:path w="1742" h="1099">
                      <a:moveTo>
                        <a:pt x="1742" y="1022"/>
                      </a:moveTo>
                      <a:lnTo>
                        <a:pt x="1741" y="969"/>
                      </a:lnTo>
                      <a:lnTo>
                        <a:pt x="1738" y="918"/>
                      </a:lnTo>
                      <a:lnTo>
                        <a:pt x="1737" y="907"/>
                      </a:lnTo>
                      <a:lnTo>
                        <a:pt x="1719" y="871"/>
                      </a:lnTo>
                      <a:lnTo>
                        <a:pt x="1703" y="835"/>
                      </a:lnTo>
                      <a:lnTo>
                        <a:pt x="1687" y="798"/>
                      </a:lnTo>
                      <a:lnTo>
                        <a:pt x="1672" y="762"/>
                      </a:lnTo>
                      <a:lnTo>
                        <a:pt x="1642" y="687"/>
                      </a:lnTo>
                      <a:lnTo>
                        <a:pt x="1614" y="612"/>
                      </a:lnTo>
                      <a:lnTo>
                        <a:pt x="1586" y="539"/>
                      </a:lnTo>
                      <a:lnTo>
                        <a:pt x="1559" y="466"/>
                      </a:lnTo>
                      <a:lnTo>
                        <a:pt x="1533" y="393"/>
                      </a:lnTo>
                      <a:lnTo>
                        <a:pt x="1505" y="322"/>
                      </a:lnTo>
                      <a:lnTo>
                        <a:pt x="1490" y="303"/>
                      </a:lnTo>
                      <a:lnTo>
                        <a:pt x="1486" y="303"/>
                      </a:lnTo>
                      <a:lnTo>
                        <a:pt x="1486" y="302"/>
                      </a:lnTo>
                      <a:lnTo>
                        <a:pt x="1486" y="302"/>
                      </a:lnTo>
                      <a:lnTo>
                        <a:pt x="1486" y="300"/>
                      </a:lnTo>
                      <a:lnTo>
                        <a:pt x="1485" y="300"/>
                      </a:lnTo>
                      <a:lnTo>
                        <a:pt x="1485" y="299"/>
                      </a:lnTo>
                      <a:lnTo>
                        <a:pt x="1485" y="299"/>
                      </a:lnTo>
                      <a:lnTo>
                        <a:pt x="1485" y="298"/>
                      </a:lnTo>
                      <a:lnTo>
                        <a:pt x="1485" y="298"/>
                      </a:lnTo>
                      <a:lnTo>
                        <a:pt x="1456" y="266"/>
                      </a:lnTo>
                      <a:lnTo>
                        <a:pt x="1425" y="234"/>
                      </a:lnTo>
                      <a:lnTo>
                        <a:pt x="1391" y="204"/>
                      </a:lnTo>
                      <a:lnTo>
                        <a:pt x="1358" y="175"/>
                      </a:lnTo>
                      <a:lnTo>
                        <a:pt x="1322" y="148"/>
                      </a:lnTo>
                      <a:lnTo>
                        <a:pt x="1286" y="124"/>
                      </a:lnTo>
                      <a:lnTo>
                        <a:pt x="1249" y="101"/>
                      </a:lnTo>
                      <a:lnTo>
                        <a:pt x="1210" y="80"/>
                      </a:lnTo>
                      <a:lnTo>
                        <a:pt x="1170" y="63"/>
                      </a:lnTo>
                      <a:lnTo>
                        <a:pt x="1130" y="47"/>
                      </a:lnTo>
                      <a:lnTo>
                        <a:pt x="1088" y="33"/>
                      </a:lnTo>
                      <a:lnTo>
                        <a:pt x="1046" y="21"/>
                      </a:lnTo>
                      <a:lnTo>
                        <a:pt x="1004" y="13"/>
                      </a:lnTo>
                      <a:lnTo>
                        <a:pt x="960" y="6"/>
                      </a:lnTo>
                      <a:lnTo>
                        <a:pt x="916" y="2"/>
                      </a:lnTo>
                      <a:lnTo>
                        <a:pt x="870" y="0"/>
                      </a:lnTo>
                      <a:lnTo>
                        <a:pt x="826" y="2"/>
                      </a:lnTo>
                      <a:lnTo>
                        <a:pt x="781" y="6"/>
                      </a:lnTo>
                      <a:lnTo>
                        <a:pt x="738" y="13"/>
                      </a:lnTo>
                      <a:lnTo>
                        <a:pt x="695" y="21"/>
                      </a:lnTo>
                      <a:lnTo>
                        <a:pt x="653" y="33"/>
                      </a:lnTo>
                      <a:lnTo>
                        <a:pt x="612" y="47"/>
                      </a:lnTo>
                      <a:lnTo>
                        <a:pt x="572" y="63"/>
                      </a:lnTo>
                      <a:lnTo>
                        <a:pt x="531" y="80"/>
                      </a:lnTo>
                      <a:lnTo>
                        <a:pt x="493" y="101"/>
                      </a:lnTo>
                      <a:lnTo>
                        <a:pt x="456" y="124"/>
                      </a:lnTo>
                      <a:lnTo>
                        <a:pt x="419" y="148"/>
                      </a:lnTo>
                      <a:lnTo>
                        <a:pt x="384" y="175"/>
                      </a:lnTo>
                      <a:lnTo>
                        <a:pt x="349" y="204"/>
                      </a:lnTo>
                      <a:lnTo>
                        <a:pt x="317" y="234"/>
                      </a:lnTo>
                      <a:lnTo>
                        <a:pt x="284" y="266"/>
                      </a:lnTo>
                      <a:lnTo>
                        <a:pt x="254" y="300"/>
                      </a:lnTo>
                      <a:lnTo>
                        <a:pt x="251" y="304"/>
                      </a:lnTo>
                      <a:lnTo>
                        <a:pt x="240" y="345"/>
                      </a:lnTo>
                      <a:lnTo>
                        <a:pt x="230" y="384"/>
                      </a:lnTo>
                      <a:lnTo>
                        <a:pt x="217" y="424"/>
                      </a:lnTo>
                      <a:lnTo>
                        <a:pt x="204" y="463"/>
                      </a:lnTo>
                      <a:lnTo>
                        <a:pt x="191" y="501"/>
                      </a:lnTo>
                      <a:lnTo>
                        <a:pt x="177" y="540"/>
                      </a:lnTo>
                      <a:lnTo>
                        <a:pt x="162" y="578"/>
                      </a:lnTo>
                      <a:lnTo>
                        <a:pt x="145" y="616"/>
                      </a:lnTo>
                      <a:lnTo>
                        <a:pt x="112" y="694"/>
                      </a:lnTo>
                      <a:lnTo>
                        <a:pt x="77" y="774"/>
                      </a:lnTo>
                      <a:lnTo>
                        <a:pt x="40" y="857"/>
                      </a:lnTo>
                      <a:lnTo>
                        <a:pt x="2" y="942"/>
                      </a:lnTo>
                      <a:lnTo>
                        <a:pt x="1" y="969"/>
                      </a:lnTo>
                      <a:lnTo>
                        <a:pt x="0" y="1022"/>
                      </a:lnTo>
                      <a:lnTo>
                        <a:pt x="1" y="1074"/>
                      </a:lnTo>
                      <a:lnTo>
                        <a:pt x="2" y="1089"/>
                      </a:lnTo>
                      <a:lnTo>
                        <a:pt x="13" y="1089"/>
                      </a:lnTo>
                      <a:lnTo>
                        <a:pt x="26" y="1090"/>
                      </a:lnTo>
                      <a:lnTo>
                        <a:pt x="38" y="1090"/>
                      </a:lnTo>
                      <a:lnTo>
                        <a:pt x="50" y="1091"/>
                      </a:lnTo>
                      <a:lnTo>
                        <a:pt x="62" y="1091"/>
                      </a:lnTo>
                      <a:lnTo>
                        <a:pt x="75" y="1093"/>
                      </a:lnTo>
                      <a:lnTo>
                        <a:pt x="86" y="1093"/>
                      </a:lnTo>
                      <a:lnTo>
                        <a:pt x="99" y="1093"/>
                      </a:lnTo>
                      <a:lnTo>
                        <a:pt x="97" y="1068"/>
                      </a:lnTo>
                      <a:lnTo>
                        <a:pt x="96" y="1022"/>
                      </a:lnTo>
                      <a:lnTo>
                        <a:pt x="97" y="975"/>
                      </a:lnTo>
                      <a:lnTo>
                        <a:pt x="100" y="928"/>
                      </a:lnTo>
                      <a:lnTo>
                        <a:pt x="105" y="884"/>
                      </a:lnTo>
                      <a:lnTo>
                        <a:pt x="112" y="839"/>
                      </a:lnTo>
                      <a:lnTo>
                        <a:pt x="121" y="794"/>
                      </a:lnTo>
                      <a:lnTo>
                        <a:pt x="132" y="752"/>
                      </a:lnTo>
                      <a:lnTo>
                        <a:pt x="143" y="710"/>
                      </a:lnTo>
                      <a:lnTo>
                        <a:pt x="157" y="668"/>
                      </a:lnTo>
                      <a:lnTo>
                        <a:pt x="172" y="629"/>
                      </a:lnTo>
                      <a:lnTo>
                        <a:pt x="189" y="589"/>
                      </a:lnTo>
                      <a:lnTo>
                        <a:pt x="208" y="551"/>
                      </a:lnTo>
                      <a:lnTo>
                        <a:pt x="229" y="515"/>
                      </a:lnTo>
                      <a:lnTo>
                        <a:pt x="250" y="478"/>
                      </a:lnTo>
                      <a:lnTo>
                        <a:pt x="273" y="444"/>
                      </a:lnTo>
                      <a:lnTo>
                        <a:pt x="297" y="412"/>
                      </a:lnTo>
                      <a:lnTo>
                        <a:pt x="323" y="380"/>
                      </a:lnTo>
                      <a:lnTo>
                        <a:pt x="350" y="349"/>
                      </a:lnTo>
                      <a:lnTo>
                        <a:pt x="378" y="321"/>
                      </a:lnTo>
                      <a:lnTo>
                        <a:pt x="407" y="295"/>
                      </a:lnTo>
                      <a:lnTo>
                        <a:pt x="437" y="269"/>
                      </a:lnTo>
                      <a:lnTo>
                        <a:pt x="470" y="246"/>
                      </a:lnTo>
                      <a:lnTo>
                        <a:pt x="502" y="223"/>
                      </a:lnTo>
                      <a:lnTo>
                        <a:pt x="535" y="204"/>
                      </a:lnTo>
                      <a:lnTo>
                        <a:pt x="569" y="185"/>
                      </a:lnTo>
                      <a:lnTo>
                        <a:pt x="604" y="169"/>
                      </a:lnTo>
                      <a:lnTo>
                        <a:pt x="640" y="155"/>
                      </a:lnTo>
                      <a:lnTo>
                        <a:pt x="677" y="143"/>
                      </a:lnTo>
                      <a:lnTo>
                        <a:pt x="715" y="132"/>
                      </a:lnTo>
                      <a:lnTo>
                        <a:pt x="752" y="124"/>
                      </a:lnTo>
                      <a:lnTo>
                        <a:pt x="792" y="118"/>
                      </a:lnTo>
                      <a:lnTo>
                        <a:pt x="831" y="116"/>
                      </a:lnTo>
                      <a:lnTo>
                        <a:pt x="870" y="114"/>
                      </a:lnTo>
                      <a:lnTo>
                        <a:pt x="911" y="116"/>
                      </a:lnTo>
                      <a:lnTo>
                        <a:pt x="950" y="118"/>
                      </a:lnTo>
                      <a:lnTo>
                        <a:pt x="988" y="124"/>
                      </a:lnTo>
                      <a:lnTo>
                        <a:pt x="1027" y="132"/>
                      </a:lnTo>
                      <a:lnTo>
                        <a:pt x="1064" y="143"/>
                      </a:lnTo>
                      <a:lnTo>
                        <a:pt x="1101" y="155"/>
                      </a:lnTo>
                      <a:lnTo>
                        <a:pt x="1137" y="169"/>
                      </a:lnTo>
                      <a:lnTo>
                        <a:pt x="1173" y="185"/>
                      </a:lnTo>
                      <a:lnTo>
                        <a:pt x="1206" y="204"/>
                      </a:lnTo>
                      <a:lnTo>
                        <a:pt x="1240" y="223"/>
                      </a:lnTo>
                      <a:lnTo>
                        <a:pt x="1272" y="246"/>
                      </a:lnTo>
                      <a:lnTo>
                        <a:pt x="1303" y="269"/>
                      </a:lnTo>
                      <a:lnTo>
                        <a:pt x="1334" y="295"/>
                      </a:lnTo>
                      <a:lnTo>
                        <a:pt x="1364" y="321"/>
                      </a:lnTo>
                      <a:lnTo>
                        <a:pt x="1391" y="349"/>
                      </a:lnTo>
                      <a:lnTo>
                        <a:pt x="1418" y="380"/>
                      </a:lnTo>
                      <a:lnTo>
                        <a:pt x="1444" y="412"/>
                      </a:lnTo>
                      <a:lnTo>
                        <a:pt x="1468" y="444"/>
                      </a:lnTo>
                      <a:lnTo>
                        <a:pt x="1491" y="478"/>
                      </a:lnTo>
                      <a:lnTo>
                        <a:pt x="1513" y="515"/>
                      </a:lnTo>
                      <a:lnTo>
                        <a:pt x="1533" y="551"/>
                      </a:lnTo>
                      <a:lnTo>
                        <a:pt x="1551" y="589"/>
                      </a:lnTo>
                      <a:lnTo>
                        <a:pt x="1569" y="629"/>
                      </a:lnTo>
                      <a:lnTo>
                        <a:pt x="1585" y="668"/>
                      </a:lnTo>
                      <a:lnTo>
                        <a:pt x="1599" y="710"/>
                      </a:lnTo>
                      <a:lnTo>
                        <a:pt x="1610" y="752"/>
                      </a:lnTo>
                      <a:lnTo>
                        <a:pt x="1621" y="794"/>
                      </a:lnTo>
                      <a:lnTo>
                        <a:pt x="1630" y="839"/>
                      </a:lnTo>
                      <a:lnTo>
                        <a:pt x="1636" y="884"/>
                      </a:lnTo>
                      <a:lnTo>
                        <a:pt x="1642" y="928"/>
                      </a:lnTo>
                      <a:lnTo>
                        <a:pt x="1644" y="975"/>
                      </a:lnTo>
                      <a:lnTo>
                        <a:pt x="1645" y="1022"/>
                      </a:lnTo>
                      <a:lnTo>
                        <a:pt x="1742" y="1022"/>
                      </a:lnTo>
                      <a:lnTo>
                        <a:pt x="1741" y="1074"/>
                      </a:lnTo>
                      <a:lnTo>
                        <a:pt x="1740" y="1093"/>
                      </a:lnTo>
                      <a:lnTo>
                        <a:pt x="1727" y="1094"/>
                      </a:lnTo>
                      <a:lnTo>
                        <a:pt x="1716" y="1094"/>
                      </a:lnTo>
                      <a:lnTo>
                        <a:pt x="1703" y="1095"/>
                      </a:lnTo>
                      <a:lnTo>
                        <a:pt x="1691" y="1095"/>
                      </a:lnTo>
                      <a:lnTo>
                        <a:pt x="1679" y="1097"/>
                      </a:lnTo>
                      <a:lnTo>
                        <a:pt x="1667" y="1098"/>
                      </a:lnTo>
                      <a:lnTo>
                        <a:pt x="1654" y="1098"/>
                      </a:lnTo>
                      <a:lnTo>
                        <a:pt x="1643" y="1099"/>
                      </a:lnTo>
                      <a:lnTo>
                        <a:pt x="1644" y="1068"/>
                      </a:lnTo>
                      <a:lnTo>
                        <a:pt x="1645" y="1022"/>
                      </a:lnTo>
                      <a:lnTo>
                        <a:pt x="1742" y="1022"/>
                      </a:lnTo>
                      <a:close/>
                    </a:path>
                  </a:pathLst>
                </a:custGeom>
                <a:solidFill>
                  <a:srgbClr val="e2eee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Freeform 31"/>
                <p:cNvSpPr/>
                <p:nvPr/>
              </p:nvSpPr>
              <p:spPr>
                <a:xfrm>
                  <a:off x="5378400" y="4222080"/>
                  <a:ext cx="2025720" cy="551520"/>
                </a:xfrm>
                <a:custGeom>
                  <a:avLst/>
                  <a:gdLst>
                    <a:gd name="textAreaLeft" fmla="*/ 0 w 2025720"/>
                    <a:gd name="textAreaRight" fmla="*/ 2026080 w 2025720"/>
                    <a:gd name="textAreaTop" fmla="*/ 0 h 551520"/>
                    <a:gd name="textAreaBottom" fmla="*/ 551880 h 551520"/>
                  </a:gdLst>
                  <a:ahLst/>
                  <a:rect l="textAreaLeft" t="textAreaTop" r="textAreaRight" b="textAreaBottom"/>
                  <a:pathLst>
                    <a:path w="1549" h="990">
                      <a:moveTo>
                        <a:pt x="1549" y="908"/>
                      </a:moveTo>
                      <a:lnTo>
                        <a:pt x="1548" y="861"/>
                      </a:lnTo>
                      <a:lnTo>
                        <a:pt x="1546" y="814"/>
                      </a:lnTo>
                      <a:lnTo>
                        <a:pt x="1540" y="770"/>
                      </a:lnTo>
                      <a:lnTo>
                        <a:pt x="1534" y="725"/>
                      </a:lnTo>
                      <a:lnTo>
                        <a:pt x="1525" y="680"/>
                      </a:lnTo>
                      <a:lnTo>
                        <a:pt x="1514" y="638"/>
                      </a:lnTo>
                      <a:lnTo>
                        <a:pt x="1503" y="596"/>
                      </a:lnTo>
                      <a:lnTo>
                        <a:pt x="1489" y="554"/>
                      </a:lnTo>
                      <a:lnTo>
                        <a:pt x="1473" y="515"/>
                      </a:lnTo>
                      <a:lnTo>
                        <a:pt x="1455" y="475"/>
                      </a:lnTo>
                      <a:lnTo>
                        <a:pt x="1437" y="437"/>
                      </a:lnTo>
                      <a:lnTo>
                        <a:pt x="1417" y="401"/>
                      </a:lnTo>
                      <a:lnTo>
                        <a:pt x="1395" y="364"/>
                      </a:lnTo>
                      <a:lnTo>
                        <a:pt x="1372" y="330"/>
                      </a:lnTo>
                      <a:lnTo>
                        <a:pt x="1348" y="298"/>
                      </a:lnTo>
                      <a:lnTo>
                        <a:pt x="1322" y="266"/>
                      </a:lnTo>
                      <a:lnTo>
                        <a:pt x="1295" y="235"/>
                      </a:lnTo>
                      <a:lnTo>
                        <a:pt x="1268" y="207"/>
                      </a:lnTo>
                      <a:lnTo>
                        <a:pt x="1238" y="181"/>
                      </a:lnTo>
                      <a:lnTo>
                        <a:pt x="1207" y="155"/>
                      </a:lnTo>
                      <a:lnTo>
                        <a:pt x="1176" y="132"/>
                      </a:lnTo>
                      <a:lnTo>
                        <a:pt x="1144" y="109"/>
                      </a:lnTo>
                      <a:lnTo>
                        <a:pt x="1110" y="90"/>
                      </a:lnTo>
                      <a:lnTo>
                        <a:pt x="1077" y="71"/>
                      </a:lnTo>
                      <a:lnTo>
                        <a:pt x="1041" y="55"/>
                      </a:lnTo>
                      <a:lnTo>
                        <a:pt x="1005" y="41"/>
                      </a:lnTo>
                      <a:lnTo>
                        <a:pt x="968" y="29"/>
                      </a:lnTo>
                      <a:lnTo>
                        <a:pt x="931" y="18"/>
                      </a:lnTo>
                      <a:lnTo>
                        <a:pt x="892" y="10"/>
                      </a:lnTo>
                      <a:lnTo>
                        <a:pt x="854" y="4"/>
                      </a:lnTo>
                      <a:lnTo>
                        <a:pt x="815" y="2"/>
                      </a:lnTo>
                      <a:lnTo>
                        <a:pt x="774" y="0"/>
                      </a:lnTo>
                      <a:lnTo>
                        <a:pt x="735" y="2"/>
                      </a:lnTo>
                      <a:lnTo>
                        <a:pt x="696" y="4"/>
                      </a:lnTo>
                      <a:lnTo>
                        <a:pt x="656" y="10"/>
                      </a:lnTo>
                      <a:lnTo>
                        <a:pt x="619" y="18"/>
                      </a:lnTo>
                      <a:lnTo>
                        <a:pt x="581" y="29"/>
                      </a:lnTo>
                      <a:lnTo>
                        <a:pt x="544" y="41"/>
                      </a:lnTo>
                      <a:lnTo>
                        <a:pt x="508" y="55"/>
                      </a:lnTo>
                      <a:lnTo>
                        <a:pt x="473" y="71"/>
                      </a:lnTo>
                      <a:lnTo>
                        <a:pt x="439" y="90"/>
                      </a:lnTo>
                      <a:lnTo>
                        <a:pt x="406" y="109"/>
                      </a:lnTo>
                      <a:lnTo>
                        <a:pt x="374" y="132"/>
                      </a:lnTo>
                      <a:lnTo>
                        <a:pt x="341" y="155"/>
                      </a:lnTo>
                      <a:lnTo>
                        <a:pt x="311" y="181"/>
                      </a:lnTo>
                      <a:lnTo>
                        <a:pt x="282" y="207"/>
                      </a:lnTo>
                      <a:lnTo>
                        <a:pt x="254" y="235"/>
                      </a:lnTo>
                      <a:lnTo>
                        <a:pt x="227" y="266"/>
                      </a:lnTo>
                      <a:lnTo>
                        <a:pt x="201" y="298"/>
                      </a:lnTo>
                      <a:lnTo>
                        <a:pt x="177" y="330"/>
                      </a:lnTo>
                      <a:lnTo>
                        <a:pt x="154" y="364"/>
                      </a:lnTo>
                      <a:lnTo>
                        <a:pt x="133" y="401"/>
                      </a:lnTo>
                      <a:lnTo>
                        <a:pt x="112" y="437"/>
                      </a:lnTo>
                      <a:lnTo>
                        <a:pt x="93" y="475"/>
                      </a:lnTo>
                      <a:lnTo>
                        <a:pt x="76" y="515"/>
                      </a:lnTo>
                      <a:lnTo>
                        <a:pt x="61" y="554"/>
                      </a:lnTo>
                      <a:lnTo>
                        <a:pt x="47" y="596"/>
                      </a:lnTo>
                      <a:lnTo>
                        <a:pt x="36" y="638"/>
                      </a:lnTo>
                      <a:lnTo>
                        <a:pt x="25" y="680"/>
                      </a:lnTo>
                      <a:lnTo>
                        <a:pt x="16" y="725"/>
                      </a:lnTo>
                      <a:lnTo>
                        <a:pt x="9" y="770"/>
                      </a:lnTo>
                      <a:lnTo>
                        <a:pt x="4" y="814"/>
                      </a:lnTo>
                      <a:lnTo>
                        <a:pt x="1" y="861"/>
                      </a:lnTo>
                      <a:lnTo>
                        <a:pt x="0" y="908"/>
                      </a:lnTo>
                      <a:lnTo>
                        <a:pt x="1" y="954"/>
                      </a:lnTo>
                      <a:lnTo>
                        <a:pt x="3" y="979"/>
                      </a:lnTo>
                      <a:lnTo>
                        <a:pt x="15" y="980"/>
                      </a:lnTo>
                      <a:lnTo>
                        <a:pt x="27" y="980"/>
                      </a:lnTo>
                      <a:lnTo>
                        <a:pt x="39" y="981"/>
                      </a:lnTo>
                      <a:lnTo>
                        <a:pt x="52" y="981"/>
                      </a:lnTo>
                      <a:lnTo>
                        <a:pt x="63" y="981"/>
                      </a:lnTo>
                      <a:lnTo>
                        <a:pt x="76" y="983"/>
                      </a:lnTo>
                      <a:lnTo>
                        <a:pt x="88" y="983"/>
                      </a:lnTo>
                      <a:lnTo>
                        <a:pt x="100" y="983"/>
                      </a:lnTo>
                      <a:lnTo>
                        <a:pt x="98" y="949"/>
                      </a:lnTo>
                      <a:lnTo>
                        <a:pt x="97" y="908"/>
                      </a:lnTo>
                      <a:lnTo>
                        <a:pt x="98" y="866"/>
                      </a:lnTo>
                      <a:lnTo>
                        <a:pt x="100" y="827"/>
                      </a:lnTo>
                      <a:lnTo>
                        <a:pt x="105" y="786"/>
                      </a:lnTo>
                      <a:lnTo>
                        <a:pt x="111" y="748"/>
                      </a:lnTo>
                      <a:lnTo>
                        <a:pt x="119" y="709"/>
                      </a:lnTo>
                      <a:lnTo>
                        <a:pt x="127" y="672"/>
                      </a:lnTo>
                      <a:lnTo>
                        <a:pt x="139" y="634"/>
                      </a:lnTo>
                      <a:lnTo>
                        <a:pt x="150" y="599"/>
                      </a:lnTo>
                      <a:lnTo>
                        <a:pt x="164" y="563"/>
                      </a:lnTo>
                      <a:lnTo>
                        <a:pt x="179" y="530"/>
                      </a:lnTo>
                      <a:lnTo>
                        <a:pt x="195" y="496"/>
                      </a:lnTo>
                      <a:lnTo>
                        <a:pt x="213" y="463"/>
                      </a:lnTo>
                      <a:lnTo>
                        <a:pt x="231" y="432"/>
                      </a:lnTo>
                      <a:lnTo>
                        <a:pt x="252" y="402"/>
                      </a:lnTo>
                      <a:lnTo>
                        <a:pt x="273" y="373"/>
                      </a:lnTo>
                      <a:lnTo>
                        <a:pt x="296" y="346"/>
                      </a:lnTo>
                      <a:lnTo>
                        <a:pt x="319" y="319"/>
                      </a:lnTo>
                      <a:lnTo>
                        <a:pt x="344" y="295"/>
                      </a:lnTo>
                      <a:lnTo>
                        <a:pt x="369" y="272"/>
                      </a:lnTo>
                      <a:lnTo>
                        <a:pt x="396" y="249"/>
                      </a:lnTo>
                      <a:lnTo>
                        <a:pt x="423" y="228"/>
                      </a:lnTo>
                      <a:lnTo>
                        <a:pt x="451" y="209"/>
                      </a:lnTo>
                      <a:lnTo>
                        <a:pt x="481" y="192"/>
                      </a:lnTo>
                      <a:lnTo>
                        <a:pt x="511" y="175"/>
                      </a:lnTo>
                      <a:lnTo>
                        <a:pt x="542" y="162"/>
                      </a:lnTo>
                      <a:lnTo>
                        <a:pt x="573" y="150"/>
                      </a:lnTo>
                      <a:lnTo>
                        <a:pt x="605" y="139"/>
                      </a:lnTo>
                      <a:lnTo>
                        <a:pt x="638" y="129"/>
                      </a:lnTo>
                      <a:lnTo>
                        <a:pt x="671" y="122"/>
                      </a:lnTo>
                      <a:lnTo>
                        <a:pt x="705" y="117"/>
                      </a:lnTo>
                      <a:lnTo>
                        <a:pt x="740" y="114"/>
                      </a:lnTo>
                      <a:lnTo>
                        <a:pt x="774" y="113"/>
                      </a:lnTo>
                      <a:lnTo>
                        <a:pt x="809" y="114"/>
                      </a:lnTo>
                      <a:lnTo>
                        <a:pt x="844" y="117"/>
                      </a:lnTo>
                      <a:lnTo>
                        <a:pt x="877" y="122"/>
                      </a:lnTo>
                      <a:lnTo>
                        <a:pt x="911" y="129"/>
                      </a:lnTo>
                      <a:lnTo>
                        <a:pt x="945" y="139"/>
                      </a:lnTo>
                      <a:lnTo>
                        <a:pt x="976" y="150"/>
                      </a:lnTo>
                      <a:lnTo>
                        <a:pt x="1008" y="162"/>
                      </a:lnTo>
                      <a:lnTo>
                        <a:pt x="1038" y="175"/>
                      </a:lnTo>
                      <a:lnTo>
                        <a:pt x="1068" y="192"/>
                      </a:lnTo>
                      <a:lnTo>
                        <a:pt x="1097" y="209"/>
                      </a:lnTo>
                      <a:lnTo>
                        <a:pt x="1126" y="228"/>
                      </a:lnTo>
                      <a:lnTo>
                        <a:pt x="1154" y="249"/>
                      </a:lnTo>
                      <a:lnTo>
                        <a:pt x="1180" y="272"/>
                      </a:lnTo>
                      <a:lnTo>
                        <a:pt x="1206" y="295"/>
                      </a:lnTo>
                      <a:lnTo>
                        <a:pt x="1231" y="319"/>
                      </a:lnTo>
                      <a:lnTo>
                        <a:pt x="1254" y="346"/>
                      </a:lnTo>
                      <a:lnTo>
                        <a:pt x="1277" y="373"/>
                      </a:lnTo>
                      <a:lnTo>
                        <a:pt x="1298" y="402"/>
                      </a:lnTo>
                      <a:lnTo>
                        <a:pt x="1317" y="432"/>
                      </a:lnTo>
                      <a:lnTo>
                        <a:pt x="1337" y="463"/>
                      </a:lnTo>
                      <a:lnTo>
                        <a:pt x="1355" y="496"/>
                      </a:lnTo>
                      <a:lnTo>
                        <a:pt x="1371" y="530"/>
                      </a:lnTo>
                      <a:lnTo>
                        <a:pt x="1386" y="563"/>
                      </a:lnTo>
                      <a:lnTo>
                        <a:pt x="1400" y="599"/>
                      </a:lnTo>
                      <a:lnTo>
                        <a:pt x="1411" y="634"/>
                      </a:lnTo>
                      <a:lnTo>
                        <a:pt x="1422" y="672"/>
                      </a:lnTo>
                      <a:lnTo>
                        <a:pt x="1431" y="709"/>
                      </a:lnTo>
                      <a:lnTo>
                        <a:pt x="1439" y="748"/>
                      </a:lnTo>
                      <a:lnTo>
                        <a:pt x="1445" y="786"/>
                      </a:lnTo>
                      <a:lnTo>
                        <a:pt x="1449" y="827"/>
                      </a:lnTo>
                      <a:lnTo>
                        <a:pt x="1452" y="866"/>
                      </a:lnTo>
                      <a:lnTo>
                        <a:pt x="1453" y="908"/>
                      </a:lnTo>
                      <a:lnTo>
                        <a:pt x="1549" y="908"/>
                      </a:lnTo>
                      <a:lnTo>
                        <a:pt x="1548" y="954"/>
                      </a:lnTo>
                      <a:lnTo>
                        <a:pt x="1547" y="985"/>
                      </a:lnTo>
                      <a:lnTo>
                        <a:pt x="1534" y="985"/>
                      </a:lnTo>
                      <a:lnTo>
                        <a:pt x="1522" y="987"/>
                      </a:lnTo>
                      <a:lnTo>
                        <a:pt x="1510" y="987"/>
                      </a:lnTo>
                      <a:lnTo>
                        <a:pt x="1498" y="987"/>
                      </a:lnTo>
                      <a:lnTo>
                        <a:pt x="1485" y="988"/>
                      </a:lnTo>
                      <a:lnTo>
                        <a:pt x="1474" y="988"/>
                      </a:lnTo>
                      <a:lnTo>
                        <a:pt x="1461" y="990"/>
                      </a:lnTo>
                      <a:lnTo>
                        <a:pt x="1448" y="990"/>
                      </a:lnTo>
                      <a:lnTo>
                        <a:pt x="1449" y="988"/>
                      </a:lnTo>
                      <a:lnTo>
                        <a:pt x="1452" y="949"/>
                      </a:lnTo>
                      <a:lnTo>
                        <a:pt x="1453" y="908"/>
                      </a:lnTo>
                      <a:lnTo>
                        <a:pt x="1549" y="908"/>
                      </a:lnTo>
                      <a:close/>
                    </a:path>
                  </a:pathLst>
                </a:custGeom>
                <a:solidFill>
                  <a:srgbClr val="e5efe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Freeform 32"/>
                <p:cNvSpPr/>
                <p:nvPr/>
              </p:nvSpPr>
              <p:spPr>
                <a:xfrm>
                  <a:off x="5506560" y="4284000"/>
                  <a:ext cx="1771920" cy="491760"/>
                </a:xfrm>
                <a:custGeom>
                  <a:avLst/>
                  <a:gdLst>
                    <a:gd name="textAreaLeft" fmla="*/ 0 w 1771920"/>
                    <a:gd name="textAreaRight" fmla="*/ 1772280 w 1771920"/>
                    <a:gd name="textAreaTop" fmla="*/ 0 h 491760"/>
                    <a:gd name="textAreaBottom" fmla="*/ 492120 h 491760"/>
                  </a:gdLst>
                  <a:ahLst/>
                  <a:rect l="textAreaLeft" t="textAreaTop" r="textAreaRight" b="textAreaBottom"/>
                  <a:pathLst>
                    <a:path w="1356" h="881">
                      <a:moveTo>
                        <a:pt x="1356" y="795"/>
                      </a:moveTo>
                      <a:lnTo>
                        <a:pt x="1355" y="753"/>
                      </a:lnTo>
                      <a:lnTo>
                        <a:pt x="1352" y="714"/>
                      </a:lnTo>
                      <a:lnTo>
                        <a:pt x="1348" y="673"/>
                      </a:lnTo>
                      <a:lnTo>
                        <a:pt x="1342" y="635"/>
                      </a:lnTo>
                      <a:lnTo>
                        <a:pt x="1334" y="596"/>
                      </a:lnTo>
                      <a:lnTo>
                        <a:pt x="1325" y="559"/>
                      </a:lnTo>
                      <a:lnTo>
                        <a:pt x="1314" y="521"/>
                      </a:lnTo>
                      <a:lnTo>
                        <a:pt x="1303" y="486"/>
                      </a:lnTo>
                      <a:lnTo>
                        <a:pt x="1289" y="450"/>
                      </a:lnTo>
                      <a:lnTo>
                        <a:pt x="1274" y="417"/>
                      </a:lnTo>
                      <a:lnTo>
                        <a:pt x="1258" y="383"/>
                      </a:lnTo>
                      <a:lnTo>
                        <a:pt x="1240" y="350"/>
                      </a:lnTo>
                      <a:lnTo>
                        <a:pt x="1220" y="319"/>
                      </a:lnTo>
                      <a:lnTo>
                        <a:pt x="1201" y="289"/>
                      </a:lnTo>
                      <a:lnTo>
                        <a:pt x="1180" y="260"/>
                      </a:lnTo>
                      <a:lnTo>
                        <a:pt x="1157" y="233"/>
                      </a:lnTo>
                      <a:lnTo>
                        <a:pt x="1134" y="206"/>
                      </a:lnTo>
                      <a:lnTo>
                        <a:pt x="1109" y="182"/>
                      </a:lnTo>
                      <a:lnTo>
                        <a:pt x="1083" y="159"/>
                      </a:lnTo>
                      <a:lnTo>
                        <a:pt x="1057" y="136"/>
                      </a:lnTo>
                      <a:lnTo>
                        <a:pt x="1029" y="115"/>
                      </a:lnTo>
                      <a:lnTo>
                        <a:pt x="1000" y="96"/>
                      </a:lnTo>
                      <a:lnTo>
                        <a:pt x="971" y="79"/>
                      </a:lnTo>
                      <a:lnTo>
                        <a:pt x="941" y="62"/>
                      </a:lnTo>
                      <a:lnTo>
                        <a:pt x="911" y="49"/>
                      </a:lnTo>
                      <a:lnTo>
                        <a:pt x="879" y="37"/>
                      </a:lnTo>
                      <a:lnTo>
                        <a:pt x="848" y="26"/>
                      </a:lnTo>
                      <a:lnTo>
                        <a:pt x="814" y="16"/>
                      </a:lnTo>
                      <a:lnTo>
                        <a:pt x="780" y="9"/>
                      </a:lnTo>
                      <a:lnTo>
                        <a:pt x="747" y="4"/>
                      </a:lnTo>
                      <a:lnTo>
                        <a:pt x="712" y="1"/>
                      </a:lnTo>
                      <a:lnTo>
                        <a:pt x="677" y="0"/>
                      </a:lnTo>
                      <a:lnTo>
                        <a:pt x="643" y="1"/>
                      </a:lnTo>
                      <a:lnTo>
                        <a:pt x="608" y="4"/>
                      </a:lnTo>
                      <a:lnTo>
                        <a:pt x="574" y="9"/>
                      </a:lnTo>
                      <a:lnTo>
                        <a:pt x="541" y="16"/>
                      </a:lnTo>
                      <a:lnTo>
                        <a:pt x="508" y="26"/>
                      </a:lnTo>
                      <a:lnTo>
                        <a:pt x="476" y="37"/>
                      </a:lnTo>
                      <a:lnTo>
                        <a:pt x="445" y="49"/>
                      </a:lnTo>
                      <a:lnTo>
                        <a:pt x="414" y="62"/>
                      </a:lnTo>
                      <a:lnTo>
                        <a:pt x="384" y="79"/>
                      </a:lnTo>
                      <a:lnTo>
                        <a:pt x="354" y="96"/>
                      </a:lnTo>
                      <a:lnTo>
                        <a:pt x="326" y="115"/>
                      </a:lnTo>
                      <a:lnTo>
                        <a:pt x="299" y="136"/>
                      </a:lnTo>
                      <a:lnTo>
                        <a:pt x="272" y="159"/>
                      </a:lnTo>
                      <a:lnTo>
                        <a:pt x="247" y="182"/>
                      </a:lnTo>
                      <a:lnTo>
                        <a:pt x="222" y="206"/>
                      </a:lnTo>
                      <a:lnTo>
                        <a:pt x="199" y="233"/>
                      </a:lnTo>
                      <a:lnTo>
                        <a:pt x="176" y="260"/>
                      </a:lnTo>
                      <a:lnTo>
                        <a:pt x="155" y="289"/>
                      </a:lnTo>
                      <a:lnTo>
                        <a:pt x="134" y="319"/>
                      </a:lnTo>
                      <a:lnTo>
                        <a:pt x="116" y="350"/>
                      </a:lnTo>
                      <a:lnTo>
                        <a:pt x="98" y="383"/>
                      </a:lnTo>
                      <a:lnTo>
                        <a:pt x="82" y="417"/>
                      </a:lnTo>
                      <a:lnTo>
                        <a:pt x="67" y="450"/>
                      </a:lnTo>
                      <a:lnTo>
                        <a:pt x="53" y="486"/>
                      </a:lnTo>
                      <a:lnTo>
                        <a:pt x="42" y="521"/>
                      </a:lnTo>
                      <a:lnTo>
                        <a:pt x="30" y="559"/>
                      </a:lnTo>
                      <a:lnTo>
                        <a:pt x="22" y="596"/>
                      </a:lnTo>
                      <a:lnTo>
                        <a:pt x="14" y="635"/>
                      </a:lnTo>
                      <a:lnTo>
                        <a:pt x="8" y="673"/>
                      </a:lnTo>
                      <a:lnTo>
                        <a:pt x="3" y="714"/>
                      </a:lnTo>
                      <a:lnTo>
                        <a:pt x="1" y="753"/>
                      </a:lnTo>
                      <a:lnTo>
                        <a:pt x="0" y="795"/>
                      </a:lnTo>
                      <a:lnTo>
                        <a:pt x="1" y="836"/>
                      </a:lnTo>
                      <a:lnTo>
                        <a:pt x="3" y="870"/>
                      </a:lnTo>
                      <a:lnTo>
                        <a:pt x="15" y="871"/>
                      </a:lnTo>
                      <a:lnTo>
                        <a:pt x="28" y="871"/>
                      </a:lnTo>
                      <a:lnTo>
                        <a:pt x="39" y="871"/>
                      </a:lnTo>
                      <a:lnTo>
                        <a:pt x="52" y="872"/>
                      </a:lnTo>
                      <a:lnTo>
                        <a:pt x="64" y="872"/>
                      </a:lnTo>
                      <a:lnTo>
                        <a:pt x="76" y="872"/>
                      </a:lnTo>
                      <a:lnTo>
                        <a:pt x="89" y="874"/>
                      </a:lnTo>
                      <a:lnTo>
                        <a:pt x="101" y="874"/>
                      </a:lnTo>
                      <a:lnTo>
                        <a:pt x="100" y="864"/>
                      </a:lnTo>
                      <a:lnTo>
                        <a:pt x="97" y="829"/>
                      </a:lnTo>
                      <a:lnTo>
                        <a:pt x="97" y="795"/>
                      </a:lnTo>
                      <a:lnTo>
                        <a:pt x="97" y="760"/>
                      </a:lnTo>
                      <a:lnTo>
                        <a:pt x="100" y="725"/>
                      </a:lnTo>
                      <a:lnTo>
                        <a:pt x="103" y="691"/>
                      </a:lnTo>
                      <a:lnTo>
                        <a:pt x="109" y="657"/>
                      </a:lnTo>
                      <a:lnTo>
                        <a:pt x="115" y="624"/>
                      </a:lnTo>
                      <a:lnTo>
                        <a:pt x="123" y="592"/>
                      </a:lnTo>
                      <a:lnTo>
                        <a:pt x="132" y="560"/>
                      </a:lnTo>
                      <a:lnTo>
                        <a:pt x="142" y="529"/>
                      </a:lnTo>
                      <a:lnTo>
                        <a:pt x="154" y="499"/>
                      </a:lnTo>
                      <a:lnTo>
                        <a:pt x="167" y="469"/>
                      </a:lnTo>
                      <a:lnTo>
                        <a:pt x="181" y="441"/>
                      </a:lnTo>
                      <a:lnTo>
                        <a:pt x="196" y="414"/>
                      </a:lnTo>
                      <a:lnTo>
                        <a:pt x="212" y="387"/>
                      </a:lnTo>
                      <a:lnTo>
                        <a:pt x="229" y="362"/>
                      </a:lnTo>
                      <a:lnTo>
                        <a:pt x="248" y="336"/>
                      </a:lnTo>
                      <a:lnTo>
                        <a:pt x="267" y="313"/>
                      </a:lnTo>
                      <a:lnTo>
                        <a:pt x="287" y="290"/>
                      </a:lnTo>
                      <a:lnTo>
                        <a:pt x="308" y="270"/>
                      </a:lnTo>
                      <a:lnTo>
                        <a:pt x="330" y="250"/>
                      </a:lnTo>
                      <a:lnTo>
                        <a:pt x="353" y="231"/>
                      </a:lnTo>
                      <a:lnTo>
                        <a:pt x="376" y="213"/>
                      </a:lnTo>
                      <a:lnTo>
                        <a:pt x="401" y="195"/>
                      </a:lnTo>
                      <a:lnTo>
                        <a:pt x="426" y="180"/>
                      </a:lnTo>
                      <a:lnTo>
                        <a:pt x="452" y="167"/>
                      </a:lnTo>
                      <a:lnTo>
                        <a:pt x="478" y="155"/>
                      </a:lnTo>
                      <a:lnTo>
                        <a:pt x="505" y="144"/>
                      </a:lnTo>
                      <a:lnTo>
                        <a:pt x="533" y="136"/>
                      </a:lnTo>
                      <a:lnTo>
                        <a:pt x="560" y="128"/>
                      </a:lnTo>
                      <a:lnTo>
                        <a:pt x="589" y="122"/>
                      </a:lnTo>
                      <a:lnTo>
                        <a:pt x="618" y="118"/>
                      </a:lnTo>
                      <a:lnTo>
                        <a:pt x="648" y="115"/>
                      </a:lnTo>
                      <a:lnTo>
                        <a:pt x="677" y="114"/>
                      </a:lnTo>
                      <a:lnTo>
                        <a:pt x="707" y="115"/>
                      </a:lnTo>
                      <a:lnTo>
                        <a:pt x="738" y="118"/>
                      </a:lnTo>
                      <a:lnTo>
                        <a:pt x="767" y="122"/>
                      </a:lnTo>
                      <a:lnTo>
                        <a:pt x="794" y="128"/>
                      </a:lnTo>
                      <a:lnTo>
                        <a:pt x="823" y="136"/>
                      </a:lnTo>
                      <a:lnTo>
                        <a:pt x="850" y="144"/>
                      </a:lnTo>
                      <a:lnTo>
                        <a:pt x="878" y="155"/>
                      </a:lnTo>
                      <a:lnTo>
                        <a:pt x="904" y="167"/>
                      </a:lnTo>
                      <a:lnTo>
                        <a:pt x="930" y="180"/>
                      </a:lnTo>
                      <a:lnTo>
                        <a:pt x="954" y="195"/>
                      </a:lnTo>
                      <a:lnTo>
                        <a:pt x="978" y="213"/>
                      </a:lnTo>
                      <a:lnTo>
                        <a:pt x="1003" y="231"/>
                      </a:lnTo>
                      <a:lnTo>
                        <a:pt x="1025" y="250"/>
                      </a:lnTo>
                      <a:lnTo>
                        <a:pt x="1047" y="270"/>
                      </a:lnTo>
                      <a:lnTo>
                        <a:pt x="1069" y="290"/>
                      </a:lnTo>
                      <a:lnTo>
                        <a:pt x="1088" y="313"/>
                      </a:lnTo>
                      <a:lnTo>
                        <a:pt x="1108" y="336"/>
                      </a:lnTo>
                      <a:lnTo>
                        <a:pt x="1125" y="362"/>
                      </a:lnTo>
                      <a:lnTo>
                        <a:pt x="1143" y="387"/>
                      </a:lnTo>
                      <a:lnTo>
                        <a:pt x="1159" y="414"/>
                      </a:lnTo>
                      <a:lnTo>
                        <a:pt x="1174" y="441"/>
                      </a:lnTo>
                      <a:lnTo>
                        <a:pt x="1188" y="469"/>
                      </a:lnTo>
                      <a:lnTo>
                        <a:pt x="1201" y="499"/>
                      </a:lnTo>
                      <a:lnTo>
                        <a:pt x="1213" y="529"/>
                      </a:lnTo>
                      <a:lnTo>
                        <a:pt x="1224" y="560"/>
                      </a:lnTo>
                      <a:lnTo>
                        <a:pt x="1232" y="592"/>
                      </a:lnTo>
                      <a:lnTo>
                        <a:pt x="1240" y="624"/>
                      </a:lnTo>
                      <a:lnTo>
                        <a:pt x="1247" y="657"/>
                      </a:lnTo>
                      <a:lnTo>
                        <a:pt x="1252" y="691"/>
                      </a:lnTo>
                      <a:lnTo>
                        <a:pt x="1255" y="725"/>
                      </a:lnTo>
                      <a:lnTo>
                        <a:pt x="1258" y="760"/>
                      </a:lnTo>
                      <a:lnTo>
                        <a:pt x="1259" y="795"/>
                      </a:lnTo>
                      <a:lnTo>
                        <a:pt x="1356" y="795"/>
                      </a:lnTo>
                      <a:lnTo>
                        <a:pt x="1355" y="836"/>
                      </a:lnTo>
                      <a:lnTo>
                        <a:pt x="1352" y="875"/>
                      </a:lnTo>
                      <a:lnTo>
                        <a:pt x="1351" y="877"/>
                      </a:lnTo>
                      <a:lnTo>
                        <a:pt x="1340" y="878"/>
                      </a:lnTo>
                      <a:lnTo>
                        <a:pt x="1327" y="878"/>
                      </a:lnTo>
                      <a:lnTo>
                        <a:pt x="1315" y="878"/>
                      </a:lnTo>
                      <a:lnTo>
                        <a:pt x="1303" y="879"/>
                      </a:lnTo>
                      <a:lnTo>
                        <a:pt x="1291" y="879"/>
                      </a:lnTo>
                      <a:lnTo>
                        <a:pt x="1278" y="879"/>
                      </a:lnTo>
                      <a:lnTo>
                        <a:pt x="1266" y="881"/>
                      </a:lnTo>
                      <a:lnTo>
                        <a:pt x="1254" y="881"/>
                      </a:lnTo>
                      <a:lnTo>
                        <a:pt x="1255" y="864"/>
                      </a:lnTo>
                      <a:lnTo>
                        <a:pt x="1258" y="829"/>
                      </a:lnTo>
                      <a:lnTo>
                        <a:pt x="1259" y="795"/>
                      </a:lnTo>
                      <a:lnTo>
                        <a:pt x="1356" y="795"/>
                      </a:lnTo>
                      <a:close/>
                    </a:path>
                  </a:pathLst>
                </a:custGeom>
                <a:solidFill>
                  <a:srgbClr val="e8f1f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Freeform 33"/>
                <p:cNvSpPr/>
                <p:nvPr/>
              </p:nvSpPr>
              <p:spPr>
                <a:xfrm>
                  <a:off x="5635080" y="4347720"/>
                  <a:ext cx="1515240" cy="429480"/>
                </a:xfrm>
                <a:custGeom>
                  <a:avLst/>
                  <a:gdLst>
                    <a:gd name="textAreaLeft" fmla="*/ 0 w 1515240"/>
                    <a:gd name="textAreaRight" fmla="*/ 1515600 w 1515240"/>
                    <a:gd name="textAreaTop" fmla="*/ 0 h 429480"/>
                    <a:gd name="textAreaBottom" fmla="*/ 429840 h 429480"/>
                  </a:gdLst>
                  <a:ahLst/>
                  <a:rect l="textAreaLeft" t="textAreaTop" r="textAreaRight" b="textAreaBottom"/>
                  <a:pathLst>
                    <a:path w="1162" h="769">
                      <a:moveTo>
                        <a:pt x="1162" y="681"/>
                      </a:moveTo>
                      <a:lnTo>
                        <a:pt x="1161" y="646"/>
                      </a:lnTo>
                      <a:lnTo>
                        <a:pt x="1158" y="611"/>
                      </a:lnTo>
                      <a:lnTo>
                        <a:pt x="1155" y="577"/>
                      </a:lnTo>
                      <a:lnTo>
                        <a:pt x="1150" y="543"/>
                      </a:lnTo>
                      <a:lnTo>
                        <a:pt x="1143" y="510"/>
                      </a:lnTo>
                      <a:lnTo>
                        <a:pt x="1135" y="478"/>
                      </a:lnTo>
                      <a:lnTo>
                        <a:pt x="1127" y="446"/>
                      </a:lnTo>
                      <a:lnTo>
                        <a:pt x="1116" y="415"/>
                      </a:lnTo>
                      <a:lnTo>
                        <a:pt x="1104" y="385"/>
                      </a:lnTo>
                      <a:lnTo>
                        <a:pt x="1091" y="355"/>
                      </a:lnTo>
                      <a:lnTo>
                        <a:pt x="1077" y="327"/>
                      </a:lnTo>
                      <a:lnTo>
                        <a:pt x="1062" y="300"/>
                      </a:lnTo>
                      <a:lnTo>
                        <a:pt x="1046" y="273"/>
                      </a:lnTo>
                      <a:lnTo>
                        <a:pt x="1028" y="248"/>
                      </a:lnTo>
                      <a:lnTo>
                        <a:pt x="1011" y="222"/>
                      </a:lnTo>
                      <a:lnTo>
                        <a:pt x="991" y="199"/>
                      </a:lnTo>
                      <a:lnTo>
                        <a:pt x="972" y="176"/>
                      </a:lnTo>
                      <a:lnTo>
                        <a:pt x="950" y="156"/>
                      </a:lnTo>
                      <a:lnTo>
                        <a:pt x="928" y="136"/>
                      </a:lnTo>
                      <a:lnTo>
                        <a:pt x="906" y="117"/>
                      </a:lnTo>
                      <a:lnTo>
                        <a:pt x="881" y="99"/>
                      </a:lnTo>
                      <a:lnTo>
                        <a:pt x="857" y="81"/>
                      </a:lnTo>
                      <a:lnTo>
                        <a:pt x="833" y="66"/>
                      </a:lnTo>
                      <a:lnTo>
                        <a:pt x="807" y="53"/>
                      </a:lnTo>
                      <a:lnTo>
                        <a:pt x="781" y="41"/>
                      </a:lnTo>
                      <a:lnTo>
                        <a:pt x="753" y="30"/>
                      </a:lnTo>
                      <a:lnTo>
                        <a:pt x="726" y="22"/>
                      </a:lnTo>
                      <a:lnTo>
                        <a:pt x="697" y="14"/>
                      </a:lnTo>
                      <a:lnTo>
                        <a:pt x="670" y="8"/>
                      </a:lnTo>
                      <a:lnTo>
                        <a:pt x="641" y="4"/>
                      </a:lnTo>
                      <a:lnTo>
                        <a:pt x="610" y="1"/>
                      </a:lnTo>
                      <a:lnTo>
                        <a:pt x="580" y="0"/>
                      </a:lnTo>
                      <a:lnTo>
                        <a:pt x="551" y="1"/>
                      </a:lnTo>
                      <a:lnTo>
                        <a:pt x="521" y="4"/>
                      </a:lnTo>
                      <a:lnTo>
                        <a:pt x="492" y="8"/>
                      </a:lnTo>
                      <a:lnTo>
                        <a:pt x="463" y="14"/>
                      </a:lnTo>
                      <a:lnTo>
                        <a:pt x="436" y="22"/>
                      </a:lnTo>
                      <a:lnTo>
                        <a:pt x="408" y="30"/>
                      </a:lnTo>
                      <a:lnTo>
                        <a:pt x="381" y="41"/>
                      </a:lnTo>
                      <a:lnTo>
                        <a:pt x="355" y="53"/>
                      </a:lnTo>
                      <a:lnTo>
                        <a:pt x="329" y="66"/>
                      </a:lnTo>
                      <a:lnTo>
                        <a:pt x="304" y="81"/>
                      </a:lnTo>
                      <a:lnTo>
                        <a:pt x="279" y="99"/>
                      </a:lnTo>
                      <a:lnTo>
                        <a:pt x="256" y="117"/>
                      </a:lnTo>
                      <a:lnTo>
                        <a:pt x="233" y="136"/>
                      </a:lnTo>
                      <a:lnTo>
                        <a:pt x="211" y="156"/>
                      </a:lnTo>
                      <a:lnTo>
                        <a:pt x="190" y="176"/>
                      </a:lnTo>
                      <a:lnTo>
                        <a:pt x="170" y="199"/>
                      </a:lnTo>
                      <a:lnTo>
                        <a:pt x="151" y="222"/>
                      </a:lnTo>
                      <a:lnTo>
                        <a:pt x="132" y="248"/>
                      </a:lnTo>
                      <a:lnTo>
                        <a:pt x="115" y="273"/>
                      </a:lnTo>
                      <a:lnTo>
                        <a:pt x="99" y="300"/>
                      </a:lnTo>
                      <a:lnTo>
                        <a:pt x="84" y="327"/>
                      </a:lnTo>
                      <a:lnTo>
                        <a:pt x="70" y="355"/>
                      </a:lnTo>
                      <a:lnTo>
                        <a:pt x="57" y="385"/>
                      </a:lnTo>
                      <a:lnTo>
                        <a:pt x="45" y="415"/>
                      </a:lnTo>
                      <a:lnTo>
                        <a:pt x="35" y="446"/>
                      </a:lnTo>
                      <a:lnTo>
                        <a:pt x="26" y="478"/>
                      </a:lnTo>
                      <a:lnTo>
                        <a:pt x="18" y="510"/>
                      </a:lnTo>
                      <a:lnTo>
                        <a:pt x="12" y="543"/>
                      </a:lnTo>
                      <a:lnTo>
                        <a:pt x="6" y="577"/>
                      </a:lnTo>
                      <a:lnTo>
                        <a:pt x="3" y="611"/>
                      </a:lnTo>
                      <a:lnTo>
                        <a:pt x="0" y="646"/>
                      </a:lnTo>
                      <a:lnTo>
                        <a:pt x="0" y="681"/>
                      </a:lnTo>
                      <a:lnTo>
                        <a:pt x="0" y="715"/>
                      </a:lnTo>
                      <a:lnTo>
                        <a:pt x="3" y="750"/>
                      </a:lnTo>
                      <a:lnTo>
                        <a:pt x="4" y="760"/>
                      </a:lnTo>
                      <a:lnTo>
                        <a:pt x="16" y="760"/>
                      </a:lnTo>
                      <a:lnTo>
                        <a:pt x="28" y="761"/>
                      </a:lnTo>
                      <a:lnTo>
                        <a:pt x="41" y="761"/>
                      </a:lnTo>
                      <a:lnTo>
                        <a:pt x="52" y="761"/>
                      </a:lnTo>
                      <a:lnTo>
                        <a:pt x="65" y="763"/>
                      </a:lnTo>
                      <a:lnTo>
                        <a:pt x="78" y="763"/>
                      </a:lnTo>
                      <a:lnTo>
                        <a:pt x="89" y="763"/>
                      </a:lnTo>
                      <a:lnTo>
                        <a:pt x="102" y="764"/>
                      </a:lnTo>
                      <a:lnTo>
                        <a:pt x="99" y="738"/>
                      </a:lnTo>
                      <a:lnTo>
                        <a:pt x="97" y="710"/>
                      </a:lnTo>
                      <a:lnTo>
                        <a:pt x="96" y="681"/>
                      </a:lnTo>
                      <a:lnTo>
                        <a:pt x="97" y="651"/>
                      </a:lnTo>
                      <a:lnTo>
                        <a:pt x="99" y="623"/>
                      </a:lnTo>
                      <a:lnTo>
                        <a:pt x="102" y="594"/>
                      </a:lnTo>
                      <a:lnTo>
                        <a:pt x="107" y="566"/>
                      </a:lnTo>
                      <a:lnTo>
                        <a:pt x="111" y="539"/>
                      </a:lnTo>
                      <a:lnTo>
                        <a:pt x="118" y="511"/>
                      </a:lnTo>
                      <a:lnTo>
                        <a:pt x="126" y="486"/>
                      </a:lnTo>
                      <a:lnTo>
                        <a:pt x="135" y="460"/>
                      </a:lnTo>
                      <a:lnTo>
                        <a:pt x="145" y="434"/>
                      </a:lnTo>
                      <a:lnTo>
                        <a:pt x="155" y="410"/>
                      </a:lnTo>
                      <a:lnTo>
                        <a:pt x="167" y="387"/>
                      </a:lnTo>
                      <a:lnTo>
                        <a:pt x="180" y="364"/>
                      </a:lnTo>
                      <a:lnTo>
                        <a:pt x="192" y="341"/>
                      </a:lnTo>
                      <a:lnTo>
                        <a:pt x="207" y="320"/>
                      </a:lnTo>
                      <a:lnTo>
                        <a:pt x="223" y="300"/>
                      </a:lnTo>
                      <a:lnTo>
                        <a:pt x="239" y="279"/>
                      </a:lnTo>
                      <a:lnTo>
                        <a:pt x="255" y="260"/>
                      </a:lnTo>
                      <a:lnTo>
                        <a:pt x="272" y="243"/>
                      </a:lnTo>
                      <a:lnTo>
                        <a:pt x="291" y="227"/>
                      </a:lnTo>
                      <a:lnTo>
                        <a:pt x="311" y="210"/>
                      </a:lnTo>
                      <a:lnTo>
                        <a:pt x="330" y="195"/>
                      </a:lnTo>
                      <a:lnTo>
                        <a:pt x="350" y="182"/>
                      </a:lnTo>
                      <a:lnTo>
                        <a:pt x="371" y="170"/>
                      </a:lnTo>
                      <a:lnTo>
                        <a:pt x="393" y="157"/>
                      </a:lnTo>
                      <a:lnTo>
                        <a:pt x="415" y="148"/>
                      </a:lnTo>
                      <a:lnTo>
                        <a:pt x="437" y="138"/>
                      </a:lnTo>
                      <a:lnTo>
                        <a:pt x="460" y="132"/>
                      </a:lnTo>
                      <a:lnTo>
                        <a:pt x="483" y="125"/>
                      </a:lnTo>
                      <a:lnTo>
                        <a:pt x="507" y="119"/>
                      </a:lnTo>
                      <a:lnTo>
                        <a:pt x="532" y="117"/>
                      </a:lnTo>
                      <a:lnTo>
                        <a:pt x="556" y="114"/>
                      </a:lnTo>
                      <a:lnTo>
                        <a:pt x="580" y="114"/>
                      </a:lnTo>
                      <a:lnTo>
                        <a:pt x="606" y="114"/>
                      </a:lnTo>
                      <a:lnTo>
                        <a:pt x="630" y="117"/>
                      </a:lnTo>
                      <a:lnTo>
                        <a:pt x="654" y="119"/>
                      </a:lnTo>
                      <a:lnTo>
                        <a:pt x="679" y="125"/>
                      </a:lnTo>
                      <a:lnTo>
                        <a:pt x="702" y="132"/>
                      </a:lnTo>
                      <a:lnTo>
                        <a:pt x="725" y="138"/>
                      </a:lnTo>
                      <a:lnTo>
                        <a:pt x="747" y="148"/>
                      </a:lnTo>
                      <a:lnTo>
                        <a:pt x="769" y="157"/>
                      </a:lnTo>
                      <a:lnTo>
                        <a:pt x="791" y="170"/>
                      </a:lnTo>
                      <a:lnTo>
                        <a:pt x="812" y="182"/>
                      </a:lnTo>
                      <a:lnTo>
                        <a:pt x="832" y="195"/>
                      </a:lnTo>
                      <a:lnTo>
                        <a:pt x="851" y="210"/>
                      </a:lnTo>
                      <a:lnTo>
                        <a:pt x="870" y="227"/>
                      </a:lnTo>
                      <a:lnTo>
                        <a:pt x="888" y="243"/>
                      </a:lnTo>
                      <a:lnTo>
                        <a:pt x="906" y="260"/>
                      </a:lnTo>
                      <a:lnTo>
                        <a:pt x="923" y="279"/>
                      </a:lnTo>
                      <a:lnTo>
                        <a:pt x="939" y="300"/>
                      </a:lnTo>
                      <a:lnTo>
                        <a:pt x="954" y="320"/>
                      </a:lnTo>
                      <a:lnTo>
                        <a:pt x="968" y="341"/>
                      </a:lnTo>
                      <a:lnTo>
                        <a:pt x="982" y="364"/>
                      </a:lnTo>
                      <a:lnTo>
                        <a:pt x="995" y="387"/>
                      </a:lnTo>
                      <a:lnTo>
                        <a:pt x="1006" y="410"/>
                      </a:lnTo>
                      <a:lnTo>
                        <a:pt x="1017" y="434"/>
                      </a:lnTo>
                      <a:lnTo>
                        <a:pt x="1026" y="460"/>
                      </a:lnTo>
                      <a:lnTo>
                        <a:pt x="1035" y="486"/>
                      </a:lnTo>
                      <a:lnTo>
                        <a:pt x="1044" y="511"/>
                      </a:lnTo>
                      <a:lnTo>
                        <a:pt x="1049" y="539"/>
                      </a:lnTo>
                      <a:lnTo>
                        <a:pt x="1055" y="566"/>
                      </a:lnTo>
                      <a:lnTo>
                        <a:pt x="1060" y="594"/>
                      </a:lnTo>
                      <a:lnTo>
                        <a:pt x="1062" y="623"/>
                      </a:lnTo>
                      <a:lnTo>
                        <a:pt x="1064" y="651"/>
                      </a:lnTo>
                      <a:lnTo>
                        <a:pt x="1064" y="681"/>
                      </a:lnTo>
                      <a:lnTo>
                        <a:pt x="1162" y="681"/>
                      </a:lnTo>
                      <a:lnTo>
                        <a:pt x="1161" y="715"/>
                      </a:lnTo>
                      <a:lnTo>
                        <a:pt x="1158" y="750"/>
                      </a:lnTo>
                      <a:lnTo>
                        <a:pt x="1157" y="767"/>
                      </a:lnTo>
                      <a:lnTo>
                        <a:pt x="1144" y="767"/>
                      </a:lnTo>
                      <a:lnTo>
                        <a:pt x="1133" y="768"/>
                      </a:lnTo>
                      <a:lnTo>
                        <a:pt x="1120" y="768"/>
                      </a:lnTo>
                      <a:lnTo>
                        <a:pt x="1108" y="768"/>
                      </a:lnTo>
                      <a:lnTo>
                        <a:pt x="1096" y="768"/>
                      </a:lnTo>
                      <a:lnTo>
                        <a:pt x="1083" y="769"/>
                      </a:lnTo>
                      <a:lnTo>
                        <a:pt x="1071" y="769"/>
                      </a:lnTo>
                      <a:lnTo>
                        <a:pt x="1059" y="769"/>
                      </a:lnTo>
                      <a:lnTo>
                        <a:pt x="1060" y="767"/>
                      </a:lnTo>
                      <a:lnTo>
                        <a:pt x="1062" y="738"/>
                      </a:lnTo>
                      <a:lnTo>
                        <a:pt x="1064" y="710"/>
                      </a:lnTo>
                      <a:lnTo>
                        <a:pt x="1064" y="681"/>
                      </a:lnTo>
                      <a:lnTo>
                        <a:pt x="1162" y="681"/>
                      </a:lnTo>
                      <a:close/>
                    </a:path>
                  </a:pathLst>
                </a:custGeom>
                <a:solidFill>
                  <a:srgbClr val="ebf3f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Freeform 34"/>
                <p:cNvSpPr/>
                <p:nvPr/>
              </p:nvSpPr>
              <p:spPr>
                <a:xfrm>
                  <a:off x="5760360" y="4411080"/>
                  <a:ext cx="1264680" cy="367560"/>
                </a:xfrm>
                <a:custGeom>
                  <a:avLst/>
                  <a:gdLst>
                    <a:gd name="textAreaLeft" fmla="*/ 0 w 1264680"/>
                    <a:gd name="textAreaRight" fmla="*/ 1265040 w 1264680"/>
                    <a:gd name="textAreaTop" fmla="*/ 0 h 367560"/>
                    <a:gd name="textAreaBottom" fmla="*/ 367560 h 367560"/>
                  </a:gdLst>
                  <a:ahLst/>
                  <a:rect l="textAreaLeft" t="textAreaTop" r="textAreaRight" b="textAreaBottom"/>
                  <a:pathLst>
                    <a:path w="968" h="658">
                      <a:moveTo>
                        <a:pt x="968" y="567"/>
                      </a:moveTo>
                      <a:lnTo>
                        <a:pt x="968" y="537"/>
                      </a:lnTo>
                      <a:lnTo>
                        <a:pt x="966" y="509"/>
                      </a:lnTo>
                      <a:lnTo>
                        <a:pt x="964" y="480"/>
                      </a:lnTo>
                      <a:lnTo>
                        <a:pt x="959" y="452"/>
                      </a:lnTo>
                      <a:lnTo>
                        <a:pt x="953" y="425"/>
                      </a:lnTo>
                      <a:lnTo>
                        <a:pt x="948" y="397"/>
                      </a:lnTo>
                      <a:lnTo>
                        <a:pt x="939" y="372"/>
                      </a:lnTo>
                      <a:lnTo>
                        <a:pt x="930" y="346"/>
                      </a:lnTo>
                      <a:lnTo>
                        <a:pt x="921" y="320"/>
                      </a:lnTo>
                      <a:lnTo>
                        <a:pt x="910" y="296"/>
                      </a:lnTo>
                      <a:lnTo>
                        <a:pt x="899" y="273"/>
                      </a:lnTo>
                      <a:lnTo>
                        <a:pt x="886" y="250"/>
                      </a:lnTo>
                      <a:lnTo>
                        <a:pt x="872" y="227"/>
                      </a:lnTo>
                      <a:lnTo>
                        <a:pt x="858" y="206"/>
                      </a:lnTo>
                      <a:lnTo>
                        <a:pt x="843" y="186"/>
                      </a:lnTo>
                      <a:lnTo>
                        <a:pt x="827" y="165"/>
                      </a:lnTo>
                      <a:lnTo>
                        <a:pt x="810" y="146"/>
                      </a:lnTo>
                      <a:lnTo>
                        <a:pt x="792" y="129"/>
                      </a:lnTo>
                      <a:lnTo>
                        <a:pt x="774" y="113"/>
                      </a:lnTo>
                      <a:lnTo>
                        <a:pt x="755" y="96"/>
                      </a:lnTo>
                      <a:lnTo>
                        <a:pt x="736" y="81"/>
                      </a:lnTo>
                      <a:lnTo>
                        <a:pt x="716" y="68"/>
                      </a:lnTo>
                      <a:lnTo>
                        <a:pt x="695" y="56"/>
                      </a:lnTo>
                      <a:lnTo>
                        <a:pt x="673" y="43"/>
                      </a:lnTo>
                      <a:lnTo>
                        <a:pt x="651" y="34"/>
                      </a:lnTo>
                      <a:lnTo>
                        <a:pt x="629" y="24"/>
                      </a:lnTo>
                      <a:lnTo>
                        <a:pt x="606" y="18"/>
                      </a:lnTo>
                      <a:lnTo>
                        <a:pt x="583" y="11"/>
                      </a:lnTo>
                      <a:lnTo>
                        <a:pt x="558" y="5"/>
                      </a:lnTo>
                      <a:lnTo>
                        <a:pt x="534" y="3"/>
                      </a:lnTo>
                      <a:lnTo>
                        <a:pt x="510" y="0"/>
                      </a:lnTo>
                      <a:lnTo>
                        <a:pt x="484" y="0"/>
                      </a:lnTo>
                      <a:lnTo>
                        <a:pt x="460" y="0"/>
                      </a:lnTo>
                      <a:lnTo>
                        <a:pt x="436" y="3"/>
                      </a:lnTo>
                      <a:lnTo>
                        <a:pt x="411" y="5"/>
                      </a:lnTo>
                      <a:lnTo>
                        <a:pt x="387" y="11"/>
                      </a:lnTo>
                      <a:lnTo>
                        <a:pt x="364" y="18"/>
                      </a:lnTo>
                      <a:lnTo>
                        <a:pt x="341" y="24"/>
                      </a:lnTo>
                      <a:lnTo>
                        <a:pt x="319" y="34"/>
                      </a:lnTo>
                      <a:lnTo>
                        <a:pt x="297" y="43"/>
                      </a:lnTo>
                      <a:lnTo>
                        <a:pt x="275" y="56"/>
                      </a:lnTo>
                      <a:lnTo>
                        <a:pt x="254" y="68"/>
                      </a:lnTo>
                      <a:lnTo>
                        <a:pt x="234" y="81"/>
                      </a:lnTo>
                      <a:lnTo>
                        <a:pt x="215" y="96"/>
                      </a:lnTo>
                      <a:lnTo>
                        <a:pt x="195" y="113"/>
                      </a:lnTo>
                      <a:lnTo>
                        <a:pt x="176" y="129"/>
                      </a:lnTo>
                      <a:lnTo>
                        <a:pt x="159" y="146"/>
                      </a:lnTo>
                      <a:lnTo>
                        <a:pt x="143" y="165"/>
                      </a:lnTo>
                      <a:lnTo>
                        <a:pt x="127" y="186"/>
                      </a:lnTo>
                      <a:lnTo>
                        <a:pt x="111" y="206"/>
                      </a:lnTo>
                      <a:lnTo>
                        <a:pt x="96" y="227"/>
                      </a:lnTo>
                      <a:lnTo>
                        <a:pt x="84" y="250"/>
                      </a:lnTo>
                      <a:lnTo>
                        <a:pt x="71" y="273"/>
                      </a:lnTo>
                      <a:lnTo>
                        <a:pt x="59" y="296"/>
                      </a:lnTo>
                      <a:lnTo>
                        <a:pt x="49" y="320"/>
                      </a:lnTo>
                      <a:lnTo>
                        <a:pt x="39" y="346"/>
                      </a:lnTo>
                      <a:lnTo>
                        <a:pt x="30" y="372"/>
                      </a:lnTo>
                      <a:lnTo>
                        <a:pt x="22" y="397"/>
                      </a:lnTo>
                      <a:lnTo>
                        <a:pt x="15" y="425"/>
                      </a:lnTo>
                      <a:lnTo>
                        <a:pt x="11" y="452"/>
                      </a:lnTo>
                      <a:lnTo>
                        <a:pt x="6" y="480"/>
                      </a:lnTo>
                      <a:lnTo>
                        <a:pt x="3" y="509"/>
                      </a:lnTo>
                      <a:lnTo>
                        <a:pt x="1" y="537"/>
                      </a:lnTo>
                      <a:lnTo>
                        <a:pt x="0" y="567"/>
                      </a:lnTo>
                      <a:lnTo>
                        <a:pt x="1" y="596"/>
                      </a:lnTo>
                      <a:lnTo>
                        <a:pt x="3" y="624"/>
                      </a:lnTo>
                      <a:lnTo>
                        <a:pt x="6" y="650"/>
                      </a:lnTo>
                      <a:lnTo>
                        <a:pt x="18" y="650"/>
                      </a:lnTo>
                      <a:lnTo>
                        <a:pt x="30" y="650"/>
                      </a:lnTo>
                      <a:lnTo>
                        <a:pt x="43" y="650"/>
                      </a:lnTo>
                      <a:lnTo>
                        <a:pt x="55" y="651"/>
                      </a:lnTo>
                      <a:lnTo>
                        <a:pt x="67" y="651"/>
                      </a:lnTo>
                      <a:lnTo>
                        <a:pt x="80" y="651"/>
                      </a:lnTo>
                      <a:lnTo>
                        <a:pt x="92" y="653"/>
                      </a:lnTo>
                      <a:lnTo>
                        <a:pt x="105" y="653"/>
                      </a:lnTo>
                      <a:lnTo>
                        <a:pt x="102" y="636"/>
                      </a:lnTo>
                      <a:lnTo>
                        <a:pt x="100" y="613"/>
                      </a:lnTo>
                      <a:lnTo>
                        <a:pt x="98" y="590"/>
                      </a:lnTo>
                      <a:lnTo>
                        <a:pt x="98" y="567"/>
                      </a:lnTo>
                      <a:lnTo>
                        <a:pt x="98" y="543"/>
                      </a:lnTo>
                      <a:lnTo>
                        <a:pt x="100" y="520"/>
                      </a:lnTo>
                      <a:lnTo>
                        <a:pt x="102" y="498"/>
                      </a:lnTo>
                      <a:lnTo>
                        <a:pt x="106" y="475"/>
                      </a:lnTo>
                      <a:lnTo>
                        <a:pt x="109" y="453"/>
                      </a:lnTo>
                      <a:lnTo>
                        <a:pt x="115" y="431"/>
                      </a:lnTo>
                      <a:lnTo>
                        <a:pt x="121" y="411"/>
                      </a:lnTo>
                      <a:lnTo>
                        <a:pt x="128" y="389"/>
                      </a:lnTo>
                      <a:lnTo>
                        <a:pt x="136" y="370"/>
                      </a:lnTo>
                      <a:lnTo>
                        <a:pt x="144" y="350"/>
                      </a:lnTo>
                      <a:lnTo>
                        <a:pt x="153" y="331"/>
                      </a:lnTo>
                      <a:lnTo>
                        <a:pt x="164" y="313"/>
                      </a:lnTo>
                      <a:lnTo>
                        <a:pt x="174" y="296"/>
                      </a:lnTo>
                      <a:lnTo>
                        <a:pt x="186" y="278"/>
                      </a:lnTo>
                      <a:lnTo>
                        <a:pt x="198" y="262"/>
                      </a:lnTo>
                      <a:lnTo>
                        <a:pt x="211" y="246"/>
                      </a:lnTo>
                      <a:lnTo>
                        <a:pt x="224" y="231"/>
                      </a:lnTo>
                      <a:lnTo>
                        <a:pt x="239" y="217"/>
                      </a:lnTo>
                      <a:lnTo>
                        <a:pt x="253" y="203"/>
                      </a:lnTo>
                      <a:lnTo>
                        <a:pt x="268" y="190"/>
                      </a:lnTo>
                      <a:lnTo>
                        <a:pt x="284" y="179"/>
                      </a:lnTo>
                      <a:lnTo>
                        <a:pt x="300" y="168"/>
                      </a:lnTo>
                      <a:lnTo>
                        <a:pt x="316" y="157"/>
                      </a:lnTo>
                      <a:lnTo>
                        <a:pt x="334" y="148"/>
                      </a:lnTo>
                      <a:lnTo>
                        <a:pt x="351" y="140"/>
                      </a:lnTo>
                      <a:lnTo>
                        <a:pt x="370" y="133"/>
                      </a:lnTo>
                      <a:lnTo>
                        <a:pt x="388" y="127"/>
                      </a:lnTo>
                      <a:lnTo>
                        <a:pt x="407" y="122"/>
                      </a:lnTo>
                      <a:lnTo>
                        <a:pt x="425" y="118"/>
                      </a:lnTo>
                      <a:lnTo>
                        <a:pt x="445" y="115"/>
                      </a:lnTo>
                      <a:lnTo>
                        <a:pt x="465" y="114"/>
                      </a:lnTo>
                      <a:lnTo>
                        <a:pt x="484" y="113"/>
                      </a:lnTo>
                      <a:lnTo>
                        <a:pt x="505" y="114"/>
                      </a:lnTo>
                      <a:lnTo>
                        <a:pt x="525" y="115"/>
                      </a:lnTo>
                      <a:lnTo>
                        <a:pt x="543" y="118"/>
                      </a:lnTo>
                      <a:lnTo>
                        <a:pt x="563" y="122"/>
                      </a:lnTo>
                      <a:lnTo>
                        <a:pt x="582" y="127"/>
                      </a:lnTo>
                      <a:lnTo>
                        <a:pt x="600" y="133"/>
                      </a:lnTo>
                      <a:lnTo>
                        <a:pt x="618" y="140"/>
                      </a:lnTo>
                      <a:lnTo>
                        <a:pt x="635" y="148"/>
                      </a:lnTo>
                      <a:lnTo>
                        <a:pt x="652" y="157"/>
                      </a:lnTo>
                      <a:lnTo>
                        <a:pt x="670" y="168"/>
                      </a:lnTo>
                      <a:lnTo>
                        <a:pt x="686" y="179"/>
                      </a:lnTo>
                      <a:lnTo>
                        <a:pt x="701" y="190"/>
                      </a:lnTo>
                      <a:lnTo>
                        <a:pt x="716" y="203"/>
                      </a:lnTo>
                      <a:lnTo>
                        <a:pt x="731" y="217"/>
                      </a:lnTo>
                      <a:lnTo>
                        <a:pt x="745" y="231"/>
                      </a:lnTo>
                      <a:lnTo>
                        <a:pt x="759" y="246"/>
                      </a:lnTo>
                      <a:lnTo>
                        <a:pt x="772" y="262"/>
                      </a:lnTo>
                      <a:lnTo>
                        <a:pt x="783" y="278"/>
                      </a:lnTo>
                      <a:lnTo>
                        <a:pt x="795" y="296"/>
                      </a:lnTo>
                      <a:lnTo>
                        <a:pt x="806" y="313"/>
                      </a:lnTo>
                      <a:lnTo>
                        <a:pt x="816" y="331"/>
                      </a:lnTo>
                      <a:lnTo>
                        <a:pt x="825" y="350"/>
                      </a:lnTo>
                      <a:lnTo>
                        <a:pt x="834" y="370"/>
                      </a:lnTo>
                      <a:lnTo>
                        <a:pt x="841" y="389"/>
                      </a:lnTo>
                      <a:lnTo>
                        <a:pt x="848" y="411"/>
                      </a:lnTo>
                      <a:lnTo>
                        <a:pt x="855" y="431"/>
                      </a:lnTo>
                      <a:lnTo>
                        <a:pt x="860" y="453"/>
                      </a:lnTo>
                      <a:lnTo>
                        <a:pt x="864" y="475"/>
                      </a:lnTo>
                      <a:lnTo>
                        <a:pt x="868" y="498"/>
                      </a:lnTo>
                      <a:lnTo>
                        <a:pt x="870" y="520"/>
                      </a:lnTo>
                      <a:lnTo>
                        <a:pt x="871" y="543"/>
                      </a:lnTo>
                      <a:lnTo>
                        <a:pt x="872" y="567"/>
                      </a:lnTo>
                      <a:lnTo>
                        <a:pt x="968" y="567"/>
                      </a:lnTo>
                      <a:lnTo>
                        <a:pt x="968" y="596"/>
                      </a:lnTo>
                      <a:lnTo>
                        <a:pt x="966" y="624"/>
                      </a:lnTo>
                      <a:lnTo>
                        <a:pt x="964" y="653"/>
                      </a:lnTo>
                      <a:lnTo>
                        <a:pt x="963" y="655"/>
                      </a:lnTo>
                      <a:lnTo>
                        <a:pt x="951" y="655"/>
                      </a:lnTo>
                      <a:lnTo>
                        <a:pt x="938" y="657"/>
                      </a:lnTo>
                      <a:lnTo>
                        <a:pt x="926" y="657"/>
                      </a:lnTo>
                      <a:lnTo>
                        <a:pt x="914" y="657"/>
                      </a:lnTo>
                      <a:lnTo>
                        <a:pt x="901" y="657"/>
                      </a:lnTo>
                      <a:lnTo>
                        <a:pt x="888" y="657"/>
                      </a:lnTo>
                      <a:lnTo>
                        <a:pt x="877" y="658"/>
                      </a:lnTo>
                      <a:lnTo>
                        <a:pt x="864" y="658"/>
                      </a:lnTo>
                      <a:lnTo>
                        <a:pt x="868" y="636"/>
                      </a:lnTo>
                      <a:lnTo>
                        <a:pt x="870" y="613"/>
                      </a:lnTo>
                      <a:lnTo>
                        <a:pt x="871" y="590"/>
                      </a:lnTo>
                      <a:lnTo>
                        <a:pt x="872" y="567"/>
                      </a:lnTo>
                      <a:lnTo>
                        <a:pt x="968" y="567"/>
                      </a:lnTo>
                      <a:close/>
                    </a:path>
                  </a:pathLst>
                </a:custGeom>
                <a:solidFill>
                  <a:srgbClr val="eef5f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Freeform 35"/>
                <p:cNvSpPr/>
                <p:nvPr/>
              </p:nvSpPr>
              <p:spPr>
                <a:xfrm>
                  <a:off x="5886000" y="4474800"/>
                  <a:ext cx="1014120" cy="303840"/>
                </a:xfrm>
                <a:custGeom>
                  <a:avLst/>
                  <a:gdLst>
                    <a:gd name="textAreaLeft" fmla="*/ 0 w 1014120"/>
                    <a:gd name="textAreaRight" fmla="*/ 1014480 w 1014120"/>
                    <a:gd name="textAreaTop" fmla="*/ 0 h 303840"/>
                    <a:gd name="textAreaBottom" fmla="*/ 304200 h 303840"/>
                  </a:gdLst>
                  <a:ahLst/>
                  <a:rect l="textAreaLeft" t="textAreaTop" r="textAreaRight" b="textAreaBottom"/>
                  <a:pathLst>
                    <a:path w="774" h="546">
                      <a:moveTo>
                        <a:pt x="774" y="454"/>
                      </a:moveTo>
                      <a:lnTo>
                        <a:pt x="773" y="430"/>
                      </a:lnTo>
                      <a:lnTo>
                        <a:pt x="772" y="407"/>
                      </a:lnTo>
                      <a:lnTo>
                        <a:pt x="770" y="385"/>
                      </a:lnTo>
                      <a:lnTo>
                        <a:pt x="766" y="362"/>
                      </a:lnTo>
                      <a:lnTo>
                        <a:pt x="762" y="340"/>
                      </a:lnTo>
                      <a:lnTo>
                        <a:pt x="757" y="318"/>
                      </a:lnTo>
                      <a:lnTo>
                        <a:pt x="750" y="298"/>
                      </a:lnTo>
                      <a:lnTo>
                        <a:pt x="743" y="276"/>
                      </a:lnTo>
                      <a:lnTo>
                        <a:pt x="736" y="257"/>
                      </a:lnTo>
                      <a:lnTo>
                        <a:pt x="727" y="237"/>
                      </a:lnTo>
                      <a:lnTo>
                        <a:pt x="718" y="218"/>
                      </a:lnTo>
                      <a:lnTo>
                        <a:pt x="708" y="200"/>
                      </a:lnTo>
                      <a:lnTo>
                        <a:pt x="697" y="183"/>
                      </a:lnTo>
                      <a:lnTo>
                        <a:pt x="685" y="165"/>
                      </a:lnTo>
                      <a:lnTo>
                        <a:pt x="674" y="149"/>
                      </a:lnTo>
                      <a:lnTo>
                        <a:pt x="661" y="133"/>
                      </a:lnTo>
                      <a:lnTo>
                        <a:pt x="647" y="118"/>
                      </a:lnTo>
                      <a:lnTo>
                        <a:pt x="633" y="104"/>
                      </a:lnTo>
                      <a:lnTo>
                        <a:pt x="618" y="90"/>
                      </a:lnTo>
                      <a:lnTo>
                        <a:pt x="603" y="77"/>
                      </a:lnTo>
                      <a:lnTo>
                        <a:pt x="588" y="66"/>
                      </a:lnTo>
                      <a:lnTo>
                        <a:pt x="572" y="55"/>
                      </a:lnTo>
                      <a:lnTo>
                        <a:pt x="554" y="44"/>
                      </a:lnTo>
                      <a:lnTo>
                        <a:pt x="537" y="35"/>
                      </a:lnTo>
                      <a:lnTo>
                        <a:pt x="520" y="27"/>
                      </a:lnTo>
                      <a:lnTo>
                        <a:pt x="502" y="20"/>
                      </a:lnTo>
                      <a:lnTo>
                        <a:pt x="484" y="14"/>
                      </a:lnTo>
                      <a:lnTo>
                        <a:pt x="465" y="9"/>
                      </a:lnTo>
                      <a:lnTo>
                        <a:pt x="445" y="5"/>
                      </a:lnTo>
                      <a:lnTo>
                        <a:pt x="427" y="2"/>
                      </a:lnTo>
                      <a:lnTo>
                        <a:pt x="407" y="1"/>
                      </a:lnTo>
                      <a:lnTo>
                        <a:pt x="386" y="0"/>
                      </a:lnTo>
                      <a:lnTo>
                        <a:pt x="367" y="1"/>
                      </a:lnTo>
                      <a:lnTo>
                        <a:pt x="347" y="2"/>
                      </a:lnTo>
                      <a:lnTo>
                        <a:pt x="327" y="5"/>
                      </a:lnTo>
                      <a:lnTo>
                        <a:pt x="309" y="9"/>
                      </a:lnTo>
                      <a:lnTo>
                        <a:pt x="290" y="14"/>
                      </a:lnTo>
                      <a:lnTo>
                        <a:pt x="272" y="20"/>
                      </a:lnTo>
                      <a:lnTo>
                        <a:pt x="253" y="27"/>
                      </a:lnTo>
                      <a:lnTo>
                        <a:pt x="236" y="35"/>
                      </a:lnTo>
                      <a:lnTo>
                        <a:pt x="218" y="44"/>
                      </a:lnTo>
                      <a:lnTo>
                        <a:pt x="202" y="55"/>
                      </a:lnTo>
                      <a:lnTo>
                        <a:pt x="186" y="66"/>
                      </a:lnTo>
                      <a:lnTo>
                        <a:pt x="170" y="77"/>
                      </a:lnTo>
                      <a:lnTo>
                        <a:pt x="155" y="90"/>
                      </a:lnTo>
                      <a:lnTo>
                        <a:pt x="141" y="104"/>
                      </a:lnTo>
                      <a:lnTo>
                        <a:pt x="126" y="118"/>
                      </a:lnTo>
                      <a:lnTo>
                        <a:pt x="113" y="133"/>
                      </a:lnTo>
                      <a:lnTo>
                        <a:pt x="100" y="149"/>
                      </a:lnTo>
                      <a:lnTo>
                        <a:pt x="88" y="165"/>
                      </a:lnTo>
                      <a:lnTo>
                        <a:pt x="76" y="183"/>
                      </a:lnTo>
                      <a:lnTo>
                        <a:pt x="66" y="200"/>
                      </a:lnTo>
                      <a:lnTo>
                        <a:pt x="55" y="218"/>
                      </a:lnTo>
                      <a:lnTo>
                        <a:pt x="46" y="237"/>
                      </a:lnTo>
                      <a:lnTo>
                        <a:pt x="38" y="257"/>
                      </a:lnTo>
                      <a:lnTo>
                        <a:pt x="30" y="276"/>
                      </a:lnTo>
                      <a:lnTo>
                        <a:pt x="23" y="298"/>
                      </a:lnTo>
                      <a:lnTo>
                        <a:pt x="17" y="318"/>
                      </a:lnTo>
                      <a:lnTo>
                        <a:pt x="11" y="340"/>
                      </a:lnTo>
                      <a:lnTo>
                        <a:pt x="8" y="362"/>
                      </a:lnTo>
                      <a:lnTo>
                        <a:pt x="4" y="385"/>
                      </a:lnTo>
                      <a:lnTo>
                        <a:pt x="2" y="407"/>
                      </a:lnTo>
                      <a:lnTo>
                        <a:pt x="0" y="430"/>
                      </a:lnTo>
                      <a:lnTo>
                        <a:pt x="0" y="454"/>
                      </a:lnTo>
                      <a:lnTo>
                        <a:pt x="0" y="477"/>
                      </a:lnTo>
                      <a:lnTo>
                        <a:pt x="2" y="500"/>
                      </a:lnTo>
                      <a:lnTo>
                        <a:pt x="4" y="523"/>
                      </a:lnTo>
                      <a:lnTo>
                        <a:pt x="7" y="540"/>
                      </a:lnTo>
                      <a:lnTo>
                        <a:pt x="19" y="540"/>
                      </a:lnTo>
                      <a:lnTo>
                        <a:pt x="31" y="540"/>
                      </a:lnTo>
                      <a:lnTo>
                        <a:pt x="44" y="541"/>
                      </a:lnTo>
                      <a:lnTo>
                        <a:pt x="56" y="541"/>
                      </a:lnTo>
                      <a:lnTo>
                        <a:pt x="69" y="541"/>
                      </a:lnTo>
                      <a:lnTo>
                        <a:pt x="82" y="541"/>
                      </a:lnTo>
                      <a:lnTo>
                        <a:pt x="93" y="541"/>
                      </a:lnTo>
                      <a:lnTo>
                        <a:pt x="106" y="542"/>
                      </a:lnTo>
                      <a:lnTo>
                        <a:pt x="105" y="538"/>
                      </a:lnTo>
                      <a:lnTo>
                        <a:pt x="103" y="522"/>
                      </a:lnTo>
                      <a:lnTo>
                        <a:pt x="99" y="506"/>
                      </a:lnTo>
                      <a:lnTo>
                        <a:pt x="98" y="488"/>
                      </a:lnTo>
                      <a:lnTo>
                        <a:pt x="97" y="470"/>
                      </a:lnTo>
                      <a:lnTo>
                        <a:pt x="97" y="454"/>
                      </a:lnTo>
                      <a:lnTo>
                        <a:pt x="97" y="436"/>
                      </a:lnTo>
                      <a:lnTo>
                        <a:pt x="98" y="419"/>
                      </a:lnTo>
                      <a:lnTo>
                        <a:pt x="99" y="401"/>
                      </a:lnTo>
                      <a:lnTo>
                        <a:pt x="103" y="385"/>
                      </a:lnTo>
                      <a:lnTo>
                        <a:pt x="105" y="369"/>
                      </a:lnTo>
                      <a:lnTo>
                        <a:pt x="110" y="352"/>
                      </a:lnTo>
                      <a:lnTo>
                        <a:pt x="114" y="336"/>
                      </a:lnTo>
                      <a:lnTo>
                        <a:pt x="119" y="321"/>
                      </a:lnTo>
                      <a:lnTo>
                        <a:pt x="125" y="306"/>
                      </a:lnTo>
                      <a:lnTo>
                        <a:pt x="132" y="291"/>
                      </a:lnTo>
                      <a:lnTo>
                        <a:pt x="139" y="278"/>
                      </a:lnTo>
                      <a:lnTo>
                        <a:pt x="145" y="263"/>
                      </a:lnTo>
                      <a:lnTo>
                        <a:pt x="154" y="251"/>
                      </a:lnTo>
                      <a:lnTo>
                        <a:pt x="163" y="237"/>
                      </a:lnTo>
                      <a:lnTo>
                        <a:pt x="172" y="225"/>
                      </a:lnTo>
                      <a:lnTo>
                        <a:pt x="181" y="213"/>
                      </a:lnTo>
                      <a:lnTo>
                        <a:pt x="192" y="202"/>
                      </a:lnTo>
                      <a:lnTo>
                        <a:pt x="202" y="191"/>
                      </a:lnTo>
                      <a:lnTo>
                        <a:pt x="213" y="181"/>
                      </a:lnTo>
                      <a:lnTo>
                        <a:pt x="224" y="172"/>
                      </a:lnTo>
                      <a:lnTo>
                        <a:pt x="236" y="162"/>
                      </a:lnTo>
                      <a:lnTo>
                        <a:pt x="249" y="154"/>
                      </a:lnTo>
                      <a:lnTo>
                        <a:pt x="261" y="147"/>
                      </a:lnTo>
                      <a:lnTo>
                        <a:pt x="274" y="139"/>
                      </a:lnTo>
                      <a:lnTo>
                        <a:pt x="287" y="134"/>
                      </a:lnTo>
                      <a:lnTo>
                        <a:pt x="301" y="128"/>
                      </a:lnTo>
                      <a:lnTo>
                        <a:pt x="315" y="124"/>
                      </a:lnTo>
                      <a:lnTo>
                        <a:pt x="328" y="120"/>
                      </a:lnTo>
                      <a:lnTo>
                        <a:pt x="342" y="118"/>
                      </a:lnTo>
                      <a:lnTo>
                        <a:pt x="357" y="115"/>
                      </a:lnTo>
                      <a:lnTo>
                        <a:pt x="371" y="114"/>
                      </a:lnTo>
                      <a:lnTo>
                        <a:pt x="386" y="114"/>
                      </a:lnTo>
                      <a:lnTo>
                        <a:pt x="401" y="114"/>
                      </a:lnTo>
                      <a:lnTo>
                        <a:pt x="416" y="115"/>
                      </a:lnTo>
                      <a:lnTo>
                        <a:pt x="432" y="118"/>
                      </a:lnTo>
                      <a:lnTo>
                        <a:pt x="445" y="120"/>
                      </a:lnTo>
                      <a:lnTo>
                        <a:pt x="459" y="124"/>
                      </a:lnTo>
                      <a:lnTo>
                        <a:pt x="473" y="128"/>
                      </a:lnTo>
                      <a:lnTo>
                        <a:pt x="487" y="134"/>
                      </a:lnTo>
                      <a:lnTo>
                        <a:pt x="500" y="139"/>
                      </a:lnTo>
                      <a:lnTo>
                        <a:pt x="513" y="147"/>
                      </a:lnTo>
                      <a:lnTo>
                        <a:pt x="525" y="154"/>
                      </a:lnTo>
                      <a:lnTo>
                        <a:pt x="537" y="162"/>
                      </a:lnTo>
                      <a:lnTo>
                        <a:pt x="550" y="172"/>
                      </a:lnTo>
                      <a:lnTo>
                        <a:pt x="560" y="181"/>
                      </a:lnTo>
                      <a:lnTo>
                        <a:pt x="572" y="191"/>
                      </a:lnTo>
                      <a:lnTo>
                        <a:pt x="582" y="202"/>
                      </a:lnTo>
                      <a:lnTo>
                        <a:pt x="592" y="213"/>
                      </a:lnTo>
                      <a:lnTo>
                        <a:pt x="602" y="225"/>
                      </a:lnTo>
                      <a:lnTo>
                        <a:pt x="611" y="237"/>
                      </a:lnTo>
                      <a:lnTo>
                        <a:pt x="619" y="251"/>
                      </a:lnTo>
                      <a:lnTo>
                        <a:pt x="627" y="263"/>
                      </a:lnTo>
                      <a:lnTo>
                        <a:pt x="635" y="278"/>
                      </a:lnTo>
                      <a:lnTo>
                        <a:pt x="642" y="291"/>
                      </a:lnTo>
                      <a:lnTo>
                        <a:pt x="648" y="306"/>
                      </a:lnTo>
                      <a:lnTo>
                        <a:pt x="654" y="321"/>
                      </a:lnTo>
                      <a:lnTo>
                        <a:pt x="660" y="336"/>
                      </a:lnTo>
                      <a:lnTo>
                        <a:pt x="664" y="352"/>
                      </a:lnTo>
                      <a:lnTo>
                        <a:pt x="668" y="369"/>
                      </a:lnTo>
                      <a:lnTo>
                        <a:pt x="671" y="385"/>
                      </a:lnTo>
                      <a:lnTo>
                        <a:pt x="674" y="401"/>
                      </a:lnTo>
                      <a:lnTo>
                        <a:pt x="676" y="419"/>
                      </a:lnTo>
                      <a:lnTo>
                        <a:pt x="677" y="436"/>
                      </a:lnTo>
                      <a:lnTo>
                        <a:pt x="677" y="454"/>
                      </a:lnTo>
                      <a:lnTo>
                        <a:pt x="774" y="454"/>
                      </a:lnTo>
                      <a:lnTo>
                        <a:pt x="773" y="477"/>
                      </a:lnTo>
                      <a:lnTo>
                        <a:pt x="772" y="500"/>
                      </a:lnTo>
                      <a:lnTo>
                        <a:pt x="770" y="523"/>
                      </a:lnTo>
                      <a:lnTo>
                        <a:pt x="766" y="545"/>
                      </a:lnTo>
                      <a:lnTo>
                        <a:pt x="753" y="545"/>
                      </a:lnTo>
                      <a:lnTo>
                        <a:pt x="741" y="545"/>
                      </a:lnTo>
                      <a:lnTo>
                        <a:pt x="729" y="545"/>
                      </a:lnTo>
                      <a:lnTo>
                        <a:pt x="716" y="545"/>
                      </a:lnTo>
                      <a:lnTo>
                        <a:pt x="704" y="545"/>
                      </a:lnTo>
                      <a:lnTo>
                        <a:pt x="691" y="546"/>
                      </a:lnTo>
                      <a:lnTo>
                        <a:pt x="679" y="546"/>
                      </a:lnTo>
                      <a:lnTo>
                        <a:pt x="667" y="546"/>
                      </a:lnTo>
                      <a:lnTo>
                        <a:pt x="668" y="538"/>
                      </a:lnTo>
                      <a:lnTo>
                        <a:pt x="671" y="522"/>
                      </a:lnTo>
                      <a:lnTo>
                        <a:pt x="674" y="506"/>
                      </a:lnTo>
                      <a:lnTo>
                        <a:pt x="676" y="488"/>
                      </a:lnTo>
                      <a:lnTo>
                        <a:pt x="677" y="470"/>
                      </a:lnTo>
                      <a:lnTo>
                        <a:pt x="677" y="454"/>
                      </a:lnTo>
                      <a:lnTo>
                        <a:pt x="774" y="454"/>
                      </a:lnTo>
                      <a:close/>
                    </a:path>
                  </a:pathLst>
                </a:custGeom>
                <a:solidFill>
                  <a:srgbClr val="f2f7f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Freeform 36"/>
                <p:cNvSpPr/>
                <p:nvPr/>
              </p:nvSpPr>
              <p:spPr>
                <a:xfrm>
                  <a:off x="6013800" y="4538160"/>
                  <a:ext cx="757800" cy="240480"/>
                </a:xfrm>
                <a:custGeom>
                  <a:avLst/>
                  <a:gdLst>
                    <a:gd name="textAreaLeft" fmla="*/ 0 w 757800"/>
                    <a:gd name="textAreaRight" fmla="*/ 758160 w 757800"/>
                    <a:gd name="textAreaTop" fmla="*/ 0 h 240480"/>
                    <a:gd name="textAreaBottom" fmla="*/ 240840 h 240480"/>
                  </a:gdLst>
                  <a:ahLst/>
                  <a:rect l="textAreaLeft" t="textAreaTop" r="textAreaRight" b="textAreaBottom"/>
                  <a:pathLst>
                    <a:path w="580" h="432">
                      <a:moveTo>
                        <a:pt x="580" y="340"/>
                      </a:moveTo>
                      <a:lnTo>
                        <a:pt x="580" y="322"/>
                      </a:lnTo>
                      <a:lnTo>
                        <a:pt x="579" y="305"/>
                      </a:lnTo>
                      <a:lnTo>
                        <a:pt x="577" y="287"/>
                      </a:lnTo>
                      <a:lnTo>
                        <a:pt x="574" y="271"/>
                      </a:lnTo>
                      <a:lnTo>
                        <a:pt x="571" y="255"/>
                      </a:lnTo>
                      <a:lnTo>
                        <a:pt x="567" y="238"/>
                      </a:lnTo>
                      <a:lnTo>
                        <a:pt x="563" y="222"/>
                      </a:lnTo>
                      <a:lnTo>
                        <a:pt x="557" y="207"/>
                      </a:lnTo>
                      <a:lnTo>
                        <a:pt x="551" y="192"/>
                      </a:lnTo>
                      <a:lnTo>
                        <a:pt x="545" y="177"/>
                      </a:lnTo>
                      <a:lnTo>
                        <a:pt x="538" y="164"/>
                      </a:lnTo>
                      <a:lnTo>
                        <a:pt x="530" y="149"/>
                      </a:lnTo>
                      <a:lnTo>
                        <a:pt x="522" y="137"/>
                      </a:lnTo>
                      <a:lnTo>
                        <a:pt x="514" y="123"/>
                      </a:lnTo>
                      <a:lnTo>
                        <a:pt x="505" y="111"/>
                      </a:lnTo>
                      <a:lnTo>
                        <a:pt x="495" y="99"/>
                      </a:lnTo>
                      <a:lnTo>
                        <a:pt x="485" y="88"/>
                      </a:lnTo>
                      <a:lnTo>
                        <a:pt x="475" y="77"/>
                      </a:lnTo>
                      <a:lnTo>
                        <a:pt x="463" y="67"/>
                      </a:lnTo>
                      <a:lnTo>
                        <a:pt x="453" y="58"/>
                      </a:lnTo>
                      <a:lnTo>
                        <a:pt x="440" y="48"/>
                      </a:lnTo>
                      <a:lnTo>
                        <a:pt x="428" y="40"/>
                      </a:lnTo>
                      <a:lnTo>
                        <a:pt x="416" y="33"/>
                      </a:lnTo>
                      <a:lnTo>
                        <a:pt x="403" y="25"/>
                      </a:lnTo>
                      <a:lnTo>
                        <a:pt x="390" y="20"/>
                      </a:lnTo>
                      <a:lnTo>
                        <a:pt x="376" y="14"/>
                      </a:lnTo>
                      <a:lnTo>
                        <a:pt x="362" y="10"/>
                      </a:lnTo>
                      <a:lnTo>
                        <a:pt x="348" y="6"/>
                      </a:lnTo>
                      <a:lnTo>
                        <a:pt x="335" y="4"/>
                      </a:lnTo>
                      <a:lnTo>
                        <a:pt x="319" y="1"/>
                      </a:lnTo>
                      <a:lnTo>
                        <a:pt x="304" y="0"/>
                      </a:lnTo>
                      <a:lnTo>
                        <a:pt x="289" y="0"/>
                      </a:lnTo>
                      <a:lnTo>
                        <a:pt x="274" y="0"/>
                      </a:lnTo>
                      <a:lnTo>
                        <a:pt x="260" y="1"/>
                      </a:lnTo>
                      <a:lnTo>
                        <a:pt x="245" y="4"/>
                      </a:lnTo>
                      <a:lnTo>
                        <a:pt x="231" y="6"/>
                      </a:lnTo>
                      <a:lnTo>
                        <a:pt x="218" y="10"/>
                      </a:lnTo>
                      <a:lnTo>
                        <a:pt x="204" y="14"/>
                      </a:lnTo>
                      <a:lnTo>
                        <a:pt x="190" y="20"/>
                      </a:lnTo>
                      <a:lnTo>
                        <a:pt x="177" y="25"/>
                      </a:lnTo>
                      <a:lnTo>
                        <a:pt x="164" y="33"/>
                      </a:lnTo>
                      <a:lnTo>
                        <a:pt x="152" y="40"/>
                      </a:lnTo>
                      <a:lnTo>
                        <a:pt x="139" y="48"/>
                      </a:lnTo>
                      <a:lnTo>
                        <a:pt x="127" y="58"/>
                      </a:lnTo>
                      <a:lnTo>
                        <a:pt x="116" y="67"/>
                      </a:lnTo>
                      <a:lnTo>
                        <a:pt x="105" y="77"/>
                      </a:lnTo>
                      <a:lnTo>
                        <a:pt x="95" y="88"/>
                      </a:lnTo>
                      <a:lnTo>
                        <a:pt x="84" y="99"/>
                      </a:lnTo>
                      <a:lnTo>
                        <a:pt x="75" y="111"/>
                      </a:lnTo>
                      <a:lnTo>
                        <a:pt x="66" y="123"/>
                      </a:lnTo>
                      <a:lnTo>
                        <a:pt x="57" y="137"/>
                      </a:lnTo>
                      <a:lnTo>
                        <a:pt x="48" y="149"/>
                      </a:lnTo>
                      <a:lnTo>
                        <a:pt x="42" y="164"/>
                      </a:lnTo>
                      <a:lnTo>
                        <a:pt x="35" y="177"/>
                      </a:lnTo>
                      <a:lnTo>
                        <a:pt x="28" y="192"/>
                      </a:lnTo>
                      <a:lnTo>
                        <a:pt x="22" y="207"/>
                      </a:lnTo>
                      <a:lnTo>
                        <a:pt x="17" y="222"/>
                      </a:lnTo>
                      <a:lnTo>
                        <a:pt x="13" y="238"/>
                      </a:lnTo>
                      <a:lnTo>
                        <a:pt x="8" y="255"/>
                      </a:lnTo>
                      <a:lnTo>
                        <a:pt x="6" y="271"/>
                      </a:lnTo>
                      <a:lnTo>
                        <a:pt x="2" y="287"/>
                      </a:lnTo>
                      <a:lnTo>
                        <a:pt x="1" y="305"/>
                      </a:lnTo>
                      <a:lnTo>
                        <a:pt x="0" y="322"/>
                      </a:lnTo>
                      <a:lnTo>
                        <a:pt x="0" y="340"/>
                      </a:lnTo>
                      <a:lnTo>
                        <a:pt x="0" y="356"/>
                      </a:lnTo>
                      <a:lnTo>
                        <a:pt x="1" y="374"/>
                      </a:lnTo>
                      <a:lnTo>
                        <a:pt x="2" y="392"/>
                      </a:lnTo>
                      <a:lnTo>
                        <a:pt x="6" y="408"/>
                      </a:lnTo>
                      <a:lnTo>
                        <a:pt x="8" y="424"/>
                      </a:lnTo>
                      <a:lnTo>
                        <a:pt x="9" y="428"/>
                      </a:lnTo>
                      <a:lnTo>
                        <a:pt x="22" y="428"/>
                      </a:lnTo>
                      <a:lnTo>
                        <a:pt x="35" y="428"/>
                      </a:lnTo>
                      <a:lnTo>
                        <a:pt x="47" y="428"/>
                      </a:lnTo>
                      <a:lnTo>
                        <a:pt x="60" y="428"/>
                      </a:lnTo>
                      <a:lnTo>
                        <a:pt x="74" y="430"/>
                      </a:lnTo>
                      <a:lnTo>
                        <a:pt x="87" y="430"/>
                      </a:lnTo>
                      <a:lnTo>
                        <a:pt x="99" y="430"/>
                      </a:lnTo>
                      <a:lnTo>
                        <a:pt x="112" y="430"/>
                      </a:lnTo>
                      <a:lnTo>
                        <a:pt x="111" y="428"/>
                      </a:lnTo>
                      <a:lnTo>
                        <a:pt x="105" y="407"/>
                      </a:lnTo>
                      <a:lnTo>
                        <a:pt x="101" y="385"/>
                      </a:lnTo>
                      <a:lnTo>
                        <a:pt x="97" y="363"/>
                      </a:lnTo>
                      <a:lnTo>
                        <a:pt x="96" y="340"/>
                      </a:lnTo>
                      <a:lnTo>
                        <a:pt x="97" y="316"/>
                      </a:lnTo>
                      <a:lnTo>
                        <a:pt x="101" y="294"/>
                      </a:lnTo>
                      <a:lnTo>
                        <a:pt x="105" y="272"/>
                      </a:lnTo>
                      <a:lnTo>
                        <a:pt x="111" y="252"/>
                      </a:lnTo>
                      <a:lnTo>
                        <a:pt x="119" y="232"/>
                      </a:lnTo>
                      <a:lnTo>
                        <a:pt x="130" y="213"/>
                      </a:lnTo>
                      <a:lnTo>
                        <a:pt x="140" y="195"/>
                      </a:lnTo>
                      <a:lnTo>
                        <a:pt x="153" y="179"/>
                      </a:lnTo>
                      <a:lnTo>
                        <a:pt x="167" y="165"/>
                      </a:lnTo>
                      <a:lnTo>
                        <a:pt x="182" y="151"/>
                      </a:lnTo>
                      <a:lnTo>
                        <a:pt x="198" y="141"/>
                      </a:lnTo>
                      <a:lnTo>
                        <a:pt x="214" y="131"/>
                      </a:lnTo>
                      <a:lnTo>
                        <a:pt x="233" y="123"/>
                      </a:lnTo>
                      <a:lnTo>
                        <a:pt x="251" y="118"/>
                      </a:lnTo>
                      <a:lnTo>
                        <a:pt x="270" y="114"/>
                      </a:lnTo>
                      <a:lnTo>
                        <a:pt x="289" y="112"/>
                      </a:lnTo>
                      <a:lnTo>
                        <a:pt x="309" y="114"/>
                      </a:lnTo>
                      <a:lnTo>
                        <a:pt x="329" y="118"/>
                      </a:lnTo>
                      <a:lnTo>
                        <a:pt x="347" y="123"/>
                      </a:lnTo>
                      <a:lnTo>
                        <a:pt x="365" y="131"/>
                      </a:lnTo>
                      <a:lnTo>
                        <a:pt x="382" y="141"/>
                      </a:lnTo>
                      <a:lnTo>
                        <a:pt x="398" y="151"/>
                      </a:lnTo>
                      <a:lnTo>
                        <a:pt x="413" y="165"/>
                      </a:lnTo>
                      <a:lnTo>
                        <a:pt x="427" y="179"/>
                      </a:lnTo>
                      <a:lnTo>
                        <a:pt x="439" y="195"/>
                      </a:lnTo>
                      <a:lnTo>
                        <a:pt x="450" y="213"/>
                      </a:lnTo>
                      <a:lnTo>
                        <a:pt x="460" y="232"/>
                      </a:lnTo>
                      <a:lnTo>
                        <a:pt x="468" y="252"/>
                      </a:lnTo>
                      <a:lnTo>
                        <a:pt x="475" y="272"/>
                      </a:lnTo>
                      <a:lnTo>
                        <a:pt x="479" y="294"/>
                      </a:lnTo>
                      <a:lnTo>
                        <a:pt x="483" y="316"/>
                      </a:lnTo>
                      <a:lnTo>
                        <a:pt x="484" y="340"/>
                      </a:lnTo>
                      <a:lnTo>
                        <a:pt x="580" y="340"/>
                      </a:lnTo>
                      <a:lnTo>
                        <a:pt x="580" y="356"/>
                      </a:lnTo>
                      <a:lnTo>
                        <a:pt x="579" y="374"/>
                      </a:lnTo>
                      <a:lnTo>
                        <a:pt x="577" y="392"/>
                      </a:lnTo>
                      <a:lnTo>
                        <a:pt x="574" y="408"/>
                      </a:lnTo>
                      <a:lnTo>
                        <a:pt x="571" y="424"/>
                      </a:lnTo>
                      <a:lnTo>
                        <a:pt x="570" y="432"/>
                      </a:lnTo>
                      <a:lnTo>
                        <a:pt x="557" y="432"/>
                      </a:lnTo>
                      <a:lnTo>
                        <a:pt x="543" y="432"/>
                      </a:lnTo>
                      <a:lnTo>
                        <a:pt x="530" y="432"/>
                      </a:lnTo>
                      <a:lnTo>
                        <a:pt x="517" y="432"/>
                      </a:lnTo>
                      <a:lnTo>
                        <a:pt x="505" y="432"/>
                      </a:lnTo>
                      <a:lnTo>
                        <a:pt x="492" y="432"/>
                      </a:lnTo>
                      <a:lnTo>
                        <a:pt x="479" y="432"/>
                      </a:lnTo>
                      <a:lnTo>
                        <a:pt x="467" y="432"/>
                      </a:lnTo>
                      <a:lnTo>
                        <a:pt x="468" y="428"/>
                      </a:lnTo>
                      <a:lnTo>
                        <a:pt x="475" y="407"/>
                      </a:lnTo>
                      <a:lnTo>
                        <a:pt x="479" y="385"/>
                      </a:lnTo>
                      <a:lnTo>
                        <a:pt x="483" y="363"/>
                      </a:lnTo>
                      <a:lnTo>
                        <a:pt x="484" y="340"/>
                      </a:lnTo>
                      <a:lnTo>
                        <a:pt x="580" y="340"/>
                      </a:lnTo>
                      <a:close/>
                    </a:path>
                  </a:pathLst>
                </a:custGeom>
                <a:solidFill>
                  <a:srgbClr val="f5f9f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Freeform 37"/>
                <p:cNvSpPr/>
                <p:nvPr/>
              </p:nvSpPr>
              <p:spPr>
                <a:xfrm>
                  <a:off x="6139440" y="4600080"/>
                  <a:ext cx="506520" cy="178560"/>
                </a:xfrm>
                <a:custGeom>
                  <a:avLst/>
                  <a:gdLst>
                    <a:gd name="textAreaLeft" fmla="*/ 0 w 506520"/>
                    <a:gd name="textAreaRight" fmla="*/ 506880 w 506520"/>
                    <a:gd name="textAreaTop" fmla="*/ 0 h 178560"/>
                    <a:gd name="textAreaBottom" fmla="*/ 178920 h 178560"/>
                  </a:gdLst>
                  <a:ahLst/>
                  <a:rect l="textAreaLeft" t="textAreaTop" r="textAreaRight" b="textAreaBottom"/>
                  <a:pathLst>
                    <a:path w="388" h="320">
                      <a:moveTo>
                        <a:pt x="388" y="228"/>
                      </a:moveTo>
                      <a:lnTo>
                        <a:pt x="387" y="204"/>
                      </a:lnTo>
                      <a:lnTo>
                        <a:pt x="383" y="182"/>
                      </a:lnTo>
                      <a:lnTo>
                        <a:pt x="379" y="160"/>
                      </a:lnTo>
                      <a:lnTo>
                        <a:pt x="372" y="140"/>
                      </a:lnTo>
                      <a:lnTo>
                        <a:pt x="364" y="120"/>
                      </a:lnTo>
                      <a:lnTo>
                        <a:pt x="354" y="101"/>
                      </a:lnTo>
                      <a:lnTo>
                        <a:pt x="343" y="83"/>
                      </a:lnTo>
                      <a:lnTo>
                        <a:pt x="331" y="67"/>
                      </a:lnTo>
                      <a:lnTo>
                        <a:pt x="317" y="53"/>
                      </a:lnTo>
                      <a:lnTo>
                        <a:pt x="302" y="39"/>
                      </a:lnTo>
                      <a:lnTo>
                        <a:pt x="286" y="29"/>
                      </a:lnTo>
                      <a:lnTo>
                        <a:pt x="269" y="19"/>
                      </a:lnTo>
                      <a:lnTo>
                        <a:pt x="251" y="11"/>
                      </a:lnTo>
                      <a:lnTo>
                        <a:pt x="233" y="6"/>
                      </a:lnTo>
                      <a:lnTo>
                        <a:pt x="213" y="2"/>
                      </a:lnTo>
                      <a:lnTo>
                        <a:pt x="193" y="0"/>
                      </a:lnTo>
                      <a:lnTo>
                        <a:pt x="174" y="2"/>
                      </a:lnTo>
                      <a:lnTo>
                        <a:pt x="155" y="6"/>
                      </a:lnTo>
                      <a:lnTo>
                        <a:pt x="137" y="11"/>
                      </a:lnTo>
                      <a:lnTo>
                        <a:pt x="118" y="19"/>
                      </a:lnTo>
                      <a:lnTo>
                        <a:pt x="102" y="29"/>
                      </a:lnTo>
                      <a:lnTo>
                        <a:pt x="86" y="39"/>
                      </a:lnTo>
                      <a:lnTo>
                        <a:pt x="71" y="53"/>
                      </a:lnTo>
                      <a:lnTo>
                        <a:pt x="57" y="67"/>
                      </a:lnTo>
                      <a:lnTo>
                        <a:pt x="44" y="83"/>
                      </a:lnTo>
                      <a:lnTo>
                        <a:pt x="34" y="101"/>
                      </a:lnTo>
                      <a:lnTo>
                        <a:pt x="23" y="120"/>
                      </a:lnTo>
                      <a:lnTo>
                        <a:pt x="15" y="140"/>
                      </a:lnTo>
                      <a:lnTo>
                        <a:pt x="9" y="160"/>
                      </a:lnTo>
                      <a:lnTo>
                        <a:pt x="5" y="182"/>
                      </a:lnTo>
                      <a:lnTo>
                        <a:pt x="1" y="204"/>
                      </a:lnTo>
                      <a:lnTo>
                        <a:pt x="0" y="228"/>
                      </a:lnTo>
                      <a:lnTo>
                        <a:pt x="1" y="251"/>
                      </a:lnTo>
                      <a:lnTo>
                        <a:pt x="5" y="273"/>
                      </a:lnTo>
                      <a:lnTo>
                        <a:pt x="9" y="295"/>
                      </a:lnTo>
                      <a:lnTo>
                        <a:pt x="15" y="316"/>
                      </a:lnTo>
                      <a:lnTo>
                        <a:pt x="16" y="318"/>
                      </a:lnTo>
                      <a:lnTo>
                        <a:pt x="60" y="319"/>
                      </a:lnTo>
                      <a:lnTo>
                        <a:pt x="105" y="319"/>
                      </a:lnTo>
                      <a:lnTo>
                        <a:pt x="149" y="320"/>
                      </a:lnTo>
                      <a:lnTo>
                        <a:pt x="193" y="320"/>
                      </a:lnTo>
                      <a:lnTo>
                        <a:pt x="237" y="320"/>
                      </a:lnTo>
                      <a:lnTo>
                        <a:pt x="283" y="320"/>
                      </a:lnTo>
                      <a:lnTo>
                        <a:pt x="327" y="320"/>
                      </a:lnTo>
                      <a:lnTo>
                        <a:pt x="371" y="320"/>
                      </a:lnTo>
                      <a:lnTo>
                        <a:pt x="372" y="316"/>
                      </a:lnTo>
                      <a:lnTo>
                        <a:pt x="379" y="295"/>
                      </a:lnTo>
                      <a:lnTo>
                        <a:pt x="383" y="273"/>
                      </a:lnTo>
                      <a:lnTo>
                        <a:pt x="387" y="251"/>
                      </a:lnTo>
                      <a:lnTo>
                        <a:pt x="388" y="228"/>
                      </a:lnTo>
                      <a:close/>
                    </a:path>
                  </a:pathLst>
                </a:custGeom>
                <a:solidFill>
                  <a:srgbClr val="f8fbf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" name="Freeform 38"/>
                <p:cNvSpPr/>
                <p:nvPr/>
              </p:nvSpPr>
              <p:spPr>
                <a:xfrm>
                  <a:off x="6267600" y="4663440"/>
                  <a:ext cx="250560" cy="115200"/>
                </a:xfrm>
                <a:custGeom>
                  <a:avLst/>
                  <a:gdLst>
                    <a:gd name="textAreaLeft" fmla="*/ 0 w 250560"/>
                    <a:gd name="textAreaRight" fmla="*/ 250920 w 250560"/>
                    <a:gd name="textAreaTop" fmla="*/ 0 h 115200"/>
                    <a:gd name="textAreaBottom" fmla="*/ 115560 h 115200"/>
                  </a:gdLst>
                  <a:ahLst/>
                  <a:rect l="textAreaLeft" t="textAreaTop" r="textAreaRight" b="textAreaBottom"/>
                  <a:pathLst>
                    <a:path w="194" h="206">
                      <a:moveTo>
                        <a:pt x="194" y="114"/>
                      </a:moveTo>
                      <a:lnTo>
                        <a:pt x="192" y="102"/>
                      </a:lnTo>
                      <a:lnTo>
                        <a:pt x="191" y="91"/>
                      </a:lnTo>
                      <a:lnTo>
                        <a:pt x="189" y="80"/>
                      </a:lnTo>
                      <a:lnTo>
                        <a:pt x="186" y="69"/>
                      </a:lnTo>
                      <a:lnTo>
                        <a:pt x="182" y="60"/>
                      </a:lnTo>
                      <a:lnTo>
                        <a:pt x="177" y="50"/>
                      </a:lnTo>
                      <a:lnTo>
                        <a:pt x="172" y="41"/>
                      </a:lnTo>
                      <a:lnTo>
                        <a:pt x="165" y="33"/>
                      </a:lnTo>
                      <a:lnTo>
                        <a:pt x="158" y="26"/>
                      </a:lnTo>
                      <a:lnTo>
                        <a:pt x="151" y="19"/>
                      </a:lnTo>
                      <a:lnTo>
                        <a:pt x="143" y="14"/>
                      </a:lnTo>
                      <a:lnTo>
                        <a:pt x="135" y="10"/>
                      </a:lnTo>
                      <a:lnTo>
                        <a:pt x="125" y="6"/>
                      </a:lnTo>
                      <a:lnTo>
                        <a:pt x="116" y="3"/>
                      </a:lnTo>
                      <a:lnTo>
                        <a:pt x="107" y="0"/>
                      </a:lnTo>
                      <a:lnTo>
                        <a:pt x="96" y="0"/>
                      </a:lnTo>
                      <a:lnTo>
                        <a:pt x="87" y="0"/>
                      </a:lnTo>
                      <a:lnTo>
                        <a:pt x="77" y="3"/>
                      </a:lnTo>
                      <a:lnTo>
                        <a:pt x="67" y="6"/>
                      </a:lnTo>
                      <a:lnTo>
                        <a:pt x="59" y="10"/>
                      </a:lnTo>
                      <a:lnTo>
                        <a:pt x="50" y="14"/>
                      </a:lnTo>
                      <a:lnTo>
                        <a:pt x="43" y="19"/>
                      </a:lnTo>
                      <a:lnTo>
                        <a:pt x="35" y="26"/>
                      </a:lnTo>
                      <a:lnTo>
                        <a:pt x="28" y="33"/>
                      </a:lnTo>
                      <a:lnTo>
                        <a:pt x="22" y="41"/>
                      </a:lnTo>
                      <a:lnTo>
                        <a:pt x="16" y="50"/>
                      </a:lnTo>
                      <a:lnTo>
                        <a:pt x="12" y="60"/>
                      </a:lnTo>
                      <a:lnTo>
                        <a:pt x="7" y="69"/>
                      </a:lnTo>
                      <a:lnTo>
                        <a:pt x="4" y="80"/>
                      </a:lnTo>
                      <a:lnTo>
                        <a:pt x="1" y="91"/>
                      </a:lnTo>
                      <a:lnTo>
                        <a:pt x="0" y="102"/>
                      </a:lnTo>
                      <a:lnTo>
                        <a:pt x="0" y="114"/>
                      </a:lnTo>
                      <a:lnTo>
                        <a:pt x="0" y="125"/>
                      </a:lnTo>
                      <a:lnTo>
                        <a:pt x="1" y="136"/>
                      </a:lnTo>
                      <a:lnTo>
                        <a:pt x="4" y="147"/>
                      </a:lnTo>
                      <a:lnTo>
                        <a:pt x="7" y="158"/>
                      </a:lnTo>
                      <a:lnTo>
                        <a:pt x="12" y="167"/>
                      </a:lnTo>
                      <a:lnTo>
                        <a:pt x="16" y="177"/>
                      </a:lnTo>
                      <a:lnTo>
                        <a:pt x="22" y="186"/>
                      </a:lnTo>
                      <a:lnTo>
                        <a:pt x="28" y="194"/>
                      </a:lnTo>
                      <a:lnTo>
                        <a:pt x="35" y="201"/>
                      </a:lnTo>
                      <a:lnTo>
                        <a:pt x="41" y="205"/>
                      </a:lnTo>
                      <a:lnTo>
                        <a:pt x="55" y="206"/>
                      </a:lnTo>
                      <a:lnTo>
                        <a:pt x="69" y="206"/>
                      </a:lnTo>
                      <a:lnTo>
                        <a:pt x="82" y="206"/>
                      </a:lnTo>
                      <a:lnTo>
                        <a:pt x="96" y="206"/>
                      </a:lnTo>
                      <a:lnTo>
                        <a:pt x="110" y="206"/>
                      </a:lnTo>
                      <a:lnTo>
                        <a:pt x="124" y="206"/>
                      </a:lnTo>
                      <a:lnTo>
                        <a:pt x="138" y="206"/>
                      </a:lnTo>
                      <a:lnTo>
                        <a:pt x="152" y="206"/>
                      </a:lnTo>
                      <a:lnTo>
                        <a:pt x="158" y="201"/>
                      </a:lnTo>
                      <a:lnTo>
                        <a:pt x="165" y="194"/>
                      </a:lnTo>
                      <a:lnTo>
                        <a:pt x="172" y="186"/>
                      </a:lnTo>
                      <a:lnTo>
                        <a:pt x="177" y="177"/>
                      </a:lnTo>
                      <a:lnTo>
                        <a:pt x="182" y="167"/>
                      </a:lnTo>
                      <a:lnTo>
                        <a:pt x="186" y="158"/>
                      </a:lnTo>
                      <a:lnTo>
                        <a:pt x="189" y="147"/>
                      </a:lnTo>
                      <a:lnTo>
                        <a:pt x="191" y="136"/>
                      </a:lnTo>
                      <a:lnTo>
                        <a:pt x="192" y="125"/>
                      </a:lnTo>
                      <a:lnTo>
                        <a:pt x="194" y="11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" name="Freeform 39"/>
                <p:cNvSpPr/>
                <p:nvPr/>
              </p:nvSpPr>
              <p:spPr>
                <a:xfrm>
                  <a:off x="5329440" y="3528000"/>
                  <a:ext cx="410040" cy="521640"/>
                </a:xfrm>
                <a:custGeom>
                  <a:avLst/>
                  <a:gdLst>
                    <a:gd name="textAreaLeft" fmla="*/ 0 w 410040"/>
                    <a:gd name="textAreaRight" fmla="*/ 410400 w 410040"/>
                    <a:gd name="textAreaTop" fmla="*/ 0 h 521640"/>
                    <a:gd name="textAreaBottom" fmla="*/ 522000 h 521640"/>
                  </a:gdLst>
                  <a:ahLst/>
                  <a:rect l="textAreaLeft" t="textAreaTop" r="textAreaRight" b="textAreaBottom"/>
                  <a:pathLst>
                    <a:path w="314" h="936">
                      <a:moveTo>
                        <a:pt x="102" y="0"/>
                      </a:moveTo>
                      <a:lnTo>
                        <a:pt x="314" y="936"/>
                      </a:lnTo>
                      <a:lnTo>
                        <a:pt x="285" y="916"/>
                      </a:lnTo>
                      <a:lnTo>
                        <a:pt x="259" y="896"/>
                      </a:lnTo>
                      <a:lnTo>
                        <a:pt x="232" y="874"/>
                      </a:lnTo>
                      <a:lnTo>
                        <a:pt x="207" y="851"/>
                      </a:lnTo>
                      <a:lnTo>
                        <a:pt x="182" y="828"/>
                      </a:lnTo>
                      <a:lnTo>
                        <a:pt x="160" y="803"/>
                      </a:lnTo>
                      <a:lnTo>
                        <a:pt x="138" y="778"/>
                      </a:lnTo>
                      <a:lnTo>
                        <a:pt x="119" y="750"/>
                      </a:lnTo>
                      <a:lnTo>
                        <a:pt x="100" y="725"/>
                      </a:lnTo>
                      <a:lnTo>
                        <a:pt x="83" y="696"/>
                      </a:lnTo>
                      <a:lnTo>
                        <a:pt x="68" y="668"/>
                      </a:lnTo>
                      <a:lnTo>
                        <a:pt x="54" y="638"/>
                      </a:lnTo>
                      <a:lnTo>
                        <a:pt x="41" y="608"/>
                      </a:lnTo>
                      <a:lnTo>
                        <a:pt x="29" y="577"/>
                      </a:lnTo>
                      <a:lnTo>
                        <a:pt x="20" y="546"/>
                      </a:lnTo>
                      <a:lnTo>
                        <a:pt x="13" y="513"/>
                      </a:lnTo>
                      <a:lnTo>
                        <a:pt x="7" y="482"/>
                      </a:lnTo>
                      <a:lnTo>
                        <a:pt x="3" y="449"/>
                      </a:lnTo>
                      <a:lnTo>
                        <a:pt x="0" y="418"/>
                      </a:lnTo>
                      <a:lnTo>
                        <a:pt x="0" y="385"/>
                      </a:lnTo>
                      <a:lnTo>
                        <a:pt x="0" y="354"/>
                      </a:lnTo>
                      <a:lnTo>
                        <a:pt x="3" y="322"/>
                      </a:lnTo>
                      <a:lnTo>
                        <a:pt x="6" y="289"/>
                      </a:lnTo>
                      <a:lnTo>
                        <a:pt x="11" y="258"/>
                      </a:lnTo>
                      <a:lnTo>
                        <a:pt x="18" y="225"/>
                      </a:lnTo>
                      <a:lnTo>
                        <a:pt x="26" y="193"/>
                      </a:lnTo>
                      <a:lnTo>
                        <a:pt x="35" y="160"/>
                      </a:lnTo>
                      <a:lnTo>
                        <a:pt x="46" y="128"/>
                      </a:lnTo>
                      <a:lnTo>
                        <a:pt x="57" y="96"/>
                      </a:lnTo>
                      <a:lnTo>
                        <a:pt x="71" y="64"/>
                      </a:lnTo>
                      <a:lnTo>
                        <a:pt x="86" y="33"/>
                      </a:lnTo>
                      <a:lnTo>
                        <a:pt x="102" y="0"/>
                      </a:lnTo>
                      <a:close/>
                    </a:path>
                  </a:pathLst>
                </a:custGeom>
                <a:solidFill>
                  <a:srgbClr val="ff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5462280" y="3407400"/>
                  <a:ext cx="567000" cy="700560"/>
                </a:xfrm>
                <a:custGeom>
                  <a:avLst/>
                  <a:gdLst>
                    <a:gd name="textAreaLeft" fmla="*/ 0 w 567000"/>
                    <a:gd name="textAreaRight" fmla="*/ 567360 w 567000"/>
                    <a:gd name="textAreaTop" fmla="*/ 0 h 700560"/>
                    <a:gd name="textAreaBottom" fmla="*/ 700920 h 700560"/>
                  </a:gdLst>
                  <a:ahLst/>
                  <a:rect l="textAreaLeft" t="textAreaTop" r="textAreaRight" b="textAreaBottom"/>
                  <a:pathLst>
                    <a:path w="435" h="1258">
                      <a:moveTo>
                        <a:pt x="212" y="1152"/>
                      </a:moveTo>
                      <a:lnTo>
                        <a:pt x="0" y="216"/>
                      </a:lnTo>
                      <a:lnTo>
                        <a:pt x="15" y="189"/>
                      </a:lnTo>
                      <a:lnTo>
                        <a:pt x="32" y="161"/>
                      </a:lnTo>
                      <a:lnTo>
                        <a:pt x="49" y="133"/>
                      </a:lnTo>
                      <a:lnTo>
                        <a:pt x="66" y="106"/>
                      </a:lnTo>
                      <a:lnTo>
                        <a:pt x="86" y="79"/>
                      </a:lnTo>
                      <a:lnTo>
                        <a:pt x="106" y="53"/>
                      </a:lnTo>
                      <a:lnTo>
                        <a:pt x="127" y="26"/>
                      </a:lnTo>
                      <a:lnTo>
                        <a:pt x="149" y="0"/>
                      </a:lnTo>
                      <a:lnTo>
                        <a:pt x="435" y="1258"/>
                      </a:lnTo>
                      <a:lnTo>
                        <a:pt x="404" y="1249"/>
                      </a:lnTo>
                      <a:lnTo>
                        <a:pt x="376" y="1236"/>
                      </a:lnTo>
                      <a:lnTo>
                        <a:pt x="347" y="1224"/>
                      </a:lnTo>
                      <a:lnTo>
                        <a:pt x="318" y="1212"/>
                      </a:lnTo>
                      <a:lnTo>
                        <a:pt x="291" y="1197"/>
                      </a:lnTo>
                      <a:lnTo>
                        <a:pt x="264" y="1184"/>
                      </a:lnTo>
                      <a:lnTo>
                        <a:pt x="238" y="1167"/>
                      </a:lnTo>
                      <a:lnTo>
                        <a:pt x="212" y="1152"/>
                      </a:lnTo>
                      <a:close/>
                    </a:path>
                  </a:pathLst>
                </a:custGeom>
                <a:solidFill>
                  <a:srgbClr val="ff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Freeform 41"/>
                <p:cNvSpPr/>
                <p:nvPr/>
              </p:nvSpPr>
              <p:spPr>
                <a:xfrm>
                  <a:off x="5655960" y="3320640"/>
                  <a:ext cx="647640" cy="815760"/>
                </a:xfrm>
                <a:custGeom>
                  <a:avLst/>
                  <a:gdLst>
                    <a:gd name="textAreaLeft" fmla="*/ 0 w 647640"/>
                    <a:gd name="textAreaRight" fmla="*/ 648000 w 647640"/>
                    <a:gd name="textAreaTop" fmla="*/ 0 h 815760"/>
                    <a:gd name="textAreaBottom" fmla="*/ 816120 h 815760"/>
                  </a:gdLst>
                  <a:ahLst/>
                  <a:rect l="textAreaLeft" t="textAreaTop" r="textAreaRight" b="textAreaBottom"/>
                  <a:pathLst>
                    <a:path w="495" h="1464">
                      <a:moveTo>
                        <a:pt x="286" y="1415"/>
                      </a:moveTo>
                      <a:lnTo>
                        <a:pt x="0" y="157"/>
                      </a:lnTo>
                      <a:lnTo>
                        <a:pt x="18" y="137"/>
                      </a:lnTo>
                      <a:lnTo>
                        <a:pt x="37" y="117"/>
                      </a:lnTo>
                      <a:lnTo>
                        <a:pt x="56" y="96"/>
                      </a:lnTo>
                      <a:lnTo>
                        <a:pt x="76" y="76"/>
                      </a:lnTo>
                      <a:lnTo>
                        <a:pt x="97" y="57"/>
                      </a:lnTo>
                      <a:lnTo>
                        <a:pt x="118" y="38"/>
                      </a:lnTo>
                      <a:lnTo>
                        <a:pt x="140" y="19"/>
                      </a:lnTo>
                      <a:lnTo>
                        <a:pt x="162" y="0"/>
                      </a:lnTo>
                      <a:lnTo>
                        <a:pt x="495" y="1464"/>
                      </a:lnTo>
                      <a:lnTo>
                        <a:pt x="467" y="1460"/>
                      </a:lnTo>
                      <a:lnTo>
                        <a:pt x="441" y="1456"/>
                      </a:lnTo>
                      <a:lnTo>
                        <a:pt x="414" y="1450"/>
                      </a:lnTo>
                      <a:lnTo>
                        <a:pt x="387" y="1445"/>
                      </a:lnTo>
                      <a:lnTo>
                        <a:pt x="362" y="1438"/>
                      </a:lnTo>
                      <a:lnTo>
                        <a:pt x="337" y="1431"/>
                      </a:lnTo>
                      <a:lnTo>
                        <a:pt x="311" y="1423"/>
                      </a:lnTo>
                      <a:lnTo>
                        <a:pt x="286" y="1415"/>
                      </a:lnTo>
                      <a:close/>
                    </a:path>
                  </a:pathLst>
                </a:custGeom>
                <a:solidFill>
                  <a:srgbClr val="ffd9b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Freeform 42"/>
                <p:cNvSpPr/>
                <p:nvPr/>
              </p:nvSpPr>
              <p:spPr>
                <a:xfrm>
                  <a:off x="5867640" y="3251880"/>
                  <a:ext cx="697320" cy="891360"/>
                </a:xfrm>
                <a:custGeom>
                  <a:avLst/>
                  <a:gdLst>
                    <a:gd name="textAreaLeft" fmla="*/ 0 w 697320"/>
                    <a:gd name="textAreaRight" fmla="*/ 697680 w 697320"/>
                    <a:gd name="textAreaTop" fmla="*/ 0 h 891360"/>
                    <a:gd name="textAreaBottom" fmla="*/ 891720 h 891360"/>
                  </a:gdLst>
                  <a:ahLst/>
                  <a:rect l="textAreaLeft" t="textAreaTop" r="textAreaRight" b="textAreaBottom"/>
                  <a:pathLst>
                    <a:path w="534" h="1598">
                      <a:moveTo>
                        <a:pt x="333" y="1586"/>
                      </a:moveTo>
                      <a:lnTo>
                        <a:pt x="0" y="122"/>
                      </a:lnTo>
                      <a:lnTo>
                        <a:pt x="19" y="106"/>
                      </a:lnTo>
                      <a:lnTo>
                        <a:pt x="40" y="89"/>
                      </a:lnTo>
                      <a:lnTo>
                        <a:pt x="61" y="75"/>
                      </a:lnTo>
                      <a:lnTo>
                        <a:pt x="82" y="58"/>
                      </a:lnTo>
                      <a:lnTo>
                        <a:pt x="103" y="43"/>
                      </a:lnTo>
                      <a:lnTo>
                        <a:pt x="125" y="28"/>
                      </a:lnTo>
                      <a:lnTo>
                        <a:pt x="148" y="15"/>
                      </a:lnTo>
                      <a:lnTo>
                        <a:pt x="170" y="0"/>
                      </a:lnTo>
                      <a:lnTo>
                        <a:pt x="534" y="1598"/>
                      </a:lnTo>
                      <a:lnTo>
                        <a:pt x="508" y="1598"/>
                      </a:lnTo>
                      <a:lnTo>
                        <a:pt x="483" y="1598"/>
                      </a:lnTo>
                      <a:lnTo>
                        <a:pt x="457" y="1597"/>
                      </a:lnTo>
                      <a:lnTo>
                        <a:pt x="432" y="1596"/>
                      </a:lnTo>
                      <a:lnTo>
                        <a:pt x="406" y="1594"/>
                      </a:lnTo>
                      <a:lnTo>
                        <a:pt x="382" y="1591"/>
                      </a:lnTo>
                      <a:lnTo>
                        <a:pt x="357" y="1589"/>
                      </a:lnTo>
                      <a:lnTo>
                        <a:pt x="333" y="1586"/>
                      </a:lnTo>
                      <a:close/>
                    </a:path>
                  </a:pathLst>
                </a:custGeom>
                <a:solidFill>
                  <a:srgbClr val="ffe6c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Freeform 43"/>
                <p:cNvSpPr/>
                <p:nvPr/>
              </p:nvSpPr>
              <p:spPr>
                <a:xfrm>
                  <a:off x="6089760" y="3200400"/>
                  <a:ext cx="731880" cy="942840"/>
                </a:xfrm>
                <a:custGeom>
                  <a:avLst/>
                  <a:gdLst>
                    <a:gd name="textAreaLeft" fmla="*/ 0 w 731880"/>
                    <a:gd name="textAreaRight" fmla="*/ 732240 w 73188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558" h="1692">
                      <a:moveTo>
                        <a:pt x="364" y="1692"/>
                      </a:moveTo>
                      <a:lnTo>
                        <a:pt x="0" y="94"/>
                      </a:lnTo>
                      <a:lnTo>
                        <a:pt x="21" y="82"/>
                      </a:lnTo>
                      <a:lnTo>
                        <a:pt x="43" y="69"/>
                      </a:lnTo>
                      <a:lnTo>
                        <a:pt x="64" y="57"/>
                      </a:lnTo>
                      <a:lnTo>
                        <a:pt x="86" y="45"/>
                      </a:lnTo>
                      <a:lnTo>
                        <a:pt x="109" y="33"/>
                      </a:lnTo>
                      <a:lnTo>
                        <a:pt x="131" y="22"/>
                      </a:lnTo>
                      <a:lnTo>
                        <a:pt x="154" y="11"/>
                      </a:lnTo>
                      <a:lnTo>
                        <a:pt x="177" y="0"/>
                      </a:lnTo>
                      <a:lnTo>
                        <a:pt x="558" y="1676"/>
                      </a:lnTo>
                      <a:lnTo>
                        <a:pt x="534" y="1680"/>
                      </a:lnTo>
                      <a:lnTo>
                        <a:pt x="508" y="1683"/>
                      </a:lnTo>
                      <a:lnTo>
                        <a:pt x="484" y="1685"/>
                      </a:lnTo>
                      <a:lnTo>
                        <a:pt x="460" y="1688"/>
                      </a:lnTo>
                      <a:lnTo>
                        <a:pt x="435" y="1690"/>
                      </a:lnTo>
                      <a:lnTo>
                        <a:pt x="411" y="1691"/>
                      </a:lnTo>
                      <a:lnTo>
                        <a:pt x="388" y="1692"/>
                      </a:lnTo>
                      <a:lnTo>
                        <a:pt x="364" y="1692"/>
                      </a:lnTo>
                      <a:close/>
                    </a:path>
                  </a:pathLst>
                </a:custGeom>
                <a:solidFill>
                  <a:srgbClr val="fff3e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Freeform 44"/>
                <p:cNvSpPr/>
                <p:nvPr/>
              </p:nvSpPr>
              <p:spPr>
                <a:xfrm>
                  <a:off x="6322320" y="3161880"/>
                  <a:ext cx="744840" cy="971280"/>
                </a:xfrm>
                <a:custGeom>
                  <a:avLst/>
                  <a:gdLst>
                    <a:gd name="textAreaLeft" fmla="*/ 0 w 744840"/>
                    <a:gd name="textAreaRight" fmla="*/ 745200 w 744840"/>
                    <a:gd name="textAreaTop" fmla="*/ 0 h 971280"/>
                    <a:gd name="textAreaBottom" fmla="*/ 971640 h 971280"/>
                  </a:gdLst>
                  <a:ahLst/>
                  <a:rect l="textAreaLeft" t="textAreaTop" r="textAreaRight" b="textAreaBottom"/>
                  <a:pathLst>
                    <a:path w="570" h="1744">
                      <a:moveTo>
                        <a:pt x="381" y="1744"/>
                      </a:moveTo>
                      <a:lnTo>
                        <a:pt x="0" y="68"/>
                      </a:lnTo>
                      <a:lnTo>
                        <a:pt x="22" y="59"/>
                      </a:lnTo>
                      <a:lnTo>
                        <a:pt x="44" y="49"/>
                      </a:lnTo>
                      <a:lnTo>
                        <a:pt x="66" y="41"/>
                      </a:lnTo>
                      <a:lnTo>
                        <a:pt x="89" y="32"/>
                      </a:lnTo>
                      <a:lnTo>
                        <a:pt x="112" y="23"/>
                      </a:lnTo>
                      <a:lnTo>
                        <a:pt x="136" y="15"/>
                      </a:lnTo>
                      <a:lnTo>
                        <a:pt x="159" y="7"/>
                      </a:lnTo>
                      <a:lnTo>
                        <a:pt x="182" y="0"/>
                      </a:lnTo>
                      <a:lnTo>
                        <a:pt x="570" y="1703"/>
                      </a:lnTo>
                      <a:lnTo>
                        <a:pt x="545" y="1710"/>
                      </a:lnTo>
                      <a:lnTo>
                        <a:pt x="522" y="1715"/>
                      </a:lnTo>
                      <a:lnTo>
                        <a:pt x="498" y="1721"/>
                      </a:lnTo>
                      <a:lnTo>
                        <a:pt x="475" y="1726"/>
                      </a:lnTo>
                      <a:lnTo>
                        <a:pt x="452" y="1732"/>
                      </a:lnTo>
                      <a:lnTo>
                        <a:pt x="427" y="1736"/>
                      </a:lnTo>
                      <a:lnTo>
                        <a:pt x="404" y="1740"/>
                      </a:lnTo>
                      <a:lnTo>
                        <a:pt x="381" y="1744"/>
                      </a:lnTo>
                      <a:close/>
                    </a:path>
                  </a:pathLst>
                </a:custGeom>
                <a:solidFill>
                  <a:srgbClr val="ffff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Freeform 45"/>
                <p:cNvSpPr/>
                <p:nvPr/>
              </p:nvSpPr>
              <p:spPr>
                <a:xfrm>
                  <a:off x="6560280" y="3136680"/>
                  <a:ext cx="744120" cy="974880"/>
                </a:xfrm>
                <a:custGeom>
                  <a:avLst/>
                  <a:gdLst>
                    <a:gd name="textAreaLeft" fmla="*/ 0 w 744120"/>
                    <a:gd name="textAreaRight" fmla="*/ 744480 w 744120"/>
                    <a:gd name="textAreaTop" fmla="*/ 0 h 974880"/>
                    <a:gd name="textAreaBottom" fmla="*/ 975240 h 974880"/>
                  </a:gdLst>
                  <a:ahLst/>
                  <a:rect l="textAreaLeft" t="textAreaTop" r="textAreaRight" b="textAreaBottom"/>
                  <a:pathLst>
                    <a:path w="571" h="1749">
                      <a:moveTo>
                        <a:pt x="388" y="1749"/>
                      </a:moveTo>
                      <a:lnTo>
                        <a:pt x="0" y="46"/>
                      </a:lnTo>
                      <a:lnTo>
                        <a:pt x="5" y="45"/>
                      </a:lnTo>
                      <a:lnTo>
                        <a:pt x="9" y="44"/>
                      </a:lnTo>
                      <a:lnTo>
                        <a:pt x="14" y="42"/>
                      </a:lnTo>
                      <a:lnTo>
                        <a:pt x="17" y="41"/>
                      </a:lnTo>
                      <a:lnTo>
                        <a:pt x="22" y="40"/>
                      </a:lnTo>
                      <a:lnTo>
                        <a:pt x="27" y="38"/>
                      </a:lnTo>
                      <a:lnTo>
                        <a:pt x="31" y="37"/>
                      </a:lnTo>
                      <a:lnTo>
                        <a:pt x="36" y="36"/>
                      </a:lnTo>
                      <a:lnTo>
                        <a:pt x="54" y="30"/>
                      </a:lnTo>
                      <a:lnTo>
                        <a:pt x="74" y="25"/>
                      </a:lnTo>
                      <a:lnTo>
                        <a:pt x="93" y="21"/>
                      </a:lnTo>
                      <a:lnTo>
                        <a:pt x="112" y="15"/>
                      </a:lnTo>
                      <a:lnTo>
                        <a:pt x="131" y="11"/>
                      </a:lnTo>
                      <a:lnTo>
                        <a:pt x="150" y="7"/>
                      </a:lnTo>
                      <a:lnTo>
                        <a:pt x="169" y="3"/>
                      </a:lnTo>
                      <a:lnTo>
                        <a:pt x="187" y="0"/>
                      </a:lnTo>
                      <a:lnTo>
                        <a:pt x="571" y="1684"/>
                      </a:lnTo>
                      <a:lnTo>
                        <a:pt x="549" y="1694"/>
                      </a:lnTo>
                      <a:lnTo>
                        <a:pt x="527" y="1702"/>
                      </a:lnTo>
                      <a:lnTo>
                        <a:pt x="505" y="1711"/>
                      </a:lnTo>
                      <a:lnTo>
                        <a:pt x="482" y="1719"/>
                      </a:lnTo>
                      <a:lnTo>
                        <a:pt x="460" y="1728"/>
                      </a:lnTo>
                      <a:lnTo>
                        <a:pt x="436" y="1734"/>
                      </a:lnTo>
                      <a:lnTo>
                        <a:pt x="413" y="1742"/>
                      </a:lnTo>
                      <a:lnTo>
                        <a:pt x="389" y="1749"/>
                      </a:lnTo>
                      <a:lnTo>
                        <a:pt x="389" y="1749"/>
                      </a:lnTo>
                      <a:lnTo>
                        <a:pt x="389" y="1749"/>
                      </a:lnTo>
                      <a:lnTo>
                        <a:pt x="389" y="1749"/>
                      </a:lnTo>
                      <a:lnTo>
                        <a:pt x="389" y="1749"/>
                      </a:lnTo>
                      <a:lnTo>
                        <a:pt x="388" y="1749"/>
                      </a:lnTo>
                      <a:lnTo>
                        <a:pt x="388" y="1749"/>
                      </a:lnTo>
                      <a:lnTo>
                        <a:pt x="388" y="1749"/>
                      </a:lnTo>
                      <a:lnTo>
                        <a:pt x="388" y="1749"/>
                      </a:lnTo>
                      <a:close/>
                    </a:path>
                  </a:pathLst>
                </a:custGeom>
                <a:solidFill>
                  <a:srgbClr val="fff6e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Freeform 46"/>
                <p:cNvSpPr/>
                <p:nvPr/>
              </p:nvSpPr>
              <p:spPr>
                <a:xfrm>
                  <a:off x="6805800" y="3123360"/>
                  <a:ext cx="731880" cy="951480"/>
                </a:xfrm>
                <a:custGeom>
                  <a:avLst/>
                  <a:gdLst>
                    <a:gd name="textAreaLeft" fmla="*/ 0 w 731880"/>
                    <a:gd name="textAreaRight" fmla="*/ 732240 w 731880"/>
                    <a:gd name="textAreaTop" fmla="*/ 0 h 951480"/>
                    <a:gd name="textAreaBottom" fmla="*/ 951840 h 951480"/>
                  </a:gdLst>
                  <a:ahLst/>
                  <a:rect l="textAreaLeft" t="textAreaTop" r="textAreaRight" b="textAreaBottom"/>
                  <a:pathLst>
                    <a:path w="561" h="1707">
                      <a:moveTo>
                        <a:pt x="384" y="1707"/>
                      </a:moveTo>
                      <a:lnTo>
                        <a:pt x="0" y="23"/>
                      </a:lnTo>
                      <a:lnTo>
                        <a:pt x="25" y="18"/>
                      </a:lnTo>
                      <a:lnTo>
                        <a:pt x="49" y="15"/>
                      </a:lnTo>
                      <a:lnTo>
                        <a:pt x="73" y="11"/>
                      </a:lnTo>
                      <a:lnTo>
                        <a:pt x="98" y="8"/>
                      </a:lnTo>
                      <a:lnTo>
                        <a:pt x="122" y="6"/>
                      </a:lnTo>
                      <a:lnTo>
                        <a:pt x="146" y="3"/>
                      </a:lnTo>
                      <a:lnTo>
                        <a:pt x="170" y="2"/>
                      </a:lnTo>
                      <a:lnTo>
                        <a:pt x="194" y="0"/>
                      </a:lnTo>
                      <a:lnTo>
                        <a:pt x="561" y="1615"/>
                      </a:lnTo>
                      <a:lnTo>
                        <a:pt x="540" y="1628"/>
                      </a:lnTo>
                      <a:lnTo>
                        <a:pt x="518" y="1641"/>
                      </a:lnTo>
                      <a:lnTo>
                        <a:pt x="497" y="1653"/>
                      </a:lnTo>
                      <a:lnTo>
                        <a:pt x="475" y="1664"/>
                      </a:lnTo>
                      <a:lnTo>
                        <a:pt x="453" y="1675"/>
                      </a:lnTo>
                      <a:lnTo>
                        <a:pt x="430" y="1687"/>
                      </a:lnTo>
                      <a:lnTo>
                        <a:pt x="407" y="1696"/>
                      </a:lnTo>
                      <a:lnTo>
                        <a:pt x="384" y="1707"/>
                      </a:lnTo>
                      <a:close/>
                    </a:path>
                  </a:pathLst>
                </a:custGeom>
                <a:solidFill>
                  <a:srgbClr val="ffeed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7056360" y="3123360"/>
                  <a:ext cx="703440" cy="899280"/>
                </a:xfrm>
                <a:custGeom>
                  <a:avLst/>
                  <a:gdLst>
                    <a:gd name="textAreaLeft" fmla="*/ 0 w 703440"/>
                    <a:gd name="textAreaRight" fmla="*/ 703800 w 703440"/>
                    <a:gd name="textAreaTop" fmla="*/ 0 h 899280"/>
                    <a:gd name="textAreaBottom" fmla="*/ 899640 h 899280"/>
                  </a:gdLst>
                  <a:ahLst/>
                  <a:rect l="textAreaLeft" t="textAreaTop" r="textAreaRight" b="textAreaBottom"/>
                  <a:pathLst>
                    <a:path w="537" h="1616">
                      <a:moveTo>
                        <a:pt x="367" y="1616"/>
                      </a:moveTo>
                      <a:lnTo>
                        <a:pt x="0" y="1"/>
                      </a:lnTo>
                      <a:lnTo>
                        <a:pt x="25" y="0"/>
                      </a:lnTo>
                      <a:lnTo>
                        <a:pt x="51" y="0"/>
                      </a:lnTo>
                      <a:lnTo>
                        <a:pt x="76" y="0"/>
                      </a:lnTo>
                      <a:lnTo>
                        <a:pt x="101" y="0"/>
                      </a:lnTo>
                      <a:lnTo>
                        <a:pt x="126" y="1"/>
                      </a:lnTo>
                      <a:lnTo>
                        <a:pt x="150" y="3"/>
                      </a:lnTo>
                      <a:lnTo>
                        <a:pt x="175" y="4"/>
                      </a:lnTo>
                      <a:lnTo>
                        <a:pt x="199" y="7"/>
                      </a:lnTo>
                      <a:lnTo>
                        <a:pt x="537" y="1494"/>
                      </a:lnTo>
                      <a:lnTo>
                        <a:pt x="517" y="1510"/>
                      </a:lnTo>
                      <a:lnTo>
                        <a:pt x="497" y="1526"/>
                      </a:lnTo>
                      <a:lnTo>
                        <a:pt x="476" y="1543"/>
                      </a:lnTo>
                      <a:lnTo>
                        <a:pt x="455" y="1558"/>
                      </a:lnTo>
                      <a:lnTo>
                        <a:pt x="434" y="1572"/>
                      </a:lnTo>
                      <a:lnTo>
                        <a:pt x="412" y="1587"/>
                      </a:lnTo>
                      <a:lnTo>
                        <a:pt x="390" y="1602"/>
                      </a:lnTo>
                      <a:lnTo>
                        <a:pt x="367" y="1616"/>
                      </a:lnTo>
                      <a:close/>
                    </a:path>
                  </a:pathLst>
                </a:custGeom>
                <a:solidFill>
                  <a:srgbClr val="ffe6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Freeform 48"/>
                <p:cNvSpPr/>
                <p:nvPr/>
              </p:nvSpPr>
              <p:spPr>
                <a:xfrm>
                  <a:off x="7318080" y="3126960"/>
                  <a:ext cx="653400" cy="829080"/>
                </a:xfrm>
                <a:custGeom>
                  <a:avLst/>
                  <a:gdLst>
                    <a:gd name="textAreaLeft" fmla="*/ 0 w 653400"/>
                    <a:gd name="textAreaRight" fmla="*/ 653760 w 653400"/>
                    <a:gd name="textAreaTop" fmla="*/ 0 h 829080"/>
                    <a:gd name="textAreaBottom" fmla="*/ 829440 h 829080"/>
                  </a:gdLst>
                  <a:ahLst/>
                  <a:rect l="textAreaLeft" t="textAreaTop" r="textAreaRight" b="textAreaBottom"/>
                  <a:pathLst>
                    <a:path w="499" h="1487">
                      <a:moveTo>
                        <a:pt x="338" y="1487"/>
                      </a:moveTo>
                      <a:lnTo>
                        <a:pt x="0" y="0"/>
                      </a:lnTo>
                      <a:lnTo>
                        <a:pt x="27" y="2"/>
                      </a:lnTo>
                      <a:lnTo>
                        <a:pt x="53" y="6"/>
                      </a:lnTo>
                      <a:lnTo>
                        <a:pt x="80" y="11"/>
                      </a:lnTo>
                      <a:lnTo>
                        <a:pt x="107" y="16"/>
                      </a:lnTo>
                      <a:lnTo>
                        <a:pt x="132" y="21"/>
                      </a:lnTo>
                      <a:lnTo>
                        <a:pt x="158" y="27"/>
                      </a:lnTo>
                      <a:lnTo>
                        <a:pt x="182" y="34"/>
                      </a:lnTo>
                      <a:lnTo>
                        <a:pt x="207" y="40"/>
                      </a:lnTo>
                      <a:lnTo>
                        <a:pt x="499" y="1324"/>
                      </a:lnTo>
                      <a:lnTo>
                        <a:pt x="481" y="1344"/>
                      </a:lnTo>
                      <a:lnTo>
                        <a:pt x="462" y="1366"/>
                      </a:lnTo>
                      <a:lnTo>
                        <a:pt x="442" y="1386"/>
                      </a:lnTo>
                      <a:lnTo>
                        <a:pt x="423" y="1408"/>
                      </a:lnTo>
                      <a:lnTo>
                        <a:pt x="403" y="1428"/>
                      </a:lnTo>
                      <a:lnTo>
                        <a:pt x="382" y="1447"/>
                      </a:lnTo>
                      <a:lnTo>
                        <a:pt x="360" y="1468"/>
                      </a:lnTo>
                      <a:lnTo>
                        <a:pt x="338" y="1487"/>
                      </a:lnTo>
                      <a:close/>
                    </a:path>
                  </a:pathLst>
                </a:custGeom>
                <a:solidFill>
                  <a:srgbClr val="ffddb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Freeform 49"/>
                <p:cNvSpPr/>
                <p:nvPr/>
              </p:nvSpPr>
              <p:spPr>
                <a:xfrm>
                  <a:off x="7589880" y="3148560"/>
                  <a:ext cx="572400" cy="715320"/>
                </a:xfrm>
                <a:custGeom>
                  <a:avLst/>
                  <a:gdLst>
                    <a:gd name="textAreaLeft" fmla="*/ 0 w 572400"/>
                    <a:gd name="textAreaRight" fmla="*/ 572760 w 572400"/>
                    <a:gd name="textAreaTop" fmla="*/ 0 h 715320"/>
                    <a:gd name="textAreaBottom" fmla="*/ 715680 h 715320"/>
                  </a:gdLst>
                  <a:ahLst/>
                  <a:rect l="textAreaLeft" t="textAreaTop" r="textAreaRight" b="textAreaBottom"/>
                  <a:pathLst>
                    <a:path w="438" h="1284">
                      <a:moveTo>
                        <a:pt x="292" y="1284"/>
                      </a:moveTo>
                      <a:lnTo>
                        <a:pt x="0" y="0"/>
                      </a:lnTo>
                      <a:lnTo>
                        <a:pt x="30" y="11"/>
                      </a:lnTo>
                      <a:lnTo>
                        <a:pt x="59" y="21"/>
                      </a:lnTo>
                      <a:lnTo>
                        <a:pt x="88" y="33"/>
                      </a:lnTo>
                      <a:lnTo>
                        <a:pt x="116" y="45"/>
                      </a:lnTo>
                      <a:lnTo>
                        <a:pt x="144" y="59"/>
                      </a:lnTo>
                      <a:lnTo>
                        <a:pt x="171" y="72"/>
                      </a:lnTo>
                      <a:lnTo>
                        <a:pt x="196" y="87"/>
                      </a:lnTo>
                      <a:lnTo>
                        <a:pt x="221" y="103"/>
                      </a:lnTo>
                      <a:lnTo>
                        <a:pt x="438" y="1057"/>
                      </a:lnTo>
                      <a:lnTo>
                        <a:pt x="423" y="1086"/>
                      </a:lnTo>
                      <a:lnTo>
                        <a:pt x="408" y="1116"/>
                      </a:lnTo>
                      <a:lnTo>
                        <a:pt x="391" y="1144"/>
                      </a:lnTo>
                      <a:lnTo>
                        <a:pt x="373" y="1173"/>
                      </a:lnTo>
                      <a:lnTo>
                        <a:pt x="355" y="1201"/>
                      </a:lnTo>
                      <a:lnTo>
                        <a:pt x="335" y="1228"/>
                      </a:lnTo>
                      <a:lnTo>
                        <a:pt x="314" y="1257"/>
                      </a:lnTo>
                      <a:lnTo>
                        <a:pt x="292" y="1284"/>
                      </a:lnTo>
                      <a:close/>
                    </a:path>
                  </a:pathLst>
                </a:custGeom>
                <a:solidFill>
                  <a:srgbClr val="ff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Freeform 50"/>
                <p:cNvSpPr/>
                <p:nvPr/>
              </p:nvSpPr>
              <p:spPr>
                <a:xfrm>
                  <a:off x="7877520" y="3206880"/>
                  <a:ext cx="405360" cy="531720"/>
                </a:xfrm>
                <a:custGeom>
                  <a:avLst/>
                  <a:gdLst>
                    <a:gd name="textAreaLeft" fmla="*/ 0 w 405360"/>
                    <a:gd name="textAreaRight" fmla="*/ 405720 w 405360"/>
                    <a:gd name="textAreaTop" fmla="*/ 0 h 531720"/>
                    <a:gd name="textAreaBottom" fmla="*/ 532080 h 531720"/>
                  </a:gdLst>
                  <a:ahLst/>
                  <a:rect l="textAreaLeft" t="textAreaTop" r="textAreaRight" b="textAreaBottom"/>
                  <a:pathLst>
                    <a:path w="311" h="954">
                      <a:moveTo>
                        <a:pt x="217" y="954"/>
                      </a:moveTo>
                      <a:lnTo>
                        <a:pt x="0" y="0"/>
                      </a:lnTo>
                      <a:lnTo>
                        <a:pt x="28" y="19"/>
                      </a:lnTo>
                      <a:lnTo>
                        <a:pt x="56" y="40"/>
                      </a:lnTo>
                      <a:lnTo>
                        <a:pt x="82" y="62"/>
                      </a:lnTo>
                      <a:lnTo>
                        <a:pt x="106" y="83"/>
                      </a:lnTo>
                      <a:lnTo>
                        <a:pt x="130" y="106"/>
                      </a:lnTo>
                      <a:lnTo>
                        <a:pt x="152" y="131"/>
                      </a:lnTo>
                      <a:lnTo>
                        <a:pt x="173" y="157"/>
                      </a:lnTo>
                      <a:lnTo>
                        <a:pt x="193" y="182"/>
                      </a:lnTo>
                      <a:lnTo>
                        <a:pt x="211" y="209"/>
                      </a:lnTo>
                      <a:lnTo>
                        <a:pt x="227" y="238"/>
                      </a:lnTo>
                      <a:lnTo>
                        <a:pt x="243" y="268"/>
                      </a:lnTo>
                      <a:lnTo>
                        <a:pt x="256" y="298"/>
                      </a:lnTo>
                      <a:lnTo>
                        <a:pt x="269" y="327"/>
                      </a:lnTo>
                      <a:lnTo>
                        <a:pt x="280" y="360"/>
                      </a:lnTo>
                      <a:lnTo>
                        <a:pt x="289" y="391"/>
                      </a:lnTo>
                      <a:lnTo>
                        <a:pt x="297" y="425"/>
                      </a:lnTo>
                      <a:lnTo>
                        <a:pt x="303" y="456"/>
                      </a:lnTo>
                      <a:lnTo>
                        <a:pt x="307" y="489"/>
                      </a:lnTo>
                      <a:lnTo>
                        <a:pt x="310" y="522"/>
                      </a:lnTo>
                      <a:lnTo>
                        <a:pt x="311" y="555"/>
                      </a:lnTo>
                      <a:lnTo>
                        <a:pt x="311" y="588"/>
                      </a:lnTo>
                      <a:lnTo>
                        <a:pt x="310" y="621"/>
                      </a:lnTo>
                      <a:lnTo>
                        <a:pt x="306" y="654"/>
                      </a:lnTo>
                      <a:lnTo>
                        <a:pt x="302" y="688"/>
                      </a:lnTo>
                      <a:lnTo>
                        <a:pt x="296" y="721"/>
                      </a:lnTo>
                      <a:lnTo>
                        <a:pt x="289" y="755"/>
                      </a:lnTo>
                      <a:lnTo>
                        <a:pt x="281" y="789"/>
                      </a:lnTo>
                      <a:lnTo>
                        <a:pt x="270" y="821"/>
                      </a:lnTo>
                      <a:lnTo>
                        <a:pt x="259" y="855"/>
                      </a:lnTo>
                      <a:lnTo>
                        <a:pt x="246" y="888"/>
                      </a:lnTo>
                      <a:lnTo>
                        <a:pt x="232" y="920"/>
                      </a:lnTo>
                      <a:lnTo>
                        <a:pt x="217" y="954"/>
                      </a:lnTo>
                      <a:close/>
                    </a:path>
                  </a:pathLst>
                </a:custGeom>
                <a:solidFill>
                  <a:srgbClr val="ff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" name="Freeform 51"/>
                <p:cNvSpPr/>
                <p:nvPr/>
              </p:nvSpPr>
              <p:spPr>
                <a:xfrm>
                  <a:off x="5329440" y="3123360"/>
                  <a:ext cx="2953440" cy="1019880"/>
                </a:xfrm>
                <a:custGeom>
                  <a:avLst/>
                  <a:gdLst>
                    <a:gd name="textAreaLeft" fmla="*/ 0 w 2953440"/>
                    <a:gd name="textAreaRight" fmla="*/ 2953800 w 2953440"/>
                    <a:gd name="textAreaTop" fmla="*/ 0 h 1019880"/>
                    <a:gd name="textAreaBottom" fmla="*/ 1020240 h 1019880"/>
                  </a:gdLst>
                  <a:ahLst/>
                  <a:rect l="textAreaLeft" t="textAreaTop" r="textAreaRight" b="textAreaBottom"/>
                  <a:pathLst>
                    <a:path w="2262" h="1830">
                      <a:moveTo>
                        <a:pt x="979" y="60"/>
                      </a:moveTo>
                      <a:lnTo>
                        <a:pt x="1038" y="43"/>
                      </a:lnTo>
                      <a:lnTo>
                        <a:pt x="1096" y="31"/>
                      </a:lnTo>
                      <a:lnTo>
                        <a:pt x="1155" y="20"/>
                      </a:lnTo>
                      <a:lnTo>
                        <a:pt x="1212" y="11"/>
                      </a:lnTo>
                      <a:lnTo>
                        <a:pt x="1268" y="5"/>
                      </a:lnTo>
                      <a:lnTo>
                        <a:pt x="1323" y="1"/>
                      </a:lnTo>
                      <a:lnTo>
                        <a:pt x="1378" y="0"/>
                      </a:lnTo>
                      <a:lnTo>
                        <a:pt x="1432" y="0"/>
                      </a:lnTo>
                      <a:lnTo>
                        <a:pt x="1484" y="3"/>
                      </a:lnTo>
                      <a:lnTo>
                        <a:pt x="1536" y="8"/>
                      </a:lnTo>
                      <a:lnTo>
                        <a:pt x="1586" y="15"/>
                      </a:lnTo>
                      <a:lnTo>
                        <a:pt x="1634" y="23"/>
                      </a:lnTo>
                      <a:lnTo>
                        <a:pt x="1682" y="34"/>
                      </a:lnTo>
                      <a:lnTo>
                        <a:pt x="1728" y="47"/>
                      </a:lnTo>
                      <a:lnTo>
                        <a:pt x="1773" y="62"/>
                      </a:lnTo>
                      <a:lnTo>
                        <a:pt x="1816" y="79"/>
                      </a:lnTo>
                      <a:lnTo>
                        <a:pt x="1858" y="98"/>
                      </a:lnTo>
                      <a:lnTo>
                        <a:pt x="1897" y="118"/>
                      </a:lnTo>
                      <a:lnTo>
                        <a:pt x="1936" y="140"/>
                      </a:lnTo>
                      <a:lnTo>
                        <a:pt x="1972" y="164"/>
                      </a:lnTo>
                      <a:lnTo>
                        <a:pt x="2007" y="190"/>
                      </a:lnTo>
                      <a:lnTo>
                        <a:pt x="2040" y="217"/>
                      </a:lnTo>
                      <a:lnTo>
                        <a:pt x="2056" y="232"/>
                      </a:lnTo>
                      <a:lnTo>
                        <a:pt x="2071" y="247"/>
                      </a:lnTo>
                      <a:lnTo>
                        <a:pt x="2085" y="262"/>
                      </a:lnTo>
                      <a:lnTo>
                        <a:pt x="2100" y="277"/>
                      </a:lnTo>
                      <a:lnTo>
                        <a:pt x="2112" y="293"/>
                      </a:lnTo>
                      <a:lnTo>
                        <a:pt x="2126" y="309"/>
                      </a:lnTo>
                      <a:lnTo>
                        <a:pt x="2138" y="326"/>
                      </a:lnTo>
                      <a:lnTo>
                        <a:pt x="2151" y="343"/>
                      </a:lnTo>
                      <a:lnTo>
                        <a:pt x="2162" y="361"/>
                      </a:lnTo>
                      <a:lnTo>
                        <a:pt x="2173" y="378"/>
                      </a:lnTo>
                      <a:lnTo>
                        <a:pt x="2183" y="396"/>
                      </a:lnTo>
                      <a:lnTo>
                        <a:pt x="2192" y="415"/>
                      </a:lnTo>
                      <a:lnTo>
                        <a:pt x="2202" y="434"/>
                      </a:lnTo>
                      <a:lnTo>
                        <a:pt x="2210" y="453"/>
                      </a:lnTo>
                      <a:lnTo>
                        <a:pt x="2218" y="472"/>
                      </a:lnTo>
                      <a:lnTo>
                        <a:pt x="2225" y="492"/>
                      </a:lnTo>
                      <a:lnTo>
                        <a:pt x="2232" y="513"/>
                      </a:lnTo>
                      <a:lnTo>
                        <a:pt x="2238" y="533"/>
                      </a:lnTo>
                      <a:lnTo>
                        <a:pt x="2243" y="553"/>
                      </a:lnTo>
                      <a:lnTo>
                        <a:pt x="2248" y="575"/>
                      </a:lnTo>
                      <a:lnTo>
                        <a:pt x="2253" y="597"/>
                      </a:lnTo>
                      <a:lnTo>
                        <a:pt x="2256" y="619"/>
                      </a:lnTo>
                      <a:lnTo>
                        <a:pt x="2258" y="640"/>
                      </a:lnTo>
                      <a:lnTo>
                        <a:pt x="2261" y="662"/>
                      </a:lnTo>
                      <a:lnTo>
                        <a:pt x="2262" y="684"/>
                      </a:lnTo>
                      <a:lnTo>
                        <a:pt x="2262" y="705"/>
                      </a:lnTo>
                      <a:lnTo>
                        <a:pt x="2262" y="727"/>
                      </a:lnTo>
                      <a:lnTo>
                        <a:pt x="2262" y="750"/>
                      </a:lnTo>
                      <a:lnTo>
                        <a:pt x="2261" y="772"/>
                      </a:lnTo>
                      <a:lnTo>
                        <a:pt x="2258" y="795"/>
                      </a:lnTo>
                      <a:lnTo>
                        <a:pt x="2256" y="817"/>
                      </a:lnTo>
                      <a:lnTo>
                        <a:pt x="2253" y="840"/>
                      </a:lnTo>
                      <a:lnTo>
                        <a:pt x="2249" y="861"/>
                      </a:lnTo>
                      <a:lnTo>
                        <a:pt x="2244" y="885"/>
                      </a:lnTo>
                      <a:lnTo>
                        <a:pt x="2240" y="906"/>
                      </a:lnTo>
                      <a:lnTo>
                        <a:pt x="2234" y="929"/>
                      </a:lnTo>
                      <a:lnTo>
                        <a:pt x="2221" y="974"/>
                      </a:lnTo>
                      <a:lnTo>
                        <a:pt x="2205" y="1019"/>
                      </a:lnTo>
                      <a:lnTo>
                        <a:pt x="2188" y="1062"/>
                      </a:lnTo>
                      <a:lnTo>
                        <a:pt x="2167" y="1107"/>
                      </a:lnTo>
                      <a:lnTo>
                        <a:pt x="2145" y="1150"/>
                      </a:lnTo>
                      <a:lnTo>
                        <a:pt x="2119" y="1194"/>
                      </a:lnTo>
                      <a:lnTo>
                        <a:pt x="2093" y="1236"/>
                      </a:lnTo>
                      <a:lnTo>
                        <a:pt x="2064" y="1277"/>
                      </a:lnTo>
                      <a:lnTo>
                        <a:pt x="2033" y="1319"/>
                      </a:lnTo>
                      <a:lnTo>
                        <a:pt x="1999" y="1358"/>
                      </a:lnTo>
                      <a:lnTo>
                        <a:pt x="1963" y="1397"/>
                      </a:lnTo>
                      <a:lnTo>
                        <a:pt x="1926" y="1435"/>
                      </a:lnTo>
                      <a:lnTo>
                        <a:pt x="1887" y="1472"/>
                      </a:lnTo>
                      <a:lnTo>
                        <a:pt x="1845" y="1507"/>
                      </a:lnTo>
                      <a:lnTo>
                        <a:pt x="1801" y="1541"/>
                      </a:lnTo>
                      <a:lnTo>
                        <a:pt x="1756" y="1574"/>
                      </a:lnTo>
                      <a:lnTo>
                        <a:pt x="1709" y="1605"/>
                      </a:lnTo>
                      <a:lnTo>
                        <a:pt x="1661" y="1635"/>
                      </a:lnTo>
                      <a:lnTo>
                        <a:pt x="1610" y="1662"/>
                      </a:lnTo>
                      <a:lnTo>
                        <a:pt x="1558" y="1688"/>
                      </a:lnTo>
                      <a:lnTo>
                        <a:pt x="1503" y="1712"/>
                      </a:lnTo>
                      <a:lnTo>
                        <a:pt x="1448" y="1735"/>
                      </a:lnTo>
                      <a:lnTo>
                        <a:pt x="1391" y="1754"/>
                      </a:lnTo>
                      <a:lnTo>
                        <a:pt x="1332" y="1773"/>
                      </a:lnTo>
                      <a:lnTo>
                        <a:pt x="1273" y="1788"/>
                      </a:lnTo>
                      <a:lnTo>
                        <a:pt x="1214" y="1802"/>
                      </a:lnTo>
                      <a:lnTo>
                        <a:pt x="1155" y="1813"/>
                      </a:lnTo>
                      <a:lnTo>
                        <a:pt x="1097" y="1821"/>
                      </a:lnTo>
                      <a:lnTo>
                        <a:pt x="1040" y="1826"/>
                      </a:lnTo>
                      <a:lnTo>
                        <a:pt x="983" y="1829"/>
                      </a:lnTo>
                      <a:lnTo>
                        <a:pt x="927" y="1830"/>
                      </a:lnTo>
                      <a:lnTo>
                        <a:pt x="872" y="1829"/>
                      </a:lnTo>
                      <a:lnTo>
                        <a:pt x="818" y="1826"/>
                      </a:lnTo>
                      <a:lnTo>
                        <a:pt x="765" y="1821"/>
                      </a:lnTo>
                      <a:lnTo>
                        <a:pt x="712" y="1813"/>
                      </a:lnTo>
                      <a:lnTo>
                        <a:pt x="661" y="1803"/>
                      </a:lnTo>
                      <a:lnTo>
                        <a:pt x="612" y="1791"/>
                      </a:lnTo>
                      <a:lnTo>
                        <a:pt x="563" y="1777"/>
                      </a:lnTo>
                      <a:lnTo>
                        <a:pt x="516" y="1762"/>
                      </a:lnTo>
                      <a:lnTo>
                        <a:pt x="470" y="1745"/>
                      </a:lnTo>
                      <a:lnTo>
                        <a:pt x="426" y="1724"/>
                      </a:lnTo>
                      <a:lnTo>
                        <a:pt x="385" y="1704"/>
                      </a:lnTo>
                      <a:lnTo>
                        <a:pt x="344" y="1681"/>
                      </a:lnTo>
                      <a:lnTo>
                        <a:pt x="305" y="1655"/>
                      </a:lnTo>
                      <a:lnTo>
                        <a:pt x="268" y="1629"/>
                      </a:lnTo>
                      <a:lnTo>
                        <a:pt x="233" y="1601"/>
                      </a:lnTo>
                      <a:lnTo>
                        <a:pt x="217" y="1586"/>
                      </a:lnTo>
                      <a:lnTo>
                        <a:pt x="201" y="1571"/>
                      </a:lnTo>
                      <a:lnTo>
                        <a:pt x="186" y="1556"/>
                      </a:lnTo>
                      <a:lnTo>
                        <a:pt x="170" y="1540"/>
                      </a:lnTo>
                      <a:lnTo>
                        <a:pt x="155" y="1524"/>
                      </a:lnTo>
                      <a:lnTo>
                        <a:pt x="142" y="1507"/>
                      </a:lnTo>
                      <a:lnTo>
                        <a:pt x="129" y="1491"/>
                      </a:lnTo>
                      <a:lnTo>
                        <a:pt x="116" y="1473"/>
                      </a:lnTo>
                      <a:lnTo>
                        <a:pt x="104" y="1456"/>
                      </a:lnTo>
                      <a:lnTo>
                        <a:pt x="93" y="1438"/>
                      </a:lnTo>
                      <a:lnTo>
                        <a:pt x="81" y="1419"/>
                      </a:lnTo>
                      <a:lnTo>
                        <a:pt x="71" y="1400"/>
                      </a:lnTo>
                      <a:lnTo>
                        <a:pt x="62" y="1381"/>
                      </a:lnTo>
                      <a:lnTo>
                        <a:pt x="54" y="1362"/>
                      </a:lnTo>
                      <a:lnTo>
                        <a:pt x="44" y="1343"/>
                      </a:lnTo>
                      <a:lnTo>
                        <a:pt x="37" y="1323"/>
                      </a:lnTo>
                      <a:lnTo>
                        <a:pt x="30" y="1302"/>
                      </a:lnTo>
                      <a:lnTo>
                        <a:pt x="25" y="1282"/>
                      </a:lnTo>
                      <a:lnTo>
                        <a:pt x="19" y="1260"/>
                      </a:lnTo>
                      <a:lnTo>
                        <a:pt x="14" y="1240"/>
                      </a:lnTo>
                      <a:lnTo>
                        <a:pt x="10" y="1218"/>
                      </a:lnTo>
                      <a:lnTo>
                        <a:pt x="6" y="1197"/>
                      </a:lnTo>
                      <a:lnTo>
                        <a:pt x="4" y="1175"/>
                      </a:lnTo>
                      <a:lnTo>
                        <a:pt x="3" y="1153"/>
                      </a:lnTo>
                      <a:lnTo>
                        <a:pt x="1" y="1131"/>
                      </a:lnTo>
                      <a:lnTo>
                        <a:pt x="0" y="1110"/>
                      </a:lnTo>
                      <a:lnTo>
                        <a:pt x="1" y="1088"/>
                      </a:lnTo>
                      <a:lnTo>
                        <a:pt x="3" y="1065"/>
                      </a:lnTo>
                      <a:lnTo>
                        <a:pt x="4" y="1043"/>
                      </a:lnTo>
                      <a:lnTo>
                        <a:pt x="6" y="1022"/>
                      </a:lnTo>
                      <a:lnTo>
                        <a:pt x="10" y="999"/>
                      </a:lnTo>
                      <a:lnTo>
                        <a:pt x="14" y="977"/>
                      </a:lnTo>
                      <a:lnTo>
                        <a:pt x="18" y="955"/>
                      </a:lnTo>
                      <a:lnTo>
                        <a:pt x="23" y="932"/>
                      </a:lnTo>
                      <a:lnTo>
                        <a:pt x="29" y="910"/>
                      </a:lnTo>
                      <a:lnTo>
                        <a:pt x="36" y="889"/>
                      </a:lnTo>
                      <a:lnTo>
                        <a:pt x="43" y="866"/>
                      </a:lnTo>
                      <a:lnTo>
                        <a:pt x="50" y="844"/>
                      </a:lnTo>
                      <a:lnTo>
                        <a:pt x="59" y="822"/>
                      </a:lnTo>
                      <a:lnTo>
                        <a:pt x="69" y="800"/>
                      </a:lnTo>
                      <a:lnTo>
                        <a:pt x="88" y="757"/>
                      </a:lnTo>
                      <a:lnTo>
                        <a:pt x="110" y="714"/>
                      </a:lnTo>
                      <a:lnTo>
                        <a:pt x="136" y="670"/>
                      </a:lnTo>
                      <a:lnTo>
                        <a:pt x="162" y="628"/>
                      </a:lnTo>
                      <a:lnTo>
                        <a:pt x="191" y="587"/>
                      </a:lnTo>
                      <a:lnTo>
                        <a:pt x="223" y="545"/>
                      </a:lnTo>
                      <a:lnTo>
                        <a:pt x="256" y="506"/>
                      </a:lnTo>
                      <a:lnTo>
                        <a:pt x="292" y="467"/>
                      </a:lnTo>
                      <a:lnTo>
                        <a:pt x="330" y="429"/>
                      </a:lnTo>
                      <a:lnTo>
                        <a:pt x="370" y="392"/>
                      </a:lnTo>
                      <a:lnTo>
                        <a:pt x="411" y="355"/>
                      </a:lnTo>
                      <a:lnTo>
                        <a:pt x="454" y="321"/>
                      </a:lnTo>
                      <a:lnTo>
                        <a:pt x="499" y="288"/>
                      </a:lnTo>
                      <a:lnTo>
                        <a:pt x="547" y="255"/>
                      </a:lnTo>
                      <a:lnTo>
                        <a:pt x="595" y="225"/>
                      </a:lnTo>
                      <a:lnTo>
                        <a:pt x="645" y="195"/>
                      </a:lnTo>
                      <a:lnTo>
                        <a:pt x="697" y="168"/>
                      </a:lnTo>
                      <a:lnTo>
                        <a:pt x="751" y="142"/>
                      </a:lnTo>
                      <a:lnTo>
                        <a:pt x="806" y="119"/>
                      </a:lnTo>
                      <a:lnTo>
                        <a:pt x="862" y="98"/>
                      </a:lnTo>
                      <a:lnTo>
                        <a:pt x="920" y="77"/>
                      </a:lnTo>
                      <a:lnTo>
                        <a:pt x="979" y="6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Freeform 52"/>
                <p:cNvSpPr/>
                <p:nvPr/>
              </p:nvSpPr>
              <p:spPr>
                <a:xfrm>
                  <a:off x="5242680" y="2830680"/>
                  <a:ext cx="2838240" cy="924840"/>
                </a:xfrm>
                <a:custGeom>
                  <a:avLst/>
                  <a:gdLst>
                    <a:gd name="textAreaLeft" fmla="*/ 0 w 2838240"/>
                    <a:gd name="textAreaRight" fmla="*/ 2838600 w 2838240"/>
                    <a:gd name="textAreaTop" fmla="*/ 0 h 924840"/>
                    <a:gd name="textAreaBottom" fmla="*/ 925200 h 924840"/>
                  </a:gdLst>
                  <a:ahLst/>
                  <a:rect l="textAreaLeft" t="textAreaTop" r="textAreaRight" b="textAreaBottom"/>
                  <a:pathLst>
                    <a:path w="2174" h="1660">
                      <a:moveTo>
                        <a:pt x="928" y="57"/>
                      </a:moveTo>
                      <a:lnTo>
                        <a:pt x="983" y="44"/>
                      </a:lnTo>
                      <a:lnTo>
                        <a:pt x="1039" y="30"/>
                      </a:lnTo>
                      <a:lnTo>
                        <a:pt x="1093" y="20"/>
                      </a:lnTo>
                      <a:lnTo>
                        <a:pt x="1148" y="12"/>
                      </a:lnTo>
                      <a:lnTo>
                        <a:pt x="1201" y="6"/>
                      </a:lnTo>
                      <a:lnTo>
                        <a:pt x="1254" y="1"/>
                      </a:lnTo>
                      <a:lnTo>
                        <a:pt x="1306" y="0"/>
                      </a:lnTo>
                      <a:lnTo>
                        <a:pt x="1359" y="0"/>
                      </a:lnTo>
                      <a:lnTo>
                        <a:pt x="1410" y="1"/>
                      </a:lnTo>
                      <a:lnTo>
                        <a:pt x="1459" y="6"/>
                      </a:lnTo>
                      <a:lnTo>
                        <a:pt x="1508" y="12"/>
                      </a:lnTo>
                      <a:lnTo>
                        <a:pt x="1555" y="19"/>
                      </a:lnTo>
                      <a:lnTo>
                        <a:pt x="1602" y="29"/>
                      </a:lnTo>
                      <a:lnTo>
                        <a:pt x="1648" y="41"/>
                      </a:lnTo>
                      <a:lnTo>
                        <a:pt x="1692" y="54"/>
                      </a:lnTo>
                      <a:lnTo>
                        <a:pt x="1734" y="69"/>
                      </a:lnTo>
                      <a:lnTo>
                        <a:pt x="1775" y="86"/>
                      </a:lnTo>
                      <a:lnTo>
                        <a:pt x="1815" y="105"/>
                      </a:lnTo>
                      <a:lnTo>
                        <a:pt x="1853" y="124"/>
                      </a:lnTo>
                      <a:lnTo>
                        <a:pt x="1889" y="145"/>
                      </a:lnTo>
                      <a:lnTo>
                        <a:pt x="1924" y="170"/>
                      </a:lnTo>
                      <a:lnTo>
                        <a:pt x="1956" y="194"/>
                      </a:lnTo>
                      <a:lnTo>
                        <a:pt x="1987" y="221"/>
                      </a:lnTo>
                      <a:lnTo>
                        <a:pt x="2015" y="248"/>
                      </a:lnTo>
                      <a:lnTo>
                        <a:pt x="2029" y="263"/>
                      </a:lnTo>
                      <a:lnTo>
                        <a:pt x="2042" y="278"/>
                      </a:lnTo>
                      <a:lnTo>
                        <a:pt x="2055" y="293"/>
                      </a:lnTo>
                      <a:lnTo>
                        <a:pt x="2066" y="309"/>
                      </a:lnTo>
                      <a:lnTo>
                        <a:pt x="2078" y="326"/>
                      </a:lnTo>
                      <a:lnTo>
                        <a:pt x="2088" y="342"/>
                      </a:lnTo>
                      <a:lnTo>
                        <a:pt x="2099" y="358"/>
                      </a:lnTo>
                      <a:lnTo>
                        <a:pt x="2109" y="376"/>
                      </a:lnTo>
                      <a:lnTo>
                        <a:pt x="2117" y="394"/>
                      </a:lnTo>
                      <a:lnTo>
                        <a:pt x="2125" y="411"/>
                      </a:lnTo>
                      <a:lnTo>
                        <a:pt x="2133" y="429"/>
                      </a:lnTo>
                      <a:lnTo>
                        <a:pt x="2140" y="448"/>
                      </a:lnTo>
                      <a:lnTo>
                        <a:pt x="2147" y="467"/>
                      </a:lnTo>
                      <a:lnTo>
                        <a:pt x="2153" y="486"/>
                      </a:lnTo>
                      <a:lnTo>
                        <a:pt x="2158" y="505"/>
                      </a:lnTo>
                      <a:lnTo>
                        <a:pt x="2162" y="525"/>
                      </a:lnTo>
                      <a:lnTo>
                        <a:pt x="2166" y="544"/>
                      </a:lnTo>
                      <a:lnTo>
                        <a:pt x="2169" y="565"/>
                      </a:lnTo>
                      <a:lnTo>
                        <a:pt x="2172" y="585"/>
                      </a:lnTo>
                      <a:lnTo>
                        <a:pt x="2173" y="605"/>
                      </a:lnTo>
                      <a:lnTo>
                        <a:pt x="2174" y="626"/>
                      </a:lnTo>
                      <a:lnTo>
                        <a:pt x="2174" y="646"/>
                      </a:lnTo>
                      <a:lnTo>
                        <a:pt x="2174" y="666"/>
                      </a:lnTo>
                      <a:lnTo>
                        <a:pt x="2173" y="687"/>
                      </a:lnTo>
                      <a:lnTo>
                        <a:pt x="2170" y="707"/>
                      </a:lnTo>
                      <a:lnTo>
                        <a:pt x="2168" y="727"/>
                      </a:lnTo>
                      <a:lnTo>
                        <a:pt x="2165" y="748"/>
                      </a:lnTo>
                      <a:lnTo>
                        <a:pt x="2161" y="768"/>
                      </a:lnTo>
                      <a:lnTo>
                        <a:pt x="2156" y="788"/>
                      </a:lnTo>
                      <a:lnTo>
                        <a:pt x="2152" y="809"/>
                      </a:lnTo>
                      <a:lnTo>
                        <a:pt x="2146" y="829"/>
                      </a:lnTo>
                      <a:lnTo>
                        <a:pt x="2139" y="848"/>
                      </a:lnTo>
                      <a:lnTo>
                        <a:pt x="2125" y="889"/>
                      </a:lnTo>
                      <a:lnTo>
                        <a:pt x="2108" y="930"/>
                      </a:lnTo>
                      <a:lnTo>
                        <a:pt x="2089" y="969"/>
                      </a:lnTo>
                      <a:lnTo>
                        <a:pt x="2067" y="1008"/>
                      </a:lnTo>
                      <a:lnTo>
                        <a:pt x="2043" y="1046"/>
                      </a:lnTo>
                      <a:lnTo>
                        <a:pt x="2017" y="1086"/>
                      </a:lnTo>
                      <a:lnTo>
                        <a:pt x="1990" y="1122"/>
                      </a:lnTo>
                      <a:lnTo>
                        <a:pt x="1960" y="1160"/>
                      </a:lnTo>
                      <a:lnTo>
                        <a:pt x="1927" y="1196"/>
                      </a:lnTo>
                      <a:lnTo>
                        <a:pt x="1894" y="1231"/>
                      </a:lnTo>
                      <a:lnTo>
                        <a:pt x="1858" y="1266"/>
                      </a:lnTo>
                      <a:lnTo>
                        <a:pt x="1819" y="1299"/>
                      </a:lnTo>
                      <a:lnTo>
                        <a:pt x="1780" y="1331"/>
                      </a:lnTo>
                      <a:lnTo>
                        <a:pt x="1740" y="1362"/>
                      </a:lnTo>
                      <a:lnTo>
                        <a:pt x="1697" y="1394"/>
                      </a:lnTo>
                      <a:lnTo>
                        <a:pt x="1652" y="1422"/>
                      </a:lnTo>
                      <a:lnTo>
                        <a:pt x="1606" y="1449"/>
                      </a:lnTo>
                      <a:lnTo>
                        <a:pt x="1559" y="1476"/>
                      </a:lnTo>
                      <a:lnTo>
                        <a:pt x="1509" y="1501"/>
                      </a:lnTo>
                      <a:lnTo>
                        <a:pt x="1459" y="1524"/>
                      </a:lnTo>
                      <a:lnTo>
                        <a:pt x="1408" y="1546"/>
                      </a:lnTo>
                      <a:lnTo>
                        <a:pt x="1355" y="1566"/>
                      </a:lnTo>
                      <a:lnTo>
                        <a:pt x="1302" y="1585"/>
                      </a:lnTo>
                      <a:lnTo>
                        <a:pt x="1246" y="1601"/>
                      </a:lnTo>
                      <a:lnTo>
                        <a:pt x="1191" y="1616"/>
                      </a:lnTo>
                      <a:lnTo>
                        <a:pt x="1136" y="1628"/>
                      </a:lnTo>
                      <a:lnTo>
                        <a:pt x="1082" y="1639"/>
                      </a:lnTo>
                      <a:lnTo>
                        <a:pt x="1027" y="1647"/>
                      </a:lnTo>
                      <a:lnTo>
                        <a:pt x="973" y="1653"/>
                      </a:lnTo>
                      <a:lnTo>
                        <a:pt x="921" y="1657"/>
                      </a:lnTo>
                      <a:lnTo>
                        <a:pt x="868" y="1660"/>
                      </a:lnTo>
                      <a:lnTo>
                        <a:pt x="817" y="1660"/>
                      </a:lnTo>
                      <a:lnTo>
                        <a:pt x="766" y="1657"/>
                      </a:lnTo>
                      <a:lnTo>
                        <a:pt x="716" y="1653"/>
                      </a:lnTo>
                      <a:lnTo>
                        <a:pt x="667" y="1647"/>
                      </a:lnTo>
                      <a:lnTo>
                        <a:pt x="619" y="1639"/>
                      </a:lnTo>
                      <a:lnTo>
                        <a:pt x="572" y="1630"/>
                      </a:lnTo>
                      <a:lnTo>
                        <a:pt x="527" y="1619"/>
                      </a:lnTo>
                      <a:lnTo>
                        <a:pt x="483" y="1605"/>
                      </a:lnTo>
                      <a:lnTo>
                        <a:pt x="440" y="1590"/>
                      </a:lnTo>
                      <a:lnTo>
                        <a:pt x="399" y="1573"/>
                      </a:lnTo>
                      <a:lnTo>
                        <a:pt x="359" y="1555"/>
                      </a:lnTo>
                      <a:lnTo>
                        <a:pt x="321" y="1535"/>
                      </a:lnTo>
                      <a:lnTo>
                        <a:pt x="285" y="1513"/>
                      </a:lnTo>
                      <a:lnTo>
                        <a:pt x="250" y="1490"/>
                      </a:lnTo>
                      <a:lnTo>
                        <a:pt x="218" y="1464"/>
                      </a:lnTo>
                      <a:lnTo>
                        <a:pt x="188" y="1438"/>
                      </a:lnTo>
                      <a:lnTo>
                        <a:pt x="159" y="1410"/>
                      </a:lnTo>
                      <a:lnTo>
                        <a:pt x="145" y="1395"/>
                      </a:lnTo>
                      <a:lnTo>
                        <a:pt x="132" y="1380"/>
                      </a:lnTo>
                      <a:lnTo>
                        <a:pt x="120" y="1365"/>
                      </a:lnTo>
                      <a:lnTo>
                        <a:pt x="108" y="1349"/>
                      </a:lnTo>
                      <a:lnTo>
                        <a:pt x="96" y="1334"/>
                      </a:lnTo>
                      <a:lnTo>
                        <a:pt x="86" y="1318"/>
                      </a:lnTo>
                      <a:lnTo>
                        <a:pt x="76" y="1300"/>
                      </a:lnTo>
                      <a:lnTo>
                        <a:pt x="66" y="1284"/>
                      </a:lnTo>
                      <a:lnTo>
                        <a:pt x="57" y="1266"/>
                      </a:lnTo>
                      <a:lnTo>
                        <a:pt x="49" y="1248"/>
                      </a:lnTo>
                      <a:lnTo>
                        <a:pt x="41" y="1229"/>
                      </a:lnTo>
                      <a:lnTo>
                        <a:pt x="34" y="1212"/>
                      </a:lnTo>
                      <a:lnTo>
                        <a:pt x="28" y="1193"/>
                      </a:lnTo>
                      <a:lnTo>
                        <a:pt x="22" y="1174"/>
                      </a:lnTo>
                      <a:lnTo>
                        <a:pt x="16" y="1153"/>
                      </a:lnTo>
                      <a:lnTo>
                        <a:pt x="12" y="1134"/>
                      </a:lnTo>
                      <a:lnTo>
                        <a:pt x="8" y="1114"/>
                      </a:lnTo>
                      <a:lnTo>
                        <a:pt x="5" y="1094"/>
                      </a:lnTo>
                      <a:lnTo>
                        <a:pt x="3" y="1073"/>
                      </a:lnTo>
                      <a:lnTo>
                        <a:pt x="1" y="1054"/>
                      </a:lnTo>
                      <a:lnTo>
                        <a:pt x="0" y="1034"/>
                      </a:lnTo>
                      <a:lnTo>
                        <a:pt x="0" y="1014"/>
                      </a:lnTo>
                      <a:lnTo>
                        <a:pt x="1" y="993"/>
                      </a:lnTo>
                      <a:lnTo>
                        <a:pt x="3" y="973"/>
                      </a:lnTo>
                      <a:lnTo>
                        <a:pt x="4" y="953"/>
                      </a:lnTo>
                      <a:lnTo>
                        <a:pt x="6" y="932"/>
                      </a:lnTo>
                      <a:lnTo>
                        <a:pt x="10" y="912"/>
                      </a:lnTo>
                      <a:lnTo>
                        <a:pt x="13" y="892"/>
                      </a:lnTo>
                      <a:lnTo>
                        <a:pt x="18" y="871"/>
                      </a:lnTo>
                      <a:lnTo>
                        <a:pt x="23" y="851"/>
                      </a:lnTo>
                      <a:lnTo>
                        <a:pt x="29" y="831"/>
                      </a:lnTo>
                      <a:lnTo>
                        <a:pt x="35" y="810"/>
                      </a:lnTo>
                      <a:lnTo>
                        <a:pt x="50" y="769"/>
                      </a:lnTo>
                      <a:lnTo>
                        <a:pt x="66" y="730"/>
                      </a:lnTo>
                      <a:lnTo>
                        <a:pt x="86" y="691"/>
                      </a:lnTo>
                      <a:lnTo>
                        <a:pt x="107" y="651"/>
                      </a:lnTo>
                      <a:lnTo>
                        <a:pt x="131" y="612"/>
                      </a:lnTo>
                      <a:lnTo>
                        <a:pt x="157" y="574"/>
                      </a:lnTo>
                      <a:lnTo>
                        <a:pt x="186" y="536"/>
                      </a:lnTo>
                      <a:lnTo>
                        <a:pt x="216" y="499"/>
                      </a:lnTo>
                      <a:lnTo>
                        <a:pt x="247" y="463"/>
                      </a:lnTo>
                      <a:lnTo>
                        <a:pt x="282" y="428"/>
                      </a:lnTo>
                      <a:lnTo>
                        <a:pt x="318" y="394"/>
                      </a:lnTo>
                      <a:lnTo>
                        <a:pt x="355" y="360"/>
                      </a:lnTo>
                      <a:lnTo>
                        <a:pt x="394" y="327"/>
                      </a:lnTo>
                      <a:lnTo>
                        <a:pt x="436" y="296"/>
                      </a:lnTo>
                      <a:lnTo>
                        <a:pt x="479" y="266"/>
                      </a:lnTo>
                      <a:lnTo>
                        <a:pt x="523" y="238"/>
                      </a:lnTo>
                      <a:lnTo>
                        <a:pt x="569" y="209"/>
                      </a:lnTo>
                      <a:lnTo>
                        <a:pt x="616" y="183"/>
                      </a:lnTo>
                      <a:lnTo>
                        <a:pt x="665" y="158"/>
                      </a:lnTo>
                      <a:lnTo>
                        <a:pt x="715" y="134"/>
                      </a:lnTo>
                      <a:lnTo>
                        <a:pt x="767" y="113"/>
                      </a:lnTo>
                      <a:lnTo>
                        <a:pt x="819" y="92"/>
                      </a:lnTo>
                      <a:lnTo>
                        <a:pt x="873" y="75"/>
                      </a:lnTo>
                      <a:lnTo>
                        <a:pt x="928" y="57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Freeform 53"/>
                <p:cNvSpPr/>
                <p:nvPr/>
              </p:nvSpPr>
              <p:spPr>
                <a:xfrm>
                  <a:off x="5271840" y="3563280"/>
                  <a:ext cx="363240" cy="392760"/>
                </a:xfrm>
                <a:custGeom>
                  <a:avLst/>
                  <a:gdLst>
                    <a:gd name="textAreaLeft" fmla="*/ 0 w 363240"/>
                    <a:gd name="textAreaRight" fmla="*/ 363600 w 363240"/>
                    <a:gd name="textAreaTop" fmla="*/ 0 h 392760"/>
                    <a:gd name="textAreaBottom" fmla="*/ 393120 h 392760"/>
                  </a:gdLst>
                  <a:ahLst/>
                  <a:rect l="textAreaLeft" t="textAreaTop" r="textAreaRight" b="textAreaBottom"/>
                  <a:pathLst>
                    <a:path w="279" h="705">
                      <a:moveTo>
                        <a:pt x="173" y="191"/>
                      </a:moveTo>
                      <a:lnTo>
                        <a:pt x="279" y="705"/>
                      </a:lnTo>
                      <a:lnTo>
                        <a:pt x="260" y="688"/>
                      </a:lnTo>
                      <a:lnTo>
                        <a:pt x="241" y="670"/>
                      </a:lnTo>
                      <a:lnTo>
                        <a:pt x="224" y="651"/>
                      </a:lnTo>
                      <a:lnTo>
                        <a:pt x="206" y="631"/>
                      </a:lnTo>
                      <a:lnTo>
                        <a:pt x="191" y="612"/>
                      </a:lnTo>
                      <a:lnTo>
                        <a:pt x="176" y="590"/>
                      </a:lnTo>
                      <a:lnTo>
                        <a:pt x="161" y="570"/>
                      </a:lnTo>
                      <a:lnTo>
                        <a:pt x="148" y="548"/>
                      </a:lnTo>
                      <a:lnTo>
                        <a:pt x="136" y="526"/>
                      </a:lnTo>
                      <a:lnTo>
                        <a:pt x="124" y="503"/>
                      </a:lnTo>
                      <a:lnTo>
                        <a:pt x="114" y="480"/>
                      </a:lnTo>
                      <a:lnTo>
                        <a:pt x="104" y="457"/>
                      </a:lnTo>
                      <a:lnTo>
                        <a:pt x="96" y="433"/>
                      </a:lnTo>
                      <a:lnTo>
                        <a:pt x="89" y="408"/>
                      </a:lnTo>
                      <a:lnTo>
                        <a:pt x="84" y="384"/>
                      </a:lnTo>
                      <a:lnTo>
                        <a:pt x="78" y="359"/>
                      </a:lnTo>
                      <a:lnTo>
                        <a:pt x="73" y="335"/>
                      </a:lnTo>
                      <a:lnTo>
                        <a:pt x="70" y="317"/>
                      </a:lnTo>
                      <a:lnTo>
                        <a:pt x="66" y="305"/>
                      </a:lnTo>
                      <a:lnTo>
                        <a:pt x="63" y="296"/>
                      </a:lnTo>
                      <a:lnTo>
                        <a:pt x="57" y="282"/>
                      </a:lnTo>
                      <a:lnTo>
                        <a:pt x="50" y="269"/>
                      </a:lnTo>
                      <a:lnTo>
                        <a:pt x="47" y="258"/>
                      </a:lnTo>
                      <a:lnTo>
                        <a:pt x="42" y="243"/>
                      </a:lnTo>
                      <a:lnTo>
                        <a:pt x="37" y="222"/>
                      </a:lnTo>
                      <a:lnTo>
                        <a:pt x="32" y="197"/>
                      </a:lnTo>
                      <a:lnTo>
                        <a:pt x="19" y="119"/>
                      </a:lnTo>
                      <a:lnTo>
                        <a:pt x="0" y="0"/>
                      </a:lnTo>
                      <a:lnTo>
                        <a:pt x="19" y="26"/>
                      </a:lnTo>
                      <a:lnTo>
                        <a:pt x="38" y="51"/>
                      </a:lnTo>
                      <a:lnTo>
                        <a:pt x="59" y="77"/>
                      </a:lnTo>
                      <a:lnTo>
                        <a:pt x="80" y="102"/>
                      </a:lnTo>
                      <a:lnTo>
                        <a:pt x="102" y="125"/>
                      </a:lnTo>
                      <a:lnTo>
                        <a:pt x="125" y="148"/>
                      </a:lnTo>
                      <a:lnTo>
                        <a:pt x="148" y="170"/>
                      </a:lnTo>
                      <a:lnTo>
                        <a:pt x="173" y="191"/>
                      </a:lnTo>
                      <a:close/>
                    </a:path>
                  </a:pathLst>
                </a:custGeom>
                <a:solidFill>
                  <a:srgbClr val="ff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Freeform 54"/>
                <p:cNvSpPr/>
                <p:nvPr/>
              </p:nvSpPr>
              <p:spPr>
                <a:xfrm>
                  <a:off x="5496480" y="3670200"/>
                  <a:ext cx="376200" cy="356040"/>
                </a:xfrm>
                <a:custGeom>
                  <a:avLst/>
                  <a:gdLst>
                    <a:gd name="textAreaLeft" fmla="*/ 0 w 376200"/>
                    <a:gd name="textAreaRight" fmla="*/ 376560 w 376200"/>
                    <a:gd name="textAreaTop" fmla="*/ 0 h 356040"/>
                    <a:gd name="textAreaBottom" fmla="*/ 356400 h 356040"/>
                  </a:gdLst>
                  <a:ahLst/>
                  <a:rect l="textAreaLeft" t="textAreaTop" r="textAreaRight" b="textAreaBottom"/>
                  <a:pathLst>
                    <a:path w="288" h="638">
                      <a:moveTo>
                        <a:pt x="106" y="514"/>
                      </a:moveTo>
                      <a:lnTo>
                        <a:pt x="0" y="0"/>
                      </a:lnTo>
                      <a:lnTo>
                        <a:pt x="21" y="17"/>
                      </a:lnTo>
                      <a:lnTo>
                        <a:pt x="41" y="33"/>
                      </a:lnTo>
                      <a:lnTo>
                        <a:pt x="64" y="49"/>
                      </a:lnTo>
                      <a:lnTo>
                        <a:pt x="86" y="64"/>
                      </a:lnTo>
                      <a:lnTo>
                        <a:pt x="109" y="79"/>
                      </a:lnTo>
                      <a:lnTo>
                        <a:pt x="133" y="92"/>
                      </a:lnTo>
                      <a:lnTo>
                        <a:pt x="157" y="106"/>
                      </a:lnTo>
                      <a:lnTo>
                        <a:pt x="182" y="120"/>
                      </a:lnTo>
                      <a:lnTo>
                        <a:pt x="288" y="638"/>
                      </a:lnTo>
                      <a:lnTo>
                        <a:pt x="264" y="624"/>
                      </a:lnTo>
                      <a:lnTo>
                        <a:pt x="238" y="611"/>
                      </a:lnTo>
                      <a:lnTo>
                        <a:pt x="215" y="596"/>
                      </a:lnTo>
                      <a:lnTo>
                        <a:pt x="192" y="581"/>
                      </a:lnTo>
                      <a:lnTo>
                        <a:pt x="169" y="565"/>
                      </a:lnTo>
                      <a:lnTo>
                        <a:pt x="148" y="548"/>
                      </a:lnTo>
                      <a:lnTo>
                        <a:pt x="126" y="532"/>
                      </a:lnTo>
                      <a:lnTo>
                        <a:pt x="106" y="514"/>
                      </a:lnTo>
                      <a:close/>
                    </a:path>
                  </a:pathLst>
                </a:custGeom>
                <a:solidFill>
                  <a:srgbClr val="ffd2a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Freeform 55"/>
                <p:cNvSpPr/>
                <p:nvPr/>
              </p:nvSpPr>
              <p:spPr>
                <a:xfrm>
                  <a:off x="5734080" y="3737160"/>
                  <a:ext cx="363240" cy="325800"/>
                </a:xfrm>
                <a:custGeom>
                  <a:avLst/>
                  <a:gdLst>
                    <a:gd name="textAreaLeft" fmla="*/ 0 w 363240"/>
                    <a:gd name="textAreaRight" fmla="*/ 363600 w 363240"/>
                    <a:gd name="textAreaTop" fmla="*/ 0 h 325800"/>
                    <a:gd name="textAreaBottom" fmla="*/ 326160 h 325800"/>
                  </a:gdLst>
                  <a:ahLst/>
                  <a:rect l="textAreaLeft" t="textAreaTop" r="textAreaRight" b="textAreaBottom"/>
                  <a:pathLst>
                    <a:path w="278" h="584">
                      <a:moveTo>
                        <a:pt x="106" y="518"/>
                      </a:moveTo>
                      <a:lnTo>
                        <a:pt x="0" y="0"/>
                      </a:lnTo>
                      <a:lnTo>
                        <a:pt x="19" y="9"/>
                      </a:lnTo>
                      <a:lnTo>
                        <a:pt x="40" y="17"/>
                      </a:lnTo>
                      <a:lnTo>
                        <a:pt x="61" y="27"/>
                      </a:lnTo>
                      <a:lnTo>
                        <a:pt x="82" y="35"/>
                      </a:lnTo>
                      <a:lnTo>
                        <a:pt x="103" y="43"/>
                      </a:lnTo>
                      <a:lnTo>
                        <a:pt x="125" y="50"/>
                      </a:lnTo>
                      <a:lnTo>
                        <a:pt x="148" y="57"/>
                      </a:lnTo>
                      <a:lnTo>
                        <a:pt x="170" y="63"/>
                      </a:lnTo>
                      <a:lnTo>
                        <a:pt x="278" y="584"/>
                      </a:lnTo>
                      <a:lnTo>
                        <a:pt x="256" y="578"/>
                      </a:lnTo>
                      <a:lnTo>
                        <a:pt x="232" y="571"/>
                      </a:lnTo>
                      <a:lnTo>
                        <a:pt x="212" y="563"/>
                      </a:lnTo>
                      <a:lnTo>
                        <a:pt x="190" y="555"/>
                      </a:lnTo>
                      <a:lnTo>
                        <a:pt x="169" y="545"/>
                      </a:lnTo>
                      <a:lnTo>
                        <a:pt x="148" y="537"/>
                      </a:lnTo>
                      <a:lnTo>
                        <a:pt x="127" y="527"/>
                      </a:lnTo>
                      <a:lnTo>
                        <a:pt x="106" y="518"/>
                      </a:lnTo>
                      <a:close/>
                    </a:path>
                  </a:pathLst>
                </a:custGeom>
                <a:solidFill>
                  <a:srgbClr val="ffdab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Freeform 56"/>
                <p:cNvSpPr/>
                <p:nvPr/>
              </p:nvSpPr>
              <p:spPr>
                <a:xfrm>
                  <a:off x="5956560" y="3772440"/>
                  <a:ext cx="355320" cy="310680"/>
                </a:xfrm>
                <a:custGeom>
                  <a:avLst/>
                  <a:gdLst>
                    <a:gd name="textAreaLeft" fmla="*/ 0 w 355320"/>
                    <a:gd name="textAreaRight" fmla="*/ 355680 w 355320"/>
                    <a:gd name="textAreaTop" fmla="*/ 0 h 310680"/>
                    <a:gd name="textAreaBottom" fmla="*/ 311040 h 310680"/>
                  </a:gdLst>
                  <a:ahLst/>
                  <a:rect l="textAreaLeft" t="textAreaTop" r="textAreaRight" b="textAreaBottom"/>
                  <a:pathLst>
                    <a:path w="272" h="558">
                      <a:moveTo>
                        <a:pt x="108" y="521"/>
                      </a:moveTo>
                      <a:lnTo>
                        <a:pt x="0" y="0"/>
                      </a:lnTo>
                      <a:lnTo>
                        <a:pt x="20" y="6"/>
                      </a:lnTo>
                      <a:lnTo>
                        <a:pt x="39" y="11"/>
                      </a:lnTo>
                      <a:lnTo>
                        <a:pt x="59" y="15"/>
                      </a:lnTo>
                      <a:lnTo>
                        <a:pt x="80" y="19"/>
                      </a:lnTo>
                      <a:lnTo>
                        <a:pt x="101" y="23"/>
                      </a:lnTo>
                      <a:lnTo>
                        <a:pt x="121" y="26"/>
                      </a:lnTo>
                      <a:lnTo>
                        <a:pt x="142" y="29"/>
                      </a:lnTo>
                      <a:lnTo>
                        <a:pt x="163" y="32"/>
                      </a:lnTo>
                      <a:lnTo>
                        <a:pt x="272" y="558"/>
                      </a:lnTo>
                      <a:lnTo>
                        <a:pt x="251" y="554"/>
                      </a:lnTo>
                      <a:lnTo>
                        <a:pt x="230" y="551"/>
                      </a:lnTo>
                      <a:lnTo>
                        <a:pt x="209" y="547"/>
                      </a:lnTo>
                      <a:lnTo>
                        <a:pt x="189" y="542"/>
                      </a:lnTo>
                      <a:lnTo>
                        <a:pt x="168" y="538"/>
                      </a:lnTo>
                      <a:lnTo>
                        <a:pt x="148" y="532"/>
                      </a:lnTo>
                      <a:lnTo>
                        <a:pt x="127" y="527"/>
                      </a:lnTo>
                      <a:lnTo>
                        <a:pt x="108" y="521"/>
                      </a:lnTo>
                      <a:close/>
                    </a:path>
                  </a:pathLst>
                </a:custGeom>
                <a:solidFill>
                  <a:srgbClr val="ffe1c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Freeform 57"/>
                <p:cNvSpPr/>
                <p:nvPr/>
              </p:nvSpPr>
              <p:spPr>
                <a:xfrm>
                  <a:off x="6171120" y="3790440"/>
                  <a:ext cx="349560" cy="299520"/>
                </a:xfrm>
                <a:custGeom>
                  <a:avLst/>
                  <a:gdLst>
                    <a:gd name="textAreaLeft" fmla="*/ 0 w 349560"/>
                    <a:gd name="textAreaRight" fmla="*/ 349920 w 349560"/>
                    <a:gd name="textAreaTop" fmla="*/ 0 h 299520"/>
                    <a:gd name="textAreaBottom" fmla="*/ 299880 h 299520"/>
                  </a:gdLst>
                  <a:ahLst/>
                  <a:rect l="textAreaLeft" t="textAreaTop" r="textAreaRight" b="textAreaBottom"/>
                  <a:pathLst>
                    <a:path w="269" h="538">
                      <a:moveTo>
                        <a:pt x="109" y="526"/>
                      </a:moveTo>
                      <a:lnTo>
                        <a:pt x="0" y="0"/>
                      </a:lnTo>
                      <a:lnTo>
                        <a:pt x="20" y="2"/>
                      </a:lnTo>
                      <a:lnTo>
                        <a:pt x="38" y="4"/>
                      </a:lnTo>
                      <a:lnTo>
                        <a:pt x="58" y="5"/>
                      </a:lnTo>
                      <a:lnTo>
                        <a:pt x="78" y="6"/>
                      </a:lnTo>
                      <a:lnTo>
                        <a:pt x="99" y="8"/>
                      </a:lnTo>
                      <a:lnTo>
                        <a:pt x="118" y="8"/>
                      </a:lnTo>
                      <a:lnTo>
                        <a:pt x="139" y="9"/>
                      </a:lnTo>
                      <a:lnTo>
                        <a:pt x="160" y="9"/>
                      </a:lnTo>
                      <a:lnTo>
                        <a:pt x="269" y="538"/>
                      </a:lnTo>
                      <a:lnTo>
                        <a:pt x="249" y="538"/>
                      </a:lnTo>
                      <a:lnTo>
                        <a:pt x="228" y="537"/>
                      </a:lnTo>
                      <a:lnTo>
                        <a:pt x="209" y="536"/>
                      </a:lnTo>
                      <a:lnTo>
                        <a:pt x="188" y="534"/>
                      </a:lnTo>
                      <a:lnTo>
                        <a:pt x="168" y="533"/>
                      </a:lnTo>
                      <a:lnTo>
                        <a:pt x="148" y="530"/>
                      </a:lnTo>
                      <a:lnTo>
                        <a:pt x="129" y="529"/>
                      </a:lnTo>
                      <a:lnTo>
                        <a:pt x="109" y="526"/>
                      </a:lnTo>
                      <a:close/>
                    </a:path>
                  </a:pathLst>
                </a:custGeom>
                <a:solidFill>
                  <a:srgbClr val="ffe8d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Freeform 58"/>
                <p:cNvSpPr/>
                <p:nvPr/>
              </p:nvSpPr>
              <p:spPr>
                <a:xfrm>
                  <a:off x="6377400" y="3790440"/>
                  <a:ext cx="347040" cy="300960"/>
                </a:xfrm>
                <a:custGeom>
                  <a:avLst/>
                  <a:gdLst>
                    <a:gd name="textAreaLeft" fmla="*/ 0 w 347040"/>
                    <a:gd name="textAreaRight" fmla="*/ 347400 w 347040"/>
                    <a:gd name="textAreaTop" fmla="*/ 0 h 300960"/>
                    <a:gd name="textAreaBottom" fmla="*/ 301320 h 300960"/>
                  </a:gdLst>
                  <a:ahLst/>
                  <a:rect l="textAreaLeft" t="textAreaTop" r="textAreaRight" b="textAreaBottom"/>
                  <a:pathLst>
                    <a:path w="265" h="540">
                      <a:moveTo>
                        <a:pt x="109" y="538"/>
                      </a:moveTo>
                      <a:lnTo>
                        <a:pt x="0" y="9"/>
                      </a:lnTo>
                      <a:lnTo>
                        <a:pt x="18" y="8"/>
                      </a:lnTo>
                      <a:lnTo>
                        <a:pt x="37" y="8"/>
                      </a:lnTo>
                      <a:lnTo>
                        <a:pt x="57" y="6"/>
                      </a:lnTo>
                      <a:lnTo>
                        <a:pt x="75" y="6"/>
                      </a:lnTo>
                      <a:lnTo>
                        <a:pt x="95" y="5"/>
                      </a:lnTo>
                      <a:lnTo>
                        <a:pt x="115" y="4"/>
                      </a:lnTo>
                      <a:lnTo>
                        <a:pt x="134" y="1"/>
                      </a:lnTo>
                      <a:lnTo>
                        <a:pt x="155" y="0"/>
                      </a:lnTo>
                      <a:lnTo>
                        <a:pt x="265" y="533"/>
                      </a:lnTo>
                      <a:lnTo>
                        <a:pt x="245" y="534"/>
                      </a:lnTo>
                      <a:lnTo>
                        <a:pt x="226" y="536"/>
                      </a:lnTo>
                      <a:lnTo>
                        <a:pt x="206" y="537"/>
                      </a:lnTo>
                      <a:lnTo>
                        <a:pt x="186" y="538"/>
                      </a:lnTo>
                      <a:lnTo>
                        <a:pt x="167" y="538"/>
                      </a:lnTo>
                      <a:lnTo>
                        <a:pt x="147" y="540"/>
                      </a:lnTo>
                      <a:lnTo>
                        <a:pt x="128" y="540"/>
                      </a:lnTo>
                      <a:lnTo>
                        <a:pt x="109" y="538"/>
                      </a:lnTo>
                      <a:close/>
                    </a:path>
                  </a:pathLst>
                </a:custGeom>
                <a:solidFill>
                  <a:srgbClr val="ffef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Freeform 59"/>
                <p:cNvSpPr/>
                <p:nvPr/>
              </p:nvSpPr>
              <p:spPr>
                <a:xfrm>
                  <a:off x="6581160" y="3777120"/>
                  <a:ext cx="342360" cy="309240"/>
                </a:xfrm>
                <a:custGeom>
                  <a:avLst/>
                  <a:gdLst>
                    <a:gd name="textAreaLeft" fmla="*/ 0 w 342360"/>
                    <a:gd name="textAreaRight" fmla="*/ 342720 w 342360"/>
                    <a:gd name="textAreaTop" fmla="*/ 0 h 309240"/>
                    <a:gd name="textAreaBottom" fmla="*/ 309600 h 309240"/>
                  </a:gdLst>
                  <a:ahLst/>
                  <a:rect l="textAreaLeft" t="textAreaTop" r="textAreaRight" b="textAreaBottom"/>
                  <a:pathLst>
                    <a:path w="262" h="556">
                      <a:moveTo>
                        <a:pt x="110" y="556"/>
                      </a:moveTo>
                      <a:lnTo>
                        <a:pt x="0" y="23"/>
                      </a:lnTo>
                      <a:lnTo>
                        <a:pt x="19" y="20"/>
                      </a:lnTo>
                      <a:lnTo>
                        <a:pt x="37" y="19"/>
                      </a:lnTo>
                      <a:lnTo>
                        <a:pt x="56" y="16"/>
                      </a:lnTo>
                      <a:lnTo>
                        <a:pt x="74" y="13"/>
                      </a:lnTo>
                      <a:lnTo>
                        <a:pt x="94" y="10"/>
                      </a:lnTo>
                      <a:lnTo>
                        <a:pt x="112" y="6"/>
                      </a:lnTo>
                      <a:lnTo>
                        <a:pt x="132" y="4"/>
                      </a:lnTo>
                      <a:lnTo>
                        <a:pt x="152" y="0"/>
                      </a:lnTo>
                      <a:lnTo>
                        <a:pt x="262" y="533"/>
                      </a:lnTo>
                      <a:lnTo>
                        <a:pt x="243" y="535"/>
                      </a:lnTo>
                      <a:lnTo>
                        <a:pt x="224" y="540"/>
                      </a:lnTo>
                      <a:lnTo>
                        <a:pt x="205" y="544"/>
                      </a:lnTo>
                      <a:lnTo>
                        <a:pt x="185" y="546"/>
                      </a:lnTo>
                      <a:lnTo>
                        <a:pt x="167" y="549"/>
                      </a:lnTo>
                      <a:lnTo>
                        <a:pt x="147" y="552"/>
                      </a:lnTo>
                      <a:lnTo>
                        <a:pt x="129" y="553"/>
                      </a:lnTo>
                      <a:lnTo>
                        <a:pt x="110" y="556"/>
                      </a:lnTo>
                      <a:close/>
                    </a:path>
                  </a:pathLst>
                </a:custGeom>
                <a:solidFill>
                  <a:srgbClr val="fff7e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Freeform 60"/>
                <p:cNvSpPr/>
                <p:nvPr/>
              </p:nvSpPr>
              <p:spPr>
                <a:xfrm>
                  <a:off x="6779880" y="3757320"/>
                  <a:ext cx="339480" cy="317520"/>
                </a:xfrm>
                <a:custGeom>
                  <a:avLst/>
                  <a:gdLst>
                    <a:gd name="textAreaLeft" fmla="*/ 0 w 339480"/>
                    <a:gd name="textAreaRight" fmla="*/ 339840 w 339480"/>
                    <a:gd name="textAreaTop" fmla="*/ 0 h 317520"/>
                    <a:gd name="textAreaBottom" fmla="*/ 317880 h 317520"/>
                  </a:gdLst>
                  <a:ahLst/>
                  <a:rect l="textAreaLeft" t="textAreaTop" r="textAreaRight" b="textAreaBottom"/>
                  <a:pathLst>
                    <a:path w="259" h="569">
                      <a:moveTo>
                        <a:pt x="110" y="569"/>
                      </a:moveTo>
                      <a:lnTo>
                        <a:pt x="0" y="36"/>
                      </a:lnTo>
                      <a:lnTo>
                        <a:pt x="11" y="34"/>
                      </a:lnTo>
                      <a:lnTo>
                        <a:pt x="22" y="31"/>
                      </a:lnTo>
                      <a:lnTo>
                        <a:pt x="33" y="29"/>
                      </a:lnTo>
                      <a:lnTo>
                        <a:pt x="45" y="27"/>
                      </a:lnTo>
                      <a:lnTo>
                        <a:pt x="55" y="25"/>
                      </a:lnTo>
                      <a:lnTo>
                        <a:pt x="67" y="22"/>
                      </a:lnTo>
                      <a:lnTo>
                        <a:pt x="79" y="19"/>
                      </a:lnTo>
                      <a:lnTo>
                        <a:pt x="90" y="17"/>
                      </a:lnTo>
                      <a:lnTo>
                        <a:pt x="97" y="15"/>
                      </a:lnTo>
                      <a:lnTo>
                        <a:pt x="104" y="14"/>
                      </a:lnTo>
                      <a:lnTo>
                        <a:pt x="112" y="11"/>
                      </a:lnTo>
                      <a:lnTo>
                        <a:pt x="119" y="10"/>
                      </a:lnTo>
                      <a:lnTo>
                        <a:pt x="127" y="7"/>
                      </a:lnTo>
                      <a:lnTo>
                        <a:pt x="134" y="6"/>
                      </a:lnTo>
                      <a:lnTo>
                        <a:pt x="142" y="3"/>
                      </a:lnTo>
                      <a:lnTo>
                        <a:pt x="150" y="0"/>
                      </a:lnTo>
                      <a:lnTo>
                        <a:pt x="259" y="528"/>
                      </a:lnTo>
                      <a:lnTo>
                        <a:pt x="251" y="531"/>
                      </a:lnTo>
                      <a:lnTo>
                        <a:pt x="244" y="532"/>
                      </a:lnTo>
                      <a:lnTo>
                        <a:pt x="237" y="535"/>
                      </a:lnTo>
                      <a:lnTo>
                        <a:pt x="229" y="538"/>
                      </a:lnTo>
                      <a:lnTo>
                        <a:pt x="222" y="539"/>
                      </a:lnTo>
                      <a:lnTo>
                        <a:pt x="215" y="542"/>
                      </a:lnTo>
                      <a:lnTo>
                        <a:pt x="207" y="544"/>
                      </a:lnTo>
                      <a:lnTo>
                        <a:pt x="200" y="546"/>
                      </a:lnTo>
                      <a:lnTo>
                        <a:pt x="200" y="546"/>
                      </a:lnTo>
                      <a:lnTo>
                        <a:pt x="189" y="550"/>
                      </a:lnTo>
                      <a:lnTo>
                        <a:pt x="178" y="552"/>
                      </a:lnTo>
                      <a:lnTo>
                        <a:pt x="167" y="555"/>
                      </a:lnTo>
                      <a:lnTo>
                        <a:pt x="155" y="558"/>
                      </a:lnTo>
                      <a:lnTo>
                        <a:pt x="143" y="561"/>
                      </a:lnTo>
                      <a:lnTo>
                        <a:pt x="133" y="563"/>
                      </a:lnTo>
                      <a:lnTo>
                        <a:pt x="121" y="566"/>
                      </a:lnTo>
                      <a:lnTo>
                        <a:pt x="110" y="569"/>
                      </a:lnTo>
                      <a:close/>
                    </a:path>
                  </a:pathLst>
                </a:custGeom>
                <a:solidFill>
                  <a:srgbClr val="fffdf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Freeform 61"/>
                <p:cNvSpPr/>
                <p:nvPr/>
              </p:nvSpPr>
              <p:spPr>
                <a:xfrm>
                  <a:off x="6976080" y="3727080"/>
                  <a:ext cx="331560" cy="324000"/>
                </a:xfrm>
                <a:custGeom>
                  <a:avLst/>
                  <a:gdLst>
                    <a:gd name="textAreaLeft" fmla="*/ 0 w 331560"/>
                    <a:gd name="textAreaRight" fmla="*/ 331920 w 331560"/>
                    <a:gd name="textAreaTop" fmla="*/ 0 h 324000"/>
                    <a:gd name="textAreaBottom" fmla="*/ 324360 h 324000"/>
                  </a:gdLst>
                  <a:ahLst/>
                  <a:rect l="textAreaLeft" t="textAreaTop" r="textAreaRight" b="textAreaBottom"/>
                  <a:pathLst>
                    <a:path w="254" h="582">
                      <a:moveTo>
                        <a:pt x="109" y="582"/>
                      </a:moveTo>
                      <a:lnTo>
                        <a:pt x="0" y="54"/>
                      </a:lnTo>
                      <a:lnTo>
                        <a:pt x="18" y="49"/>
                      </a:lnTo>
                      <a:lnTo>
                        <a:pt x="35" y="43"/>
                      </a:lnTo>
                      <a:lnTo>
                        <a:pt x="52" y="37"/>
                      </a:lnTo>
                      <a:lnTo>
                        <a:pt x="71" y="31"/>
                      </a:lnTo>
                      <a:lnTo>
                        <a:pt x="89" y="23"/>
                      </a:lnTo>
                      <a:lnTo>
                        <a:pt x="108" y="16"/>
                      </a:lnTo>
                      <a:lnTo>
                        <a:pt x="127" y="8"/>
                      </a:lnTo>
                      <a:lnTo>
                        <a:pt x="146" y="0"/>
                      </a:lnTo>
                      <a:lnTo>
                        <a:pt x="254" y="522"/>
                      </a:lnTo>
                      <a:lnTo>
                        <a:pt x="235" y="531"/>
                      </a:lnTo>
                      <a:lnTo>
                        <a:pt x="218" y="539"/>
                      </a:lnTo>
                      <a:lnTo>
                        <a:pt x="201" y="547"/>
                      </a:lnTo>
                      <a:lnTo>
                        <a:pt x="182" y="554"/>
                      </a:lnTo>
                      <a:lnTo>
                        <a:pt x="164" y="562"/>
                      </a:lnTo>
                      <a:lnTo>
                        <a:pt x="146" y="569"/>
                      </a:lnTo>
                      <a:lnTo>
                        <a:pt x="128" y="575"/>
                      </a:lnTo>
                      <a:lnTo>
                        <a:pt x="109" y="582"/>
                      </a:lnTo>
                      <a:close/>
                    </a:path>
                  </a:pathLst>
                </a:custGeom>
                <a:solidFill>
                  <a:srgbClr val="fffaf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Freeform 62"/>
                <p:cNvSpPr/>
                <p:nvPr/>
              </p:nvSpPr>
              <p:spPr>
                <a:xfrm>
                  <a:off x="7166880" y="3687120"/>
                  <a:ext cx="323280" cy="330840"/>
                </a:xfrm>
                <a:custGeom>
                  <a:avLst/>
                  <a:gdLst>
                    <a:gd name="textAreaLeft" fmla="*/ 0 w 323280"/>
                    <a:gd name="textAreaRight" fmla="*/ 323640 w 323280"/>
                    <a:gd name="textAreaTop" fmla="*/ 0 h 330840"/>
                    <a:gd name="textAreaBottom" fmla="*/ 331200 h 330840"/>
                  </a:gdLst>
                  <a:ahLst/>
                  <a:rect l="textAreaLeft" t="textAreaTop" r="textAreaRight" b="textAreaBottom"/>
                  <a:pathLst>
                    <a:path w="248" h="594">
                      <a:moveTo>
                        <a:pt x="108" y="594"/>
                      </a:moveTo>
                      <a:lnTo>
                        <a:pt x="0" y="72"/>
                      </a:lnTo>
                      <a:lnTo>
                        <a:pt x="18" y="64"/>
                      </a:lnTo>
                      <a:lnTo>
                        <a:pt x="35" y="56"/>
                      </a:lnTo>
                      <a:lnTo>
                        <a:pt x="52" y="48"/>
                      </a:lnTo>
                      <a:lnTo>
                        <a:pt x="71" y="38"/>
                      </a:lnTo>
                      <a:lnTo>
                        <a:pt x="88" y="30"/>
                      </a:lnTo>
                      <a:lnTo>
                        <a:pt x="106" y="20"/>
                      </a:lnTo>
                      <a:lnTo>
                        <a:pt x="124" y="10"/>
                      </a:lnTo>
                      <a:lnTo>
                        <a:pt x="142" y="0"/>
                      </a:lnTo>
                      <a:lnTo>
                        <a:pt x="248" y="514"/>
                      </a:lnTo>
                      <a:lnTo>
                        <a:pt x="231" y="525"/>
                      </a:lnTo>
                      <a:lnTo>
                        <a:pt x="214" y="536"/>
                      </a:lnTo>
                      <a:lnTo>
                        <a:pt x="197" y="547"/>
                      </a:lnTo>
                      <a:lnTo>
                        <a:pt x="180" y="556"/>
                      </a:lnTo>
                      <a:lnTo>
                        <a:pt x="161" y="566"/>
                      </a:lnTo>
                      <a:lnTo>
                        <a:pt x="144" y="575"/>
                      </a:lnTo>
                      <a:lnTo>
                        <a:pt x="125" y="585"/>
                      </a:lnTo>
                      <a:lnTo>
                        <a:pt x="108" y="594"/>
                      </a:lnTo>
                      <a:close/>
                    </a:path>
                  </a:pathLst>
                </a:custGeom>
                <a:solidFill>
                  <a:srgbClr val="fff3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Freeform 63"/>
                <p:cNvSpPr/>
                <p:nvPr/>
              </p:nvSpPr>
              <p:spPr>
                <a:xfrm>
                  <a:off x="7352280" y="3634920"/>
                  <a:ext cx="315720" cy="337680"/>
                </a:xfrm>
                <a:custGeom>
                  <a:avLst/>
                  <a:gdLst>
                    <a:gd name="textAreaLeft" fmla="*/ 0 w 315720"/>
                    <a:gd name="textAreaRight" fmla="*/ 316080 w 315720"/>
                    <a:gd name="textAreaTop" fmla="*/ 0 h 337680"/>
                    <a:gd name="textAreaBottom" fmla="*/ 338040 h 337680"/>
                  </a:gdLst>
                  <a:ahLst/>
                  <a:rect l="textAreaLeft" t="textAreaTop" r="textAreaRight" b="textAreaBottom"/>
                  <a:pathLst>
                    <a:path w="243" h="606">
                      <a:moveTo>
                        <a:pt x="106" y="606"/>
                      </a:moveTo>
                      <a:lnTo>
                        <a:pt x="0" y="92"/>
                      </a:lnTo>
                      <a:lnTo>
                        <a:pt x="17" y="81"/>
                      </a:lnTo>
                      <a:lnTo>
                        <a:pt x="34" y="70"/>
                      </a:lnTo>
                      <a:lnTo>
                        <a:pt x="52" y="60"/>
                      </a:lnTo>
                      <a:lnTo>
                        <a:pt x="69" y="49"/>
                      </a:lnTo>
                      <a:lnTo>
                        <a:pt x="86" y="36"/>
                      </a:lnTo>
                      <a:lnTo>
                        <a:pt x="104" y="24"/>
                      </a:lnTo>
                      <a:lnTo>
                        <a:pt x="121" y="12"/>
                      </a:lnTo>
                      <a:lnTo>
                        <a:pt x="138" y="0"/>
                      </a:lnTo>
                      <a:lnTo>
                        <a:pt x="243" y="506"/>
                      </a:lnTo>
                      <a:lnTo>
                        <a:pt x="226" y="519"/>
                      </a:lnTo>
                      <a:lnTo>
                        <a:pt x="210" y="532"/>
                      </a:lnTo>
                      <a:lnTo>
                        <a:pt x="193" y="545"/>
                      </a:lnTo>
                      <a:lnTo>
                        <a:pt x="177" y="557"/>
                      </a:lnTo>
                      <a:lnTo>
                        <a:pt x="159" y="571"/>
                      </a:lnTo>
                      <a:lnTo>
                        <a:pt x="142" y="583"/>
                      </a:lnTo>
                      <a:lnTo>
                        <a:pt x="125" y="595"/>
                      </a:lnTo>
                      <a:lnTo>
                        <a:pt x="106" y="606"/>
                      </a:lnTo>
                      <a:close/>
                    </a:path>
                  </a:pathLst>
                </a:custGeom>
                <a:solidFill>
                  <a:srgbClr val="ffed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Freeform 64"/>
                <p:cNvSpPr/>
                <p:nvPr/>
              </p:nvSpPr>
              <p:spPr>
                <a:xfrm>
                  <a:off x="7532640" y="3571560"/>
                  <a:ext cx="308160" cy="345600"/>
                </a:xfrm>
                <a:custGeom>
                  <a:avLst/>
                  <a:gdLst>
                    <a:gd name="textAreaLeft" fmla="*/ 0 w 308160"/>
                    <a:gd name="textAreaRight" fmla="*/ 308520 w 308160"/>
                    <a:gd name="textAreaTop" fmla="*/ 0 h 345600"/>
                    <a:gd name="textAreaBottom" fmla="*/ 345960 h 345600"/>
                  </a:gdLst>
                  <a:ahLst/>
                  <a:rect l="textAreaLeft" t="textAreaTop" r="textAreaRight" b="textAreaBottom"/>
                  <a:pathLst>
                    <a:path w="236" h="620">
                      <a:moveTo>
                        <a:pt x="105" y="620"/>
                      </a:moveTo>
                      <a:lnTo>
                        <a:pt x="0" y="114"/>
                      </a:lnTo>
                      <a:lnTo>
                        <a:pt x="18" y="100"/>
                      </a:lnTo>
                      <a:lnTo>
                        <a:pt x="34" y="88"/>
                      </a:lnTo>
                      <a:lnTo>
                        <a:pt x="51" y="73"/>
                      </a:lnTo>
                      <a:lnTo>
                        <a:pt x="68" y="60"/>
                      </a:lnTo>
                      <a:lnTo>
                        <a:pt x="85" y="45"/>
                      </a:lnTo>
                      <a:lnTo>
                        <a:pt x="101" y="30"/>
                      </a:lnTo>
                      <a:lnTo>
                        <a:pt x="117" y="15"/>
                      </a:lnTo>
                      <a:lnTo>
                        <a:pt x="134" y="0"/>
                      </a:lnTo>
                      <a:lnTo>
                        <a:pt x="236" y="494"/>
                      </a:lnTo>
                      <a:lnTo>
                        <a:pt x="220" y="510"/>
                      </a:lnTo>
                      <a:lnTo>
                        <a:pt x="204" y="526"/>
                      </a:lnTo>
                      <a:lnTo>
                        <a:pt x="188" y="543"/>
                      </a:lnTo>
                      <a:lnTo>
                        <a:pt x="172" y="557"/>
                      </a:lnTo>
                      <a:lnTo>
                        <a:pt x="156" y="574"/>
                      </a:lnTo>
                      <a:lnTo>
                        <a:pt x="139" y="589"/>
                      </a:lnTo>
                      <a:lnTo>
                        <a:pt x="122" y="605"/>
                      </a:lnTo>
                      <a:lnTo>
                        <a:pt x="105" y="620"/>
                      </a:lnTo>
                      <a:close/>
                    </a:path>
                  </a:pathLst>
                </a:custGeom>
                <a:solidFill>
                  <a:srgbClr val="ffe6c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Freeform 65"/>
                <p:cNvSpPr/>
                <p:nvPr/>
              </p:nvSpPr>
              <p:spPr>
                <a:xfrm>
                  <a:off x="7707240" y="3489840"/>
                  <a:ext cx="295560" cy="357480"/>
                </a:xfrm>
                <a:custGeom>
                  <a:avLst/>
                  <a:gdLst>
                    <a:gd name="textAreaLeft" fmla="*/ 0 w 295560"/>
                    <a:gd name="textAreaRight" fmla="*/ 295920 w 295560"/>
                    <a:gd name="textAreaTop" fmla="*/ 0 h 357480"/>
                    <a:gd name="textAreaBottom" fmla="*/ 357840 h 357480"/>
                  </a:gdLst>
                  <a:ahLst/>
                  <a:rect l="textAreaLeft" t="textAreaTop" r="textAreaRight" b="textAreaBottom"/>
                  <a:pathLst>
                    <a:path w="225" h="642">
                      <a:moveTo>
                        <a:pt x="102" y="642"/>
                      </a:moveTo>
                      <a:lnTo>
                        <a:pt x="0" y="148"/>
                      </a:lnTo>
                      <a:lnTo>
                        <a:pt x="16" y="130"/>
                      </a:lnTo>
                      <a:lnTo>
                        <a:pt x="33" y="113"/>
                      </a:lnTo>
                      <a:lnTo>
                        <a:pt x="49" y="95"/>
                      </a:lnTo>
                      <a:lnTo>
                        <a:pt x="66" y="76"/>
                      </a:lnTo>
                      <a:lnTo>
                        <a:pt x="81" y="58"/>
                      </a:lnTo>
                      <a:lnTo>
                        <a:pt x="97" y="39"/>
                      </a:lnTo>
                      <a:lnTo>
                        <a:pt x="112" y="19"/>
                      </a:lnTo>
                      <a:lnTo>
                        <a:pt x="126" y="0"/>
                      </a:lnTo>
                      <a:lnTo>
                        <a:pt x="225" y="482"/>
                      </a:lnTo>
                      <a:lnTo>
                        <a:pt x="212" y="502"/>
                      </a:lnTo>
                      <a:lnTo>
                        <a:pt x="198" y="522"/>
                      </a:lnTo>
                      <a:lnTo>
                        <a:pt x="183" y="543"/>
                      </a:lnTo>
                      <a:lnTo>
                        <a:pt x="168" y="563"/>
                      </a:lnTo>
                      <a:lnTo>
                        <a:pt x="151" y="582"/>
                      </a:lnTo>
                      <a:lnTo>
                        <a:pt x="135" y="602"/>
                      </a:lnTo>
                      <a:lnTo>
                        <a:pt x="119" y="621"/>
                      </a:lnTo>
                      <a:lnTo>
                        <a:pt x="102" y="642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Freeform 66"/>
                <p:cNvSpPr/>
                <p:nvPr/>
              </p:nvSpPr>
              <p:spPr>
                <a:xfrm>
                  <a:off x="7872120" y="3372480"/>
                  <a:ext cx="277200" cy="386280"/>
                </a:xfrm>
                <a:custGeom>
                  <a:avLst/>
                  <a:gdLst>
                    <a:gd name="textAreaLeft" fmla="*/ 0 w 277200"/>
                    <a:gd name="textAreaRight" fmla="*/ 277560 w 277200"/>
                    <a:gd name="textAreaTop" fmla="*/ 0 h 386280"/>
                    <a:gd name="textAreaBottom" fmla="*/ 386640 h 386280"/>
                  </a:gdLst>
                  <a:ahLst/>
                  <a:rect l="textAreaLeft" t="textAreaTop" r="textAreaRight" b="textAreaBottom"/>
                  <a:pathLst>
                    <a:path w="212" h="691">
                      <a:moveTo>
                        <a:pt x="99" y="691"/>
                      </a:moveTo>
                      <a:lnTo>
                        <a:pt x="0" y="209"/>
                      </a:lnTo>
                      <a:lnTo>
                        <a:pt x="17" y="185"/>
                      </a:lnTo>
                      <a:lnTo>
                        <a:pt x="32" y="160"/>
                      </a:lnTo>
                      <a:lnTo>
                        <a:pt x="49" y="134"/>
                      </a:lnTo>
                      <a:lnTo>
                        <a:pt x="62" y="109"/>
                      </a:lnTo>
                      <a:lnTo>
                        <a:pt x="77" y="83"/>
                      </a:lnTo>
                      <a:lnTo>
                        <a:pt x="90" y="56"/>
                      </a:lnTo>
                      <a:lnTo>
                        <a:pt x="103" y="28"/>
                      </a:lnTo>
                      <a:lnTo>
                        <a:pt x="115" y="0"/>
                      </a:lnTo>
                      <a:lnTo>
                        <a:pt x="212" y="475"/>
                      </a:lnTo>
                      <a:lnTo>
                        <a:pt x="201" y="502"/>
                      </a:lnTo>
                      <a:lnTo>
                        <a:pt x="189" y="529"/>
                      </a:lnTo>
                      <a:lnTo>
                        <a:pt x="176" y="556"/>
                      </a:lnTo>
                      <a:lnTo>
                        <a:pt x="162" y="583"/>
                      </a:lnTo>
                      <a:lnTo>
                        <a:pt x="148" y="611"/>
                      </a:lnTo>
                      <a:lnTo>
                        <a:pt x="133" y="638"/>
                      </a:lnTo>
                      <a:lnTo>
                        <a:pt x="117" y="663"/>
                      </a:lnTo>
                      <a:lnTo>
                        <a:pt x="99" y="691"/>
                      </a:lnTo>
                      <a:close/>
                    </a:path>
                  </a:pathLst>
                </a:custGeom>
                <a:solidFill>
                  <a:srgbClr val="ffdab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Freeform 67"/>
                <p:cNvSpPr/>
                <p:nvPr/>
              </p:nvSpPr>
              <p:spPr>
                <a:xfrm>
                  <a:off x="8021520" y="3212280"/>
                  <a:ext cx="205920" cy="426240"/>
                </a:xfrm>
                <a:custGeom>
                  <a:avLst/>
                  <a:gdLst>
                    <a:gd name="textAreaLeft" fmla="*/ 0 w 205920"/>
                    <a:gd name="textAreaRight" fmla="*/ 206280 w 205920"/>
                    <a:gd name="textAreaTop" fmla="*/ 0 h 426240"/>
                    <a:gd name="textAreaBottom" fmla="*/ 426600 h 426240"/>
                  </a:gdLst>
                  <a:ahLst/>
                  <a:rect l="textAreaLeft" t="textAreaTop" r="textAreaRight" b="textAreaBottom"/>
                  <a:pathLst>
                    <a:path w="157" h="763">
                      <a:moveTo>
                        <a:pt x="97" y="763"/>
                      </a:moveTo>
                      <a:lnTo>
                        <a:pt x="0" y="288"/>
                      </a:lnTo>
                      <a:lnTo>
                        <a:pt x="11" y="254"/>
                      </a:lnTo>
                      <a:lnTo>
                        <a:pt x="23" y="220"/>
                      </a:lnTo>
                      <a:lnTo>
                        <a:pt x="32" y="186"/>
                      </a:lnTo>
                      <a:lnTo>
                        <a:pt x="41" y="150"/>
                      </a:lnTo>
                      <a:lnTo>
                        <a:pt x="48" y="114"/>
                      </a:lnTo>
                      <a:lnTo>
                        <a:pt x="54" y="76"/>
                      </a:lnTo>
                      <a:lnTo>
                        <a:pt x="57" y="40"/>
                      </a:lnTo>
                      <a:lnTo>
                        <a:pt x="61" y="0"/>
                      </a:lnTo>
                      <a:lnTo>
                        <a:pt x="84" y="103"/>
                      </a:lnTo>
                      <a:lnTo>
                        <a:pt x="100" y="173"/>
                      </a:lnTo>
                      <a:lnTo>
                        <a:pt x="112" y="216"/>
                      </a:lnTo>
                      <a:lnTo>
                        <a:pt x="119" y="243"/>
                      </a:lnTo>
                      <a:lnTo>
                        <a:pt x="125" y="261"/>
                      </a:lnTo>
                      <a:lnTo>
                        <a:pt x="129" y="280"/>
                      </a:lnTo>
                      <a:lnTo>
                        <a:pt x="136" y="308"/>
                      </a:lnTo>
                      <a:lnTo>
                        <a:pt x="145" y="354"/>
                      </a:lnTo>
                      <a:lnTo>
                        <a:pt x="150" y="378"/>
                      </a:lnTo>
                      <a:lnTo>
                        <a:pt x="154" y="402"/>
                      </a:lnTo>
                      <a:lnTo>
                        <a:pt x="156" y="426"/>
                      </a:lnTo>
                      <a:lnTo>
                        <a:pt x="157" y="451"/>
                      </a:lnTo>
                      <a:lnTo>
                        <a:pt x="157" y="475"/>
                      </a:lnTo>
                      <a:lnTo>
                        <a:pt x="156" y="501"/>
                      </a:lnTo>
                      <a:lnTo>
                        <a:pt x="155" y="525"/>
                      </a:lnTo>
                      <a:lnTo>
                        <a:pt x="152" y="551"/>
                      </a:lnTo>
                      <a:lnTo>
                        <a:pt x="148" y="577"/>
                      </a:lnTo>
                      <a:lnTo>
                        <a:pt x="143" y="604"/>
                      </a:lnTo>
                      <a:lnTo>
                        <a:pt x="138" y="630"/>
                      </a:lnTo>
                      <a:lnTo>
                        <a:pt x="132" y="656"/>
                      </a:lnTo>
                      <a:lnTo>
                        <a:pt x="125" y="683"/>
                      </a:lnTo>
                      <a:lnTo>
                        <a:pt x="116" y="710"/>
                      </a:lnTo>
                      <a:lnTo>
                        <a:pt x="107" y="736"/>
                      </a:lnTo>
                      <a:lnTo>
                        <a:pt x="97" y="763"/>
                      </a:lnTo>
                      <a:close/>
                    </a:path>
                  </a:pathLst>
                </a:custGeom>
                <a:solidFill>
                  <a:srgbClr val="ff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" name="Freeform 68"/>
                <p:cNvSpPr/>
                <p:nvPr/>
              </p:nvSpPr>
              <p:spPr>
                <a:xfrm>
                  <a:off x="5271840" y="3212280"/>
                  <a:ext cx="2955600" cy="879120"/>
                </a:xfrm>
                <a:custGeom>
                  <a:avLst/>
                  <a:gdLst>
                    <a:gd name="textAreaLeft" fmla="*/ 0 w 2955600"/>
                    <a:gd name="textAreaRight" fmla="*/ 2955960 w 2955600"/>
                    <a:gd name="textAreaTop" fmla="*/ 0 h 879120"/>
                    <a:gd name="textAreaBottom" fmla="*/ 879480 h 879120"/>
                  </a:gdLst>
                  <a:ahLst/>
                  <a:rect l="textAreaLeft" t="textAreaTop" r="textAreaRight" b="textAreaBottom"/>
                  <a:pathLst>
                    <a:path w="2263" h="1576">
                      <a:moveTo>
                        <a:pt x="1245" y="994"/>
                      </a:moveTo>
                      <a:lnTo>
                        <a:pt x="1276" y="985"/>
                      </a:lnTo>
                      <a:lnTo>
                        <a:pt x="1310" y="976"/>
                      </a:lnTo>
                      <a:lnTo>
                        <a:pt x="1344" y="965"/>
                      </a:lnTo>
                      <a:lnTo>
                        <a:pt x="1378" y="953"/>
                      </a:lnTo>
                      <a:lnTo>
                        <a:pt x="1414" y="939"/>
                      </a:lnTo>
                      <a:lnTo>
                        <a:pt x="1451" y="923"/>
                      </a:lnTo>
                      <a:lnTo>
                        <a:pt x="1488" y="907"/>
                      </a:lnTo>
                      <a:lnTo>
                        <a:pt x="1525" y="888"/>
                      </a:lnTo>
                      <a:lnTo>
                        <a:pt x="1562" y="867"/>
                      </a:lnTo>
                      <a:lnTo>
                        <a:pt x="1601" y="846"/>
                      </a:lnTo>
                      <a:lnTo>
                        <a:pt x="1638" y="823"/>
                      </a:lnTo>
                      <a:lnTo>
                        <a:pt x="1676" y="798"/>
                      </a:lnTo>
                      <a:lnTo>
                        <a:pt x="1713" y="772"/>
                      </a:lnTo>
                      <a:lnTo>
                        <a:pt x="1749" y="745"/>
                      </a:lnTo>
                      <a:lnTo>
                        <a:pt x="1785" y="717"/>
                      </a:lnTo>
                      <a:lnTo>
                        <a:pt x="1821" y="686"/>
                      </a:lnTo>
                      <a:lnTo>
                        <a:pt x="1854" y="654"/>
                      </a:lnTo>
                      <a:lnTo>
                        <a:pt x="1888" y="620"/>
                      </a:lnTo>
                      <a:lnTo>
                        <a:pt x="1920" y="586"/>
                      </a:lnTo>
                      <a:lnTo>
                        <a:pt x="1950" y="550"/>
                      </a:lnTo>
                      <a:lnTo>
                        <a:pt x="1979" y="512"/>
                      </a:lnTo>
                      <a:lnTo>
                        <a:pt x="2007" y="473"/>
                      </a:lnTo>
                      <a:lnTo>
                        <a:pt x="2034" y="432"/>
                      </a:lnTo>
                      <a:lnTo>
                        <a:pt x="2058" y="390"/>
                      </a:lnTo>
                      <a:lnTo>
                        <a:pt x="2068" y="368"/>
                      </a:lnTo>
                      <a:lnTo>
                        <a:pt x="2080" y="346"/>
                      </a:lnTo>
                      <a:lnTo>
                        <a:pt x="2090" y="325"/>
                      </a:lnTo>
                      <a:lnTo>
                        <a:pt x="2100" y="302"/>
                      </a:lnTo>
                      <a:lnTo>
                        <a:pt x="2109" y="278"/>
                      </a:lnTo>
                      <a:lnTo>
                        <a:pt x="2117" y="255"/>
                      </a:lnTo>
                      <a:lnTo>
                        <a:pt x="2125" y="231"/>
                      </a:lnTo>
                      <a:lnTo>
                        <a:pt x="2132" y="207"/>
                      </a:lnTo>
                      <a:lnTo>
                        <a:pt x="2139" y="182"/>
                      </a:lnTo>
                      <a:lnTo>
                        <a:pt x="2145" y="158"/>
                      </a:lnTo>
                      <a:lnTo>
                        <a:pt x="2151" y="132"/>
                      </a:lnTo>
                      <a:lnTo>
                        <a:pt x="2155" y="106"/>
                      </a:lnTo>
                      <a:lnTo>
                        <a:pt x="2159" y="80"/>
                      </a:lnTo>
                      <a:lnTo>
                        <a:pt x="2162" y="55"/>
                      </a:lnTo>
                      <a:lnTo>
                        <a:pt x="2165" y="27"/>
                      </a:lnTo>
                      <a:lnTo>
                        <a:pt x="2167" y="0"/>
                      </a:lnTo>
                      <a:lnTo>
                        <a:pt x="2190" y="103"/>
                      </a:lnTo>
                      <a:lnTo>
                        <a:pt x="2206" y="173"/>
                      </a:lnTo>
                      <a:lnTo>
                        <a:pt x="2218" y="216"/>
                      </a:lnTo>
                      <a:lnTo>
                        <a:pt x="2225" y="243"/>
                      </a:lnTo>
                      <a:lnTo>
                        <a:pt x="2231" y="261"/>
                      </a:lnTo>
                      <a:lnTo>
                        <a:pt x="2235" y="280"/>
                      </a:lnTo>
                      <a:lnTo>
                        <a:pt x="2242" y="308"/>
                      </a:lnTo>
                      <a:lnTo>
                        <a:pt x="2251" y="354"/>
                      </a:lnTo>
                      <a:lnTo>
                        <a:pt x="2256" y="373"/>
                      </a:lnTo>
                      <a:lnTo>
                        <a:pt x="2258" y="392"/>
                      </a:lnTo>
                      <a:lnTo>
                        <a:pt x="2261" y="413"/>
                      </a:lnTo>
                      <a:lnTo>
                        <a:pt x="2262" y="432"/>
                      </a:lnTo>
                      <a:lnTo>
                        <a:pt x="2263" y="452"/>
                      </a:lnTo>
                      <a:lnTo>
                        <a:pt x="2263" y="473"/>
                      </a:lnTo>
                      <a:lnTo>
                        <a:pt x="2263" y="493"/>
                      </a:lnTo>
                      <a:lnTo>
                        <a:pt x="2262" y="513"/>
                      </a:lnTo>
                      <a:lnTo>
                        <a:pt x="2260" y="535"/>
                      </a:lnTo>
                      <a:lnTo>
                        <a:pt x="2257" y="555"/>
                      </a:lnTo>
                      <a:lnTo>
                        <a:pt x="2255" y="577"/>
                      </a:lnTo>
                      <a:lnTo>
                        <a:pt x="2250" y="597"/>
                      </a:lnTo>
                      <a:lnTo>
                        <a:pt x="2242" y="641"/>
                      </a:lnTo>
                      <a:lnTo>
                        <a:pt x="2231" y="683"/>
                      </a:lnTo>
                      <a:lnTo>
                        <a:pt x="2217" y="726"/>
                      </a:lnTo>
                      <a:lnTo>
                        <a:pt x="2200" y="770"/>
                      </a:lnTo>
                      <a:lnTo>
                        <a:pt x="2182" y="813"/>
                      </a:lnTo>
                      <a:lnTo>
                        <a:pt x="2161" y="857"/>
                      </a:lnTo>
                      <a:lnTo>
                        <a:pt x="2138" y="900"/>
                      </a:lnTo>
                      <a:lnTo>
                        <a:pt x="2112" y="943"/>
                      </a:lnTo>
                      <a:lnTo>
                        <a:pt x="2086" y="985"/>
                      </a:lnTo>
                      <a:lnTo>
                        <a:pt x="2057" y="1027"/>
                      </a:lnTo>
                      <a:lnTo>
                        <a:pt x="2026" y="1068"/>
                      </a:lnTo>
                      <a:lnTo>
                        <a:pt x="1993" y="1108"/>
                      </a:lnTo>
                      <a:lnTo>
                        <a:pt x="1957" y="1147"/>
                      </a:lnTo>
                      <a:lnTo>
                        <a:pt x="1921" y="1186"/>
                      </a:lnTo>
                      <a:lnTo>
                        <a:pt x="1882" y="1223"/>
                      </a:lnTo>
                      <a:lnTo>
                        <a:pt x="1843" y="1258"/>
                      </a:lnTo>
                      <a:lnTo>
                        <a:pt x="1800" y="1293"/>
                      </a:lnTo>
                      <a:lnTo>
                        <a:pt x="1757" y="1326"/>
                      </a:lnTo>
                      <a:lnTo>
                        <a:pt x="1712" y="1357"/>
                      </a:lnTo>
                      <a:lnTo>
                        <a:pt x="1665" y="1387"/>
                      </a:lnTo>
                      <a:lnTo>
                        <a:pt x="1617" y="1416"/>
                      </a:lnTo>
                      <a:lnTo>
                        <a:pt x="1567" y="1441"/>
                      </a:lnTo>
                      <a:lnTo>
                        <a:pt x="1516" y="1464"/>
                      </a:lnTo>
                      <a:lnTo>
                        <a:pt x="1464" y="1486"/>
                      </a:lnTo>
                      <a:lnTo>
                        <a:pt x="1437" y="1497"/>
                      </a:lnTo>
                      <a:lnTo>
                        <a:pt x="1410" y="1506"/>
                      </a:lnTo>
                      <a:lnTo>
                        <a:pt x="1383" y="1515"/>
                      </a:lnTo>
                      <a:lnTo>
                        <a:pt x="1355" y="1523"/>
                      </a:lnTo>
                      <a:lnTo>
                        <a:pt x="1300" y="1538"/>
                      </a:lnTo>
                      <a:lnTo>
                        <a:pt x="1244" y="1550"/>
                      </a:lnTo>
                      <a:lnTo>
                        <a:pt x="1188" y="1559"/>
                      </a:lnTo>
                      <a:lnTo>
                        <a:pt x="1134" y="1566"/>
                      </a:lnTo>
                      <a:lnTo>
                        <a:pt x="1078" y="1572"/>
                      </a:lnTo>
                      <a:lnTo>
                        <a:pt x="1024" y="1574"/>
                      </a:lnTo>
                      <a:lnTo>
                        <a:pt x="971" y="1576"/>
                      </a:lnTo>
                      <a:lnTo>
                        <a:pt x="917" y="1573"/>
                      </a:lnTo>
                      <a:lnTo>
                        <a:pt x="864" y="1570"/>
                      </a:lnTo>
                      <a:lnTo>
                        <a:pt x="812" y="1563"/>
                      </a:lnTo>
                      <a:lnTo>
                        <a:pt x="762" y="1557"/>
                      </a:lnTo>
                      <a:lnTo>
                        <a:pt x="711" y="1546"/>
                      </a:lnTo>
                      <a:lnTo>
                        <a:pt x="663" y="1534"/>
                      </a:lnTo>
                      <a:lnTo>
                        <a:pt x="615" y="1520"/>
                      </a:lnTo>
                      <a:lnTo>
                        <a:pt x="569" y="1505"/>
                      </a:lnTo>
                      <a:lnTo>
                        <a:pt x="525" y="1487"/>
                      </a:lnTo>
                      <a:lnTo>
                        <a:pt x="481" y="1468"/>
                      </a:lnTo>
                      <a:lnTo>
                        <a:pt x="439" y="1447"/>
                      </a:lnTo>
                      <a:lnTo>
                        <a:pt x="399" y="1424"/>
                      </a:lnTo>
                      <a:lnTo>
                        <a:pt x="360" y="1399"/>
                      </a:lnTo>
                      <a:lnTo>
                        <a:pt x="325" y="1373"/>
                      </a:lnTo>
                      <a:lnTo>
                        <a:pt x="290" y="1345"/>
                      </a:lnTo>
                      <a:lnTo>
                        <a:pt x="274" y="1331"/>
                      </a:lnTo>
                      <a:lnTo>
                        <a:pt x="259" y="1316"/>
                      </a:lnTo>
                      <a:lnTo>
                        <a:pt x="242" y="1302"/>
                      </a:lnTo>
                      <a:lnTo>
                        <a:pt x="228" y="1285"/>
                      </a:lnTo>
                      <a:lnTo>
                        <a:pt x="213" y="1269"/>
                      </a:lnTo>
                      <a:lnTo>
                        <a:pt x="201" y="1253"/>
                      </a:lnTo>
                      <a:lnTo>
                        <a:pt x="187" y="1236"/>
                      </a:lnTo>
                      <a:lnTo>
                        <a:pt x="175" y="1219"/>
                      </a:lnTo>
                      <a:lnTo>
                        <a:pt x="164" y="1202"/>
                      </a:lnTo>
                      <a:lnTo>
                        <a:pt x="152" y="1184"/>
                      </a:lnTo>
                      <a:lnTo>
                        <a:pt x="142" y="1166"/>
                      </a:lnTo>
                      <a:lnTo>
                        <a:pt x="131" y="1148"/>
                      </a:lnTo>
                      <a:lnTo>
                        <a:pt x="122" y="1129"/>
                      </a:lnTo>
                      <a:lnTo>
                        <a:pt x="114" y="1110"/>
                      </a:lnTo>
                      <a:lnTo>
                        <a:pt x="106" y="1090"/>
                      </a:lnTo>
                      <a:lnTo>
                        <a:pt x="99" y="1071"/>
                      </a:lnTo>
                      <a:lnTo>
                        <a:pt x="93" y="1051"/>
                      </a:lnTo>
                      <a:lnTo>
                        <a:pt x="87" y="1030"/>
                      </a:lnTo>
                      <a:lnTo>
                        <a:pt x="82" y="1010"/>
                      </a:lnTo>
                      <a:lnTo>
                        <a:pt x="78" y="989"/>
                      </a:lnTo>
                      <a:lnTo>
                        <a:pt x="73" y="965"/>
                      </a:lnTo>
                      <a:lnTo>
                        <a:pt x="70" y="947"/>
                      </a:lnTo>
                      <a:lnTo>
                        <a:pt x="66" y="935"/>
                      </a:lnTo>
                      <a:lnTo>
                        <a:pt x="63" y="926"/>
                      </a:lnTo>
                      <a:lnTo>
                        <a:pt x="57" y="912"/>
                      </a:lnTo>
                      <a:lnTo>
                        <a:pt x="50" y="899"/>
                      </a:lnTo>
                      <a:lnTo>
                        <a:pt x="47" y="888"/>
                      </a:lnTo>
                      <a:lnTo>
                        <a:pt x="42" y="873"/>
                      </a:lnTo>
                      <a:lnTo>
                        <a:pt x="37" y="852"/>
                      </a:lnTo>
                      <a:lnTo>
                        <a:pt x="32" y="827"/>
                      </a:lnTo>
                      <a:lnTo>
                        <a:pt x="19" y="749"/>
                      </a:lnTo>
                      <a:lnTo>
                        <a:pt x="0" y="630"/>
                      </a:lnTo>
                      <a:lnTo>
                        <a:pt x="21" y="660"/>
                      </a:lnTo>
                      <a:lnTo>
                        <a:pt x="43" y="688"/>
                      </a:lnTo>
                      <a:lnTo>
                        <a:pt x="66" y="715"/>
                      </a:lnTo>
                      <a:lnTo>
                        <a:pt x="91" y="743"/>
                      </a:lnTo>
                      <a:lnTo>
                        <a:pt x="116" y="768"/>
                      </a:lnTo>
                      <a:lnTo>
                        <a:pt x="142" y="794"/>
                      </a:lnTo>
                      <a:lnTo>
                        <a:pt x="169" y="817"/>
                      </a:lnTo>
                      <a:lnTo>
                        <a:pt x="197" y="842"/>
                      </a:lnTo>
                      <a:lnTo>
                        <a:pt x="227" y="863"/>
                      </a:lnTo>
                      <a:lnTo>
                        <a:pt x="257" y="884"/>
                      </a:lnTo>
                      <a:lnTo>
                        <a:pt x="289" y="904"/>
                      </a:lnTo>
                      <a:lnTo>
                        <a:pt x="322" y="923"/>
                      </a:lnTo>
                      <a:lnTo>
                        <a:pt x="356" y="941"/>
                      </a:lnTo>
                      <a:lnTo>
                        <a:pt x="392" y="957"/>
                      </a:lnTo>
                      <a:lnTo>
                        <a:pt x="428" y="972"/>
                      </a:lnTo>
                      <a:lnTo>
                        <a:pt x="465" y="987"/>
                      </a:lnTo>
                      <a:lnTo>
                        <a:pt x="504" y="999"/>
                      </a:lnTo>
                      <a:lnTo>
                        <a:pt x="545" y="1010"/>
                      </a:lnTo>
                      <a:lnTo>
                        <a:pt x="585" y="1019"/>
                      </a:lnTo>
                      <a:lnTo>
                        <a:pt x="628" y="1027"/>
                      </a:lnTo>
                      <a:lnTo>
                        <a:pt x="672" y="1034"/>
                      </a:lnTo>
                      <a:lnTo>
                        <a:pt x="717" y="1040"/>
                      </a:lnTo>
                      <a:lnTo>
                        <a:pt x="763" y="1042"/>
                      </a:lnTo>
                      <a:lnTo>
                        <a:pt x="812" y="1044"/>
                      </a:lnTo>
                      <a:lnTo>
                        <a:pt x="861" y="1044"/>
                      </a:lnTo>
                      <a:lnTo>
                        <a:pt x="912" y="1042"/>
                      </a:lnTo>
                      <a:lnTo>
                        <a:pt x="964" y="1040"/>
                      </a:lnTo>
                      <a:lnTo>
                        <a:pt x="1017" y="1034"/>
                      </a:lnTo>
                      <a:lnTo>
                        <a:pt x="1071" y="1027"/>
                      </a:lnTo>
                      <a:lnTo>
                        <a:pt x="1128" y="1018"/>
                      </a:lnTo>
                      <a:lnTo>
                        <a:pt x="1186" y="1007"/>
                      </a:lnTo>
                      <a:lnTo>
                        <a:pt x="1245" y="994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Freeform 69"/>
                <p:cNvSpPr/>
                <p:nvPr/>
              </p:nvSpPr>
              <p:spPr>
                <a:xfrm>
                  <a:off x="5172480" y="2784240"/>
                  <a:ext cx="2955600" cy="1011600"/>
                </a:xfrm>
                <a:custGeom>
                  <a:avLst/>
                  <a:gdLst>
                    <a:gd name="textAreaLeft" fmla="*/ 0 w 2955600"/>
                    <a:gd name="textAreaRight" fmla="*/ 2955960 w 2955600"/>
                    <a:gd name="textAreaTop" fmla="*/ 0 h 1011600"/>
                    <a:gd name="textAreaBottom" fmla="*/ 1011960 h 1011600"/>
                  </a:gdLst>
                  <a:ahLst/>
                  <a:rect l="textAreaLeft" t="textAreaTop" r="textAreaRight" b="textAreaBottom"/>
                  <a:pathLst>
                    <a:path w="2263" h="1814">
                      <a:moveTo>
                        <a:pt x="979" y="60"/>
                      </a:moveTo>
                      <a:lnTo>
                        <a:pt x="1038" y="44"/>
                      </a:lnTo>
                      <a:lnTo>
                        <a:pt x="1095" y="30"/>
                      </a:lnTo>
                      <a:lnTo>
                        <a:pt x="1153" y="19"/>
                      </a:lnTo>
                      <a:lnTo>
                        <a:pt x="1211" y="11"/>
                      </a:lnTo>
                      <a:lnTo>
                        <a:pt x="1268" y="6"/>
                      </a:lnTo>
                      <a:lnTo>
                        <a:pt x="1322" y="2"/>
                      </a:lnTo>
                      <a:lnTo>
                        <a:pt x="1378" y="0"/>
                      </a:lnTo>
                      <a:lnTo>
                        <a:pt x="1431" y="0"/>
                      </a:lnTo>
                      <a:lnTo>
                        <a:pt x="1483" y="3"/>
                      </a:lnTo>
                      <a:lnTo>
                        <a:pt x="1534" y="7"/>
                      </a:lnTo>
                      <a:lnTo>
                        <a:pt x="1585" y="15"/>
                      </a:lnTo>
                      <a:lnTo>
                        <a:pt x="1634" y="23"/>
                      </a:lnTo>
                      <a:lnTo>
                        <a:pt x="1681" y="34"/>
                      </a:lnTo>
                      <a:lnTo>
                        <a:pt x="1728" y="48"/>
                      </a:lnTo>
                      <a:lnTo>
                        <a:pt x="1773" y="63"/>
                      </a:lnTo>
                      <a:lnTo>
                        <a:pt x="1816" y="79"/>
                      </a:lnTo>
                      <a:lnTo>
                        <a:pt x="1857" y="98"/>
                      </a:lnTo>
                      <a:lnTo>
                        <a:pt x="1897" y="118"/>
                      </a:lnTo>
                      <a:lnTo>
                        <a:pt x="1936" y="140"/>
                      </a:lnTo>
                      <a:lnTo>
                        <a:pt x="1972" y="165"/>
                      </a:lnTo>
                      <a:lnTo>
                        <a:pt x="2007" y="190"/>
                      </a:lnTo>
                      <a:lnTo>
                        <a:pt x="2039" y="217"/>
                      </a:lnTo>
                      <a:lnTo>
                        <a:pt x="2055" y="232"/>
                      </a:lnTo>
                      <a:lnTo>
                        <a:pt x="2070" y="246"/>
                      </a:lnTo>
                      <a:lnTo>
                        <a:pt x="2084" y="262"/>
                      </a:lnTo>
                      <a:lnTo>
                        <a:pt x="2099" y="277"/>
                      </a:lnTo>
                      <a:lnTo>
                        <a:pt x="2112" y="293"/>
                      </a:lnTo>
                      <a:lnTo>
                        <a:pt x="2126" y="310"/>
                      </a:lnTo>
                      <a:lnTo>
                        <a:pt x="2138" y="326"/>
                      </a:lnTo>
                      <a:lnTo>
                        <a:pt x="2150" y="344"/>
                      </a:lnTo>
                      <a:lnTo>
                        <a:pt x="2162" y="360"/>
                      </a:lnTo>
                      <a:lnTo>
                        <a:pt x="2172" y="379"/>
                      </a:lnTo>
                      <a:lnTo>
                        <a:pt x="2183" y="397"/>
                      </a:lnTo>
                      <a:lnTo>
                        <a:pt x="2192" y="416"/>
                      </a:lnTo>
                      <a:lnTo>
                        <a:pt x="2201" y="433"/>
                      </a:lnTo>
                      <a:lnTo>
                        <a:pt x="2209" y="454"/>
                      </a:lnTo>
                      <a:lnTo>
                        <a:pt x="2218" y="473"/>
                      </a:lnTo>
                      <a:lnTo>
                        <a:pt x="2225" y="493"/>
                      </a:lnTo>
                      <a:lnTo>
                        <a:pt x="2231" y="513"/>
                      </a:lnTo>
                      <a:lnTo>
                        <a:pt x="2237" y="534"/>
                      </a:lnTo>
                      <a:lnTo>
                        <a:pt x="2243" y="554"/>
                      </a:lnTo>
                      <a:lnTo>
                        <a:pt x="2248" y="576"/>
                      </a:lnTo>
                      <a:lnTo>
                        <a:pt x="2252" y="596"/>
                      </a:lnTo>
                      <a:lnTo>
                        <a:pt x="2256" y="618"/>
                      </a:lnTo>
                      <a:lnTo>
                        <a:pt x="2258" y="639"/>
                      </a:lnTo>
                      <a:lnTo>
                        <a:pt x="2260" y="661"/>
                      </a:lnTo>
                      <a:lnTo>
                        <a:pt x="2262" y="683"/>
                      </a:lnTo>
                      <a:lnTo>
                        <a:pt x="2263" y="705"/>
                      </a:lnTo>
                      <a:lnTo>
                        <a:pt x="2263" y="726"/>
                      </a:lnTo>
                      <a:lnTo>
                        <a:pt x="2263" y="748"/>
                      </a:lnTo>
                      <a:lnTo>
                        <a:pt x="2262" y="770"/>
                      </a:lnTo>
                      <a:lnTo>
                        <a:pt x="2260" y="791"/>
                      </a:lnTo>
                      <a:lnTo>
                        <a:pt x="2258" y="813"/>
                      </a:lnTo>
                      <a:lnTo>
                        <a:pt x="2256" y="835"/>
                      </a:lnTo>
                      <a:lnTo>
                        <a:pt x="2252" y="855"/>
                      </a:lnTo>
                      <a:lnTo>
                        <a:pt x="2249" y="877"/>
                      </a:lnTo>
                      <a:lnTo>
                        <a:pt x="2244" y="899"/>
                      </a:lnTo>
                      <a:lnTo>
                        <a:pt x="2240" y="920"/>
                      </a:lnTo>
                      <a:lnTo>
                        <a:pt x="2227" y="964"/>
                      </a:lnTo>
                      <a:lnTo>
                        <a:pt x="2213" y="1006"/>
                      </a:lnTo>
                      <a:lnTo>
                        <a:pt x="2197" y="1048"/>
                      </a:lnTo>
                      <a:lnTo>
                        <a:pt x="2178" y="1090"/>
                      </a:lnTo>
                      <a:lnTo>
                        <a:pt x="2157" y="1131"/>
                      </a:lnTo>
                      <a:lnTo>
                        <a:pt x="2134" y="1171"/>
                      </a:lnTo>
                      <a:lnTo>
                        <a:pt x="2109" y="1212"/>
                      </a:lnTo>
                      <a:lnTo>
                        <a:pt x="2081" y="1251"/>
                      </a:lnTo>
                      <a:lnTo>
                        <a:pt x="2052" y="1289"/>
                      </a:lnTo>
                      <a:lnTo>
                        <a:pt x="2021" y="1327"/>
                      </a:lnTo>
                      <a:lnTo>
                        <a:pt x="1987" y="1365"/>
                      </a:lnTo>
                      <a:lnTo>
                        <a:pt x="1951" y="1401"/>
                      </a:lnTo>
                      <a:lnTo>
                        <a:pt x="1914" y="1436"/>
                      </a:lnTo>
                      <a:lnTo>
                        <a:pt x="1875" y="1470"/>
                      </a:lnTo>
                      <a:lnTo>
                        <a:pt x="1833" y="1504"/>
                      </a:lnTo>
                      <a:lnTo>
                        <a:pt x="1790" y="1535"/>
                      </a:lnTo>
                      <a:lnTo>
                        <a:pt x="1745" y="1566"/>
                      </a:lnTo>
                      <a:lnTo>
                        <a:pt x="1698" y="1595"/>
                      </a:lnTo>
                      <a:lnTo>
                        <a:pt x="1649" y="1623"/>
                      </a:lnTo>
                      <a:lnTo>
                        <a:pt x="1598" y="1650"/>
                      </a:lnTo>
                      <a:lnTo>
                        <a:pt x="1546" y="1675"/>
                      </a:lnTo>
                      <a:lnTo>
                        <a:pt x="1493" y="1698"/>
                      </a:lnTo>
                      <a:lnTo>
                        <a:pt x="1436" y="1721"/>
                      </a:lnTo>
                      <a:lnTo>
                        <a:pt x="1379" y="1741"/>
                      </a:lnTo>
                      <a:lnTo>
                        <a:pt x="1321" y="1759"/>
                      </a:lnTo>
                      <a:lnTo>
                        <a:pt x="1262" y="1774"/>
                      </a:lnTo>
                      <a:lnTo>
                        <a:pt x="1204" y="1787"/>
                      </a:lnTo>
                      <a:lnTo>
                        <a:pt x="1146" y="1797"/>
                      </a:lnTo>
                      <a:lnTo>
                        <a:pt x="1089" y="1805"/>
                      </a:lnTo>
                      <a:lnTo>
                        <a:pt x="1031" y="1810"/>
                      </a:lnTo>
                      <a:lnTo>
                        <a:pt x="974" y="1813"/>
                      </a:lnTo>
                      <a:lnTo>
                        <a:pt x="917" y="1814"/>
                      </a:lnTo>
                      <a:lnTo>
                        <a:pt x="862" y="1812"/>
                      </a:lnTo>
                      <a:lnTo>
                        <a:pt x="806" y="1808"/>
                      </a:lnTo>
                      <a:lnTo>
                        <a:pt x="753" y="1802"/>
                      </a:lnTo>
                      <a:lnTo>
                        <a:pt x="699" y="1794"/>
                      </a:lnTo>
                      <a:lnTo>
                        <a:pt x="647" y="1783"/>
                      </a:lnTo>
                      <a:lnTo>
                        <a:pt x="596" y="1770"/>
                      </a:lnTo>
                      <a:lnTo>
                        <a:pt x="547" y="1756"/>
                      </a:lnTo>
                      <a:lnTo>
                        <a:pt x="499" y="1738"/>
                      </a:lnTo>
                      <a:lnTo>
                        <a:pt x="453" y="1721"/>
                      </a:lnTo>
                      <a:lnTo>
                        <a:pt x="408" y="1699"/>
                      </a:lnTo>
                      <a:lnTo>
                        <a:pt x="365" y="1677"/>
                      </a:lnTo>
                      <a:lnTo>
                        <a:pt x="323" y="1653"/>
                      </a:lnTo>
                      <a:lnTo>
                        <a:pt x="303" y="1641"/>
                      </a:lnTo>
                      <a:lnTo>
                        <a:pt x="284" y="1627"/>
                      </a:lnTo>
                      <a:lnTo>
                        <a:pt x="265" y="1614"/>
                      </a:lnTo>
                      <a:lnTo>
                        <a:pt x="247" y="1600"/>
                      </a:lnTo>
                      <a:lnTo>
                        <a:pt x="229" y="1585"/>
                      </a:lnTo>
                      <a:lnTo>
                        <a:pt x="212" y="1570"/>
                      </a:lnTo>
                      <a:lnTo>
                        <a:pt x="196" y="1555"/>
                      </a:lnTo>
                      <a:lnTo>
                        <a:pt x="179" y="1539"/>
                      </a:lnTo>
                      <a:lnTo>
                        <a:pt x="164" y="1524"/>
                      </a:lnTo>
                      <a:lnTo>
                        <a:pt x="149" y="1506"/>
                      </a:lnTo>
                      <a:lnTo>
                        <a:pt x="134" y="1490"/>
                      </a:lnTo>
                      <a:lnTo>
                        <a:pt x="122" y="1473"/>
                      </a:lnTo>
                      <a:lnTo>
                        <a:pt x="109" y="1455"/>
                      </a:lnTo>
                      <a:lnTo>
                        <a:pt x="96" y="1437"/>
                      </a:lnTo>
                      <a:lnTo>
                        <a:pt x="85" y="1420"/>
                      </a:lnTo>
                      <a:lnTo>
                        <a:pt x="74" y="1401"/>
                      </a:lnTo>
                      <a:lnTo>
                        <a:pt x="64" y="1382"/>
                      </a:lnTo>
                      <a:lnTo>
                        <a:pt x="54" y="1363"/>
                      </a:lnTo>
                      <a:lnTo>
                        <a:pt x="45" y="1342"/>
                      </a:lnTo>
                      <a:lnTo>
                        <a:pt x="37" y="1323"/>
                      </a:lnTo>
                      <a:lnTo>
                        <a:pt x="30" y="1303"/>
                      </a:lnTo>
                      <a:lnTo>
                        <a:pt x="24" y="1283"/>
                      </a:lnTo>
                      <a:lnTo>
                        <a:pt x="19" y="1261"/>
                      </a:lnTo>
                      <a:lnTo>
                        <a:pt x="14" y="1241"/>
                      </a:lnTo>
                      <a:lnTo>
                        <a:pt x="9" y="1219"/>
                      </a:lnTo>
                      <a:lnTo>
                        <a:pt x="6" y="1197"/>
                      </a:lnTo>
                      <a:lnTo>
                        <a:pt x="3" y="1175"/>
                      </a:lnTo>
                      <a:lnTo>
                        <a:pt x="2" y="1154"/>
                      </a:lnTo>
                      <a:lnTo>
                        <a:pt x="1" y="1132"/>
                      </a:lnTo>
                      <a:lnTo>
                        <a:pt x="0" y="1110"/>
                      </a:lnTo>
                      <a:lnTo>
                        <a:pt x="1" y="1087"/>
                      </a:lnTo>
                      <a:lnTo>
                        <a:pt x="2" y="1065"/>
                      </a:lnTo>
                      <a:lnTo>
                        <a:pt x="3" y="1044"/>
                      </a:lnTo>
                      <a:lnTo>
                        <a:pt x="6" y="1022"/>
                      </a:lnTo>
                      <a:lnTo>
                        <a:pt x="9" y="999"/>
                      </a:lnTo>
                      <a:lnTo>
                        <a:pt x="13" y="977"/>
                      </a:lnTo>
                      <a:lnTo>
                        <a:pt x="17" y="956"/>
                      </a:lnTo>
                      <a:lnTo>
                        <a:pt x="23" y="933"/>
                      </a:lnTo>
                      <a:lnTo>
                        <a:pt x="29" y="911"/>
                      </a:lnTo>
                      <a:lnTo>
                        <a:pt x="36" y="889"/>
                      </a:lnTo>
                      <a:lnTo>
                        <a:pt x="43" y="866"/>
                      </a:lnTo>
                      <a:lnTo>
                        <a:pt x="50" y="844"/>
                      </a:lnTo>
                      <a:lnTo>
                        <a:pt x="59" y="823"/>
                      </a:lnTo>
                      <a:lnTo>
                        <a:pt x="68" y="801"/>
                      </a:lnTo>
                      <a:lnTo>
                        <a:pt x="88" y="757"/>
                      </a:lnTo>
                      <a:lnTo>
                        <a:pt x="110" y="714"/>
                      </a:lnTo>
                      <a:lnTo>
                        <a:pt x="134" y="671"/>
                      </a:lnTo>
                      <a:lnTo>
                        <a:pt x="162" y="629"/>
                      </a:lnTo>
                      <a:lnTo>
                        <a:pt x="191" y="587"/>
                      </a:lnTo>
                      <a:lnTo>
                        <a:pt x="222" y="546"/>
                      </a:lnTo>
                      <a:lnTo>
                        <a:pt x="256" y="506"/>
                      </a:lnTo>
                      <a:lnTo>
                        <a:pt x="292" y="467"/>
                      </a:lnTo>
                      <a:lnTo>
                        <a:pt x="330" y="429"/>
                      </a:lnTo>
                      <a:lnTo>
                        <a:pt x="369" y="392"/>
                      </a:lnTo>
                      <a:lnTo>
                        <a:pt x="411" y="356"/>
                      </a:lnTo>
                      <a:lnTo>
                        <a:pt x="454" y="321"/>
                      </a:lnTo>
                      <a:lnTo>
                        <a:pt x="499" y="288"/>
                      </a:lnTo>
                      <a:lnTo>
                        <a:pt x="547" y="255"/>
                      </a:lnTo>
                      <a:lnTo>
                        <a:pt x="595" y="226"/>
                      </a:lnTo>
                      <a:lnTo>
                        <a:pt x="645" y="196"/>
                      </a:lnTo>
                      <a:lnTo>
                        <a:pt x="697" y="169"/>
                      </a:lnTo>
                      <a:lnTo>
                        <a:pt x="750" y="143"/>
                      </a:lnTo>
                      <a:lnTo>
                        <a:pt x="806" y="120"/>
                      </a:lnTo>
                      <a:lnTo>
                        <a:pt x="862" y="98"/>
                      </a:lnTo>
                      <a:lnTo>
                        <a:pt x="919" y="78"/>
                      </a:lnTo>
                      <a:lnTo>
                        <a:pt x="979" y="60"/>
                      </a:lnTo>
                      <a:close/>
                    </a:path>
                  </a:pathLst>
                </a:custGeom>
                <a:solidFill>
                  <a:srgbClr val="ffe8c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Freeform 70"/>
                <p:cNvSpPr/>
                <p:nvPr/>
              </p:nvSpPr>
              <p:spPr>
                <a:xfrm>
                  <a:off x="5172480" y="2784240"/>
                  <a:ext cx="2955600" cy="1011600"/>
                </a:xfrm>
                <a:custGeom>
                  <a:avLst/>
                  <a:gdLst>
                    <a:gd name="textAreaLeft" fmla="*/ 0 w 2955600"/>
                    <a:gd name="textAreaRight" fmla="*/ 2955960 w 2955600"/>
                    <a:gd name="textAreaTop" fmla="*/ 0 h 1011600"/>
                    <a:gd name="textAreaBottom" fmla="*/ 1011960 h 1011600"/>
                  </a:gdLst>
                  <a:ahLst/>
                  <a:rect l="textAreaLeft" t="textAreaTop" r="textAreaRight" b="textAreaBottom"/>
                  <a:pathLst>
                    <a:path w="2263" h="1814">
                      <a:moveTo>
                        <a:pt x="979" y="60"/>
                      </a:moveTo>
                      <a:lnTo>
                        <a:pt x="1038" y="44"/>
                      </a:lnTo>
                      <a:lnTo>
                        <a:pt x="1095" y="30"/>
                      </a:lnTo>
                      <a:lnTo>
                        <a:pt x="1153" y="19"/>
                      </a:lnTo>
                      <a:lnTo>
                        <a:pt x="1211" y="11"/>
                      </a:lnTo>
                      <a:lnTo>
                        <a:pt x="1268" y="6"/>
                      </a:lnTo>
                      <a:lnTo>
                        <a:pt x="1322" y="2"/>
                      </a:lnTo>
                      <a:lnTo>
                        <a:pt x="1378" y="0"/>
                      </a:lnTo>
                      <a:lnTo>
                        <a:pt x="1431" y="0"/>
                      </a:lnTo>
                      <a:lnTo>
                        <a:pt x="1483" y="3"/>
                      </a:lnTo>
                      <a:lnTo>
                        <a:pt x="1534" y="7"/>
                      </a:lnTo>
                      <a:lnTo>
                        <a:pt x="1585" y="15"/>
                      </a:lnTo>
                      <a:lnTo>
                        <a:pt x="1634" y="23"/>
                      </a:lnTo>
                      <a:lnTo>
                        <a:pt x="1681" y="34"/>
                      </a:lnTo>
                      <a:lnTo>
                        <a:pt x="1728" y="48"/>
                      </a:lnTo>
                      <a:lnTo>
                        <a:pt x="1773" y="63"/>
                      </a:lnTo>
                      <a:lnTo>
                        <a:pt x="1816" y="79"/>
                      </a:lnTo>
                      <a:lnTo>
                        <a:pt x="1857" y="98"/>
                      </a:lnTo>
                      <a:lnTo>
                        <a:pt x="1897" y="118"/>
                      </a:lnTo>
                      <a:lnTo>
                        <a:pt x="1936" y="140"/>
                      </a:lnTo>
                      <a:lnTo>
                        <a:pt x="1972" y="165"/>
                      </a:lnTo>
                      <a:lnTo>
                        <a:pt x="2007" y="190"/>
                      </a:lnTo>
                      <a:lnTo>
                        <a:pt x="2039" y="217"/>
                      </a:lnTo>
                      <a:lnTo>
                        <a:pt x="2055" y="232"/>
                      </a:lnTo>
                      <a:lnTo>
                        <a:pt x="2070" y="246"/>
                      </a:lnTo>
                      <a:lnTo>
                        <a:pt x="2084" y="262"/>
                      </a:lnTo>
                      <a:lnTo>
                        <a:pt x="2099" y="277"/>
                      </a:lnTo>
                      <a:lnTo>
                        <a:pt x="2112" y="293"/>
                      </a:lnTo>
                      <a:lnTo>
                        <a:pt x="2126" y="310"/>
                      </a:lnTo>
                      <a:lnTo>
                        <a:pt x="2138" y="326"/>
                      </a:lnTo>
                      <a:lnTo>
                        <a:pt x="2150" y="344"/>
                      </a:lnTo>
                      <a:lnTo>
                        <a:pt x="2162" y="360"/>
                      </a:lnTo>
                      <a:lnTo>
                        <a:pt x="2172" y="379"/>
                      </a:lnTo>
                      <a:lnTo>
                        <a:pt x="2183" y="397"/>
                      </a:lnTo>
                      <a:lnTo>
                        <a:pt x="2192" y="416"/>
                      </a:lnTo>
                      <a:lnTo>
                        <a:pt x="2201" y="433"/>
                      </a:lnTo>
                      <a:lnTo>
                        <a:pt x="2209" y="454"/>
                      </a:lnTo>
                      <a:lnTo>
                        <a:pt x="2218" y="473"/>
                      </a:lnTo>
                      <a:lnTo>
                        <a:pt x="2225" y="493"/>
                      </a:lnTo>
                      <a:lnTo>
                        <a:pt x="2231" y="513"/>
                      </a:lnTo>
                      <a:lnTo>
                        <a:pt x="2237" y="534"/>
                      </a:lnTo>
                      <a:lnTo>
                        <a:pt x="2243" y="554"/>
                      </a:lnTo>
                      <a:lnTo>
                        <a:pt x="2248" y="576"/>
                      </a:lnTo>
                      <a:lnTo>
                        <a:pt x="2252" y="596"/>
                      </a:lnTo>
                      <a:lnTo>
                        <a:pt x="2256" y="618"/>
                      </a:lnTo>
                      <a:lnTo>
                        <a:pt x="2258" y="639"/>
                      </a:lnTo>
                      <a:lnTo>
                        <a:pt x="2260" y="661"/>
                      </a:lnTo>
                      <a:lnTo>
                        <a:pt x="2262" y="683"/>
                      </a:lnTo>
                      <a:lnTo>
                        <a:pt x="2263" y="705"/>
                      </a:lnTo>
                      <a:lnTo>
                        <a:pt x="2263" y="726"/>
                      </a:lnTo>
                      <a:lnTo>
                        <a:pt x="2263" y="748"/>
                      </a:lnTo>
                      <a:lnTo>
                        <a:pt x="2262" y="770"/>
                      </a:lnTo>
                      <a:lnTo>
                        <a:pt x="2260" y="791"/>
                      </a:lnTo>
                      <a:lnTo>
                        <a:pt x="2258" y="813"/>
                      </a:lnTo>
                      <a:lnTo>
                        <a:pt x="2256" y="835"/>
                      </a:lnTo>
                      <a:lnTo>
                        <a:pt x="2252" y="855"/>
                      </a:lnTo>
                      <a:lnTo>
                        <a:pt x="2249" y="877"/>
                      </a:lnTo>
                      <a:lnTo>
                        <a:pt x="2244" y="899"/>
                      </a:lnTo>
                      <a:lnTo>
                        <a:pt x="2240" y="920"/>
                      </a:lnTo>
                      <a:lnTo>
                        <a:pt x="2227" y="964"/>
                      </a:lnTo>
                      <a:lnTo>
                        <a:pt x="2213" y="1006"/>
                      </a:lnTo>
                      <a:lnTo>
                        <a:pt x="2197" y="1048"/>
                      </a:lnTo>
                      <a:lnTo>
                        <a:pt x="2178" y="1090"/>
                      </a:lnTo>
                      <a:lnTo>
                        <a:pt x="2157" y="1131"/>
                      </a:lnTo>
                      <a:lnTo>
                        <a:pt x="2134" y="1171"/>
                      </a:lnTo>
                      <a:lnTo>
                        <a:pt x="2109" y="1212"/>
                      </a:lnTo>
                      <a:lnTo>
                        <a:pt x="2081" y="1251"/>
                      </a:lnTo>
                      <a:lnTo>
                        <a:pt x="2052" y="1289"/>
                      </a:lnTo>
                      <a:lnTo>
                        <a:pt x="2021" y="1327"/>
                      </a:lnTo>
                      <a:lnTo>
                        <a:pt x="1987" y="1365"/>
                      </a:lnTo>
                      <a:lnTo>
                        <a:pt x="1951" y="1401"/>
                      </a:lnTo>
                      <a:lnTo>
                        <a:pt x="1914" y="1436"/>
                      </a:lnTo>
                      <a:lnTo>
                        <a:pt x="1875" y="1470"/>
                      </a:lnTo>
                      <a:lnTo>
                        <a:pt x="1833" y="1504"/>
                      </a:lnTo>
                      <a:lnTo>
                        <a:pt x="1790" y="1535"/>
                      </a:lnTo>
                      <a:lnTo>
                        <a:pt x="1745" y="1566"/>
                      </a:lnTo>
                      <a:lnTo>
                        <a:pt x="1698" y="1595"/>
                      </a:lnTo>
                      <a:lnTo>
                        <a:pt x="1649" y="1623"/>
                      </a:lnTo>
                      <a:lnTo>
                        <a:pt x="1598" y="1650"/>
                      </a:lnTo>
                      <a:lnTo>
                        <a:pt x="1546" y="1675"/>
                      </a:lnTo>
                      <a:lnTo>
                        <a:pt x="1493" y="1698"/>
                      </a:lnTo>
                      <a:lnTo>
                        <a:pt x="1436" y="1721"/>
                      </a:lnTo>
                      <a:lnTo>
                        <a:pt x="1379" y="1741"/>
                      </a:lnTo>
                      <a:lnTo>
                        <a:pt x="1321" y="1759"/>
                      </a:lnTo>
                      <a:lnTo>
                        <a:pt x="1262" y="1774"/>
                      </a:lnTo>
                      <a:lnTo>
                        <a:pt x="1204" y="1787"/>
                      </a:lnTo>
                      <a:lnTo>
                        <a:pt x="1146" y="1797"/>
                      </a:lnTo>
                      <a:lnTo>
                        <a:pt x="1089" y="1805"/>
                      </a:lnTo>
                      <a:lnTo>
                        <a:pt x="1031" y="1810"/>
                      </a:lnTo>
                      <a:lnTo>
                        <a:pt x="974" y="1813"/>
                      </a:lnTo>
                      <a:lnTo>
                        <a:pt x="917" y="1814"/>
                      </a:lnTo>
                      <a:lnTo>
                        <a:pt x="862" y="1812"/>
                      </a:lnTo>
                      <a:lnTo>
                        <a:pt x="806" y="1808"/>
                      </a:lnTo>
                      <a:lnTo>
                        <a:pt x="753" y="1802"/>
                      </a:lnTo>
                      <a:lnTo>
                        <a:pt x="699" y="1794"/>
                      </a:lnTo>
                      <a:lnTo>
                        <a:pt x="647" y="1783"/>
                      </a:lnTo>
                      <a:lnTo>
                        <a:pt x="596" y="1770"/>
                      </a:lnTo>
                      <a:lnTo>
                        <a:pt x="547" y="1756"/>
                      </a:lnTo>
                      <a:lnTo>
                        <a:pt x="499" y="1738"/>
                      </a:lnTo>
                      <a:lnTo>
                        <a:pt x="453" y="1721"/>
                      </a:lnTo>
                      <a:lnTo>
                        <a:pt x="408" y="1699"/>
                      </a:lnTo>
                      <a:lnTo>
                        <a:pt x="365" y="1677"/>
                      </a:lnTo>
                      <a:lnTo>
                        <a:pt x="323" y="1653"/>
                      </a:lnTo>
                      <a:lnTo>
                        <a:pt x="303" y="1641"/>
                      </a:lnTo>
                      <a:lnTo>
                        <a:pt x="284" y="1627"/>
                      </a:lnTo>
                      <a:lnTo>
                        <a:pt x="265" y="1614"/>
                      </a:lnTo>
                      <a:lnTo>
                        <a:pt x="247" y="1600"/>
                      </a:lnTo>
                      <a:lnTo>
                        <a:pt x="229" y="1585"/>
                      </a:lnTo>
                      <a:lnTo>
                        <a:pt x="212" y="1570"/>
                      </a:lnTo>
                      <a:lnTo>
                        <a:pt x="196" y="1555"/>
                      </a:lnTo>
                      <a:lnTo>
                        <a:pt x="179" y="1539"/>
                      </a:lnTo>
                      <a:lnTo>
                        <a:pt x="164" y="1524"/>
                      </a:lnTo>
                      <a:lnTo>
                        <a:pt x="149" y="1506"/>
                      </a:lnTo>
                      <a:lnTo>
                        <a:pt x="134" y="1490"/>
                      </a:lnTo>
                      <a:lnTo>
                        <a:pt x="122" y="1473"/>
                      </a:lnTo>
                      <a:lnTo>
                        <a:pt x="109" y="1455"/>
                      </a:lnTo>
                      <a:lnTo>
                        <a:pt x="96" y="1437"/>
                      </a:lnTo>
                      <a:lnTo>
                        <a:pt x="85" y="1420"/>
                      </a:lnTo>
                      <a:lnTo>
                        <a:pt x="74" y="1401"/>
                      </a:lnTo>
                      <a:lnTo>
                        <a:pt x="64" y="1382"/>
                      </a:lnTo>
                      <a:lnTo>
                        <a:pt x="54" y="1363"/>
                      </a:lnTo>
                      <a:lnTo>
                        <a:pt x="45" y="1342"/>
                      </a:lnTo>
                      <a:lnTo>
                        <a:pt x="37" y="1323"/>
                      </a:lnTo>
                      <a:lnTo>
                        <a:pt x="30" y="1303"/>
                      </a:lnTo>
                      <a:lnTo>
                        <a:pt x="24" y="1283"/>
                      </a:lnTo>
                      <a:lnTo>
                        <a:pt x="19" y="1261"/>
                      </a:lnTo>
                      <a:lnTo>
                        <a:pt x="14" y="1241"/>
                      </a:lnTo>
                      <a:lnTo>
                        <a:pt x="9" y="1219"/>
                      </a:lnTo>
                      <a:lnTo>
                        <a:pt x="6" y="1197"/>
                      </a:lnTo>
                      <a:lnTo>
                        <a:pt x="3" y="1175"/>
                      </a:lnTo>
                      <a:lnTo>
                        <a:pt x="2" y="1154"/>
                      </a:lnTo>
                      <a:lnTo>
                        <a:pt x="1" y="1132"/>
                      </a:lnTo>
                      <a:lnTo>
                        <a:pt x="0" y="1110"/>
                      </a:lnTo>
                      <a:lnTo>
                        <a:pt x="1" y="1087"/>
                      </a:lnTo>
                      <a:lnTo>
                        <a:pt x="2" y="1065"/>
                      </a:lnTo>
                      <a:lnTo>
                        <a:pt x="3" y="1044"/>
                      </a:lnTo>
                      <a:lnTo>
                        <a:pt x="6" y="1022"/>
                      </a:lnTo>
                      <a:lnTo>
                        <a:pt x="9" y="999"/>
                      </a:lnTo>
                      <a:lnTo>
                        <a:pt x="13" y="977"/>
                      </a:lnTo>
                      <a:lnTo>
                        <a:pt x="17" y="956"/>
                      </a:lnTo>
                      <a:lnTo>
                        <a:pt x="23" y="933"/>
                      </a:lnTo>
                      <a:lnTo>
                        <a:pt x="29" y="911"/>
                      </a:lnTo>
                      <a:lnTo>
                        <a:pt x="36" y="889"/>
                      </a:lnTo>
                      <a:lnTo>
                        <a:pt x="43" y="866"/>
                      </a:lnTo>
                      <a:lnTo>
                        <a:pt x="50" y="844"/>
                      </a:lnTo>
                      <a:lnTo>
                        <a:pt x="59" y="823"/>
                      </a:lnTo>
                      <a:lnTo>
                        <a:pt x="68" y="801"/>
                      </a:lnTo>
                      <a:lnTo>
                        <a:pt x="88" y="757"/>
                      </a:lnTo>
                      <a:lnTo>
                        <a:pt x="110" y="714"/>
                      </a:lnTo>
                      <a:lnTo>
                        <a:pt x="134" y="671"/>
                      </a:lnTo>
                      <a:lnTo>
                        <a:pt x="162" y="629"/>
                      </a:lnTo>
                      <a:lnTo>
                        <a:pt x="191" y="587"/>
                      </a:lnTo>
                      <a:lnTo>
                        <a:pt x="222" y="546"/>
                      </a:lnTo>
                      <a:lnTo>
                        <a:pt x="256" y="506"/>
                      </a:lnTo>
                      <a:lnTo>
                        <a:pt x="292" y="467"/>
                      </a:lnTo>
                      <a:lnTo>
                        <a:pt x="330" y="429"/>
                      </a:lnTo>
                      <a:lnTo>
                        <a:pt x="369" y="392"/>
                      </a:lnTo>
                      <a:lnTo>
                        <a:pt x="411" y="356"/>
                      </a:lnTo>
                      <a:lnTo>
                        <a:pt x="454" y="321"/>
                      </a:lnTo>
                      <a:lnTo>
                        <a:pt x="499" y="288"/>
                      </a:lnTo>
                      <a:lnTo>
                        <a:pt x="547" y="255"/>
                      </a:lnTo>
                      <a:lnTo>
                        <a:pt x="595" y="226"/>
                      </a:lnTo>
                      <a:lnTo>
                        <a:pt x="645" y="196"/>
                      </a:lnTo>
                      <a:lnTo>
                        <a:pt x="697" y="169"/>
                      </a:lnTo>
                      <a:lnTo>
                        <a:pt x="750" y="143"/>
                      </a:lnTo>
                      <a:lnTo>
                        <a:pt x="806" y="120"/>
                      </a:lnTo>
                      <a:lnTo>
                        <a:pt x="862" y="98"/>
                      </a:lnTo>
                      <a:lnTo>
                        <a:pt x="919" y="78"/>
                      </a:lnTo>
                      <a:lnTo>
                        <a:pt x="979" y="6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Freeform 71"/>
                <p:cNvSpPr/>
                <p:nvPr/>
              </p:nvSpPr>
              <p:spPr>
                <a:xfrm>
                  <a:off x="5250600" y="3116520"/>
                  <a:ext cx="394560" cy="468000"/>
                </a:xfrm>
                <a:custGeom>
                  <a:avLst/>
                  <a:gdLst>
                    <a:gd name="textAreaLeft" fmla="*/ 0 w 394560"/>
                    <a:gd name="textAreaRight" fmla="*/ 394920 w 394560"/>
                    <a:gd name="textAreaTop" fmla="*/ 0 h 468000"/>
                    <a:gd name="textAreaBottom" fmla="*/ 468360 h 468000"/>
                  </a:gdLst>
                  <a:ahLst/>
                  <a:rect l="textAreaLeft" t="textAreaTop" r="textAreaRight" b="textAreaBottom"/>
                  <a:pathLst>
                    <a:path w="302" h="840">
                      <a:moveTo>
                        <a:pt x="195" y="0"/>
                      </a:moveTo>
                      <a:lnTo>
                        <a:pt x="302" y="525"/>
                      </a:lnTo>
                      <a:lnTo>
                        <a:pt x="213" y="652"/>
                      </a:lnTo>
                      <a:lnTo>
                        <a:pt x="116" y="840"/>
                      </a:lnTo>
                      <a:lnTo>
                        <a:pt x="46" y="751"/>
                      </a:lnTo>
                      <a:lnTo>
                        <a:pt x="8" y="642"/>
                      </a:lnTo>
                      <a:lnTo>
                        <a:pt x="0" y="483"/>
                      </a:lnTo>
                      <a:lnTo>
                        <a:pt x="34" y="272"/>
                      </a:lnTo>
                      <a:lnTo>
                        <a:pt x="188" y="6"/>
                      </a:lnTo>
                      <a:lnTo>
                        <a:pt x="195" y="0"/>
                      </a:lnTo>
                      <a:close/>
                    </a:path>
                  </a:pathLst>
                </a:custGeom>
                <a:solidFill>
                  <a:srgbClr val="ff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Freeform 72"/>
                <p:cNvSpPr/>
                <p:nvPr/>
              </p:nvSpPr>
              <p:spPr>
                <a:xfrm>
                  <a:off x="5504040" y="3068280"/>
                  <a:ext cx="263520" cy="341280"/>
                </a:xfrm>
                <a:custGeom>
                  <a:avLst/>
                  <a:gdLst>
                    <a:gd name="textAreaLeft" fmla="*/ 0 w 263520"/>
                    <a:gd name="textAreaRight" fmla="*/ 263880 w 263520"/>
                    <a:gd name="textAreaTop" fmla="*/ 0 h 341280"/>
                    <a:gd name="textAreaBottom" fmla="*/ 341640 h 341280"/>
                  </a:gdLst>
                  <a:ahLst/>
                  <a:rect l="textAreaLeft" t="textAreaTop" r="textAreaRight" b="textAreaBottom"/>
                  <a:pathLst>
                    <a:path w="202" h="613">
                      <a:moveTo>
                        <a:pt x="107" y="613"/>
                      </a:moveTo>
                      <a:lnTo>
                        <a:pt x="0" y="88"/>
                      </a:lnTo>
                      <a:lnTo>
                        <a:pt x="96" y="0"/>
                      </a:lnTo>
                      <a:lnTo>
                        <a:pt x="202" y="516"/>
                      </a:lnTo>
                      <a:lnTo>
                        <a:pt x="136" y="574"/>
                      </a:lnTo>
                      <a:lnTo>
                        <a:pt x="107" y="613"/>
                      </a:lnTo>
                      <a:close/>
                    </a:path>
                  </a:pathLst>
                </a:custGeom>
                <a:solidFill>
                  <a:srgbClr val="ff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Freeform 73"/>
                <p:cNvSpPr/>
                <p:nvPr/>
              </p:nvSpPr>
              <p:spPr>
                <a:xfrm>
                  <a:off x="5630040" y="3019680"/>
                  <a:ext cx="266040" cy="336240"/>
                </a:xfrm>
                <a:custGeom>
                  <a:avLst/>
                  <a:gdLst>
                    <a:gd name="textAreaLeft" fmla="*/ 0 w 266040"/>
                    <a:gd name="textAreaRight" fmla="*/ 266400 w 266040"/>
                    <a:gd name="textAreaTop" fmla="*/ 0 h 336240"/>
                    <a:gd name="textAreaBottom" fmla="*/ 336600 h 336240"/>
                  </a:gdLst>
                  <a:ahLst/>
                  <a:rect l="textAreaLeft" t="textAreaTop" r="textAreaRight" b="textAreaBottom"/>
                  <a:pathLst>
                    <a:path w="205" h="603">
                      <a:moveTo>
                        <a:pt x="106" y="603"/>
                      </a:moveTo>
                      <a:lnTo>
                        <a:pt x="0" y="87"/>
                      </a:lnTo>
                      <a:lnTo>
                        <a:pt x="90" y="4"/>
                      </a:lnTo>
                      <a:lnTo>
                        <a:pt x="96" y="0"/>
                      </a:lnTo>
                      <a:lnTo>
                        <a:pt x="205" y="525"/>
                      </a:lnTo>
                      <a:lnTo>
                        <a:pt x="162" y="554"/>
                      </a:lnTo>
                      <a:lnTo>
                        <a:pt x="106" y="603"/>
                      </a:lnTo>
                      <a:close/>
                    </a:path>
                  </a:pathLst>
                </a:custGeom>
                <a:solidFill>
                  <a:srgbClr val="ffd2a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Freeform 74"/>
                <p:cNvSpPr/>
                <p:nvPr/>
              </p:nvSpPr>
              <p:spPr>
                <a:xfrm>
                  <a:off x="5754960" y="2979720"/>
                  <a:ext cx="274320" cy="332280"/>
                </a:xfrm>
                <a:custGeom>
                  <a:avLst/>
                  <a:gdLst>
                    <a:gd name="textAreaLeft" fmla="*/ 0 w 274320"/>
                    <a:gd name="textAreaRight" fmla="*/ 274680 w 274320"/>
                    <a:gd name="textAreaTop" fmla="*/ 0 h 332280"/>
                    <a:gd name="textAreaBottom" fmla="*/ 332640 h 332280"/>
                  </a:gdLst>
                  <a:ahLst/>
                  <a:rect l="textAreaLeft" t="textAreaTop" r="textAreaRight" b="textAreaBottom"/>
                  <a:pathLst>
                    <a:path w="209" h="598">
                      <a:moveTo>
                        <a:pt x="109" y="598"/>
                      </a:moveTo>
                      <a:lnTo>
                        <a:pt x="0" y="73"/>
                      </a:lnTo>
                      <a:lnTo>
                        <a:pt x="99" y="0"/>
                      </a:lnTo>
                      <a:lnTo>
                        <a:pt x="209" y="531"/>
                      </a:lnTo>
                      <a:lnTo>
                        <a:pt x="109" y="598"/>
                      </a:lnTo>
                      <a:close/>
                    </a:path>
                  </a:pathLst>
                </a:custGeom>
                <a:solidFill>
                  <a:srgbClr val="ffdab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Freeform 75"/>
                <p:cNvSpPr/>
                <p:nvPr/>
              </p:nvSpPr>
              <p:spPr>
                <a:xfrm>
                  <a:off x="5886000" y="2943000"/>
                  <a:ext cx="274320" cy="332280"/>
                </a:xfrm>
                <a:custGeom>
                  <a:avLst/>
                  <a:gdLst>
                    <a:gd name="textAreaLeft" fmla="*/ 0 w 274320"/>
                    <a:gd name="textAreaRight" fmla="*/ 274680 w 274320"/>
                    <a:gd name="textAreaTop" fmla="*/ 0 h 332280"/>
                    <a:gd name="textAreaBottom" fmla="*/ 332640 h 332280"/>
                  </a:gdLst>
                  <a:ahLst/>
                  <a:rect l="textAreaLeft" t="textAreaTop" r="textAreaRight" b="textAreaBottom"/>
                  <a:pathLst>
                    <a:path w="211" h="596">
                      <a:moveTo>
                        <a:pt x="110" y="596"/>
                      </a:moveTo>
                      <a:lnTo>
                        <a:pt x="0" y="65"/>
                      </a:lnTo>
                      <a:lnTo>
                        <a:pt x="64" y="18"/>
                      </a:lnTo>
                      <a:lnTo>
                        <a:pt x="102" y="0"/>
                      </a:lnTo>
                      <a:lnTo>
                        <a:pt x="211" y="529"/>
                      </a:lnTo>
                      <a:lnTo>
                        <a:pt x="122" y="587"/>
                      </a:lnTo>
                      <a:lnTo>
                        <a:pt x="110" y="596"/>
                      </a:lnTo>
                      <a:close/>
                    </a:path>
                  </a:pathLst>
                </a:custGeom>
                <a:solidFill>
                  <a:srgbClr val="ffe1c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Freeform 76"/>
                <p:cNvSpPr/>
                <p:nvPr/>
              </p:nvSpPr>
              <p:spPr>
                <a:xfrm>
                  <a:off x="6019200" y="2916000"/>
                  <a:ext cx="271440" cy="321120"/>
                </a:xfrm>
                <a:custGeom>
                  <a:avLst/>
                  <a:gdLst>
                    <a:gd name="textAreaLeft" fmla="*/ 0 w 271440"/>
                    <a:gd name="textAreaRight" fmla="*/ 271800 w 271440"/>
                    <a:gd name="textAreaTop" fmla="*/ 0 h 321120"/>
                    <a:gd name="textAreaBottom" fmla="*/ 321480 h 321120"/>
                  </a:gdLst>
                  <a:ahLst/>
                  <a:rect l="textAreaLeft" t="textAreaTop" r="textAreaRight" b="textAreaBottom"/>
                  <a:pathLst>
                    <a:path w="210" h="578">
                      <a:moveTo>
                        <a:pt x="109" y="578"/>
                      </a:moveTo>
                      <a:lnTo>
                        <a:pt x="0" y="49"/>
                      </a:lnTo>
                      <a:lnTo>
                        <a:pt x="105" y="0"/>
                      </a:lnTo>
                      <a:lnTo>
                        <a:pt x="210" y="512"/>
                      </a:lnTo>
                      <a:lnTo>
                        <a:pt x="109" y="578"/>
                      </a:lnTo>
                      <a:close/>
                    </a:path>
                  </a:pathLst>
                </a:custGeom>
                <a:solidFill>
                  <a:srgbClr val="ffe8d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Freeform 77"/>
                <p:cNvSpPr/>
                <p:nvPr/>
              </p:nvSpPr>
              <p:spPr>
                <a:xfrm>
                  <a:off x="6154920" y="2887560"/>
                  <a:ext cx="276480" cy="312840"/>
                </a:xfrm>
                <a:custGeom>
                  <a:avLst/>
                  <a:gdLst>
                    <a:gd name="textAreaLeft" fmla="*/ 0 w 276480"/>
                    <a:gd name="textAreaRight" fmla="*/ 276840 w 276480"/>
                    <a:gd name="textAreaTop" fmla="*/ 0 h 312840"/>
                    <a:gd name="textAreaBottom" fmla="*/ 313200 h 312840"/>
                  </a:gdLst>
                  <a:ahLst/>
                  <a:rect l="textAreaLeft" t="textAreaTop" r="textAreaRight" b="textAreaBottom"/>
                  <a:pathLst>
                    <a:path w="211" h="561">
                      <a:moveTo>
                        <a:pt x="105" y="561"/>
                      </a:moveTo>
                      <a:lnTo>
                        <a:pt x="0" y="49"/>
                      </a:lnTo>
                      <a:lnTo>
                        <a:pt x="104" y="0"/>
                      </a:lnTo>
                      <a:lnTo>
                        <a:pt x="211" y="524"/>
                      </a:lnTo>
                      <a:lnTo>
                        <a:pt x="110" y="558"/>
                      </a:lnTo>
                      <a:lnTo>
                        <a:pt x="105" y="561"/>
                      </a:lnTo>
                      <a:close/>
                    </a:path>
                  </a:pathLst>
                </a:custGeom>
                <a:solidFill>
                  <a:srgbClr val="ffef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Freeform 78"/>
                <p:cNvSpPr/>
                <p:nvPr/>
              </p:nvSpPr>
              <p:spPr>
                <a:xfrm>
                  <a:off x="6290640" y="2869560"/>
                  <a:ext cx="282600" cy="310680"/>
                </a:xfrm>
                <a:custGeom>
                  <a:avLst/>
                  <a:gdLst>
                    <a:gd name="textAreaLeft" fmla="*/ 0 w 282600"/>
                    <a:gd name="textAreaRight" fmla="*/ 282960 w 282600"/>
                    <a:gd name="textAreaTop" fmla="*/ 0 h 310680"/>
                    <a:gd name="textAreaBottom" fmla="*/ 311040 h 310680"/>
                  </a:gdLst>
                  <a:ahLst/>
                  <a:rect l="textAreaLeft" t="textAreaTop" r="textAreaRight" b="textAreaBottom"/>
                  <a:pathLst>
                    <a:path w="216" h="558">
                      <a:moveTo>
                        <a:pt x="107" y="558"/>
                      </a:moveTo>
                      <a:lnTo>
                        <a:pt x="0" y="34"/>
                      </a:lnTo>
                      <a:lnTo>
                        <a:pt x="38" y="17"/>
                      </a:lnTo>
                      <a:lnTo>
                        <a:pt x="107" y="0"/>
                      </a:lnTo>
                      <a:lnTo>
                        <a:pt x="216" y="527"/>
                      </a:lnTo>
                      <a:lnTo>
                        <a:pt x="173" y="535"/>
                      </a:lnTo>
                      <a:lnTo>
                        <a:pt x="107" y="558"/>
                      </a:lnTo>
                      <a:close/>
                    </a:path>
                  </a:pathLst>
                </a:custGeom>
                <a:solidFill>
                  <a:srgbClr val="fff7e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Freeform 79"/>
                <p:cNvSpPr/>
                <p:nvPr/>
              </p:nvSpPr>
              <p:spPr>
                <a:xfrm>
                  <a:off x="6431760" y="2854080"/>
                  <a:ext cx="284760" cy="309240"/>
                </a:xfrm>
                <a:custGeom>
                  <a:avLst/>
                  <a:gdLst>
                    <a:gd name="textAreaLeft" fmla="*/ 0 w 284760"/>
                    <a:gd name="textAreaRight" fmla="*/ 285120 w 284760"/>
                    <a:gd name="textAreaTop" fmla="*/ 0 h 309240"/>
                    <a:gd name="textAreaBottom" fmla="*/ 309600 h 309240"/>
                  </a:gdLst>
                  <a:ahLst/>
                  <a:rect l="textAreaLeft" t="textAreaTop" r="textAreaRight" b="textAreaBottom"/>
                  <a:pathLst>
                    <a:path w="218" h="555">
                      <a:moveTo>
                        <a:pt x="109" y="555"/>
                      </a:moveTo>
                      <a:lnTo>
                        <a:pt x="0" y="28"/>
                      </a:lnTo>
                      <a:lnTo>
                        <a:pt x="109" y="0"/>
                      </a:lnTo>
                      <a:lnTo>
                        <a:pt x="218" y="530"/>
                      </a:lnTo>
                      <a:lnTo>
                        <a:pt x="215" y="532"/>
                      </a:lnTo>
                      <a:lnTo>
                        <a:pt x="109" y="555"/>
                      </a:lnTo>
                      <a:close/>
                    </a:path>
                  </a:pathLst>
                </a:custGeom>
                <a:solidFill>
                  <a:srgbClr val="fffdf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Freeform 80"/>
                <p:cNvSpPr/>
                <p:nvPr/>
              </p:nvSpPr>
              <p:spPr>
                <a:xfrm>
                  <a:off x="6573600" y="2842560"/>
                  <a:ext cx="287280" cy="306000"/>
                </a:xfrm>
                <a:custGeom>
                  <a:avLst/>
                  <a:gdLst>
                    <a:gd name="textAreaLeft" fmla="*/ 0 w 287280"/>
                    <a:gd name="textAreaRight" fmla="*/ 287640 w 287280"/>
                    <a:gd name="textAreaTop" fmla="*/ 0 h 306000"/>
                    <a:gd name="textAreaBottom" fmla="*/ 306360 h 306000"/>
                  </a:gdLst>
                  <a:ahLst/>
                  <a:rect l="textAreaLeft" t="textAreaTop" r="textAreaRight" b="textAreaBottom"/>
                  <a:pathLst>
                    <a:path w="220" h="549">
                      <a:moveTo>
                        <a:pt x="109" y="549"/>
                      </a:moveTo>
                      <a:lnTo>
                        <a:pt x="0" y="19"/>
                      </a:lnTo>
                      <a:lnTo>
                        <a:pt x="57" y="5"/>
                      </a:lnTo>
                      <a:lnTo>
                        <a:pt x="110" y="0"/>
                      </a:lnTo>
                      <a:lnTo>
                        <a:pt x="220" y="533"/>
                      </a:lnTo>
                      <a:lnTo>
                        <a:pt x="109" y="549"/>
                      </a:lnTo>
                      <a:close/>
                    </a:path>
                  </a:pathLst>
                </a:custGeom>
                <a:solidFill>
                  <a:srgbClr val="fffaf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Freeform 81"/>
                <p:cNvSpPr/>
                <p:nvPr/>
              </p:nvSpPr>
              <p:spPr>
                <a:xfrm>
                  <a:off x="6716880" y="2837520"/>
                  <a:ext cx="290160" cy="302400"/>
                </a:xfrm>
                <a:custGeom>
                  <a:avLst/>
                  <a:gdLst>
                    <a:gd name="textAreaLeft" fmla="*/ 0 w 290160"/>
                    <a:gd name="textAreaRight" fmla="*/ 290520 w 290160"/>
                    <a:gd name="textAreaTop" fmla="*/ 0 h 302400"/>
                    <a:gd name="textAreaBottom" fmla="*/ 302760 h 302400"/>
                  </a:gdLst>
                  <a:ahLst/>
                  <a:rect l="textAreaLeft" t="textAreaTop" r="textAreaRight" b="textAreaBottom"/>
                  <a:pathLst>
                    <a:path w="221" h="544">
                      <a:moveTo>
                        <a:pt x="110" y="544"/>
                      </a:moveTo>
                      <a:lnTo>
                        <a:pt x="0" y="11"/>
                      </a:lnTo>
                      <a:lnTo>
                        <a:pt x="113" y="0"/>
                      </a:lnTo>
                      <a:lnTo>
                        <a:pt x="221" y="525"/>
                      </a:lnTo>
                      <a:lnTo>
                        <a:pt x="115" y="543"/>
                      </a:lnTo>
                      <a:lnTo>
                        <a:pt x="110" y="544"/>
                      </a:lnTo>
                      <a:close/>
                    </a:path>
                  </a:pathLst>
                </a:custGeom>
                <a:solidFill>
                  <a:srgbClr val="fff3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Freeform 82"/>
                <p:cNvSpPr/>
                <p:nvPr/>
              </p:nvSpPr>
              <p:spPr>
                <a:xfrm>
                  <a:off x="6863400" y="2830680"/>
                  <a:ext cx="290160" cy="299160"/>
                </a:xfrm>
                <a:custGeom>
                  <a:avLst/>
                  <a:gdLst>
                    <a:gd name="textAreaLeft" fmla="*/ 0 w 290160"/>
                    <a:gd name="textAreaRight" fmla="*/ 290520 w 290160"/>
                    <a:gd name="textAreaTop" fmla="*/ 0 h 299160"/>
                    <a:gd name="textAreaBottom" fmla="*/ 299520 h 299160"/>
                  </a:gdLst>
                  <a:ahLst/>
                  <a:rect l="textAreaLeft" t="textAreaTop" r="textAreaRight" b="textAreaBottom"/>
                  <a:pathLst>
                    <a:path w="221" h="537">
                      <a:moveTo>
                        <a:pt x="108" y="537"/>
                      </a:moveTo>
                      <a:lnTo>
                        <a:pt x="0" y="12"/>
                      </a:lnTo>
                      <a:lnTo>
                        <a:pt x="112" y="0"/>
                      </a:lnTo>
                      <a:lnTo>
                        <a:pt x="221" y="530"/>
                      </a:lnTo>
                      <a:lnTo>
                        <a:pt x="128" y="533"/>
                      </a:lnTo>
                      <a:lnTo>
                        <a:pt x="108" y="537"/>
                      </a:lnTo>
                      <a:close/>
                    </a:path>
                  </a:pathLst>
                </a:custGeom>
                <a:solidFill>
                  <a:srgbClr val="ffed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Freeform 83"/>
                <p:cNvSpPr/>
                <p:nvPr/>
              </p:nvSpPr>
              <p:spPr>
                <a:xfrm>
                  <a:off x="7009560" y="2830680"/>
                  <a:ext cx="300240" cy="306000"/>
                </a:xfrm>
                <a:custGeom>
                  <a:avLst/>
                  <a:gdLst>
                    <a:gd name="textAreaLeft" fmla="*/ 0 w 300240"/>
                    <a:gd name="textAreaRight" fmla="*/ 300600 w 300240"/>
                    <a:gd name="textAreaTop" fmla="*/ 0 h 306000"/>
                    <a:gd name="textAreaBottom" fmla="*/ 306360 h 306000"/>
                  </a:gdLst>
                  <a:ahLst/>
                  <a:rect l="textAreaLeft" t="textAreaTop" r="textAreaRight" b="textAreaBottom"/>
                  <a:pathLst>
                    <a:path w="228" h="549">
                      <a:moveTo>
                        <a:pt x="109" y="530"/>
                      </a:moveTo>
                      <a:lnTo>
                        <a:pt x="0" y="0"/>
                      </a:lnTo>
                      <a:lnTo>
                        <a:pt x="5" y="0"/>
                      </a:lnTo>
                      <a:lnTo>
                        <a:pt x="117" y="12"/>
                      </a:lnTo>
                      <a:lnTo>
                        <a:pt x="228" y="549"/>
                      </a:lnTo>
                      <a:lnTo>
                        <a:pt x="148" y="529"/>
                      </a:lnTo>
                      <a:lnTo>
                        <a:pt x="109" y="530"/>
                      </a:lnTo>
                      <a:close/>
                    </a:path>
                  </a:pathLst>
                </a:custGeom>
                <a:solidFill>
                  <a:srgbClr val="ffe6c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Freeform 84"/>
                <p:cNvSpPr/>
                <p:nvPr/>
              </p:nvSpPr>
              <p:spPr>
                <a:xfrm>
                  <a:off x="7163640" y="2837520"/>
                  <a:ext cx="303120" cy="315720"/>
                </a:xfrm>
                <a:custGeom>
                  <a:avLst/>
                  <a:gdLst>
                    <a:gd name="textAreaLeft" fmla="*/ 0 w 303120"/>
                    <a:gd name="textAreaRight" fmla="*/ 303480 w 303120"/>
                    <a:gd name="textAreaTop" fmla="*/ 0 h 315720"/>
                    <a:gd name="textAreaBottom" fmla="*/ 316080 h 315720"/>
                  </a:gdLst>
                  <a:ahLst/>
                  <a:rect l="textAreaLeft" t="textAreaTop" r="textAreaRight" b="textAreaBottom"/>
                  <a:pathLst>
                    <a:path w="232" h="567">
                      <a:moveTo>
                        <a:pt x="111" y="537"/>
                      </a:moveTo>
                      <a:lnTo>
                        <a:pt x="0" y="0"/>
                      </a:lnTo>
                      <a:lnTo>
                        <a:pt x="110" y="14"/>
                      </a:lnTo>
                      <a:lnTo>
                        <a:pt x="118" y="16"/>
                      </a:lnTo>
                      <a:lnTo>
                        <a:pt x="232" y="567"/>
                      </a:lnTo>
                      <a:lnTo>
                        <a:pt x="111" y="537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Freeform 85"/>
                <p:cNvSpPr/>
                <p:nvPr/>
              </p:nvSpPr>
              <p:spPr>
                <a:xfrm>
                  <a:off x="7318080" y="2845800"/>
                  <a:ext cx="311040" cy="330840"/>
                </a:xfrm>
                <a:custGeom>
                  <a:avLst/>
                  <a:gdLst>
                    <a:gd name="textAreaLeft" fmla="*/ 0 w 311040"/>
                    <a:gd name="textAreaRight" fmla="*/ 311400 w 311040"/>
                    <a:gd name="textAreaTop" fmla="*/ 0 h 330840"/>
                    <a:gd name="textAreaBottom" fmla="*/ 331200 h 330840"/>
                  </a:gdLst>
                  <a:ahLst/>
                  <a:rect l="textAreaLeft" t="textAreaTop" r="textAreaRight" b="textAreaBottom"/>
                  <a:pathLst>
                    <a:path w="237" h="595">
                      <a:moveTo>
                        <a:pt x="114" y="551"/>
                      </a:moveTo>
                      <a:lnTo>
                        <a:pt x="0" y="0"/>
                      </a:lnTo>
                      <a:lnTo>
                        <a:pt x="124" y="44"/>
                      </a:lnTo>
                      <a:lnTo>
                        <a:pt x="237" y="595"/>
                      </a:lnTo>
                      <a:lnTo>
                        <a:pt x="145" y="559"/>
                      </a:lnTo>
                      <a:lnTo>
                        <a:pt x="114" y="551"/>
                      </a:lnTo>
                      <a:close/>
                    </a:path>
                  </a:pathLst>
                </a:custGeom>
                <a:solidFill>
                  <a:srgbClr val="ffdab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Freeform 86"/>
                <p:cNvSpPr/>
                <p:nvPr/>
              </p:nvSpPr>
              <p:spPr>
                <a:xfrm>
                  <a:off x="7480440" y="2871000"/>
                  <a:ext cx="311040" cy="332640"/>
                </a:xfrm>
                <a:custGeom>
                  <a:avLst/>
                  <a:gdLst>
                    <a:gd name="textAreaLeft" fmla="*/ 0 w 311040"/>
                    <a:gd name="textAreaRight" fmla="*/ 311400 w 311040"/>
                    <a:gd name="textAreaTop" fmla="*/ 0 h 332640"/>
                    <a:gd name="textAreaBottom" fmla="*/ 333000 h 332640"/>
                  </a:gdLst>
                  <a:ahLst/>
                  <a:rect l="textAreaLeft" t="textAreaTop" r="textAreaRight" b="textAreaBottom"/>
                  <a:pathLst>
                    <a:path w="237" h="598">
                      <a:moveTo>
                        <a:pt x="113" y="551"/>
                      </a:moveTo>
                      <a:lnTo>
                        <a:pt x="0" y="0"/>
                      </a:lnTo>
                      <a:lnTo>
                        <a:pt x="123" y="44"/>
                      </a:lnTo>
                      <a:lnTo>
                        <a:pt x="237" y="598"/>
                      </a:lnTo>
                      <a:lnTo>
                        <a:pt x="113" y="551"/>
                      </a:lnTo>
                      <a:close/>
                    </a:path>
                  </a:pathLst>
                </a:custGeom>
                <a:solidFill>
                  <a:srgbClr val="ff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Freeform 87"/>
                <p:cNvSpPr/>
                <p:nvPr/>
              </p:nvSpPr>
              <p:spPr>
                <a:xfrm>
                  <a:off x="7639920" y="2894400"/>
                  <a:ext cx="430560" cy="364320"/>
                </a:xfrm>
                <a:custGeom>
                  <a:avLst/>
                  <a:gdLst>
                    <a:gd name="textAreaLeft" fmla="*/ 0 w 430560"/>
                    <a:gd name="textAreaRight" fmla="*/ 430920 w 430560"/>
                    <a:gd name="textAreaTop" fmla="*/ 0 h 364320"/>
                    <a:gd name="textAreaBottom" fmla="*/ 364680 h 364320"/>
                  </a:gdLst>
                  <a:ahLst/>
                  <a:rect l="textAreaLeft" t="textAreaTop" r="textAreaRight" b="textAreaBottom"/>
                  <a:pathLst>
                    <a:path w="330" h="652">
                      <a:moveTo>
                        <a:pt x="114" y="554"/>
                      </a:moveTo>
                      <a:lnTo>
                        <a:pt x="0" y="0"/>
                      </a:lnTo>
                      <a:lnTo>
                        <a:pt x="8" y="3"/>
                      </a:lnTo>
                      <a:lnTo>
                        <a:pt x="201" y="161"/>
                      </a:lnTo>
                      <a:lnTo>
                        <a:pt x="310" y="338"/>
                      </a:lnTo>
                      <a:lnTo>
                        <a:pt x="316" y="378"/>
                      </a:lnTo>
                      <a:lnTo>
                        <a:pt x="322" y="416"/>
                      </a:lnTo>
                      <a:lnTo>
                        <a:pt x="326" y="454"/>
                      </a:lnTo>
                      <a:lnTo>
                        <a:pt x="330" y="492"/>
                      </a:lnTo>
                      <a:lnTo>
                        <a:pt x="330" y="511"/>
                      </a:lnTo>
                      <a:lnTo>
                        <a:pt x="330" y="530"/>
                      </a:lnTo>
                      <a:lnTo>
                        <a:pt x="329" y="549"/>
                      </a:lnTo>
                      <a:lnTo>
                        <a:pt x="327" y="569"/>
                      </a:lnTo>
                      <a:lnTo>
                        <a:pt x="325" y="589"/>
                      </a:lnTo>
                      <a:lnTo>
                        <a:pt x="322" y="610"/>
                      </a:lnTo>
                      <a:lnTo>
                        <a:pt x="317" y="630"/>
                      </a:lnTo>
                      <a:lnTo>
                        <a:pt x="311" y="652"/>
                      </a:lnTo>
                      <a:lnTo>
                        <a:pt x="289" y="641"/>
                      </a:lnTo>
                      <a:lnTo>
                        <a:pt x="267" y="630"/>
                      </a:lnTo>
                      <a:lnTo>
                        <a:pt x="246" y="619"/>
                      </a:lnTo>
                      <a:lnTo>
                        <a:pt x="224" y="608"/>
                      </a:lnTo>
                      <a:lnTo>
                        <a:pt x="202" y="597"/>
                      </a:lnTo>
                      <a:lnTo>
                        <a:pt x="181" y="585"/>
                      </a:lnTo>
                      <a:lnTo>
                        <a:pt x="159" y="574"/>
                      </a:lnTo>
                      <a:lnTo>
                        <a:pt x="137" y="564"/>
                      </a:lnTo>
                      <a:lnTo>
                        <a:pt x="114" y="554"/>
                      </a:lnTo>
                      <a:close/>
                    </a:path>
                  </a:pathLst>
                </a:custGeom>
                <a:solidFill>
                  <a:srgbClr val="ff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Freeform 88"/>
                <p:cNvSpPr/>
                <p:nvPr/>
              </p:nvSpPr>
              <p:spPr>
                <a:xfrm>
                  <a:off x="5250600" y="2830680"/>
                  <a:ext cx="2819880" cy="754200"/>
                </a:xfrm>
                <a:custGeom>
                  <a:avLst/>
                  <a:gdLst>
                    <a:gd name="textAreaLeft" fmla="*/ 0 w 2819880"/>
                    <a:gd name="textAreaRight" fmla="*/ 2820240 w 2819880"/>
                    <a:gd name="textAreaTop" fmla="*/ 0 h 754200"/>
                    <a:gd name="textAreaBottom" fmla="*/ 754560 h 754200"/>
                  </a:gdLst>
                  <a:ahLst/>
                  <a:rect l="textAreaLeft" t="textAreaTop" r="textAreaRight" b="textAreaBottom"/>
                  <a:pathLst>
                    <a:path w="2160" h="1355">
                      <a:moveTo>
                        <a:pt x="116" y="1355"/>
                      </a:moveTo>
                      <a:lnTo>
                        <a:pt x="46" y="1266"/>
                      </a:lnTo>
                      <a:lnTo>
                        <a:pt x="8" y="1157"/>
                      </a:lnTo>
                      <a:lnTo>
                        <a:pt x="0" y="998"/>
                      </a:lnTo>
                      <a:lnTo>
                        <a:pt x="34" y="787"/>
                      </a:lnTo>
                      <a:lnTo>
                        <a:pt x="188" y="521"/>
                      </a:lnTo>
                      <a:lnTo>
                        <a:pt x="381" y="344"/>
                      </a:lnTo>
                      <a:lnTo>
                        <a:pt x="550" y="220"/>
                      </a:lnTo>
                      <a:lnTo>
                        <a:pt x="835" y="87"/>
                      </a:lnTo>
                      <a:lnTo>
                        <a:pt x="1070" y="28"/>
                      </a:lnTo>
                      <a:lnTo>
                        <a:pt x="1353" y="0"/>
                      </a:lnTo>
                      <a:lnTo>
                        <a:pt x="1575" y="26"/>
                      </a:lnTo>
                      <a:lnTo>
                        <a:pt x="1838" y="119"/>
                      </a:lnTo>
                      <a:lnTo>
                        <a:pt x="2031" y="277"/>
                      </a:lnTo>
                      <a:lnTo>
                        <a:pt x="2140" y="454"/>
                      </a:lnTo>
                      <a:lnTo>
                        <a:pt x="2146" y="494"/>
                      </a:lnTo>
                      <a:lnTo>
                        <a:pt x="2152" y="532"/>
                      </a:lnTo>
                      <a:lnTo>
                        <a:pt x="2156" y="570"/>
                      </a:lnTo>
                      <a:lnTo>
                        <a:pt x="2160" y="608"/>
                      </a:lnTo>
                      <a:lnTo>
                        <a:pt x="2160" y="627"/>
                      </a:lnTo>
                      <a:lnTo>
                        <a:pt x="2160" y="646"/>
                      </a:lnTo>
                      <a:lnTo>
                        <a:pt x="2159" y="665"/>
                      </a:lnTo>
                      <a:lnTo>
                        <a:pt x="2157" y="685"/>
                      </a:lnTo>
                      <a:lnTo>
                        <a:pt x="2155" y="705"/>
                      </a:lnTo>
                      <a:lnTo>
                        <a:pt x="2152" y="726"/>
                      </a:lnTo>
                      <a:lnTo>
                        <a:pt x="2147" y="746"/>
                      </a:lnTo>
                      <a:lnTo>
                        <a:pt x="2141" y="768"/>
                      </a:lnTo>
                      <a:lnTo>
                        <a:pt x="2119" y="757"/>
                      </a:lnTo>
                      <a:lnTo>
                        <a:pt x="2097" y="746"/>
                      </a:lnTo>
                      <a:lnTo>
                        <a:pt x="2076" y="735"/>
                      </a:lnTo>
                      <a:lnTo>
                        <a:pt x="2054" y="724"/>
                      </a:lnTo>
                      <a:lnTo>
                        <a:pt x="2032" y="713"/>
                      </a:lnTo>
                      <a:lnTo>
                        <a:pt x="2011" y="701"/>
                      </a:lnTo>
                      <a:lnTo>
                        <a:pt x="1989" y="690"/>
                      </a:lnTo>
                      <a:lnTo>
                        <a:pt x="1967" y="680"/>
                      </a:lnTo>
                      <a:lnTo>
                        <a:pt x="1728" y="587"/>
                      </a:lnTo>
                      <a:lnTo>
                        <a:pt x="1496" y="529"/>
                      </a:lnTo>
                      <a:lnTo>
                        <a:pt x="1364" y="533"/>
                      </a:lnTo>
                      <a:lnTo>
                        <a:pt x="1238" y="555"/>
                      </a:lnTo>
                      <a:lnTo>
                        <a:pt x="1119" y="574"/>
                      </a:lnTo>
                      <a:lnTo>
                        <a:pt x="970" y="605"/>
                      </a:lnTo>
                      <a:lnTo>
                        <a:pt x="803" y="662"/>
                      </a:lnTo>
                      <a:lnTo>
                        <a:pt x="608" y="789"/>
                      </a:lnTo>
                      <a:lnTo>
                        <a:pt x="453" y="894"/>
                      </a:lnTo>
                      <a:lnTo>
                        <a:pt x="331" y="1001"/>
                      </a:lnTo>
                      <a:lnTo>
                        <a:pt x="213" y="1167"/>
                      </a:lnTo>
                      <a:lnTo>
                        <a:pt x="116" y="1355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Freeform 89"/>
                <p:cNvSpPr/>
                <p:nvPr/>
              </p:nvSpPr>
              <p:spPr>
                <a:xfrm>
                  <a:off x="5433840" y="3131640"/>
                  <a:ext cx="2610720" cy="627120"/>
                </a:xfrm>
                <a:custGeom>
                  <a:avLst/>
                  <a:gdLst>
                    <a:gd name="textAreaLeft" fmla="*/ 0 w 2610720"/>
                    <a:gd name="textAreaRight" fmla="*/ 2611080 w 2610720"/>
                    <a:gd name="textAreaTop" fmla="*/ 0 h 627120"/>
                    <a:gd name="textAreaBottom" fmla="*/ 627480 h 627120"/>
                  </a:gdLst>
                  <a:ahLst/>
                  <a:rect l="textAreaLeft" t="textAreaTop" r="textAreaRight" b="textAreaBottom"/>
                  <a:pathLst>
                    <a:path w="1999" h="1124">
                      <a:moveTo>
                        <a:pt x="799" y="77"/>
                      </a:moveTo>
                      <a:lnTo>
                        <a:pt x="906" y="56"/>
                      </a:lnTo>
                      <a:lnTo>
                        <a:pt x="1002" y="37"/>
                      </a:lnTo>
                      <a:lnTo>
                        <a:pt x="1086" y="22"/>
                      </a:lnTo>
                      <a:lnTo>
                        <a:pt x="1163" y="11"/>
                      </a:lnTo>
                      <a:lnTo>
                        <a:pt x="1199" y="7"/>
                      </a:lnTo>
                      <a:lnTo>
                        <a:pt x="1232" y="4"/>
                      </a:lnTo>
                      <a:lnTo>
                        <a:pt x="1265" y="2"/>
                      </a:lnTo>
                      <a:lnTo>
                        <a:pt x="1296" y="0"/>
                      </a:lnTo>
                      <a:lnTo>
                        <a:pt x="1327" y="0"/>
                      </a:lnTo>
                      <a:lnTo>
                        <a:pt x="1357" y="2"/>
                      </a:lnTo>
                      <a:lnTo>
                        <a:pt x="1386" y="4"/>
                      </a:lnTo>
                      <a:lnTo>
                        <a:pt x="1415" y="7"/>
                      </a:lnTo>
                      <a:lnTo>
                        <a:pt x="1444" y="11"/>
                      </a:lnTo>
                      <a:lnTo>
                        <a:pt x="1473" y="16"/>
                      </a:lnTo>
                      <a:lnTo>
                        <a:pt x="1502" y="23"/>
                      </a:lnTo>
                      <a:lnTo>
                        <a:pt x="1532" y="31"/>
                      </a:lnTo>
                      <a:lnTo>
                        <a:pt x="1562" y="39"/>
                      </a:lnTo>
                      <a:lnTo>
                        <a:pt x="1594" y="50"/>
                      </a:lnTo>
                      <a:lnTo>
                        <a:pt x="1626" y="61"/>
                      </a:lnTo>
                      <a:lnTo>
                        <a:pt x="1660" y="73"/>
                      </a:lnTo>
                      <a:lnTo>
                        <a:pt x="1731" y="102"/>
                      </a:lnTo>
                      <a:lnTo>
                        <a:pt x="1810" y="134"/>
                      </a:lnTo>
                      <a:lnTo>
                        <a:pt x="1899" y="172"/>
                      </a:lnTo>
                      <a:lnTo>
                        <a:pt x="1999" y="216"/>
                      </a:lnTo>
                      <a:lnTo>
                        <a:pt x="1992" y="246"/>
                      </a:lnTo>
                      <a:lnTo>
                        <a:pt x="1985" y="277"/>
                      </a:lnTo>
                      <a:lnTo>
                        <a:pt x="1977" y="307"/>
                      </a:lnTo>
                      <a:lnTo>
                        <a:pt x="1968" y="337"/>
                      </a:lnTo>
                      <a:lnTo>
                        <a:pt x="1957" y="366"/>
                      </a:lnTo>
                      <a:lnTo>
                        <a:pt x="1946" y="396"/>
                      </a:lnTo>
                      <a:lnTo>
                        <a:pt x="1934" y="426"/>
                      </a:lnTo>
                      <a:lnTo>
                        <a:pt x="1920" y="456"/>
                      </a:lnTo>
                      <a:lnTo>
                        <a:pt x="1905" y="486"/>
                      </a:lnTo>
                      <a:lnTo>
                        <a:pt x="1889" y="516"/>
                      </a:lnTo>
                      <a:lnTo>
                        <a:pt x="1871" y="546"/>
                      </a:lnTo>
                      <a:lnTo>
                        <a:pt x="1853" y="574"/>
                      </a:lnTo>
                      <a:lnTo>
                        <a:pt x="1833" y="603"/>
                      </a:lnTo>
                      <a:lnTo>
                        <a:pt x="1811" y="632"/>
                      </a:lnTo>
                      <a:lnTo>
                        <a:pt x="1788" y="660"/>
                      </a:lnTo>
                      <a:lnTo>
                        <a:pt x="1764" y="688"/>
                      </a:lnTo>
                      <a:lnTo>
                        <a:pt x="1738" y="715"/>
                      </a:lnTo>
                      <a:lnTo>
                        <a:pt x="1711" y="742"/>
                      </a:lnTo>
                      <a:lnTo>
                        <a:pt x="1680" y="769"/>
                      </a:lnTo>
                      <a:lnTo>
                        <a:pt x="1650" y="795"/>
                      </a:lnTo>
                      <a:lnTo>
                        <a:pt x="1617" y="821"/>
                      </a:lnTo>
                      <a:lnTo>
                        <a:pt x="1583" y="847"/>
                      </a:lnTo>
                      <a:lnTo>
                        <a:pt x="1546" y="871"/>
                      </a:lnTo>
                      <a:lnTo>
                        <a:pt x="1508" y="894"/>
                      </a:lnTo>
                      <a:lnTo>
                        <a:pt x="1469" y="917"/>
                      </a:lnTo>
                      <a:lnTo>
                        <a:pt x="1427" y="940"/>
                      </a:lnTo>
                      <a:lnTo>
                        <a:pt x="1383" y="962"/>
                      </a:lnTo>
                      <a:lnTo>
                        <a:pt x="1337" y="983"/>
                      </a:lnTo>
                      <a:lnTo>
                        <a:pt x="1289" y="1003"/>
                      </a:lnTo>
                      <a:lnTo>
                        <a:pt x="1238" y="1023"/>
                      </a:lnTo>
                      <a:lnTo>
                        <a:pt x="1186" y="1041"/>
                      </a:lnTo>
                      <a:lnTo>
                        <a:pt x="1132" y="1058"/>
                      </a:lnTo>
                      <a:lnTo>
                        <a:pt x="1081" y="1075"/>
                      </a:lnTo>
                      <a:lnTo>
                        <a:pt x="1030" y="1088"/>
                      </a:lnTo>
                      <a:lnTo>
                        <a:pt x="979" y="1099"/>
                      </a:lnTo>
                      <a:lnTo>
                        <a:pt x="930" y="1107"/>
                      </a:lnTo>
                      <a:lnTo>
                        <a:pt x="881" y="1114"/>
                      </a:lnTo>
                      <a:lnTo>
                        <a:pt x="833" y="1120"/>
                      </a:lnTo>
                      <a:lnTo>
                        <a:pt x="786" y="1122"/>
                      </a:lnTo>
                      <a:lnTo>
                        <a:pt x="740" y="1124"/>
                      </a:lnTo>
                      <a:lnTo>
                        <a:pt x="695" y="1124"/>
                      </a:lnTo>
                      <a:lnTo>
                        <a:pt x="650" y="1121"/>
                      </a:lnTo>
                      <a:lnTo>
                        <a:pt x="607" y="1117"/>
                      </a:lnTo>
                      <a:lnTo>
                        <a:pt x="565" y="1111"/>
                      </a:lnTo>
                      <a:lnTo>
                        <a:pt x="524" y="1105"/>
                      </a:lnTo>
                      <a:lnTo>
                        <a:pt x="483" y="1096"/>
                      </a:lnTo>
                      <a:lnTo>
                        <a:pt x="445" y="1087"/>
                      </a:lnTo>
                      <a:lnTo>
                        <a:pt x="407" y="1077"/>
                      </a:lnTo>
                      <a:lnTo>
                        <a:pt x="371" y="1065"/>
                      </a:lnTo>
                      <a:lnTo>
                        <a:pt x="336" y="1053"/>
                      </a:lnTo>
                      <a:lnTo>
                        <a:pt x="301" y="1041"/>
                      </a:lnTo>
                      <a:lnTo>
                        <a:pt x="269" y="1026"/>
                      </a:lnTo>
                      <a:lnTo>
                        <a:pt x="238" y="1011"/>
                      </a:lnTo>
                      <a:lnTo>
                        <a:pt x="209" y="996"/>
                      </a:lnTo>
                      <a:lnTo>
                        <a:pt x="181" y="981"/>
                      </a:lnTo>
                      <a:lnTo>
                        <a:pt x="154" y="965"/>
                      </a:lnTo>
                      <a:lnTo>
                        <a:pt x="129" y="947"/>
                      </a:lnTo>
                      <a:lnTo>
                        <a:pt x="106" y="931"/>
                      </a:lnTo>
                      <a:lnTo>
                        <a:pt x="84" y="913"/>
                      </a:lnTo>
                      <a:lnTo>
                        <a:pt x="64" y="897"/>
                      </a:lnTo>
                      <a:lnTo>
                        <a:pt x="45" y="879"/>
                      </a:lnTo>
                      <a:lnTo>
                        <a:pt x="28" y="862"/>
                      </a:lnTo>
                      <a:lnTo>
                        <a:pt x="14" y="845"/>
                      </a:lnTo>
                      <a:lnTo>
                        <a:pt x="0" y="828"/>
                      </a:lnTo>
                      <a:lnTo>
                        <a:pt x="4" y="816"/>
                      </a:lnTo>
                      <a:lnTo>
                        <a:pt x="8" y="801"/>
                      </a:lnTo>
                      <a:lnTo>
                        <a:pt x="13" y="784"/>
                      </a:lnTo>
                      <a:lnTo>
                        <a:pt x="20" y="767"/>
                      </a:lnTo>
                      <a:lnTo>
                        <a:pt x="28" y="748"/>
                      </a:lnTo>
                      <a:lnTo>
                        <a:pt x="36" y="727"/>
                      </a:lnTo>
                      <a:lnTo>
                        <a:pt x="46" y="706"/>
                      </a:lnTo>
                      <a:lnTo>
                        <a:pt x="59" y="683"/>
                      </a:lnTo>
                      <a:lnTo>
                        <a:pt x="72" y="660"/>
                      </a:lnTo>
                      <a:lnTo>
                        <a:pt x="86" y="635"/>
                      </a:lnTo>
                      <a:lnTo>
                        <a:pt x="102" y="609"/>
                      </a:lnTo>
                      <a:lnTo>
                        <a:pt x="119" y="584"/>
                      </a:lnTo>
                      <a:lnTo>
                        <a:pt x="138" y="556"/>
                      </a:lnTo>
                      <a:lnTo>
                        <a:pt x="158" y="529"/>
                      </a:lnTo>
                      <a:lnTo>
                        <a:pt x="180" y="502"/>
                      </a:lnTo>
                      <a:lnTo>
                        <a:pt x="203" y="475"/>
                      </a:lnTo>
                      <a:lnTo>
                        <a:pt x="227" y="447"/>
                      </a:lnTo>
                      <a:lnTo>
                        <a:pt x="254" y="419"/>
                      </a:lnTo>
                      <a:lnTo>
                        <a:pt x="282" y="391"/>
                      </a:lnTo>
                      <a:lnTo>
                        <a:pt x="311" y="362"/>
                      </a:lnTo>
                      <a:lnTo>
                        <a:pt x="342" y="335"/>
                      </a:lnTo>
                      <a:lnTo>
                        <a:pt x="374" y="308"/>
                      </a:lnTo>
                      <a:lnTo>
                        <a:pt x="409" y="281"/>
                      </a:lnTo>
                      <a:lnTo>
                        <a:pt x="445" y="255"/>
                      </a:lnTo>
                      <a:lnTo>
                        <a:pt x="483" y="229"/>
                      </a:lnTo>
                      <a:lnTo>
                        <a:pt x="522" y="205"/>
                      </a:lnTo>
                      <a:lnTo>
                        <a:pt x="564" y="181"/>
                      </a:lnTo>
                      <a:lnTo>
                        <a:pt x="607" y="158"/>
                      </a:lnTo>
                      <a:lnTo>
                        <a:pt x="652" y="136"/>
                      </a:lnTo>
                      <a:lnTo>
                        <a:pt x="700" y="115"/>
                      </a:lnTo>
                      <a:lnTo>
                        <a:pt x="748" y="96"/>
                      </a:lnTo>
                      <a:lnTo>
                        <a:pt x="799" y="77"/>
                      </a:lnTo>
                      <a:close/>
                    </a:path>
                  </a:pathLst>
                </a:cu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Freeform 90"/>
                <p:cNvSpPr/>
                <p:nvPr/>
              </p:nvSpPr>
              <p:spPr>
                <a:xfrm>
                  <a:off x="5433840" y="3131640"/>
                  <a:ext cx="2610720" cy="627120"/>
                </a:xfrm>
                <a:custGeom>
                  <a:avLst/>
                  <a:gdLst>
                    <a:gd name="textAreaLeft" fmla="*/ 0 w 2610720"/>
                    <a:gd name="textAreaRight" fmla="*/ 2611080 w 2610720"/>
                    <a:gd name="textAreaTop" fmla="*/ 0 h 627120"/>
                    <a:gd name="textAreaBottom" fmla="*/ 627480 h 627120"/>
                  </a:gdLst>
                  <a:ahLst/>
                  <a:rect l="textAreaLeft" t="textAreaTop" r="textAreaRight" b="textAreaBottom"/>
                  <a:pathLst>
                    <a:path w="1999" h="1124">
                      <a:moveTo>
                        <a:pt x="799" y="77"/>
                      </a:moveTo>
                      <a:lnTo>
                        <a:pt x="906" y="56"/>
                      </a:lnTo>
                      <a:lnTo>
                        <a:pt x="1002" y="37"/>
                      </a:lnTo>
                      <a:lnTo>
                        <a:pt x="1086" y="22"/>
                      </a:lnTo>
                      <a:lnTo>
                        <a:pt x="1163" y="11"/>
                      </a:lnTo>
                      <a:lnTo>
                        <a:pt x="1199" y="7"/>
                      </a:lnTo>
                      <a:lnTo>
                        <a:pt x="1232" y="4"/>
                      </a:lnTo>
                      <a:lnTo>
                        <a:pt x="1265" y="2"/>
                      </a:lnTo>
                      <a:lnTo>
                        <a:pt x="1296" y="0"/>
                      </a:lnTo>
                      <a:lnTo>
                        <a:pt x="1327" y="0"/>
                      </a:lnTo>
                      <a:lnTo>
                        <a:pt x="1357" y="2"/>
                      </a:lnTo>
                      <a:lnTo>
                        <a:pt x="1386" y="4"/>
                      </a:lnTo>
                      <a:lnTo>
                        <a:pt x="1415" y="7"/>
                      </a:lnTo>
                      <a:lnTo>
                        <a:pt x="1444" y="11"/>
                      </a:lnTo>
                      <a:lnTo>
                        <a:pt x="1473" y="16"/>
                      </a:lnTo>
                      <a:lnTo>
                        <a:pt x="1502" y="23"/>
                      </a:lnTo>
                      <a:lnTo>
                        <a:pt x="1532" y="31"/>
                      </a:lnTo>
                      <a:lnTo>
                        <a:pt x="1562" y="39"/>
                      </a:lnTo>
                      <a:lnTo>
                        <a:pt x="1594" y="50"/>
                      </a:lnTo>
                      <a:lnTo>
                        <a:pt x="1626" y="61"/>
                      </a:lnTo>
                      <a:lnTo>
                        <a:pt x="1660" y="73"/>
                      </a:lnTo>
                      <a:lnTo>
                        <a:pt x="1731" y="102"/>
                      </a:lnTo>
                      <a:lnTo>
                        <a:pt x="1810" y="134"/>
                      </a:lnTo>
                      <a:lnTo>
                        <a:pt x="1899" y="172"/>
                      </a:lnTo>
                      <a:lnTo>
                        <a:pt x="1999" y="216"/>
                      </a:lnTo>
                      <a:lnTo>
                        <a:pt x="1992" y="246"/>
                      </a:lnTo>
                      <a:lnTo>
                        <a:pt x="1985" y="277"/>
                      </a:lnTo>
                      <a:lnTo>
                        <a:pt x="1977" y="307"/>
                      </a:lnTo>
                      <a:lnTo>
                        <a:pt x="1968" y="337"/>
                      </a:lnTo>
                      <a:lnTo>
                        <a:pt x="1957" y="366"/>
                      </a:lnTo>
                      <a:lnTo>
                        <a:pt x="1946" y="396"/>
                      </a:lnTo>
                      <a:lnTo>
                        <a:pt x="1934" y="426"/>
                      </a:lnTo>
                      <a:lnTo>
                        <a:pt x="1920" y="456"/>
                      </a:lnTo>
                      <a:lnTo>
                        <a:pt x="1905" y="486"/>
                      </a:lnTo>
                      <a:lnTo>
                        <a:pt x="1889" y="516"/>
                      </a:lnTo>
                      <a:lnTo>
                        <a:pt x="1871" y="546"/>
                      </a:lnTo>
                      <a:lnTo>
                        <a:pt x="1853" y="574"/>
                      </a:lnTo>
                      <a:lnTo>
                        <a:pt x="1833" y="603"/>
                      </a:lnTo>
                      <a:lnTo>
                        <a:pt x="1811" y="632"/>
                      </a:lnTo>
                      <a:lnTo>
                        <a:pt x="1788" y="660"/>
                      </a:lnTo>
                      <a:lnTo>
                        <a:pt x="1764" y="688"/>
                      </a:lnTo>
                      <a:lnTo>
                        <a:pt x="1738" y="715"/>
                      </a:lnTo>
                      <a:lnTo>
                        <a:pt x="1711" y="742"/>
                      </a:lnTo>
                      <a:lnTo>
                        <a:pt x="1680" y="769"/>
                      </a:lnTo>
                      <a:lnTo>
                        <a:pt x="1650" y="795"/>
                      </a:lnTo>
                      <a:lnTo>
                        <a:pt x="1617" y="821"/>
                      </a:lnTo>
                      <a:lnTo>
                        <a:pt x="1583" y="847"/>
                      </a:lnTo>
                      <a:lnTo>
                        <a:pt x="1546" y="871"/>
                      </a:lnTo>
                      <a:lnTo>
                        <a:pt x="1508" y="894"/>
                      </a:lnTo>
                      <a:lnTo>
                        <a:pt x="1469" y="917"/>
                      </a:lnTo>
                      <a:lnTo>
                        <a:pt x="1427" y="940"/>
                      </a:lnTo>
                      <a:lnTo>
                        <a:pt x="1383" y="962"/>
                      </a:lnTo>
                      <a:lnTo>
                        <a:pt x="1337" y="983"/>
                      </a:lnTo>
                      <a:lnTo>
                        <a:pt x="1289" y="1003"/>
                      </a:lnTo>
                      <a:lnTo>
                        <a:pt x="1238" y="1023"/>
                      </a:lnTo>
                      <a:lnTo>
                        <a:pt x="1186" y="1041"/>
                      </a:lnTo>
                      <a:lnTo>
                        <a:pt x="1132" y="1058"/>
                      </a:lnTo>
                      <a:lnTo>
                        <a:pt x="1081" y="1075"/>
                      </a:lnTo>
                      <a:lnTo>
                        <a:pt x="1030" y="1088"/>
                      </a:lnTo>
                      <a:lnTo>
                        <a:pt x="979" y="1099"/>
                      </a:lnTo>
                      <a:lnTo>
                        <a:pt x="930" y="1107"/>
                      </a:lnTo>
                      <a:lnTo>
                        <a:pt x="881" y="1114"/>
                      </a:lnTo>
                      <a:lnTo>
                        <a:pt x="833" y="1120"/>
                      </a:lnTo>
                      <a:lnTo>
                        <a:pt x="786" y="1122"/>
                      </a:lnTo>
                      <a:lnTo>
                        <a:pt x="740" y="1124"/>
                      </a:lnTo>
                      <a:lnTo>
                        <a:pt x="695" y="1124"/>
                      </a:lnTo>
                      <a:lnTo>
                        <a:pt x="650" y="1121"/>
                      </a:lnTo>
                      <a:lnTo>
                        <a:pt x="607" y="1117"/>
                      </a:lnTo>
                      <a:lnTo>
                        <a:pt x="565" y="1111"/>
                      </a:lnTo>
                      <a:lnTo>
                        <a:pt x="524" y="1105"/>
                      </a:lnTo>
                      <a:lnTo>
                        <a:pt x="483" y="1096"/>
                      </a:lnTo>
                      <a:lnTo>
                        <a:pt x="445" y="1087"/>
                      </a:lnTo>
                      <a:lnTo>
                        <a:pt x="407" y="1077"/>
                      </a:lnTo>
                      <a:lnTo>
                        <a:pt x="371" y="1065"/>
                      </a:lnTo>
                      <a:lnTo>
                        <a:pt x="336" y="1053"/>
                      </a:lnTo>
                      <a:lnTo>
                        <a:pt x="301" y="1041"/>
                      </a:lnTo>
                      <a:lnTo>
                        <a:pt x="269" y="1026"/>
                      </a:lnTo>
                      <a:lnTo>
                        <a:pt x="238" y="1011"/>
                      </a:lnTo>
                      <a:lnTo>
                        <a:pt x="209" y="996"/>
                      </a:lnTo>
                      <a:lnTo>
                        <a:pt x="181" y="981"/>
                      </a:lnTo>
                      <a:lnTo>
                        <a:pt x="154" y="965"/>
                      </a:lnTo>
                      <a:lnTo>
                        <a:pt x="129" y="947"/>
                      </a:lnTo>
                      <a:lnTo>
                        <a:pt x="106" y="931"/>
                      </a:lnTo>
                      <a:lnTo>
                        <a:pt x="84" y="913"/>
                      </a:lnTo>
                      <a:lnTo>
                        <a:pt x="64" y="897"/>
                      </a:lnTo>
                      <a:lnTo>
                        <a:pt x="45" y="879"/>
                      </a:lnTo>
                      <a:lnTo>
                        <a:pt x="28" y="862"/>
                      </a:lnTo>
                      <a:lnTo>
                        <a:pt x="14" y="845"/>
                      </a:lnTo>
                      <a:lnTo>
                        <a:pt x="0" y="828"/>
                      </a:lnTo>
                      <a:lnTo>
                        <a:pt x="4" y="816"/>
                      </a:lnTo>
                      <a:lnTo>
                        <a:pt x="8" y="801"/>
                      </a:lnTo>
                      <a:lnTo>
                        <a:pt x="13" y="784"/>
                      </a:lnTo>
                      <a:lnTo>
                        <a:pt x="20" y="767"/>
                      </a:lnTo>
                      <a:lnTo>
                        <a:pt x="28" y="748"/>
                      </a:lnTo>
                      <a:lnTo>
                        <a:pt x="36" y="727"/>
                      </a:lnTo>
                      <a:lnTo>
                        <a:pt x="46" y="706"/>
                      </a:lnTo>
                      <a:lnTo>
                        <a:pt x="59" y="683"/>
                      </a:lnTo>
                      <a:lnTo>
                        <a:pt x="72" y="660"/>
                      </a:lnTo>
                      <a:lnTo>
                        <a:pt x="86" y="635"/>
                      </a:lnTo>
                      <a:lnTo>
                        <a:pt x="102" y="609"/>
                      </a:lnTo>
                      <a:lnTo>
                        <a:pt x="119" y="584"/>
                      </a:lnTo>
                      <a:lnTo>
                        <a:pt x="138" y="556"/>
                      </a:lnTo>
                      <a:lnTo>
                        <a:pt x="158" y="529"/>
                      </a:lnTo>
                      <a:lnTo>
                        <a:pt x="180" y="502"/>
                      </a:lnTo>
                      <a:lnTo>
                        <a:pt x="203" y="475"/>
                      </a:lnTo>
                      <a:lnTo>
                        <a:pt x="227" y="447"/>
                      </a:lnTo>
                      <a:lnTo>
                        <a:pt x="254" y="419"/>
                      </a:lnTo>
                      <a:lnTo>
                        <a:pt x="282" y="391"/>
                      </a:lnTo>
                      <a:lnTo>
                        <a:pt x="311" y="362"/>
                      </a:lnTo>
                      <a:lnTo>
                        <a:pt x="342" y="335"/>
                      </a:lnTo>
                      <a:lnTo>
                        <a:pt x="374" y="308"/>
                      </a:lnTo>
                      <a:lnTo>
                        <a:pt x="409" y="281"/>
                      </a:lnTo>
                      <a:lnTo>
                        <a:pt x="445" y="255"/>
                      </a:lnTo>
                      <a:lnTo>
                        <a:pt x="483" y="229"/>
                      </a:lnTo>
                      <a:lnTo>
                        <a:pt x="522" y="205"/>
                      </a:lnTo>
                      <a:lnTo>
                        <a:pt x="564" y="181"/>
                      </a:lnTo>
                      <a:lnTo>
                        <a:pt x="607" y="158"/>
                      </a:lnTo>
                      <a:lnTo>
                        <a:pt x="652" y="136"/>
                      </a:lnTo>
                      <a:lnTo>
                        <a:pt x="700" y="115"/>
                      </a:lnTo>
                      <a:lnTo>
                        <a:pt x="748" y="96"/>
                      </a:lnTo>
                      <a:lnTo>
                        <a:pt x="799" y="77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Freeform 91"/>
                <p:cNvSpPr/>
                <p:nvPr/>
              </p:nvSpPr>
              <p:spPr>
                <a:xfrm>
                  <a:off x="6228360" y="3153600"/>
                  <a:ext cx="511920" cy="91800"/>
                </a:xfrm>
                <a:custGeom>
                  <a:avLst/>
                  <a:gdLst>
                    <a:gd name="textAreaLeft" fmla="*/ 0 w 511920"/>
                    <a:gd name="textAreaRight" fmla="*/ 512280 w 511920"/>
                    <a:gd name="textAreaTop" fmla="*/ 0 h 91800"/>
                    <a:gd name="textAreaBottom" fmla="*/ 92160 h 91800"/>
                  </a:gdLst>
                  <a:ahLst/>
                  <a:rect l="textAreaLeft" t="textAreaTop" r="textAreaRight" b="textAreaBottom"/>
                  <a:pathLst>
                    <a:path w="393" h="165">
                      <a:moveTo>
                        <a:pt x="90" y="87"/>
                      </a:moveTo>
                      <a:lnTo>
                        <a:pt x="93" y="86"/>
                      </a:lnTo>
                      <a:lnTo>
                        <a:pt x="95" y="86"/>
                      </a:lnTo>
                      <a:lnTo>
                        <a:pt x="97" y="85"/>
                      </a:lnTo>
                      <a:lnTo>
                        <a:pt x="99" y="85"/>
                      </a:lnTo>
                      <a:lnTo>
                        <a:pt x="101" y="83"/>
                      </a:lnTo>
                      <a:lnTo>
                        <a:pt x="103" y="83"/>
                      </a:lnTo>
                      <a:lnTo>
                        <a:pt x="104" y="82"/>
                      </a:lnTo>
                      <a:lnTo>
                        <a:pt x="107" y="82"/>
                      </a:lnTo>
                      <a:lnTo>
                        <a:pt x="150" y="102"/>
                      </a:lnTo>
                      <a:lnTo>
                        <a:pt x="205" y="48"/>
                      </a:lnTo>
                      <a:lnTo>
                        <a:pt x="207" y="48"/>
                      </a:lnTo>
                      <a:lnTo>
                        <a:pt x="210" y="47"/>
                      </a:lnTo>
                      <a:lnTo>
                        <a:pt x="212" y="47"/>
                      </a:lnTo>
                      <a:lnTo>
                        <a:pt x="214" y="45"/>
                      </a:lnTo>
                      <a:lnTo>
                        <a:pt x="216" y="45"/>
                      </a:lnTo>
                      <a:lnTo>
                        <a:pt x="218" y="44"/>
                      </a:lnTo>
                      <a:lnTo>
                        <a:pt x="220" y="44"/>
                      </a:lnTo>
                      <a:lnTo>
                        <a:pt x="222" y="43"/>
                      </a:lnTo>
                      <a:lnTo>
                        <a:pt x="307" y="83"/>
                      </a:lnTo>
                      <a:lnTo>
                        <a:pt x="372" y="21"/>
                      </a:lnTo>
                      <a:lnTo>
                        <a:pt x="350" y="10"/>
                      </a:lnTo>
                      <a:lnTo>
                        <a:pt x="356" y="9"/>
                      </a:lnTo>
                      <a:lnTo>
                        <a:pt x="360" y="7"/>
                      </a:lnTo>
                      <a:lnTo>
                        <a:pt x="366" y="6"/>
                      </a:lnTo>
                      <a:lnTo>
                        <a:pt x="371" y="6"/>
                      </a:lnTo>
                      <a:lnTo>
                        <a:pt x="376" y="5"/>
                      </a:lnTo>
                      <a:lnTo>
                        <a:pt x="382" y="3"/>
                      </a:lnTo>
                      <a:lnTo>
                        <a:pt x="387" y="2"/>
                      </a:lnTo>
                      <a:lnTo>
                        <a:pt x="393" y="0"/>
                      </a:lnTo>
                      <a:lnTo>
                        <a:pt x="372" y="21"/>
                      </a:lnTo>
                      <a:lnTo>
                        <a:pt x="350" y="10"/>
                      </a:lnTo>
                      <a:lnTo>
                        <a:pt x="335" y="14"/>
                      </a:lnTo>
                      <a:lnTo>
                        <a:pt x="319" y="17"/>
                      </a:lnTo>
                      <a:lnTo>
                        <a:pt x="304" y="21"/>
                      </a:lnTo>
                      <a:lnTo>
                        <a:pt x="287" y="25"/>
                      </a:lnTo>
                      <a:lnTo>
                        <a:pt x="271" y="29"/>
                      </a:lnTo>
                      <a:lnTo>
                        <a:pt x="255" y="33"/>
                      </a:lnTo>
                      <a:lnTo>
                        <a:pt x="239" y="38"/>
                      </a:lnTo>
                      <a:lnTo>
                        <a:pt x="222" y="43"/>
                      </a:lnTo>
                      <a:lnTo>
                        <a:pt x="307" y="83"/>
                      </a:lnTo>
                      <a:lnTo>
                        <a:pt x="241" y="147"/>
                      </a:lnTo>
                      <a:lnTo>
                        <a:pt x="150" y="102"/>
                      </a:lnTo>
                      <a:lnTo>
                        <a:pt x="205" y="48"/>
                      </a:lnTo>
                      <a:lnTo>
                        <a:pt x="192" y="52"/>
                      </a:lnTo>
                      <a:lnTo>
                        <a:pt x="181" y="56"/>
                      </a:lnTo>
                      <a:lnTo>
                        <a:pt x="168" y="60"/>
                      </a:lnTo>
                      <a:lnTo>
                        <a:pt x="156" y="64"/>
                      </a:lnTo>
                      <a:lnTo>
                        <a:pt x="144" y="68"/>
                      </a:lnTo>
                      <a:lnTo>
                        <a:pt x="131" y="72"/>
                      </a:lnTo>
                      <a:lnTo>
                        <a:pt x="119" y="76"/>
                      </a:lnTo>
                      <a:lnTo>
                        <a:pt x="107" y="82"/>
                      </a:lnTo>
                      <a:lnTo>
                        <a:pt x="150" y="102"/>
                      </a:lnTo>
                      <a:lnTo>
                        <a:pt x="83" y="165"/>
                      </a:lnTo>
                      <a:lnTo>
                        <a:pt x="0" y="124"/>
                      </a:lnTo>
                      <a:lnTo>
                        <a:pt x="12" y="120"/>
                      </a:lnTo>
                      <a:lnTo>
                        <a:pt x="22" y="114"/>
                      </a:lnTo>
                      <a:lnTo>
                        <a:pt x="34" y="110"/>
                      </a:lnTo>
                      <a:lnTo>
                        <a:pt x="44" y="105"/>
                      </a:lnTo>
                      <a:lnTo>
                        <a:pt x="56" y="101"/>
                      </a:lnTo>
                      <a:lnTo>
                        <a:pt x="67" y="95"/>
                      </a:lnTo>
                      <a:lnTo>
                        <a:pt x="79" y="91"/>
                      </a:lnTo>
                      <a:lnTo>
                        <a:pt x="90" y="87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Freeform 92"/>
                <p:cNvSpPr/>
                <p:nvPr/>
              </p:nvSpPr>
              <p:spPr>
                <a:xfrm>
                  <a:off x="7245000" y="3140280"/>
                  <a:ext cx="222120" cy="54720"/>
                </a:xfrm>
                <a:custGeom>
                  <a:avLst/>
                  <a:gdLst>
                    <a:gd name="textAreaLeft" fmla="*/ 0 w 222120"/>
                    <a:gd name="textAreaRight" fmla="*/ 222480 w 222120"/>
                    <a:gd name="textAreaTop" fmla="*/ 0 h 54720"/>
                    <a:gd name="textAreaBottom" fmla="*/ 55080 h 54720"/>
                  </a:gdLst>
                  <a:ahLst/>
                  <a:rect l="textAreaLeft" t="textAreaTop" r="textAreaRight" b="textAreaBottom"/>
                  <a:pathLst>
                    <a:path w="171" h="97">
                      <a:moveTo>
                        <a:pt x="129" y="10"/>
                      </a:moveTo>
                      <a:lnTo>
                        <a:pt x="135" y="11"/>
                      </a:lnTo>
                      <a:lnTo>
                        <a:pt x="139" y="13"/>
                      </a:lnTo>
                      <a:lnTo>
                        <a:pt x="144" y="14"/>
                      </a:lnTo>
                      <a:lnTo>
                        <a:pt x="150" y="15"/>
                      </a:lnTo>
                      <a:lnTo>
                        <a:pt x="154" y="18"/>
                      </a:lnTo>
                      <a:lnTo>
                        <a:pt x="160" y="19"/>
                      </a:lnTo>
                      <a:lnTo>
                        <a:pt x="165" y="21"/>
                      </a:lnTo>
                      <a:lnTo>
                        <a:pt x="171" y="22"/>
                      </a:lnTo>
                      <a:lnTo>
                        <a:pt x="158" y="34"/>
                      </a:lnTo>
                      <a:lnTo>
                        <a:pt x="101" y="6"/>
                      </a:lnTo>
                      <a:lnTo>
                        <a:pt x="95" y="6"/>
                      </a:lnTo>
                      <a:lnTo>
                        <a:pt x="89" y="5"/>
                      </a:lnTo>
                      <a:lnTo>
                        <a:pt x="84" y="5"/>
                      </a:lnTo>
                      <a:lnTo>
                        <a:pt x="78" y="3"/>
                      </a:lnTo>
                      <a:lnTo>
                        <a:pt x="72" y="2"/>
                      </a:lnTo>
                      <a:lnTo>
                        <a:pt x="66" y="2"/>
                      </a:lnTo>
                      <a:lnTo>
                        <a:pt x="61" y="0"/>
                      </a:lnTo>
                      <a:lnTo>
                        <a:pt x="55" y="0"/>
                      </a:lnTo>
                      <a:lnTo>
                        <a:pt x="0" y="52"/>
                      </a:lnTo>
                      <a:lnTo>
                        <a:pt x="93" y="97"/>
                      </a:lnTo>
                      <a:lnTo>
                        <a:pt x="158" y="34"/>
                      </a:lnTo>
                      <a:lnTo>
                        <a:pt x="101" y="6"/>
                      </a:lnTo>
                      <a:lnTo>
                        <a:pt x="105" y="7"/>
                      </a:lnTo>
                      <a:lnTo>
                        <a:pt x="108" y="7"/>
                      </a:lnTo>
                      <a:lnTo>
                        <a:pt x="111" y="7"/>
                      </a:lnTo>
                      <a:lnTo>
                        <a:pt x="115" y="9"/>
                      </a:lnTo>
                      <a:lnTo>
                        <a:pt x="118" y="9"/>
                      </a:lnTo>
                      <a:lnTo>
                        <a:pt x="122" y="10"/>
                      </a:lnTo>
                      <a:lnTo>
                        <a:pt x="125" y="10"/>
                      </a:lnTo>
                      <a:lnTo>
                        <a:pt x="129" y="1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Freeform 93"/>
                <p:cNvSpPr/>
                <p:nvPr/>
              </p:nvSpPr>
              <p:spPr>
                <a:xfrm>
                  <a:off x="7448760" y="3153600"/>
                  <a:ext cx="151560" cy="31680"/>
                </a:xfrm>
                <a:custGeom>
                  <a:avLst/>
                  <a:gdLst>
                    <a:gd name="textAreaLeft" fmla="*/ 0 w 151560"/>
                    <a:gd name="textAreaRight" fmla="*/ 151920 w 151560"/>
                    <a:gd name="textAreaTop" fmla="*/ 0 h 31680"/>
                    <a:gd name="textAreaBottom" fmla="*/ 32040 h 31680"/>
                  </a:gdLst>
                  <a:ahLst/>
                  <a:rect l="textAreaLeft" t="textAreaTop" r="textAreaRight" b="textAreaBottom"/>
                  <a:pathLst>
                    <a:path w="114" h="57">
                      <a:moveTo>
                        <a:pt x="13" y="0"/>
                      </a:moveTo>
                      <a:lnTo>
                        <a:pt x="25" y="4"/>
                      </a:lnTo>
                      <a:lnTo>
                        <a:pt x="37" y="8"/>
                      </a:lnTo>
                      <a:lnTo>
                        <a:pt x="50" y="12"/>
                      </a:lnTo>
                      <a:lnTo>
                        <a:pt x="62" y="16"/>
                      </a:lnTo>
                      <a:lnTo>
                        <a:pt x="75" y="20"/>
                      </a:lnTo>
                      <a:lnTo>
                        <a:pt x="88" y="25"/>
                      </a:lnTo>
                      <a:lnTo>
                        <a:pt x="102" y="30"/>
                      </a:lnTo>
                      <a:lnTo>
                        <a:pt x="114" y="35"/>
                      </a:lnTo>
                      <a:lnTo>
                        <a:pt x="92" y="57"/>
                      </a:lnTo>
                      <a:lnTo>
                        <a:pt x="0" y="12"/>
                      </a:lnTo>
                      <a:lnTo>
                        <a:pt x="13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Freeform 94"/>
                <p:cNvSpPr/>
                <p:nvPr/>
              </p:nvSpPr>
              <p:spPr>
                <a:xfrm>
                  <a:off x="7571520" y="3171960"/>
                  <a:ext cx="156960" cy="38160"/>
                </a:xfrm>
                <a:custGeom>
                  <a:avLst/>
                  <a:gdLst>
                    <a:gd name="textAreaLeft" fmla="*/ 0 w 156960"/>
                    <a:gd name="textAreaRight" fmla="*/ 157320 w 156960"/>
                    <a:gd name="textAreaTop" fmla="*/ 0 h 38160"/>
                    <a:gd name="textAreaBottom" fmla="*/ 38520 h 38160"/>
                  </a:gdLst>
                  <a:ahLst/>
                  <a:rect l="textAreaLeft" t="textAreaTop" r="textAreaRight" b="textAreaBottom"/>
                  <a:pathLst>
                    <a:path w="121" h="67">
                      <a:moveTo>
                        <a:pt x="22" y="0"/>
                      </a:moveTo>
                      <a:lnTo>
                        <a:pt x="34" y="4"/>
                      </a:lnTo>
                      <a:lnTo>
                        <a:pt x="46" y="9"/>
                      </a:lnTo>
                      <a:lnTo>
                        <a:pt x="58" y="14"/>
                      </a:lnTo>
                      <a:lnTo>
                        <a:pt x="70" y="18"/>
                      </a:lnTo>
                      <a:lnTo>
                        <a:pt x="83" y="23"/>
                      </a:lnTo>
                      <a:lnTo>
                        <a:pt x="95" y="29"/>
                      </a:lnTo>
                      <a:lnTo>
                        <a:pt x="108" y="34"/>
                      </a:lnTo>
                      <a:lnTo>
                        <a:pt x="121" y="40"/>
                      </a:lnTo>
                      <a:lnTo>
                        <a:pt x="92" y="67"/>
                      </a:lnTo>
                      <a:lnTo>
                        <a:pt x="0" y="22"/>
                      </a:lnTo>
                      <a:lnTo>
                        <a:pt x="22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Freeform 95"/>
                <p:cNvSpPr/>
                <p:nvPr/>
              </p:nvSpPr>
              <p:spPr>
                <a:xfrm>
                  <a:off x="7689600" y="3195000"/>
                  <a:ext cx="164160" cy="39960"/>
                </a:xfrm>
                <a:custGeom>
                  <a:avLst/>
                  <a:gdLst>
                    <a:gd name="textAreaLeft" fmla="*/ 0 w 164160"/>
                    <a:gd name="textAreaRight" fmla="*/ 164520 w 164160"/>
                    <a:gd name="textAreaTop" fmla="*/ 0 h 39960"/>
                    <a:gd name="textAreaBottom" fmla="*/ 40320 h 39960"/>
                  </a:gdLst>
                  <a:ahLst/>
                  <a:rect l="textAreaLeft" t="textAreaTop" r="textAreaRight" b="textAreaBottom"/>
                  <a:pathLst>
                    <a:path w="125" h="72">
                      <a:moveTo>
                        <a:pt x="29" y="0"/>
                      </a:moveTo>
                      <a:lnTo>
                        <a:pt x="40" y="4"/>
                      </a:lnTo>
                      <a:lnTo>
                        <a:pt x="52" y="9"/>
                      </a:lnTo>
                      <a:lnTo>
                        <a:pt x="64" y="13"/>
                      </a:lnTo>
                      <a:lnTo>
                        <a:pt x="75" y="19"/>
                      </a:lnTo>
                      <a:lnTo>
                        <a:pt x="88" y="24"/>
                      </a:lnTo>
                      <a:lnTo>
                        <a:pt x="99" y="30"/>
                      </a:lnTo>
                      <a:lnTo>
                        <a:pt x="112" y="35"/>
                      </a:lnTo>
                      <a:lnTo>
                        <a:pt x="125" y="40"/>
                      </a:lnTo>
                      <a:lnTo>
                        <a:pt x="93" y="72"/>
                      </a:lnTo>
                      <a:lnTo>
                        <a:pt x="0" y="27"/>
                      </a:lnTo>
                      <a:lnTo>
                        <a:pt x="29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Freeform 96"/>
                <p:cNvSpPr/>
                <p:nvPr/>
              </p:nvSpPr>
              <p:spPr>
                <a:xfrm>
                  <a:off x="7812360" y="3216960"/>
                  <a:ext cx="154080" cy="41400"/>
                </a:xfrm>
                <a:custGeom>
                  <a:avLst/>
                  <a:gdLst>
                    <a:gd name="textAreaLeft" fmla="*/ 0 w 154080"/>
                    <a:gd name="textAreaRight" fmla="*/ 154440 w 154080"/>
                    <a:gd name="textAreaTop" fmla="*/ 0 h 41400"/>
                    <a:gd name="textAreaBottom" fmla="*/ 41760 h 41400"/>
                  </a:gdLst>
                  <a:ahLst/>
                  <a:rect l="textAreaLeft" t="textAreaTop" r="textAreaRight" b="textAreaBottom"/>
                  <a:pathLst>
                    <a:path w="119" h="76">
                      <a:moveTo>
                        <a:pt x="32" y="0"/>
                      </a:moveTo>
                      <a:lnTo>
                        <a:pt x="33" y="0"/>
                      </a:lnTo>
                      <a:lnTo>
                        <a:pt x="34" y="0"/>
                      </a:lnTo>
                      <a:lnTo>
                        <a:pt x="35" y="2"/>
                      </a:lnTo>
                      <a:lnTo>
                        <a:pt x="37" y="2"/>
                      </a:lnTo>
                      <a:lnTo>
                        <a:pt x="48" y="7"/>
                      </a:lnTo>
                      <a:lnTo>
                        <a:pt x="59" y="13"/>
                      </a:lnTo>
                      <a:lnTo>
                        <a:pt x="70" y="18"/>
                      </a:lnTo>
                      <a:lnTo>
                        <a:pt x="81" y="22"/>
                      </a:lnTo>
                      <a:lnTo>
                        <a:pt x="90" y="29"/>
                      </a:lnTo>
                      <a:lnTo>
                        <a:pt x="100" y="34"/>
                      </a:lnTo>
                      <a:lnTo>
                        <a:pt x="110" y="40"/>
                      </a:lnTo>
                      <a:lnTo>
                        <a:pt x="119" y="45"/>
                      </a:lnTo>
                      <a:lnTo>
                        <a:pt x="91" y="76"/>
                      </a:lnTo>
                      <a:lnTo>
                        <a:pt x="0" y="32"/>
                      </a:lnTo>
                      <a:lnTo>
                        <a:pt x="32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Freeform 97"/>
                <p:cNvSpPr/>
                <p:nvPr/>
              </p:nvSpPr>
              <p:spPr>
                <a:xfrm>
                  <a:off x="7845840" y="3258720"/>
                  <a:ext cx="177480" cy="61560"/>
                </a:xfrm>
                <a:custGeom>
                  <a:avLst/>
                  <a:gdLst>
                    <a:gd name="textAreaLeft" fmla="*/ 0 w 177480"/>
                    <a:gd name="textAreaRight" fmla="*/ 177840 w 177480"/>
                    <a:gd name="textAreaTop" fmla="*/ 0 h 61560"/>
                    <a:gd name="textAreaBottom" fmla="*/ 61920 h 61560"/>
                  </a:gdLst>
                  <a:ahLst/>
                  <a:rect l="textAreaLeft" t="textAreaTop" r="textAreaRight" b="textAreaBottom"/>
                  <a:pathLst>
                    <a:path w="137" h="109">
                      <a:moveTo>
                        <a:pt x="137" y="55"/>
                      </a:moveTo>
                      <a:lnTo>
                        <a:pt x="137" y="57"/>
                      </a:lnTo>
                      <a:lnTo>
                        <a:pt x="136" y="59"/>
                      </a:lnTo>
                      <a:lnTo>
                        <a:pt x="136" y="60"/>
                      </a:lnTo>
                      <a:lnTo>
                        <a:pt x="134" y="63"/>
                      </a:lnTo>
                      <a:lnTo>
                        <a:pt x="134" y="64"/>
                      </a:lnTo>
                      <a:lnTo>
                        <a:pt x="133" y="67"/>
                      </a:lnTo>
                      <a:lnTo>
                        <a:pt x="133" y="68"/>
                      </a:lnTo>
                      <a:lnTo>
                        <a:pt x="133" y="71"/>
                      </a:lnTo>
                      <a:lnTo>
                        <a:pt x="93" y="109"/>
                      </a:lnTo>
                      <a:lnTo>
                        <a:pt x="0" y="64"/>
                      </a:lnTo>
                      <a:lnTo>
                        <a:pt x="66" y="0"/>
                      </a:lnTo>
                      <a:lnTo>
                        <a:pt x="118" y="26"/>
                      </a:lnTo>
                      <a:lnTo>
                        <a:pt x="120" y="30"/>
                      </a:lnTo>
                      <a:lnTo>
                        <a:pt x="123" y="33"/>
                      </a:lnTo>
                      <a:lnTo>
                        <a:pt x="125" y="37"/>
                      </a:lnTo>
                      <a:lnTo>
                        <a:pt x="127" y="41"/>
                      </a:lnTo>
                      <a:lnTo>
                        <a:pt x="130" y="44"/>
                      </a:lnTo>
                      <a:lnTo>
                        <a:pt x="132" y="48"/>
                      </a:lnTo>
                      <a:lnTo>
                        <a:pt x="134" y="51"/>
                      </a:lnTo>
                      <a:lnTo>
                        <a:pt x="137" y="55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Freeform 98"/>
                <p:cNvSpPr/>
                <p:nvPr/>
              </p:nvSpPr>
              <p:spPr>
                <a:xfrm>
                  <a:off x="7966440" y="3299040"/>
                  <a:ext cx="51840" cy="28440"/>
                </a:xfrm>
                <a:custGeom>
                  <a:avLst/>
                  <a:gdLst>
                    <a:gd name="textAreaLeft" fmla="*/ 0 w 51840"/>
                    <a:gd name="textAreaRight" fmla="*/ 52200 w 51840"/>
                    <a:gd name="textAreaTop" fmla="*/ 0 h 28440"/>
                    <a:gd name="textAreaBottom" fmla="*/ 28800 h 28440"/>
                  </a:gdLst>
                  <a:ahLst/>
                  <a:rect l="textAreaLeft" t="textAreaTop" r="textAreaRight" b="textAreaBottom"/>
                  <a:pathLst>
                    <a:path w="40" h="50">
                      <a:moveTo>
                        <a:pt x="40" y="0"/>
                      </a:moveTo>
                      <a:lnTo>
                        <a:pt x="38" y="5"/>
                      </a:lnTo>
                      <a:lnTo>
                        <a:pt x="36" y="12"/>
                      </a:lnTo>
                      <a:lnTo>
                        <a:pt x="34" y="19"/>
                      </a:lnTo>
                      <a:lnTo>
                        <a:pt x="32" y="24"/>
                      </a:lnTo>
                      <a:lnTo>
                        <a:pt x="30" y="31"/>
                      </a:lnTo>
                      <a:lnTo>
                        <a:pt x="29" y="38"/>
                      </a:lnTo>
                      <a:lnTo>
                        <a:pt x="26" y="43"/>
                      </a:lnTo>
                      <a:lnTo>
                        <a:pt x="24" y="50"/>
                      </a:lnTo>
                      <a:lnTo>
                        <a:pt x="0" y="38"/>
                      </a:lnTo>
                      <a:lnTo>
                        <a:pt x="40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Freeform 99"/>
                <p:cNvSpPr/>
                <p:nvPr/>
              </p:nvSpPr>
              <p:spPr>
                <a:xfrm>
                  <a:off x="7879680" y="3320640"/>
                  <a:ext cx="117720" cy="50040"/>
                </a:xfrm>
                <a:custGeom>
                  <a:avLst/>
                  <a:gdLst>
                    <a:gd name="textAreaLeft" fmla="*/ 0 w 117720"/>
                    <a:gd name="textAreaRight" fmla="*/ 118080 w 117720"/>
                    <a:gd name="textAreaTop" fmla="*/ 0 h 50040"/>
                    <a:gd name="textAreaBottom" fmla="*/ 50400 h 50040"/>
                  </a:gdLst>
                  <a:ahLst/>
                  <a:rect l="textAreaLeft" t="textAreaTop" r="textAreaRight" b="textAreaBottom"/>
                  <a:pathLst>
                    <a:path w="90" h="92">
                      <a:moveTo>
                        <a:pt x="90" y="12"/>
                      </a:moveTo>
                      <a:lnTo>
                        <a:pt x="87" y="22"/>
                      </a:lnTo>
                      <a:lnTo>
                        <a:pt x="83" y="33"/>
                      </a:lnTo>
                      <a:lnTo>
                        <a:pt x="80" y="42"/>
                      </a:lnTo>
                      <a:lnTo>
                        <a:pt x="75" y="53"/>
                      </a:lnTo>
                      <a:lnTo>
                        <a:pt x="71" y="62"/>
                      </a:lnTo>
                      <a:lnTo>
                        <a:pt x="68" y="72"/>
                      </a:lnTo>
                      <a:lnTo>
                        <a:pt x="63" y="83"/>
                      </a:lnTo>
                      <a:lnTo>
                        <a:pt x="59" y="92"/>
                      </a:lnTo>
                      <a:lnTo>
                        <a:pt x="0" y="64"/>
                      </a:lnTo>
                      <a:lnTo>
                        <a:pt x="66" y="0"/>
                      </a:lnTo>
                      <a:lnTo>
                        <a:pt x="90" y="12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Freeform 100"/>
                <p:cNvSpPr/>
                <p:nvPr/>
              </p:nvSpPr>
              <p:spPr>
                <a:xfrm>
                  <a:off x="7794000" y="3355920"/>
                  <a:ext cx="161640" cy="58320"/>
                </a:xfrm>
                <a:custGeom>
                  <a:avLst/>
                  <a:gdLst>
                    <a:gd name="textAreaLeft" fmla="*/ 0 w 161640"/>
                    <a:gd name="textAreaRight" fmla="*/ 162000 w 161640"/>
                    <a:gd name="textAreaTop" fmla="*/ 0 h 58320"/>
                    <a:gd name="textAreaBottom" fmla="*/ 58680 h 58320"/>
                  </a:gdLst>
                  <a:ahLst/>
                  <a:rect l="textAreaLeft" t="textAreaTop" r="textAreaRight" b="textAreaBottom"/>
                  <a:pathLst>
                    <a:path w="124" h="106">
                      <a:moveTo>
                        <a:pt x="124" y="28"/>
                      </a:moveTo>
                      <a:lnTo>
                        <a:pt x="119" y="38"/>
                      </a:lnTo>
                      <a:lnTo>
                        <a:pt x="116" y="47"/>
                      </a:lnTo>
                      <a:lnTo>
                        <a:pt x="111" y="57"/>
                      </a:lnTo>
                      <a:lnTo>
                        <a:pt x="106" y="66"/>
                      </a:lnTo>
                      <a:lnTo>
                        <a:pt x="101" y="76"/>
                      </a:lnTo>
                      <a:lnTo>
                        <a:pt x="96" y="85"/>
                      </a:lnTo>
                      <a:lnTo>
                        <a:pt x="91" y="95"/>
                      </a:lnTo>
                      <a:lnTo>
                        <a:pt x="86" y="106"/>
                      </a:lnTo>
                      <a:lnTo>
                        <a:pt x="0" y="62"/>
                      </a:lnTo>
                      <a:lnTo>
                        <a:pt x="65" y="0"/>
                      </a:lnTo>
                      <a:lnTo>
                        <a:pt x="124" y="28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Freeform 101"/>
                <p:cNvSpPr/>
                <p:nvPr/>
              </p:nvSpPr>
              <p:spPr>
                <a:xfrm>
                  <a:off x="7707240" y="3390840"/>
                  <a:ext cx="199080" cy="60120"/>
                </a:xfrm>
                <a:custGeom>
                  <a:avLst/>
                  <a:gdLst>
                    <a:gd name="textAreaLeft" fmla="*/ 0 w 199080"/>
                    <a:gd name="textAreaRight" fmla="*/ 199440 w 199080"/>
                    <a:gd name="textAreaTop" fmla="*/ 0 h 60120"/>
                    <a:gd name="textAreaBottom" fmla="*/ 60480 h 60120"/>
                  </a:gdLst>
                  <a:ahLst/>
                  <a:rect l="textAreaLeft" t="textAreaTop" r="textAreaRight" b="textAreaBottom"/>
                  <a:pathLst>
                    <a:path w="152" h="109">
                      <a:moveTo>
                        <a:pt x="152" y="44"/>
                      </a:moveTo>
                      <a:lnTo>
                        <a:pt x="150" y="45"/>
                      </a:lnTo>
                      <a:lnTo>
                        <a:pt x="149" y="48"/>
                      </a:lnTo>
                      <a:lnTo>
                        <a:pt x="148" y="50"/>
                      </a:lnTo>
                      <a:lnTo>
                        <a:pt x="147" y="52"/>
                      </a:lnTo>
                      <a:lnTo>
                        <a:pt x="146" y="54"/>
                      </a:lnTo>
                      <a:lnTo>
                        <a:pt x="145" y="56"/>
                      </a:lnTo>
                      <a:lnTo>
                        <a:pt x="143" y="59"/>
                      </a:lnTo>
                      <a:lnTo>
                        <a:pt x="142" y="61"/>
                      </a:lnTo>
                      <a:lnTo>
                        <a:pt x="92" y="109"/>
                      </a:lnTo>
                      <a:lnTo>
                        <a:pt x="0" y="64"/>
                      </a:lnTo>
                      <a:lnTo>
                        <a:pt x="66" y="0"/>
                      </a:lnTo>
                      <a:lnTo>
                        <a:pt x="152" y="44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Freeform 102"/>
                <p:cNvSpPr/>
                <p:nvPr/>
              </p:nvSpPr>
              <p:spPr>
                <a:xfrm>
                  <a:off x="7830720" y="3424680"/>
                  <a:ext cx="65160" cy="3132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50" h="56">
                      <a:moveTo>
                        <a:pt x="50" y="0"/>
                      </a:moveTo>
                      <a:lnTo>
                        <a:pt x="46" y="7"/>
                      </a:lnTo>
                      <a:lnTo>
                        <a:pt x="41" y="14"/>
                      </a:lnTo>
                      <a:lnTo>
                        <a:pt x="37" y="21"/>
                      </a:lnTo>
                      <a:lnTo>
                        <a:pt x="33" y="27"/>
                      </a:lnTo>
                      <a:lnTo>
                        <a:pt x="28" y="34"/>
                      </a:lnTo>
                      <a:lnTo>
                        <a:pt x="24" y="41"/>
                      </a:lnTo>
                      <a:lnTo>
                        <a:pt x="20" y="48"/>
                      </a:lnTo>
                      <a:lnTo>
                        <a:pt x="15" y="56"/>
                      </a:lnTo>
                      <a:lnTo>
                        <a:pt x="0" y="48"/>
                      </a:lnTo>
                      <a:lnTo>
                        <a:pt x="50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Freeform 103"/>
                <p:cNvSpPr/>
                <p:nvPr/>
              </p:nvSpPr>
              <p:spPr>
                <a:xfrm>
                  <a:off x="7743960" y="3450960"/>
                  <a:ext cx="104760" cy="43560"/>
                </a:xfrm>
                <a:custGeom>
                  <a:avLst/>
                  <a:gdLst>
                    <a:gd name="textAreaLeft" fmla="*/ 0 w 104760"/>
                    <a:gd name="textAreaRight" fmla="*/ 105120 w 104760"/>
                    <a:gd name="textAreaTop" fmla="*/ 0 h 43560"/>
                    <a:gd name="textAreaBottom" fmla="*/ 43920 h 43560"/>
                  </a:gdLst>
                  <a:ahLst/>
                  <a:rect l="textAreaLeft" t="textAreaTop" r="textAreaRight" b="textAreaBottom"/>
                  <a:pathLst>
                    <a:path w="81" h="77">
                      <a:moveTo>
                        <a:pt x="81" y="8"/>
                      </a:moveTo>
                      <a:lnTo>
                        <a:pt x="75" y="16"/>
                      </a:lnTo>
                      <a:lnTo>
                        <a:pt x="69" y="24"/>
                      </a:lnTo>
                      <a:lnTo>
                        <a:pt x="63" y="34"/>
                      </a:lnTo>
                      <a:lnTo>
                        <a:pt x="56" y="42"/>
                      </a:lnTo>
                      <a:lnTo>
                        <a:pt x="49" y="51"/>
                      </a:lnTo>
                      <a:lnTo>
                        <a:pt x="42" y="59"/>
                      </a:lnTo>
                      <a:lnTo>
                        <a:pt x="36" y="69"/>
                      </a:lnTo>
                      <a:lnTo>
                        <a:pt x="29" y="77"/>
                      </a:lnTo>
                      <a:lnTo>
                        <a:pt x="0" y="64"/>
                      </a:lnTo>
                      <a:lnTo>
                        <a:pt x="66" y="0"/>
                      </a:lnTo>
                      <a:lnTo>
                        <a:pt x="81" y="8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Freeform 104"/>
                <p:cNvSpPr/>
                <p:nvPr/>
              </p:nvSpPr>
              <p:spPr>
                <a:xfrm>
                  <a:off x="7658280" y="3486240"/>
                  <a:ext cx="122400" cy="45000"/>
                </a:xfrm>
                <a:custGeom>
                  <a:avLst/>
                  <a:gdLst>
                    <a:gd name="textAreaLeft" fmla="*/ 0 w 122400"/>
                    <a:gd name="textAreaRight" fmla="*/ 122760 w 122400"/>
                    <a:gd name="textAreaTop" fmla="*/ 0 h 45000"/>
                    <a:gd name="textAreaBottom" fmla="*/ 45360 h 45000"/>
                  </a:gdLst>
                  <a:ahLst/>
                  <a:rect l="textAreaLeft" t="textAreaTop" r="textAreaRight" b="textAreaBottom"/>
                  <a:pathLst>
                    <a:path w="93" h="80">
                      <a:moveTo>
                        <a:pt x="93" y="13"/>
                      </a:moveTo>
                      <a:lnTo>
                        <a:pt x="86" y="21"/>
                      </a:lnTo>
                      <a:lnTo>
                        <a:pt x="78" y="29"/>
                      </a:lnTo>
                      <a:lnTo>
                        <a:pt x="71" y="38"/>
                      </a:lnTo>
                      <a:lnTo>
                        <a:pt x="64" y="46"/>
                      </a:lnTo>
                      <a:lnTo>
                        <a:pt x="56" y="55"/>
                      </a:lnTo>
                      <a:lnTo>
                        <a:pt x="49" y="63"/>
                      </a:lnTo>
                      <a:lnTo>
                        <a:pt x="41" y="71"/>
                      </a:lnTo>
                      <a:lnTo>
                        <a:pt x="33" y="80"/>
                      </a:lnTo>
                      <a:lnTo>
                        <a:pt x="0" y="62"/>
                      </a:lnTo>
                      <a:lnTo>
                        <a:pt x="64" y="0"/>
                      </a:lnTo>
                      <a:lnTo>
                        <a:pt x="93" y="13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Freeform 105"/>
                <p:cNvSpPr/>
                <p:nvPr/>
              </p:nvSpPr>
              <p:spPr>
                <a:xfrm>
                  <a:off x="7571520" y="3521160"/>
                  <a:ext cx="130680" cy="45000"/>
                </a:xfrm>
                <a:custGeom>
                  <a:avLst/>
                  <a:gdLst>
                    <a:gd name="textAreaLeft" fmla="*/ 0 w 130680"/>
                    <a:gd name="textAreaRight" fmla="*/ 131040 w 130680"/>
                    <a:gd name="textAreaTop" fmla="*/ 0 h 45000"/>
                    <a:gd name="textAreaBottom" fmla="*/ 45360 h 45000"/>
                  </a:gdLst>
                  <a:ahLst/>
                  <a:rect l="textAreaLeft" t="textAreaTop" r="textAreaRight" b="textAreaBottom"/>
                  <a:pathLst>
                    <a:path w="99" h="80">
                      <a:moveTo>
                        <a:pt x="99" y="18"/>
                      </a:moveTo>
                      <a:lnTo>
                        <a:pt x="91" y="26"/>
                      </a:lnTo>
                      <a:lnTo>
                        <a:pt x="83" y="32"/>
                      </a:lnTo>
                      <a:lnTo>
                        <a:pt x="75" y="41"/>
                      </a:lnTo>
                      <a:lnTo>
                        <a:pt x="67" y="49"/>
                      </a:lnTo>
                      <a:lnTo>
                        <a:pt x="59" y="57"/>
                      </a:lnTo>
                      <a:lnTo>
                        <a:pt x="49" y="64"/>
                      </a:lnTo>
                      <a:lnTo>
                        <a:pt x="41" y="72"/>
                      </a:lnTo>
                      <a:lnTo>
                        <a:pt x="32" y="80"/>
                      </a:lnTo>
                      <a:lnTo>
                        <a:pt x="0" y="64"/>
                      </a:lnTo>
                      <a:lnTo>
                        <a:pt x="66" y="0"/>
                      </a:lnTo>
                      <a:lnTo>
                        <a:pt x="99" y="18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Freeform 106"/>
                <p:cNvSpPr/>
                <p:nvPr/>
              </p:nvSpPr>
              <p:spPr>
                <a:xfrm>
                  <a:off x="7488000" y="3556440"/>
                  <a:ext cx="127800" cy="41400"/>
                </a:xfrm>
                <a:custGeom>
                  <a:avLst/>
                  <a:gdLst>
                    <a:gd name="textAreaLeft" fmla="*/ 0 w 127800"/>
                    <a:gd name="textAreaRight" fmla="*/ 128160 w 127800"/>
                    <a:gd name="textAreaTop" fmla="*/ 0 h 41400"/>
                    <a:gd name="textAreaBottom" fmla="*/ 41760 h 41400"/>
                  </a:gdLst>
                  <a:ahLst/>
                  <a:rect l="textAreaLeft" t="textAreaTop" r="textAreaRight" b="textAreaBottom"/>
                  <a:pathLst>
                    <a:path w="97" h="74">
                      <a:moveTo>
                        <a:pt x="97" y="16"/>
                      </a:moveTo>
                      <a:lnTo>
                        <a:pt x="89" y="23"/>
                      </a:lnTo>
                      <a:lnTo>
                        <a:pt x="80" y="31"/>
                      </a:lnTo>
                      <a:lnTo>
                        <a:pt x="70" y="38"/>
                      </a:lnTo>
                      <a:lnTo>
                        <a:pt x="61" y="46"/>
                      </a:lnTo>
                      <a:lnTo>
                        <a:pt x="52" y="53"/>
                      </a:lnTo>
                      <a:lnTo>
                        <a:pt x="43" y="59"/>
                      </a:lnTo>
                      <a:lnTo>
                        <a:pt x="32" y="68"/>
                      </a:lnTo>
                      <a:lnTo>
                        <a:pt x="23" y="74"/>
                      </a:lnTo>
                      <a:lnTo>
                        <a:pt x="0" y="63"/>
                      </a:lnTo>
                      <a:lnTo>
                        <a:pt x="65" y="0"/>
                      </a:lnTo>
                      <a:lnTo>
                        <a:pt x="97" y="16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Freeform 107"/>
                <p:cNvSpPr/>
                <p:nvPr/>
              </p:nvSpPr>
              <p:spPr>
                <a:xfrm>
                  <a:off x="7401600" y="3591720"/>
                  <a:ext cx="115560" cy="36720"/>
                </a:xfrm>
                <a:custGeom>
                  <a:avLst/>
                  <a:gdLst>
                    <a:gd name="textAreaLeft" fmla="*/ 0 w 115560"/>
                    <a:gd name="textAreaRight" fmla="*/ 115920 w 115560"/>
                    <a:gd name="textAreaTop" fmla="*/ 0 h 36720"/>
                    <a:gd name="textAreaBottom" fmla="*/ 37080 h 36720"/>
                  </a:gdLst>
                  <a:ahLst/>
                  <a:rect l="textAreaLeft" t="textAreaTop" r="textAreaRight" b="textAreaBottom"/>
                  <a:pathLst>
                    <a:path w="89" h="66">
                      <a:moveTo>
                        <a:pt x="89" y="11"/>
                      </a:moveTo>
                      <a:lnTo>
                        <a:pt x="78" y="18"/>
                      </a:lnTo>
                      <a:lnTo>
                        <a:pt x="69" y="25"/>
                      </a:lnTo>
                      <a:lnTo>
                        <a:pt x="59" y="32"/>
                      </a:lnTo>
                      <a:lnTo>
                        <a:pt x="48" y="38"/>
                      </a:lnTo>
                      <a:lnTo>
                        <a:pt x="38" y="45"/>
                      </a:lnTo>
                      <a:lnTo>
                        <a:pt x="28" y="52"/>
                      </a:lnTo>
                      <a:lnTo>
                        <a:pt x="17" y="59"/>
                      </a:lnTo>
                      <a:lnTo>
                        <a:pt x="6" y="66"/>
                      </a:lnTo>
                      <a:lnTo>
                        <a:pt x="0" y="63"/>
                      </a:lnTo>
                      <a:lnTo>
                        <a:pt x="66" y="0"/>
                      </a:lnTo>
                      <a:lnTo>
                        <a:pt x="89" y="11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Freeform 108"/>
                <p:cNvSpPr/>
                <p:nvPr/>
              </p:nvSpPr>
              <p:spPr>
                <a:xfrm>
                  <a:off x="7111800" y="3601800"/>
                  <a:ext cx="298080" cy="81720"/>
                </a:xfrm>
                <a:custGeom>
                  <a:avLst/>
                  <a:gdLst>
                    <a:gd name="textAreaLeft" fmla="*/ 0 w 298080"/>
                    <a:gd name="textAreaRight" fmla="*/ 298440 w 298080"/>
                    <a:gd name="textAreaTop" fmla="*/ 0 h 81720"/>
                    <a:gd name="textAreaBottom" fmla="*/ 82080 h 81720"/>
                  </a:gdLst>
                  <a:ahLst/>
                  <a:rect l="textAreaLeft" t="textAreaTop" r="textAreaRight" b="textAreaBottom"/>
                  <a:pathLst>
                    <a:path w="229" h="145">
                      <a:moveTo>
                        <a:pt x="229" y="48"/>
                      </a:moveTo>
                      <a:lnTo>
                        <a:pt x="226" y="50"/>
                      </a:lnTo>
                      <a:lnTo>
                        <a:pt x="223" y="52"/>
                      </a:lnTo>
                      <a:lnTo>
                        <a:pt x="220" y="53"/>
                      </a:lnTo>
                      <a:lnTo>
                        <a:pt x="217" y="54"/>
                      </a:lnTo>
                      <a:lnTo>
                        <a:pt x="215" y="57"/>
                      </a:lnTo>
                      <a:lnTo>
                        <a:pt x="211" y="58"/>
                      </a:lnTo>
                      <a:lnTo>
                        <a:pt x="209" y="60"/>
                      </a:lnTo>
                      <a:lnTo>
                        <a:pt x="205" y="61"/>
                      </a:lnTo>
                      <a:lnTo>
                        <a:pt x="223" y="45"/>
                      </a:lnTo>
                      <a:lnTo>
                        <a:pt x="131" y="0"/>
                      </a:lnTo>
                      <a:lnTo>
                        <a:pt x="65" y="64"/>
                      </a:lnTo>
                      <a:lnTo>
                        <a:pt x="138" y="99"/>
                      </a:lnTo>
                      <a:lnTo>
                        <a:pt x="125" y="105"/>
                      </a:lnTo>
                      <a:lnTo>
                        <a:pt x="114" y="110"/>
                      </a:lnTo>
                      <a:lnTo>
                        <a:pt x="101" y="117"/>
                      </a:lnTo>
                      <a:lnTo>
                        <a:pt x="90" y="122"/>
                      </a:lnTo>
                      <a:lnTo>
                        <a:pt x="77" y="128"/>
                      </a:lnTo>
                      <a:lnTo>
                        <a:pt x="64" y="134"/>
                      </a:lnTo>
                      <a:lnTo>
                        <a:pt x="51" y="140"/>
                      </a:lnTo>
                      <a:lnTo>
                        <a:pt x="39" y="145"/>
                      </a:lnTo>
                      <a:lnTo>
                        <a:pt x="0" y="126"/>
                      </a:lnTo>
                      <a:lnTo>
                        <a:pt x="65" y="64"/>
                      </a:lnTo>
                      <a:lnTo>
                        <a:pt x="138" y="99"/>
                      </a:lnTo>
                      <a:lnTo>
                        <a:pt x="146" y="94"/>
                      </a:lnTo>
                      <a:lnTo>
                        <a:pt x="156" y="90"/>
                      </a:lnTo>
                      <a:lnTo>
                        <a:pt x="164" y="86"/>
                      </a:lnTo>
                      <a:lnTo>
                        <a:pt x="172" y="80"/>
                      </a:lnTo>
                      <a:lnTo>
                        <a:pt x="181" y="76"/>
                      </a:lnTo>
                      <a:lnTo>
                        <a:pt x="189" y="71"/>
                      </a:lnTo>
                      <a:lnTo>
                        <a:pt x="197" y="67"/>
                      </a:lnTo>
                      <a:lnTo>
                        <a:pt x="205" y="61"/>
                      </a:lnTo>
                      <a:lnTo>
                        <a:pt x="223" y="45"/>
                      </a:lnTo>
                      <a:lnTo>
                        <a:pt x="229" y="48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Freeform 109"/>
                <p:cNvSpPr/>
                <p:nvPr/>
              </p:nvSpPr>
              <p:spPr>
                <a:xfrm>
                  <a:off x="6818760" y="3648240"/>
                  <a:ext cx="342360" cy="78840"/>
                </a:xfrm>
                <a:custGeom>
                  <a:avLst/>
                  <a:gdLst>
                    <a:gd name="textAreaLeft" fmla="*/ 0 w 342360"/>
                    <a:gd name="textAreaRight" fmla="*/ 342720 w 342360"/>
                    <a:gd name="textAreaTop" fmla="*/ 0 h 78840"/>
                    <a:gd name="textAreaBottom" fmla="*/ 79200 h 78840"/>
                  </a:gdLst>
                  <a:ahLst/>
                  <a:rect l="textAreaLeft" t="textAreaTop" r="textAreaRight" b="textAreaBottom"/>
                  <a:pathLst>
                    <a:path w="262" h="143">
                      <a:moveTo>
                        <a:pt x="262" y="63"/>
                      </a:moveTo>
                      <a:lnTo>
                        <a:pt x="250" y="69"/>
                      </a:lnTo>
                      <a:lnTo>
                        <a:pt x="237" y="73"/>
                      </a:lnTo>
                      <a:lnTo>
                        <a:pt x="226" y="78"/>
                      </a:lnTo>
                      <a:lnTo>
                        <a:pt x="214" y="82"/>
                      </a:lnTo>
                      <a:lnTo>
                        <a:pt x="201" y="88"/>
                      </a:lnTo>
                      <a:lnTo>
                        <a:pt x="189" y="92"/>
                      </a:lnTo>
                      <a:lnTo>
                        <a:pt x="176" y="97"/>
                      </a:lnTo>
                      <a:lnTo>
                        <a:pt x="164" y="101"/>
                      </a:lnTo>
                      <a:lnTo>
                        <a:pt x="223" y="44"/>
                      </a:lnTo>
                      <a:lnTo>
                        <a:pt x="131" y="0"/>
                      </a:lnTo>
                      <a:lnTo>
                        <a:pt x="66" y="63"/>
                      </a:lnTo>
                      <a:lnTo>
                        <a:pt x="153" y="105"/>
                      </a:lnTo>
                      <a:lnTo>
                        <a:pt x="143" y="109"/>
                      </a:lnTo>
                      <a:lnTo>
                        <a:pt x="133" y="112"/>
                      </a:lnTo>
                      <a:lnTo>
                        <a:pt x="123" y="116"/>
                      </a:lnTo>
                      <a:lnTo>
                        <a:pt x="112" y="119"/>
                      </a:lnTo>
                      <a:lnTo>
                        <a:pt x="102" y="123"/>
                      </a:lnTo>
                      <a:lnTo>
                        <a:pt x="91" y="126"/>
                      </a:lnTo>
                      <a:lnTo>
                        <a:pt x="81" y="130"/>
                      </a:lnTo>
                      <a:lnTo>
                        <a:pt x="71" y="132"/>
                      </a:lnTo>
                      <a:lnTo>
                        <a:pt x="66" y="134"/>
                      </a:lnTo>
                      <a:lnTo>
                        <a:pt x="62" y="135"/>
                      </a:lnTo>
                      <a:lnTo>
                        <a:pt x="58" y="137"/>
                      </a:lnTo>
                      <a:lnTo>
                        <a:pt x="53" y="138"/>
                      </a:lnTo>
                      <a:lnTo>
                        <a:pt x="49" y="139"/>
                      </a:lnTo>
                      <a:lnTo>
                        <a:pt x="45" y="141"/>
                      </a:lnTo>
                      <a:lnTo>
                        <a:pt x="40" y="142"/>
                      </a:lnTo>
                      <a:lnTo>
                        <a:pt x="36" y="143"/>
                      </a:lnTo>
                      <a:lnTo>
                        <a:pt x="0" y="126"/>
                      </a:lnTo>
                      <a:lnTo>
                        <a:pt x="66" y="63"/>
                      </a:lnTo>
                      <a:lnTo>
                        <a:pt x="153" y="105"/>
                      </a:lnTo>
                      <a:lnTo>
                        <a:pt x="154" y="105"/>
                      </a:lnTo>
                      <a:lnTo>
                        <a:pt x="156" y="104"/>
                      </a:lnTo>
                      <a:lnTo>
                        <a:pt x="157" y="104"/>
                      </a:lnTo>
                      <a:lnTo>
                        <a:pt x="159" y="104"/>
                      </a:lnTo>
                      <a:lnTo>
                        <a:pt x="160" y="103"/>
                      </a:lnTo>
                      <a:lnTo>
                        <a:pt x="161" y="103"/>
                      </a:lnTo>
                      <a:lnTo>
                        <a:pt x="162" y="103"/>
                      </a:lnTo>
                      <a:lnTo>
                        <a:pt x="164" y="101"/>
                      </a:lnTo>
                      <a:lnTo>
                        <a:pt x="223" y="44"/>
                      </a:lnTo>
                      <a:lnTo>
                        <a:pt x="262" y="63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Freeform 110"/>
                <p:cNvSpPr/>
                <p:nvPr/>
              </p:nvSpPr>
              <p:spPr>
                <a:xfrm>
                  <a:off x="5457240" y="3598200"/>
                  <a:ext cx="1408680" cy="160560"/>
                </a:xfrm>
                <a:custGeom>
                  <a:avLst/>
                  <a:gdLst>
                    <a:gd name="textAreaLeft" fmla="*/ 0 w 1408680"/>
                    <a:gd name="textAreaRight" fmla="*/ 1409040 w 140868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1077" h="288">
                      <a:moveTo>
                        <a:pt x="1077" y="233"/>
                      </a:moveTo>
                      <a:lnTo>
                        <a:pt x="1068" y="236"/>
                      </a:lnTo>
                      <a:lnTo>
                        <a:pt x="1058" y="239"/>
                      </a:lnTo>
                      <a:lnTo>
                        <a:pt x="1049" y="241"/>
                      </a:lnTo>
                      <a:lnTo>
                        <a:pt x="1040" y="244"/>
                      </a:lnTo>
                      <a:lnTo>
                        <a:pt x="1030" y="247"/>
                      </a:lnTo>
                      <a:lnTo>
                        <a:pt x="1021" y="248"/>
                      </a:lnTo>
                      <a:lnTo>
                        <a:pt x="1012" y="251"/>
                      </a:lnTo>
                      <a:lnTo>
                        <a:pt x="1003" y="254"/>
                      </a:lnTo>
                      <a:lnTo>
                        <a:pt x="1041" y="216"/>
                      </a:lnTo>
                      <a:lnTo>
                        <a:pt x="949" y="171"/>
                      </a:lnTo>
                      <a:lnTo>
                        <a:pt x="883" y="235"/>
                      </a:lnTo>
                      <a:lnTo>
                        <a:pt x="947" y="265"/>
                      </a:lnTo>
                      <a:lnTo>
                        <a:pt x="933" y="267"/>
                      </a:lnTo>
                      <a:lnTo>
                        <a:pt x="918" y="270"/>
                      </a:lnTo>
                      <a:lnTo>
                        <a:pt x="904" y="273"/>
                      </a:lnTo>
                      <a:lnTo>
                        <a:pt x="890" y="274"/>
                      </a:lnTo>
                      <a:lnTo>
                        <a:pt x="876" y="277"/>
                      </a:lnTo>
                      <a:lnTo>
                        <a:pt x="863" y="278"/>
                      </a:lnTo>
                      <a:lnTo>
                        <a:pt x="849" y="279"/>
                      </a:lnTo>
                      <a:lnTo>
                        <a:pt x="835" y="282"/>
                      </a:lnTo>
                      <a:lnTo>
                        <a:pt x="883" y="235"/>
                      </a:lnTo>
                      <a:lnTo>
                        <a:pt x="792" y="189"/>
                      </a:lnTo>
                      <a:lnTo>
                        <a:pt x="726" y="252"/>
                      </a:lnTo>
                      <a:lnTo>
                        <a:pt x="793" y="285"/>
                      </a:lnTo>
                      <a:lnTo>
                        <a:pt x="780" y="286"/>
                      </a:lnTo>
                      <a:lnTo>
                        <a:pt x="766" y="286"/>
                      </a:lnTo>
                      <a:lnTo>
                        <a:pt x="754" y="286"/>
                      </a:lnTo>
                      <a:lnTo>
                        <a:pt x="741" y="288"/>
                      </a:lnTo>
                      <a:lnTo>
                        <a:pt x="728" y="288"/>
                      </a:lnTo>
                      <a:lnTo>
                        <a:pt x="716" y="288"/>
                      </a:lnTo>
                      <a:lnTo>
                        <a:pt x="703" y="288"/>
                      </a:lnTo>
                      <a:lnTo>
                        <a:pt x="690" y="288"/>
                      </a:lnTo>
                      <a:lnTo>
                        <a:pt x="726" y="252"/>
                      </a:lnTo>
                      <a:lnTo>
                        <a:pt x="634" y="208"/>
                      </a:lnTo>
                      <a:lnTo>
                        <a:pt x="568" y="270"/>
                      </a:lnTo>
                      <a:lnTo>
                        <a:pt x="590" y="281"/>
                      </a:lnTo>
                      <a:lnTo>
                        <a:pt x="587" y="281"/>
                      </a:lnTo>
                      <a:lnTo>
                        <a:pt x="583" y="281"/>
                      </a:lnTo>
                      <a:lnTo>
                        <a:pt x="580" y="279"/>
                      </a:lnTo>
                      <a:lnTo>
                        <a:pt x="577" y="279"/>
                      </a:lnTo>
                      <a:lnTo>
                        <a:pt x="572" y="279"/>
                      </a:lnTo>
                      <a:lnTo>
                        <a:pt x="568" y="278"/>
                      </a:lnTo>
                      <a:lnTo>
                        <a:pt x="565" y="278"/>
                      </a:lnTo>
                      <a:lnTo>
                        <a:pt x="561" y="278"/>
                      </a:lnTo>
                      <a:lnTo>
                        <a:pt x="568" y="270"/>
                      </a:lnTo>
                      <a:lnTo>
                        <a:pt x="477" y="225"/>
                      </a:lnTo>
                      <a:lnTo>
                        <a:pt x="445" y="256"/>
                      </a:lnTo>
                      <a:lnTo>
                        <a:pt x="431" y="254"/>
                      </a:lnTo>
                      <a:lnTo>
                        <a:pt x="417" y="250"/>
                      </a:lnTo>
                      <a:lnTo>
                        <a:pt x="404" y="246"/>
                      </a:lnTo>
                      <a:lnTo>
                        <a:pt x="390" y="243"/>
                      </a:lnTo>
                      <a:lnTo>
                        <a:pt x="377" y="239"/>
                      </a:lnTo>
                      <a:lnTo>
                        <a:pt x="363" y="235"/>
                      </a:lnTo>
                      <a:lnTo>
                        <a:pt x="351" y="231"/>
                      </a:lnTo>
                      <a:lnTo>
                        <a:pt x="338" y="225"/>
                      </a:lnTo>
                      <a:lnTo>
                        <a:pt x="385" y="180"/>
                      </a:lnTo>
                      <a:lnTo>
                        <a:pt x="293" y="136"/>
                      </a:lnTo>
                      <a:lnTo>
                        <a:pt x="241" y="186"/>
                      </a:lnTo>
                      <a:lnTo>
                        <a:pt x="228" y="180"/>
                      </a:lnTo>
                      <a:lnTo>
                        <a:pt x="216" y="175"/>
                      </a:lnTo>
                      <a:lnTo>
                        <a:pt x="205" y="170"/>
                      </a:lnTo>
                      <a:lnTo>
                        <a:pt x="194" y="163"/>
                      </a:lnTo>
                      <a:lnTo>
                        <a:pt x="183" y="157"/>
                      </a:lnTo>
                      <a:lnTo>
                        <a:pt x="172" y="151"/>
                      </a:lnTo>
                      <a:lnTo>
                        <a:pt x="161" y="145"/>
                      </a:lnTo>
                      <a:lnTo>
                        <a:pt x="150" y="138"/>
                      </a:lnTo>
                      <a:lnTo>
                        <a:pt x="201" y="91"/>
                      </a:lnTo>
                      <a:lnTo>
                        <a:pt x="109" y="45"/>
                      </a:lnTo>
                      <a:lnTo>
                        <a:pt x="70" y="83"/>
                      </a:lnTo>
                      <a:lnTo>
                        <a:pt x="60" y="75"/>
                      </a:lnTo>
                      <a:lnTo>
                        <a:pt x="51" y="66"/>
                      </a:lnTo>
                      <a:lnTo>
                        <a:pt x="40" y="58"/>
                      </a:lnTo>
                      <a:lnTo>
                        <a:pt x="32" y="50"/>
                      </a:lnTo>
                      <a:lnTo>
                        <a:pt x="23" y="42"/>
                      </a:lnTo>
                      <a:lnTo>
                        <a:pt x="15" y="34"/>
                      </a:lnTo>
                      <a:lnTo>
                        <a:pt x="8" y="24"/>
                      </a:lnTo>
                      <a:lnTo>
                        <a:pt x="0" y="16"/>
                      </a:lnTo>
                      <a:lnTo>
                        <a:pt x="17" y="0"/>
                      </a:lnTo>
                      <a:lnTo>
                        <a:pt x="109" y="45"/>
                      </a:lnTo>
                      <a:lnTo>
                        <a:pt x="70" y="83"/>
                      </a:lnTo>
                      <a:lnTo>
                        <a:pt x="80" y="90"/>
                      </a:lnTo>
                      <a:lnTo>
                        <a:pt x="89" y="98"/>
                      </a:lnTo>
                      <a:lnTo>
                        <a:pt x="98" y="104"/>
                      </a:lnTo>
                      <a:lnTo>
                        <a:pt x="109" y="111"/>
                      </a:lnTo>
                      <a:lnTo>
                        <a:pt x="119" y="118"/>
                      </a:lnTo>
                      <a:lnTo>
                        <a:pt x="130" y="125"/>
                      </a:lnTo>
                      <a:lnTo>
                        <a:pt x="140" y="132"/>
                      </a:lnTo>
                      <a:lnTo>
                        <a:pt x="150" y="138"/>
                      </a:lnTo>
                      <a:lnTo>
                        <a:pt x="201" y="91"/>
                      </a:lnTo>
                      <a:lnTo>
                        <a:pt x="293" y="136"/>
                      </a:lnTo>
                      <a:lnTo>
                        <a:pt x="241" y="186"/>
                      </a:lnTo>
                      <a:lnTo>
                        <a:pt x="252" y="191"/>
                      </a:lnTo>
                      <a:lnTo>
                        <a:pt x="264" y="197"/>
                      </a:lnTo>
                      <a:lnTo>
                        <a:pt x="275" y="202"/>
                      </a:lnTo>
                      <a:lnTo>
                        <a:pt x="288" y="206"/>
                      </a:lnTo>
                      <a:lnTo>
                        <a:pt x="300" y="212"/>
                      </a:lnTo>
                      <a:lnTo>
                        <a:pt x="313" y="217"/>
                      </a:lnTo>
                      <a:lnTo>
                        <a:pt x="325" y="221"/>
                      </a:lnTo>
                      <a:lnTo>
                        <a:pt x="338" y="225"/>
                      </a:lnTo>
                      <a:lnTo>
                        <a:pt x="385" y="180"/>
                      </a:lnTo>
                      <a:lnTo>
                        <a:pt x="477" y="225"/>
                      </a:lnTo>
                      <a:lnTo>
                        <a:pt x="445" y="256"/>
                      </a:lnTo>
                      <a:lnTo>
                        <a:pt x="458" y="260"/>
                      </a:lnTo>
                      <a:lnTo>
                        <a:pt x="473" y="263"/>
                      </a:lnTo>
                      <a:lnTo>
                        <a:pt x="487" y="266"/>
                      </a:lnTo>
                      <a:lnTo>
                        <a:pt x="502" y="269"/>
                      </a:lnTo>
                      <a:lnTo>
                        <a:pt x="516" y="271"/>
                      </a:lnTo>
                      <a:lnTo>
                        <a:pt x="531" y="274"/>
                      </a:lnTo>
                      <a:lnTo>
                        <a:pt x="546" y="275"/>
                      </a:lnTo>
                      <a:lnTo>
                        <a:pt x="561" y="278"/>
                      </a:lnTo>
                      <a:lnTo>
                        <a:pt x="568" y="270"/>
                      </a:lnTo>
                      <a:lnTo>
                        <a:pt x="590" y="281"/>
                      </a:lnTo>
                      <a:lnTo>
                        <a:pt x="603" y="282"/>
                      </a:lnTo>
                      <a:lnTo>
                        <a:pt x="615" y="284"/>
                      </a:lnTo>
                      <a:lnTo>
                        <a:pt x="627" y="285"/>
                      </a:lnTo>
                      <a:lnTo>
                        <a:pt x="640" y="285"/>
                      </a:lnTo>
                      <a:lnTo>
                        <a:pt x="652" y="286"/>
                      </a:lnTo>
                      <a:lnTo>
                        <a:pt x="665" y="286"/>
                      </a:lnTo>
                      <a:lnTo>
                        <a:pt x="677" y="288"/>
                      </a:lnTo>
                      <a:lnTo>
                        <a:pt x="690" y="288"/>
                      </a:lnTo>
                      <a:lnTo>
                        <a:pt x="726" y="252"/>
                      </a:lnTo>
                      <a:lnTo>
                        <a:pt x="793" y="285"/>
                      </a:lnTo>
                      <a:lnTo>
                        <a:pt x="798" y="285"/>
                      </a:lnTo>
                      <a:lnTo>
                        <a:pt x="804" y="284"/>
                      </a:lnTo>
                      <a:lnTo>
                        <a:pt x="808" y="284"/>
                      </a:lnTo>
                      <a:lnTo>
                        <a:pt x="814" y="284"/>
                      </a:lnTo>
                      <a:lnTo>
                        <a:pt x="819" y="284"/>
                      </a:lnTo>
                      <a:lnTo>
                        <a:pt x="824" y="282"/>
                      </a:lnTo>
                      <a:lnTo>
                        <a:pt x="829" y="282"/>
                      </a:lnTo>
                      <a:lnTo>
                        <a:pt x="835" y="282"/>
                      </a:lnTo>
                      <a:lnTo>
                        <a:pt x="883" y="235"/>
                      </a:lnTo>
                      <a:lnTo>
                        <a:pt x="947" y="265"/>
                      </a:lnTo>
                      <a:lnTo>
                        <a:pt x="954" y="263"/>
                      </a:lnTo>
                      <a:lnTo>
                        <a:pt x="961" y="262"/>
                      </a:lnTo>
                      <a:lnTo>
                        <a:pt x="968" y="260"/>
                      </a:lnTo>
                      <a:lnTo>
                        <a:pt x="975" y="259"/>
                      </a:lnTo>
                      <a:lnTo>
                        <a:pt x="982" y="258"/>
                      </a:lnTo>
                      <a:lnTo>
                        <a:pt x="989" y="256"/>
                      </a:lnTo>
                      <a:lnTo>
                        <a:pt x="996" y="255"/>
                      </a:lnTo>
                      <a:lnTo>
                        <a:pt x="1003" y="254"/>
                      </a:lnTo>
                      <a:lnTo>
                        <a:pt x="1041" y="216"/>
                      </a:lnTo>
                      <a:lnTo>
                        <a:pt x="1077" y="233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Freeform 111"/>
                <p:cNvSpPr/>
                <p:nvPr/>
              </p:nvSpPr>
              <p:spPr>
                <a:xfrm>
                  <a:off x="5433840" y="3222000"/>
                  <a:ext cx="901440" cy="384480"/>
                </a:xfrm>
                <a:custGeom>
                  <a:avLst/>
                  <a:gdLst>
                    <a:gd name="textAreaLeft" fmla="*/ 0 w 901440"/>
                    <a:gd name="textAreaRight" fmla="*/ 901800 w 901440"/>
                    <a:gd name="textAreaTop" fmla="*/ 0 h 384480"/>
                    <a:gd name="textAreaBottom" fmla="*/ 384840 h 384480"/>
                  </a:gdLst>
                  <a:ahLst/>
                  <a:rect l="textAreaLeft" t="textAreaTop" r="textAreaRight" b="textAreaBottom"/>
                  <a:pathLst>
                    <a:path w="691" h="689">
                      <a:moveTo>
                        <a:pt x="20" y="689"/>
                      </a:moveTo>
                      <a:lnTo>
                        <a:pt x="18" y="687"/>
                      </a:lnTo>
                      <a:lnTo>
                        <a:pt x="15" y="684"/>
                      </a:lnTo>
                      <a:lnTo>
                        <a:pt x="13" y="681"/>
                      </a:lnTo>
                      <a:lnTo>
                        <a:pt x="9" y="677"/>
                      </a:lnTo>
                      <a:lnTo>
                        <a:pt x="7" y="674"/>
                      </a:lnTo>
                      <a:lnTo>
                        <a:pt x="5" y="672"/>
                      </a:lnTo>
                      <a:lnTo>
                        <a:pt x="2" y="669"/>
                      </a:lnTo>
                      <a:lnTo>
                        <a:pt x="0" y="665"/>
                      </a:lnTo>
                      <a:lnTo>
                        <a:pt x="1" y="665"/>
                      </a:lnTo>
                      <a:lnTo>
                        <a:pt x="1" y="663"/>
                      </a:lnTo>
                      <a:lnTo>
                        <a:pt x="1" y="662"/>
                      </a:lnTo>
                      <a:lnTo>
                        <a:pt x="1" y="661"/>
                      </a:lnTo>
                      <a:lnTo>
                        <a:pt x="1" y="659"/>
                      </a:lnTo>
                      <a:lnTo>
                        <a:pt x="2" y="659"/>
                      </a:lnTo>
                      <a:lnTo>
                        <a:pt x="2" y="658"/>
                      </a:lnTo>
                      <a:lnTo>
                        <a:pt x="2" y="657"/>
                      </a:lnTo>
                      <a:lnTo>
                        <a:pt x="37" y="673"/>
                      </a:lnTo>
                      <a:lnTo>
                        <a:pt x="103" y="611"/>
                      </a:lnTo>
                      <a:lnTo>
                        <a:pt x="31" y="575"/>
                      </a:lnTo>
                      <a:lnTo>
                        <a:pt x="35" y="568"/>
                      </a:lnTo>
                      <a:lnTo>
                        <a:pt x="38" y="562"/>
                      </a:lnTo>
                      <a:lnTo>
                        <a:pt x="42" y="555"/>
                      </a:lnTo>
                      <a:lnTo>
                        <a:pt x="45" y="547"/>
                      </a:lnTo>
                      <a:lnTo>
                        <a:pt x="49" y="540"/>
                      </a:lnTo>
                      <a:lnTo>
                        <a:pt x="52" y="533"/>
                      </a:lnTo>
                      <a:lnTo>
                        <a:pt x="56" y="525"/>
                      </a:lnTo>
                      <a:lnTo>
                        <a:pt x="60" y="517"/>
                      </a:lnTo>
                      <a:lnTo>
                        <a:pt x="77" y="502"/>
                      </a:lnTo>
                      <a:lnTo>
                        <a:pt x="71" y="499"/>
                      </a:lnTo>
                      <a:lnTo>
                        <a:pt x="75" y="490"/>
                      </a:lnTo>
                      <a:lnTo>
                        <a:pt x="80" y="482"/>
                      </a:lnTo>
                      <a:lnTo>
                        <a:pt x="86" y="472"/>
                      </a:lnTo>
                      <a:lnTo>
                        <a:pt x="92" y="463"/>
                      </a:lnTo>
                      <a:lnTo>
                        <a:pt x="97" y="455"/>
                      </a:lnTo>
                      <a:lnTo>
                        <a:pt x="103" y="445"/>
                      </a:lnTo>
                      <a:lnTo>
                        <a:pt x="109" y="436"/>
                      </a:lnTo>
                      <a:lnTo>
                        <a:pt x="116" y="426"/>
                      </a:lnTo>
                      <a:lnTo>
                        <a:pt x="141" y="438"/>
                      </a:lnTo>
                      <a:lnTo>
                        <a:pt x="207" y="376"/>
                      </a:lnTo>
                      <a:lnTo>
                        <a:pt x="167" y="355"/>
                      </a:lnTo>
                      <a:lnTo>
                        <a:pt x="173" y="347"/>
                      </a:lnTo>
                      <a:lnTo>
                        <a:pt x="180" y="339"/>
                      </a:lnTo>
                      <a:lnTo>
                        <a:pt x="187" y="331"/>
                      </a:lnTo>
                      <a:lnTo>
                        <a:pt x="194" y="322"/>
                      </a:lnTo>
                      <a:lnTo>
                        <a:pt x="201" y="313"/>
                      </a:lnTo>
                      <a:lnTo>
                        <a:pt x="209" y="305"/>
                      </a:lnTo>
                      <a:lnTo>
                        <a:pt x="216" y="297"/>
                      </a:lnTo>
                      <a:lnTo>
                        <a:pt x="224" y="288"/>
                      </a:lnTo>
                      <a:lnTo>
                        <a:pt x="272" y="312"/>
                      </a:lnTo>
                      <a:lnTo>
                        <a:pt x="338" y="250"/>
                      </a:lnTo>
                      <a:lnTo>
                        <a:pt x="286" y="224"/>
                      </a:lnTo>
                      <a:lnTo>
                        <a:pt x="294" y="216"/>
                      </a:lnTo>
                      <a:lnTo>
                        <a:pt x="302" y="208"/>
                      </a:lnTo>
                      <a:lnTo>
                        <a:pt x="311" y="201"/>
                      </a:lnTo>
                      <a:lnTo>
                        <a:pt x="319" y="193"/>
                      </a:lnTo>
                      <a:lnTo>
                        <a:pt x="328" y="185"/>
                      </a:lnTo>
                      <a:lnTo>
                        <a:pt x="336" y="178"/>
                      </a:lnTo>
                      <a:lnTo>
                        <a:pt x="345" y="170"/>
                      </a:lnTo>
                      <a:lnTo>
                        <a:pt x="355" y="161"/>
                      </a:lnTo>
                      <a:lnTo>
                        <a:pt x="403" y="186"/>
                      </a:lnTo>
                      <a:lnTo>
                        <a:pt x="469" y="122"/>
                      </a:lnTo>
                      <a:lnTo>
                        <a:pt x="430" y="103"/>
                      </a:lnTo>
                      <a:lnTo>
                        <a:pt x="439" y="96"/>
                      </a:lnTo>
                      <a:lnTo>
                        <a:pt x="449" y="90"/>
                      </a:lnTo>
                      <a:lnTo>
                        <a:pt x="460" y="83"/>
                      </a:lnTo>
                      <a:lnTo>
                        <a:pt x="470" y="76"/>
                      </a:lnTo>
                      <a:lnTo>
                        <a:pt x="481" y="69"/>
                      </a:lnTo>
                      <a:lnTo>
                        <a:pt x="491" y="62"/>
                      </a:lnTo>
                      <a:lnTo>
                        <a:pt x="502" y="56"/>
                      </a:lnTo>
                      <a:lnTo>
                        <a:pt x="512" y="49"/>
                      </a:lnTo>
                      <a:lnTo>
                        <a:pt x="534" y="60"/>
                      </a:lnTo>
                      <a:lnTo>
                        <a:pt x="584" y="12"/>
                      </a:lnTo>
                      <a:lnTo>
                        <a:pt x="587" y="11"/>
                      </a:lnTo>
                      <a:lnTo>
                        <a:pt x="590" y="9"/>
                      </a:lnTo>
                      <a:lnTo>
                        <a:pt x="593" y="7"/>
                      </a:lnTo>
                      <a:lnTo>
                        <a:pt x="595" y="5"/>
                      </a:lnTo>
                      <a:lnTo>
                        <a:pt x="599" y="4"/>
                      </a:lnTo>
                      <a:lnTo>
                        <a:pt x="602" y="3"/>
                      </a:lnTo>
                      <a:lnTo>
                        <a:pt x="605" y="1"/>
                      </a:lnTo>
                      <a:lnTo>
                        <a:pt x="608" y="0"/>
                      </a:lnTo>
                      <a:lnTo>
                        <a:pt x="691" y="41"/>
                      </a:lnTo>
                      <a:lnTo>
                        <a:pt x="627" y="104"/>
                      </a:lnTo>
                      <a:lnTo>
                        <a:pt x="534" y="60"/>
                      </a:lnTo>
                      <a:lnTo>
                        <a:pt x="584" y="12"/>
                      </a:lnTo>
                      <a:lnTo>
                        <a:pt x="576" y="16"/>
                      </a:lnTo>
                      <a:lnTo>
                        <a:pt x="568" y="19"/>
                      </a:lnTo>
                      <a:lnTo>
                        <a:pt x="559" y="23"/>
                      </a:lnTo>
                      <a:lnTo>
                        <a:pt x="551" y="27"/>
                      </a:lnTo>
                      <a:lnTo>
                        <a:pt x="543" y="31"/>
                      </a:lnTo>
                      <a:lnTo>
                        <a:pt x="535" y="35"/>
                      </a:lnTo>
                      <a:lnTo>
                        <a:pt x="527" y="39"/>
                      </a:lnTo>
                      <a:lnTo>
                        <a:pt x="520" y="43"/>
                      </a:lnTo>
                      <a:lnTo>
                        <a:pt x="519" y="45"/>
                      </a:lnTo>
                      <a:lnTo>
                        <a:pt x="518" y="45"/>
                      </a:lnTo>
                      <a:lnTo>
                        <a:pt x="517" y="46"/>
                      </a:lnTo>
                      <a:lnTo>
                        <a:pt x="515" y="46"/>
                      </a:lnTo>
                      <a:lnTo>
                        <a:pt x="514" y="47"/>
                      </a:lnTo>
                      <a:lnTo>
                        <a:pt x="513" y="47"/>
                      </a:lnTo>
                      <a:lnTo>
                        <a:pt x="512" y="49"/>
                      </a:lnTo>
                      <a:lnTo>
                        <a:pt x="534" y="60"/>
                      </a:lnTo>
                      <a:lnTo>
                        <a:pt x="469" y="122"/>
                      </a:lnTo>
                      <a:lnTo>
                        <a:pt x="430" y="103"/>
                      </a:lnTo>
                      <a:lnTo>
                        <a:pt x="419" y="111"/>
                      </a:lnTo>
                      <a:lnTo>
                        <a:pt x="410" y="118"/>
                      </a:lnTo>
                      <a:lnTo>
                        <a:pt x="401" y="125"/>
                      </a:lnTo>
                      <a:lnTo>
                        <a:pt x="392" y="133"/>
                      </a:lnTo>
                      <a:lnTo>
                        <a:pt x="381" y="140"/>
                      </a:lnTo>
                      <a:lnTo>
                        <a:pt x="373" y="147"/>
                      </a:lnTo>
                      <a:lnTo>
                        <a:pt x="364" y="155"/>
                      </a:lnTo>
                      <a:lnTo>
                        <a:pt x="355" y="161"/>
                      </a:lnTo>
                      <a:lnTo>
                        <a:pt x="403" y="186"/>
                      </a:lnTo>
                      <a:lnTo>
                        <a:pt x="338" y="250"/>
                      </a:lnTo>
                      <a:lnTo>
                        <a:pt x="286" y="224"/>
                      </a:lnTo>
                      <a:lnTo>
                        <a:pt x="278" y="232"/>
                      </a:lnTo>
                      <a:lnTo>
                        <a:pt x="269" y="240"/>
                      </a:lnTo>
                      <a:lnTo>
                        <a:pt x="262" y="248"/>
                      </a:lnTo>
                      <a:lnTo>
                        <a:pt x="254" y="256"/>
                      </a:lnTo>
                      <a:lnTo>
                        <a:pt x="246" y="265"/>
                      </a:lnTo>
                      <a:lnTo>
                        <a:pt x="238" y="271"/>
                      </a:lnTo>
                      <a:lnTo>
                        <a:pt x="231" y="279"/>
                      </a:lnTo>
                      <a:lnTo>
                        <a:pt x="224" y="288"/>
                      </a:lnTo>
                      <a:lnTo>
                        <a:pt x="272" y="312"/>
                      </a:lnTo>
                      <a:lnTo>
                        <a:pt x="207" y="376"/>
                      </a:lnTo>
                      <a:lnTo>
                        <a:pt x="167" y="355"/>
                      </a:lnTo>
                      <a:lnTo>
                        <a:pt x="160" y="365"/>
                      </a:lnTo>
                      <a:lnTo>
                        <a:pt x="153" y="373"/>
                      </a:lnTo>
                      <a:lnTo>
                        <a:pt x="146" y="383"/>
                      </a:lnTo>
                      <a:lnTo>
                        <a:pt x="140" y="391"/>
                      </a:lnTo>
                      <a:lnTo>
                        <a:pt x="133" y="400"/>
                      </a:lnTo>
                      <a:lnTo>
                        <a:pt x="128" y="408"/>
                      </a:lnTo>
                      <a:lnTo>
                        <a:pt x="122" y="418"/>
                      </a:lnTo>
                      <a:lnTo>
                        <a:pt x="116" y="426"/>
                      </a:lnTo>
                      <a:lnTo>
                        <a:pt x="141" y="438"/>
                      </a:lnTo>
                      <a:lnTo>
                        <a:pt x="77" y="502"/>
                      </a:lnTo>
                      <a:lnTo>
                        <a:pt x="71" y="499"/>
                      </a:lnTo>
                      <a:lnTo>
                        <a:pt x="68" y="502"/>
                      </a:lnTo>
                      <a:lnTo>
                        <a:pt x="67" y="503"/>
                      </a:lnTo>
                      <a:lnTo>
                        <a:pt x="66" y="506"/>
                      </a:lnTo>
                      <a:lnTo>
                        <a:pt x="65" y="509"/>
                      </a:lnTo>
                      <a:lnTo>
                        <a:pt x="64" y="510"/>
                      </a:lnTo>
                      <a:lnTo>
                        <a:pt x="63" y="513"/>
                      </a:lnTo>
                      <a:lnTo>
                        <a:pt x="62" y="516"/>
                      </a:lnTo>
                      <a:lnTo>
                        <a:pt x="60" y="517"/>
                      </a:lnTo>
                      <a:lnTo>
                        <a:pt x="77" y="502"/>
                      </a:lnTo>
                      <a:lnTo>
                        <a:pt x="168" y="547"/>
                      </a:lnTo>
                      <a:lnTo>
                        <a:pt x="103" y="611"/>
                      </a:lnTo>
                      <a:lnTo>
                        <a:pt x="31" y="575"/>
                      </a:lnTo>
                      <a:lnTo>
                        <a:pt x="27" y="587"/>
                      </a:lnTo>
                      <a:lnTo>
                        <a:pt x="22" y="598"/>
                      </a:lnTo>
                      <a:lnTo>
                        <a:pt x="18" y="609"/>
                      </a:lnTo>
                      <a:lnTo>
                        <a:pt x="14" y="620"/>
                      </a:lnTo>
                      <a:lnTo>
                        <a:pt x="11" y="630"/>
                      </a:lnTo>
                      <a:lnTo>
                        <a:pt x="7" y="639"/>
                      </a:lnTo>
                      <a:lnTo>
                        <a:pt x="5" y="649"/>
                      </a:lnTo>
                      <a:lnTo>
                        <a:pt x="2" y="657"/>
                      </a:lnTo>
                      <a:lnTo>
                        <a:pt x="37" y="673"/>
                      </a:lnTo>
                      <a:lnTo>
                        <a:pt x="20" y="689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Freeform 112"/>
                <p:cNvSpPr/>
                <p:nvPr/>
              </p:nvSpPr>
              <p:spPr>
                <a:xfrm>
                  <a:off x="6711480" y="3136680"/>
                  <a:ext cx="603720" cy="53280"/>
                </a:xfrm>
                <a:custGeom>
                  <a:avLst/>
                  <a:gdLst>
                    <a:gd name="textAreaLeft" fmla="*/ 0 w 603720"/>
                    <a:gd name="textAreaRight" fmla="*/ 604080 w 603720"/>
                    <a:gd name="textAreaTop" fmla="*/ 0 h 53280"/>
                    <a:gd name="textAreaBottom" fmla="*/ 53640 h 53280"/>
                  </a:gdLst>
                  <a:ahLst/>
                  <a:rect l="textAreaLeft" t="textAreaTop" r="textAreaRight" b="textAreaBottom"/>
                  <a:pathLst>
                    <a:path w="461" h="95">
                      <a:moveTo>
                        <a:pt x="21" y="29"/>
                      </a:moveTo>
                      <a:lnTo>
                        <a:pt x="33" y="28"/>
                      </a:lnTo>
                      <a:lnTo>
                        <a:pt x="46" y="25"/>
                      </a:lnTo>
                      <a:lnTo>
                        <a:pt x="58" y="23"/>
                      </a:lnTo>
                      <a:lnTo>
                        <a:pt x="70" y="21"/>
                      </a:lnTo>
                      <a:lnTo>
                        <a:pt x="83" y="19"/>
                      </a:lnTo>
                      <a:lnTo>
                        <a:pt x="96" y="17"/>
                      </a:lnTo>
                      <a:lnTo>
                        <a:pt x="109" y="15"/>
                      </a:lnTo>
                      <a:lnTo>
                        <a:pt x="121" y="13"/>
                      </a:lnTo>
                      <a:lnTo>
                        <a:pt x="157" y="31"/>
                      </a:lnTo>
                      <a:lnTo>
                        <a:pt x="183" y="6"/>
                      </a:lnTo>
                      <a:lnTo>
                        <a:pt x="197" y="5"/>
                      </a:lnTo>
                      <a:lnTo>
                        <a:pt x="209" y="4"/>
                      </a:lnTo>
                      <a:lnTo>
                        <a:pt x="223" y="4"/>
                      </a:lnTo>
                      <a:lnTo>
                        <a:pt x="236" y="2"/>
                      </a:lnTo>
                      <a:lnTo>
                        <a:pt x="249" y="1"/>
                      </a:lnTo>
                      <a:lnTo>
                        <a:pt x="263" y="1"/>
                      </a:lnTo>
                      <a:lnTo>
                        <a:pt x="275" y="1"/>
                      </a:lnTo>
                      <a:lnTo>
                        <a:pt x="288" y="0"/>
                      </a:lnTo>
                      <a:lnTo>
                        <a:pt x="315" y="13"/>
                      </a:lnTo>
                      <a:lnTo>
                        <a:pt x="329" y="0"/>
                      </a:lnTo>
                      <a:lnTo>
                        <a:pt x="346" y="0"/>
                      </a:lnTo>
                      <a:lnTo>
                        <a:pt x="362" y="0"/>
                      </a:lnTo>
                      <a:lnTo>
                        <a:pt x="380" y="1"/>
                      </a:lnTo>
                      <a:lnTo>
                        <a:pt x="396" y="1"/>
                      </a:lnTo>
                      <a:lnTo>
                        <a:pt x="412" y="2"/>
                      </a:lnTo>
                      <a:lnTo>
                        <a:pt x="428" y="4"/>
                      </a:lnTo>
                      <a:lnTo>
                        <a:pt x="445" y="5"/>
                      </a:lnTo>
                      <a:lnTo>
                        <a:pt x="461" y="6"/>
                      </a:lnTo>
                      <a:lnTo>
                        <a:pt x="406" y="58"/>
                      </a:lnTo>
                      <a:lnTo>
                        <a:pt x="315" y="13"/>
                      </a:lnTo>
                      <a:lnTo>
                        <a:pt x="329" y="0"/>
                      </a:lnTo>
                      <a:lnTo>
                        <a:pt x="324" y="0"/>
                      </a:lnTo>
                      <a:lnTo>
                        <a:pt x="318" y="0"/>
                      </a:lnTo>
                      <a:lnTo>
                        <a:pt x="314" y="0"/>
                      </a:lnTo>
                      <a:lnTo>
                        <a:pt x="309" y="0"/>
                      </a:lnTo>
                      <a:lnTo>
                        <a:pt x="303" y="0"/>
                      </a:lnTo>
                      <a:lnTo>
                        <a:pt x="299" y="0"/>
                      </a:lnTo>
                      <a:lnTo>
                        <a:pt x="293" y="0"/>
                      </a:lnTo>
                      <a:lnTo>
                        <a:pt x="288" y="0"/>
                      </a:lnTo>
                      <a:lnTo>
                        <a:pt x="315" y="13"/>
                      </a:lnTo>
                      <a:lnTo>
                        <a:pt x="249" y="77"/>
                      </a:lnTo>
                      <a:lnTo>
                        <a:pt x="157" y="31"/>
                      </a:lnTo>
                      <a:lnTo>
                        <a:pt x="183" y="6"/>
                      </a:lnTo>
                      <a:lnTo>
                        <a:pt x="176" y="8"/>
                      </a:lnTo>
                      <a:lnTo>
                        <a:pt x="168" y="8"/>
                      </a:lnTo>
                      <a:lnTo>
                        <a:pt x="160" y="9"/>
                      </a:lnTo>
                      <a:lnTo>
                        <a:pt x="153" y="9"/>
                      </a:lnTo>
                      <a:lnTo>
                        <a:pt x="145" y="11"/>
                      </a:lnTo>
                      <a:lnTo>
                        <a:pt x="136" y="12"/>
                      </a:lnTo>
                      <a:lnTo>
                        <a:pt x="128" y="12"/>
                      </a:lnTo>
                      <a:lnTo>
                        <a:pt x="121" y="13"/>
                      </a:lnTo>
                      <a:lnTo>
                        <a:pt x="157" y="31"/>
                      </a:lnTo>
                      <a:lnTo>
                        <a:pt x="92" y="95"/>
                      </a:lnTo>
                      <a:lnTo>
                        <a:pt x="0" y="50"/>
                      </a:lnTo>
                      <a:lnTo>
                        <a:pt x="21" y="29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Freeform 113"/>
                <p:cNvSpPr/>
                <p:nvPr/>
              </p:nvSpPr>
              <p:spPr>
                <a:xfrm>
                  <a:off x="7932600" y="3251880"/>
                  <a:ext cx="67320" cy="21960"/>
                </a:xfrm>
                <a:custGeom>
                  <a:avLst/>
                  <a:gdLst>
                    <a:gd name="textAreaLeft" fmla="*/ 0 w 67320"/>
                    <a:gd name="textAreaRight" fmla="*/ 67680 w 67320"/>
                    <a:gd name="textAreaTop" fmla="*/ 0 h 21960"/>
                    <a:gd name="textAreaBottom" fmla="*/ 22320 h 21960"/>
                  </a:gdLst>
                  <a:ahLst/>
                  <a:rect l="textAreaLeft" t="textAreaTop" r="textAreaRight" b="textAreaBottom"/>
                  <a:pathLst>
                    <a:path w="52" h="40">
                      <a:moveTo>
                        <a:pt x="16" y="0"/>
                      </a:moveTo>
                      <a:lnTo>
                        <a:pt x="21" y="4"/>
                      </a:lnTo>
                      <a:lnTo>
                        <a:pt x="27" y="9"/>
                      </a:lnTo>
                      <a:lnTo>
                        <a:pt x="31" y="14"/>
                      </a:lnTo>
                      <a:lnTo>
                        <a:pt x="35" y="20"/>
                      </a:lnTo>
                      <a:lnTo>
                        <a:pt x="39" y="25"/>
                      </a:lnTo>
                      <a:lnTo>
                        <a:pt x="44" y="29"/>
                      </a:lnTo>
                      <a:lnTo>
                        <a:pt x="49" y="35"/>
                      </a:lnTo>
                      <a:lnTo>
                        <a:pt x="52" y="40"/>
                      </a:lnTo>
                      <a:lnTo>
                        <a:pt x="0" y="14"/>
                      </a:lnTo>
                      <a:lnTo>
                        <a:pt x="16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Freeform 114"/>
                <p:cNvSpPr/>
                <p:nvPr/>
              </p:nvSpPr>
              <p:spPr>
                <a:xfrm>
                  <a:off x="6045480" y="3255480"/>
                  <a:ext cx="205920" cy="60120"/>
                </a:xfrm>
                <a:custGeom>
                  <a:avLst/>
                  <a:gdLst>
                    <a:gd name="textAreaLeft" fmla="*/ 0 w 205920"/>
                    <a:gd name="textAreaRight" fmla="*/ 206280 w 205920"/>
                    <a:gd name="textAreaTop" fmla="*/ 0 h 60120"/>
                    <a:gd name="textAreaBottom" fmla="*/ 60480 h 60120"/>
                  </a:gdLst>
                  <a:ahLst/>
                  <a:rect l="textAreaLeft" t="textAreaTop" r="textAreaRight" b="textAreaBottom"/>
                  <a:pathLst>
                    <a:path w="158" h="108">
                      <a:moveTo>
                        <a:pt x="65" y="0"/>
                      </a:moveTo>
                      <a:lnTo>
                        <a:pt x="158" y="44"/>
                      </a:lnTo>
                      <a:lnTo>
                        <a:pt x="92" y="108"/>
                      </a:lnTo>
                      <a:lnTo>
                        <a:pt x="0" y="62"/>
                      </a:lnTo>
                      <a:lnTo>
                        <a:pt x="65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Freeform 115"/>
                <p:cNvSpPr/>
                <p:nvPr/>
              </p:nvSpPr>
              <p:spPr>
                <a:xfrm>
                  <a:off x="5958720" y="3290760"/>
                  <a:ext cx="206640" cy="60120"/>
                </a:xfrm>
                <a:custGeom>
                  <a:avLst/>
                  <a:gdLst>
                    <a:gd name="textAreaLeft" fmla="*/ 0 w 206640"/>
                    <a:gd name="textAreaRight" fmla="*/ 207000 w 206640"/>
                    <a:gd name="textAreaTop" fmla="*/ 0 h 60120"/>
                    <a:gd name="textAreaBottom" fmla="*/ 60480 h 60120"/>
                  </a:gdLst>
                  <a:ahLst/>
                  <a:rect l="textAreaLeft" t="textAreaTop" r="textAreaRight" b="textAreaBottom"/>
                  <a:pathLst>
                    <a:path w="158" h="109">
                      <a:moveTo>
                        <a:pt x="66" y="0"/>
                      </a:moveTo>
                      <a:lnTo>
                        <a:pt x="158" y="46"/>
                      </a:lnTo>
                      <a:lnTo>
                        <a:pt x="93" y="109"/>
                      </a:lnTo>
                      <a:lnTo>
                        <a:pt x="0" y="64"/>
                      </a:lnTo>
                      <a:lnTo>
                        <a:pt x="66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Freeform 116"/>
                <p:cNvSpPr/>
                <p:nvPr/>
              </p:nvSpPr>
              <p:spPr>
                <a:xfrm>
                  <a:off x="5875200" y="3325680"/>
                  <a:ext cx="203760" cy="60120"/>
                </a:xfrm>
                <a:custGeom>
                  <a:avLst/>
                  <a:gdLst>
                    <a:gd name="textAreaLeft" fmla="*/ 0 w 203760"/>
                    <a:gd name="textAreaRight" fmla="*/ 204120 w 203760"/>
                    <a:gd name="textAreaTop" fmla="*/ 0 h 60120"/>
                    <a:gd name="textAreaBottom" fmla="*/ 60480 h 60120"/>
                  </a:gdLst>
                  <a:ahLst/>
                  <a:rect l="textAreaLeft" t="textAreaTop" r="textAreaRight" b="textAreaBottom"/>
                  <a:pathLst>
                    <a:path w="158" h="108">
                      <a:moveTo>
                        <a:pt x="65" y="0"/>
                      </a:moveTo>
                      <a:lnTo>
                        <a:pt x="158" y="45"/>
                      </a:lnTo>
                      <a:lnTo>
                        <a:pt x="92" y="108"/>
                      </a:lnTo>
                      <a:lnTo>
                        <a:pt x="0" y="64"/>
                      </a:lnTo>
                      <a:lnTo>
                        <a:pt x="65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Freeform 117"/>
                <p:cNvSpPr/>
                <p:nvPr/>
              </p:nvSpPr>
              <p:spPr>
                <a:xfrm>
                  <a:off x="5789160" y="3362400"/>
                  <a:ext cx="203760" cy="58680"/>
                </a:xfrm>
                <a:custGeom>
                  <a:avLst/>
                  <a:gdLst>
                    <a:gd name="textAreaLeft" fmla="*/ 0 w 203760"/>
                    <a:gd name="textAreaRight" fmla="*/ 204120 w 203760"/>
                    <a:gd name="textAreaTop" fmla="*/ 0 h 58680"/>
                    <a:gd name="textAreaBottom" fmla="*/ 59040 h 58680"/>
                  </a:gdLst>
                  <a:ahLst/>
                  <a:rect l="textAreaLeft" t="textAreaTop" r="textAreaRight" b="textAreaBottom"/>
                  <a:pathLst>
                    <a:path w="158" h="107">
                      <a:moveTo>
                        <a:pt x="66" y="0"/>
                      </a:moveTo>
                      <a:lnTo>
                        <a:pt x="158" y="44"/>
                      </a:lnTo>
                      <a:lnTo>
                        <a:pt x="93" y="107"/>
                      </a:lnTo>
                      <a:lnTo>
                        <a:pt x="0" y="62"/>
                      </a:lnTo>
                      <a:lnTo>
                        <a:pt x="66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Freeform 118"/>
                <p:cNvSpPr/>
                <p:nvPr/>
              </p:nvSpPr>
              <p:spPr>
                <a:xfrm>
                  <a:off x="5702760" y="3396240"/>
                  <a:ext cx="206640" cy="61560"/>
                </a:xfrm>
                <a:custGeom>
                  <a:avLst/>
                  <a:gdLst>
                    <a:gd name="textAreaLeft" fmla="*/ 0 w 206640"/>
                    <a:gd name="textAreaRight" fmla="*/ 207000 w 206640"/>
                    <a:gd name="textAreaTop" fmla="*/ 0 h 61560"/>
                    <a:gd name="textAreaBottom" fmla="*/ 61920 h 61560"/>
                  </a:gdLst>
                  <a:ahLst/>
                  <a:rect l="textAreaLeft" t="textAreaTop" r="textAreaRight" b="textAreaBottom"/>
                  <a:pathLst>
                    <a:path w="158" h="109">
                      <a:moveTo>
                        <a:pt x="65" y="0"/>
                      </a:moveTo>
                      <a:lnTo>
                        <a:pt x="158" y="45"/>
                      </a:lnTo>
                      <a:lnTo>
                        <a:pt x="92" y="109"/>
                      </a:lnTo>
                      <a:lnTo>
                        <a:pt x="0" y="64"/>
                      </a:lnTo>
                      <a:lnTo>
                        <a:pt x="65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Freeform 119"/>
                <p:cNvSpPr/>
                <p:nvPr/>
              </p:nvSpPr>
              <p:spPr>
                <a:xfrm>
                  <a:off x="5616720" y="3432960"/>
                  <a:ext cx="205920" cy="59760"/>
                </a:xfrm>
                <a:custGeom>
                  <a:avLst/>
                  <a:gdLst>
                    <a:gd name="textAreaLeft" fmla="*/ 0 w 205920"/>
                    <a:gd name="textAreaRight" fmla="*/ 206280 w 205920"/>
                    <a:gd name="textAreaTop" fmla="*/ 0 h 59760"/>
                    <a:gd name="textAreaBottom" fmla="*/ 60120 h 59760"/>
                  </a:gdLst>
                  <a:ahLst/>
                  <a:rect l="textAreaLeft" t="textAreaTop" r="textAreaRight" b="textAreaBottom"/>
                  <a:pathLst>
                    <a:path w="158" h="108">
                      <a:moveTo>
                        <a:pt x="66" y="0"/>
                      </a:moveTo>
                      <a:lnTo>
                        <a:pt x="158" y="45"/>
                      </a:lnTo>
                      <a:lnTo>
                        <a:pt x="93" y="108"/>
                      </a:lnTo>
                      <a:lnTo>
                        <a:pt x="0" y="62"/>
                      </a:lnTo>
                      <a:lnTo>
                        <a:pt x="66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Freeform 120"/>
                <p:cNvSpPr/>
                <p:nvPr/>
              </p:nvSpPr>
              <p:spPr>
                <a:xfrm>
                  <a:off x="5533200" y="3466440"/>
                  <a:ext cx="205920" cy="61560"/>
                </a:xfrm>
                <a:custGeom>
                  <a:avLst/>
                  <a:gdLst>
                    <a:gd name="textAreaLeft" fmla="*/ 0 w 205920"/>
                    <a:gd name="textAreaRight" fmla="*/ 206280 w 205920"/>
                    <a:gd name="textAreaTop" fmla="*/ 0 h 61560"/>
                    <a:gd name="textAreaBottom" fmla="*/ 61920 h 61560"/>
                  </a:gdLst>
                  <a:ahLst/>
                  <a:rect l="textAreaLeft" t="textAreaTop" r="textAreaRight" b="textAreaBottom"/>
                  <a:pathLst>
                    <a:path w="157" h="109">
                      <a:moveTo>
                        <a:pt x="64" y="0"/>
                      </a:moveTo>
                      <a:lnTo>
                        <a:pt x="157" y="46"/>
                      </a:lnTo>
                      <a:lnTo>
                        <a:pt x="91" y="109"/>
                      </a:lnTo>
                      <a:lnTo>
                        <a:pt x="0" y="64"/>
                      </a:lnTo>
                      <a:lnTo>
                        <a:pt x="64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Freeform 121"/>
                <p:cNvSpPr/>
                <p:nvPr/>
              </p:nvSpPr>
              <p:spPr>
                <a:xfrm>
                  <a:off x="6335280" y="3210480"/>
                  <a:ext cx="206640" cy="60120"/>
                </a:xfrm>
                <a:custGeom>
                  <a:avLst/>
                  <a:gdLst>
                    <a:gd name="textAreaLeft" fmla="*/ 0 w 206640"/>
                    <a:gd name="textAreaRight" fmla="*/ 207000 w 206640"/>
                    <a:gd name="textAreaTop" fmla="*/ 0 h 60120"/>
                    <a:gd name="textAreaBottom" fmla="*/ 60480 h 60120"/>
                  </a:gdLst>
                  <a:ahLst/>
                  <a:rect l="textAreaLeft" t="textAreaTop" r="textAreaRight" b="textAreaBottom"/>
                  <a:pathLst>
                    <a:path w="158" h="109">
                      <a:moveTo>
                        <a:pt x="67" y="0"/>
                      </a:moveTo>
                      <a:lnTo>
                        <a:pt x="158" y="45"/>
                      </a:lnTo>
                      <a:lnTo>
                        <a:pt x="93" y="109"/>
                      </a:lnTo>
                      <a:lnTo>
                        <a:pt x="0" y="63"/>
                      </a:lnTo>
                      <a:lnTo>
                        <a:pt x="67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Freeform 122"/>
                <p:cNvSpPr/>
                <p:nvPr/>
              </p:nvSpPr>
              <p:spPr>
                <a:xfrm>
                  <a:off x="6251760" y="3245760"/>
                  <a:ext cx="206640" cy="60120"/>
                </a:xfrm>
                <a:custGeom>
                  <a:avLst/>
                  <a:gdLst>
                    <a:gd name="textAreaLeft" fmla="*/ 0 w 206640"/>
                    <a:gd name="textAreaRight" fmla="*/ 207000 w 206640"/>
                    <a:gd name="textAreaTop" fmla="*/ 0 h 60120"/>
                    <a:gd name="textAreaBottom" fmla="*/ 60480 h 60120"/>
                  </a:gdLst>
                  <a:ahLst/>
                  <a:rect l="textAreaLeft" t="textAreaTop" r="textAreaRight" b="textAreaBottom"/>
                  <a:pathLst>
                    <a:path w="157" h="108">
                      <a:moveTo>
                        <a:pt x="64" y="0"/>
                      </a:moveTo>
                      <a:lnTo>
                        <a:pt x="157" y="46"/>
                      </a:lnTo>
                      <a:lnTo>
                        <a:pt x="91" y="108"/>
                      </a:lnTo>
                      <a:lnTo>
                        <a:pt x="0" y="63"/>
                      </a:lnTo>
                      <a:lnTo>
                        <a:pt x="64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Freeform 123"/>
                <p:cNvSpPr/>
                <p:nvPr/>
              </p:nvSpPr>
              <p:spPr>
                <a:xfrm>
                  <a:off x="6165720" y="3280320"/>
                  <a:ext cx="205920" cy="60120"/>
                </a:xfrm>
                <a:custGeom>
                  <a:avLst/>
                  <a:gdLst>
                    <a:gd name="textAreaLeft" fmla="*/ 0 w 205920"/>
                    <a:gd name="textAreaRight" fmla="*/ 206280 w 205920"/>
                    <a:gd name="textAreaTop" fmla="*/ 0 h 60120"/>
                    <a:gd name="textAreaBottom" fmla="*/ 60480 h 60120"/>
                  </a:gdLst>
                  <a:ahLst/>
                  <a:rect l="textAreaLeft" t="textAreaTop" r="textAreaRight" b="textAreaBottom"/>
                  <a:pathLst>
                    <a:path w="157" h="109">
                      <a:moveTo>
                        <a:pt x="66" y="0"/>
                      </a:moveTo>
                      <a:lnTo>
                        <a:pt x="157" y="45"/>
                      </a:lnTo>
                      <a:lnTo>
                        <a:pt x="92" y="109"/>
                      </a:lnTo>
                      <a:lnTo>
                        <a:pt x="0" y="64"/>
                      </a:lnTo>
                      <a:lnTo>
                        <a:pt x="66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Freeform 124"/>
                <p:cNvSpPr/>
                <p:nvPr/>
              </p:nvSpPr>
              <p:spPr>
                <a:xfrm>
                  <a:off x="6079320" y="3315600"/>
                  <a:ext cx="206640" cy="60120"/>
                </a:xfrm>
                <a:custGeom>
                  <a:avLst/>
                  <a:gdLst>
                    <a:gd name="textAreaLeft" fmla="*/ 0 w 206640"/>
                    <a:gd name="textAreaRight" fmla="*/ 207000 w 206640"/>
                    <a:gd name="textAreaTop" fmla="*/ 0 h 60120"/>
                    <a:gd name="textAreaBottom" fmla="*/ 60480 h 60120"/>
                  </a:gdLst>
                  <a:ahLst/>
                  <a:rect l="textAreaLeft" t="textAreaTop" r="textAreaRight" b="textAreaBottom"/>
                  <a:pathLst>
                    <a:path w="157" h="107">
                      <a:moveTo>
                        <a:pt x="65" y="0"/>
                      </a:moveTo>
                      <a:lnTo>
                        <a:pt x="157" y="45"/>
                      </a:lnTo>
                      <a:lnTo>
                        <a:pt x="91" y="107"/>
                      </a:lnTo>
                      <a:lnTo>
                        <a:pt x="0" y="63"/>
                      </a:lnTo>
                      <a:lnTo>
                        <a:pt x="65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Freeform 125"/>
                <p:cNvSpPr/>
                <p:nvPr/>
              </p:nvSpPr>
              <p:spPr>
                <a:xfrm>
                  <a:off x="5993280" y="3350880"/>
                  <a:ext cx="205920" cy="59760"/>
                </a:xfrm>
                <a:custGeom>
                  <a:avLst/>
                  <a:gdLst>
                    <a:gd name="textAreaLeft" fmla="*/ 0 w 205920"/>
                    <a:gd name="textAreaRight" fmla="*/ 206280 w 205920"/>
                    <a:gd name="textAreaTop" fmla="*/ 0 h 59760"/>
                    <a:gd name="textAreaBottom" fmla="*/ 60120 h 59760"/>
                  </a:gdLst>
                  <a:ahLst/>
                  <a:rect l="textAreaLeft" t="textAreaTop" r="textAreaRight" b="textAreaBottom"/>
                  <a:pathLst>
                    <a:path w="157" h="108">
                      <a:moveTo>
                        <a:pt x="66" y="0"/>
                      </a:moveTo>
                      <a:lnTo>
                        <a:pt x="157" y="44"/>
                      </a:lnTo>
                      <a:lnTo>
                        <a:pt x="92" y="108"/>
                      </a:lnTo>
                      <a:lnTo>
                        <a:pt x="0" y="63"/>
                      </a:lnTo>
                      <a:lnTo>
                        <a:pt x="66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Freeform 126"/>
                <p:cNvSpPr/>
                <p:nvPr/>
              </p:nvSpPr>
              <p:spPr>
                <a:xfrm>
                  <a:off x="5909760" y="3385800"/>
                  <a:ext cx="205920" cy="61560"/>
                </a:xfrm>
                <a:custGeom>
                  <a:avLst/>
                  <a:gdLst>
                    <a:gd name="textAreaLeft" fmla="*/ 0 w 205920"/>
                    <a:gd name="textAreaRight" fmla="*/ 206280 w 205920"/>
                    <a:gd name="textAreaTop" fmla="*/ 0 h 61560"/>
                    <a:gd name="textAreaBottom" fmla="*/ 61920 h 61560"/>
                  </a:gdLst>
                  <a:ahLst/>
                  <a:rect l="textAreaLeft" t="textAreaTop" r="textAreaRight" b="textAreaBottom"/>
                  <a:pathLst>
                    <a:path w="157" h="109">
                      <a:moveTo>
                        <a:pt x="65" y="0"/>
                      </a:moveTo>
                      <a:lnTo>
                        <a:pt x="157" y="45"/>
                      </a:lnTo>
                      <a:lnTo>
                        <a:pt x="91" y="109"/>
                      </a:lnTo>
                      <a:lnTo>
                        <a:pt x="0" y="63"/>
                      </a:lnTo>
                      <a:lnTo>
                        <a:pt x="65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Freeform 127"/>
                <p:cNvSpPr/>
                <p:nvPr/>
              </p:nvSpPr>
              <p:spPr>
                <a:xfrm>
                  <a:off x="5823000" y="3421080"/>
                  <a:ext cx="205920" cy="60120"/>
                </a:xfrm>
                <a:custGeom>
                  <a:avLst/>
                  <a:gdLst>
                    <a:gd name="textAreaLeft" fmla="*/ 0 w 205920"/>
                    <a:gd name="textAreaRight" fmla="*/ 206280 w 205920"/>
                    <a:gd name="textAreaTop" fmla="*/ 0 h 60120"/>
                    <a:gd name="textAreaBottom" fmla="*/ 60480 h 60120"/>
                  </a:gdLst>
                  <a:ahLst/>
                  <a:rect l="textAreaLeft" t="textAreaTop" r="textAreaRight" b="textAreaBottom"/>
                  <a:pathLst>
                    <a:path w="157" h="108">
                      <a:moveTo>
                        <a:pt x="66" y="0"/>
                      </a:moveTo>
                      <a:lnTo>
                        <a:pt x="157" y="46"/>
                      </a:lnTo>
                      <a:lnTo>
                        <a:pt x="91" y="108"/>
                      </a:lnTo>
                      <a:lnTo>
                        <a:pt x="0" y="64"/>
                      </a:lnTo>
                      <a:lnTo>
                        <a:pt x="66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Freeform 128"/>
                <p:cNvSpPr/>
                <p:nvPr/>
              </p:nvSpPr>
              <p:spPr>
                <a:xfrm>
                  <a:off x="5739480" y="3457800"/>
                  <a:ext cx="203760" cy="60120"/>
                </a:xfrm>
                <a:custGeom>
                  <a:avLst/>
                  <a:gdLst>
                    <a:gd name="textAreaLeft" fmla="*/ 0 w 203760"/>
                    <a:gd name="textAreaRight" fmla="*/ 204120 w 203760"/>
                    <a:gd name="textAreaTop" fmla="*/ 0 h 60120"/>
                    <a:gd name="textAreaBottom" fmla="*/ 60480 h 60120"/>
                  </a:gdLst>
                  <a:ahLst/>
                  <a:rect l="textAreaLeft" t="textAreaTop" r="textAreaRight" b="textAreaBottom"/>
                  <a:pathLst>
                    <a:path w="156" h="108">
                      <a:moveTo>
                        <a:pt x="65" y="0"/>
                      </a:moveTo>
                      <a:lnTo>
                        <a:pt x="156" y="44"/>
                      </a:lnTo>
                      <a:lnTo>
                        <a:pt x="92" y="108"/>
                      </a:lnTo>
                      <a:lnTo>
                        <a:pt x="0" y="63"/>
                      </a:lnTo>
                      <a:lnTo>
                        <a:pt x="65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Freeform 129"/>
                <p:cNvSpPr/>
                <p:nvPr/>
              </p:nvSpPr>
              <p:spPr>
                <a:xfrm>
                  <a:off x="5653080" y="3492720"/>
                  <a:ext cx="203760" cy="60120"/>
                </a:xfrm>
                <a:custGeom>
                  <a:avLst/>
                  <a:gdLst>
                    <a:gd name="textAreaLeft" fmla="*/ 0 w 203760"/>
                    <a:gd name="textAreaRight" fmla="*/ 204120 w 203760"/>
                    <a:gd name="textAreaTop" fmla="*/ 0 h 60120"/>
                    <a:gd name="textAreaBottom" fmla="*/ 60480 h 60120"/>
                  </a:gdLst>
                  <a:ahLst/>
                  <a:rect l="textAreaLeft" t="textAreaTop" r="textAreaRight" b="textAreaBottom"/>
                  <a:pathLst>
                    <a:path w="158" h="108">
                      <a:moveTo>
                        <a:pt x="66" y="0"/>
                      </a:moveTo>
                      <a:lnTo>
                        <a:pt x="158" y="45"/>
                      </a:lnTo>
                      <a:lnTo>
                        <a:pt x="92" y="108"/>
                      </a:lnTo>
                      <a:lnTo>
                        <a:pt x="0" y="63"/>
                      </a:lnTo>
                      <a:lnTo>
                        <a:pt x="66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Freeform 130"/>
                <p:cNvSpPr/>
                <p:nvPr/>
              </p:nvSpPr>
              <p:spPr>
                <a:xfrm>
                  <a:off x="5567040" y="3528000"/>
                  <a:ext cx="203760" cy="60120"/>
                </a:xfrm>
                <a:custGeom>
                  <a:avLst/>
                  <a:gdLst>
                    <a:gd name="textAreaLeft" fmla="*/ 0 w 203760"/>
                    <a:gd name="textAreaRight" fmla="*/ 204120 w 203760"/>
                    <a:gd name="textAreaTop" fmla="*/ 0 h 60120"/>
                    <a:gd name="textAreaBottom" fmla="*/ 60480 h 60120"/>
                  </a:gdLst>
                  <a:ahLst/>
                  <a:rect l="textAreaLeft" t="textAreaTop" r="textAreaRight" b="textAreaBottom"/>
                  <a:pathLst>
                    <a:path w="157" h="108">
                      <a:moveTo>
                        <a:pt x="65" y="0"/>
                      </a:moveTo>
                      <a:lnTo>
                        <a:pt x="157" y="45"/>
                      </a:lnTo>
                      <a:lnTo>
                        <a:pt x="92" y="108"/>
                      </a:lnTo>
                      <a:lnTo>
                        <a:pt x="0" y="64"/>
                      </a:lnTo>
                      <a:lnTo>
                        <a:pt x="65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Freeform 131"/>
                <p:cNvSpPr/>
                <p:nvPr/>
              </p:nvSpPr>
              <p:spPr>
                <a:xfrm>
                  <a:off x="5480640" y="3563280"/>
                  <a:ext cx="206640" cy="59760"/>
                </a:xfrm>
                <a:custGeom>
                  <a:avLst/>
                  <a:gdLst>
                    <a:gd name="textAreaLeft" fmla="*/ 0 w 206640"/>
                    <a:gd name="textAreaRight" fmla="*/ 207000 w 206640"/>
                    <a:gd name="textAreaTop" fmla="*/ 0 h 59760"/>
                    <a:gd name="textAreaBottom" fmla="*/ 60120 h 59760"/>
                  </a:gdLst>
                  <a:ahLst/>
                  <a:rect l="textAreaLeft" t="textAreaTop" r="textAreaRight" b="textAreaBottom"/>
                  <a:pathLst>
                    <a:path w="158" h="107">
                      <a:moveTo>
                        <a:pt x="66" y="0"/>
                      </a:moveTo>
                      <a:lnTo>
                        <a:pt x="158" y="44"/>
                      </a:lnTo>
                      <a:lnTo>
                        <a:pt x="92" y="107"/>
                      </a:lnTo>
                      <a:lnTo>
                        <a:pt x="0" y="62"/>
                      </a:lnTo>
                      <a:lnTo>
                        <a:pt x="66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Freeform 132"/>
                <p:cNvSpPr/>
                <p:nvPr/>
              </p:nvSpPr>
              <p:spPr>
                <a:xfrm>
                  <a:off x="6627960" y="3165120"/>
                  <a:ext cx="206640" cy="60120"/>
                </a:xfrm>
                <a:custGeom>
                  <a:avLst/>
                  <a:gdLst>
                    <a:gd name="textAreaLeft" fmla="*/ 0 w 206640"/>
                    <a:gd name="textAreaRight" fmla="*/ 207000 w 206640"/>
                    <a:gd name="textAreaTop" fmla="*/ 0 h 60120"/>
                    <a:gd name="textAreaBottom" fmla="*/ 60480 h 60120"/>
                  </a:gdLst>
                  <a:ahLst/>
                  <a:rect l="textAreaLeft" t="textAreaTop" r="textAreaRight" b="textAreaBottom"/>
                  <a:pathLst>
                    <a:path w="157" h="108">
                      <a:moveTo>
                        <a:pt x="65" y="0"/>
                      </a:moveTo>
                      <a:lnTo>
                        <a:pt x="157" y="45"/>
                      </a:lnTo>
                      <a:lnTo>
                        <a:pt x="91" y="108"/>
                      </a:lnTo>
                      <a:lnTo>
                        <a:pt x="0" y="62"/>
                      </a:lnTo>
                      <a:lnTo>
                        <a:pt x="65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Freeform 133"/>
                <p:cNvSpPr/>
                <p:nvPr/>
              </p:nvSpPr>
              <p:spPr>
                <a:xfrm>
                  <a:off x="6541920" y="3200400"/>
                  <a:ext cx="205920" cy="59760"/>
                </a:xfrm>
                <a:custGeom>
                  <a:avLst/>
                  <a:gdLst>
                    <a:gd name="textAreaLeft" fmla="*/ 0 w 205920"/>
                    <a:gd name="textAreaRight" fmla="*/ 206280 w 205920"/>
                    <a:gd name="textAreaTop" fmla="*/ 0 h 59760"/>
                    <a:gd name="textAreaBottom" fmla="*/ 60120 h 59760"/>
                  </a:gdLst>
                  <a:ahLst/>
                  <a:rect l="textAreaLeft" t="textAreaTop" r="textAreaRight" b="textAreaBottom"/>
                  <a:pathLst>
                    <a:path w="157" h="109">
                      <a:moveTo>
                        <a:pt x="66" y="0"/>
                      </a:moveTo>
                      <a:lnTo>
                        <a:pt x="157" y="46"/>
                      </a:lnTo>
                      <a:lnTo>
                        <a:pt x="93" y="109"/>
                      </a:lnTo>
                      <a:lnTo>
                        <a:pt x="0" y="64"/>
                      </a:lnTo>
                      <a:lnTo>
                        <a:pt x="66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Freeform 134"/>
                <p:cNvSpPr/>
                <p:nvPr/>
              </p:nvSpPr>
              <p:spPr>
                <a:xfrm>
                  <a:off x="6458400" y="3235320"/>
                  <a:ext cx="203760" cy="60120"/>
                </a:xfrm>
                <a:custGeom>
                  <a:avLst/>
                  <a:gdLst>
                    <a:gd name="textAreaLeft" fmla="*/ 0 w 203760"/>
                    <a:gd name="textAreaRight" fmla="*/ 204120 w 203760"/>
                    <a:gd name="textAreaTop" fmla="*/ 0 h 60120"/>
                    <a:gd name="textAreaBottom" fmla="*/ 60480 h 60120"/>
                  </a:gdLst>
                  <a:ahLst/>
                  <a:rect l="textAreaLeft" t="textAreaTop" r="textAreaRight" b="textAreaBottom"/>
                  <a:pathLst>
                    <a:path w="158" h="109">
                      <a:moveTo>
                        <a:pt x="65" y="0"/>
                      </a:moveTo>
                      <a:lnTo>
                        <a:pt x="158" y="45"/>
                      </a:lnTo>
                      <a:lnTo>
                        <a:pt x="92" y="109"/>
                      </a:lnTo>
                      <a:lnTo>
                        <a:pt x="0" y="64"/>
                      </a:lnTo>
                      <a:lnTo>
                        <a:pt x="65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Freeform 135"/>
                <p:cNvSpPr/>
                <p:nvPr/>
              </p:nvSpPr>
              <p:spPr>
                <a:xfrm>
                  <a:off x="6372000" y="3270600"/>
                  <a:ext cx="203760" cy="60120"/>
                </a:xfrm>
                <a:custGeom>
                  <a:avLst/>
                  <a:gdLst>
                    <a:gd name="textAreaLeft" fmla="*/ 0 w 203760"/>
                    <a:gd name="textAreaRight" fmla="*/ 204120 w 203760"/>
                    <a:gd name="textAreaTop" fmla="*/ 0 h 60120"/>
                    <a:gd name="textAreaBottom" fmla="*/ 60480 h 60120"/>
                  </a:gdLst>
                  <a:ahLst/>
                  <a:rect l="textAreaLeft" t="textAreaTop" r="textAreaRight" b="textAreaBottom"/>
                  <a:pathLst>
                    <a:path w="158" h="107">
                      <a:moveTo>
                        <a:pt x="66" y="0"/>
                      </a:moveTo>
                      <a:lnTo>
                        <a:pt x="158" y="45"/>
                      </a:lnTo>
                      <a:lnTo>
                        <a:pt x="92" y="107"/>
                      </a:lnTo>
                      <a:lnTo>
                        <a:pt x="0" y="62"/>
                      </a:lnTo>
                      <a:lnTo>
                        <a:pt x="66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Freeform 136"/>
                <p:cNvSpPr/>
                <p:nvPr/>
              </p:nvSpPr>
              <p:spPr>
                <a:xfrm>
                  <a:off x="6285960" y="3305880"/>
                  <a:ext cx="203760" cy="59760"/>
                </a:xfrm>
                <a:custGeom>
                  <a:avLst/>
                  <a:gdLst>
                    <a:gd name="textAreaLeft" fmla="*/ 0 w 203760"/>
                    <a:gd name="textAreaRight" fmla="*/ 204120 w 203760"/>
                    <a:gd name="textAreaTop" fmla="*/ 0 h 59760"/>
                    <a:gd name="textAreaBottom" fmla="*/ 60120 h 59760"/>
                  </a:gdLst>
                  <a:ahLst/>
                  <a:rect l="textAreaLeft" t="textAreaTop" r="textAreaRight" b="textAreaBottom"/>
                  <a:pathLst>
                    <a:path w="157" h="109">
                      <a:moveTo>
                        <a:pt x="65" y="0"/>
                      </a:moveTo>
                      <a:lnTo>
                        <a:pt x="157" y="45"/>
                      </a:lnTo>
                      <a:lnTo>
                        <a:pt x="92" y="109"/>
                      </a:lnTo>
                      <a:lnTo>
                        <a:pt x="0" y="64"/>
                      </a:lnTo>
                      <a:lnTo>
                        <a:pt x="65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Freeform 137"/>
                <p:cNvSpPr/>
                <p:nvPr/>
              </p:nvSpPr>
              <p:spPr>
                <a:xfrm>
                  <a:off x="6199560" y="3340800"/>
                  <a:ext cx="205920" cy="61560"/>
                </a:xfrm>
                <a:custGeom>
                  <a:avLst/>
                  <a:gdLst>
                    <a:gd name="textAreaLeft" fmla="*/ 0 w 205920"/>
                    <a:gd name="textAreaRight" fmla="*/ 206280 w 205920"/>
                    <a:gd name="textAreaTop" fmla="*/ 0 h 61560"/>
                    <a:gd name="textAreaBottom" fmla="*/ 61920 h 61560"/>
                  </a:gdLst>
                  <a:ahLst/>
                  <a:rect l="textAreaLeft" t="textAreaTop" r="textAreaRight" b="textAreaBottom"/>
                  <a:pathLst>
                    <a:path w="158" h="109">
                      <a:moveTo>
                        <a:pt x="66" y="0"/>
                      </a:moveTo>
                      <a:lnTo>
                        <a:pt x="158" y="45"/>
                      </a:lnTo>
                      <a:lnTo>
                        <a:pt x="92" y="109"/>
                      </a:lnTo>
                      <a:lnTo>
                        <a:pt x="0" y="62"/>
                      </a:lnTo>
                      <a:lnTo>
                        <a:pt x="66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Freeform 138"/>
                <p:cNvSpPr/>
                <p:nvPr/>
              </p:nvSpPr>
              <p:spPr>
                <a:xfrm>
                  <a:off x="6116040" y="3376080"/>
                  <a:ext cx="203760" cy="59760"/>
                </a:xfrm>
                <a:custGeom>
                  <a:avLst/>
                  <a:gdLst>
                    <a:gd name="textAreaLeft" fmla="*/ 0 w 203760"/>
                    <a:gd name="textAreaRight" fmla="*/ 204120 w 203760"/>
                    <a:gd name="textAreaTop" fmla="*/ 0 h 59760"/>
                    <a:gd name="textAreaBottom" fmla="*/ 60120 h 59760"/>
                  </a:gdLst>
                  <a:ahLst/>
                  <a:rect l="textAreaLeft" t="textAreaTop" r="textAreaRight" b="textAreaBottom"/>
                  <a:pathLst>
                    <a:path w="157" h="109">
                      <a:moveTo>
                        <a:pt x="65" y="0"/>
                      </a:moveTo>
                      <a:lnTo>
                        <a:pt x="157" y="47"/>
                      </a:lnTo>
                      <a:lnTo>
                        <a:pt x="92" y="109"/>
                      </a:lnTo>
                      <a:lnTo>
                        <a:pt x="0" y="64"/>
                      </a:lnTo>
                      <a:lnTo>
                        <a:pt x="65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Freeform 139"/>
                <p:cNvSpPr/>
                <p:nvPr/>
              </p:nvSpPr>
              <p:spPr>
                <a:xfrm>
                  <a:off x="6029280" y="3411000"/>
                  <a:ext cx="203760" cy="61560"/>
                </a:xfrm>
                <a:custGeom>
                  <a:avLst/>
                  <a:gdLst>
                    <a:gd name="textAreaLeft" fmla="*/ 0 w 203760"/>
                    <a:gd name="textAreaRight" fmla="*/ 204120 w 203760"/>
                    <a:gd name="textAreaTop" fmla="*/ 0 h 61560"/>
                    <a:gd name="textAreaBottom" fmla="*/ 61920 h 61560"/>
                  </a:gdLst>
                  <a:ahLst/>
                  <a:rect l="textAreaLeft" t="textAreaTop" r="textAreaRight" b="textAreaBottom"/>
                  <a:pathLst>
                    <a:path w="158" h="109">
                      <a:moveTo>
                        <a:pt x="66" y="0"/>
                      </a:moveTo>
                      <a:lnTo>
                        <a:pt x="158" y="45"/>
                      </a:lnTo>
                      <a:lnTo>
                        <a:pt x="92" y="109"/>
                      </a:lnTo>
                      <a:lnTo>
                        <a:pt x="0" y="64"/>
                      </a:lnTo>
                      <a:lnTo>
                        <a:pt x="66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Freeform 140"/>
                <p:cNvSpPr/>
                <p:nvPr/>
              </p:nvSpPr>
              <p:spPr>
                <a:xfrm>
                  <a:off x="5943240" y="3447720"/>
                  <a:ext cx="203760" cy="58680"/>
                </a:xfrm>
                <a:custGeom>
                  <a:avLst/>
                  <a:gdLst>
                    <a:gd name="textAreaLeft" fmla="*/ 0 w 203760"/>
                    <a:gd name="textAreaRight" fmla="*/ 204120 w 203760"/>
                    <a:gd name="textAreaTop" fmla="*/ 0 h 58680"/>
                    <a:gd name="textAreaBottom" fmla="*/ 59040 h 58680"/>
                  </a:gdLst>
                  <a:ahLst/>
                  <a:rect l="textAreaLeft" t="textAreaTop" r="textAreaRight" b="textAreaBottom"/>
                  <a:pathLst>
                    <a:path w="158" h="107">
                      <a:moveTo>
                        <a:pt x="66" y="0"/>
                      </a:moveTo>
                      <a:lnTo>
                        <a:pt x="158" y="45"/>
                      </a:lnTo>
                      <a:lnTo>
                        <a:pt x="93" y="107"/>
                      </a:lnTo>
                      <a:lnTo>
                        <a:pt x="0" y="62"/>
                      </a:lnTo>
                      <a:lnTo>
                        <a:pt x="66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Freeform 141"/>
                <p:cNvSpPr/>
                <p:nvPr/>
              </p:nvSpPr>
              <p:spPr>
                <a:xfrm>
                  <a:off x="5856840" y="3481560"/>
                  <a:ext cx="206640" cy="61560"/>
                </a:xfrm>
                <a:custGeom>
                  <a:avLst/>
                  <a:gdLst>
                    <a:gd name="textAreaLeft" fmla="*/ 0 w 206640"/>
                    <a:gd name="textAreaRight" fmla="*/ 207000 w 206640"/>
                    <a:gd name="textAreaTop" fmla="*/ 0 h 61560"/>
                    <a:gd name="textAreaBottom" fmla="*/ 61920 h 61560"/>
                  </a:gdLst>
                  <a:ahLst/>
                  <a:rect l="textAreaLeft" t="textAreaTop" r="textAreaRight" b="textAreaBottom"/>
                  <a:pathLst>
                    <a:path w="157" h="109">
                      <a:moveTo>
                        <a:pt x="64" y="0"/>
                      </a:moveTo>
                      <a:lnTo>
                        <a:pt x="157" y="45"/>
                      </a:lnTo>
                      <a:lnTo>
                        <a:pt x="91" y="109"/>
                      </a:lnTo>
                      <a:lnTo>
                        <a:pt x="0" y="64"/>
                      </a:lnTo>
                      <a:lnTo>
                        <a:pt x="64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Freeform 142"/>
                <p:cNvSpPr/>
                <p:nvPr/>
              </p:nvSpPr>
              <p:spPr>
                <a:xfrm>
                  <a:off x="5770800" y="3518280"/>
                  <a:ext cx="205920" cy="58320"/>
                </a:xfrm>
                <a:custGeom>
                  <a:avLst/>
                  <a:gdLst>
                    <a:gd name="textAreaLeft" fmla="*/ 0 w 205920"/>
                    <a:gd name="textAreaRight" fmla="*/ 206280 w 205920"/>
                    <a:gd name="textAreaTop" fmla="*/ 0 h 58320"/>
                    <a:gd name="textAreaBottom" fmla="*/ 58680 h 58320"/>
                  </a:gdLst>
                  <a:ahLst/>
                  <a:rect l="textAreaLeft" t="textAreaTop" r="textAreaRight" b="textAreaBottom"/>
                  <a:pathLst>
                    <a:path w="157" h="107">
                      <a:moveTo>
                        <a:pt x="66" y="0"/>
                      </a:moveTo>
                      <a:lnTo>
                        <a:pt x="157" y="45"/>
                      </a:lnTo>
                      <a:lnTo>
                        <a:pt x="92" y="107"/>
                      </a:lnTo>
                      <a:lnTo>
                        <a:pt x="0" y="63"/>
                      </a:lnTo>
                      <a:lnTo>
                        <a:pt x="66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Freeform 143"/>
                <p:cNvSpPr/>
                <p:nvPr/>
              </p:nvSpPr>
              <p:spPr>
                <a:xfrm>
                  <a:off x="5687280" y="3553200"/>
                  <a:ext cx="205920" cy="60120"/>
                </a:xfrm>
                <a:custGeom>
                  <a:avLst/>
                  <a:gdLst>
                    <a:gd name="textAreaLeft" fmla="*/ 0 w 205920"/>
                    <a:gd name="textAreaRight" fmla="*/ 206280 w 205920"/>
                    <a:gd name="textAreaTop" fmla="*/ 0 h 60120"/>
                    <a:gd name="textAreaBottom" fmla="*/ 60480 h 60120"/>
                  </a:gdLst>
                  <a:ahLst/>
                  <a:rect l="textAreaLeft" t="textAreaTop" r="textAreaRight" b="textAreaBottom"/>
                  <a:pathLst>
                    <a:path w="157" h="108">
                      <a:moveTo>
                        <a:pt x="65" y="0"/>
                      </a:moveTo>
                      <a:lnTo>
                        <a:pt x="157" y="44"/>
                      </a:lnTo>
                      <a:lnTo>
                        <a:pt x="91" y="108"/>
                      </a:lnTo>
                      <a:lnTo>
                        <a:pt x="0" y="63"/>
                      </a:lnTo>
                      <a:lnTo>
                        <a:pt x="65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Freeform 144"/>
                <p:cNvSpPr/>
                <p:nvPr/>
              </p:nvSpPr>
              <p:spPr>
                <a:xfrm>
                  <a:off x="5600880" y="3588480"/>
                  <a:ext cx="206640" cy="59760"/>
                </a:xfrm>
                <a:custGeom>
                  <a:avLst/>
                  <a:gdLst>
                    <a:gd name="textAreaLeft" fmla="*/ 0 w 206640"/>
                    <a:gd name="textAreaRight" fmla="*/ 207000 w 206640"/>
                    <a:gd name="textAreaTop" fmla="*/ 0 h 59760"/>
                    <a:gd name="textAreaBottom" fmla="*/ 60120 h 59760"/>
                  </a:gdLst>
                  <a:ahLst/>
                  <a:rect l="textAreaLeft" t="textAreaTop" r="textAreaRight" b="textAreaBottom"/>
                  <a:pathLst>
                    <a:path w="157" h="109">
                      <a:moveTo>
                        <a:pt x="66" y="0"/>
                      </a:moveTo>
                      <a:lnTo>
                        <a:pt x="157" y="45"/>
                      </a:lnTo>
                      <a:lnTo>
                        <a:pt x="92" y="109"/>
                      </a:lnTo>
                      <a:lnTo>
                        <a:pt x="0" y="63"/>
                      </a:lnTo>
                      <a:lnTo>
                        <a:pt x="66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Freeform 145"/>
                <p:cNvSpPr/>
                <p:nvPr/>
              </p:nvSpPr>
              <p:spPr>
                <a:xfrm>
                  <a:off x="6834960" y="3155400"/>
                  <a:ext cx="203760" cy="59760"/>
                </a:xfrm>
                <a:custGeom>
                  <a:avLst/>
                  <a:gdLst>
                    <a:gd name="textAreaLeft" fmla="*/ 0 w 203760"/>
                    <a:gd name="textAreaRight" fmla="*/ 204120 w 203760"/>
                    <a:gd name="textAreaTop" fmla="*/ 0 h 59760"/>
                    <a:gd name="textAreaBottom" fmla="*/ 60120 h 59760"/>
                  </a:gdLst>
                  <a:ahLst/>
                  <a:rect l="textAreaLeft" t="textAreaTop" r="textAreaRight" b="textAreaBottom"/>
                  <a:pathLst>
                    <a:path w="157" h="108">
                      <a:moveTo>
                        <a:pt x="65" y="0"/>
                      </a:moveTo>
                      <a:lnTo>
                        <a:pt x="157" y="46"/>
                      </a:lnTo>
                      <a:lnTo>
                        <a:pt x="92" y="108"/>
                      </a:lnTo>
                      <a:lnTo>
                        <a:pt x="0" y="64"/>
                      </a:lnTo>
                      <a:lnTo>
                        <a:pt x="65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Freeform 146"/>
                <p:cNvSpPr/>
                <p:nvPr/>
              </p:nvSpPr>
              <p:spPr>
                <a:xfrm>
                  <a:off x="6748200" y="3190320"/>
                  <a:ext cx="203760" cy="60120"/>
                </a:xfrm>
                <a:custGeom>
                  <a:avLst/>
                  <a:gdLst>
                    <a:gd name="textAreaLeft" fmla="*/ 0 w 203760"/>
                    <a:gd name="textAreaRight" fmla="*/ 204120 w 203760"/>
                    <a:gd name="textAreaTop" fmla="*/ 0 h 60120"/>
                    <a:gd name="textAreaBottom" fmla="*/ 60480 h 60120"/>
                  </a:gdLst>
                  <a:ahLst/>
                  <a:rect l="textAreaLeft" t="textAreaTop" r="textAreaRight" b="textAreaBottom"/>
                  <a:pathLst>
                    <a:path w="158" h="108">
                      <a:moveTo>
                        <a:pt x="66" y="0"/>
                      </a:moveTo>
                      <a:lnTo>
                        <a:pt x="158" y="44"/>
                      </a:lnTo>
                      <a:lnTo>
                        <a:pt x="92" y="108"/>
                      </a:lnTo>
                      <a:lnTo>
                        <a:pt x="0" y="63"/>
                      </a:lnTo>
                      <a:lnTo>
                        <a:pt x="66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Freeform 147"/>
                <p:cNvSpPr/>
                <p:nvPr/>
              </p:nvSpPr>
              <p:spPr>
                <a:xfrm>
                  <a:off x="6662520" y="3225600"/>
                  <a:ext cx="203760" cy="60120"/>
                </a:xfrm>
                <a:custGeom>
                  <a:avLst/>
                  <a:gdLst>
                    <a:gd name="textAreaLeft" fmla="*/ 0 w 203760"/>
                    <a:gd name="textAreaRight" fmla="*/ 204120 w 203760"/>
                    <a:gd name="textAreaTop" fmla="*/ 0 h 60120"/>
                    <a:gd name="textAreaBottom" fmla="*/ 60480 h 60120"/>
                  </a:gdLst>
                  <a:ahLst/>
                  <a:rect l="textAreaLeft" t="textAreaTop" r="textAreaRight" b="textAreaBottom"/>
                  <a:pathLst>
                    <a:path w="156" h="108">
                      <a:moveTo>
                        <a:pt x="64" y="0"/>
                      </a:moveTo>
                      <a:lnTo>
                        <a:pt x="156" y="45"/>
                      </a:lnTo>
                      <a:lnTo>
                        <a:pt x="91" y="108"/>
                      </a:lnTo>
                      <a:lnTo>
                        <a:pt x="0" y="63"/>
                      </a:lnTo>
                      <a:lnTo>
                        <a:pt x="64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Freeform 148"/>
                <p:cNvSpPr/>
                <p:nvPr/>
              </p:nvSpPr>
              <p:spPr>
                <a:xfrm>
                  <a:off x="6575760" y="3260520"/>
                  <a:ext cx="205920" cy="60120"/>
                </a:xfrm>
                <a:custGeom>
                  <a:avLst/>
                  <a:gdLst>
                    <a:gd name="textAreaLeft" fmla="*/ 0 w 205920"/>
                    <a:gd name="textAreaRight" fmla="*/ 206280 w 205920"/>
                    <a:gd name="textAreaTop" fmla="*/ 0 h 60120"/>
                    <a:gd name="textAreaBottom" fmla="*/ 60480 h 60120"/>
                  </a:gdLst>
                  <a:ahLst/>
                  <a:rect l="textAreaLeft" t="textAreaTop" r="textAreaRight" b="textAreaBottom"/>
                  <a:pathLst>
                    <a:path w="157" h="108">
                      <a:moveTo>
                        <a:pt x="66" y="0"/>
                      </a:moveTo>
                      <a:lnTo>
                        <a:pt x="157" y="45"/>
                      </a:lnTo>
                      <a:lnTo>
                        <a:pt x="91" y="108"/>
                      </a:lnTo>
                      <a:lnTo>
                        <a:pt x="0" y="64"/>
                      </a:lnTo>
                      <a:lnTo>
                        <a:pt x="66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Freeform 149"/>
                <p:cNvSpPr/>
                <p:nvPr/>
              </p:nvSpPr>
              <p:spPr>
                <a:xfrm>
                  <a:off x="6489720" y="3295800"/>
                  <a:ext cx="205920" cy="60120"/>
                </a:xfrm>
                <a:custGeom>
                  <a:avLst/>
                  <a:gdLst>
                    <a:gd name="textAreaLeft" fmla="*/ 0 w 205920"/>
                    <a:gd name="textAreaRight" fmla="*/ 206280 w 205920"/>
                    <a:gd name="textAreaTop" fmla="*/ 0 h 60120"/>
                    <a:gd name="textAreaBottom" fmla="*/ 60480 h 60120"/>
                  </a:gdLst>
                  <a:ahLst/>
                  <a:rect l="textAreaLeft" t="textAreaTop" r="textAreaRight" b="textAreaBottom"/>
                  <a:pathLst>
                    <a:path w="157" h="108">
                      <a:moveTo>
                        <a:pt x="66" y="0"/>
                      </a:moveTo>
                      <a:lnTo>
                        <a:pt x="157" y="44"/>
                      </a:lnTo>
                      <a:lnTo>
                        <a:pt x="92" y="108"/>
                      </a:lnTo>
                      <a:lnTo>
                        <a:pt x="0" y="62"/>
                      </a:lnTo>
                      <a:lnTo>
                        <a:pt x="66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Freeform 150"/>
                <p:cNvSpPr/>
                <p:nvPr/>
              </p:nvSpPr>
              <p:spPr>
                <a:xfrm>
                  <a:off x="6405840" y="3331080"/>
                  <a:ext cx="206640" cy="59760"/>
                </a:xfrm>
                <a:custGeom>
                  <a:avLst/>
                  <a:gdLst>
                    <a:gd name="textAreaLeft" fmla="*/ 0 w 206640"/>
                    <a:gd name="textAreaRight" fmla="*/ 207000 w 206640"/>
                    <a:gd name="textAreaTop" fmla="*/ 0 h 59760"/>
                    <a:gd name="textAreaBottom" fmla="*/ 60120 h 59760"/>
                  </a:gdLst>
                  <a:ahLst/>
                  <a:rect l="textAreaLeft" t="textAreaTop" r="textAreaRight" b="textAreaBottom"/>
                  <a:pathLst>
                    <a:path w="157" h="109">
                      <a:moveTo>
                        <a:pt x="65" y="0"/>
                      </a:moveTo>
                      <a:lnTo>
                        <a:pt x="157" y="46"/>
                      </a:lnTo>
                      <a:lnTo>
                        <a:pt x="91" y="109"/>
                      </a:lnTo>
                      <a:lnTo>
                        <a:pt x="0" y="64"/>
                      </a:lnTo>
                      <a:lnTo>
                        <a:pt x="65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Freeform 151"/>
                <p:cNvSpPr/>
                <p:nvPr/>
              </p:nvSpPr>
              <p:spPr>
                <a:xfrm>
                  <a:off x="6319800" y="3365640"/>
                  <a:ext cx="205920" cy="60120"/>
                </a:xfrm>
                <a:custGeom>
                  <a:avLst/>
                  <a:gdLst>
                    <a:gd name="textAreaLeft" fmla="*/ 0 w 205920"/>
                    <a:gd name="textAreaRight" fmla="*/ 206280 w 205920"/>
                    <a:gd name="textAreaTop" fmla="*/ 0 h 60120"/>
                    <a:gd name="textAreaBottom" fmla="*/ 60480 h 60120"/>
                  </a:gdLst>
                  <a:ahLst/>
                  <a:rect l="textAreaLeft" t="textAreaTop" r="textAreaRight" b="textAreaBottom"/>
                  <a:pathLst>
                    <a:path w="157" h="108">
                      <a:moveTo>
                        <a:pt x="66" y="0"/>
                      </a:moveTo>
                      <a:lnTo>
                        <a:pt x="157" y="45"/>
                      </a:lnTo>
                      <a:lnTo>
                        <a:pt x="92" y="108"/>
                      </a:lnTo>
                      <a:lnTo>
                        <a:pt x="0" y="64"/>
                      </a:lnTo>
                      <a:lnTo>
                        <a:pt x="66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Freeform 152"/>
                <p:cNvSpPr/>
                <p:nvPr/>
              </p:nvSpPr>
              <p:spPr>
                <a:xfrm>
                  <a:off x="6233400" y="3402720"/>
                  <a:ext cx="206640" cy="58680"/>
                </a:xfrm>
                <a:custGeom>
                  <a:avLst/>
                  <a:gdLst>
                    <a:gd name="textAreaLeft" fmla="*/ 0 w 206640"/>
                    <a:gd name="textAreaRight" fmla="*/ 207000 w 206640"/>
                    <a:gd name="textAreaTop" fmla="*/ 0 h 58680"/>
                    <a:gd name="textAreaBottom" fmla="*/ 59040 h 58680"/>
                  </a:gdLst>
                  <a:ahLst/>
                  <a:rect l="textAreaLeft" t="textAreaTop" r="textAreaRight" b="textAreaBottom"/>
                  <a:pathLst>
                    <a:path w="157" h="107">
                      <a:moveTo>
                        <a:pt x="65" y="0"/>
                      </a:moveTo>
                      <a:lnTo>
                        <a:pt x="157" y="44"/>
                      </a:lnTo>
                      <a:lnTo>
                        <a:pt x="91" y="107"/>
                      </a:lnTo>
                      <a:lnTo>
                        <a:pt x="0" y="62"/>
                      </a:lnTo>
                      <a:lnTo>
                        <a:pt x="65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Freeform 153"/>
                <p:cNvSpPr/>
                <p:nvPr/>
              </p:nvSpPr>
              <p:spPr>
                <a:xfrm>
                  <a:off x="6147360" y="3435840"/>
                  <a:ext cx="205920" cy="61920"/>
                </a:xfrm>
                <a:custGeom>
                  <a:avLst/>
                  <a:gdLst>
                    <a:gd name="textAreaLeft" fmla="*/ 0 w 205920"/>
                    <a:gd name="textAreaRight" fmla="*/ 206280 w 205920"/>
                    <a:gd name="textAreaTop" fmla="*/ 0 h 61920"/>
                    <a:gd name="textAreaBottom" fmla="*/ 62280 h 61920"/>
                  </a:gdLst>
                  <a:ahLst/>
                  <a:rect l="textAreaLeft" t="textAreaTop" r="textAreaRight" b="textAreaBottom"/>
                  <a:pathLst>
                    <a:path w="157" h="109">
                      <a:moveTo>
                        <a:pt x="66" y="0"/>
                      </a:moveTo>
                      <a:lnTo>
                        <a:pt x="157" y="45"/>
                      </a:lnTo>
                      <a:lnTo>
                        <a:pt x="93" y="109"/>
                      </a:lnTo>
                      <a:lnTo>
                        <a:pt x="0" y="64"/>
                      </a:lnTo>
                      <a:lnTo>
                        <a:pt x="66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Freeform 154"/>
                <p:cNvSpPr/>
                <p:nvPr/>
              </p:nvSpPr>
              <p:spPr>
                <a:xfrm>
                  <a:off x="6063840" y="3472560"/>
                  <a:ext cx="205920" cy="58680"/>
                </a:xfrm>
                <a:custGeom>
                  <a:avLst/>
                  <a:gdLst>
                    <a:gd name="textAreaLeft" fmla="*/ 0 w 205920"/>
                    <a:gd name="textAreaRight" fmla="*/ 206280 w 205920"/>
                    <a:gd name="textAreaTop" fmla="*/ 0 h 58680"/>
                    <a:gd name="textAreaBottom" fmla="*/ 59040 h 58680"/>
                  </a:gdLst>
                  <a:ahLst/>
                  <a:rect l="textAreaLeft" t="textAreaTop" r="textAreaRight" b="textAreaBottom"/>
                  <a:pathLst>
                    <a:path w="158" h="107">
                      <a:moveTo>
                        <a:pt x="65" y="0"/>
                      </a:moveTo>
                      <a:lnTo>
                        <a:pt x="158" y="45"/>
                      </a:lnTo>
                      <a:lnTo>
                        <a:pt x="92" y="107"/>
                      </a:lnTo>
                      <a:lnTo>
                        <a:pt x="0" y="62"/>
                      </a:lnTo>
                      <a:lnTo>
                        <a:pt x="65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Freeform 155"/>
                <p:cNvSpPr/>
                <p:nvPr/>
              </p:nvSpPr>
              <p:spPr>
                <a:xfrm>
                  <a:off x="5977080" y="3506400"/>
                  <a:ext cx="206640" cy="61560"/>
                </a:xfrm>
                <a:custGeom>
                  <a:avLst/>
                  <a:gdLst>
                    <a:gd name="textAreaLeft" fmla="*/ 0 w 206640"/>
                    <a:gd name="textAreaRight" fmla="*/ 207000 w 206640"/>
                    <a:gd name="textAreaTop" fmla="*/ 0 h 61560"/>
                    <a:gd name="textAreaBottom" fmla="*/ 61920 h 61560"/>
                  </a:gdLst>
                  <a:ahLst/>
                  <a:rect l="textAreaLeft" t="textAreaTop" r="textAreaRight" b="textAreaBottom"/>
                  <a:pathLst>
                    <a:path w="158" h="109">
                      <a:moveTo>
                        <a:pt x="66" y="0"/>
                      </a:moveTo>
                      <a:lnTo>
                        <a:pt x="158" y="45"/>
                      </a:lnTo>
                      <a:lnTo>
                        <a:pt x="93" y="109"/>
                      </a:lnTo>
                      <a:lnTo>
                        <a:pt x="0" y="64"/>
                      </a:lnTo>
                      <a:lnTo>
                        <a:pt x="66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Freeform 156"/>
                <p:cNvSpPr/>
                <p:nvPr/>
              </p:nvSpPr>
              <p:spPr>
                <a:xfrm>
                  <a:off x="5893560" y="3543120"/>
                  <a:ext cx="203760" cy="59760"/>
                </a:xfrm>
                <a:custGeom>
                  <a:avLst/>
                  <a:gdLst>
                    <a:gd name="textAreaLeft" fmla="*/ 0 w 203760"/>
                    <a:gd name="textAreaRight" fmla="*/ 204120 w 203760"/>
                    <a:gd name="textAreaTop" fmla="*/ 0 h 59760"/>
                    <a:gd name="textAreaBottom" fmla="*/ 60120 h 59760"/>
                  </a:gdLst>
                  <a:ahLst/>
                  <a:rect l="textAreaLeft" t="textAreaTop" r="textAreaRight" b="textAreaBottom"/>
                  <a:pathLst>
                    <a:path w="158" h="108">
                      <a:moveTo>
                        <a:pt x="65" y="0"/>
                      </a:moveTo>
                      <a:lnTo>
                        <a:pt x="158" y="45"/>
                      </a:lnTo>
                      <a:lnTo>
                        <a:pt x="92" y="108"/>
                      </a:lnTo>
                      <a:lnTo>
                        <a:pt x="0" y="62"/>
                      </a:lnTo>
                      <a:lnTo>
                        <a:pt x="65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Freeform 157"/>
                <p:cNvSpPr/>
                <p:nvPr/>
              </p:nvSpPr>
              <p:spPr>
                <a:xfrm>
                  <a:off x="5807520" y="3576600"/>
                  <a:ext cx="203760" cy="61560"/>
                </a:xfrm>
                <a:custGeom>
                  <a:avLst/>
                  <a:gdLst>
                    <a:gd name="textAreaLeft" fmla="*/ 0 w 203760"/>
                    <a:gd name="textAreaRight" fmla="*/ 204120 w 203760"/>
                    <a:gd name="textAreaTop" fmla="*/ 0 h 61560"/>
                    <a:gd name="textAreaBottom" fmla="*/ 61920 h 61560"/>
                  </a:gdLst>
                  <a:ahLst/>
                  <a:rect l="textAreaLeft" t="textAreaTop" r="textAreaRight" b="textAreaBottom"/>
                  <a:pathLst>
                    <a:path w="158" h="109">
                      <a:moveTo>
                        <a:pt x="66" y="0"/>
                      </a:moveTo>
                      <a:lnTo>
                        <a:pt x="158" y="46"/>
                      </a:lnTo>
                      <a:lnTo>
                        <a:pt x="93" y="109"/>
                      </a:lnTo>
                      <a:lnTo>
                        <a:pt x="0" y="64"/>
                      </a:lnTo>
                      <a:lnTo>
                        <a:pt x="66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Freeform 158"/>
                <p:cNvSpPr/>
                <p:nvPr/>
              </p:nvSpPr>
              <p:spPr>
                <a:xfrm>
                  <a:off x="5721120" y="3613320"/>
                  <a:ext cx="205920" cy="60120"/>
                </a:xfrm>
                <a:custGeom>
                  <a:avLst/>
                  <a:gdLst>
                    <a:gd name="textAreaLeft" fmla="*/ 0 w 205920"/>
                    <a:gd name="textAreaRight" fmla="*/ 206280 w 205920"/>
                    <a:gd name="textAreaTop" fmla="*/ 0 h 60120"/>
                    <a:gd name="textAreaBottom" fmla="*/ 60480 h 60120"/>
                  </a:gdLst>
                  <a:ahLst/>
                  <a:rect l="textAreaLeft" t="textAreaTop" r="textAreaRight" b="textAreaBottom"/>
                  <a:pathLst>
                    <a:path w="158" h="109">
                      <a:moveTo>
                        <a:pt x="65" y="0"/>
                      </a:moveTo>
                      <a:lnTo>
                        <a:pt x="158" y="45"/>
                      </a:lnTo>
                      <a:lnTo>
                        <a:pt x="92" y="109"/>
                      </a:lnTo>
                      <a:lnTo>
                        <a:pt x="0" y="64"/>
                      </a:lnTo>
                      <a:lnTo>
                        <a:pt x="65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Freeform 159"/>
                <p:cNvSpPr/>
                <p:nvPr/>
              </p:nvSpPr>
              <p:spPr>
                <a:xfrm>
                  <a:off x="7038720" y="3144960"/>
                  <a:ext cx="205920" cy="60120"/>
                </a:xfrm>
                <a:custGeom>
                  <a:avLst/>
                  <a:gdLst>
                    <a:gd name="textAreaLeft" fmla="*/ 0 w 205920"/>
                    <a:gd name="textAreaRight" fmla="*/ 206280 w 205920"/>
                    <a:gd name="textAreaTop" fmla="*/ 0 h 60120"/>
                    <a:gd name="textAreaBottom" fmla="*/ 60480 h 60120"/>
                  </a:gdLst>
                  <a:ahLst/>
                  <a:rect l="textAreaLeft" t="textAreaTop" r="textAreaRight" b="textAreaBottom"/>
                  <a:pathLst>
                    <a:path w="157" h="109">
                      <a:moveTo>
                        <a:pt x="66" y="0"/>
                      </a:moveTo>
                      <a:lnTo>
                        <a:pt x="157" y="45"/>
                      </a:lnTo>
                      <a:lnTo>
                        <a:pt x="92" y="109"/>
                      </a:lnTo>
                      <a:lnTo>
                        <a:pt x="0" y="64"/>
                      </a:lnTo>
                      <a:lnTo>
                        <a:pt x="66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Freeform 160"/>
                <p:cNvSpPr/>
                <p:nvPr/>
              </p:nvSpPr>
              <p:spPr>
                <a:xfrm>
                  <a:off x="6952320" y="3180240"/>
                  <a:ext cx="205920" cy="60120"/>
                </a:xfrm>
                <a:custGeom>
                  <a:avLst/>
                  <a:gdLst>
                    <a:gd name="textAreaLeft" fmla="*/ 0 w 205920"/>
                    <a:gd name="textAreaRight" fmla="*/ 206280 w 205920"/>
                    <a:gd name="textAreaTop" fmla="*/ 0 h 60120"/>
                    <a:gd name="textAreaBottom" fmla="*/ 60480 h 60120"/>
                  </a:gdLst>
                  <a:ahLst/>
                  <a:rect l="textAreaLeft" t="textAreaTop" r="textAreaRight" b="textAreaBottom"/>
                  <a:pathLst>
                    <a:path w="157" h="107">
                      <a:moveTo>
                        <a:pt x="65" y="0"/>
                      </a:moveTo>
                      <a:lnTo>
                        <a:pt x="157" y="45"/>
                      </a:lnTo>
                      <a:lnTo>
                        <a:pt x="91" y="107"/>
                      </a:lnTo>
                      <a:lnTo>
                        <a:pt x="0" y="62"/>
                      </a:lnTo>
                      <a:lnTo>
                        <a:pt x="65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Freeform 161"/>
                <p:cNvSpPr/>
                <p:nvPr/>
              </p:nvSpPr>
              <p:spPr>
                <a:xfrm>
                  <a:off x="6866280" y="3215160"/>
                  <a:ext cx="205920" cy="60120"/>
                </a:xfrm>
                <a:custGeom>
                  <a:avLst/>
                  <a:gdLst>
                    <a:gd name="textAreaLeft" fmla="*/ 0 w 205920"/>
                    <a:gd name="textAreaRight" fmla="*/ 206280 w 205920"/>
                    <a:gd name="textAreaTop" fmla="*/ 0 h 60120"/>
                    <a:gd name="textAreaBottom" fmla="*/ 60480 h 60120"/>
                  </a:gdLst>
                  <a:ahLst/>
                  <a:rect l="textAreaLeft" t="textAreaTop" r="textAreaRight" b="textAreaBottom"/>
                  <a:pathLst>
                    <a:path w="157" h="109">
                      <a:moveTo>
                        <a:pt x="66" y="0"/>
                      </a:moveTo>
                      <a:lnTo>
                        <a:pt x="157" y="45"/>
                      </a:lnTo>
                      <a:lnTo>
                        <a:pt x="93" y="109"/>
                      </a:lnTo>
                      <a:lnTo>
                        <a:pt x="0" y="64"/>
                      </a:lnTo>
                      <a:lnTo>
                        <a:pt x="66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Freeform 162"/>
                <p:cNvSpPr/>
                <p:nvPr/>
              </p:nvSpPr>
              <p:spPr>
                <a:xfrm>
                  <a:off x="6782040" y="3250440"/>
                  <a:ext cx="206640" cy="60120"/>
                </a:xfrm>
                <a:custGeom>
                  <a:avLst/>
                  <a:gdLst>
                    <a:gd name="textAreaLeft" fmla="*/ 0 w 206640"/>
                    <a:gd name="textAreaRight" fmla="*/ 207000 w 206640"/>
                    <a:gd name="textAreaTop" fmla="*/ 0 h 60120"/>
                    <a:gd name="textAreaBottom" fmla="*/ 60480 h 60120"/>
                  </a:gdLst>
                  <a:ahLst/>
                  <a:rect l="textAreaLeft" t="textAreaTop" r="textAreaRight" b="textAreaBottom"/>
                  <a:pathLst>
                    <a:path w="158" h="107">
                      <a:moveTo>
                        <a:pt x="65" y="0"/>
                      </a:moveTo>
                      <a:lnTo>
                        <a:pt x="158" y="45"/>
                      </a:lnTo>
                      <a:lnTo>
                        <a:pt x="92" y="107"/>
                      </a:lnTo>
                      <a:lnTo>
                        <a:pt x="0" y="63"/>
                      </a:lnTo>
                      <a:lnTo>
                        <a:pt x="65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Freeform 163"/>
                <p:cNvSpPr/>
                <p:nvPr/>
              </p:nvSpPr>
              <p:spPr>
                <a:xfrm>
                  <a:off x="6696000" y="3285720"/>
                  <a:ext cx="205920" cy="59760"/>
                </a:xfrm>
                <a:custGeom>
                  <a:avLst/>
                  <a:gdLst>
                    <a:gd name="textAreaLeft" fmla="*/ 0 w 205920"/>
                    <a:gd name="textAreaRight" fmla="*/ 206280 w 205920"/>
                    <a:gd name="textAreaTop" fmla="*/ 0 h 59760"/>
                    <a:gd name="textAreaBottom" fmla="*/ 60120 h 59760"/>
                  </a:gdLst>
                  <a:ahLst/>
                  <a:rect l="textAreaLeft" t="textAreaTop" r="textAreaRight" b="textAreaBottom"/>
                  <a:pathLst>
                    <a:path w="158" h="108">
                      <a:moveTo>
                        <a:pt x="66" y="0"/>
                      </a:moveTo>
                      <a:lnTo>
                        <a:pt x="158" y="44"/>
                      </a:lnTo>
                      <a:lnTo>
                        <a:pt x="93" y="108"/>
                      </a:lnTo>
                      <a:lnTo>
                        <a:pt x="0" y="63"/>
                      </a:lnTo>
                      <a:lnTo>
                        <a:pt x="66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Freeform 164"/>
                <p:cNvSpPr/>
                <p:nvPr/>
              </p:nvSpPr>
              <p:spPr>
                <a:xfrm>
                  <a:off x="6612480" y="3320640"/>
                  <a:ext cx="203760" cy="60120"/>
                </a:xfrm>
                <a:custGeom>
                  <a:avLst/>
                  <a:gdLst>
                    <a:gd name="textAreaLeft" fmla="*/ 0 w 203760"/>
                    <a:gd name="textAreaRight" fmla="*/ 204120 w 203760"/>
                    <a:gd name="textAreaTop" fmla="*/ 0 h 60120"/>
                    <a:gd name="textAreaBottom" fmla="*/ 60480 h 60120"/>
                  </a:gdLst>
                  <a:ahLst/>
                  <a:rect l="textAreaLeft" t="textAreaTop" r="textAreaRight" b="textAreaBottom"/>
                  <a:pathLst>
                    <a:path w="158" h="109">
                      <a:moveTo>
                        <a:pt x="65" y="0"/>
                      </a:moveTo>
                      <a:lnTo>
                        <a:pt x="158" y="45"/>
                      </a:lnTo>
                      <a:lnTo>
                        <a:pt x="92" y="109"/>
                      </a:lnTo>
                      <a:lnTo>
                        <a:pt x="0" y="64"/>
                      </a:lnTo>
                      <a:lnTo>
                        <a:pt x="65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Freeform 165"/>
                <p:cNvSpPr/>
                <p:nvPr/>
              </p:nvSpPr>
              <p:spPr>
                <a:xfrm>
                  <a:off x="6526080" y="3355920"/>
                  <a:ext cx="203760" cy="60120"/>
                </a:xfrm>
                <a:custGeom>
                  <a:avLst/>
                  <a:gdLst>
                    <a:gd name="textAreaLeft" fmla="*/ 0 w 203760"/>
                    <a:gd name="textAreaRight" fmla="*/ 204120 w 203760"/>
                    <a:gd name="textAreaTop" fmla="*/ 0 h 60120"/>
                    <a:gd name="textAreaBottom" fmla="*/ 60480 h 60120"/>
                  </a:gdLst>
                  <a:ahLst/>
                  <a:rect l="textAreaLeft" t="textAreaTop" r="textAreaRight" b="textAreaBottom"/>
                  <a:pathLst>
                    <a:path w="158" h="107">
                      <a:moveTo>
                        <a:pt x="66" y="0"/>
                      </a:moveTo>
                      <a:lnTo>
                        <a:pt x="158" y="45"/>
                      </a:lnTo>
                      <a:lnTo>
                        <a:pt x="93" y="107"/>
                      </a:lnTo>
                      <a:lnTo>
                        <a:pt x="0" y="63"/>
                      </a:lnTo>
                      <a:lnTo>
                        <a:pt x="66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Freeform 166"/>
                <p:cNvSpPr/>
                <p:nvPr/>
              </p:nvSpPr>
              <p:spPr>
                <a:xfrm>
                  <a:off x="6440040" y="3390840"/>
                  <a:ext cx="205920" cy="60120"/>
                </a:xfrm>
                <a:custGeom>
                  <a:avLst/>
                  <a:gdLst>
                    <a:gd name="textAreaLeft" fmla="*/ 0 w 205920"/>
                    <a:gd name="textAreaRight" fmla="*/ 206280 w 205920"/>
                    <a:gd name="textAreaTop" fmla="*/ 0 h 60120"/>
                    <a:gd name="textAreaBottom" fmla="*/ 60480 h 60120"/>
                  </a:gdLst>
                  <a:ahLst/>
                  <a:rect l="textAreaLeft" t="textAreaTop" r="textAreaRight" b="textAreaBottom"/>
                  <a:pathLst>
                    <a:path w="158" h="108">
                      <a:moveTo>
                        <a:pt x="65" y="0"/>
                      </a:moveTo>
                      <a:lnTo>
                        <a:pt x="158" y="44"/>
                      </a:lnTo>
                      <a:lnTo>
                        <a:pt x="92" y="108"/>
                      </a:lnTo>
                      <a:lnTo>
                        <a:pt x="0" y="63"/>
                      </a:lnTo>
                      <a:lnTo>
                        <a:pt x="65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Freeform 167"/>
                <p:cNvSpPr/>
                <p:nvPr/>
              </p:nvSpPr>
              <p:spPr>
                <a:xfrm>
                  <a:off x="6353640" y="3426120"/>
                  <a:ext cx="206640" cy="60120"/>
                </a:xfrm>
                <a:custGeom>
                  <a:avLst/>
                  <a:gdLst>
                    <a:gd name="textAreaLeft" fmla="*/ 0 w 206640"/>
                    <a:gd name="textAreaRight" fmla="*/ 207000 w 206640"/>
                    <a:gd name="textAreaTop" fmla="*/ 0 h 60120"/>
                    <a:gd name="textAreaBottom" fmla="*/ 60480 h 60120"/>
                  </a:gdLst>
                  <a:ahLst/>
                  <a:rect l="textAreaLeft" t="textAreaTop" r="textAreaRight" b="textAreaBottom"/>
                  <a:pathLst>
                    <a:path w="158" h="108">
                      <a:moveTo>
                        <a:pt x="66" y="0"/>
                      </a:moveTo>
                      <a:lnTo>
                        <a:pt x="158" y="45"/>
                      </a:lnTo>
                      <a:lnTo>
                        <a:pt x="93" y="108"/>
                      </a:lnTo>
                      <a:lnTo>
                        <a:pt x="0" y="63"/>
                      </a:lnTo>
                      <a:lnTo>
                        <a:pt x="66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Freeform 168"/>
                <p:cNvSpPr/>
                <p:nvPr/>
              </p:nvSpPr>
              <p:spPr>
                <a:xfrm>
                  <a:off x="6270120" y="3461400"/>
                  <a:ext cx="205920" cy="59760"/>
                </a:xfrm>
                <a:custGeom>
                  <a:avLst/>
                  <a:gdLst>
                    <a:gd name="textAreaLeft" fmla="*/ 0 w 205920"/>
                    <a:gd name="textAreaRight" fmla="*/ 206280 w 205920"/>
                    <a:gd name="textAreaTop" fmla="*/ 0 h 59760"/>
                    <a:gd name="textAreaBottom" fmla="*/ 60120 h 59760"/>
                  </a:gdLst>
                  <a:ahLst/>
                  <a:rect l="textAreaLeft" t="textAreaTop" r="textAreaRight" b="textAreaBottom"/>
                  <a:pathLst>
                    <a:path w="157" h="108">
                      <a:moveTo>
                        <a:pt x="64" y="0"/>
                      </a:moveTo>
                      <a:lnTo>
                        <a:pt x="157" y="45"/>
                      </a:lnTo>
                      <a:lnTo>
                        <a:pt x="91" y="108"/>
                      </a:lnTo>
                      <a:lnTo>
                        <a:pt x="0" y="64"/>
                      </a:lnTo>
                      <a:lnTo>
                        <a:pt x="64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Freeform 169"/>
                <p:cNvSpPr/>
                <p:nvPr/>
              </p:nvSpPr>
              <p:spPr>
                <a:xfrm>
                  <a:off x="6184080" y="3498120"/>
                  <a:ext cx="205920" cy="59760"/>
                </a:xfrm>
                <a:custGeom>
                  <a:avLst/>
                  <a:gdLst>
                    <a:gd name="textAreaLeft" fmla="*/ 0 w 205920"/>
                    <a:gd name="textAreaRight" fmla="*/ 206280 w 205920"/>
                    <a:gd name="textAreaTop" fmla="*/ 0 h 59760"/>
                    <a:gd name="textAreaBottom" fmla="*/ 60120 h 59760"/>
                  </a:gdLst>
                  <a:ahLst/>
                  <a:rect l="textAreaLeft" t="textAreaTop" r="textAreaRight" b="textAreaBottom"/>
                  <a:pathLst>
                    <a:path w="157" h="108">
                      <a:moveTo>
                        <a:pt x="66" y="0"/>
                      </a:moveTo>
                      <a:lnTo>
                        <a:pt x="157" y="44"/>
                      </a:lnTo>
                      <a:lnTo>
                        <a:pt x="92" y="108"/>
                      </a:lnTo>
                      <a:lnTo>
                        <a:pt x="0" y="62"/>
                      </a:lnTo>
                      <a:lnTo>
                        <a:pt x="66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Freeform 170"/>
                <p:cNvSpPr/>
                <p:nvPr/>
              </p:nvSpPr>
              <p:spPr>
                <a:xfrm>
                  <a:off x="6097680" y="3531600"/>
                  <a:ext cx="205920" cy="60120"/>
                </a:xfrm>
                <a:custGeom>
                  <a:avLst/>
                  <a:gdLst>
                    <a:gd name="textAreaLeft" fmla="*/ 0 w 205920"/>
                    <a:gd name="textAreaRight" fmla="*/ 206280 w 205920"/>
                    <a:gd name="textAreaTop" fmla="*/ 0 h 60120"/>
                    <a:gd name="textAreaBottom" fmla="*/ 60480 h 60120"/>
                  </a:gdLst>
                  <a:ahLst/>
                  <a:rect l="textAreaLeft" t="textAreaTop" r="textAreaRight" b="textAreaBottom"/>
                  <a:pathLst>
                    <a:path w="157" h="108">
                      <a:moveTo>
                        <a:pt x="65" y="0"/>
                      </a:moveTo>
                      <a:lnTo>
                        <a:pt x="157" y="46"/>
                      </a:lnTo>
                      <a:lnTo>
                        <a:pt x="91" y="108"/>
                      </a:lnTo>
                      <a:lnTo>
                        <a:pt x="0" y="64"/>
                      </a:lnTo>
                      <a:lnTo>
                        <a:pt x="65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Freeform 171"/>
                <p:cNvSpPr/>
                <p:nvPr/>
              </p:nvSpPr>
              <p:spPr>
                <a:xfrm>
                  <a:off x="6011640" y="3568320"/>
                  <a:ext cx="205920" cy="60120"/>
                </a:xfrm>
                <a:custGeom>
                  <a:avLst/>
                  <a:gdLst>
                    <a:gd name="textAreaLeft" fmla="*/ 0 w 205920"/>
                    <a:gd name="textAreaRight" fmla="*/ 206280 w 205920"/>
                    <a:gd name="textAreaTop" fmla="*/ 0 h 60120"/>
                    <a:gd name="textAreaBottom" fmla="*/ 60480 h 60120"/>
                  </a:gdLst>
                  <a:ahLst/>
                  <a:rect l="textAreaLeft" t="textAreaTop" r="textAreaRight" b="textAreaBottom"/>
                  <a:pathLst>
                    <a:path w="157" h="108">
                      <a:moveTo>
                        <a:pt x="66" y="0"/>
                      </a:moveTo>
                      <a:lnTo>
                        <a:pt x="157" y="44"/>
                      </a:lnTo>
                      <a:lnTo>
                        <a:pt x="92" y="108"/>
                      </a:lnTo>
                      <a:lnTo>
                        <a:pt x="0" y="63"/>
                      </a:lnTo>
                      <a:lnTo>
                        <a:pt x="66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Freeform 172"/>
                <p:cNvSpPr/>
                <p:nvPr/>
              </p:nvSpPr>
              <p:spPr>
                <a:xfrm>
                  <a:off x="5927400" y="3603240"/>
                  <a:ext cx="206640" cy="60120"/>
                </a:xfrm>
                <a:custGeom>
                  <a:avLst/>
                  <a:gdLst>
                    <a:gd name="textAreaLeft" fmla="*/ 0 w 206640"/>
                    <a:gd name="textAreaRight" fmla="*/ 207000 w 206640"/>
                    <a:gd name="textAreaTop" fmla="*/ 0 h 60120"/>
                    <a:gd name="textAreaBottom" fmla="*/ 60480 h 60120"/>
                  </a:gdLst>
                  <a:ahLst/>
                  <a:rect l="textAreaLeft" t="textAreaTop" r="textAreaRight" b="textAreaBottom"/>
                  <a:pathLst>
                    <a:path w="157" h="108">
                      <a:moveTo>
                        <a:pt x="65" y="0"/>
                      </a:moveTo>
                      <a:lnTo>
                        <a:pt x="157" y="45"/>
                      </a:lnTo>
                      <a:lnTo>
                        <a:pt x="91" y="108"/>
                      </a:lnTo>
                      <a:lnTo>
                        <a:pt x="0" y="63"/>
                      </a:lnTo>
                      <a:lnTo>
                        <a:pt x="65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Freeform 173"/>
                <p:cNvSpPr/>
                <p:nvPr/>
              </p:nvSpPr>
              <p:spPr>
                <a:xfrm>
                  <a:off x="5841360" y="3638520"/>
                  <a:ext cx="205920" cy="60120"/>
                </a:xfrm>
                <a:custGeom>
                  <a:avLst/>
                  <a:gdLst>
                    <a:gd name="textAreaLeft" fmla="*/ 0 w 205920"/>
                    <a:gd name="textAreaRight" fmla="*/ 206280 w 205920"/>
                    <a:gd name="textAreaTop" fmla="*/ 0 h 60120"/>
                    <a:gd name="textAreaBottom" fmla="*/ 60480 h 60120"/>
                  </a:gdLst>
                  <a:ahLst/>
                  <a:rect l="textAreaLeft" t="textAreaTop" r="textAreaRight" b="textAreaBottom"/>
                  <a:pathLst>
                    <a:path w="157" h="108">
                      <a:moveTo>
                        <a:pt x="66" y="0"/>
                      </a:moveTo>
                      <a:lnTo>
                        <a:pt x="157" y="45"/>
                      </a:lnTo>
                      <a:lnTo>
                        <a:pt x="92" y="108"/>
                      </a:lnTo>
                      <a:lnTo>
                        <a:pt x="0" y="64"/>
                      </a:lnTo>
                      <a:lnTo>
                        <a:pt x="66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Freeform 174"/>
                <p:cNvSpPr/>
                <p:nvPr/>
              </p:nvSpPr>
              <p:spPr>
                <a:xfrm>
                  <a:off x="7158600" y="3170160"/>
                  <a:ext cx="206640" cy="60120"/>
                </a:xfrm>
                <a:custGeom>
                  <a:avLst/>
                  <a:gdLst>
                    <a:gd name="textAreaLeft" fmla="*/ 0 w 206640"/>
                    <a:gd name="textAreaRight" fmla="*/ 207000 w 206640"/>
                    <a:gd name="textAreaTop" fmla="*/ 0 h 60120"/>
                    <a:gd name="textAreaBottom" fmla="*/ 60480 h 60120"/>
                  </a:gdLst>
                  <a:ahLst/>
                  <a:rect l="textAreaLeft" t="textAreaTop" r="textAreaRight" b="textAreaBottom"/>
                  <a:pathLst>
                    <a:path w="158" h="109">
                      <a:moveTo>
                        <a:pt x="65" y="0"/>
                      </a:moveTo>
                      <a:lnTo>
                        <a:pt x="158" y="45"/>
                      </a:lnTo>
                      <a:lnTo>
                        <a:pt x="92" y="109"/>
                      </a:lnTo>
                      <a:lnTo>
                        <a:pt x="0" y="64"/>
                      </a:lnTo>
                      <a:lnTo>
                        <a:pt x="65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Freeform 175"/>
                <p:cNvSpPr/>
                <p:nvPr/>
              </p:nvSpPr>
              <p:spPr>
                <a:xfrm>
                  <a:off x="7072560" y="3205440"/>
                  <a:ext cx="205920" cy="60120"/>
                </a:xfrm>
                <a:custGeom>
                  <a:avLst/>
                  <a:gdLst>
                    <a:gd name="textAreaLeft" fmla="*/ 0 w 205920"/>
                    <a:gd name="textAreaRight" fmla="*/ 206280 w 205920"/>
                    <a:gd name="textAreaTop" fmla="*/ 0 h 60120"/>
                    <a:gd name="textAreaBottom" fmla="*/ 60480 h 60120"/>
                  </a:gdLst>
                  <a:ahLst/>
                  <a:rect l="textAreaLeft" t="textAreaTop" r="textAreaRight" b="textAreaBottom"/>
                  <a:pathLst>
                    <a:path w="158" h="107">
                      <a:moveTo>
                        <a:pt x="66" y="0"/>
                      </a:moveTo>
                      <a:lnTo>
                        <a:pt x="158" y="45"/>
                      </a:lnTo>
                      <a:lnTo>
                        <a:pt x="93" y="107"/>
                      </a:lnTo>
                      <a:lnTo>
                        <a:pt x="0" y="62"/>
                      </a:lnTo>
                      <a:lnTo>
                        <a:pt x="66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Freeform 176"/>
                <p:cNvSpPr/>
                <p:nvPr/>
              </p:nvSpPr>
              <p:spPr>
                <a:xfrm>
                  <a:off x="6989040" y="3240720"/>
                  <a:ext cx="205920" cy="59760"/>
                </a:xfrm>
                <a:custGeom>
                  <a:avLst/>
                  <a:gdLst>
                    <a:gd name="textAreaLeft" fmla="*/ 0 w 205920"/>
                    <a:gd name="textAreaRight" fmla="*/ 206280 w 205920"/>
                    <a:gd name="textAreaTop" fmla="*/ 0 h 59760"/>
                    <a:gd name="textAreaBottom" fmla="*/ 60120 h 59760"/>
                  </a:gdLst>
                  <a:ahLst/>
                  <a:rect l="textAreaLeft" t="textAreaTop" r="textAreaRight" b="textAreaBottom"/>
                  <a:pathLst>
                    <a:path w="157" h="109">
                      <a:moveTo>
                        <a:pt x="64" y="0"/>
                      </a:moveTo>
                      <a:lnTo>
                        <a:pt x="157" y="45"/>
                      </a:lnTo>
                      <a:lnTo>
                        <a:pt x="91" y="109"/>
                      </a:lnTo>
                      <a:lnTo>
                        <a:pt x="0" y="64"/>
                      </a:lnTo>
                      <a:lnTo>
                        <a:pt x="64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Freeform 177"/>
                <p:cNvSpPr/>
                <p:nvPr/>
              </p:nvSpPr>
              <p:spPr>
                <a:xfrm>
                  <a:off x="6902280" y="3275640"/>
                  <a:ext cx="206640" cy="60120"/>
                </a:xfrm>
                <a:custGeom>
                  <a:avLst/>
                  <a:gdLst>
                    <a:gd name="textAreaLeft" fmla="*/ 0 w 206640"/>
                    <a:gd name="textAreaRight" fmla="*/ 207000 w 206640"/>
                    <a:gd name="textAreaTop" fmla="*/ 0 h 60120"/>
                    <a:gd name="textAreaBottom" fmla="*/ 60480 h 60120"/>
                  </a:gdLst>
                  <a:ahLst/>
                  <a:rect l="textAreaLeft" t="textAreaTop" r="textAreaRight" b="textAreaBottom"/>
                  <a:pathLst>
                    <a:path w="157" h="108">
                      <a:moveTo>
                        <a:pt x="66" y="0"/>
                      </a:moveTo>
                      <a:lnTo>
                        <a:pt x="157" y="45"/>
                      </a:lnTo>
                      <a:lnTo>
                        <a:pt x="92" y="108"/>
                      </a:lnTo>
                      <a:lnTo>
                        <a:pt x="0" y="62"/>
                      </a:lnTo>
                      <a:lnTo>
                        <a:pt x="66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Freeform 178"/>
                <p:cNvSpPr/>
                <p:nvPr/>
              </p:nvSpPr>
              <p:spPr>
                <a:xfrm>
                  <a:off x="6816600" y="3310920"/>
                  <a:ext cx="205920" cy="59760"/>
                </a:xfrm>
                <a:custGeom>
                  <a:avLst/>
                  <a:gdLst>
                    <a:gd name="textAreaLeft" fmla="*/ 0 w 205920"/>
                    <a:gd name="textAreaRight" fmla="*/ 206280 w 205920"/>
                    <a:gd name="textAreaTop" fmla="*/ 0 h 59760"/>
                    <a:gd name="textAreaBottom" fmla="*/ 60120 h 59760"/>
                  </a:gdLst>
                  <a:ahLst/>
                  <a:rect l="textAreaLeft" t="textAreaTop" r="textAreaRight" b="textAreaBottom"/>
                  <a:pathLst>
                    <a:path w="157" h="109">
                      <a:moveTo>
                        <a:pt x="65" y="0"/>
                      </a:moveTo>
                      <a:lnTo>
                        <a:pt x="157" y="46"/>
                      </a:lnTo>
                      <a:lnTo>
                        <a:pt x="91" y="109"/>
                      </a:lnTo>
                      <a:lnTo>
                        <a:pt x="0" y="64"/>
                      </a:lnTo>
                      <a:lnTo>
                        <a:pt x="65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Freeform 179"/>
                <p:cNvSpPr/>
                <p:nvPr/>
              </p:nvSpPr>
              <p:spPr>
                <a:xfrm>
                  <a:off x="6729840" y="3345840"/>
                  <a:ext cx="206640" cy="60120"/>
                </a:xfrm>
                <a:custGeom>
                  <a:avLst/>
                  <a:gdLst>
                    <a:gd name="textAreaLeft" fmla="*/ 0 w 206640"/>
                    <a:gd name="textAreaRight" fmla="*/ 207000 w 206640"/>
                    <a:gd name="textAreaTop" fmla="*/ 0 h 60120"/>
                    <a:gd name="textAreaBottom" fmla="*/ 60480 h 60120"/>
                  </a:gdLst>
                  <a:ahLst/>
                  <a:rect l="textAreaLeft" t="textAreaTop" r="textAreaRight" b="textAreaBottom"/>
                  <a:pathLst>
                    <a:path w="157" h="109">
                      <a:moveTo>
                        <a:pt x="66" y="0"/>
                      </a:moveTo>
                      <a:lnTo>
                        <a:pt x="157" y="45"/>
                      </a:lnTo>
                      <a:lnTo>
                        <a:pt x="92" y="109"/>
                      </a:lnTo>
                      <a:lnTo>
                        <a:pt x="0" y="64"/>
                      </a:lnTo>
                      <a:lnTo>
                        <a:pt x="66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Freeform 180"/>
                <p:cNvSpPr/>
                <p:nvPr/>
              </p:nvSpPr>
              <p:spPr>
                <a:xfrm>
                  <a:off x="6646320" y="3381120"/>
                  <a:ext cx="205920" cy="60120"/>
                </a:xfrm>
                <a:custGeom>
                  <a:avLst/>
                  <a:gdLst>
                    <a:gd name="textAreaLeft" fmla="*/ 0 w 205920"/>
                    <a:gd name="textAreaRight" fmla="*/ 206280 w 205920"/>
                    <a:gd name="textAreaTop" fmla="*/ 0 h 60120"/>
                    <a:gd name="textAreaBottom" fmla="*/ 60480 h 60120"/>
                  </a:gdLst>
                  <a:ahLst/>
                  <a:rect l="textAreaLeft" t="textAreaTop" r="textAreaRight" b="textAreaBottom"/>
                  <a:pathLst>
                    <a:path w="157" h="107">
                      <a:moveTo>
                        <a:pt x="65" y="0"/>
                      </a:moveTo>
                      <a:lnTo>
                        <a:pt x="157" y="45"/>
                      </a:lnTo>
                      <a:lnTo>
                        <a:pt x="91" y="107"/>
                      </a:lnTo>
                      <a:lnTo>
                        <a:pt x="0" y="62"/>
                      </a:lnTo>
                      <a:lnTo>
                        <a:pt x="65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Freeform 181"/>
                <p:cNvSpPr/>
                <p:nvPr/>
              </p:nvSpPr>
              <p:spPr>
                <a:xfrm>
                  <a:off x="6560280" y="3416400"/>
                  <a:ext cx="205920" cy="59760"/>
                </a:xfrm>
                <a:custGeom>
                  <a:avLst/>
                  <a:gdLst>
                    <a:gd name="textAreaLeft" fmla="*/ 0 w 205920"/>
                    <a:gd name="textAreaRight" fmla="*/ 206280 w 205920"/>
                    <a:gd name="textAreaTop" fmla="*/ 0 h 59760"/>
                    <a:gd name="textAreaBottom" fmla="*/ 60120 h 59760"/>
                  </a:gdLst>
                  <a:ahLst/>
                  <a:rect l="textAreaLeft" t="textAreaTop" r="textAreaRight" b="textAreaBottom"/>
                  <a:pathLst>
                    <a:path w="157" h="109">
                      <a:moveTo>
                        <a:pt x="66" y="0"/>
                      </a:moveTo>
                      <a:lnTo>
                        <a:pt x="157" y="45"/>
                      </a:lnTo>
                      <a:lnTo>
                        <a:pt x="93" y="109"/>
                      </a:lnTo>
                      <a:lnTo>
                        <a:pt x="0" y="64"/>
                      </a:lnTo>
                      <a:lnTo>
                        <a:pt x="66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" name="Freeform 182"/>
                <p:cNvSpPr/>
                <p:nvPr/>
              </p:nvSpPr>
              <p:spPr>
                <a:xfrm>
                  <a:off x="6476400" y="3450960"/>
                  <a:ext cx="203760" cy="61560"/>
                </a:xfrm>
                <a:custGeom>
                  <a:avLst/>
                  <a:gdLst>
                    <a:gd name="textAreaLeft" fmla="*/ 0 w 203760"/>
                    <a:gd name="textAreaRight" fmla="*/ 204120 w 203760"/>
                    <a:gd name="textAreaTop" fmla="*/ 0 h 61560"/>
                    <a:gd name="textAreaBottom" fmla="*/ 61920 h 61560"/>
                  </a:gdLst>
                  <a:ahLst/>
                  <a:rect l="textAreaLeft" t="textAreaTop" r="textAreaRight" b="textAreaBottom"/>
                  <a:pathLst>
                    <a:path w="158" h="109">
                      <a:moveTo>
                        <a:pt x="65" y="0"/>
                      </a:moveTo>
                      <a:lnTo>
                        <a:pt x="158" y="45"/>
                      </a:lnTo>
                      <a:lnTo>
                        <a:pt x="92" y="109"/>
                      </a:lnTo>
                      <a:lnTo>
                        <a:pt x="0" y="63"/>
                      </a:lnTo>
                      <a:lnTo>
                        <a:pt x="65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Freeform 183"/>
                <p:cNvSpPr/>
                <p:nvPr/>
              </p:nvSpPr>
              <p:spPr>
                <a:xfrm>
                  <a:off x="6390360" y="3486240"/>
                  <a:ext cx="203760" cy="60120"/>
                </a:xfrm>
                <a:custGeom>
                  <a:avLst/>
                  <a:gdLst>
                    <a:gd name="textAreaLeft" fmla="*/ 0 w 203760"/>
                    <a:gd name="textAreaRight" fmla="*/ 204120 w 203760"/>
                    <a:gd name="textAreaTop" fmla="*/ 0 h 60120"/>
                    <a:gd name="textAreaBottom" fmla="*/ 60480 h 60120"/>
                  </a:gdLst>
                  <a:ahLst/>
                  <a:rect l="textAreaLeft" t="textAreaTop" r="textAreaRight" b="textAreaBottom"/>
                  <a:pathLst>
                    <a:path w="158" h="108">
                      <a:moveTo>
                        <a:pt x="66" y="0"/>
                      </a:moveTo>
                      <a:lnTo>
                        <a:pt x="158" y="46"/>
                      </a:lnTo>
                      <a:lnTo>
                        <a:pt x="93" y="108"/>
                      </a:lnTo>
                      <a:lnTo>
                        <a:pt x="0" y="63"/>
                      </a:lnTo>
                      <a:lnTo>
                        <a:pt x="66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Freeform 184"/>
                <p:cNvSpPr/>
                <p:nvPr/>
              </p:nvSpPr>
              <p:spPr>
                <a:xfrm>
                  <a:off x="6303600" y="3521160"/>
                  <a:ext cx="206640" cy="61920"/>
                </a:xfrm>
                <a:custGeom>
                  <a:avLst/>
                  <a:gdLst>
                    <a:gd name="textAreaLeft" fmla="*/ 0 w 206640"/>
                    <a:gd name="textAreaRight" fmla="*/ 207000 w 206640"/>
                    <a:gd name="textAreaTop" fmla="*/ 0 h 61920"/>
                    <a:gd name="textAreaBottom" fmla="*/ 62280 h 61920"/>
                  </a:gdLst>
                  <a:ahLst/>
                  <a:rect l="textAreaLeft" t="textAreaTop" r="textAreaRight" b="textAreaBottom"/>
                  <a:pathLst>
                    <a:path w="158" h="109">
                      <a:moveTo>
                        <a:pt x="65" y="0"/>
                      </a:moveTo>
                      <a:lnTo>
                        <a:pt x="158" y="45"/>
                      </a:lnTo>
                      <a:lnTo>
                        <a:pt x="92" y="109"/>
                      </a:lnTo>
                      <a:lnTo>
                        <a:pt x="0" y="64"/>
                      </a:lnTo>
                      <a:lnTo>
                        <a:pt x="65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" name="Freeform 185"/>
                <p:cNvSpPr/>
                <p:nvPr/>
              </p:nvSpPr>
              <p:spPr>
                <a:xfrm>
                  <a:off x="6217920" y="3558240"/>
                  <a:ext cx="205920" cy="58680"/>
                </a:xfrm>
                <a:custGeom>
                  <a:avLst/>
                  <a:gdLst>
                    <a:gd name="textAreaLeft" fmla="*/ 0 w 205920"/>
                    <a:gd name="textAreaRight" fmla="*/ 206280 w 205920"/>
                    <a:gd name="textAreaTop" fmla="*/ 0 h 58680"/>
                    <a:gd name="textAreaBottom" fmla="*/ 59040 h 58680"/>
                  </a:gdLst>
                  <a:ahLst/>
                  <a:rect l="textAreaLeft" t="textAreaTop" r="textAreaRight" b="textAreaBottom"/>
                  <a:pathLst>
                    <a:path w="158" h="107">
                      <a:moveTo>
                        <a:pt x="66" y="0"/>
                      </a:moveTo>
                      <a:lnTo>
                        <a:pt x="158" y="45"/>
                      </a:lnTo>
                      <a:lnTo>
                        <a:pt x="93" y="107"/>
                      </a:lnTo>
                      <a:lnTo>
                        <a:pt x="0" y="62"/>
                      </a:lnTo>
                      <a:lnTo>
                        <a:pt x="66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Freeform 186"/>
                <p:cNvSpPr/>
                <p:nvPr/>
              </p:nvSpPr>
              <p:spPr>
                <a:xfrm>
                  <a:off x="6134400" y="3591720"/>
                  <a:ext cx="203760" cy="61560"/>
                </a:xfrm>
                <a:custGeom>
                  <a:avLst/>
                  <a:gdLst>
                    <a:gd name="textAreaLeft" fmla="*/ 0 w 203760"/>
                    <a:gd name="textAreaRight" fmla="*/ 204120 w 203760"/>
                    <a:gd name="textAreaTop" fmla="*/ 0 h 61560"/>
                    <a:gd name="textAreaBottom" fmla="*/ 61920 h 61560"/>
                  </a:gdLst>
                  <a:ahLst/>
                  <a:rect l="textAreaLeft" t="textAreaTop" r="textAreaRight" b="textAreaBottom"/>
                  <a:pathLst>
                    <a:path w="158" h="109">
                      <a:moveTo>
                        <a:pt x="65" y="0"/>
                      </a:moveTo>
                      <a:lnTo>
                        <a:pt x="158" y="45"/>
                      </a:lnTo>
                      <a:lnTo>
                        <a:pt x="92" y="109"/>
                      </a:lnTo>
                      <a:lnTo>
                        <a:pt x="0" y="64"/>
                      </a:lnTo>
                      <a:lnTo>
                        <a:pt x="65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Freeform 187"/>
                <p:cNvSpPr/>
                <p:nvPr/>
              </p:nvSpPr>
              <p:spPr>
                <a:xfrm>
                  <a:off x="6047640" y="3628440"/>
                  <a:ext cx="203760" cy="59760"/>
                </a:xfrm>
                <a:custGeom>
                  <a:avLst/>
                  <a:gdLst>
                    <a:gd name="textAreaLeft" fmla="*/ 0 w 203760"/>
                    <a:gd name="textAreaRight" fmla="*/ 204120 w 203760"/>
                    <a:gd name="textAreaTop" fmla="*/ 0 h 59760"/>
                    <a:gd name="textAreaBottom" fmla="*/ 60120 h 59760"/>
                  </a:gdLst>
                  <a:ahLst/>
                  <a:rect l="textAreaLeft" t="textAreaTop" r="textAreaRight" b="textAreaBottom"/>
                  <a:pathLst>
                    <a:path w="158" h="109">
                      <a:moveTo>
                        <a:pt x="66" y="0"/>
                      </a:moveTo>
                      <a:lnTo>
                        <a:pt x="158" y="45"/>
                      </a:lnTo>
                      <a:lnTo>
                        <a:pt x="93" y="109"/>
                      </a:lnTo>
                      <a:lnTo>
                        <a:pt x="0" y="63"/>
                      </a:lnTo>
                      <a:lnTo>
                        <a:pt x="66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Freeform 188"/>
                <p:cNvSpPr/>
                <p:nvPr/>
              </p:nvSpPr>
              <p:spPr>
                <a:xfrm>
                  <a:off x="5961960" y="3663360"/>
                  <a:ext cx="205920" cy="60120"/>
                </a:xfrm>
                <a:custGeom>
                  <a:avLst/>
                  <a:gdLst>
                    <a:gd name="textAreaLeft" fmla="*/ 0 w 205920"/>
                    <a:gd name="textAreaRight" fmla="*/ 206280 w 205920"/>
                    <a:gd name="textAreaTop" fmla="*/ 0 h 60120"/>
                    <a:gd name="textAreaBottom" fmla="*/ 60480 h 60120"/>
                  </a:gdLst>
                  <a:ahLst/>
                  <a:rect l="textAreaLeft" t="textAreaTop" r="textAreaRight" b="textAreaBottom"/>
                  <a:pathLst>
                    <a:path w="158" h="108">
                      <a:moveTo>
                        <a:pt x="65" y="0"/>
                      </a:moveTo>
                      <a:lnTo>
                        <a:pt x="158" y="46"/>
                      </a:lnTo>
                      <a:lnTo>
                        <a:pt x="92" y="108"/>
                      </a:lnTo>
                      <a:lnTo>
                        <a:pt x="0" y="63"/>
                      </a:lnTo>
                      <a:lnTo>
                        <a:pt x="65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Freeform 189"/>
                <p:cNvSpPr/>
                <p:nvPr/>
              </p:nvSpPr>
              <p:spPr>
                <a:xfrm>
                  <a:off x="7365240" y="3160080"/>
                  <a:ext cx="205920" cy="60120"/>
                </a:xfrm>
                <a:custGeom>
                  <a:avLst/>
                  <a:gdLst>
                    <a:gd name="textAreaLeft" fmla="*/ 0 w 205920"/>
                    <a:gd name="textAreaRight" fmla="*/ 206280 w 205920"/>
                    <a:gd name="textAreaTop" fmla="*/ 0 h 60120"/>
                    <a:gd name="textAreaBottom" fmla="*/ 60480 h 60120"/>
                  </a:gdLst>
                  <a:ahLst/>
                  <a:rect l="textAreaLeft" t="textAreaTop" r="textAreaRight" b="textAreaBottom"/>
                  <a:pathLst>
                    <a:path w="157" h="108">
                      <a:moveTo>
                        <a:pt x="65" y="0"/>
                      </a:moveTo>
                      <a:lnTo>
                        <a:pt x="157" y="45"/>
                      </a:lnTo>
                      <a:lnTo>
                        <a:pt x="91" y="108"/>
                      </a:lnTo>
                      <a:lnTo>
                        <a:pt x="0" y="63"/>
                      </a:lnTo>
                      <a:lnTo>
                        <a:pt x="65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Freeform 190"/>
                <p:cNvSpPr/>
                <p:nvPr/>
              </p:nvSpPr>
              <p:spPr>
                <a:xfrm>
                  <a:off x="7278840" y="3195000"/>
                  <a:ext cx="206640" cy="60120"/>
                </a:xfrm>
                <a:custGeom>
                  <a:avLst/>
                  <a:gdLst>
                    <a:gd name="textAreaLeft" fmla="*/ 0 w 206640"/>
                    <a:gd name="textAreaRight" fmla="*/ 207000 w 206640"/>
                    <a:gd name="textAreaTop" fmla="*/ 0 h 60120"/>
                    <a:gd name="textAreaBottom" fmla="*/ 60480 h 60120"/>
                  </a:gdLst>
                  <a:ahLst/>
                  <a:rect l="textAreaLeft" t="textAreaTop" r="textAreaRight" b="textAreaBottom"/>
                  <a:pathLst>
                    <a:path w="157" h="108">
                      <a:moveTo>
                        <a:pt x="66" y="0"/>
                      </a:moveTo>
                      <a:lnTo>
                        <a:pt x="157" y="45"/>
                      </a:lnTo>
                      <a:lnTo>
                        <a:pt x="93" y="108"/>
                      </a:lnTo>
                      <a:lnTo>
                        <a:pt x="0" y="64"/>
                      </a:lnTo>
                      <a:lnTo>
                        <a:pt x="66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Freeform 191"/>
                <p:cNvSpPr/>
                <p:nvPr/>
              </p:nvSpPr>
              <p:spPr>
                <a:xfrm>
                  <a:off x="7195320" y="3230280"/>
                  <a:ext cx="203760" cy="60120"/>
                </a:xfrm>
                <a:custGeom>
                  <a:avLst/>
                  <a:gdLst>
                    <a:gd name="textAreaLeft" fmla="*/ 0 w 203760"/>
                    <a:gd name="textAreaRight" fmla="*/ 204120 w 203760"/>
                    <a:gd name="textAreaTop" fmla="*/ 0 h 60120"/>
                    <a:gd name="textAreaBottom" fmla="*/ 60480 h 60120"/>
                  </a:gdLst>
                  <a:ahLst/>
                  <a:rect l="textAreaLeft" t="textAreaTop" r="textAreaRight" b="textAreaBottom"/>
                  <a:pathLst>
                    <a:path w="158" h="108">
                      <a:moveTo>
                        <a:pt x="65" y="0"/>
                      </a:moveTo>
                      <a:lnTo>
                        <a:pt x="158" y="44"/>
                      </a:lnTo>
                      <a:lnTo>
                        <a:pt x="92" y="108"/>
                      </a:lnTo>
                      <a:lnTo>
                        <a:pt x="0" y="62"/>
                      </a:lnTo>
                      <a:lnTo>
                        <a:pt x="65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Freeform 192"/>
                <p:cNvSpPr/>
                <p:nvPr/>
              </p:nvSpPr>
              <p:spPr>
                <a:xfrm>
                  <a:off x="7109280" y="3265560"/>
                  <a:ext cx="203760" cy="59760"/>
                </a:xfrm>
                <a:custGeom>
                  <a:avLst/>
                  <a:gdLst>
                    <a:gd name="textAreaLeft" fmla="*/ 0 w 203760"/>
                    <a:gd name="textAreaRight" fmla="*/ 204120 w 203760"/>
                    <a:gd name="textAreaTop" fmla="*/ 0 h 59760"/>
                    <a:gd name="textAreaBottom" fmla="*/ 60120 h 59760"/>
                  </a:gdLst>
                  <a:ahLst/>
                  <a:rect l="textAreaLeft" t="textAreaTop" r="textAreaRight" b="textAreaBottom"/>
                  <a:pathLst>
                    <a:path w="158" h="109">
                      <a:moveTo>
                        <a:pt x="66" y="0"/>
                      </a:moveTo>
                      <a:lnTo>
                        <a:pt x="158" y="46"/>
                      </a:lnTo>
                      <a:lnTo>
                        <a:pt x="93" y="109"/>
                      </a:lnTo>
                      <a:lnTo>
                        <a:pt x="0" y="64"/>
                      </a:lnTo>
                      <a:lnTo>
                        <a:pt x="66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Freeform 193"/>
                <p:cNvSpPr/>
                <p:nvPr/>
              </p:nvSpPr>
              <p:spPr>
                <a:xfrm>
                  <a:off x="7022880" y="3300480"/>
                  <a:ext cx="205920" cy="60120"/>
                </a:xfrm>
                <a:custGeom>
                  <a:avLst/>
                  <a:gdLst>
                    <a:gd name="textAreaLeft" fmla="*/ 0 w 205920"/>
                    <a:gd name="textAreaRight" fmla="*/ 206280 w 205920"/>
                    <a:gd name="textAreaTop" fmla="*/ 0 h 60120"/>
                    <a:gd name="textAreaBottom" fmla="*/ 60480 h 60120"/>
                  </a:gdLst>
                  <a:ahLst/>
                  <a:rect l="textAreaLeft" t="textAreaTop" r="textAreaRight" b="textAreaBottom"/>
                  <a:pathLst>
                    <a:path w="158" h="108">
                      <a:moveTo>
                        <a:pt x="65" y="0"/>
                      </a:moveTo>
                      <a:lnTo>
                        <a:pt x="158" y="45"/>
                      </a:lnTo>
                      <a:lnTo>
                        <a:pt x="92" y="108"/>
                      </a:lnTo>
                      <a:lnTo>
                        <a:pt x="0" y="63"/>
                      </a:lnTo>
                      <a:lnTo>
                        <a:pt x="65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Freeform 194"/>
                <p:cNvSpPr/>
                <p:nvPr/>
              </p:nvSpPr>
              <p:spPr>
                <a:xfrm>
                  <a:off x="6936840" y="3335760"/>
                  <a:ext cx="205920" cy="60120"/>
                </a:xfrm>
                <a:custGeom>
                  <a:avLst/>
                  <a:gdLst>
                    <a:gd name="textAreaLeft" fmla="*/ 0 w 205920"/>
                    <a:gd name="textAreaRight" fmla="*/ 206280 w 205920"/>
                    <a:gd name="textAreaTop" fmla="*/ 0 h 60120"/>
                    <a:gd name="textAreaBottom" fmla="*/ 60480 h 60120"/>
                  </a:gdLst>
                  <a:ahLst/>
                  <a:rect l="textAreaLeft" t="textAreaTop" r="textAreaRight" b="textAreaBottom"/>
                  <a:pathLst>
                    <a:path w="158" h="108">
                      <a:moveTo>
                        <a:pt x="66" y="0"/>
                      </a:moveTo>
                      <a:lnTo>
                        <a:pt x="158" y="45"/>
                      </a:lnTo>
                      <a:lnTo>
                        <a:pt x="93" y="108"/>
                      </a:lnTo>
                      <a:lnTo>
                        <a:pt x="0" y="63"/>
                      </a:lnTo>
                      <a:lnTo>
                        <a:pt x="66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2" name="Freeform 195"/>
                <p:cNvSpPr/>
                <p:nvPr/>
              </p:nvSpPr>
              <p:spPr>
                <a:xfrm>
                  <a:off x="6852600" y="3370680"/>
                  <a:ext cx="203760" cy="60120"/>
                </a:xfrm>
                <a:custGeom>
                  <a:avLst/>
                  <a:gdLst>
                    <a:gd name="textAreaLeft" fmla="*/ 0 w 203760"/>
                    <a:gd name="textAreaRight" fmla="*/ 204120 w 203760"/>
                    <a:gd name="textAreaTop" fmla="*/ 0 h 60120"/>
                    <a:gd name="textAreaBottom" fmla="*/ 60480 h 60120"/>
                  </a:gdLst>
                  <a:ahLst/>
                  <a:rect l="textAreaLeft" t="textAreaTop" r="textAreaRight" b="textAreaBottom"/>
                  <a:pathLst>
                    <a:path w="158" h="108">
                      <a:moveTo>
                        <a:pt x="65" y="0"/>
                      </a:moveTo>
                      <a:lnTo>
                        <a:pt x="158" y="45"/>
                      </a:lnTo>
                      <a:lnTo>
                        <a:pt x="92" y="108"/>
                      </a:lnTo>
                      <a:lnTo>
                        <a:pt x="0" y="64"/>
                      </a:lnTo>
                      <a:lnTo>
                        <a:pt x="65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Freeform 196"/>
                <p:cNvSpPr/>
                <p:nvPr/>
              </p:nvSpPr>
              <p:spPr>
                <a:xfrm>
                  <a:off x="6766560" y="3405960"/>
                  <a:ext cx="203760" cy="60120"/>
                </a:xfrm>
                <a:custGeom>
                  <a:avLst/>
                  <a:gdLst>
                    <a:gd name="textAreaLeft" fmla="*/ 0 w 203760"/>
                    <a:gd name="textAreaRight" fmla="*/ 204120 w 203760"/>
                    <a:gd name="textAreaTop" fmla="*/ 0 h 60120"/>
                    <a:gd name="textAreaBottom" fmla="*/ 60480 h 60120"/>
                  </a:gdLst>
                  <a:ahLst/>
                  <a:rect l="textAreaLeft" t="textAreaTop" r="textAreaRight" b="textAreaBottom"/>
                  <a:pathLst>
                    <a:path w="158" h="108">
                      <a:moveTo>
                        <a:pt x="66" y="0"/>
                      </a:moveTo>
                      <a:lnTo>
                        <a:pt x="158" y="44"/>
                      </a:lnTo>
                      <a:lnTo>
                        <a:pt x="93" y="108"/>
                      </a:lnTo>
                      <a:lnTo>
                        <a:pt x="0" y="62"/>
                      </a:lnTo>
                      <a:lnTo>
                        <a:pt x="66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4" name="Freeform 197"/>
                <p:cNvSpPr/>
                <p:nvPr/>
              </p:nvSpPr>
              <p:spPr>
                <a:xfrm>
                  <a:off x="6680160" y="3441240"/>
                  <a:ext cx="206640" cy="59760"/>
                </a:xfrm>
                <a:custGeom>
                  <a:avLst/>
                  <a:gdLst>
                    <a:gd name="textAreaLeft" fmla="*/ 0 w 206640"/>
                    <a:gd name="textAreaRight" fmla="*/ 207000 w 206640"/>
                    <a:gd name="textAreaTop" fmla="*/ 0 h 59760"/>
                    <a:gd name="textAreaBottom" fmla="*/ 60120 h 59760"/>
                  </a:gdLst>
                  <a:ahLst/>
                  <a:rect l="textAreaLeft" t="textAreaTop" r="textAreaRight" b="textAreaBottom"/>
                  <a:pathLst>
                    <a:path w="157" h="109">
                      <a:moveTo>
                        <a:pt x="64" y="0"/>
                      </a:moveTo>
                      <a:lnTo>
                        <a:pt x="157" y="46"/>
                      </a:lnTo>
                      <a:lnTo>
                        <a:pt x="91" y="109"/>
                      </a:lnTo>
                      <a:lnTo>
                        <a:pt x="0" y="64"/>
                      </a:lnTo>
                      <a:lnTo>
                        <a:pt x="64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" name="Freeform 198"/>
                <p:cNvSpPr/>
                <p:nvPr/>
              </p:nvSpPr>
              <p:spPr>
                <a:xfrm>
                  <a:off x="6594120" y="3476160"/>
                  <a:ext cx="205920" cy="60120"/>
                </a:xfrm>
                <a:custGeom>
                  <a:avLst/>
                  <a:gdLst>
                    <a:gd name="textAreaLeft" fmla="*/ 0 w 205920"/>
                    <a:gd name="textAreaRight" fmla="*/ 206280 w 205920"/>
                    <a:gd name="textAreaTop" fmla="*/ 0 h 60120"/>
                    <a:gd name="textAreaBottom" fmla="*/ 60480 h 60120"/>
                  </a:gdLst>
                  <a:ahLst/>
                  <a:rect l="textAreaLeft" t="textAreaTop" r="textAreaRight" b="textAreaBottom"/>
                  <a:pathLst>
                    <a:path w="157" h="108">
                      <a:moveTo>
                        <a:pt x="66" y="0"/>
                      </a:moveTo>
                      <a:lnTo>
                        <a:pt x="157" y="45"/>
                      </a:lnTo>
                      <a:lnTo>
                        <a:pt x="92" y="108"/>
                      </a:lnTo>
                      <a:lnTo>
                        <a:pt x="0" y="64"/>
                      </a:lnTo>
                      <a:lnTo>
                        <a:pt x="66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" name="Freeform 199"/>
                <p:cNvSpPr/>
                <p:nvPr/>
              </p:nvSpPr>
              <p:spPr>
                <a:xfrm>
                  <a:off x="6510600" y="3512880"/>
                  <a:ext cx="205920" cy="58680"/>
                </a:xfrm>
                <a:custGeom>
                  <a:avLst/>
                  <a:gdLst>
                    <a:gd name="textAreaLeft" fmla="*/ 0 w 205920"/>
                    <a:gd name="textAreaRight" fmla="*/ 206280 w 205920"/>
                    <a:gd name="textAreaTop" fmla="*/ 0 h 58680"/>
                    <a:gd name="textAreaBottom" fmla="*/ 59040 h 58680"/>
                  </a:gdLst>
                  <a:ahLst/>
                  <a:rect l="textAreaLeft" t="textAreaTop" r="textAreaRight" b="textAreaBottom"/>
                  <a:pathLst>
                    <a:path w="157" h="107">
                      <a:moveTo>
                        <a:pt x="65" y="0"/>
                      </a:moveTo>
                      <a:lnTo>
                        <a:pt x="157" y="44"/>
                      </a:lnTo>
                      <a:lnTo>
                        <a:pt x="91" y="107"/>
                      </a:lnTo>
                      <a:lnTo>
                        <a:pt x="0" y="62"/>
                      </a:lnTo>
                      <a:lnTo>
                        <a:pt x="65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7" name="Freeform 200"/>
                <p:cNvSpPr/>
                <p:nvPr/>
              </p:nvSpPr>
              <p:spPr>
                <a:xfrm>
                  <a:off x="6424200" y="3546720"/>
                  <a:ext cx="206640" cy="61560"/>
                </a:xfrm>
                <a:custGeom>
                  <a:avLst/>
                  <a:gdLst>
                    <a:gd name="textAreaLeft" fmla="*/ 0 w 206640"/>
                    <a:gd name="textAreaRight" fmla="*/ 207000 w 206640"/>
                    <a:gd name="textAreaTop" fmla="*/ 0 h 61560"/>
                    <a:gd name="textAreaBottom" fmla="*/ 61920 h 61560"/>
                  </a:gdLst>
                  <a:ahLst/>
                  <a:rect l="textAreaLeft" t="textAreaTop" r="textAreaRight" b="textAreaBottom"/>
                  <a:pathLst>
                    <a:path w="157" h="109">
                      <a:moveTo>
                        <a:pt x="66" y="0"/>
                      </a:moveTo>
                      <a:lnTo>
                        <a:pt x="157" y="45"/>
                      </a:lnTo>
                      <a:lnTo>
                        <a:pt x="92" y="109"/>
                      </a:lnTo>
                      <a:lnTo>
                        <a:pt x="0" y="64"/>
                      </a:lnTo>
                      <a:lnTo>
                        <a:pt x="66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8" name="Freeform 201"/>
                <p:cNvSpPr/>
                <p:nvPr/>
              </p:nvSpPr>
              <p:spPr>
                <a:xfrm>
                  <a:off x="6338160" y="3583440"/>
                  <a:ext cx="205920" cy="59760"/>
                </a:xfrm>
                <a:custGeom>
                  <a:avLst/>
                  <a:gdLst>
                    <a:gd name="textAreaLeft" fmla="*/ 0 w 205920"/>
                    <a:gd name="textAreaRight" fmla="*/ 206280 w 205920"/>
                    <a:gd name="textAreaTop" fmla="*/ 0 h 59760"/>
                    <a:gd name="textAreaBottom" fmla="*/ 60120 h 59760"/>
                  </a:gdLst>
                  <a:ahLst/>
                  <a:rect l="textAreaLeft" t="textAreaTop" r="textAreaRight" b="textAreaBottom"/>
                  <a:pathLst>
                    <a:path w="157" h="108">
                      <a:moveTo>
                        <a:pt x="65" y="0"/>
                      </a:moveTo>
                      <a:lnTo>
                        <a:pt x="157" y="45"/>
                      </a:lnTo>
                      <a:lnTo>
                        <a:pt x="91" y="108"/>
                      </a:lnTo>
                      <a:lnTo>
                        <a:pt x="0" y="62"/>
                      </a:lnTo>
                      <a:lnTo>
                        <a:pt x="65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9" name="Freeform 202"/>
                <p:cNvSpPr/>
                <p:nvPr/>
              </p:nvSpPr>
              <p:spPr>
                <a:xfrm>
                  <a:off x="6251760" y="3616920"/>
                  <a:ext cx="206640" cy="61560"/>
                </a:xfrm>
                <a:custGeom>
                  <a:avLst/>
                  <a:gdLst>
                    <a:gd name="textAreaLeft" fmla="*/ 0 w 206640"/>
                    <a:gd name="textAreaRight" fmla="*/ 207000 w 206640"/>
                    <a:gd name="textAreaTop" fmla="*/ 0 h 61560"/>
                    <a:gd name="textAreaBottom" fmla="*/ 61920 h 61560"/>
                  </a:gdLst>
                  <a:ahLst/>
                  <a:rect l="textAreaLeft" t="textAreaTop" r="textAreaRight" b="textAreaBottom"/>
                  <a:pathLst>
                    <a:path w="157" h="109">
                      <a:moveTo>
                        <a:pt x="66" y="0"/>
                      </a:moveTo>
                      <a:lnTo>
                        <a:pt x="157" y="46"/>
                      </a:lnTo>
                      <a:lnTo>
                        <a:pt x="91" y="109"/>
                      </a:lnTo>
                      <a:lnTo>
                        <a:pt x="0" y="64"/>
                      </a:lnTo>
                      <a:lnTo>
                        <a:pt x="66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Freeform 203"/>
                <p:cNvSpPr/>
                <p:nvPr/>
              </p:nvSpPr>
              <p:spPr>
                <a:xfrm>
                  <a:off x="6167880" y="3653640"/>
                  <a:ext cx="203760" cy="59760"/>
                </a:xfrm>
                <a:custGeom>
                  <a:avLst/>
                  <a:gdLst>
                    <a:gd name="textAreaLeft" fmla="*/ 0 w 203760"/>
                    <a:gd name="textAreaRight" fmla="*/ 204120 w 203760"/>
                    <a:gd name="textAreaTop" fmla="*/ 0 h 59760"/>
                    <a:gd name="textAreaBottom" fmla="*/ 60120 h 59760"/>
                  </a:gdLst>
                  <a:ahLst/>
                  <a:rect l="textAreaLeft" t="textAreaTop" r="textAreaRight" b="textAreaBottom"/>
                  <a:pathLst>
                    <a:path w="156" h="109">
                      <a:moveTo>
                        <a:pt x="65" y="0"/>
                      </a:moveTo>
                      <a:lnTo>
                        <a:pt x="156" y="45"/>
                      </a:lnTo>
                      <a:lnTo>
                        <a:pt x="91" y="109"/>
                      </a:lnTo>
                      <a:lnTo>
                        <a:pt x="0" y="64"/>
                      </a:lnTo>
                      <a:lnTo>
                        <a:pt x="65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1" name="Freeform 204"/>
                <p:cNvSpPr/>
                <p:nvPr/>
              </p:nvSpPr>
              <p:spPr>
                <a:xfrm>
                  <a:off x="6082200" y="3688560"/>
                  <a:ext cx="205920" cy="60120"/>
                </a:xfrm>
                <a:custGeom>
                  <a:avLst/>
                  <a:gdLst>
                    <a:gd name="textAreaLeft" fmla="*/ 0 w 205920"/>
                    <a:gd name="textAreaRight" fmla="*/ 206280 w 205920"/>
                    <a:gd name="textAreaTop" fmla="*/ 0 h 60120"/>
                    <a:gd name="textAreaBottom" fmla="*/ 60480 h 60120"/>
                  </a:gdLst>
                  <a:ahLst/>
                  <a:rect l="textAreaLeft" t="textAreaTop" r="textAreaRight" b="textAreaBottom"/>
                  <a:pathLst>
                    <a:path w="157" h="107">
                      <a:moveTo>
                        <a:pt x="66" y="0"/>
                      </a:moveTo>
                      <a:lnTo>
                        <a:pt x="157" y="45"/>
                      </a:lnTo>
                      <a:lnTo>
                        <a:pt x="91" y="107"/>
                      </a:lnTo>
                      <a:lnTo>
                        <a:pt x="0" y="62"/>
                      </a:lnTo>
                      <a:lnTo>
                        <a:pt x="66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2" name="Freeform 205"/>
                <p:cNvSpPr/>
                <p:nvPr/>
              </p:nvSpPr>
              <p:spPr>
                <a:xfrm>
                  <a:off x="7485480" y="3185280"/>
                  <a:ext cx="203760" cy="60120"/>
                </a:xfrm>
                <a:custGeom>
                  <a:avLst/>
                  <a:gdLst>
                    <a:gd name="textAreaLeft" fmla="*/ 0 w 203760"/>
                    <a:gd name="textAreaRight" fmla="*/ 204120 w 203760"/>
                    <a:gd name="textAreaTop" fmla="*/ 0 h 60120"/>
                    <a:gd name="textAreaBottom" fmla="*/ 60480 h 60120"/>
                  </a:gdLst>
                  <a:ahLst/>
                  <a:rect l="textAreaLeft" t="textAreaTop" r="textAreaRight" b="textAreaBottom"/>
                  <a:pathLst>
                    <a:path w="158" h="109">
                      <a:moveTo>
                        <a:pt x="66" y="0"/>
                      </a:moveTo>
                      <a:lnTo>
                        <a:pt x="158" y="45"/>
                      </a:lnTo>
                      <a:lnTo>
                        <a:pt x="93" y="109"/>
                      </a:lnTo>
                      <a:lnTo>
                        <a:pt x="0" y="63"/>
                      </a:lnTo>
                      <a:lnTo>
                        <a:pt x="66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3" name="Freeform 206"/>
                <p:cNvSpPr/>
                <p:nvPr/>
              </p:nvSpPr>
              <p:spPr>
                <a:xfrm>
                  <a:off x="7399080" y="3220560"/>
                  <a:ext cx="205920" cy="59760"/>
                </a:xfrm>
                <a:custGeom>
                  <a:avLst/>
                  <a:gdLst>
                    <a:gd name="textAreaLeft" fmla="*/ 0 w 205920"/>
                    <a:gd name="textAreaRight" fmla="*/ 206280 w 205920"/>
                    <a:gd name="textAreaTop" fmla="*/ 0 h 59760"/>
                    <a:gd name="textAreaBottom" fmla="*/ 60120 h 59760"/>
                  </a:gdLst>
                  <a:ahLst/>
                  <a:rect l="textAreaLeft" t="textAreaTop" r="textAreaRight" b="textAreaBottom"/>
                  <a:pathLst>
                    <a:path w="157" h="108">
                      <a:moveTo>
                        <a:pt x="64" y="0"/>
                      </a:moveTo>
                      <a:lnTo>
                        <a:pt x="157" y="46"/>
                      </a:lnTo>
                      <a:lnTo>
                        <a:pt x="91" y="108"/>
                      </a:lnTo>
                      <a:lnTo>
                        <a:pt x="0" y="63"/>
                      </a:lnTo>
                      <a:lnTo>
                        <a:pt x="64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4" name="Freeform 207"/>
                <p:cNvSpPr/>
                <p:nvPr/>
              </p:nvSpPr>
              <p:spPr>
                <a:xfrm>
                  <a:off x="7313040" y="3255480"/>
                  <a:ext cx="205920" cy="60120"/>
                </a:xfrm>
                <a:custGeom>
                  <a:avLst/>
                  <a:gdLst>
                    <a:gd name="textAreaLeft" fmla="*/ 0 w 205920"/>
                    <a:gd name="textAreaRight" fmla="*/ 206280 w 205920"/>
                    <a:gd name="textAreaTop" fmla="*/ 0 h 60120"/>
                    <a:gd name="textAreaBottom" fmla="*/ 60480 h 60120"/>
                  </a:gdLst>
                  <a:ahLst/>
                  <a:rect l="textAreaLeft" t="textAreaTop" r="textAreaRight" b="textAreaBottom"/>
                  <a:pathLst>
                    <a:path w="157" h="109">
                      <a:moveTo>
                        <a:pt x="66" y="0"/>
                      </a:moveTo>
                      <a:lnTo>
                        <a:pt x="157" y="45"/>
                      </a:lnTo>
                      <a:lnTo>
                        <a:pt x="92" y="109"/>
                      </a:lnTo>
                      <a:lnTo>
                        <a:pt x="0" y="64"/>
                      </a:lnTo>
                      <a:lnTo>
                        <a:pt x="66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5" name="Freeform 208"/>
                <p:cNvSpPr/>
                <p:nvPr/>
              </p:nvSpPr>
              <p:spPr>
                <a:xfrm>
                  <a:off x="7229160" y="3290760"/>
                  <a:ext cx="206640" cy="60120"/>
                </a:xfrm>
                <a:custGeom>
                  <a:avLst/>
                  <a:gdLst>
                    <a:gd name="textAreaLeft" fmla="*/ 0 w 206640"/>
                    <a:gd name="textAreaRight" fmla="*/ 207000 w 206640"/>
                    <a:gd name="textAreaTop" fmla="*/ 0 h 60120"/>
                    <a:gd name="textAreaBottom" fmla="*/ 60480 h 60120"/>
                  </a:gdLst>
                  <a:ahLst/>
                  <a:rect l="textAreaLeft" t="textAreaTop" r="textAreaRight" b="textAreaBottom"/>
                  <a:pathLst>
                    <a:path w="157" h="107">
                      <a:moveTo>
                        <a:pt x="65" y="0"/>
                      </a:moveTo>
                      <a:lnTo>
                        <a:pt x="157" y="45"/>
                      </a:lnTo>
                      <a:lnTo>
                        <a:pt x="91" y="107"/>
                      </a:lnTo>
                      <a:lnTo>
                        <a:pt x="0" y="63"/>
                      </a:lnTo>
                      <a:lnTo>
                        <a:pt x="65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6" name="Freeform 209"/>
                <p:cNvSpPr/>
                <p:nvPr/>
              </p:nvSpPr>
              <p:spPr>
                <a:xfrm>
                  <a:off x="7143120" y="3325680"/>
                  <a:ext cx="205920" cy="60120"/>
                </a:xfrm>
                <a:custGeom>
                  <a:avLst/>
                  <a:gdLst>
                    <a:gd name="textAreaLeft" fmla="*/ 0 w 205920"/>
                    <a:gd name="textAreaRight" fmla="*/ 206280 w 205920"/>
                    <a:gd name="textAreaTop" fmla="*/ 0 h 60120"/>
                    <a:gd name="textAreaBottom" fmla="*/ 60480 h 60120"/>
                  </a:gdLst>
                  <a:ahLst/>
                  <a:rect l="textAreaLeft" t="textAreaTop" r="textAreaRight" b="textAreaBottom"/>
                  <a:pathLst>
                    <a:path w="157" h="108">
                      <a:moveTo>
                        <a:pt x="66" y="0"/>
                      </a:moveTo>
                      <a:lnTo>
                        <a:pt x="157" y="44"/>
                      </a:lnTo>
                      <a:lnTo>
                        <a:pt x="92" y="108"/>
                      </a:lnTo>
                      <a:lnTo>
                        <a:pt x="0" y="63"/>
                      </a:lnTo>
                      <a:lnTo>
                        <a:pt x="66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7" name="Freeform 210"/>
                <p:cNvSpPr/>
                <p:nvPr/>
              </p:nvSpPr>
              <p:spPr>
                <a:xfrm>
                  <a:off x="7056360" y="3360960"/>
                  <a:ext cx="206640" cy="60120"/>
                </a:xfrm>
                <a:custGeom>
                  <a:avLst/>
                  <a:gdLst>
                    <a:gd name="textAreaLeft" fmla="*/ 0 w 206640"/>
                    <a:gd name="textAreaRight" fmla="*/ 207000 w 206640"/>
                    <a:gd name="textAreaTop" fmla="*/ 0 h 60120"/>
                    <a:gd name="textAreaBottom" fmla="*/ 60480 h 60120"/>
                  </a:gdLst>
                  <a:ahLst/>
                  <a:rect l="textAreaLeft" t="textAreaTop" r="textAreaRight" b="textAreaBottom"/>
                  <a:pathLst>
                    <a:path w="157" h="109">
                      <a:moveTo>
                        <a:pt x="65" y="0"/>
                      </a:moveTo>
                      <a:lnTo>
                        <a:pt x="157" y="45"/>
                      </a:lnTo>
                      <a:lnTo>
                        <a:pt x="91" y="109"/>
                      </a:lnTo>
                      <a:lnTo>
                        <a:pt x="0" y="63"/>
                      </a:lnTo>
                      <a:lnTo>
                        <a:pt x="65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" name="Freeform 211"/>
                <p:cNvSpPr/>
                <p:nvPr/>
              </p:nvSpPr>
              <p:spPr>
                <a:xfrm>
                  <a:off x="6970680" y="3396240"/>
                  <a:ext cx="205920" cy="59760"/>
                </a:xfrm>
                <a:custGeom>
                  <a:avLst/>
                  <a:gdLst>
                    <a:gd name="textAreaLeft" fmla="*/ 0 w 205920"/>
                    <a:gd name="textAreaRight" fmla="*/ 206280 w 205920"/>
                    <a:gd name="textAreaTop" fmla="*/ 0 h 59760"/>
                    <a:gd name="textAreaBottom" fmla="*/ 60120 h 59760"/>
                  </a:gdLst>
                  <a:ahLst/>
                  <a:rect l="textAreaLeft" t="textAreaTop" r="textAreaRight" b="textAreaBottom"/>
                  <a:pathLst>
                    <a:path w="157" h="108">
                      <a:moveTo>
                        <a:pt x="66" y="0"/>
                      </a:moveTo>
                      <a:lnTo>
                        <a:pt x="157" y="46"/>
                      </a:lnTo>
                      <a:lnTo>
                        <a:pt x="92" y="108"/>
                      </a:lnTo>
                      <a:lnTo>
                        <a:pt x="0" y="63"/>
                      </a:lnTo>
                      <a:lnTo>
                        <a:pt x="66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" name="Freeform 212"/>
                <p:cNvSpPr/>
                <p:nvPr/>
              </p:nvSpPr>
              <p:spPr>
                <a:xfrm>
                  <a:off x="6887160" y="3431160"/>
                  <a:ext cx="205920" cy="60120"/>
                </a:xfrm>
                <a:custGeom>
                  <a:avLst/>
                  <a:gdLst>
                    <a:gd name="textAreaLeft" fmla="*/ 0 w 205920"/>
                    <a:gd name="textAreaRight" fmla="*/ 206280 w 205920"/>
                    <a:gd name="textAreaTop" fmla="*/ 0 h 60120"/>
                    <a:gd name="textAreaBottom" fmla="*/ 60480 h 60120"/>
                  </a:gdLst>
                  <a:ahLst/>
                  <a:rect l="textAreaLeft" t="textAreaTop" r="textAreaRight" b="textAreaBottom"/>
                  <a:pathLst>
                    <a:path w="157" h="109">
                      <a:moveTo>
                        <a:pt x="65" y="0"/>
                      </a:moveTo>
                      <a:lnTo>
                        <a:pt x="157" y="45"/>
                      </a:lnTo>
                      <a:lnTo>
                        <a:pt x="91" y="109"/>
                      </a:lnTo>
                      <a:lnTo>
                        <a:pt x="0" y="64"/>
                      </a:lnTo>
                      <a:lnTo>
                        <a:pt x="65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0" name="Freeform 213"/>
                <p:cNvSpPr/>
                <p:nvPr/>
              </p:nvSpPr>
              <p:spPr>
                <a:xfrm>
                  <a:off x="6800400" y="3466440"/>
                  <a:ext cx="206640" cy="60120"/>
                </a:xfrm>
                <a:custGeom>
                  <a:avLst/>
                  <a:gdLst>
                    <a:gd name="textAreaLeft" fmla="*/ 0 w 206640"/>
                    <a:gd name="textAreaRight" fmla="*/ 207000 w 206640"/>
                    <a:gd name="textAreaTop" fmla="*/ 0 h 60120"/>
                    <a:gd name="textAreaBottom" fmla="*/ 60480 h 60120"/>
                  </a:gdLst>
                  <a:ahLst/>
                  <a:rect l="textAreaLeft" t="textAreaTop" r="textAreaRight" b="textAreaBottom"/>
                  <a:pathLst>
                    <a:path w="157" h="107">
                      <a:moveTo>
                        <a:pt x="66" y="0"/>
                      </a:moveTo>
                      <a:lnTo>
                        <a:pt x="157" y="45"/>
                      </a:lnTo>
                      <a:lnTo>
                        <a:pt x="91" y="107"/>
                      </a:lnTo>
                      <a:lnTo>
                        <a:pt x="0" y="63"/>
                      </a:lnTo>
                      <a:lnTo>
                        <a:pt x="66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Freeform 214"/>
                <p:cNvSpPr/>
                <p:nvPr/>
              </p:nvSpPr>
              <p:spPr>
                <a:xfrm>
                  <a:off x="6716880" y="3501360"/>
                  <a:ext cx="203760" cy="60120"/>
                </a:xfrm>
                <a:custGeom>
                  <a:avLst/>
                  <a:gdLst>
                    <a:gd name="textAreaLeft" fmla="*/ 0 w 203760"/>
                    <a:gd name="textAreaRight" fmla="*/ 204120 w 203760"/>
                    <a:gd name="textAreaTop" fmla="*/ 0 h 60120"/>
                    <a:gd name="textAreaBottom" fmla="*/ 60480 h 60120"/>
                  </a:gdLst>
                  <a:ahLst/>
                  <a:rect l="textAreaLeft" t="textAreaTop" r="textAreaRight" b="textAreaBottom"/>
                  <a:pathLst>
                    <a:path w="156" h="108">
                      <a:moveTo>
                        <a:pt x="65" y="0"/>
                      </a:moveTo>
                      <a:lnTo>
                        <a:pt x="156" y="44"/>
                      </a:lnTo>
                      <a:lnTo>
                        <a:pt x="92" y="108"/>
                      </a:lnTo>
                      <a:lnTo>
                        <a:pt x="0" y="63"/>
                      </a:lnTo>
                      <a:lnTo>
                        <a:pt x="65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2" name="Freeform 215"/>
                <p:cNvSpPr/>
                <p:nvPr/>
              </p:nvSpPr>
              <p:spPr>
                <a:xfrm>
                  <a:off x="6630840" y="3536280"/>
                  <a:ext cx="203760" cy="61560"/>
                </a:xfrm>
                <a:custGeom>
                  <a:avLst/>
                  <a:gdLst>
                    <a:gd name="textAreaLeft" fmla="*/ 0 w 203760"/>
                    <a:gd name="textAreaRight" fmla="*/ 204120 w 203760"/>
                    <a:gd name="textAreaTop" fmla="*/ 0 h 61560"/>
                    <a:gd name="textAreaBottom" fmla="*/ 61920 h 61560"/>
                  </a:gdLst>
                  <a:ahLst/>
                  <a:rect l="textAreaLeft" t="textAreaTop" r="textAreaRight" b="textAreaBottom"/>
                  <a:pathLst>
                    <a:path w="158" h="109">
                      <a:moveTo>
                        <a:pt x="66" y="0"/>
                      </a:moveTo>
                      <a:lnTo>
                        <a:pt x="158" y="45"/>
                      </a:lnTo>
                      <a:lnTo>
                        <a:pt x="92" y="109"/>
                      </a:lnTo>
                      <a:lnTo>
                        <a:pt x="0" y="63"/>
                      </a:lnTo>
                      <a:lnTo>
                        <a:pt x="66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" name="Freeform 216"/>
                <p:cNvSpPr/>
                <p:nvPr/>
              </p:nvSpPr>
              <p:spPr>
                <a:xfrm>
                  <a:off x="6544440" y="3571560"/>
                  <a:ext cx="203760" cy="59760"/>
                </a:xfrm>
                <a:custGeom>
                  <a:avLst/>
                  <a:gdLst>
                    <a:gd name="textAreaLeft" fmla="*/ 0 w 203760"/>
                    <a:gd name="textAreaRight" fmla="*/ 204120 w 203760"/>
                    <a:gd name="textAreaTop" fmla="*/ 0 h 59760"/>
                    <a:gd name="textAreaBottom" fmla="*/ 60120 h 59760"/>
                  </a:gdLst>
                  <a:ahLst/>
                  <a:rect l="textAreaLeft" t="textAreaTop" r="textAreaRight" b="textAreaBottom"/>
                  <a:pathLst>
                    <a:path w="157" h="108">
                      <a:moveTo>
                        <a:pt x="65" y="0"/>
                      </a:moveTo>
                      <a:lnTo>
                        <a:pt x="157" y="46"/>
                      </a:lnTo>
                      <a:lnTo>
                        <a:pt x="92" y="108"/>
                      </a:lnTo>
                      <a:lnTo>
                        <a:pt x="0" y="64"/>
                      </a:lnTo>
                      <a:lnTo>
                        <a:pt x="65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" name="Freeform 217"/>
                <p:cNvSpPr/>
                <p:nvPr/>
              </p:nvSpPr>
              <p:spPr>
                <a:xfrm>
                  <a:off x="6458400" y="3608640"/>
                  <a:ext cx="205920" cy="59760"/>
                </a:xfrm>
                <a:custGeom>
                  <a:avLst/>
                  <a:gdLst>
                    <a:gd name="textAreaLeft" fmla="*/ 0 w 205920"/>
                    <a:gd name="textAreaRight" fmla="*/ 206280 w 205920"/>
                    <a:gd name="textAreaTop" fmla="*/ 0 h 59760"/>
                    <a:gd name="textAreaBottom" fmla="*/ 60120 h 59760"/>
                  </a:gdLst>
                  <a:ahLst/>
                  <a:rect l="textAreaLeft" t="textAreaTop" r="textAreaRight" b="textAreaBottom"/>
                  <a:pathLst>
                    <a:path w="158" h="108">
                      <a:moveTo>
                        <a:pt x="66" y="0"/>
                      </a:moveTo>
                      <a:lnTo>
                        <a:pt x="158" y="44"/>
                      </a:lnTo>
                      <a:lnTo>
                        <a:pt x="92" y="108"/>
                      </a:lnTo>
                      <a:lnTo>
                        <a:pt x="0" y="63"/>
                      </a:lnTo>
                      <a:lnTo>
                        <a:pt x="66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5" name="Freeform 218"/>
                <p:cNvSpPr/>
                <p:nvPr/>
              </p:nvSpPr>
              <p:spPr>
                <a:xfrm>
                  <a:off x="6372000" y="3643560"/>
                  <a:ext cx="205920" cy="60120"/>
                </a:xfrm>
                <a:custGeom>
                  <a:avLst/>
                  <a:gdLst>
                    <a:gd name="textAreaLeft" fmla="*/ 0 w 205920"/>
                    <a:gd name="textAreaRight" fmla="*/ 206280 w 205920"/>
                    <a:gd name="textAreaTop" fmla="*/ 0 h 60120"/>
                    <a:gd name="textAreaBottom" fmla="*/ 60480 h 60120"/>
                  </a:gdLst>
                  <a:ahLst/>
                  <a:rect l="textAreaLeft" t="textAreaTop" r="textAreaRight" b="textAreaBottom"/>
                  <a:pathLst>
                    <a:path w="158" h="108">
                      <a:moveTo>
                        <a:pt x="66" y="0"/>
                      </a:moveTo>
                      <a:lnTo>
                        <a:pt x="158" y="45"/>
                      </a:lnTo>
                      <a:lnTo>
                        <a:pt x="93" y="108"/>
                      </a:lnTo>
                      <a:lnTo>
                        <a:pt x="0" y="63"/>
                      </a:lnTo>
                      <a:lnTo>
                        <a:pt x="66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Freeform 219"/>
                <p:cNvSpPr/>
                <p:nvPr/>
              </p:nvSpPr>
              <p:spPr>
                <a:xfrm>
                  <a:off x="6288480" y="3678480"/>
                  <a:ext cx="203760" cy="60120"/>
                </a:xfrm>
                <a:custGeom>
                  <a:avLst/>
                  <a:gdLst>
                    <a:gd name="textAreaLeft" fmla="*/ 0 w 203760"/>
                    <a:gd name="textAreaRight" fmla="*/ 204120 w 203760"/>
                    <a:gd name="textAreaTop" fmla="*/ 0 h 60120"/>
                    <a:gd name="textAreaBottom" fmla="*/ 60480 h 60120"/>
                  </a:gdLst>
                  <a:ahLst/>
                  <a:rect l="textAreaLeft" t="textAreaTop" r="textAreaRight" b="textAreaBottom"/>
                  <a:pathLst>
                    <a:path w="158" h="108">
                      <a:moveTo>
                        <a:pt x="65" y="0"/>
                      </a:moveTo>
                      <a:lnTo>
                        <a:pt x="158" y="45"/>
                      </a:lnTo>
                      <a:lnTo>
                        <a:pt x="92" y="108"/>
                      </a:lnTo>
                      <a:lnTo>
                        <a:pt x="0" y="64"/>
                      </a:lnTo>
                      <a:lnTo>
                        <a:pt x="65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" name="Freeform 220"/>
                <p:cNvSpPr/>
                <p:nvPr/>
              </p:nvSpPr>
              <p:spPr>
                <a:xfrm>
                  <a:off x="7605360" y="3210480"/>
                  <a:ext cx="206640" cy="60120"/>
                </a:xfrm>
                <a:custGeom>
                  <a:avLst/>
                  <a:gdLst>
                    <a:gd name="textAreaLeft" fmla="*/ 0 w 206640"/>
                    <a:gd name="textAreaRight" fmla="*/ 207000 w 206640"/>
                    <a:gd name="textAreaTop" fmla="*/ 0 h 60120"/>
                    <a:gd name="textAreaBottom" fmla="*/ 60480 h 60120"/>
                  </a:gdLst>
                  <a:ahLst/>
                  <a:rect l="textAreaLeft" t="textAreaTop" r="textAreaRight" b="textAreaBottom"/>
                  <a:pathLst>
                    <a:path w="158" h="108">
                      <a:moveTo>
                        <a:pt x="65" y="0"/>
                      </a:moveTo>
                      <a:lnTo>
                        <a:pt x="158" y="45"/>
                      </a:lnTo>
                      <a:lnTo>
                        <a:pt x="92" y="108"/>
                      </a:lnTo>
                      <a:lnTo>
                        <a:pt x="0" y="64"/>
                      </a:lnTo>
                      <a:lnTo>
                        <a:pt x="65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" name="Freeform 221"/>
                <p:cNvSpPr/>
                <p:nvPr/>
              </p:nvSpPr>
              <p:spPr>
                <a:xfrm>
                  <a:off x="7519320" y="3245760"/>
                  <a:ext cx="205920" cy="60120"/>
                </a:xfrm>
                <a:custGeom>
                  <a:avLst/>
                  <a:gdLst>
                    <a:gd name="textAreaLeft" fmla="*/ 0 w 205920"/>
                    <a:gd name="textAreaRight" fmla="*/ 206280 w 205920"/>
                    <a:gd name="textAreaTop" fmla="*/ 0 h 60120"/>
                    <a:gd name="textAreaBottom" fmla="*/ 60480 h 60120"/>
                  </a:gdLst>
                  <a:ahLst/>
                  <a:rect l="textAreaLeft" t="textAreaTop" r="textAreaRight" b="textAreaBottom"/>
                  <a:pathLst>
                    <a:path w="158" h="107">
                      <a:moveTo>
                        <a:pt x="66" y="0"/>
                      </a:moveTo>
                      <a:lnTo>
                        <a:pt x="158" y="44"/>
                      </a:lnTo>
                      <a:lnTo>
                        <a:pt x="93" y="107"/>
                      </a:lnTo>
                      <a:lnTo>
                        <a:pt x="0" y="62"/>
                      </a:lnTo>
                      <a:lnTo>
                        <a:pt x="66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9" name="Freeform 222"/>
                <p:cNvSpPr/>
                <p:nvPr/>
              </p:nvSpPr>
              <p:spPr>
                <a:xfrm>
                  <a:off x="7435800" y="3280320"/>
                  <a:ext cx="203760" cy="60120"/>
                </a:xfrm>
                <a:custGeom>
                  <a:avLst/>
                  <a:gdLst>
                    <a:gd name="textAreaLeft" fmla="*/ 0 w 203760"/>
                    <a:gd name="textAreaRight" fmla="*/ 204120 w 203760"/>
                    <a:gd name="textAreaTop" fmla="*/ 0 h 60120"/>
                    <a:gd name="textAreaBottom" fmla="*/ 60480 h 60120"/>
                  </a:gdLst>
                  <a:ahLst/>
                  <a:rect l="textAreaLeft" t="textAreaTop" r="textAreaRight" b="textAreaBottom"/>
                  <a:pathLst>
                    <a:path w="158" h="109">
                      <a:moveTo>
                        <a:pt x="65" y="0"/>
                      </a:moveTo>
                      <a:lnTo>
                        <a:pt x="158" y="45"/>
                      </a:lnTo>
                      <a:lnTo>
                        <a:pt x="92" y="109"/>
                      </a:lnTo>
                      <a:lnTo>
                        <a:pt x="0" y="64"/>
                      </a:lnTo>
                      <a:lnTo>
                        <a:pt x="65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Freeform 223"/>
                <p:cNvSpPr/>
                <p:nvPr/>
              </p:nvSpPr>
              <p:spPr>
                <a:xfrm>
                  <a:off x="7349400" y="3315600"/>
                  <a:ext cx="203760" cy="60120"/>
                </a:xfrm>
                <a:custGeom>
                  <a:avLst/>
                  <a:gdLst>
                    <a:gd name="textAreaLeft" fmla="*/ 0 w 203760"/>
                    <a:gd name="textAreaRight" fmla="*/ 204120 w 203760"/>
                    <a:gd name="textAreaTop" fmla="*/ 0 h 60120"/>
                    <a:gd name="textAreaBottom" fmla="*/ 60480 h 60120"/>
                  </a:gdLst>
                  <a:ahLst/>
                  <a:rect l="textAreaLeft" t="textAreaTop" r="textAreaRight" b="textAreaBottom"/>
                  <a:pathLst>
                    <a:path w="158" h="108">
                      <a:moveTo>
                        <a:pt x="66" y="0"/>
                      </a:moveTo>
                      <a:lnTo>
                        <a:pt x="158" y="45"/>
                      </a:lnTo>
                      <a:lnTo>
                        <a:pt x="92" y="108"/>
                      </a:lnTo>
                      <a:lnTo>
                        <a:pt x="0" y="62"/>
                      </a:lnTo>
                      <a:lnTo>
                        <a:pt x="66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1" name="Freeform 224"/>
                <p:cNvSpPr/>
                <p:nvPr/>
              </p:nvSpPr>
              <p:spPr>
                <a:xfrm>
                  <a:off x="7263360" y="3350880"/>
                  <a:ext cx="203760" cy="59760"/>
                </a:xfrm>
                <a:custGeom>
                  <a:avLst/>
                  <a:gdLst>
                    <a:gd name="textAreaLeft" fmla="*/ 0 w 203760"/>
                    <a:gd name="textAreaRight" fmla="*/ 204120 w 203760"/>
                    <a:gd name="textAreaTop" fmla="*/ 0 h 59760"/>
                    <a:gd name="textAreaBottom" fmla="*/ 60120 h 59760"/>
                  </a:gdLst>
                  <a:ahLst/>
                  <a:rect l="textAreaLeft" t="textAreaTop" r="textAreaRight" b="textAreaBottom"/>
                  <a:pathLst>
                    <a:path w="157" h="109">
                      <a:moveTo>
                        <a:pt x="65" y="0"/>
                      </a:moveTo>
                      <a:lnTo>
                        <a:pt x="157" y="46"/>
                      </a:lnTo>
                      <a:lnTo>
                        <a:pt x="92" y="109"/>
                      </a:lnTo>
                      <a:lnTo>
                        <a:pt x="0" y="64"/>
                      </a:lnTo>
                      <a:lnTo>
                        <a:pt x="65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Freeform 225"/>
                <p:cNvSpPr/>
                <p:nvPr/>
              </p:nvSpPr>
              <p:spPr>
                <a:xfrm>
                  <a:off x="7176960" y="3385800"/>
                  <a:ext cx="206640" cy="60120"/>
                </a:xfrm>
                <a:custGeom>
                  <a:avLst/>
                  <a:gdLst>
                    <a:gd name="textAreaLeft" fmla="*/ 0 w 206640"/>
                    <a:gd name="textAreaRight" fmla="*/ 207000 w 206640"/>
                    <a:gd name="textAreaTop" fmla="*/ 0 h 60120"/>
                    <a:gd name="textAreaBottom" fmla="*/ 60480 h 60120"/>
                  </a:gdLst>
                  <a:ahLst/>
                  <a:rect l="textAreaLeft" t="textAreaTop" r="textAreaRight" b="textAreaBottom"/>
                  <a:pathLst>
                    <a:path w="158" h="109">
                      <a:moveTo>
                        <a:pt x="66" y="0"/>
                      </a:moveTo>
                      <a:lnTo>
                        <a:pt x="158" y="45"/>
                      </a:lnTo>
                      <a:lnTo>
                        <a:pt x="92" y="109"/>
                      </a:lnTo>
                      <a:lnTo>
                        <a:pt x="0" y="64"/>
                      </a:lnTo>
                      <a:lnTo>
                        <a:pt x="66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3" name="Group 226"/>
              <p:cNvGrpSpPr/>
              <p:nvPr/>
            </p:nvGrpSpPr>
            <p:grpSpPr>
              <a:xfrm>
                <a:off x="5263560" y="3235320"/>
                <a:ext cx="2702160" cy="526320"/>
                <a:chOff x="5263560" y="3235320"/>
                <a:chExt cx="2702160" cy="526320"/>
              </a:xfrm>
            </p:grpSpPr>
            <p:sp>
              <p:nvSpPr>
                <p:cNvPr id="354" name="Freeform 227"/>
                <p:cNvSpPr/>
                <p:nvPr/>
              </p:nvSpPr>
              <p:spPr>
                <a:xfrm>
                  <a:off x="7093080" y="3421080"/>
                  <a:ext cx="203760" cy="60120"/>
                </a:xfrm>
                <a:custGeom>
                  <a:avLst/>
                  <a:gdLst>
                    <a:gd name="textAreaLeft" fmla="*/ 0 w 203760"/>
                    <a:gd name="textAreaRight" fmla="*/ 204120 w 203760"/>
                    <a:gd name="textAreaTop" fmla="*/ 0 h 60120"/>
                    <a:gd name="textAreaBottom" fmla="*/ 60480 h 60120"/>
                  </a:gdLst>
                  <a:ahLst/>
                  <a:rect l="textAreaLeft" t="textAreaTop" r="textAreaRight" b="textAreaBottom"/>
                  <a:pathLst>
                    <a:path w="157" h="107">
                      <a:moveTo>
                        <a:pt x="65" y="0"/>
                      </a:moveTo>
                      <a:lnTo>
                        <a:pt x="157" y="45"/>
                      </a:lnTo>
                      <a:lnTo>
                        <a:pt x="92" y="107"/>
                      </a:lnTo>
                      <a:lnTo>
                        <a:pt x="0" y="62"/>
                      </a:lnTo>
                      <a:lnTo>
                        <a:pt x="65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5" name="Freeform 228"/>
                <p:cNvSpPr/>
                <p:nvPr/>
              </p:nvSpPr>
              <p:spPr>
                <a:xfrm>
                  <a:off x="7007040" y="3455640"/>
                  <a:ext cx="203760" cy="60120"/>
                </a:xfrm>
                <a:custGeom>
                  <a:avLst/>
                  <a:gdLst>
                    <a:gd name="textAreaLeft" fmla="*/ 0 w 203760"/>
                    <a:gd name="textAreaRight" fmla="*/ 204120 w 203760"/>
                    <a:gd name="textAreaTop" fmla="*/ 0 h 60120"/>
                    <a:gd name="textAreaBottom" fmla="*/ 60480 h 60120"/>
                  </a:gdLst>
                  <a:ahLst/>
                  <a:rect l="textAreaLeft" t="textAreaTop" r="textAreaRight" b="textAreaBottom"/>
                  <a:pathLst>
                    <a:path w="158" h="109">
                      <a:moveTo>
                        <a:pt x="66" y="0"/>
                      </a:moveTo>
                      <a:lnTo>
                        <a:pt x="158" y="45"/>
                      </a:lnTo>
                      <a:lnTo>
                        <a:pt x="92" y="109"/>
                      </a:lnTo>
                      <a:lnTo>
                        <a:pt x="0" y="64"/>
                      </a:lnTo>
                      <a:lnTo>
                        <a:pt x="66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6" name="Freeform 229"/>
                <p:cNvSpPr/>
                <p:nvPr/>
              </p:nvSpPr>
              <p:spPr>
                <a:xfrm>
                  <a:off x="6920640" y="3490920"/>
                  <a:ext cx="203760" cy="61560"/>
                </a:xfrm>
                <a:custGeom>
                  <a:avLst/>
                  <a:gdLst>
                    <a:gd name="textAreaLeft" fmla="*/ 0 w 203760"/>
                    <a:gd name="textAreaRight" fmla="*/ 204120 w 203760"/>
                    <a:gd name="textAreaTop" fmla="*/ 0 h 61560"/>
                    <a:gd name="textAreaBottom" fmla="*/ 61920 h 61560"/>
                  </a:gdLst>
                  <a:ahLst/>
                  <a:rect l="textAreaLeft" t="textAreaTop" r="textAreaRight" b="textAreaBottom"/>
                  <a:pathLst>
                    <a:path w="158" h="109">
                      <a:moveTo>
                        <a:pt x="66" y="0"/>
                      </a:moveTo>
                      <a:lnTo>
                        <a:pt x="158" y="45"/>
                      </a:lnTo>
                      <a:lnTo>
                        <a:pt x="93" y="109"/>
                      </a:lnTo>
                      <a:lnTo>
                        <a:pt x="0" y="62"/>
                      </a:lnTo>
                      <a:lnTo>
                        <a:pt x="66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7" name="Freeform 230"/>
                <p:cNvSpPr/>
                <p:nvPr/>
              </p:nvSpPr>
              <p:spPr>
                <a:xfrm>
                  <a:off x="6834600" y="3526200"/>
                  <a:ext cx="205920" cy="59760"/>
                </a:xfrm>
                <a:custGeom>
                  <a:avLst/>
                  <a:gdLst>
                    <a:gd name="textAreaLeft" fmla="*/ 0 w 205920"/>
                    <a:gd name="textAreaRight" fmla="*/ 206280 w 205920"/>
                    <a:gd name="textAreaTop" fmla="*/ 0 h 59760"/>
                    <a:gd name="textAreaBottom" fmla="*/ 60120 h 59760"/>
                  </a:gdLst>
                  <a:ahLst/>
                  <a:rect l="textAreaLeft" t="textAreaTop" r="textAreaRight" b="textAreaBottom"/>
                  <a:pathLst>
                    <a:path w="157" h="109">
                      <a:moveTo>
                        <a:pt x="64" y="0"/>
                      </a:moveTo>
                      <a:lnTo>
                        <a:pt x="157" y="47"/>
                      </a:lnTo>
                      <a:lnTo>
                        <a:pt x="91" y="109"/>
                      </a:lnTo>
                      <a:lnTo>
                        <a:pt x="0" y="64"/>
                      </a:lnTo>
                      <a:lnTo>
                        <a:pt x="64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8" name="Freeform 231"/>
                <p:cNvSpPr/>
                <p:nvPr/>
              </p:nvSpPr>
              <p:spPr>
                <a:xfrm>
                  <a:off x="6748200" y="3561120"/>
                  <a:ext cx="205920" cy="61560"/>
                </a:xfrm>
                <a:custGeom>
                  <a:avLst/>
                  <a:gdLst>
                    <a:gd name="textAreaLeft" fmla="*/ 0 w 205920"/>
                    <a:gd name="textAreaRight" fmla="*/ 206280 w 205920"/>
                    <a:gd name="textAreaTop" fmla="*/ 0 h 61560"/>
                    <a:gd name="textAreaBottom" fmla="*/ 61920 h 61560"/>
                  </a:gdLst>
                  <a:ahLst/>
                  <a:rect l="textAreaLeft" t="textAreaTop" r="textAreaRight" b="textAreaBottom"/>
                  <a:pathLst>
                    <a:path w="157" h="109">
                      <a:moveTo>
                        <a:pt x="66" y="0"/>
                      </a:moveTo>
                      <a:lnTo>
                        <a:pt x="157" y="45"/>
                      </a:lnTo>
                      <a:lnTo>
                        <a:pt x="92" y="109"/>
                      </a:lnTo>
                      <a:lnTo>
                        <a:pt x="0" y="64"/>
                      </a:lnTo>
                      <a:lnTo>
                        <a:pt x="66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" name="Freeform 232"/>
                <p:cNvSpPr/>
                <p:nvPr/>
              </p:nvSpPr>
              <p:spPr>
                <a:xfrm>
                  <a:off x="6664320" y="3597840"/>
                  <a:ext cx="205920" cy="58680"/>
                </a:xfrm>
                <a:custGeom>
                  <a:avLst/>
                  <a:gdLst>
                    <a:gd name="textAreaLeft" fmla="*/ 0 w 205920"/>
                    <a:gd name="textAreaRight" fmla="*/ 206280 w 205920"/>
                    <a:gd name="textAreaTop" fmla="*/ 0 h 58680"/>
                    <a:gd name="textAreaBottom" fmla="*/ 59040 h 58680"/>
                  </a:gdLst>
                  <a:ahLst/>
                  <a:rect l="textAreaLeft" t="textAreaTop" r="textAreaRight" b="textAreaBottom"/>
                  <a:pathLst>
                    <a:path w="157" h="107">
                      <a:moveTo>
                        <a:pt x="65" y="0"/>
                      </a:moveTo>
                      <a:lnTo>
                        <a:pt x="157" y="45"/>
                      </a:lnTo>
                      <a:lnTo>
                        <a:pt x="91" y="107"/>
                      </a:lnTo>
                      <a:lnTo>
                        <a:pt x="0" y="62"/>
                      </a:lnTo>
                      <a:lnTo>
                        <a:pt x="65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0" name="Freeform 233"/>
                <p:cNvSpPr/>
                <p:nvPr/>
              </p:nvSpPr>
              <p:spPr>
                <a:xfrm>
                  <a:off x="6577920" y="3631320"/>
                  <a:ext cx="206640" cy="61920"/>
                </a:xfrm>
                <a:custGeom>
                  <a:avLst/>
                  <a:gdLst>
                    <a:gd name="textAreaLeft" fmla="*/ 0 w 206640"/>
                    <a:gd name="textAreaRight" fmla="*/ 207000 w 206640"/>
                    <a:gd name="textAreaTop" fmla="*/ 0 h 61920"/>
                    <a:gd name="textAreaBottom" fmla="*/ 62280 h 61920"/>
                  </a:gdLst>
                  <a:ahLst/>
                  <a:rect l="textAreaLeft" t="textAreaTop" r="textAreaRight" b="textAreaBottom"/>
                  <a:pathLst>
                    <a:path w="157" h="109">
                      <a:moveTo>
                        <a:pt x="66" y="0"/>
                      </a:moveTo>
                      <a:lnTo>
                        <a:pt x="157" y="45"/>
                      </a:lnTo>
                      <a:lnTo>
                        <a:pt x="92" y="109"/>
                      </a:lnTo>
                      <a:lnTo>
                        <a:pt x="0" y="64"/>
                      </a:lnTo>
                      <a:lnTo>
                        <a:pt x="66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Freeform 234"/>
                <p:cNvSpPr/>
                <p:nvPr/>
              </p:nvSpPr>
              <p:spPr>
                <a:xfrm>
                  <a:off x="6491880" y="3668040"/>
                  <a:ext cx="205920" cy="60120"/>
                </a:xfrm>
                <a:custGeom>
                  <a:avLst/>
                  <a:gdLst>
                    <a:gd name="textAreaLeft" fmla="*/ 0 w 205920"/>
                    <a:gd name="textAreaRight" fmla="*/ 206280 w 205920"/>
                    <a:gd name="textAreaTop" fmla="*/ 0 h 60120"/>
                    <a:gd name="textAreaBottom" fmla="*/ 60480 h 60120"/>
                  </a:gdLst>
                  <a:ahLst/>
                  <a:rect l="textAreaLeft" t="textAreaTop" r="textAreaRight" b="textAreaBottom"/>
                  <a:pathLst>
                    <a:path w="157" h="109">
                      <a:moveTo>
                        <a:pt x="65" y="0"/>
                      </a:moveTo>
                      <a:lnTo>
                        <a:pt x="157" y="45"/>
                      </a:lnTo>
                      <a:lnTo>
                        <a:pt x="91" y="109"/>
                      </a:lnTo>
                      <a:lnTo>
                        <a:pt x="0" y="63"/>
                      </a:lnTo>
                      <a:lnTo>
                        <a:pt x="65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Freeform 235"/>
                <p:cNvSpPr/>
                <p:nvPr/>
              </p:nvSpPr>
              <p:spPr>
                <a:xfrm>
                  <a:off x="7725240" y="3235320"/>
                  <a:ext cx="206640" cy="60120"/>
                </a:xfrm>
                <a:custGeom>
                  <a:avLst/>
                  <a:gdLst>
                    <a:gd name="textAreaLeft" fmla="*/ 0 w 206640"/>
                    <a:gd name="textAreaRight" fmla="*/ 207000 w 206640"/>
                    <a:gd name="textAreaTop" fmla="*/ 0 h 60120"/>
                    <a:gd name="textAreaBottom" fmla="*/ 60480 h 60120"/>
                  </a:gdLst>
                  <a:ahLst/>
                  <a:rect l="textAreaLeft" t="textAreaTop" r="textAreaRight" b="textAreaBottom"/>
                  <a:pathLst>
                    <a:path w="157" h="108">
                      <a:moveTo>
                        <a:pt x="66" y="0"/>
                      </a:moveTo>
                      <a:lnTo>
                        <a:pt x="157" y="44"/>
                      </a:lnTo>
                      <a:lnTo>
                        <a:pt x="91" y="108"/>
                      </a:lnTo>
                      <a:lnTo>
                        <a:pt x="0" y="63"/>
                      </a:lnTo>
                      <a:lnTo>
                        <a:pt x="66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3" name="Freeform 236"/>
                <p:cNvSpPr/>
                <p:nvPr/>
              </p:nvSpPr>
              <p:spPr>
                <a:xfrm>
                  <a:off x="7639560" y="3270240"/>
                  <a:ext cx="205920" cy="60120"/>
                </a:xfrm>
                <a:custGeom>
                  <a:avLst/>
                  <a:gdLst>
                    <a:gd name="textAreaLeft" fmla="*/ 0 w 205920"/>
                    <a:gd name="textAreaRight" fmla="*/ 206280 w 205920"/>
                    <a:gd name="textAreaTop" fmla="*/ 0 h 60120"/>
                    <a:gd name="textAreaBottom" fmla="*/ 60480 h 60120"/>
                  </a:gdLst>
                  <a:ahLst/>
                  <a:rect l="textAreaLeft" t="textAreaTop" r="textAreaRight" b="textAreaBottom"/>
                  <a:pathLst>
                    <a:path w="156" h="109">
                      <a:moveTo>
                        <a:pt x="65" y="0"/>
                      </a:moveTo>
                      <a:lnTo>
                        <a:pt x="156" y="45"/>
                      </a:lnTo>
                      <a:lnTo>
                        <a:pt x="91" y="109"/>
                      </a:lnTo>
                      <a:lnTo>
                        <a:pt x="0" y="63"/>
                      </a:lnTo>
                      <a:lnTo>
                        <a:pt x="65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4" name="Freeform 237"/>
                <p:cNvSpPr/>
                <p:nvPr/>
              </p:nvSpPr>
              <p:spPr>
                <a:xfrm>
                  <a:off x="7552800" y="3305520"/>
                  <a:ext cx="206640" cy="59760"/>
                </a:xfrm>
                <a:custGeom>
                  <a:avLst/>
                  <a:gdLst>
                    <a:gd name="textAreaLeft" fmla="*/ 0 w 206640"/>
                    <a:gd name="textAreaRight" fmla="*/ 207000 w 206640"/>
                    <a:gd name="textAreaTop" fmla="*/ 0 h 59760"/>
                    <a:gd name="textAreaBottom" fmla="*/ 60120 h 59760"/>
                  </a:gdLst>
                  <a:ahLst/>
                  <a:rect l="textAreaLeft" t="textAreaTop" r="textAreaRight" b="textAreaBottom"/>
                  <a:pathLst>
                    <a:path w="157" h="108">
                      <a:moveTo>
                        <a:pt x="66" y="0"/>
                      </a:moveTo>
                      <a:lnTo>
                        <a:pt x="157" y="46"/>
                      </a:lnTo>
                      <a:lnTo>
                        <a:pt x="91" y="108"/>
                      </a:lnTo>
                      <a:lnTo>
                        <a:pt x="0" y="64"/>
                      </a:lnTo>
                      <a:lnTo>
                        <a:pt x="66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5" name="Freeform 238"/>
                <p:cNvSpPr/>
                <p:nvPr/>
              </p:nvSpPr>
              <p:spPr>
                <a:xfrm>
                  <a:off x="7467120" y="3340440"/>
                  <a:ext cx="205920" cy="60120"/>
                </a:xfrm>
                <a:custGeom>
                  <a:avLst/>
                  <a:gdLst>
                    <a:gd name="textAreaLeft" fmla="*/ 0 w 205920"/>
                    <a:gd name="textAreaRight" fmla="*/ 206280 w 205920"/>
                    <a:gd name="textAreaTop" fmla="*/ 0 h 60120"/>
                    <a:gd name="textAreaBottom" fmla="*/ 60480 h 60120"/>
                  </a:gdLst>
                  <a:ahLst/>
                  <a:rect l="textAreaLeft" t="textAreaTop" r="textAreaRight" b="textAreaBottom"/>
                  <a:pathLst>
                    <a:path w="157" h="108">
                      <a:moveTo>
                        <a:pt x="66" y="0"/>
                      </a:moveTo>
                      <a:lnTo>
                        <a:pt x="157" y="44"/>
                      </a:lnTo>
                      <a:lnTo>
                        <a:pt x="92" y="108"/>
                      </a:lnTo>
                      <a:lnTo>
                        <a:pt x="0" y="63"/>
                      </a:lnTo>
                      <a:lnTo>
                        <a:pt x="66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6" name="Freeform 239"/>
                <p:cNvSpPr/>
                <p:nvPr/>
              </p:nvSpPr>
              <p:spPr>
                <a:xfrm>
                  <a:off x="7383240" y="3375720"/>
                  <a:ext cx="205920" cy="59760"/>
                </a:xfrm>
                <a:custGeom>
                  <a:avLst/>
                  <a:gdLst>
                    <a:gd name="textAreaLeft" fmla="*/ 0 w 205920"/>
                    <a:gd name="textAreaRight" fmla="*/ 206280 w 205920"/>
                    <a:gd name="textAreaTop" fmla="*/ 0 h 59760"/>
                    <a:gd name="textAreaBottom" fmla="*/ 60120 h 59760"/>
                  </a:gdLst>
                  <a:ahLst/>
                  <a:rect l="textAreaLeft" t="textAreaTop" r="textAreaRight" b="textAreaBottom"/>
                  <a:pathLst>
                    <a:path w="157" h="108">
                      <a:moveTo>
                        <a:pt x="65" y="0"/>
                      </a:moveTo>
                      <a:lnTo>
                        <a:pt x="157" y="45"/>
                      </a:lnTo>
                      <a:lnTo>
                        <a:pt x="91" y="108"/>
                      </a:lnTo>
                      <a:lnTo>
                        <a:pt x="0" y="63"/>
                      </a:lnTo>
                      <a:lnTo>
                        <a:pt x="65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7" name="Freeform 240"/>
                <p:cNvSpPr/>
                <p:nvPr/>
              </p:nvSpPr>
              <p:spPr>
                <a:xfrm>
                  <a:off x="7296840" y="3410640"/>
                  <a:ext cx="205920" cy="60120"/>
                </a:xfrm>
                <a:custGeom>
                  <a:avLst/>
                  <a:gdLst>
                    <a:gd name="textAreaLeft" fmla="*/ 0 w 205920"/>
                    <a:gd name="textAreaRight" fmla="*/ 206280 w 205920"/>
                    <a:gd name="textAreaTop" fmla="*/ 0 h 60120"/>
                    <a:gd name="textAreaBottom" fmla="*/ 60480 h 60120"/>
                  </a:gdLst>
                  <a:ahLst/>
                  <a:rect l="textAreaLeft" t="textAreaTop" r="textAreaRight" b="textAreaBottom"/>
                  <a:pathLst>
                    <a:path w="157" h="108">
                      <a:moveTo>
                        <a:pt x="66" y="0"/>
                      </a:moveTo>
                      <a:lnTo>
                        <a:pt x="157" y="45"/>
                      </a:lnTo>
                      <a:lnTo>
                        <a:pt x="92" y="108"/>
                      </a:lnTo>
                      <a:lnTo>
                        <a:pt x="0" y="64"/>
                      </a:lnTo>
                      <a:lnTo>
                        <a:pt x="66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8" name="Freeform 241"/>
                <p:cNvSpPr/>
                <p:nvPr/>
              </p:nvSpPr>
              <p:spPr>
                <a:xfrm>
                  <a:off x="7210800" y="3445920"/>
                  <a:ext cx="205920" cy="60120"/>
                </a:xfrm>
                <a:custGeom>
                  <a:avLst/>
                  <a:gdLst>
                    <a:gd name="textAreaLeft" fmla="*/ 0 w 205920"/>
                    <a:gd name="textAreaRight" fmla="*/ 206280 w 205920"/>
                    <a:gd name="textAreaTop" fmla="*/ 0 h 60120"/>
                    <a:gd name="textAreaBottom" fmla="*/ 60480 h 60120"/>
                  </a:gdLst>
                  <a:ahLst/>
                  <a:rect l="textAreaLeft" t="textAreaTop" r="textAreaRight" b="textAreaBottom"/>
                  <a:pathLst>
                    <a:path w="157" h="108">
                      <a:moveTo>
                        <a:pt x="65" y="0"/>
                      </a:moveTo>
                      <a:lnTo>
                        <a:pt x="157" y="44"/>
                      </a:lnTo>
                      <a:lnTo>
                        <a:pt x="91" y="108"/>
                      </a:lnTo>
                      <a:lnTo>
                        <a:pt x="0" y="62"/>
                      </a:lnTo>
                      <a:lnTo>
                        <a:pt x="65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9" name="Freeform 242"/>
                <p:cNvSpPr/>
                <p:nvPr/>
              </p:nvSpPr>
              <p:spPr>
                <a:xfrm>
                  <a:off x="7124400" y="3481200"/>
                  <a:ext cx="205920" cy="59760"/>
                </a:xfrm>
                <a:custGeom>
                  <a:avLst/>
                  <a:gdLst>
                    <a:gd name="textAreaLeft" fmla="*/ 0 w 205920"/>
                    <a:gd name="textAreaRight" fmla="*/ 206280 w 205920"/>
                    <a:gd name="textAreaTop" fmla="*/ 0 h 59760"/>
                    <a:gd name="textAreaBottom" fmla="*/ 60120 h 59760"/>
                  </a:gdLst>
                  <a:ahLst/>
                  <a:rect l="textAreaLeft" t="textAreaTop" r="textAreaRight" b="textAreaBottom"/>
                  <a:pathLst>
                    <a:path w="157" h="109">
                      <a:moveTo>
                        <a:pt x="66" y="0"/>
                      </a:moveTo>
                      <a:lnTo>
                        <a:pt x="157" y="46"/>
                      </a:lnTo>
                      <a:lnTo>
                        <a:pt x="93" y="109"/>
                      </a:lnTo>
                      <a:lnTo>
                        <a:pt x="0" y="64"/>
                      </a:lnTo>
                      <a:lnTo>
                        <a:pt x="66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0" name="Freeform 243"/>
                <p:cNvSpPr/>
                <p:nvPr/>
              </p:nvSpPr>
              <p:spPr>
                <a:xfrm>
                  <a:off x="7040880" y="3516120"/>
                  <a:ext cx="205920" cy="60120"/>
                </a:xfrm>
                <a:custGeom>
                  <a:avLst/>
                  <a:gdLst>
                    <a:gd name="textAreaLeft" fmla="*/ 0 w 205920"/>
                    <a:gd name="textAreaRight" fmla="*/ 206280 w 205920"/>
                    <a:gd name="textAreaTop" fmla="*/ 0 h 60120"/>
                    <a:gd name="textAreaBottom" fmla="*/ 60480 h 60120"/>
                  </a:gdLst>
                  <a:ahLst/>
                  <a:rect l="textAreaLeft" t="textAreaTop" r="textAreaRight" b="textAreaBottom"/>
                  <a:pathLst>
                    <a:path w="158" h="108">
                      <a:moveTo>
                        <a:pt x="65" y="0"/>
                      </a:moveTo>
                      <a:lnTo>
                        <a:pt x="158" y="45"/>
                      </a:lnTo>
                      <a:lnTo>
                        <a:pt x="92" y="108"/>
                      </a:lnTo>
                      <a:lnTo>
                        <a:pt x="0" y="64"/>
                      </a:lnTo>
                      <a:lnTo>
                        <a:pt x="65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" name="Freeform 244"/>
                <p:cNvSpPr/>
                <p:nvPr/>
              </p:nvSpPr>
              <p:spPr>
                <a:xfrm>
                  <a:off x="6954480" y="3552840"/>
                  <a:ext cx="206640" cy="58320"/>
                </a:xfrm>
                <a:custGeom>
                  <a:avLst/>
                  <a:gdLst>
                    <a:gd name="textAreaLeft" fmla="*/ 0 w 206640"/>
                    <a:gd name="textAreaRight" fmla="*/ 207000 w 206640"/>
                    <a:gd name="textAreaTop" fmla="*/ 0 h 58320"/>
                    <a:gd name="textAreaBottom" fmla="*/ 58680 h 58320"/>
                  </a:gdLst>
                  <a:ahLst/>
                  <a:rect l="textAreaLeft" t="textAreaTop" r="textAreaRight" b="textAreaBottom"/>
                  <a:pathLst>
                    <a:path w="158" h="107">
                      <a:moveTo>
                        <a:pt x="66" y="0"/>
                      </a:moveTo>
                      <a:lnTo>
                        <a:pt x="158" y="44"/>
                      </a:lnTo>
                      <a:lnTo>
                        <a:pt x="93" y="107"/>
                      </a:lnTo>
                      <a:lnTo>
                        <a:pt x="0" y="62"/>
                      </a:lnTo>
                      <a:lnTo>
                        <a:pt x="66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2" name="Freeform 245"/>
                <p:cNvSpPr/>
                <p:nvPr/>
              </p:nvSpPr>
              <p:spPr>
                <a:xfrm>
                  <a:off x="6870600" y="3586320"/>
                  <a:ext cx="203760" cy="61560"/>
                </a:xfrm>
                <a:custGeom>
                  <a:avLst/>
                  <a:gdLst>
                    <a:gd name="textAreaLeft" fmla="*/ 0 w 203760"/>
                    <a:gd name="textAreaRight" fmla="*/ 204120 w 203760"/>
                    <a:gd name="textAreaTop" fmla="*/ 0 h 61560"/>
                    <a:gd name="textAreaBottom" fmla="*/ 61920 h 61560"/>
                  </a:gdLst>
                  <a:ahLst/>
                  <a:rect l="textAreaLeft" t="textAreaTop" r="textAreaRight" b="textAreaBottom"/>
                  <a:pathLst>
                    <a:path w="158" h="109">
                      <a:moveTo>
                        <a:pt x="65" y="0"/>
                      </a:moveTo>
                      <a:lnTo>
                        <a:pt x="158" y="45"/>
                      </a:lnTo>
                      <a:lnTo>
                        <a:pt x="92" y="109"/>
                      </a:lnTo>
                      <a:lnTo>
                        <a:pt x="0" y="64"/>
                      </a:lnTo>
                      <a:lnTo>
                        <a:pt x="65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3" name="Freeform 246"/>
                <p:cNvSpPr/>
                <p:nvPr/>
              </p:nvSpPr>
              <p:spPr>
                <a:xfrm>
                  <a:off x="6784920" y="3623040"/>
                  <a:ext cx="203760" cy="60120"/>
                </a:xfrm>
                <a:custGeom>
                  <a:avLst/>
                  <a:gdLst>
                    <a:gd name="textAreaLeft" fmla="*/ 0 w 203760"/>
                    <a:gd name="textAreaRight" fmla="*/ 204120 w 203760"/>
                    <a:gd name="textAreaTop" fmla="*/ 0 h 60120"/>
                    <a:gd name="textAreaBottom" fmla="*/ 60480 h 60120"/>
                  </a:gdLst>
                  <a:ahLst/>
                  <a:rect l="textAreaLeft" t="textAreaTop" r="textAreaRight" b="textAreaBottom"/>
                  <a:pathLst>
                    <a:path w="158" h="108">
                      <a:moveTo>
                        <a:pt x="66" y="0"/>
                      </a:moveTo>
                      <a:lnTo>
                        <a:pt x="158" y="45"/>
                      </a:lnTo>
                      <a:lnTo>
                        <a:pt x="93" y="108"/>
                      </a:lnTo>
                      <a:lnTo>
                        <a:pt x="0" y="62"/>
                      </a:lnTo>
                      <a:lnTo>
                        <a:pt x="66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4" name="Freeform 247"/>
                <p:cNvSpPr/>
                <p:nvPr/>
              </p:nvSpPr>
              <p:spPr>
                <a:xfrm>
                  <a:off x="6698160" y="3656880"/>
                  <a:ext cx="206640" cy="61560"/>
                </a:xfrm>
                <a:custGeom>
                  <a:avLst/>
                  <a:gdLst>
                    <a:gd name="textAreaLeft" fmla="*/ 0 w 206640"/>
                    <a:gd name="textAreaRight" fmla="*/ 207000 w 206640"/>
                    <a:gd name="textAreaTop" fmla="*/ 0 h 61560"/>
                    <a:gd name="textAreaBottom" fmla="*/ 61920 h 61560"/>
                  </a:gdLst>
                  <a:ahLst/>
                  <a:rect l="textAreaLeft" t="textAreaTop" r="textAreaRight" b="textAreaBottom"/>
                  <a:pathLst>
                    <a:path w="158" h="109">
                      <a:moveTo>
                        <a:pt x="65" y="0"/>
                      </a:moveTo>
                      <a:lnTo>
                        <a:pt x="158" y="46"/>
                      </a:lnTo>
                      <a:lnTo>
                        <a:pt x="92" y="109"/>
                      </a:lnTo>
                      <a:lnTo>
                        <a:pt x="0" y="64"/>
                      </a:lnTo>
                      <a:lnTo>
                        <a:pt x="65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5" name="Freeform 248"/>
                <p:cNvSpPr/>
                <p:nvPr/>
              </p:nvSpPr>
              <p:spPr>
                <a:xfrm>
                  <a:off x="7759800" y="3295440"/>
                  <a:ext cx="205920" cy="60120"/>
                </a:xfrm>
                <a:custGeom>
                  <a:avLst/>
                  <a:gdLst>
                    <a:gd name="textAreaLeft" fmla="*/ 0 w 205920"/>
                    <a:gd name="textAreaRight" fmla="*/ 206280 w 205920"/>
                    <a:gd name="textAreaTop" fmla="*/ 0 h 60120"/>
                    <a:gd name="textAreaBottom" fmla="*/ 60480 h 60120"/>
                  </a:gdLst>
                  <a:ahLst/>
                  <a:rect l="textAreaLeft" t="textAreaTop" r="textAreaRight" b="textAreaBottom"/>
                  <a:pathLst>
                    <a:path w="158" h="109">
                      <a:moveTo>
                        <a:pt x="65" y="0"/>
                      </a:moveTo>
                      <a:lnTo>
                        <a:pt x="158" y="45"/>
                      </a:lnTo>
                      <a:lnTo>
                        <a:pt x="92" y="109"/>
                      </a:lnTo>
                      <a:lnTo>
                        <a:pt x="0" y="64"/>
                      </a:lnTo>
                      <a:lnTo>
                        <a:pt x="65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6" name="Freeform 249"/>
                <p:cNvSpPr/>
                <p:nvPr/>
              </p:nvSpPr>
              <p:spPr>
                <a:xfrm>
                  <a:off x="7673400" y="3330720"/>
                  <a:ext cx="205920" cy="59760"/>
                </a:xfrm>
                <a:custGeom>
                  <a:avLst/>
                  <a:gdLst>
                    <a:gd name="textAreaLeft" fmla="*/ 0 w 205920"/>
                    <a:gd name="textAreaRight" fmla="*/ 206280 w 205920"/>
                    <a:gd name="textAreaTop" fmla="*/ 0 h 59760"/>
                    <a:gd name="textAreaBottom" fmla="*/ 60120 h 59760"/>
                  </a:gdLst>
                  <a:ahLst/>
                  <a:rect l="textAreaLeft" t="textAreaTop" r="textAreaRight" b="textAreaBottom"/>
                  <a:pathLst>
                    <a:path w="158" h="107">
                      <a:moveTo>
                        <a:pt x="66" y="0"/>
                      </a:moveTo>
                      <a:lnTo>
                        <a:pt x="158" y="45"/>
                      </a:lnTo>
                      <a:lnTo>
                        <a:pt x="93" y="107"/>
                      </a:lnTo>
                      <a:lnTo>
                        <a:pt x="0" y="62"/>
                      </a:lnTo>
                      <a:lnTo>
                        <a:pt x="66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7" name="Freeform 250"/>
                <p:cNvSpPr/>
                <p:nvPr/>
              </p:nvSpPr>
              <p:spPr>
                <a:xfrm>
                  <a:off x="7589520" y="3365640"/>
                  <a:ext cx="203760" cy="60120"/>
                </a:xfrm>
                <a:custGeom>
                  <a:avLst/>
                  <a:gdLst>
                    <a:gd name="textAreaLeft" fmla="*/ 0 w 203760"/>
                    <a:gd name="textAreaRight" fmla="*/ 204120 w 203760"/>
                    <a:gd name="textAreaTop" fmla="*/ 0 h 60120"/>
                    <a:gd name="textAreaBottom" fmla="*/ 60480 h 60120"/>
                  </a:gdLst>
                  <a:ahLst/>
                  <a:rect l="textAreaLeft" t="textAreaTop" r="textAreaRight" b="textAreaBottom"/>
                  <a:pathLst>
                    <a:path w="158" h="109">
                      <a:moveTo>
                        <a:pt x="65" y="0"/>
                      </a:moveTo>
                      <a:lnTo>
                        <a:pt x="158" y="45"/>
                      </a:lnTo>
                      <a:lnTo>
                        <a:pt x="92" y="109"/>
                      </a:lnTo>
                      <a:lnTo>
                        <a:pt x="0" y="64"/>
                      </a:lnTo>
                      <a:lnTo>
                        <a:pt x="65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8" name="Freeform 251"/>
                <p:cNvSpPr/>
                <p:nvPr/>
              </p:nvSpPr>
              <p:spPr>
                <a:xfrm>
                  <a:off x="7503120" y="3400920"/>
                  <a:ext cx="203760" cy="60120"/>
                </a:xfrm>
                <a:custGeom>
                  <a:avLst/>
                  <a:gdLst>
                    <a:gd name="textAreaLeft" fmla="*/ 0 w 203760"/>
                    <a:gd name="textAreaRight" fmla="*/ 204120 w 203760"/>
                    <a:gd name="textAreaTop" fmla="*/ 0 h 60120"/>
                    <a:gd name="textAreaBottom" fmla="*/ 60480 h 60120"/>
                  </a:gdLst>
                  <a:ahLst/>
                  <a:rect l="textAreaLeft" t="textAreaTop" r="textAreaRight" b="textAreaBottom"/>
                  <a:pathLst>
                    <a:path w="158" h="109">
                      <a:moveTo>
                        <a:pt x="66" y="0"/>
                      </a:moveTo>
                      <a:lnTo>
                        <a:pt x="158" y="45"/>
                      </a:lnTo>
                      <a:lnTo>
                        <a:pt x="93" y="109"/>
                      </a:lnTo>
                      <a:lnTo>
                        <a:pt x="0" y="63"/>
                      </a:lnTo>
                      <a:lnTo>
                        <a:pt x="66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Freeform 252"/>
                <p:cNvSpPr/>
                <p:nvPr/>
              </p:nvSpPr>
              <p:spPr>
                <a:xfrm>
                  <a:off x="7417080" y="3435840"/>
                  <a:ext cx="205920" cy="60120"/>
                </a:xfrm>
                <a:custGeom>
                  <a:avLst/>
                  <a:gdLst>
                    <a:gd name="textAreaLeft" fmla="*/ 0 w 205920"/>
                    <a:gd name="textAreaRight" fmla="*/ 206280 w 205920"/>
                    <a:gd name="textAreaTop" fmla="*/ 0 h 60120"/>
                    <a:gd name="textAreaBottom" fmla="*/ 60480 h 60120"/>
                  </a:gdLst>
                  <a:ahLst/>
                  <a:rect l="textAreaLeft" t="textAreaTop" r="textAreaRight" b="textAreaBottom"/>
                  <a:pathLst>
                    <a:path w="158" h="108">
                      <a:moveTo>
                        <a:pt x="65" y="0"/>
                      </a:moveTo>
                      <a:lnTo>
                        <a:pt x="158" y="46"/>
                      </a:lnTo>
                      <a:lnTo>
                        <a:pt x="92" y="108"/>
                      </a:lnTo>
                      <a:lnTo>
                        <a:pt x="0" y="63"/>
                      </a:lnTo>
                      <a:lnTo>
                        <a:pt x="65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Freeform 253"/>
                <p:cNvSpPr/>
                <p:nvPr/>
              </p:nvSpPr>
              <p:spPr>
                <a:xfrm>
                  <a:off x="7330680" y="3471120"/>
                  <a:ext cx="206640" cy="60120"/>
                </a:xfrm>
                <a:custGeom>
                  <a:avLst/>
                  <a:gdLst>
                    <a:gd name="textAreaLeft" fmla="*/ 0 w 206640"/>
                    <a:gd name="textAreaRight" fmla="*/ 207000 w 206640"/>
                    <a:gd name="textAreaTop" fmla="*/ 0 h 60120"/>
                    <a:gd name="textAreaBottom" fmla="*/ 60480 h 60120"/>
                  </a:gdLst>
                  <a:ahLst/>
                  <a:rect l="textAreaLeft" t="textAreaTop" r="textAreaRight" b="textAreaBottom"/>
                  <a:pathLst>
                    <a:path w="158" h="109">
                      <a:moveTo>
                        <a:pt x="66" y="0"/>
                      </a:moveTo>
                      <a:lnTo>
                        <a:pt x="158" y="45"/>
                      </a:lnTo>
                      <a:lnTo>
                        <a:pt x="93" y="109"/>
                      </a:lnTo>
                      <a:lnTo>
                        <a:pt x="0" y="64"/>
                      </a:lnTo>
                      <a:lnTo>
                        <a:pt x="66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1" name="Freeform 254"/>
                <p:cNvSpPr/>
                <p:nvPr/>
              </p:nvSpPr>
              <p:spPr>
                <a:xfrm>
                  <a:off x="7247160" y="3506400"/>
                  <a:ext cx="206640" cy="59760"/>
                </a:xfrm>
                <a:custGeom>
                  <a:avLst/>
                  <a:gdLst>
                    <a:gd name="textAreaLeft" fmla="*/ 0 w 206640"/>
                    <a:gd name="textAreaRight" fmla="*/ 207000 w 206640"/>
                    <a:gd name="textAreaTop" fmla="*/ 0 h 59760"/>
                    <a:gd name="textAreaBottom" fmla="*/ 60120 h 59760"/>
                  </a:gdLst>
                  <a:ahLst/>
                  <a:rect l="textAreaLeft" t="textAreaTop" r="textAreaRight" b="textAreaBottom"/>
                  <a:pathLst>
                    <a:path w="157" h="107">
                      <a:moveTo>
                        <a:pt x="64" y="0"/>
                      </a:moveTo>
                      <a:lnTo>
                        <a:pt x="157" y="45"/>
                      </a:lnTo>
                      <a:lnTo>
                        <a:pt x="91" y="107"/>
                      </a:lnTo>
                      <a:lnTo>
                        <a:pt x="0" y="63"/>
                      </a:lnTo>
                      <a:lnTo>
                        <a:pt x="64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2" name="Freeform 255"/>
                <p:cNvSpPr/>
                <p:nvPr/>
              </p:nvSpPr>
              <p:spPr>
                <a:xfrm>
                  <a:off x="7161120" y="3540960"/>
                  <a:ext cx="205920" cy="60120"/>
                </a:xfrm>
                <a:custGeom>
                  <a:avLst/>
                  <a:gdLst>
                    <a:gd name="textAreaLeft" fmla="*/ 0 w 205920"/>
                    <a:gd name="textAreaRight" fmla="*/ 206280 w 205920"/>
                    <a:gd name="textAreaTop" fmla="*/ 0 h 60120"/>
                    <a:gd name="textAreaBottom" fmla="*/ 60480 h 60120"/>
                  </a:gdLst>
                  <a:ahLst/>
                  <a:rect l="textAreaLeft" t="textAreaTop" r="textAreaRight" b="textAreaBottom"/>
                  <a:pathLst>
                    <a:path w="157" h="108">
                      <a:moveTo>
                        <a:pt x="66" y="0"/>
                      </a:moveTo>
                      <a:lnTo>
                        <a:pt x="157" y="44"/>
                      </a:lnTo>
                      <a:lnTo>
                        <a:pt x="92" y="108"/>
                      </a:lnTo>
                      <a:lnTo>
                        <a:pt x="0" y="63"/>
                      </a:lnTo>
                      <a:lnTo>
                        <a:pt x="66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3" name="Freeform 256"/>
                <p:cNvSpPr/>
                <p:nvPr/>
              </p:nvSpPr>
              <p:spPr>
                <a:xfrm>
                  <a:off x="7074720" y="3576240"/>
                  <a:ext cx="206640" cy="61560"/>
                </a:xfrm>
                <a:custGeom>
                  <a:avLst/>
                  <a:gdLst>
                    <a:gd name="textAreaLeft" fmla="*/ 0 w 206640"/>
                    <a:gd name="textAreaRight" fmla="*/ 207000 w 206640"/>
                    <a:gd name="textAreaTop" fmla="*/ 0 h 61560"/>
                    <a:gd name="textAreaBottom" fmla="*/ 61920 h 61560"/>
                  </a:gdLst>
                  <a:ahLst/>
                  <a:rect l="textAreaLeft" t="textAreaTop" r="textAreaRight" b="textAreaBottom"/>
                  <a:pathLst>
                    <a:path w="157" h="109">
                      <a:moveTo>
                        <a:pt x="65" y="0"/>
                      </a:moveTo>
                      <a:lnTo>
                        <a:pt x="157" y="45"/>
                      </a:lnTo>
                      <a:lnTo>
                        <a:pt x="91" y="109"/>
                      </a:lnTo>
                      <a:lnTo>
                        <a:pt x="0" y="63"/>
                      </a:lnTo>
                      <a:lnTo>
                        <a:pt x="65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4" name="Freeform 257"/>
                <p:cNvSpPr/>
                <p:nvPr/>
              </p:nvSpPr>
              <p:spPr>
                <a:xfrm>
                  <a:off x="6988680" y="3611160"/>
                  <a:ext cx="205920" cy="60120"/>
                </a:xfrm>
                <a:custGeom>
                  <a:avLst/>
                  <a:gdLst>
                    <a:gd name="textAreaLeft" fmla="*/ 0 w 205920"/>
                    <a:gd name="textAreaRight" fmla="*/ 206280 w 205920"/>
                    <a:gd name="textAreaTop" fmla="*/ 0 h 60120"/>
                    <a:gd name="textAreaBottom" fmla="*/ 60480 h 60120"/>
                  </a:gdLst>
                  <a:ahLst/>
                  <a:rect l="textAreaLeft" t="textAreaTop" r="textAreaRight" b="textAreaBottom"/>
                  <a:pathLst>
                    <a:path w="157" h="108">
                      <a:moveTo>
                        <a:pt x="66" y="0"/>
                      </a:moveTo>
                      <a:lnTo>
                        <a:pt x="157" y="46"/>
                      </a:lnTo>
                      <a:lnTo>
                        <a:pt x="92" y="108"/>
                      </a:lnTo>
                      <a:lnTo>
                        <a:pt x="0" y="64"/>
                      </a:lnTo>
                      <a:lnTo>
                        <a:pt x="66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5" name="Freeform 258"/>
                <p:cNvSpPr/>
                <p:nvPr/>
              </p:nvSpPr>
              <p:spPr>
                <a:xfrm>
                  <a:off x="7623360" y="3425760"/>
                  <a:ext cx="206640" cy="60120"/>
                </a:xfrm>
                <a:custGeom>
                  <a:avLst/>
                  <a:gdLst>
                    <a:gd name="textAreaLeft" fmla="*/ 0 w 206640"/>
                    <a:gd name="textAreaRight" fmla="*/ 207000 w 206640"/>
                    <a:gd name="textAreaTop" fmla="*/ 0 h 60120"/>
                    <a:gd name="textAreaBottom" fmla="*/ 60480 h 60120"/>
                  </a:gdLst>
                  <a:ahLst/>
                  <a:rect l="textAreaLeft" t="textAreaTop" r="textAreaRight" b="textAreaBottom"/>
                  <a:pathLst>
                    <a:path w="157" h="109">
                      <a:moveTo>
                        <a:pt x="65" y="0"/>
                      </a:moveTo>
                      <a:lnTo>
                        <a:pt x="157" y="45"/>
                      </a:lnTo>
                      <a:lnTo>
                        <a:pt x="91" y="109"/>
                      </a:lnTo>
                      <a:lnTo>
                        <a:pt x="0" y="64"/>
                      </a:lnTo>
                      <a:lnTo>
                        <a:pt x="65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6" name="Freeform 259"/>
                <p:cNvSpPr/>
                <p:nvPr/>
              </p:nvSpPr>
              <p:spPr>
                <a:xfrm>
                  <a:off x="7537680" y="3461040"/>
                  <a:ext cx="205920" cy="59760"/>
                </a:xfrm>
                <a:custGeom>
                  <a:avLst/>
                  <a:gdLst>
                    <a:gd name="textAreaLeft" fmla="*/ 0 w 205920"/>
                    <a:gd name="textAreaRight" fmla="*/ 206280 w 205920"/>
                    <a:gd name="textAreaTop" fmla="*/ 0 h 59760"/>
                    <a:gd name="textAreaBottom" fmla="*/ 60120 h 59760"/>
                  </a:gdLst>
                  <a:ahLst/>
                  <a:rect l="textAreaLeft" t="textAreaTop" r="textAreaRight" b="textAreaBottom"/>
                  <a:pathLst>
                    <a:path w="157" h="107">
                      <a:moveTo>
                        <a:pt x="66" y="0"/>
                      </a:moveTo>
                      <a:lnTo>
                        <a:pt x="157" y="45"/>
                      </a:lnTo>
                      <a:lnTo>
                        <a:pt x="93" y="107"/>
                      </a:lnTo>
                      <a:lnTo>
                        <a:pt x="0" y="62"/>
                      </a:lnTo>
                      <a:lnTo>
                        <a:pt x="66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7" name="Freeform 260"/>
                <p:cNvSpPr/>
                <p:nvPr/>
              </p:nvSpPr>
              <p:spPr>
                <a:xfrm>
                  <a:off x="7453800" y="3495960"/>
                  <a:ext cx="203760" cy="60120"/>
                </a:xfrm>
                <a:custGeom>
                  <a:avLst/>
                  <a:gdLst>
                    <a:gd name="textAreaLeft" fmla="*/ 0 w 203760"/>
                    <a:gd name="textAreaRight" fmla="*/ 204120 w 203760"/>
                    <a:gd name="textAreaTop" fmla="*/ 0 h 60120"/>
                    <a:gd name="textAreaBottom" fmla="*/ 60480 h 60120"/>
                  </a:gdLst>
                  <a:ahLst/>
                  <a:rect l="textAreaLeft" t="textAreaTop" r="textAreaRight" b="textAreaBottom"/>
                  <a:pathLst>
                    <a:path w="158" h="109">
                      <a:moveTo>
                        <a:pt x="65" y="0"/>
                      </a:moveTo>
                      <a:lnTo>
                        <a:pt x="158" y="45"/>
                      </a:lnTo>
                      <a:lnTo>
                        <a:pt x="92" y="109"/>
                      </a:lnTo>
                      <a:lnTo>
                        <a:pt x="0" y="64"/>
                      </a:lnTo>
                      <a:lnTo>
                        <a:pt x="65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8" name="Freeform 261"/>
                <p:cNvSpPr/>
                <p:nvPr/>
              </p:nvSpPr>
              <p:spPr>
                <a:xfrm>
                  <a:off x="7367400" y="3531240"/>
                  <a:ext cx="203760" cy="60120"/>
                </a:xfrm>
                <a:custGeom>
                  <a:avLst/>
                  <a:gdLst>
                    <a:gd name="textAreaLeft" fmla="*/ 0 w 203760"/>
                    <a:gd name="textAreaRight" fmla="*/ 204120 w 203760"/>
                    <a:gd name="textAreaTop" fmla="*/ 0 h 60120"/>
                    <a:gd name="textAreaBottom" fmla="*/ 60480 h 60120"/>
                  </a:gdLst>
                  <a:ahLst/>
                  <a:rect l="textAreaLeft" t="textAreaTop" r="textAreaRight" b="textAreaBottom"/>
                  <a:pathLst>
                    <a:path w="158" h="108">
                      <a:moveTo>
                        <a:pt x="66" y="0"/>
                      </a:moveTo>
                      <a:lnTo>
                        <a:pt x="158" y="45"/>
                      </a:lnTo>
                      <a:lnTo>
                        <a:pt x="93" y="108"/>
                      </a:lnTo>
                      <a:lnTo>
                        <a:pt x="0" y="62"/>
                      </a:lnTo>
                      <a:lnTo>
                        <a:pt x="66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9" name="Freeform 262"/>
                <p:cNvSpPr/>
                <p:nvPr/>
              </p:nvSpPr>
              <p:spPr>
                <a:xfrm>
                  <a:off x="7281360" y="3566160"/>
                  <a:ext cx="205920" cy="60120"/>
                </a:xfrm>
                <a:custGeom>
                  <a:avLst/>
                  <a:gdLst>
                    <a:gd name="textAreaLeft" fmla="*/ 0 w 205920"/>
                    <a:gd name="textAreaRight" fmla="*/ 206280 w 205920"/>
                    <a:gd name="textAreaTop" fmla="*/ 0 h 60120"/>
                    <a:gd name="textAreaBottom" fmla="*/ 60480 h 60120"/>
                  </a:gdLst>
                  <a:ahLst/>
                  <a:rect l="textAreaLeft" t="textAreaTop" r="textAreaRight" b="textAreaBottom"/>
                  <a:pathLst>
                    <a:path w="158" h="109">
                      <a:moveTo>
                        <a:pt x="65" y="0"/>
                      </a:moveTo>
                      <a:lnTo>
                        <a:pt x="158" y="46"/>
                      </a:lnTo>
                      <a:lnTo>
                        <a:pt x="92" y="109"/>
                      </a:lnTo>
                      <a:lnTo>
                        <a:pt x="0" y="64"/>
                      </a:lnTo>
                      <a:lnTo>
                        <a:pt x="65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0" name="Freeform 263"/>
                <p:cNvSpPr/>
                <p:nvPr/>
              </p:nvSpPr>
              <p:spPr>
                <a:xfrm>
                  <a:off x="5349960" y="3416040"/>
                  <a:ext cx="96480" cy="173520"/>
                </a:xfrm>
                <a:custGeom>
                  <a:avLst/>
                  <a:gdLst>
                    <a:gd name="textAreaLeft" fmla="*/ 0 w 96480"/>
                    <a:gd name="textAreaRight" fmla="*/ 96840 w 96480"/>
                    <a:gd name="textAreaTop" fmla="*/ 0 h 173520"/>
                    <a:gd name="textAreaBottom" fmla="*/ 173880 h 173520"/>
                  </a:gdLst>
                  <a:ahLst/>
                  <a:rect l="textAreaLeft" t="textAreaTop" r="textAreaRight" b="textAreaBottom"/>
                  <a:pathLst>
                    <a:path w="73" h="312">
                      <a:moveTo>
                        <a:pt x="38" y="0"/>
                      </a:moveTo>
                      <a:lnTo>
                        <a:pt x="39" y="37"/>
                      </a:lnTo>
                      <a:lnTo>
                        <a:pt x="41" y="78"/>
                      </a:lnTo>
                      <a:lnTo>
                        <a:pt x="45" y="117"/>
                      </a:lnTo>
                      <a:lnTo>
                        <a:pt x="48" y="155"/>
                      </a:lnTo>
                      <a:lnTo>
                        <a:pt x="53" y="194"/>
                      </a:lnTo>
                      <a:lnTo>
                        <a:pt x="59" y="232"/>
                      </a:lnTo>
                      <a:lnTo>
                        <a:pt x="64" y="270"/>
                      </a:lnTo>
                      <a:lnTo>
                        <a:pt x="71" y="308"/>
                      </a:lnTo>
                      <a:lnTo>
                        <a:pt x="73" y="312"/>
                      </a:lnTo>
                      <a:lnTo>
                        <a:pt x="66" y="308"/>
                      </a:lnTo>
                      <a:lnTo>
                        <a:pt x="59" y="304"/>
                      </a:lnTo>
                      <a:lnTo>
                        <a:pt x="53" y="297"/>
                      </a:lnTo>
                      <a:lnTo>
                        <a:pt x="47" y="291"/>
                      </a:lnTo>
                      <a:lnTo>
                        <a:pt x="41" y="284"/>
                      </a:lnTo>
                      <a:lnTo>
                        <a:pt x="36" y="278"/>
                      </a:lnTo>
                      <a:lnTo>
                        <a:pt x="29" y="276"/>
                      </a:lnTo>
                      <a:lnTo>
                        <a:pt x="22" y="274"/>
                      </a:lnTo>
                      <a:lnTo>
                        <a:pt x="22" y="269"/>
                      </a:lnTo>
                      <a:lnTo>
                        <a:pt x="20" y="264"/>
                      </a:lnTo>
                      <a:lnTo>
                        <a:pt x="18" y="259"/>
                      </a:lnTo>
                      <a:lnTo>
                        <a:pt x="16" y="254"/>
                      </a:lnTo>
                      <a:lnTo>
                        <a:pt x="15" y="250"/>
                      </a:lnTo>
                      <a:lnTo>
                        <a:pt x="12" y="245"/>
                      </a:lnTo>
                      <a:lnTo>
                        <a:pt x="11" y="240"/>
                      </a:lnTo>
                      <a:lnTo>
                        <a:pt x="11" y="235"/>
                      </a:lnTo>
                      <a:lnTo>
                        <a:pt x="11" y="240"/>
                      </a:lnTo>
                      <a:lnTo>
                        <a:pt x="12" y="245"/>
                      </a:lnTo>
                      <a:lnTo>
                        <a:pt x="14" y="249"/>
                      </a:lnTo>
                      <a:lnTo>
                        <a:pt x="14" y="253"/>
                      </a:lnTo>
                      <a:lnTo>
                        <a:pt x="12" y="257"/>
                      </a:lnTo>
                      <a:lnTo>
                        <a:pt x="11" y="258"/>
                      </a:lnTo>
                      <a:lnTo>
                        <a:pt x="7" y="261"/>
                      </a:lnTo>
                      <a:lnTo>
                        <a:pt x="0" y="261"/>
                      </a:lnTo>
                      <a:lnTo>
                        <a:pt x="1" y="228"/>
                      </a:lnTo>
                      <a:lnTo>
                        <a:pt x="1" y="194"/>
                      </a:lnTo>
                      <a:lnTo>
                        <a:pt x="1" y="160"/>
                      </a:lnTo>
                      <a:lnTo>
                        <a:pt x="2" y="127"/>
                      </a:lnTo>
                      <a:lnTo>
                        <a:pt x="4" y="110"/>
                      </a:lnTo>
                      <a:lnTo>
                        <a:pt x="7" y="94"/>
                      </a:lnTo>
                      <a:lnTo>
                        <a:pt x="9" y="78"/>
                      </a:lnTo>
                      <a:lnTo>
                        <a:pt x="12" y="61"/>
                      </a:lnTo>
                      <a:lnTo>
                        <a:pt x="17" y="45"/>
                      </a:lnTo>
                      <a:lnTo>
                        <a:pt x="23" y="30"/>
                      </a:lnTo>
                      <a:lnTo>
                        <a:pt x="30" y="15"/>
                      </a:lnTo>
                      <a:lnTo>
                        <a:pt x="38" y="0"/>
                      </a:lnTo>
                      <a:close/>
                    </a:path>
                  </a:pathLst>
                </a:custGeom>
                <a:solidFill>
                  <a:srgbClr val="d1e4e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1" name="Freeform 264"/>
                <p:cNvSpPr/>
                <p:nvPr/>
              </p:nvSpPr>
              <p:spPr>
                <a:xfrm>
                  <a:off x="5399640" y="3379320"/>
                  <a:ext cx="232200" cy="290520"/>
                </a:xfrm>
                <a:custGeom>
                  <a:avLst/>
                  <a:gdLst>
                    <a:gd name="textAreaLeft" fmla="*/ 0 w 232200"/>
                    <a:gd name="textAreaRight" fmla="*/ 232560 w 232200"/>
                    <a:gd name="textAreaTop" fmla="*/ 0 h 290520"/>
                    <a:gd name="textAreaBottom" fmla="*/ 290880 h 290520"/>
                  </a:gdLst>
                  <a:ahLst/>
                  <a:rect l="textAreaLeft" t="textAreaTop" r="textAreaRight" b="textAreaBottom"/>
                  <a:pathLst>
                    <a:path w="177" h="521">
                      <a:moveTo>
                        <a:pt x="0" y="66"/>
                      </a:moveTo>
                      <a:lnTo>
                        <a:pt x="1" y="103"/>
                      </a:lnTo>
                      <a:lnTo>
                        <a:pt x="3" y="144"/>
                      </a:lnTo>
                      <a:lnTo>
                        <a:pt x="7" y="183"/>
                      </a:lnTo>
                      <a:lnTo>
                        <a:pt x="10" y="221"/>
                      </a:lnTo>
                      <a:lnTo>
                        <a:pt x="15" y="260"/>
                      </a:lnTo>
                      <a:lnTo>
                        <a:pt x="21" y="298"/>
                      </a:lnTo>
                      <a:lnTo>
                        <a:pt x="26" y="336"/>
                      </a:lnTo>
                      <a:lnTo>
                        <a:pt x="33" y="374"/>
                      </a:lnTo>
                      <a:lnTo>
                        <a:pt x="35" y="378"/>
                      </a:lnTo>
                      <a:lnTo>
                        <a:pt x="35" y="378"/>
                      </a:lnTo>
                      <a:lnTo>
                        <a:pt x="35" y="378"/>
                      </a:lnTo>
                      <a:lnTo>
                        <a:pt x="36" y="378"/>
                      </a:lnTo>
                      <a:lnTo>
                        <a:pt x="36" y="378"/>
                      </a:lnTo>
                      <a:lnTo>
                        <a:pt x="37" y="378"/>
                      </a:lnTo>
                      <a:lnTo>
                        <a:pt x="37" y="378"/>
                      </a:lnTo>
                      <a:lnTo>
                        <a:pt x="38" y="378"/>
                      </a:lnTo>
                      <a:lnTo>
                        <a:pt x="38" y="378"/>
                      </a:lnTo>
                      <a:lnTo>
                        <a:pt x="43" y="388"/>
                      </a:lnTo>
                      <a:lnTo>
                        <a:pt x="47" y="396"/>
                      </a:lnTo>
                      <a:lnTo>
                        <a:pt x="54" y="406"/>
                      </a:lnTo>
                      <a:lnTo>
                        <a:pt x="62" y="415"/>
                      </a:lnTo>
                      <a:lnTo>
                        <a:pt x="80" y="434"/>
                      </a:lnTo>
                      <a:lnTo>
                        <a:pt x="101" y="453"/>
                      </a:lnTo>
                      <a:lnTo>
                        <a:pt x="120" y="472"/>
                      </a:lnTo>
                      <a:lnTo>
                        <a:pt x="140" y="490"/>
                      </a:lnTo>
                      <a:lnTo>
                        <a:pt x="157" y="505"/>
                      </a:lnTo>
                      <a:lnTo>
                        <a:pt x="170" y="520"/>
                      </a:lnTo>
                      <a:lnTo>
                        <a:pt x="171" y="520"/>
                      </a:lnTo>
                      <a:lnTo>
                        <a:pt x="171" y="520"/>
                      </a:lnTo>
                      <a:lnTo>
                        <a:pt x="172" y="520"/>
                      </a:lnTo>
                      <a:lnTo>
                        <a:pt x="174" y="520"/>
                      </a:lnTo>
                      <a:lnTo>
                        <a:pt x="175" y="520"/>
                      </a:lnTo>
                      <a:lnTo>
                        <a:pt x="175" y="521"/>
                      </a:lnTo>
                      <a:lnTo>
                        <a:pt x="176" y="521"/>
                      </a:lnTo>
                      <a:lnTo>
                        <a:pt x="177" y="521"/>
                      </a:lnTo>
                      <a:lnTo>
                        <a:pt x="176" y="517"/>
                      </a:lnTo>
                      <a:lnTo>
                        <a:pt x="165" y="484"/>
                      </a:lnTo>
                      <a:lnTo>
                        <a:pt x="156" y="450"/>
                      </a:lnTo>
                      <a:lnTo>
                        <a:pt x="148" y="416"/>
                      </a:lnTo>
                      <a:lnTo>
                        <a:pt x="140" y="382"/>
                      </a:lnTo>
                      <a:lnTo>
                        <a:pt x="133" y="347"/>
                      </a:lnTo>
                      <a:lnTo>
                        <a:pt x="126" y="313"/>
                      </a:lnTo>
                      <a:lnTo>
                        <a:pt x="120" y="278"/>
                      </a:lnTo>
                      <a:lnTo>
                        <a:pt x="116" y="243"/>
                      </a:lnTo>
                      <a:lnTo>
                        <a:pt x="111" y="206"/>
                      </a:lnTo>
                      <a:lnTo>
                        <a:pt x="108" y="171"/>
                      </a:lnTo>
                      <a:lnTo>
                        <a:pt x="105" y="134"/>
                      </a:lnTo>
                      <a:lnTo>
                        <a:pt x="103" y="98"/>
                      </a:lnTo>
                      <a:lnTo>
                        <a:pt x="102" y="61"/>
                      </a:lnTo>
                      <a:lnTo>
                        <a:pt x="102" y="23"/>
                      </a:lnTo>
                      <a:lnTo>
                        <a:pt x="102" y="0"/>
                      </a:lnTo>
                      <a:lnTo>
                        <a:pt x="77" y="13"/>
                      </a:lnTo>
                      <a:lnTo>
                        <a:pt x="58" y="24"/>
                      </a:lnTo>
                      <a:lnTo>
                        <a:pt x="43" y="32"/>
                      </a:lnTo>
                      <a:lnTo>
                        <a:pt x="30" y="39"/>
                      </a:lnTo>
                      <a:lnTo>
                        <a:pt x="21" y="45"/>
                      </a:lnTo>
                      <a:lnTo>
                        <a:pt x="14" y="49"/>
                      </a:lnTo>
                      <a:lnTo>
                        <a:pt x="9" y="53"/>
                      </a:lnTo>
                      <a:lnTo>
                        <a:pt x="6" y="57"/>
                      </a:lnTo>
                      <a:lnTo>
                        <a:pt x="4" y="58"/>
                      </a:lnTo>
                      <a:lnTo>
                        <a:pt x="4" y="60"/>
                      </a:lnTo>
                      <a:lnTo>
                        <a:pt x="3" y="61"/>
                      </a:lnTo>
                      <a:lnTo>
                        <a:pt x="2" y="62"/>
                      </a:lnTo>
                      <a:lnTo>
                        <a:pt x="2" y="62"/>
                      </a:lnTo>
                      <a:lnTo>
                        <a:pt x="1" y="64"/>
                      </a:lnTo>
                      <a:lnTo>
                        <a:pt x="1" y="65"/>
                      </a:lnTo>
                      <a:lnTo>
                        <a:pt x="0" y="66"/>
                      </a:lnTo>
                      <a:close/>
                    </a:path>
                  </a:pathLst>
                </a:custGeom>
                <a:solidFill>
                  <a:srgbClr val="d5e6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2" name="Freeform 265"/>
                <p:cNvSpPr/>
                <p:nvPr/>
              </p:nvSpPr>
              <p:spPr>
                <a:xfrm>
                  <a:off x="5533200" y="3347280"/>
                  <a:ext cx="268920" cy="354240"/>
                </a:xfrm>
                <a:custGeom>
                  <a:avLst/>
                  <a:gdLst>
                    <a:gd name="textAreaLeft" fmla="*/ 0 w 268920"/>
                    <a:gd name="textAreaRight" fmla="*/ 269280 w 268920"/>
                    <a:gd name="textAreaTop" fmla="*/ 0 h 354240"/>
                    <a:gd name="textAreaBottom" fmla="*/ 354240 h 354240"/>
                  </a:gdLst>
                  <a:ahLst/>
                  <a:rect l="textAreaLeft" t="textAreaTop" r="textAreaRight" b="textAreaBottom"/>
                  <a:pathLst>
                    <a:path w="206" h="635">
                      <a:moveTo>
                        <a:pt x="0" y="57"/>
                      </a:moveTo>
                      <a:lnTo>
                        <a:pt x="0" y="80"/>
                      </a:lnTo>
                      <a:lnTo>
                        <a:pt x="0" y="118"/>
                      </a:lnTo>
                      <a:lnTo>
                        <a:pt x="1" y="155"/>
                      </a:lnTo>
                      <a:lnTo>
                        <a:pt x="3" y="191"/>
                      </a:lnTo>
                      <a:lnTo>
                        <a:pt x="6" y="228"/>
                      </a:lnTo>
                      <a:lnTo>
                        <a:pt x="9" y="263"/>
                      </a:lnTo>
                      <a:lnTo>
                        <a:pt x="14" y="300"/>
                      </a:lnTo>
                      <a:lnTo>
                        <a:pt x="18" y="335"/>
                      </a:lnTo>
                      <a:lnTo>
                        <a:pt x="24" y="370"/>
                      </a:lnTo>
                      <a:lnTo>
                        <a:pt x="31" y="404"/>
                      </a:lnTo>
                      <a:lnTo>
                        <a:pt x="38" y="439"/>
                      </a:lnTo>
                      <a:lnTo>
                        <a:pt x="46" y="473"/>
                      </a:lnTo>
                      <a:lnTo>
                        <a:pt x="54" y="507"/>
                      </a:lnTo>
                      <a:lnTo>
                        <a:pt x="63" y="541"/>
                      </a:lnTo>
                      <a:lnTo>
                        <a:pt x="74" y="574"/>
                      </a:lnTo>
                      <a:lnTo>
                        <a:pt x="75" y="578"/>
                      </a:lnTo>
                      <a:lnTo>
                        <a:pt x="91" y="582"/>
                      </a:lnTo>
                      <a:lnTo>
                        <a:pt x="107" y="587"/>
                      </a:lnTo>
                      <a:lnTo>
                        <a:pt x="125" y="594"/>
                      </a:lnTo>
                      <a:lnTo>
                        <a:pt x="141" y="602"/>
                      </a:lnTo>
                      <a:lnTo>
                        <a:pt x="158" y="610"/>
                      </a:lnTo>
                      <a:lnTo>
                        <a:pt x="175" y="619"/>
                      </a:lnTo>
                      <a:lnTo>
                        <a:pt x="191" y="628"/>
                      </a:lnTo>
                      <a:lnTo>
                        <a:pt x="206" y="635"/>
                      </a:lnTo>
                      <a:lnTo>
                        <a:pt x="201" y="623"/>
                      </a:lnTo>
                      <a:lnTo>
                        <a:pt x="190" y="593"/>
                      </a:lnTo>
                      <a:lnTo>
                        <a:pt x="179" y="563"/>
                      </a:lnTo>
                      <a:lnTo>
                        <a:pt x="170" y="533"/>
                      </a:lnTo>
                      <a:lnTo>
                        <a:pt x="161" y="503"/>
                      </a:lnTo>
                      <a:lnTo>
                        <a:pt x="153" y="472"/>
                      </a:lnTo>
                      <a:lnTo>
                        <a:pt x="145" y="441"/>
                      </a:lnTo>
                      <a:lnTo>
                        <a:pt x="138" y="410"/>
                      </a:lnTo>
                      <a:lnTo>
                        <a:pt x="131" y="378"/>
                      </a:lnTo>
                      <a:lnTo>
                        <a:pt x="125" y="346"/>
                      </a:lnTo>
                      <a:lnTo>
                        <a:pt x="119" y="313"/>
                      </a:lnTo>
                      <a:lnTo>
                        <a:pt x="114" y="281"/>
                      </a:lnTo>
                      <a:lnTo>
                        <a:pt x="111" y="248"/>
                      </a:lnTo>
                      <a:lnTo>
                        <a:pt x="107" y="216"/>
                      </a:lnTo>
                      <a:lnTo>
                        <a:pt x="105" y="182"/>
                      </a:lnTo>
                      <a:lnTo>
                        <a:pt x="103" y="148"/>
                      </a:lnTo>
                      <a:lnTo>
                        <a:pt x="102" y="114"/>
                      </a:lnTo>
                      <a:lnTo>
                        <a:pt x="102" y="80"/>
                      </a:lnTo>
                      <a:lnTo>
                        <a:pt x="102" y="46"/>
                      </a:lnTo>
                      <a:lnTo>
                        <a:pt x="103" y="12"/>
                      </a:lnTo>
                      <a:lnTo>
                        <a:pt x="104" y="0"/>
                      </a:lnTo>
                      <a:lnTo>
                        <a:pt x="98" y="3"/>
                      </a:lnTo>
                      <a:lnTo>
                        <a:pt x="92" y="5"/>
                      </a:lnTo>
                      <a:lnTo>
                        <a:pt x="87" y="8"/>
                      </a:lnTo>
                      <a:lnTo>
                        <a:pt x="81" y="11"/>
                      </a:lnTo>
                      <a:lnTo>
                        <a:pt x="75" y="15"/>
                      </a:lnTo>
                      <a:lnTo>
                        <a:pt x="69" y="17"/>
                      </a:lnTo>
                      <a:lnTo>
                        <a:pt x="63" y="22"/>
                      </a:lnTo>
                      <a:lnTo>
                        <a:pt x="57" y="24"/>
                      </a:lnTo>
                      <a:lnTo>
                        <a:pt x="48" y="30"/>
                      </a:lnTo>
                      <a:lnTo>
                        <a:pt x="41" y="34"/>
                      </a:lnTo>
                      <a:lnTo>
                        <a:pt x="33" y="38"/>
                      </a:lnTo>
                      <a:lnTo>
                        <a:pt x="26" y="42"/>
                      </a:lnTo>
                      <a:lnTo>
                        <a:pt x="19" y="46"/>
                      </a:lnTo>
                      <a:lnTo>
                        <a:pt x="12" y="50"/>
                      </a:lnTo>
                      <a:lnTo>
                        <a:pt x="6" y="54"/>
                      </a:lnTo>
                      <a:lnTo>
                        <a:pt x="0" y="57"/>
                      </a:lnTo>
                      <a:close/>
                    </a:path>
                  </a:pathLst>
                </a:custGeom>
                <a:solidFill>
                  <a:srgbClr val="d8e8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3" name="Freeform 266"/>
                <p:cNvSpPr/>
                <p:nvPr/>
              </p:nvSpPr>
              <p:spPr>
                <a:xfrm>
                  <a:off x="5665680" y="3327120"/>
                  <a:ext cx="326880" cy="409320"/>
                </a:xfrm>
                <a:custGeom>
                  <a:avLst/>
                  <a:gdLst>
                    <a:gd name="textAreaLeft" fmla="*/ 0 w 326880"/>
                    <a:gd name="textAreaRight" fmla="*/ 327240 w 326880"/>
                    <a:gd name="textAreaTop" fmla="*/ 0 h 409320"/>
                    <a:gd name="textAreaBottom" fmla="*/ 409680 h 409320"/>
                  </a:gdLst>
                  <a:ahLst/>
                  <a:rect l="textAreaLeft" t="textAreaTop" r="textAreaRight" b="textAreaBottom"/>
                  <a:pathLst>
                    <a:path w="249" h="737">
                      <a:moveTo>
                        <a:pt x="2" y="37"/>
                      </a:moveTo>
                      <a:lnTo>
                        <a:pt x="1" y="49"/>
                      </a:lnTo>
                      <a:lnTo>
                        <a:pt x="0" y="83"/>
                      </a:lnTo>
                      <a:lnTo>
                        <a:pt x="0" y="117"/>
                      </a:lnTo>
                      <a:lnTo>
                        <a:pt x="0" y="151"/>
                      </a:lnTo>
                      <a:lnTo>
                        <a:pt x="1" y="185"/>
                      </a:lnTo>
                      <a:lnTo>
                        <a:pt x="3" y="219"/>
                      </a:lnTo>
                      <a:lnTo>
                        <a:pt x="5" y="253"/>
                      </a:lnTo>
                      <a:lnTo>
                        <a:pt x="9" y="285"/>
                      </a:lnTo>
                      <a:lnTo>
                        <a:pt x="12" y="318"/>
                      </a:lnTo>
                      <a:lnTo>
                        <a:pt x="17" y="350"/>
                      </a:lnTo>
                      <a:lnTo>
                        <a:pt x="23" y="383"/>
                      </a:lnTo>
                      <a:lnTo>
                        <a:pt x="29" y="415"/>
                      </a:lnTo>
                      <a:lnTo>
                        <a:pt x="36" y="447"/>
                      </a:lnTo>
                      <a:lnTo>
                        <a:pt x="43" y="478"/>
                      </a:lnTo>
                      <a:lnTo>
                        <a:pt x="51" y="509"/>
                      </a:lnTo>
                      <a:lnTo>
                        <a:pt x="59" y="540"/>
                      </a:lnTo>
                      <a:lnTo>
                        <a:pt x="68" y="570"/>
                      </a:lnTo>
                      <a:lnTo>
                        <a:pt x="77" y="600"/>
                      </a:lnTo>
                      <a:lnTo>
                        <a:pt x="88" y="630"/>
                      </a:lnTo>
                      <a:lnTo>
                        <a:pt x="99" y="660"/>
                      </a:lnTo>
                      <a:lnTo>
                        <a:pt x="104" y="672"/>
                      </a:lnTo>
                      <a:lnTo>
                        <a:pt x="111" y="676"/>
                      </a:lnTo>
                      <a:lnTo>
                        <a:pt x="118" y="679"/>
                      </a:lnTo>
                      <a:lnTo>
                        <a:pt x="124" y="681"/>
                      </a:lnTo>
                      <a:lnTo>
                        <a:pt x="129" y="684"/>
                      </a:lnTo>
                      <a:lnTo>
                        <a:pt x="135" y="685"/>
                      </a:lnTo>
                      <a:lnTo>
                        <a:pt x="141" y="688"/>
                      </a:lnTo>
                      <a:lnTo>
                        <a:pt x="147" y="689"/>
                      </a:lnTo>
                      <a:lnTo>
                        <a:pt x="153" y="691"/>
                      </a:lnTo>
                      <a:lnTo>
                        <a:pt x="163" y="698"/>
                      </a:lnTo>
                      <a:lnTo>
                        <a:pt x="175" y="703"/>
                      </a:lnTo>
                      <a:lnTo>
                        <a:pt x="186" y="710"/>
                      </a:lnTo>
                      <a:lnTo>
                        <a:pt x="198" y="715"/>
                      </a:lnTo>
                      <a:lnTo>
                        <a:pt x="210" y="722"/>
                      </a:lnTo>
                      <a:lnTo>
                        <a:pt x="223" y="726"/>
                      </a:lnTo>
                      <a:lnTo>
                        <a:pt x="236" y="732"/>
                      </a:lnTo>
                      <a:lnTo>
                        <a:pt x="249" y="737"/>
                      </a:lnTo>
                      <a:lnTo>
                        <a:pt x="237" y="713"/>
                      </a:lnTo>
                      <a:lnTo>
                        <a:pt x="225" y="688"/>
                      </a:lnTo>
                      <a:lnTo>
                        <a:pt x="214" y="662"/>
                      </a:lnTo>
                      <a:lnTo>
                        <a:pt x="202" y="637"/>
                      </a:lnTo>
                      <a:lnTo>
                        <a:pt x="192" y="609"/>
                      </a:lnTo>
                      <a:lnTo>
                        <a:pt x="183" y="584"/>
                      </a:lnTo>
                      <a:lnTo>
                        <a:pt x="172" y="557"/>
                      </a:lnTo>
                      <a:lnTo>
                        <a:pt x="164" y="529"/>
                      </a:lnTo>
                      <a:lnTo>
                        <a:pt x="156" y="501"/>
                      </a:lnTo>
                      <a:lnTo>
                        <a:pt x="148" y="474"/>
                      </a:lnTo>
                      <a:lnTo>
                        <a:pt x="141" y="445"/>
                      </a:lnTo>
                      <a:lnTo>
                        <a:pt x="134" y="417"/>
                      </a:lnTo>
                      <a:lnTo>
                        <a:pt x="128" y="388"/>
                      </a:lnTo>
                      <a:lnTo>
                        <a:pt x="122" y="358"/>
                      </a:lnTo>
                      <a:lnTo>
                        <a:pt x="118" y="330"/>
                      </a:lnTo>
                      <a:lnTo>
                        <a:pt x="113" y="300"/>
                      </a:lnTo>
                      <a:lnTo>
                        <a:pt x="110" y="270"/>
                      </a:lnTo>
                      <a:lnTo>
                        <a:pt x="107" y="240"/>
                      </a:lnTo>
                      <a:lnTo>
                        <a:pt x="105" y="209"/>
                      </a:lnTo>
                      <a:lnTo>
                        <a:pt x="103" y="179"/>
                      </a:lnTo>
                      <a:lnTo>
                        <a:pt x="103" y="148"/>
                      </a:lnTo>
                      <a:lnTo>
                        <a:pt x="102" y="117"/>
                      </a:lnTo>
                      <a:lnTo>
                        <a:pt x="103" y="87"/>
                      </a:lnTo>
                      <a:lnTo>
                        <a:pt x="103" y="56"/>
                      </a:lnTo>
                      <a:lnTo>
                        <a:pt x="105" y="26"/>
                      </a:lnTo>
                      <a:lnTo>
                        <a:pt x="106" y="0"/>
                      </a:lnTo>
                      <a:lnTo>
                        <a:pt x="95" y="3"/>
                      </a:lnTo>
                      <a:lnTo>
                        <a:pt x="82" y="7"/>
                      </a:lnTo>
                      <a:lnTo>
                        <a:pt x="69" y="11"/>
                      </a:lnTo>
                      <a:lnTo>
                        <a:pt x="55" y="15"/>
                      </a:lnTo>
                      <a:lnTo>
                        <a:pt x="43" y="19"/>
                      </a:lnTo>
                      <a:lnTo>
                        <a:pt x="29" y="25"/>
                      </a:lnTo>
                      <a:lnTo>
                        <a:pt x="16" y="30"/>
                      </a:lnTo>
                      <a:lnTo>
                        <a:pt x="2" y="37"/>
                      </a:lnTo>
                      <a:close/>
                    </a:path>
                  </a:pathLst>
                </a:custGeom>
                <a:solidFill>
                  <a:srgbClr val="dbea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4" name="Freeform 267"/>
                <p:cNvSpPr/>
                <p:nvPr/>
              </p:nvSpPr>
              <p:spPr>
                <a:xfrm>
                  <a:off x="5799240" y="3322440"/>
                  <a:ext cx="379080" cy="432720"/>
                </a:xfrm>
                <a:custGeom>
                  <a:avLst/>
                  <a:gdLst>
                    <a:gd name="textAreaLeft" fmla="*/ 0 w 379080"/>
                    <a:gd name="textAreaRight" fmla="*/ 379440 w 379080"/>
                    <a:gd name="textAreaTop" fmla="*/ 0 h 432720"/>
                    <a:gd name="textAreaBottom" fmla="*/ 433080 h 432720"/>
                  </a:gdLst>
                  <a:ahLst/>
                  <a:rect l="textAreaLeft" t="textAreaTop" r="textAreaRight" b="textAreaBottom"/>
                  <a:pathLst>
                    <a:path w="289" h="777">
                      <a:moveTo>
                        <a:pt x="4" y="9"/>
                      </a:moveTo>
                      <a:lnTo>
                        <a:pt x="3" y="35"/>
                      </a:lnTo>
                      <a:lnTo>
                        <a:pt x="1" y="65"/>
                      </a:lnTo>
                      <a:lnTo>
                        <a:pt x="1" y="96"/>
                      </a:lnTo>
                      <a:lnTo>
                        <a:pt x="0" y="126"/>
                      </a:lnTo>
                      <a:lnTo>
                        <a:pt x="1" y="157"/>
                      </a:lnTo>
                      <a:lnTo>
                        <a:pt x="1" y="188"/>
                      </a:lnTo>
                      <a:lnTo>
                        <a:pt x="3" y="218"/>
                      </a:lnTo>
                      <a:lnTo>
                        <a:pt x="5" y="249"/>
                      </a:lnTo>
                      <a:lnTo>
                        <a:pt x="8" y="279"/>
                      </a:lnTo>
                      <a:lnTo>
                        <a:pt x="11" y="309"/>
                      </a:lnTo>
                      <a:lnTo>
                        <a:pt x="16" y="339"/>
                      </a:lnTo>
                      <a:lnTo>
                        <a:pt x="20" y="367"/>
                      </a:lnTo>
                      <a:lnTo>
                        <a:pt x="26" y="397"/>
                      </a:lnTo>
                      <a:lnTo>
                        <a:pt x="32" y="426"/>
                      </a:lnTo>
                      <a:lnTo>
                        <a:pt x="39" y="454"/>
                      </a:lnTo>
                      <a:lnTo>
                        <a:pt x="46" y="483"/>
                      </a:lnTo>
                      <a:lnTo>
                        <a:pt x="54" y="510"/>
                      </a:lnTo>
                      <a:lnTo>
                        <a:pt x="62" y="538"/>
                      </a:lnTo>
                      <a:lnTo>
                        <a:pt x="70" y="566"/>
                      </a:lnTo>
                      <a:lnTo>
                        <a:pt x="81" y="593"/>
                      </a:lnTo>
                      <a:lnTo>
                        <a:pt x="90" y="618"/>
                      </a:lnTo>
                      <a:lnTo>
                        <a:pt x="100" y="646"/>
                      </a:lnTo>
                      <a:lnTo>
                        <a:pt x="112" y="671"/>
                      </a:lnTo>
                      <a:lnTo>
                        <a:pt x="123" y="697"/>
                      </a:lnTo>
                      <a:lnTo>
                        <a:pt x="135" y="722"/>
                      </a:lnTo>
                      <a:lnTo>
                        <a:pt x="147" y="746"/>
                      </a:lnTo>
                      <a:lnTo>
                        <a:pt x="164" y="751"/>
                      </a:lnTo>
                      <a:lnTo>
                        <a:pt x="180" y="755"/>
                      </a:lnTo>
                      <a:lnTo>
                        <a:pt x="198" y="761"/>
                      </a:lnTo>
                      <a:lnTo>
                        <a:pt x="215" y="765"/>
                      </a:lnTo>
                      <a:lnTo>
                        <a:pt x="233" y="768"/>
                      </a:lnTo>
                      <a:lnTo>
                        <a:pt x="251" y="772"/>
                      </a:lnTo>
                      <a:lnTo>
                        <a:pt x="269" y="774"/>
                      </a:lnTo>
                      <a:lnTo>
                        <a:pt x="289" y="777"/>
                      </a:lnTo>
                      <a:lnTo>
                        <a:pt x="284" y="770"/>
                      </a:lnTo>
                      <a:lnTo>
                        <a:pt x="259" y="728"/>
                      </a:lnTo>
                      <a:lnTo>
                        <a:pt x="235" y="685"/>
                      </a:lnTo>
                      <a:lnTo>
                        <a:pt x="213" y="640"/>
                      </a:lnTo>
                      <a:lnTo>
                        <a:pt x="193" y="594"/>
                      </a:lnTo>
                      <a:lnTo>
                        <a:pt x="174" y="545"/>
                      </a:lnTo>
                      <a:lnTo>
                        <a:pt x="158" y="496"/>
                      </a:lnTo>
                      <a:lnTo>
                        <a:pt x="143" y="446"/>
                      </a:lnTo>
                      <a:lnTo>
                        <a:pt x="130" y="396"/>
                      </a:lnTo>
                      <a:lnTo>
                        <a:pt x="121" y="343"/>
                      </a:lnTo>
                      <a:lnTo>
                        <a:pt x="117" y="317"/>
                      </a:lnTo>
                      <a:lnTo>
                        <a:pt x="113" y="290"/>
                      </a:lnTo>
                      <a:lnTo>
                        <a:pt x="110" y="264"/>
                      </a:lnTo>
                      <a:lnTo>
                        <a:pt x="107" y="237"/>
                      </a:lnTo>
                      <a:lnTo>
                        <a:pt x="105" y="209"/>
                      </a:lnTo>
                      <a:lnTo>
                        <a:pt x="104" y="182"/>
                      </a:lnTo>
                      <a:lnTo>
                        <a:pt x="103" y="154"/>
                      </a:lnTo>
                      <a:lnTo>
                        <a:pt x="101" y="126"/>
                      </a:lnTo>
                      <a:lnTo>
                        <a:pt x="103" y="99"/>
                      </a:lnTo>
                      <a:lnTo>
                        <a:pt x="104" y="72"/>
                      </a:lnTo>
                      <a:lnTo>
                        <a:pt x="105" y="43"/>
                      </a:lnTo>
                      <a:lnTo>
                        <a:pt x="107" y="16"/>
                      </a:lnTo>
                      <a:lnTo>
                        <a:pt x="108" y="1"/>
                      </a:lnTo>
                      <a:lnTo>
                        <a:pt x="96" y="0"/>
                      </a:lnTo>
                      <a:lnTo>
                        <a:pt x="83" y="1"/>
                      </a:lnTo>
                      <a:lnTo>
                        <a:pt x="70" y="1"/>
                      </a:lnTo>
                      <a:lnTo>
                        <a:pt x="57" y="2"/>
                      </a:lnTo>
                      <a:lnTo>
                        <a:pt x="45" y="2"/>
                      </a:lnTo>
                      <a:lnTo>
                        <a:pt x="31" y="5"/>
                      </a:lnTo>
                      <a:lnTo>
                        <a:pt x="18" y="7"/>
                      </a:lnTo>
                      <a:lnTo>
                        <a:pt x="4" y="9"/>
                      </a:lnTo>
                      <a:close/>
                    </a:path>
                  </a:pathLst>
                </a:custGeom>
                <a:solidFill>
                  <a:srgbClr val="deece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5" name="Freeform 268"/>
                <p:cNvSpPr/>
                <p:nvPr/>
              </p:nvSpPr>
              <p:spPr>
                <a:xfrm>
                  <a:off x="5932440" y="3322440"/>
                  <a:ext cx="428400" cy="436320"/>
                </a:xfrm>
                <a:custGeom>
                  <a:avLst/>
                  <a:gdLst>
                    <a:gd name="textAreaLeft" fmla="*/ 0 w 428400"/>
                    <a:gd name="textAreaRight" fmla="*/ 428760 w 428400"/>
                    <a:gd name="textAreaTop" fmla="*/ 0 h 436320"/>
                    <a:gd name="textAreaBottom" fmla="*/ 436680 h 436320"/>
                  </a:gdLst>
                  <a:ahLst/>
                  <a:rect l="textAreaLeft" t="textAreaTop" r="textAreaRight" b="textAreaBottom"/>
                  <a:pathLst>
                    <a:path w="327" h="783">
                      <a:moveTo>
                        <a:pt x="7" y="0"/>
                      </a:moveTo>
                      <a:lnTo>
                        <a:pt x="6" y="15"/>
                      </a:lnTo>
                      <a:lnTo>
                        <a:pt x="4" y="42"/>
                      </a:lnTo>
                      <a:lnTo>
                        <a:pt x="3" y="71"/>
                      </a:lnTo>
                      <a:lnTo>
                        <a:pt x="2" y="98"/>
                      </a:lnTo>
                      <a:lnTo>
                        <a:pt x="0" y="125"/>
                      </a:lnTo>
                      <a:lnTo>
                        <a:pt x="2" y="153"/>
                      </a:lnTo>
                      <a:lnTo>
                        <a:pt x="3" y="181"/>
                      </a:lnTo>
                      <a:lnTo>
                        <a:pt x="4" y="208"/>
                      </a:lnTo>
                      <a:lnTo>
                        <a:pt x="6" y="236"/>
                      </a:lnTo>
                      <a:lnTo>
                        <a:pt x="9" y="263"/>
                      </a:lnTo>
                      <a:lnTo>
                        <a:pt x="12" y="289"/>
                      </a:lnTo>
                      <a:lnTo>
                        <a:pt x="16" y="316"/>
                      </a:lnTo>
                      <a:lnTo>
                        <a:pt x="20" y="342"/>
                      </a:lnTo>
                      <a:lnTo>
                        <a:pt x="29" y="395"/>
                      </a:lnTo>
                      <a:lnTo>
                        <a:pt x="42" y="445"/>
                      </a:lnTo>
                      <a:lnTo>
                        <a:pt x="57" y="495"/>
                      </a:lnTo>
                      <a:lnTo>
                        <a:pt x="73" y="544"/>
                      </a:lnTo>
                      <a:lnTo>
                        <a:pt x="92" y="593"/>
                      </a:lnTo>
                      <a:lnTo>
                        <a:pt x="112" y="639"/>
                      </a:lnTo>
                      <a:lnTo>
                        <a:pt x="134" y="684"/>
                      </a:lnTo>
                      <a:lnTo>
                        <a:pt x="158" y="727"/>
                      </a:lnTo>
                      <a:lnTo>
                        <a:pt x="183" y="769"/>
                      </a:lnTo>
                      <a:lnTo>
                        <a:pt x="188" y="776"/>
                      </a:lnTo>
                      <a:lnTo>
                        <a:pt x="204" y="778"/>
                      </a:lnTo>
                      <a:lnTo>
                        <a:pt x="222" y="779"/>
                      </a:lnTo>
                      <a:lnTo>
                        <a:pt x="239" y="780"/>
                      </a:lnTo>
                      <a:lnTo>
                        <a:pt x="255" y="782"/>
                      </a:lnTo>
                      <a:lnTo>
                        <a:pt x="274" y="783"/>
                      </a:lnTo>
                      <a:lnTo>
                        <a:pt x="291" y="783"/>
                      </a:lnTo>
                      <a:lnTo>
                        <a:pt x="308" y="783"/>
                      </a:lnTo>
                      <a:lnTo>
                        <a:pt x="327" y="783"/>
                      </a:lnTo>
                      <a:lnTo>
                        <a:pt x="315" y="769"/>
                      </a:lnTo>
                      <a:lnTo>
                        <a:pt x="290" y="734"/>
                      </a:lnTo>
                      <a:lnTo>
                        <a:pt x="266" y="699"/>
                      </a:lnTo>
                      <a:lnTo>
                        <a:pt x="242" y="661"/>
                      </a:lnTo>
                      <a:lnTo>
                        <a:pt x="222" y="622"/>
                      </a:lnTo>
                      <a:lnTo>
                        <a:pt x="202" y="582"/>
                      </a:lnTo>
                      <a:lnTo>
                        <a:pt x="183" y="540"/>
                      </a:lnTo>
                      <a:lnTo>
                        <a:pt x="167" y="498"/>
                      </a:lnTo>
                      <a:lnTo>
                        <a:pt x="153" y="455"/>
                      </a:lnTo>
                      <a:lnTo>
                        <a:pt x="139" y="410"/>
                      </a:lnTo>
                      <a:lnTo>
                        <a:pt x="129" y="365"/>
                      </a:lnTo>
                      <a:lnTo>
                        <a:pt x="120" y="319"/>
                      </a:lnTo>
                      <a:lnTo>
                        <a:pt x="113" y="271"/>
                      </a:lnTo>
                      <a:lnTo>
                        <a:pt x="107" y="224"/>
                      </a:lnTo>
                      <a:lnTo>
                        <a:pt x="105" y="175"/>
                      </a:lnTo>
                      <a:lnTo>
                        <a:pt x="104" y="125"/>
                      </a:lnTo>
                      <a:lnTo>
                        <a:pt x="105" y="76"/>
                      </a:lnTo>
                      <a:lnTo>
                        <a:pt x="107" y="27"/>
                      </a:lnTo>
                      <a:lnTo>
                        <a:pt x="109" y="12"/>
                      </a:lnTo>
                      <a:lnTo>
                        <a:pt x="97" y="10"/>
                      </a:lnTo>
                      <a:lnTo>
                        <a:pt x="84" y="8"/>
                      </a:lnTo>
                      <a:lnTo>
                        <a:pt x="71" y="6"/>
                      </a:lnTo>
                      <a:lnTo>
                        <a:pt x="58" y="4"/>
                      </a:lnTo>
                      <a:lnTo>
                        <a:pt x="46" y="3"/>
                      </a:lnTo>
                      <a:lnTo>
                        <a:pt x="33" y="1"/>
                      </a:lnTo>
                      <a:lnTo>
                        <a:pt x="20" y="0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e2eee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6" name="Freeform 269"/>
                <p:cNvSpPr/>
                <p:nvPr/>
              </p:nvSpPr>
              <p:spPr>
                <a:xfrm>
                  <a:off x="6068880" y="3328920"/>
                  <a:ext cx="475200" cy="429840"/>
                </a:xfrm>
                <a:custGeom>
                  <a:avLst/>
                  <a:gdLst>
                    <a:gd name="textAreaLeft" fmla="*/ 0 w 475200"/>
                    <a:gd name="textAreaRight" fmla="*/ 475560 w 475200"/>
                    <a:gd name="textAreaTop" fmla="*/ 0 h 429840"/>
                    <a:gd name="textAreaBottom" fmla="*/ 430200 h 429840"/>
                  </a:gdLst>
                  <a:ahLst/>
                  <a:rect l="textAreaLeft" t="textAreaTop" r="textAreaRight" b="textAreaBottom"/>
                  <a:pathLst>
                    <a:path w="363" h="771">
                      <a:moveTo>
                        <a:pt x="5" y="0"/>
                      </a:moveTo>
                      <a:lnTo>
                        <a:pt x="3" y="15"/>
                      </a:lnTo>
                      <a:lnTo>
                        <a:pt x="1" y="64"/>
                      </a:lnTo>
                      <a:lnTo>
                        <a:pt x="0" y="113"/>
                      </a:lnTo>
                      <a:lnTo>
                        <a:pt x="1" y="163"/>
                      </a:lnTo>
                      <a:lnTo>
                        <a:pt x="3" y="212"/>
                      </a:lnTo>
                      <a:lnTo>
                        <a:pt x="9" y="259"/>
                      </a:lnTo>
                      <a:lnTo>
                        <a:pt x="16" y="307"/>
                      </a:lnTo>
                      <a:lnTo>
                        <a:pt x="25" y="353"/>
                      </a:lnTo>
                      <a:lnTo>
                        <a:pt x="35" y="398"/>
                      </a:lnTo>
                      <a:lnTo>
                        <a:pt x="49" y="443"/>
                      </a:lnTo>
                      <a:lnTo>
                        <a:pt x="63" y="486"/>
                      </a:lnTo>
                      <a:lnTo>
                        <a:pt x="79" y="528"/>
                      </a:lnTo>
                      <a:lnTo>
                        <a:pt x="98" y="570"/>
                      </a:lnTo>
                      <a:lnTo>
                        <a:pt x="118" y="610"/>
                      </a:lnTo>
                      <a:lnTo>
                        <a:pt x="138" y="649"/>
                      </a:lnTo>
                      <a:lnTo>
                        <a:pt x="162" y="687"/>
                      </a:lnTo>
                      <a:lnTo>
                        <a:pt x="186" y="722"/>
                      </a:lnTo>
                      <a:lnTo>
                        <a:pt x="211" y="757"/>
                      </a:lnTo>
                      <a:lnTo>
                        <a:pt x="223" y="771"/>
                      </a:lnTo>
                      <a:lnTo>
                        <a:pt x="240" y="771"/>
                      </a:lnTo>
                      <a:lnTo>
                        <a:pt x="257" y="770"/>
                      </a:lnTo>
                      <a:lnTo>
                        <a:pt x="275" y="770"/>
                      </a:lnTo>
                      <a:lnTo>
                        <a:pt x="293" y="768"/>
                      </a:lnTo>
                      <a:lnTo>
                        <a:pt x="310" y="767"/>
                      </a:lnTo>
                      <a:lnTo>
                        <a:pt x="327" y="766"/>
                      </a:lnTo>
                      <a:lnTo>
                        <a:pt x="346" y="763"/>
                      </a:lnTo>
                      <a:lnTo>
                        <a:pt x="363" y="761"/>
                      </a:lnTo>
                      <a:lnTo>
                        <a:pt x="362" y="760"/>
                      </a:lnTo>
                      <a:lnTo>
                        <a:pt x="335" y="733"/>
                      </a:lnTo>
                      <a:lnTo>
                        <a:pt x="311" y="706"/>
                      </a:lnTo>
                      <a:lnTo>
                        <a:pt x="287" y="677"/>
                      </a:lnTo>
                      <a:lnTo>
                        <a:pt x="265" y="646"/>
                      </a:lnTo>
                      <a:lnTo>
                        <a:pt x="244" y="615"/>
                      </a:lnTo>
                      <a:lnTo>
                        <a:pt x="223" y="582"/>
                      </a:lnTo>
                      <a:lnTo>
                        <a:pt x="204" y="548"/>
                      </a:lnTo>
                      <a:lnTo>
                        <a:pt x="187" y="513"/>
                      </a:lnTo>
                      <a:lnTo>
                        <a:pt x="172" y="477"/>
                      </a:lnTo>
                      <a:lnTo>
                        <a:pt x="157" y="440"/>
                      </a:lnTo>
                      <a:lnTo>
                        <a:pt x="144" y="402"/>
                      </a:lnTo>
                      <a:lnTo>
                        <a:pt x="134" y="363"/>
                      </a:lnTo>
                      <a:lnTo>
                        <a:pt x="123" y="323"/>
                      </a:lnTo>
                      <a:lnTo>
                        <a:pt x="115" y="283"/>
                      </a:lnTo>
                      <a:lnTo>
                        <a:pt x="110" y="240"/>
                      </a:lnTo>
                      <a:lnTo>
                        <a:pt x="105" y="200"/>
                      </a:lnTo>
                      <a:lnTo>
                        <a:pt x="103" y="156"/>
                      </a:lnTo>
                      <a:lnTo>
                        <a:pt x="101" y="113"/>
                      </a:lnTo>
                      <a:lnTo>
                        <a:pt x="103" y="71"/>
                      </a:lnTo>
                      <a:lnTo>
                        <a:pt x="105" y="27"/>
                      </a:lnTo>
                      <a:lnTo>
                        <a:pt x="105" y="25"/>
                      </a:lnTo>
                      <a:lnTo>
                        <a:pt x="92" y="21"/>
                      </a:lnTo>
                      <a:lnTo>
                        <a:pt x="81" y="18"/>
                      </a:lnTo>
                      <a:lnTo>
                        <a:pt x="68" y="15"/>
                      </a:lnTo>
                      <a:lnTo>
                        <a:pt x="55" y="11"/>
                      </a:lnTo>
                      <a:lnTo>
                        <a:pt x="42" y="8"/>
                      </a:lnTo>
                      <a:lnTo>
                        <a:pt x="30" y="6"/>
                      </a:lnTo>
                      <a:lnTo>
                        <a:pt x="18" y="3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e5efe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7" name="Freeform 270"/>
                <p:cNvSpPr/>
                <p:nvPr/>
              </p:nvSpPr>
              <p:spPr>
                <a:xfrm>
                  <a:off x="6201720" y="3342600"/>
                  <a:ext cx="535680" cy="410760"/>
                </a:xfrm>
                <a:custGeom>
                  <a:avLst/>
                  <a:gdLst>
                    <a:gd name="textAreaLeft" fmla="*/ 0 w 535680"/>
                    <a:gd name="textAreaRight" fmla="*/ 536040 w 535680"/>
                    <a:gd name="textAreaTop" fmla="*/ 0 h 410760"/>
                    <a:gd name="textAreaBottom" fmla="*/ 411120 h 410760"/>
                  </a:gdLst>
                  <a:ahLst/>
                  <a:rect l="textAreaLeft" t="textAreaTop" r="textAreaRight" b="textAreaBottom"/>
                  <a:pathLst>
                    <a:path w="410" h="736">
                      <a:moveTo>
                        <a:pt x="4" y="0"/>
                      </a:moveTo>
                      <a:lnTo>
                        <a:pt x="4" y="2"/>
                      </a:lnTo>
                      <a:lnTo>
                        <a:pt x="2" y="46"/>
                      </a:lnTo>
                      <a:lnTo>
                        <a:pt x="0" y="88"/>
                      </a:lnTo>
                      <a:lnTo>
                        <a:pt x="2" y="131"/>
                      </a:lnTo>
                      <a:lnTo>
                        <a:pt x="4" y="175"/>
                      </a:lnTo>
                      <a:lnTo>
                        <a:pt x="9" y="215"/>
                      </a:lnTo>
                      <a:lnTo>
                        <a:pt x="14" y="258"/>
                      </a:lnTo>
                      <a:lnTo>
                        <a:pt x="22" y="298"/>
                      </a:lnTo>
                      <a:lnTo>
                        <a:pt x="33" y="338"/>
                      </a:lnTo>
                      <a:lnTo>
                        <a:pt x="43" y="377"/>
                      </a:lnTo>
                      <a:lnTo>
                        <a:pt x="56" y="415"/>
                      </a:lnTo>
                      <a:lnTo>
                        <a:pt x="71" y="452"/>
                      </a:lnTo>
                      <a:lnTo>
                        <a:pt x="86" y="488"/>
                      </a:lnTo>
                      <a:lnTo>
                        <a:pt x="103" y="523"/>
                      </a:lnTo>
                      <a:lnTo>
                        <a:pt x="122" y="557"/>
                      </a:lnTo>
                      <a:lnTo>
                        <a:pt x="143" y="590"/>
                      </a:lnTo>
                      <a:lnTo>
                        <a:pt x="164" y="621"/>
                      </a:lnTo>
                      <a:lnTo>
                        <a:pt x="186" y="652"/>
                      </a:lnTo>
                      <a:lnTo>
                        <a:pt x="210" y="681"/>
                      </a:lnTo>
                      <a:lnTo>
                        <a:pt x="234" y="708"/>
                      </a:lnTo>
                      <a:lnTo>
                        <a:pt x="261" y="735"/>
                      </a:lnTo>
                      <a:lnTo>
                        <a:pt x="262" y="736"/>
                      </a:lnTo>
                      <a:lnTo>
                        <a:pt x="281" y="734"/>
                      </a:lnTo>
                      <a:lnTo>
                        <a:pt x="299" y="731"/>
                      </a:lnTo>
                      <a:lnTo>
                        <a:pt x="318" y="728"/>
                      </a:lnTo>
                      <a:lnTo>
                        <a:pt x="336" y="726"/>
                      </a:lnTo>
                      <a:lnTo>
                        <a:pt x="355" y="723"/>
                      </a:lnTo>
                      <a:lnTo>
                        <a:pt x="373" y="719"/>
                      </a:lnTo>
                      <a:lnTo>
                        <a:pt x="392" y="715"/>
                      </a:lnTo>
                      <a:lnTo>
                        <a:pt x="410" y="712"/>
                      </a:lnTo>
                      <a:lnTo>
                        <a:pt x="398" y="703"/>
                      </a:lnTo>
                      <a:lnTo>
                        <a:pt x="372" y="684"/>
                      </a:lnTo>
                      <a:lnTo>
                        <a:pt x="349" y="663"/>
                      </a:lnTo>
                      <a:lnTo>
                        <a:pt x="326" y="643"/>
                      </a:lnTo>
                      <a:lnTo>
                        <a:pt x="303" y="620"/>
                      </a:lnTo>
                      <a:lnTo>
                        <a:pt x="282" y="597"/>
                      </a:lnTo>
                      <a:lnTo>
                        <a:pt x="262" y="571"/>
                      </a:lnTo>
                      <a:lnTo>
                        <a:pt x="242" y="545"/>
                      </a:lnTo>
                      <a:lnTo>
                        <a:pt x="224" y="518"/>
                      </a:lnTo>
                      <a:lnTo>
                        <a:pt x="207" y="490"/>
                      </a:lnTo>
                      <a:lnTo>
                        <a:pt x="192" y="461"/>
                      </a:lnTo>
                      <a:lnTo>
                        <a:pt x="176" y="431"/>
                      </a:lnTo>
                      <a:lnTo>
                        <a:pt x="163" y="400"/>
                      </a:lnTo>
                      <a:lnTo>
                        <a:pt x="151" y="367"/>
                      </a:lnTo>
                      <a:lnTo>
                        <a:pt x="139" y="335"/>
                      </a:lnTo>
                      <a:lnTo>
                        <a:pt x="130" y="302"/>
                      </a:lnTo>
                      <a:lnTo>
                        <a:pt x="122" y="268"/>
                      </a:lnTo>
                      <a:lnTo>
                        <a:pt x="115" y="233"/>
                      </a:lnTo>
                      <a:lnTo>
                        <a:pt x="109" y="198"/>
                      </a:lnTo>
                      <a:lnTo>
                        <a:pt x="106" y="163"/>
                      </a:lnTo>
                      <a:lnTo>
                        <a:pt x="103" y="126"/>
                      </a:lnTo>
                      <a:lnTo>
                        <a:pt x="102" y="88"/>
                      </a:lnTo>
                      <a:lnTo>
                        <a:pt x="103" y="51"/>
                      </a:lnTo>
                      <a:lnTo>
                        <a:pt x="105" y="23"/>
                      </a:lnTo>
                      <a:lnTo>
                        <a:pt x="92" y="20"/>
                      </a:lnTo>
                      <a:lnTo>
                        <a:pt x="79" y="17"/>
                      </a:lnTo>
                      <a:lnTo>
                        <a:pt x="66" y="15"/>
                      </a:lnTo>
                      <a:lnTo>
                        <a:pt x="54" y="12"/>
                      </a:lnTo>
                      <a:lnTo>
                        <a:pt x="41" y="9"/>
                      </a:lnTo>
                      <a:lnTo>
                        <a:pt x="29" y="5"/>
                      </a:lnTo>
                      <a:lnTo>
                        <a:pt x="17" y="2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e8f1f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8" name="Freeform 271"/>
                <p:cNvSpPr/>
                <p:nvPr/>
              </p:nvSpPr>
              <p:spPr>
                <a:xfrm>
                  <a:off x="6334920" y="3355560"/>
                  <a:ext cx="624600" cy="384120"/>
                </a:xfrm>
                <a:custGeom>
                  <a:avLst/>
                  <a:gdLst>
                    <a:gd name="textAreaLeft" fmla="*/ 0 w 624600"/>
                    <a:gd name="textAreaRight" fmla="*/ 624960 w 624600"/>
                    <a:gd name="textAreaTop" fmla="*/ 0 h 384120"/>
                    <a:gd name="textAreaBottom" fmla="*/ 384480 h 384120"/>
                  </a:gdLst>
                  <a:ahLst/>
                  <a:rect l="textAreaLeft" t="textAreaTop" r="textAreaRight" b="textAreaBottom"/>
                  <a:pathLst>
                    <a:path w="480" h="689">
                      <a:moveTo>
                        <a:pt x="3" y="0"/>
                      </a:moveTo>
                      <a:lnTo>
                        <a:pt x="1" y="28"/>
                      </a:lnTo>
                      <a:lnTo>
                        <a:pt x="0" y="65"/>
                      </a:lnTo>
                      <a:lnTo>
                        <a:pt x="1" y="103"/>
                      </a:lnTo>
                      <a:lnTo>
                        <a:pt x="4" y="140"/>
                      </a:lnTo>
                      <a:lnTo>
                        <a:pt x="7" y="175"/>
                      </a:lnTo>
                      <a:lnTo>
                        <a:pt x="13" y="210"/>
                      </a:lnTo>
                      <a:lnTo>
                        <a:pt x="20" y="245"/>
                      </a:lnTo>
                      <a:lnTo>
                        <a:pt x="28" y="279"/>
                      </a:lnTo>
                      <a:lnTo>
                        <a:pt x="37" y="312"/>
                      </a:lnTo>
                      <a:lnTo>
                        <a:pt x="49" y="344"/>
                      </a:lnTo>
                      <a:lnTo>
                        <a:pt x="61" y="377"/>
                      </a:lnTo>
                      <a:lnTo>
                        <a:pt x="74" y="408"/>
                      </a:lnTo>
                      <a:lnTo>
                        <a:pt x="90" y="438"/>
                      </a:lnTo>
                      <a:lnTo>
                        <a:pt x="105" y="467"/>
                      </a:lnTo>
                      <a:lnTo>
                        <a:pt x="122" y="495"/>
                      </a:lnTo>
                      <a:lnTo>
                        <a:pt x="140" y="522"/>
                      </a:lnTo>
                      <a:lnTo>
                        <a:pt x="160" y="548"/>
                      </a:lnTo>
                      <a:lnTo>
                        <a:pt x="180" y="574"/>
                      </a:lnTo>
                      <a:lnTo>
                        <a:pt x="201" y="597"/>
                      </a:lnTo>
                      <a:lnTo>
                        <a:pt x="224" y="620"/>
                      </a:lnTo>
                      <a:lnTo>
                        <a:pt x="247" y="640"/>
                      </a:lnTo>
                      <a:lnTo>
                        <a:pt x="270" y="661"/>
                      </a:lnTo>
                      <a:lnTo>
                        <a:pt x="296" y="680"/>
                      </a:lnTo>
                      <a:lnTo>
                        <a:pt x="308" y="689"/>
                      </a:lnTo>
                      <a:lnTo>
                        <a:pt x="330" y="684"/>
                      </a:lnTo>
                      <a:lnTo>
                        <a:pt x="351" y="678"/>
                      </a:lnTo>
                      <a:lnTo>
                        <a:pt x="373" y="674"/>
                      </a:lnTo>
                      <a:lnTo>
                        <a:pt x="394" y="667"/>
                      </a:lnTo>
                      <a:lnTo>
                        <a:pt x="416" y="662"/>
                      </a:lnTo>
                      <a:lnTo>
                        <a:pt x="437" y="656"/>
                      </a:lnTo>
                      <a:lnTo>
                        <a:pt x="459" y="650"/>
                      </a:lnTo>
                      <a:lnTo>
                        <a:pt x="480" y="643"/>
                      </a:lnTo>
                      <a:lnTo>
                        <a:pt x="461" y="637"/>
                      </a:lnTo>
                      <a:lnTo>
                        <a:pt x="438" y="628"/>
                      </a:lnTo>
                      <a:lnTo>
                        <a:pt x="415" y="617"/>
                      </a:lnTo>
                      <a:lnTo>
                        <a:pt x="392" y="605"/>
                      </a:lnTo>
                      <a:lnTo>
                        <a:pt x="370" y="591"/>
                      </a:lnTo>
                      <a:lnTo>
                        <a:pt x="349" y="578"/>
                      </a:lnTo>
                      <a:lnTo>
                        <a:pt x="328" y="562"/>
                      </a:lnTo>
                      <a:lnTo>
                        <a:pt x="307" y="545"/>
                      </a:lnTo>
                      <a:lnTo>
                        <a:pt x="289" y="528"/>
                      </a:lnTo>
                      <a:lnTo>
                        <a:pt x="270" y="509"/>
                      </a:lnTo>
                      <a:lnTo>
                        <a:pt x="252" y="488"/>
                      </a:lnTo>
                      <a:lnTo>
                        <a:pt x="235" y="468"/>
                      </a:lnTo>
                      <a:lnTo>
                        <a:pt x="219" y="446"/>
                      </a:lnTo>
                      <a:lnTo>
                        <a:pt x="204" y="423"/>
                      </a:lnTo>
                      <a:lnTo>
                        <a:pt x="190" y="400"/>
                      </a:lnTo>
                      <a:lnTo>
                        <a:pt x="176" y="376"/>
                      </a:lnTo>
                      <a:lnTo>
                        <a:pt x="165" y="351"/>
                      </a:lnTo>
                      <a:lnTo>
                        <a:pt x="153" y="325"/>
                      </a:lnTo>
                      <a:lnTo>
                        <a:pt x="143" y="298"/>
                      </a:lnTo>
                      <a:lnTo>
                        <a:pt x="134" y="271"/>
                      </a:lnTo>
                      <a:lnTo>
                        <a:pt x="125" y="244"/>
                      </a:lnTo>
                      <a:lnTo>
                        <a:pt x="118" y="216"/>
                      </a:lnTo>
                      <a:lnTo>
                        <a:pt x="113" y="186"/>
                      </a:lnTo>
                      <a:lnTo>
                        <a:pt x="108" y="157"/>
                      </a:lnTo>
                      <a:lnTo>
                        <a:pt x="106" y="126"/>
                      </a:lnTo>
                      <a:lnTo>
                        <a:pt x="103" y="96"/>
                      </a:lnTo>
                      <a:lnTo>
                        <a:pt x="102" y="65"/>
                      </a:lnTo>
                      <a:lnTo>
                        <a:pt x="103" y="35"/>
                      </a:lnTo>
                      <a:lnTo>
                        <a:pt x="105" y="8"/>
                      </a:lnTo>
                      <a:lnTo>
                        <a:pt x="98" y="9"/>
                      </a:lnTo>
                      <a:lnTo>
                        <a:pt x="92" y="9"/>
                      </a:lnTo>
                      <a:lnTo>
                        <a:pt x="85" y="11"/>
                      </a:lnTo>
                      <a:lnTo>
                        <a:pt x="79" y="11"/>
                      </a:lnTo>
                      <a:lnTo>
                        <a:pt x="73" y="11"/>
                      </a:lnTo>
                      <a:lnTo>
                        <a:pt x="68" y="11"/>
                      </a:lnTo>
                      <a:lnTo>
                        <a:pt x="63" y="11"/>
                      </a:lnTo>
                      <a:lnTo>
                        <a:pt x="58" y="9"/>
                      </a:lnTo>
                      <a:lnTo>
                        <a:pt x="51" y="9"/>
                      </a:lnTo>
                      <a:lnTo>
                        <a:pt x="44" y="8"/>
                      </a:lnTo>
                      <a:lnTo>
                        <a:pt x="37" y="7"/>
                      </a:lnTo>
                      <a:lnTo>
                        <a:pt x="30" y="5"/>
                      </a:lnTo>
                      <a:lnTo>
                        <a:pt x="24" y="4"/>
                      </a:lnTo>
                      <a:lnTo>
                        <a:pt x="17" y="2"/>
                      </a:lnTo>
                      <a:lnTo>
                        <a:pt x="10" y="1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ebf3f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9" name="Freeform 272"/>
                <p:cNvSpPr/>
                <p:nvPr/>
              </p:nvSpPr>
              <p:spPr>
                <a:xfrm>
                  <a:off x="6468480" y="3350880"/>
                  <a:ext cx="1278360" cy="362160"/>
                </a:xfrm>
                <a:custGeom>
                  <a:avLst/>
                  <a:gdLst>
                    <a:gd name="textAreaLeft" fmla="*/ 0 w 1278360"/>
                    <a:gd name="textAreaRight" fmla="*/ 1278720 w 1278360"/>
                    <a:gd name="textAreaTop" fmla="*/ 0 h 362160"/>
                    <a:gd name="textAreaBottom" fmla="*/ 362520 h 362160"/>
                  </a:gdLst>
                  <a:ahLst/>
                  <a:rect l="textAreaLeft" t="textAreaTop" r="textAreaRight" b="textAreaBottom"/>
                  <a:pathLst>
                    <a:path w="979" h="653">
                      <a:moveTo>
                        <a:pt x="3" y="18"/>
                      </a:moveTo>
                      <a:lnTo>
                        <a:pt x="1" y="45"/>
                      </a:lnTo>
                      <a:lnTo>
                        <a:pt x="0" y="75"/>
                      </a:lnTo>
                      <a:lnTo>
                        <a:pt x="1" y="106"/>
                      </a:lnTo>
                      <a:lnTo>
                        <a:pt x="4" y="136"/>
                      </a:lnTo>
                      <a:lnTo>
                        <a:pt x="6" y="167"/>
                      </a:lnTo>
                      <a:lnTo>
                        <a:pt x="11" y="196"/>
                      </a:lnTo>
                      <a:lnTo>
                        <a:pt x="16" y="226"/>
                      </a:lnTo>
                      <a:lnTo>
                        <a:pt x="23" y="254"/>
                      </a:lnTo>
                      <a:lnTo>
                        <a:pt x="32" y="281"/>
                      </a:lnTo>
                      <a:lnTo>
                        <a:pt x="41" y="308"/>
                      </a:lnTo>
                      <a:lnTo>
                        <a:pt x="51" y="335"/>
                      </a:lnTo>
                      <a:lnTo>
                        <a:pt x="63" y="361"/>
                      </a:lnTo>
                      <a:lnTo>
                        <a:pt x="74" y="386"/>
                      </a:lnTo>
                      <a:lnTo>
                        <a:pt x="88" y="410"/>
                      </a:lnTo>
                      <a:lnTo>
                        <a:pt x="102" y="433"/>
                      </a:lnTo>
                      <a:lnTo>
                        <a:pt x="117" y="456"/>
                      </a:lnTo>
                      <a:lnTo>
                        <a:pt x="133" y="478"/>
                      </a:lnTo>
                      <a:lnTo>
                        <a:pt x="150" y="498"/>
                      </a:lnTo>
                      <a:lnTo>
                        <a:pt x="168" y="519"/>
                      </a:lnTo>
                      <a:lnTo>
                        <a:pt x="187" y="538"/>
                      </a:lnTo>
                      <a:lnTo>
                        <a:pt x="205" y="555"/>
                      </a:lnTo>
                      <a:lnTo>
                        <a:pt x="226" y="572"/>
                      </a:lnTo>
                      <a:lnTo>
                        <a:pt x="247" y="588"/>
                      </a:lnTo>
                      <a:lnTo>
                        <a:pt x="268" y="601"/>
                      </a:lnTo>
                      <a:lnTo>
                        <a:pt x="290" y="615"/>
                      </a:lnTo>
                      <a:lnTo>
                        <a:pt x="313" y="627"/>
                      </a:lnTo>
                      <a:lnTo>
                        <a:pt x="336" y="638"/>
                      </a:lnTo>
                      <a:lnTo>
                        <a:pt x="359" y="647"/>
                      </a:lnTo>
                      <a:lnTo>
                        <a:pt x="378" y="653"/>
                      </a:lnTo>
                      <a:lnTo>
                        <a:pt x="423" y="638"/>
                      </a:lnTo>
                      <a:lnTo>
                        <a:pt x="467" y="622"/>
                      </a:lnTo>
                      <a:lnTo>
                        <a:pt x="511" y="604"/>
                      </a:lnTo>
                      <a:lnTo>
                        <a:pt x="554" y="586"/>
                      </a:lnTo>
                      <a:lnTo>
                        <a:pt x="597" y="566"/>
                      </a:lnTo>
                      <a:lnTo>
                        <a:pt x="637" y="546"/>
                      </a:lnTo>
                      <a:lnTo>
                        <a:pt x="677" y="525"/>
                      </a:lnTo>
                      <a:lnTo>
                        <a:pt x="714" y="504"/>
                      </a:lnTo>
                      <a:lnTo>
                        <a:pt x="751" y="481"/>
                      </a:lnTo>
                      <a:lnTo>
                        <a:pt x="784" y="456"/>
                      </a:lnTo>
                      <a:lnTo>
                        <a:pt x="818" y="433"/>
                      </a:lnTo>
                      <a:lnTo>
                        <a:pt x="848" y="407"/>
                      </a:lnTo>
                      <a:lnTo>
                        <a:pt x="877" y="382"/>
                      </a:lnTo>
                      <a:lnTo>
                        <a:pt x="902" y="356"/>
                      </a:lnTo>
                      <a:lnTo>
                        <a:pt x="927" y="329"/>
                      </a:lnTo>
                      <a:lnTo>
                        <a:pt x="947" y="301"/>
                      </a:lnTo>
                      <a:lnTo>
                        <a:pt x="959" y="291"/>
                      </a:lnTo>
                      <a:lnTo>
                        <a:pt x="968" y="280"/>
                      </a:lnTo>
                      <a:lnTo>
                        <a:pt x="974" y="269"/>
                      </a:lnTo>
                      <a:lnTo>
                        <a:pt x="978" y="259"/>
                      </a:lnTo>
                      <a:lnTo>
                        <a:pt x="979" y="251"/>
                      </a:lnTo>
                      <a:lnTo>
                        <a:pt x="979" y="243"/>
                      </a:lnTo>
                      <a:lnTo>
                        <a:pt x="976" y="235"/>
                      </a:lnTo>
                      <a:lnTo>
                        <a:pt x="973" y="228"/>
                      </a:lnTo>
                      <a:lnTo>
                        <a:pt x="969" y="223"/>
                      </a:lnTo>
                      <a:lnTo>
                        <a:pt x="964" y="217"/>
                      </a:lnTo>
                      <a:lnTo>
                        <a:pt x="959" y="212"/>
                      </a:lnTo>
                      <a:lnTo>
                        <a:pt x="953" y="208"/>
                      </a:lnTo>
                      <a:lnTo>
                        <a:pt x="943" y="202"/>
                      </a:lnTo>
                      <a:lnTo>
                        <a:pt x="936" y="200"/>
                      </a:lnTo>
                      <a:lnTo>
                        <a:pt x="934" y="198"/>
                      </a:lnTo>
                      <a:lnTo>
                        <a:pt x="931" y="197"/>
                      </a:lnTo>
                      <a:lnTo>
                        <a:pt x="928" y="197"/>
                      </a:lnTo>
                      <a:lnTo>
                        <a:pt x="924" y="196"/>
                      </a:lnTo>
                      <a:lnTo>
                        <a:pt x="921" y="194"/>
                      </a:lnTo>
                      <a:lnTo>
                        <a:pt x="916" y="194"/>
                      </a:lnTo>
                      <a:lnTo>
                        <a:pt x="913" y="193"/>
                      </a:lnTo>
                      <a:lnTo>
                        <a:pt x="908" y="192"/>
                      </a:lnTo>
                      <a:lnTo>
                        <a:pt x="907" y="196"/>
                      </a:lnTo>
                      <a:lnTo>
                        <a:pt x="901" y="217"/>
                      </a:lnTo>
                      <a:lnTo>
                        <a:pt x="895" y="240"/>
                      </a:lnTo>
                      <a:lnTo>
                        <a:pt x="887" y="262"/>
                      </a:lnTo>
                      <a:lnTo>
                        <a:pt x="879" y="283"/>
                      </a:lnTo>
                      <a:lnTo>
                        <a:pt x="871" y="304"/>
                      </a:lnTo>
                      <a:lnTo>
                        <a:pt x="861" y="323"/>
                      </a:lnTo>
                      <a:lnTo>
                        <a:pt x="850" y="344"/>
                      </a:lnTo>
                      <a:lnTo>
                        <a:pt x="839" y="361"/>
                      </a:lnTo>
                      <a:lnTo>
                        <a:pt x="827" y="380"/>
                      </a:lnTo>
                      <a:lnTo>
                        <a:pt x="813" y="398"/>
                      </a:lnTo>
                      <a:lnTo>
                        <a:pt x="800" y="414"/>
                      </a:lnTo>
                      <a:lnTo>
                        <a:pt x="787" y="430"/>
                      </a:lnTo>
                      <a:lnTo>
                        <a:pt x="771" y="445"/>
                      </a:lnTo>
                      <a:lnTo>
                        <a:pt x="755" y="459"/>
                      </a:lnTo>
                      <a:lnTo>
                        <a:pt x="740" y="472"/>
                      </a:lnTo>
                      <a:lnTo>
                        <a:pt x="723" y="485"/>
                      </a:lnTo>
                      <a:lnTo>
                        <a:pt x="705" y="497"/>
                      </a:lnTo>
                      <a:lnTo>
                        <a:pt x="688" y="506"/>
                      </a:lnTo>
                      <a:lnTo>
                        <a:pt x="671" y="516"/>
                      </a:lnTo>
                      <a:lnTo>
                        <a:pt x="652" y="525"/>
                      </a:lnTo>
                      <a:lnTo>
                        <a:pt x="633" y="532"/>
                      </a:lnTo>
                      <a:lnTo>
                        <a:pt x="613" y="539"/>
                      </a:lnTo>
                      <a:lnTo>
                        <a:pt x="593" y="544"/>
                      </a:lnTo>
                      <a:lnTo>
                        <a:pt x="573" y="548"/>
                      </a:lnTo>
                      <a:lnTo>
                        <a:pt x="553" y="551"/>
                      </a:lnTo>
                      <a:lnTo>
                        <a:pt x="532" y="554"/>
                      </a:lnTo>
                      <a:lnTo>
                        <a:pt x="511" y="554"/>
                      </a:lnTo>
                      <a:lnTo>
                        <a:pt x="490" y="554"/>
                      </a:lnTo>
                      <a:lnTo>
                        <a:pt x="469" y="551"/>
                      </a:lnTo>
                      <a:lnTo>
                        <a:pt x="450" y="548"/>
                      </a:lnTo>
                      <a:lnTo>
                        <a:pt x="429" y="544"/>
                      </a:lnTo>
                      <a:lnTo>
                        <a:pt x="409" y="539"/>
                      </a:lnTo>
                      <a:lnTo>
                        <a:pt x="389" y="532"/>
                      </a:lnTo>
                      <a:lnTo>
                        <a:pt x="371" y="525"/>
                      </a:lnTo>
                      <a:lnTo>
                        <a:pt x="352" y="516"/>
                      </a:lnTo>
                      <a:lnTo>
                        <a:pt x="334" y="506"/>
                      </a:lnTo>
                      <a:lnTo>
                        <a:pt x="316" y="497"/>
                      </a:lnTo>
                      <a:lnTo>
                        <a:pt x="299" y="485"/>
                      </a:lnTo>
                      <a:lnTo>
                        <a:pt x="283" y="472"/>
                      </a:lnTo>
                      <a:lnTo>
                        <a:pt x="267" y="459"/>
                      </a:lnTo>
                      <a:lnTo>
                        <a:pt x="252" y="445"/>
                      </a:lnTo>
                      <a:lnTo>
                        <a:pt x="236" y="430"/>
                      </a:lnTo>
                      <a:lnTo>
                        <a:pt x="223" y="414"/>
                      </a:lnTo>
                      <a:lnTo>
                        <a:pt x="209" y="398"/>
                      </a:lnTo>
                      <a:lnTo>
                        <a:pt x="196" y="380"/>
                      </a:lnTo>
                      <a:lnTo>
                        <a:pt x="184" y="361"/>
                      </a:lnTo>
                      <a:lnTo>
                        <a:pt x="173" y="344"/>
                      </a:lnTo>
                      <a:lnTo>
                        <a:pt x="162" y="323"/>
                      </a:lnTo>
                      <a:lnTo>
                        <a:pt x="152" y="304"/>
                      </a:lnTo>
                      <a:lnTo>
                        <a:pt x="143" y="283"/>
                      </a:lnTo>
                      <a:lnTo>
                        <a:pt x="135" y="262"/>
                      </a:lnTo>
                      <a:lnTo>
                        <a:pt x="128" y="240"/>
                      </a:lnTo>
                      <a:lnTo>
                        <a:pt x="121" y="217"/>
                      </a:lnTo>
                      <a:lnTo>
                        <a:pt x="116" y="196"/>
                      </a:lnTo>
                      <a:lnTo>
                        <a:pt x="111" y="173"/>
                      </a:lnTo>
                      <a:lnTo>
                        <a:pt x="108" y="148"/>
                      </a:lnTo>
                      <a:lnTo>
                        <a:pt x="104" y="124"/>
                      </a:lnTo>
                      <a:lnTo>
                        <a:pt x="103" y="101"/>
                      </a:lnTo>
                      <a:lnTo>
                        <a:pt x="102" y="75"/>
                      </a:lnTo>
                      <a:lnTo>
                        <a:pt x="103" y="50"/>
                      </a:lnTo>
                      <a:lnTo>
                        <a:pt x="104" y="26"/>
                      </a:lnTo>
                      <a:lnTo>
                        <a:pt x="108" y="3"/>
                      </a:lnTo>
                      <a:lnTo>
                        <a:pt x="108" y="0"/>
                      </a:lnTo>
                      <a:lnTo>
                        <a:pt x="93" y="3"/>
                      </a:lnTo>
                      <a:lnTo>
                        <a:pt x="78" y="6"/>
                      </a:lnTo>
                      <a:lnTo>
                        <a:pt x="64" y="8"/>
                      </a:lnTo>
                      <a:lnTo>
                        <a:pt x="51" y="11"/>
                      </a:lnTo>
                      <a:lnTo>
                        <a:pt x="37" y="14"/>
                      </a:lnTo>
                      <a:lnTo>
                        <a:pt x="26" y="15"/>
                      </a:lnTo>
                      <a:lnTo>
                        <a:pt x="14" y="17"/>
                      </a:lnTo>
                      <a:lnTo>
                        <a:pt x="3" y="18"/>
                      </a:lnTo>
                      <a:close/>
                    </a:path>
                  </a:pathLst>
                </a:custGeom>
                <a:solidFill>
                  <a:srgbClr val="eef5f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0" name="Freeform 273"/>
                <p:cNvSpPr/>
                <p:nvPr/>
              </p:nvSpPr>
              <p:spPr>
                <a:xfrm>
                  <a:off x="6601680" y="3339000"/>
                  <a:ext cx="1053000" cy="318960"/>
                </a:xfrm>
                <a:custGeom>
                  <a:avLst/>
                  <a:gdLst>
                    <a:gd name="textAreaLeft" fmla="*/ 0 w 1053000"/>
                    <a:gd name="textAreaRight" fmla="*/ 1053360 w 1053000"/>
                    <a:gd name="textAreaTop" fmla="*/ 0 h 318960"/>
                    <a:gd name="textAreaBottom" fmla="*/ 319320 h 318960"/>
                  </a:gdLst>
                  <a:ahLst/>
                  <a:rect l="textAreaLeft" t="textAreaTop" r="textAreaRight" b="textAreaBottom"/>
                  <a:pathLst>
                    <a:path w="806" h="573">
                      <a:moveTo>
                        <a:pt x="6" y="19"/>
                      </a:moveTo>
                      <a:lnTo>
                        <a:pt x="6" y="22"/>
                      </a:lnTo>
                      <a:lnTo>
                        <a:pt x="2" y="45"/>
                      </a:lnTo>
                      <a:lnTo>
                        <a:pt x="1" y="69"/>
                      </a:lnTo>
                      <a:lnTo>
                        <a:pt x="0" y="94"/>
                      </a:lnTo>
                      <a:lnTo>
                        <a:pt x="1" y="120"/>
                      </a:lnTo>
                      <a:lnTo>
                        <a:pt x="2" y="143"/>
                      </a:lnTo>
                      <a:lnTo>
                        <a:pt x="6" y="167"/>
                      </a:lnTo>
                      <a:lnTo>
                        <a:pt x="9" y="192"/>
                      </a:lnTo>
                      <a:lnTo>
                        <a:pt x="14" y="215"/>
                      </a:lnTo>
                      <a:lnTo>
                        <a:pt x="19" y="236"/>
                      </a:lnTo>
                      <a:lnTo>
                        <a:pt x="26" y="259"/>
                      </a:lnTo>
                      <a:lnTo>
                        <a:pt x="33" y="281"/>
                      </a:lnTo>
                      <a:lnTo>
                        <a:pt x="41" y="302"/>
                      </a:lnTo>
                      <a:lnTo>
                        <a:pt x="50" y="323"/>
                      </a:lnTo>
                      <a:lnTo>
                        <a:pt x="60" y="342"/>
                      </a:lnTo>
                      <a:lnTo>
                        <a:pt x="71" y="363"/>
                      </a:lnTo>
                      <a:lnTo>
                        <a:pt x="82" y="380"/>
                      </a:lnTo>
                      <a:lnTo>
                        <a:pt x="94" y="399"/>
                      </a:lnTo>
                      <a:lnTo>
                        <a:pt x="107" y="417"/>
                      </a:lnTo>
                      <a:lnTo>
                        <a:pt x="121" y="433"/>
                      </a:lnTo>
                      <a:lnTo>
                        <a:pt x="134" y="449"/>
                      </a:lnTo>
                      <a:lnTo>
                        <a:pt x="150" y="464"/>
                      </a:lnTo>
                      <a:lnTo>
                        <a:pt x="165" y="478"/>
                      </a:lnTo>
                      <a:lnTo>
                        <a:pt x="181" y="491"/>
                      </a:lnTo>
                      <a:lnTo>
                        <a:pt x="197" y="504"/>
                      </a:lnTo>
                      <a:lnTo>
                        <a:pt x="214" y="516"/>
                      </a:lnTo>
                      <a:lnTo>
                        <a:pt x="232" y="525"/>
                      </a:lnTo>
                      <a:lnTo>
                        <a:pt x="250" y="535"/>
                      </a:lnTo>
                      <a:lnTo>
                        <a:pt x="269" y="544"/>
                      </a:lnTo>
                      <a:lnTo>
                        <a:pt x="287" y="551"/>
                      </a:lnTo>
                      <a:lnTo>
                        <a:pt x="307" y="558"/>
                      </a:lnTo>
                      <a:lnTo>
                        <a:pt x="327" y="563"/>
                      </a:lnTo>
                      <a:lnTo>
                        <a:pt x="348" y="567"/>
                      </a:lnTo>
                      <a:lnTo>
                        <a:pt x="367" y="570"/>
                      </a:lnTo>
                      <a:lnTo>
                        <a:pt x="388" y="573"/>
                      </a:lnTo>
                      <a:lnTo>
                        <a:pt x="409" y="573"/>
                      </a:lnTo>
                      <a:lnTo>
                        <a:pt x="430" y="573"/>
                      </a:lnTo>
                      <a:lnTo>
                        <a:pt x="451" y="570"/>
                      </a:lnTo>
                      <a:lnTo>
                        <a:pt x="471" y="567"/>
                      </a:lnTo>
                      <a:lnTo>
                        <a:pt x="491" y="563"/>
                      </a:lnTo>
                      <a:lnTo>
                        <a:pt x="511" y="558"/>
                      </a:lnTo>
                      <a:lnTo>
                        <a:pt x="531" y="551"/>
                      </a:lnTo>
                      <a:lnTo>
                        <a:pt x="550" y="544"/>
                      </a:lnTo>
                      <a:lnTo>
                        <a:pt x="569" y="535"/>
                      </a:lnTo>
                      <a:lnTo>
                        <a:pt x="586" y="525"/>
                      </a:lnTo>
                      <a:lnTo>
                        <a:pt x="603" y="516"/>
                      </a:lnTo>
                      <a:lnTo>
                        <a:pt x="621" y="504"/>
                      </a:lnTo>
                      <a:lnTo>
                        <a:pt x="638" y="491"/>
                      </a:lnTo>
                      <a:lnTo>
                        <a:pt x="653" y="478"/>
                      </a:lnTo>
                      <a:lnTo>
                        <a:pt x="669" y="464"/>
                      </a:lnTo>
                      <a:lnTo>
                        <a:pt x="685" y="449"/>
                      </a:lnTo>
                      <a:lnTo>
                        <a:pt x="698" y="433"/>
                      </a:lnTo>
                      <a:lnTo>
                        <a:pt x="711" y="417"/>
                      </a:lnTo>
                      <a:lnTo>
                        <a:pt x="725" y="399"/>
                      </a:lnTo>
                      <a:lnTo>
                        <a:pt x="737" y="380"/>
                      </a:lnTo>
                      <a:lnTo>
                        <a:pt x="748" y="363"/>
                      </a:lnTo>
                      <a:lnTo>
                        <a:pt x="759" y="342"/>
                      </a:lnTo>
                      <a:lnTo>
                        <a:pt x="769" y="323"/>
                      </a:lnTo>
                      <a:lnTo>
                        <a:pt x="777" y="302"/>
                      </a:lnTo>
                      <a:lnTo>
                        <a:pt x="785" y="281"/>
                      </a:lnTo>
                      <a:lnTo>
                        <a:pt x="793" y="259"/>
                      </a:lnTo>
                      <a:lnTo>
                        <a:pt x="799" y="236"/>
                      </a:lnTo>
                      <a:lnTo>
                        <a:pt x="805" y="215"/>
                      </a:lnTo>
                      <a:lnTo>
                        <a:pt x="806" y="211"/>
                      </a:lnTo>
                      <a:lnTo>
                        <a:pt x="795" y="208"/>
                      </a:lnTo>
                      <a:lnTo>
                        <a:pt x="783" y="205"/>
                      </a:lnTo>
                      <a:lnTo>
                        <a:pt x="770" y="204"/>
                      </a:lnTo>
                      <a:lnTo>
                        <a:pt x="757" y="201"/>
                      </a:lnTo>
                      <a:lnTo>
                        <a:pt x="745" y="197"/>
                      </a:lnTo>
                      <a:lnTo>
                        <a:pt x="731" y="194"/>
                      </a:lnTo>
                      <a:lnTo>
                        <a:pt x="718" y="192"/>
                      </a:lnTo>
                      <a:lnTo>
                        <a:pt x="705" y="189"/>
                      </a:lnTo>
                      <a:lnTo>
                        <a:pt x="702" y="201"/>
                      </a:lnTo>
                      <a:lnTo>
                        <a:pt x="697" y="217"/>
                      </a:lnTo>
                      <a:lnTo>
                        <a:pt x="691" y="234"/>
                      </a:lnTo>
                      <a:lnTo>
                        <a:pt x="686" y="250"/>
                      </a:lnTo>
                      <a:lnTo>
                        <a:pt x="679" y="266"/>
                      </a:lnTo>
                      <a:lnTo>
                        <a:pt x="672" y="281"/>
                      </a:lnTo>
                      <a:lnTo>
                        <a:pt x="664" y="295"/>
                      </a:lnTo>
                      <a:lnTo>
                        <a:pt x="654" y="310"/>
                      </a:lnTo>
                      <a:lnTo>
                        <a:pt x="645" y="323"/>
                      </a:lnTo>
                      <a:lnTo>
                        <a:pt x="636" y="335"/>
                      </a:lnTo>
                      <a:lnTo>
                        <a:pt x="625" y="349"/>
                      </a:lnTo>
                      <a:lnTo>
                        <a:pt x="615" y="360"/>
                      </a:lnTo>
                      <a:lnTo>
                        <a:pt x="605" y="372"/>
                      </a:lnTo>
                      <a:lnTo>
                        <a:pt x="593" y="382"/>
                      </a:lnTo>
                      <a:lnTo>
                        <a:pt x="580" y="392"/>
                      </a:lnTo>
                      <a:lnTo>
                        <a:pt x="568" y="402"/>
                      </a:lnTo>
                      <a:lnTo>
                        <a:pt x="555" y="410"/>
                      </a:lnTo>
                      <a:lnTo>
                        <a:pt x="542" y="418"/>
                      </a:lnTo>
                      <a:lnTo>
                        <a:pt x="528" y="425"/>
                      </a:lnTo>
                      <a:lnTo>
                        <a:pt x="514" y="432"/>
                      </a:lnTo>
                      <a:lnTo>
                        <a:pt x="500" y="437"/>
                      </a:lnTo>
                      <a:lnTo>
                        <a:pt x="485" y="443"/>
                      </a:lnTo>
                      <a:lnTo>
                        <a:pt x="471" y="447"/>
                      </a:lnTo>
                      <a:lnTo>
                        <a:pt x="456" y="449"/>
                      </a:lnTo>
                      <a:lnTo>
                        <a:pt x="440" y="452"/>
                      </a:lnTo>
                      <a:lnTo>
                        <a:pt x="425" y="453"/>
                      </a:lnTo>
                      <a:lnTo>
                        <a:pt x="409" y="453"/>
                      </a:lnTo>
                      <a:lnTo>
                        <a:pt x="394" y="453"/>
                      </a:lnTo>
                      <a:lnTo>
                        <a:pt x="378" y="452"/>
                      </a:lnTo>
                      <a:lnTo>
                        <a:pt x="363" y="449"/>
                      </a:lnTo>
                      <a:lnTo>
                        <a:pt x="348" y="447"/>
                      </a:lnTo>
                      <a:lnTo>
                        <a:pt x="332" y="443"/>
                      </a:lnTo>
                      <a:lnTo>
                        <a:pt x="319" y="437"/>
                      </a:lnTo>
                      <a:lnTo>
                        <a:pt x="304" y="432"/>
                      </a:lnTo>
                      <a:lnTo>
                        <a:pt x="290" y="425"/>
                      </a:lnTo>
                      <a:lnTo>
                        <a:pt x="277" y="418"/>
                      </a:lnTo>
                      <a:lnTo>
                        <a:pt x="263" y="410"/>
                      </a:lnTo>
                      <a:lnTo>
                        <a:pt x="250" y="402"/>
                      </a:lnTo>
                      <a:lnTo>
                        <a:pt x="238" y="392"/>
                      </a:lnTo>
                      <a:lnTo>
                        <a:pt x="226" y="382"/>
                      </a:lnTo>
                      <a:lnTo>
                        <a:pt x="214" y="372"/>
                      </a:lnTo>
                      <a:lnTo>
                        <a:pt x="203" y="360"/>
                      </a:lnTo>
                      <a:lnTo>
                        <a:pt x="192" y="349"/>
                      </a:lnTo>
                      <a:lnTo>
                        <a:pt x="182" y="335"/>
                      </a:lnTo>
                      <a:lnTo>
                        <a:pt x="173" y="323"/>
                      </a:lnTo>
                      <a:lnTo>
                        <a:pt x="163" y="310"/>
                      </a:lnTo>
                      <a:lnTo>
                        <a:pt x="155" y="295"/>
                      </a:lnTo>
                      <a:lnTo>
                        <a:pt x="147" y="281"/>
                      </a:lnTo>
                      <a:lnTo>
                        <a:pt x="140" y="266"/>
                      </a:lnTo>
                      <a:lnTo>
                        <a:pt x="133" y="250"/>
                      </a:lnTo>
                      <a:lnTo>
                        <a:pt x="126" y="234"/>
                      </a:lnTo>
                      <a:lnTo>
                        <a:pt x="122" y="217"/>
                      </a:lnTo>
                      <a:lnTo>
                        <a:pt x="117" y="201"/>
                      </a:lnTo>
                      <a:lnTo>
                        <a:pt x="112" y="185"/>
                      </a:lnTo>
                      <a:lnTo>
                        <a:pt x="109" y="167"/>
                      </a:lnTo>
                      <a:lnTo>
                        <a:pt x="107" y="150"/>
                      </a:lnTo>
                      <a:lnTo>
                        <a:pt x="104" y="131"/>
                      </a:lnTo>
                      <a:lnTo>
                        <a:pt x="103" y="113"/>
                      </a:lnTo>
                      <a:lnTo>
                        <a:pt x="103" y="94"/>
                      </a:lnTo>
                      <a:lnTo>
                        <a:pt x="103" y="76"/>
                      </a:lnTo>
                      <a:lnTo>
                        <a:pt x="104" y="57"/>
                      </a:lnTo>
                      <a:lnTo>
                        <a:pt x="107" y="40"/>
                      </a:lnTo>
                      <a:lnTo>
                        <a:pt x="109" y="22"/>
                      </a:lnTo>
                      <a:lnTo>
                        <a:pt x="112" y="4"/>
                      </a:lnTo>
                      <a:lnTo>
                        <a:pt x="114" y="0"/>
                      </a:lnTo>
                      <a:lnTo>
                        <a:pt x="100" y="2"/>
                      </a:lnTo>
                      <a:lnTo>
                        <a:pt x="85" y="4"/>
                      </a:lnTo>
                      <a:lnTo>
                        <a:pt x="71" y="7"/>
                      </a:lnTo>
                      <a:lnTo>
                        <a:pt x="58" y="10"/>
                      </a:lnTo>
                      <a:lnTo>
                        <a:pt x="44" y="12"/>
                      </a:lnTo>
                      <a:lnTo>
                        <a:pt x="31" y="15"/>
                      </a:lnTo>
                      <a:lnTo>
                        <a:pt x="19" y="17"/>
                      </a:lnTo>
                      <a:lnTo>
                        <a:pt x="6" y="19"/>
                      </a:lnTo>
                      <a:close/>
                    </a:path>
                  </a:pathLst>
                </a:custGeom>
                <a:solidFill>
                  <a:srgbClr val="f2f7f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1" name="Freeform 274"/>
                <p:cNvSpPr/>
                <p:nvPr/>
              </p:nvSpPr>
              <p:spPr>
                <a:xfrm>
                  <a:off x="6734880" y="3330720"/>
                  <a:ext cx="786240" cy="260640"/>
                </a:xfrm>
                <a:custGeom>
                  <a:avLst/>
                  <a:gdLst>
                    <a:gd name="textAreaLeft" fmla="*/ 0 w 786240"/>
                    <a:gd name="textAreaRight" fmla="*/ 786600 w 786240"/>
                    <a:gd name="textAreaTop" fmla="*/ 0 h 260640"/>
                    <a:gd name="textAreaBottom" fmla="*/ 261000 h 260640"/>
                  </a:gdLst>
                  <a:ahLst/>
                  <a:rect l="textAreaLeft" t="textAreaTop" r="textAreaRight" b="textAreaBottom"/>
                  <a:pathLst>
                    <a:path w="602" h="468">
                      <a:moveTo>
                        <a:pt x="11" y="15"/>
                      </a:moveTo>
                      <a:lnTo>
                        <a:pt x="9" y="19"/>
                      </a:lnTo>
                      <a:lnTo>
                        <a:pt x="6" y="37"/>
                      </a:lnTo>
                      <a:lnTo>
                        <a:pt x="4" y="55"/>
                      </a:lnTo>
                      <a:lnTo>
                        <a:pt x="1" y="72"/>
                      </a:lnTo>
                      <a:lnTo>
                        <a:pt x="0" y="91"/>
                      </a:lnTo>
                      <a:lnTo>
                        <a:pt x="0" y="109"/>
                      </a:lnTo>
                      <a:lnTo>
                        <a:pt x="0" y="128"/>
                      </a:lnTo>
                      <a:lnTo>
                        <a:pt x="1" y="146"/>
                      </a:lnTo>
                      <a:lnTo>
                        <a:pt x="4" y="165"/>
                      </a:lnTo>
                      <a:lnTo>
                        <a:pt x="6" y="182"/>
                      </a:lnTo>
                      <a:lnTo>
                        <a:pt x="9" y="200"/>
                      </a:lnTo>
                      <a:lnTo>
                        <a:pt x="14" y="216"/>
                      </a:lnTo>
                      <a:lnTo>
                        <a:pt x="19" y="232"/>
                      </a:lnTo>
                      <a:lnTo>
                        <a:pt x="23" y="249"/>
                      </a:lnTo>
                      <a:lnTo>
                        <a:pt x="30" y="265"/>
                      </a:lnTo>
                      <a:lnTo>
                        <a:pt x="37" y="281"/>
                      </a:lnTo>
                      <a:lnTo>
                        <a:pt x="44" y="296"/>
                      </a:lnTo>
                      <a:lnTo>
                        <a:pt x="52" y="310"/>
                      </a:lnTo>
                      <a:lnTo>
                        <a:pt x="60" y="325"/>
                      </a:lnTo>
                      <a:lnTo>
                        <a:pt x="70" y="338"/>
                      </a:lnTo>
                      <a:lnTo>
                        <a:pt x="79" y="350"/>
                      </a:lnTo>
                      <a:lnTo>
                        <a:pt x="89" y="364"/>
                      </a:lnTo>
                      <a:lnTo>
                        <a:pt x="100" y="375"/>
                      </a:lnTo>
                      <a:lnTo>
                        <a:pt x="111" y="387"/>
                      </a:lnTo>
                      <a:lnTo>
                        <a:pt x="123" y="397"/>
                      </a:lnTo>
                      <a:lnTo>
                        <a:pt x="135" y="407"/>
                      </a:lnTo>
                      <a:lnTo>
                        <a:pt x="147" y="417"/>
                      </a:lnTo>
                      <a:lnTo>
                        <a:pt x="160" y="425"/>
                      </a:lnTo>
                      <a:lnTo>
                        <a:pt x="174" y="433"/>
                      </a:lnTo>
                      <a:lnTo>
                        <a:pt x="187" y="440"/>
                      </a:lnTo>
                      <a:lnTo>
                        <a:pt x="201" y="447"/>
                      </a:lnTo>
                      <a:lnTo>
                        <a:pt x="216" y="452"/>
                      </a:lnTo>
                      <a:lnTo>
                        <a:pt x="229" y="458"/>
                      </a:lnTo>
                      <a:lnTo>
                        <a:pt x="245" y="462"/>
                      </a:lnTo>
                      <a:lnTo>
                        <a:pt x="260" y="464"/>
                      </a:lnTo>
                      <a:lnTo>
                        <a:pt x="275" y="467"/>
                      </a:lnTo>
                      <a:lnTo>
                        <a:pt x="291" y="468"/>
                      </a:lnTo>
                      <a:lnTo>
                        <a:pt x="306" y="468"/>
                      </a:lnTo>
                      <a:lnTo>
                        <a:pt x="322" y="468"/>
                      </a:lnTo>
                      <a:lnTo>
                        <a:pt x="337" y="467"/>
                      </a:lnTo>
                      <a:lnTo>
                        <a:pt x="353" y="464"/>
                      </a:lnTo>
                      <a:lnTo>
                        <a:pt x="368" y="462"/>
                      </a:lnTo>
                      <a:lnTo>
                        <a:pt x="382" y="458"/>
                      </a:lnTo>
                      <a:lnTo>
                        <a:pt x="397" y="452"/>
                      </a:lnTo>
                      <a:lnTo>
                        <a:pt x="411" y="447"/>
                      </a:lnTo>
                      <a:lnTo>
                        <a:pt x="425" y="440"/>
                      </a:lnTo>
                      <a:lnTo>
                        <a:pt x="439" y="433"/>
                      </a:lnTo>
                      <a:lnTo>
                        <a:pt x="452" y="425"/>
                      </a:lnTo>
                      <a:lnTo>
                        <a:pt x="465" y="417"/>
                      </a:lnTo>
                      <a:lnTo>
                        <a:pt x="477" y="407"/>
                      </a:lnTo>
                      <a:lnTo>
                        <a:pt x="490" y="397"/>
                      </a:lnTo>
                      <a:lnTo>
                        <a:pt x="502" y="387"/>
                      </a:lnTo>
                      <a:lnTo>
                        <a:pt x="512" y="375"/>
                      </a:lnTo>
                      <a:lnTo>
                        <a:pt x="522" y="364"/>
                      </a:lnTo>
                      <a:lnTo>
                        <a:pt x="533" y="350"/>
                      </a:lnTo>
                      <a:lnTo>
                        <a:pt x="542" y="338"/>
                      </a:lnTo>
                      <a:lnTo>
                        <a:pt x="551" y="325"/>
                      </a:lnTo>
                      <a:lnTo>
                        <a:pt x="561" y="310"/>
                      </a:lnTo>
                      <a:lnTo>
                        <a:pt x="569" y="296"/>
                      </a:lnTo>
                      <a:lnTo>
                        <a:pt x="576" y="281"/>
                      </a:lnTo>
                      <a:lnTo>
                        <a:pt x="583" y="265"/>
                      </a:lnTo>
                      <a:lnTo>
                        <a:pt x="588" y="249"/>
                      </a:lnTo>
                      <a:lnTo>
                        <a:pt x="594" y="232"/>
                      </a:lnTo>
                      <a:lnTo>
                        <a:pt x="599" y="216"/>
                      </a:lnTo>
                      <a:lnTo>
                        <a:pt x="602" y="204"/>
                      </a:lnTo>
                      <a:lnTo>
                        <a:pt x="593" y="203"/>
                      </a:lnTo>
                      <a:lnTo>
                        <a:pt x="585" y="200"/>
                      </a:lnTo>
                      <a:lnTo>
                        <a:pt x="578" y="198"/>
                      </a:lnTo>
                      <a:lnTo>
                        <a:pt x="570" y="196"/>
                      </a:lnTo>
                      <a:lnTo>
                        <a:pt x="563" y="194"/>
                      </a:lnTo>
                      <a:lnTo>
                        <a:pt x="556" y="192"/>
                      </a:lnTo>
                      <a:lnTo>
                        <a:pt x="550" y="190"/>
                      </a:lnTo>
                      <a:lnTo>
                        <a:pt x="546" y="189"/>
                      </a:lnTo>
                      <a:lnTo>
                        <a:pt x="541" y="186"/>
                      </a:lnTo>
                      <a:lnTo>
                        <a:pt x="536" y="182"/>
                      </a:lnTo>
                      <a:lnTo>
                        <a:pt x="533" y="177"/>
                      </a:lnTo>
                      <a:lnTo>
                        <a:pt x="528" y="170"/>
                      </a:lnTo>
                      <a:lnTo>
                        <a:pt x="524" y="162"/>
                      </a:lnTo>
                      <a:lnTo>
                        <a:pt x="520" y="152"/>
                      </a:lnTo>
                      <a:lnTo>
                        <a:pt x="514" y="143"/>
                      </a:lnTo>
                      <a:lnTo>
                        <a:pt x="510" y="133"/>
                      </a:lnTo>
                      <a:lnTo>
                        <a:pt x="510" y="133"/>
                      </a:lnTo>
                      <a:lnTo>
                        <a:pt x="506" y="158"/>
                      </a:lnTo>
                      <a:lnTo>
                        <a:pt x="502" y="181"/>
                      </a:lnTo>
                      <a:lnTo>
                        <a:pt x="495" y="203"/>
                      </a:lnTo>
                      <a:lnTo>
                        <a:pt x="485" y="223"/>
                      </a:lnTo>
                      <a:lnTo>
                        <a:pt x="476" y="243"/>
                      </a:lnTo>
                      <a:lnTo>
                        <a:pt x="463" y="262"/>
                      </a:lnTo>
                      <a:lnTo>
                        <a:pt x="451" y="279"/>
                      </a:lnTo>
                      <a:lnTo>
                        <a:pt x="437" y="295"/>
                      </a:lnTo>
                      <a:lnTo>
                        <a:pt x="421" y="308"/>
                      </a:lnTo>
                      <a:lnTo>
                        <a:pt x="403" y="321"/>
                      </a:lnTo>
                      <a:lnTo>
                        <a:pt x="386" y="330"/>
                      </a:lnTo>
                      <a:lnTo>
                        <a:pt x="367" y="338"/>
                      </a:lnTo>
                      <a:lnTo>
                        <a:pt x="348" y="344"/>
                      </a:lnTo>
                      <a:lnTo>
                        <a:pt x="327" y="348"/>
                      </a:lnTo>
                      <a:lnTo>
                        <a:pt x="306" y="349"/>
                      </a:lnTo>
                      <a:lnTo>
                        <a:pt x="285" y="348"/>
                      </a:lnTo>
                      <a:lnTo>
                        <a:pt x="265" y="344"/>
                      </a:lnTo>
                      <a:lnTo>
                        <a:pt x="246" y="338"/>
                      </a:lnTo>
                      <a:lnTo>
                        <a:pt x="227" y="330"/>
                      </a:lnTo>
                      <a:lnTo>
                        <a:pt x="209" y="321"/>
                      </a:lnTo>
                      <a:lnTo>
                        <a:pt x="192" y="308"/>
                      </a:lnTo>
                      <a:lnTo>
                        <a:pt x="176" y="295"/>
                      </a:lnTo>
                      <a:lnTo>
                        <a:pt x="162" y="279"/>
                      </a:lnTo>
                      <a:lnTo>
                        <a:pt x="148" y="262"/>
                      </a:lnTo>
                      <a:lnTo>
                        <a:pt x="137" y="243"/>
                      </a:lnTo>
                      <a:lnTo>
                        <a:pt x="126" y="223"/>
                      </a:lnTo>
                      <a:lnTo>
                        <a:pt x="118" y="203"/>
                      </a:lnTo>
                      <a:lnTo>
                        <a:pt x="111" y="181"/>
                      </a:lnTo>
                      <a:lnTo>
                        <a:pt x="106" y="158"/>
                      </a:lnTo>
                      <a:lnTo>
                        <a:pt x="103" y="133"/>
                      </a:lnTo>
                      <a:lnTo>
                        <a:pt x="102" y="109"/>
                      </a:lnTo>
                      <a:lnTo>
                        <a:pt x="103" y="84"/>
                      </a:lnTo>
                      <a:lnTo>
                        <a:pt x="106" y="61"/>
                      </a:lnTo>
                      <a:lnTo>
                        <a:pt x="111" y="38"/>
                      </a:lnTo>
                      <a:lnTo>
                        <a:pt x="118" y="17"/>
                      </a:lnTo>
                      <a:lnTo>
                        <a:pt x="125" y="0"/>
                      </a:lnTo>
                      <a:lnTo>
                        <a:pt x="110" y="2"/>
                      </a:lnTo>
                      <a:lnTo>
                        <a:pt x="95" y="3"/>
                      </a:lnTo>
                      <a:lnTo>
                        <a:pt x="81" y="4"/>
                      </a:lnTo>
                      <a:lnTo>
                        <a:pt x="66" y="7"/>
                      </a:lnTo>
                      <a:lnTo>
                        <a:pt x="52" y="8"/>
                      </a:lnTo>
                      <a:lnTo>
                        <a:pt x="38" y="10"/>
                      </a:lnTo>
                      <a:lnTo>
                        <a:pt x="25" y="13"/>
                      </a:lnTo>
                      <a:lnTo>
                        <a:pt x="11" y="15"/>
                      </a:lnTo>
                      <a:close/>
                    </a:path>
                  </a:pathLst>
                </a:custGeom>
                <a:solidFill>
                  <a:srgbClr val="f5f9f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2" name="Freeform 275"/>
                <p:cNvSpPr/>
                <p:nvPr/>
              </p:nvSpPr>
              <p:spPr>
                <a:xfrm>
                  <a:off x="6868440" y="3328920"/>
                  <a:ext cx="532800" cy="197280"/>
                </a:xfrm>
                <a:custGeom>
                  <a:avLst/>
                  <a:gdLst>
                    <a:gd name="textAreaLeft" fmla="*/ 0 w 532800"/>
                    <a:gd name="textAreaRight" fmla="*/ 533160 w 532800"/>
                    <a:gd name="textAreaTop" fmla="*/ 0 h 197280"/>
                    <a:gd name="textAreaBottom" fmla="*/ 197640 h 197280"/>
                  </a:gdLst>
                  <a:ahLst/>
                  <a:rect l="textAreaLeft" t="textAreaTop" r="textAreaRight" b="textAreaBottom"/>
                  <a:pathLst>
                    <a:path w="408" h="354">
                      <a:moveTo>
                        <a:pt x="23" y="5"/>
                      </a:moveTo>
                      <a:lnTo>
                        <a:pt x="16" y="22"/>
                      </a:lnTo>
                      <a:lnTo>
                        <a:pt x="9" y="43"/>
                      </a:lnTo>
                      <a:lnTo>
                        <a:pt x="4" y="66"/>
                      </a:lnTo>
                      <a:lnTo>
                        <a:pt x="1" y="89"/>
                      </a:lnTo>
                      <a:lnTo>
                        <a:pt x="0" y="114"/>
                      </a:lnTo>
                      <a:lnTo>
                        <a:pt x="1" y="138"/>
                      </a:lnTo>
                      <a:lnTo>
                        <a:pt x="4" y="163"/>
                      </a:lnTo>
                      <a:lnTo>
                        <a:pt x="9" y="186"/>
                      </a:lnTo>
                      <a:lnTo>
                        <a:pt x="16" y="208"/>
                      </a:lnTo>
                      <a:lnTo>
                        <a:pt x="24" y="228"/>
                      </a:lnTo>
                      <a:lnTo>
                        <a:pt x="35" y="248"/>
                      </a:lnTo>
                      <a:lnTo>
                        <a:pt x="46" y="267"/>
                      </a:lnTo>
                      <a:lnTo>
                        <a:pt x="60" y="284"/>
                      </a:lnTo>
                      <a:lnTo>
                        <a:pt x="74" y="300"/>
                      </a:lnTo>
                      <a:lnTo>
                        <a:pt x="90" y="313"/>
                      </a:lnTo>
                      <a:lnTo>
                        <a:pt x="107" y="326"/>
                      </a:lnTo>
                      <a:lnTo>
                        <a:pt x="125" y="335"/>
                      </a:lnTo>
                      <a:lnTo>
                        <a:pt x="144" y="343"/>
                      </a:lnTo>
                      <a:lnTo>
                        <a:pt x="163" y="349"/>
                      </a:lnTo>
                      <a:lnTo>
                        <a:pt x="183" y="353"/>
                      </a:lnTo>
                      <a:lnTo>
                        <a:pt x="204" y="354"/>
                      </a:lnTo>
                      <a:lnTo>
                        <a:pt x="225" y="353"/>
                      </a:lnTo>
                      <a:lnTo>
                        <a:pt x="246" y="349"/>
                      </a:lnTo>
                      <a:lnTo>
                        <a:pt x="265" y="343"/>
                      </a:lnTo>
                      <a:lnTo>
                        <a:pt x="284" y="335"/>
                      </a:lnTo>
                      <a:lnTo>
                        <a:pt x="301" y="326"/>
                      </a:lnTo>
                      <a:lnTo>
                        <a:pt x="319" y="313"/>
                      </a:lnTo>
                      <a:lnTo>
                        <a:pt x="335" y="300"/>
                      </a:lnTo>
                      <a:lnTo>
                        <a:pt x="349" y="284"/>
                      </a:lnTo>
                      <a:lnTo>
                        <a:pt x="361" y="267"/>
                      </a:lnTo>
                      <a:lnTo>
                        <a:pt x="374" y="248"/>
                      </a:lnTo>
                      <a:lnTo>
                        <a:pt x="383" y="228"/>
                      </a:lnTo>
                      <a:lnTo>
                        <a:pt x="393" y="208"/>
                      </a:lnTo>
                      <a:lnTo>
                        <a:pt x="400" y="186"/>
                      </a:lnTo>
                      <a:lnTo>
                        <a:pt x="404" y="163"/>
                      </a:lnTo>
                      <a:lnTo>
                        <a:pt x="408" y="138"/>
                      </a:lnTo>
                      <a:lnTo>
                        <a:pt x="408" y="138"/>
                      </a:lnTo>
                      <a:lnTo>
                        <a:pt x="397" y="119"/>
                      </a:lnTo>
                      <a:lnTo>
                        <a:pt x="386" y="100"/>
                      </a:lnTo>
                      <a:lnTo>
                        <a:pt x="379" y="89"/>
                      </a:lnTo>
                      <a:lnTo>
                        <a:pt x="372" y="80"/>
                      </a:lnTo>
                      <a:lnTo>
                        <a:pt x="364" y="70"/>
                      </a:lnTo>
                      <a:lnTo>
                        <a:pt x="354" y="61"/>
                      </a:lnTo>
                      <a:lnTo>
                        <a:pt x="345" y="53"/>
                      </a:lnTo>
                      <a:lnTo>
                        <a:pt x="336" y="45"/>
                      </a:lnTo>
                      <a:lnTo>
                        <a:pt x="324" y="37"/>
                      </a:lnTo>
                      <a:lnTo>
                        <a:pt x="313" y="30"/>
                      </a:lnTo>
                      <a:lnTo>
                        <a:pt x="300" y="23"/>
                      </a:lnTo>
                      <a:lnTo>
                        <a:pt x="286" y="18"/>
                      </a:lnTo>
                      <a:lnTo>
                        <a:pt x="271" y="13"/>
                      </a:lnTo>
                      <a:lnTo>
                        <a:pt x="255" y="11"/>
                      </a:lnTo>
                      <a:lnTo>
                        <a:pt x="226" y="5"/>
                      </a:lnTo>
                      <a:lnTo>
                        <a:pt x="197" y="3"/>
                      </a:lnTo>
                      <a:lnTo>
                        <a:pt x="167" y="1"/>
                      </a:lnTo>
                      <a:lnTo>
                        <a:pt x="138" y="0"/>
                      </a:lnTo>
                      <a:lnTo>
                        <a:pt x="109" y="0"/>
                      </a:lnTo>
                      <a:lnTo>
                        <a:pt x="80" y="1"/>
                      </a:lnTo>
                      <a:lnTo>
                        <a:pt x="51" y="3"/>
                      </a:lnTo>
                      <a:lnTo>
                        <a:pt x="23" y="5"/>
                      </a:lnTo>
                      <a:close/>
                    </a:path>
                  </a:pathLst>
                </a:custGeom>
                <a:solidFill>
                  <a:srgbClr val="f8fbf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3" name="Freeform 276"/>
                <p:cNvSpPr/>
                <p:nvPr/>
              </p:nvSpPr>
              <p:spPr>
                <a:xfrm>
                  <a:off x="7001640" y="3328920"/>
                  <a:ext cx="266400" cy="130320"/>
                </a:xfrm>
                <a:custGeom>
                  <a:avLst/>
                  <a:gdLst>
                    <a:gd name="textAreaLeft" fmla="*/ 0 w 266400"/>
                    <a:gd name="textAreaRight" fmla="*/ 266760 w 266400"/>
                    <a:gd name="textAreaTop" fmla="*/ 0 h 130320"/>
                    <a:gd name="textAreaBottom" fmla="*/ 130680 h 130320"/>
                  </a:gdLst>
                  <a:ahLst/>
                  <a:rect l="textAreaLeft" t="textAreaTop" r="textAreaRight" b="textAreaBottom"/>
                  <a:pathLst>
                    <a:path w="204" h="234">
                      <a:moveTo>
                        <a:pt x="204" y="113"/>
                      </a:moveTo>
                      <a:lnTo>
                        <a:pt x="204" y="101"/>
                      </a:lnTo>
                      <a:lnTo>
                        <a:pt x="203" y="90"/>
                      </a:lnTo>
                      <a:lnTo>
                        <a:pt x="200" y="78"/>
                      </a:lnTo>
                      <a:lnTo>
                        <a:pt x="197" y="67"/>
                      </a:lnTo>
                      <a:lnTo>
                        <a:pt x="192" y="56"/>
                      </a:lnTo>
                      <a:lnTo>
                        <a:pt x="186" y="46"/>
                      </a:lnTo>
                      <a:lnTo>
                        <a:pt x="181" y="37"/>
                      </a:lnTo>
                      <a:lnTo>
                        <a:pt x="175" y="29"/>
                      </a:lnTo>
                      <a:lnTo>
                        <a:pt x="167" y="21"/>
                      </a:lnTo>
                      <a:lnTo>
                        <a:pt x="160" y="14"/>
                      </a:lnTo>
                      <a:lnTo>
                        <a:pt x="152" y="10"/>
                      </a:lnTo>
                      <a:lnTo>
                        <a:pt x="142" y="7"/>
                      </a:lnTo>
                      <a:lnTo>
                        <a:pt x="132" y="6"/>
                      </a:lnTo>
                      <a:lnTo>
                        <a:pt x="122" y="4"/>
                      </a:lnTo>
                      <a:lnTo>
                        <a:pt x="111" y="3"/>
                      </a:lnTo>
                      <a:lnTo>
                        <a:pt x="101" y="3"/>
                      </a:lnTo>
                      <a:lnTo>
                        <a:pt x="90" y="2"/>
                      </a:lnTo>
                      <a:lnTo>
                        <a:pt x="80" y="0"/>
                      </a:lnTo>
                      <a:lnTo>
                        <a:pt x="69" y="0"/>
                      </a:lnTo>
                      <a:lnTo>
                        <a:pt x="63" y="3"/>
                      </a:lnTo>
                      <a:lnTo>
                        <a:pt x="53" y="8"/>
                      </a:lnTo>
                      <a:lnTo>
                        <a:pt x="45" y="14"/>
                      </a:lnTo>
                      <a:lnTo>
                        <a:pt x="37" y="21"/>
                      </a:lnTo>
                      <a:lnTo>
                        <a:pt x="30" y="29"/>
                      </a:lnTo>
                      <a:lnTo>
                        <a:pt x="23" y="37"/>
                      </a:lnTo>
                      <a:lnTo>
                        <a:pt x="17" y="46"/>
                      </a:lnTo>
                      <a:lnTo>
                        <a:pt x="13" y="56"/>
                      </a:lnTo>
                      <a:lnTo>
                        <a:pt x="8" y="67"/>
                      </a:lnTo>
                      <a:lnTo>
                        <a:pt x="5" y="78"/>
                      </a:lnTo>
                      <a:lnTo>
                        <a:pt x="2" y="90"/>
                      </a:lnTo>
                      <a:lnTo>
                        <a:pt x="1" y="101"/>
                      </a:lnTo>
                      <a:lnTo>
                        <a:pt x="0" y="113"/>
                      </a:lnTo>
                      <a:lnTo>
                        <a:pt x="1" y="125"/>
                      </a:lnTo>
                      <a:lnTo>
                        <a:pt x="2" y="137"/>
                      </a:lnTo>
                      <a:lnTo>
                        <a:pt x="5" y="150"/>
                      </a:lnTo>
                      <a:lnTo>
                        <a:pt x="8" y="160"/>
                      </a:lnTo>
                      <a:lnTo>
                        <a:pt x="13" y="170"/>
                      </a:lnTo>
                      <a:lnTo>
                        <a:pt x="17" y="181"/>
                      </a:lnTo>
                      <a:lnTo>
                        <a:pt x="23" y="190"/>
                      </a:lnTo>
                      <a:lnTo>
                        <a:pt x="30" y="198"/>
                      </a:lnTo>
                      <a:lnTo>
                        <a:pt x="37" y="205"/>
                      </a:lnTo>
                      <a:lnTo>
                        <a:pt x="45" y="213"/>
                      </a:lnTo>
                      <a:lnTo>
                        <a:pt x="53" y="219"/>
                      </a:lnTo>
                      <a:lnTo>
                        <a:pt x="63" y="224"/>
                      </a:lnTo>
                      <a:lnTo>
                        <a:pt x="72" y="228"/>
                      </a:lnTo>
                      <a:lnTo>
                        <a:pt x="82" y="231"/>
                      </a:lnTo>
                      <a:lnTo>
                        <a:pt x="92" y="232"/>
                      </a:lnTo>
                      <a:lnTo>
                        <a:pt x="102" y="234"/>
                      </a:lnTo>
                      <a:lnTo>
                        <a:pt x="112" y="232"/>
                      </a:lnTo>
                      <a:lnTo>
                        <a:pt x="123" y="231"/>
                      </a:lnTo>
                      <a:lnTo>
                        <a:pt x="133" y="228"/>
                      </a:lnTo>
                      <a:lnTo>
                        <a:pt x="142" y="224"/>
                      </a:lnTo>
                      <a:lnTo>
                        <a:pt x="151" y="219"/>
                      </a:lnTo>
                      <a:lnTo>
                        <a:pt x="160" y="213"/>
                      </a:lnTo>
                      <a:lnTo>
                        <a:pt x="167" y="205"/>
                      </a:lnTo>
                      <a:lnTo>
                        <a:pt x="175" y="198"/>
                      </a:lnTo>
                      <a:lnTo>
                        <a:pt x="181" y="190"/>
                      </a:lnTo>
                      <a:lnTo>
                        <a:pt x="186" y="181"/>
                      </a:lnTo>
                      <a:lnTo>
                        <a:pt x="192" y="170"/>
                      </a:lnTo>
                      <a:lnTo>
                        <a:pt x="197" y="160"/>
                      </a:lnTo>
                      <a:lnTo>
                        <a:pt x="200" y="150"/>
                      </a:lnTo>
                      <a:lnTo>
                        <a:pt x="203" y="137"/>
                      </a:lnTo>
                      <a:lnTo>
                        <a:pt x="204" y="125"/>
                      </a:lnTo>
                      <a:lnTo>
                        <a:pt x="204" y="11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4" name="Freeform 277"/>
                <p:cNvSpPr/>
                <p:nvPr/>
              </p:nvSpPr>
              <p:spPr>
                <a:xfrm>
                  <a:off x="5349960" y="3322440"/>
                  <a:ext cx="2396520" cy="436320"/>
                </a:xfrm>
                <a:custGeom>
                  <a:avLst/>
                  <a:gdLst>
                    <a:gd name="textAreaLeft" fmla="*/ 0 w 2396520"/>
                    <a:gd name="textAreaRight" fmla="*/ 2396880 w 2396520"/>
                    <a:gd name="textAreaTop" fmla="*/ 0 h 436320"/>
                    <a:gd name="textAreaBottom" fmla="*/ 436680 h 436320"/>
                  </a:gdLst>
                  <a:ahLst/>
                  <a:rect l="textAreaLeft" t="textAreaTop" r="textAreaRight" b="textAreaBottom"/>
                  <a:pathLst>
                    <a:path w="1833" h="784">
                      <a:moveTo>
                        <a:pt x="0" y="430"/>
                      </a:moveTo>
                      <a:lnTo>
                        <a:pt x="1" y="396"/>
                      </a:lnTo>
                      <a:lnTo>
                        <a:pt x="1" y="362"/>
                      </a:lnTo>
                      <a:lnTo>
                        <a:pt x="1" y="327"/>
                      </a:lnTo>
                      <a:lnTo>
                        <a:pt x="3" y="291"/>
                      </a:lnTo>
                      <a:lnTo>
                        <a:pt x="4" y="274"/>
                      </a:lnTo>
                      <a:lnTo>
                        <a:pt x="7" y="256"/>
                      </a:lnTo>
                      <a:lnTo>
                        <a:pt x="10" y="240"/>
                      </a:lnTo>
                      <a:lnTo>
                        <a:pt x="15" y="222"/>
                      </a:lnTo>
                      <a:lnTo>
                        <a:pt x="20" y="206"/>
                      </a:lnTo>
                      <a:lnTo>
                        <a:pt x="26" y="191"/>
                      </a:lnTo>
                      <a:lnTo>
                        <a:pt x="34" y="175"/>
                      </a:lnTo>
                      <a:lnTo>
                        <a:pt x="44" y="160"/>
                      </a:lnTo>
                      <a:lnTo>
                        <a:pt x="48" y="154"/>
                      </a:lnTo>
                      <a:lnTo>
                        <a:pt x="55" y="150"/>
                      </a:lnTo>
                      <a:lnTo>
                        <a:pt x="64" y="144"/>
                      </a:lnTo>
                      <a:lnTo>
                        <a:pt x="80" y="137"/>
                      </a:lnTo>
                      <a:lnTo>
                        <a:pt x="98" y="126"/>
                      </a:lnTo>
                      <a:lnTo>
                        <a:pt x="124" y="112"/>
                      </a:lnTo>
                      <a:lnTo>
                        <a:pt x="156" y="95"/>
                      </a:lnTo>
                      <a:lnTo>
                        <a:pt x="197" y="70"/>
                      </a:lnTo>
                      <a:lnTo>
                        <a:pt x="220" y="58"/>
                      </a:lnTo>
                      <a:lnTo>
                        <a:pt x="242" y="47"/>
                      </a:lnTo>
                      <a:lnTo>
                        <a:pt x="263" y="38"/>
                      </a:lnTo>
                      <a:lnTo>
                        <a:pt x="283" y="28"/>
                      </a:lnTo>
                      <a:lnTo>
                        <a:pt x="304" y="21"/>
                      </a:lnTo>
                      <a:lnTo>
                        <a:pt x="325" y="16"/>
                      </a:lnTo>
                      <a:lnTo>
                        <a:pt x="345" y="11"/>
                      </a:lnTo>
                      <a:lnTo>
                        <a:pt x="364" y="7"/>
                      </a:lnTo>
                      <a:lnTo>
                        <a:pt x="384" y="4"/>
                      </a:lnTo>
                      <a:lnTo>
                        <a:pt x="403" y="1"/>
                      </a:lnTo>
                      <a:lnTo>
                        <a:pt x="421" y="1"/>
                      </a:lnTo>
                      <a:lnTo>
                        <a:pt x="440" y="0"/>
                      </a:lnTo>
                      <a:lnTo>
                        <a:pt x="477" y="2"/>
                      </a:lnTo>
                      <a:lnTo>
                        <a:pt x="513" y="7"/>
                      </a:lnTo>
                      <a:lnTo>
                        <a:pt x="549" y="12"/>
                      </a:lnTo>
                      <a:lnTo>
                        <a:pt x="584" y="20"/>
                      </a:lnTo>
                      <a:lnTo>
                        <a:pt x="620" y="28"/>
                      </a:lnTo>
                      <a:lnTo>
                        <a:pt x="657" y="38"/>
                      </a:lnTo>
                      <a:lnTo>
                        <a:pt x="693" y="47"/>
                      </a:lnTo>
                      <a:lnTo>
                        <a:pt x="731" y="57"/>
                      </a:lnTo>
                      <a:lnTo>
                        <a:pt x="770" y="63"/>
                      </a:lnTo>
                      <a:lnTo>
                        <a:pt x="810" y="70"/>
                      </a:lnTo>
                      <a:lnTo>
                        <a:pt x="828" y="72"/>
                      </a:lnTo>
                      <a:lnTo>
                        <a:pt x="850" y="70"/>
                      </a:lnTo>
                      <a:lnTo>
                        <a:pt x="876" y="66"/>
                      </a:lnTo>
                      <a:lnTo>
                        <a:pt x="905" y="62"/>
                      </a:lnTo>
                      <a:lnTo>
                        <a:pt x="972" y="50"/>
                      </a:lnTo>
                      <a:lnTo>
                        <a:pt x="1051" y="35"/>
                      </a:lnTo>
                      <a:lnTo>
                        <a:pt x="1093" y="28"/>
                      </a:lnTo>
                      <a:lnTo>
                        <a:pt x="1137" y="21"/>
                      </a:lnTo>
                      <a:lnTo>
                        <a:pt x="1181" y="17"/>
                      </a:lnTo>
                      <a:lnTo>
                        <a:pt x="1227" y="13"/>
                      </a:lnTo>
                      <a:lnTo>
                        <a:pt x="1275" y="12"/>
                      </a:lnTo>
                      <a:lnTo>
                        <a:pt x="1321" y="13"/>
                      </a:lnTo>
                      <a:lnTo>
                        <a:pt x="1345" y="15"/>
                      </a:lnTo>
                      <a:lnTo>
                        <a:pt x="1368" y="16"/>
                      </a:lnTo>
                      <a:lnTo>
                        <a:pt x="1393" y="19"/>
                      </a:lnTo>
                      <a:lnTo>
                        <a:pt x="1416" y="23"/>
                      </a:lnTo>
                      <a:lnTo>
                        <a:pt x="1429" y="25"/>
                      </a:lnTo>
                      <a:lnTo>
                        <a:pt x="1441" y="28"/>
                      </a:lnTo>
                      <a:lnTo>
                        <a:pt x="1452" y="32"/>
                      </a:lnTo>
                      <a:lnTo>
                        <a:pt x="1463" y="36"/>
                      </a:lnTo>
                      <a:lnTo>
                        <a:pt x="1473" y="42"/>
                      </a:lnTo>
                      <a:lnTo>
                        <a:pt x="1483" y="47"/>
                      </a:lnTo>
                      <a:lnTo>
                        <a:pt x="1491" y="53"/>
                      </a:lnTo>
                      <a:lnTo>
                        <a:pt x="1500" y="59"/>
                      </a:lnTo>
                      <a:lnTo>
                        <a:pt x="1515" y="73"/>
                      </a:lnTo>
                      <a:lnTo>
                        <a:pt x="1528" y="88"/>
                      </a:lnTo>
                      <a:lnTo>
                        <a:pt x="1541" y="103"/>
                      </a:lnTo>
                      <a:lnTo>
                        <a:pt x="1550" y="118"/>
                      </a:lnTo>
                      <a:lnTo>
                        <a:pt x="1568" y="149"/>
                      </a:lnTo>
                      <a:lnTo>
                        <a:pt x="1581" y="175"/>
                      </a:lnTo>
                      <a:lnTo>
                        <a:pt x="1587" y="186"/>
                      </a:lnTo>
                      <a:lnTo>
                        <a:pt x="1593" y="195"/>
                      </a:lnTo>
                      <a:lnTo>
                        <a:pt x="1599" y="202"/>
                      </a:lnTo>
                      <a:lnTo>
                        <a:pt x="1605" y="206"/>
                      </a:lnTo>
                      <a:lnTo>
                        <a:pt x="1623" y="211"/>
                      </a:lnTo>
                      <a:lnTo>
                        <a:pt x="1647" y="218"/>
                      </a:lnTo>
                      <a:lnTo>
                        <a:pt x="1674" y="224"/>
                      </a:lnTo>
                      <a:lnTo>
                        <a:pt x="1703" y="230"/>
                      </a:lnTo>
                      <a:lnTo>
                        <a:pt x="1731" y="236"/>
                      </a:lnTo>
                      <a:lnTo>
                        <a:pt x="1755" y="241"/>
                      </a:lnTo>
                      <a:lnTo>
                        <a:pt x="1776" y="247"/>
                      </a:lnTo>
                      <a:lnTo>
                        <a:pt x="1790" y="251"/>
                      </a:lnTo>
                      <a:lnTo>
                        <a:pt x="1797" y="253"/>
                      </a:lnTo>
                      <a:lnTo>
                        <a:pt x="1807" y="259"/>
                      </a:lnTo>
                      <a:lnTo>
                        <a:pt x="1813" y="263"/>
                      </a:lnTo>
                      <a:lnTo>
                        <a:pt x="1818" y="268"/>
                      </a:lnTo>
                      <a:lnTo>
                        <a:pt x="1823" y="274"/>
                      </a:lnTo>
                      <a:lnTo>
                        <a:pt x="1827" y="279"/>
                      </a:lnTo>
                      <a:lnTo>
                        <a:pt x="1830" y="286"/>
                      </a:lnTo>
                      <a:lnTo>
                        <a:pt x="1833" y="294"/>
                      </a:lnTo>
                      <a:lnTo>
                        <a:pt x="1833" y="302"/>
                      </a:lnTo>
                      <a:lnTo>
                        <a:pt x="1832" y="310"/>
                      </a:lnTo>
                      <a:lnTo>
                        <a:pt x="1828" y="320"/>
                      </a:lnTo>
                      <a:lnTo>
                        <a:pt x="1822" y="331"/>
                      </a:lnTo>
                      <a:lnTo>
                        <a:pt x="1813" y="342"/>
                      </a:lnTo>
                      <a:lnTo>
                        <a:pt x="1801" y="352"/>
                      </a:lnTo>
                      <a:lnTo>
                        <a:pt x="1790" y="369"/>
                      </a:lnTo>
                      <a:lnTo>
                        <a:pt x="1777" y="384"/>
                      </a:lnTo>
                      <a:lnTo>
                        <a:pt x="1764" y="399"/>
                      </a:lnTo>
                      <a:lnTo>
                        <a:pt x="1749" y="414"/>
                      </a:lnTo>
                      <a:lnTo>
                        <a:pt x="1719" y="443"/>
                      </a:lnTo>
                      <a:lnTo>
                        <a:pt x="1686" y="472"/>
                      </a:lnTo>
                      <a:lnTo>
                        <a:pt x="1650" y="499"/>
                      </a:lnTo>
                      <a:lnTo>
                        <a:pt x="1612" y="526"/>
                      </a:lnTo>
                      <a:lnTo>
                        <a:pt x="1571" y="552"/>
                      </a:lnTo>
                      <a:lnTo>
                        <a:pt x="1528" y="578"/>
                      </a:lnTo>
                      <a:lnTo>
                        <a:pt x="1484" y="601"/>
                      </a:lnTo>
                      <a:lnTo>
                        <a:pt x="1438" y="624"/>
                      </a:lnTo>
                      <a:lnTo>
                        <a:pt x="1389" y="646"/>
                      </a:lnTo>
                      <a:lnTo>
                        <a:pt x="1341" y="665"/>
                      </a:lnTo>
                      <a:lnTo>
                        <a:pt x="1291" y="684"/>
                      </a:lnTo>
                      <a:lnTo>
                        <a:pt x="1240" y="701"/>
                      </a:lnTo>
                      <a:lnTo>
                        <a:pt x="1188" y="717"/>
                      </a:lnTo>
                      <a:lnTo>
                        <a:pt x="1136" y="732"/>
                      </a:lnTo>
                      <a:lnTo>
                        <a:pt x="1084" y="745"/>
                      </a:lnTo>
                      <a:lnTo>
                        <a:pt x="1030" y="755"/>
                      </a:lnTo>
                      <a:lnTo>
                        <a:pt x="978" y="765"/>
                      </a:lnTo>
                      <a:lnTo>
                        <a:pt x="926" y="773"/>
                      </a:lnTo>
                      <a:lnTo>
                        <a:pt x="874" y="779"/>
                      </a:lnTo>
                      <a:lnTo>
                        <a:pt x="823" y="783"/>
                      </a:lnTo>
                      <a:lnTo>
                        <a:pt x="773" y="784"/>
                      </a:lnTo>
                      <a:lnTo>
                        <a:pt x="723" y="784"/>
                      </a:lnTo>
                      <a:lnTo>
                        <a:pt x="676" y="781"/>
                      </a:lnTo>
                      <a:lnTo>
                        <a:pt x="630" y="777"/>
                      </a:lnTo>
                      <a:lnTo>
                        <a:pt x="586" y="770"/>
                      </a:lnTo>
                      <a:lnTo>
                        <a:pt x="543" y="761"/>
                      </a:lnTo>
                      <a:lnTo>
                        <a:pt x="522" y="755"/>
                      </a:lnTo>
                      <a:lnTo>
                        <a:pt x="502" y="749"/>
                      </a:lnTo>
                      <a:lnTo>
                        <a:pt x="483" y="742"/>
                      </a:lnTo>
                      <a:lnTo>
                        <a:pt x="463" y="735"/>
                      </a:lnTo>
                      <a:lnTo>
                        <a:pt x="445" y="727"/>
                      </a:lnTo>
                      <a:lnTo>
                        <a:pt x="427" y="719"/>
                      </a:lnTo>
                      <a:lnTo>
                        <a:pt x="411" y="709"/>
                      </a:lnTo>
                      <a:lnTo>
                        <a:pt x="395" y="700"/>
                      </a:lnTo>
                      <a:lnTo>
                        <a:pt x="385" y="697"/>
                      </a:lnTo>
                      <a:lnTo>
                        <a:pt x="375" y="694"/>
                      </a:lnTo>
                      <a:lnTo>
                        <a:pt x="364" y="690"/>
                      </a:lnTo>
                      <a:lnTo>
                        <a:pt x="354" y="685"/>
                      </a:lnTo>
                      <a:lnTo>
                        <a:pt x="331" y="674"/>
                      </a:lnTo>
                      <a:lnTo>
                        <a:pt x="307" y="661"/>
                      </a:lnTo>
                      <a:lnTo>
                        <a:pt x="281" y="648"/>
                      </a:lnTo>
                      <a:lnTo>
                        <a:pt x="257" y="637"/>
                      </a:lnTo>
                      <a:lnTo>
                        <a:pt x="244" y="632"/>
                      </a:lnTo>
                      <a:lnTo>
                        <a:pt x="231" y="628"/>
                      </a:lnTo>
                      <a:lnTo>
                        <a:pt x="220" y="625"/>
                      </a:lnTo>
                      <a:lnTo>
                        <a:pt x="208" y="623"/>
                      </a:lnTo>
                      <a:lnTo>
                        <a:pt x="195" y="608"/>
                      </a:lnTo>
                      <a:lnTo>
                        <a:pt x="178" y="593"/>
                      </a:lnTo>
                      <a:lnTo>
                        <a:pt x="158" y="575"/>
                      </a:lnTo>
                      <a:lnTo>
                        <a:pt x="139" y="556"/>
                      </a:lnTo>
                      <a:lnTo>
                        <a:pt x="118" y="537"/>
                      </a:lnTo>
                      <a:lnTo>
                        <a:pt x="100" y="518"/>
                      </a:lnTo>
                      <a:lnTo>
                        <a:pt x="92" y="509"/>
                      </a:lnTo>
                      <a:lnTo>
                        <a:pt x="85" y="499"/>
                      </a:lnTo>
                      <a:lnTo>
                        <a:pt x="81" y="491"/>
                      </a:lnTo>
                      <a:lnTo>
                        <a:pt x="76" y="481"/>
                      </a:lnTo>
                      <a:lnTo>
                        <a:pt x="73" y="481"/>
                      </a:lnTo>
                      <a:lnTo>
                        <a:pt x="69" y="480"/>
                      </a:lnTo>
                      <a:lnTo>
                        <a:pt x="66" y="477"/>
                      </a:lnTo>
                      <a:lnTo>
                        <a:pt x="62" y="475"/>
                      </a:lnTo>
                      <a:lnTo>
                        <a:pt x="55" y="469"/>
                      </a:lnTo>
                      <a:lnTo>
                        <a:pt x="49" y="462"/>
                      </a:lnTo>
                      <a:lnTo>
                        <a:pt x="42" y="456"/>
                      </a:lnTo>
                      <a:lnTo>
                        <a:pt x="37" y="449"/>
                      </a:lnTo>
                      <a:lnTo>
                        <a:pt x="33" y="446"/>
                      </a:lnTo>
                      <a:lnTo>
                        <a:pt x="30" y="445"/>
                      </a:lnTo>
                      <a:lnTo>
                        <a:pt x="25" y="443"/>
                      </a:lnTo>
                      <a:lnTo>
                        <a:pt x="22" y="443"/>
                      </a:lnTo>
                      <a:lnTo>
                        <a:pt x="22" y="438"/>
                      </a:lnTo>
                      <a:lnTo>
                        <a:pt x="20" y="433"/>
                      </a:lnTo>
                      <a:lnTo>
                        <a:pt x="18" y="428"/>
                      </a:lnTo>
                      <a:lnTo>
                        <a:pt x="16" y="423"/>
                      </a:lnTo>
                      <a:lnTo>
                        <a:pt x="15" y="419"/>
                      </a:lnTo>
                      <a:lnTo>
                        <a:pt x="12" y="414"/>
                      </a:lnTo>
                      <a:lnTo>
                        <a:pt x="11" y="409"/>
                      </a:lnTo>
                      <a:lnTo>
                        <a:pt x="11" y="404"/>
                      </a:lnTo>
                      <a:lnTo>
                        <a:pt x="11" y="409"/>
                      </a:lnTo>
                      <a:lnTo>
                        <a:pt x="12" y="414"/>
                      </a:lnTo>
                      <a:lnTo>
                        <a:pt x="14" y="418"/>
                      </a:lnTo>
                      <a:lnTo>
                        <a:pt x="14" y="422"/>
                      </a:lnTo>
                      <a:lnTo>
                        <a:pt x="12" y="426"/>
                      </a:lnTo>
                      <a:lnTo>
                        <a:pt x="11" y="427"/>
                      </a:lnTo>
                      <a:lnTo>
                        <a:pt x="7" y="430"/>
                      </a:lnTo>
                      <a:lnTo>
                        <a:pt x="0" y="43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5" name="Freeform 278"/>
                <p:cNvSpPr/>
                <p:nvPr/>
              </p:nvSpPr>
              <p:spPr>
                <a:xfrm>
                  <a:off x="5665680" y="3502800"/>
                  <a:ext cx="786960" cy="165240"/>
                </a:xfrm>
                <a:custGeom>
                  <a:avLst/>
                  <a:gdLst>
                    <a:gd name="textAreaLeft" fmla="*/ 0 w 786960"/>
                    <a:gd name="textAreaRight" fmla="*/ 787320 w 786960"/>
                    <a:gd name="textAreaTop" fmla="*/ 0 h 165240"/>
                    <a:gd name="textAreaBottom" fmla="*/ 165600 h 165240"/>
                  </a:gdLst>
                  <a:ahLst/>
                  <a:rect l="textAreaLeft" t="textAreaTop" r="textAreaRight" b="textAreaBottom"/>
                  <a:pathLst>
                    <a:path w="602" h="298">
                      <a:moveTo>
                        <a:pt x="22" y="2"/>
                      </a:moveTo>
                      <a:lnTo>
                        <a:pt x="47" y="0"/>
                      </a:lnTo>
                      <a:lnTo>
                        <a:pt x="70" y="0"/>
                      </a:lnTo>
                      <a:lnTo>
                        <a:pt x="92" y="0"/>
                      </a:lnTo>
                      <a:lnTo>
                        <a:pt x="112" y="3"/>
                      </a:lnTo>
                      <a:lnTo>
                        <a:pt x="130" y="6"/>
                      </a:lnTo>
                      <a:lnTo>
                        <a:pt x="148" y="10"/>
                      </a:lnTo>
                      <a:lnTo>
                        <a:pt x="164" y="17"/>
                      </a:lnTo>
                      <a:lnTo>
                        <a:pt x="179" y="23"/>
                      </a:lnTo>
                      <a:lnTo>
                        <a:pt x="194" y="32"/>
                      </a:lnTo>
                      <a:lnTo>
                        <a:pt x="208" y="41"/>
                      </a:lnTo>
                      <a:lnTo>
                        <a:pt x="222" y="53"/>
                      </a:lnTo>
                      <a:lnTo>
                        <a:pt x="236" y="65"/>
                      </a:lnTo>
                      <a:lnTo>
                        <a:pt x="265" y="95"/>
                      </a:lnTo>
                      <a:lnTo>
                        <a:pt x="296" y="131"/>
                      </a:lnTo>
                      <a:lnTo>
                        <a:pt x="316" y="132"/>
                      </a:lnTo>
                      <a:lnTo>
                        <a:pt x="348" y="137"/>
                      </a:lnTo>
                      <a:lnTo>
                        <a:pt x="390" y="143"/>
                      </a:lnTo>
                      <a:lnTo>
                        <a:pt x="434" y="151"/>
                      </a:lnTo>
                      <a:lnTo>
                        <a:pt x="477" y="160"/>
                      </a:lnTo>
                      <a:lnTo>
                        <a:pt x="512" y="169"/>
                      </a:lnTo>
                      <a:lnTo>
                        <a:pt x="526" y="173"/>
                      </a:lnTo>
                      <a:lnTo>
                        <a:pt x="538" y="175"/>
                      </a:lnTo>
                      <a:lnTo>
                        <a:pt x="545" y="179"/>
                      </a:lnTo>
                      <a:lnTo>
                        <a:pt x="547" y="182"/>
                      </a:lnTo>
                      <a:lnTo>
                        <a:pt x="552" y="181"/>
                      </a:lnTo>
                      <a:lnTo>
                        <a:pt x="555" y="179"/>
                      </a:lnTo>
                      <a:lnTo>
                        <a:pt x="559" y="178"/>
                      </a:lnTo>
                      <a:lnTo>
                        <a:pt x="562" y="175"/>
                      </a:lnTo>
                      <a:lnTo>
                        <a:pt x="565" y="173"/>
                      </a:lnTo>
                      <a:lnTo>
                        <a:pt x="567" y="171"/>
                      </a:lnTo>
                      <a:lnTo>
                        <a:pt x="569" y="170"/>
                      </a:lnTo>
                      <a:lnTo>
                        <a:pt x="569" y="169"/>
                      </a:lnTo>
                      <a:lnTo>
                        <a:pt x="576" y="177"/>
                      </a:lnTo>
                      <a:lnTo>
                        <a:pt x="583" y="185"/>
                      </a:lnTo>
                      <a:lnTo>
                        <a:pt x="588" y="193"/>
                      </a:lnTo>
                      <a:lnTo>
                        <a:pt x="591" y="200"/>
                      </a:lnTo>
                      <a:lnTo>
                        <a:pt x="595" y="208"/>
                      </a:lnTo>
                      <a:lnTo>
                        <a:pt x="596" y="215"/>
                      </a:lnTo>
                      <a:lnTo>
                        <a:pt x="598" y="223"/>
                      </a:lnTo>
                      <a:lnTo>
                        <a:pt x="598" y="230"/>
                      </a:lnTo>
                      <a:lnTo>
                        <a:pt x="599" y="245"/>
                      </a:lnTo>
                      <a:lnTo>
                        <a:pt x="599" y="261"/>
                      </a:lnTo>
                      <a:lnTo>
                        <a:pt x="601" y="279"/>
                      </a:lnTo>
                      <a:lnTo>
                        <a:pt x="602" y="298"/>
                      </a:lnTo>
                      <a:lnTo>
                        <a:pt x="579" y="293"/>
                      </a:lnTo>
                      <a:lnTo>
                        <a:pt x="539" y="285"/>
                      </a:lnTo>
                      <a:lnTo>
                        <a:pt x="490" y="276"/>
                      </a:lnTo>
                      <a:lnTo>
                        <a:pt x="437" y="266"/>
                      </a:lnTo>
                      <a:lnTo>
                        <a:pt x="411" y="262"/>
                      </a:lnTo>
                      <a:lnTo>
                        <a:pt x="385" y="258"/>
                      </a:lnTo>
                      <a:lnTo>
                        <a:pt x="361" y="257"/>
                      </a:lnTo>
                      <a:lnTo>
                        <a:pt x="340" y="255"/>
                      </a:lnTo>
                      <a:lnTo>
                        <a:pt x="321" y="257"/>
                      </a:lnTo>
                      <a:lnTo>
                        <a:pt x="308" y="260"/>
                      </a:lnTo>
                      <a:lnTo>
                        <a:pt x="303" y="262"/>
                      </a:lnTo>
                      <a:lnTo>
                        <a:pt x="299" y="265"/>
                      </a:lnTo>
                      <a:lnTo>
                        <a:pt x="296" y="268"/>
                      </a:lnTo>
                      <a:lnTo>
                        <a:pt x="296" y="272"/>
                      </a:lnTo>
                      <a:lnTo>
                        <a:pt x="289" y="269"/>
                      </a:lnTo>
                      <a:lnTo>
                        <a:pt x="280" y="264"/>
                      </a:lnTo>
                      <a:lnTo>
                        <a:pt x="268" y="255"/>
                      </a:lnTo>
                      <a:lnTo>
                        <a:pt x="255" y="245"/>
                      </a:lnTo>
                      <a:lnTo>
                        <a:pt x="243" y="234"/>
                      </a:lnTo>
                      <a:lnTo>
                        <a:pt x="229" y="223"/>
                      </a:lnTo>
                      <a:lnTo>
                        <a:pt x="217" y="213"/>
                      </a:lnTo>
                      <a:lnTo>
                        <a:pt x="208" y="208"/>
                      </a:lnTo>
                      <a:lnTo>
                        <a:pt x="204" y="201"/>
                      </a:lnTo>
                      <a:lnTo>
                        <a:pt x="199" y="194"/>
                      </a:lnTo>
                      <a:lnTo>
                        <a:pt x="192" y="188"/>
                      </a:lnTo>
                      <a:lnTo>
                        <a:pt x="182" y="181"/>
                      </a:lnTo>
                      <a:lnTo>
                        <a:pt x="162" y="169"/>
                      </a:lnTo>
                      <a:lnTo>
                        <a:pt x="138" y="156"/>
                      </a:lnTo>
                      <a:lnTo>
                        <a:pt x="115" y="144"/>
                      </a:lnTo>
                      <a:lnTo>
                        <a:pt x="96" y="131"/>
                      </a:lnTo>
                      <a:lnTo>
                        <a:pt x="88" y="125"/>
                      </a:lnTo>
                      <a:lnTo>
                        <a:pt x="82" y="118"/>
                      </a:lnTo>
                      <a:lnTo>
                        <a:pt x="78" y="112"/>
                      </a:lnTo>
                      <a:lnTo>
                        <a:pt x="76" y="105"/>
                      </a:lnTo>
                      <a:lnTo>
                        <a:pt x="67" y="105"/>
                      </a:lnTo>
                      <a:lnTo>
                        <a:pt x="57" y="103"/>
                      </a:lnTo>
                      <a:lnTo>
                        <a:pt x="48" y="101"/>
                      </a:lnTo>
                      <a:lnTo>
                        <a:pt x="38" y="98"/>
                      </a:lnTo>
                      <a:lnTo>
                        <a:pt x="28" y="97"/>
                      </a:lnTo>
                      <a:lnTo>
                        <a:pt x="19" y="94"/>
                      </a:lnTo>
                      <a:lnTo>
                        <a:pt x="9" y="93"/>
                      </a:lnTo>
                      <a:lnTo>
                        <a:pt x="0" y="93"/>
                      </a:lnTo>
                      <a:lnTo>
                        <a:pt x="3" y="83"/>
                      </a:lnTo>
                      <a:lnTo>
                        <a:pt x="5" y="71"/>
                      </a:lnTo>
                      <a:lnTo>
                        <a:pt x="8" y="55"/>
                      </a:lnTo>
                      <a:lnTo>
                        <a:pt x="11" y="37"/>
                      </a:lnTo>
                      <a:lnTo>
                        <a:pt x="13" y="22"/>
                      </a:lnTo>
                      <a:lnTo>
                        <a:pt x="17" y="10"/>
                      </a:lnTo>
                      <a:lnTo>
                        <a:pt x="18" y="6"/>
                      </a:lnTo>
                      <a:lnTo>
                        <a:pt x="19" y="3"/>
                      </a:lnTo>
                      <a:lnTo>
                        <a:pt x="20" y="2"/>
                      </a:lnTo>
                      <a:lnTo>
                        <a:pt x="22" y="2"/>
                      </a:lnTo>
                      <a:close/>
                    </a:path>
                  </a:pathLst>
                </a:custGeom>
                <a:solidFill>
                  <a:srgbClr val="f3f3f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6" name="Freeform 279"/>
                <p:cNvSpPr/>
                <p:nvPr/>
              </p:nvSpPr>
              <p:spPr>
                <a:xfrm>
                  <a:off x="5665680" y="3504240"/>
                  <a:ext cx="73440" cy="55080"/>
                </a:xfrm>
                <a:custGeom>
                  <a:avLst/>
                  <a:gdLst>
                    <a:gd name="textAreaLeft" fmla="*/ 0 w 73440"/>
                    <a:gd name="textAreaRight" fmla="*/ 73800 w 73440"/>
                    <a:gd name="textAreaTop" fmla="*/ 0 h 55080"/>
                    <a:gd name="textAreaBottom" fmla="*/ 55440 h 55080"/>
                  </a:gdLst>
                  <a:ahLst/>
                  <a:rect l="textAreaLeft" t="textAreaTop" r="textAreaRight" b="textAreaBottom"/>
                  <a:pathLst>
                    <a:path w="55" h="100">
                      <a:moveTo>
                        <a:pt x="32" y="0"/>
                      </a:moveTo>
                      <a:lnTo>
                        <a:pt x="55" y="100"/>
                      </a:lnTo>
                      <a:lnTo>
                        <a:pt x="48" y="99"/>
                      </a:lnTo>
                      <a:lnTo>
                        <a:pt x="41" y="97"/>
                      </a:lnTo>
                      <a:lnTo>
                        <a:pt x="34" y="96"/>
                      </a:lnTo>
                      <a:lnTo>
                        <a:pt x="27" y="93"/>
                      </a:lnTo>
                      <a:lnTo>
                        <a:pt x="20" y="92"/>
                      </a:lnTo>
                      <a:lnTo>
                        <a:pt x="13" y="91"/>
                      </a:lnTo>
                      <a:lnTo>
                        <a:pt x="6" y="91"/>
                      </a:lnTo>
                      <a:lnTo>
                        <a:pt x="0" y="91"/>
                      </a:lnTo>
                      <a:lnTo>
                        <a:pt x="3" y="81"/>
                      </a:lnTo>
                      <a:lnTo>
                        <a:pt x="5" y="69"/>
                      </a:lnTo>
                      <a:lnTo>
                        <a:pt x="8" y="53"/>
                      </a:lnTo>
                      <a:lnTo>
                        <a:pt x="11" y="35"/>
                      </a:lnTo>
                      <a:lnTo>
                        <a:pt x="13" y="20"/>
                      </a:lnTo>
                      <a:lnTo>
                        <a:pt x="17" y="8"/>
                      </a:lnTo>
                      <a:lnTo>
                        <a:pt x="18" y="4"/>
                      </a:lnTo>
                      <a:lnTo>
                        <a:pt x="19" y="1"/>
                      </a:lnTo>
                      <a:lnTo>
                        <a:pt x="20" y="0"/>
                      </a:lnTo>
                      <a:lnTo>
                        <a:pt x="22" y="0"/>
                      </a:lnTo>
                      <a:lnTo>
                        <a:pt x="23" y="0"/>
                      </a:lnTo>
                      <a:lnTo>
                        <a:pt x="24" y="0"/>
                      </a:lnTo>
                      <a:lnTo>
                        <a:pt x="25" y="0"/>
                      </a:lnTo>
                      <a:lnTo>
                        <a:pt x="26" y="0"/>
                      </a:lnTo>
                      <a:lnTo>
                        <a:pt x="28" y="0"/>
                      </a:lnTo>
                      <a:lnTo>
                        <a:pt x="30" y="0"/>
                      </a:lnTo>
                      <a:lnTo>
                        <a:pt x="31" y="0"/>
                      </a:lnTo>
                      <a:lnTo>
                        <a:pt x="32" y="0"/>
                      </a:lnTo>
                      <a:close/>
                    </a:path>
                  </a:pathLst>
                </a:custGeom>
                <a:solidFill>
                  <a:srgbClr val="f2bf8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7" name="Freeform 280"/>
                <p:cNvSpPr/>
                <p:nvPr/>
              </p:nvSpPr>
              <p:spPr>
                <a:xfrm>
                  <a:off x="5707800" y="3502800"/>
                  <a:ext cx="339480" cy="150480"/>
                </a:xfrm>
                <a:custGeom>
                  <a:avLst/>
                  <a:gdLst>
                    <a:gd name="textAreaLeft" fmla="*/ 0 w 339480"/>
                    <a:gd name="textAreaRight" fmla="*/ 339840 w 339480"/>
                    <a:gd name="textAreaTop" fmla="*/ 0 h 150480"/>
                    <a:gd name="textAreaBottom" fmla="*/ 150840 h 150480"/>
                  </a:gdLst>
                  <a:ahLst/>
                  <a:rect l="textAreaLeft" t="textAreaTop" r="textAreaRight" b="textAreaBottom"/>
                  <a:pathLst>
                    <a:path w="259" h="270">
                      <a:moveTo>
                        <a:pt x="23" y="102"/>
                      </a:moveTo>
                      <a:lnTo>
                        <a:pt x="0" y="2"/>
                      </a:lnTo>
                      <a:lnTo>
                        <a:pt x="18" y="0"/>
                      </a:lnTo>
                      <a:lnTo>
                        <a:pt x="37" y="0"/>
                      </a:lnTo>
                      <a:lnTo>
                        <a:pt x="54" y="0"/>
                      </a:lnTo>
                      <a:lnTo>
                        <a:pt x="71" y="2"/>
                      </a:lnTo>
                      <a:lnTo>
                        <a:pt x="84" y="3"/>
                      </a:lnTo>
                      <a:lnTo>
                        <a:pt x="100" y="6"/>
                      </a:lnTo>
                      <a:lnTo>
                        <a:pt x="112" y="10"/>
                      </a:lnTo>
                      <a:lnTo>
                        <a:pt x="125" y="14"/>
                      </a:lnTo>
                      <a:lnTo>
                        <a:pt x="138" y="18"/>
                      </a:lnTo>
                      <a:lnTo>
                        <a:pt x="149" y="25"/>
                      </a:lnTo>
                      <a:lnTo>
                        <a:pt x="161" y="30"/>
                      </a:lnTo>
                      <a:lnTo>
                        <a:pt x="171" y="38"/>
                      </a:lnTo>
                      <a:lnTo>
                        <a:pt x="193" y="56"/>
                      </a:lnTo>
                      <a:lnTo>
                        <a:pt x="214" y="76"/>
                      </a:lnTo>
                      <a:lnTo>
                        <a:pt x="259" y="270"/>
                      </a:lnTo>
                      <a:lnTo>
                        <a:pt x="251" y="266"/>
                      </a:lnTo>
                      <a:lnTo>
                        <a:pt x="242" y="258"/>
                      </a:lnTo>
                      <a:lnTo>
                        <a:pt x="230" y="250"/>
                      </a:lnTo>
                      <a:lnTo>
                        <a:pt x="219" y="241"/>
                      </a:lnTo>
                      <a:lnTo>
                        <a:pt x="206" y="230"/>
                      </a:lnTo>
                      <a:lnTo>
                        <a:pt x="194" y="222"/>
                      </a:lnTo>
                      <a:lnTo>
                        <a:pt x="184" y="213"/>
                      </a:lnTo>
                      <a:lnTo>
                        <a:pt x="176" y="208"/>
                      </a:lnTo>
                      <a:lnTo>
                        <a:pt x="172" y="201"/>
                      </a:lnTo>
                      <a:lnTo>
                        <a:pt x="167" y="194"/>
                      </a:lnTo>
                      <a:lnTo>
                        <a:pt x="160" y="188"/>
                      </a:lnTo>
                      <a:lnTo>
                        <a:pt x="150" y="181"/>
                      </a:lnTo>
                      <a:lnTo>
                        <a:pt x="130" y="169"/>
                      </a:lnTo>
                      <a:lnTo>
                        <a:pt x="106" y="156"/>
                      </a:lnTo>
                      <a:lnTo>
                        <a:pt x="83" y="144"/>
                      </a:lnTo>
                      <a:lnTo>
                        <a:pt x="64" y="131"/>
                      </a:lnTo>
                      <a:lnTo>
                        <a:pt x="56" y="125"/>
                      </a:lnTo>
                      <a:lnTo>
                        <a:pt x="50" y="118"/>
                      </a:lnTo>
                      <a:lnTo>
                        <a:pt x="46" y="112"/>
                      </a:lnTo>
                      <a:lnTo>
                        <a:pt x="44" y="105"/>
                      </a:lnTo>
                      <a:lnTo>
                        <a:pt x="42" y="105"/>
                      </a:lnTo>
                      <a:lnTo>
                        <a:pt x="39" y="105"/>
                      </a:lnTo>
                      <a:lnTo>
                        <a:pt x="36" y="105"/>
                      </a:lnTo>
                      <a:lnTo>
                        <a:pt x="34" y="105"/>
                      </a:lnTo>
                      <a:lnTo>
                        <a:pt x="31" y="103"/>
                      </a:lnTo>
                      <a:lnTo>
                        <a:pt x="28" y="103"/>
                      </a:lnTo>
                      <a:lnTo>
                        <a:pt x="25" y="103"/>
                      </a:lnTo>
                      <a:lnTo>
                        <a:pt x="23" y="102"/>
                      </a:lnTo>
                      <a:close/>
                    </a:path>
                  </a:pathLst>
                </a:custGeom>
                <a:solidFill>
                  <a:srgbClr val="f2cca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8" name="Freeform 281"/>
                <p:cNvSpPr/>
                <p:nvPr/>
              </p:nvSpPr>
              <p:spPr>
                <a:xfrm>
                  <a:off x="5987520" y="3544560"/>
                  <a:ext cx="318600" cy="111960"/>
                </a:xfrm>
                <a:custGeom>
                  <a:avLst/>
                  <a:gdLst>
                    <a:gd name="textAreaLeft" fmla="*/ 0 w 318600"/>
                    <a:gd name="textAreaRight" fmla="*/ 318960 w 318600"/>
                    <a:gd name="textAreaTop" fmla="*/ 0 h 111960"/>
                    <a:gd name="textAreaBottom" fmla="*/ 112320 h 111960"/>
                  </a:gdLst>
                  <a:ahLst/>
                  <a:rect l="textAreaLeft" t="textAreaTop" r="textAreaRight" b="textAreaBottom"/>
                  <a:pathLst>
                    <a:path w="244" h="200">
                      <a:moveTo>
                        <a:pt x="45" y="194"/>
                      </a:moveTo>
                      <a:lnTo>
                        <a:pt x="0" y="0"/>
                      </a:lnTo>
                      <a:lnTo>
                        <a:pt x="6" y="6"/>
                      </a:lnTo>
                      <a:lnTo>
                        <a:pt x="12" y="13"/>
                      </a:lnTo>
                      <a:lnTo>
                        <a:pt x="19" y="19"/>
                      </a:lnTo>
                      <a:lnTo>
                        <a:pt x="24" y="26"/>
                      </a:lnTo>
                      <a:lnTo>
                        <a:pt x="30" y="33"/>
                      </a:lnTo>
                      <a:lnTo>
                        <a:pt x="36" y="40"/>
                      </a:lnTo>
                      <a:lnTo>
                        <a:pt x="43" y="46"/>
                      </a:lnTo>
                      <a:lnTo>
                        <a:pt x="50" y="55"/>
                      </a:lnTo>
                      <a:lnTo>
                        <a:pt x="59" y="55"/>
                      </a:lnTo>
                      <a:lnTo>
                        <a:pt x="74" y="57"/>
                      </a:lnTo>
                      <a:lnTo>
                        <a:pt x="94" y="60"/>
                      </a:lnTo>
                      <a:lnTo>
                        <a:pt x="116" y="63"/>
                      </a:lnTo>
                      <a:lnTo>
                        <a:pt x="140" y="67"/>
                      </a:lnTo>
                      <a:lnTo>
                        <a:pt x="166" y="71"/>
                      </a:lnTo>
                      <a:lnTo>
                        <a:pt x="192" y="76"/>
                      </a:lnTo>
                      <a:lnTo>
                        <a:pt x="217" y="82"/>
                      </a:lnTo>
                      <a:lnTo>
                        <a:pt x="244" y="200"/>
                      </a:lnTo>
                      <a:lnTo>
                        <a:pt x="211" y="193"/>
                      </a:lnTo>
                      <a:lnTo>
                        <a:pt x="177" y="188"/>
                      </a:lnTo>
                      <a:lnTo>
                        <a:pt x="145" y="184"/>
                      </a:lnTo>
                      <a:lnTo>
                        <a:pt x="115" y="181"/>
                      </a:lnTo>
                      <a:lnTo>
                        <a:pt x="101" y="179"/>
                      </a:lnTo>
                      <a:lnTo>
                        <a:pt x="89" y="179"/>
                      </a:lnTo>
                      <a:lnTo>
                        <a:pt x="78" y="181"/>
                      </a:lnTo>
                      <a:lnTo>
                        <a:pt x="68" y="182"/>
                      </a:lnTo>
                      <a:lnTo>
                        <a:pt x="60" y="184"/>
                      </a:lnTo>
                      <a:lnTo>
                        <a:pt x="55" y="188"/>
                      </a:lnTo>
                      <a:lnTo>
                        <a:pt x="51" y="190"/>
                      </a:lnTo>
                      <a:lnTo>
                        <a:pt x="50" y="196"/>
                      </a:lnTo>
                      <a:lnTo>
                        <a:pt x="49" y="196"/>
                      </a:lnTo>
                      <a:lnTo>
                        <a:pt x="49" y="196"/>
                      </a:lnTo>
                      <a:lnTo>
                        <a:pt x="48" y="196"/>
                      </a:lnTo>
                      <a:lnTo>
                        <a:pt x="48" y="196"/>
                      </a:lnTo>
                      <a:lnTo>
                        <a:pt x="46" y="196"/>
                      </a:lnTo>
                      <a:lnTo>
                        <a:pt x="46" y="194"/>
                      </a:lnTo>
                      <a:lnTo>
                        <a:pt x="45" y="194"/>
                      </a:lnTo>
                      <a:lnTo>
                        <a:pt x="45" y="194"/>
                      </a:lnTo>
                      <a:close/>
                    </a:path>
                  </a:pathLst>
                </a:custGeom>
                <a:solidFill>
                  <a:srgbClr val="f2d9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9" name="Freeform 282"/>
                <p:cNvSpPr/>
                <p:nvPr/>
              </p:nvSpPr>
              <p:spPr>
                <a:xfrm>
                  <a:off x="6269760" y="3591720"/>
                  <a:ext cx="182880" cy="76320"/>
                </a:xfrm>
                <a:custGeom>
                  <a:avLst/>
                  <a:gdLst>
                    <a:gd name="textAreaLeft" fmla="*/ 0 w 182880"/>
                    <a:gd name="textAreaRight" fmla="*/ 183240 w 182880"/>
                    <a:gd name="textAreaTop" fmla="*/ 0 h 76320"/>
                    <a:gd name="textAreaBottom" fmla="*/ 76680 h 76320"/>
                  </a:gdLst>
                  <a:ahLst/>
                  <a:rect l="textAreaLeft" t="textAreaTop" r="textAreaRight" b="textAreaBottom"/>
                  <a:pathLst>
                    <a:path w="139" h="140">
                      <a:moveTo>
                        <a:pt x="27" y="118"/>
                      </a:moveTo>
                      <a:lnTo>
                        <a:pt x="0" y="0"/>
                      </a:lnTo>
                      <a:lnTo>
                        <a:pt x="17" y="2"/>
                      </a:lnTo>
                      <a:lnTo>
                        <a:pt x="33" y="7"/>
                      </a:lnTo>
                      <a:lnTo>
                        <a:pt x="47" y="9"/>
                      </a:lnTo>
                      <a:lnTo>
                        <a:pt x="60" y="13"/>
                      </a:lnTo>
                      <a:lnTo>
                        <a:pt x="70" y="16"/>
                      </a:lnTo>
                      <a:lnTo>
                        <a:pt x="77" y="19"/>
                      </a:lnTo>
                      <a:lnTo>
                        <a:pt x="83" y="21"/>
                      </a:lnTo>
                      <a:lnTo>
                        <a:pt x="84" y="24"/>
                      </a:lnTo>
                      <a:lnTo>
                        <a:pt x="89" y="23"/>
                      </a:lnTo>
                      <a:lnTo>
                        <a:pt x="92" y="21"/>
                      </a:lnTo>
                      <a:lnTo>
                        <a:pt x="96" y="20"/>
                      </a:lnTo>
                      <a:lnTo>
                        <a:pt x="99" y="17"/>
                      </a:lnTo>
                      <a:lnTo>
                        <a:pt x="102" y="15"/>
                      </a:lnTo>
                      <a:lnTo>
                        <a:pt x="104" y="13"/>
                      </a:lnTo>
                      <a:lnTo>
                        <a:pt x="106" y="12"/>
                      </a:lnTo>
                      <a:lnTo>
                        <a:pt x="106" y="11"/>
                      </a:lnTo>
                      <a:lnTo>
                        <a:pt x="113" y="19"/>
                      </a:lnTo>
                      <a:lnTo>
                        <a:pt x="120" y="27"/>
                      </a:lnTo>
                      <a:lnTo>
                        <a:pt x="125" y="35"/>
                      </a:lnTo>
                      <a:lnTo>
                        <a:pt x="128" y="42"/>
                      </a:lnTo>
                      <a:lnTo>
                        <a:pt x="132" y="50"/>
                      </a:lnTo>
                      <a:lnTo>
                        <a:pt x="133" y="57"/>
                      </a:lnTo>
                      <a:lnTo>
                        <a:pt x="135" y="65"/>
                      </a:lnTo>
                      <a:lnTo>
                        <a:pt x="135" y="72"/>
                      </a:lnTo>
                      <a:lnTo>
                        <a:pt x="136" y="87"/>
                      </a:lnTo>
                      <a:lnTo>
                        <a:pt x="136" y="103"/>
                      </a:lnTo>
                      <a:lnTo>
                        <a:pt x="138" y="121"/>
                      </a:lnTo>
                      <a:lnTo>
                        <a:pt x="139" y="140"/>
                      </a:lnTo>
                      <a:lnTo>
                        <a:pt x="133" y="138"/>
                      </a:lnTo>
                      <a:lnTo>
                        <a:pt x="124" y="137"/>
                      </a:lnTo>
                      <a:lnTo>
                        <a:pt x="112" y="134"/>
                      </a:lnTo>
                      <a:lnTo>
                        <a:pt x="98" y="131"/>
                      </a:lnTo>
                      <a:lnTo>
                        <a:pt x="82" y="129"/>
                      </a:lnTo>
                      <a:lnTo>
                        <a:pt x="65" y="125"/>
                      </a:lnTo>
                      <a:lnTo>
                        <a:pt x="46" y="121"/>
                      </a:lnTo>
                      <a:lnTo>
                        <a:pt x="27" y="118"/>
                      </a:lnTo>
                      <a:close/>
                    </a:path>
                  </a:pathLst>
                </a:custGeom>
                <a:solidFill>
                  <a:srgbClr val="f2e6d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880" bIns="29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0" name="Freeform 283"/>
                <p:cNvSpPr/>
                <p:nvPr/>
              </p:nvSpPr>
              <p:spPr>
                <a:xfrm>
                  <a:off x="5665680" y="3502800"/>
                  <a:ext cx="786960" cy="165240"/>
                </a:xfrm>
                <a:custGeom>
                  <a:avLst/>
                  <a:gdLst>
                    <a:gd name="textAreaLeft" fmla="*/ 0 w 786960"/>
                    <a:gd name="textAreaRight" fmla="*/ 787320 w 786960"/>
                    <a:gd name="textAreaTop" fmla="*/ 0 h 165240"/>
                    <a:gd name="textAreaBottom" fmla="*/ 165600 h 165240"/>
                  </a:gdLst>
                  <a:ahLst/>
                  <a:rect l="textAreaLeft" t="textAreaTop" r="textAreaRight" b="textAreaBottom"/>
                  <a:pathLst>
                    <a:path w="602" h="298">
                      <a:moveTo>
                        <a:pt x="22" y="2"/>
                      </a:moveTo>
                      <a:lnTo>
                        <a:pt x="47" y="0"/>
                      </a:lnTo>
                      <a:lnTo>
                        <a:pt x="70" y="0"/>
                      </a:lnTo>
                      <a:lnTo>
                        <a:pt x="92" y="0"/>
                      </a:lnTo>
                      <a:lnTo>
                        <a:pt x="112" y="3"/>
                      </a:lnTo>
                      <a:lnTo>
                        <a:pt x="130" y="6"/>
                      </a:lnTo>
                      <a:lnTo>
                        <a:pt x="148" y="10"/>
                      </a:lnTo>
                      <a:lnTo>
                        <a:pt x="164" y="17"/>
                      </a:lnTo>
                      <a:lnTo>
                        <a:pt x="179" y="23"/>
                      </a:lnTo>
                      <a:lnTo>
                        <a:pt x="194" y="32"/>
                      </a:lnTo>
                      <a:lnTo>
                        <a:pt x="208" y="41"/>
                      </a:lnTo>
                      <a:lnTo>
                        <a:pt x="222" y="53"/>
                      </a:lnTo>
                      <a:lnTo>
                        <a:pt x="236" y="65"/>
                      </a:lnTo>
                      <a:lnTo>
                        <a:pt x="265" y="95"/>
                      </a:lnTo>
                      <a:lnTo>
                        <a:pt x="296" y="131"/>
                      </a:lnTo>
                      <a:lnTo>
                        <a:pt x="316" y="132"/>
                      </a:lnTo>
                      <a:lnTo>
                        <a:pt x="348" y="137"/>
                      </a:lnTo>
                      <a:lnTo>
                        <a:pt x="390" y="143"/>
                      </a:lnTo>
                      <a:lnTo>
                        <a:pt x="434" y="151"/>
                      </a:lnTo>
                      <a:lnTo>
                        <a:pt x="477" y="160"/>
                      </a:lnTo>
                      <a:lnTo>
                        <a:pt x="512" y="169"/>
                      </a:lnTo>
                      <a:lnTo>
                        <a:pt x="526" y="173"/>
                      </a:lnTo>
                      <a:lnTo>
                        <a:pt x="538" y="175"/>
                      </a:lnTo>
                      <a:lnTo>
                        <a:pt x="545" y="179"/>
                      </a:lnTo>
                      <a:lnTo>
                        <a:pt x="547" y="182"/>
                      </a:lnTo>
                      <a:lnTo>
                        <a:pt x="552" y="181"/>
                      </a:lnTo>
                      <a:lnTo>
                        <a:pt x="555" y="179"/>
                      </a:lnTo>
                      <a:lnTo>
                        <a:pt x="559" y="178"/>
                      </a:lnTo>
                      <a:lnTo>
                        <a:pt x="562" y="175"/>
                      </a:lnTo>
                      <a:lnTo>
                        <a:pt x="565" y="173"/>
                      </a:lnTo>
                      <a:lnTo>
                        <a:pt x="567" y="171"/>
                      </a:lnTo>
                      <a:lnTo>
                        <a:pt x="569" y="170"/>
                      </a:lnTo>
                      <a:lnTo>
                        <a:pt x="569" y="169"/>
                      </a:lnTo>
                      <a:lnTo>
                        <a:pt x="576" y="177"/>
                      </a:lnTo>
                      <a:lnTo>
                        <a:pt x="583" y="185"/>
                      </a:lnTo>
                      <a:lnTo>
                        <a:pt x="588" y="193"/>
                      </a:lnTo>
                      <a:lnTo>
                        <a:pt x="591" y="200"/>
                      </a:lnTo>
                      <a:lnTo>
                        <a:pt x="595" y="208"/>
                      </a:lnTo>
                      <a:lnTo>
                        <a:pt x="596" y="215"/>
                      </a:lnTo>
                      <a:lnTo>
                        <a:pt x="598" y="223"/>
                      </a:lnTo>
                      <a:lnTo>
                        <a:pt x="598" y="230"/>
                      </a:lnTo>
                      <a:lnTo>
                        <a:pt x="599" y="245"/>
                      </a:lnTo>
                      <a:lnTo>
                        <a:pt x="599" y="261"/>
                      </a:lnTo>
                      <a:lnTo>
                        <a:pt x="601" y="279"/>
                      </a:lnTo>
                      <a:lnTo>
                        <a:pt x="602" y="298"/>
                      </a:lnTo>
                      <a:lnTo>
                        <a:pt x="579" y="293"/>
                      </a:lnTo>
                      <a:lnTo>
                        <a:pt x="539" y="285"/>
                      </a:lnTo>
                      <a:lnTo>
                        <a:pt x="490" y="276"/>
                      </a:lnTo>
                      <a:lnTo>
                        <a:pt x="437" y="266"/>
                      </a:lnTo>
                      <a:lnTo>
                        <a:pt x="411" y="262"/>
                      </a:lnTo>
                      <a:lnTo>
                        <a:pt x="385" y="258"/>
                      </a:lnTo>
                      <a:lnTo>
                        <a:pt x="361" y="257"/>
                      </a:lnTo>
                      <a:lnTo>
                        <a:pt x="340" y="255"/>
                      </a:lnTo>
                      <a:lnTo>
                        <a:pt x="321" y="257"/>
                      </a:lnTo>
                      <a:lnTo>
                        <a:pt x="308" y="260"/>
                      </a:lnTo>
                      <a:lnTo>
                        <a:pt x="303" y="262"/>
                      </a:lnTo>
                      <a:lnTo>
                        <a:pt x="299" y="265"/>
                      </a:lnTo>
                      <a:lnTo>
                        <a:pt x="296" y="268"/>
                      </a:lnTo>
                      <a:lnTo>
                        <a:pt x="296" y="272"/>
                      </a:lnTo>
                      <a:lnTo>
                        <a:pt x="289" y="269"/>
                      </a:lnTo>
                      <a:lnTo>
                        <a:pt x="280" y="264"/>
                      </a:lnTo>
                      <a:lnTo>
                        <a:pt x="268" y="255"/>
                      </a:lnTo>
                      <a:lnTo>
                        <a:pt x="255" y="245"/>
                      </a:lnTo>
                      <a:lnTo>
                        <a:pt x="243" y="234"/>
                      </a:lnTo>
                      <a:lnTo>
                        <a:pt x="229" y="223"/>
                      </a:lnTo>
                      <a:lnTo>
                        <a:pt x="217" y="213"/>
                      </a:lnTo>
                      <a:lnTo>
                        <a:pt x="208" y="208"/>
                      </a:lnTo>
                      <a:lnTo>
                        <a:pt x="204" y="201"/>
                      </a:lnTo>
                      <a:lnTo>
                        <a:pt x="199" y="194"/>
                      </a:lnTo>
                      <a:lnTo>
                        <a:pt x="192" y="188"/>
                      </a:lnTo>
                      <a:lnTo>
                        <a:pt x="182" y="181"/>
                      </a:lnTo>
                      <a:lnTo>
                        <a:pt x="162" y="169"/>
                      </a:lnTo>
                      <a:lnTo>
                        <a:pt x="138" y="156"/>
                      </a:lnTo>
                      <a:lnTo>
                        <a:pt x="115" y="144"/>
                      </a:lnTo>
                      <a:lnTo>
                        <a:pt x="96" y="131"/>
                      </a:lnTo>
                      <a:lnTo>
                        <a:pt x="88" y="125"/>
                      </a:lnTo>
                      <a:lnTo>
                        <a:pt x="82" y="118"/>
                      </a:lnTo>
                      <a:lnTo>
                        <a:pt x="78" y="112"/>
                      </a:lnTo>
                      <a:lnTo>
                        <a:pt x="76" y="105"/>
                      </a:lnTo>
                      <a:lnTo>
                        <a:pt x="67" y="105"/>
                      </a:lnTo>
                      <a:lnTo>
                        <a:pt x="57" y="103"/>
                      </a:lnTo>
                      <a:lnTo>
                        <a:pt x="48" y="101"/>
                      </a:lnTo>
                      <a:lnTo>
                        <a:pt x="38" y="98"/>
                      </a:lnTo>
                      <a:lnTo>
                        <a:pt x="28" y="97"/>
                      </a:lnTo>
                      <a:lnTo>
                        <a:pt x="19" y="94"/>
                      </a:lnTo>
                      <a:lnTo>
                        <a:pt x="9" y="93"/>
                      </a:lnTo>
                      <a:lnTo>
                        <a:pt x="0" y="93"/>
                      </a:lnTo>
                      <a:lnTo>
                        <a:pt x="3" y="83"/>
                      </a:lnTo>
                      <a:lnTo>
                        <a:pt x="5" y="71"/>
                      </a:lnTo>
                      <a:lnTo>
                        <a:pt x="8" y="55"/>
                      </a:lnTo>
                      <a:lnTo>
                        <a:pt x="11" y="37"/>
                      </a:lnTo>
                      <a:lnTo>
                        <a:pt x="13" y="22"/>
                      </a:lnTo>
                      <a:lnTo>
                        <a:pt x="17" y="10"/>
                      </a:lnTo>
                      <a:lnTo>
                        <a:pt x="18" y="6"/>
                      </a:lnTo>
                      <a:lnTo>
                        <a:pt x="19" y="3"/>
                      </a:lnTo>
                      <a:lnTo>
                        <a:pt x="20" y="2"/>
                      </a:lnTo>
                      <a:lnTo>
                        <a:pt x="22" y="2"/>
                      </a:lnTo>
                      <a:close/>
                    </a:path>
                  </a:pathLst>
                </a:custGeom>
                <a:solidFill>
                  <a:srgbClr val="f3dc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1" name="Freeform 284"/>
                <p:cNvSpPr/>
                <p:nvPr/>
              </p:nvSpPr>
              <p:spPr>
                <a:xfrm>
                  <a:off x="5665680" y="3502800"/>
                  <a:ext cx="786960" cy="165240"/>
                </a:xfrm>
                <a:custGeom>
                  <a:avLst/>
                  <a:gdLst>
                    <a:gd name="textAreaLeft" fmla="*/ 0 w 786960"/>
                    <a:gd name="textAreaRight" fmla="*/ 787320 w 786960"/>
                    <a:gd name="textAreaTop" fmla="*/ 0 h 165240"/>
                    <a:gd name="textAreaBottom" fmla="*/ 165600 h 165240"/>
                  </a:gdLst>
                  <a:ahLst/>
                  <a:rect l="textAreaLeft" t="textAreaTop" r="textAreaRight" b="textAreaBottom"/>
                  <a:pathLst>
                    <a:path w="602" h="298">
                      <a:moveTo>
                        <a:pt x="22" y="2"/>
                      </a:moveTo>
                      <a:lnTo>
                        <a:pt x="47" y="0"/>
                      </a:lnTo>
                      <a:lnTo>
                        <a:pt x="70" y="0"/>
                      </a:lnTo>
                      <a:lnTo>
                        <a:pt x="92" y="0"/>
                      </a:lnTo>
                      <a:lnTo>
                        <a:pt x="112" y="3"/>
                      </a:lnTo>
                      <a:lnTo>
                        <a:pt x="130" y="6"/>
                      </a:lnTo>
                      <a:lnTo>
                        <a:pt x="148" y="10"/>
                      </a:lnTo>
                      <a:lnTo>
                        <a:pt x="164" y="17"/>
                      </a:lnTo>
                      <a:lnTo>
                        <a:pt x="179" y="23"/>
                      </a:lnTo>
                      <a:lnTo>
                        <a:pt x="194" y="32"/>
                      </a:lnTo>
                      <a:lnTo>
                        <a:pt x="208" y="41"/>
                      </a:lnTo>
                      <a:lnTo>
                        <a:pt x="222" y="53"/>
                      </a:lnTo>
                      <a:lnTo>
                        <a:pt x="236" y="65"/>
                      </a:lnTo>
                      <a:lnTo>
                        <a:pt x="265" y="95"/>
                      </a:lnTo>
                      <a:lnTo>
                        <a:pt x="296" y="131"/>
                      </a:lnTo>
                      <a:lnTo>
                        <a:pt x="316" y="132"/>
                      </a:lnTo>
                      <a:lnTo>
                        <a:pt x="348" y="137"/>
                      </a:lnTo>
                      <a:lnTo>
                        <a:pt x="390" y="143"/>
                      </a:lnTo>
                      <a:lnTo>
                        <a:pt x="434" y="151"/>
                      </a:lnTo>
                      <a:lnTo>
                        <a:pt x="477" y="160"/>
                      </a:lnTo>
                      <a:lnTo>
                        <a:pt x="512" y="169"/>
                      </a:lnTo>
                      <a:lnTo>
                        <a:pt x="526" y="173"/>
                      </a:lnTo>
                      <a:lnTo>
                        <a:pt x="538" y="175"/>
                      </a:lnTo>
                      <a:lnTo>
                        <a:pt x="545" y="179"/>
                      </a:lnTo>
                      <a:lnTo>
                        <a:pt x="547" y="182"/>
                      </a:lnTo>
                      <a:lnTo>
                        <a:pt x="552" y="181"/>
                      </a:lnTo>
                      <a:lnTo>
                        <a:pt x="555" y="179"/>
                      </a:lnTo>
                      <a:lnTo>
                        <a:pt x="559" y="178"/>
                      </a:lnTo>
                      <a:lnTo>
                        <a:pt x="562" y="175"/>
                      </a:lnTo>
                      <a:lnTo>
                        <a:pt x="565" y="173"/>
                      </a:lnTo>
                      <a:lnTo>
                        <a:pt x="567" y="171"/>
                      </a:lnTo>
                      <a:lnTo>
                        <a:pt x="569" y="170"/>
                      </a:lnTo>
                      <a:lnTo>
                        <a:pt x="569" y="169"/>
                      </a:lnTo>
                      <a:lnTo>
                        <a:pt x="576" y="177"/>
                      </a:lnTo>
                      <a:lnTo>
                        <a:pt x="583" y="185"/>
                      </a:lnTo>
                      <a:lnTo>
                        <a:pt x="588" y="193"/>
                      </a:lnTo>
                      <a:lnTo>
                        <a:pt x="591" y="200"/>
                      </a:lnTo>
                      <a:lnTo>
                        <a:pt x="595" y="208"/>
                      </a:lnTo>
                      <a:lnTo>
                        <a:pt x="596" y="215"/>
                      </a:lnTo>
                      <a:lnTo>
                        <a:pt x="598" y="223"/>
                      </a:lnTo>
                      <a:lnTo>
                        <a:pt x="598" y="230"/>
                      </a:lnTo>
                      <a:lnTo>
                        <a:pt x="599" y="245"/>
                      </a:lnTo>
                      <a:lnTo>
                        <a:pt x="599" y="261"/>
                      </a:lnTo>
                      <a:lnTo>
                        <a:pt x="601" y="279"/>
                      </a:lnTo>
                      <a:lnTo>
                        <a:pt x="602" y="298"/>
                      </a:lnTo>
                      <a:lnTo>
                        <a:pt x="579" y="293"/>
                      </a:lnTo>
                      <a:lnTo>
                        <a:pt x="539" y="285"/>
                      </a:lnTo>
                      <a:lnTo>
                        <a:pt x="490" y="276"/>
                      </a:lnTo>
                      <a:lnTo>
                        <a:pt x="437" y="266"/>
                      </a:lnTo>
                      <a:lnTo>
                        <a:pt x="411" y="262"/>
                      </a:lnTo>
                      <a:lnTo>
                        <a:pt x="385" y="258"/>
                      </a:lnTo>
                      <a:lnTo>
                        <a:pt x="361" y="257"/>
                      </a:lnTo>
                      <a:lnTo>
                        <a:pt x="340" y="255"/>
                      </a:lnTo>
                      <a:lnTo>
                        <a:pt x="321" y="257"/>
                      </a:lnTo>
                      <a:lnTo>
                        <a:pt x="308" y="260"/>
                      </a:lnTo>
                      <a:lnTo>
                        <a:pt x="303" y="262"/>
                      </a:lnTo>
                      <a:lnTo>
                        <a:pt x="299" y="265"/>
                      </a:lnTo>
                      <a:lnTo>
                        <a:pt x="296" y="268"/>
                      </a:lnTo>
                      <a:lnTo>
                        <a:pt x="296" y="272"/>
                      </a:lnTo>
                      <a:lnTo>
                        <a:pt x="289" y="269"/>
                      </a:lnTo>
                      <a:lnTo>
                        <a:pt x="280" y="264"/>
                      </a:lnTo>
                      <a:lnTo>
                        <a:pt x="268" y="255"/>
                      </a:lnTo>
                      <a:lnTo>
                        <a:pt x="255" y="245"/>
                      </a:lnTo>
                      <a:lnTo>
                        <a:pt x="243" y="234"/>
                      </a:lnTo>
                      <a:lnTo>
                        <a:pt x="229" y="223"/>
                      </a:lnTo>
                      <a:lnTo>
                        <a:pt x="217" y="213"/>
                      </a:lnTo>
                      <a:lnTo>
                        <a:pt x="208" y="208"/>
                      </a:lnTo>
                      <a:lnTo>
                        <a:pt x="204" y="201"/>
                      </a:lnTo>
                      <a:lnTo>
                        <a:pt x="199" y="194"/>
                      </a:lnTo>
                      <a:lnTo>
                        <a:pt x="192" y="188"/>
                      </a:lnTo>
                      <a:lnTo>
                        <a:pt x="182" y="181"/>
                      </a:lnTo>
                      <a:lnTo>
                        <a:pt x="162" y="169"/>
                      </a:lnTo>
                      <a:lnTo>
                        <a:pt x="138" y="156"/>
                      </a:lnTo>
                      <a:lnTo>
                        <a:pt x="115" y="144"/>
                      </a:lnTo>
                      <a:lnTo>
                        <a:pt x="96" y="131"/>
                      </a:lnTo>
                      <a:lnTo>
                        <a:pt x="88" y="125"/>
                      </a:lnTo>
                      <a:lnTo>
                        <a:pt x="82" y="118"/>
                      </a:lnTo>
                      <a:lnTo>
                        <a:pt x="78" y="112"/>
                      </a:lnTo>
                      <a:lnTo>
                        <a:pt x="76" y="105"/>
                      </a:lnTo>
                      <a:lnTo>
                        <a:pt x="67" y="105"/>
                      </a:lnTo>
                      <a:lnTo>
                        <a:pt x="57" y="103"/>
                      </a:lnTo>
                      <a:lnTo>
                        <a:pt x="48" y="101"/>
                      </a:lnTo>
                      <a:lnTo>
                        <a:pt x="38" y="98"/>
                      </a:lnTo>
                      <a:lnTo>
                        <a:pt x="28" y="97"/>
                      </a:lnTo>
                      <a:lnTo>
                        <a:pt x="19" y="94"/>
                      </a:lnTo>
                      <a:lnTo>
                        <a:pt x="9" y="93"/>
                      </a:lnTo>
                      <a:lnTo>
                        <a:pt x="0" y="93"/>
                      </a:lnTo>
                      <a:lnTo>
                        <a:pt x="3" y="83"/>
                      </a:lnTo>
                      <a:lnTo>
                        <a:pt x="5" y="71"/>
                      </a:lnTo>
                      <a:lnTo>
                        <a:pt x="8" y="55"/>
                      </a:lnTo>
                      <a:lnTo>
                        <a:pt x="11" y="37"/>
                      </a:lnTo>
                      <a:lnTo>
                        <a:pt x="13" y="22"/>
                      </a:lnTo>
                      <a:lnTo>
                        <a:pt x="17" y="10"/>
                      </a:lnTo>
                      <a:lnTo>
                        <a:pt x="18" y="6"/>
                      </a:lnTo>
                      <a:lnTo>
                        <a:pt x="19" y="3"/>
                      </a:lnTo>
                      <a:lnTo>
                        <a:pt x="20" y="2"/>
                      </a:lnTo>
                      <a:lnTo>
                        <a:pt x="22" y="2"/>
                      </a:lnTo>
                      <a:close/>
                    </a:path>
                  </a:pathLst>
                </a:custGeom>
                <a:solidFill>
                  <a:srgbClr val="d9d9d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2" name="Freeform 285"/>
                <p:cNvSpPr/>
                <p:nvPr/>
              </p:nvSpPr>
              <p:spPr>
                <a:xfrm>
                  <a:off x="5684040" y="3504240"/>
                  <a:ext cx="25920" cy="8280"/>
                </a:xfrm>
                <a:custGeom>
                  <a:avLst/>
                  <a:gdLst>
                    <a:gd name="textAreaLeft" fmla="*/ 0 w 25920"/>
                    <a:gd name="textAreaRight" fmla="*/ 26280 w 25920"/>
                    <a:gd name="textAreaTop" fmla="*/ 0 h 8280"/>
                    <a:gd name="textAreaBottom" fmla="*/ 8640 h 8280"/>
                  </a:gdLst>
                  <a:ahLst/>
                  <a:rect l="textAreaLeft" t="textAreaTop" r="textAreaRight" b="textAreaBottom"/>
                  <a:pathLst>
                    <a:path w="18" h="17">
                      <a:moveTo>
                        <a:pt x="18" y="0"/>
                      </a:moveTo>
                      <a:lnTo>
                        <a:pt x="0" y="17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0">
                  <a:solidFill>
                    <a:srgbClr val="40404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3" name="Freeform 286"/>
                <p:cNvSpPr/>
                <p:nvPr/>
              </p:nvSpPr>
              <p:spPr>
                <a:xfrm>
                  <a:off x="5791320" y="3502800"/>
                  <a:ext cx="81000" cy="15120"/>
                </a:xfrm>
                <a:custGeom>
                  <a:avLst/>
                  <a:gdLst>
                    <a:gd name="textAreaLeft" fmla="*/ 0 w 81000"/>
                    <a:gd name="textAreaRight" fmla="*/ 81360 w 81000"/>
                    <a:gd name="textAreaTop" fmla="*/ 0 h 15120"/>
                    <a:gd name="textAreaBottom" fmla="*/ 15480 h 15120"/>
                  </a:gdLst>
                  <a:ahLst/>
                  <a:rect l="textAreaLeft" t="textAreaTop" r="textAreaRight" b="textAreaBottom"/>
                  <a:pathLst>
                    <a:path w="62" h="26">
                      <a:moveTo>
                        <a:pt x="62" y="14"/>
                      </a:moveTo>
                      <a:lnTo>
                        <a:pt x="51" y="26"/>
                      </a:lnTo>
                      <a:lnTo>
                        <a:pt x="0" y="0"/>
                      </a:lnTo>
                      <a:lnTo>
                        <a:pt x="51" y="26"/>
                      </a:lnTo>
                      <a:lnTo>
                        <a:pt x="62" y="14"/>
                      </a:lnTo>
                    </a:path>
                  </a:pathLst>
                </a:custGeom>
                <a:noFill/>
                <a:ln w="0">
                  <a:solidFill>
                    <a:srgbClr val="40404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4" name="Freeform 287"/>
                <p:cNvSpPr/>
                <p:nvPr/>
              </p:nvSpPr>
              <p:spPr>
                <a:xfrm>
                  <a:off x="5676480" y="3502800"/>
                  <a:ext cx="180000" cy="50040"/>
                </a:xfrm>
                <a:custGeom>
                  <a:avLst/>
                  <a:gdLst>
                    <a:gd name="textAreaLeft" fmla="*/ 0 w 180000"/>
                    <a:gd name="textAreaRight" fmla="*/ 180360 w 180000"/>
                    <a:gd name="textAreaTop" fmla="*/ 0 h 50040"/>
                    <a:gd name="textAreaBottom" fmla="*/ 50400 h 50040"/>
                  </a:gdLst>
                  <a:ahLst/>
                  <a:rect l="textAreaLeft" t="textAreaTop" r="textAreaRight" b="textAreaBottom"/>
                  <a:pathLst>
                    <a:path w="138" h="89">
                      <a:moveTo>
                        <a:pt x="87" y="0"/>
                      </a:moveTo>
                      <a:lnTo>
                        <a:pt x="138" y="26"/>
                      </a:lnTo>
                      <a:lnTo>
                        <a:pt x="72" y="89"/>
                      </a:lnTo>
                      <a:lnTo>
                        <a:pt x="0" y="53"/>
                      </a:lnTo>
                      <a:lnTo>
                        <a:pt x="72" y="89"/>
                      </a:lnTo>
                      <a:lnTo>
                        <a:pt x="138" y="26"/>
                      </a:lnTo>
                      <a:lnTo>
                        <a:pt x="87" y="0"/>
                      </a:lnTo>
                    </a:path>
                  </a:pathLst>
                </a:custGeom>
                <a:noFill/>
                <a:ln w="0">
                  <a:solidFill>
                    <a:srgbClr val="40404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5" name="Freeform 288"/>
                <p:cNvSpPr/>
                <p:nvPr/>
              </p:nvSpPr>
              <p:spPr>
                <a:xfrm>
                  <a:off x="5684040" y="3504240"/>
                  <a:ext cx="25920" cy="8280"/>
                </a:xfrm>
                <a:custGeom>
                  <a:avLst/>
                  <a:gdLst>
                    <a:gd name="textAreaLeft" fmla="*/ 0 w 25920"/>
                    <a:gd name="textAreaRight" fmla="*/ 26280 w 25920"/>
                    <a:gd name="textAreaTop" fmla="*/ 0 h 8280"/>
                    <a:gd name="textAreaBottom" fmla="*/ 8640 h 8280"/>
                  </a:gdLst>
                  <a:ahLst/>
                  <a:rect l="textAreaLeft" t="textAreaTop" r="textAreaRight" b="textAreaBottom"/>
                  <a:pathLst>
                    <a:path w="18" h="17">
                      <a:moveTo>
                        <a:pt x="0" y="17"/>
                      </a:moveTo>
                      <a:lnTo>
                        <a:pt x="18" y="0"/>
                      </a:lnTo>
                      <a:lnTo>
                        <a:pt x="0" y="17"/>
                      </a:lnTo>
                    </a:path>
                  </a:pathLst>
                </a:custGeom>
                <a:noFill/>
                <a:ln w="0">
                  <a:solidFill>
                    <a:srgbClr val="40404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6" name="Freeform 289"/>
                <p:cNvSpPr/>
                <p:nvPr/>
              </p:nvSpPr>
              <p:spPr>
                <a:xfrm>
                  <a:off x="5676480" y="3532680"/>
                  <a:ext cx="93960" cy="26640"/>
                </a:xfrm>
                <a:custGeom>
                  <a:avLst/>
                  <a:gdLst>
                    <a:gd name="textAreaLeft" fmla="*/ 0 w 93960"/>
                    <a:gd name="textAreaRight" fmla="*/ 94320 w 93960"/>
                    <a:gd name="textAreaTop" fmla="*/ 0 h 26640"/>
                    <a:gd name="textAreaBottom" fmla="*/ 27000 h 26640"/>
                  </a:gdLst>
                  <a:ahLst/>
                  <a:rect l="textAreaLeft" t="textAreaTop" r="textAreaRight" b="textAreaBottom"/>
                  <a:pathLst>
                    <a:path w="72" h="50">
                      <a:moveTo>
                        <a:pt x="0" y="0"/>
                      </a:moveTo>
                      <a:lnTo>
                        <a:pt x="72" y="36"/>
                      </a:lnTo>
                      <a:lnTo>
                        <a:pt x="57" y="50"/>
                      </a:lnTo>
                      <a:lnTo>
                        <a:pt x="72" y="36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40404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7" name="Freeform 290"/>
                <p:cNvSpPr/>
                <p:nvPr/>
              </p:nvSpPr>
              <p:spPr>
                <a:xfrm>
                  <a:off x="5856480" y="3511080"/>
                  <a:ext cx="123120" cy="31680"/>
                </a:xfrm>
                <a:custGeom>
                  <a:avLst/>
                  <a:gdLst>
                    <a:gd name="textAreaLeft" fmla="*/ 0 w 123120"/>
                    <a:gd name="textAreaRight" fmla="*/ 123480 w 123120"/>
                    <a:gd name="textAreaTop" fmla="*/ 0 h 31680"/>
                    <a:gd name="textAreaBottom" fmla="*/ 32040 h 31680"/>
                  </a:gdLst>
                  <a:ahLst/>
                  <a:rect l="textAreaLeft" t="textAreaTop" r="textAreaRight" b="textAreaBottom"/>
                  <a:pathLst>
                    <a:path w="93" h="57">
                      <a:moveTo>
                        <a:pt x="93" y="56"/>
                      </a:moveTo>
                      <a:lnTo>
                        <a:pt x="91" y="57"/>
                      </a:lnTo>
                      <a:lnTo>
                        <a:pt x="0" y="12"/>
                      </a:lnTo>
                      <a:lnTo>
                        <a:pt x="11" y="0"/>
                      </a:lnTo>
                      <a:lnTo>
                        <a:pt x="0" y="12"/>
                      </a:lnTo>
                      <a:lnTo>
                        <a:pt x="91" y="57"/>
                      </a:lnTo>
                      <a:lnTo>
                        <a:pt x="93" y="56"/>
                      </a:lnTo>
                    </a:path>
                  </a:pathLst>
                </a:custGeom>
                <a:noFill/>
                <a:ln w="0">
                  <a:solidFill>
                    <a:srgbClr val="40404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8" name="Freeform 291"/>
                <p:cNvSpPr/>
                <p:nvPr/>
              </p:nvSpPr>
              <p:spPr>
                <a:xfrm>
                  <a:off x="5770800" y="3517920"/>
                  <a:ext cx="205920" cy="58320"/>
                </a:xfrm>
                <a:custGeom>
                  <a:avLst/>
                  <a:gdLst>
                    <a:gd name="textAreaLeft" fmla="*/ 0 w 205920"/>
                    <a:gd name="textAreaRight" fmla="*/ 206280 w 205920"/>
                    <a:gd name="textAreaTop" fmla="*/ 0 h 58320"/>
                    <a:gd name="textAreaBottom" fmla="*/ 58680 h 58320"/>
                  </a:gdLst>
                  <a:ahLst/>
                  <a:rect l="textAreaLeft" t="textAreaTop" r="textAreaRight" b="textAreaBottom"/>
                  <a:pathLst>
                    <a:path w="157" h="107">
                      <a:moveTo>
                        <a:pt x="66" y="0"/>
                      </a:moveTo>
                      <a:lnTo>
                        <a:pt x="157" y="45"/>
                      </a:lnTo>
                      <a:lnTo>
                        <a:pt x="92" y="107"/>
                      </a:lnTo>
                      <a:lnTo>
                        <a:pt x="0" y="63"/>
                      </a:lnTo>
                      <a:lnTo>
                        <a:pt x="66" y="0"/>
                      </a:lnTo>
                      <a:lnTo>
                        <a:pt x="0" y="63"/>
                      </a:lnTo>
                      <a:lnTo>
                        <a:pt x="92" y="107"/>
                      </a:lnTo>
                      <a:lnTo>
                        <a:pt x="157" y="45"/>
                      </a:lnTo>
                      <a:lnTo>
                        <a:pt x="66" y="0"/>
                      </a:lnTo>
                    </a:path>
                  </a:pathLst>
                </a:custGeom>
                <a:noFill/>
                <a:ln w="0">
                  <a:solidFill>
                    <a:srgbClr val="40404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9" name="Freeform 292"/>
                <p:cNvSpPr/>
                <p:nvPr/>
              </p:nvSpPr>
              <p:spPr>
                <a:xfrm>
                  <a:off x="5770800" y="3552840"/>
                  <a:ext cx="122400" cy="38520"/>
                </a:xfrm>
                <a:custGeom>
                  <a:avLst/>
                  <a:gdLst>
                    <a:gd name="textAreaLeft" fmla="*/ 0 w 122400"/>
                    <a:gd name="textAreaRight" fmla="*/ 122760 w 122400"/>
                    <a:gd name="textAreaTop" fmla="*/ 0 h 38520"/>
                    <a:gd name="textAreaBottom" fmla="*/ 38880 h 38520"/>
                  </a:gdLst>
                  <a:ahLst/>
                  <a:rect l="textAreaLeft" t="textAreaTop" r="textAreaRight" b="textAreaBottom"/>
                  <a:pathLst>
                    <a:path w="92" h="71">
                      <a:moveTo>
                        <a:pt x="0" y="0"/>
                      </a:moveTo>
                      <a:lnTo>
                        <a:pt x="92" y="44"/>
                      </a:lnTo>
                      <a:lnTo>
                        <a:pt x="64" y="71"/>
                      </a:lnTo>
                      <a:lnTo>
                        <a:pt x="92" y="4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40404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0" name="Freeform 293"/>
                <p:cNvSpPr/>
                <p:nvPr/>
              </p:nvSpPr>
              <p:spPr>
                <a:xfrm>
                  <a:off x="5752440" y="3552840"/>
                  <a:ext cx="18360" cy="6480"/>
                </a:xfrm>
                <a:custGeom>
                  <a:avLst/>
                  <a:gdLst>
                    <a:gd name="textAreaLeft" fmla="*/ 0 w 18360"/>
                    <a:gd name="textAreaRight" fmla="*/ 18720 w 18360"/>
                    <a:gd name="textAreaTop" fmla="*/ 0 h 6480"/>
                    <a:gd name="textAreaBottom" fmla="*/ 6840 h 6480"/>
                  </a:gdLst>
                  <a:ahLst/>
                  <a:rect l="textAreaLeft" t="textAreaTop" r="textAreaRight" b="textAreaBottom"/>
                  <a:pathLst>
                    <a:path w="15" h="14">
                      <a:moveTo>
                        <a:pt x="0" y="14"/>
                      </a:moveTo>
                      <a:lnTo>
                        <a:pt x="15" y="0"/>
                      </a:lnTo>
                      <a:lnTo>
                        <a:pt x="0" y="14"/>
                      </a:lnTo>
                    </a:path>
                  </a:pathLst>
                </a:custGeom>
                <a:noFill/>
                <a:ln w="0">
                  <a:solidFill>
                    <a:srgbClr val="40404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1" name="Freeform 294"/>
                <p:cNvSpPr/>
                <p:nvPr/>
              </p:nvSpPr>
              <p:spPr>
                <a:xfrm>
                  <a:off x="5977080" y="3540960"/>
                  <a:ext cx="7560" cy="3240"/>
                </a:xfrm>
                <a:custGeom>
                  <a:avLst/>
                  <a:gdLst>
                    <a:gd name="textAreaLeft" fmla="*/ 0 w 7560"/>
                    <a:gd name="textAreaRight" fmla="*/ 7920 w 7560"/>
                    <a:gd name="textAreaTop" fmla="*/ 0 h 3240"/>
                    <a:gd name="textAreaBottom" fmla="*/ 3600 h 3240"/>
                  </a:gdLst>
                  <a:ahLst/>
                  <a:rect l="textAreaLeft" t="textAreaTop" r="textAreaRight" b="textAreaBottom"/>
                  <a:pathLst>
                    <a:path w="6" h="4">
                      <a:moveTo>
                        <a:pt x="6" y="4"/>
                      </a:moveTo>
                      <a:lnTo>
                        <a:pt x="0" y="1"/>
                      </a:lnTo>
                      <a:lnTo>
                        <a:pt x="2" y="0"/>
                      </a:lnTo>
                      <a:lnTo>
                        <a:pt x="0" y="1"/>
                      </a:lnTo>
                      <a:lnTo>
                        <a:pt x="6" y="4"/>
                      </a:lnTo>
                    </a:path>
                  </a:pathLst>
                </a:custGeom>
                <a:noFill/>
                <a:ln w="0">
                  <a:solidFill>
                    <a:srgbClr val="40404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2" name="Freeform 295"/>
                <p:cNvSpPr/>
                <p:nvPr/>
              </p:nvSpPr>
              <p:spPr>
                <a:xfrm>
                  <a:off x="5977080" y="3543120"/>
                  <a:ext cx="7560" cy="1440"/>
                </a:xfrm>
                <a:custGeom>
                  <a:avLst/>
                  <a:gdLst>
                    <a:gd name="textAreaLeft" fmla="*/ 0 w 7560"/>
                    <a:gd name="textAreaRight" fmla="*/ 7920 w 7560"/>
                    <a:gd name="textAreaTop" fmla="*/ 0 h 1440"/>
                    <a:gd name="textAreaBottom" fmla="*/ 1800 h 1440"/>
                  </a:gdLst>
                  <a:ahLst/>
                  <a:rect l="textAreaLeft" t="textAreaTop" r="textAreaRight" b="textAreaBottom"/>
                  <a:pathLst>
                    <a:path w="6" h="3">
                      <a:moveTo>
                        <a:pt x="0" y="0"/>
                      </a:moveTo>
                      <a:lnTo>
                        <a:pt x="6" y="3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40404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3" name="Freeform 296"/>
                <p:cNvSpPr/>
                <p:nvPr/>
              </p:nvSpPr>
              <p:spPr>
                <a:xfrm>
                  <a:off x="5893560" y="3543120"/>
                  <a:ext cx="182880" cy="59760"/>
                </a:xfrm>
                <a:custGeom>
                  <a:avLst/>
                  <a:gdLst>
                    <a:gd name="textAreaLeft" fmla="*/ 0 w 182880"/>
                    <a:gd name="textAreaRight" fmla="*/ 183240 w 182880"/>
                    <a:gd name="textAreaTop" fmla="*/ 0 h 59760"/>
                    <a:gd name="textAreaBottom" fmla="*/ 60120 h 59760"/>
                  </a:gdLst>
                  <a:ahLst/>
                  <a:rect l="textAreaLeft" t="textAreaTop" r="textAreaRight" b="textAreaBottom"/>
                  <a:pathLst>
                    <a:path w="140" h="108">
                      <a:moveTo>
                        <a:pt x="140" y="61"/>
                      </a:moveTo>
                      <a:lnTo>
                        <a:pt x="92" y="108"/>
                      </a:lnTo>
                      <a:lnTo>
                        <a:pt x="0" y="62"/>
                      </a:lnTo>
                      <a:lnTo>
                        <a:pt x="65" y="0"/>
                      </a:lnTo>
                      <a:lnTo>
                        <a:pt x="0" y="62"/>
                      </a:lnTo>
                      <a:lnTo>
                        <a:pt x="92" y="108"/>
                      </a:lnTo>
                      <a:lnTo>
                        <a:pt x="140" y="61"/>
                      </a:lnTo>
                    </a:path>
                  </a:pathLst>
                </a:custGeom>
                <a:noFill/>
                <a:ln w="0">
                  <a:solidFill>
                    <a:srgbClr val="40404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4" name="Freeform 297"/>
                <p:cNvSpPr/>
                <p:nvPr/>
              </p:nvSpPr>
              <p:spPr>
                <a:xfrm>
                  <a:off x="5893560" y="3576240"/>
                  <a:ext cx="117720" cy="48240"/>
                </a:xfrm>
                <a:custGeom>
                  <a:avLst/>
                  <a:gdLst>
                    <a:gd name="textAreaLeft" fmla="*/ 0 w 117720"/>
                    <a:gd name="textAreaRight" fmla="*/ 118080 w 117720"/>
                    <a:gd name="textAreaTop" fmla="*/ 0 h 48240"/>
                    <a:gd name="textAreaBottom" fmla="*/ 48600 h 48240"/>
                  </a:gdLst>
                  <a:ahLst/>
                  <a:rect l="textAreaLeft" t="textAreaTop" r="textAreaRight" b="textAreaBottom"/>
                  <a:pathLst>
                    <a:path w="92" h="86">
                      <a:moveTo>
                        <a:pt x="0" y="0"/>
                      </a:moveTo>
                      <a:lnTo>
                        <a:pt x="92" y="46"/>
                      </a:lnTo>
                      <a:lnTo>
                        <a:pt x="51" y="86"/>
                      </a:lnTo>
                      <a:lnTo>
                        <a:pt x="92" y="46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40404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5" name="Freeform 298"/>
                <p:cNvSpPr/>
                <p:nvPr/>
              </p:nvSpPr>
              <p:spPr>
                <a:xfrm>
                  <a:off x="5856480" y="3576240"/>
                  <a:ext cx="36720" cy="15120"/>
                </a:xfrm>
                <a:custGeom>
                  <a:avLst/>
                  <a:gdLst>
                    <a:gd name="textAreaLeft" fmla="*/ 0 w 36720"/>
                    <a:gd name="textAreaRight" fmla="*/ 37080 w 36720"/>
                    <a:gd name="textAreaTop" fmla="*/ 0 h 15120"/>
                    <a:gd name="textAreaBottom" fmla="*/ 15480 h 15120"/>
                  </a:gdLst>
                  <a:ahLst/>
                  <a:rect l="textAreaLeft" t="textAreaTop" r="textAreaRight" b="textAreaBottom"/>
                  <a:pathLst>
                    <a:path w="28" h="27">
                      <a:moveTo>
                        <a:pt x="0" y="27"/>
                      </a:moveTo>
                      <a:lnTo>
                        <a:pt x="28" y="0"/>
                      </a:lnTo>
                      <a:lnTo>
                        <a:pt x="0" y="27"/>
                      </a:lnTo>
                    </a:path>
                  </a:pathLst>
                </a:custGeom>
                <a:noFill/>
                <a:ln w="0">
                  <a:solidFill>
                    <a:srgbClr val="40404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6" name="Freeform 299"/>
                <p:cNvSpPr/>
                <p:nvPr/>
              </p:nvSpPr>
              <p:spPr>
                <a:xfrm>
                  <a:off x="6170760" y="3583080"/>
                  <a:ext cx="59760" cy="8280"/>
                </a:xfrm>
                <a:custGeom>
                  <a:avLst/>
                  <a:gdLst>
                    <a:gd name="textAreaLeft" fmla="*/ 0 w 59760"/>
                    <a:gd name="textAreaRight" fmla="*/ 60120 w 59760"/>
                    <a:gd name="textAreaTop" fmla="*/ 0 h 8280"/>
                    <a:gd name="textAreaBottom" fmla="*/ 8640 h 8280"/>
                  </a:gdLst>
                  <a:ahLst/>
                  <a:rect l="textAreaLeft" t="textAreaTop" r="textAreaRight" b="textAreaBottom"/>
                  <a:pathLst>
                    <a:path w="48" h="17">
                      <a:moveTo>
                        <a:pt x="48" y="8"/>
                      </a:moveTo>
                      <a:lnTo>
                        <a:pt x="37" y="17"/>
                      </a:lnTo>
                      <a:lnTo>
                        <a:pt x="0" y="0"/>
                      </a:lnTo>
                      <a:lnTo>
                        <a:pt x="37" y="17"/>
                      </a:lnTo>
                      <a:lnTo>
                        <a:pt x="48" y="8"/>
                      </a:lnTo>
                    </a:path>
                  </a:pathLst>
                </a:custGeom>
                <a:noFill/>
                <a:ln w="0">
                  <a:solidFill>
                    <a:srgbClr val="40404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7" name="Freeform 300"/>
                <p:cNvSpPr/>
                <p:nvPr/>
              </p:nvSpPr>
              <p:spPr>
                <a:xfrm>
                  <a:off x="6011280" y="3576240"/>
                  <a:ext cx="205920" cy="51840"/>
                </a:xfrm>
                <a:custGeom>
                  <a:avLst/>
                  <a:gdLst>
                    <a:gd name="textAreaLeft" fmla="*/ 0 w 205920"/>
                    <a:gd name="textAreaRight" fmla="*/ 206280 w 205920"/>
                    <a:gd name="textAreaTop" fmla="*/ 0 h 51840"/>
                    <a:gd name="textAreaBottom" fmla="*/ 52200 h 51840"/>
                  </a:gdLst>
                  <a:ahLst/>
                  <a:rect l="textAreaLeft" t="textAreaTop" r="textAreaRight" b="textAreaBottom"/>
                  <a:pathLst>
                    <a:path w="157" h="92">
                      <a:moveTo>
                        <a:pt x="120" y="11"/>
                      </a:moveTo>
                      <a:lnTo>
                        <a:pt x="157" y="28"/>
                      </a:lnTo>
                      <a:lnTo>
                        <a:pt x="92" y="92"/>
                      </a:lnTo>
                      <a:lnTo>
                        <a:pt x="0" y="47"/>
                      </a:lnTo>
                      <a:lnTo>
                        <a:pt x="48" y="0"/>
                      </a:lnTo>
                      <a:lnTo>
                        <a:pt x="0" y="47"/>
                      </a:lnTo>
                      <a:lnTo>
                        <a:pt x="92" y="92"/>
                      </a:lnTo>
                      <a:lnTo>
                        <a:pt x="157" y="28"/>
                      </a:lnTo>
                      <a:lnTo>
                        <a:pt x="120" y="11"/>
                      </a:lnTo>
                    </a:path>
                  </a:pathLst>
                </a:custGeom>
                <a:noFill/>
                <a:ln w="0">
                  <a:solidFill>
                    <a:srgbClr val="40404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8" name="Freeform 301"/>
                <p:cNvSpPr/>
                <p:nvPr/>
              </p:nvSpPr>
              <p:spPr>
                <a:xfrm>
                  <a:off x="6011280" y="3602880"/>
                  <a:ext cx="122400" cy="43560"/>
                </a:xfrm>
                <a:custGeom>
                  <a:avLst/>
                  <a:gdLst>
                    <a:gd name="textAreaLeft" fmla="*/ 0 w 122400"/>
                    <a:gd name="textAreaRight" fmla="*/ 122760 w 122400"/>
                    <a:gd name="textAreaTop" fmla="*/ 0 h 43560"/>
                    <a:gd name="textAreaBottom" fmla="*/ 43920 h 43560"/>
                  </a:gdLst>
                  <a:ahLst/>
                  <a:rect l="textAreaLeft" t="textAreaTop" r="textAreaRight" b="textAreaBottom"/>
                  <a:pathLst>
                    <a:path w="92" h="78">
                      <a:moveTo>
                        <a:pt x="0" y="0"/>
                      </a:moveTo>
                      <a:lnTo>
                        <a:pt x="92" y="45"/>
                      </a:lnTo>
                      <a:lnTo>
                        <a:pt x="59" y="78"/>
                      </a:lnTo>
                      <a:lnTo>
                        <a:pt x="92" y="45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40404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9" name="Freeform 302"/>
                <p:cNvSpPr/>
                <p:nvPr/>
              </p:nvSpPr>
              <p:spPr>
                <a:xfrm>
                  <a:off x="5958720" y="3602880"/>
                  <a:ext cx="52560" cy="21960"/>
                </a:xfrm>
                <a:custGeom>
                  <a:avLst/>
                  <a:gdLst>
                    <a:gd name="textAreaLeft" fmla="*/ 0 w 52560"/>
                    <a:gd name="textAreaRight" fmla="*/ 52920 w 52560"/>
                    <a:gd name="textAreaTop" fmla="*/ 0 h 21960"/>
                    <a:gd name="textAreaBottom" fmla="*/ 22320 h 21960"/>
                  </a:gdLst>
                  <a:ahLst/>
                  <a:rect l="textAreaLeft" t="textAreaTop" r="textAreaRight" b="textAreaBottom"/>
                  <a:pathLst>
                    <a:path w="41" h="40">
                      <a:moveTo>
                        <a:pt x="0" y="40"/>
                      </a:moveTo>
                      <a:lnTo>
                        <a:pt x="41" y="0"/>
                      </a:lnTo>
                      <a:lnTo>
                        <a:pt x="0" y="40"/>
                      </a:lnTo>
                    </a:path>
                  </a:pathLst>
                </a:custGeom>
                <a:noFill/>
                <a:ln w="0">
                  <a:solidFill>
                    <a:srgbClr val="40404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0" name="Freeform 303"/>
                <p:cNvSpPr/>
                <p:nvPr/>
              </p:nvSpPr>
              <p:spPr>
                <a:xfrm>
                  <a:off x="6217560" y="3586320"/>
                  <a:ext cx="156240" cy="30240"/>
                </a:xfrm>
                <a:custGeom>
                  <a:avLst/>
                  <a:gdLst>
                    <a:gd name="textAreaLeft" fmla="*/ 0 w 156240"/>
                    <a:gd name="textAreaRight" fmla="*/ 156600 w 156240"/>
                    <a:gd name="textAreaTop" fmla="*/ 0 h 30240"/>
                    <a:gd name="textAreaBottom" fmla="*/ 30600 h 30240"/>
                  </a:gdLst>
                  <a:ahLst/>
                  <a:rect l="textAreaLeft" t="textAreaTop" r="textAreaRight" b="textAreaBottom"/>
                  <a:pathLst>
                    <a:path w="121" h="54">
                      <a:moveTo>
                        <a:pt x="121" y="27"/>
                      </a:moveTo>
                      <a:lnTo>
                        <a:pt x="93" y="54"/>
                      </a:lnTo>
                      <a:lnTo>
                        <a:pt x="0" y="9"/>
                      </a:lnTo>
                      <a:lnTo>
                        <a:pt x="11" y="0"/>
                      </a:lnTo>
                      <a:lnTo>
                        <a:pt x="0" y="9"/>
                      </a:lnTo>
                      <a:lnTo>
                        <a:pt x="93" y="54"/>
                      </a:lnTo>
                      <a:lnTo>
                        <a:pt x="121" y="27"/>
                      </a:lnTo>
                    </a:path>
                  </a:pathLst>
                </a:custGeom>
                <a:noFill/>
                <a:ln w="0">
                  <a:solidFill>
                    <a:srgbClr val="40404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1" name="Freeform 304"/>
                <p:cNvSpPr/>
                <p:nvPr/>
              </p:nvSpPr>
              <p:spPr>
                <a:xfrm>
                  <a:off x="6217560" y="3591720"/>
                  <a:ext cx="120240" cy="59760"/>
                </a:xfrm>
                <a:custGeom>
                  <a:avLst/>
                  <a:gdLst>
                    <a:gd name="textAreaLeft" fmla="*/ 0 w 120240"/>
                    <a:gd name="textAreaRight" fmla="*/ 120600 w 120240"/>
                    <a:gd name="textAreaTop" fmla="*/ 0 h 59760"/>
                    <a:gd name="textAreaBottom" fmla="*/ 60120 h 59760"/>
                  </a:gdLst>
                  <a:ahLst/>
                  <a:rect l="textAreaLeft" t="textAreaTop" r="textAreaRight" b="textAreaBottom"/>
                  <a:pathLst>
                    <a:path w="93" h="108">
                      <a:moveTo>
                        <a:pt x="0" y="0"/>
                      </a:moveTo>
                      <a:lnTo>
                        <a:pt x="93" y="45"/>
                      </a:lnTo>
                      <a:lnTo>
                        <a:pt x="28" y="108"/>
                      </a:lnTo>
                      <a:lnTo>
                        <a:pt x="93" y="45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40404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2" name="Freeform 305"/>
                <p:cNvSpPr/>
                <p:nvPr/>
              </p:nvSpPr>
              <p:spPr>
                <a:xfrm>
                  <a:off x="6134040" y="3591720"/>
                  <a:ext cx="114840" cy="59760"/>
                </a:xfrm>
                <a:custGeom>
                  <a:avLst/>
                  <a:gdLst>
                    <a:gd name="textAreaLeft" fmla="*/ 0 w 114840"/>
                    <a:gd name="textAreaRight" fmla="*/ 115200 w 114840"/>
                    <a:gd name="textAreaTop" fmla="*/ 0 h 59760"/>
                    <a:gd name="textAreaBottom" fmla="*/ 60120 h 59760"/>
                  </a:gdLst>
                  <a:ahLst/>
                  <a:rect l="textAreaLeft" t="textAreaTop" r="textAreaRight" b="textAreaBottom"/>
                  <a:pathLst>
                    <a:path w="88" h="108">
                      <a:moveTo>
                        <a:pt x="88" y="108"/>
                      </a:moveTo>
                      <a:lnTo>
                        <a:pt x="0" y="64"/>
                      </a:lnTo>
                      <a:lnTo>
                        <a:pt x="65" y="0"/>
                      </a:lnTo>
                      <a:lnTo>
                        <a:pt x="0" y="64"/>
                      </a:lnTo>
                      <a:lnTo>
                        <a:pt x="88" y="108"/>
                      </a:lnTo>
                    </a:path>
                  </a:pathLst>
                </a:custGeom>
                <a:noFill/>
                <a:ln w="0">
                  <a:solidFill>
                    <a:srgbClr val="40404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3" name="Freeform 306"/>
                <p:cNvSpPr/>
                <p:nvPr/>
              </p:nvSpPr>
              <p:spPr>
                <a:xfrm>
                  <a:off x="6134040" y="3628440"/>
                  <a:ext cx="114840" cy="23040"/>
                </a:xfrm>
                <a:custGeom>
                  <a:avLst/>
                  <a:gdLst>
                    <a:gd name="textAreaLeft" fmla="*/ 0 w 114840"/>
                    <a:gd name="textAreaRight" fmla="*/ 115200 w 114840"/>
                    <a:gd name="textAreaTop" fmla="*/ 0 h 23040"/>
                    <a:gd name="textAreaBottom" fmla="*/ 23400 h 23040"/>
                  </a:gdLst>
                  <a:ahLst/>
                  <a:rect l="textAreaLeft" t="textAreaTop" r="textAreaRight" b="textAreaBottom"/>
                  <a:pathLst>
                    <a:path w="88" h="44">
                      <a:moveTo>
                        <a:pt x="0" y="0"/>
                      </a:moveTo>
                      <a:lnTo>
                        <a:pt x="88" y="4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40404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4" name="Freeform 307"/>
                <p:cNvSpPr/>
                <p:nvPr/>
              </p:nvSpPr>
              <p:spPr>
                <a:xfrm>
                  <a:off x="6089760" y="3628440"/>
                  <a:ext cx="44280" cy="18000"/>
                </a:xfrm>
                <a:custGeom>
                  <a:avLst/>
                  <a:gdLst>
                    <a:gd name="textAreaLeft" fmla="*/ 0 w 44280"/>
                    <a:gd name="textAreaRight" fmla="*/ 44640 w 44280"/>
                    <a:gd name="textAreaTop" fmla="*/ 0 h 18000"/>
                    <a:gd name="textAreaBottom" fmla="*/ 18360 h 18000"/>
                  </a:gdLst>
                  <a:ahLst/>
                  <a:rect l="textAreaLeft" t="textAreaTop" r="textAreaRight" b="textAreaBottom"/>
                  <a:pathLst>
                    <a:path w="33" h="33">
                      <a:moveTo>
                        <a:pt x="0" y="33"/>
                      </a:moveTo>
                      <a:lnTo>
                        <a:pt x="33" y="0"/>
                      </a:lnTo>
                      <a:lnTo>
                        <a:pt x="0" y="33"/>
                      </a:lnTo>
                    </a:path>
                  </a:pathLst>
                </a:custGeom>
                <a:noFill/>
                <a:ln w="0">
                  <a:solidFill>
                    <a:srgbClr val="40404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5" name="Freeform 308"/>
                <p:cNvSpPr/>
                <p:nvPr/>
              </p:nvSpPr>
              <p:spPr>
                <a:xfrm>
                  <a:off x="6337800" y="3601440"/>
                  <a:ext cx="111960" cy="38160"/>
                </a:xfrm>
                <a:custGeom>
                  <a:avLst/>
                  <a:gdLst>
                    <a:gd name="textAreaLeft" fmla="*/ 0 w 111960"/>
                    <a:gd name="textAreaRight" fmla="*/ 112320 w 111960"/>
                    <a:gd name="textAreaTop" fmla="*/ 0 h 38160"/>
                    <a:gd name="textAreaBottom" fmla="*/ 38520 h 38160"/>
                  </a:gdLst>
                  <a:ahLst/>
                  <a:rect l="textAreaLeft" t="textAreaTop" r="textAreaRight" b="textAreaBottom"/>
                  <a:pathLst>
                    <a:path w="84" h="69">
                      <a:moveTo>
                        <a:pt x="84" y="69"/>
                      </a:moveTo>
                      <a:lnTo>
                        <a:pt x="0" y="27"/>
                      </a:lnTo>
                      <a:lnTo>
                        <a:pt x="28" y="0"/>
                      </a:lnTo>
                      <a:lnTo>
                        <a:pt x="0" y="27"/>
                      </a:lnTo>
                      <a:lnTo>
                        <a:pt x="84" y="69"/>
                      </a:lnTo>
                    </a:path>
                  </a:pathLst>
                </a:custGeom>
                <a:noFill/>
                <a:ln w="0">
                  <a:solidFill>
                    <a:srgbClr val="40404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6" name="Freeform 309"/>
                <p:cNvSpPr/>
                <p:nvPr/>
              </p:nvSpPr>
              <p:spPr>
                <a:xfrm>
                  <a:off x="6337800" y="3616560"/>
                  <a:ext cx="111960" cy="23040"/>
                </a:xfrm>
                <a:custGeom>
                  <a:avLst/>
                  <a:gdLst>
                    <a:gd name="textAreaLeft" fmla="*/ 0 w 111960"/>
                    <a:gd name="textAreaRight" fmla="*/ 112320 w 111960"/>
                    <a:gd name="textAreaTop" fmla="*/ 0 h 23040"/>
                    <a:gd name="textAreaBottom" fmla="*/ 23400 h 23040"/>
                  </a:gdLst>
                  <a:ahLst/>
                  <a:rect l="textAreaLeft" t="textAreaTop" r="textAreaRight" b="textAreaBottom"/>
                  <a:pathLst>
                    <a:path w="84" h="42">
                      <a:moveTo>
                        <a:pt x="0" y="0"/>
                      </a:moveTo>
                      <a:lnTo>
                        <a:pt x="84" y="42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40404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7" name="Freeform 310"/>
                <p:cNvSpPr/>
                <p:nvPr/>
              </p:nvSpPr>
              <p:spPr>
                <a:xfrm>
                  <a:off x="6405480" y="3646440"/>
                  <a:ext cx="44280" cy="18360"/>
                </a:xfrm>
                <a:custGeom>
                  <a:avLst/>
                  <a:gdLst>
                    <a:gd name="textAreaLeft" fmla="*/ 0 w 44280"/>
                    <a:gd name="textAreaRight" fmla="*/ 44640 w 44280"/>
                    <a:gd name="textAreaTop" fmla="*/ 0 h 18360"/>
                    <a:gd name="textAreaBottom" fmla="*/ 18720 h 18360"/>
                  </a:gdLst>
                  <a:ahLst/>
                  <a:rect l="textAreaLeft" t="textAreaTop" r="textAreaRight" b="textAreaBottom"/>
                  <a:pathLst>
                    <a:path w="33" h="33">
                      <a:moveTo>
                        <a:pt x="33" y="0"/>
                      </a:moveTo>
                      <a:lnTo>
                        <a:pt x="0" y="33"/>
                      </a:lnTo>
                      <a:lnTo>
                        <a:pt x="33" y="0"/>
                      </a:lnTo>
                    </a:path>
                  </a:pathLst>
                </a:custGeom>
                <a:noFill/>
                <a:ln w="0">
                  <a:solidFill>
                    <a:srgbClr val="40404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8" name="Freeform 311"/>
                <p:cNvSpPr/>
                <p:nvPr/>
              </p:nvSpPr>
              <p:spPr>
                <a:xfrm>
                  <a:off x="6254280" y="3616560"/>
                  <a:ext cx="83520" cy="34560"/>
                </a:xfrm>
                <a:custGeom>
                  <a:avLst/>
                  <a:gdLst>
                    <a:gd name="textAreaLeft" fmla="*/ 0 w 83520"/>
                    <a:gd name="textAreaRight" fmla="*/ 83880 w 83520"/>
                    <a:gd name="textAreaTop" fmla="*/ 0 h 34560"/>
                    <a:gd name="textAreaBottom" fmla="*/ 34920 h 34560"/>
                  </a:gdLst>
                  <a:ahLst/>
                  <a:rect l="textAreaLeft" t="textAreaTop" r="textAreaRight" b="textAreaBottom"/>
                  <a:pathLst>
                    <a:path w="65" h="63">
                      <a:moveTo>
                        <a:pt x="0" y="63"/>
                      </a:moveTo>
                      <a:lnTo>
                        <a:pt x="65" y="0"/>
                      </a:lnTo>
                      <a:lnTo>
                        <a:pt x="0" y="63"/>
                      </a:lnTo>
                    </a:path>
                  </a:pathLst>
                </a:custGeom>
                <a:noFill/>
                <a:ln w="0">
                  <a:solidFill>
                    <a:srgbClr val="40404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9" name="Freeform 312"/>
                <p:cNvSpPr/>
                <p:nvPr/>
              </p:nvSpPr>
              <p:spPr>
                <a:xfrm>
                  <a:off x="6405480" y="3646440"/>
                  <a:ext cx="44280" cy="18360"/>
                </a:xfrm>
                <a:custGeom>
                  <a:avLst/>
                  <a:gdLst>
                    <a:gd name="textAreaLeft" fmla="*/ 0 w 44280"/>
                    <a:gd name="textAreaRight" fmla="*/ 44640 w 44280"/>
                    <a:gd name="textAreaTop" fmla="*/ 0 h 18360"/>
                    <a:gd name="textAreaBottom" fmla="*/ 18720 h 18360"/>
                  </a:gdLst>
                  <a:ahLst/>
                  <a:rect l="textAreaLeft" t="textAreaTop" r="textAreaRight" b="textAreaBottom"/>
                  <a:pathLst>
                    <a:path w="33" h="33">
                      <a:moveTo>
                        <a:pt x="0" y="33"/>
                      </a:moveTo>
                      <a:lnTo>
                        <a:pt x="33" y="0"/>
                      </a:lnTo>
                      <a:lnTo>
                        <a:pt x="0" y="33"/>
                      </a:lnTo>
                    </a:path>
                  </a:pathLst>
                </a:custGeom>
                <a:noFill/>
                <a:ln w="0">
                  <a:solidFill>
                    <a:srgbClr val="40404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0" name="Freeform 313"/>
                <p:cNvSpPr/>
                <p:nvPr/>
              </p:nvSpPr>
              <p:spPr>
                <a:xfrm>
                  <a:off x="5665680" y="3511080"/>
                  <a:ext cx="39600" cy="45000"/>
                </a:xfrm>
                <a:custGeom>
                  <a:avLst/>
                  <a:gdLst>
                    <a:gd name="textAreaLeft" fmla="*/ 0 w 39600"/>
                    <a:gd name="textAreaRight" fmla="*/ 39960 w 39600"/>
                    <a:gd name="textAreaTop" fmla="*/ 0 h 45000"/>
                    <a:gd name="textAreaBottom" fmla="*/ 45360 h 45000"/>
                  </a:gdLst>
                  <a:ahLst/>
                  <a:rect l="textAreaLeft" t="textAreaTop" r="textAreaRight" b="textAreaBottom"/>
                  <a:pathLst>
                    <a:path w="30" h="83">
                      <a:moveTo>
                        <a:pt x="16" y="0"/>
                      </a:moveTo>
                      <a:lnTo>
                        <a:pt x="18" y="20"/>
                      </a:lnTo>
                      <a:lnTo>
                        <a:pt x="24" y="53"/>
                      </a:lnTo>
                      <a:lnTo>
                        <a:pt x="30" y="83"/>
                      </a:lnTo>
                      <a:lnTo>
                        <a:pt x="25" y="81"/>
                      </a:lnTo>
                      <a:lnTo>
                        <a:pt x="22" y="81"/>
                      </a:lnTo>
                      <a:lnTo>
                        <a:pt x="18" y="80"/>
                      </a:lnTo>
                      <a:lnTo>
                        <a:pt x="15" y="80"/>
                      </a:lnTo>
                      <a:lnTo>
                        <a:pt x="11" y="79"/>
                      </a:lnTo>
                      <a:lnTo>
                        <a:pt x="6" y="79"/>
                      </a:lnTo>
                      <a:lnTo>
                        <a:pt x="3" y="79"/>
                      </a:lnTo>
                      <a:lnTo>
                        <a:pt x="0" y="79"/>
                      </a:lnTo>
                      <a:lnTo>
                        <a:pt x="2" y="73"/>
                      </a:lnTo>
                      <a:lnTo>
                        <a:pt x="3" y="65"/>
                      </a:lnTo>
                      <a:lnTo>
                        <a:pt x="5" y="56"/>
                      </a:lnTo>
                      <a:lnTo>
                        <a:pt x="8" y="43"/>
                      </a:lnTo>
                      <a:lnTo>
                        <a:pt x="10" y="32"/>
                      </a:lnTo>
                      <a:lnTo>
                        <a:pt x="11" y="20"/>
                      </a:lnTo>
                      <a:lnTo>
                        <a:pt x="13" y="9"/>
                      </a:lnTo>
                      <a:lnTo>
                        <a:pt x="16" y="0"/>
                      </a:lnTo>
                      <a:close/>
                    </a:path>
                  </a:pathLst>
                </a:custGeom>
                <a:solidFill>
                  <a:srgbClr val="ccdcd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1" name="Freeform 314"/>
                <p:cNvSpPr/>
                <p:nvPr/>
              </p:nvSpPr>
              <p:spPr>
                <a:xfrm>
                  <a:off x="5687280" y="3502800"/>
                  <a:ext cx="174600" cy="90000"/>
                </a:xfrm>
                <a:custGeom>
                  <a:avLst/>
                  <a:gdLst>
                    <a:gd name="textAreaLeft" fmla="*/ 0 w 174600"/>
                    <a:gd name="textAreaRight" fmla="*/ 174960 w 17460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134" h="163">
                      <a:moveTo>
                        <a:pt x="0" y="14"/>
                      </a:moveTo>
                      <a:lnTo>
                        <a:pt x="2" y="34"/>
                      </a:lnTo>
                      <a:lnTo>
                        <a:pt x="8" y="67"/>
                      </a:lnTo>
                      <a:lnTo>
                        <a:pt x="14" y="97"/>
                      </a:lnTo>
                      <a:lnTo>
                        <a:pt x="19" y="98"/>
                      </a:lnTo>
                      <a:lnTo>
                        <a:pt x="25" y="99"/>
                      </a:lnTo>
                      <a:lnTo>
                        <a:pt x="31" y="101"/>
                      </a:lnTo>
                      <a:lnTo>
                        <a:pt x="37" y="102"/>
                      </a:lnTo>
                      <a:lnTo>
                        <a:pt x="43" y="103"/>
                      </a:lnTo>
                      <a:lnTo>
                        <a:pt x="48" y="103"/>
                      </a:lnTo>
                      <a:lnTo>
                        <a:pt x="54" y="105"/>
                      </a:lnTo>
                      <a:lnTo>
                        <a:pt x="60" y="105"/>
                      </a:lnTo>
                      <a:lnTo>
                        <a:pt x="61" y="109"/>
                      </a:lnTo>
                      <a:lnTo>
                        <a:pt x="62" y="113"/>
                      </a:lnTo>
                      <a:lnTo>
                        <a:pt x="65" y="116"/>
                      </a:lnTo>
                      <a:lnTo>
                        <a:pt x="67" y="120"/>
                      </a:lnTo>
                      <a:lnTo>
                        <a:pt x="75" y="128"/>
                      </a:lnTo>
                      <a:lnTo>
                        <a:pt x="84" y="135"/>
                      </a:lnTo>
                      <a:lnTo>
                        <a:pt x="96" y="141"/>
                      </a:lnTo>
                      <a:lnTo>
                        <a:pt x="107" y="148"/>
                      </a:lnTo>
                      <a:lnTo>
                        <a:pt x="121" y="156"/>
                      </a:lnTo>
                      <a:lnTo>
                        <a:pt x="134" y="163"/>
                      </a:lnTo>
                      <a:lnTo>
                        <a:pt x="133" y="158"/>
                      </a:lnTo>
                      <a:lnTo>
                        <a:pt x="126" y="129"/>
                      </a:lnTo>
                      <a:lnTo>
                        <a:pt x="119" y="101"/>
                      </a:lnTo>
                      <a:lnTo>
                        <a:pt x="113" y="72"/>
                      </a:lnTo>
                      <a:lnTo>
                        <a:pt x="107" y="42"/>
                      </a:lnTo>
                      <a:lnTo>
                        <a:pt x="103" y="14"/>
                      </a:lnTo>
                      <a:lnTo>
                        <a:pt x="102" y="3"/>
                      </a:lnTo>
                      <a:lnTo>
                        <a:pt x="91" y="2"/>
                      </a:lnTo>
                      <a:lnTo>
                        <a:pt x="81" y="0"/>
                      </a:lnTo>
                      <a:lnTo>
                        <a:pt x="69" y="0"/>
                      </a:lnTo>
                      <a:lnTo>
                        <a:pt x="58" y="0"/>
                      </a:lnTo>
                      <a:lnTo>
                        <a:pt x="46" y="0"/>
                      </a:lnTo>
                      <a:lnTo>
                        <a:pt x="33" y="0"/>
                      </a:lnTo>
                      <a:lnTo>
                        <a:pt x="19" y="2"/>
                      </a:lnTo>
                      <a:lnTo>
                        <a:pt x="6" y="2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3" y="2"/>
                      </a:lnTo>
                      <a:lnTo>
                        <a:pt x="3" y="3"/>
                      </a:lnTo>
                      <a:lnTo>
                        <a:pt x="2" y="6"/>
                      </a:lnTo>
                      <a:lnTo>
                        <a:pt x="1" y="9"/>
                      </a:lnTo>
                      <a:lnTo>
                        <a:pt x="0" y="11"/>
                      </a:lnTo>
                      <a:lnTo>
                        <a:pt x="0" y="14"/>
                      </a:lnTo>
                      <a:close/>
                    </a:path>
                  </a:pathLst>
                </a:custGeom>
                <a:solidFill>
                  <a:srgbClr val="cfded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2" name="Freeform 315"/>
                <p:cNvSpPr/>
                <p:nvPr/>
              </p:nvSpPr>
              <p:spPr>
                <a:xfrm>
                  <a:off x="5820480" y="3504240"/>
                  <a:ext cx="232200" cy="150480"/>
                </a:xfrm>
                <a:custGeom>
                  <a:avLst/>
                  <a:gdLst>
                    <a:gd name="textAreaLeft" fmla="*/ 0 w 232200"/>
                    <a:gd name="textAreaRight" fmla="*/ 232560 w 232200"/>
                    <a:gd name="textAreaTop" fmla="*/ 0 h 150480"/>
                    <a:gd name="textAreaBottom" fmla="*/ 150840 h 150480"/>
                  </a:gdLst>
                  <a:ahLst/>
                  <a:rect l="textAreaLeft" t="textAreaTop" r="textAreaRight" b="textAreaBottom"/>
                  <a:pathLst>
                    <a:path w="178" h="269">
                      <a:moveTo>
                        <a:pt x="0" y="0"/>
                      </a:moveTo>
                      <a:lnTo>
                        <a:pt x="1" y="11"/>
                      </a:lnTo>
                      <a:lnTo>
                        <a:pt x="5" y="39"/>
                      </a:lnTo>
                      <a:lnTo>
                        <a:pt x="11" y="69"/>
                      </a:lnTo>
                      <a:lnTo>
                        <a:pt x="17" y="98"/>
                      </a:lnTo>
                      <a:lnTo>
                        <a:pt x="24" y="126"/>
                      </a:lnTo>
                      <a:lnTo>
                        <a:pt x="31" y="155"/>
                      </a:lnTo>
                      <a:lnTo>
                        <a:pt x="32" y="160"/>
                      </a:lnTo>
                      <a:lnTo>
                        <a:pt x="42" y="166"/>
                      </a:lnTo>
                      <a:lnTo>
                        <a:pt x="52" y="171"/>
                      </a:lnTo>
                      <a:lnTo>
                        <a:pt x="61" y="176"/>
                      </a:lnTo>
                      <a:lnTo>
                        <a:pt x="69" y="182"/>
                      </a:lnTo>
                      <a:lnTo>
                        <a:pt x="77" y="187"/>
                      </a:lnTo>
                      <a:lnTo>
                        <a:pt x="83" y="193"/>
                      </a:lnTo>
                      <a:lnTo>
                        <a:pt x="88" y="198"/>
                      </a:lnTo>
                      <a:lnTo>
                        <a:pt x="90" y="205"/>
                      </a:lnTo>
                      <a:lnTo>
                        <a:pt x="99" y="210"/>
                      </a:lnTo>
                      <a:lnTo>
                        <a:pt x="111" y="220"/>
                      </a:lnTo>
                      <a:lnTo>
                        <a:pt x="125" y="231"/>
                      </a:lnTo>
                      <a:lnTo>
                        <a:pt x="137" y="242"/>
                      </a:lnTo>
                      <a:lnTo>
                        <a:pt x="150" y="252"/>
                      </a:lnTo>
                      <a:lnTo>
                        <a:pt x="162" y="261"/>
                      </a:lnTo>
                      <a:lnTo>
                        <a:pt x="171" y="266"/>
                      </a:lnTo>
                      <a:lnTo>
                        <a:pt x="178" y="269"/>
                      </a:lnTo>
                      <a:lnTo>
                        <a:pt x="178" y="269"/>
                      </a:lnTo>
                      <a:lnTo>
                        <a:pt x="178" y="269"/>
                      </a:lnTo>
                      <a:lnTo>
                        <a:pt x="178" y="267"/>
                      </a:lnTo>
                      <a:lnTo>
                        <a:pt x="178" y="267"/>
                      </a:lnTo>
                      <a:lnTo>
                        <a:pt x="178" y="267"/>
                      </a:lnTo>
                      <a:lnTo>
                        <a:pt x="178" y="267"/>
                      </a:lnTo>
                      <a:lnTo>
                        <a:pt x="178" y="266"/>
                      </a:lnTo>
                      <a:lnTo>
                        <a:pt x="178" y="266"/>
                      </a:lnTo>
                      <a:lnTo>
                        <a:pt x="178" y="266"/>
                      </a:lnTo>
                      <a:lnTo>
                        <a:pt x="159" y="217"/>
                      </a:lnTo>
                      <a:lnTo>
                        <a:pt x="143" y="168"/>
                      </a:lnTo>
                      <a:lnTo>
                        <a:pt x="128" y="118"/>
                      </a:lnTo>
                      <a:lnTo>
                        <a:pt x="115" y="68"/>
                      </a:lnTo>
                      <a:lnTo>
                        <a:pt x="114" y="60"/>
                      </a:lnTo>
                      <a:lnTo>
                        <a:pt x="102" y="48"/>
                      </a:lnTo>
                      <a:lnTo>
                        <a:pt x="89" y="37"/>
                      </a:lnTo>
                      <a:lnTo>
                        <a:pt x="75" y="29"/>
                      </a:lnTo>
                      <a:lnTo>
                        <a:pt x="61" y="20"/>
                      </a:lnTo>
                      <a:lnTo>
                        <a:pt x="47" y="14"/>
                      </a:lnTo>
                      <a:lnTo>
                        <a:pt x="32" y="8"/>
                      </a:lnTo>
                      <a:lnTo>
                        <a:pt x="16" y="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d2dfd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3" name="Freeform 316"/>
                <p:cNvSpPr/>
                <p:nvPr/>
              </p:nvSpPr>
              <p:spPr>
                <a:xfrm>
                  <a:off x="5969160" y="3537720"/>
                  <a:ext cx="229680" cy="115560"/>
                </a:xfrm>
                <a:custGeom>
                  <a:avLst/>
                  <a:gdLst>
                    <a:gd name="textAreaLeft" fmla="*/ 0 w 229680"/>
                    <a:gd name="textAreaRight" fmla="*/ 230040 w 229680"/>
                    <a:gd name="textAreaTop" fmla="*/ 0 h 115560"/>
                    <a:gd name="textAreaBottom" fmla="*/ 115920 h 115560"/>
                  </a:gdLst>
                  <a:ahLst/>
                  <a:rect l="textAreaLeft" t="textAreaTop" r="textAreaRight" b="textAreaBottom"/>
                  <a:pathLst>
                    <a:path w="175" h="206">
                      <a:moveTo>
                        <a:pt x="0" y="0"/>
                      </a:moveTo>
                      <a:lnTo>
                        <a:pt x="1" y="8"/>
                      </a:lnTo>
                      <a:lnTo>
                        <a:pt x="14" y="58"/>
                      </a:lnTo>
                      <a:lnTo>
                        <a:pt x="29" y="108"/>
                      </a:lnTo>
                      <a:lnTo>
                        <a:pt x="45" y="157"/>
                      </a:lnTo>
                      <a:lnTo>
                        <a:pt x="64" y="206"/>
                      </a:lnTo>
                      <a:lnTo>
                        <a:pt x="64" y="206"/>
                      </a:lnTo>
                      <a:lnTo>
                        <a:pt x="65" y="203"/>
                      </a:lnTo>
                      <a:lnTo>
                        <a:pt x="69" y="201"/>
                      </a:lnTo>
                      <a:lnTo>
                        <a:pt x="72" y="198"/>
                      </a:lnTo>
                      <a:lnTo>
                        <a:pt x="76" y="197"/>
                      </a:lnTo>
                      <a:lnTo>
                        <a:pt x="87" y="194"/>
                      </a:lnTo>
                      <a:lnTo>
                        <a:pt x="101" y="192"/>
                      </a:lnTo>
                      <a:lnTo>
                        <a:pt x="117" y="192"/>
                      </a:lnTo>
                      <a:lnTo>
                        <a:pt x="135" y="194"/>
                      </a:lnTo>
                      <a:lnTo>
                        <a:pt x="154" y="195"/>
                      </a:lnTo>
                      <a:lnTo>
                        <a:pt x="175" y="198"/>
                      </a:lnTo>
                      <a:lnTo>
                        <a:pt x="174" y="195"/>
                      </a:lnTo>
                      <a:lnTo>
                        <a:pt x="155" y="153"/>
                      </a:lnTo>
                      <a:lnTo>
                        <a:pt x="139" y="111"/>
                      </a:lnTo>
                      <a:lnTo>
                        <a:pt x="128" y="76"/>
                      </a:lnTo>
                      <a:lnTo>
                        <a:pt x="116" y="74"/>
                      </a:lnTo>
                      <a:lnTo>
                        <a:pt x="106" y="72"/>
                      </a:lnTo>
                      <a:lnTo>
                        <a:pt x="96" y="70"/>
                      </a:lnTo>
                      <a:lnTo>
                        <a:pt x="87" y="70"/>
                      </a:lnTo>
                      <a:lnTo>
                        <a:pt x="80" y="69"/>
                      </a:lnTo>
                      <a:lnTo>
                        <a:pt x="73" y="68"/>
                      </a:lnTo>
                      <a:lnTo>
                        <a:pt x="67" y="68"/>
                      </a:lnTo>
                      <a:lnTo>
                        <a:pt x="64" y="68"/>
                      </a:lnTo>
                      <a:lnTo>
                        <a:pt x="55" y="58"/>
                      </a:lnTo>
                      <a:lnTo>
                        <a:pt x="47" y="49"/>
                      </a:lnTo>
                      <a:lnTo>
                        <a:pt x="38" y="39"/>
                      </a:lnTo>
                      <a:lnTo>
                        <a:pt x="30" y="30"/>
                      </a:lnTo>
                      <a:lnTo>
                        <a:pt x="22" y="21"/>
                      </a:lnTo>
                      <a:lnTo>
                        <a:pt x="15" y="13"/>
                      </a:lnTo>
                      <a:lnTo>
                        <a:pt x="7" y="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d5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4" name="Freeform 317"/>
                <p:cNvSpPr/>
                <p:nvPr/>
              </p:nvSpPr>
              <p:spPr>
                <a:xfrm>
                  <a:off x="6136560" y="3579840"/>
                  <a:ext cx="235080" cy="81720"/>
                </a:xfrm>
                <a:custGeom>
                  <a:avLst/>
                  <a:gdLst>
                    <a:gd name="textAreaLeft" fmla="*/ 0 w 235080"/>
                    <a:gd name="textAreaRight" fmla="*/ 235440 w 235080"/>
                    <a:gd name="textAreaTop" fmla="*/ 0 h 81720"/>
                    <a:gd name="textAreaBottom" fmla="*/ 82080 h 81720"/>
                  </a:gdLst>
                  <a:ahLst/>
                  <a:rect l="textAreaLeft" t="textAreaTop" r="textAreaRight" b="textAreaBottom"/>
                  <a:pathLst>
                    <a:path w="180" h="146">
                      <a:moveTo>
                        <a:pt x="0" y="0"/>
                      </a:moveTo>
                      <a:lnTo>
                        <a:pt x="11" y="35"/>
                      </a:lnTo>
                      <a:lnTo>
                        <a:pt x="27" y="77"/>
                      </a:lnTo>
                      <a:lnTo>
                        <a:pt x="46" y="119"/>
                      </a:lnTo>
                      <a:lnTo>
                        <a:pt x="47" y="122"/>
                      </a:lnTo>
                      <a:lnTo>
                        <a:pt x="64" y="125"/>
                      </a:lnTo>
                      <a:lnTo>
                        <a:pt x="82" y="127"/>
                      </a:lnTo>
                      <a:lnTo>
                        <a:pt x="99" y="130"/>
                      </a:lnTo>
                      <a:lnTo>
                        <a:pt x="117" y="134"/>
                      </a:lnTo>
                      <a:lnTo>
                        <a:pt x="134" y="137"/>
                      </a:lnTo>
                      <a:lnTo>
                        <a:pt x="150" y="140"/>
                      </a:lnTo>
                      <a:lnTo>
                        <a:pt x="166" y="144"/>
                      </a:lnTo>
                      <a:lnTo>
                        <a:pt x="180" y="146"/>
                      </a:lnTo>
                      <a:lnTo>
                        <a:pt x="171" y="131"/>
                      </a:lnTo>
                      <a:lnTo>
                        <a:pt x="152" y="97"/>
                      </a:lnTo>
                      <a:lnTo>
                        <a:pt x="135" y="62"/>
                      </a:lnTo>
                      <a:lnTo>
                        <a:pt x="120" y="26"/>
                      </a:lnTo>
                      <a:lnTo>
                        <a:pt x="118" y="21"/>
                      </a:lnTo>
                      <a:lnTo>
                        <a:pt x="104" y="19"/>
                      </a:lnTo>
                      <a:lnTo>
                        <a:pt x="89" y="16"/>
                      </a:lnTo>
                      <a:lnTo>
                        <a:pt x="74" y="12"/>
                      </a:lnTo>
                      <a:lnTo>
                        <a:pt x="59" y="9"/>
                      </a:lnTo>
                      <a:lnTo>
                        <a:pt x="44" y="7"/>
                      </a:lnTo>
                      <a:lnTo>
                        <a:pt x="29" y="4"/>
                      </a:lnTo>
                      <a:lnTo>
                        <a:pt x="14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d8e3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5" name="Freeform 318"/>
                <p:cNvSpPr/>
                <p:nvPr/>
              </p:nvSpPr>
              <p:spPr>
                <a:xfrm>
                  <a:off x="6290640" y="3591720"/>
                  <a:ext cx="162360" cy="76320"/>
                </a:xfrm>
                <a:custGeom>
                  <a:avLst/>
                  <a:gdLst>
                    <a:gd name="textAreaLeft" fmla="*/ 0 w 162360"/>
                    <a:gd name="textAreaRight" fmla="*/ 162720 w 162360"/>
                    <a:gd name="textAreaTop" fmla="*/ 0 h 76320"/>
                    <a:gd name="textAreaBottom" fmla="*/ 76680 h 76320"/>
                  </a:gdLst>
                  <a:ahLst/>
                  <a:rect l="textAreaLeft" t="textAreaTop" r="textAreaRight" b="textAreaBottom"/>
                  <a:pathLst>
                    <a:path w="124" h="138">
                      <a:moveTo>
                        <a:pt x="0" y="0"/>
                      </a:moveTo>
                      <a:lnTo>
                        <a:pt x="2" y="5"/>
                      </a:lnTo>
                      <a:lnTo>
                        <a:pt x="17" y="41"/>
                      </a:lnTo>
                      <a:lnTo>
                        <a:pt x="34" y="76"/>
                      </a:lnTo>
                      <a:lnTo>
                        <a:pt x="53" y="110"/>
                      </a:lnTo>
                      <a:lnTo>
                        <a:pt x="62" y="125"/>
                      </a:lnTo>
                      <a:lnTo>
                        <a:pt x="74" y="128"/>
                      </a:lnTo>
                      <a:lnTo>
                        <a:pt x="83" y="129"/>
                      </a:lnTo>
                      <a:lnTo>
                        <a:pt x="92" y="132"/>
                      </a:lnTo>
                      <a:lnTo>
                        <a:pt x="102" y="133"/>
                      </a:lnTo>
                      <a:lnTo>
                        <a:pt x="109" y="135"/>
                      </a:lnTo>
                      <a:lnTo>
                        <a:pt x="114" y="136"/>
                      </a:lnTo>
                      <a:lnTo>
                        <a:pt x="120" y="138"/>
                      </a:lnTo>
                      <a:lnTo>
                        <a:pt x="124" y="138"/>
                      </a:lnTo>
                      <a:lnTo>
                        <a:pt x="123" y="119"/>
                      </a:lnTo>
                      <a:lnTo>
                        <a:pt x="121" y="101"/>
                      </a:lnTo>
                      <a:lnTo>
                        <a:pt x="121" y="85"/>
                      </a:lnTo>
                      <a:lnTo>
                        <a:pt x="120" y="70"/>
                      </a:lnTo>
                      <a:lnTo>
                        <a:pt x="120" y="63"/>
                      </a:lnTo>
                      <a:lnTo>
                        <a:pt x="118" y="55"/>
                      </a:lnTo>
                      <a:lnTo>
                        <a:pt x="117" y="48"/>
                      </a:lnTo>
                      <a:lnTo>
                        <a:pt x="113" y="40"/>
                      </a:lnTo>
                      <a:lnTo>
                        <a:pt x="110" y="33"/>
                      </a:lnTo>
                      <a:lnTo>
                        <a:pt x="105" y="25"/>
                      </a:lnTo>
                      <a:lnTo>
                        <a:pt x="98" y="17"/>
                      </a:lnTo>
                      <a:lnTo>
                        <a:pt x="91" y="9"/>
                      </a:lnTo>
                      <a:lnTo>
                        <a:pt x="91" y="10"/>
                      </a:lnTo>
                      <a:lnTo>
                        <a:pt x="89" y="11"/>
                      </a:lnTo>
                      <a:lnTo>
                        <a:pt x="87" y="13"/>
                      </a:lnTo>
                      <a:lnTo>
                        <a:pt x="84" y="15"/>
                      </a:lnTo>
                      <a:lnTo>
                        <a:pt x="81" y="18"/>
                      </a:lnTo>
                      <a:lnTo>
                        <a:pt x="77" y="19"/>
                      </a:lnTo>
                      <a:lnTo>
                        <a:pt x="74" y="21"/>
                      </a:lnTo>
                      <a:lnTo>
                        <a:pt x="69" y="22"/>
                      </a:lnTo>
                      <a:lnTo>
                        <a:pt x="68" y="19"/>
                      </a:lnTo>
                      <a:lnTo>
                        <a:pt x="63" y="18"/>
                      </a:lnTo>
                      <a:lnTo>
                        <a:pt x="58" y="15"/>
                      </a:lnTo>
                      <a:lnTo>
                        <a:pt x="50" y="13"/>
                      </a:lnTo>
                      <a:lnTo>
                        <a:pt x="39" y="10"/>
                      </a:lnTo>
                      <a:lnTo>
                        <a:pt x="28" y="7"/>
                      </a:lnTo>
                      <a:lnTo>
                        <a:pt x="15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db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880" bIns="29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6" name="Freeform 319"/>
                <p:cNvSpPr/>
                <p:nvPr/>
              </p:nvSpPr>
              <p:spPr>
                <a:xfrm>
                  <a:off x="6666840" y="3583080"/>
                  <a:ext cx="399960" cy="78480"/>
                </a:xfrm>
                <a:custGeom>
                  <a:avLst/>
                  <a:gdLst>
                    <a:gd name="textAreaLeft" fmla="*/ 0 w 399960"/>
                    <a:gd name="textAreaRight" fmla="*/ 400320 w 399960"/>
                    <a:gd name="textAreaTop" fmla="*/ 0 h 78480"/>
                    <a:gd name="textAreaBottom" fmla="*/ 78840 h 78480"/>
                  </a:gdLst>
                  <a:ahLst/>
                  <a:rect l="textAreaLeft" t="textAreaTop" r="textAreaRight" b="textAreaBottom"/>
                  <a:pathLst>
                    <a:path w="307" h="141">
                      <a:moveTo>
                        <a:pt x="0" y="13"/>
                      </a:moveTo>
                      <a:lnTo>
                        <a:pt x="29" y="15"/>
                      </a:lnTo>
                      <a:lnTo>
                        <a:pt x="59" y="17"/>
                      </a:lnTo>
                      <a:lnTo>
                        <a:pt x="90" y="22"/>
                      </a:lnTo>
                      <a:lnTo>
                        <a:pt x="121" y="26"/>
                      </a:lnTo>
                      <a:lnTo>
                        <a:pt x="152" y="31"/>
                      </a:lnTo>
                      <a:lnTo>
                        <a:pt x="182" y="35"/>
                      </a:lnTo>
                      <a:lnTo>
                        <a:pt x="212" y="38"/>
                      </a:lnTo>
                      <a:lnTo>
                        <a:pt x="241" y="39"/>
                      </a:lnTo>
                      <a:lnTo>
                        <a:pt x="243" y="34"/>
                      </a:lnTo>
                      <a:lnTo>
                        <a:pt x="247" y="31"/>
                      </a:lnTo>
                      <a:lnTo>
                        <a:pt x="249" y="27"/>
                      </a:lnTo>
                      <a:lnTo>
                        <a:pt x="253" y="24"/>
                      </a:lnTo>
                      <a:lnTo>
                        <a:pt x="261" y="19"/>
                      </a:lnTo>
                      <a:lnTo>
                        <a:pt x="270" y="15"/>
                      </a:lnTo>
                      <a:lnTo>
                        <a:pt x="279" y="12"/>
                      </a:lnTo>
                      <a:lnTo>
                        <a:pt x="288" y="8"/>
                      </a:lnTo>
                      <a:lnTo>
                        <a:pt x="298" y="5"/>
                      </a:lnTo>
                      <a:lnTo>
                        <a:pt x="307" y="0"/>
                      </a:lnTo>
                      <a:lnTo>
                        <a:pt x="307" y="65"/>
                      </a:lnTo>
                      <a:lnTo>
                        <a:pt x="297" y="70"/>
                      </a:lnTo>
                      <a:lnTo>
                        <a:pt x="269" y="87"/>
                      </a:lnTo>
                      <a:lnTo>
                        <a:pt x="251" y="96"/>
                      </a:lnTo>
                      <a:lnTo>
                        <a:pt x="231" y="107"/>
                      </a:lnTo>
                      <a:lnTo>
                        <a:pt x="209" y="117"/>
                      </a:lnTo>
                      <a:lnTo>
                        <a:pt x="187" y="126"/>
                      </a:lnTo>
                      <a:lnTo>
                        <a:pt x="165" y="133"/>
                      </a:lnTo>
                      <a:lnTo>
                        <a:pt x="143" y="138"/>
                      </a:lnTo>
                      <a:lnTo>
                        <a:pt x="132" y="140"/>
                      </a:lnTo>
                      <a:lnTo>
                        <a:pt x="122" y="141"/>
                      </a:lnTo>
                      <a:lnTo>
                        <a:pt x="112" y="141"/>
                      </a:lnTo>
                      <a:lnTo>
                        <a:pt x="103" y="141"/>
                      </a:lnTo>
                      <a:lnTo>
                        <a:pt x="95" y="138"/>
                      </a:lnTo>
                      <a:lnTo>
                        <a:pt x="88" y="136"/>
                      </a:lnTo>
                      <a:lnTo>
                        <a:pt x="82" y="131"/>
                      </a:lnTo>
                      <a:lnTo>
                        <a:pt x="77" y="126"/>
                      </a:lnTo>
                      <a:lnTo>
                        <a:pt x="72" y="119"/>
                      </a:lnTo>
                      <a:lnTo>
                        <a:pt x="68" y="111"/>
                      </a:lnTo>
                      <a:lnTo>
                        <a:pt x="67" y="102"/>
                      </a:lnTo>
                      <a:lnTo>
                        <a:pt x="66" y="91"/>
                      </a:lnTo>
                      <a:lnTo>
                        <a:pt x="61" y="85"/>
                      </a:lnTo>
                      <a:lnTo>
                        <a:pt x="55" y="79"/>
                      </a:lnTo>
                      <a:lnTo>
                        <a:pt x="46" y="73"/>
                      </a:lnTo>
                      <a:lnTo>
                        <a:pt x="38" y="66"/>
                      </a:lnTo>
                      <a:lnTo>
                        <a:pt x="30" y="61"/>
                      </a:lnTo>
                      <a:lnTo>
                        <a:pt x="23" y="55"/>
                      </a:lnTo>
                      <a:lnTo>
                        <a:pt x="16" y="53"/>
                      </a:lnTo>
                      <a:lnTo>
                        <a:pt x="12" y="51"/>
                      </a:lnTo>
                      <a:lnTo>
                        <a:pt x="12" y="39"/>
                      </a:lnTo>
                      <a:lnTo>
                        <a:pt x="12" y="26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f3f3f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7" name="Freeform 320"/>
                <p:cNvSpPr/>
                <p:nvPr/>
              </p:nvSpPr>
              <p:spPr>
                <a:xfrm>
                  <a:off x="6666840" y="3589560"/>
                  <a:ext cx="159120" cy="72000"/>
                </a:xfrm>
                <a:custGeom>
                  <a:avLst/>
                  <a:gdLst>
                    <a:gd name="textAreaLeft" fmla="*/ 0 w 159120"/>
                    <a:gd name="textAreaRight" fmla="*/ 159480 w 159120"/>
                    <a:gd name="textAreaTop" fmla="*/ 0 h 72000"/>
                    <a:gd name="textAreaBottom" fmla="*/ 72360 h 72000"/>
                  </a:gdLst>
                  <a:ahLst/>
                  <a:rect l="textAreaLeft" t="textAreaTop" r="textAreaRight" b="textAreaBottom"/>
                  <a:pathLst>
                    <a:path w="122" h="128">
                      <a:moveTo>
                        <a:pt x="95" y="9"/>
                      </a:moveTo>
                      <a:lnTo>
                        <a:pt x="122" y="128"/>
                      </a:lnTo>
                      <a:lnTo>
                        <a:pt x="110" y="128"/>
                      </a:lnTo>
                      <a:lnTo>
                        <a:pt x="100" y="127"/>
                      </a:lnTo>
                      <a:lnTo>
                        <a:pt x="90" y="124"/>
                      </a:lnTo>
                      <a:lnTo>
                        <a:pt x="82" y="118"/>
                      </a:lnTo>
                      <a:lnTo>
                        <a:pt x="79" y="116"/>
                      </a:lnTo>
                      <a:lnTo>
                        <a:pt x="75" y="112"/>
                      </a:lnTo>
                      <a:lnTo>
                        <a:pt x="72" y="108"/>
                      </a:lnTo>
                      <a:lnTo>
                        <a:pt x="71" y="102"/>
                      </a:lnTo>
                      <a:lnTo>
                        <a:pt x="68" y="97"/>
                      </a:lnTo>
                      <a:lnTo>
                        <a:pt x="67" y="91"/>
                      </a:lnTo>
                      <a:lnTo>
                        <a:pt x="66" y="85"/>
                      </a:lnTo>
                      <a:lnTo>
                        <a:pt x="66" y="78"/>
                      </a:lnTo>
                      <a:lnTo>
                        <a:pt x="61" y="72"/>
                      </a:lnTo>
                      <a:lnTo>
                        <a:pt x="55" y="66"/>
                      </a:lnTo>
                      <a:lnTo>
                        <a:pt x="46" y="60"/>
                      </a:lnTo>
                      <a:lnTo>
                        <a:pt x="38" y="53"/>
                      </a:lnTo>
                      <a:lnTo>
                        <a:pt x="30" y="48"/>
                      </a:lnTo>
                      <a:lnTo>
                        <a:pt x="23" y="42"/>
                      </a:lnTo>
                      <a:lnTo>
                        <a:pt x="16" y="40"/>
                      </a:lnTo>
                      <a:lnTo>
                        <a:pt x="12" y="38"/>
                      </a:lnTo>
                      <a:lnTo>
                        <a:pt x="12" y="26"/>
                      </a:lnTo>
                      <a:lnTo>
                        <a:pt x="12" y="13"/>
                      </a:lnTo>
                      <a:lnTo>
                        <a:pt x="0" y="0"/>
                      </a:lnTo>
                      <a:lnTo>
                        <a:pt x="12" y="0"/>
                      </a:lnTo>
                      <a:lnTo>
                        <a:pt x="23" y="0"/>
                      </a:lnTo>
                      <a:lnTo>
                        <a:pt x="35" y="2"/>
                      </a:lnTo>
                      <a:lnTo>
                        <a:pt x="46" y="3"/>
                      </a:lnTo>
                      <a:lnTo>
                        <a:pt x="59" y="4"/>
                      </a:lnTo>
                      <a:lnTo>
                        <a:pt x="71" y="6"/>
                      </a:lnTo>
                      <a:lnTo>
                        <a:pt x="82" y="7"/>
                      </a:lnTo>
                      <a:lnTo>
                        <a:pt x="95" y="9"/>
                      </a:lnTo>
                      <a:close/>
                    </a:path>
                  </a:pathLst>
                </a:custGeom>
                <a:solidFill>
                  <a:srgbClr val="f2f2f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8" name="Freeform 321"/>
                <p:cNvSpPr/>
                <p:nvPr/>
              </p:nvSpPr>
              <p:spPr>
                <a:xfrm>
                  <a:off x="6792480" y="3586320"/>
                  <a:ext cx="271800" cy="75240"/>
                </a:xfrm>
                <a:custGeom>
                  <a:avLst/>
                  <a:gdLst>
                    <a:gd name="textAreaLeft" fmla="*/ 0 w 271800"/>
                    <a:gd name="textAreaRight" fmla="*/ 272160 w 271800"/>
                    <a:gd name="textAreaTop" fmla="*/ 0 h 75240"/>
                    <a:gd name="textAreaBottom" fmla="*/ 75600 h 75240"/>
                  </a:gdLst>
                  <a:ahLst/>
                  <a:rect l="textAreaLeft" t="textAreaTop" r="textAreaRight" b="textAreaBottom"/>
                  <a:pathLst>
                    <a:path w="208" h="133">
                      <a:moveTo>
                        <a:pt x="27" y="133"/>
                      </a:moveTo>
                      <a:lnTo>
                        <a:pt x="0" y="14"/>
                      </a:lnTo>
                      <a:lnTo>
                        <a:pt x="19" y="18"/>
                      </a:lnTo>
                      <a:lnTo>
                        <a:pt x="37" y="20"/>
                      </a:lnTo>
                      <a:lnTo>
                        <a:pt x="56" y="23"/>
                      </a:lnTo>
                      <a:lnTo>
                        <a:pt x="74" y="26"/>
                      </a:lnTo>
                      <a:lnTo>
                        <a:pt x="93" y="27"/>
                      </a:lnTo>
                      <a:lnTo>
                        <a:pt x="111" y="30"/>
                      </a:lnTo>
                      <a:lnTo>
                        <a:pt x="129" y="31"/>
                      </a:lnTo>
                      <a:lnTo>
                        <a:pt x="146" y="31"/>
                      </a:lnTo>
                      <a:lnTo>
                        <a:pt x="149" y="24"/>
                      </a:lnTo>
                      <a:lnTo>
                        <a:pt x="154" y="19"/>
                      </a:lnTo>
                      <a:lnTo>
                        <a:pt x="160" y="15"/>
                      </a:lnTo>
                      <a:lnTo>
                        <a:pt x="167" y="11"/>
                      </a:lnTo>
                      <a:lnTo>
                        <a:pt x="173" y="8"/>
                      </a:lnTo>
                      <a:lnTo>
                        <a:pt x="181" y="5"/>
                      </a:lnTo>
                      <a:lnTo>
                        <a:pt x="188" y="3"/>
                      </a:lnTo>
                      <a:lnTo>
                        <a:pt x="195" y="0"/>
                      </a:lnTo>
                      <a:lnTo>
                        <a:pt x="208" y="58"/>
                      </a:lnTo>
                      <a:lnTo>
                        <a:pt x="197" y="65"/>
                      </a:lnTo>
                      <a:lnTo>
                        <a:pt x="181" y="76"/>
                      </a:lnTo>
                      <a:lnTo>
                        <a:pt x="159" y="87"/>
                      </a:lnTo>
                      <a:lnTo>
                        <a:pt x="133" y="99"/>
                      </a:lnTo>
                      <a:lnTo>
                        <a:pt x="107" y="111"/>
                      </a:lnTo>
                      <a:lnTo>
                        <a:pt x="79" y="122"/>
                      </a:lnTo>
                      <a:lnTo>
                        <a:pt x="66" y="126"/>
                      </a:lnTo>
                      <a:lnTo>
                        <a:pt x="52" y="129"/>
                      </a:lnTo>
                      <a:lnTo>
                        <a:pt x="39" y="132"/>
                      </a:lnTo>
                      <a:lnTo>
                        <a:pt x="27" y="133"/>
                      </a:lnTo>
                      <a:close/>
                    </a:path>
                  </a:pathLst>
                </a:custGeom>
                <a:solidFill>
                  <a:srgbClr val="f2e9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9" name="Freeform 322"/>
                <p:cNvSpPr/>
                <p:nvPr/>
              </p:nvSpPr>
              <p:spPr>
                <a:xfrm>
                  <a:off x="7046280" y="3583080"/>
                  <a:ext cx="20520" cy="36720"/>
                </a:xfrm>
                <a:custGeom>
                  <a:avLst/>
                  <a:gdLst>
                    <a:gd name="textAreaLeft" fmla="*/ 0 w 20520"/>
                    <a:gd name="textAreaRight" fmla="*/ 20880 w 20520"/>
                    <a:gd name="textAreaTop" fmla="*/ 0 h 36720"/>
                    <a:gd name="textAreaBottom" fmla="*/ 37080 h 36720"/>
                  </a:gdLst>
                  <a:ahLst/>
                  <a:rect l="textAreaLeft" t="textAreaTop" r="textAreaRight" b="textAreaBottom"/>
                  <a:pathLst>
                    <a:path w="17" h="66">
                      <a:moveTo>
                        <a:pt x="13" y="66"/>
                      </a:moveTo>
                      <a:lnTo>
                        <a:pt x="0" y="8"/>
                      </a:lnTo>
                      <a:lnTo>
                        <a:pt x="2" y="7"/>
                      </a:lnTo>
                      <a:lnTo>
                        <a:pt x="4" y="7"/>
                      </a:lnTo>
                      <a:lnTo>
                        <a:pt x="7" y="5"/>
                      </a:lnTo>
                      <a:lnTo>
                        <a:pt x="9" y="4"/>
                      </a:lnTo>
                      <a:lnTo>
                        <a:pt x="11" y="4"/>
                      </a:lnTo>
                      <a:lnTo>
                        <a:pt x="12" y="3"/>
                      </a:lnTo>
                      <a:lnTo>
                        <a:pt x="15" y="1"/>
                      </a:lnTo>
                      <a:lnTo>
                        <a:pt x="17" y="0"/>
                      </a:lnTo>
                      <a:lnTo>
                        <a:pt x="17" y="65"/>
                      </a:lnTo>
                      <a:lnTo>
                        <a:pt x="17" y="65"/>
                      </a:lnTo>
                      <a:lnTo>
                        <a:pt x="17" y="65"/>
                      </a:lnTo>
                      <a:lnTo>
                        <a:pt x="16" y="65"/>
                      </a:lnTo>
                      <a:lnTo>
                        <a:pt x="16" y="65"/>
                      </a:lnTo>
                      <a:lnTo>
                        <a:pt x="16" y="65"/>
                      </a:lnTo>
                      <a:lnTo>
                        <a:pt x="15" y="66"/>
                      </a:lnTo>
                      <a:lnTo>
                        <a:pt x="13" y="66"/>
                      </a:lnTo>
                      <a:lnTo>
                        <a:pt x="13" y="66"/>
                      </a:lnTo>
                      <a:close/>
                    </a:path>
                  </a:pathLst>
                </a:custGeom>
                <a:solidFill>
                  <a:srgbClr val="f2e1c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0" name="Freeform 323"/>
                <p:cNvSpPr/>
                <p:nvPr/>
              </p:nvSpPr>
              <p:spPr>
                <a:xfrm>
                  <a:off x="6666840" y="3583080"/>
                  <a:ext cx="399960" cy="78480"/>
                </a:xfrm>
                <a:custGeom>
                  <a:avLst/>
                  <a:gdLst>
                    <a:gd name="textAreaLeft" fmla="*/ 0 w 399960"/>
                    <a:gd name="textAreaRight" fmla="*/ 400320 w 399960"/>
                    <a:gd name="textAreaTop" fmla="*/ 0 h 78480"/>
                    <a:gd name="textAreaBottom" fmla="*/ 78840 h 78480"/>
                  </a:gdLst>
                  <a:ahLst/>
                  <a:rect l="textAreaLeft" t="textAreaTop" r="textAreaRight" b="textAreaBottom"/>
                  <a:pathLst>
                    <a:path w="307" h="141">
                      <a:moveTo>
                        <a:pt x="0" y="13"/>
                      </a:moveTo>
                      <a:lnTo>
                        <a:pt x="29" y="15"/>
                      </a:lnTo>
                      <a:lnTo>
                        <a:pt x="59" y="17"/>
                      </a:lnTo>
                      <a:lnTo>
                        <a:pt x="90" y="22"/>
                      </a:lnTo>
                      <a:lnTo>
                        <a:pt x="121" y="26"/>
                      </a:lnTo>
                      <a:lnTo>
                        <a:pt x="152" y="31"/>
                      </a:lnTo>
                      <a:lnTo>
                        <a:pt x="182" y="35"/>
                      </a:lnTo>
                      <a:lnTo>
                        <a:pt x="212" y="38"/>
                      </a:lnTo>
                      <a:lnTo>
                        <a:pt x="241" y="39"/>
                      </a:lnTo>
                      <a:lnTo>
                        <a:pt x="243" y="34"/>
                      </a:lnTo>
                      <a:lnTo>
                        <a:pt x="247" y="31"/>
                      </a:lnTo>
                      <a:lnTo>
                        <a:pt x="249" y="27"/>
                      </a:lnTo>
                      <a:lnTo>
                        <a:pt x="253" y="24"/>
                      </a:lnTo>
                      <a:lnTo>
                        <a:pt x="261" y="19"/>
                      </a:lnTo>
                      <a:lnTo>
                        <a:pt x="270" y="15"/>
                      </a:lnTo>
                      <a:lnTo>
                        <a:pt x="279" y="12"/>
                      </a:lnTo>
                      <a:lnTo>
                        <a:pt x="288" y="8"/>
                      </a:lnTo>
                      <a:lnTo>
                        <a:pt x="298" y="5"/>
                      </a:lnTo>
                      <a:lnTo>
                        <a:pt x="307" y="0"/>
                      </a:lnTo>
                      <a:lnTo>
                        <a:pt x="307" y="65"/>
                      </a:lnTo>
                      <a:lnTo>
                        <a:pt x="297" y="70"/>
                      </a:lnTo>
                      <a:lnTo>
                        <a:pt x="269" y="87"/>
                      </a:lnTo>
                      <a:lnTo>
                        <a:pt x="251" y="96"/>
                      </a:lnTo>
                      <a:lnTo>
                        <a:pt x="231" y="107"/>
                      </a:lnTo>
                      <a:lnTo>
                        <a:pt x="209" y="117"/>
                      </a:lnTo>
                      <a:lnTo>
                        <a:pt x="187" y="126"/>
                      </a:lnTo>
                      <a:lnTo>
                        <a:pt x="165" y="133"/>
                      </a:lnTo>
                      <a:lnTo>
                        <a:pt x="143" y="138"/>
                      </a:lnTo>
                      <a:lnTo>
                        <a:pt x="132" y="140"/>
                      </a:lnTo>
                      <a:lnTo>
                        <a:pt x="122" y="141"/>
                      </a:lnTo>
                      <a:lnTo>
                        <a:pt x="112" y="141"/>
                      </a:lnTo>
                      <a:lnTo>
                        <a:pt x="103" y="141"/>
                      </a:lnTo>
                      <a:lnTo>
                        <a:pt x="95" y="138"/>
                      </a:lnTo>
                      <a:lnTo>
                        <a:pt x="88" y="136"/>
                      </a:lnTo>
                      <a:lnTo>
                        <a:pt x="82" y="131"/>
                      </a:lnTo>
                      <a:lnTo>
                        <a:pt x="77" y="126"/>
                      </a:lnTo>
                      <a:lnTo>
                        <a:pt x="72" y="119"/>
                      </a:lnTo>
                      <a:lnTo>
                        <a:pt x="68" y="111"/>
                      </a:lnTo>
                      <a:lnTo>
                        <a:pt x="67" y="102"/>
                      </a:lnTo>
                      <a:lnTo>
                        <a:pt x="66" y="91"/>
                      </a:lnTo>
                      <a:lnTo>
                        <a:pt x="61" y="85"/>
                      </a:lnTo>
                      <a:lnTo>
                        <a:pt x="55" y="79"/>
                      </a:lnTo>
                      <a:lnTo>
                        <a:pt x="46" y="73"/>
                      </a:lnTo>
                      <a:lnTo>
                        <a:pt x="38" y="66"/>
                      </a:lnTo>
                      <a:lnTo>
                        <a:pt x="30" y="61"/>
                      </a:lnTo>
                      <a:lnTo>
                        <a:pt x="23" y="55"/>
                      </a:lnTo>
                      <a:lnTo>
                        <a:pt x="16" y="53"/>
                      </a:lnTo>
                      <a:lnTo>
                        <a:pt x="12" y="51"/>
                      </a:lnTo>
                      <a:lnTo>
                        <a:pt x="12" y="39"/>
                      </a:lnTo>
                      <a:lnTo>
                        <a:pt x="12" y="26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f3dc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1" name="Freeform 324"/>
                <p:cNvSpPr/>
                <p:nvPr/>
              </p:nvSpPr>
              <p:spPr>
                <a:xfrm>
                  <a:off x="6666840" y="3583080"/>
                  <a:ext cx="399960" cy="78480"/>
                </a:xfrm>
                <a:custGeom>
                  <a:avLst/>
                  <a:gdLst>
                    <a:gd name="textAreaLeft" fmla="*/ 0 w 399960"/>
                    <a:gd name="textAreaRight" fmla="*/ 400320 w 399960"/>
                    <a:gd name="textAreaTop" fmla="*/ 0 h 78480"/>
                    <a:gd name="textAreaBottom" fmla="*/ 78840 h 78480"/>
                  </a:gdLst>
                  <a:ahLst/>
                  <a:rect l="textAreaLeft" t="textAreaTop" r="textAreaRight" b="textAreaBottom"/>
                  <a:pathLst>
                    <a:path w="307" h="141">
                      <a:moveTo>
                        <a:pt x="0" y="13"/>
                      </a:moveTo>
                      <a:lnTo>
                        <a:pt x="29" y="15"/>
                      </a:lnTo>
                      <a:lnTo>
                        <a:pt x="59" y="17"/>
                      </a:lnTo>
                      <a:lnTo>
                        <a:pt x="90" y="22"/>
                      </a:lnTo>
                      <a:lnTo>
                        <a:pt x="121" y="26"/>
                      </a:lnTo>
                      <a:lnTo>
                        <a:pt x="152" y="31"/>
                      </a:lnTo>
                      <a:lnTo>
                        <a:pt x="182" y="35"/>
                      </a:lnTo>
                      <a:lnTo>
                        <a:pt x="212" y="38"/>
                      </a:lnTo>
                      <a:lnTo>
                        <a:pt x="241" y="39"/>
                      </a:lnTo>
                      <a:lnTo>
                        <a:pt x="243" y="34"/>
                      </a:lnTo>
                      <a:lnTo>
                        <a:pt x="247" y="31"/>
                      </a:lnTo>
                      <a:lnTo>
                        <a:pt x="249" y="27"/>
                      </a:lnTo>
                      <a:lnTo>
                        <a:pt x="253" y="24"/>
                      </a:lnTo>
                      <a:lnTo>
                        <a:pt x="261" y="19"/>
                      </a:lnTo>
                      <a:lnTo>
                        <a:pt x="270" y="15"/>
                      </a:lnTo>
                      <a:lnTo>
                        <a:pt x="279" y="12"/>
                      </a:lnTo>
                      <a:lnTo>
                        <a:pt x="288" y="8"/>
                      </a:lnTo>
                      <a:lnTo>
                        <a:pt x="298" y="5"/>
                      </a:lnTo>
                      <a:lnTo>
                        <a:pt x="307" y="0"/>
                      </a:lnTo>
                      <a:lnTo>
                        <a:pt x="307" y="65"/>
                      </a:lnTo>
                      <a:lnTo>
                        <a:pt x="297" y="70"/>
                      </a:lnTo>
                      <a:lnTo>
                        <a:pt x="269" y="87"/>
                      </a:lnTo>
                      <a:lnTo>
                        <a:pt x="251" y="96"/>
                      </a:lnTo>
                      <a:lnTo>
                        <a:pt x="231" y="107"/>
                      </a:lnTo>
                      <a:lnTo>
                        <a:pt x="209" y="117"/>
                      </a:lnTo>
                      <a:lnTo>
                        <a:pt x="187" y="126"/>
                      </a:lnTo>
                      <a:lnTo>
                        <a:pt x="165" y="133"/>
                      </a:lnTo>
                      <a:lnTo>
                        <a:pt x="143" y="138"/>
                      </a:lnTo>
                      <a:lnTo>
                        <a:pt x="132" y="140"/>
                      </a:lnTo>
                      <a:lnTo>
                        <a:pt x="122" y="141"/>
                      </a:lnTo>
                      <a:lnTo>
                        <a:pt x="112" y="141"/>
                      </a:lnTo>
                      <a:lnTo>
                        <a:pt x="103" y="141"/>
                      </a:lnTo>
                      <a:lnTo>
                        <a:pt x="95" y="138"/>
                      </a:lnTo>
                      <a:lnTo>
                        <a:pt x="88" y="136"/>
                      </a:lnTo>
                      <a:lnTo>
                        <a:pt x="82" y="131"/>
                      </a:lnTo>
                      <a:lnTo>
                        <a:pt x="77" y="126"/>
                      </a:lnTo>
                      <a:lnTo>
                        <a:pt x="72" y="119"/>
                      </a:lnTo>
                      <a:lnTo>
                        <a:pt x="68" y="111"/>
                      </a:lnTo>
                      <a:lnTo>
                        <a:pt x="67" y="102"/>
                      </a:lnTo>
                      <a:lnTo>
                        <a:pt x="66" y="91"/>
                      </a:lnTo>
                      <a:lnTo>
                        <a:pt x="61" y="85"/>
                      </a:lnTo>
                      <a:lnTo>
                        <a:pt x="55" y="79"/>
                      </a:lnTo>
                      <a:lnTo>
                        <a:pt x="46" y="73"/>
                      </a:lnTo>
                      <a:lnTo>
                        <a:pt x="38" y="66"/>
                      </a:lnTo>
                      <a:lnTo>
                        <a:pt x="30" y="61"/>
                      </a:lnTo>
                      <a:lnTo>
                        <a:pt x="23" y="55"/>
                      </a:lnTo>
                      <a:lnTo>
                        <a:pt x="16" y="53"/>
                      </a:lnTo>
                      <a:lnTo>
                        <a:pt x="12" y="51"/>
                      </a:lnTo>
                      <a:lnTo>
                        <a:pt x="12" y="39"/>
                      </a:lnTo>
                      <a:lnTo>
                        <a:pt x="12" y="26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d9d9d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2" name="Freeform 325"/>
                <p:cNvSpPr/>
                <p:nvPr/>
              </p:nvSpPr>
              <p:spPr>
                <a:xfrm>
                  <a:off x="6719760" y="3591720"/>
                  <a:ext cx="38880" cy="6120"/>
                </a:xfrm>
                <a:custGeom>
                  <a:avLst/>
                  <a:gdLst>
                    <a:gd name="textAreaLeft" fmla="*/ 0 w 38880"/>
                    <a:gd name="textAreaRight" fmla="*/ 39240 w 38880"/>
                    <a:gd name="textAreaTop" fmla="*/ 0 h 6120"/>
                    <a:gd name="textAreaBottom" fmla="*/ 6480 h 6120"/>
                  </a:gdLst>
                  <a:ahLst/>
                  <a:rect l="textAreaLeft" t="textAreaTop" r="textAreaRight" b="textAreaBottom"/>
                  <a:pathLst>
                    <a:path w="30" h="12">
                      <a:moveTo>
                        <a:pt x="30" y="4"/>
                      </a:moveTo>
                      <a:lnTo>
                        <a:pt x="22" y="12"/>
                      </a:lnTo>
                      <a:lnTo>
                        <a:pt x="0" y="0"/>
                      </a:lnTo>
                      <a:lnTo>
                        <a:pt x="22" y="12"/>
                      </a:lnTo>
                      <a:lnTo>
                        <a:pt x="30" y="4"/>
                      </a:lnTo>
                    </a:path>
                  </a:pathLst>
                </a:custGeom>
                <a:noFill/>
                <a:ln w="0">
                  <a:solidFill>
                    <a:srgbClr val="40404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3" name="Freeform 326"/>
                <p:cNvSpPr/>
                <p:nvPr/>
              </p:nvSpPr>
              <p:spPr>
                <a:xfrm>
                  <a:off x="6706440" y="3591720"/>
                  <a:ext cx="41400" cy="24840"/>
                </a:xfrm>
                <a:custGeom>
                  <a:avLst/>
                  <a:gdLst>
                    <a:gd name="textAreaLeft" fmla="*/ 0 w 41400"/>
                    <a:gd name="textAreaRight" fmla="*/ 41760 w 41400"/>
                    <a:gd name="textAreaTop" fmla="*/ 0 h 24840"/>
                    <a:gd name="textAreaBottom" fmla="*/ 25200 h 24840"/>
                  </a:gdLst>
                  <a:ahLst/>
                  <a:rect l="textAreaLeft" t="textAreaTop" r="textAreaRight" b="textAreaBottom"/>
                  <a:pathLst>
                    <a:path w="34" h="45">
                      <a:moveTo>
                        <a:pt x="12" y="0"/>
                      </a:moveTo>
                      <a:lnTo>
                        <a:pt x="34" y="12"/>
                      </a:lnTo>
                      <a:lnTo>
                        <a:pt x="0" y="45"/>
                      </a:lnTo>
                      <a:lnTo>
                        <a:pt x="34" y="12"/>
                      </a:lnTo>
                      <a:lnTo>
                        <a:pt x="12" y="0"/>
                      </a:lnTo>
                    </a:path>
                  </a:pathLst>
                </a:custGeom>
                <a:noFill/>
                <a:ln w="0">
                  <a:solidFill>
                    <a:srgbClr val="40404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4" name="Freeform 327"/>
                <p:cNvSpPr/>
                <p:nvPr/>
              </p:nvSpPr>
              <p:spPr>
                <a:xfrm>
                  <a:off x="6748200" y="3593160"/>
                  <a:ext cx="169920" cy="29880"/>
                </a:xfrm>
                <a:custGeom>
                  <a:avLst/>
                  <a:gdLst>
                    <a:gd name="textAreaLeft" fmla="*/ 0 w 169920"/>
                    <a:gd name="textAreaRight" fmla="*/ 170280 w 169920"/>
                    <a:gd name="textAreaTop" fmla="*/ 0 h 29880"/>
                    <a:gd name="textAreaBottom" fmla="*/ 30240 h 29880"/>
                  </a:gdLst>
                  <a:ahLst/>
                  <a:rect l="textAreaLeft" t="textAreaTop" r="textAreaRight" b="textAreaBottom"/>
                  <a:pathLst>
                    <a:path w="128" h="53">
                      <a:moveTo>
                        <a:pt x="128" y="17"/>
                      </a:moveTo>
                      <a:lnTo>
                        <a:pt x="92" y="53"/>
                      </a:lnTo>
                      <a:lnTo>
                        <a:pt x="0" y="8"/>
                      </a:lnTo>
                      <a:lnTo>
                        <a:pt x="8" y="0"/>
                      </a:lnTo>
                      <a:lnTo>
                        <a:pt x="0" y="8"/>
                      </a:lnTo>
                      <a:lnTo>
                        <a:pt x="92" y="53"/>
                      </a:lnTo>
                      <a:lnTo>
                        <a:pt x="128" y="17"/>
                      </a:lnTo>
                    </a:path>
                  </a:pathLst>
                </a:custGeom>
                <a:noFill/>
                <a:ln w="0">
                  <a:solidFill>
                    <a:srgbClr val="40404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5" name="Freeform 328"/>
                <p:cNvSpPr/>
                <p:nvPr/>
              </p:nvSpPr>
              <p:spPr>
                <a:xfrm>
                  <a:off x="6748200" y="3597840"/>
                  <a:ext cx="122400" cy="58680"/>
                </a:xfrm>
                <a:custGeom>
                  <a:avLst/>
                  <a:gdLst>
                    <a:gd name="textAreaLeft" fmla="*/ 0 w 122400"/>
                    <a:gd name="textAreaRight" fmla="*/ 122760 w 122400"/>
                    <a:gd name="textAreaTop" fmla="*/ 0 h 58680"/>
                    <a:gd name="textAreaBottom" fmla="*/ 59040 h 58680"/>
                  </a:gdLst>
                  <a:ahLst/>
                  <a:rect l="textAreaLeft" t="textAreaTop" r="textAreaRight" b="textAreaBottom"/>
                  <a:pathLst>
                    <a:path w="92" h="107">
                      <a:moveTo>
                        <a:pt x="0" y="0"/>
                      </a:moveTo>
                      <a:lnTo>
                        <a:pt x="92" y="45"/>
                      </a:lnTo>
                      <a:lnTo>
                        <a:pt x="26" y="107"/>
                      </a:lnTo>
                      <a:lnTo>
                        <a:pt x="17" y="103"/>
                      </a:lnTo>
                      <a:lnTo>
                        <a:pt x="26" y="107"/>
                      </a:lnTo>
                      <a:lnTo>
                        <a:pt x="92" y="45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40404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6" name="Freeform 329"/>
                <p:cNvSpPr/>
                <p:nvPr/>
              </p:nvSpPr>
              <p:spPr>
                <a:xfrm>
                  <a:off x="6706440" y="3597840"/>
                  <a:ext cx="41400" cy="18360"/>
                </a:xfrm>
                <a:custGeom>
                  <a:avLst/>
                  <a:gdLst>
                    <a:gd name="textAreaLeft" fmla="*/ 0 w 41400"/>
                    <a:gd name="textAreaRight" fmla="*/ 41760 w 41400"/>
                    <a:gd name="textAreaTop" fmla="*/ 0 h 18360"/>
                    <a:gd name="textAreaBottom" fmla="*/ 18720 h 18360"/>
                  </a:gdLst>
                  <a:ahLst/>
                  <a:rect l="textAreaLeft" t="textAreaTop" r="textAreaRight" b="textAreaBottom"/>
                  <a:pathLst>
                    <a:path w="34" h="33">
                      <a:moveTo>
                        <a:pt x="0" y="33"/>
                      </a:moveTo>
                      <a:lnTo>
                        <a:pt x="34" y="0"/>
                      </a:lnTo>
                      <a:lnTo>
                        <a:pt x="0" y="33"/>
                      </a:lnTo>
                    </a:path>
                  </a:pathLst>
                </a:custGeom>
                <a:noFill/>
                <a:ln w="0">
                  <a:solidFill>
                    <a:srgbClr val="40404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7" name="Freeform 330"/>
                <p:cNvSpPr/>
                <p:nvPr/>
              </p:nvSpPr>
              <p:spPr>
                <a:xfrm>
                  <a:off x="6771600" y="3654720"/>
                  <a:ext cx="12960" cy="3240"/>
                </a:xfrm>
                <a:custGeom>
                  <a:avLst/>
                  <a:gdLst>
                    <a:gd name="textAreaLeft" fmla="*/ 0 w 12960"/>
                    <a:gd name="textAreaRight" fmla="*/ 13320 w 12960"/>
                    <a:gd name="textAreaTop" fmla="*/ 0 h 3240"/>
                    <a:gd name="textAreaBottom" fmla="*/ 3600 h 3240"/>
                  </a:gdLst>
                  <a:ahLst/>
                  <a:rect l="textAreaLeft" t="textAreaTop" r="textAreaRight" b="textAreaBottom"/>
                  <a:pathLst>
                    <a:path w="9" h="6">
                      <a:moveTo>
                        <a:pt x="0" y="0"/>
                      </a:moveTo>
                      <a:lnTo>
                        <a:pt x="9" y="4"/>
                      </a:lnTo>
                      <a:lnTo>
                        <a:pt x="8" y="6"/>
                      </a:lnTo>
                      <a:lnTo>
                        <a:pt x="9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40404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8" name="Freeform 331"/>
                <p:cNvSpPr/>
                <p:nvPr/>
              </p:nvSpPr>
              <p:spPr>
                <a:xfrm>
                  <a:off x="6996240" y="3596400"/>
                  <a:ext cx="70200" cy="12960"/>
                </a:xfrm>
                <a:custGeom>
                  <a:avLst/>
                  <a:gdLst>
                    <a:gd name="textAreaLeft" fmla="*/ 0 w 70200"/>
                    <a:gd name="textAreaRight" fmla="*/ 70560 w 70200"/>
                    <a:gd name="textAreaTop" fmla="*/ 0 h 12960"/>
                    <a:gd name="textAreaBottom" fmla="*/ 13320 h 12960"/>
                  </a:gdLst>
                  <a:ahLst/>
                  <a:rect l="textAreaLeft" t="textAreaTop" r="textAreaRight" b="textAreaBottom"/>
                  <a:pathLst>
                    <a:path w="54" h="26">
                      <a:moveTo>
                        <a:pt x="54" y="26"/>
                      </a:moveTo>
                      <a:lnTo>
                        <a:pt x="0" y="0"/>
                      </a:lnTo>
                      <a:lnTo>
                        <a:pt x="54" y="26"/>
                      </a:lnTo>
                    </a:path>
                  </a:pathLst>
                </a:custGeom>
                <a:noFill/>
                <a:ln w="0">
                  <a:solidFill>
                    <a:srgbClr val="40404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9" name="Freeform 332"/>
                <p:cNvSpPr/>
                <p:nvPr/>
              </p:nvSpPr>
              <p:spPr>
                <a:xfrm>
                  <a:off x="6996240" y="3596400"/>
                  <a:ext cx="70200" cy="12960"/>
                </a:xfrm>
                <a:custGeom>
                  <a:avLst/>
                  <a:gdLst>
                    <a:gd name="textAreaLeft" fmla="*/ 0 w 70200"/>
                    <a:gd name="textAreaRight" fmla="*/ 70560 w 70200"/>
                    <a:gd name="textAreaTop" fmla="*/ 0 h 12960"/>
                    <a:gd name="textAreaBottom" fmla="*/ 13320 h 12960"/>
                  </a:gdLst>
                  <a:ahLst/>
                  <a:rect l="textAreaLeft" t="textAreaTop" r="textAreaRight" b="textAreaBottom"/>
                  <a:pathLst>
                    <a:path w="54" h="26">
                      <a:moveTo>
                        <a:pt x="0" y="0"/>
                      </a:moveTo>
                      <a:lnTo>
                        <a:pt x="54" y="26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40404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0" name="Freeform 333"/>
                <p:cNvSpPr/>
                <p:nvPr/>
              </p:nvSpPr>
              <p:spPr>
                <a:xfrm>
                  <a:off x="7046280" y="3614760"/>
                  <a:ext cx="20520" cy="8280"/>
                </a:xfrm>
                <a:custGeom>
                  <a:avLst/>
                  <a:gdLst>
                    <a:gd name="textAreaLeft" fmla="*/ 0 w 20520"/>
                    <a:gd name="textAreaRight" fmla="*/ 20880 w 20520"/>
                    <a:gd name="textAreaTop" fmla="*/ 0 h 8280"/>
                    <a:gd name="textAreaBottom" fmla="*/ 8640 h 8280"/>
                  </a:gdLst>
                  <a:ahLst/>
                  <a:rect l="textAreaLeft" t="textAreaTop" r="textAreaRight" b="textAreaBottom"/>
                  <a:pathLst>
                    <a:path w="16" h="16">
                      <a:moveTo>
                        <a:pt x="16" y="0"/>
                      </a:moveTo>
                      <a:lnTo>
                        <a:pt x="0" y="16"/>
                      </a:lnTo>
                      <a:lnTo>
                        <a:pt x="16" y="0"/>
                      </a:lnTo>
                    </a:path>
                  </a:pathLst>
                </a:custGeom>
                <a:noFill/>
                <a:ln w="0">
                  <a:solidFill>
                    <a:srgbClr val="40404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1" name="Freeform 334"/>
                <p:cNvSpPr/>
                <p:nvPr/>
              </p:nvSpPr>
              <p:spPr>
                <a:xfrm>
                  <a:off x="6870600" y="3602880"/>
                  <a:ext cx="93960" cy="38520"/>
                </a:xfrm>
                <a:custGeom>
                  <a:avLst/>
                  <a:gdLst>
                    <a:gd name="textAreaLeft" fmla="*/ 0 w 93960"/>
                    <a:gd name="textAreaRight" fmla="*/ 94320 w 93960"/>
                    <a:gd name="textAreaTop" fmla="*/ 0 h 38520"/>
                    <a:gd name="textAreaBottom" fmla="*/ 38880 h 38520"/>
                  </a:gdLst>
                  <a:ahLst/>
                  <a:rect l="textAreaLeft" t="textAreaTop" r="textAreaRight" b="textAreaBottom"/>
                  <a:pathLst>
                    <a:path w="73" h="71">
                      <a:moveTo>
                        <a:pt x="73" y="71"/>
                      </a:moveTo>
                      <a:lnTo>
                        <a:pt x="0" y="36"/>
                      </a:lnTo>
                      <a:lnTo>
                        <a:pt x="36" y="0"/>
                      </a:lnTo>
                      <a:lnTo>
                        <a:pt x="0" y="36"/>
                      </a:lnTo>
                      <a:lnTo>
                        <a:pt x="73" y="71"/>
                      </a:lnTo>
                    </a:path>
                  </a:pathLst>
                </a:custGeom>
                <a:noFill/>
                <a:ln w="0">
                  <a:solidFill>
                    <a:srgbClr val="40404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2" name="Freeform 335"/>
                <p:cNvSpPr/>
                <p:nvPr/>
              </p:nvSpPr>
              <p:spPr>
                <a:xfrm>
                  <a:off x="6870600" y="3623040"/>
                  <a:ext cx="93960" cy="18360"/>
                </a:xfrm>
                <a:custGeom>
                  <a:avLst/>
                  <a:gdLst>
                    <a:gd name="textAreaLeft" fmla="*/ 0 w 93960"/>
                    <a:gd name="textAreaRight" fmla="*/ 94320 w 93960"/>
                    <a:gd name="textAreaTop" fmla="*/ 0 h 18360"/>
                    <a:gd name="textAreaBottom" fmla="*/ 18720 h 18360"/>
                  </a:gdLst>
                  <a:ahLst/>
                  <a:rect l="textAreaLeft" t="textAreaTop" r="textAreaRight" b="textAreaBottom"/>
                  <a:pathLst>
                    <a:path w="73" h="35">
                      <a:moveTo>
                        <a:pt x="0" y="0"/>
                      </a:moveTo>
                      <a:lnTo>
                        <a:pt x="73" y="35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40404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3" name="Freeform 336"/>
                <p:cNvSpPr/>
                <p:nvPr/>
              </p:nvSpPr>
              <p:spPr>
                <a:xfrm>
                  <a:off x="6784920" y="3623040"/>
                  <a:ext cx="85680" cy="36720"/>
                </a:xfrm>
                <a:custGeom>
                  <a:avLst/>
                  <a:gdLst>
                    <a:gd name="textAreaLeft" fmla="*/ 0 w 85680"/>
                    <a:gd name="textAreaRight" fmla="*/ 86040 w 85680"/>
                    <a:gd name="textAreaTop" fmla="*/ 0 h 36720"/>
                    <a:gd name="textAreaBottom" fmla="*/ 37080 h 36720"/>
                  </a:gdLst>
                  <a:ahLst/>
                  <a:rect l="textAreaLeft" t="textAreaTop" r="textAreaRight" b="textAreaBottom"/>
                  <a:pathLst>
                    <a:path w="66" h="68">
                      <a:moveTo>
                        <a:pt x="11" y="68"/>
                      </a:moveTo>
                      <a:lnTo>
                        <a:pt x="0" y="62"/>
                      </a:lnTo>
                      <a:lnTo>
                        <a:pt x="66" y="0"/>
                      </a:lnTo>
                      <a:lnTo>
                        <a:pt x="0" y="62"/>
                      </a:lnTo>
                      <a:lnTo>
                        <a:pt x="11" y="68"/>
                      </a:lnTo>
                    </a:path>
                  </a:pathLst>
                </a:custGeom>
                <a:noFill/>
                <a:ln w="0">
                  <a:solidFill>
                    <a:srgbClr val="40404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4" name="Freeform 337"/>
                <p:cNvSpPr/>
                <p:nvPr/>
              </p:nvSpPr>
              <p:spPr>
                <a:xfrm>
                  <a:off x="6784920" y="3656880"/>
                  <a:ext cx="12960" cy="2880"/>
                </a:xfrm>
                <a:custGeom>
                  <a:avLst/>
                  <a:gdLst>
                    <a:gd name="textAreaLeft" fmla="*/ 0 w 12960"/>
                    <a:gd name="textAreaRight" fmla="*/ 13320 w 12960"/>
                    <a:gd name="textAreaTop" fmla="*/ 0 h 2880"/>
                    <a:gd name="textAreaBottom" fmla="*/ 3240 h 2880"/>
                  </a:gdLst>
                  <a:ahLst/>
                  <a:rect l="textAreaLeft" t="textAreaTop" r="textAreaRight" b="textAreaBottom"/>
                  <a:pathLst>
                    <a:path w="11" h="6">
                      <a:moveTo>
                        <a:pt x="0" y="0"/>
                      </a:moveTo>
                      <a:lnTo>
                        <a:pt x="11" y="6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40404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5" name="Freeform 338"/>
                <p:cNvSpPr/>
                <p:nvPr/>
              </p:nvSpPr>
              <p:spPr>
                <a:xfrm>
                  <a:off x="6781680" y="3656880"/>
                  <a:ext cx="2880" cy="1440"/>
                </a:xfrm>
                <a:custGeom>
                  <a:avLst/>
                  <a:gdLst>
                    <a:gd name="textAreaLeft" fmla="*/ 0 w 2880"/>
                    <a:gd name="textAreaRight" fmla="*/ 3240 w 2880"/>
                    <a:gd name="textAreaTop" fmla="*/ 0 h 1440"/>
                    <a:gd name="textAreaBottom" fmla="*/ 1800 h 1440"/>
                  </a:gdLst>
                  <a:ahLst/>
                  <a:rect l="textAreaLeft" t="textAreaTop" r="textAreaRight" b="textAreaBottom"/>
                  <a:pathLst>
                    <a:path w="1" h="2">
                      <a:moveTo>
                        <a:pt x="0" y="2"/>
                      </a:moveTo>
                      <a:lnTo>
                        <a:pt x="1" y="0"/>
                      </a:lnTo>
                      <a:lnTo>
                        <a:pt x="0" y="2"/>
                      </a:lnTo>
                    </a:path>
                  </a:pathLst>
                </a:custGeom>
                <a:noFill/>
                <a:ln w="0">
                  <a:solidFill>
                    <a:srgbClr val="40404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6" name="Freeform 339"/>
                <p:cNvSpPr/>
                <p:nvPr/>
              </p:nvSpPr>
              <p:spPr>
                <a:xfrm>
                  <a:off x="7046280" y="3614760"/>
                  <a:ext cx="20520" cy="8280"/>
                </a:xfrm>
                <a:custGeom>
                  <a:avLst/>
                  <a:gdLst>
                    <a:gd name="textAreaLeft" fmla="*/ 0 w 20520"/>
                    <a:gd name="textAreaRight" fmla="*/ 20880 w 20520"/>
                    <a:gd name="textAreaTop" fmla="*/ 0 h 8280"/>
                    <a:gd name="textAreaBottom" fmla="*/ 8640 h 8280"/>
                  </a:gdLst>
                  <a:ahLst/>
                  <a:rect l="textAreaLeft" t="textAreaTop" r="textAreaRight" b="textAreaBottom"/>
                  <a:pathLst>
                    <a:path w="16" h="16">
                      <a:moveTo>
                        <a:pt x="0" y="16"/>
                      </a:moveTo>
                      <a:lnTo>
                        <a:pt x="16" y="0"/>
                      </a:lnTo>
                      <a:lnTo>
                        <a:pt x="0" y="16"/>
                      </a:lnTo>
                    </a:path>
                  </a:pathLst>
                </a:custGeom>
                <a:noFill/>
                <a:ln w="0">
                  <a:solidFill>
                    <a:srgbClr val="40404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7" name="Freeform 340"/>
                <p:cNvSpPr/>
                <p:nvPr/>
              </p:nvSpPr>
              <p:spPr>
                <a:xfrm>
                  <a:off x="6666840" y="3589560"/>
                  <a:ext cx="290160" cy="72000"/>
                </a:xfrm>
                <a:custGeom>
                  <a:avLst/>
                  <a:gdLst>
                    <a:gd name="textAreaLeft" fmla="*/ 0 w 290160"/>
                    <a:gd name="textAreaRight" fmla="*/ 290520 w 290160"/>
                    <a:gd name="textAreaTop" fmla="*/ 0 h 72000"/>
                    <a:gd name="textAreaBottom" fmla="*/ 72360 h 72000"/>
                  </a:gdLst>
                  <a:ahLst/>
                  <a:rect l="textAreaLeft" t="textAreaTop" r="textAreaRight" b="textAreaBottom"/>
                  <a:pathLst>
                    <a:path w="222" h="128">
                      <a:moveTo>
                        <a:pt x="93" y="9"/>
                      </a:moveTo>
                      <a:lnTo>
                        <a:pt x="99" y="15"/>
                      </a:lnTo>
                      <a:lnTo>
                        <a:pt x="114" y="29"/>
                      </a:lnTo>
                      <a:lnTo>
                        <a:pt x="130" y="42"/>
                      </a:lnTo>
                      <a:lnTo>
                        <a:pt x="146" y="55"/>
                      </a:lnTo>
                      <a:lnTo>
                        <a:pt x="163" y="67"/>
                      </a:lnTo>
                      <a:lnTo>
                        <a:pt x="181" y="76"/>
                      </a:lnTo>
                      <a:lnTo>
                        <a:pt x="199" y="86"/>
                      </a:lnTo>
                      <a:lnTo>
                        <a:pt x="218" y="95"/>
                      </a:lnTo>
                      <a:lnTo>
                        <a:pt x="222" y="97"/>
                      </a:lnTo>
                      <a:lnTo>
                        <a:pt x="196" y="109"/>
                      </a:lnTo>
                      <a:lnTo>
                        <a:pt x="169" y="118"/>
                      </a:lnTo>
                      <a:lnTo>
                        <a:pt x="155" y="123"/>
                      </a:lnTo>
                      <a:lnTo>
                        <a:pt x="143" y="125"/>
                      </a:lnTo>
                      <a:lnTo>
                        <a:pt x="130" y="128"/>
                      </a:lnTo>
                      <a:lnTo>
                        <a:pt x="118" y="128"/>
                      </a:lnTo>
                      <a:lnTo>
                        <a:pt x="108" y="128"/>
                      </a:lnTo>
                      <a:lnTo>
                        <a:pt x="97" y="127"/>
                      </a:lnTo>
                      <a:lnTo>
                        <a:pt x="88" y="123"/>
                      </a:lnTo>
                      <a:lnTo>
                        <a:pt x="81" y="117"/>
                      </a:lnTo>
                      <a:lnTo>
                        <a:pt x="74" y="110"/>
                      </a:lnTo>
                      <a:lnTo>
                        <a:pt x="70" y="102"/>
                      </a:lnTo>
                      <a:lnTo>
                        <a:pt x="67" y="90"/>
                      </a:lnTo>
                      <a:lnTo>
                        <a:pt x="66" y="78"/>
                      </a:lnTo>
                      <a:lnTo>
                        <a:pt x="61" y="72"/>
                      </a:lnTo>
                      <a:lnTo>
                        <a:pt x="55" y="66"/>
                      </a:lnTo>
                      <a:lnTo>
                        <a:pt x="46" y="60"/>
                      </a:lnTo>
                      <a:lnTo>
                        <a:pt x="38" y="53"/>
                      </a:lnTo>
                      <a:lnTo>
                        <a:pt x="30" y="48"/>
                      </a:lnTo>
                      <a:lnTo>
                        <a:pt x="23" y="42"/>
                      </a:lnTo>
                      <a:lnTo>
                        <a:pt x="16" y="40"/>
                      </a:lnTo>
                      <a:lnTo>
                        <a:pt x="12" y="38"/>
                      </a:lnTo>
                      <a:lnTo>
                        <a:pt x="12" y="26"/>
                      </a:lnTo>
                      <a:lnTo>
                        <a:pt x="12" y="13"/>
                      </a:lnTo>
                      <a:lnTo>
                        <a:pt x="0" y="0"/>
                      </a:lnTo>
                      <a:lnTo>
                        <a:pt x="12" y="0"/>
                      </a:lnTo>
                      <a:lnTo>
                        <a:pt x="23" y="0"/>
                      </a:lnTo>
                      <a:lnTo>
                        <a:pt x="34" y="2"/>
                      </a:lnTo>
                      <a:lnTo>
                        <a:pt x="45" y="3"/>
                      </a:lnTo>
                      <a:lnTo>
                        <a:pt x="57" y="4"/>
                      </a:lnTo>
                      <a:lnTo>
                        <a:pt x="68" y="6"/>
                      </a:lnTo>
                      <a:lnTo>
                        <a:pt x="81" y="7"/>
                      </a:lnTo>
                      <a:lnTo>
                        <a:pt x="93" y="9"/>
                      </a:lnTo>
                      <a:close/>
                    </a:path>
                  </a:pathLst>
                </a:custGeom>
                <a:solidFill>
                  <a:srgbClr val="e2e8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8" name="Freeform 341"/>
                <p:cNvSpPr/>
                <p:nvPr/>
              </p:nvSpPr>
              <p:spPr>
                <a:xfrm>
                  <a:off x="6787080" y="3586320"/>
                  <a:ext cx="279720" cy="56520"/>
                </a:xfrm>
                <a:custGeom>
                  <a:avLst/>
                  <a:gdLst>
                    <a:gd name="textAreaLeft" fmla="*/ 0 w 279720"/>
                    <a:gd name="textAreaRight" fmla="*/ 280080 w 279720"/>
                    <a:gd name="textAreaTop" fmla="*/ 0 h 56520"/>
                    <a:gd name="textAreaBottom" fmla="*/ 56880 h 56520"/>
                  </a:gdLst>
                  <a:ahLst/>
                  <a:rect l="textAreaLeft" t="textAreaTop" r="textAreaRight" b="textAreaBottom"/>
                  <a:pathLst>
                    <a:path w="214" h="102">
                      <a:moveTo>
                        <a:pt x="0" y="14"/>
                      </a:moveTo>
                      <a:lnTo>
                        <a:pt x="6" y="20"/>
                      </a:lnTo>
                      <a:lnTo>
                        <a:pt x="21" y="34"/>
                      </a:lnTo>
                      <a:lnTo>
                        <a:pt x="37" y="47"/>
                      </a:lnTo>
                      <a:lnTo>
                        <a:pt x="53" y="60"/>
                      </a:lnTo>
                      <a:lnTo>
                        <a:pt x="70" y="72"/>
                      </a:lnTo>
                      <a:lnTo>
                        <a:pt x="88" y="81"/>
                      </a:lnTo>
                      <a:lnTo>
                        <a:pt x="106" y="91"/>
                      </a:lnTo>
                      <a:lnTo>
                        <a:pt x="125" y="100"/>
                      </a:lnTo>
                      <a:lnTo>
                        <a:pt x="129" y="102"/>
                      </a:lnTo>
                      <a:lnTo>
                        <a:pt x="147" y="94"/>
                      </a:lnTo>
                      <a:lnTo>
                        <a:pt x="163" y="85"/>
                      </a:lnTo>
                      <a:lnTo>
                        <a:pt x="177" y="79"/>
                      </a:lnTo>
                      <a:lnTo>
                        <a:pt x="190" y="72"/>
                      </a:lnTo>
                      <a:lnTo>
                        <a:pt x="199" y="65"/>
                      </a:lnTo>
                      <a:lnTo>
                        <a:pt x="207" y="61"/>
                      </a:lnTo>
                      <a:lnTo>
                        <a:pt x="212" y="58"/>
                      </a:lnTo>
                      <a:lnTo>
                        <a:pt x="214" y="57"/>
                      </a:lnTo>
                      <a:lnTo>
                        <a:pt x="214" y="4"/>
                      </a:lnTo>
                      <a:lnTo>
                        <a:pt x="204" y="3"/>
                      </a:lnTo>
                      <a:lnTo>
                        <a:pt x="197" y="0"/>
                      </a:lnTo>
                      <a:lnTo>
                        <a:pt x="188" y="3"/>
                      </a:lnTo>
                      <a:lnTo>
                        <a:pt x="182" y="5"/>
                      </a:lnTo>
                      <a:lnTo>
                        <a:pt x="175" y="8"/>
                      </a:lnTo>
                      <a:lnTo>
                        <a:pt x="168" y="11"/>
                      </a:lnTo>
                      <a:lnTo>
                        <a:pt x="162" y="15"/>
                      </a:lnTo>
                      <a:lnTo>
                        <a:pt x="156" y="19"/>
                      </a:lnTo>
                      <a:lnTo>
                        <a:pt x="151" y="24"/>
                      </a:lnTo>
                      <a:lnTo>
                        <a:pt x="148" y="31"/>
                      </a:lnTo>
                      <a:lnTo>
                        <a:pt x="131" y="31"/>
                      </a:lnTo>
                      <a:lnTo>
                        <a:pt x="112" y="30"/>
                      </a:lnTo>
                      <a:lnTo>
                        <a:pt x="94" y="27"/>
                      </a:lnTo>
                      <a:lnTo>
                        <a:pt x="75" y="26"/>
                      </a:lnTo>
                      <a:lnTo>
                        <a:pt x="56" y="23"/>
                      </a:lnTo>
                      <a:lnTo>
                        <a:pt x="37" y="19"/>
                      </a:lnTo>
                      <a:lnTo>
                        <a:pt x="18" y="16"/>
                      </a:lnTo>
                      <a:lnTo>
                        <a:pt x="0" y="14"/>
                      </a:lnTo>
                      <a:close/>
                    </a:path>
                  </a:pathLst>
                </a:custGeom>
                <a:solidFill>
                  <a:srgbClr val="e5ea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9" name="Freeform 342"/>
                <p:cNvSpPr/>
                <p:nvPr/>
              </p:nvSpPr>
              <p:spPr>
                <a:xfrm>
                  <a:off x="7046280" y="3583080"/>
                  <a:ext cx="20520" cy="6120"/>
                </a:xfrm>
                <a:custGeom>
                  <a:avLst/>
                  <a:gdLst>
                    <a:gd name="textAreaLeft" fmla="*/ 0 w 20520"/>
                    <a:gd name="textAreaRight" fmla="*/ 20880 w 20520"/>
                    <a:gd name="textAreaTop" fmla="*/ 0 h 6120"/>
                    <a:gd name="textAreaBottom" fmla="*/ 6480 h 6120"/>
                  </a:gdLst>
                  <a:ahLst/>
                  <a:rect l="textAreaLeft" t="textAreaTop" r="textAreaRight" b="textAreaBottom"/>
                  <a:pathLst>
                    <a:path w="17" h="12">
                      <a:moveTo>
                        <a:pt x="0" y="8"/>
                      </a:moveTo>
                      <a:lnTo>
                        <a:pt x="7" y="11"/>
                      </a:lnTo>
                      <a:lnTo>
                        <a:pt x="17" y="12"/>
                      </a:lnTo>
                      <a:lnTo>
                        <a:pt x="17" y="0"/>
                      </a:lnTo>
                      <a:lnTo>
                        <a:pt x="15" y="1"/>
                      </a:lnTo>
                      <a:lnTo>
                        <a:pt x="12" y="3"/>
                      </a:lnTo>
                      <a:lnTo>
                        <a:pt x="10" y="4"/>
                      </a:lnTo>
                      <a:lnTo>
                        <a:pt x="9" y="5"/>
                      </a:lnTo>
                      <a:lnTo>
                        <a:pt x="7" y="5"/>
                      </a:lnTo>
                      <a:lnTo>
                        <a:pt x="4" y="7"/>
                      </a:lnTo>
                      <a:lnTo>
                        <a:pt x="2" y="8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e8ece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0" name="Freeform 343"/>
                <p:cNvSpPr/>
                <p:nvPr/>
              </p:nvSpPr>
              <p:spPr>
                <a:xfrm>
                  <a:off x="5263560" y="3318840"/>
                  <a:ext cx="2433240" cy="442800"/>
                </a:xfrm>
                <a:custGeom>
                  <a:avLst/>
                  <a:gdLst>
                    <a:gd name="textAreaLeft" fmla="*/ 0 w 2433240"/>
                    <a:gd name="textAreaRight" fmla="*/ 2433600 w 2433240"/>
                    <a:gd name="textAreaTop" fmla="*/ 0 h 442800"/>
                    <a:gd name="textAreaBottom" fmla="*/ 443160 h 442800"/>
                  </a:gdLst>
                  <a:ahLst/>
                  <a:rect l="textAreaLeft" t="textAreaTop" r="textAreaRight" b="textAreaBottom"/>
                  <a:pathLst>
                    <a:path w="1864" h="795">
                      <a:moveTo>
                        <a:pt x="2" y="269"/>
                      </a:moveTo>
                      <a:lnTo>
                        <a:pt x="35" y="179"/>
                      </a:lnTo>
                      <a:lnTo>
                        <a:pt x="100" y="90"/>
                      </a:lnTo>
                      <a:lnTo>
                        <a:pt x="200" y="38"/>
                      </a:lnTo>
                      <a:lnTo>
                        <a:pt x="342" y="0"/>
                      </a:lnTo>
                      <a:lnTo>
                        <a:pt x="451" y="0"/>
                      </a:lnTo>
                      <a:lnTo>
                        <a:pt x="342" y="76"/>
                      </a:lnTo>
                      <a:lnTo>
                        <a:pt x="200" y="179"/>
                      </a:lnTo>
                      <a:lnTo>
                        <a:pt x="156" y="243"/>
                      </a:lnTo>
                      <a:lnTo>
                        <a:pt x="166" y="358"/>
                      </a:lnTo>
                      <a:lnTo>
                        <a:pt x="243" y="500"/>
                      </a:lnTo>
                      <a:lnTo>
                        <a:pt x="397" y="603"/>
                      </a:lnTo>
                      <a:lnTo>
                        <a:pt x="605" y="692"/>
                      </a:lnTo>
                      <a:lnTo>
                        <a:pt x="900" y="706"/>
                      </a:lnTo>
                      <a:lnTo>
                        <a:pt x="1109" y="692"/>
                      </a:lnTo>
                      <a:lnTo>
                        <a:pt x="1306" y="654"/>
                      </a:lnTo>
                      <a:lnTo>
                        <a:pt x="1535" y="591"/>
                      </a:lnTo>
                      <a:lnTo>
                        <a:pt x="1711" y="500"/>
                      </a:lnTo>
                      <a:lnTo>
                        <a:pt x="1864" y="398"/>
                      </a:lnTo>
                      <a:lnTo>
                        <a:pt x="1645" y="565"/>
                      </a:lnTo>
                      <a:lnTo>
                        <a:pt x="1448" y="667"/>
                      </a:lnTo>
                      <a:lnTo>
                        <a:pt x="1218" y="732"/>
                      </a:lnTo>
                      <a:lnTo>
                        <a:pt x="977" y="782"/>
                      </a:lnTo>
                      <a:lnTo>
                        <a:pt x="758" y="795"/>
                      </a:lnTo>
                      <a:lnTo>
                        <a:pt x="593" y="770"/>
                      </a:lnTo>
                      <a:lnTo>
                        <a:pt x="375" y="680"/>
                      </a:lnTo>
                      <a:lnTo>
                        <a:pt x="232" y="591"/>
                      </a:lnTo>
                      <a:lnTo>
                        <a:pt x="112" y="474"/>
                      </a:lnTo>
                      <a:lnTo>
                        <a:pt x="35" y="358"/>
                      </a:lnTo>
                      <a:lnTo>
                        <a:pt x="33" y="356"/>
                      </a:lnTo>
                      <a:lnTo>
                        <a:pt x="28" y="346"/>
                      </a:lnTo>
                      <a:lnTo>
                        <a:pt x="21" y="334"/>
                      </a:lnTo>
                      <a:lnTo>
                        <a:pt x="14" y="319"/>
                      </a:lnTo>
                      <a:lnTo>
                        <a:pt x="7" y="303"/>
                      </a:lnTo>
                      <a:lnTo>
                        <a:pt x="3" y="288"/>
                      </a:lnTo>
                      <a:lnTo>
                        <a:pt x="0" y="283"/>
                      </a:lnTo>
                      <a:lnTo>
                        <a:pt x="0" y="277"/>
                      </a:lnTo>
                      <a:lnTo>
                        <a:pt x="0" y="272"/>
                      </a:lnTo>
                      <a:lnTo>
                        <a:pt x="2" y="269"/>
                      </a:lnTo>
                      <a:close/>
                    </a:path>
                  </a:pathLst>
                </a:custGeom>
                <a:solidFill>
                  <a:srgbClr val="e6e6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1" name="Freeform 344"/>
                <p:cNvSpPr/>
                <p:nvPr/>
              </p:nvSpPr>
              <p:spPr>
                <a:xfrm>
                  <a:off x="5404320" y="3528000"/>
                  <a:ext cx="110160" cy="98280"/>
                </a:xfrm>
                <a:custGeom>
                  <a:avLst/>
                  <a:gdLst>
                    <a:gd name="textAreaLeft" fmla="*/ 0 w 110160"/>
                    <a:gd name="textAreaRight" fmla="*/ 110520 w 110160"/>
                    <a:gd name="textAreaTop" fmla="*/ 0 h 98280"/>
                    <a:gd name="textAreaBottom" fmla="*/ 98640 h 98280"/>
                  </a:gdLst>
                  <a:ahLst/>
                  <a:rect l="textAreaLeft" t="textAreaTop" r="textAreaRight" b="textAreaBottom"/>
                  <a:pathLst>
                    <a:path w="84" h="177">
                      <a:moveTo>
                        <a:pt x="44" y="0"/>
                      </a:moveTo>
                      <a:lnTo>
                        <a:pt x="84" y="177"/>
                      </a:lnTo>
                      <a:lnTo>
                        <a:pt x="3" y="98"/>
                      </a:lnTo>
                      <a:lnTo>
                        <a:pt x="0" y="95"/>
                      </a:lnTo>
                      <a:lnTo>
                        <a:pt x="5" y="83"/>
                      </a:lnTo>
                      <a:lnTo>
                        <a:pt x="10" y="71"/>
                      </a:lnTo>
                      <a:lnTo>
                        <a:pt x="15" y="60"/>
                      </a:lnTo>
                      <a:lnTo>
                        <a:pt x="20" y="48"/>
                      </a:lnTo>
                      <a:lnTo>
                        <a:pt x="26" y="35"/>
                      </a:lnTo>
                      <a:lnTo>
                        <a:pt x="32" y="25"/>
                      </a:lnTo>
                      <a:lnTo>
                        <a:pt x="37" y="12"/>
                      </a:lnTo>
                      <a:lnTo>
                        <a:pt x="44" y="0"/>
                      </a:lnTo>
                      <a:close/>
                    </a:path>
                  </a:pathLst>
                </a:custGeom>
                <a:solidFill>
                  <a:srgbClr val="e5b2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2" name="Freeform 345"/>
                <p:cNvSpPr/>
                <p:nvPr/>
              </p:nvSpPr>
              <p:spPr>
                <a:xfrm>
                  <a:off x="5461920" y="3514680"/>
                  <a:ext cx="355320" cy="193680"/>
                </a:xfrm>
                <a:custGeom>
                  <a:avLst/>
                  <a:gdLst>
                    <a:gd name="textAreaLeft" fmla="*/ 0 w 355320"/>
                    <a:gd name="textAreaRight" fmla="*/ 355680 w 35532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271" h="347">
                      <a:moveTo>
                        <a:pt x="40" y="200"/>
                      </a:moveTo>
                      <a:lnTo>
                        <a:pt x="0" y="23"/>
                      </a:lnTo>
                      <a:lnTo>
                        <a:pt x="1" y="20"/>
                      </a:lnTo>
                      <a:lnTo>
                        <a:pt x="3" y="18"/>
                      </a:lnTo>
                      <a:lnTo>
                        <a:pt x="5" y="15"/>
                      </a:lnTo>
                      <a:lnTo>
                        <a:pt x="6" y="12"/>
                      </a:lnTo>
                      <a:lnTo>
                        <a:pt x="7" y="8"/>
                      </a:lnTo>
                      <a:lnTo>
                        <a:pt x="10" y="5"/>
                      </a:lnTo>
                      <a:lnTo>
                        <a:pt x="11" y="3"/>
                      </a:lnTo>
                      <a:lnTo>
                        <a:pt x="13" y="0"/>
                      </a:lnTo>
                      <a:lnTo>
                        <a:pt x="13" y="5"/>
                      </a:lnTo>
                      <a:lnTo>
                        <a:pt x="90" y="147"/>
                      </a:lnTo>
                      <a:lnTo>
                        <a:pt x="244" y="250"/>
                      </a:lnTo>
                      <a:lnTo>
                        <a:pt x="249" y="252"/>
                      </a:lnTo>
                      <a:lnTo>
                        <a:pt x="271" y="347"/>
                      </a:lnTo>
                      <a:lnTo>
                        <a:pt x="222" y="327"/>
                      </a:lnTo>
                      <a:lnTo>
                        <a:pt x="79" y="238"/>
                      </a:lnTo>
                      <a:lnTo>
                        <a:pt x="40" y="200"/>
                      </a:lnTo>
                      <a:close/>
                    </a:path>
                  </a:pathLst>
                </a:custGeom>
                <a:solidFill>
                  <a:srgbClr val="e5b2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3" name="Freeform 346"/>
                <p:cNvSpPr/>
                <p:nvPr/>
              </p:nvSpPr>
              <p:spPr>
                <a:xfrm>
                  <a:off x="5789160" y="3654720"/>
                  <a:ext cx="308160" cy="95040"/>
                </a:xfrm>
                <a:custGeom>
                  <a:avLst/>
                  <a:gdLst>
                    <a:gd name="textAreaLeft" fmla="*/ 0 w 308160"/>
                    <a:gd name="textAreaRight" fmla="*/ 308520 w 30816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238" h="171">
                      <a:moveTo>
                        <a:pt x="22" y="95"/>
                      </a:moveTo>
                      <a:lnTo>
                        <a:pt x="0" y="0"/>
                      </a:lnTo>
                      <a:lnTo>
                        <a:pt x="203" y="87"/>
                      </a:lnTo>
                      <a:lnTo>
                        <a:pt x="219" y="89"/>
                      </a:lnTo>
                      <a:lnTo>
                        <a:pt x="238" y="171"/>
                      </a:lnTo>
                      <a:lnTo>
                        <a:pt x="191" y="165"/>
                      </a:lnTo>
                      <a:lnTo>
                        <a:pt x="22" y="95"/>
                      </a:lnTo>
                      <a:close/>
                    </a:path>
                  </a:pathLst>
                </a:custGeom>
                <a:solidFill>
                  <a:srgbClr val="e5b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4" name="Freeform 347"/>
                <p:cNvSpPr/>
                <p:nvPr/>
              </p:nvSpPr>
              <p:spPr>
                <a:xfrm>
                  <a:off x="6073560" y="3704760"/>
                  <a:ext cx="287280" cy="56520"/>
                </a:xfrm>
                <a:custGeom>
                  <a:avLst/>
                  <a:gdLst>
                    <a:gd name="textAreaLeft" fmla="*/ 0 w 287280"/>
                    <a:gd name="textAreaRight" fmla="*/ 287640 w 287280"/>
                    <a:gd name="textAreaTop" fmla="*/ 0 h 56520"/>
                    <a:gd name="textAreaBottom" fmla="*/ 56880 h 56520"/>
                  </a:gdLst>
                  <a:ahLst/>
                  <a:rect l="textAreaLeft" t="textAreaTop" r="textAreaRight" b="textAreaBottom"/>
                  <a:pathLst>
                    <a:path w="220" h="101">
                      <a:moveTo>
                        <a:pt x="19" y="82"/>
                      </a:moveTo>
                      <a:lnTo>
                        <a:pt x="0" y="0"/>
                      </a:lnTo>
                      <a:lnTo>
                        <a:pt x="199" y="8"/>
                      </a:lnTo>
                      <a:lnTo>
                        <a:pt x="220" y="96"/>
                      </a:lnTo>
                      <a:lnTo>
                        <a:pt x="137" y="101"/>
                      </a:lnTo>
                      <a:lnTo>
                        <a:pt x="19" y="82"/>
                      </a:lnTo>
                      <a:close/>
                    </a:path>
                  </a:pathLst>
                </a:custGeom>
                <a:solidFill>
                  <a:srgbClr val="e5ccb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5" name="Freeform 348"/>
                <p:cNvSpPr/>
                <p:nvPr/>
              </p:nvSpPr>
              <p:spPr>
                <a:xfrm>
                  <a:off x="6334920" y="3706920"/>
                  <a:ext cx="279720" cy="51840"/>
                </a:xfrm>
                <a:custGeom>
                  <a:avLst/>
                  <a:gdLst>
                    <a:gd name="textAreaLeft" fmla="*/ 0 w 279720"/>
                    <a:gd name="textAreaRight" fmla="*/ 280080 w 279720"/>
                    <a:gd name="textAreaTop" fmla="*/ 0 h 51840"/>
                    <a:gd name="textAreaBottom" fmla="*/ 52200 h 51840"/>
                  </a:gdLst>
                  <a:ahLst/>
                  <a:rect l="textAreaLeft" t="textAreaTop" r="textAreaRight" b="textAreaBottom"/>
                  <a:pathLst>
                    <a:path w="215" h="92">
                      <a:moveTo>
                        <a:pt x="21" y="92"/>
                      </a:moveTo>
                      <a:lnTo>
                        <a:pt x="0" y="4"/>
                      </a:lnTo>
                      <a:lnTo>
                        <a:pt x="80" y="8"/>
                      </a:lnTo>
                      <a:lnTo>
                        <a:pt x="198" y="0"/>
                      </a:lnTo>
                      <a:lnTo>
                        <a:pt x="215" y="72"/>
                      </a:lnTo>
                      <a:lnTo>
                        <a:pt x="157" y="84"/>
                      </a:lnTo>
                      <a:lnTo>
                        <a:pt x="21" y="92"/>
                      </a:lnTo>
                      <a:close/>
                    </a:path>
                  </a:pathLst>
                </a:custGeom>
                <a:solidFill>
                  <a:srgbClr val="e5d9c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6" name="Freeform 349"/>
                <p:cNvSpPr/>
                <p:nvPr/>
              </p:nvSpPr>
              <p:spPr>
                <a:xfrm>
                  <a:off x="6594120" y="3693600"/>
                  <a:ext cx="266400" cy="53280"/>
                </a:xfrm>
                <a:custGeom>
                  <a:avLst/>
                  <a:gdLst>
                    <a:gd name="textAreaLeft" fmla="*/ 0 w 266400"/>
                    <a:gd name="textAreaRight" fmla="*/ 266760 w 266400"/>
                    <a:gd name="textAreaTop" fmla="*/ 0 h 53280"/>
                    <a:gd name="textAreaBottom" fmla="*/ 53640 h 53280"/>
                  </a:gdLst>
                  <a:ahLst/>
                  <a:rect l="textAreaLeft" t="textAreaTop" r="textAreaRight" b="textAreaBottom"/>
                  <a:pathLst>
                    <a:path w="205" h="97">
                      <a:moveTo>
                        <a:pt x="17" y="97"/>
                      </a:moveTo>
                      <a:lnTo>
                        <a:pt x="0" y="25"/>
                      </a:lnTo>
                      <a:lnTo>
                        <a:pt x="91" y="19"/>
                      </a:lnTo>
                      <a:lnTo>
                        <a:pt x="193" y="0"/>
                      </a:lnTo>
                      <a:lnTo>
                        <a:pt x="205" y="56"/>
                      </a:lnTo>
                      <a:lnTo>
                        <a:pt x="200" y="59"/>
                      </a:lnTo>
                      <a:lnTo>
                        <a:pt x="17" y="97"/>
                      </a:lnTo>
                      <a:close/>
                    </a:path>
                  </a:pathLst>
                </a:custGeom>
                <a:solidFill>
                  <a:srgbClr val="e5e5e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7" name="Freeform 350"/>
                <p:cNvSpPr/>
                <p:nvPr/>
              </p:nvSpPr>
              <p:spPr>
                <a:xfrm>
                  <a:off x="6844680" y="3668040"/>
                  <a:ext cx="258840" cy="56520"/>
                </a:xfrm>
                <a:custGeom>
                  <a:avLst/>
                  <a:gdLst>
                    <a:gd name="textAreaLeft" fmla="*/ 0 w 258840"/>
                    <a:gd name="textAreaRight" fmla="*/ 259200 w 258840"/>
                    <a:gd name="textAreaTop" fmla="*/ 0 h 56520"/>
                    <a:gd name="textAreaBottom" fmla="*/ 56880 h 56520"/>
                  </a:gdLst>
                  <a:ahLst/>
                  <a:rect l="textAreaLeft" t="textAreaTop" r="textAreaRight" b="textAreaBottom"/>
                  <a:pathLst>
                    <a:path w="199" h="100">
                      <a:moveTo>
                        <a:pt x="12" y="100"/>
                      </a:moveTo>
                      <a:lnTo>
                        <a:pt x="0" y="44"/>
                      </a:lnTo>
                      <a:lnTo>
                        <a:pt x="95" y="25"/>
                      </a:lnTo>
                      <a:lnTo>
                        <a:pt x="187" y="0"/>
                      </a:lnTo>
                      <a:lnTo>
                        <a:pt x="199" y="48"/>
                      </a:lnTo>
                      <a:lnTo>
                        <a:pt x="12" y="100"/>
                      </a:lnTo>
                      <a:close/>
                    </a:path>
                  </a:pathLst>
                </a:custGeom>
                <a:solidFill>
                  <a:srgbClr val="e5dcd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8" name="Freeform 351"/>
                <p:cNvSpPr/>
                <p:nvPr/>
              </p:nvSpPr>
              <p:spPr>
                <a:xfrm>
                  <a:off x="7090560" y="3633120"/>
                  <a:ext cx="248040" cy="61560"/>
                </a:xfrm>
                <a:custGeom>
                  <a:avLst/>
                  <a:gdLst>
                    <a:gd name="textAreaLeft" fmla="*/ 0 w 248040"/>
                    <a:gd name="textAreaRight" fmla="*/ 248400 w 248040"/>
                    <a:gd name="textAreaTop" fmla="*/ 0 h 61560"/>
                    <a:gd name="textAreaBottom" fmla="*/ 61920 h 61560"/>
                  </a:gdLst>
                  <a:ahLst/>
                  <a:rect l="textAreaLeft" t="textAreaTop" r="textAreaRight" b="textAreaBottom"/>
                  <a:pathLst>
                    <a:path w="190" h="111">
                      <a:moveTo>
                        <a:pt x="12" y="111"/>
                      </a:moveTo>
                      <a:lnTo>
                        <a:pt x="0" y="63"/>
                      </a:lnTo>
                      <a:lnTo>
                        <a:pt x="137" y="25"/>
                      </a:lnTo>
                      <a:lnTo>
                        <a:pt x="184" y="0"/>
                      </a:lnTo>
                      <a:lnTo>
                        <a:pt x="190" y="27"/>
                      </a:lnTo>
                      <a:lnTo>
                        <a:pt x="50" y="101"/>
                      </a:lnTo>
                      <a:lnTo>
                        <a:pt x="12" y="111"/>
                      </a:lnTo>
                      <a:close/>
                    </a:path>
                  </a:pathLst>
                </a:custGeom>
                <a:solidFill>
                  <a:srgbClr val="e5d4c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9" name="Freeform 352"/>
                <p:cNvSpPr/>
                <p:nvPr/>
              </p:nvSpPr>
              <p:spPr>
                <a:xfrm>
                  <a:off x="7330680" y="3579840"/>
                  <a:ext cx="229680" cy="68040"/>
                </a:xfrm>
                <a:custGeom>
                  <a:avLst/>
                  <a:gdLst>
                    <a:gd name="textAreaLeft" fmla="*/ 0 w 229680"/>
                    <a:gd name="textAreaRight" fmla="*/ 230040 w 229680"/>
                    <a:gd name="textAreaTop" fmla="*/ 0 h 68040"/>
                    <a:gd name="textAreaBottom" fmla="*/ 68400 h 68040"/>
                  </a:gdLst>
                  <a:ahLst/>
                  <a:rect l="textAreaLeft" t="textAreaTop" r="textAreaRight" b="textAreaBottom"/>
                  <a:pathLst>
                    <a:path w="177" h="125">
                      <a:moveTo>
                        <a:pt x="6" y="125"/>
                      </a:moveTo>
                      <a:lnTo>
                        <a:pt x="0" y="98"/>
                      </a:lnTo>
                      <a:lnTo>
                        <a:pt x="129" y="32"/>
                      </a:lnTo>
                      <a:lnTo>
                        <a:pt x="175" y="0"/>
                      </a:lnTo>
                      <a:lnTo>
                        <a:pt x="177" y="9"/>
                      </a:lnTo>
                      <a:lnTo>
                        <a:pt x="63" y="97"/>
                      </a:lnTo>
                      <a:lnTo>
                        <a:pt x="6" y="125"/>
                      </a:lnTo>
                      <a:close/>
                    </a:path>
                  </a:pathLst>
                </a:custGeom>
                <a:solidFill>
                  <a:srgbClr val="e5cc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0" name="Freeform 353"/>
                <p:cNvSpPr/>
                <p:nvPr/>
              </p:nvSpPr>
              <p:spPr>
                <a:xfrm>
                  <a:off x="7558200" y="3539520"/>
                  <a:ext cx="138600" cy="45000"/>
                </a:xfrm>
                <a:custGeom>
                  <a:avLst/>
                  <a:gdLst>
                    <a:gd name="textAreaLeft" fmla="*/ 0 w 138600"/>
                    <a:gd name="textAreaRight" fmla="*/ 138960 w 138600"/>
                    <a:gd name="textAreaTop" fmla="*/ 0 h 45000"/>
                    <a:gd name="textAreaBottom" fmla="*/ 45360 h 45000"/>
                  </a:gdLst>
                  <a:ahLst/>
                  <a:rect l="textAreaLeft" t="textAreaTop" r="textAreaRight" b="textAreaBottom"/>
                  <a:pathLst>
                    <a:path w="107" h="79">
                      <a:moveTo>
                        <a:pt x="2" y="79"/>
                      </a:moveTo>
                      <a:lnTo>
                        <a:pt x="0" y="70"/>
                      </a:lnTo>
                      <a:lnTo>
                        <a:pt x="107" y="0"/>
                      </a:lnTo>
                      <a:lnTo>
                        <a:pt x="2" y="79"/>
                      </a:lnTo>
                      <a:close/>
                    </a:path>
                  </a:pathLst>
                </a:custGeom>
                <a:solidFill>
                  <a:srgbClr val="e5c3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1" name="Freeform 354"/>
                <p:cNvSpPr/>
                <p:nvPr/>
              </p:nvSpPr>
              <p:spPr>
                <a:xfrm>
                  <a:off x="5404320" y="3514680"/>
                  <a:ext cx="75600" cy="66600"/>
                </a:xfrm>
                <a:custGeom>
                  <a:avLst/>
                  <a:gdLst>
                    <a:gd name="textAreaLeft" fmla="*/ 0 w 75600"/>
                    <a:gd name="textAreaRight" fmla="*/ 75960 w 75600"/>
                    <a:gd name="textAreaTop" fmla="*/ 0 h 66600"/>
                    <a:gd name="textAreaBottom" fmla="*/ 66960 h 66600"/>
                  </a:gdLst>
                  <a:ahLst/>
                  <a:rect l="textAreaLeft" t="textAreaTop" r="textAreaRight" b="textAreaBottom"/>
                  <a:pathLst>
                    <a:path w="57" h="118">
                      <a:moveTo>
                        <a:pt x="0" y="118"/>
                      </a:moveTo>
                      <a:lnTo>
                        <a:pt x="10" y="96"/>
                      </a:lnTo>
                      <a:lnTo>
                        <a:pt x="29" y="53"/>
                      </a:lnTo>
                      <a:lnTo>
                        <a:pt x="51" y="10"/>
                      </a:lnTo>
                      <a:lnTo>
                        <a:pt x="57" y="0"/>
                      </a:lnTo>
                      <a:lnTo>
                        <a:pt x="51" y="10"/>
                      </a:lnTo>
                      <a:lnTo>
                        <a:pt x="29" y="53"/>
                      </a:lnTo>
                      <a:lnTo>
                        <a:pt x="10" y="96"/>
                      </a:lnTo>
                      <a:lnTo>
                        <a:pt x="0" y="118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160" bIns="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2" name="Freeform 355"/>
                <p:cNvSpPr/>
                <p:nvPr/>
              </p:nvSpPr>
              <p:spPr>
                <a:xfrm>
                  <a:off x="6818760" y="3601440"/>
                  <a:ext cx="655920" cy="126720"/>
                </a:xfrm>
                <a:custGeom>
                  <a:avLst/>
                  <a:gdLst>
                    <a:gd name="textAreaLeft" fmla="*/ 0 w 655920"/>
                    <a:gd name="textAreaRight" fmla="*/ 656280 w 655920"/>
                    <a:gd name="textAreaTop" fmla="*/ 0 h 126720"/>
                    <a:gd name="textAreaBottom" fmla="*/ 127080 h 126720"/>
                  </a:gdLst>
                  <a:ahLst/>
                  <a:rect l="textAreaLeft" t="textAreaTop" r="textAreaRight" b="textAreaBottom"/>
                  <a:pathLst>
                    <a:path w="502" h="228">
                      <a:moveTo>
                        <a:pt x="502" y="0"/>
                      </a:moveTo>
                      <a:lnTo>
                        <a:pt x="490" y="10"/>
                      </a:lnTo>
                      <a:lnTo>
                        <a:pt x="445" y="38"/>
                      </a:lnTo>
                      <a:lnTo>
                        <a:pt x="399" y="65"/>
                      </a:lnTo>
                      <a:lnTo>
                        <a:pt x="352" y="92"/>
                      </a:lnTo>
                      <a:lnTo>
                        <a:pt x="302" y="117"/>
                      </a:lnTo>
                      <a:lnTo>
                        <a:pt x="252" y="140"/>
                      </a:lnTo>
                      <a:lnTo>
                        <a:pt x="201" y="162"/>
                      </a:lnTo>
                      <a:lnTo>
                        <a:pt x="148" y="182"/>
                      </a:lnTo>
                      <a:lnTo>
                        <a:pt x="95" y="201"/>
                      </a:lnTo>
                      <a:lnTo>
                        <a:pt x="39" y="217"/>
                      </a:lnTo>
                      <a:lnTo>
                        <a:pt x="0" y="228"/>
                      </a:lnTo>
                      <a:lnTo>
                        <a:pt x="39" y="217"/>
                      </a:lnTo>
                      <a:lnTo>
                        <a:pt x="95" y="201"/>
                      </a:lnTo>
                      <a:lnTo>
                        <a:pt x="148" y="182"/>
                      </a:lnTo>
                      <a:lnTo>
                        <a:pt x="201" y="162"/>
                      </a:lnTo>
                      <a:lnTo>
                        <a:pt x="252" y="140"/>
                      </a:lnTo>
                      <a:lnTo>
                        <a:pt x="302" y="117"/>
                      </a:lnTo>
                      <a:lnTo>
                        <a:pt x="352" y="92"/>
                      </a:lnTo>
                      <a:lnTo>
                        <a:pt x="399" y="65"/>
                      </a:lnTo>
                      <a:lnTo>
                        <a:pt x="445" y="38"/>
                      </a:lnTo>
                      <a:lnTo>
                        <a:pt x="490" y="10"/>
                      </a:lnTo>
                      <a:lnTo>
                        <a:pt x="502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3" name="Freeform 356"/>
                <p:cNvSpPr/>
                <p:nvPr/>
              </p:nvSpPr>
              <p:spPr>
                <a:xfrm>
                  <a:off x="5992920" y="3738600"/>
                  <a:ext cx="658440" cy="16560"/>
                </a:xfrm>
                <a:custGeom>
                  <a:avLst/>
                  <a:gdLst>
                    <a:gd name="textAreaLeft" fmla="*/ 0 w 658440"/>
                    <a:gd name="textAreaRight" fmla="*/ 658800 w 658440"/>
                    <a:gd name="textAreaTop" fmla="*/ 0 h 16560"/>
                    <a:gd name="textAreaBottom" fmla="*/ 16920 h 16560"/>
                  </a:gdLst>
                  <a:ahLst/>
                  <a:rect l="textAreaLeft" t="textAreaTop" r="textAreaRight" b="textAreaBottom"/>
                  <a:pathLst>
                    <a:path w="503" h="30">
                      <a:moveTo>
                        <a:pt x="503" y="9"/>
                      </a:moveTo>
                      <a:lnTo>
                        <a:pt x="452" y="17"/>
                      </a:lnTo>
                      <a:lnTo>
                        <a:pt x="398" y="23"/>
                      </a:lnTo>
                      <a:lnTo>
                        <a:pt x="346" y="27"/>
                      </a:lnTo>
                      <a:lnTo>
                        <a:pt x="293" y="30"/>
                      </a:lnTo>
                      <a:lnTo>
                        <a:pt x="242" y="30"/>
                      </a:lnTo>
                      <a:lnTo>
                        <a:pt x="191" y="27"/>
                      </a:lnTo>
                      <a:lnTo>
                        <a:pt x="141" y="23"/>
                      </a:lnTo>
                      <a:lnTo>
                        <a:pt x="92" y="17"/>
                      </a:lnTo>
                      <a:lnTo>
                        <a:pt x="44" y="9"/>
                      </a:lnTo>
                      <a:lnTo>
                        <a:pt x="0" y="0"/>
                      </a:lnTo>
                      <a:lnTo>
                        <a:pt x="44" y="9"/>
                      </a:lnTo>
                      <a:lnTo>
                        <a:pt x="92" y="17"/>
                      </a:lnTo>
                      <a:lnTo>
                        <a:pt x="141" y="23"/>
                      </a:lnTo>
                      <a:lnTo>
                        <a:pt x="191" y="27"/>
                      </a:lnTo>
                      <a:lnTo>
                        <a:pt x="242" y="30"/>
                      </a:lnTo>
                      <a:lnTo>
                        <a:pt x="293" y="30"/>
                      </a:lnTo>
                      <a:lnTo>
                        <a:pt x="346" y="27"/>
                      </a:lnTo>
                      <a:lnTo>
                        <a:pt x="398" y="23"/>
                      </a:lnTo>
                      <a:lnTo>
                        <a:pt x="452" y="17"/>
                      </a:lnTo>
                      <a:lnTo>
                        <a:pt x="503" y="9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4" name="Freeform 357"/>
                <p:cNvSpPr/>
                <p:nvPr/>
              </p:nvSpPr>
              <p:spPr>
                <a:xfrm>
                  <a:off x="5263560" y="3472560"/>
                  <a:ext cx="5040" cy="11520"/>
                </a:xfrm>
                <a:custGeom>
                  <a:avLst/>
                  <a:gdLst>
                    <a:gd name="textAreaLeft" fmla="*/ 0 w 5040"/>
                    <a:gd name="textAreaRight" fmla="*/ 5400 w 5040"/>
                    <a:gd name="textAreaTop" fmla="*/ 0 h 11520"/>
                    <a:gd name="textAreaBottom" fmla="*/ 11880 h 11520"/>
                  </a:gdLst>
                  <a:ahLst/>
                  <a:rect l="textAreaLeft" t="textAreaTop" r="textAreaRight" b="textAreaBottom"/>
                  <a:pathLst>
                    <a:path w="5" h="19">
                      <a:moveTo>
                        <a:pt x="5" y="19"/>
                      </a:moveTo>
                      <a:lnTo>
                        <a:pt x="0" y="0"/>
                      </a:lnTo>
                      <a:lnTo>
                        <a:pt x="5" y="19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5" name="Freeform 358"/>
                <p:cNvSpPr/>
                <p:nvPr/>
              </p:nvSpPr>
              <p:spPr>
                <a:xfrm>
                  <a:off x="5263560" y="3318840"/>
                  <a:ext cx="2433240" cy="442800"/>
                </a:xfrm>
                <a:custGeom>
                  <a:avLst/>
                  <a:gdLst>
                    <a:gd name="textAreaLeft" fmla="*/ 0 w 2433240"/>
                    <a:gd name="textAreaRight" fmla="*/ 2433600 w 2433240"/>
                    <a:gd name="textAreaTop" fmla="*/ 0 h 442800"/>
                    <a:gd name="textAreaBottom" fmla="*/ 443160 h 442800"/>
                  </a:gdLst>
                  <a:ahLst/>
                  <a:rect l="textAreaLeft" t="textAreaTop" r="textAreaRight" b="textAreaBottom"/>
                  <a:pathLst>
                    <a:path w="1864" h="795">
                      <a:moveTo>
                        <a:pt x="2" y="269"/>
                      </a:moveTo>
                      <a:lnTo>
                        <a:pt x="35" y="179"/>
                      </a:lnTo>
                      <a:lnTo>
                        <a:pt x="100" y="90"/>
                      </a:lnTo>
                      <a:lnTo>
                        <a:pt x="200" y="38"/>
                      </a:lnTo>
                      <a:lnTo>
                        <a:pt x="342" y="0"/>
                      </a:lnTo>
                      <a:lnTo>
                        <a:pt x="451" y="0"/>
                      </a:lnTo>
                      <a:lnTo>
                        <a:pt x="342" y="76"/>
                      </a:lnTo>
                      <a:lnTo>
                        <a:pt x="200" y="179"/>
                      </a:lnTo>
                      <a:lnTo>
                        <a:pt x="156" y="243"/>
                      </a:lnTo>
                      <a:lnTo>
                        <a:pt x="166" y="358"/>
                      </a:lnTo>
                      <a:lnTo>
                        <a:pt x="243" y="500"/>
                      </a:lnTo>
                      <a:lnTo>
                        <a:pt x="397" y="603"/>
                      </a:lnTo>
                      <a:lnTo>
                        <a:pt x="605" y="692"/>
                      </a:lnTo>
                      <a:lnTo>
                        <a:pt x="900" y="706"/>
                      </a:lnTo>
                      <a:lnTo>
                        <a:pt x="1109" y="692"/>
                      </a:lnTo>
                      <a:lnTo>
                        <a:pt x="1306" y="654"/>
                      </a:lnTo>
                      <a:lnTo>
                        <a:pt x="1535" y="591"/>
                      </a:lnTo>
                      <a:lnTo>
                        <a:pt x="1711" y="500"/>
                      </a:lnTo>
                      <a:lnTo>
                        <a:pt x="1864" y="398"/>
                      </a:lnTo>
                      <a:lnTo>
                        <a:pt x="1645" y="565"/>
                      </a:lnTo>
                      <a:lnTo>
                        <a:pt x="1448" y="667"/>
                      </a:lnTo>
                      <a:lnTo>
                        <a:pt x="1218" y="732"/>
                      </a:lnTo>
                      <a:lnTo>
                        <a:pt x="977" y="782"/>
                      </a:lnTo>
                      <a:lnTo>
                        <a:pt x="758" y="795"/>
                      </a:lnTo>
                      <a:lnTo>
                        <a:pt x="593" y="770"/>
                      </a:lnTo>
                      <a:lnTo>
                        <a:pt x="375" y="680"/>
                      </a:lnTo>
                      <a:lnTo>
                        <a:pt x="232" y="591"/>
                      </a:lnTo>
                      <a:lnTo>
                        <a:pt x="112" y="474"/>
                      </a:lnTo>
                      <a:lnTo>
                        <a:pt x="35" y="358"/>
                      </a:lnTo>
                      <a:lnTo>
                        <a:pt x="33" y="356"/>
                      </a:lnTo>
                      <a:lnTo>
                        <a:pt x="28" y="346"/>
                      </a:lnTo>
                      <a:lnTo>
                        <a:pt x="21" y="334"/>
                      </a:lnTo>
                      <a:lnTo>
                        <a:pt x="14" y="319"/>
                      </a:lnTo>
                      <a:lnTo>
                        <a:pt x="7" y="303"/>
                      </a:lnTo>
                      <a:lnTo>
                        <a:pt x="3" y="288"/>
                      </a:lnTo>
                      <a:lnTo>
                        <a:pt x="0" y="283"/>
                      </a:lnTo>
                      <a:lnTo>
                        <a:pt x="0" y="277"/>
                      </a:lnTo>
                      <a:lnTo>
                        <a:pt x="0" y="272"/>
                      </a:lnTo>
                      <a:lnTo>
                        <a:pt x="2" y="269"/>
                      </a:lnTo>
                      <a:close/>
                    </a:path>
                  </a:pathLst>
                </a:custGeom>
                <a:solidFill>
                  <a:srgbClr val="e6cfb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6" name="Freeform 359"/>
                <p:cNvSpPr/>
                <p:nvPr/>
              </p:nvSpPr>
              <p:spPr>
                <a:xfrm>
                  <a:off x="5263560" y="3330720"/>
                  <a:ext cx="368640" cy="250560"/>
                </a:xfrm>
                <a:custGeom>
                  <a:avLst/>
                  <a:gdLst>
                    <a:gd name="textAreaLeft" fmla="*/ 0 w 368640"/>
                    <a:gd name="textAreaRight" fmla="*/ 369000 w 368640"/>
                    <a:gd name="textAreaTop" fmla="*/ 0 h 250560"/>
                    <a:gd name="textAreaBottom" fmla="*/ 250920 h 250560"/>
                  </a:gdLst>
                  <a:ahLst/>
                  <a:rect l="textAreaLeft" t="textAreaTop" r="textAreaRight" b="textAreaBottom"/>
                  <a:pathLst>
                    <a:path w="283" h="450">
                      <a:moveTo>
                        <a:pt x="263" y="0"/>
                      </a:moveTo>
                      <a:lnTo>
                        <a:pt x="283" y="97"/>
                      </a:lnTo>
                      <a:lnTo>
                        <a:pt x="200" y="158"/>
                      </a:lnTo>
                      <a:lnTo>
                        <a:pt x="156" y="222"/>
                      </a:lnTo>
                      <a:lnTo>
                        <a:pt x="166" y="337"/>
                      </a:lnTo>
                      <a:lnTo>
                        <a:pt x="167" y="339"/>
                      </a:lnTo>
                      <a:lnTo>
                        <a:pt x="109" y="450"/>
                      </a:lnTo>
                      <a:lnTo>
                        <a:pt x="35" y="337"/>
                      </a:lnTo>
                      <a:lnTo>
                        <a:pt x="33" y="335"/>
                      </a:lnTo>
                      <a:lnTo>
                        <a:pt x="28" y="325"/>
                      </a:lnTo>
                      <a:lnTo>
                        <a:pt x="21" y="313"/>
                      </a:lnTo>
                      <a:lnTo>
                        <a:pt x="14" y="298"/>
                      </a:lnTo>
                      <a:lnTo>
                        <a:pt x="7" y="282"/>
                      </a:lnTo>
                      <a:lnTo>
                        <a:pt x="3" y="267"/>
                      </a:lnTo>
                      <a:lnTo>
                        <a:pt x="0" y="262"/>
                      </a:lnTo>
                      <a:lnTo>
                        <a:pt x="0" y="256"/>
                      </a:lnTo>
                      <a:lnTo>
                        <a:pt x="0" y="251"/>
                      </a:lnTo>
                      <a:lnTo>
                        <a:pt x="2" y="248"/>
                      </a:lnTo>
                      <a:lnTo>
                        <a:pt x="35" y="158"/>
                      </a:lnTo>
                      <a:lnTo>
                        <a:pt x="100" y="69"/>
                      </a:lnTo>
                      <a:lnTo>
                        <a:pt x="200" y="17"/>
                      </a:lnTo>
                      <a:lnTo>
                        <a:pt x="263" y="0"/>
                      </a:lnTo>
                      <a:close/>
                    </a:path>
                  </a:pathLst>
                </a:custGeom>
                <a:solidFill>
                  <a:srgbClr val="e5b2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7" name="Freeform 360"/>
                <p:cNvSpPr/>
                <p:nvPr/>
              </p:nvSpPr>
              <p:spPr>
                <a:xfrm>
                  <a:off x="5605920" y="3318840"/>
                  <a:ext cx="156960" cy="65160"/>
                </a:xfrm>
                <a:custGeom>
                  <a:avLst/>
                  <a:gdLst>
                    <a:gd name="textAreaLeft" fmla="*/ 0 w 156960"/>
                    <a:gd name="textAreaRight" fmla="*/ 157320 w 156960"/>
                    <a:gd name="textAreaTop" fmla="*/ 0 h 65160"/>
                    <a:gd name="textAreaBottom" fmla="*/ 65520 h 65160"/>
                  </a:gdLst>
                  <a:ahLst/>
                  <a:rect l="textAreaLeft" t="textAreaTop" r="textAreaRight" b="textAreaBottom"/>
                  <a:pathLst>
                    <a:path w="120" h="118">
                      <a:moveTo>
                        <a:pt x="20" y="118"/>
                      </a:moveTo>
                      <a:lnTo>
                        <a:pt x="0" y="21"/>
                      </a:lnTo>
                      <a:lnTo>
                        <a:pt x="79" y="0"/>
                      </a:lnTo>
                      <a:lnTo>
                        <a:pt x="110" y="0"/>
                      </a:lnTo>
                      <a:lnTo>
                        <a:pt x="120" y="48"/>
                      </a:lnTo>
                      <a:lnTo>
                        <a:pt x="79" y="76"/>
                      </a:lnTo>
                      <a:lnTo>
                        <a:pt x="20" y="118"/>
                      </a:lnTo>
                      <a:close/>
                    </a:path>
                  </a:pathLst>
                </a:custGeom>
                <a:solidFill>
                  <a:srgbClr val="e5b2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8" name="Freeform 361"/>
                <p:cNvSpPr/>
                <p:nvPr/>
              </p:nvSpPr>
              <p:spPr>
                <a:xfrm>
                  <a:off x="5749920" y="3318840"/>
                  <a:ext cx="101880" cy="26280"/>
                </a:xfrm>
                <a:custGeom>
                  <a:avLst/>
                  <a:gdLst>
                    <a:gd name="textAreaLeft" fmla="*/ 0 w 101880"/>
                    <a:gd name="textAreaRight" fmla="*/ 102240 w 101880"/>
                    <a:gd name="textAreaTop" fmla="*/ 0 h 26280"/>
                    <a:gd name="textAreaBottom" fmla="*/ 26640 h 26280"/>
                  </a:gdLst>
                  <a:ahLst/>
                  <a:rect l="textAreaLeft" t="textAreaTop" r="textAreaRight" b="textAreaBottom"/>
                  <a:pathLst>
                    <a:path w="78" h="48">
                      <a:moveTo>
                        <a:pt x="10" y="48"/>
                      </a:moveTo>
                      <a:lnTo>
                        <a:pt x="0" y="0"/>
                      </a:lnTo>
                      <a:lnTo>
                        <a:pt x="78" y="0"/>
                      </a:lnTo>
                      <a:lnTo>
                        <a:pt x="10" y="48"/>
                      </a:lnTo>
                      <a:close/>
                    </a:path>
                  </a:pathLst>
                </a:custGeom>
                <a:solidFill>
                  <a:srgbClr val="e5b88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9" name="Freeform 362"/>
                <p:cNvSpPr/>
                <p:nvPr/>
              </p:nvSpPr>
              <p:spPr>
                <a:xfrm>
                  <a:off x="5404320" y="3519360"/>
                  <a:ext cx="75600" cy="61560"/>
                </a:xfrm>
                <a:custGeom>
                  <a:avLst/>
                  <a:gdLst>
                    <a:gd name="textAreaLeft" fmla="*/ 0 w 75600"/>
                    <a:gd name="textAreaRight" fmla="*/ 75960 w 75600"/>
                    <a:gd name="textAreaTop" fmla="*/ 0 h 61560"/>
                    <a:gd name="textAreaBottom" fmla="*/ 61920 h 61560"/>
                  </a:gdLst>
                  <a:ahLst/>
                  <a:rect l="textAreaLeft" t="textAreaTop" r="textAreaRight" b="textAreaBottom"/>
                  <a:pathLst>
                    <a:path w="58" h="111">
                      <a:moveTo>
                        <a:pt x="58" y="0"/>
                      </a:moveTo>
                      <a:lnTo>
                        <a:pt x="0" y="111"/>
                      </a:lnTo>
                      <a:lnTo>
                        <a:pt x="58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0" name="Freeform 363"/>
                <p:cNvSpPr/>
                <p:nvPr/>
              </p:nvSpPr>
              <p:spPr>
                <a:xfrm>
                  <a:off x="5433480" y="3528000"/>
                  <a:ext cx="2202840" cy="230760"/>
                </a:xfrm>
                <a:custGeom>
                  <a:avLst/>
                  <a:gdLst>
                    <a:gd name="textAreaLeft" fmla="*/ 0 w 2202840"/>
                    <a:gd name="textAreaRight" fmla="*/ 2203200 w 2202840"/>
                    <a:gd name="textAreaTop" fmla="*/ 0 h 230760"/>
                    <a:gd name="textAreaBottom" fmla="*/ 231120 h 230760"/>
                  </a:gdLst>
                  <a:ahLst/>
                  <a:rect l="textAreaLeft" t="textAreaTop" r="textAreaRight" b="textAreaBottom"/>
                  <a:pathLst>
                    <a:path w="1686" h="414">
                      <a:moveTo>
                        <a:pt x="1686" y="53"/>
                      </a:moveTo>
                      <a:lnTo>
                        <a:pt x="1666" y="72"/>
                      </a:lnTo>
                      <a:lnTo>
                        <a:pt x="1642" y="91"/>
                      </a:lnTo>
                      <a:lnTo>
                        <a:pt x="1618" y="110"/>
                      </a:lnTo>
                      <a:lnTo>
                        <a:pt x="1594" y="127"/>
                      </a:lnTo>
                      <a:lnTo>
                        <a:pt x="1568" y="145"/>
                      </a:lnTo>
                      <a:lnTo>
                        <a:pt x="1542" y="163"/>
                      </a:lnTo>
                      <a:lnTo>
                        <a:pt x="1514" y="180"/>
                      </a:lnTo>
                      <a:lnTo>
                        <a:pt x="1486" y="198"/>
                      </a:lnTo>
                      <a:lnTo>
                        <a:pt x="1456" y="214"/>
                      </a:lnTo>
                      <a:lnTo>
                        <a:pt x="1426" y="230"/>
                      </a:lnTo>
                      <a:lnTo>
                        <a:pt x="1395" y="245"/>
                      </a:lnTo>
                      <a:lnTo>
                        <a:pt x="1362" y="262"/>
                      </a:lnTo>
                      <a:lnTo>
                        <a:pt x="1329" y="277"/>
                      </a:lnTo>
                      <a:lnTo>
                        <a:pt x="1294" y="290"/>
                      </a:lnTo>
                      <a:lnTo>
                        <a:pt x="1258" y="305"/>
                      </a:lnTo>
                      <a:lnTo>
                        <a:pt x="1221" y="319"/>
                      </a:lnTo>
                      <a:lnTo>
                        <a:pt x="1087" y="357"/>
                      </a:lnTo>
                      <a:lnTo>
                        <a:pt x="846" y="407"/>
                      </a:lnTo>
                      <a:lnTo>
                        <a:pt x="741" y="414"/>
                      </a:lnTo>
                      <a:lnTo>
                        <a:pt x="689" y="412"/>
                      </a:lnTo>
                      <a:lnTo>
                        <a:pt x="637" y="410"/>
                      </a:lnTo>
                      <a:lnTo>
                        <a:pt x="587" y="404"/>
                      </a:lnTo>
                      <a:lnTo>
                        <a:pt x="540" y="397"/>
                      </a:lnTo>
                      <a:lnTo>
                        <a:pt x="492" y="389"/>
                      </a:lnTo>
                      <a:lnTo>
                        <a:pt x="447" y="378"/>
                      </a:lnTo>
                      <a:lnTo>
                        <a:pt x="403" y="366"/>
                      </a:lnTo>
                      <a:lnTo>
                        <a:pt x="362" y="353"/>
                      </a:lnTo>
                      <a:lnTo>
                        <a:pt x="244" y="305"/>
                      </a:lnTo>
                      <a:lnTo>
                        <a:pt x="244" y="305"/>
                      </a:lnTo>
                      <a:lnTo>
                        <a:pt x="244" y="305"/>
                      </a:lnTo>
                      <a:lnTo>
                        <a:pt x="244" y="305"/>
                      </a:lnTo>
                      <a:lnTo>
                        <a:pt x="244" y="305"/>
                      </a:lnTo>
                      <a:lnTo>
                        <a:pt x="244" y="305"/>
                      </a:lnTo>
                      <a:lnTo>
                        <a:pt x="244" y="305"/>
                      </a:lnTo>
                      <a:lnTo>
                        <a:pt x="244" y="305"/>
                      </a:lnTo>
                      <a:lnTo>
                        <a:pt x="244" y="305"/>
                      </a:lnTo>
                      <a:lnTo>
                        <a:pt x="101" y="216"/>
                      </a:lnTo>
                      <a:lnTo>
                        <a:pt x="0" y="118"/>
                      </a:lnTo>
                      <a:lnTo>
                        <a:pt x="3" y="107"/>
                      </a:lnTo>
                      <a:lnTo>
                        <a:pt x="6" y="95"/>
                      </a:lnTo>
                      <a:lnTo>
                        <a:pt x="10" y="81"/>
                      </a:lnTo>
                      <a:lnTo>
                        <a:pt x="15" y="68"/>
                      </a:lnTo>
                      <a:lnTo>
                        <a:pt x="21" y="51"/>
                      </a:lnTo>
                      <a:lnTo>
                        <a:pt x="28" y="35"/>
                      </a:lnTo>
                      <a:lnTo>
                        <a:pt x="35" y="19"/>
                      </a:lnTo>
                      <a:lnTo>
                        <a:pt x="44" y="0"/>
                      </a:lnTo>
                      <a:lnTo>
                        <a:pt x="112" y="125"/>
                      </a:lnTo>
                      <a:lnTo>
                        <a:pt x="266" y="228"/>
                      </a:lnTo>
                      <a:lnTo>
                        <a:pt x="474" y="317"/>
                      </a:lnTo>
                      <a:lnTo>
                        <a:pt x="769" y="331"/>
                      </a:lnTo>
                      <a:lnTo>
                        <a:pt x="978" y="317"/>
                      </a:lnTo>
                      <a:lnTo>
                        <a:pt x="1175" y="279"/>
                      </a:lnTo>
                      <a:lnTo>
                        <a:pt x="1404" y="216"/>
                      </a:lnTo>
                      <a:lnTo>
                        <a:pt x="1580" y="125"/>
                      </a:lnTo>
                      <a:lnTo>
                        <a:pt x="1686" y="53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1" name="Freeform 364"/>
                <p:cNvSpPr/>
                <p:nvPr/>
              </p:nvSpPr>
              <p:spPr>
                <a:xfrm>
                  <a:off x="7545240" y="3557880"/>
                  <a:ext cx="91080" cy="31680"/>
                </a:xfrm>
                <a:custGeom>
                  <a:avLst/>
                  <a:gdLst>
                    <a:gd name="textAreaLeft" fmla="*/ 0 w 91080"/>
                    <a:gd name="textAreaRight" fmla="*/ 91440 w 91080"/>
                    <a:gd name="textAreaTop" fmla="*/ 0 h 31680"/>
                    <a:gd name="textAreaBottom" fmla="*/ 32040 h 31680"/>
                  </a:gdLst>
                  <a:ahLst/>
                  <a:rect l="textAreaLeft" t="textAreaTop" r="textAreaRight" b="textAreaBottom"/>
                  <a:pathLst>
                    <a:path w="69" h="57">
                      <a:moveTo>
                        <a:pt x="69" y="0"/>
                      </a:moveTo>
                      <a:lnTo>
                        <a:pt x="62" y="5"/>
                      </a:lnTo>
                      <a:lnTo>
                        <a:pt x="32" y="31"/>
                      </a:lnTo>
                      <a:lnTo>
                        <a:pt x="0" y="57"/>
                      </a:lnTo>
                      <a:lnTo>
                        <a:pt x="32" y="31"/>
                      </a:lnTo>
                      <a:lnTo>
                        <a:pt x="62" y="5"/>
                      </a:lnTo>
                      <a:lnTo>
                        <a:pt x="69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2" name="Freeform 365"/>
                <p:cNvSpPr/>
                <p:nvPr/>
              </p:nvSpPr>
              <p:spPr>
                <a:xfrm>
                  <a:off x="7027920" y="3589560"/>
                  <a:ext cx="517320" cy="115200"/>
                </a:xfrm>
                <a:custGeom>
                  <a:avLst/>
                  <a:gdLst>
                    <a:gd name="textAreaLeft" fmla="*/ 0 w 517320"/>
                    <a:gd name="textAreaRight" fmla="*/ 517680 w 517320"/>
                    <a:gd name="textAreaTop" fmla="*/ 0 h 115200"/>
                    <a:gd name="textAreaBottom" fmla="*/ 115560 h 115200"/>
                  </a:gdLst>
                  <a:ahLst/>
                  <a:rect l="textAreaLeft" t="textAreaTop" r="textAreaRight" b="textAreaBottom"/>
                  <a:pathLst>
                    <a:path w="396" h="208">
                      <a:moveTo>
                        <a:pt x="396" y="0"/>
                      </a:moveTo>
                      <a:lnTo>
                        <a:pt x="362" y="26"/>
                      </a:lnTo>
                      <a:lnTo>
                        <a:pt x="325" y="50"/>
                      </a:lnTo>
                      <a:lnTo>
                        <a:pt x="287" y="73"/>
                      </a:lnTo>
                      <a:lnTo>
                        <a:pt x="248" y="96"/>
                      </a:lnTo>
                      <a:lnTo>
                        <a:pt x="206" y="119"/>
                      </a:lnTo>
                      <a:lnTo>
                        <a:pt x="162" y="141"/>
                      </a:lnTo>
                      <a:lnTo>
                        <a:pt x="116" y="162"/>
                      </a:lnTo>
                      <a:lnTo>
                        <a:pt x="68" y="182"/>
                      </a:lnTo>
                      <a:lnTo>
                        <a:pt x="17" y="202"/>
                      </a:lnTo>
                      <a:lnTo>
                        <a:pt x="0" y="208"/>
                      </a:lnTo>
                      <a:lnTo>
                        <a:pt x="17" y="202"/>
                      </a:lnTo>
                      <a:lnTo>
                        <a:pt x="68" y="182"/>
                      </a:lnTo>
                      <a:lnTo>
                        <a:pt x="116" y="162"/>
                      </a:lnTo>
                      <a:lnTo>
                        <a:pt x="162" y="141"/>
                      </a:lnTo>
                      <a:lnTo>
                        <a:pt x="206" y="119"/>
                      </a:lnTo>
                      <a:lnTo>
                        <a:pt x="248" y="96"/>
                      </a:lnTo>
                      <a:lnTo>
                        <a:pt x="287" y="73"/>
                      </a:lnTo>
                      <a:lnTo>
                        <a:pt x="325" y="50"/>
                      </a:lnTo>
                      <a:lnTo>
                        <a:pt x="362" y="26"/>
                      </a:lnTo>
                      <a:lnTo>
                        <a:pt x="396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3" name="Freeform 366"/>
                <p:cNvSpPr/>
                <p:nvPr/>
              </p:nvSpPr>
              <p:spPr>
                <a:xfrm>
                  <a:off x="5904000" y="3723480"/>
                  <a:ext cx="498960" cy="34920"/>
                </a:xfrm>
                <a:custGeom>
                  <a:avLst/>
                  <a:gdLst>
                    <a:gd name="textAreaLeft" fmla="*/ 0 w 498960"/>
                    <a:gd name="textAreaRight" fmla="*/ 499320 w 498960"/>
                    <a:gd name="textAreaTop" fmla="*/ 0 h 34920"/>
                    <a:gd name="textAreaBottom" fmla="*/ 35280 h 34920"/>
                  </a:gdLst>
                  <a:ahLst/>
                  <a:rect l="textAreaLeft" t="textAreaTop" r="textAreaRight" b="textAreaBottom"/>
                  <a:pathLst>
                    <a:path w="383" h="61">
                      <a:moveTo>
                        <a:pt x="383" y="61"/>
                      </a:moveTo>
                      <a:lnTo>
                        <a:pt x="379" y="61"/>
                      </a:lnTo>
                      <a:lnTo>
                        <a:pt x="334" y="61"/>
                      </a:lnTo>
                      <a:lnTo>
                        <a:pt x="289" y="58"/>
                      </a:lnTo>
                      <a:lnTo>
                        <a:pt x="246" y="54"/>
                      </a:lnTo>
                      <a:lnTo>
                        <a:pt x="204" y="48"/>
                      </a:lnTo>
                      <a:lnTo>
                        <a:pt x="163" y="42"/>
                      </a:lnTo>
                      <a:lnTo>
                        <a:pt x="122" y="33"/>
                      </a:lnTo>
                      <a:lnTo>
                        <a:pt x="84" y="24"/>
                      </a:lnTo>
                      <a:lnTo>
                        <a:pt x="46" y="14"/>
                      </a:lnTo>
                      <a:lnTo>
                        <a:pt x="10" y="2"/>
                      </a:lnTo>
                      <a:lnTo>
                        <a:pt x="0" y="0"/>
                      </a:lnTo>
                      <a:lnTo>
                        <a:pt x="10" y="2"/>
                      </a:lnTo>
                      <a:lnTo>
                        <a:pt x="46" y="14"/>
                      </a:lnTo>
                      <a:lnTo>
                        <a:pt x="84" y="24"/>
                      </a:lnTo>
                      <a:lnTo>
                        <a:pt x="122" y="33"/>
                      </a:lnTo>
                      <a:lnTo>
                        <a:pt x="163" y="42"/>
                      </a:lnTo>
                      <a:lnTo>
                        <a:pt x="204" y="48"/>
                      </a:lnTo>
                      <a:lnTo>
                        <a:pt x="246" y="54"/>
                      </a:lnTo>
                      <a:lnTo>
                        <a:pt x="289" y="58"/>
                      </a:lnTo>
                      <a:lnTo>
                        <a:pt x="334" y="61"/>
                      </a:lnTo>
                      <a:lnTo>
                        <a:pt x="379" y="61"/>
                      </a:lnTo>
                      <a:lnTo>
                        <a:pt x="383" y="61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4" name="Freeform 367"/>
                <p:cNvSpPr/>
                <p:nvPr/>
              </p:nvSpPr>
              <p:spPr>
                <a:xfrm>
                  <a:off x="5749920" y="3696480"/>
                  <a:ext cx="2160" cy="1800"/>
                </a:xfrm>
                <a:custGeom>
                  <a:avLst/>
                  <a:gdLst>
                    <a:gd name="textAreaLeft" fmla="*/ 0 w 2160"/>
                    <a:gd name="textAreaRight" fmla="*/ 2520 w 2160"/>
                    <a:gd name="textAreaTop" fmla="*/ 0 h 1800"/>
                    <a:gd name="textAreaBottom" fmla="*/ 2160 h 1800"/>
                  </a:gdLst>
                  <a:ahLst/>
                  <a:rect l="textAreaLeft" t="textAreaTop" r="textAreaRight" b="textAreaBottom"/>
                  <a:pathLst>
                    <a:path w="3" h="1">
                      <a:moveTo>
                        <a:pt x="3" y="0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5" name="Freeform 368"/>
                <p:cNvSpPr/>
                <p:nvPr/>
              </p:nvSpPr>
              <p:spPr>
                <a:xfrm>
                  <a:off x="5433480" y="3528000"/>
                  <a:ext cx="57240" cy="65160"/>
                </a:xfrm>
                <a:custGeom>
                  <a:avLst/>
                  <a:gdLst>
                    <a:gd name="textAreaLeft" fmla="*/ 0 w 57240"/>
                    <a:gd name="textAreaRight" fmla="*/ 57600 w 57240"/>
                    <a:gd name="textAreaTop" fmla="*/ 0 h 65160"/>
                    <a:gd name="textAreaBottom" fmla="*/ 65520 h 65160"/>
                  </a:gdLst>
                  <a:ahLst/>
                  <a:rect l="textAreaLeft" t="textAreaTop" r="textAreaRight" b="textAreaBottom"/>
                  <a:pathLst>
                    <a:path w="44" h="118">
                      <a:moveTo>
                        <a:pt x="0" y="118"/>
                      </a:moveTo>
                      <a:lnTo>
                        <a:pt x="3" y="106"/>
                      </a:lnTo>
                      <a:lnTo>
                        <a:pt x="7" y="91"/>
                      </a:lnTo>
                      <a:lnTo>
                        <a:pt x="12" y="74"/>
                      </a:lnTo>
                      <a:lnTo>
                        <a:pt x="19" y="57"/>
                      </a:lnTo>
                      <a:lnTo>
                        <a:pt x="27" y="38"/>
                      </a:lnTo>
                      <a:lnTo>
                        <a:pt x="35" y="17"/>
                      </a:lnTo>
                      <a:lnTo>
                        <a:pt x="44" y="0"/>
                      </a:lnTo>
                      <a:lnTo>
                        <a:pt x="35" y="17"/>
                      </a:lnTo>
                      <a:lnTo>
                        <a:pt x="27" y="38"/>
                      </a:lnTo>
                      <a:lnTo>
                        <a:pt x="19" y="57"/>
                      </a:lnTo>
                      <a:lnTo>
                        <a:pt x="12" y="74"/>
                      </a:lnTo>
                      <a:lnTo>
                        <a:pt x="7" y="91"/>
                      </a:lnTo>
                      <a:lnTo>
                        <a:pt x="3" y="106"/>
                      </a:lnTo>
                      <a:lnTo>
                        <a:pt x="0" y="118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6" name="Freeform 369"/>
                <p:cNvSpPr/>
                <p:nvPr/>
              </p:nvSpPr>
              <p:spPr>
                <a:xfrm>
                  <a:off x="7610400" y="3556440"/>
                  <a:ext cx="25920" cy="9720"/>
                </a:xfrm>
                <a:custGeom>
                  <a:avLst/>
                  <a:gdLst>
                    <a:gd name="textAreaLeft" fmla="*/ 0 w 25920"/>
                    <a:gd name="textAreaRight" fmla="*/ 26280 w 25920"/>
                    <a:gd name="textAreaTop" fmla="*/ 0 h 9720"/>
                    <a:gd name="textAreaBottom" fmla="*/ 10080 h 9720"/>
                  </a:gdLst>
                  <a:ahLst/>
                  <a:rect l="textAreaLeft" t="textAreaTop" r="textAreaRight" b="textAreaBottom"/>
                  <a:pathLst>
                    <a:path w="19" h="16">
                      <a:moveTo>
                        <a:pt x="19" y="0"/>
                      </a:moveTo>
                      <a:lnTo>
                        <a:pt x="11" y="8"/>
                      </a:lnTo>
                      <a:lnTo>
                        <a:pt x="2" y="16"/>
                      </a:lnTo>
                      <a:lnTo>
                        <a:pt x="0" y="15"/>
                      </a:lnTo>
                      <a:lnTo>
                        <a:pt x="2" y="16"/>
                      </a:lnTo>
                      <a:lnTo>
                        <a:pt x="11" y="8"/>
                      </a:lnTo>
                      <a:lnTo>
                        <a:pt x="19" y="0"/>
                      </a:lnTo>
                    </a:path>
                  </a:pathLst>
                </a:custGeom>
                <a:noFill/>
                <a:ln w="0">
                  <a:solidFill>
                    <a:srgbClr val="33333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7" name="Freeform 370"/>
                <p:cNvSpPr/>
                <p:nvPr/>
              </p:nvSpPr>
              <p:spPr>
                <a:xfrm>
                  <a:off x="7503120" y="3566160"/>
                  <a:ext cx="112320" cy="31680"/>
                </a:xfrm>
                <a:custGeom>
                  <a:avLst/>
                  <a:gdLst>
                    <a:gd name="textAreaLeft" fmla="*/ 0 w 112320"/>
                    <a:gd name="textAreaRight" fmla="*/ 112680 w 112320"/>
                    <a:gd name="textAreaTop" fmla="*/ 0 h 31680"/>
                    <a:gd name="textAreaBottom" fmla="*/ 32040 h 31680"/>
                  </a:gdLst>
                  <a:ahLst/>
                  <a:rect l="textAreaLeft" t="textAreaTop" r="textAreaRight" b="textAreaBottom"/>
                  <a:pathLst>
                    <a:path w="85" h="58">
                      <a:moveTo>
                        <a:pt x="85" y="0"/>
                      </a:moveTo>
                      <a:lnTo>
                        <a:pt x="77" y="7"/>
                      </a:lnTo>
                      <a:lnTo>
                        <a:pt x="68" y="15"/>
                      </a:lnTo>
                      <a:lnTo>
                        <a:pt x="58" y="22"/>
                      </a:lnTo>
                      <a:lnTo>
                        <a:pt x="49" y="30"/>
                      </a:lnTo>
                      <a:lnTo>
                        <a:pt x="40" y="37"/>
                      </a:lnTo>
                      <a:lnTo>
                        <a:pt x="31" y="43"/>
                      </a:lnTo>
                      <a:lnTo>
                        <a:pt x="20" y="52"/>
                      </a:lnTo>
                      <a:lnTo>
                        <a:pt x="11" y="58"/>
                      </a:lnTo>
                      <a:lnTo>
                        <a:pt x="0" y="53"/>
                      </a:lnTo>
                      <a:lnTo>
                        <a:pt x="11" y="58"/>
                      </a:lnTo>
                      <a:lnTo>
                        <a:pt x="20" y="52"/>
                      </a:lnTo>
                      <a:lnTo>
                        <a:pt x="31" y="43"/>
                      </a:lnTo>
                      <a:lnTo>
                        <a:pt x="40" y="37"/>
                      </a:lnTo>
                      <a:lnTo>
                        <a:pt x="49" y="30"/>
                      </a:lnTo>
                      <a:lnTo>
                        <a:pt x="58" y="22"/>
                      </a:lnTo>
                      <a:lnTo>
                        <a:pt x="68" y="15"/>
                      </a:lnTo>
                      <a:lnTo>
                        <a:pt x="77" y="7"/>
                      </a:lnTo>
                      <a:lnTo>
                        <a:pt x="85" y="0"/>
                      </a:lnTo>
                    </a:path>
                  </a:pathLst>
                </a:custGeom>
                <a:noFill/>
                <a:ln w="0">
                  <a:solidFill>
                    <a:srgbClr val="33333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8" name="Freeform 371"/>
                <p:cNvSpPr/>
                <p:nvPr/>
              </p:nvSpPr>
              <p:spPr>
                <a:xfrm>
                  <a:off x="7610400" y="3564720"/>
                  <a:ext cx="5040" cy="1440"/>
                </a:xfrm>
                <a:custGeom>
                  <a:avLst/>
                  <a:gdLst>
                    <a:gd name="textAreaLeft" fmla="*/ 0 w 5040"/>
                    <a:gd name="textAreaRight" fmla="*/ 5400 w 5040"/>
                    <a:gd name="textAreaTop" fmla="*/ 0 h 1440"/>
                    <a:gd name="textAreaBottom" fmla="*/ 1800 h 1440"/>
                  </a:gdLst>
                  <a:ahLst/>
                  <a:rect l="textAreaLeft" t="textAreaTop" r="textAreaRight" b="textAreaBottom"/>
                  <a:pathLst>
                    <a:path w="2" h="1">
                      <a:moveTo>
                        <a:pt x="0" y="0"/>
                      </a:moveTo>
                      <a:lnTo>
                        <a:pt x="2" y="1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33333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9" name="Freeform 372"/>
                <p:cNvSpPr/>
                <p:nvPr/>
              </p:nvSpPr>
              <p:spPr>
                <a:xfrm>
                  <a:off x="7401240" y="3597840"/>
                  <a:ext cx="115560" cy="30240"/>
                </a:xfrm>
                <a:custGeom>
                  <a:avLst/>
                  <a:gdLst>
                    <a:gd name="textAreaLeft" fmla="*/ 0 w 115560"/>
                    <a:gd name="textAreaRight" fmla="*/ 115920 w 115560"/>
                    <a:gd name="textAreaTop" fmla="*/ 0 h 30240"/>
                    <a:gd name="textAreaBottom" fmla="*/ 30600 h 30240"/>
                  </a:gdLst>
                  <a:ahLst/>
                  <a:rect l="textAreaLeft" t="textAreaTop" r="textAreaRight" b="textAreaBottom"/>
                  <a:pathLst>
                    <a:path w="89" h="55">
                      <a:moveTo>
                        <a:pt x="89" y="0"/>
                      </a:moveTo>
                      <a:lnTo>
                        <a:pt x="78" y="7"/>
                      </a:lnTo>
                      <a:lnTo>
                        <a:pt x="69" y="14"/>
                      </a:lnTo>
                      <a:lnTo>
                        <a:pt x="59" y="21"/>
                      </a:lnTo>
                      <a:lnTo>
                        <a:pt x="48" y="27"/>
                      </a:lnTo>
                      <a:lnTo>
                        <a:pt x="38" y="34"/>
                      </a:lnTo>
                      <a:lnTo>
                        <a:pt x="28" y="41"/>
                      </a:lnTo>
                      <a:lnTo>
                        <a:pt x="17" y="48"/>
                      </a:lnTo>
                      <a:lnTo>
                        <a:pt x="6" y="55"/>
                      </a:lnTo>
                      <a:lnTo>
                        <a:pt x="0" y="52"/>
                      </a:lnTo>
                      <a:lnTo>
                        <a:pt x="36" y="18"/>
                      </a:lnTo>
                      <a:lnTo>
                        <a:pt x="0" y="52"/>
                      </a:lnTo>
                      <a:lnTo>
                        <a:pt x="6" y="55"/>
                      </a:lnTo>
                      <a:lnTo>
                        <a:pt x="17" y="48"/>
                      </a:lnTo>
                      <a:lnTo>
                        <a:pt x="28" y="41"/>
                      </a:lnTo>
                      <a:lnTo>
                        <a:pt x="38" y="34"/>
                      </a:lnTo>
                      <a:lnTo>
                        <a:pt x="48" y="27"/>
                      </a:lnTo>
                      <a:lnTo>
                        <a:pt x="59" y="21"/>
                      </a:lnTo>
                      <a:lnTo>
                        <a:pt x="69" y="14"/>
                      </a:lnTo>
                      <a:lnTo>
                        <a:pt x="78" y="7"/>
                      </a:lnTo>
                      <a:lnTo>
                        <a:pt x="89" y="0"/>
                      </a:lnTo>
                    </a:path>
                  </a:pathLst>
                </a:custGeom>
                <a:noFill/>
                <a:ln w="0">
                  <a:solidFill>
                    <a:srgbClr val="33333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0" name="Freeform 373"/>
                <p:cNvSpPr/>
                <p:nvPr/>
              </p:nvSpPr>
              <p:spPr>
                <a:xfrm>
                  <a:off x="7503120" y="3594600"/>
                  <a:ext cx="13320" cy="3240"/>
                </a:xfrm>
                <a:custGeom>
                  <a:avLst/>
                  <a:gdLst>
                    <a:gd name="textAreaLeft" fmla="*/ 0 w 13320"/>
                    <a:gd name="textAreaRight" fmla="*/ 13680 w 13320"/>
                    <a:gd name="textAreaTop" fmla="*/ 0 h 3240"/>
                    <a:gd name="textAreaBottom" fmla="*/ 3600 h 3240"/>
                  </a:gdLst>
                  <a:ahLst/>
                  <a:rect l="textAreaLeft" t="textAreaTop" r="textAreaRight" b="textAreaBottom"/>
                  <a:pathLst>
                    <a:path w="11" h="5">
                      <a:moveTo>
                        <a:pt x="0" y="0"/>
                      </a:moveTo>
                      <a:lnTo>
                        <a:pt x="11" y="5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33333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1" name="Freeform 374"/>
                <p:cNvSpPr/>
                <p:nvPr/>
              </p:nvSpPr>
              <p:spPr>
                <a:xfrm>
                  <a:off x="7378200" y="3623040"/>
                  <a:ext cx="31320" cy="13320"/>
                </a:xfrm>
                <a:custGeom>
                  <a:avLst/>
                  <a:gdLst>
                    <a:gd name="textAreaLeft" fmla="*/ 0 w 31320"/>
                    <a:gd name="textAreaRight" fmla="*/ 31680 w 31320"/>
                    <a:gd name="textAreaTop" fmla="*/ 0 h 13320"/>
                    <a:gd name="textAreaBottom" fmla="*/ 13680 h 13320"/>
                  </a:gdLst>
                  <a:ahLst/>
                  <a:rect l="textAreaLeft" t="textAreaTop" r="textAreaRight" b="textAreaBottom"/>
                  <a:pathLst>
                    <a:path w="24" h="24">
                      <a:moveTo>
                        <a:pt x="24" y="11"/>
                      </a:moveTo>
                      <a:lnTo>
                        <a:pt x="21" y="13"/>
                      </a:lnTo>
                      <a:lnTo>
                        <a:pt x="18" y="15"/>
                      </a:lnTo>
                      <a:lnTo>
                        <a:pt x="15" y="16"/>
                      </a:lnTo>
                      <a:lnTo>
                        <a:pt x="12" y="17"/>
                      </a:lnTo>
                      <a:lnTo>
                        <a:pt x="10" y="20"/>
                      </a:lnTo>
                      <a:lnTo>
                        <a:pt x="6" y="21"/>
                      </a:lnTo>
                      <a:lnTo>
                        <a:pt x="4" y="23"/>
                      </a:lnTo>
                      <a:lnTo>
                        <a:pt x="0" y="24"/>
                      </a:lnTo>
                      <a:lnTo>
                        <a:pt x="18" y="8"/>
                      </a:lnTo>
                      <a:lnTo>
                        <a:pt x="2" y="0"/>
                      </a:lnTo>
                      <a:lnTo>
                        <a:pt x="18" y="8"/>
                      </a:lnTo>
                      <a:lnTo>
                        <a:pt x="0" y="24"/>
                      </a:lnTo>
                      <a:lnTo>
                        <a:pt x="4" y="23"/>
                      </a:lnTo>
                      <a:lnTo>
                        <a:pt x="6" y="21"/>
                      </a:lnTo>
                      <a:lnTo>
                        <a:pt x="10" y="20"/>
                      </a:lnTo>
                      <a:lnTo>
                        <a:pt x="12" y="17"/>
                      </a:lnTo>
                      <a:lnTo>
                        <a:pt x="15" y="16"/>
                      </a:lnTo>
                      <a:lnTo>
                        <a:pt x="18" y="15"/>
                      </a:lnTo>
                      <a:lnTo>
                        <a:pt x="21" y="13"/>
                      </a:lnTo>
                      <a:lnTo>
                        <a:pt x="24" y="11"/>
                      </a:lnTo>
                    </a:path>
                  </a:pathLst>
                </a:custGeom>
                <a:noFill/>
                <a:ln w="0">
                  <a:solidFill>
                    <a:srgbClr val="33333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2" name="Freeform 375"/>
                <p:cNvSpPr/>
                <p:nvPr/>
              </p:nvSpPr>
              <p:spPr>
                <a:xfrm>
                  <a:off x="7111440" y="3626280"/>
                  <a:ext cx="298080" cy="56520"/>
                </a:xfrm>
                <a:custGeom>
                  <a:avLst/>
                  <a:gdLst>
                    <a:gd name="textAreaLeft" fmla="*/ 0 w 298080"/>
                    <a:gd name="textAreaRight" fmla="*/ 298440 w 298080"/>
                    <a:gd name="textAreaTop" fmla="*/ 0 h 56520"/>
                    <a:gd name="textAreaBottom" fmla="*/ 56880 h 56520"/>
                  </a:gdLst>
                  <a:ahLst/>
                  <a:rect l="textAreaLeft" t="textAreaTop" r="textAreaRight" b="textAreaBottom"/>
                  <a:pathLst>
                    <a:path w="229" h="100">
                      <a:moveTo>
                        <a:pt x="109" y="39"/>
                      </a:moveTo>
                      <a:lnTo>
                        <a:pt x="138" y="54"/>
                      </a:lnTo>
                      <a:lnTo>
                        <a:pt x="125" y="60"/>
                      </a:lnTo>
                      <a:lnTo>
                        <a:pt x="114" y="65"/>
                      </a:lnTo>
                      <a:lnTo>
                        <a:pt x="101" y="72"/>
                      </a:lnTo>
                      <a:lnTo>
                        <a:pt x="90" y="77"/>
                      </a:lnTo>
                      <a:lnTo>
                        <a:pt x="77" y="83"/>
                      </a:lnTo>
                      <a:lnTo>
                        <a:pt x="64" y="89"/>
                      </a:lnTo>
                      <a:lnTo>
                        <a:pt x="51" y="95"/>
                      </a:lnTo>
                      <a:lnTo>
                        <a:pt x="39" y="100"/>
                      </a:lnTo>
                      <a:lnTo>
                        <a:pt x="0" y="81"/>
                      </a:lnTo>
                      <a:lnTo>
                        <a:pt x="17" y="65"/>
                      </a:lnTo>
                      <a:lnTo>
                        <a:pt x="0" y="81"/>
                      </a:lnTo>
                      <a:lnTo>
                        <a:pt x="39" y="100"/>
                      </a:lnTo>
                      <a:lnTo>
                        <a:pt x="51" y="95"/>
                      </a:lnTo>
                      <a:lnTo>
                        <a:pt x="64" y="89"/>
                      </a:lnTo>
                      <a:lnTo>
                        <a:pt x="77" y="83"/>
                      </a:lnTo>
                      <a:lnTo>
                        <a:pt x="90" y="77"/>
                      </a:lnTo>
                      <a:lnTo>
                        <a:pt x="101" y="72"/>
                      </a:lnTo>
                      <a:lnTo>
                        <a:pt x="114" y="65"/>
                      </a:lnTo>
                      <a:lnTo>
                        <a:pt x="125" y="60"/>
                      </a:lnTo>
                      <a:lnTo>
                        <a:pt x="138" y="54"/>
                      </a:lnTo>
                      <a:lnTo>
                        <a:pt x="109" y="39"/>
                      </a:lnTo>
                      <a:lnTo>
                        <a:pt x="138" y="54"/>
                      </a:lnTo>
                      <a:lnTo>
                        <a:pt x="146" y="49"/>
                      </a:lnTo>
                      <a:lnTo>
                        <a:pt x="156" y="45"/>
                      </a:lnTo>
                      <a:lnTo>
                        <a:pt x="164" y="41"/>
                      </a:lnTo>
                      <a:lnTo>
                        <a:pt x="172" y="35"/>
                      </a:lnTo>
                      <a:lnTo>
                        <a:pt x="181" y="31"/>
                      </a:lnTo>
                      <a:lnTo>
                        <a:pt x="189" y="26"/>
                      </a:lnTo>
                      <a:lnTo>
                        <a:pt x="197" y="22"/>
                      </a:lnTo>
                      <a:lnTo>
                        <a:pt x="205" y="16"/>
                      </a:lnTo>
                      <a:lnTo>
                        <a:pt x="223" y="0"/>
                      </a:lnTo>
                      <a:lnTo>
                        <a:pt x="229" y="3"/>
                      </a:lnTo>
                      <a:lnTo>
                        <a:pt x="223" y="0"/>
                      </a:lnTo>
                      <a:lnTo>
                        <a:pt x="205" y="16"/>
                      </a:lnTo>
                      <a:lnTo>
                        <a:pt x="197" y="22"/>
                      </a:lnTo>
                      <a:lnTo>
                        <a:pt x="189" y="26"/>
                      </a:lnTo>
                      <a:lnTo>
                        <a:pt x="181" y="31"/>
                      </a:lnTo>
                      <a:lnTo>
                        <a:pt x="172" y="35"/>
                      </a:lnTo>
                      <a:lnTo>
                        <a:pt x="164" y="41"/>
                      </a:lnTo>
                      <a:lnTo>
                        <a:pt x="156" y="45"/>
                      </a:lnTo>
                      <a:lnTo>
                        <a:pt x="146" y="49"/>
                      </a:lnTo>
                      <a:lnTo>
                        <a:pt x="138" y="54"/>
                      </a:lnTo>
                      <a:lnTo>
                        <a:pt x="109" y="39"/>
                      </a:lnTo>
                    </a:path>
                  </a:pathLst>
                </a:custGeom>
                <a:noFill/>
                <a:ln w="0">
                  <a:solidFill>
                    <a:srgbClr val="33333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3" name="Freeform 376"/>
                <p:cNvSpPr/>
                <p:nvPr/>
              </p:nvSpPr>
              <p:spPr>
                <a:xfrm>
                  <a:off x="7032960" y="3668040"/>
                  <a:ext cx="127800" cy="34920"/>
                </a:xfrm>
                <a:custGeom>
                  <a:avLst/>
                  <a:gdLst>
                    <a:gd name="textAreaLeft" fmla="*/ 0 w 127800"/>
                    <a:gd name="textAreaRight" fmla="*/ 128160 w 127800"/>
                    <a:gd name="textAreaTop" fmla="*/ 0 h 34920"/>
                    <a:gd name="textAreaBottom" fmla="*/ 35280 h 34920"/>
                  </a:gdLst>
                  <a:ahLst/>
                  <a:rect l="textAreaLeft" t="textAreaTop" r="textAreaRight" b="textAreaBottom"/>
                  <a:pathLst>
                    <a:path w="98" h="63">
                      <a:moveTo>
                        <a:pt x="98" y="25"/>
                      </a:moveTo>
                      <a:lnTo>
                        <a:pt x="86" y="31"/>
                      </a:lnTo>
                      <a:lnTo>
                        <a:pt x="73" y="35"/>
                      </a:lnTo>
                      <a:lnTo>
                        <a:pt x="62" y="40"/>
                      </a:lnTo>
                      <a:lnTo>
                        <a:pt x="50" y="44"/>
                      </a:lnTo>
                      <a:lnTo>
                        <a:pt x="37" y="50"/>
                      </a:lnTo>
                      <a:lnTo>
                        <a:pt x="25" y="54"/>
                      </a:lnTo>
                      <a:lnTo>
                        <a:pt x="12" y="59"/>
                      </a:lnTo>
                      <a:lnTo>
                        <a:pt x="0" y="63"/>
                      </a:lnTo>
                      <a:lnTo>
                        <a:pt x="59" y="6"/>
                      </a:lnTo>
                      <a:lnTo>
                        <a:pt x="44" y="0"/>
                      </a:lnTo>
                      <a:lnTo>
                        <a:pt x="59" y="6"/>
                      </a:lnTo>
                      <a:lnTo>
                        <a:pt x="0" y="63"/>
                      </a:lnTo>
                      <a:lnTo>
                        <a:pt x="12" y="59"/>
                      </a:lnTo>
                      <a:lnTo>
                        <a:pt x="25" y="54"/>
                      </a:lnTo>
                      <a:lnTo>
                        <a:pt x="37" y="50"/>
                      </a:lnTo>
                      <a:lnTo>
                        <a:pt x="50" y="44"/>
                      </a:lnTo>
                      <a:lnTo>
                        <a:pt x="62" y="40"/>
                      </a:lnTo>
                      <a:lnTo>
                        <a:pt x="73" y="35"/>
                      </a:lnTo>
                      <a:lnTo>
                        <a:pt x="86" y="31"/>
                      </a:lnTo>
                      <a:lnTo>
                        <a:pt x="98" y="25"/>
                      </a:lnTo>
                    </a:path>
                  </a:pathLst>
                </a:custGeom>
                <a:noFill/>
                <a:ln w="0">
                  <a:solidFill>
                    <a:srgbClr val="33333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4" name="Freeform 377"/>
                <p:cNvSpPr/>
                <p:nvPr/>
              </p:nvSpPr>
              <p:spPr>
                <a:xfrm>
                  <a:off x="6923520" y="3686760"/>
                  <a:ext cx="93600" cy="19800"/>
                </a:xfrm>
                <a:custGeom>
                  <a:avLst/>
                  <a:gdLst>
                    <a:gd name="textAreaLeft" fmla="*/ 0 w 93600"/>
                    <a:gd name="textAreaRight" fmla="*/ 93960 w 93600"/>
                    <a:gd name="textAreaTop" fmla="*/ 0 h 19800"/>
                    <a:gd name="textAreaBottom" fmla="*/ 20160 h 19800"/>
                  </a:gdLst>
                  <a:ahLst/>
                  <a:rect l="textAreaLeft" t="textAreaTop" r="textAreaRight" b="textAreaBottom"/>
                  <a:pathLst>
                    <a:path w="73" h="35">
                      <a:moveTo>
                        <a:pt x="0" y="0"/>
                      </a:moveTo>
                      <a:lnTo>
                        <a:pt x="73" y="35"/>
                      </a:lnTo>
                      <a:lnTo>
                        <a:pt x="0" y="0"/>
                      </a:lnTo>
                      <a:lnTo>
                        <a:pt x="73" y="35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33333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5" name="Freeform 378"/>
                <p:cNvSpPr/>
                <p:nvPr/>
              </p:nvSpPr>
              <p:spPr>
                <a:xfrm>
                  <a:off x="6818760" y="3690000"/>
                  <a:ext cx="70200" cy="34560"/>
                </a:xfrm>
                <a:custGeom>
                  <a:avLst/>
                  <a:gdLst>
                    <a:gd name="textAreaLeft" fmla="*/ 0 w 70200"/>
                    <a:gd name="textAreaRight" fmla="*/ 70560 w 70200"/>
                    <a:gd name="textAreaTop" fmla="*/ 0 h 34560"/>
                    <a:gd name="textAreaBottom" fmla="*/ 34920 h 34560"/>
                  </a:gdLst>
                  <a:ahLst/>
                  <a:rect l="textAreaLeft" t="textAreaTop" r="textAreaRight" b="textAreaBottom"/>
                  <a:pathLst>
                    <a:path w="53" h="63">
                      <a:moveTo>
                        <a:pt x="28" y="63"/>
                      </a:moveTo>
                      <a:lnTo>
                        <a:pt x="0" y="50"/>
                      </a:lnTo>
                      <a:lnTo>
                        <a:pt x="53" y="0"/>
                      </a:lnTo>
                      <a:lnTo>
                        <a:pt x="0" y="50"/>
                      </a:lnTo>
                      <a:lnTo>
                        <a:pt x="28" y="63"/>
                      </a:lnTo>
                    </a:path>
                  </a:pathLst>
                </a:custGeom>
                <a:noFill/>
                <a:ln w="0">
                  <a:solidFill>
                    <a:srgbClr val="33333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6" name="Freeform 379"/>
                <p:cNvSpPr/>
                <p:nvPr/>
              </p:nvSpPr>
              <p:spPr>
                <a:xfrm>
                  <a:off x="7027920" y="3671640"/>
                  <a:ext cx="133200" cy="33120"/>
                </a:xfrm>
                <a:custGeom>
                  <a:avLst/>
                  <a:gdLst>
                    <a:gd name="textAreaLeft" fmla="*/ 0 w 133200"/>
                    <a:gd name="textAreaRight" fmla="*/ 133560 w 133200"/>
                    <a:gd name="textAreaTop" fmla="*/ 0 h 33120"/>
                    <a:gd name="textAreaBottom" fmla="*/ 33480 h 33120"/>
                  </a:gdLst>
                  <a:ahLst/>
                  <a:rect l="textAreaLeft" t="textAreaTop" r="textAreaRight" b="textAreaBottom"/>
                  <a:pathLst>
                    <a:path w="101" h="59">
                      <a:moveTo>
                        <a:pt x="0" y="59"/>
                      </a:moveTo>
                      <a:lnTo>
                        <a:pt x="1" y="59"/>
                      </a:lnTo>
                      <a:lnTo>
                        <a:pt x="3" y="57"/>
                      </a:lnTo>
                      <a:lnTo>
                        <a:pt x="62" y="0"/>
                      </a:lnTo>
                      <a:lnTo>
                        <a:pt x="101" y="19"/>
                      </a:lnTo>
                      <a:lnTo>
                        <a:pt x="62" y="0"/>
                      </a:lnTo>
                      <a:lnTo>
                        <a:pt x="3" y="57"/>
                      </a:lnTo>
                      <a:lnTo>
                        <a:pt x="1" y="59"/>
                      </a:lnTo>
                      <a:lnTo>
                        <a:pt x="0" y="59"/>
                      </a:lnTo>
                    </a:path>
                  </a:pathLst>
                </a:custGeom>
                <a:noFill/>
                <a:ln w="0">
                  <a:solidFill>
                    <a:srgbClr val="33333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7" name="Freeform 380"/>
                <p:cNvSpPr/>
                <p:nvPr/>
              </p:nvSpPr>
              <p:spPr>
                <a:xfrm>
                  <a:off x="6740280" y="3701880"/>
                  <a:ext cx="114840" cy="29880"/>
                </a:xfrm>
                <a:custGeom>
                  <a:avLst/>
                  <a:gdLst>
                    <a:gd name="textAreaLeft" fmla="*/ 0 w 114840"/>
                    <a:gd name="textAreaRight" fmla="*/ 115200 w 114840"/>
                    <a:gd name="textAreaTop" fmla="*/ 0 h 29880"/>
                    <a:gd name="textAreaBottom" fmla="*/ 30240 h 29880"/>
                  </a:gdLst>
                  <a:ahLst/>
                  <a:rect l="textAreaLeft" t="textAreaTop" r="textAreaRight" b="textAreaBottom"/>
                  <a:pathLst>
                    <a:path w="87" h="54">
                      <a:moveTo>
                        <a:pt x="32" y="54"/>
                      </a:moveTo>
                      <a:lnTo>
                        <a:pt x="59" y="29"/>
                      </a:lnTo>
                      <a:lnTo>
                        <a:pt x="0" y="0"/>
                      </a:lnTo>
                      <a:lnTo>
                        <a:pt x="59" y="29"/>
                      </a:lnTo>
                      <a:lnTo>
                        <a:pt x="32" y="54"/>
                      </a:lnTo>
                      <a:lnTo>
                        <a:pt x="59" y="29"/>
                      </a:lnTo>
                      <a:lnTo>
                        <a:pt x="87" y="42"/>
                      </a:lnTo>
                      <a:lnTo>
                        <a:pt x="59" y="29"/>
                      </a:lnTo>
                      <a:lnTo>
                        <a:pt x="32" y="54"/>
                      </a:lnTo>
                    </a:path>
                  </a:pathLst>
                </a:custGeom>
                <a:noFill/>
                <a:ln w="0">
                  <a:solidFill>
                    <a:srgbClr val="33333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8" name="Freeform 381"/>
                <p:cNvSpPr/>
                <p:nvPr/>
              </p:nvSpPr>
              <p:spPr>
                <a:xfrm>
                  <a:off x="6523560" y="3704760"/>
                  <a:ext cx="156240" cy="48240"/>
                </a:xfrm>
                <a:custGeom>
                  <a:avLst/>
                  <a:gdLst>
                    <a:gd name="textAreaLeft" fmla="*/ 0 w 156240"/>
                    <a:gd name="textAreaRight" fmla="*/ 156600 w 156240"/>
                    <a:gd name="textAreaTop" fmla="*/ 0 h 48240"/>
                    <a:gd name="textAreaBottom" fmla="*/ 48600 h 48240"/>
                  </a:gdLst>
                  <a:ahLst/>
                  <a:rect l="textAreaLeft" t="textAreaTop" r="textAreaRight" b="textAreaBottom"/>
                  <a:pathLst>
                    <a:path w="119" h="85">
                      <a:moveTo>
                        <a:pt x="110" y="0"/>
                      </a:moveTo>
                      <a:lnTo>
                        <a:pt x="68" y="41"/>
                      </a:lnTo>
                      <a:lnTo>
                        <a:pt x="119" y="65"/>
                      </a:lnTo>
                      <a:lnTo>
                        <a:pt x="68" y="41"/>
                      </a:lnTo>
                      <a:lnTo>
                        <a:pt x="22" y="85"/>
                      </a:lnTo>
                      <a:lnTo>
                        <a:pt x="68" y="41"/>
                      </a:lnTo>
                      <a:lnTo>
                        <a:pt x="0" y="7"/>
                      </a:lnTo>
                      <a:lnTo>
                        <a:pt x="68" y="41"/>
                      </a:lnTo>
                      <a:lnTo>
                        <a:pt x="22" y="85"/>
                      </a:lnTo>
                      <a:lnTo>
                        <a:pt x="68" y="41"/>
                      </a:lnTo>
                      <a:lnTo>
                        <a:pt x="119" y="65"/>
                      </a:lnTo>
                      <a:lnTo>
                        <a:pt x="68" y="41"/>
                      </a:lnTo>
                      <a:lnTo>
                        <a:pt x="110" y="0"/>
                      </a:lnTo>
                    </a:path>
                  </a:pathLst>
                </a:custGeom>
                <a:noFill/>
                <a:ln w="0">
                  <a:solidFill>
                    <a:srgbClr val="33333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9" name="Freeform 382"/>
                <p:cNvSpPr/>
                <p:nvPr/>
              </p:nvSpPr>
              <p:spPr>
                <a:xfrm>
                  <a:off x="5461920" y="3597840"/>
                  <a:ext cx="1027440" cy="160560"/>
                </a:xfrm>
                <a:custGeom>
                  <a:avLst/>
                  <a:gdLst>
                    <a:gd name="textAreaLeft" fmla="*/ 0 w 1027440"/>
                    <a:gd name="textAreaRight" fmla="*/ 1027800 w 102744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787" h="288">
                      <a:moveTo>
                        <a:pt x="775" y="202"/>
                      </a:moveTo>
                      <a:lnTo>
                        <a:pt x="723" y="252"/>
                      </a:lnTo>
                      <a:lnTo>
                        <a:pt x="787" y="284"/>
                      </a:lnTo>
                      <a:lnTo>
                        <a:pt x="723" y="252"/>
                      </a:lnTo>
                      <a:lnTo>
                        <a:pt x="687" y="288"/>
                      </a:lnTo>
                      <a:lnTo>
                        <a:pt x="674" y="288"/>
                      </a:lnTo>
                      <a:lnTo>
                        <a:pt x="662" y="286"/>
                      </a:lnTo>
                      <a:lnTo>
                        <a:pt x="649" y="286"/>
                      </a:lnTo>
                      <a:lnTo>
                        <a:pt x="637" y="285"/>
                      </a:lnTo>
                      <a:lnTo>
                        <a:pt x="624" y="285"/>
                      </a:lnTo>
                      <a:lnTo>
                        <a:pt x="612" y="284"/>
                      </a:lnTo>
                      <a:lnTo>
                        <a:pt x="600" y="282"/>
                      </a:lnTo>
                      <a:lnTo>
                        <a:pt x="587" y="281"/>
                      </a:lnTo>
                      <a:lnTo>
                        <a:pt x="565" y="270"/>
                      </a:lnTo>
                      <a:lnTo>
                        <a:pt x="558" y="278"/>
                      </a:lnTo>
                      <a:lnTo>
                        <a:pt x="543" y="275"/>
                      </a:lnTo>
                      <a:lnTo>
                        <a:pt x="528" y="274"/>
                      </a:lnTo>
                      <a:lnTo>
                        <a:pt x="513" y="271"/>
                      </a:lnTo>
                      <a:lnTo>
                        <a:pt x="499" y="269"/>
                      </a:lnTo>
                      <a:lnTo>
                        <a:pt x="484" y="266"/>
                      </a:lnTo>
                      <a:lnTo>
                        <a:pt x="470" y="263"/>
                      </a:lnTo>
                      <a:lnTo>
                        <a:pt x="455" y="260"/>
                      </a:lnTo>
                      <a:lnTo>
                        <a:pt x="442" y="256"/>
                      </a:lnTo>
                      <a:lnTo>
                        <a:pt x="474" y="225"/>
                      </a:lnTo>
                      <a:lnTo>
                        <a:pt x="382" y="180"/>
                      </a:lnTo>
                      <a:lnTo>
                        <a:pt x="335" y="225"/>
                      </a:lnTo>
                      <a:lnTo>
                        <a:pt x="382" y="180"/>
                      </a:lnTo>
                      <a:lnTo>
                        <a:pt x="290" y="136"/>
                      </a:lnTo>
                      <a:lnTo>
                        <a:pt x="238" y="186"/>
                      </a:lnTo>
                      <a:lnTo>
                        <a:pt x="290" y="136"/>
                      </a:lnTo>
                      <a:lnTo>
                        <a:pt x="198" y="91"/>
                      </a:lnTo>
                      <a:lnTo>
                        <a:pt x="152" y="134"/>
                      </a:lnTo>
                      <a:lnTo>
                        <a:pt x="198" y="91"/>
                      </a:lnTo>
                      <a:lnTo>
                        <a:pt x="106" y="45"/>
                      </a:lnTo>
                      <a:lnTo>
                        <a:pt x="70" y="80"/>
                      </a:lnTo>
                      <a:lnTo>
                        <a:pt x="106" y="45"/>
                      </a:lnTo>
                      <a:lnTo>
                        <a:pt x="14" y="0"/>
                      </a:lnTo>
                      <a:lnTo>
                        <a:pt x="0" y="14"/>
                      </a:lnTo>
                      <a:lnTo>
                        <a:pt x="14" y="0"/>
                      </a:lnTo>
                      <a:lnTo>
                        <a:pt x="106" y="45"/>
                      </a:lnTo>
                      <a:lnTo>
                        <a:pt x="70" y="80"/>
                      </a:lnTo>
                      <a:lnTo>
                        <a:pt x="106" y="45"/>
                      </a:lnTo>
                      <a:lnTo>
                        <a:pt x="198" y="91"/>
                      </a:lnTo>
                      <a:lnTo>
                        <a:pt x="152" y="134"/>
                      </a:lnTo>
                      <a:lnTo>
                        <a:pt x="198" y="91"/>
                      </a:lnTo>
                      <a:lnTo>
                        <a:pt x="290" y="136"/>
                      </a:lnTo>
                      <a:lnTo>
                        <a:pt x="238" y="186"/>
                      </a:lnTo>
                      <a:lnTo>
                        <a:pt x="290" y="136"/>
                      </a:lnTo>
                      <a:lnTo>
                        <a:pt x="382" y="180"/>
                      </a:lnTo>
                      <a:lnTo>
                        <a:pt x="335" y="225"/>
                      </a:lnTo>
                      <a:lnTo>
                        <a:pt x="382" y="180"/>
                      </a:lnTo>
                      <a:lnTo>
                        <a:pt x="474" y="225"/>
                      </a:lnTo>
                      <a:lnTo>
                        <a:pt x="442" y="256"/>
                      </a:lnTo>
                      <a:lnTo>
                        <a:pt x="455" y="260"/>
                      </a:lnTo>
                      <a:lnTo>
                        <a:pt x="470" y="263"/>
                      </a:lnTo>
                      <a:lnTo>
                        <a:pt x="484" y="266"/>
                      </a:lnTo>
                      <a:lnTo>
                        <a:pt x="499" y="269"/>
                      </a:lnTo>
                      <a:lnTo>
                        <a:pt x="513" y="271"/>
                      </a:lnTo>
                      <a:lnTo>
                        <a:pt x="528" y="274"/>
                      </a:lnTo>
                      <a:lnTo>
                        <a:pt x="543" y="275"/>
                      </a:lnTo>
                      <a:lnTo>
                        <a:pt x="558" y="278"/>
                      </a:lnTo>
                      <a:lnTo>
                        <a:pt x="565" y="270"/>
                      </a:lnTo>
                      <a:lnTo>
                        <a:pt x="587" y="281"/>
                      </a:lnTo>
                      <a:lnTo>
                        <a:pt x="600" y="282"/>
                      </a:lnTo>
                      <a:lnTo>
                        <a:pt x="612" y="284"/>
                      </a:lnTo>
                      <a:lnTo>
                        <a:pt x="624" y="285"/>
                      </a:lnTo>
                      <a:lnTo>
                        <a:pt x="637" y="285"/>
                      </a:lnTo>
                      <a:lnTo>
                        <a:pt x="649" y="286"/>
                      </a:lnTo>
                      <a:lnTo>
                        <a:pt x="662" y="286"/>
                      </a:lnTo>
                      <a:lnTo>
                        <a:pt x="674" y="288"/>
                      </a:lnTo>
                      <a:lnTo>
                        <a:pt x="687" y="288"/>
                      </a:lnTo>
                      <a:lnTo>
                        <a:pt x="723" y="252"/>
                      </a:lnTo>
                      <a:lnTo>
                        <a:pt x="787" y="284"/>
                      </a:lnTo>
                      <a:lnTo>
                        <a:pt x="723" y="252"/>
                      </a:lnTo>
                      <a:lnTo>
                        <a:pt x="775" y="202"/>
                      </a:lnTo>
                    </a:path>
                  </a:pathLst>
                </a:custGeom>
                <a:noFill/>
                <a:ln w="0">
                  <a:solidFill>
                    <a:srgbClr val="33333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0" name="Freeform 383"/>
                <p:cNvSpPr/>
                <p:nvPr/>
              </p:nvSpPr>
              <p:spPr>
                <a:xfrm>
                  <a:off x="5906520" y="3713400"/>
                  <a:ext cx="498960" cy="45360"/>
                </a:xfrm>
                <a:custGeom>
                  <a:avLst/>
                  <a:gdLst>
                    <a:gd name="textAreaLeft" fmla="*/ 0 w 498960"/>
                    <a:gd name="textAreaRight" fmla="*/ 499320 w 498960"/>
                    <a:gd name="textAreaTop" fmla="*/ 0 h 45360"/>
                    <a:gd name="textAreaBottom" fmla="*/ 45720 h 45360"/>
                  </a:gdLst>
                  <a:ahLst/>
                  <a:rect l="textAreaLeft" t="textAreaTop" r="textAreaRight" b="textAreaBottom"/>
                  <a:pathLst>
                    <a:path w="383" h="80">
                      <a:moveTo>
                        <a:pt x="381" y="80"/>
                      </a:moveTo>
                      <a:lnTo>
                        <a:pt x="373" y="80"/>
                      </a:lnTo>
                      <a:lnTo>
                        <a:pt x="360" y="80"/>
                      </a:lnTo>
                      <a:lnTo>
                        <a:pt x="347" y="80"/>
                      </a:lnTo>
                      <a:lnTo>
                        <a:pt x="383" y="44"/>
                      </a:lnTo>
                      <a:lnTo>
                        <a:pt x="291" y="0"/>
                      </a:lnTo>
                      <a:lnTo>
                        <a:pt x="225" y="62"/>
                      </a:lnTo>
                      <a:lnTo>
                        <a:pt x="247" y="73"/>
                      </a:lnTo>
                      <a:lnTo>
                        <a:pt x="244" y="73"/>
                      </a:lnTo>
                      <a:lnTo>
                        <a:pt x="240" y="73"/>
                      </a:lnTo>
                      <a:lnTo>
                        <a:pt x="237" y="71"/>
                      </a:lnTo>
                      <a:lnTo>
                        <a:pt x="234" y="71"/>
                      </a:lnTo>
                      <a:lnTo>
                        <a:pt x="229" y="71"/>
                      </a:lnTo>
                      <a:lnTo>
                        <a:pt x="225" y="70"/>
                      </a:lnTo>
                      <a:lnTo>
                        <a:pt x="222" y="70"/>
                      </a:lnTo>
                      <a:lnTo>
                        <a:pt x="218" y="70"/>
                      </a:lnTo>
                      <a:lnTo>
                        <a:pt x="225" y="62"/>
                      </a:lnTo>
                      <a:lnTo>
                        <a:pt x="134" y="17"/>
                      </a:lnTo>
                      <a:lnTo>
                        <a:pt x="102" y="48"/>
                      </a:lnTo>
                      <a:lnTo>
                        <a:pt x="88" y="46"/>
                      </a:lnTo>
                      <a:lnTo>
                        <a:pt x="74" y="42"/>
                      </a:lnTo>
                      <a:lnTo>
                        <a:pt x="61" y="38"/>
                      </a:lnTo>
                      <a:lnTo>
                        <a:pt x="47" y="35"/>
                      </a:lnTo>
                      <a:lnTo>
                        <a:pt x="34" y="31"/>
                      </a:lnTo>
                      <a:lnTo>
                        <a:pt x="20" y="27"/>
                      </a:lnTo>
                      <a:lnTo>
                        <a:pt x="8" y="23"/>
                      </a:lnTo>
                      <a:lnTo>
                        <a:pt x="0" y="19"/>
                      </a:lnTo>
                      <a:lnTo>
                        <a:pt x="8" y="23"/>
                      </a:lnTo>
                      <a:lnTo>
                        <a:pt x="20" y="27"/>
                      </a:lnTo>
                      <a:lnTo>
                        <a:pt x="34" y="31"/>
                      </a:lnTo>
                      <a:lnTo>
                        <a:pt x="47" y="35"/>
                      </a:lnTo>
                      <a:lnTo>
                        <a:pt x="61" y="38"/>
                      </a:lnTo>
                      <a:lnTo>
                        <a:pt x="74" y="42"/>
                      </a:lnTo>
                      <a:lnTo>
                        <a:pt x="88" y="46"/>
                      </a:lnTo>
                      <a:lnTo>
                        <a:pt x="102" y="48"/>
                      </a:lnTo>
                      <a:lnTo>
                        <a:pt x="134" y="17"/>
                      </a:lnTo>
                      <a:lnTo>
                        <a:pt x="225" y="62"/>
                      </a:lnTo>
                      <a:lnTo>
                        <a:pt x="218" y="70"/>
                      </a:lnTo>
                      <a:lnTo>
                        <a:pt x="222" y="70"/>
                      </a:lnTo>
                      <a:lnTo>
                        <a:pt x="225" y="70"/>
                      </a:lnTo>
                      <a:lnTo>
                        <a:pt x="229" y="71"/>
                      </a:lnTo>
                      <a:lnTo>
                        <a:pt x="234" y="71"/>
                      </a:lnTo>
                      <a:lnTo>
                        <a:pt x="237" y="71"/>
                      </a:lnTo>
                      <a:lnTo>
                        <a:pt x="240" y="73"/>
                      </a:lnTo>
                      <a:lnTo>
                        <a:pt x="244" y="73"/>
                      </a:lnTo>
                      <a:lnTo>
                        <a:pt x="247" y="73"/>
                      </a:lnTo>
                      <a:lnTo>
                        <a:pt x="225" y="62"/>
                      </a:lnTo>
                      <a:lnTo>
                        <a:pt x="291" y="0"/>
                      </a:lnTo>
                      <a:lnTo>
                        <a:pt x="383" y="44"/>
                      </a:lnTo>
                      <a:lnTo>
                        <a:pt x="347" y="80"/>
                      </a:lnTo>
                      <a:lnTo>
                        <a:pt x="360" y="80"/>
                      </a:lnTo>
                      <a:lnTo>
                        <a:pt x="373" y="80"/>
                      </a:lnTo>
                      <a:lnTo>
                        <a:pt x="381" y="80"/>
                      </a:lnTo>
                    </a:path>
                  </a:pathLst>
                </a:custGeom>
                <a:noFill/>
                <a:ln w="0">
                  <a:solidFill>
                    <a:srgbClr val="33333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1" name="Line 384"/>
                <p:cNvSpPr/>
                <p:nvPr/>
              </p:nvSpPr>
              <p:spPr>
                <a:xfrm>
                  <a:off x="5752440" y="3696480"/>
                  <a:ext cx="2160" cy="1800"/>
                </a:xfrm>
                <a:prstGeom prst="line">
                  <a:avLst/>
                </a:prstGeom>
                <a:ln w="0">
                  <a:solidFill>
                    <a:srgbClr val="33333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2" name="Freeform 385"/>
                <p:cNvSpPr/>
                <p:nvPr/>
              </p:nvSpPr>
              <p:spPr>
                <a:xfrm>
                  <a:off x="5433480" y="3571560"/>
                  <a:ext cx="112320" cy="26280"/>
                </a:xfrm>
                <a:custGeom>
                  <a:avLst/>
                  <a:gdLst>
                    <a:gd name="textAreaLeft" fmla="*/ 0 w 112320"/>
                    <a:gd name="textAreaRight" fmla="*/ 112680 w 112320"/>
                    <a:gd name="textAreaTop" fmla="*/ 0 h 26280"/>
                    <a:gd name="textAreaBottom" fmla="*/ 26640 h 26280"/>
                  </a:gdLst>
                  <a:ahLst/>
                  <a:rect l="textAreaLeft" t="textAreaTop" r="textAreaRight" b="textAreaBottom"/>
                  <a:pathLst>
                    <a:path w="86" h="48">
                      <a:moveTo>
                        <a:pt x="0" y="40"/>
                      </a:moveTo>
                      <a:lnTo>
                        <a:pt x="0" y="38"/>
                      </a:lnTo>
                      <a:lnTo>
                        <a:pt x="0" y="37"/>
                      </a:lnTo>
                      <a:lnTo>
                        <a:pt x="0" y="36"/>
                      </a:lnTo>
                      <a:lnTo>
                        <a:pt x="0" y="34"/>
                      </a:lnTo>
                      <a:lnTo>
                        <a:pt x="1" y="34"/>
                      </a:lnTo>
                      <a:lnTo>
                        <a:pt x="1" y="33"/>
                      </a:lnTo>
                      <a:lnTo>
                        <a:pt x="1" y="32"/>
                      </a:lnTo>
                      <a:lnTo>
                        <a:pt x="36" y="48"/>
                      </a:lnTo>
                      <a:lnTo>
                        <a:pt x="86" y="0"/>
                      </a:lnTo>
                      <a:lnTo>
                        <a:pt x="36" y="48"/>
                      </a:lnTo>
                      <a:lnTo>
                        <a:pt x="1" y="32"/>
                      </a:lnTo>
                      <a:lnTo>
                        <a:pt x="1" y="33"/>
                      </a:lnTo>
                      <a:lnTo>
                        <a:pt x="1" y="34"/>
                      </a:lnTo>
                      <a:lnTo>
                        <a:pt x="0" y="34"/>
                      </a:lnTo>
                      <a:lnTo>
                        <a:pt x="0" y="36"/>
                      </a:lnTo>
                      <a:lnTo>
                        <a:pt x="0" y="37"/>
                      </a:lnTo>
                      <a:lnTo>
                        <a:pt x="0" y="38"/>
                      </a:lnTo>
                      <a:lnTo>
                        <a:pt x="0" y="40"/>
                      </a:lnTo>
                    </a:path>
                  </a:pathLst>
                </a:custGeom>
                <a:noFill/>
                <a:ln w="0">
                  <a:solidFill>
                    <a:srgbClr val="33333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3" name="Freeform 386"/>
                <p:cNvSpPr/>
                <p:nvPr/>
              </p:nvSpPr>
              <p:spPr>
                <a:xfrm>
                  <a:off x="5436000" y="3528000"/>
                  <a:ext cx="88560" cy="76680"/>
                </a:xfrm>
                <a:custGeom>
                  <a:avLst/>
                  <a:gdLst>
                    <a:gd name="textAreaLeft" fmla="*/ 0 w 88560"/>
                    <a:gd name="textAreaRight" fmla="*/ 88920 w 88560"/>
                    <a:gd name="textAreaTop" fmla="*/ 0 h 76680"/>
                    <a:gd name="textAreaBottom" fmla="*/ 77040 h 76680"/>
                  </a:gdLst>
                  <a:ahLst/>
                  <a:rect l="textAreaLeft" t="textAreaTop" r="textAreaRight" b="textAreaBottom"/>
                  <a:pathLst>
                    <a:path w="69" h="140">
                      <a:moveTo>
                        <a:pt x="69" y="47"/>
                      </a:moveTo>
                      <a:lnTo>
                        <a:pt x="29" y="28"/>
                      </a:lnTo>
                      <a:lnTo>
                        <a:pt x="33" y="21"/>
                      </a:lnTo>
                      <a:lnTo>
                        <a:pt x="36" y="15"/>
                      </a:lnTo>
                      <a:lnTo>
                        <a:pt x="40" y="8"/>
                      </a:lnTo>
                      <a:lnTo>
                        <a:pt x="43" y="0"/>
                      </a:lnTo>
                      <a:lnTo>
                        <a:pt x="40" y="8"/>
                      </a:lnTo>
                      <a:lnTo>
                        <a:pt x="36" y="15"/>
                      </a:lnTo>
                      <a:lnTo>
                        <a:pt x="33" y="21"/>
                      </a:lnTo>
                      <a:lnTo>
                        <a:pt x="29" y="28"/>
                      </a:lnTo>
                      <a:lnTo>
                        <a:pt x="69" y="47"/>
                      </a:lnTo>
                      <a:lnTo>
                        <a:pt x="29" y="28"/>
                      </a:lnTo>
                      <a:lnTo>
                        <a:pt x="25" y="40"/>
                      </a:lnTo>
                      <a:lnTo>
                        <a:pt x="20" y="51"/>
                      </a:lnTo>
                      <a:lnTo>
                        <a:pt x="16" y="62"/>
                      </a:lnTo>
                      <a:lnTo>
                        <a:pt x="12" y="73"/>
                      </a:lnTo>
                      <a:lnTo>
                        <a:pt x="9" y="83"/>
                      </a:lnTo>
                      <a:lnTo>
                        <a:pt x="5" y="92"/>
                      </a:lnTo>
                      <a:lnTo>
                        <a:pt x="3" y="102"/>
                      </a:lnTo>
                      <a:lnTo>
                        <a:pt x="0" y="110"/>
                      </a:lnTo>
                      <a:lnTo>
                        <a:pt x="35" y="126"/>
                      </a:lnTo>
                      <a:lnTo>
                        <a:pt x="21" y="140"/>
                      </a:lnTo>
                      <a:lnTo>
                        <a:pt x="35" y="126"/>
                      </a:lnTo>
                      <a:lnTo>
                        <a:pt x="0" y="110"/>
                      </a:lnTo>
                      <a:lnTo>
                        <a:pt x="3" y="102"/>
                      </a:lnTo>
                      <a:lnTo>
                        <a:pt x="5" y="92"/>
                      </a:lnTo>
                      <a:lnTo>
                        <a:pt x="9" y="83"/>
                      </a:lnTo>
                      <a:lnTo>
                        <a:pt x="12" y="73"/>
                      </a:lnTo>
                      <a:lnTo>
                        <a:pt x="16" y="62"/>
                      </a:lnTo>
                      <a:lnTo>
                        <a:pt x="20" y="51"/>
                      </a:lnTo>
                      <a:lnTo>
                        <a:pt x="25" y="40"/>
                      </a:lnTo>
                      <a:lnTo>
                        <a:pt x="29" y="28"/>
                      </a:lnTo>
                      <a:lnTo>
                        <a:pt x="69" y="47"/>
                      </a:lnTo>
                    </a:path>
                  </a:pathLst>
                </a:custGeom>
                <a:noFill/>
                <a:ln w="0">
                  <a:solidFill>
                    <a:srgbClr val="33333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240" bIns="30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4" name="Freeform 387"/>
                <p:cNvSpPr/>
                <p:nvPr/>
              </p:nvSpPr>
              <p:spPr>
                <a:xfrm>
                  <a:off x="5480280" y="3571560"/>
                  <a:ext cx="149040" cy="51480"/>
                </a:xfrm>
                <a:custGeom>
                  <a:avLst/>
                  <a:gdLst>
                    <a:gd name="textAreaLeft" fmla="*/ 0 w 149040"/>
                    <a:gd name="textAreaRight" fmla="*/ 149400 w 149040"/>
                    <a:gd name="textAreaTop" fmla="*/ 0 h 51480"/>
                    <a:gd name="textAreaBottom" fmla="*/ 51840 h 51480"/>
                  </a:gdLst>
                  <a:ahLst/>
                  <a:rect l="textAreaLeft" t="textAreaTop" r="textAreaRight" b="textAreaBottom"/>
                  <a:pathLst>
                    <a:path w="114" h="93">
                      <a:moveTo>
                        <a:pt x="114" y="72"/>
                      </a:moveTo>
                      <a:lnTo>
                        <a:pt x="92" y="93"/>
                      </a:lnTo>
                      <a:lnTo>
                        <a:pt x="0" y="48"/>
                      </a:lnTo>
                      <a:lnTo>
                        <a:pt x="50" y="0"/>
                      </a:lnTo>
                      <a:lnTo>
                        <a:pt x="0" y="48"/>
                      </a:lnTo>
                      <a:lnTo>
                        <a:pt x="92" y="93"/>
                      </a:lnTo>
                      <a:lnTo>
                        <a:pt x="114" y="72"/>
                      </a:lnTo>
                    </a:path>
                  </a:pathLst>
                </a:custGeom>
                <a:noFill/>
                <a:ln w="0">
                  <a:solidFill>
                    <a:srgbClr val="33333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5" name="Freeform 388"/>
                <p:cNvSpPr/>
                <p:nvPr/>
              </p:nvSpPr>
              <p:spPr>
                <a:xfrm>
                  <a:off x="5600520" y="3611160"/>
                  <a:ext cx="136080" cy="36720"/>
                </a:xfrm>
                <a:custGeom>
                  <a:avLst/>
                  <a:gdLst>
                    <a:gd name="textAreaLeft" fmla="*/ 0 w 136080"/>
                    <a:gd name="textAreaRight" fmla="*/ 136440 w 136080"/>
                    <a:gd name="textAreaTop" fmla="*/ 0 h 36720"/>
                    <a:gd name="textAreaBottom" fmla="*/ 37080 h 36720"/>
                  </a:gdLst>
                  <a:ahLst/>
                  <a:rect l="textAreaLeft" t="textAreaTop" r="textAreaRight" b="textAreaBottom"/>
                  <a:pathLst>
                    <a:path w="104" h="67">
                      <a:moveTo>
                        <a:pt x="104" y="55"/>
                      </a:moveTo>
                      <a:lnTo>
                        <a:pt x="92" y="67"/>
                      </a:lnTo>
                      <a:lnTo>
                        <a:pt x="0" y="21"/>
                      </a:lnTo>
                      <a:lnTo>
                        <a:pt x="22" y="0"/>
                      </a:lnTo>
                      <a:lnTo>
                        <a:pt x="0" y="21"/>
                      </a:lnTo>
                      <a:lnTo>
                        <a:pt x="92" y="67"/>
                      </a:lnTo>
                      <a:lnTo>
                        <a:pt x="104" y="55"/>
                      </a:lnTo>
                    </a:path>
                  </a:pathLst>
                </a:custGeom>
                <a:noFill/>
                <a:ln w="0">
                  <a:solidFill>
                    <a:srgbClr val="33333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6" name="Freeform 389"/>
                <p:cNvSpPr/>
                <p:nvPr/>
              </p:nvSpPr>
              <p:spPr>
                <a:xfrm>
                  <a:off x="5720760" y="3641760"/>
                  <a:ext cx="133200" cy="31680"/>
                </a:xfrm>
                <a:custGeom>
                  <a:avLst/>
                  <a:gdLst>
                    <a:gd name="textAreaLeft" fmla="*/ 0 w 133200"/>
                    <a:gd name="textAreaRight" fmla="*/ 133560 w 133200"/>
                    <a:gd name="textAreaTop" fmla="*/ 0 h 31680"/>
                    <a:gd name="textAreaBottom" fmla="*/ 32040 h 31680"/>
                  </a:gdLst>
                  <a:ahLst/>
                  <a:rect l="textAreaLeft" t="textAreaTop" r="textAreaRight" b="textAreaBottom"/>
                  <a:pathLst>
                    <a:path w="102" h="57">
                      <a:moveTo>
                        <a:pt x="102" y="47"/>
                      </a:moveTo>
                      <a:lnTo>
                        <a:pt x="92" y="57"/>
                      </a:lnTo>
                      <a:lnTo>
                        <a:pt x="0" y="12"/>
                      </a:lnTo>
                      <a:lnTo>
                        <a:pt x="12" y="0"/>
                      </a:lnTo>
                      <a:lnTo>
                        <a:pt x="0" y="12"/>
                      </a:lnTo>
                      <a:lnTo>
                        <a:pt x="92" y="57"/>
                      </a:lnTo>
                      <a:lnTo>
                        <a:pt x="102" y="47"/>
                      </a:lnTo>
                    </a:path>
                  </a:pathLst>
                </a:custGeom>
                <a:noFill/>
                <a:ln w="0">
                  <a:solidFill>
                    <a:srgbClr val="33333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7" name="Freeform 390"/>
                <p:cNvSpPr/>
                <p:nvPr/>
              </p:nvSpPr>
              <p:spPr>
                <a:xfrm>
                  <a:off x="5841360" y="3668040"/>
                  <a:ext cx="138600" cy="30240"/>
                </a:xfrm>
                <a:custGeom>
                  <a:avLst/>
                  <a:gdLst>
                    <a:gd name="textAreaLeft" fmla="*/ 0 w 138600"/>
                    <a:gd name="textAreaRight" fmla="*/ 138960 w 138600"/>
                    <a:gd name="textAreaTop" fmla="*/ 0 h 30240"/>
                    <a:gd name="textAreaBottom" fmla="*/ 30600 h 30240"/>
                  </a:gdLst>
                  <a:ahLst/>
                  <a:rect l="textAreaLeft" t="textAreaTop" r="textAreaRight" b="textAreaBottom"/>
                  <a:pathLst>
                    <a:path w="105" h="54">
                      <a:moveTo>
                        <a:pt x="105" y="41"/>
                      </a:moveTo>
                      <a:lnTo>
                        <a:pt x="92" y="54"/>
                      </a:lnTo>
                      <a:lnTo>
                        <a:pt x="0" y="10"/>
                      </a:lnTo>
                      <a:lnTo>
                        <a:pt x="10" y="0"/>
                      </a:lnTo>
                      <a:lnTo>
                        <a:pt x="0" y="10"/>
                      </a:lnTo>
                      <a:lnTo>
                        <a:pt x="92" y="54"/>
                      </a:lnTo>
                      <a:lnTo>
                        <a:pt x="105" y="41"/>
                      </a:lnTo>
                    </a:path>
                  </a:pathLst>
                </a:custGeom>
                <a:noFill/>
                <a:ln w="0">
                  <a:solidFill>
                    <a:srgbClr val="33333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8" name="Freeform 391"/>
                <p:cNvSpPr/>
                <p:nvPr/>
              </p:nvSpPr>
              <p:spPr>
                <a:xfrm>
                  <a:off x="5961600" y="3690000"/>
                  <a:ext cx="161640" cy="33120"/>
                </a:xfrm>
                <a:custGeom>
                  <a:avLst/>
                  <a:gdLst>
                    <a:gd name="textAreaLeft" fmla="*/ 0 w 161640"/>
                    <a:gd name="textAreaRight" fmla="*/ 162000 w 161640"/>
                    <a:gd name="textAreaTop" fmla="*/ 0 h 33120"/>
                    <a:gd name="textAreaBottom" fmla="*/ 33480 h 33120"/>
                  </a:gdLst>
                  <a:ahLst/>
                  <a:rect l="textAreaLeft" t="textAreaTop" r="textAreaRight" b="textAreaBottom"/>
                  <a:pathLst>
                    <a:path w="124" h="58">
                      <a:moveTo>
                        <a:pt x="124" y="27"/>
                      </a:moveTo>
                      <a:lnTo>
                        <a:pt x="92" y="58"/>
                      </a:lnTo>
                      <a:lnTo>
                        <a:pt x="0" y="13"/>
                      </a:lnTo>
                      <a:lnTo>
                        <a:pt x="13" y="0"/>
                      </a:lnTo>
                      <a:lnTo>
                        <a:pt x="0" y="13"/>
                      </a:lnTo>
                      <a:lnTo>
                        <a:pt x="92" y="58"/>
                      </a:lnTo>
                      <a:lnTo>
                        <a:pt x="124" y="27"/>
                      </a:lnTo>
                    </a:path>
                  </a:pathLst>
                </a:custGeom>
                <a:noFill/>
                <a:ln w="0">
                  <a:solidFill>
                    <a:srgbClr val="33333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9" name="Freeform 392"/>
                <p:cNvSpPr/>
                <p:nvPr/>
              </p:nvSpPr>
              <p:spPr>
                <a:xfrm>
                  <a:off x="6264360" y="3708360"/>
                  <a:ext cx="34200" cy="4680"/>
                </a:xfrm>
                <a:custGeom>
                  <a:avLst/>
                  <a:gdLst>
                    <a:gd name="textAreaLeft" fmla="*/ 0 w 34200"/>
                    <a:gd name="textAreaRight" fmla="*/ 34560 w 34200"/>
                    <a:gd name="textAreaTop" fmla="*/ 0 h 4680"/>
                    <a:gd name="textAreaBottom" fmla="*/ 5040 h 4680"/>
                  </a:gdLst>
                  <a:ahLst/>
                  <a:rect l="textAreaLeft" t="textAreaTop" r="textAreaRight" b="textAreaBottom"/>
                  <a:pathLst>
                    <a:path w="26" h="10">
                      <a:moveTo>
                        <a:pt x="26" y="1"/>
                      </a:moveTo>
                      <a:lnTo>
                        <a:pt x="17" y="10"/>
                      </a:lnTo>
                      <a:lnTo>
                        <a:pt x="0" y="0"/>
                      </a:lnTo>
                      <a:lnTo>
                        <a:pt x="17" y="10"/>
                      </a:lnTo>
                      <a:lnTo>
                        <a:pt x="26" y="1"/>
                      </a:lnTo>
                    </a:path>
                  </a:pathLst>
                </a:custGeom>
                <a:noFill/>
                <a:ln w="0">
                  <a:solidFill>
                    <a:srgbClr val="33333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0" name="Freeform 393"/>
                <p:cNvSpPr/>
                <p:nvPr/>
              </p:nvSpPr>
              <p:spPr>
                <a:xfrm>
                  <a:off x="6081840" y="3704760"/>
                  <a:ext cx="205920" cy="43560"/>
                </a:xfrm>
                <a:custGeom>
                  <a:avLst/>
                  <a:gdLst>
                    <a:gd name="textAreaLeft" fmla="*/ 0 w 205920"/>
                    <a:gd name="textAreaRight" fmla="*/ 206280 w 205920"/>
                    <a:gd name="textAreaTop" fmla="*/ 0 h 43560"/>
                    <a:gd name="textAreaBottom" fmla="*/ 43920 h 43560"/>
                  </a:gdLst>
                  <a:ahLst/>
                  <a:rect l="textAreaLeft" t="textAreaTop" r="textAreaRight" b="textAreaBottom"/>
                  <a:pathLst>
                    <a:path w="157" h="76">
                      <a:moveTo>
                        <a:pt x="140" y="4"/>
                      </a:moveTo>
                      <a:lnTo>
                        <a:pt x="157" y="14"/>
                      </a:lnTo>
                      <a:lnTo>
                        <a:pt x="91" y="76"/>
                      </a:lnTo>
                      <a:lnTo>
                        <a:pt x="0" y="31"/>
                      </a:lnTo>
                      <a:lnTo>
                        <a:pt x="32" y="0"/>
                      </a:lnTo>
                      <a:lnTo>
                        <a:pt x="0" y="31"/>
                      </a:lnTo>
                      <a:lnTo>
                        <a:pt x="91" y="76"/>
                      </a:lnTo>
                      <a:lnTo>
                        <a:pt x="157" y="14"/>
                      </a:lnTo>
                      <a:lnTo>
                        <a:pt x="140" y="4"/>
                      </a:lnTo>
                    </a:path>
                  </a:pathLst>
                </a:custGeom>
                <a:noFill/>
                <a:ln w="0">
                  <a:solidFill>
                    <a:srgbClr val="33333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1" name="Freeform 394"/>
                <p:cNvSpPr/>
                <p:nvPr/>
              </p:nvSpPr>
              <p:spPr>
                <a:xfrm>
                  <a:off x="6288120" y="3708360"/>
                  <a:ext cx="187560" cy="30240"/>
                </a:xfrm>
                <a:custGeom>
                  <a:avLst/>
                  <a:gdLst>
                    <a:gd name="textAreaLeft" fmla="*/ 0 w 187560"/>
                    <a:gd name="textAreaRight" fmla="*/ 187920 w 187560"/>
                    <a:gd name="textAreaTop" fmla="*/ 0 h 30240"/>
                    <a:gd name="textAreaBottom" fmla="*/ 30600 h 30240"/>
                  </a:gdLst>
                  <a:ahLst/>
                  <a:rect l="textAreaLeft" t="textAreaTop" r="textAreaRight" b="textAreaBottom"/>
                  <a:pathLst>
                    <a:path w="144" h="53">
                      <a:moveTo>
                        <a:pt x="144" y="3"/>
                      </a:moveTo>
                      <a:lnTo>
                        <a:pt x="92" y="53"/>
                      </a:lnTo>
                      <a:lnTo>
                        <a:pt x="0" y="9"/>
                      </a:lnTo>
                      <a:lnTo>
                        <a:pt x="9" y="0"/>
                      </a:lnTo>
                      <a:lnTo>
                        <a:pt x="0" y="9"/>
                      </a:lnTo>
                      <a:lnTo>
                        <a:pt x="92" y="53"/>
                      </a:lnTo>
                      <a:lnTo>
                        <a:pt x="144" y="3"/>
                      </a:lnTo>
                    </a:path>
                  </a:pathLst>
                </a:custGeom>
                <a:noFill/>
                <a:ln w="0">
                  <a:solidFill>
                    <a:srgbClr val="33333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2" name="Freeform 395"/>
                <p:cNvSpPr/>
                <p:nvPr/>
              </p:nvSpPr>
              <p:spPr>
                <a:xfrm>
                  <a:off x="6523560" y="3704760"/>
                  <a:ext cx="143280" cy="23400"/>
                </a:xfrm>
                <a:custGeom>
                  <a:avLst/>
                  <a:gdLst>
                    <a:gd name="textAreaLeft" fmla="*/ 0 w 143280"/>
                    <a:gd name="textAreaRight" fmla="*/ 143640 w 143280"/>
                    <a:gd name="textAreaTop" fmla="*/ 0 h 23400"/>
                    <a:gd name="textAreaBottom" fmla="*/ 23760 h 23400"/>
                  </a:gdLst>
                  <a:ahLst/>
                  <a:rect l="textAreaLeft" t="textAreaTop" r="textAreaRight" b="textAreaBottom"/>
                  <a:pathLst>
                    <a:path w="110" h="41">
                      <a:moveTo>
                        <a:pt x="110" y="0"/>
                      </a:moveTo>
                      <a:lnTo>
                        <a:pt x="68" y="41"/>
                      </a:lnTo>
                      <a:lnTo>
                        <a:pt x="0" y="7"/>
                      </a:lnTo>
                      <a:lnTo>
                        <a:pt x="68" y="41"/>
                      </a:lnTo>
                      <a:lnTo>
                        <a:pt x="110" y="0"/>
                      </a:lnTo>
                    </a:path>
                  </a:pathLst>
                </a:custGeom>
                <a:noFill/>
                <a:ln w="0">
                  <a:solidFill>
                    <a:srgbClr val="33333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3" name="Freeform 396"/>
                <p:cNvSpPr/>
                <p:nvPr/>
              </p:nvSpPr>
              <p:spPr>
                <a:xfrm>
                  <a:off x="6740280" y="3690000"/>
                  <a:ext cx="148680" cy="28080"/>
                </a:xfrm>
                <a:custGeom>
                  <a:avLst/>
                  <a:gdLst>
                    <a:gd name="textAreaLeft" fmla="*/ 0 w 148680"/>
                    <a:gd name="textAreaRight" fmla="*/ 149040 w 148680"/>
                    <a:gd name="textAreaTop" fmla="*/ 0 h 28080"/>
                    <a:gd name="textAreaBottom" fmla="*/ 28440 h 28080"/>
                  </a:gdLst>
                  <a:ahLst/>
                  <a:rect l="textAreaLeft" t="textAreaTop" r="textAreaRight" b="textAreaBottom"/>
                  <a:pathLst>
                    <a:path w="112" h="50">
                      <a:moveTo>
                        <a:pt x="112" y="0"/>
                      </a:moveTo>
                      <a:lnTo>
                        <a:pt x="59" y="50"/>
                      </a:lnTo>
                      <a:lnTo>
                        <a:pt x="0" y="21"/>
                      </a:lnTo>
                      <a:lnTo>
                        <a:pt x="59" y="50"/>
                      </a:lnTo>
                      <a:lnTo>
                        <a:pt x="112" y="0"/>
                      </a:lnTo>
                    </a:path>
                  </a:pathLst>
                </a:custGeom>
                <a:noFill/>
                <a:ln w="0">
                  <a:solidFill>
                    <a:srgbClr val="33333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4" name="Freeform 397"/>
                <p:cNvSpPr/>
                <p:nvPr/>
              </p:nvSpPr>
              <p:spPr>
                <a:xfrm>
                  <a:off x="7090560" y="3663360"/>
                  <a:ext cx="41400" cy="8280"/>
                </a:xfrm>
                <a:custGeom>
                  <a:avLst/>
                  <a:gdLst>
                    <a:gd name="textAreaLeft" fmla="*/ 0 w 41400"/>
                    <a:gd name="textAreaRight" fmla="*/ 41760 w 41400"/>
                    <a:gd name="textAreaTop" fmla="*/ 0 h 8280"/>
                    <a:gd name="textAreaBottom" fmla="*/ 8640 h 8280"/>
                  </a:gdLst>
                  <a:ahLst/>
                  <a:rect l="textAreaLeft" t="textAreaTop" r="textAreaRight" b="textAreaBottom"/>
                  <a:pathLst>
                    <a:path w="32" h="16">
                      <a:moveTo>
                        <a:pt x="32" y="0"/>
                      </a:moveTo>
                      <a:lnTo>
                        <a:pt x="15" y="16"/>
                      </a:lnTo>
                      <a:lnTo>
                        <a:pt x="0" y="10"/>
                      </a:lnTo>
                      <a:lnTo>
                        <a:pt x="15" y="16"/>
                      </a:lnTo>
                      <a:lnTo>
                        <a:pt x="32" y="0"/>
                      </a:lnTo>
                    </a:path>
                  </a:pathLst>
                </a:custGeom>
                <a:noFill/>
                <a:ln w="0">
                  <a:solidFill>
                    <a:srgbClr val="33333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5" name="Freeform 398"/>
                <p:cNvSpPr/>
                <p:nvPr/>
              </p:nvSpPr>
              <p:spPr>
                <a:xfrm>
                  <a:off x="7380360" y="3608280"/>
                  <a:ext cx="68040" cy="18000"/>
                </a:xfrm>
                <a:custGeom>
                  <a:avLst/>
                  <a:gdLst>
                    <a:gd name="textAreaLeft" fmla="*/ 0 w 68040"/>
                    <a:gd name="textAreaRight" fmla="*/ 68400 w 68040"/>
                    <a:gd name="textAreaTop" fmla="*/ 0 h 18000"/>
                    <a:gd name="textAreaBottom" fmla="*/ 18360 h 18000"/>
                  </a:gdLst>
                  <a:ahLst/>
                  <a:rect l="textAreaLeft" t="textAreaTop" r="textAreaRight" b="textAreaBottom"/>
                  <a:pathLst>
                    <a:path w="52" h="34">
                      <a:moveTo>
                        <a:pt x="52" y="0"/>
                      </a:moveTo>
                      <a:lnTo>
                        <a:pt x="16" y="34"/>
                      </a:lnTo>
                      <a:lnTo>
                        <a:pt x="0" y="26"/>
                      </a:lnTo>
                      <a:lnTo>
                        <a:pt x="16" y="34"/>
                      </a:lnTo>
                      <a:lnTo>
                        <a:pt x="52" y="0"/>
                      </a:lnTo>
                    </a:path>
                  </a:pathLst>
                </a:custGeom>
                <a:noFill/>
                <a:ln w="0">
                  <a:solidFill>
                    <a:srgbClr val="33333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6" name="Freeform 399"/>
                <p:cNvSpPr/>
                <p:nvPr/>
              </p:nvSpPr>
              <p:spPr>
                <a:xfrm>
                  <a:off x="5352120" y="3416040"/>
                  <a:ext cx="93960" cy="173520"/>
                </a:xfrm>
                <a:custGeom>
                  <a:avLst/>
                  <a:gdLst>
                    <a:gd name="textAreaLeft" fmla="*/ 0 w 93960"/>
                    <a:gd name="textAreaRight" fmla="*/ 94320 w 93960"/>
                    <a:gd name="textAreaTop" fmla="*/ 0 h 173520"/>
                    <a:gd name="textAreaBottom" fmla="*/ 173880 h 173520"/>
                  </a:gdLst>
                  <a:ahLst/>
                  <a:rect l="textAreaLeft" t="textAreaTop" r="textAreaRight" b="textAreaBottom"/>
                  <a:pathLst>
                    <a:path w="72" h="312">
                      <a:moveTo>
                        <a:pt x="37" y="0"/>
                      </a:moveTo>
                      <a:lnTo>
                        <a:pt x="38" y="37"/>
                      </a:lnTo>
                      <a:lnTo>
                        <a:pt x="40" y="78"/>
                      </a:lnTo>
                      <a:lnTo>
                        <a:pt x="44" y="117"/>
                      </a:lnTo>
                      <a:lnTo>
                        <a:pt x="47" y="155"/>
                      </a:lnTo>
                      <a:lnTo>
                        <a:pt x="52" y="194"/>
                      </a:lnTo>
                      <a:lnTo>
                        <a:pt x="58" y="232"/>
                      </a:lnTo>
                      <a:lnTo>
                        <a:pt x="63" y="270"/>
                      </a:lnTo>
                      <a:lnTo>
                        <a:pt x="70" y="308"/>
                      </a:lnTo>
                      <a:lnTo>
                        <a:pt x="72" y="312"/>
                      </a:lnTo>
                      <a:lnTo>
                        <a:pt x="65" y="310"/>
                      </a:lnTo>
                      <a:lnTo>
                        <a:pt x="59" y="304"/>
                      </a:lnTo>
                      <a:lnTo>
                        <a:pt x="54" y="299"/>
                      </a:lnTo>
                      <a:lnTo>
                        <a:pt x="48" y="293"/>
                      </a:lnTo>
                      <a:lnTo>
                        <a:pt x="44" y="288"/>
                      </a:lnTo>
                      <a:lnTo>
                        <a:pt x="38" y="283"/>
                      </a:lnTo>
                      <a:lnTo>
                        <a:pt x="32" y="277"/>
                      </a:lnTo>
                      <a:lnTo>
                        <a:pt x="26" y="274"/>
                      </a:lnTo>
                      <a:lnTo>
                        <a:pt x="18" y="264"/>
                      </a:lnTo>
                      <a:lnTo>
                        <a:pt x="17" y="259"/>
                      </a:lnTo>
                      <a:lnTo>
                        <a:pt x="16" y="257"/>
                      </a:lnTo>
                      <a:lnTo>
                        <a:pt x="15" y="253"/>
                      </a:lnTo>
                      <a:lnTo>
                        <a:pt x="13" y="250"/>
                      </a:lnTo>
                      <a:lnTo>
                        <a:pt x="11" y="246"/>
                      </a:lnTo>
                      <a:lnTo>
                        <a:pt x="10" y="242"/>
                      </a:lnTo>
                      <a:lnTo>
                        <a:pt x="10" y="239"/>
                      </a:lnTo>
                      <a:lnTo>
                        <a:pt x="10" y="235"/>
                      </a:lnTo>
                      <a:lnTo>
                        <a:pt x="10" y="238"/>
                      </a:lnTo>
                      <a:lnTo>
                        <a:pt x="10" y="240"/>
                      </a:lnTo>
                      <a:lnTo>
                        <a:pt x="10" y="243"/>
                      </a:lnTo>
                      <a:lnTo>
                        <a:pt x="11" y="246"/>
                      </a:lnTo>
                      <a:lnTo>
                        <a:pt x="11" y="247"/>
                      </a:lnTo>
                      <a:lnTo>
                        <a:pt x="13" y="250"/>
                      </a:lnTo>
                      <a:lnTo>
                        <a:pt x="13" y="253"/>
                      </a:lnTo>
                      <a:lnTo>
                        <a:pt x="13" y="254"/>
                      </a:lnTo>
                      <a:lnTo>
                        <a:pt x="0" y="234"/>
                      </a:lnTo>
                      <a:lnTo>
                        <a:pt x="0" y="204"/>
                      </a:lnTo>
                      <a:lnTo>
                        <a:pt x="0" y="174"/>
                      </a:lnTo>
                      <a:lnTo>
                        <a:pt x="1" y="144"/>
                      </a:lnTo>
                      <a:lnTo>
                        <a:pt x="2" y="113"/>
                      </a:lnTo>
                      <a:lnTo>
                        <a:pt x="4" y="98"/>
                      </a:lnTo>
                      <a:lnTo>
                        <a:pt x="7" y="83"/>
                      </a:lnTo>
                      <a:lnTo>
                        <a:pt x="10" y="70"/>
                      </a:lnTo>
                      <a:lnTo>
                        <a:pt x="14" y="55"/>
                      </a:lnTo>
                      <a:lnTo>
                        <a:pt x="18" y="41"/>
                      </a:lnTo>
                      <a:lnTo>
                        <a:pt x="23" y="26"/>
                      </a:lnTo>
                      <a:lnTo>
                        <a:pt x="30" y="13"/>
                      </a:lnTo>
                      <a:lnTo>
                        <a:pt x="37" y="0"/>
                      </a:lnTo>
                      <a:close/>
                    </a:path>
                  </a:pathLst>
                </a:custGeom>
                <a:solidFill>
                  <a:srgbClr val="b8cbc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7" name="Freeform 400"/>
                <p:cNvSpPr/>
                <p:nvPr/>
              </p:nvSpPr>
              <p:spPr>
                <a:xfrm>
                  <a:off x="5399640" y="3379320"/>
                  <a:ext cx="229680" cy="283680"/>
                </a:xfrm>
                <a:custGeom>
                  <a:avLst/>
                  <a:gdLst>
                    <a:gd name="textAreaLeft" fmla="*/ 0 w 229680"/>
                    <a:gd name="textAreaRight" fmla="*/ 230040 w 229680"/>
                    <a:gd name="textAreaTop" fmla="*/ 0 h 283680"/>
                    <a:gd name="textAreaBottom" fmla="*/ 284040 h 283680"/>
                  </a:gdLst>
                  <a:ahLst/>
                  <a:rect l="textAreaLeft" t="textAreaTop" r="textAreaRight" b="textAreaBottom"/>
                  <a:pathLst>
                    <a:path w="175" h="511">
                      <a:moveTo>
                        <a:pt x="0" y="66"/>
                      </a:moveTo>
                      <a:lnTo>
                        <a:pt x="1" y="103"/>
                      </a:lnTo>
                      <a:lnTo>
                        <a:pt x="3" y="144"/>
                      </a:lnTo>
                      <a:lnTo>
                        <a:pt x="7" y="183"/>
                      </a:lnTo>
                      <a:lnTo>
                        <a:pt x="10" y="221"/>
                      </a:lnTo>
                      <a:lnTo>
                        <a:pt x="15" y="260"/>
                      </a:lnTo>
                      <a:lnTo>
                        <a:pt x="21" y="298"/>
                      </a:lnTo>
                      <a:lnTo>
                        <a:pt x="26" y="336"/>
                      </a:lnTo>
                      <a:lnTo>
                        <a:pt x="33" y="374"/>
                      </a:lnTo>
                      <a:lnTo>
                        <a:pt x="35" y="378"/>
                      </a:lnTo>
                      <a:lnTo>
                        <a:pt x="35" y="378"/>
                      </a:lnTo>
                      <a:lnTo>
                        <a:pt x="35" y="378"/>
                      </a:lnTo>
                      <a:lnTo>
                        <a:pt x="36" y="378"/>
                      </a:lnTo>
                      <a:lnTo>
                        <a:pt x="36" y="378"/>
                      </a:lnTo>
                      <a:lnTo>
                        <a:pt x="37" y="378"/>
                      </a:lnTo>
                      <a:lnTo>
                        <a:pt x="37" y="378"/>
                      </a:lnTo>
                      <a:lnTo>
                        <a:pt x="38" y="378"/>
                      </a:lnTo>
                      <a:lnTo>
                        <a:pt x="38" y="378"/>
                      </a:lnTo>
                      <a:lnTo>
                        <a:pt x="42" y="385"/>
                      </a:lnTo>
                      <a:lnTo>
                        <a:pt x="45" y="392"/>
                      </a:lnTo>
                      <a:lnTo>
                        <a:pt x="50" y="400"/>
                      </a:lnTo>
                      <a:lnTo>
                        <a:pt x="55" y="407"/>
                      </a:lnTo>
                      <a:lnTo>
                        <a:pt x="67" y="422"/>
                      </a:lnTo>
                      <a:lnTo>
                        <a:pt x="82" y="437"/>
                      </a:lnTo>
                      <a:lnTo>
                        <a:pt x="97" y="450"/>
                      </a:lnTo>
                      <a:lnTo>
                        <a:pt x="113" y="465"/>
                      </a:lnTo>
                      <a:lnTo>
                        <a:pt x="128" y="479"/>
                      </a:lnTo>
                      <a:lnTo>
                        <a:pt x="143" y="492"/>
                      </a:lnTo>
                      <a:lnTo>
                        <a:pt x="175" y="511"/>
                      </a:lnTo>
                      <a:lnTo>
                        <a:pt x="165" y="484"/>
                      </a:lnTo>
                      <a:lnTo>
                        <a:pt x="156" y="450"/>
                      </a:lnTo>
                      <a:lnTo>
                        <a:pt x="148" y="416"/>
                      </a:lnTo>
                      <a:lnTo>
                        <a:pt x="143" y="395"/>
                      </a:lnTo>
                      <a:lnTo>
                        <a:pt x="137" y="391"/>
                      </a:lnTo>
                      <a:lnTo>
                        <a:pt x="60" y="249"/>
                      </a:lnTo>
                      <a:lnTo>
                        <a:pt x="50" y="134"/>
                      </a:lnTo>
                      <a:lnTo>
                        <a:pt x="94" y="70"/>
                      </a:lnTo>
                      <a:lnTo>
                        <a:pt x="102" y="64"/>
                      </a:lnTo>
                      <a:lnTo>
                        <a:pt x="102" y="61"/>
                      </a:lnTo>
                      <a:lnTo>
                        <a:pt x="102" y="23"/>
                      </a:lnTo>
                      <a:lnTo>
                        <a:pt x="102" y="0"/>
                      </a:lnTo>
                      <a:lnTo>
                        <a:pt x="77" y="13"/>
                      </a:lnTo>
                      <a:lnTo>
                        <a:pt x="58" y="24"/>
                      </a:lnTo>
                      <a:lnTo>
                        <a:pt x="43" y="32"/>
                      </a:lnTo>
                      <a:lnTo>
                        <a:pt x="30" y="39"/>
                      </a:lnTo>
                      <a:lnTo>
                        <a:pt x="21" y="45"/>
                      </a:lnTo>
                      <a:lnTo>
                        <a:pt x="14" y="49"/>
                      </a:lnTo>
                      <a:lnTo>
                        <a:pt x="9" y="53"/>
                      </a:lnTo>
                      <a:lnTo>
                        <a:pt x="6" y="57"/>
                      </a:lnTo>
                      <a:lnTo>
                        <a:pt x="4" y="58"/>
                      </a:lnTo>
                      <a:lnTo>
                        <a:pt x="4" y="60"/>
                      </a:lnTo>
                      <a:lnTo>
                        <a:pt x="3" y="61"/>
                      </a:lnTo>
                      <a:lnTo>
                        <a:pt x="2" y="62"/>
                      </a:lnTo>
                      <a:lnTo>
                        <a:pt x="2" y="62"/>
                      </a:lnTo>
                      <a:lnTo>
                        <a:pt x="1" y="64"/>
                      </a:lnTo>
                      <a:lnTo>
                        <a:pt x="1" y="65"/>
                      </a:lnTo>
                      <a:lnTo>
                        <a:pt x="0" y="66"/>
                      </a:lnTo>
                      <a:close/>
                    </a:path>
                  </a:pathLst>
                </a:custGeom>
                <a:solidFill>
                  <a:srgbClr val="bccdc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8" name="Freeform 401"/>
                <p:cNvSpPr/>
                <p:nvPr/>
              </p:nvSpPr>
              <p:spPr>
                <a:xfrm>
                  <a:off x="5533200" y="3347280"/>
                  <a:ext cx="268920" cy="354240"/>
                </a:xfrm>
                <a:custGeom>
                  <a:avLst/>
                  <a:gdLst>
                    <a:gd name="textAreaLeft" fmla="*/ 0 w 268920"/>
                    <a:gd name="textAreaRight" fmla="*/ 269280 w 268920"/>
                    <a:gd name="textAreaTop" fmla="*/ 0 h 354240"/>
                    <a:gd name="textAreaBottom" fmla="*/ 354240 h 354240"/>
                  </a:gdLst>
                  <a:ahLst/>
                  <a:rect l="textAreaLeft" t="textAreaTop" r="textAreaRight" b="textAreaBottom"/>
                  <a:pathLst>
                    <a:path w="206" h="635">
                      <a:moveTo>
                        <a:pt x="0" y="57"/>
                      </a:moveTo>
                      <a:lnTo>
                        <a:pt x="0" y="80"/>
                      </a:lnTo>
                      <a:lnTo>
                        <a:pt x="0" y="118"/>
                      </a:lnTo>
                      <a:lnTo>
                        <a:pt x="0" y="121"/>
                      </a:lnTo>
                      <a:lnTo>
                        <a:pt x="102" y="47"/>
                      </a:lnTo>
                      <a:lnTo>
                        <a:pt x="102" y="46"/>
                      </a:lnTo>
                      <a:lnTo>
                        <a:pt x="103" y="12"/>
                      </a:lnTo>
                      <a:lnTo>
                        <a:pt x="104" y="0"/>
                      </a:lnTo>
                      <a:lnTo>
                        <a:pt x="98" y="3"/>
                      </a:lnTo>
                      <a:lnTo>
                        <a:pt x="92" y="5"/>
                      </a:lnTo>
                      <a:lnTo>
                        <a:pt x="87" y="8"/>
                      </a:lnTo>
                      <a:lnTo>
                        <a:pt x="81" y="11"/>
                      </a:lnTo>
                      <a:lnTo>
                        <a:pt x="75" y="15"/>
                      </a:lnTo>
                      <a:lnTo>
                        <a:pt x="69" y="17"/>
                      </a:lnTo>
                      <a:lnTo>
                        <a:pt x="63" y="22"/>
                      </a:lnTo>
                      <a:lnTo>
                        <a:pt x="57" y="24"/>
                      </a:lnTo>
                      <a:lnTo>
                        <a:pt x="48" y="30"/>
                      </a:lnTo>
                      <a:lnTo>
                        <a:pt x="41" y="34"/>
                      </a:lnTo>
                      <a:lnTo>
                        <a:pt x="33" y="38"/>
                      </a:lnTo>
                      <a:lnTo>
                        <a:pt x="26" y="42"/>
                      </a:lnTo>
                      <a:lnTo>
                        <a:pt x="19" y="46"/>
                      </a:lnTo>
                      <a:lnTo>
                        <a:pt x="12" y="50"/>
                      </a:lnTo>
                      <a:lnTo>
                        <a:pt x="6" y="54"/>
                      </a:lnTo>
                      <a:lnTo>
                        <a:pt x="0" y="57"/>
                      </a:lnTo>
                      <a:close/>
                      <a:moveTo>
                        <a:pt x="41" y="452"/>
                      </a:moveTo>
                      <a:lnTo>
                        <a:pt x="46" y="473"/>
                      </a:lnTo>
                      <a:lnTo>
                        <a:pt x="54" y="507"/>
                      </a:lnTo>
                      <a:lnTo>
                        <a:pt x="63" y="541"/>
                      </a:lnTo>
                      <a:lnTo>
                        <a:pt x="73" y="568"/>
                      </a:lnTo>
                      <a:lnTo>
                        <a:pt x="96" y="583"/>
                      </a:lnTo>
                      <a:lnTo>
                        <a:pt x="110" y="589"/>
                      </a:lnTo>
                      <a:lnTo>
                        <a:pt x="124" y="594"/>
                      </a:lnTo>
                      <a:lnTo>
                        <a:pt x="138" y="601"/>
                      </a:lnTo>
                      <a:lnTo>
                        <a:pt x="151" y="608"/>
                      </a:lnTo>
                      <a:lnTo>
                        <a:pt x="167" y="615"/>
                      </a:lnTo>
                      <a:lnTo>
                        <a:pt x="179" y="623"/>
                      </a:lnTo>
                      <a:lnTo>
                        <a:pt x="193" y="629"/>
                      </a:lnTo>
                      <a:lnTo>
                        <a:pt x="206" y="635"/>
                      </a:lnTo>
                      <a:lnTo>
                        <a:pt x="201" y="623"/>
                      </a:lnTo>
                      <a:lnTo>
                        <a:pt x="190" y="593"/>
                      </a:lnTo>
                      <a:lnTo>
                        <a:pt x="179" y="563"/>
                      </a:lnTo>
                      <a:lnTo>
                        <a:pt x="172" y="540"/>
                      </a:lnTo>
                      <a:lnTo>
                        <a:pt x="41" y="452"/>
                      </a:lnTo>
                      <a:close/>
                    </a:path>
                  </a:pathLst>
                </a:custGeom>
                <a:solidFill>
                  <a:srgbClr val="bfcfc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9" name="Freeform 402"/>
                <p:cNvSpPr/>
                <p:nvPr/>
              </p:nvSpPr>
              <p:spPr>
                <a:xfrm>
                  <a:off x="5665680" y="3327120"/>
                  <a:ext cx="326880" cy="409320"/>
                </a:xfrm>
                <a:custGeom>
                  <a:avLst/>
                  <a:gdLst>
                    <a:gd name="textAreaLeft" fmla="*/ 0 w 326880"/>
                    <a:gd name="textAreaRight" fmla="*/ 327240 w 326880"/>
                    <a:gd name="textAreaTop" fmla="*/ 0 h 409320"/>
                    <a:gd name="textAreaBottom" fmla="*/ 409680 h 409320"/>
                  </a:gdLst>
                  <a:ahLst/>
                  <a:rect l="textAreaLeft" t="textAreaTop" r="textAreaRight" b="textAreaBottom"/>
                  <a:pathLst>
                    <a:path w="249" h="737">
                      <a:moveTo>
                        <a:pt x="2" y="37"/>
                      </a:moveTo>
                      <a:lnTo>
                        <a:pt x="1" y="49"/>
                      </a:lnTo>
                      <a:lnTo>
                        <a:pt x="0" y="83"/>
                      </a:lnTo>
                      <a:lnTo>
                        <a:pt x="0" y="84"/>
                      </a:lnTo>
                      <a:lnTo>
                        <a:pt x="32" y="61"/>
                      </a:lnTo>
                      <a:lnTo>
                        <a:pt x="106" y="10"/>
                      </a:lnTo>
                      <a:lnTo>
                        <a:pt x="106" y="0"/>
                      </a:lnTo>
                      <a:lnTo>
                        <a:pt x="95" y="3"/>
                      </a:lnTo>
                      <a:lnTo>
                        <a:pt x="82" y="7"/>
                      </a:lnTo>
                      <a:lnTo>
                        <a:pt x="69" y="11"/>
                      </a:lnTo>
                      <a:lnTo>
                        <a:pt x="55" y="15"/>
                      </a:lnTo>
                      <a:lnTo>
                        <a:pt x="43" y="19"/>
                      </a:lnTo>
                      <a:lnTo>
                        <a:pt x="29" y="25"/>
                      </a:lnTo>
                      <a:lnTo>
                        <a:pt x="16" y="30"/>
                      </a:lnTo>
                      <a:lnTo>
                        <a:pt x="2" y="37"/>
                      </a:lnTo>
                      <a:close/>
                      <a:moveTo>
                        <a:pt x="70" y="577"/>
                      </a:moveTo>
                      <a:lnTo>
                        <a:pt x="77" y="600"/>
                      </a:lnTo>
                      <a:lnTo>
                        <a:pt x="88" y="630"/>
                      </a:lnTo>
                      <a:lnTo>
                        <a:pt x="99" y="660"/>
                      </a:lnTo>
                      <a:lnTo>
                        <a:pt x="104" y="672"/>
                      </a:lnTo>
                      <a:lnTo>
                        <a:pt x="111" y="676"/>
                      </a:lnTo>
                      <a:lnTo>
                        <a:pt x="118" y="679"/>
                      </a:lnTo>
                      <a:lnTo>
                        <a:pt x="124" y="681"/>
                      </a:lnTo>
                      <a:lnTo>
                        <a:pt x="129" y="684"/>
                      </a:lnTo>
                      <a:lnTo>
                        <a:pt x="135" y="685"/>
                      </a:lnTo>
                      <a:lnTo>
                        <a:pt x="141" y="688"/>
                      </a:lnTo>
                      <a:lnTo>
                        <a:pt x="147" y="689"/>
                      </a:lnTo>
                      <a:lnTo>
                        <a:pt x="153" y="691"/>
                      </a:lnTo>
                      <a:lnTo>
                        <a:pt x="163" y="698"/>
                      </a:lnTo>
                      <a:lnTo>
                        <a:pt x="175" y="704"/>
                      </a:lnTo>
                      <a:lnTo>
                        <a:pt x="186" y="710"/>
                      </a:lnTo>
                      <a:lnTo>
                        <a:pt x="198" y="715"/>
                      </a:lnTo>
                      <a:lnTo>
                        <a:pt x="210" y="722"/>
                      </a:lnTo>
                      <a:lnTo>
                        <a:pt x="223" y="726"/>
                      </a:lnTo>
                      <a:lnTo>
                        <a:pt x="236" y="732"/>
                      </a:lnTo>
                      <a:lnTo>
                        <a:pt x="249" y="737"/>
                      </a:lnTo>
                      <a:lnTo>
                        <a:pt x="237" y="713"/>
                      </a:lnTo>
                      <a:lnTo>
                        <a:pt x="225" y="688"/>
                      </a:lnTo>
                      <a:lnTo>
                        <a:pt x="214" y="662"/>
                      </a:lnTo>
                      <a:lnTo>
                        <a:pt x="203" y="638"/>
                      </a:lnTo>
                      <a:lnTo>
                        <a:pt x="87" y="588"/>
                      </a:lnTo>
                      <a:lnTo>
                        <a:pt x="70" y="577"/>
                      </a:lnTo>
                      <a:close/>
                    </a:path>
                  </a:pathLst>
                </a:custGeom>
                <a:solidFill>
                  <a:srgbClr val="c2d1d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0" name="Freeform 403"/>
                <p:cNvSpPr/>
                <p:nvPr/>
              </p:nvSpPr>
              <p:spPr>
                <a:xfrm>
                  <a:off x="5807520" y="3325320"/>
                  <a:ext cx="370800" cy="429840"/>
                </a:xfrm>
                <a:custGeom>
                  <a:avLst/>
                  <a:gdLst>
                    <a:gd name="textAreaLeft" fmla="*/ 0 w 370800"/>
                    <a:gd name="textAreaRight" fmla="*/ 371160 w 370800"/>
                    <a:gd name="textAreaTop" fmla="*/ 0 h 429840"/>
                    <a:gd name="textAreaBottom" fmla="*/ 430200 h 429840"/>
                  </a:gdLst>
                  <a:ahLst/>
                  <a:rect l="textAreaLeft" t="textAreaTop" r="textAreaRight" b="textAreaBottom"/>
                  <a:pathLst>
                    <a:path w="285" h="770">
                      <a:moveTo>
                        <a:pt x="0" y="2"/>
                      </a:moveTo>
                      <a:lnTo>
                        <a:pt x="0" y="12"/>
                      </a:lnTo>
                      <a:lnTo>
                        <a:pt x="16" y="0"/>
                      </a:lnTo>
                      <a:lnTo>
                        <a:pt x="15" y="0"/>
                      </a:lnTo>
                      <a:lnTo>
                        <a:pt x="13" y="0"/>
                      </a:lnTo>
                      <a:lnTo>
                        <a:pt x="11" y="1"/>
                      </a:lnTo>
                      <a:lnTo>
                        <a:pt x="8" y="1"/>
                      </a:lnTo>
                      <a:lnTo>
                        <a:pt x="7" y="1"/>
                      </a:lnTo>
                      <a:lnTo>
                        <a:pt x="5" y="2"/>
                      </a:lnTo>
                      <a:lnTo>
                        <a:pt x="3" y="2"/>
                      </a:lnTo>
                      <a:lnTo>
                        <a:pt x="0" y="2"/>
                      </a:lnTo>
                      <a:close/>
                      <a:moveTo>
                        <a:pt x="97" y="640"/>
                      </a:moveTo>
                      <a:lnTo>
                        <a:pt x="108" y="664"/>
                      </a:lnTo>
                      <a:lnTo>
                        <a:pt x="119" y="690"/>
                      </a:lnTo>
                      <a:lnTo>
                        <a:pt x="131" y="715"/>
                      </a:lnTo>
                      <a:lnTo>
                        <a:pt x="143" y="739"/>
                      </a:lnTo>
                      <a:lnTo>
                        <a:pt x="160" y="744"/>
                      </a:lnTo>
                      <a:lnTo>
                        <a:pt x="176" y="748"/>
                      </a:lnTo>
                      <a:lnTo>
                        <a:pt x="194" y="754"/>
                      </a:lnTo>
                      <a:lnTo>
                        <a:pt x="211" y="758"/>
                      </a:lnTo>
                      <a:lnTo>
                        <a:pt x="229" y="761"/>
                      </a:lnTo>
                      <a:lnTo>
                        <a:pt x="247" y="765"/>
                      </a:lnTo>
                      <a:lnTo>
                        <a:pt x="265" y="767"/>
                      </a:lnTo>
                      <a:lnTo>
                        <a:pt x="285" y="770"/>
                      </a:lnTo>
                      <a:lnTo>
                        <a:pt x="280" y="763"/>
                      </a:lnTo>
                      <a:lnTo>
                        <a:pt x="255" y="721"/>
                      </a:lnTo>
                      <a:lnTo>
                        <a:pt x="233" y="682"/>
                      </a:lnTo>
                      <a:lnTo>
                        <a:pt x="189" y="679"/>
                      </a:lnTo>
                      <a:lnTo>
                        <a:pt x="97" y="640"/>
                      </a:lnTo>
                      <a:close/>
                    </a:path>
                  </a:pathLst>
                </a:custGeom>
                <a:solidFill>
                  <a:srgbClr val="c5d2d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1" name="Freeform 404"/>
                <p:cNvSpPr/>
                <p:nvPr/>
              </p:nvSpPr>
              <p:spPr>
                <a:xfrm>
                  <a:off x="6110280" y="3704760"/>
                  <a:ext cx="250560" cy="53640"/>
                </a:xfrm>
                <a:custGeom>
                  <a:avLst/>
                  <a:gdLst>
                    <a:gd name="textAreaLeft" fmla="*/ 0 w 250560"/>
                    <a:gd name="textAreaRight" fmla="*/ 250920 w 250560"/>
                    <a:gd name="textAreaTop" fmla="*/ 0 h 53640"/>
                    <a:gd name="textAreaBottom" fmla="*/ 54000 h 53640"/>
                  </a:gdLst>
                  <a:ahLst/>
                  <a:rect l="textAreaLeft" t="textAreaTop" r="textAreaRight" b="textAreaBottom"/>
                  <a:pathLst>
                    <a:path w="191" h="95">
                      <a:moveTo>
                        <a:pt x="0" y="0"/>
                      </a:moveTo>
                      <a:lnTo>
                        <a:pt x="22" y="39"/>
                      </a:lnTo>
                      <a:lnTo>
                        <a:pt x="47" y="81"/>
                      </a:lnTo>
                      <a:lnTo>
                        <a:pt x="52" y="88"/>
                      </a:lnTo>
                      <a:lnTo>
                        <a:pt x="68" y="90"/>
                      </a:lnTo>
                      <a:lnTo>
                        <a:pt x="86" y="91"/>
                      </a:lnTo>
                      <a:lnTo>
                        <a:pt x="103" y="92"/>
                      </a:lnTo>
                      <a:lnTo>
                        <a:pt x="119" y="94"/>
                      </a:lnTo>
                      <a:lnTo>
                        <a:pt x="138" y="95"/>
                      </a:lnTo>
                      <a:lnTo>
                        <a:pt x="155" y="95"/>
                      </a:lnTo>
                      <a:lnTo>
                        <a:pt x="172" y="95"/>
                      </a:lnTo>
                      <a:lnTo>
                        <a:pt x="191" y="95"/>
                      </a:lnTo>
                      <a:lnTo>
                        <a:pt x="179" y="81"/>
                      </a:lnTo>
                      <a:lnTo>
                        <a:pt x="154" y="46"/>
                      </a:lnTo>
                      <a:lnTo>
                        <a:pt x="130" y="11"/>
                      </a:lnTo>
                      <a:lnTo>
                        <a:pt x="126" y="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8d4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2" name="Freeform 405"/>
                <p:cNvSpPr/>
                <p:nvPr/>
              </p:nvSpPr>
              <p:spPr>
                <a:xfrm>
                  <a:off x="6275160" y="3708360"/>
                  <a:ext cx="268920" cy="50400"/>
                </a:xfrm>
                <a:custGeom>
                  <a:avLst/>
                  <a:gdLst>
                    <a:gd name="textAreaLeft" fmla="*/ 0 w 268920"/>
                    <a:gd name="textAreaRight" fmla="*/ 269280 w 268920"/>
                    <a:gd name="textAreaTop" fmla="*/ 0 h 50400"/>
                    <a:gd name="textAreaBottom" fmla="*/ 50760 h 50400"/>
                  </a:gdLst>
                  <a:ahLst/>
                  <a:rect l="textAreaLeft" t="textAreaTop" r="textAreaRight" b="textAreaBottom"/>
                  <a:pathLst>
                    <a:path w="205" h="90">
                      <a:moveTo>
                        <a:pt x="0" y="0"/>
                      </a:moveTo>
                      <a:lnTo>
                        <a:pt x="4" y="6"/>
                      </a:lnTo>
                      <a:lnTo>
                        <a:pt x="28" y="41"/>
                      </a:lnTo>
                      <a:lnTo>
                        <a:pt x="53" y="76"/>
                      </a:lnTo>
                      <a:lnTo>
                        <a:pt x="65" y="90"/>
                      </a:lnTo>
                      <a:lnTo>
                        <a:pt x="66" y="90"/>
                      </a:lnTo>
                      <a:lnTo>
                        <a:pt x="67" y="90"/>
                      </a:lnTo>
                      <a:lnTo>
                        <a:pt x="70" y="90"/>
                      </a:lnTo>
                      <a:lnTo>
                        <a:pt x="71" y="90"/>
                      </a:lnTo>
                      <a:lnTo>
                        <a:pt x="72" y="90"/>
                      </a:lnTo>
                      <a:lnTo>
                        <a:pt x="74" y="90"/>
                      </a:lnTo>
                      <a:lnTo>
                        <a:pt x="75" y="90"/>
                      </a:lnTo>
                      <a:lnTo>
                        <a:pt x="77" y="90"/>
                      </a:lnTo>
                      <a:lnTo>
                        <a:pt x="167" y="85"/>
                      </a:lnTo>
                      <a:lnTo>
                        <a:pt x="172" y="85"/>
                      </a:lnTo>
                      <a:lnTo>
                        <a:pt x="176" y="83"/>
                      </a:lnTo>
                      <a:lnTo>
                        <a:pt x="181" y="83"/>
                      </a:lnTo>
                      <a:lnTo>
                        <a:pt x="185" y="83"/>
                      </a:lnTo>
                      <a:lnTo>
                        <a:pt x="191" y="82"/>
                      </a:lnTo>
                      <a:lnTo>
                        <a:pt x="196" y="82"/>
                      </a:lnTo>
                      <a:lnTo>
                        <a:pt x="201" y="80"/>
                      </a:lnTo>
                      <a:lnTo>
                        <a:pt x="205" y="80"/>
                      </a:lnTo>
                      <a:lnTo>
                        <a:pt x="204" y="79"/>
                      </a:lnTo>
                      <a:lnTo>
                        <a:pt x="177" y="52"/>
                      </a:lnTo>
                      <a:lnTo>
                        <a:pt x="153" y="25"/>
                      </a:lnTo>
                      <a:lnTo>
                        <a:pt x="137" y="4"/>
                      </a:lnTo>
                      <a:lnTo>
                        <a:pt x="125" y="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bd6d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3" name="Freeform 406"/>
                <p:cNvSpPr/>
                <p:nvPr/>
              </p:nvSpPr>
              <p:spPr>
                <a:xfrm>
                  <a:off x="6453000" y="3706920"/>
                  <a:ext cx="276480" cy="46440"/>
                </a:xfrm>
                <a:custGeom>
                  <a:avLst/>
                  <a:gdLst>
                    <a:gd name="textAreaLeft" fmla="*/ 0 w 276480"/>
                    <a:gd name="textAreaRight" fmla="*/ 276840 w 276480"/>
                    <a:gd name="textAreaTop" fmla="*/ 0 h 46440"/>
                    <a:gd name="textAreaBottom" fmla="*/ 46800 h 46440"/>
                  </a:gdLst>
                  <a:ahLst/>
                  <a:rect l="textAreaLeft" t="textAreaTop" r="textAreaRight" b="textAreaBottom"/>
                  <a:pathLst>
                    <a:path w="211" h="84">
                      <a:moveTo>
                        <a:pt x="0" y="8"/>
                      </a:moveTo>
                      <a:lnTo>
                        <a:pt x="16" y="29"/>
                      </a:lnTo>
                      <a:lnTo>
                        <a:pt x="40" y="56"/>
                      </a:lnTo>
                      <a:lnTo>
                        <a:pt x="67" y="83"/>
                      </a:lnTo>
                      <a:lnTo>
                        <a:pt x="68" y="84"/>
                      </a:lnTo>
                      <a:lnTo>
                        <a:pt x="70" y="84"/>
                      </a:lnTo>
                      <a:lnTo>
                        <a:pt x="72" y="84"/>
                      </a:lnTo>
                      <a:lnTo>
                        <a:pt x="74" y="83"/>
                      </a:lnTo>
                      <a:lnTo>
                        <a:pt x="75" y="83"/>
                      </a:lnTo>
                      <a:lnTo>
                        <a:pt x="77" y="83"/>
                      </a:lnTo>
                      <a:lnTo>
                        <a:pt x="79" y="83"/>
                      </a:lnTo>
                      <a:lnTo>
                        <a:pt x="81" y="83"/>
                      </a:lnTo>
                      <a:lnTo>
                        <a:pt x="83" y="83"/>
                      </a:lnTo>
                      <a:lnTo>
                        <a:pt x="211" y="56"/>
                      </a:lnTo>
                      <a:lnTo>
                        <a:pt x="204" y="51"/>
                      </a:lnTo>
                      <a:lnTo>
                        <a:pt x="178" y="32"/>
                      </a:lnTo>
                      <a:lnTo>
                        <a:pt x="155" y="11"/>
                      </a:lnTo>
                      <a:lnTo>
                        <a:pt x="141" y="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ced8d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4" name="Freeform 407"/>
                <p:cNvSpPr/>
                <p:nvPr/>
              </p:nvSpPr>
              <p:spPr>
                <a:xfrm>
                  <a:off x="6638400" y="3693600"/>
                  <a:ext cx="318600" cy="43200"/>
                </a:xfrm>
                <a:custGeom>
                  <a:avLst/>
                  <a:gdLst>
                    <a:gd name="textAreaLeft" fmla="*/ 0 w 318600"/>
                    <a:gd name="textAreaRight" fmla="*/ 318960 w 318600"/>
                    <a:gd name="textAreaTop" fmla="*/ 0 h 43200"/>
                    <a:gd name="textAreaBottom" fmla="*/ 43560 h 43200"/>
                  </a:gdLst>
                  <a:ahLst/>
                  <a:rect l="textAreaLeft" t="textAreaTop" r="textAreaRight" b="textAreaBottom"/>
                  <a:pathLst>
                    <a:path w="243" h="80">
                      <a:moveTo>
                        <a:pt x="0" y="24"/>
                      </a:moveTo>
                      <a:lnTo>
                        <a:pt x="14" y="35"/>
                      </a:lnTo>
                      <a:lnTo>
                        <a:pt x="37" y="56"/>
                      </a:lnTo>
                      <a:lnTo>
                        <a:pt x="63" y="75"/>
                      </a:lnTo>
                      <a:lnTo>
                        <a:pt x="70" y="80"/>
                      </a:lnTo>
                      <a:lnTo>
                        <a:pt x="165" y="60"/>
                      </a:lnTo>
                      <a:lnTo>
                        <a:pt x="243" y="37"/>
                      </a:lnTo>
                      <a:lnTo>
                        <a:pt x="228" y="32"/>
                      </a:lnTo>
                      <a:lnTo>
                        <a:pt x="205" y="23"/>
                      </a:lnTo>
                      <a:lnTo>
                        <a:pt x="182" y="12"/>
                      </a:lnTo>
                      <a:lnTo>
                        <a:pt x="160" y="0"/>
                      </a:lnTo>
                      <a:lnTo>
                        <a:pt x="56" y="20"/>
                      </a:lnTo>
                      <a:lnTo>
                        <a:pt x="0" y="24"/>
                      </a:lnTo>
                      <a:close/>
                    </a:path>
                  </a:pathLst>
                </a:custGeom>
                <a:solidFill>
                  <a:srgbClr val="d2dad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" bIns="-3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5" name="Freeform 408"/>
                <p:cNvSpPr/>
                <p:nvPr/>
              </p:nvSpPr>
              <p:spPr>
                <a:xfrm>
                  <a:off x="6847560" y="3567960"/>
                  <a:ext cx="752400" cy="145080"/>
                </a:xfrm>
                <a:custGeom>
                  <a:avLst/>
                  <a:gdLst>
                    <a:gd name="textAreaLeft" fmla="*/ 0 w 752400"/>
                    <a:gd name="textAreaRight" fmla="*/ 752760 w 752400"/>
                    <a:gd name="textAreaTop" fmla="*/ 0 h 145080"/>
                    <a:gd name="textAreaBottom" fmla="*/ 145440 h 145080"/>
                  </a:gdLst>
                  <a:ahLst/>
                  <a:rect l="textAreaLeft" t="textAreaTop" r="textAreaRight" b="textAreaBottom"/>
                  <a:pathLst>
                    <a:path w="575" h="261">
                      <a:moveTo>
                        <a:pt x="0" y="224"/>
                      </a:moveTo>
                      <a:lnTo>
                        <a:pt x="22" y="236"/>
                      </a:lnTo>
                      <a:lnTo>
                        <a:pt x="45" y="247"/>
                      </a:lnTo>
                      <a:lnTo>
                        <a:pt x="68" y="256"/>
                      </a:lnTo>
                      <a:lnTo>
                        <a:pt x="83" y="261"/>
                      </a:lnTo>
                      <a:lnTo>
                        <a:pt x="121" y="251"/>
                      </a:lnTo>
                      <a:lnTo>
                        <a:pt x="154" y="239"/>
                      </a:lnTo>
                      <a:lnTo>
                        <a:pt x="187" y="227"/>
                      </a:lnTo>
                      <a:lnTo>
                        <a:pt x="220" y="213"/>
                      </a:lnTo>
                      <a:lnTo>
                        <a:pt x="252" y="200"/>
                      </a:lnTo>
                      <a:lnTo>
                        <a:pt x="284" y="186"/>
                      </a:lnTo>
                      <a:lnTo>
                        <a:pt x="315" y="171"/>
                      </a:lnTo>
                      <a:lnTo>
                        <a:pt x="345" y="156"/>
                      </a:lnTo>
                      <a:lnTo>
                        <a:pt x="374" y="140"/>
                      </a:lnTo>
                      <a:lnTo>
                        <a:pt x="403" y="124"/>
                      </a:lnTo>
                      <a:lnTo>
                        <a:pt x="431" y="107"/>
                      </a:lnTo>
                      <a:lnTo>
                        <a:pt x="457" y="91"/>
                      </a:lnTo>
                      <a:lnTo>
                        <a:pt x="483" y="73"/>
                      </a:lnTo>
                      <a:lnTo>
                        <a:pt x="508" y="56"/>
                      </a:lnTo>
                      <a:lnTo>
                        <a:pt x="531" y="37"/>
                      </a:lnTo>
                      <a:lnTo>
                        <a:pt x="555" y="19"/>
                      </a:lnTo>
                      <a:lnTo>
                        <a:pt x="575" y="0"/>
                      </a:lnTo>
                      <a:lnTo>
                        <a:pt x="498" y="52"/>
                      </a:lnTo>
                      <a:lnTo>
                        <a:pt x="462" y="71"/>
                      </a:lnTo>
                      <a:lnTo>
                        <a:pt x="449" y="81"/>
                      </a:lnTo>
                      <a:lnTo>
                        <a:pt x="432" y="94"/>
                      </a:lnTo>
                      <a:lnTo>
                        <a:pt x="414" y="106"/>
                      </a:lnTo>
                      <a:lnTo>
                        <a:pt x="397" y="115"/>
                      </a:lnTo>
                      <a:lnTo>
                        <a:pt x="380" y="125"/>
                      </a:lnTo>
                      <a:lnTo>
                        <a:pt x="361" y="134"/>
                      </a:lnTo>
                      <a:lnTo>
                        <a:pt x="342" y="141"/>
                      </a:lnTo>
                      <a:lnTo>
                        <a:pt x="322" y="148"/>
                      </a:lnTo>
                      <a:lnTo>
                        <a:pt x="302" y="153"/>
                      </a:lnTo>
                      <a:lnTo>
                        <a:pt x="282" y="157"/>
                      </a:lnTo>
                      <a:lnTo>
                        <a:pt x="262" y="160"/>
                      </a:lnTo>
                      <a:lnTo>
                        <a:pt x="251" y="162"/>
                      </a:lnTo>
                      <a:lnTo>
                        <a:pt x="93" y="206"/>
                      </a:lnTo>
                      <a:lnTo>
                        <a:pt x="0" y="224"/>
                      </a:lnTo>
                      <a:close/>
                    </a:path>
                  </a:pathLst>
                </a:custGeom>
                <a:solidFill>
                  <a:srgbClr val="d5db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6" name="Freeform 409"/>
                <p:cNvSpPr/>
                <p:nvPr/>
              </p:nvSpPr>
              <p:spPr>
                <a:xfrm>
                  <a:off x="7176600" y="3608280"/>
                  <a:ext cx="274320" cy="50040"/>
                </a:xfrm>
                <a:custGeom>
                  <a:avLst/>
                  <a:gdLst>
                    <a:gd name="textAreaLeft" fmla="*/ 0 w 274320"/>
                    <a:gd name="textAreaRight" fmla="*/ 274680 w 274320"/>
                    <a:gd name="textAreaTop" fmla="*/ 0 h 50040"/>
                    <a:gd name="textAreaBottom" fmla="*/ 50400 h 50040"/>
                  </a:gdLst>
                  <a:ahLst/>
                  <a:rect l="textAreaLeft" t="textAreaTop" r="textAreaRight" b="textAreaBottom"/>
                  <a:pathLst>
                    <a:path w="211" h="91">
                      <a:moveTo>
                        <a:pt x="0" y="91"/>
                      </a:moveTo>
                      <a:lnTo>
                        <a:pt x="11" y="89"/>
                      </a:lnTo>
                      <a:lnTo>
                        <a:pt x="31" y="86"/>
                      </a:lnTo>
                      <a:lnTo>
                        <a:pt x="51" y="82"/>
                      </a:lnTo>
                      <a:lnTo>
                        <a:pt x="71" y="77"/>
                      </a:lnTo>
                      <a:lnTo>
                        <a:pt x="91" y="70"/>
                      </a:lnTo>
                      <a:lnTo>
                        <a:pt x="110" y="63"/>
                      </a:lnTo>
                      <a:lnTo>
                        <a:pt x="129" y="54"/>
                      </a:lnTo>
                      <a:lnTo>
                        <a:pt x="146" y="44"/>
                      </a:lnTo>
                      <a:lnTo>
                        <a:pt x="163" y="35"/>
                      </a:lnTo>
                      <a:lnTo>
                        <a:pt x="181" y="23"/>
                      </a:lnTo>
                      <a:lnTo>
                        <a:pt x="198" y="10"/>
                      </a:lnTo>
                      <a:lnTo>
                        <a:pt x="211" y="0"/>
                      </a:lnTo>
                      <a:lnTo>
                        <a:pt x="71" y="72"/>
                      </a:lnTo>
                      <a:lnTo>
                        <a:pt x="0" y="91"/>
                      </a:lnTo>
                      <a:close/>
                    </a:path>
                  </a:pathLst>
                </a:custGeom>
                <a:solidFill>
                  <a:srgbClr val="d8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7" name="Freeform 410"/>
                <p:cNvSpPr/>
                <p:nvPr/>
              </p:nvSpPr>
              <p:spPr>
                <a:xfrm>
                  <a:off x="5352120" y="3325320"/>
                  <a:ext cx="475920" cy="221040"/>
                </a:xfrm>
                <a:custGeom>
                  <a:avLst/>
                  <a:gdLst>
                    <a:gd name="textAreaLeft" fmla="*/ 0 w 475920"/>
                    <a:gd name="textAreaRight" fmla="*/ 476280 w 475920"/>
                    <a:gd name="textAreaTop" fmla="*/ 0 h 221040"/>
                    <a:gd name="textAreaBottom" fmla="*/ 221400 h 221040"/>
                  </a:gdLst>
                  <a:ahLst/>
                  <a:rect l="textAreaLeft" t="textAreaTop" r="textAreaRight" b="textAreaBottom"/>
                  <a:pathLst>
                    <a:path w="363" h="396">
                      <a:moveTo>
                        <a:pt x="0" y="396"/>
                      </a:moveTo>
                      <a:lnTo>
                        <a:pt x="0" y="389"/>
                      </a:lnTo>
                      <a:lnTo>
                        <a:pt x="0" y="355"/>
                      </a:lnTo>
                      <a:lnTo>
                        <a:pt x="0" y="320"/>
                      </a:lnTo>
                      <a:lnTo>
                        <a:pt x="2" y="284"/>
                      </a:lnTo>
                      <a:lnTo>
                        <a:pt x="3" y="267"/>
                      </a:lnTo>
                      <a:lnTo>
                        <a:pt x="6" y="249"/>
                      </a:lnTo>
                      <a:lnTo>
                        <a:pt x="9" y="233"/>
                      </a:lnTo>
                      <a:lnTo>
                        <a:pt x="14" y="215"/>
                      </a:lnTo>
                      <a:lnTo>
                        <a:pt x="19" y="199"/>
                      </a:lnTo>
                      <a:lnTo>
                        <a:pt x="25" y="184"/>
                      </a:lnTo>
                      <a:lnTo>
                        <a:pt x="33" y="168"/>
                      </a:lnTo>
                      <a:lnTo>
                        <a:pt x="43" y="153"/>
                      </a:lnTo>
                      <a:lnTo>
                        <a:pt x="47" y="147"/>
                      </a:lnTo>
                      <a:lnTo>
                        <a:pt x="54" y="143"/>
                      </a:lnTo>
                      <a:lnTo>
                        <a:pt x="63" y="137"/>
                      </a:lnTo>
                      <a:lnTo>
                        <a:pt x="79" y="130"/>
                      </a:lnTo>
                      <a:lnTo>
                        <a:pt x="97" y="119"/>
                      </a:lnTo>
                      <a:lnTo>
                        <a:pt x="123" y="105"/>
                      </a:lnTo>
                      <a:lnTo>
                        <a:pt x="155" y="88"/>
                      </a:lnTo>
                      <a:lnTo>
                        <a:pt x="196" y="63"/>
                      </a:lnTo>
                      <a:lnTo>
                        <a:pt x="219" y="51"/>
                      </a:lnTo>
                      <a:lnTo>
                        <a:pt x="241" y="40"/>
                      </a:lnTo>
                      <a:lnTo>
                        <a:pt x="262" y="31"/>
                      </a:lnTo>
                      <a:lnTo>
                        <a:pt x="282" y="21"/>
                      </a:lnTo>
                      <a:lnTo>
                        <a:pt x="303" y="14"/>
                      </a:lnTo>
                      <a:lnTo>
                        <a:pt x="324" y="9"/>
                      </a:lnTo>
                      <a:lnTo>
                        <a:pt x="344" y="4"/>
                      </a:lnTo>
                      <a:lnTo>
                        <a:pt x="363" y="0"/>
                      </a:lnTo>
                      <a:lnTo>
                        <a:pt x="344" y="4"/>
                      </a:lnTo>
                      <a:lnTo>
                        <a:pt x="324" y="9"/>
                      </a:lnTo>
                      <a:lnTo>
                        <a:pt x="303" y="14"/>
                      </a:lnTo>
                      <a:lnTo>
                        <a:pt x="282" y="21"/>
                      </a:lnTo>
                      <a:lnTo>
                        <a:pt x="262" y="31"/>
                      </a:lnTo>
                      <a:lnTo>
                        <a:pt x="241" y="40"/>
                      </a:lnTo>
                      <a:lnTo>
                        <a:pt x="219" y="51"/>
                      </a:lnTo>
                      <a:lnTo>
                        <a:pt x="196" y="63"/>
                      </a:lnTo>
                      <a:lnTo>
                        <a:pt x="155" y="88"/>
                      </a:lnTo>
                      <a:lnTo>
                        <a:pt x="123" y="105"/>
                      </a:lnTo>
                      <a:lnTo>
                        <a:pt x="97" y="119"/>
                      </a:lnTo>
                      <a:lnTo>
                        <a:pt x="79" y="130"/>
                      </a:lnTo>
                      <a:lnTo>
                        <a:pt x="63" y="137"/>
                      </a:lnTo>
                      <a:lnTo>
                        <a:pt x="54" y="143"/>
                      </a:lnTo>
                      <a:lnTo>
                        <a:pt x="47" y="147"/>
                      </a:lnTo>
                      <a:lnTo>
                        <a:pt x="43" y="153"/>
                      </a:lnTo>
                      <a:lnTo>
                        <a:pt x="33" y="168"/>
                      </a:lnTo>
                      <a:lnTo>
                        <a:pt x="25" y="184"/>
                      </a:lnTo>
                      <a:lnTo>
                        <a:pt x="19" y="199"/>
                      </a:lnTo>
                      <a:lnTo>
                        <a:pt x="14" y="215"/>
                      </a:lnTo>
                      <a:lnTo>
                        <a:pt x="9" y="233"/>
                      </a:lnTo>
                      <a:lnTo>
                        <a:pt x="6" y="249"/>
                      </a:lnTo>
                      <a:lnTo>
                        <a:pt x="3" y="267"/>
                      </a:lnTo>
                      <a:lnTo>
                        <a:pt x="2" y="284"/>
                      </a:lnTo>
                      <a:lnTo>
                        <a:pt x="0" y="320"/>
                      </a:lnTo>
                      <a:lnTo>
                        <a:pt x="0" y="355"/>
                      </a:lnTo>
                      <a:lnTo>
                        <a:pt x="0" y="389"/>
                      </a:lnTo>
                      <a:lnTo>
                        <a:pt x="0" y="396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8" name="Freeform 411"/>
                <p:cNvSpPr/>
                <p:nvPr/>
              </p:nvSpPr>
              <p:spPr>
                <a:xfrm>
                  <a:off x="7001640" y="3567960"/>
                  <a:ext cx="598320" cy="140040"/>
                </a:xfrm>
                <a:custGeom>
                  <a:avLst/>
                  <a:gdLst>
                    <a:gd name="textAreaLeft" fmla="*/ 0 w 598320"/>
                    <a:gd name="textAreaRight" fmla="*/ 598680 w 598320"/>
                    <a:gd name="textAreaTop" fmla="*/ 0 h 140040"/>
                    <a:gd name="textAreaBottom" fmla="*/ 140400 h 140040"/>
                  </a:gdLst>
                  <a:ahLst/>
                  <a:rect l="textAreaLeft" t="textAreaTop" r="textAreaRight" b="textAreaBottom"/>
                  <a:pathLst>
                    <a:path w="457" h="251">
                      <a:moveTo>
                        <a:pt x="457" y="0"/>
                      </a:moveTo>
                      <a:lnTo>
                        <a:pt x="456" y="1"/>
                      </a:lnTo>
                      <a:lnTo>
                        <a:pt x="423" y="30"/>
                      </a:lnTo>
                      <a:lnTo>
                        <a:pt x="387" y="57"/>
                      </a:lnTo>
                      <a:lnTo>
                        <a:pt x="349" y="84"/>
                      </a:lnTo>
                      <a:lnTo>
                        <a:pt x="308" y="110"/>
                      </a:lnTo>
                      <a:lnTo>
                        <a:pt x="265" y="136"/>
                      </a:lnTo>
                      <a:lnTo>
                        <a:pt x="221" y="159"/>
                      </a:lnTo>
                      <a:lnTo>
                        <a:pt x="175" y="182"/>
                      </a:lnTo>
                      <a:lnTo>
                        <a:pt x="126" y="204"/>
                      </a:lnTo>
                      <a:lnTo>
                        <a:pt x="78" y="223"/>
                      </a:lnTo>
                      <a:lnTo>
                        <a:pt x="28" y="242"/>
                      </a:lnTo>
                      <a:lnTo>
                        <a:pt x="0" y="251"/>
                      </a:lnTo>
                      <a:lnTo>
                        <a:pt x="28" y="242"/>
                      </a:lnTo>
                      <a:lnTo>
                        <a:pt x="78" y="223"/>
                      </a:lnTo>
                      <a:lnTo>
                        <a:pt x="126" y="204"/>
                      </a:lnTo>
                      <a:lnTo>
                        <a:pt x="175" y="182"/>
                      </a:lnTo>
                      <a:lnTo>
                        <a:pt x="221" y="159"/>
                      </a:lnTo>
                      <a:lnTo>
                        <a:pt x="265" y="136"/>
                      </a:lnTo>
                      <a:lnTo>
                        <a:pt x="308" y="110"/>
                      </a:lnTo>
                      <a:lnTo>
                        <a:pt x="349" y="84"/>
                      </a:lnTo>
                      <a:lnTo>
                        <a:pt x="387" y="57"/>
                      </a:lnTo>
                      <a:lnTo>
                        <a:pt x="423" y="30"/>
                      </a:lnTo>
                      <a:lnTo>
                        <a:pt x="456" y="1"/>
                      </a:lnTo>
                      <a:lnTo>
                        <a:pt x="457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9" name="Freeform 412"/>
                <p:cNvSpPr/>
                <p:nvPr/>
              </p:nvSpPr>
              <p:spPr>
                <a:xfrm>
                  <a:off x="6491880" y="3751920"/>
                  <a:ext cx="70200" cy="3240"/>
                </a:xfrm>
                <a:custGeom>
                  <a:avLst/>
                  <a:gdLst>
                    <a:gd name="textAreaLeft" fmla="*/ 0 w 70200"/>
                    <a:gd name="textAreaRight" fmla="*/ 70560 w 70200"/>
                    <a:gd name="textAreaTop" fmla="*/ 0 h 3240"/>
                    <a:gd name="textAreaBottom" fmla="*/ 3600 h 3240"/>
                  </a:gdLst>
                  <a:ahLst/>
                  <a:rect l="textAreaLeft" t="textAreaTop" r="textAreaRight" b="textAreaBottom"/>
                  <a:pathLst>
                    <a:path w="53" h="6">
                      <a:moveTo>
                        <a:pt x="53" y="0"/>
                      </a:moveTo>
                      <a:lnTo>
                        <a:pt x="52" y="0"/>
                      </a:lnTo>
                      <a:lnTo>
                        <a:pt x="0" y="6"/>
                      </a:lnTo>
                      <a:lnTo>
                        <a:pt x="52" y="0"/>
                      </a:lnTo>
                      <a:lnTo>
                        <a:pt x="53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0" name="Freeform 413"/>
                <p:cNvSpPr/>
                <p:nvPr/>
              </p:nvSpPr>
              <p:spPr>
                <a:xfrm>
                  <a:off x="5658120" y="3671640"/>
                  <a:ext cx="723960" cy="87120"/>
                </a:xfrm>
                <a:custGeom>
                  <a:avLst/>
                  <a:gdLst>
                    <a:gd name="textAreaLeft" fmla="*/ 0 w 723960"/>
                    <a:gd name="textAreaRight" fmla="*/ 724320 w 723960"/>
                    <a:gd name="textAreaTop" fmla="*/ 0 h 87120"/>
                    <a:gd name="textAreaBottom" fmla="*/ 87120 h 87120"/>
                  </a:gdLst>
                  <a:ahLst/>
                  <a:rect l="textAreaLeft" t="textAreaTop" r="textAreaRight" b="textAreaBottom"/>
                  <a:pathLst>
                    <a:path w="552" h="155">
                      <a:moveTo>
                        <a:pt x="552" y="155"/>
                      </a:moveTo>
                      <a:lnTo>
                        <a:pt x="537" y="155"/>
                      </a:lnTo>
                      <a:lnTo>
                        <a:pt x="487" y="155"/>
                      </a:lnTo>
                      <a:lnTo>
                        <a:pt x="440" y="152"/>
                      </a:lnTo>
                      <a:lnTo>
                        <a:pt x="394" y="148"/>
                      </a:lnTo>
                      <a:lnTo>
                        <a:pt x="350" y="141"/>
                      </a:lnTo>
                      <a:lnTo>
                        <a:pt x="307" y="132"/>
                      </a:lnTo>
                      <a:lnTo>
                        <a:pt x="286" y="126"/>
                      </a:lnTo>
                      <a:lnTo>
                        <a:pt x="266" y="120"/>
                      </a:lnTo>
                      <a:lnTo>
                        <a:pt x="247" y="113"/>
                      </a:lnTo>
                      <a:lnTo>
                        <a:pt x="227" y="106"/>
                      </a:lnTo>
                      <a:lnTo>
                        <a:pt x="209" y="98"/>
                      </a:lnTo>
                      <a:lnTo>
                        <a:pt x="191" y="90"/>
                      </a:lnTo>
                      <a:lnTo>
                        <a:pt x="175" y="80"/>
                      </a:lnTo>
                      <a:lnTo>
                        <a:pt x="159" y="71"/>
                      </a:lnTo>
                      <a:lnTo>
                        <a:pt x="149" y="68"/>
                      </a:lnTo>
                      <a:lnTo>
                        <a:pt x="139" y="65"/>
                      </a:lnTo>
                      <a:lnTo>
                        <a:pt x="128" y="61"/>
                      </a:lnTo>
                      <a:lnTo>
                        <a:pt x="118" y="56"/>
                      </a:lnTo>
                      <a:lnTo>
                        <a:pt x="95" y="45"/>
                      </a:lnTo>
                      <a:lnTo>
                        <a:pt x="71" y="32"/>
                      </a:lnTo>
                      <a:lnTo>
                        <a:pt x="45" y="19"/>
                      </a:lnTo>
                      <a:lnTo>
                        <a:pt x="21" y="8"/>
                      </a:lnTo>
                      <a:lnTo>
                        <a:pt x="8" y="3"/>
                      </a:lnTo>
                      <a:lnTo>
                        <a:pt x="0" y="0"/>
                      </a:lnTo>
                      <a:lnTo>
                        <a:pt x="8" y="3"/>
                      </a:lnTo>
                      <a:lnTo>
                        <a:pt x="21" y="8"/>
                      </a:lnTo>
                      <a:lnTo>
                        <a:pt x="45" y="19"/>
                      </a:lnTo>
                      <a:lnTo>
                        <a:pt x="71" y="32"/>
                      </a:lnTo>
                      <a:lnTo>
                        <a:pt x="95" y="45"/>
                      </a:lnTo>
                      <a:lnTo>
                        <a:pt x="118" y="56"/>
                      </a:lnTo>
                      <a:lnTo>
                        <a:pt x="128" y="61"/>
                      </a:lnTo>
                      <a:lnTo>
                        <a:pt x="139" y="65"/>
                      </a:lnTo>
                      <a:lnTo>
                        <a:pt x="149" y="68"/>
                      </a:lnTo>
                      <a:lnTo>
                        <a:pt x="159" y="71"/>
                      </a:lnTo>
                      <a:lnTo>
                        <a:pt x="175" y="80"/>
                      </a:lnTo>
                      <a:lnTo>
                        <a:pt x="191" y="90"/>
                      </a:lnTo>
                      <a:lnTo>
                        <a:pt x="209" y="98"/>
                      </a:lnTo>
                      <a:lnTo>
                        <a:pt x="227" y="106"/>
                      </a:lnTo>
                      <a:lnTo>
                        <a:pt x="247" y="113"/>
                      </a:lnTo>
                      <a:lnTo>
                        <a:pt x="266" y="120"/>
                      </a:lnTo>
                      <a:lnTo>
                        <a:pt x="286" y="126"/>
                      </a:lnTo>
                      <a:lnTo>
                        <a:pt x="307" y="132"/>
                      </a:lnTo>
                      <a:lnTo>
                        <a:pt x="350" y="141"/>
                      </a:lnTo>
                      <a:lnTo>
                        <a:pt x="394" y="148"/>
                      </a:lnTo>
                      <a:lnTo>
                        <a:pt x="440" y="152"/>
                      </a:lnTo>
                      <a:lnTo>
                        <a:pt x="487" y="155"/>
                      </a:lnTo>
                      <a:lnTo>
                        <a:pt x="537" y="155"/>
                      </a:lnTo>
                      <a:lnTo>
                        <a:pt x="552" y="155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1" name="Freeform 414"/>
                <p:cNvSpPr/>
                <p:nvPr/>
              </p:nvSpPr>
              <p:spPr>
                <a:xfrm>
                  <a:off x="5386680" y="3567960"/>
                  <a:ext cx="200880" cy="84960"/>
                </a:xfrm>
                <a:custGeom>
                  <a:avLst/>
                  <a:gdLst>
                    <a:gd name="textAreaLeft" fmla="*/ 0 w 200880"/>
                    <a:gd name="textAreaRight" fmla="*/ 201240 w 200880"/>
                    <a:gd name="textAreaTop" fmla="*/ 0 h 84960"/>
                    <a:gd name="textAreaBottom" fmla="*/ 85320 h 84960"/>
                  </a:gdLst>
                  <a:ahLst/>
                  <a:rect l="textAreaLeft" t="textAreaTop" r="textAreaRight" b="textAreaBottom"/>
                  <a:pathLst>
                    <a:path w="153" h="151">
                      <a:moveTo>
                        <a:pt x="153" y="151"/>
                      </a:moveTo>
                      <a:lnTo>
                        <a:pt x="151" y="150"/>
                      </a:lnTo>
                      <a:lnTo>
                        <a:pt x="131" y="132"/>
                      </a:lnTo>
                      <a:lnTo>
                        <a:pt x="112" y="113"/>
                      </a:lnTo>
                      <a:lnTo>
                        <a:pt x="91" y="94"/>
                      </a:lnTo>
                      <a:lnTo>
                        <a:pt x="73" y="75"/>
                      </a:lnTo>
                      <a:lnTo>
                        <a:pt x="65" y="66"/>
                      </a:lnTo>
                      <a:lnTo>
                        <a:pt x="58" y="56"/>
                      </a:lnTo>
                      <a:lnTo>
                        <a:pt x="54" y="48"/>
                      </a:lnTo>
                      <a:lnTo>
                        <a:pt x="49" y="38"/>
                      </a:lnTo>
                      <a:lnTo>
                        <a:pt x="46" y="38"/>
                      </a:lnTo>
                      <a:lnTo>
                        <a:pt x="42" y="37"/>
                      </a:lnTo>
                      <a:lnTo>
                        <a:pt x="39" y="34"/>
                      </a:lnTo>
                      <a:lnTo>
                        <a:pt x="35" y="32"/>
                      </a:lnTo>
                      <a:lnTo>
                        <a:pt x="28" y="26"/>
                      </a:lnTo>
                      <a:lnTo>
                        <a:pt x="22" y="19"/>
                      </a:lnTo>
                      <a:lnTo>
                        <a:pt x="15" y="13"/>
                      </a:lnTo>
                      <a:lnTo>
                        <a:pt x="10" y="6"/>
                      </a:lnTo>
                      <a:lnTo>
                        <a:pt x="6" y="3"/>
                      </a:lnTo>
                      <a:lnTo>
                        <a:pt x="3" y="2"/>
                      </a:lnTo>
                      <a:lnTo>
                        <a:pt x="0" y="0"/>
                      </a:lnTo>
                      <a:lnTo>
                        <a:pt x="3" y="2"/>
                      </a:lnTo>
                      <a:lnTo>
                        <a:pt x="6" y="3"/>
                      </a:lnTo>
                      <a:lnTo>
                        <a:pt x="10" y="6"/>
                      </a:lnTo>
                      <a:lnTo>
                        <a:pt x="15" y="13"/>
                      </a:lnTo>
                      <a:lnTo>
                        <a:pt x="22" y="19"/>
                      </a:lnTo>
                      <a:lnTo>
                        <a:pt x="28" y="26"/>
                      </a:lnTo>
                      <a:lnTo>
                        <a:pt x="35" y="32"/>
                      </a:lnTo>
                      <a:lnTo>
                        <a:pt x="39" y="34"/>
                      </a:lnTo>
                      <a:lnTo>
                        <a:pt x="42" y="37"/>
                      </a:lnTo>
                      <a:lnTo>
                        <a:pt x="46" y="38"/>
                      </a:lnTo>
                      <a:lnTo>
                        <a:pt x="49" y="38"/>
                      </a:lnTo>
                      <a:lnTo>
                        <a:pt x="54" y="48"/>
                      </a:lnTo>
                      <a:lnTo>
                        <a:pt x="58" y="56"/>
                      </a:lnTo>
                      <a:lnTo>
                        <a:pt x="65" y="66"/>
                      </a:lnTo>
                      <a:lnTo>
                        <a:pt x="73" y="75"/>
                      </a:lnTo>
                      <a:lnTo>
                        <a:pt x="91" y="94"/>
                      </a:lnTo>
                      <a:lnTo>
                        <a:pt x="112" y="113"/>
                      </a:lnTo>
                      <a:lnTo>
                        <a:pt x="131" y="132"/>
                      </a:lnTo>
                      <a:lnTo>
                        <a:pt x="151" y="150"/>
                      </a:lnTo>
                      <a:lnTo>
                        <a:pt x="153" y="151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2" name="Freeform 415"/>
                <p:cNvSpPr/>
                <p:nvPr/>
              </p:nvSpPr>
              <p:spPr>
                <a:xfrm>
                  <a:off x="5365440" y="3546360"/>
                  <a:ext cx="10440" cy="16560"/>
                </a:xfrm>
                <a:custGeom>
                  <a:avLst/>
                  <a:gdLst>
                    <a:gd name="textAreaLeft" fmla="*/ 0 w 10440"/>
                    <a:gd name="textAreaRight" fmla="*/ 10800 w 10440"/>
                    <a:gd name="textAreaTop" fmla="*/ 0 h 16560"/>
                    <a:gd name="textAreaBottom" fmla="*/ 16920 h 16560"/>
                  </a:gdLst>
                  <a:ahLst/>
                  <a:rect l="textAreaLeft" t="textAreaTop" r="textAreaRight" b="textAreaBottom"/>
                  <a:pathLst>
                    <a:path w="8" h="29">
                      <a:moveTo>
                        <a:pt x="8" y="29"/>
                      </a:moveTo>
                      <a:lnTo>
                        <a:pt x="7" y="24"/>
                      </a:lnTo>
                      <a:lnTo>
                        <a:pt x="5" y="19"/>
                      </a:lnTo>
                      <a:lnTo>
                        <a:pt x="4" y="15"/>
                      </a:lnTo>
                      <a:lnTo>
                        <a:pt x="1" y="10"/>
                      </a:lnTo>
                      <a:lnTo>
                        <a:pt x="0" y="5"/>
                      </a:lnTo>
                      <a:lnTo>
                        <a:pt x="0" y="0"/>
                      </a:lnTo>
                      <a:lnTo>
                        <a:pt x="0" y="5"/>
                      </a:lnTo>
                      <a:lnTo>
                        <a:pt x="1" y="10"/>
                      </a:lnTo>
                      <a:lnTo>
                        <a:pt x="3" y="14"/>
                      </a:lnTo>
                      <a:lnTo>
                        <a:pt x="3" y="18"/>
                      </a:lnTo>
                      <a:lnTo>
                        <a:pt x="3" y="19"/>
                      </a:lnTo>
                      <a:lnTo>
                        <a:pt x="3" y="18"/>
                      </a:lnTo>
                      <a:lnTo>
                        <a:pt x="3" y="14"/>
                      </a:lnTo>
                      <a:lnTo>
                        <a:pt x="1" y="10"/>
                      </a:lnTo>
                      <a:lnTo>
                        <a:pt x="0" y="5"/>
                      </a:lnTo>
                      <a:lnTo>
                        <a:pt x="0" y="0"/>
                      </a:lnTo>
                      <a:lnTo>
                        <a:pt x="0" y="5"/>
                      </a:lnTo>
                      <a:lnTo>
                        <a:pt x="1" y="10"/>
                      </a:lnTo>
                      <a:lnTo>
                        <a:pt x="4" y="15"/>
                      </a:lnTo>
                      <a:lnTo>
                        <a:pt x="5" y="19"/>
                      </a:lnTo>
                      <a:lnTo>
                        <a:pt x="7" y="24"/>
                      </a:lnTo>
                      <a:lnTo>
                        <a:pt x="8" y="29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3" name="Freeform 416"/>
                <p:cNvSpPr/>
                <p:nvPr/>
              </p:nvSpPr>
              <p:spPr>
                <a:xfrm>
                  <a:off x="7182000" y="3576240"/>
                  <a:ext cx="175320" cy="63000"/>
                </a:xfrm>
                <a:custGeom>
                  <a:avLst/>
                  <a:gdLst>
                    <a:gd name="textAreaLeft" fmla="*/ 0 w 175320"/>
                    <a:gd name="textAreaRight" fmla="*/ 175680 w 175320"/>
                    <a:gd name="textAreaTop" fmla="*/ 0 h 63000"/>
                    <a:gd name="textAreaBottom" fmla="*/ 63360 h 63000"/>
                  </a:gdLst>
                  <a:ahLst/>
                  <a:rect l="textAreaLeft" t="textAreaTop" r="textAreaRight" b="textAreaBottom"/>
                  <a:pathLst>
                    <a:path w="133" h="115">
                      <a:moveTo>
                        <a:pt x="32" y="0"/>
                      </a:moveTo>
                      <a:lnTo>
                        <a:pt x="69" y="2"/>
                      </a:lnTo>
                      <a:lnTo>
                        <a:pt x="97" y="2"/>
                      </a:lnTo>
                      <a:lnTo>
                        <a:pt x="116" y="2"/>
                      </a:lnTo>
                      <a:lnTo>
                        <a:pt x="129" y="2"/>
                      </a:lnTo>
                      <a:lnTo>
                        <a:pt x="132" y="5"/>
                      </a:lnTo>
                      <a:lnTo>
                        <a:pt x="133" y="8"/>
                      </a:lnTo>
                      <a:lnTo>
                        <a:pt x="133" y="12"/>
                      </a:lnTo>
                      <a:lnTo>
                        <a:pt x="131" y="17"/>
                      </a:lnTo>
                      <a:lnTo>
                        <a:pt x="123" y="36"/>
                      </a:lnTo>
                      <a:lnTo>
                        <a:pt x="109" y="63"/>
                      </a:lnTo>
                      <a:lnTo>
                        <a:pt x="32" y="63"/>
                      </a:lnTo>
                      <a:lnTo>
                        <a:pt x="31" y="70"/>
                      </a:lnTo>
                      <a:lnTo>
                        <a:pt x="28" y="77"/>
                      </a:lnTo>
                      <a:lnTo>
                        <a:pt x="22" y="85"/>
                      </a:lnTo>
                      <a:lnTo>
                        <a:pt x="16" y="95"/>
                      </a:lnTo>
                      <a:lnTo>
                        <a:pt x="10" y="103"/>
                      </a:lnTo>
                      <a:lnTo>
                        <a:pt x="5" y="110"/>
                      </a:lnTo>
                      <a:lnTo>
                        <a:pt x="1" y="114"/>
                      </a:lnTo>
                      <a:lnTo>
                        <a:pt x="0" y="115"/>
                      </a:lnTo>
                      <a:lnTo>
                        <a:pt x="0" y="63"/>
                      </a:lnTo>
                      <a:lnTo>
                        <a:pt x="5" y="62"/>
                      </a:lnTo>
                      <a:lnTo>
                        <a:pt x="9" y="58"/>
                      </a:lnTo>
                      <a:lnTo>
                        <a:pt x="15" y="50"/>
                      </a:lnTo>
                      <a:lnTo>
                        <a:pt x="20" y="42"/>
                      </a:lnTo>
                      <a:lnTo>
                        <a:pt x="25" y="31"/>
                      </a:lnTo>
                      <a:lnTo>
                        <a:pt x="29" y="20"/>
                      </a:lnTo>
                      <a:lnTo>
                        <a:pt x="31" y="9"/>
                      </a:lnTo>
                      <a:lnTo>
                        <a:pt x="32" y="0"/>
                      </a:lnTo>
                      <a:close/>
                    </a:path>
                  </a:pathLst>
                </a:custGeom>
                <a:solidFill>
                  <a:srgbClr val="f3f3f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4" name="Freeform 417"/>
                <p:cNvSpPr/>
                <p:nvPr/>
              </p:nvSpPr>
              <p:spPr>
                <a:xfrm>
                  <a:off x="7182000" y="3576240"/>
                  <a:ext cx="135720" cy="63000"/>
                </a:xfrm>
                <a:custGeom>
                  <a:avLst/>
                  <a:gdLst>
                    <a:gd name="textAreaLeft" fmla="*/ 0 w 135720"/>
                    <a:gd name="textAreaRight" fmla="*/ 136080 w 135720"/>
                    <a:gd name="textAreaTop" fmla="*/ 0 h 63000"/>
                    <a:gd name="textAreaBottom" fmla="*/ 63360 h 63000"/>
                  </a:gdLst>
                  <a:ahLst/>
                  <a:rect l="textAreaLeft" t="textAreaTop" r="textAreaRight" b="textAreaBottom"/>
                  <a:pathLst>
                    <a:path w="103" h="115">
                      <a:moveTo>
                        <a:pt x="89" y="2"/>
                      </a:moveTo>
                      <a:lnTo>
                        <a:pt x="103" y="63"/>
                      </a:lnTo>
                      <a:lnTo>
                        <a:pt x="32" y="63"/>
                      </a:lnTo>
                      <a:lnTo>
                        <a:pt x="31" y="70"/>
                      </a:lnTo>
                      <a:lnTo>
                        <a:pt x="28" y="77"/>
                      </a:lnTo>
                      <a:lnTo>
                        <a:pt x="22" y="85"/>
                      </a:lnTo>
                      <a:lnTo>
                        <a:pt x="16" y="95"/>
                      </a:lnTo>
                      <a:lnTo>
                        <a:pt x="10" y="103"/>
                      </a:lnTo>
                      <a:lnTo>
                        <a:pt x="5" y="110"/>
                      </a:lnTo>
                      <a:lnTo>
                        <a:pt x="1" y="114"/>
                      </a:lnTo>
                      <a:lnTo>
                        <a:pt x="0" y="115"/>
                      </a:lnTo>
                      <a:lnTo>
                        <a:pt x="0" y="63"/>
                      </a:lnTo>
                      <a:lnTo>
                        <a:pt x="5" y="62"/>
                      </a:lnTo>
                      <a:lnTo>
                        <a:pt x="9" y="58"/>
                      </a:lnTo>
                      <a:lnTo>
                        <a:pt x="15" y="50"/>
                      </a:lnTo>
                      <a:lnTo>
                        <a:pt x="20" y="42"/>
                      </a:lnTo>
                      <a:lnTo>
                        <a:pt x="25" y="31"/>
                      </a:lnTo>
                      <a:lnTo>
                        <a:pt x="29" y="20"/>
                      </a:lnTo>
                      <a:lnTo>
                        <a:pt x="31" y="9"/>
                      </a:lnTo>
                      <a:lnTo>
                        <a:pt x="32" y="0"/>
                      </a:lnTo>
                      <a:lnTo>
                        <a:pt x="41" y="1"/>
                      </a:lnTo>
                      <a:lnTo>
                        <a:pt x="49" y="1"/>
                      </a:lnTo>
                      <a:lnTo>
                        <a:pt x="57" y="2"/>
                      </a:lnTo>
                      <a:lnTo>
                        <a:pt x="64" y="2"/>
                      </a:lnTo>
                      <a:lnTo>
                        <a:pt x="71" y="2"/>
                      </a:lnTo>
                      <a:lnTo>
                        <a:pt x="76" y="2"/>
                      </a:lnTo>
                      <a:lnTo>
                        <a:pt x="83" y="2"/>
                      </a:lnTo>
                      <a:lnTo>
                        <a:pt x="89" y="2"/>
                      </a:lnTo>
                      <a:close/>
                    </a:path>
                  </a:pathLst>
                </a:custGeom>
                <a:solidFill>
                  <a:srgbClr val="f2e1c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5" name="Freeform 418"/>
                <p:cNvSpPr/>
                <p:nvPr/>
              </p:nvSpPr>
              <p:spPr>
                <a:xfrm>
                  <a:off x="7299720" y="3576240"/>
                  <a:ext cx="57240" cy="34560"/>
                </a:xfrm>
                <a:custGeom>
                  <a:avLst/>
                  <a:gdLst>
                    <a:gd name="textAreaLeft" fmla="*/ 0 w 57240"/>
                    <a:gd name="textAreaRight" fmla="*/ 57600 w 57240"/>
                    <a:gd name="textAreaTop" fmla="*/ 0 h 34560"/>
                    <a:gd name="textAreaBottom" fmla="*/ 34920 h 34560"/>
                  </a:gdLst>
                  <a:ahLst/>
                  <a:rect l="textAreaLeft" t="textAreaTop" r="textAreaRight" b="textAreaBottom"/>
                  <a:pathLst>
                    <a:path w="44" h="61">
                      <a:moveTo>
                        <a:pt x="14" y="61"/>
                      </a:moveTo>
                      <a:lnTo>
                        <a:pt x="0" y="0"/>
                      </a:lnTo>
                      <a:lnTo>
                        <a:pt x="18" y="0"/>
                      </a:lnTo>
                      <a:lnTo>
                        <a:pt x="31" y="0"/>
                      </a:lnTo>
                      <a:lnTo>
                        <a:pt x="36" y="0"/>
                      </a:lnTo>
                      <a:lnTo>
                        <a:pt x="40" y="0"/>
                      </a:lnTo>
                      <a:lnTo>
                        <a:pt x="42" y="2"/>
                      </a:lnTo>
                      <a:lnTo>
                        <a:pt x="44" y="4"/>
                      </a:lnTo>
                      <a:lnTo>
                        <a:pt x="44" y="7"/>
                      </a:lnTo>
                      <a:lnTo>
                        <a:pt x="43" y="11"/>
                      </a:lnTo>
                      <a:lnTo>
                        <a:pt x="42" y="17"/>
                      </a:lnTo>
                      <a:lnTo>
                        <a:pt x="40" y="22"/>
                      </a:lnTo>
                      <a:lnTo>
                        <a:pt x="31" y="38"/>
                      </a:lnTo>
                      <a:lnTo>
                        <a:pt x="20" y="61"/>
                      </a:lnTo>
                      <a:lnTo>
                        <a:pt x="14" y="61"/>
                      </a:lnTo>
                      <a:close/>
                    </a:path>
                  </a:pathLst>
                </a:custGeom>
                <a:solidFill>
                  <a:srgbClr val="f2d9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6" name="Freeform 419"/>
                <p:cNvSpPr/>
                <p:nvPr/>
              </p:nvSpPr>
              <p:spPr>
                <a:xfrm>
                  <a:off x="7182000" y="3576240"/>
                  <a:ext cx="175320" cy="63000"/>
                </a:xfrm>
                <a:custGeom>
                  <a:avLst/>
                  <a:gdLst>
                    <a:gd name="textAreaLeft" fmla="*/ 0 w 175320"/>
                    <a:gd name="textAreaRight" fmla="*/ 175680 w 175320"/>
                    <a:gd name="textAreaTop" fmla="*/ 0 h 63000"/>
                    <a:gd name="textAreaBottom" fmla="*/ 63360 h 63000"/>
                  </a:gdLst>
                  <a:ahLst/>
                  <a:rect l="textAreaLeft" t="textAreaTop" r="textAreaRight" b="textAreaBottom"/>
                  <a:pathLst>
                    <a:path w="133" h="115">
                      <a:moveTo>
                        <a:pt x="32" y="0"/>
                      </a:moveTo>
                      <a:lnTo>
                        <a:pt x="69" y="2"/>
                      </a:lnTo>
                      <a:lnTo>
                        <a:pt x="97" y="2"/>
                      </a:lnTo>
                      <a:lnTo>
                        <a:pt x="116" y="2"/>
                      </a:lnTo>
                      <a:lnTo>
                        <a:pt x="129" y="2"/>
                      </a:lnTo>
                      <a:lnTo>
                        <a:pt x="132" y="5"/>
                      </a:lnTo>
                      <a:lnTo>
                        <a:pt x="133" y="8"/>
                      </a:lnTo>
                      <a:lnTo>
                        <a:pt x="133" y="12"/>
                      </a:lnTo>
                      <a:lnTo>
                        <a:pt x="131" y="17"/>
                      </a:lnTo>
                      <a:lnTo>
                        <a:pt x="123" y="36"/>
                      </a:lnTo>
                      <a:lnTo>
                        <a:pt x="109" y="63"/>
                      </a:lnTo>
                      <a:lnTo>
                        <a:pt x="32" y="63"/>
                      </a:lnTo>
                      <a:lnTo>
                        <a:pt x="31" y="70"/>
                      </a:lnTo>
                      <a:lnTo>
                        <a:pt x="28" y="77"/>
                      </a:lnTo>
                      <a:lnTo>
                        <a:pt x="22" y="85"/>
                      </a:lnTo>
                      <a:lnTo>
                        <a:pt x="16" y="95"/>
                      </a:lnTo>
                      <a:lnTo>
                        <a:pt x="10" y="103"/>
                      </a:lnTo>
                      <a:lnTo>
                        <a:pt x="5" y="110"/>
                      </a:lnTo>
                      <a:lnTo>
                        <a:pt x="1" y="114"/>
                      </a:lnTo>
                      <a:lnTo>
                        <a:pt x="0" y="115"/>
                      </a:lnTo>
                      <a:lnTo>
                        <a:pt x="0" y="63"/>
                      </a:lnTo>
                      <a:lnTo>
                        <a:pt x="5" y="62"/>
                      </a:lnTo>
                      <a:lnTo>
                        <a:pt x="9" y="58"/>
                      </a:lnTo>
                      <a:lnTo>
                        <a:pt x="15" y="50"/>
                      </a:lnTo>
                      <a:lnTo>
                        <a:pt x="20" y="42"/>
                      </a:lnTo>
                      <a:lnTo>
                        <a:pt x="25" y="31"/>
                      </a:lnTo>
                      <a:lnTo>
                        <a:pt x="29" y="20"/>
                      </a:lnTo>
                      <a:lnTo>
                        <a:pt x="31" y="9"/>
                      </a:lnTo>
                      <a:lnTo>
                        <a:pt x="32" y="0"/>
                      </a:lnTo>
                      <a:close/>
                    </a:path>
                  </a:pathLst>
                </a:custGeom>
                <a:solidFill>
                  <a:srgbClr val="f3dc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7" name="Freeform 420"/>
                <p:cNvSpPr/>
                <p:nvPr/>
              </p:nvSpPr>
              <p:spPr>
                <a:xfrm>
                  <a:off x="7182000" y="3576240"/>
                  <a:ext cx="175320" cy="63000"/>
                </a:xfrm>
                <a:custGeom>
                  <a:avLst/>
                  <a:gdLst>
                    <a:gd name="textAreaLeft" fmla="*/ 0 w 175320"/>
                    <a:gd name="textAreaRight" fmla="*/ 175680 w 175320"/>
                    <a:gd name="textAreaTop" fmla="*/ 0 h 63000"/>
                    <a:gd name="textAreaBottom" fmla="*/ 63360 h 63000"/>
                  </a:gdLst>
                  <a:ahLst/>
                  <a:rect l="textAreaLeft" t="textAreaTop" r="textAreaRight" b="textAreaBottom"/>
                  <a:pathLst>
                    <a:path w="133" h="115">
                      <a:moveTo>
                        <a:pt x="32" y="0"/>
                      </a:moveTo>
                      <a:lnTo>
                        <a:pt x="69" y="2"/>
                      </a:lnTo>
                      <a:lnTo>
                        <a:pt x="97" y="2"/>
                      </a:lnTo>
                      <a:lnTo>
                        <a:pt x="116" y="2"/>
                      </a:lnTo>
                      <a:lnTo>
                        <a:pt x="129" y="2"/>
                      </a:lnTo>
                      <a:lnTo>
                        <a:pt x="132" y="5"/>
                      </a:lnTo>
                      <a:lnTo>
                        <a:pt x="133" y="8"/>
                      </a:lnTo>
                      <a:lnTo>
                        <a:pt x="133" y="12"/>
                      </a:lnTo>
                      <a:lnTo>
                        <a:pt x="131" y="17"/>
                      </a:lnTo>
                      <a:lnTo>
                        <a:pt x="123" y="36"/>
                      </a:lnTo>
                      <a:lnTo>
                        <a:pt x="109" y="63"/>
                      </a:lnTo>
                      <a:lnTo>
                        <a:pt x="32" y="63"/>
                      </a:lnTo>
                      <a:lnTo>
                        <a:pt x="31" y="70"/>
                      </a:lnTo>
                      <a:lnTo>
                        <a:pt x="28" y="77"/>
                      </a:lnTo>
                      <a:lnTo>
                        <a:pt x="22" y="85"/>
                      </a:lnTo>
                      <a:lnTo>
                        <a:pt x="16" y="95"/>
                      </a:lnTo>
                      <a:lnTo>
                        <a:pt x="10" y="103"/>
                      </a:lnTo>
                      <a:lnTo>
                        <a:pt x="5" y="110"/>
                      </a:lnTo>
                      <a:lnTo>
                        <a:pt x="1" y="114"/>
                      </a:lnTo>
                      <a:lnTo>
                        <a:pt x="0" y="115"/>
                      </a:lnTo>
                      <a:lnTo>
                        <a:pt x="0" y="63"/>
                      </a:lnTo>
                      <a:lnTo>
                        <a:pt x="5" y="62"/>
                      </a:lnTo>
                      <a:lnTo>
                        <a:pt x="9" y="58"/>
                      </a:lnTo>
                      <a:lnTo>
                        <a:pt x="15" y="50"/>
                      </a:lnTo>
                      <a:lnTo>
                        <a:pt x="20" y="42"/>
                      </a:lnTo>
                      <a:lnTo>
                        <a:pt x="25" y="31"/>
                      </a:lnTo>
                      <a:lnTo>
                        <a:pt x="29" y="20"/>
                      </a:lnTo>
                      <a:lnTo>
                        <a:pt x="31" y="9"/>
                      </a:lnTo>
                      <a:lnTo>
                        <a:pt x="32" y="0"/>
                      </a:lnTo>
                      <a:close/>
                    </a:path>
                  </a:pathLst>
                </a:custGeom>
                <a:solidFill>
                  <a:srgbClr val="d9d9d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8" name="Freeform 421"/>
                <p:cNvSpPr/>
                <p:nvPr/>
              </p:nvSpPr>
              <p:spPr>
                <a:xfrm>
                  <a:off x="7257600" y="3601440"/>
                  <a:ext cx="68040" cy="9720"/>
                </a:xfrm>
                <a:custGeom>
                  <a:avLst/>
                  <a:gdLst>
                    <a:gd name="textAreaLeft" fmla="*/ 0 w 68040"/>
                    <a:gd name="textAreaRight" fmla="*/ 68400 w 68040"/>
                    <a:gd name="textAreaTop" fmla="*/ 0 h 9720"/>
                    <a:gd name="textAreaBottom" fmla="*/ 10080 h 9720"/>
                  </a:gdLst>
                  <a:ahLst/>
                  <a:rect l="textAreaLeft" t="textAreaTop" r="textAreaRight" b="textAreaBottom"/>
                  <a:pathLst>
                    <a:path w="51" h="16">
                      <a:moveTo>
                        <a:pt x="51" y="16"/>
                      </a:moveTo>
                      <a:lnTo>
                        <a:pt x="17" y="0"/>
                      </a:lnTo>
                      <a:lnTo>
                        <a:pt x="0" y="16"/>
                      </a:lnTo>
                      <a:lnTo>
                        <a:pt x="17" y="0"/>
                      </a:lnTo>
                      <a:lnTo>
                        <a:pt x="51" y="16"/>
                      </a:lnTo>
                    </a:path>
                  </a:pathLst>
                </a:custGeom>
                <a:noFill/>
                <a:ln w="0">
                  <a:solidFill>
                    <a:srgbClr val="40404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9" name="Freeform 422"/>
                <p:cNvSpPr/>
                <p:nvPr/>
              </p:nvSpPr>
              <p:spPr>
                <a:xfrm>
                  <a:off x="7218720" y="3576240"/>
                  <a:ext cx="122400" cy="24840"/>
                </a:xfrm>
                <a:custGeom>
                  <a:avLst/>
                  <a:gdLst>
                    <a:gd name="textAreaLeft" fmla="*/ 0 w 122400"/>
                    <a:gd name="textAreaRight" fmla="*/ 122760 w 122400"/>
                    <a:gd name="textAreaTop" fmla="*/ 0 h 24840"/>
                    <a:gd name="textAreaBottom" fmla="*/ 25200 h 24840"/>
                  </a:gdLst>
                  <a:ahLst/>
                  <a:rect l="textAreaLeft" t="textAreaTop" r="textAreaRight" b="textAreaBottom"/>
                  <a:pathLst>
                    <a:path w="94" h="45">
                      <a:moveTo>
                        <a:pt x="94" y="0"/>
                      </a:moveTo>
                      <a:lnTo>
                        <a:pt x="47" y="45"/>
                      </a:lnTo>
                      <a:lnTo>
                        <a:pt x="0" y="22"/>
                      </a:lnTo>
                      <a:lnTo>
                        <a:pt x="47" y="45"/>
                      </a:lnTo>
                      <a:lnTo>
                        <a:pt x="94" y="0"/>
                      </a:lnTo>
                    </a:path>
                  </a:pathLst>
                </a:custGeom>
                <a:noFill/>
                <a:ln w="0">
                  <a:solidFill>
                    <a:srgbClr val="40404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0" name="Freeform 423"/>
                <p:cNvSpPr/>
                <p:nvPr/>
              </p:nvSpPr>
              <p:spPr>
                <a:xfrm>
                  <a:off x="7218720" y="3589560"/>
                  <a:ext cx="62640" cy="21600"/>
                </a:xfrm>
                <a:custGeom>
                  <a:avLst/>
                  <a:gdLst>
                    <a:gd name="textAreaLeft" fmla="*/ 0 w 62640"/>
                    <a:gd name="textAreaRight" fmla="*/ 63000 w 62640"/>
                    <a:gd name="textAreaTop" fmla="*/ 0 h 21600"/>
                    <a:gd name="textAreaBottom" fmla="*/ 21960 h 21600"/>
                  </a:gdLst>
                  <a:ahLst/>
                  <a:rect l="textAreaLeft" t="textAreaTop" r="textAreaRight" b="textAreaBottom"/>
                  <a:pathLst>
                    <a:path w="47" h="39">
                      <a:moveTo>
                        <a:pt x="0" y="0"/>
                      </a:moveTo>
                      <a:lnTo>
                        <a:pt x="47" y="23"/>
                      </a:lnTo>
                      <a:lnTo>
                        <a:pt x="30" y="39"/>
                      </a:lnTo>
                      <a:lnTo>
                        <a:pt x="47" y="23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40404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1" name="Freeform 424"/>
                <p:cNvSpPr/>
                <p:nvPr/>
              </p:nvSpPr>
              <p:spPr>
                <a:xfrm>
                  <a:off x="7182000" y="3634920"/>
                  <a:ext cx="7560" cy="1800"/>
                </a:xfrm>
                <a:custGeom>
                  <a:avLst/>
                  <a:gdLst>
                    <a:gd name="textAreaLeft" fmla="*/ 0 w 7560"/>
                    <a:gd name="textAreaRight" fmla="*/ 7920 w 7560"/>
                    <a:gd name="textAreaTop" fmla="*/ 0 h 1800"/>
                    <a:gd name="textAreaBottom" fmla="*/ 2160 h 1800"/>
                  </a:gdLst>
                  <a:ahLst/>
                  <a:rect l="textAreaLeft" t="textAreaTop" r="textAreaRight" b="textAreaBottom"/>
                  <a:pathLst>
                    <a:path w="6" h="3">
                      <a:moveTo>
                        <a:pt x="6" y="3"/>
                      </a:moveTo>
                      <a:lnTo>
                        <a:pt x="0" y="0"/>
                      </a:lnTo>
                      <a:lnTo>
                        <a:pt x="6" y="3"/>
                      </a:lnTo>
                    </a:path>
                  </a:pathLst>
                </a:custGeom>
                <a:noFill/>
                <a:ln w="0">
                  <a:solidFill>
                    <a:srgbClr val="40404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2" name="Freeform 425"/>
                <p:cNvSpPr/>
                <p:nvPr/>
              </p:nvSpPr>
              <p:spPr>
                <a:xfrm>
                  <a:off x="7182000" y="3634920"/>
                  <a:ext cx="7560" cy="1800"/>
                </a:xfrm>
                <a:custGeom>
                  <a:avLst/>
                  <a:gdLst>
                    <a:gd name="textAreaLeft" fmla="*/ 0 w 7560"/>
                    <a:gd name="textAreaRight" fmla="*/ 7920 w 7560"/>
                    <a:gd name="textAreaTop" fmla="*/ 0 h 1800"/>
                    <a:gd name="textAreaBottom" fmla="*/ 2160 h 1800"/>
                  </a:gdLst>
                  <a:ahLst/>
                  <a:rect l="textAreaLeft" t="textAreaTop" r="textAreaRight" b="textAreaBottom"/>
                  <a:pathLst>
                    <a:path w="6" h="3">
                      <a:moveTo>
                        <a:pt x="0" y="0"/>
                      </a:moveTo>
                      <a:lnTo>
                        <a:pt x="6" y="3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40404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3" name="Freeform 426"/>
                <p:cNvSpPr/>
                <p:nvPr/>
              </p:nvSpPr>
              <p:spPr>
                <a:xfrm>
                  <a:off x="7281360" y="3576240"/>
                  <a:ext cx="59760" cy="34560"/>
                </a:xfrm>
                <a:custGeom>
                  <a:avLst/>
                  <a:gdLst>
                    <a:gd name="textAreaLeft" fmla="*/ 0 w 59760"/>
                    <a:gd name="textAreaRight" fmla="*/ 60120 w 59760"/>
                    <a:gd name="textAreaTop" fmla="*/ 0 h 34560"/>
                    <a:gd name="textAreaBottom" fmla="*/ 34920 h 34560"/>
                  </a:gdLst>
                  <a:ahLst/>
                  <a:rect l="textAreaLeft" t="textAreaTop" r="textAreaRight" b="textAreaBottom"/>
                  <a:pathLst>
                    <a:path w="47" h="61">
                      <a:moveTo>
                        <a:pt x="34" y="61"/>
                      </a:moveTo>
                      <a:lnTo>
                        <a:pt x="0" y="45"/>
                      </a:lnTo>
                      <a:lnTo>
                        <a:pt x="47" y="0"/>
                      </a:lnTo>
                      <a:lnTo>
                        <a:pt x="0" y="45"/>
                      </a:lnTo>
                      <a:lnTo>
                        <a:pt x="34" y="61"/>
                      </a:lnTo>
                    </a:path>
                  </a:pathLst>
                </a:custGeom>
                <a:noFill/>
                <a:ln w="0">
                  <a:solidFill>
                    <a:srgbClr val="40404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54" name="Freeform 427"/>
              <p:cNvSpPr/>
              <p:nvPr/>
            </p:nvSpPr>
            <p:spPr>
              <a:xfrm>
                <a:off x="7182720" y="3576600"/>
                <a:ext cx="175320" cy="63000"/>
              </a:xfrm>
              <a:custGeom>
                <a:avLst/>
                <a:gdLst>
                  <a:gd name="textAreaLeft" fmla="*/ 0 w 175320"/>
                  <a:gd name="textAreaRight" fmla="*/ 175680 w 175320"/>
                  <a:gd name="textAreaTop" fmla="*/ 0 h 63000"/>
                  <a:gd name="textAreaBottom" fmla="*/ 63360 h 63000"/>
                </a:gdLst>
                <a:ahLst/>
                <a:rect l="textAreaLeft" t="textAreaTop" r="textAreaRight" b="textAreaBottom"/>
                <a:pathLst>
                  <a:path w="133" h="113">
                    <a:moveTo>
                      <a:pt x="29" y="19"/>
                    </a:moveTo>
                    <a:lnTo>
                      <a:pt x="39" y="17"/>
                    </a:lnTo>
                    <a:lnTo>
                      <a:pt x="54" y="11"/>
                    </a:lnTo>
                    <a:lnTo>
                      <a:pt x="68" y="6"/>
                    </a:lnTo>
                    <a:lnTo>
                      <a:pt x="80" y="0"/>
                    </a:lnTo>
                    <a:lnTo>
                      <a:pt x="101" y="0"/>
                    </a:lnTo>
                    <a:lnTo>
                      <a:pt x="117" y="0"/>
                    </a:lnTo>
                    <a:lnTo>
                      <a:pt x="123" y="0"/>
                    </a:lnTo>
                    <a:lnTo>
                      <a:pt x="127" y="0"/>
                    </a:lnTo>
                    <a:lnTo>
                      <a:pt x="130" y="2"/>
                    </a:lnTo>
                    <a:lnTo>
                      <a:pt x="132" y="3"/>
                    </a:lnTo>
                    <a:lnTo>
                      <a:pt x="133" y="6"/>
                    </a:lnTo>
                    <a:lnTo>
                      <a:pt x="133" y="10"/>
                    </a:lnTo>
                    <a:lnTo>
                      <a:pt x="131" y="15"/>
                    </a:lnTo>
                    <a:lnTo>
                      <a:pt x="129" y="21"/>
                    </a:lnTo>
                    <a:lnTo>
                      <a:pt x="120" y="38"/>
                    </a:lnTo>
                    <a:lnTo>
                      <a:pt x="109" y="61"/>
                    </a:lnTo>
                    <a:lnTo>
                      <a:pt x="32" y="61"/>
                    </a:lnTo>
                    <a:lnTo>
                      <a:pt x="31" y="68"/>
                    </a:lnTo>
                    <a:lnTo>
                      <a:pt x="28" y="75"/>
                    </a:lnTo>
                    <a:lnTo>
                      <a:pt x="22" y="83"/>
                    </a:lnTo>
                    <a:lnTo>
                      <a:pt x="16" y="93"/>
                    </a:lnTo>
                    <a:lnTo>
                      <a:pt x="10" y="101"/>
                    </a:lnTo>
                    <a:lnTo>
                      <a:pt x="5" y="108"/>
                    </a:lnTo>
                    <a:lnTo>
                      <a:pt x="1" y="112"/>
                    </a:lnTo>
                    <a:lnTo>
                      <a:pt x="0" y="113"/>
                    </a:lnTo>
                    <a:lnTo>
                      <a:pt x="0" y="61"/>
                    </a:lnTo>
                    <a:lnTo>
                      <a:pt x="2" y="61"/>
                    </a:lnTo>
                    <a:lnTo>
                      <a:pt x="7" y="59"/>
                    </a:lnTo>
                    <a:lnTo>
                      <a:pt x="10" y="55"/>
                    </a:lnTo>
                    <a:lnTo>
                      <a:pt x="15" y="49"/>
                    </a:lnTo>
                    <a:lnTo>
                      <a:pt x="19" y="42"/>
                    </a:lnTo>
                    <a:lnTo>
                      <a:pt x="22" y="34"/>
                    </a:lnTo>
                    <a:lnTo>
                      <a:pt x="25" y="27"/>
                    </a:lnTo>
                    <a:lnTo>
                      <a:pt x="29" y="19"/>
                    </a:lnTo>
                    <a:close/>
                  </a:path>
                </a:pathLst>
              </a:custGeom>
              <a:solidFill>
                <a:srgbClr val="e5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Freeform 428"/>
              <p:cNvSpPr/>
              <p:nvPr/>
            </p:nvSpPr>
            <p:spPr>
              <a:xfrm>
                <a:off x="7221600" y="3576600"/>
                <a:ext cx="65160" cy="11520"/>
              </a:xfrm>
              <a:custGeom>
                <a:avLst/>
                <a:gdLst>
                  <a:gd name="textAreaLeft" fmla="*/ 0 w 65160"/>
                  <a:gd name="textAreaRight" fmla="*/ 65520 w 6516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51" h="21">
                    <a:moveTo>
                      <a:pt x="0" y="21"/>
                    </a:moveTo>
                    <a:lnTo>
                      <a:pt x="10" y="19"/>
                    </a:lnTo>
                    <a:lnTo>
                      <a:pt x="25" y="13"/>
                    </a:lnTo>
                    <a:lnTo>
                      <a:pt x="39" y="8"/>
                    </a:lnTo>
                    <a:lnTo>
                      <a:pt x="51" y="2"/>
                    </a:lnTo>
                    <a:lnTo>
                      <a:pt x="46" y="2"/>
                    </a:lnTo>
                    <a:lnTo>
                      <a:pt x="40" y="2"/>
                    </a:lnTo>
                    <a:lnTo>
                      <a:pt x="35" y="2"/>
                    </a:lnTo>
                    <a:lnTo>
                      <a:pt x="29" y="2"/>
                    </a:lnTo>
                    <a:lnTo>
                      <a:pt x="23" y="1"/>
                    </a:lnTo>
                    <a:lnTo>
                      <a:pt x="17" y="1"/>
                    </a:lnTo>
                    <a:lnTo>
                      <a:pt x="10" y="1"/>
                    </a:lnTo>
                    <a:lnTo>
                      <a:pt x="3" y="0"/>
                    </a:lnTo>
                    <a:lnTo>
                      <a:pt x="3" y="2"/>
                    </a:lnTo>
                    <a:lnTo>
                      <a:pt x="3" y="5"/>
                    </a:lnTo>
                    <a:lnTo>
                      <a:pt x="2" y="8"/>
                    </a:lnTo>
                    <a:lnTo>
                      <a:pt x="2" y="10"/>
                    </a:lnTo>
                    <a:lnTo>
                      <a:pt x="2" y="13"/>
                    </a:lnTo>
                    <a:lnTo>
                      <a:pt x="1" y="16"/>
                    </a:lnTo>
                    <a:lnTo>
                      <a:pt x="0" y="19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e8ec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Freeform 429"/>
              <p:cNvSpPr/>
              <p:nvPr/>
            </p:nvSpPr>
            <p:spPr>
              <a:xfrm>
                <a:off x="6136920" y="3501360"/>
                <a:ext cx="459720" cy="75240"/>
              </a:xfrm>
              <a:custGeom>
                <a:avLst/>
                <a:gdLst>
                  <a:gd name="textAreaLeft" fmla="*/ 0 w 459720"/>
                  <a:gd name="textAreaRight" fmla="*/ 460080 w 459720"/>
                  <a:gd name="textAreaTop" fmla="*/ 0 h 75240"/>
                  <a:gd name="textAreaBottom" fmla="*/ 75600 h 75240"/>
                </a:gdLst>
                <a:ahLst/>
                <a:rect l="textAreaLeft" t="textAreaTop" r="textAreaRight" b="textAreaBottom"/>
                <a:pathLst>
                  <a:path w="351" h="135">
                    <a:moveTo>
                      <a:pt x="28" y="0"/>
                    </a:moveTo>
                    <a:lnTo>
                      <a:pt x="65" y="6"/>
                    </a:lnTo>
                    <a:lnTo>
                      <a:pt x="105" y="13"/>
                    </a:lnTo>
                    <a:lnTo>
                      <a:pt x="147" y="19"/>
                    </a:lnTo>
                    <a:lnTo>
                      <a:pt x="189" y="23"/>
                    </a:lnTo>
                    <a:lnTo>
                      <a:pt x="231" y="27"/>
                    </a:lnTo>
                    <a:lnTo>
                      <a:pt x="273" y="29"/>
                    </a:lnTo>
                    <a:lnTo>
                      <a:pt x="293" y="27"/>
                    </a:lnTo>
                    <a:lnTo>
                      <a:pt x="312" y="26"/>
                    </a:lnTo>
                    <a:lnTo>
                      <a:pt x="332" y="23"/>
                    </a:lnTo>
                    <a:lnTo>
                      <a:pt x="351" y="19"/>
                    </a:lnTo>
                    <a:lnTo>
                      <a:pt x="351" y="57"/>
                    </a:lnTo>
                    <a:lnTo>
                      <a:pt x="346" y="59"/>
                    </a:lnTo>
                    <a:lnTo>
                      <a:pt x="343" y="60"/>
                    </a:lnTo>
                    <a:lnTo>
                      <a:pt x="338" y="61"/>
                    </a:lnTo>
                    <a:lnTo>
                      <a:pt x="334" y="64"/>
                    </a:lnTo>
                    <a:lnTo>
                      <a:pt x="330" y="67"/>
                    </a:lnTo>
                    <a:lnTo>
                      <a:pt x="326" y="68"/>
                    </a:lnTo>
                    <a:lnTo>
                      <a:pt x="322" y="69"/>
                    </a:lnTo>
                    <a:lnTo>
                      <a:pt x="318" y="71"/>
                    </a:lnTo>
                    <a:lnTo>
                      <a:pt x="306" y="71"/>
                    </a:lnTo>
                    <a:lnTo>
                      <a:pt x="294" y="72"/>
                    </a:lnTo>
                    <a:lnTo>
                      <a:pt x="284" y="74"/>
                    </a:lnTo>
                    <a:lnTo>
                      <a:pt x="274" y="76"/>
                    </a:lnTo>
                    <a:lnTo>
                      <a:pt x="255" y="84"/>
                    </a:lnTo>
                    <a:lnTo>
                      <a:pt x="237" y="93"/>
                    </a:lnTo>
                    <a:lnTo>
                      <a:pt x="220" y="103"/>
                    </a:lnTo>
                    <a:lnTo>
                      <a:pt x="202" y="114"/>
                    </a:lnTo>
                    <a:lnTo>
                      <a:pt x="184" y="125"/>
                    </a:lnTo>
                    <a:lnTo>
                      <a:pt x="164" y="135"/>
                    </a:lnTo>
                    <a:lnTo>
                      <a:pt x="163" y="132"/>
                    </a:lnTo>
                    <a:lnTo>
                      <a:pt x="162" y="129"/>
                    </a:lnTo>
                    <a:lnTo>
                      <a:pt x="158" y="125"/>
                    </a:lnTo>
                    <a:lnTo>
                      <a:pt x="154" y="121"/>
                    </a:lnTo>
                    <a:lnTo>
                      <a:pt x="142" y="113"/>
                    </a:lnTo>
                    <a:lnTo>
                      <a:pt x="128" y="105"/>
                    </a:lnTo>
                    <a:lnTo>
                      <a:pt x="114" y="97"/>
                    </a:lnTo>
                    <a:lnTo>
                      <a:pt x="99" y="90"/>
                    </a:lnTo>
                    <a:lnTo>
                      <a:pt x="87" y="84"/>
                    </a:lnTo>
                    <a:lnTo>
                      <a:pt x="76" y="83"/>
                    </a:lnTo>
                    <a:lnTo>
                      <a:pt x="66" y="57"/>
                    </a:lnTo>
                    <a:lnTo>
                      <a:pt x="0" y="38"/>
                    </a:lnTo>
                    <a:lnTo>
                      <a:pt x="22" y="19"/>
                    </a:lnTo>
                    <a:lnTo>
                      <a:pt x="23" y="22"/>
                    </a:lnTo>
                    <a:lnTo>
                      <a:pt x="24" y="25"/>
                    </a:lnTo>
                    <a:lnTo>
                      <a:pt x="26" y="26"/>
                    </a:lnTo>
                    <a:lnTo>
                      <a:pt x="28" y="25"/>
                    </a:lnTo>
                    <a:lnTo>
                      <a:pt x="29" y="22"/>
                    </a:lnTo>
                    <a:lnTo>
                      <a:pt x="30" y="18"/>
                    </a:lnTo>
                    <a:lnTo>
                      <a:pt x="29" y="10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f3f3f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Freeform 430"/>
              <p:cNvSpPr/>
              <p:nvPr/>
            </p:nvSpPr>
            <p:spPr>
              <a:xfrm>
                <a:off x="6136920" y="3501360"/>
                <a:ext cx="112320" cy="46800"/>
              </a:xfrm>
              <a:custGeom>
                <a:avLst/>
                <a:gdLst>
                  <a:gd name="textAreaLeft" fmla="*/ 0 w 112320"/>
                  <a:gd name="textAreaRight" fmla="*/ 112680 w 112320"/>
                  <a:gd name="textAreaTop" fmla="*/ 0 h 46800"/>
                  <a:gd name="textAreaBottom" fmla="*/ 47160 h 46800"/>
                </a:gdLst>
                <a:ahLst/>
                <a:rect l="textAreaLeft" t="textAreaTop" r="textAreaRight" b="textAreaBottom"/>
                <a:pathLst>
                  <a:path w="84" h="84">
                    <a:moveTo>
                      <a:pt x="67" y="6"/>
                    </a:moveTo>
                    <a:lnTo>
                      <a:pt x="84" y="84"/>
                    </a:lnTo>
                    <a:lnTo>
                      <a:pt x="83" y="84"/>
                    </a:lnTo>
                    <a:lnTo>
                      <a:pt x="82" y="84"/>
                    </a:lnTo>
                    <a:lnTo>
                      <a:pt x="81" y="83"/>
                    </a:lnTo>
                    <a:lnTo>
                      <a:pt x="81" y="83"/>
                    </a:lnTo>
                    <a:lnTo>
                      <a:pt x="80" y="83"/>
                    </a:lnTo>
                    <a:lnTo>
                      <a:pt x="79" y="83"/>
                    </a:lnTo>
                    <a:lnTo>
                      <a:pt x="77" y="83"/>
                    </a:lnTo>
                    <a:lnTo>
                      <a:pt x="76" y="83"/>
                    </a:lnTo>
                    <a:lnTo>
                      <a:pt x="66" y="57"/>
                    </a:lnTo>
                    <a:lnTo>
                      <a:pt x="0" y="38"/>
                    </a:lnTo>
                    <a:lnTo>
                      <a:pt x="22" y="19"/>
                    </a:lnTo>
                    <a:lnTo>
                      <a:pt x="23" y="22"/>
                    </a:lnTo>
                    <a:lnTo>
                      <a:pt x="24" y="25"/>
                    </a:lnTo>
                    <a:lnTo>
                      <a:pt x="26" y="26"/>
                    </a:lnTo>
                    <a:lnTo>
                      <a:pt x="28" y="25"/>
                    </a:lnTo>
                    <a:lnTo>
                      <a:pt x="29" y="22"/>
                    </a:lnTo>
                    <a:lnTo>
                      <a:pt x="30" y="18"/>
                    </a:lnTo>
                    <a:lnTo>
                      <a:pt x="29" y="10"/>
                    </a:lnTo>
                    <a:lnTo>
                      <a:pt x="28" y="0"/>
                    </a:lnTo>
                    <a:lnTo>
                      <a:pt x="32" y="0"/>
                    </a:lnTo>
                    <a:lnTo>
                      <a:pt x="37" y="2"/>
                    </a:lnTo>
                    <a:lnTo>
                      <a:pt x="41" y="2"/>
                    </a:lnTo>
                    <a:lnTo>
                      <a:pt x="47" y="3"/>
                    </a:lnTo>
                    <a:lnTo>
                      <a:pt x="52" y="4"/>
                    </a:lnTo>
                    <a:lnTo>
                      <a:pt x="57" y="4"/>
                    </a:lnTo>
                    <a:lnTo>
                      <a:pt x="62" y="6"/>
                    </a:lnTo>
                    <a:lnTo>
                      <a:pt x="67" y="6"/>
                    </a:lnTo>
                    <a:close/>
                  </a:path>
                </a:pathLst>
              </a:custGeom>
              <a:solidFill>
                <a:srgbClr val="f2d9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Freeform 431"/>
              <p:cNvSpPr/>
              <p:nvPr/>
            </p:nvSpPr>
            <p:spPr>
              <a:xfrm>
                <a:off x="6225840" y="3504600"/>
                <a:ext cx="279720" cy="72000"/>
              </a:xfrm>
              <a:custGeom>
                <a:avLst/>
                <a:gdLst>
                  <a:gd name="textAreaLeft" fmla="*/ 0 w 279720"/>
                  <a:gd name="textAreaRight" fmla="*/ 280080 w 279720"/>
                  <a:gd name="textAreaTop" fmla="*/ 0 h 72000"/>
                  <a:gd name="textAreaBottom" fmla="*/ 72360 h 72000"/>
                </a:gdLst>
                <a:ahLst/>
                <a:rect l="textAreaLeft" t="textAreaTop" r="textAreaRight" b="textAreaBottom"/>
                <a:pathLst>
                  <a:path w="213" h="129">
                    <a:moveTo>
                      <a:pt x="17" y="78"/>
                    </a:moveTo>
                    <a:lnTo>
                      <a:pt x="0" y="0"/>
                    </a:lnTo>
                    <a:lnTo>
                      <a:pt x="24" y="4"/>
                    </a:lnTo>
                    <a:lnTo>
                      <a:pt x="49" y="8"/>
                    </a:lnTo>
                    <a:lnTo>
                      <a:pt x="74" y="12"/>
                    </a:lnTo>
                    <a:lnTo>
                      <a:pt x="101" y="16"/>
                    </a:lnTo>
                    <a:lnTo>
                      <a:pt x="126" y="19"/>
                    </a:lnTo>
                    <a:lnTo>
                      <a:pt x="152" y="20"/>
                    </a:lnTo>
                    <a:lnTo>
                      <a:pt x="177" y="21"/>
                    </a:lnTo>
                    <a:lnTo>
                      <a:pt x="203" y="23"/>
                    </a:lnTo>
                    <a:lnTo>
                      <a:pt x="213" y="69"/>
                    </a:lnTo>
                    <a:lnTo>
                      <a:pt x="198" y="74"/>
                    </a:lnTo>
                    <a:lnTo>
                      <a:pt x="183" y="80"/>
                    </a:lnTo>
                    <a:lnTo>
                      <a:pt x="169" y="88"/>
                    </a:lnTo>
                    <a:lnTo>
                      <a:pt x="155" y="95"/>
                    </a:lnTo>
                    <a:lnTo>
                      <a:pt x="141" y="104"/>
                    </a:lnTo>
                    <a:lnTo>
                      <a:pt x="127" y="112"/>
                    </a:lnTo>
                    <a:lnTo>
                      <a:pt x="113" y="120"/>
                    </a:lnTo>
                    <a:lnTo>
                      <a:pt x="97" y="129"/>
                    </a:lnTo>
                    <a:lnTo>
                      <a:pt x="95" y="123"/>
                    </a:lnTo>
                    <a:lnTo>
                      <a:pt x="89" y="116"/>
                    </a:lnTo>
                    <a:lnTo>
                      <a:pt x="79" y="110"/>
                    </a:lnTo>
                    <a:lnTo>
                      <a:pt x="67" y="101"/>
                    </a:lnTo>
                    <a:lnTo>
                      <a:pt x="54" y="95"/>
                    </a:lnTo>
                    <a:lnTo>
                      <a:pt x="42" y="88"/>
                    </a:lnTo>
                    <a:lnTo>
                      <a:pt x="29" y="82"/>
                    </a:lnTo>
                    <a:lnTo>
                      <a:pt x="17" y="78"/>
                    </a:lnTo>
                    <a:close/>
                  </a:path>
                </a:pathLst>
              </a:custGeom>
              <a:solidFill>
                <a:srgbClr val="f2e6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Freeform 432"/>
              <p:cNvSpPr/>
              <p:nvPr/>
            </p:nvSpPr>
            <p:spPr>
              <a:xfrm>
                <a:off x="6490080" y="3511440"/>
                <a:ext cx="106560" cy="31680"/>
              </a:xfrm>
              <a:custGeom>
                <a:avLst/>
                <a:gdLst>
                  <a:gd name="textAreaLeft" fmla="*/ 0 w 106560"/>
                  <a:gd name="textAreaRight" fmla="*/ 106920 w 106560"/>
                  <a:gd name="textAreaTop" fmla="*/ 0 h 31680"/>
                  <a:gd name="textAreaBottom" fmla="*/ 32040 h 31680"/>
                </a:gdLst>
                <a:ahLst/>
                <a:rect l="textAreaLeft" t="textAreaTop" r="textAreaRight" b="textAreaBottom"/>
                <a:pathLst>
                  <a:path w="81" h="56">
                    <a:moveTo>
                      <a:pt x="10" y="56"/>
                    </a:moveTo>
                    <a:lnTo>
                      <a:pt x="0" y="10"/>
                    </a:lnTo>
                    <a:lnTo>
                      <a:pt x="10" y="8"/>
                    </a:lnTo>
                    <a:lnTo>
                      <a:pt x="20" y="8"/>
                    </a:lnTo>
                    <a:lnTo>
                      <a:pt x="31" y="8"/>
                    </a:lnTo>
                    <a:lnTo>
                      <a:pt x="41" y="7"/>
                    </a:lnTo>
                    <a:lnTo>
                      <a:pt x="52" y="6"/>
                    </a:lnTo>
                    <a:lnTo>
                      <a:pt x="61" y="4"/>
                    </a:lnTo>
                    <a:lnTo>
                      <a:pt x="71" y="2"/>
                    </a:lnTo>
                    <a:lnTo>
                      <a:pt x="81" y="0"/>
                    </a:lnTo>
                    <a:lnTo>
                      <a:pt x="81" y="38"/>
                    </a:lnTo>
                    <a:lnTo>
                      <a:pt x="76" y="40"/>
                    </a:lnTo>
                    <a:lnTo>
                      <a:pt x="73" y="41"/>
                    </a:lnTo>
                    <a:lnTo>
                      <a:pt x="68" y="42"/>
                    </a:lnTo>
                    <a:lnTo>
                      <a:pt x="64" y="45"/>
                    </a:lnTo>
                    <a:lnTo>
                      <a:pt x="60" y="48"/>
                    </a:lnTo>
                    <a:lnTo>
                      <a:pt x="56" y="49"/>
                    </a:lnTo>
                    <a:lnTo>
                      <a:pt x="52" y="50"/>
                    </a:lnTo>
                    <a:lnTo>
                      <a:pt x="48" y="52"/>
                    </a:lnTo>
                    <a:lnTo>
                      <a:pt x="42" y="52"/>
                    </a:lnTo>
                    <a:lnTo>
                      <a:pt x="38" y="52"/>
                    </a:lnTo>
                    <a:lnTo>
                      <a:pt x="33" y="52"/>
                    </a:lnTo>
                    <a:lnTo>
                      <a:pt x="29" y="53"/>
                    </a:lnTo>
                    <a:lnTo>
                      <a:pt x="24" y="53"/>
                    </a:lnTo>
                    <a:lnTo>
                      <a:pt x="19" y="55"/>
                    </a:lnTo>
                    <a:lnTo>
                      <a:pt x="15" y="55"/>
                    </a:lnTo>
                    <a:lnTo>
                      <a:pt x="10" y="56"/>
                    </a:lnTo>
                    <a:close/>
                  </a:path>
                </a:pathLst>
              </a:custGeom>
              <a:solidFill>
                <a:srgbClr val="f2f2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Freeform 433"/>
              <p:cNvSpPr/>
              <p:nvPr/>
            </p:nvSpPr>
            <p:spPr>
              <a:xfrm>
                <a:off x="6136920" y="3501360"/>
                <a:ext cx="459720" cy="75240"/>
              </a:xfrm>
              <a:custGeom>
                <a:avLst/>
                <a:gdLst>
                  <a:gd name="textAreaLeft" fmla="*/ 0 w 459720"/>
                  <a:gd name="textAreaRight" fmla="*/ 460080 w 459720"/>
                  <a:gd name="textAreaTop" fmla="*/ 0 h 75240"/>
                  <a:gd name="textAreaBottom" fmla="*/ 75600 h 75240"/>
                </a:gdLst>
                <a:ahLst/>
                <a:rect l="textAreaLeft" t="textAreaTop" r="textAreaRight" b="textAreaBottom"/>
                <a:pathLst>
                  <a:path w="351" h="135">
                    <a:moveTo>
                      <a:pt x="28" y="0"/>
                    </a:moveTo>
                    <a:lnTo>
                      <a:pt x="65" y="6"/>
                    </a:lnTo>
                    <a:lnTo>
                      <a:pt x="105" y="13"/>
                    </a:lnTo>
                    <a:lnTo>
                      <a:pt x="147" y="19"/>
                    </a:lnTo>
                    <a:lnTo>
                      <a:pt x="189" y="23"/>
                    </a:lnTo>
                    <a:lnTo>
                      <a:pt x="231" y="27"/>
                    </a:lnTo>
                    <a:lnTo>
                      <a:pt x="273" y="29"/>
                    </a:lnTo>
                    <a:lnTo>
                      <a:pt x="293" y="27"/>
                    </a:lnTo>
                    <a:lnTo>
                      <a:pt x="312" y="26"/>
                    </a:lnTo>
                    <a:lnTo>
                      <a:pt x="332" y="23"/>
                    </a:lnTo>
                    <a:lnTo>
                      <a:pt x="351" y="19"/>
                    </a:lnTo>
                    <a:lnTo>
                      <a:pt x="351" y="57"/>
                    </a:lnTo>
                    <a:lnTo>
                      <a:pt x="346" y="59"/>
                    </a:lnTo>
                    <a:lnTo>
                      <a:pt x="343" y="60"/>
                    </a:lnTo>
                    <a:lnTo>
                      <a:pt x="338" y="61"/>
                    </a:lnTo>
                    <a:lnTo>
                      <a:pt x="334" y="64"/>
                    </a:lnTo>
                    <a:lnTo>
                      <a:pt x="330" y="67"/>
                    </a:lnTo>
                    <a:lnTo>
                      <a:pt x="326" y="68"/>
                    </a:lnTo>
                    <a:lnTo>
                      <a:pt x="322" y="69"/>
                    </a:lnTo>
                    <a:lnTo>
                      <a:pt x="318" y="71"/>
                    </a:lnTo>
                    <a:lnTo>
                      <a:pt x="306" y="71"/>
                    </a:lnTo>
                    <a:lnTo>
                      <a:pt x="294" y="72"/>
                    </a:lnTo>
                    <a:lnTo>
                      <a:pt x="284" y="74"/>
                    </a:lnTo>
                    <a:lnTo>
                      <a:pt x="274" y="76"/>
                    </a:lnTo>
                    <a:lnTo>
                      <a:pt x="255" y="84"/>
                    </a:lnTo>
                    <a:lnTo>
                      <a:pt x="237" y="93"/>
                    </a:lnTo>
                    <a:lnTo>
                      <a:pt x="220" y="103"/>
                    </a:lnTo>
                    <a:lnTo>
                      <a:pt x="202" y="114"/>
                    </a:lnTo>
                    <a:lnTo>
                      <a:pt x="184" y="125"/>
                    </a:lnTo>
                    <a:lnTo>
                      <a:pt x="164" y="135"/>
                    </a:lnTo>
                    <a:lnTo>
                      <a:pt x="163" y="132"/>
                    </a:lnTo>
                    <a:lnTo>
                      <a:pt x="162" y="129"/>
                    </a:lnTo>
                    <a:lnTo>
                      <a:pt x="158" y="125"/>
                    </a:lnTo>
                    <a:lnTo>
                      <a:pt x="154" y="121"/>
                    </a:lnTo>
                    <a:lnTo>
                      <a:pt x="142" y="113"/>
                    </a:lnTo>
                    <a:lnTo>
                      <a:pt x="128" y="105"/>
                    </a:lnTo>
                    <a:lnTo>
                      <a:pt x="114" y="97"/>
                    </a:lnTo>
                    <a:lnTo>
                      <a:pt x="99" y="90"/>
                    </a:lnTo>
                    <a:lnTo>
                      <a:pt x="87" y="84"/>
                    </a:lnTo>
                    <a:lnTo>
                      <a:pt x="76" y="83"/>
                    </a:lnTo>
                    <a:lnTo>
                      <a:pt x="66" y="57"/>
                    </a:lnTo>
                    <a:lnTo>
                      <a:pt x="0" y="38"/>
                    </a:lnTo>
                    <a:lnTo>
                      <a:pt x="22" y="19"/>
                    </a:lnTo>
                    <a:lnTo>
                      <a:pt x="23" y="22"/>
                    </a:lnTo>
                    <a:lnTo>
                      <a:pt x="24" y="25"/>
                    </a:lnTo>
                    <a:lnTo>
                      <a:pt x="26" y="26"/>
                    </a:lnTo>
                    <a:lnTo>
                      <a:pt x="28" y="25"/>
                    </a:lnTo>
                    <a:lnTo>
                      <a:pt x="29" y="22"/>
                    </a:lnTo>
                    <a:lnTo>
                      <a:pt x="30" y="18"/>
                    </a:lnTo>
                    <a:lnTo>
                      <a:pt x="29" y="10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f3dc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Freeform 434"/>
              <p:cNvSpPr/>
              <p:nvPr/>
            </p:nvSpPr>
            <p:spPr>
              <a:xfrm>
                <a:off x="6136920" y="3501360"/>
                <a:ext cx="459720" cy="75240"/>
              </a:xfrm>
              <a:custGeom>
                <a:avLst/>
                <a:gdLst>
                  <a:gd name="textAreaLeft" fmla="*/ 0 w 459720"/>
                  <a:gd name="textAreaRight" fmla="*/ 460080 w 459720"/>
                  <a:gd name="textAreaTop" fmla="*/ 0 h 75240"/>
                  <a:gd name="textAreaBottom" fmla="*/ 75600 h 75240"/>
                </a:gdLst>
                <a:ahLst/>
                <a:rect l="textAreaLeft" t="textAreaTop" r="textAreaRight" b="textAreaBottom"/>
                <a:pathLst>
                  <a:path w="351" h="135">
                    <a:moveTo>
                      <a:pt x="28" y="0"/>
                    </a:moveTo>
                    <a:lnTo>
                      <a:pt x="65" y="6"/>
                    </a:lnTo>
                    <a:lnTo>
                      <a:pt x="105" y="13"/>
                    </a:lnTo>
                    <a:lnTo>
                      <a:pt x="147" y="19"/>
                    </a:lnTo>
                    <a:lnTo>
                      <a:pt x="189" y="23"/>
                    </a:lnTo>
                    <a:lnTo>
                      <a:pt x="231" y="27"/>
                    </a:lnTo>
                    <a:lnTo>
                      <a:pt x="273" y="29"/>
                    </a:lnTo>
                    <a:lnTo>
                      <a:pt x="293" y="27"/>
                    </a:lnTo>
                    <a:lnTo>
                      <a:pt x="312" y="26"/>
                    </a:lnTo>
                    <a:lnTo>
                      <a:pt x="332" y="23"/>
                    </a:lnTo>
                    <a:lnTo>
                      <a:pt x="351" y="19"/>
                    </a:lnTo>
                    <a:lnTo>
                      <a:pt x="351" y="57"/>
                    </a:lnTo>
                    <a:lnTo>
                      <a:pt x="346" y="59"/>
                    </a:lnTo>
                    <a:lnTo>
                      <a:pt x="343" y="60"/>
                    </a:lnTo>
                    <a:lnTo>
                      <a:pt x="338" y="61"/>
                    </a:lnTo>
                    <a:lnTo>
                      <a:pt x="334" y="64"/>
                    </a:lnTo>
                    <a:lnTo>
                      <a:pt x="330" y="67"/>
                    </a:lnTo>
                    <a:lnTo>
                      <a:pt x="326" y="68"/>
                    </a:lnTo>
                    <a:lnTo>
                      <a:pt x="322" y="69"/>
                    </a:lnTo>
                    <a:lnTo>
                      <a:pt x="318" y="71"/>
                    </a:lnTo>
                    <a:lnTo>
                      <a:pt x="306" y="71"/>
                    </a:lnTo>
                    <a:lnTo>
                      <a:pt x="294" y="72"/>
                    </a:lnTo>
                    <a:lnTo>
                      <a:pt x="284" y="74"/>
                    </a:lnTo>
                    <a:lnTo>
                      <a:pt x="274" y="76"/>
                    </a:lnTo>
                    <a:lnTo>
                      <a:pt x="255" y="84"/>
                    </a:lnTo>
                    <a:lnTo>
                      <a:pt x="237" y="93"/>
                    </a:lnTo>
                    <a:lnTo>
                      <a:pt x="220" y="103"/>
                    </a:lnTo>
                    <a:lnTo>
                      <a:pt x="202" y="114"/>
                    </a:lnTo>
                    <a:lnTo>
                      <a:pt x="184" y="125"/>
                    </a:lnTo>
                    <a:lnTo>
                      <a:pt x="164" y="135"/>
                    </a:lnTo>
                    <a:lnTo>
                      <a:pt x="163" y="132"/>
                    </a:lnTo>
                    <a:lnTo>
                      <a:pt x="162" y="129"/>
                    </a:lnTo>
                    <a:lnTo>
                      <a:pt x="158" y="125"/>
                    </a:lnTo>
                    <a:lnTo>
                      <a:pt x="154" y="121"/>
                    </a:lnTo>
                    <a:lnTo>
                      <a:pt x="142" y="113"/>
                    </a:lnTo>
                    <a:lnTo>
                      <a:pt x="128" y="105"/>
                    </a:lnTo>
                    <a:lnTo>
                      <a:pt x="114" y="97"/>
                    </a:lnTo>
                    <a:lnTo>
                      <a:pt x="99" y="90"/>
                    </a:lnTo>
                    <a:lnTo>
                      <a:pt x="87" y="84"/>
                    </a:lnTo>
                    <a:lnTo>
                      <a:pt x="76" y="83"/>
                    </a:lnTo>
                    <a:lnTo>
                      <a:pt x="66" y="57"/>
                    </a:lnTo>
                    <a:lnTo>
                      <a:pt x="0" y="38"/>
                    </a:lnTo>
                    <a:lnTo>
                      <a:pt x="22" y="19"/>
                    </a:lnTo>
                    <a:lnTo>
                      <a:pt x="23" y="22"/>
                    </a:lnTo>
                    <a:lnTo>
                      <a:pt x="24" y="25"/>
                    </a:lnTo>
                    <a:lnTo>
                      <a:pt x="26" y="26"/>
                    </a:lnTo>
                    <a:lnTo>
                      <a:pt x="28" y="25"/>
                    </a:lnTo>
                    <a:lnTo>
                      <a:pt x="29" y="22"/>
                    </a:lnTo>
                    <a:lnTo>
                      <a:pt x="30" y="18"/>
                    </a:lnTo>
                    <a:lnTo>
                      <a:pt x="29" y="10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Freeform 435"/>
              <p:cNvSpPr/>
              <p:nvPr/>
            </p:nvSpPr>
            <p:spPr>
              <a:xfrm>
                <a:off x="6192000" y="3504600"/>
                <a:ext cx="57240" cy="23400"/>
              </a:xfrm>
              <a:custGeom>
                <a:avLst/>
                <a:gdLst>
                  <a:gd name="textAreaLeft" fmla="*/ 0 w 57240"/>
                  <a:gd name="textAreaRight" fmla="*/ 57600 w 57240"/>
                  <a:gd name="textAreaTop" fmla="*/ 0 h 23400"/>
                  <a:gd name="textAreaBottom" fmla="*/ 23760 h 23400"/>
                </a:gdLst>
                <a:ahLst/>
                <a:rect l="textAreaLeft" t="textAreaTop" r="textAreaRight" b="textAreaBottom"/>
                <a:pathLst>
                  <a:path w="43" h="42">
                    <a:moveTo>
                      <a:pt x="43" y="0"/>
                    </a:moveTo>
                    <a:lnTo>
                      <a:pt x="0" y="42"/>
                    </a:lnTo>
                    <a:lnTo>
                      <a:pt x="43" y="0"/>
                    </a:lnTo>
                  </a:path>
                </a:pathLst>
              </a:custGeom>
              <a:noFill/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Freeform 436"/>
              <p:cNvSpPr/>
              <p:nvPr/>
            </p:nvSpPr>
            <p:spPr>
              <a:xfrm>
                <a:off x="6338520" y="3511440"/>
                <a:ext cx="67320" cy="9720"/>
              </a:xfrm>
              <a:custGeom>
                <a:avLst/>
                <a:gdLst>
                  <a:gd name="textAreaLeft" fmla="*/ 0 w 67320"/>
                  <a:gd name="textAreaRight" fmla="*/ 67680 w 67320"/>
                  <a:gd name="textAreaTop" fmla="*/ 0 h 9720"/>
                  <a:gd name="textAreaBottom" fmla="*/ 10080 h 9720"/>
                </a:gdLst>
                <a:ahLst/>
                <a:rect l="textAreaLeft" t="textAreaTop" r="textAreaRight" b="textAreaBottom"/>
                <a:pathLst>
                  <a:path w="52" h="19">
                    <a:moveTo>
                      <a:pt x="52" y="7"/>
                    </a:moveTo>
                    <a:lnTo>
                      <a:pt x="38" y="19"/>
                    </a:lnTo>
                    <a:lnTo>
                      <a:pt x="0" y="0"/>
                    </a:lnTo>
                    <a:lnTo>
                      <a:pt x="38" y="19"/>
                    </a:lnTo>
                    <a:lnTo>
                      <a:pt x="52" y="7"/>
                    </a:lnTo>
                  </a:path>
                </a:pathLst>
              </a:custGeom>
              <a:noFill/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Freeform 437"/>
              <p:cNvSpPr/>
              <p:nvPr/>
            </p:nvSpPr>
            <p:spPr>
              <a:xfrm>
                <a:off x="6233400" y="3511440"/>
                <a:ext cx="156960" cy="46440"/>
              </a:xfrm>
              <a:custGeom>
                <a:avLst/>
                <a:gdLst>
                  <a:gd name="textAreaLeft" fmla="*/ 0 w 156960"/>
                  <a:gd name="textAreaRight" fmla="*/ 157320 w 156960"/>
                  <a:gd name="textAreaTop" fmla="*/ 0 h 46440"/>
                  <a:gd name="textAreaBottom" fmla="*/ 46800 h 46440"/>
                </a:gdLst>
                <a:ahLst/>
                <a:rect l="textAreaLeft" t="textAreaTop" r="textAreaRight" b="textAreaBottom"/>
                <a:pathLst>
                  <a:path w="118" h="83">
                    <a:moveTo>
                      <a:pt x="80" y="0"/>
                    </a:moveTo>
                    <a:lnTo>
                      <a:pt x="118" y="19"/>
                    </a:lnTo>
                    <a:lnTo>
                      <a:pt x="53" y="83"/>
                    </a:lnTo>
                    <a:lnTo>
                      <a:pt x="0" y="56"/>
                    </a:lnTo>
                    <a:lnTo>
                      <a:pt x="53" y="83"/>
                    </a:lnTo>
                    <a:lnTo>
                      <a:pt x="118" y="19"/>
                    </a:lnTo>
                    <a:lnTo>
                      <a:pt x="80" y="0"/>
                    </a:lnTo>
                  </a:path>
                </a:pathLst>
              </a:custGeom>
              <a:noFill/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Freeform 438"/>
              <p:cNvSpPr/>
              <p:nvPr/>
            </p:nvSpPr>
            <p:spPr>
              <a:xfrm>
                <a:off x="6192000" y="3504600"/>
                <a:ext cx="57240" cy="23400"/>
              </a:xfrm>
              <a:custGeom>
                <a:avLst/>
                <a:gdLst>
                  <a:gd name="textAreaLeft" fmla="*/ 0 w 57240"/>
                  <a:gd name="textAreaRight" fmla="*/ 57600 w 57240"/>
                  <a:gd name="textAreaTop" fmla="*/ 0 h 23400"/>
                  <a:gd name="textAreaBottom" fmla="*/ 23760 h 23400"/>
                </a:gdLst>
                <a:ahLst/>
                <a:rect l="textAreaLeft" t="textAreaTop" r="textAreaRight" b="textAreaBottom"/>
                <a:pathLst>
                  <a:path w="43" h="42">
                    <a:moveTo>
                      <a:pt x="0" y="42"/>
                    </a:moveTo>
                    <a:lnTo>
                      <a:pt x="43" y="0"/>
                    </a:lnTo>
                    <a:lnTo>
                      <a:pt x="0" y="42"/>
                    </a:lnTo>
                  </a:path>
                </a:pathLst>
              </a:custGeom>
              <a:noFill/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Freeform 439"/>
              <p:cNvSpPr/>
              <p:nvPr/>
            </p:nvSpPr>
            <p:spPr>
              <a:xfrm>
                <a:off x="6233400" y="3543480"/>
                <a:ext cx="70200" cy="14760"/>
              </a:xfrm>
              <a:custGeom>
                <a:avLst/>
                <a:gdLst>
                  <a:gd name="textAreaLeft" fmla="*/ 0 w 70200"/>
                  <a:gd name="textAreaRight" fmla="*/ 70560 w 7020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53" h="27">
                    <a:moveTo>
                      <a:pt x="0" y="0"/>
                    </a:moveTo>
                    <a:lnTo>
                      <a:pt x="53" y="27"/>
                    </a:lnTo>
                    <a:lnTo>
                      <a:pt x="52" y="27"/>
                    </a:lnTo>
                    <a:lnTo>
                      <a:pt x="53" y="27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Freeform 440"/>
              <p:cNvSpPr/>
              <p:nvPr/>
            </p:nvSpPr>
            <p:spPr>
              <a:xfrm>
                <a:off x="6594480" y="3511440"/>
                <a:ext cx="2160" cy="1440"/>
              </a:xfrm>
              <a:custGeom>
                <a:avLst/>
                <a:gdLst>
                  <a:gd name="textAreaLeft" fmla="*/ 0 w 2160"/>
                  <a:gd name="textAreaRight" fmla="*/ 2520 w 216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3" y="0"/>
                    </a:moveTo>
                    <a:lnTo>
                      <a:pt x="2" y="2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3" y="0"/>
                    </a:lnTo>
                  </a:path>
                </a:pathLst>
              </a:custGeom>
              <a:noFill/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Freeform 441"/>
              <p:cNvSpPr/>
              <p:nvPr/>
            </p:nvSpPr>
            <p:spPr>
              <a:xfrm>
                <a:off x="6526440" y="3511440"/>
                <a:ext cx="68040" cy="29880"/>
              </a:xfrm>
              <a:custGeom>
                <a:avLst/>
                <a:gdLst>
                  <a:gd name="textAreaLeft" fmla="*/ 0 w 68040"/>
                  <a:gd name="textAreaRight" fmla="*/ 68400 w 68040"/>
                  <a:gd name="textAreaTop" fmla="*/ 0 h 29880"/>
                  <a:gd name="textAreaBottom" fmla="*/ 30240 h 29880"/>
                </a:gdLst>
                <a:ahLst/>
                <a:rect l="textAreaLeft" t="textAreaTop" r="textAreaRight" b="textAreaBottom"/>
                <a:pathLst>
                  <a:path w="54" h="53">
                    <a:moveTo>
                      <a:pt x="52" y="0"/>
                    </a:moveTo>
                    <a:lnTo>
                      <a:pt x="54" y="2"/>
                    </a:lnTo>
                    <a:lnTo>
                      <a:pt x="0" y="53"/>
                    </a:lnTo>
                    <a:lnTo>
                      <a:pt x="54" y="2"/>
                    </a:lnTo>
                    <a:lnTo>
                      <a:pt x="52" y="0"/>
                    </a:lnTo>
                  </a:path>
                </a:pathLst>
              </a:custGeom>
              <a:noFill/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Freeform 442"/>
              <p:cNvSpPr/>
              <p:nvPr/>
            </p:nvSpPr>
            <p:spPr>
              <a:xfrm>
                <a:off x="6390720" y="3515040"/>
                <a:ext cx="101880" cy="29880"/>
              </a:xfrm>
              <a:custGeom>
                <a:avLst/>
                <a:gdLst>
                  <a:gd name="textAreaLeft" fmla="*/ 0 w 101880"/>
                  <a:gd name="textAreaRight" fmla="*/ 102240 w 101880"/>
                  <a:gd name="textAreaTop" fmla="*/ 0 h 29880"/>
                  <a:gd name="textAreaBottom" fmla="*/ 30240 h 29880"/>
                </a:gdLst>
                <a:ahLst/>
                <a:rect l="textAreaLeft" t="textAreaTop" r="textAreaRight" b="textAreaBottom"/>
                <a:pathLst>
                  <a:path w="80" h="52">
                    <a:moveTo>
                      <a:pt x="80" y="52"/>
                    </a:moveTo>
                    <a:lnTo>
                      <a:pt x="0" y="12"/>
                    </a:lnTo>
                    <a:lnTo>
                      <a:pt x="14" y="0"/>
                    </a:lnTo>
                    <a:lnTo>
                      <a:pt x="0" y="12"/>
                    </a:lnTo>
                    <a:lnTo>
                      <a:pt x="80" y="52"/>
                    </a:lnTo>
                  </a:path>
                </a:pathLst>
              </a:custGeom>
              <a:noFill/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Freeform 443"/>
              <p:cNvSpPr/>
              <p:nvPr/>
            </p:nvSpPr>
            <p:spPr>
              <a:xfrm>
                <a:off x="6390720" y="3521520"/>
                <a:ext cx="101880" cy="23400"/>
              </a:xfrm>
              <a:custGeom>
                <a:avLst/>
                <a:gdLst>
                  <a:gd name="textAreaLeft" fmla="*/ 0 w 101880"/>
                  <a:gd name="textAreaRight" fmla="*/ 102240 w 101880"/>
                  <a:gd name="textAreaTop" fmla="*/ 0 h 23400"/>
                  <a:gd name="textAreaBottom" fmla="*/ 23760 h 23400"/>
                </a:gdLst>
                <a:ahLst/>
                <a:rect l="textAreaLeft" t="textAreaTop" r="textAreaRight" b="textAreaBottom"/>
                <a:pathLst>
                  <a:path w="80" h="40">
                    <a:moveTo>
                      <a:pt x="0" y="0"/>
                    </a:moveTo>
                    <a:lnTo>
                      <a:pt x="80" y="4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Freeform 444"/>
              <p:cNvSpPr/>
              <p:nvPr/>
            </p:nvSpPr>
            <p:spPr>
              <a:xfrm>
                <a:off x="6303960" y="3521520"/>
                <a:ext cx="86400" cy="50400"/>
              </a:xfrm>
              <a:custGeom>
                <a:avLst/>
                <a:gdLst>
                  <a:gd name="textAreaLeft" fmla="*/ 0 w 86400"/>
                  <a:gd name="textAreaRight" fmla="*/ 86760 w 86400"/>
                  <a:gd name="textAreaTop" fmla="*/ 0 h 50400"/>
                  <a:gd name="textAreaBottom" fmla="*/ 50760 h 50400"/>
                </a:gdLst>
                <a:ahLst/>
                <a:rect l="textAreaLeft" t="textAreaTop" r="textAreaRight" b="textAreaBottom"/>
                <a:pathLst>
                  <a:path w="65" h="90">
                    <a:moveTo>
                      <a:pt x="52" y="90"/>
                    </a:moveTo>
                    <a:lnTo>
                      <a:pt x="0" y="64"/>
                    </a:lnTo>
                    <a:lnTo>
                      <a:pt x="65" y="0"/>
                    </a:lnTo>
                    <a:lnTo>
                      <a:pt x="0" y="64"/>
                    </a:lnTo>
                    <a:lnTo>
                      <a:pt x="52" y="90"/>
                    </a:lnTo>
                  </a:path>
                </a:pathLst>
              </a:custGeom>
              <a:noFill/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Freeform 445"/>
              <p:cNvSpPr/>
              <p:nvPr/>
            </p:nvSpPr>
            <p:spPr>
              <a:xfrm>
                <a:off x="6303960" y="3558240"/>
                <a:ext cx="68040" cy="13320"/>
              </a:xfrm>
              <a:custGeom>
                <a:avLst/>
                <a:gdLst>
                  <a:gd name="textAreaLeft" fmla="*/ 0 w 68040"/>
                  <a:gd name="textAreaRight" fmla="*/ 68400 w 6804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52" h="26">
                    <a:moveTo>
                      <a:pt x="0" y="0"/>
                    </a:moveTo>
                    <a:lnTo>
                      <a:pt x="52" y="26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Freeform 446"/>
              <p:cNvSpPr/>
              <p:nvPr/>
            </p:nvSpPr>
            <p:spPr>
              <a:xfrm>
                <a:off x="6303960" y="3558240"/>
                <a:ext cx="2880" cy="180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1800"/>
                  <a:gd name="textAreaBottom" fmla="*/ 2160 h 180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lnTo>
                      <a:pt x="1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Freeform 447"/>
              <p:cNvSpPr/>
              <p:nvPr/>
            </p:nvSpPr>
            <p:spPr>
              <a:xfrm>
                <a:off x="6594480" y="3511440"/>
                <a:ext cx="2160" cy="1440"/>
              </a:xfrm>
              <a:custGeom>
                <a:avLst/>
                <a:gdLst>
                  <a:gd name="textAreaLeft" fmla="*/ 0 w 2160"/>
                  <a:gd name="textAreaRight" fmla="*/ 2520 w 216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1" y="2"/>
                    </a:moveTo>
                    <a:lnTo>
                      <a:pt x="0" y="2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1" y="2"/>
                    </a:lnTo>
                  </a:path>
                </a:pathLst>
              </a:custGeom>
              <a:noFill/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Freeform 448"/>
              <p:cNvSpPr/>
              <p:nvPr/>
            </p:nvSpPr>
            <p:spPr>
              <a:xfrm>
                <a:off x="6594480" y="3512880"/>
                <a:ext cx="2160" cy="1800"/>
              </a:xfrm>
              <a:custGeom>
                <a:avLst/>
                <a:gdLst>
                  <a:gd name="textAreaLeft" fmla="*/ 0 w 2160"/>
                  <a:gd name="textAreaRight" fmla="*/ 2520 w 2160"/>
                  <a:gd name="textAreaTop" fmla="*/ 0 h 1800"/>
                  <a:gd name="textAreaBottom" fmla="*/ 2160 h 180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lnTo>
                      <a:pt x="1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Freeform 449"/>
              <p:cNvSpPr/>
              <p:nvPr/>
            </p:nvSpPr>
            <p:spPr>
              <a:xfrm>
                <a:off x="6526440" y="3512880"/>
                <a:ext cx="68040" cy="28440"/>
              </a:xfrm>
              <a:custGeom>
                <a:avLst/>
                <a:gdLst>
                  <a:gd name="textAreaLeft" fmla="*/ 0 w 68040"/>
                  <a:gd name="textAreaRight" fmla="*/ 68400 w 6804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4" h="51">
                    <a:moveTo>
                      <a:pt x="0" y="51"/>
                    </a:moveTo>
                    <a:lnTo>
                      <a:pt x="54" y="0"/>
                    </a:lnTo>
                    <a:lnTo>
                      <a:pt x="0" y="51"/>
                    </a:lnTo>
                  </a:path>
                </a:pathLst>
              </a:custGeom>
              <a:noFill/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Freeform 450"/>
              <p:cNvSpPr/>
              <p:nvPr/>
            </p:nvSpPr>
            <p:spPr>
              <a:xfrm>
                <a:off x="6136920" y="3501360"/>
                <a:ext cx="117720" cy="46800"/>
              </a:xfrm>
              <a:custGeom>
                <a:avLst/>
                <a:gdLst>
                  <a:gd name="textAreaLeft" fmla="*/ 0 w 117720"/>
                  <a:gd name="textAreaRight" fmla="*/ 118080 w 117720"/>
                  <a:gd name="textAreaTop" fmla="*/ 0 h 46800"/>
                  <a:gd name="textAreaBottom" fmla="*/ 47160 h 46800"/>
                </a:gdLst>
                <a:ahLst/>
                <a:rect l="textAreaLeft" t="textAreaTop" r="textAreaRight" b="textAreaBottom"/>
                <a:pathLst>
                  <a:path w="89" h="86">
                    <a:moveTo>
                      <a:pt x="69" y="7"/>
                    </a:moveTo>
                    <a:lnTo>
                      <a:pt x="70" y="15"/>
                    </a:lnTo>
                    <a:lnTo>
                      <a:pt x="81" y="55"/>
                    </a:lnTo>
                    <a:lnTo>
                      <a:pt x="89" y="86"/>
                    </a:lnTo>
                    <a:lnTo>
                      <a:pt x="88" y="86"/>
                    </a:lnTo>
                    <a:lnTo>
                      <a:pt x="85" y="84"/>
                    </a:lnTo>
                    <a:lnTo>
                      <a:pt x="84" y="84"/>
                    </a:lnTo>
                    <a:lnTo>
                      <a:pt x="82" y="84"/>
                    </a:lnTo>
                    <a:lnTo>
                      <a:pt x="81" y="83"/>
                    </a:lnTo>
                    <a:lnTo>
                      <a:pt x="80" y="83"/>
                    </a:lnTo>
                    <a:lnTo>
                      <a:pt x="79" y="83"/>
                    </a:lnTo>
                    <a:lnTo>
                      <a:pt x="76" y="83"/>
                    </a:lnTo>
                    <a:lnTo>
                      <a:pt x="66" y="57"/>
                    </a:lnTo>
                    <a:lnTo>
                      <a:pt x="0" y="38"/>
                    </a:lnTo>
                    <a:lnTo>
                      <a:pt x="22" y="19"/>
                    </a:lnTo>
                    <a:lnTo>
                      <a:pt x="23" y="22"/>
                    </a:lnTo>
                    <a:lnTo>
                      <a:pt x="24" y="25"/>
                    </a:lnTo>
                    <a:lnTo>
                      <a:pt x="26" y="26"/>
                    </a:lnTo>
                    <a:lnTo>
                      <a:pt x="28" y="25"/>
                    </a:lnTo>
                    <a:lnTo>
                      <a:pt x="29" y="22"/>
                    </a:lnTo>
                    <a:lnTo>
                      <a:pt x="30" y="18"/>
                    </a:lnTo>
                    <a:lnTo>
                      <a:pt x="29" y="10"/>
                    </a:lnTo>
                    <a:lnTo>
                      <a:pt x="28" y="0"/>
                    </a:lnTo>
                    <a:lnTo>
                      <a:pt x="32" y="0"/>
                    </a:lnTo>
                    <a:lnTo>
                      <a:pt x="38" y="2"/>
                    </a:lnTo>
                    <a:lnTo>
                      <a:pt x="43" y="2"/>
                    </a:lnTo>
                    <a:lnTo>
                      <a:pt x="48" y="3"/>
                    </a:lnTo>
                    <a:lnTo>
                      <a:pt x="53" y="4"/>
                    </a:lnTo>
                    <a:lnTo>
                      <a:pt x="59" y="4"/>
                    </a:lnTo>
                    <a:lnTo>
                      <a:pt x="63" y="6"/>
                    </a:lnTo>
                    <a:lnTo>
                      <a:pt x="69" y="7"/>
                    </a:lnTo>
                    <a:close/>
                  </a:path>
                </a:pathLst>
              </a:custGeom>
              <a:solidFill>
                <a:srgbClr val="d8e3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Freeform 451"/>
              <p:cNvSpPr/>
              <p:nvPr/>
            </p:nvSpPr>
            <p:spPr>
              <a:xfrm>
                <a:off x="6228720" y="3504600"/>
                <a:ext cx="182520" cy="72000"/>
              </a:xfrm>
              <a:custGeom>
                <a:avLst/>
                <a:gdLst>
                  <a:gd name="textAreaLeft" fmla="*/ 0 w 182520"/>
                  <a:gd name="textAreaRight" fmla="*/ 182880 w 182520"/>
                  <a:gd name="textAreaTop" fmla="*/ 0 h 72000"/>
                  <a:gd name="textAreaBottom" fmla="*/ 72360 h 72000"/>
                </a:gdLst>
                <a:ahLst/>
                <a:rect l="textAreaLeft" t="textAreaTop" r="textAreaRight" b="textAreaBottom"/>
                <a:pathLst>
                  <a:path w="139" h="128">
                    <a:moveTo>
                      <a:pt x="0" y="0"/>
                    </a:moveTo>
                    <a:lnTo>
                      <a:pt x="1" y="8"/>
                    </a:lnTo>
                    <a:lnTo>
                      <a:pt x="12" y="48"/>
                    </a:lnTo>
                    <a:lnTo>
                      <a:pt x="20" y="79"/>
                    </a:lnTo>
                    <a:lnTo>
                      <a:pt x="32" y="83"/>
                    </a:lnTo>
                    <a:lnTo>
                      <a:pt x="44" y="88"/>
                    </a:lnTo>
                    <a:lnTo>
                      <a:pt x="56" y="95"/>
                    </a:lnTo>
                    <a:lnTo>
                      <a:pt x="69" y="102"/>
                    </a:lnTo>
                    <a:lnTo>
                      <a:pt x="79" y="110"/>
                    </a:lnTo>
                    <a:lnTo>
                      <a:pt x="87" y="117"/>
                    </a:lnTo>
                    <a:lnTo>
                      <a:pt x="93" y="122"/>
                    </a:lnTo>
                    <a:lnTo>
                      <a:pt x="95" y="128"/>
                    </a:lnTo>
                    <a:lnTo>
                      <a:pt x="101" y="125"/>
                    </a:lnTo>
                    <a:lnTo>
                      <a:pt x="107" y="122"/>
                    </a:lnTo>
                    <a:lnTo>
                      <a:pt x="113" y="118"/>
                    </a:lnTo>
                    <a:lnTo>
                      <a:pt x="118" y="115"/>
                    </a:lnTo>
                    <a:lnTo>
                      <a:pt x="123" y="113"/>
                    </a:lnTo>
                    <a:lnTo>
                      <a:pt x="129" y="110"/>
                    </a:lnTo>
                    <a:lnTo>
                      <a:pt x="135" y="106"/>
                    </a:lnTo>
                    <a:lnTo>
                      <a:pt x="139" y="103"/>
                    </a:lnTo>
                    <a:lnTo>
                      <a:pt x="130" y="77"/>
                    </a:lnTo>
                    <a:lnTo>
                      <a:pt x="118" y="45"/>
                    </a:lnTo>
                    <a:lnTo>
                      <a:pt x="110" y="16"/>
                    </a:lnTo>
                    <a:lnTo>
                      <a:pt x="96" y="14"/>
                    </a:lnTo>
                    <a:lnTo>
                      <a:pt x="82" y="12"/>
                    </a:lnTo>
                    <a:lnTo>
                      <a:pt x="67" y="11"/>
                    </a:lnTo>
                    <a:lnTo>
                      <a:pt x="54" y="8"/>
                    </a:lnTo>
                    <a:lnTo>
                      <a:pt x="41" y="6"/>
                    </a:lnTo>
                    <a:lnTo>
                      <a:pt x="27" y="4"/>
                    </a:lnTo>
                    <a:lnTo>
                      <a:pt x="13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b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Freeform 452"/>
              <p:cNvSpPr/>
              <p:nvPr/>
            </p:nvSpPr>
            <p:spPr>
              <a:xfrm>
                <a:off x="6372360" y="3512880"/>
                <a:ext cx="164520" cy="48240"/>
              </a:xfrm>
              <a:custGeom>
                <a:avLst/>
                <a:gdLst>
                  <a:gd name="textAreaLeft" fmla="*/ 0 w 164520"/>
                  <a:gd name="textAreaRight" fmla="*/ 164880 w 164520"/>
                  <a:gd name="textAreaTop" fmla="*/ 0 h 48240"/>
                  <a:gd name="textAreaBottom" fmla="*/ 48600 h 48240"/>
                </a:gdLst>
                <a:ahLst/>
                <a:rect l="textAreaLeft" t="textAreaTop" r="textAreaRight" b="textAreaBottom"/>
                <a:pathLst>
                  <a:path w="127" h="87">
                    <a:moveTo>
                      <a:pt x="0" y="0"/>
                    </a:moveTo>
                    <a:lnTo>
                      <a:pt x="8" y="29"/>
                    </a:lnTo>
                    <a:lnTo>
                      <a:pt x="20" y="61"/>
                    </a:lnTo>
                    <a:lnTo>
                      <a:pt x="29" y="87"/>
                    </a:lnTo>
                    <a:lnTo>
                      <a:pt x="41" y="80"/>
                    </a:lnTo>
                    <a:lnTo>
                      <a:pt x="51" y="74"/>
                    </a:lnTo>
                    <a:lnTo>
                      <a:pt x="63" y="67"/>
                    </a:lnTo>
                    <a:lnTo>
                      <a:pt x="74" y="61"/>
                    </a:lnTo>
                    <a:lnTo>
                      <a:pt x="86" y="57"/>
                    </a:lnTo>
                    <a:lnTo>
                      <a:pt x="99" y="53"/>
                    </a:lnTo>
                    <a:lnTo>
                      <a:pt x="113" y="49"/>
                    </a:lnTo>
                    <a:lnTo>
                      <a:pt x="127" y="48"/>
                    </a:lnTo>
                    <a:lnTo>
                      <a:pt x="124" y="42"/>
                    </a:lnTo>
                    <a:lnTo>
                      <a:pt x="114" y="15"/>
                    </a:lnTo>
                    <a:lnTo>
                      <a:pt x="110" y="4"/>
                    </a:lnTo>
                    <a:lnTo>
                      <a:pt x="96" y="6"/>
                    </a:lnTo>
                    <a:lnTo>
                      <a:pt x="84" y="6"/>
                    </a:lnTo>
                    <a:lnTo>
                      <a:pt x="70" y="4"/>
                    </a:lnTo>
                    <a:lnTo>
                      <a:pt x="56" y="4"/>
                    </a:lnTo>
                    <a:lnTo>
                      <a:pt x="42" y="3"/>
                    </a:lnTo>
                    <a:lnTo>
                      <a:pt x="28" y="3"/>
                    </a:lnTo>
                    <a:lnTo>
                      <a:pt x="14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fe7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Freeform 453"/>
              <p:cNvSpPr/>
              <p:nvPr/>
            </p:nvSpPr>
            <p:spPr>
              <a:xfrm>
                <a:off x="6516360" y="3511440"/>
                <a:ext cx="80280" cy="28440"/>
              </a:xfrm>
              <a:custGeom>
                <a:avLst/>
                <a:gdLst>
                  <a:gd name="textAreaLeft" fmla="*/ 0 w 80280"/>
                  <a:gd name="textAreaRight" fmla="*/ 80640 w 8028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62" h="52">
                    <a:moveTo>
                      <a:pt x="0" y="8"/>
                    </a:moveTo>
                    <a:lnTo>
                      <a:pt x="4" y="19"/>
                    </a:lnTo>
                    <a:lnTo>
                      <a:pt x="14" y="46"/>
                    </a:lnTo>
                    <a:lnTo>
                      <a:pt x="17" y="52"/>
                    </a:lnTo>
                    <a:lnTo>
                      <a:pt x="18" y="52"/>
                    </a:lnTo>
                    <a:lnTo>
                      <a:pt x="20" y="52"/>
                    </a:lnTo>
                    <a:lnTo>
                      <a:pt x="21" y="52"/>
                    </a:lnTo>
                    <a:lnTo>
                      <a:pt x="22" y="52"/>
                    </a:lnTo>
                    <a:lnTo>
                      <a:pt x="25" y="52"/>
                    </a:lnTo>
                    <a:lnTo>
                      <a:pt x="26" y="52"/>
                    </a:lnTo>
                    <a:lnTo>
                      <a:pt x="27" y="52"/>
                    </a:lnTo>
                    <a:lnTo>
                      <a:pt x="29" y="52"/>
                    </a:lnTo>
                    <a:lnTo>
                      <a:pt x="33" y="50"/>
                    </a:lnTo>
                    <a:lnTo>
                      <a:pt x="37" y="49"/>
                    </a:lnTo>
                    <a:lnTo>
                      <a:pt x="41" y="48"/>
                    </a:lnTo>
                    <a:lnTo>
                      <a:pt x="45" y="45"/>
                    </a:lnTo>
                    <a:lnTo>
                      <a:pt x="49" y="42"/>
                    </a:lnTo>
                    <a:lnTo>
                      <a:pt x="54" y="41"/>
                    </a:lnTo>
                    <a:lnTo>
                      <a:pt x="57" y="40"/>
                    </a:lnTo>
                    <a:lnTo>
                      <a:pt x="62" y="38"/>
                    </a:lnTo>
                    <a:lnTo>
                      <a:pt x="62" y="0"/>
                    </a:lnTo>
                    <a:lnTo>
                      <a:pt x="55" y="2"/>
                    </a:lnTo>
                    <a:lnTo>
                      <a:pt x="47" y="3"/>
                    </a:lnTo>
                    <a:lnTo>
                      <a:pt x="40" y="4"/>
                    </a:lnTo>
                    <a:lnTo>
                      <a:pt x="32" y="6"/>
                    </a:lnTo>
                    <a:lnTo>
                      <a:pt x="23" y="7"/>
                    </a:lnTo>
                    <a:lnTo>
                      <a:pt x="17" y="7"/>
                    </a:lnTo>
                    <a:lnTo>
                      <a:pt x="8" y="8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e2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Freeform 454"/>
              <p:cNvSpPr/>
              <p:nvPr/>
            </p:nvSpPr>
            <p:spPr>
              <a:xfrm>
                <a:off x="5710680" y="4170240"/>
                <a:ext cx="12960" cy="1980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19800"/>
                  <a:gd name="textAreaBottom" fmla="*/ 20160 h 19800"/>
                </a:gdLst>
                <a:ahLst/>
                <a:rect l="textAreaLeft" t="textAreaTop" r="textAreaRight" b="textAreaBottom"/>
                <a:pathLst>
                  <a:path w="11" h="38">
                    <a:moveTo>
                      <a:pt x="5" y="0"/>
                    </a:moveTo>
                    <a:lnTo>
                      <a:pt x="6" y="0"/>
                    </a:lnTo>
                    <a:lnTo>
                      <a:pt x="7" y="1"/>
                    </a:lnTo>
                    <a:lnTo>
                      <a:pt x="8" y="2"/>
                    </a:lnTo>
                    <a:lnTo>
                      <a:pt x="9" y="5"/>
                    </a:lnTo>
                    <a:lnTo>
                      <a:pt x="9" y="8"/>
                    </a:lnTo>
                    <a:lnTo>
                      <a:pt x="11" y="12"/>
                    </a:lnTo>
                    <a:lnTo>
                      <a:pt x="11" y="15"/>
                    </a:lnTo>
                    <a:lnTo>
                      <a:pt x="11" y="19"/>
                    </a:lnTo>
                    <a:lnTo>
                      <a:pt x="11" y="23"/>
                    </a:lnTo>
                    <a:lnTo>
                      <a:pt x="11" y="27"/>
                    </a:lnTo>
                    <a:lnTo>
                      <a:pt x="9" y="30"/>
                    </a:lnTo>
                    <a:lnTo>
                      <a:pt x="9" y="32"/>
                    </a:lnTo>
                    <a:lnTo>
                      <a:pt x="8" y="35"/>
                    </a:lnTo>
                    <a:lnTo>
                      <a:pt x="7" y="36"/>
                    </a:lnTo>
                    <a:lnTo>
                      <a:pt x="6" y="38"/>
                    </a:lnTo>
                    <a:lnTo>
                      <a:pt x="5" y="38"/>
                    </a:lnTo>
                    <a:lnTo>
                      <a:pt x="4" y="38"/>
                    </a:lnTo>
                    <a:lnTo>
                      <a:pt x="2" y="36"/>
                    </a:lnTo>
                    <a:lnTo>
                      <a:pt x="2" y="35"/>
                    </a:lnTo>
                    <a:lnTo>
                      <a:pt x="1" y="32"/>
                    </a:lnTo>
                    <a:lnTo>
                      <a:pt x="0" y="30"/>
                    </a:lnTo>
                    <a:lnTo>
                      <a:pt x="0" y="27"/>
                    </a:lnTo>
                    <a:lnTo>
                      <a:pt x="0" y="23"/>
                    </a:lnTo>
                    <a:lnTo>
                      <a:pt x="0" y="19"/>
                    </a:lnTo>
                    <a:lnTo>
                      <a:pt x="0" y="15"/>
                    </a:lnTo>
                    <a:lnTo>
                      <a:pt x="0" y="12"/>
                    </a:lnTo>
                    <a:lnTo>
                      <a:pt x="0" y="8"/>
                    </a:lnTo>
                    <a:lnTo>
                      <a:pt x="1" y="5"/>
                    </a:lnTo>
                    <a:lnTo>
                      <a:pt x="2" y="2"/>
                    </a:lnTo>
                    <a:lnTo>
                      <a:pt x="2" y="1"/>
                    </a:lnTo>
                    <a:lnTo>
                      <a:pt x="4" y="0"/>
                    </a:lnTo>
                    <a:lnTo>
                      <a:pt x="5" y="0"/>
                    </a:lnTo>
                  </a:path>
                </a:pathLst>
              </a:custGeom>
              <a:noFill/>
              <a:ln w="0">
                <a:solidFill>
                  <a:srgbClr val="99ccc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Freeform 455"/>
              <p:cNvSpPr/>
              <p:nvPr/>
            </p:nvSpPr>
            <p:spPr>
              <a:xfrm>
                <a:off x="6267960" y="4233960"/>
                <a:ext cx="12960" cy="2160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12" h="38">
                    <a:moveTo>
                      <a:pt x="6" y="0"/>
                    </a:moveTo>
                    <a:lnTo>
                      <a:pt x="7" y="0"/>
                    </a:lnTo>
                    <a:lnTo>
                      <a:pt x="8" y="1"/>
                    </a:lnTo>
                    <a:lnTo>
                      <a:pt x="9" y="3"/>
                    </a:lnTo>
                    <a:lnTo>
                      <a:pt x="9" y="6"/>
                    </a:lnTo>
                    <a:lnTo>
                      <a:pt x="11" y="8"/>
                    </a:lnTo>
                    <a:lnTo>
                      <a:pt x="11" y="12"/>
                    </a:lnTo>
                    <a:lnTo>
                      <a:pt x="12" y="15"/>
                    </a:lnTo>
                    <a:lnTo>
                      <a:pt x="12" y="19"/>
                    </a:lnTo>
                    <a:lnTo>
                      <a:pt x="12" y="23"/>
                    </a:lnTo>
                    <a:lnTo>
                      <a:pt x="11" y="27"/>
                    </a:lnTo>
                    <a:lnTo>
                      <a:pt x="11" y="30"/>
                    </a:lnTo>
                    <a:lnTo>
                      <a:pt x="9" y="33"/>
                    </a:lnTo>
                    <a:lnTo>
                      <a:pt x="9" y="35"/>
                    </a:lnTo>
                    <a:lnTo>
                      <a:pt x="8" y="37"/>
                    </a:lnTo>
                    <a:lnTo>
                      <a:pt x="7" y="38"/>
                    </a:lnTo>
                    <a:lnTo>
                      <a:pt x="6" y="38"/>
                    </a:lnTo>
                    <a:lnTo>
                      <a:pt x="5" y="38"/>
                    </a:lnTo>
                    <a:lnTo>
                      <a:pt x="4" y="37"/>
                    </a:lnTo>
                    <a:lnTo>
                      <a:pt x="3" y="35"/>
                    </a:lnTo>
                    <a:lnTo>
                      <a:pt x="3" y="33"/>
                    </a:lnTo>
                    <a:lnTo>
                      <a:pt x="1" y="30"/>
                    </a:lnTo>
                    <a:lnTo>
                      <a:pt x="1" y="27"/>
                    </a:lnTo>
                    <a:lnTo>
                      <a:pt x="0" y="23"/>
                    </a:lnTo>
                    <a:lnTo>
                      <a:pt x="0" y="19"/>
                    </a:lnTo>
                    <a:lnTo>
                      <a:pt x="0" y="15"/>
                    </a:lnTo>
                    <a:lnTo>
                      <a:pt x="1" y="12"/>
                    </a:lnTo>
                    <a:lnTo>
                      <a:pt x="1" y="8"/>
                    </a:lnTo>
                    <a:lnTo>
                      <a:pt x="3" y="6"/>
                    </a:lnTo>
                    <a:lnTo>
                      <a:pt x="3" y="3"/>
                    </a:lnTo>
                    <a:lnTo>
                      <a:pt x="4" y="1"/>
                    </a:lnTo>
                    <a:lnTo>
                      <a:pt x="5" y="0"/>
                    </a:lnTo>
                    <a:lnTo>
                      <a:pt x="6" y="0"/>
                    </a:lnTo>
                  </a:path>
                </a:pathLst>
              </a:custGeom>
              <a:noFill/>
              <a:ln w="0">
                <a:solidFill>
                  <a:srgbClr val="99ccc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Freeform 456"/>
              <p:cNvSpPr/>
              <p:nvPr/>
            </p:nvSpPr>
            <p:spPr>
              <a:xfrm>
                <a:off x="5922720" y="4198680"/>
                <a:ext cx="44280" cy="1332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34" h="26">
                    <a:moveTo>
                      <a:pt x="18" y="0"/>
                    </a:moveTo>
                    <a:lnTo>
                      <a:pt x="20" y="0"/>
                    </a:lnTo>
                    <a:lnTo>
                      <a:pt x="24" y="2"/>
                    </a:lnTo>
                    <a:lnTo>
                      <a:pt x="27" y="2"/>
                    </a:lnTo>
                    <a:lnTo>
                      <a:pt x="29" y="4"/>
                    </a:lnTo>
                    <a:lnTo>
                      <a:pt x="30" y="6"/>
                    </a:lnTo>
                    <a:lnTo>
                      <a:pt x="33" y="8"/>
                    </a:lnTo>
                    <a:lnTo>
                      <a:pt x="33" y="10"/>
                    </a:lnTo>
                    <a:lnTo>
                      <a:pt x="34" y="13"/>
                    </a:lnTo>
                    <a:lnTo>
                      <a:pt x="33" y="15"/>
                    </a:lnTo>
                    <a:lnTo>
                      <a:pt x="33" y="18"/>
                    </a:lnTo>
                    <a:lnTo>
                      <a:pt x="30" y="21"/>
                    </a:lnTo>
                    <a:lnTo>
                      <a:pt x="29" y="22"/>
                    </a:lnTo>
                    <a:lnTo>
                      <a:pt x="27" y="23"/>
                    </a:lnTo>
                    <a:lnTo>
                      <a:pt x="24" y="25"/>
                    </a:lnTo>
                    <a:lnTo>
                      <a:pt x="20" y="26"/>
                    </a:lnTo>
                    <a:lnTo>
                      <a:pt x="18" y="26"/>
                    </a:lnTo>
                    <a:lnTo>
                      <a:pt x="14" y="26"/>
                    </a:lnTo>
                    <a:lnTo>
                      <a:pt x="11" y="25"/>
                    </a:lnTo>
                    <a:lnTo>
                      <a:pt x="8" y="23"/>
                    </a:lnTo>
                    <a:lnTo>
                      <a:pt x="6" y="22"/>
                    </a:lnTo>
                    <a:lnTo>
                      <a:pt x="4" y="21"/>
                    </a:lnTo>
                    <a:lnTo>
                      <a:pt x="3" y="18"/>
                    </a:lnTo>
                    <a:lnTo>
                      <a:pt x="2" y="15"/>
                    </a:lnTo>
                    <a:lnTo>
                      <a:pt x="0" y="13"/>
                    </a:lnTo>
                    <a:lnTo>
                      <a:pt x="2" y="10"/>
                    </a:lnTo>
                    <a:lnTo>
                      <a:pt x="3" y="8"/>
                    </a:lnTo>
                    <a:lnTo>
                      <a:pt x="4" y="6"/>
                    </a:lnTo>
                    <a:lnTo>
                      <a:pt x="6" y="4"/>
                    </a:lnTo>
                    <a:lnTo>
                      <a:pt x="8" y="2"/>
                    </a:lnTo>
                    <a:lnTo>
                      <a:pt x="11" y="2"/>
                    </a:lnTo>
                    <a:lnTo>
                      <a:pt x="14" y="0"/>
                    </a:lnTo>
                    <a:lnTo>
                      <a:pt x="18" y="0"/>
                    </a:lnTo>
                  </a:path>
                </a:pathLst>
              </a:custGeom>
              <a:noFill/>
              <a:ln w="0">
                <a:solidFill>
                  <a:srgbClr val="99ccc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Freeform 457"/>
              <p:cNvSpPr/>
              <p:nvPr/>
            </p:nvSpPr>
            <p:spPr>
              <a:xfrm>
                <a:off x="6424200" y="4297320"/>
                <a:ext cx="44280" cy="3672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36720"/>
                  <a:gd name="textAreaBottom" fmla="*/ 37080 h 36720"/>
                </a:gdLst>
                <a:ahLst/>
                <a:rect l="textAreaLeft" t="textAreaTop" r="textAreaRight" b="textAreaBottom"/>
                <a:pathLst>
                  <a:path w="33" h="64">
                    <a:moveTo>
                      <a:pt x="17" y="0"/>
                    </a:moveTo>
                    <a:lnTo>
                      <a:pt x="19" y="2"/>
                    </a:lnTo>
                    <a:lnTo>
                      <a:pt x="23" y="3"/>
                    </a:lnTo>
                    <a:lnTo>
                      <a:pt x="26" y="6"/>
                    </a:lnTo>
                    <a:lnTo>
                      <a:pt x="29" y="10"/>
                    </a:lnTo>
                    <a:lnTo>
                      <a:pt x="30" y="15"/>
                    </a:lnTo>
                    <a:lnTo>
                      <a:pt x="32" y="21"/>
                    </a:lnTo>
                    <a:lnTo>
                      <a:pt x="32" y="26"/>
                    </a:lnTo>
                    <a:lnTo>
                      <a:pt x="33" y="33"/>
                    </a:lnTo>
                    <a:lnTo>
                      <a:pt x="32" y="40"/>
                    </a:lnTo>
                    <a:lnTo>
                      <a:pt x="32" y="45"/>
                    </a:lnTo>
                    <a:lnTo>
                      <a:pt x="30" y="51"/>
                    </a:lnTo>
                    <a:lnTo>
                      <a:pt x="29" y="56"/>
                    </a:lnTo>
                    <a:lnTo>
                      <a:pt x="26" y="59"/>
                    </a:lnTo>
                    <a:lnTo>
                      <a:pt x="23" y="63"/>
                    </a:lnTo>
                    <a:lnTo>
                      <a:pt x="19" y="64"/>
                    </a:lnTo>
                    <a:lnTo>
                      <a:pt x="17" y="64"/>
                    </a:lnTo>
                    <a:lnTo>
                      <a:pt x="14" y="64"/>
                    </a:lnTo>
                    <a:lnTo>
                      <a:pt x="10" y="63"/>
                    </a:lnTo>
                    <a:lnTo>
                      <a:pt x="8" y="59"/>
                    </a:lnTo>
                    <a:lnTo>
                      <a:pt x="5" y="56"/>
                    </a:lnTo>
                    <a:lnTo>
                      <a:pt x="3" y="51"/>
                    </a:lnTo>
                    <a:lnTo>
                      <a:pt x="2" y="45"/>
                    </a:lnTo>
                    <a:lnTo>
                      <a:pt x="1" y="40"/>
                    </a:lnTo>
                    <a:lnTo>
                      <a:pt x="0" y="33"/>
                    </a:lnTo>
                    <a:lnTo>
                      <a:pt x="1" y="26"/>
                    </a:lnTo>
                    <a:lnTo>
                      <a:pt x="2" y="21"/>
                    </a:lnTo>
                    <a:lnTo>
                      <a:pt x="3" y="15"/>
                    </a:lnTo>
                    <a:lnTo>
                      <a:pt x="5" y="10"/>
                    </a:lnTo>
                    <a:lnTo>
                      <a:pt x="8" y="6"/>
                    </a:lnTo>
                    <a:lnTo>
                      <a:pt x="10" y="3"/>
                    </a:lnTo>
                    <a:lnTo>
                      <a:pt x="14" y="2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99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Freeform 458"/>
              <p:cNvSpPr/>
              <p:nvPr/>
            </p:nvSpPr>
            <p:spPr>
              <a:xfrm>
                <a:off x="6424200" y="4297320"/>
                <a:ext cx="44280" cy="3672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36720"/>
                  <a:gd name="textAreaBottom" fmla="*/ 37080 h 36720"/>
                </a:gdLst>
                <a:ahLst/>
                <a:rect l="textAreaLeft" t="textAreaTop" r="textAreaRight" b="textAreaBottom"/>
                <a:pathLst>
                  <a:path w="33" h="64">
                    <a:moveTo>
                      <a:pt x="17" y="0"/>
                    </a:moveTo>
                    <a:lnTo>
                      <a:pt x="19" y="2"/>
                    </a:lnTo>
                    <a:lnTo>
                      <a:pt x="23" y="3"/>
                    </a:lnTo>
                    <a:lnTo>
                      <a:pt x="26" y="6"/>
                    </a:lnTo>
                    <a:lnTo>
                      <a:pt x="29" y="10"/>
                    </a:lnTo>
                    <a:lnTo>
                      <a:pt x="30" y="15"/>
                    </a:lnTo>
                    <a:lnTo>
                      <a:pt x="32" y="21"/>
                    </a:lnTo>
                    <a:lnTo>
                      <a:pt x="32" y="26"/>
                    </a:lnTo>
                    <a:lnTo>
                      <a:pt x="33" y="33"/>
                    </a:lnTo>
                    <a:lnTo>
                      <a:pt x="32" y="40"/>
                    </a:lnTo>
                    <a:lnTo>
                      <a:pt x="32" y="45"/>
                    </a:lnTo>
                    <a:lnTo>
                      <a:pt x="30" y="51"/>
                    </a:lnTo>
                    <a:lnTo>
                      <a:pt x="29" y="56"/>
                    </a:lnTo>
                    <a:lnTo>
                      <a:pt x="26" y="59"/>
                    </a:lnTo>
                    <a:lnTo>
                      <a:pt x="23" y="63"/>
                    </a:lnTo>
                    <a:lnTo>
                      <a:pt x="19" y="64"/>
                    </a:lnTo>
                    <a:lnTo>
                      <a:pt x="17" y="64"/>
                    </a:lnTo>
                    <a:lnTo>
                      <a:pt x="14" y="64"/>
                    </a:lnTo>
                    <a:lnTo>
                      <a:pt x="10" y="63"/>
                    </a:lnTo>
                    <a:lnTo>
                      <a:pt x="8" y="59"/>
                    </a:lnTo>
                    <a:lnTo>
                      <a:pt x="5" y="56"/>
                    </a:lnTo>
                    <a:lnTo>
                      <a:pt x="3" y="51"/>
                    </a:lnTo>
                    <a:lnTo>
                      <a:pt x="2" y="45"/>
                    </a:lnTo>
                    <a:lnTo>
                      <a:pt x="1" y="40"/>
                    </a:lnTo>
                    <a:lnTo>
                      <a:pt x="0" y="33"/>
                    </a:lnTo>
                    <a:lnTo>
                      <a:pt x="1" y="26"/>
                    </a:lnTo>
                    <a:lnTo>
                      <a:pt x="2" y="21"/>
                    </a:lnTo>
                    <a:lnTo>
                      <a:pt x="3" y="15"/>
                    </a:lnTo>
                    <a:lnTo>
                      <a:pt x="5" y="10"/>
                    </a:lnTo>
                    <a:lnTo>
                      <a:pt x="8" y="6"/>
                    </a:lnTo>
                    <a:lnTo>
                      <a:pt x="10" y="3"/>
                    </a:lnTo>
                    <a:lnTo>
                      <a:pt x="14" y="2"/>
                    </a:lnTo>
                    <a:lnTo>
                      <a:pt x="17" y="0"/>
                    </a:lnTo>
                  </a:path>
                </a:pathLst>
              </a:custGeom>
              <a:noFill/>
              <a:ln w="0">
                <a:solidFill>
                  <a:srgbClr val="99ccc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Freeform 459"/>
              <p:cNvSpPr/>
              <p:nvPr/>
            </p:nvSpPr>
            <p:spPr>
              <a:xfrm>
                <a:off x="5880960" y="4321080"/>
                <a:ext cx="57240" cy="12960"/>
              </a:xfrm>
              <a:custGeom>
                <a:avLst/>
                <a:gdLst>
                  <a:gd name="textAreaLeft" fmla="*/ 0 w 57240"/>
                  <a:gd name="textAreaRight" fmla="*/ 57600 w 5724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44" h="24">
                    <a:moveTo>
                      <a:pt x="22" y="0"/>
                    </a:moveTo>
                    <a:lnTo>
                      <a:pt x="27" y="0"/>
                    </a:lnTo>
                    <a:lnTo>
                      <a:pt x="30" y="0"/>
                    </a:lnTo>
                    <a:lnTo>
                      <a:pt x="35" y="1"/>
                    </a:lnTo>
                    <a:lnTo>
                      <a:pt x="37" y="2"/>
                    </a:lnTo>
                    <a:lnTo>
                      <a:pt x="40" y="5"/>
                    </a:lnTo>
                    <a:lnTo>
                      <a:pt x="42" y="7"/>
                    </a:lnTo>
                    <a:lnTo>
                      <a:pt x="43" y="9"/>
                    </a:lnTo>
                    <a:lnTo>
                      <a:pt x="44" y="12"/>
                    </a:lnTo>
                    <a:lnTo>
                      <a:pt x="43" y="15"/>
                    </a:lnTo>
                    <a:lnTo>
                      <a:pt x="42" y="17"/>
                    </a:lnTo>
                    <a:lnTo>
                      <a:pt x="40" y="19"/>
                    </a:lnTo>
                    <a:lnTo>
                      <a:pt x="37" y="21"/>
                    </a:lnTo>
                    <a:lnTo>
                      <a:pt x="35" y="23"/>
                    </a:lnTo>
                    <a:lnTo>
                      <a:pt x="30" y="24"/>
                    </a:lnTo>
                    <a:lnTo>
                      <a:pt x="27" y="24"/>
                    </a:lnTo>
                    <a:lnTo>
                      <a:pt x="22" y="24"/>
                    </a:lnTo>
                    <a:lnTo>
                      <a:pt x="17" y="24"/>
                    </a:lnTo>
                    <a:lnTo>
                      <a:pt x="14" y="24"/>
                    </a:lnTo>
                    <a:lnTo>
                      <a:pt x="9" y="23"/>
                    </a:lnTo>
                    <a:lnTo>
                      <a:pt x="7" y="21"/>
                    </a:lnTo>
                    <a:lnTo>
                      <a:pt x="3" y="19"/>
                    </a:lnTo>
                    <a:lnTo>
                      <a:pt x="2" y="17"/>
                    </a:lnTo>
                    <a:lnTo>
                      <a:pt x="0" y="15"/>
                    </a:lnTo>
                    <a:lnTo>
                      <a:pt x="0" y="12"/>
                    </a:lnTo>
                    <a:lnTo>
                      <a:pt x="0" y="9"/>
                    </a:lnTo>
                    <a:lnTo>
                      <a:pt x="2" y="7"/>
                    </a:lnTo>
                    <a:lnTo>
                      <a:pt x="3" y="5"/>
                    </a:lnTo>
                    <a:lnTo>
                      <a:pt x="7" y="2"/>
                    </a:lnTo>
                    <a:lnTo>
                      <a:pt x="9" y="1"/>
                    </a:lnTo>
                    <a:lnTo>
                      <a:pt x="14" y="0"/>
                    </a:lnTo>
                    <a:lnTo>
                      <a:pt x="17" y="0"/>
                    </a:lnTo>
                    <a:lnTo>
                      <a:pt x="22" y="0"/>
                    </a:lnTo>
                  </a:path>
                </a:pathLst>
              </a:custGeom>
              <a:noFill/>
              <a:ln w="0">
                <a:solidFill>
                  <a:srgbClr val="99ccc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Freeform 460"/>
              <p:cNvSpPr/>
              <p:nvPr/>
            </p:nvSpPr>
            <p:spPr>
              <a:xfrm>
                <a:off x="6424200" y="4227120"/>
                <a:ext cx="57240" cy="6480"/>
              </a:xfrm>
              <a:custGeom>
                <a:avLst/>
                <a:gdLst>
                  <a:gd name="textAreaLeft" fmla="*/ 0 w 57240"/>
                  <a:gd name="textAreaRight" fmla="*/ 57600 w 5724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44" h="12">
                    <a:moveTo>
                      <a:pt x="22" y="0"/>
                    </a:moveTo>
                    <a:lnTo>
                      <a:pt x="26" y="0"/>
                    </a:lnTo>
                    <a:lnTo>
                      <a:pt x="31" y="0"/>
                    </a:lnTo>
                    <a:lnTo>
                      <a:pt x="34" y="0"/>
                    </a:lnTo>
                    <a:lnTo>
                      <a:pt x="38" y="1"/>
                    </a:lnTo>
                    <a:lnTo>
                      <a:pt x="40" y="3"/>
                    </a:lnTo>
                    <a:lnTo>
                      <a:pt x="43" y="4"/>
                    </a:lnTo>
                    <a:lnTo>
                      <a:pt x="44" y="4"/>
                    </a:lnTo>
                    <a:lnTo>
                      <a:pt x="44" y="5"/>
                    </a:lnTo>
                    <a:lnTo>
                      <a:pt x="44" y="7"/>
                    </a:lnTo>
                    <a:lnTo>
                      <a:pt x="43" y="8"/>
                    </a:lnTo>
                    <a:lnTo>
                      <a:pt x="40" y="9"/>
                    </a:lnTo>
                    <a:lnTo>
                      <a:pt x="38" y="11"/>
                    </a:lnTo>
                    <a:lnTo>
                      <a:pt x="34" y="11"/>
                    </a:lnTo>
                    <a:lnTo>
                      <a:pt x="31" y="12"/>
                    </a:lnTo>
                    <a:lnTo>
                      <a:pt x="26" y="12"/>
                    </a:lnTo>
                    <a:lnTo>
                      <a:pt x="22" y="12"/>
                    </a:lnTo>
                    <a:lnTo>
                      <a:pt x="18" y="12"/>
                    </a:lnTo>
                    <a:lnTo>
                      <a:pt x="14" y="12"/>
                    </a:lnTo>
                    <a:lnTo>
                      <a:pt x="10" y="11"/>
                    </a:lnTo>
                    <a:lnTo>
                      <a:pt x="7" y="11"/>
                    </a:lnTo>
                    <a:lnTo>
                      <a:pt x="4" y="9"/>
                    </a:lnTo>
                    <a:lnTo>
                      <a:pt x="2" y="8"/>
                    </a:lnTo>
                    <a:lnTo>
                      <a:pt x="1" y="7"/>
                    </a:lnTo>
                    <a:lnTo>
                      <a:pt x="0" y="5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4" y="3"/>
                    </a:lnTo>
                    <a:lnTo>
                      <a:pt x="7" y="1"/>
                    </a:lnTo>
                    <a:lnTo>
                      <a:pt x="10" y="0"/>
                    </a:lnTo>
                    <a:lnTo>
                      <a:pt x="14" y="0"/>
                    </a:lnTo>
                    <a:lnTo>
                      <a:pt x="18" y="0"/>
                    </a:lnTo>
                    <a:lnTo>
                      <a:pt x="22" y="0"/>
                    </a:lnTo>
                  </a:path>
                </a:pathLst>
              </a:custGeom>
              <a:noFill/>
              <a:ln w="0">
                <a:solidFill>
                  <a:srgbClr val="99ccc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Freeform 461"/>
              <p:cNvSpPr/>
              <p:nvPr/>
            </p:nvSpPr>
            <p:spPr>
              <a:xfrm>
                <a:off x="6079320" y="4312440"/>
                <a:ext cx="57240" cy="15120"/>
              </a:xfrm>
              <a:custGeom>
                <a:avLst/>
                <a:gdLst>
                  <a:gd name="textAreaLeft" fmla="*/ 0 w 57240"/>
                  <a:gd name="textAreaRight" fmla="*/ 57600 w 57240"/>
                  <a:gd name="textAreaTop" fmla="*/ 0 h 15120"/>
                  <a:gd name="textAreaBottom" fmla="*/ 15480 h 15120"/>
                </a:gdLst>
                <a:ahLst/>
                <a:rect l="textAreaLeft" t="textAreaTop" r="textAreaRight" b="textAreaBottom"/>
                <a:pathLst>
                  <a:path w="44" h="26">
                    <a:moveTo>
                      <a:pt x="22" y="0"/>
                    </a:moveTo>
                    <a:lnTo>
                      <a:pt x="26" y="0"/>
                    </a:lnTo>
                    <a:lnTo>
                      <a:pt x="31" y="2"/>
                    </a:lnTo>
                    <a:lnTo>
                      <a:pt x="35" y="3"/>
                    </a:lnTo>
                    <a:lnTo>
                      <a:pt x="38" y="4"/>
                    </a:lnTo>
                    <a:lnTo>
                      <a:pt x="40" y="6"/>
                    </a:lnTo>
                    <a:lnTo>
                      <a:pt x="43" y="8"/>
                    </a:lnTo>
                    <a:lnTo>
                      <a:pt x="44" y="11"/>
                    </a:lnTo>
                    <a:lnTo>
                      <a:pt x="44" y="14"/>
                    </a:lnTo>
                    <a:lnTo>
                      <a:pt x="44" y="15"/>
                    </a:lnTo>
                    <a:lnTo>
                      <a:pt x="43" y="18"/>
                    </a:lnTo>
                    <a:lnTo>
                      <a:pt x="40" y="21"/>
                    </a:lnTo>
                    <a:lnTo>
                      <a:pt x="38" y="22"/>
                    </a:lnTo>
                    <a:lnTo>
                      <a:pt x="35" y="23"/>
                    </a:lnTo>
                    <a:lnTo>
                      <a:pt x="31" y="25"/>
                    </a:lnTo>
                    <a:lnTo>
                      <a:pt x="26" y="26"/>
                    </a:lnTo>
                    <a:lnTo>
                      <a:pt x="22" y="26"/>
                    </a:lnTo>
                    <a:lnTo>
                      <a:pt x="18" y="26"/>
                    </a:lnTo>
                    <a:lnTo>
                      <a:pt x="14" y="25"/>
                    </a:lnTo>
                    <a:lnTo>
                      <a:pt x="10" y="23"/>
                    </a:lnTo>
                    <a:lnTo>
                      <a:pt x="7" y="22"/>
                    </a:lnTo>
                    <a:lnTo>
                      <a:pt x="4" y="21"/>
                    </a:lnTo>
                    <a:lnTo>
                      <a:pt x="2" y="18"/>
                    </a:lnTo>
                    <a:lnTo>
                      <a:pt x="1" y="15"/>
                    </a:lnTo>
                    <a:lnTo>
                      <a:pt x="0" y="14"/>
                    </a:lnTo>
                    <a:lnTo>
                      <a:pt x="1" y="11"/>
                    </a:lnTo>
                    <a:lnTo>
                      <a:pt x="2" y="8"/>
                    </a:lnTo>
                    <a:lnTo>
                      <a:pt x="4" y="6"/>
                    </a:lnTo>
                    <a:lnTo>
                      <a:pt x="7" y="4"/>
                    </a:lnTo>
                    <a:lnTo>
                      <a:pt x="10" y="3"/>
                    </a:lnTo>
                    <a:lnTo>
                      <a:pt x="14" y="2"/>
                    </a:lnTo>
                    <a:lnTo>
                      <a:pt x="18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99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Freeform 462"/>
              <p:cNvSpPr/>
              <p:nvPr/>
            </p:nvSpPr>
            <p:spPr>
              <a:xfrm>
                <a:off x="6079320" y="4312440"/>
                <a:ext cx="57240" cy="15120"/>
              </a:xfrm>
              <a:custGeom>
                <a:avLst/>
                <a:gdLst>
                  <a:gd name="textAreaLeft" fmla="*/ 0 w 57240"/>
                  <a:gd name="textAreaRight" fmla="*/ 57600 w 57240"/>
                  <a:gd name="textAreaTop" fmla="*/ 0 h 15120"/>
                  <a:gd name="textAreaBottom" fmla="*/ 15480 h 15120"/>
                </a:gdLst>
                <a:ahLst/>
                <a:rect l="textAreaLeft" t="textAreaTop" r="textAreaRight" b="textAreaBottom"/>
                <a:pathLst>
                  <a:path w="44" h="26">
                    <a:moveTo>
                      <a:pt x="22" y="0"/>
                    </a:moveTo>
                    <a:lnTo>
                      <a:pt x="26" y="0"/>
                    </a:lnTo>
                    <a:lnTo>
                      <a:pt x="31" y="2"/>
                    </a:lnTo>
                    <a:lnTo>
                      <a:pt x="35" y="3"/>
                    </a:lnTo>
                    <a:lnTo>
                      <a:pt x="38" y="4"/>
                    </a:lnTo>
                    <a:lnTo>
                      <a:pt x="40" y="6"/>
                    </a:lnTo>
                    <a:lnTo>
                      <a:pt x="43" y="8"/>
                    </a:lnTo>
                    <a:lnTo>
                      <a:pt x="44" y="11"/>
                    </a:lnTo>
                    <a:lnTo>
                      <a:pt x="44" y="14"/>
                    </a:lnTo>
                    <a:lnTo>
                      <a:pt x="44" y="15"/>
                    </a:lnTo>
                    <a:lnTo>
                      <a:pt x="43" y="18"/>
                    </a:lnTo>
                    <a:lnTo>
                      <a:pt x="40" y="21"/>
                    </a:lnTo>
                    <a:lnTo>
                      <a:pt x="38" y="22"/>
                    </a:lnTo>
                    <a:lnTo>
                      <a:pt x="35" y="23"/>
                    </a:lnTo>
                    <a:lnTo>
                      <a:pt x="31" y="25"/>
                    </a:lnTo>
                    <a:lnTo>
                      <a:pt x="26" y="26"/>
                    </a:lnTo>
                    <a:lnTo>
                      <a:pt x="22" y="26"/>
                    </a:lnTo>
                    <a:lnTo>
                      <a:pt x="18" y="26"/>
                    </a:lnTo>
                    <a:lnTo>
                      <a:pt x="14" y="25"/>
                    </a:lnTo>
                    <a:lnTo>
                      <a:pt x="10" y="23"/>
                    </a:lnTo>
                    <a:lnTo>
                      <a:pt x="7" y="22"/>
                    </a:lnTo>
                    <a:lnTo>
                      <a:pt x="4" y="21"/>
                    </a:lnTo>
                    <a:lnTo>
                      <a:pt x="2" y="18"/>
                    </a:lnTo>
                    <a:lnTo>
                      <a:pt x="1" y="15"/>
                    </a:lnTo>
                    <a:lnTo>
                      <a:pt x="0" y="14"/>
                    </a:lnTo>
                    <a:lnTo>
                      <a:pt x="1" y="11"/>
                    </a:lnTo>
                    <a:lnTo>
                      <a:pt x="2" y="8"/>
                    </a:lnTo>
                    <a:lnTo>
                      <a:pt x="4" y="6"/>
                    </a:lnTo>
                    <a:lnTo>
                      <a:pt x="7" y="4"/>
                    </a:lnTo>
                    <a:lnTo>
                      <a:pt x="10" y="3"/>
                    </a:lnTo>
                    <a:lnTo>
                      <a:pt x="14" y="2"/>
                    </a:lnTo>
                    <a:lnTo>
                      <a:pt x="18" y="0"/>
                    </a:lnTo>
                    <a:lnTo>
                      <a:pt x="22" y="0"/>
                    </a:lnTo>
                  </a:path>
                </a:pathLst>
              </a:custGeom>
              <a:noFill/>
              <a:ln w="0">
                <a:solidFill>
                  <a:srgbClr val="99ccc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Freeform 463"/>
              <p:cNvSpPr/>
              <p:nvPr/>
            </p:nvSpPr>
            <p:spPr>
              <a:xfrm>
                <a:off x="6667560" y="4242240"/>
                <a:ext cx="15840" cy="19800"/>
              </a:xfrm>
              <a:custGeom>
                <a:avLst/>
                <a:gdLst>
                  <a:gd name="textAreaLeft" fmla="*/ 0 w 15840"/>
                  <a:gd name="textAreaRight" fmla="*/ 16200 w 15840"/>
                  <a:gd name="textAreaTop" fmla="*/ 0 h 19800"/>
                  <a:gd name="textAreaBottom" fmla="*/ 20160 h 19800"/>
                </a:gdLst>
                <a:ahLst/>
                <a:rect l="textAreaLeft" t="textAreaTop" r="textAreaRight" b="textAreaBottom"/>
                <a:pathLst>
                  <a:path w="12" h="38">
                    <a:moveTo>
                      <a:pt x="6" y="0"/>
                    </a:moveTo>
                    <a:lnTo>
                      <a:pt x="7" y="0"/>
                    </a:lnTo>
                    <a:lnTo>
                      <a:pt x="8" y="1"/>
                    </a:lnTo>
                    <a:lnTo>
                      <a:pt x="9" y="2"/>
                    </a:lnTo>
                    <a:lnTo>
                      <a:pt x="9" y="5"/>
                    </a:lnTo>
                    <a:lnTo>
                      <a:pt x="11" y="8"/>
                    </a:lnTo>
                    <a:lnTo>
                      <a:pt x="11" y="10"/>
                    </a:lnTo>
                    <a:lnTo>
                      <a:pt x="12" y="15"/>
                    </a:lnTo>
                    <a:lnTo>
                      <a:pt x="12" y="19"/>
                    </a:lnTo>
                    <a:lnTo>
                      <a:pt x="12" y="23"/>
                    </a:lnTo>
                    <a:lnTo>
                      <a:pt x="11" y="25"/>
                    </a:lnTo>
                    <a:lnTo>
                      <a:pt x="11" y="29"/>
                    </a:lnTo>
                    <a:lnTo>
                      <a:pt x="9" y="32"/>
                    </a:lnTo>
                    <a:lnTo>
                      <a:pt x="9" y="34"/>
                    </a:lnTo>
                    <a:lnTo>
                      <a:pt x="8" y="36"/>
                    </a:lnTo>
                    <a:lnTo>
                      <a:pt x="7" y="38"/>
                    </a:lnTo>
                    <a:lnTo>
                      <a:pt x="6" y="38"/>
                    </a:lnTo>
                    <a:lnTo>
                      <a:pt x="5" y="38"/>
                    </a:lnTo>
                    <a:lnTo>
                      <a:pt x="4" y="36"/>
                    </a:lnTo>
                    <a:lnTo>
                      <a:pt x="2" y="34"/>
                    </a:lnTo>
                    <a:lnTo>
                      <a:pt x="2" y="32"/>
                    </a:lnTo>
                    <a:lnTo>
                      <a:pt x="1" y="29"/>
                    </a:lnTo>
                    <a:lnTo>
                      <a:pt x="1" y="25"/>
                    </a:lnTo>
                    <a:lnTo>
                      <a:pt x="0" y="23"/>
                    </a:lnTo>
                    <a:lnTo>
                      <a:pt x="0" y="19"/>
                    </a:lnTo>
                    <a:lnTo>
                      <a:pt x="0" y="15"/>
                    </a:lnTo>
                    <a:lnTo>
                      <a:pt x="1" y="10"/>
                    </a:lnTo>
                    <a:lnTo>
                      <a:pt x="1" y="8"/>
                    </a:lnTo>
                    <a:lnTo>
                      <a:pt x="2" y="5"/>
                    </a:lnTo>
                    <a:lnTo>
                      <a:pt x="2" y="2"/>
                    </a:lnTo>
                    <a:lnTo>
                      <a:pt x="4" y="1"/>
                    </a:lnTo>
                    <a:lnTo>
                      <a:pt x="5" y="0"/>
                    </a:lnTo>
                    <a:lnTo>
                      <a:pt x="6" y="0"/>
                    </a:lnTo>
                  </a:path>
                </a:pathLst>
              </a:custGeom>
              <a:noFill/>
              <a:ln w="0">
                <a:solidFill>
                  <a:srgbClr val="66999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Freeform 464"/>
              <p:cNvSpPr/>
              <p:nvPr/>
            </p:nvSpPr>
            <p:spPr>
              <a:xfrm>
                <a:off x="6555240" y="4448160"/>
                <a:ext cx="12960" cy="2196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11" h="38">
                    <a:moveTo>
                      <a:pt x="5" y="0"/>
                    </a:moveTo>
                    <a:lnTo>
                      <a:pt x="6" y="0"/>
                    </a:lnTo>
                    <a:lnTo>
                      <a:pt x="7" y="2"/>
                    </a:lnTo>
                    <a:lnTo>
                      <a:pt x="8" y="3"/>
                    </a:lnTo>
                    <a:lnTo>
                      <a:pt x="10" y="6"/>
                    </a:lnTo>
                    <a:lnTo>
                      <a:pt x="10" y="9"/>
                    </a:lnTo>
                    <a:lnTo>
                      <a:pt x="11" y="11"/>
                    </a:lnTo>
                    <a:lnTo>
                      <a:pt x="11" y="15"/>
                    </a:lnTo>
                    <a:lnTo>
                      <a:pt x="11" y="19"/>
                    </a:lnTo>
                    <a:lnTo>
                      <a:pt x="11" y="23"/>
                    </a:lnTo>
                    <a:lnTo>
                      <a:pt x="11" y="26"/>
                    </a:lnTo>
                    <a:lnTo>
                      <a:pt x="10" y="30"/>
                    </a:lnTo>
                    <a:lnTo>
                      <a:pt x="10" y="33"/>
                    </a:lnTo>
                    <a:lnTo>
                      <a:pt x="8" y="36"/>
                    </a:lnTo>
                    <a:lnTo>
                      <a:pt x="7" y="37"/>
                    </a:lnTo>
                    <a:lnTo>
                      <a:pt x="6" y="38"/>
                    </a:lnTo>
                    <a:lnTo>
                      <a:pt x="5" y="38"/>
                    </a:lnTo>
                    <a:lnTo>
                      <a:pt x="4" y="38"/>
                    </a:lnTo>
                    <a:lnTo>
                      <a:pt x="3" y="37"/>
                    </a:lnTo>
                    <a:lnTo>
                      <a:pt x="3" y="36"/>
                    </a:lnTo>
                    <a:lnTo>
                      <a:pt x="1" y="33"/>
                    </a:lnTo>
                    <a:lnTo>
                      <a:pt x="0" y="30"/>
                    </a:lnTo>
                    <a:lnTo>
                      <a:pt x="0" y="26"/>
                    </a:lnTo>
                    <a:lnTo>
                      <a:pt x="0" y="23"/>
                    </a:lnTo>
                    <a:lnTo>
                      <a:pt x="0" y="19"/>
                    </a:lnTo>
                    <a:lnTo>
                      <a:pt x="0" y="15"/>
                    </a:lnTo>
                    <a:lnTo>
                      <a:pt x="0" y="11"/>
                    </a:lnTo>
                    <a:lnTo>
                      <a:pt x="0" y="9"/>
                    </a:lnTo>
                    <a:lnTo>
                      <a:pt x="1" y="6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4" y="0"/>
                    </a:lnTo>
                    <a:lnTo>
                      <a:pt x="5" y="0"/>
                    </a:lnTo>
                  </a:path>
                </a:pathLst>
              </a:custGeom>
              <a:noFill/>
              <a:ln w="0">
                <a:solidFill>
                  <a:srgbClr val="99ccc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Freeform 465"/>
              <p:cNvSpPr/>
              <p:nvPr/>
            </p:nvSpPr>
            <p:spPr>
              <a:xfrm>
                <a:off x="6053400" y="4463280"/>
                <a:ext cx="12960" cy="2160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10" h="38">
                    <a:moveTo>
                      <a:pt x="5" y="0"/>
                    </a:moveTo>
                    <a:lnTo>
                      <a:pt x="3" y="0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1" y="6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0" y="15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26"/>
                    </a:lnTo>
                    <a:lnTo>
                      <a:pt x="0" y="30"/>
                    </a:lnTo>
                    <a:lnTo>
                      <a:pt x="1" y="33"/>
                    </a:lnTo>
                    <a:lnTo>
                      <a:pt x="2" y="35"/>
                    </a:lnTo>
                    <a:lnTo>
                      <a:pt x="2" y="37"/>
                    </a:lnTo>
                    <a:lnTo>
                      <a:pt x="3" y="38"/>
                    </a:lnTo>
                    <a:lnTo>
                      <a:pt x="5" y="38"/>
                    </a:lnTo>
                    <a:lnTo>
                      <a:pt x="6" y="38"/>
                    </a:lnTo>
                    <a:lnTo>
                      <a:pt x="7" y="37"/>
                    </a:lnTo>
                    <a:lnTo>
                      <a:pt x="8" y="35"/>
                    </a:lnTo>
                    <a:lnTo>
                      <a:pt x="9" y="33"/>
                    </a:lnTo>
                    <a:lnTo>
                      <a:pt x="9" y="30"/>
                    </a:lnTo>
                    <a:lnTo>
                      <a:pt x="10" y="26"/>
                    </a:lnTo>
                    <a:lnTo>
                      <a:pt x="10" y="23"/>
                    </a:lnTo>
                    <a:lnTo>
                      <a:pt x="10" y="19"/>
                    </a:lnTo>
                    <a:lnTo>
                      <a:pt x="10" y="15"/>
                    </a:lnTo>
                    <a:lnTo>
                      <a:pt x="10" y="11"/>
                    </a:lnTo>
                    <a:lnTo>
                      <a:pt x="9" y="8"/>
                    </a:lnTo>
                    <a:lnTo>
                      <a:pt x="9" y="6"/>
                    </a:lnTo>
                    <a:lnTo>
                      <a:pt x="8" y="3"/>
                    </a:lnTo>
                    <a:lnTo>
                      <a:pt x="7" y="2"/>
                    </a:lnTo>
                    <a:lnTo>
                      <a:pt x="6" y="0"/>
                    </a:lnTo>
                    <a:lnTo>
                      <a:pt x="5" y="0"/>
                    </a:lnTo>
                  </a:path>
                </a:pathLst>
              </a:custGeom>
              <a:noFill/>
              <a:ln w="0">
                <a:solidFill>
                  <a:srgbClr val="99ccc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Freeform 466"/>
              <p:cNvSpPr/>
              <p:nvPr/>
            </p:nvSpPr>
            <p:spPr>
              <a:xfrm>
                <a:off x="5624640" y="4491720"/>
                <a:ext cx="12960" cy="3672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36720"/>
                  <a:gd name="textAreaBottom" fmla="*/ 37080 h 36720"/>
                </a:gdLst>
                <a:ahLst/>
                <a:rect l="textAreaLeft" t="textAreaTop" r="textAreaRight" b="textAreaBottom"/>
                <a:pathLst>
                  <a:path w="11" h="64">
                    <a:moveTo>
                      <a:pt x="6" y="0"/>
                    </a:moveTo>
                    <a:lnTo>
                      <a:pt x="7" y="1"/>
                    </a:lnTo>
                    <a:lnTo>
                      <a:pt x="8" y="5"/>
                    </a:lnTo>
                    <a:lnTo>
                      <a:pt x="9" y="8"/>
                    </a:lnTo>
                    <a:lnTo>
                      <a:pt x="9" y="13"/>
                    </a:lnTo>
                    <a:lnTo>
                      <a:pt x="11" y="19"/>
                    </a:lnTo>
                    <a:lnTo>
                      <a:pt x="11" y="24"/>
                    </a:lnTo>
                    <a:lnTo>
                      <a:pt x="11" y="31"/>
                    </a:lnTo>
                    <a:lnTo>
                      <a:pt x="11" y="38"/>
                    </a:lnTo>
                    <a:lnTo>
                      <a:pt x="11" y="43"/>
                    </a:lnTo>
                    <a:lnTo>
                      <a:pt x="9" y="49"/>
                    </a:lnTo>
                    <a:lnTo>
                      <a:pt x="9" y="54"/>
                    </a:lnTo>
                    <a:lnTo>
                      <a:pt x="8" y="58"/>
                    </a:lnTo>
                    <a:lnTo>
                      <a:pt x="7" y="61"/>
                    </a:lnTo>
                    <a:lnTo>
                      <a:pt x="6" y="62"/>
                    </a:lnTo>
                    <a:lnTo>
                      <a:pt x="6" y="64"/>
                    </a:lnTo>
                    <a:lnTo>
                      <a:pt x="5" y="62"/>
                    </a:lnTo>
                    <a:lnTo>
                      <a:pt x="4" y="61"/>
                    </a:lnTo>
                    <a:lnTo>
                      <a:pt x="2" y="58"/>
                    </a:lnTo>
                    <a:lnTo>
                      <a:pt x="1" y="54"/>
                    </a:lnTo>
                    <a:lnTo>
                      <a:pt x="1" y="49"/>
                    </a:lnTo>
                    <a:lnTo>
                      <a:pt x="0" y="43"/>
                    </a:lnTo>
                    <a:lnTo>
                      <a:pt x="0" y="38"/>
                    </a:lnTo>
                    <a:lnTo>
                      <a:pt x="0" y="31"/>
                    </a:lnTo>
                    <a:lnTo>
                      <a:pt x="0" y="24"/>
                    </a:lnTo>
                    <a:lnTo>
                      <a:pt x="0" y="19"/>
                    </a:lnTo>
                    <a:lnTo>
                      <a:pt x="1" y="13"/>
                    </a:lnTo>
                    <a:lnTo>
                      <a:pt x="1" y="8"/>
                    </a:lnTo>
                    <a:lnTo>
                      <a:pt x="2" y="5"/>
                    </a:lnTo>
                    <a:lnTo>
                      <a:pt x="4" y="1"/>
                    </a:lnTo>
                    <a:lnTo>
                      <a:pt x="5" y="0"/>
                    </a:lnTo>
                    <a:lnTo>
                      <a:pt x="6" y="0"/>
                    </a:lnTo>
                  </a:path>
                </a:pathLst>
              </a:custGeom>
              <a:noFill/>
              <a:ln w="0">
                <a:solidFill>
                  <a:srgbClr val="99ccc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Freeform 467"/>
              <p:cNvSpPr/>
              <p:nvPr/>
            </p:nvSpPr>
            <p:spPr>
              <a:xfrm>
                <a:off x="6852960" y="4642200"/>
                <a:ext cx="41760" cy="3456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34560"/>
                  <a:gd name="textAreaBottom" fmla="*/ 34920 h 34560"/>
                </a:gdLst>
                <a:ahLst/>
                <a:rect l="textAreaLeft" t="textAreaTop" r="textAreaRight" b="textAreaBottom"/>
                <a:pathLst>
                  <a:path w="32" h="64">
                    <a:moveTo>
                      <a:pt x="16" y="0"/>
                    </a:moveTo>
                    <a:lnTo>
                      <a:pt x="19" y="2"/>
                    </a:lnTo>
                    <a:lnTo>
                      <a:pt x="23" y="3"/>
                    </a:lnTo>
                    <a:lnTo>
                      <a:pt x="25" y="6"/>
                    </a:lnTo>
                    <a:lnTo>
                      <a:pt x="27" y="10"/>
                    </a:lnTo>
                    <a:lnTo>
                      <a:pt x="30" y="15"/>
                    </a:lnTo>
                    <a:lnTo>
                      <a:pt x="31" y="21"/>
                    </a:lnTo>
                    <a:lnTo>
                      <a:pt x="32" y="26"/>
                    </a:lnTo>
                    <a:lnTo>
                      <a:pt x="32" y="33"/>
                    </a:lnTo>
                    <a:lnTo>
                      <a:pt x="32" y="40"/>
                    </a:lnTo>
                    <a:lnTo>
                      <a:pt x="31" y="45"/>
                    </a:lnTo>
                    <a:lnTo>
                      <a:pt x="30" y="51"/>
                    </a:lnTo>
                    <a:lnTo>
                      <a:pt x="27" y="55"/>
                    </a:lnTo>
                    <a:lnTo>
                      <a:pt x="25" y="59"/>
                    </a:lnTo>
                    <a:lnTo>
                      <a:pt x="23" y="63"/>
                    </a:lnTo>
                    <a:lnTo>
                      <a:pt x="19" y="64"/>
                    </a:lnTo>
                    <a:lnTo>
                      <a:pt x="16" y="64"/>
                    </a:lnTo>
                    <a:lnTo>
                      <a:pt x="12" y="64"/>
                    </a:lnTo>
                    <a:lnTo>
                      <a:pt x="10" y="63"/>
                    </a:lnTo>
                    <a:lnTo>
                      <a:pt x="6" y="59"/>
                    </a:lnTo>
                    <a:lnTo>
                      <a:pt x="4" y="55"/>
                    </a:lnTo>
                    <a:lnTo>
                      <a:pt x="3" y="51"/>
                    </a:lnTo>
                    <a:lnTo>
                      <a:pt x="1" y="45"/>
                    </a:lnTo>
                    <a:lnTo>
                      <a:pt x="0" y="40"/>
                    </a:lnTo>
                    <a:lnTo>
                      <a:pt x="0" y="33"/>
                    </a:lnTo>
                    <a:lnTo>
                      <a:pt x="0" y="26"/>
                    </a:lnTo>
                    <a:lnTo>
                      <a:pt x="1" y="21"/>
                    </a:lnTo>
                    <a:lnTo>
                      <a:pt x="3" y="15"/>
                    </a:lnTo>
                    <a:lnTo>
                      <a:pt x="4" y="10"/>
                    </a:lnTo>
                    <a:lnTo>
                      <a:pt x="6" y="6"/>
                    </a:lnTo>
                    <a:lnTo>
                      <a:pt x="10" y="3"/>
                    </a:lnTo>
                    <a:lnTo>
                      <a:pt x="12" y="2"/>
                    </a:lnTo>
                    <a:lnTo>
                      <a:pt x="16" y="0"/>
                    </a:lnTo>
                  </a:path>
                </a:pathLst>
              </a:custGeom>
              <a:noFill/>
              <a:ln w="0">
                <a:solidFill>
                  <a:srgbClr val="99ccc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Freeform 468"/>
              <p:cNvSpPr/>
              <p:nvPr/>
            </p:nvSpPr>
            <p:spPr>
              <a:xfrm>
                <a:off x="6338520" y="4627080"/>
                <a:ext cx="44280" cy="2844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32" h="51">
                    <a:moveTo>
                      <a:pt x="16" y="0"/>
                    </a:moveTo>
                    <a:lnTo>
                      <a:pt x="20" y="1"/>
                    </a:lnTo>
                    <a:lnTo>
                      <a:pt x="22" y="2"/>
                    </a:lnTo>
                    <a:lnTo>
                      <a:pt x="25" y="4"/>
                    </a:lnTo>
                    <a:lnTo>
                      <a:pt x="28" y="8"/>
                    </a:lnTo>
                    <a:lnTo>
                      <a:pt x="30" y="12"/>
                    </a:lnTo>
                    <a:lnTo>
                      <a:pt x="31" y="16"/>
                    </a:lnTo>
                    <a:lnTo>
                      <a:pt x="32" y="20"/>
                    </a:lnTo>
                    <a:lnTo>
                      <a:pt x="32" y="25"/>
                    </a:lnTo>
                    <a:lnTo>
                      <a:pt x="32" y="31"/>
                    </a:lnTo>
                    <a:lnTo>
                      <a:pt x="31" y="35"/>
                    </a:lnTo>
                    <a:lnTo>
                      <a:pt x="30" y="40"/>
                    </a:lnTo>
                    <a:lnTo>
                      <a:pt x="28" y="44"/>
                    </a:lnTo>
                    <a:lnTo>
                      <a:pt x="25" y="47"/>
                    </a:lnTo>
                    <a:lnTo>
                      <a:pt x="22" y="50"/>
                    </a:lnTo>
                    <a:lnTo>
                      <a:pt x="20" y="51"/>
                    </a:lnTo>
                    <a:lnTo>
                      <a:pt x="16" y="51"/>
                    </a:lnTo>
                    <a:lnTo>
                      <a:pt x="13" y="51"/>
                    </a:lnTo>
                    <a:lnTo>
                      <a:pt x="9" y="50"/>
                    </a:lnTo>
                    <a:lnTo>
                      <a:pt x="7" y="47"/>
                    </a:lnTo>
                    <a:lnTo>
                      <a:pt x="4" y="44"/>
                    </a:lnTo>
                    <a:lnTo>
                      <a:pt x="2" y="40"/>
                    </a:lnTo>
                    <a:lnTo>
                      <a:pt x="1" y="35"/>
                    </a:lnTo>
                    <a:lnTo>
                      <a:pt x="0" y="31"/>
                    </a:lnTo>
                    <a:lnTo>
                      <a:pt x="0" y="25"/>
                    </a:lnTo>
                    <a:lnTo>
                      <a:pt x="0" y="20"/>
                    </a:lnTo>
                    <a:lnTo>
                      <a:pt x="1" y="16"/>
                    </a:lnTo>
                    <a:lnTo>
                      <a:pt x="2" y="12"/>
                    </a:lnTo>
                    <a:lnTo>
                      <a:pt x="4" y="8"/>
                    </a:lnTo>
                    <a:lnTo>
                      <a:pt x="7" y="4"/>
                    </a:lnTo>
                    <a:lnTo>
                      <a:pt x="9" y="2"/>
                    </a:lnTo>
                    <a:lnTo>
                      <a:pt x="13" y="1"/>
                    </a:lnTo>
                    <a:lnTo>
                      <a:pt x="16" y="0"/>
                    </a:lnTo>
                  </a:path>
                </a:pathLst>
              </a:custGeom>
              <a:noFill/>
              <a:ln w="0">
                <a:solidFill>
                  <a:srgbClr val="99ccc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Freeform 469"/>
              <p:cNvSpPr/>
              <p:nvPr/>
            </p:nvSpPr>
            <p:spPr>
              <a:xfrm>
                <a:off x="6008760" y="4613760"/>
                <a:ext cx="15840" cy="21600"/>
              </a:xfrm>
              <a:custGeom>
                <a:avLst/>
                <a:gdLst>
                  <a:gd name="textAreaLeft" fmla="*/ 0 w 15840"/>
                  <a:gd name="textAreaRight" fmla="*/ 16200 w 1584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12" h="39">
                    <a:moveTo>
                      <a:pt x="6" y="0"/>
                    </a:moveTo>
                    <a:lnTo>
                      <a:pt x="7" y="1"/>
                    </a:lnTo>
                    <a:lnTo>
                      <a:pt x="8" y="1"/>
                    </a:lnTo>
                    <a:lnTo>
                      <a:pt x="10" y="4"/>
                    </a:lnTo>
                    <a:lnTo>
                      <a:pt x="10" y="5"/>
                    </a:lnTo>
                    <a:lnTo>
                      <a:pt x="11" y="9"/>
                    </a:lnTo>
                    <a:lnTo>
                      <a:pt x="11" y="12"/>
                    </a:lnTo>
                    <a:lnTo>
                      <a:pt x="12" y="16"/>
                    </a:lnTo>
                    <a:lnTo>
                      <a:pt x="12" y="19"/>
                    </a:lnTo>
                    <a:lnTo>
                      <a:pt x="12" y="23"/>
                    </a:lnTo>
                    <a:lnTo>
                      <a:pt x="11" y="27"/>
                    </a:lnTo>
                    <a:lnTo>
                      <a:pt x="11" y="30"/>
                    </a:lnTo>
                    <a:lnTo>
                      <a:pt x="10" y="34"/>
                    </a:lnTo>
                    <a:lnTo>
                      <a:pt x="10" y="35"/>
                    </a:lnTo>
                    <a:lnTo>
                      <a:pt x="8" y="38"/>
                    </a:lnTo>
                    <a:lnTo>
                      <a:pt x="7" y="38"/>
                    </a:lnTo>
                    <a:lnTo>
                      <a:pt x="6" y="39"/>
                    </a:lnTo>
                    <a:lnTo>
                      <a:pt x="5" y="38"/>
                    </a:lnTo>
                    <a:lnTo>
                      <a:pt x="4" y="38"/>
                    </a:lnTo>
                    <a:lnTo>
                      <a:pt x="3" y="35"/>
                    </a:lnTo>
                    <a:lnTo>
                      <a:pt x="3" y="34"/>
                    </a:lnTo>
                    <a:lnTo>
                      <a:pt x="2" y="30"/>
                    </a:lnTo>
                    <a:lnTo>
                      <a:pt x="2" y="27"/>
                    </a:lnTo>
                    <a:lnTo>
                      <a:pt x="0" y="23"/>
                    </a:lnTo>
                    <a:lnTo>
                      <a:pt x="0" y="19"/>
                    </a:lnTo>
                    <a:lnTo>
                      <a:pt x="0" y="16"/>
                    </a:lnTo>
                    <a:lnTo>
                      <a:pt x="2" y="12"/>
                    </a:lnTo>
                    <a:lnTo>
                      <a:pt x="2" y="9"/>
                    </a:lnTo>
                    <a:lnTo>
                      <a:pt x="3" y="5"/>
                    </a:lnTo>
                    <a:lnTo>
                      <a:pt x="3" y="4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6" y="0"/>
                    </a:lnTo>
                  </a:path>
                </a:pathLst>
              </a:custGeom>
              <a:noFill/>
              <a:ln w="0">
                <a:solidFill>
                  <a:srgbClr val="99ccc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Freeform 470"/>
              <p:cNvSpPr/>
              <p:nvPr/>
            </p:nvSpPr>
            <p:spPr>
              <a:xfrm>
                <a:off x="6824520" y="4498560"/>
                <a:ext cx="44280" cy="1476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33" h="26">
                    <a:moveTo>
                      <a:pt x="16" y="0"/>
                    </a:moveTo>
                    <a:lnTo>
                      <a:pt x="19" y="0"/>
                    </a:lnTo>
                    <a:lnTo>
                      <a:pt x="23" y="1"/>
                    </a:lnTo>
                    <a:lnTo>
                      <a:pt x="25" y="3"/>
                    </a:lnTo>
                    <a:lnTo>
                      <a:pt x="27" y="4"/>
                    </a:lnTo>
                    <a:lnTo>
                      <a:pt x="30" y="5"/>
                    </a:lnTo>
                    <a:lnTo>
                      <a:pt x="31" y="8"/>
                    </a:lnTo>
                    <a:lnTo>
                      <a:pt x="32" y="11"/>
                    </a:lnTo>
                    <a:lnTo>
                      <a:pt x="33" y="12"/>
                    </a:lnTo>
                    <a:lnTo>
                      <a:pt x="32" y="15"/>
                    </a:lnTo>
                    <a:lnTo>
                      <a:pt x="31" y="18"/>
                    </a:lnTo>
                    <a:lnTo>
                      <a:pt x="30" y="20"/>
                    </a:lnTo>
                    <a:lnTo>
                      <a:pt x="27" y="22"/>
                    </a:lnTo>
                    <a:lnTo>
                      <a:pt x="25" y="23"/>
                    </a:lnTo>
                    <a:lnTo>
                      <a:pt x="23" y="24"/>
                    </a:lnTo>
                    <a:lnTo>
                      <a:pt x="19" y="26"/>
                    </a:lnTo>
                    <a:lnTo>
                      <a:pt x="16" y="26"/>
                    </a:lnTo>
                    <a:lnTo>
                      <a:pt x="13" y="26"/>
                    </a:lnTo>
                    <a:lnTo>
                      <a:pt x="10" y="24"/>
                    </a:lnTo>
                    <a:lnTo>
                      <a:pt x="6" y="23"/>
                    </a:lnTo>
                    <a:lnTo>
                      <a:pt x="4" y="22"/>
                    </a:lnTo>
                    <a:lnTo>
                      <a:pt x="3" y="20"/>
                    </a:lnTo>
                    <a:lnTo>
                      <a:pt x="1" y="18"/>
                    </a:lnTo>
                    <a:lnTo>
                      <a:pt x="0" y="15"/>
                    </a:lnTo>
                    <a:lnTo>
                      <a:pt x="0" y="12"/>
                    </a:lnTo>
                    <a:lnTo>
                      <a:pt x="0" y="11"/>
                    </a:lnTo>
                    <a:lnTo>
                      <a:pt x="1" y="8"/>
                    </a:lnTo>
                    <a:lnTo>
                      <a:pt x="3" y="5"/>
                    </a:lnTo>
                    <a:lnTo>
                      <a:pt x="4" y="4"/>
                    </a:lnTo>
                    <a:lnTo>
                      <a:pt x="6" y="3"/>
                    </a:lnTo>
                    <a:lnTo>
                      <a:pt x="10" y="1"/>
                    </a:lnTo>
                    <a:lnTo>
                      <a:pt x="13" y="0"/>
                    </a:lnTo>
                    <a:lnTo>
                      <a:pt x="16" y="0"/>
                    </a:lnTo>
                  </a:path>
                </a:pathLst>
              </a:custGeom>
              <a:noFill/>
              <a:ln w="0">
                <a:solidFill>
                  <a:srgbClr val="99ccc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Freeform 471"/>
              <p:cNvSpPr/>
              <p:nvPr/>
            </p:nvSpPr>
            <p:spPr>
              <a:xfrm>
                <a:off x="5394600" y="4655520"/>
                <a:ext cx="41400" cy="15120"/>
              </a:xfrm>
              <a:custGeom>
                <a:avLst/>
                <a:gdLst>
                  <a:gd name="textAreaLeft" fmla="*/ 0 w 41400"/>
                  <a:gd name="textAreaRight" fmla="*/ 41760 w 41400"/>
                  <a:gd name="textAreaTop" fmla="*/ 0 h 15120"/>
                  <a:gd name="textAreaBottom" fmla="*/ 15480 h 15120"/>
                </a:gdLst>
                <a:ahLst/>
                <a:rect l="textAreaLeft" t="textAreaTop" r="textAreaRight" b="textAreaBottom"/>
                <a:pathLst>
                  <a:path w="34" h="26">
                    <a:moveTo>
                      <a:pt x="17" y="0"/>
                    </a:moveTo>
                    <a:lnTo>
                      <a:pt x="21" y="0"/>
                    </a:lnTo>
                    <a:lnTo>
                      <a:pt x="23" y="2"/>
                    </a:lnTo>
                    <a:lnTo>
                      <a:pt x="27" y="3"/>
                    </a:lnTo>
                    <a:lnTo>
                      <a:pt x="29" y="4"/>
                    </a:lnTo>
                    <a:lnTo>
                      <a:pt x="30" y="6"/>
                    </a:lnTo>
                    <a:lnTo>
                      <a:pt x="32" y="8"/>
                    </a:lnTo>
                    <a:lnTo>
                      <a:pt x="34" y="11"/>
                    </a:lnTo>
                    <a:lnTo>
                      <a:pt x="34" y="14"/>
                    </a:lnTo>
                    <a:lnTo>
                      <a:pt x="34" y="15"/>
                    </a:lnTo>
                    <a:lnTo>
                      <a:pt x="32" y="18"/>
                    </a:lnTo>
                    <a:lnTo>
                      <a:pt x="30" y="21"/>
                    </a:lnTo>
                    <a:lnTo>
                      <a:pt x="29" y="22"/>
                    </a:lnTo>
                    <a:lnTo>
                      <a:pt x="27" y="23"/>
                    </a:lnTo>
                    <a:lnTo>
                      <a:pt x="23" y="25"/>
                    </a:lnTo>
                    <a:lnTo>
                      <a:pt x="21" y="26"/>
                    </a:lnTo>
                    <a:lnTo>
                      <a:pt x="17" y="26"/>
                    </a:lnTo>
                    <a:lnTo>
                      <a:pt x="14" y="26"/>
                    </a:lnTo>
                    <a:lnTo>
                      <a:pt x="10" y="25"/>
                    </a:lnTo>
                    <a:lnTo>
                      <a:pt x="8" y="23"/>
                    </a:lnTo>
                    <a:lnTo>
                      <a:pt x="6" y="22"/>
                    </a:lnTo>
                    <a:lnTo>
                      <a:pt x="4" y="21"/>
                    </a:lnTo>
                    <a:lnTo>
                      <a:pt x="2" y="18"/>
                    </a:lnTo>
                    <a:lnTo>
                      <a:pt x="1" y="15"/>
                    </a:lnTo>
                    <a:lnTo>
                      <a:pt x="0" y="14"/>
                    </a:lnTo>
                    <a:lnTo>
                      <a:pt x="1" y="11"/>
                    </a:lnTo>
                    <a:lnTo>
                      <a:pt x="2" y="8"/>
                    </a:lnTo>
                    <a:lnTo>
                      <a:pt x="4" y="6"/>
                    </a:lnTo>
                    <a:lnTo>
                      <a:pt x="6" y="4"/>
                    </a:lnTo>
                    <a:lnTo>
                      <a:pt x="8" y="3"/>
                    </a:lnTo>
                    <a:lnTo>
                      <a:pt x="10" y="2"/>
                    </a:lnTo>
                    <a:lnTo>
                      <a:pt x="14" y="0"/>
                    </a:lnTo>
                    <a:lnTo>
                      <a:pt x="17" y="0"/>
                    </a:lnTo>
                  </a:path>
                </a:pathLst>
              </a:custGeom>
              <a:noFill/>
              <a:ln w="0">
                <a:solidFill>
                  <a:srgbClr val="99ccc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Freeform 472"/>
              <p:cNvSpPr/>
              <p:nvPr/>
            </p:nvSpPr>
            <p:spPr>
              <a:xfrm>
                <a:off x="6238800" y="4456440"/>
                <a:ext cx="57240" cy="6480"/>
              </a:xfrm>
              <a:custGeom>
                <a:avLst/>
                <a:gdLst>
                  <a:gd name="textAreaLeft" fmla="*/ 0 w 57240"/>
                  <a:gd name="textAreaRight" fmla="*/ 57600 w 5724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44" h="13">
                    <a:moveTo>
                      <a:pt x="22" y="0"/>
                    </a:moveTo>
                    <a:lnTo>
                      <a:pt x="27" y="0"/>
                    </a:lnTo>
                    <a:lnTo>
                      <a:pt x="31" y="1"/>
                    </a:lnTo>
                    <a:lnTo>
                      <a:pt x="35" y="1"/>
                    </a:lnTo>
                    <a:lnTo>
                      <a:pt x="38" y="2"/>
                    </a:lnTo>
                    <a:lnTo>
                      <a:pt x="41" y="2"/>
                    </a:lnTo>
                    <a:lnTo>
                      <a:pt x="43" y="4"/>
                    </a:lnTo>
                    <a:lnTo>
                      <a:pt x="44" y="5"/>
                    </a:lnTo>
                    <a:lnTo>
                      <a:pt x="44" y="6"/>
                    </a:lnTo>
                    <a:lnTo>
                      <a:pt x="44" y="8"/>
                    </a:lnTo>
                    <a:lnTo>
                      <a:pt x="43" y="9"/>
                    </a:lnTo>
                    <a:lnTo>
                      <a:pt x="41" y="10"/>
                    </a:lnTo>
                    <a:lnTo>
                      <a:pt x="38" y="10"/>
                    </a:lnTo>
                    <a:lnTo>
                      <a:pt x="35" y="12"/>
                    </a:lnTo>
                    <a:lnTo>
                      <a:pt x="31" y="12"/>
                    </a:lnTo>
                    <a:lnTo>
                      <a:pt x="27" y="13"/>
                    </a:lnTo>
                    <a:lnTo>
                      <a:pt x="22" y="13"/>
                    </a:lnTo>
                    <a:lnTo>
                      <a:pt x="19" y="13"/>
                    </a:lnTo>
                    <a:lnTo>
                      <a:pt x="14" y="12"/>
                    </a:lnTo>
                    <a:lnTo>
                      <a:pt x="11" y="12"/>
                    </a:lnTo>
                    <a:lnTo>
                      <a:pt x="7" y="10"/>
                    </a:lnTo>
                    <a:lnTo>
                      <a:pt x="5" y="10"/>
                    </a:lnTo>
                    <a:lnTo>
                      <a:pt x="3" y="9"/>
                    </a:lnTo>
                    <a:lnTo>
                      <a:pt x="1" y="8"/>
                    </a:lnTo>
                    <a:lnTo>
                      <a:pt x="0" y="6"/>
                    </a:lnTo>
                    <a:lnTo>
                      <a:pt x="1" y="5"/>
                    </a:lnTo>
                    <a:lnTo>
                      <a:pt x="3" y="4"/>
                    </a:lnTo>
                    <a:lnTo>
                      <a:pt x="5" y="2"/>
                    </a:lnTo>
                    <a:lnTo>
                      <a:pt x="7" y="2"/>
                    </a:lnTo>
                    <a:lnTo>
                      <a:pt x="11" y="1"/>
                    </a:lnTo>
                    <a:lnTo>
                      <a:pt x="14" y="1"/>
                    </a:lnTo>
                    <a:lnTo>
                      <a:pt x="19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66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Freeform 473"/>
              <p:cNvSpPr/>
              <p:nvPr/>
            </p:nvSpPr>
            <p:spPr>
              <a:xfrm>
                <a:off x="6238800" y="4456440"/>
                <a:ext cx="57240" cy="6480"/>
              </a:xfrm>
              <a:custGeom>
                <a:avLst/>
                <a:gdLst>
                  <a:gd name="textAreaLeft" fmla="*/ 0 w 57240"/>
                  <a:gd name="textAreaRight" fmla="*/ 57600 w 5724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44" h="13">
                    <a:moveTo>
                      <a:pt x="22" y="0"/>
                    </a:moveTo>
                    <a:lnTo>
                      <a:pt x="27" y="0"/>
                    </a:lnTo>
                    <a:lnTo>
                      <a:pt x="31" y="1"/>
                    </a:lnTo>
                    <a:lnTo>
                      <a:pt x="35" y="1"/>
                    </a:lnTo>
                    <a:lnTo>
                      <a:pt x="38" y="2"/>
                    </a:lnTo>
                    <a:lnTo>
                      <a:pt x="41" y="2"/>
                    </a:lnTo>
                    <a:lnTo>
                      <a:pt x="43" y="4"/>
                    </a:lnTo>
                    <a:lnTo>
                      <a:pt x="44" y="5"/>
                    </a:lnTo>
                    <a:lnTo>
                      <a:pt x="44" y="6"/>
                    </a:lnTo>
                    <a:lnTo>
                      <a:pt x="44" y="8"/>
                    </a:lnTo>
                    <a:lnTo>
                      <a:pt x="43" y="9"/>
                    </a:lnTo>
                    <a:lnTo>
                      <a:pt x="41" y="10"/>
                    </a:lnTo>
                    <a:lnTo>
                      <a:pt x="38" y="10"/>
                    </a:lnTo>
                    <a:lnTo>
                      <a:pt x="35" y="12"/>
                    </a:lnTo>
                    <a:lnTo>
                      <a:pt x="31" y="12"/>
                    </a:lnTo>
                    <a:lnTo>
                      <a:pt x="27" y="13"/>
                    </a:lnTo>
                    <a:lnTo>
                      <a:pt x="22" y="13"/>
                    </a:lnTo>
                    <a:lnTo>
                      <a:pt x="19" y="13"/>
                    </a:lnTo>
                    <a:lnTo>
                      <a:pt x="14" y="12"/>
                    </a:lnTo>
                    <a:lnTo>
                      <a:pt x="11" y="12"/>
                    </a:lnTo>
                    <a:lnTo>
                      <a:pt x="7" y="10"/>
                    </a:lnTo>
                    <a:lnTo>
                      <a:pt x="5" y="10"/>
                    </a:lnTo>
                    <a:lnTo>
                      <a:pt x="3" y="9"/>
                    </a:lnTo>
                    <a:lnTo>
                      <a:pt x="1" y="8"/>
                    </a:lnTo>
                    <a:lnTo>
                      <a:pt x="0" y="6"/>
                    </a:lnTo>
                    <a:lnTo>
                      <a:pt x="1" y="5"/>
                    </a:lnTo>
                    <a:lnTo>
                      <a:pt x="3" y="4"/>
                    </a:lnTo>
                    <a:lnTo>
                      <a:pt x="5" y="2"/>
                    </a:lnTo>
                    <a:lnTo>
                      <a:pt x="7" y="2"/>
                    </a:lnTo>
                    <a:lnTo>
                      <a:pt x="11" y="1"/>
                    </a:lnTo>
                    <a:lnTo>
                      <a:pt x="14" y="1"/>
                    </a:lnTo>
                    <a:lnTo>
                      <a:pt x="19" y="0"/>
                    </a:lnTo>
                    <a:lnTo>
                      <a:pt x="22" y="0"/>
                    </a:lnTo>
                  </a:path>
                </a:pathLst>
              </a:custGeom>
              <a:noFill/>
              <a:ln w="0">
                <a:solidFill>
                  <a:srgbClr val="99ccc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Freeform 474"/>
              <p:cNvSpPr/>
              <p:nvPr/>
            </p:nvSpPr>
            <p:spPr>
              <a:xfrm>
                <a:off x="6280920" y="4334040"/>
                <a:ext cx="15120" cy="28440"/>
              </a:xfrm>
              <a:custGeom>
                <a:avLst/>
                <a:gdLst>
                  <a:gd name="textAreaLeft" fmla="*/ 0 w 15120"/>
                  <a:gd name="textAreaRight" fmla="*/ 15480 w 151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0" h="52">
                    <a:moveTo>
                      <a:pt x="6" y="0"/>
                    </a:moveTo>
                    <a:lnTo>
                      <a:pt x="7" y="2"/>
                    </a:lnTo>
                    <a:lnTo>
                      <a:pt x="7" y="3"/>
                    </a:lnTo>
                    <a:lnTo>
                      <a:pt x="8" y="6"/>
                    </a:lnTo>
                    <a:lnTo>
                      <a:pt x="9" y="8"/>
                    </a:lnTo>
                    <a:lnTo>
                      <a:pt x="9" y="12"/>
                    </a:lnTo>
                    <a:lnTo>
                      <a:pt x="10" y="16"/>
                    </a:lnTo>
                    <a:lnTo>
                      <a:pt x="10" y="22"/>
                    </a:lnTo>
                    <a:lnTo>
                      <a:pt x="10" y="26"/>
                    </a:lnTo>
                    <a:lnTo>
                      <a:pt x="10" y="31"/>
                    </a:lnTo>
                    <a:lnTo>
                      <a:pt x="10" y="37"/>
                    </a:lnTo>
                    <a:lnTo>
                      <a:pt x="9" y="41"/>
                    </a:lnTo>
                    <a:lnTo>
                      <a:pt x="9" y="45"/>
                    </a:lnTo>
                    <a:lnTo>
                      <a:pt x="8" y="48"/>
                    </a:lnTo>
                    <a:lnTo>
                      <a:pt x="7" y="50"/>
                    </a:lnTo>
                    <a:lnTo>
                      <a:pt x="7" y="52"/>
                    </a:lnTo>
                    <a:lnTo>
                      <a:pt x="6" y="52"/>
                    </a:lnTo>
                    <a:lnTo>
                      <a:pt x="4" y="52"/>
                    </a:lnTo>
                    <a:lnTo>
                      <a:pt x="3" y="50"/>
                    </a:lnTo>
                    <a:lnTo>
                      <a:pt x="2" y="48"/>
                    </a:lnTo>
                    <a:lnTo>
                      <a:pt x="1" y="45"/>
                    </a:lnTo>
                    <a:lnTo>
                      <a:pt x="1" y="41"/>
                    </a:lnTo>
                    <a:lnTo>
                      <a:pt x="0" y="37"/>
                    </a:lnTo>
                    <a:lnTo>
                      <a:pt x="0" y="31"/>
                    </a:lnTo>
                    <a:lnTo>
                      <a:pt x="0" y="26"/>
                    </a:lnTo>
                    <a:lnTo>
                      <a:pt x="0" y="22"/>
                    </a:lnTo>
                    <a:lnTo>
                      <a:pt x="0" y="16"/>
                    </a:lnTo>
                    <a:lnTo>
                      <a:pt x="1" y="12"/>
                    </a:lnTo>
                    <a:lnTo>
                      <a:pt x="1" y="8"/>
                    </a:lnTo>
                    <a:lnTo>
                      <a:pt x="2" y="6"/>
                    </a:lnTo>
                    <a:lnTo>
                      <a:pt x="3" y="3"/>
                    </a:lnTo>
                    <a:lnTo>
                      <a:pt x="4" y="2"/>
                    </a:lnTo>
                    <a:lnTo>
                      <a:pt x="6" y="0"/>
                    </a:lnTo>
                  </a:path>
                </a:pathLst>
              </a:custGeom>
              <a:noFill/>
              <a:ln w="0">
                <a:solidFill>
                  <a:srgbClr val="99ccc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Freeform 475"/>
              <p:cNvSpPr/>
              <p:nvPr/>
            </p:nvSpPr>
            <p:spPr>
              <a:xfrm>
                <a:off x="6079320" y="4227120"/>
                <a:ext cx="28800" cy="2196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22" h="38">
                    <a:moveTo>
                      <a:pt x="11" y="0"/>
                    </a:moveTo>
                    <a:lnTo>
                      <a:pt x="14" y="0"/>
                    </a:lnTo>
                    <a:lnTo>
                      <a:pt x="16" y="1"/>
                    </a:lnTo>
                    <a:lnTo>
                      <a:pt x="17" y="3"/>
                    </a:lnTo>
                    <a:lnTo>
                      <a:pt x="19" y="5"/>
                    </a:lnTo>
                    <a:lnTo>
                      <a:pt x="21" y="8"/>
                    </a:lnTo>
                    <a:lnTo>
                      <a:pt x="22" y="11"/>
                    </a:lnTo>
                    <a:lnTo>
                      <a:pt x="22" y="15"/>
                    </a:lnTo>
                    <a:lnTo>
                      <a:pt x="22" y="19"/>
                    </a:lnTo>
                    <a:lnTo>
                      <a:pt x="22" y="23"/>
                    </a:lnTo>
                    <a:lnTo>
                      <a:pt x="22" y="26"/>
                    </a:lnTo>
                    <a:lnTo>
                      <a:pt x="21" y="30"/>
                    </a:lnTo>
                    <a:lnTo>
                      <a:pt x="19" y="32"/>
                    </a:lnTo>
                    <a:lnTo>
                      <a:pt x="17" y="35"/>
                    </a:lnTo>
                    <a:lnTo>
                      <a:pt x="16" y="36"/>
                    </a:lnTo>
                    <a:lnTo>
                      <a:pt x="14" y="38"/>
                    </a:lnTo>
                    <a:lnTo>
                      <a:pt x="11" y="38"/>
                    </a:lnTo>
                    <a:lnTo>
                      <a:pt x="9" y="38"/>
                    </a:lnTo>
                    <a:lnTo>
                      <a:pt x="7" y="36"/>
                    </a:lnTo>
                    <a:lnTo>
                      <a:pt x="6" y="35"/>
                    </a:lnTo>
                    <a:lnTo>
                      <a:pt x="3" y="32"/>
                    </a:lnTo>
                    <a:lnTo>
                      <a:pt x="2" y="30"/>
                    </a:lnTo>
                    <a:lnTo>
                      <a:pt x="1" y="26"/>
                    </a:lnTo>
                    <a:lnTo>
                      <a:pt x="1" y="23"/>
                    </a:lnTo>
                    <a:lnTo>
                      <a:pt x="0" y="19"/>
                    </a:lnTo>
                    <a:lnTo>
                      <a:pt x="1" y="15"/>
                    </a:lnTo>
                    <a:lnTo>
                      <a:pt x="1" y="11"/>
                    </a:lnTo>
                    <a:lnTo>
                      <a:pt x="2" y="8"/>
                    </a:lnTo>
                    <a:lnTo>
                      <a:pt x="3" y="5"/>
                    </a:lnTo>
                    <a:lnTo>
                      <a:pt x="6" y="3"/>
                    </a:lnTo>
                    <a:lnTo>
                      <a:pt x="7" y="1"/>
                    </a:lnTo>
                    <a:lnTo>
                      <a:pt x="9" y="0"/>
                    </a:lnTo>
                    <a:lnTo>
                      <a:pt x="11" y="0"/>
                    </a:lnTo>
                  </a:path>
                </a:pathLst>
              </a:custGeom>
              <a:noFill/>
              <a:ln w="0">
                <a:solidFill>
                  <a:srgbClr val="66999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Freeform 476"/>
              <p:cNvSpPr/>
              <p:nvPr/>
            </p:nvSpPr>
            <p:spPr>
              <a:xfrm>
                <a:off x="6066360" y="4413240"/>
                <a:ext cx="28800" cy="612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22" h="12">
                    <a:moveTo>
                      <a:pt x="11" y="0"/>
                    </a:moveTo>
                    <a:lnTo>
                      <a:pt x="13" y="0"/>
                    </a:lnTo>
                    <a:lnTo>
                      <a:pt x="15" y="0"/>
                    </a:lnTo>
                    <a:lnTo>
                      <a:pt x="18" y="0"/>
                    </a:lnTo>
                    <a:lnTo>
                      <a:pt x="19" y="1"/>
                    </a:lnTo>
                    <a:lnTo>
                      <a:pt x="20" y="2"/>
                    </a:lnTo>
                    <a:lnTo>
                      <a:pt x="21" y="2"/>
                    </a:lnTo>
                    <a:lnTo>
                      <a:pt x="22" y="4"/>
                    </a:lnTo>
                    <a:lnTo>
                      <a:pt x="22" y="5"/>
                    </a:lnTo>
                    <a:lnTo>
                      <a:pt x="22" y="6"/>
                    </a:lnTo>
                    <a:lnTo>
                      <a:pt x="21" y="8"/>
                    </a:lnTo>
                    <a:lnTo>
                      <a:pt x="20" y="9"/>
                    </a:lnTo>
                    <a:lnTo>
                      <a:pt x="19" y="11"/>
                    </a:lnTo>
                    <a:lnTo>
                      <a:pt x="18" y="11"/>
                    </a:lnTo>
                    <a:lnTo>
                      <a:pt x="15" y="12"/>
                    </a:lnTo>
                    <a:lnTo>
                      <a:pt x="13" y="12"/>
                    </a:lnTo>
                    <a:lnTo>
                      <a:pt x="11" y="12"/>
                    </a:lnTo>
                    <a:lnTo>
                      <a:pt x="10" y="12"/>
                    </a:lnTo>
                    <a:lnTo>
                      <a:pt x="7" y="12"/>
                    </a:lnTo>
                    <a:lnTo>
                      <a:pt x="5" y="11"/>
                    </a:lnTo>
                    <a:lnTo>
                      <a:pt x="4" y="11"/>
                    </a:lnTo>
                    <a:lnTo>
                      <a:pt x="3" y="9"/>
                    </a:lnTo>
                    <a:lnTo>
                      <a:pt x="2" y="8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4" y="1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10" y="0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66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Freeform 477"/>
              <p:cNvSpPr/>
              <p:nvPr/>
            </p:nvSpPr>
            <p:spPr>
              <a:xfrm>
                <a:off x="6066360" y="4413240"/>
                <a:ext cx="28800" cy="612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22" h="12">
                    <a:moveTo>
                      <a:pt x="11" y="0"/>
                    </a:moveTo>
                    <a:lnTo>
                      <a:pt x="13" y="0"/>
                    </a:lnTo>
                    <a:lnTo>
                      <a:pt x="15" y="0"/>
                    </a:lnTo>
                    <a:lnTo>
                      <a:pt x="18" y="0"/>
                    </a:lnTo>
                    <a:lnTo>
                      <a:pt x="19" y="1"/>
                    </a:lnTo>
                    <a:lnTo>
                      <a:pt x="20" y="2"/>
                    </a:lnTo>
                    <a:lnTo>
                      <a:pt x="21" y="2"/>
                    </a:lnTo>
                    <a:lnTo>
                      <a:pt x="22" y="4"/>
                    </a:lnTo>
                    <a:lnTo>
                      <a:pt x="22" y="5"/>
                    </a:lnTo>
                    <a:lnTo>
                      <a:pt x="22" y="6"/>
                    </a:lnTo>
                    <a:lnTo>
                      <a:pt x="21" y="8"/>
                    </a:lnTo>
                    <a:lnTo>
                      <a:pt x="20" y="9"/>
                    </a:lnTo>
                    <a:lnTo>
                      <a:pt x="19" y="11"/>
                    </a:lnTo>
                    <a:lnTo>
                      <a:pt x="18" y="11"/>
                    </a:lnTo>
                    <a:lnTo>
                      <a:pt x="15" y="12"/>
                    </a:lnTo>
                    <a:lnTo>
                      <a:pt x="13" y="12"/>
                    </a:lnTo>
                    <a:lnTo>
                      <a:pt x="11" y="12"/>
                    </a:lnTo>
                    <a:lnTo>
                      <a:pt x="10" y="12"/>
                    </a:lnTo>
                    <a:lnTo>
                      <a:pt x="7" y="12"/>
                    </a:lnTo>
                    <a:lnTo>
                      <a:pt x="5" y="11"/>
                    </a:lnTo>
                    <a:lnTo>
                      <a:pt x="4" y="11"/>
                    </a:lnTo>
                    <a:lnTo>
                      <a:pt x="3" y="9"/>
                    </a:lnTo>
                    <a:lnTo>
                      <a:pt x="2" y="8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4" y="1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10" y="0"/>
                    </a:lnTo>
                    <a:lnTo>
                      <a:pt x="11" y="0"/>
                    </a:lnTo>
                  </a:path>
                </a:pathLst>
              </a:custGeom>
              <a:noFill/>
              <a:ln w="0">
                <a:solidFill>
                  <a:srgbClr val="99ccc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AutoShape 24"/>
              <p:cNvSpPr/>
              <p:nvPr/>
            </p:nvSpPr>
            <p:spPr>
              <a:xfrm>
                <a:off x="5172480" y="2784240"/>
                <a:ext cx="3112920" cy="2005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AutoShape 24"/>
              <p:cNvSpPr/>
              <p:nvPr/>
            </p:nvSpPr>
            <p:spPr>
              <a:xfrm>
                <a:off x="5104440" y="2788920"/>
                <a:ext cx="3112920" cy="2005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07" name="Right Arrow 477"/>
          <p:cNvSpPr/>
          <p:nvPr/>
        </p:nvSpPr>
        <p:spPr>
          <a:xfrm flipV="1">
            <a:off x="3886200" y="3352680"/>
            <a:ext cx="1295280" cy="533520"/>
          </a:xfrm>
          <a:prstGeom prst="rightArrow">
            <a:avLst>
              <a:gd name="adj1" fmla="val 50000"/>
              <a:gd name="adj2" fmla="val 49983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ight Arrow 479"/>
          <p:cNvSpPr/>
          <p:nvPr/>
        </p:nvSpPr>
        <p:spPr>
          <a:xfrm>
            <a:off x="3962520" y="3429000"/>
            <a:ext cx="977760" cy="484200"/>
          </a:xfrm>
          <a:prstGeom prst="rightArrow">
            <a:avLst>
              <a:gd name="adj1" fmla="val 50000"/>
              <a:gd name="adj2" fmla="val 5001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Text Box 7"/>
          <p:cNvSpPr/>
          <p:nvPr/>
        </p:nvSpPr>
        <p:spPr>
          <a:xfrm>
            <a:off x="533520" y="5029200"/>
            <a:ext cx="426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scriminative structure lear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Text Box 7"/>
          <p:cNvSpPr/>
          <p:nvPr/>
        </p:nvSpPr>
        <p:spPr>
          <a:xfrm>
            <a:off x="4815000" y="5029200"/>
            <a:ext cx="3566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scriminative weight lear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Discriminative structure learning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12" name=""/>
          <p:cNvSpPr txBox="1"/>
          <p:nvPr/>
        </p:nvSpPr>
        <p:spPr>
          <a:xfrm>
            <a:off x="685800" y="11430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d2d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Times New Roman"/>
              </a:rPr>
              <a:t>Goal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earn the relations between background knowledge and the target predic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2d2d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olution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se a variant of ALEPH [Srinivasan, 2001], called ALEPH++, to produce a larger set of candidate claus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2d2d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ore the clauses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estimate [Dzeroski, 1991], a Bayesian estimate of the accuracy of a clau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2d2d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ep all the clauses having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estimate greater than a pre-defined threshold (0.6), instead of the final theory produced by ALEP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TextBox 4"/>
          <p:cNvSpPr/>
          <p:nvPr/>
        </p:nvSpPr>
        <p:spPr>
          <a:xfrm>
            <a:off x="228600" y="228600"/>
            <a:ext cx="3200400" cy="6129000"/>
          </a:xfrm>
          <a:prstGeom prst="rect">
            <a:avLst/>
          </a:prstGeom>
          <a:noFill/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a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 _subst_1(A1,H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_subst_1(B1,H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 _subst_1(D1,H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_subst(B1,7,CL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_subst(HH1,6,C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 _subst(D1,6,OCH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ar(CL,POLAR3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ar(OCH3,POLAR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reat_polar(POLAR3,POLAR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ze(CL,SIZE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ze(OCH3,SIZE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reat_size(SIZE2,SIZE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k_groups(A1,0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k groups(B1,0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k_groups(D1,0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k_groups(HH1,1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lex(CL,FLEX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lex(OCH3,FLEX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ss_toxic(A1,D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ss_toxic(B1,D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ss_toxic(HH1,A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TextBox 5"/>
          <p:cNvSpPr/>
          <p:nvPr/>
        </p:nvSpPr>
        <p:spPr>
          <a:xfrm>
            <a:off x="3581280" y="3809880"/>
            <a:ext cx="5181840" cy="2315160"/>
          </a:xfrm>
          <a:prstGeom prst="rect">
            <a:avLst/>
          </a:prstGeom>
          <a:noFill/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andidate clau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x_subst(d1,6,m1) ^ alk_groups(d1,1)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=&gt; 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less_toxic(d1,d2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alk_groups(d1,0) ^ r_subst_1(d2,H)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=&gt; 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less_toxic(d1,d2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x_subst(d1,6,m1) ^ polar(m1,POLAR3) ^ alk_groups(d1,1)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=&gt; 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less_toxic(d1,d2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Rectangle 5"/>
          <p:cNvSpPr/>
          <p:nvPr/>
        </p:nvSpPr>
        <p:spPr>
          <a:xfrm>
            <a:off x="4551480" y="1066680"/>
            <a:ext cx="3144600" cy="1905120"/>
          </a:xfrm>
          <a:prstGeom prst="rect">
            <a:avLst/>
          </a:prstGeom>
          <a:noFill/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ALEPH++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Right Arrow 6"/>
          <p:cNvSpPr/>
          <p:nvPr/>
        </p:nvSpPr>
        <p:spPr>
          <a:xfrm flipV="1">
            <a:off x="3429000" y="1752480"/>
            <a:ext cx="1143000" cy="533520"/>
          </a:xfrm>
          <a:prstGeom prst="rightArrow">
            <a:avLst>
              <a:gd name="adj1" fmla="val 50000"/>
              <a:gd name="adj2" fmla="val 49989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Right Arrow 7"/>
          <p:cNvSpPr/>
          <p:nvPr/>
        </p:nvSpPr>
        <p:spPr>
          <a:xfrm flipV="1" rot="5400000">
            <a:off x="5638680" y="3124080"/>
            <a:ext cx="838080" cy="533160"/>
          </a:xfrm>
          <a:prstGeom prst="rightArrow">
            <a:avLst>
              <a:gd name="adj1" fmla="val 50000"/>
              <a:gd name="adj2" fmla="val 50017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Rectangle 8"/>
          <p:cNvSpPr/>
          <p:nvPr/>
        </p:nvSpPr>
        <p:spPr>
          <a:xfrm>
            <a:off x="3581280" y="609588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hey are all non-recursive clau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Discriminative weight learning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20" name=""/>
          <p:cNvSpPr txBox="1"/>
          <p:nvPr/>
        </p:nvSpPr>
        <p:spPr>
          <a:xfrm>
            <a:off x="533160" y="14475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d2d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Goal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rn weights for clauses that allow accurate prediction of the target predica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2d2d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olution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aximize CLL with 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regularization [Lee et al., 2006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2d2d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exact inference instead of approximate in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2d2d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regularization instead of 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regular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Exact inference</a:t>
            </a:r>
            <a:endParaRPr b="0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22" name=""/>
          <p:cNvSpPr txBox="1"/>
          <p:nvPr/>
        </p:nvSpPr>
        <p:spPr>
          <a:xfrm>
            <a:off x="685800" y="9144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d2d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nce the candidate clauses are non-recursive, the target predicate appears only once in each claus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2d2d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e probability of  a target predicate atom being true or false only depends on the evidenc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2d2d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e target atoms are independent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2d2d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3" name="Picture 5" descr=""/>
          <p:cNvPicPr/>
          <p:nvPr/>
        </p:nvPicPr>
        <p:blipFill>
          <a:blip r:embed="rId1"/>
          <a:stretch/>
        </p:blipFill>
        <p:spPr>
          <a:xfrm>
            <a:off x="2049480" y="2960640"/>
            <a:ext cx="5113440" cy="336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L</a:t>
            </a:r>
            <a:r>
              <a:rPr b="0" lang="en-US" sz="36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-regularization</a:t>
            </a:r>
            <a:endParaRPr b="0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25" name=""/>
          <p:cNvSpPr txBox="1"/>
          <p:nvPr/>
        </p:nvSpPr>
        <p:spPr>
          <a:xfrm>
            <a:off x="304920" y="837720"/>
            <a:ext cx="861048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2d2d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t a Laplacian prior with zero mean on each weight w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2d2d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2d2d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2d2d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2d2d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2d2d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2d2d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2d2d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2d2d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2d2d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2d2d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ignores irrelevant features by setting many weights to zero [Ng, 2004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2d2d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arger value of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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regularizing parameter, corresponds to smaller variance of the prior distribu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2d2d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e the OWL-QN package [(Andrew &amp; Gao, 2007] to solve the optimization probl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2d2d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6" name="Object 2"/>
              <p:cNvSpPr txBox="1"/>
              <p:nvPr/>
            </p:nvSpPr>
            <p:spPr>
              <a:xfrm>
                <a:off x="3124080" y="1219320"/>
                <a:ext cx="3287880" cy="37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i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r>
                          <m:t xml:space="preserve">β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)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β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i</m:t>
                    </m:r>
                    <m:r>
                      <m:t xml:space="preserve">|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27" name="Picture 7" descr="Gaussian_pdf.jpeg"/>
          <p:cNvPicPr/>
          <p:nvPr/>
        </p:nvPicPr>
        <p:blipFill>
          <a:blip r:embed="rId2"/>
          <a:stretch/>
        </p:blipFill>
        <p:spPr>
          <a:xfrm>
            <a:off x="228600" y="1576440"/>
            <a:ext cx="4495680" cy="3429000"/>
          </a:xfrm>
          <a:prstGeom prst="rect">
            <a:avLst/>
          </a:prstGeom>
          <a:ln w="0">
            <a:noFill/>
          </a:ln>
        </p:spPr>
      </p:pic>
      <p:pic>
        <p:nvPicPr>
          <p:cNvPr id="628" name="Picture 5" descr="Laplace_pdf.jpeg"/>
          <p:cNvPicPr/>
          <p:nvPr/>
        </p:nvPicPr>
        <p:blipFill>
          <a:blip r:embed="rId3"/>
          <a:stretch/>
        </p:blipFill>
        <p:spPr>
          <a:xfrm>
            <a:off x="4537080" y="1576440"/>
            <a:ext cx="44197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TextBox 4"/>
          <p:cNvSpPr/>
          <p:nvPr/>
        </p:nvSpPr>
        <p:spPr>
          <a:xfrm>
            <a:off x="380880" y="304920"/>
            <a:ext cx="2895840" cy="2040840"/>
          </a:xfrm>
          <a:prstGeom prst="rect">
            <a:avLst/>
          </a:prstGeom>
          <a:noFill/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a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 _subst_1(A1,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_subst_1(B1,H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 _subst_1(D1,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_subst(B1,7,CL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_subst(HH1,6,C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 _subst(D1,6,OCH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Box 6"/>
          <p:cNvSpPr/>
          <p:nvPr/>
        </p:nvSpPr>
        <p:spPr>
          <a:xfrm>
            <a:off x="3809880" y="304920"/>
            <a:ext cx="5029200" cy="1950840"/>
          </a:xfrm>
          <a:prstGeom prst="rect">
            <a:avLst/>
          </a:prstGeom>
          <a:noFill/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andidate clau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k_groups(d1,0) ^ r_subst_1(d2,H) =&gt; less_toxic(d1,d2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x_subst(d1,6,m1) ^ polar(m1,POLAR3) ^ alk_groups(d1,1) =&gt; less_toxic(d1,d2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_subst(d1,6,m1) ^ alk_groups(d1,1) =&gt; less_toxic(d1,d2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Right Arrow 9"/>
          <p:cNvSpPr/>
          <p:nvPr/>
        </p:nvSpPr>
        <p:spPr>
          <a:xfrm flipV="1" rot="5400000">
            <a:off x="5029200" y="2286000"/>
            <a:ext cx="533520" cy="5335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Rectangle 5"/>
          <p:cNvSpPr/>
          <p:nvPr/>
        </p:nvSpPr>
        <p:spPr>
          <a:xfrm>
            <a:off x="1143000" y="2819520"/>
            <a:ext cx="7543800" cy="1066680"/>
          </a:xfrm>
          <a:prstGeom prst="rect">
            <a:avLst/>
          </a:prstGeom>
          <a:noFill/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weight learn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TextBox 7"/>
          <p:cNvSpPr/>
          <p:nvPr/>
        </p:nvSpPr>
        <p:spPr>
          <a:xfrm>
            <a:off x="304920" y="4430880"/>
            <a:ext cx="8534160" cy="1921320"/>
          </a:xfrm>
          <a:prstGeom prst="rect">
            <a:avLst/>
          </a:prstGeom>
          <a:noFill/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eighted clau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0.34487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alk_groups(d1,0) ^ r_subst_1(d2,H) =&gt; less_toxic(d1,d2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.70323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x_subst(d1,6,m1) ^ polar(m1,POLAR3) ^ alk_groups(d1,1) =&gt; less_toxic(d1,d2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Right Arrow 10"/>
          <p:cNvSpPr/>
          <p:nvPr/>
        </p:nvSpPr>
        <p:spPr>
          <a:xfrm flipV="1" rot="5400000">
            <a:off x="1942920" y="2324160"/>
            <a:ext cx="457200" cy="5331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Right Arrow 11"/>
          <p:cNvSpPr/>
          <p:nvPr/>
        </p:nvSpPr>
        <p:spPr>
          <a:xfrm flipV="1" rot="5400000">
            <a:off x="4267080" y="3886200"/>
            <a:ext cx="533520" cy="5335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TextBox 8"/>
          <p:cNvSpPr/>
          <p:nvPr/>
        </p:nvSpPr>
        <p:spPr>
          <a:xfrm>
            <a:off x="304920" y="4724280"/>
            <a:ext cx="83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0   x_subst(v8719,6,v8774) ^ alk_groups(v8719,1) =&gt; less_toxic(v8719,v8720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4" dur="500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TextBox 5"/>
          <p:cNvSpPr/>
          <p:nvPr/>
        </p:nvSpPr>
        <p:spPr>
          <a:xfrm>
            <a:off x="3168000" y="2895480"/>
            <a:ext cx="3009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Data sets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39" name=""/>
          <p:cNvSpPr txBox="1"/>
          <p:nvPr/>
        </p:nvSpPr>
        <p:spPr>
          <a:xfrm>
            <a:off x="685800" y="11430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d2d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LP benchmark data sets about comparing drugs for Alzheimer’s disease on four biochemical properti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2d2d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hibition of amine re-uptak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2d2d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w toxic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2d2d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gh acetyl cholinesterase inhib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2d2d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od reversal of scopolamine-induced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40" name=""/>
          <p:cNvGraphicFramePr/>
          <p:nvPr/>
        </p:nvGraphicFramePr>
        <p:xfrm>
          <a:off x="1143000" y="3632040"/>
          <a:ext cx="6867360" cy="1854360"/>
        </p:xfrm>
        <a:graphic>
          <a:graphicData uri="http://schemas.openxmlformats.org/drawingml/2006/table">
            <a:tbl>
              <a:tblPr/>
              <a:tblGrid>
                <a:gridCol w="2023920"/>
                <a:gridCol w="1524240"/>
                <a:gridCol w="1795320"/>
                <a:gridCol w="152388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ata s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# Examp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% Pos.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#Predica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zheimer ami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8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zheimer tox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8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zheimer acety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zheimer memo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Methodology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42" name=""/>
          <p:cNvSpPr txBox="1"/>
          <p:nvPr/>
        </p:nvSpPr>
        <p:spPr>
          <a:xfrm>
            <a:off x="685800" y="11430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d2d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-fold cross-valid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2d2d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tric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2d2d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erage predictive accuracy over 10 fol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2d2d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erage Area Under the ROC curve over 10 fol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2d2d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Motivation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380880" y="1066680"/>
            <a:ext cx="838224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2d2d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ew Statistical Relational Learning (SRL) formalisms combining logic with probability have been proposed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d2d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nowledge-based model construction [Wellman et al., 1992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d2d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chastic logic programs [Muggleton, 1996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d2d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al Bayesian Networks [Jaeger 1997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d2d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yesian logic programs [Kersting and De Raedt, 2001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d2d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P(BN) [Costa et al. 03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d2d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ov logic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tworks (MLNs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Richardson &amp; Domingos, 2004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d2d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tc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2d2d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Ques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Do these advanced systems perform better than pure first-order logic system, traditional ILP methods, on standard benchmark ILP problems?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        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In this work, we answer this question for MLNs, one of the most            general and expressive mod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ight Arrow 3"/>
          <p:cNvSpPr/>
          <p:nvPr/>
        </p:nvSpPr>
        <p:spPr>
          <a:xfrm>
            <a:off x="393840" y="5078520"/>
            <a:ext cx="977760" cy="407880"/>
          </a:xfrm>
          <a:prstGeom prst="rightArrow">
            <a:avLst>
              <a:gd name="adj1" fmla="val 50000"/>
              <a:gd name="adj2" fmla="val 5003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"/>
          <p:cNvSpPr txBox="1"/>
          <p:nvPr/>
        </p:nvSpPr>
        <p:spPr>
          <a:xfrm>
            <a:off x="685800" y="3805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d2d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1: Does the proposed approach perform better than existing learning methods for MLNs and traditional ILP method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2d2d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4" name="Chart 6" descr=""/>
          <p:cNvPicPr/>
          <p:nvPr/>
        </p:nvPicPr>
        <p:blipFill>
          <a:blip r:embed="rId1"/>
          <a:stretch/>
        </p:blipFill>
        <p:spPr>
          <a:xfrm>
            <a:off x="1066680" y="1828800"/>
            <a:ext cx="7391520" cy="4317840"/>
          </a:xfrm>
          <a:prstGeom prst="rect">
            <a:avLst/>
          </a:prstGeom>
          <a:ln w="0">
            <a:noFill/>
          </a:ln>
        </p:spPr>
      </p:pic>
      <p:sp>
        <p:nvSpPr>
          <p:cNvPr id="645" name="TextBox 4"/>
          <p:cNvSpPr/>
          <p:nvPr/>
        </p:nvSpPr>
        <p:spPr>
          <a:xfrm rot="16200000">
            <a:off x="-64440" y="3624480"/>
            <a:ext cx="201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erage accur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"/>
          <p:cNvSpPr txBox="1"/>
          <p:nvPr/>
        </p:nvSpPr>
        <p:spPr>
          <a:xfrm>
            <a:off x="685800" y="3805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d2d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2: The contribution of each compon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2d2d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EPH vs ALEPH+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7" name="Chart 4" descr=""/>
          <p:cNvPicPr/>
          <p:nvPr/>
        </p:nvPicPr>
        <p:blipFill>
          <a:blip r:embed="rId1"/>
          <a:stretch/>
        </p:blipFill>
        <p:spPr>
          <a:xfrm>
            <a:off x="914400" y="1523880"/>
            <a:ext cx="7315200" cy="4572000"/>
          </a:xfrm>
          <a:prstGeom prst="rect">
            <a:avLst/>
          </a:prstGeom>
          <a:ln w="0">
            <a:noFill/>
          </a:ln>
        </p:spPr>
      </p:pic>
      <p:sp>
        <p:nvSpPr>
          <p:cNvPr id="648" name="TextBox 5"/>
          <p:cNvSpPr/>
          <p:nvPr/>
        </p:nvSpPr>
        <p:spPr>
          <a:xfrm rot="16200000">
            <a:off x="-198000" y="3395880"/>
            <a:ext cx="201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erage accur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"/>
          <p:cNvSpPr txBox="1"/>
          <p:nvPr/>
        </p:nvSpPr>
        <p:spPr>
          <a:xfrm>
            <a:off x="685800" y="3805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d2d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2: The contribution of each compon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2d2d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ct vs. approximate infe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0" name="Chart 4" descr=""/>
          <p:cNvPicPr/>
          <p:nvPr/>
        </p:nvPicPr>
        <p:blipFill>
          <a:blip r:embed="rId1"/>
          <a:stretch/>
        </p:blipFill>
        <p:spPr>
          <a:xfrm>
            <a:off x="914400" y="1523880"/>
            <a:ext cx="7467480" cy="4496040"/>
          </a:xfrm>
          <a:prstGeom prst="rect">
            <a:avLst/>
          </a:prstGeom>
          <a:ln w="0">
            <a:noFill/>
          </a:ln>
        </p:spPr>
      </p:pic>
      <p:sp>
        <p:nvSpPr>
          <p:cNvPr id="651" name="TextBox 5"/>
          <p:cNvSpPr/>
          <p:nvPr/>
        </p:nvSpPr>
        <p:spPr>
          <a:xfrm rot="16200000">
            <a:off x="-217080" y="3443400"/>
            <a:ext cx="201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erage accur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"/>
          <p:cNvSpPr txBox="1"/>
          <p:nvPr/>
        </p:nvSpPr>
        <p:spPr>
          <a:xfrm>
            <a:off x="685800" y="3805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d2d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2: The contribution of each compon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2d2d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1 vs. L2 regular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3" name="Chart 4" descr=""/>
          <p:cNvPicPr/>
          <p:nvPr/>
        </p:nvPicPr>
        <p:blipFill>
          <a:blip r:embed="rId1"/>
          <a:stretch/>
        </p:blipFill>
        <p:spPr>
          <a:xfrm>
            <a:off x="914400" y="1523880"/>
            <a:ext cx="7391520" cy="4496040"/>
          </a:xfrm>
          <a:prstGeom prst="rect">
            <a:avLst/>
          </a:prstGeom>
          <a:ln w="0">
            <a:noFill/>
          </a:ln>
        </p:spPr>
      </p:pic>
      <p:sp>
        <p:nvSpPr>
          <p:cNvPr id="654" name="TextBox 5"/>
          <p:cNvSpPr/>
          <p:nvPr/>
        </p:nvSpPr>
        <p:spPr>
          <a:xfrm rot="16200000">
            <a:off x="-198000" y="3443400"/>
            <a:ext cx="201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erage accur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"/>
          <p:cNvSpPr txBox="1"/>
          <p:nvPr/>
        </p:nvSpPr>
        <p:spPr>
          <a:xfrm>
            <a:off x="685800" y="3805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d2d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3: The effect of 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regular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2d2d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6" name="Chart 8" descr=""/>
          <p:cNvPicPr/>
          <p:nvPr/>
        </p:nvPicPr>
        <p:blipFill>
          <a:blip r:embed="rId1"/>
          <a:stretch/>
        </p:blipFill>
        <p:spPr>
          <a:xfrm>
            <a:off x="838080" y="1066680"/>
            <a:ext cx="7772400" cy="5207040"/>
          </a:xfrm>
          <a:prstGeom prst="rect">
            <a:avLst/>
          </a:prstGeom>
          <a:ln w="0">
            <a:noFill/>
          </a:ln>
        </p:spPr>
      </p:pic>
      <p:sp>
        <p:nvSpPr>
          <p:cNvPr id="657" name="TextBox 4"/>
          <p:cNvSpPr/>
          <p:nvPr/>
        </p:nvSpPr>
        <p:spPr>
          <a:xfrm rot="16200000">
            <a:off x="116640" y="3294720"/>
            <a:ext cx="138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 of clau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"/>
          <p:cNvSpPr txBox="1"/>
          <p:nvPr/>
        </p:nvSpPr>
        <p:spPr>
          <a:xfrm>
            <a:off x="685800" y="3805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d2d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4: The benefit of collective infer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2d2d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ng a transitive clause with infinite weight to the learned ML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9" name="Chart 3" descr=""/>
          <p:cNvPicPr/>
          <p:nvPr/>
        </p:nvPicPr>
        <p:blipFill>
          <a:blip r:embed="rId1"/>
          <a:stretch/>
        </p:blipFill>
        <p:spPr>
          <a:xfrm>
            <a:off x="914400" y="2209680"/>
            <a:ext cx="7543800" cy="4064040"/>
          </a:xfrm>
          <a:prstGeom prst="rect">
            <a:avLst/>
          </a:prstGeom>
          <a:ln w="0">
            <a:noFill/>
          </a:ln>
        </p:spPr>
      </p:pic>
      <p:sp>
        <p:nvSpPr>
          <p:cNvPr id="660" name="TextBox 4"/>
          <p:cNvSpPr/>
          <p:nvPr/>
        </p:nvSpPr>
        <p:spPr>
          <a:xfrm rot="16200000">
            <a:off x="-228960" y="3869640"/>
            <a:ext cx="192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erage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ccurac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Box 5"/>
          <p:cNvSpPr/>
          <p:nvPr/>
        </p:nvSpPr>
        <p:spPr>
          <a:xfrm>
            <a:off x="1477800" y="1752480"/>
            <a:ext cx="644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less_toxic(a,b) ^ less_toxic(b,c) =&gt; less_toxic(a,c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"/>
          <p:cNvSpPr txBox="1"/>
          <p:nvPr/>
        </p:nvSpPr>
        <p:spPr>
          <a:xfrm>
            <a:off x="685800" y="3805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d2d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4: The performance of our approach against other “advanced ILP” metho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3" name="Chart 3" descr=""/>
          <p:cNvPicPr/>
          <p:nvPr/>
        </p:nvPicPr>
        <p:blipFill>
          <a:blip r:embed="rId1"/>
          <a:stretch/>
        </p:blipFill>
        <p:spPr>
          <a:xfrm>
            <a:off x="838080" y="1371600"/>
            <a:ext cx="7925040" cy="5054760"/>
          </a:xfrm>
          <a:prstGeom prst="rect">
            <a:avLst/>
          </a:prstGeom>
          <a:ln w="0">
            <a:noFill/>
          </a:ln>
        </p:spPr>
      </p:pic>
      <p:sp>
        <p:nvSpPr>
          <p:cNvPr id="664" name="TextBox 4"/>
          <p:cNvSpPr/>
          <p:nvPr/>
        </p:nvSpPr>
        <p:spPr>
          <a:xfrm rot="16200000">
            <a:off x="-350280" y="3548160"/>
            <a:ext cx="201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erage accur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Conclusion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66" name=""/>
          <p:cNvSpPr txBox="1"/>
          <p:nvPr/>
        </p:nvSpPr>
        <p:spPr>
          <a:xfrm>
            <a:off x="685800" y="11430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d2d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isting learning methods for MLNs fail on several benchmark ILP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2d2d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approa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2d2d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ALEPH++ for generating good candidate clau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2d2d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L1-regularization and exact inference to learn the weights for candidate clau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2d2d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general approach can also be applied to other SRL mode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2d2d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ture work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2d2d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grate the discriminative structure and weight learning processes into one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228600" y="2895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Thank you!</a:t>
            </a:r>
            <a:br>
              <a:rPr sz="4400"/>
            </a:b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Questions?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Box 5"/>
          <p:cNvSpPr/>
          <p:nvPr/>
        </p:nvSpPr>
        <p:spPr>
          <a:xfrm>
            <a:off x="3165480" y="2895480"/>
            <a:ext cx="2919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Backgrou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26"/>
          <p:cNvSpPr/>
          <p:nvPr/>
        </p:nvSpPr>
        <p:spPr>
          <a:xfrm>
            <a:off x="4911840" y="4865760"/>
            <a:ext cx="736560" cy="380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27"/>
          <p:cNvSpPr/>
          <p:nvPr/>
        </p:nvSpPr>
        <p:spPr>
          <a:xfrm>
            <a:off x="4657680" y="4865760"/>
            <a:ext cx="254160" cy="380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Object 2"/>
              <p:cNvSpPr txBox="1"/>
              <p:nvPr/>
            </p:nvSpPr>
            <p:spPr>
              <a:xfrm>
                <a:off x="1305000" y="4495680"/>
                <a:ext cx="4584600" cy="109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Z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Markov Logic Networks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228600" y="106632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d2d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MLN is a weighted set of first-order formul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2d2d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2d2d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2d2d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2d2d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2d2d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auses are called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he 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2d2d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rger weight indicates stronger belief that the clause should ho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2d2d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ability of a possible world X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" name="Group 19"/>
          <p:cNvGrpSpPr/>
          <p:nvPr/>
        </p:nvGrpSpPr>
        <p:grpSpPr>
          <a:xfrm>
            <a:off x="270000" y="1523880"/>
            <a:ext cx="8610480" cy="1676520"/>
            <a:chOff x="270000" y="1523880"/>
            <a:chExt cx="8610480" cy="1676520"/>
          </a:xfrm>
        </p:grpSpPr>
        <p:sp>
          <p:nvSpPr>
            <p:cNvPr id="120" name="Rectangle 11"/>
            <p:cNvSpPr/>
            <p:nvPr/>
          </p:nvSpPr>
          <p:spPr>
            <a:xfrm>
              <a:off x="270000" y="1523880"/>
              <a:ext cx="8610480" cy="1676520"/>
            </a:xfrm>
            <a:prstGeom prst="rect">
              <a:avLst/>
            </a:prstGeom>
            <a:noFill/>
            <a:ln w="284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Rectangle 15"/>
            <p:cNvSpPr/>
            <p:nvPr/>
          </p:nvSpPr>
          <p:spPr>
            <a:xfrm>
              <a:off x="381600" y="1599840"/>
              <a:ext cx="6324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1.98579</a:t>
              </a: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    alk_groups(b,0) =&gt; less_toxic(a,b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TextBox 17"/>
            <p:cNvSpPr/>
            <p:nvPr/>
          </p:nvSpPr>
          <p:spPr>
            <a:xfrm>
              <a:off x="389880" y="2064600"/>
              <a:ext cx="8449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4.19145</a:t>
              </a: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    ring_subst_3(a,c) ^ polar(c,POLAR2) =&gt; less_toxic(a,b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TextBox 18"/>
            <p:cNvSpPr/>
            <p:nvPr/>
          </p:nvSpPr>
          <p:spPr>
            <a:xfrm>
              <a:off x="484920" y="2590920"/>
              <a:ext cx="7547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10</a:t>
              </a: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            less_toxic(a,b) ^ less_toxic(b,c) =&gt; less_toxic(a,c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Text Box 28"/>
          <p:cNvSpPr/>
          <p:nvPr/>
        </p:nvSpPr>
        <p:spPr>
          <a:xfrm>
            <a:off x="2360880" y="5791320"/>
            <a:ext cx="2009520" cy="36828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eight of formula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29"/>
          <p:cNvSpPr/>
          <p:nvPr/>
        </p:nvSpPr>
        <p:spPr>
          <a:xfrm>
            <a:off x="4739760" y="5791320"/>
            <a:ext cx="3817080" cy="368280"/>
          </a:xfrm>
          <a:prstGeom prst="rect">
            <a:avLst/>
          </a:prstGeom>
          <a:noFill/>
          <a:ln w="190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. of true groundings of formula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Line 30"/>
          <p:cNvSpPr/>
          <p:nvPr/>
        </p:nvSpPr>
        <p:spPr>
          <a:xfrm flipV="1">
            <a:off x="4191120" y="5257800"/>
            <a:ext cx="609480" cy="53352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Line 31"/>
          <p:cNvSpPr/>
          <p:nvPr/>
        </p:nvSpPr>
        <p:spPr>
          <a:xfrm flipH="1" flipV="1">
            <a:off x="5181120" y="5257800"/>
            <a:ext cx="304920" cy="533520"/>
          </a:xfrm>
          <a:prstGeom prst="line">
            <a:avLst/>
          </a:prstGeom>
          <a:ln w="1908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5857920" y="838800"/>
            <a:ext cx="319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Richardson &amp; Domingos, 2006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Inference in MLNs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4560" y="1218960"/>
            <a:ext cx="84582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d2d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P/MPE inferenc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ind the most likely state of the world given the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2d2d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WalkSAT algorithm [Kautz et al., 1997]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2d2d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zySAT algorith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[Singla &amp; Domingos, 2006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2d2d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mputing the probability of a quer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2d2d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C-SAT algorithm  [Poon &amp; Domingos, 2006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2d2d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fted first-order belief propagation [Singla &amp; Domingos, 2008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2d2d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2d2d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Existing learning methods for MLNs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28600" y="9907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d2d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tructure learn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2d2d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SL[Kok &amp; Domingos 05], BUSL [Mihalkova &amp; Mooney, 07]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2d2db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eedily search for clauses which optimize a non-discriminative metric:  Weighted Pseudo-Log Likeliho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2d2d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eight learn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2d2d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enera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earning: maximize the Pseudo-Log Likelihood [Richardson &amp; Domingos, 2006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2d2d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scrimina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earning: maximize the Conditional Log Likelihood (C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2d2db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Lowd &amp; Domingos, 2007]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nd that the Preconditioned Scaled Conjugated Gradient (PSCG) performs b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Initial results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685800" y="1143000"/>
            <a:ext cx="7772400" cy="50292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2d2d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itial result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2d2d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2d2d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2d2d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2d2d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2d2d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happened: The existing learning methods for MLNs fail to capture the relations between the background predicates and the target predic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New discriminative learning methods for MLN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1371600" y="1879560"/>
          <a:ext cx="6595920" cy="1854360"/>
        </p:xfrm>
        <a:graphic>
          <a:graphicData uri="http://schemas.openxmlformats.org/drawingml/2006/table">
            <a:tbl>
              <a:tblPr/>
              <a:tblGrid>
                <a:gridCol w="2023920"/>
                <a:gridCol w="1524240"/>
                <a:gridCol w="1523880"/>
                <a:gridCol w="152388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ata s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LN1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LN2*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LEP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zheimer ami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.1 ± 0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1.3 ± 2.5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1.6 ± 5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zheimer tox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4.7 ± 7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1.7 ± 5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1.7 ± 4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zheimer acety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.2 ± 2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5.9 ± 8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9.6 ± 2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zheimer memo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 ± 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.8 ± 1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.0 ± 4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</a:tbl>
          </a:graphicData>
        </a:graphic>
      </p:graphicFrame>
      <p:sp>
        <p:nvSpPr>
          <p:cNvPr id="136" name="Right Arrow 6"/>
          <p:cNvSpPr/>
          <p:nvPr/>
        </p:nvSpPr>
        <p:spPr>
          <a:xfrm>
            <a:off x="457200" y="5611680"/>
            <a:ext cx="977760" cy="48420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Box 5"/>
          <p:cNvSpPr/>
          <p:nvPr/>
        </p:nvSpPr>
        <p:spPr>
          <a:xfrm>
            <a:off x="3579480" y="1341360"/>
            <a:ext cx="237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erage accura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Box 7"/>
          <p:cNvSpPr/>
          <p:nvPr/>
        </p:nvSpPr>
        <p:spPr>
          <a:xfrm>
            <a:off x="1271520" y="3727440"/>
            <a:ext cx="2221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MLN1: MSL + PSC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*MLN2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SL+ PSC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Generative vs Discriminative in SRL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1430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d2d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enerativ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earn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2d2d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the relations between all the predicates in the do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2d2d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a structure and a set of parameters which optimize a generative metric such as the log likelih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2d2d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iscriminativ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earn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2d2d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the relations between a target predicate and other predic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2d2d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a structure and a set of parameters which optimize a discriminative metric such as the conditional log likelih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Box 5"/>
          <p:cNvSpPr/>
          <p:nvPr/>
        </p:nvSpPr>
        <p:spPr>
          <a:xfrm>
            <a:off x="2382120" y="2895480"/>
            <a:ext cx="4458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Proposed approa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2T20:34:32Z</dcterms:created>
  <dc:creator>Tuyen Ngoc Huynh</dc:creator>
  <dc:description/>
  <dc:language>en-US</dc:language>
  <cp:lastModifiedBy>Tuyen Ngoc Huynh</cp:lastModifiedBy>
  <dcterms:modified xsi:type="dcterms:W3CDTF">2009-11-07T22:30:37Z</dcterms:modified>
  <cp:revision>295</cp:revision>
  <dc:subject/>
  <dc:title>Discriminative Structure and Parameter Learning for Markov Logic Networks</dc:title>
</cp:coreProperties>
</file>