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3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5.wmf" ContentType="image/x-wmf"/>
  <Override PartName="/ppt/media/image10.png" ContentType="image/png"/>
  <Override PartName="/ppt/media/image22.png" ContentType="image/png"/>
  <Override PartName="/ppt/media/image4.wmf" ContentType="image/x-wmf"/>
  <Override PartName="/ppt/media/image3.wmf" ContentType="image/x-wmf"/>
  <Override PartName="/ppt/media/image21.png" ContentType="image/png"/>
  <Override PartName="/ppt/media/image19.png" ContentType="image/png"/>
  <Override PartName="/ppt/media/image1.png" ContentType="image/png"/>
  <Override PartName="/ppt/media/image2.wmf" ContentType="image/x-wmf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notesMasterIdLst>
    <p:notesMasterId r:id="rId12"/>
  </p:notes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  <p:sldId id="275" r:id="rId32"/>
    <p:sldId id="276" r:id="rId33"/>
    <p:sldId id="277" r:id="rId34"/>
    <p:sldId id="278" r:id="rId35"/>
    <p:sldId id="279" r:id="rId36"/>
    <p:sldId id="280" r:id="rId37"/>
    <p:sldId id="281" r:id="rId38"/>
    <p:sldId id="282" r:id="rId39"/>
    <p:sldId id="283" r:id="rId40"/>
    <p:sldId id="284" r:id="rId41"/>
    <p:sldId id="285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notesMaster" Target="notesMasters/notesMaster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slide" Target="slides/slide20.xml"/><Relationship Id="rId33" Type="http://schemas.openxmlformats.org/officeDocument/2006/relationships/slide" Target="slides/slide21.xml"/><Relationship Id="rId34" Type="http://schemas.openxmlformats.org/officeDocument/2006/relationships/slide" Target="slides/slide22.xml"/><Relationship Id="rId35" Type="http://schemas.openxmlformats.org/officeDocument/2006/relationships/slide" Target="slides/slide23.xml"/><Relationship Id="rId36" Type="http://schemas.openxmlformats.org/officeDocument/2006/relationships/slide" Target="slides/slide24.xml"/><Relationship Id="rId37" Type="http://schemas.openxmlformats.org/officeDocument/2006/relationships/slide" Target="slides/slide25.xml"/><Relationship Id="rId38" Type="http://schemas.openxmlformats.org/officeDocument/2006/relationships/slide" Target="slides/slide26.xml"/><Relationship Id="rId39" Type="http://schemas.openxmlformats.org/officeDocument/2006/relationships/slide" Target="slides/slide27.xml"/><Relationship Id="rId40" Type="http://schemas.openxmlformats.org/officeDocument/2006/relationships/slide" Target="slides/slide28.xml"/><Relationship Id="rId41" Type="http://schemas.openxmlformats.org/officeDocument/2006/relationships/slide" Target="slides/slide29.xml"/><Relationship Id="rId42" Type="http://schemas.openxmlformats.org/officeDocument/2006/relationships/slide" Target="slides/slide30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dt" idx="3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Tw Cen MT"/>
              </a:rPr>
              <a:t>Click to move the slide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 type="ftr" idx="3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6"/>
          <p:cNvSpPr>
            <a:spLocks noGrp="1"/>
          </p:cNvSpPr>
          <p:nvPr>
            <p:ph type="sldNum" idx="3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17A3A-C9D7-4AAC-ABF3-305DCF9EFF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6E8B0-D392-4EDA-9DA8-C58289C318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45D35-F155-475D-BE03-A44607CDF5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88E64-A693-4D53-B43F-FA33532CD0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A68AD-BD63-4EAC-9A41-E1A444D700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1A06E-D24C-4EFB-BD16-A7D0D13634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95597-DF8D-4C1E-B92F-0A7ACC715E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D319A-A45F-4432-A58D-B9CB4EAB4D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4D6EB-540F-4D78-A859-19DF9B35A6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3ABB9-1CDB-4A8A-A241-D239F08C11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FDC95-0944-4F5D-B4B6-1301252B0B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A7E02-E6EE-485D-BF60-AA0B4EEA4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812EA-C41B-4CE7-A031-C5E143B9C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D854F6-1302-45C4-ACDE-74DA807B2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A97A70-AB37-4D59-BA95-4CA70576A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91C5F8-3AA5-42B6-AA7A-C750474CC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1546FB-2818-4ECE-8E6C-A80A62E1E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14509F-0C99-4861-ABD0-8B47CEFC6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D520E9-C472-4312-8BB7-E90BFDE04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C9DEC1-C7F3-4169-84B9-2058EC6B6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9F5D80-3557-4E11-B690-0E2B01D13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A01F67-4502-4DAA-B87C-EC77CFC2B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969A32-4798-48DD-BD5B-C33CA5081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FA922-0902-4FED-956D-EDD1D0B85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24CF55-65C9-4B69-A0BE-35FCD5CF4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93DC34-29CD-429D-901C-337AE23C9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DF561A-D9C3-48E9-A50F-3FF1F1A24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662FF5-DECF-4A75-AE84-7106BA118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48CC18-4177-442A-B239-2C1365ABB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08F5F6-5EC9-49E7-A86F-0A90896A2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0E9BBA-3B8F-4ADC-9A3C-EB05DA39F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312D20-70C8-48F8-8383-FADEBB071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279EFA-1DF4-4063-AFA6-BAC2E41BF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548736-1CFB-4649-9B5F-6A23D3AB5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ED6DD-472A-4580-9710-047283C1F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8B95A3-D667-414C-8208-DF1FAE37D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21423-F763-4080-B446-593DAAF74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7FE8E-5242-4EAC-BE2E-E78EE69F3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D95E4-BEB5-447D-B5E8-33B7BF9E4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5D99D-CE0C-4022-9770-5E85A57ED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91603-7622-48F4-873A-1F4BD5D4A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56B7E-ACDF-4B54-AC2E-D081FC002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F4874-82FA-4EF0-AF84-39118C660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1CA8B-DE4F-4CB7-96E4-B3F71A73A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37525-BE17-4FB9-B140-365CF039A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88468-C235-4ABA-BDAF-581C34755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E62AD-0708-45A4-B901-7C9CD8F0F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EA7D5-D53A-40C7-B611-145C4469D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D80EA-E7F6-4E9D-A62C-03F57FF5B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3384D70-1AAE-4B64-B8CD-F6FE35051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56AAC47-02DB-45C2-A00E-53D477684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ADD22A0-1FFF-4DA4-B4BF-8B2E737C3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636FBFC-6BB2-4232-9D16-012C48C33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359CA46-1B13-40BD-AA3A-66B072A39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AEB42-5F46-405B-9094-668FD210F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8540776-CB1E-485D-9438-0BCCD1C40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5BB132A-B2E5-4FFD-A58A-A6034B63A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5D18496-F8F2-4504-A022-1E64896F8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F727BE7-5E3E-467D-B1C9-E48EF639D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A7F28F-5564-4068-931E-1F6AEFE48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2511D44-F848-471D-A419-85006EB2C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A663735-B156-4AA8-8485-AABB33DB9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21EDF26-2834-46FF-8122-B7B540DCF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EBD7485-35D5-4A97-BA15-4BE06D368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F542FAC-1CF5-4581-82C2-A8CCAE665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FB71C-9CBB-4B26-A6C4-2ED9A75A8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6D46291-B298-43F3-A8D8-F21A241FF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E3898EC-5EE2-4570-9776-320715ED9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FD218E1-800B-4C7E-A0C7-9AE60A95B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AE1C457-3F2A-41F6-9856-07DEA0FF5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26B3543-124D-4EC1-BB6E-92A9A8E5C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5D45F23-4D23-4072-970A-F72008AFF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DB122E1-3348-4BFD-8521-EC78D0779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1C53840-2D6A-402D-8B41-83BDB35F1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E72F498-7949-4099-B0AB-AD6CAE129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3D703C4-19D3-460E-B3AD-DF4AF4902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F8119-163B-4F33-A422-056B91B43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9AF780A-99DC-4299-BF4A-713385CD7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9BFA93E-93AF-493C-8804-5860F426A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2DC194F-A7E4-4E9E-B137-F3D54B19C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4D4D172-511F-4B3E-A765-81C75796E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93837CE-83EB-4328-9515-AF52134F3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9887C7E-B46C-4D21-8E7A-C6CA46C05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A8E3913-ABFB-4A83-8480-4AA168685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68AA406-8F6A-4F60-BFB0-C39524556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0D6A4E7-FED4-4D1C-8B86-C0705D798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FCD4442-D1BA-4A75-B532-955FA6F53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92A8C-3095-4EC3-A3FA-B13AC55F2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E17D7AA-08BF-48A7-AC72-3828FDA45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2B0EDA-60C1-4094-94B0-93F51F675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A6E55A-16E3-427A-9226-301235B3F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4B46C5-D022-4BF1-A40E-F555A3DDE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D93256-10E2-49D5-8D2F-120AC63E7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CA865B-67FA-41D6-8165-4776624F4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BB891A-49ED-4AD7-9A7E-D40A4BDBF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D74646-E728-4CFC-9404-B7B1DCD19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F9C125-B243-40D9-9C26-D5587C51E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28A619-43AD-404A-BC7C-7786ECCDF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730F4-1ECA-4865-AE31-55770458E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61CF51-69FD-4D33-AB60-2A82A7111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65AC15-B61F-4F6E-B9D2-C99FD7B83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122E91-5594-4033-8652-CFC4E2067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9373A1-C3CA-4D2D-AF1F-74596E438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344170-5968-40F8-8B62-0A663B00D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59BB65-9A20-443F-BFCE-64EF73300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17C268-CB9A-482D-8592-3A658DF1C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167C65-92CD-4570-A68F-734677140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AC3842-0B33-4D2F-B3B6-D5D98A8E6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BB6E93-F5E5-44E1-9423-21F41DAB5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635CB-03D1-49B1-BA74-6E93E6581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87BCF9-44D1-4B5A-8A38-C57EB39F4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96FB51-622A-40D5-BF89-FA2F37AED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5B42A7-EBB3-453B-BCA0-2A43B60B9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420776-11DB-4D12-BACC-81BA7845B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DA64FD-7BAF-4235-885C-0B3733987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3C3B5B2-835F-4176-88CA-42E196FD5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27EC1EA-0604-4647-B850-2203312CD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0DEC48B-2C92-465C-AD15-2498A0F6A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21354DA-B219-47B6-81B1-DECB80C8F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F31DA56-CED4-450C-9F65-A3DDAEFD7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014BC-6D9F-46AD-A66F-6AD0501EF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5B94B0E-6A46-484F-A5A7-FE1BD7E1D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1AA8C3E-6CC2-4838-9118-360BD4C46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CC3C7DE-8816-4D6C-A976-DBFAFD7F9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30025E2-5A7F-4558-8669-B99821F00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996A3E4-7469-461D-8A4E-00959C5C0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1F36493-E3D6-4C02-9FC1-1137215EB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5E6E6AE-F502-4953-BD34-C0BAC5220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C52175-2AF9-4D93-B230-F57A579FC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AD07CF-A4D3-4F54-A761-BCE1C20E4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3299AA-2398-47F2-B2A5-6BE8D65D9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9d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bd0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10cf9b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921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9216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868680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f6fc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AAC88-3505-49B9-B785-13E0080FE068}" type="slidenum">
              <a:rPr b="1" lang="en-US" sz="1400" spc="-1" strike="noStrike">
                <a:solidFill>
                  <a:srgbClr val="0f6fc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9d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bd0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10cf9b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 type="dt" idx="28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 type="ftr" idx="29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 type="sldNum" idx="30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f6fc6"/>
                </a:solidFill>
                <a:latin typeface="Times New Roman"/>
              </a:defRPr>
            </a:lvl1pPr>
          </a:lstStyle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B88A5-3F09-430B-9175-C0D3E0F75ED4}" type="slidenum">
              <a:rPr b="1" lang="en-US" sz="1400" spc="-1" strike="noStrike">
                <a:solidFill>
                  <a:srgbClr val="0f6fc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9d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bd0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10cf9b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1471D-1AF7-47FC-8138-49E89678D737}" type="slidenum">
              <a:rPr b="1" lang="en-US" sz="1400" spc="-1" strike="noStrike">
                <a:solidFill>
                  <a:srgbClr val="04617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9d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bd0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10cf9b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0F554-EE70-48BF-82B1-6B8887FCA5F6}" type="slidenum"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1279440"/>
            <a:ext cx="533520" cy="921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90400" y="1279440"/>
            <a:ext cx="8553600" cy="9216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9d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bd0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10cf9b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868680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f6fc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6635C-8E30-4AD4-90C0-10ECD09C9564}" type="slidenum">
              <a:rPr b="1" lang="en-US" sz="1400" spc="-1" strike="noStrike">
                <a:solidFill>
                  <a:srgbClr val="0f6fc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921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9216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9d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bd0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10cf9b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868680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f6fc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59E34-42AB-4236-920B-8CD4D7B97AAF}" type="slidenum">
              <a:rPr b="1" lang="en-US" sz="1400" spc="-1" strike="noStrike">
                <a:solidFill>
                  <a:srgbClr val="0f6fc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9d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bd0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10cf9b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13D6F-21D5-4996-852E-3BD152AE65A3}" type="slidenum">
              <a:rPr b="1" lang="en-US" sz="1400" spc="-1" strike="noStrike">
                <a:solidFill>
                  <a:srgbClr val="04617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Rectangle 7"/>
          <p:cNvSpPr/>
          <p:nvPr/>
        </p:nvSpPr>
        <p:spPr>
          <a:xfrm>
            <a:off x="0" y="1279440"/>
            <a:ext cx="533520" cy="921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Rectangle 8"/>
          <p:cNvSpPr/>
          <p:nvPr/>
        </p:nvSpPr>
        <p:spPr>
          <a:xfrm>
            <a:off x="590400" y="1279440"/>
            <a:ext cx="8553600" cy="9216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9d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bd0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10cf9b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9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20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21"/>
          </p:nvPr>
        </p:nvSpPr>
        <p:spPr>
          <a:xfrm>
            <a:off x="868680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44D34-5688-4761-AF26-873BE126AE7B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Rectangle 14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9d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bd0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10cf9b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23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0f6fc6"/>
                </a:solidFill>
                <a:latin typeface="Times New Roman"/>
              </a:defRPr>
            </a:lvl1pPr>
          </a:lstStyle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DCF6A-3F4D-4A71-A81D-5899E152439B}" type="slidenum">
              <a:rPr b="1" lang="en-US" sz="2800" spc="-1" strike="noStrike">
                <a:solidFill>
                  <a:srgbClr val="0f6fc6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ftr" idx="24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Rectangle 7"/>
          <p:cNvSpPr/>
          <p:nvPr/>
        </p:nvSpPr>
        <p:spPr>
          <a:xfrm>
            <a:off x="0" y="1279440"/>
            <a:ext cx="533520" cy="921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Rectangle 8"/>
          <p:cNvSpPr/>
          <p:nvPr/>
        </p:nvSpPr>
        <p:spPr>
          <a:xfrm>
            <a:off x="590400" y="1279440"/>
            <a:ext cx="8553600" cy="9216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9d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bd0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10cf9b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ftr" idx="26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sldNum" idx="27"/>
          </p:nvPr>
        </p:nvSpPr>
        <p:spPr>
          <a:xfrm>
            <a:off x="868680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f6fc6"/>
                </a:solidFill>
                <a:latin typeface="Times New Roman"/>
              </a:defRPr>
            </a:lvl1pPr>
          </a:lstStyle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AC5C8-8305-437E-81D3-072D4B3E968A}" type="slidenum">
              <a:rPr b="1" lang="en-US" sz="1400" spc="-1" strike="noStrike">
                <a:solidFill>
                  <a:srgbClr val="0f6fc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79246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17b"/>
                </a:solidFill>
                <a:latin typeface="Tw Cen MT"/>
              </a:rPr>
              <a:t>Online Max-Margin Weight Learning </a:t>
            </a:r>
            <a:br>
              <a:rPr sz="3200"/>
            </a:br>
            <a:r>
              <a:rPr b="1" lang="en-US" sz="3200" spc="-1" strike="noStrike">
                <a:solidFill>
                  <a:srgbClr val="04617b"/>
                </a:solidFill>
                <a:latin typeface="Tw Cen MT"/>
              </a:rPr>
              <a:t>with Markov Logic Networks</a:t>
            </a:r>
            <a:endParaRPr b="0" lang="en-US" sz="32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subTitle"/>
          </p:nvPr>
        </p:nvSpPr>
        <p:spPr>
          <a:xfrm>
            <a:off x="1371600" y="2819160"/>
            <a:ext cx="69343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6fc6"/>
                </a:solidFill>
                <a:latin typeface="Tw Cen MT"/>
              </a:rPr>
              <a:t>Tuyen N. Huynh and Raymond J. Mooney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7" name="Text Box 5"/>
          <p:cNvSpPr/>
          <p:nvPr/>
        </p:nvSpPr>
        <p:spPr>
          <a:xfrm>
            <a:off x="2745000" y="3733920"/>
            <a:ext cx="3843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6fc6"/>
                </a:solidFill>
                <a:latin typeface="Times New Roman"/>
                <a:ea typeface="华文仿宋"/>
              </a:rPr>
              <a:t>Machine Learning Gro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6fc6"/>
                </a:solidFill>
                <a:latin typeface="Times New Roman"/>
                <a:ea typeface="华文仿宋"/>
              </a:rPr>
              <a:t>Department of Computer Sci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6fc6"/>
                </a:solidFill>
                <a:latin typeface="Times New Roman"/>
                <a:ea typeface="华文仿宋"/>
              </a:rPr>
              <a:t>The University of Texas at Aust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TextBox 4"/>
          <p:cNvSpPr/>
          <p:nvPr/>
        </p:nvSpPr>
        <p:spPr>
          <a:xfrm>
            <a:off x="3091320" y="5334120"/>
            <a:ext cx="282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6fc6"/>
                </a:solidFill>
                <a:latin typeface="Times New Roman"/>
              </a:rPr>
              <a:t>Star AI 2010, July 12, 20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Tw Cen MT"/>
              </a:rPr>
              <a:t>Primal-dual framework (cont.)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488" name="Slide Number Placeholder 2"/>
          <p:cNvSpPr/>
          <p:nvPr/>
        </p:nvSpPr>
        <p:spPr>
          <a:xfrm>
            <a:off x="868680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873AB-8E05-4A1D-93EC-CBB1071CACB4}" type="slidenum">
              <a:rPr b="1" lang="en-US" sz="1400" spc="-1" strike="noStrike">
                <a:solidFill>
                  <a:srgbClr val="0f6fc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9" name="Content Placeholder 3" descr=""/>
          <p:cNvPicPr/>
          <p:nvPr/>
        </p:nvPicPr>
        <p:blipFill>
          <a:blip r:embed="rId1"/>
          <a:stretch/>
        </p:blipFill>
        <p:spPr>
          <a:xfrm>
            <a:off x="615960" y="1530360"/>
            <a:ext cx="8150040" cy="45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TextBox 5"/>
          <p:cNvSpPr/>
          <p:nvPr/>
        </p:nvSpPr>
        <p:spPr>
          <a:xfrm>
            <a:off x="101160" y="2895480"/>
            <a:ext cx="904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dd9"/>
                </a:solidFill>
                <a:latin typeface="Times New Roman"/>
              </a:rPr>
              <a:t>CDA algorithms for max-margin structured predi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Slide Number Placeholder 2"/>
          <p:cNvSpPr/>
          <p:nvPr/>
        </p:nvSpPr>
        <p:spPr>
          <a:xfrm>
            <a:off x="868680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B6E77-3BD4-4DCA-BA21-10DB5156DB4B}" type="slidenum">
              <a:rPr b="1" lang="en-US" sz="1400" spc="-1" strike="noStrike">
                <a:solidFill>
                  <a:srgbClr val="0f6fc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53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Tw Cen MT"/>
              </a:rPr>
              <a:t>Max-margin structured prediction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493" name="Slide Number Placeholder 2"/>
          <p:cNvSpPr/>
          <p:nvPr/>
        </p:nvSpPr>
        <p:spPr>
          <a:xfrm>
            <a:off x="868680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C8E63-3E47-4129-8112-74BE45C0C102}" type="slidenum">
              <a:rPr b="1" lang="en-US" sz="1400" spc="-1" strike="noStrike">
                <a:solidFill>
                  <a:srgbClr val="0f6fc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4" name="Content Placeholder 3" descr=""/>
          <p:cNvPicPr/>
          <p:nvPr/>
        </p:nvPicPr>
        <p:blipFill>
          <a:blip r:embed="rId1"/>
          <a:stretch/>
        </p:blipFill>
        <p:spPr>
          <a:xfrm>
            <a:off x="579600" y="1542960"/>
            <a:ext cx="8186400" cy="44798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95" name="Object 2"/>
              <p:cNvSpPr txBox="1"/>
              <p:nvPr/>
            </p:nvSpPr>
            <p:spPr>
              <a:xfrm>
                <a:off x="3197160" y="3276720"/>
                <a:ext cx="2814840" cy="45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;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w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Φ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6" name="Object 2"/>
              <p:cNvSpPr txBox="1"/>
              <p:nvPr/>
            </p:nvSpPr>
            <p:spPr>
              <a:xfrm>
                <a:off x="2793960" y="4268880"/>
                <a:ext cx="3475080" cy="68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;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y</m:t>
                        </m:r>
                        <m:r>
                          <m:t xml:space="preserve">∈</m:t>
                        </m:r>
                        <m:r>
                          <m:t xml:space="preserve">Y</m:t>
                        </m:r>
                      </m:lim>
                    </m:limLow>
                    <m:sSup>
                      <m:e>
                        <m:r>
                          <m:t xml:space="preserve">w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Φ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7" name="Object 4"/>
              <p:cNvSpPr txBox="1"/>
              <p:nvPr/>
            </p:nvSpPr>
            <p:spPr>
              <a:xfrm>
                <a:off x="2362320" y="5411880"/>
                <a:ext cx="494352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;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w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Φ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−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Y</m:t>
                        </m:r>
                      </m:lim>
                    </m:limLow>
                    <m:sSup>
                      <m:e>
                        <m:r>
                          <m:t xml:space="preserve">w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Φ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'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Tw Cen MT"/>
              </a:rPr>
              <a:t>Steps for deriving new CDA algorithms</a:t>
            </a:r>
            <a:endParaRPr b="0" lang="en-US" sz="36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499" name="Slide Number Placeholder 2"/>
          <p:cNvSpPr/>
          <p:nvPr/>
        </p:nvSpPr>
        <p:spPr>
          <a:xfrm>
            <a:off x="868680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4A809-B462-469D-82C8-5B5AB10718EA}" type="slidenum">
              <a:rPr b="1" lang="en-US" sz="1400" spc="-1" strike="noStrike">
                <a:solidFill>
                  <a:srgbClr val="0f6fc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700"/>
              </a:spcBef>
              <a:buClr>
                <a:srgbClr val="009dd9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Define the regularization and loss function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514440" indent="-514440">
              <a:spcBef>
                <a:spcPts val="700"/>
              </a:spcBef>
              <a:buClr>
                <a:srgbClr val="009dd9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nd the conjugate function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514440" indent="-514440">
              <a:spcBef>
                <a:spcPts val="700"/>
              </a:spcBef>
              <a:buClr>
                <a:srgbClr val="009dd9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Derive a closed-form solution for the CDA update rul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Tw Cen MT"/>
              </a:rPr>
              <a:t>1. Define the regularization and loss functions</a:t>
            </a:r>
            <a:endParaRPr b="0" lang="en-US" sz="32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502" name="Slide Number Placeholder 2"/>
          <p:cNvSpPr/>
          <p:nvPr/>
        </p:nvSpPr>
        <p:spPr>
          <a:xfrm>
            <a:off x="868680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0B6FC-9597-4D31-B182-6D6B0377C38F}" type="slidenum">
              <a:rPr b="1" lang="en-US" sz="1400" spc="-1" strike="noStrike">
                <a:solidFill>
                  <a:srgbClr val="0f6fc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3" name="Content Placeholder 3" descr=""/>
          <p:cNvPicPr/>
          <p:nvPr/>
        </p:nvPicPr>
        <p:blipFill>
          <a:blip r:embed="rId1"/>
          <a:stretch/>
        </p:blipFill>
        <p:spPr>
          <a:xfrm>
            <a:off x="579600" y="1542960"/>
            <a:ext cx="8283240" cy="5010120"/>
          </a:xfrm>
          <a:prstGeom prst="rect">
            <a:avLst/>
          </a:prstGeom>
          <a:ln w="0">
            <a:noFill/>
          </a:ln>
        </p:spPr>
      </p:pic>
      <p:sp>
        <p:nvSpPr>
          <p:cNvPr id="504" name="Rectangular Callout 4"/>
          <p:cNvSpPr/>
          <p:nvPr/>
        </p:nvSpPr>
        <p:spPr>
          <a:xfrm>
            <a:off x="5715000" y="3124080"/>
            <a:ext cx="2590920" cy="612720"/>
          </a:xfrm>
          <a:prstGeom prst="wedgeRectCallout">
            <a:avLst>
              <a:gd name="adj1" fmla="val -130842"/>
              <a:gd name="adj2" fmla="val 89638"/>
            </a:avLst>
          </a:prstGeom>
          <a:solidFill>
            <a:srgbClr val="0f6fc6"/>
          </a:solidFill>
          <a:ln w="19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Label loss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Tw Cen MT"/>
              </a:rPr>
              <a:t>1. Define the regularization and loss functions (cont.)</a:t>
            </a:r>
            <a:endParaRPr b="0" lang="en-US" sz="32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506" name="Slide Number Placeholder 2"/>
          <p:cNvSpPr/>
          <p:nvPr/>
        </p:nvSpPr>
        <p:spPr>
          <a:xfrm>
            <a:off x="868680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6BE24-5B65-40B7-BF51-9B042F0FA9F9}" type="slidenum">
              <a:rPr b="1" lang="en-US" sz="1400" spc="-1" strike="noStrike">
                <a:solidFill>
                  <a:srgbClr val="0f6fc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7" name="Content Placeholder 3" descr=""/>
          <p:cNvPicPr/>
          <p:nvPr/>
        </p:nvPicPr>
        <p:blipFill>
          <a:blip r:embed="rId1"/>
          <a:stretch/>
        </p:blipFill>
        <p:spPr>
          <a:xfrm>
            <a:off x="579600" y="1542960"/>
            <a:ext cx="8186400" cy="501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53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Tw Cen MT"/>
              </a:rPr>
              <a:t>2. Find the conjugate functions</a:t>
            </a:r>
            <a:endParaRPr b="0" lang="en-US" sz="32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509" name="Slide Number Placeholder 2"/>
          <p:cNvSpPr/>
          <p:nvPr/>
        </p:nvSpPr>
        <p:spPr>
          <a:xfrm>
            <a:off x="868680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72F23-B59E-4DC4-89FD-90AEC7068A3B}" type="slidenum">
              <a:rPr b="1" lang="en-US" sz="1400" spc="-1" strike="noStrike">
                <a:solidFill>
                  <a:srgbClr val="0f6fc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0" name="Content Placeholder 3" descr=""/>
          <p:cNvPicPr/>
          <p:nvPr/>
        </p:nvPicPr>
        <p:blipFill>
          <a:blip r:embed="rId1"/>
          <a:stretch/>
        </p:blipFill>
        <p:spPr>
          <a:xfrm>
            <a:off x="585720" y="1542960"/>
            <a:ext cx="8180280" cy="478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53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Tw Cen MT"/>
              </a:rPr>
              <a:t>2. Find the conjugate functions (cont.)</a:t>
            </a:r>
            <a:endParaRPr b="0" lang="en-US" sz="32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512" name="Slide Number Placeholder 2"/>
          <p:cNvSpPr/>
          <p:nvPr/>
        </p:nvSpPr>
        <p:spPr>
          <a:xfrm>
            <a:off x="868680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AC3EB-7AEF-4017-9C3B-9116598225C6}" type="slidenum">
              <a:rPr b="1" lang="en-US" sz="1400" spc="-1" strike="noStrike">
                <a:solidFill>
                  <a:srgbClr val="0f6fc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3" name="Content Placeholder 3" descr=""/>
          <p:cNvPicPr/>
          <p:nvPr/>
        </p:nvPicPr>
        <p:blipFill>
          <a:blip r:embed="rId1"/>
          <a:stretch/>
        </p:blipFill>
        <p:spPr>
          <a:xfrm>
            <a:off x="585720" y="1542960"/>
            <a:ext cx="8180280" cy="4784760"/>
          </a:xfrm>
          <a:prstGeom prst="rect">
            <a:avLst/>
          </a:prstGeom>
          <a:ln w="0">
            <a:noFill/>
          </a:ln>
        </p:spPr>
      </p:pic>
      <p:pic>
        <p:nvPicPr>
          <p:cNvPr id="514" name="Picture 2" descr=""/>
          <p:cNvPicPr/>
          <p:nvPr/>
        </p:nvPicPr>
        <p:blipFill>
          <a:blip r:embed="rId2"/>
          <a:stretch/>
        </p:blipFill>
        <p:spPr>
          <a:xfrm>
            <a:off x="1752480" y="4952880"/>
            <a:ext cx="6353280" cy="704880"/>
          </a:xfrm>
          <a:prstGeom prst="rect">
            <a:avLst/>
          </a:prstGeom>
          <a:ln w="0">
            <a:noFill/>
          </a:ln>
        </p:spPr>
      </p:pic>
      <p:pic>
        <p:nvPicPr>
          <p:cNvPr id="515" name="Picture 3" descr=""/>
          <p:cNvPicPr/>
          <p:nvPr/>
        </p:nvPicPr>
        <p:blipFill>
          <a:blip r:embed="rId3"/>
          <a:stretch/>
        </p:blipFill>
        <p:spPr>
          <a:xfrm>
            <a:off x="2657520" y="3429000"/>
            <a:ext cx="435276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Slide Number Placeholder 2"/>
          <p:cNvSpPr/>
          <p:nvPr/>
        </p:nvSpPr>
        <p:spPr>
          <a:xfrm>
            <a:off x="868680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1BDB7-7AA3-4240-B21D-D71CBE55CE90}" type="slidenum">
              <a:rPr b="1" lang="en-US" sz="1400" spc="-1" strike="noStrike">
                <a:solidFill>
                  <a:srgbClr val="0f6fc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Optimization problem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olution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53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Tw Cen MT"/>
              </a:rPr>
              <a:t>3. Closed-form solution for the CDA update rule</a:t>
            </a:r>
            <a:endParaRPr b="0" lang="en-US" sz="3200" spc="-1" strike="noStrike">
              <a:solidFill>
                <a:srgbClr val="04617b"/>
              </a:solidFill>
              <a:latin typeface="Tw Cen MT"/>
            </a:endParaRPr>
          </a:p>
        </p:txBody>
      </p:sp>
      <p:pic>
        <p:nvPicPr>
          <p:cNvPr id="519" name="Picture 2" descr=""/>
          <p:cNvPicPr/>
          <p:nvPr/>
        </p:nvPicPr>
        <p:blipFill>
          <a:blip r:embed="rId1"/>
          <a:stretch/>
        </p:blipFill>
        <p:spPr>
          <a:xfrm>
            <a:off x="2011320" y="2155680"/>
            <a:ext cx="5227560" cy="1730520"/>
          </a:xfrm>
          <a:prstGeom prst="rect">
            <a:avLst/>
          </a:prstGeom>
          <a:ln w="0">
            <a:noFill/>
          </a:ln>
        </p:spPr>
      </p:pic>
      <p:pic>
        <p:nvPicPr>
          <p:cNvPr id="520" name="Picture 3" descr=""/>
          <p:cNvPicPr/>
          <p:nvPr/>
        </p:nvPicPr>
        <p:blipFill>
          <a:blip r:embed="rId2"/>
          <a:stretch/>
        </p:blipFill>
        <p:spPr>
          <a:xfrm>
            <a:off x="1476360" y="4724280"/>
            <a:ext cx="6448320" cy="10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Tw Cen MT"/>
              </a:rPr>
              <a:t>CDA algorithms for max-margin structured prediction</a:t>
            </a:r>
            <a:endParaRPr b="0" lang="en-US" sz="40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522" name="Slide Number Placeholder 2"/>
          <p:cNvSpPr/>
          <p:nvPr/>
        </p:nvSpPr>
        <p:spPr>
          <a:xfrm>
            <a:off x="868680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7909D-11FF-4A3F-A0A0-812CFB974298}" type="slidenum">
              <a:rPr b="1" lang="en-US" sz="1400" spc="-1" strike="noStrike">
                <a:solidFill>
                  <a:srgbClr val="0f6fc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3" name="Content Placeholder 3" descr=""/>
          <p:cNvPicPr/>
          <p:nvPr/>
        </p:nvPicPr>
        <p:blipFill>
          <a:blip r:embed="rId1"/>
          <a:stretch/>
        </p:blipFill>
        <p:spPr>
          <a:xfrm>
            <a:off x="512640" y="1517760"/>
            <a:ext cx="8253360" cy="4578120"/>
          </a:xfrm>
          <a:prstGeom prst="rect">
            <a:avLst/>
          </a:prstGeom>
          <a:ln w="0">
            <a:noFill/>
          </a:ln>
        </p:spPr>
      </p:pic>
      <p:pic>
        <p:nvPicPr>
          <p:cNvPr id="524" name="TextBox 4" descr=""/>
          <p:cNvPicPr/>
          <p:nvPr/>
        </p:nvPicPr>
        <p:blipFill>
          <a:blip r:embed="rId2"/>
          <a:stretch/>
        </p:blipFill>
        <p:spPr>
          <a:xfrm>
            <a:off x="7851600" y="2060640"/>
            <a:ext cx="1109880" cy="500040"/>
          </a:xfrm>
          <a:prstGeom prst="rect">
            <a:avLst/>
          </a:prstGeom>
          <a:ln w="0">
            <a:noFill/>
          </a:ln>
        </p:spPr>
      </p:pic>
      <p:pic>
        <p:nvPicPr>
          <p:cNvPr id="525" name="TextBox 5" descr=""/>
          <p:cNvPicPr/>
          <p:nvPr/>
        </p:nvPicPr>
        <p:blipFill>
          <a:blip r:embed="rId3"/>
          <a:stretch/>
        </p:blipFill>
        <p:spPr>
          <a:xfrm>
            <a:off x="7785000" y="4529160"/>
            <a:ext cx="136548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Tw Cen MT"/>
              </a:rPr>
              <a:t>Outline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450" name="Slide Number Placeholder 2"/>
          <p:cNvSpPr/>
          <p:nvPr/>
        </p:nvSpPr>
        <p:spPr>
          <a:xfrm>
            <a:off x="868680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8338D-8B36-486E-AD12-6003A1FE0927}" type="slidenum">
              <a:rPr b="1" lang="en-US" sz="1400" spc="-1" strike="noStrike">
                <a:solidFill>
                  <a:srgbClr val="0f6fc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06000" indent="-30600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Motivation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Background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1" marL="613800" indent="-261720">
              <a:spcBef>
                <a:spcPts val="55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Markov Logic Network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13800" indent="-261720">
              <a:spcBef>
                <a:spcPts val="55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Primal-dual framework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New online learning algorithm for structured prediction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Experiments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1" marL="613800" indent="-261720">
              <a:spcBef>
                <a:spcPts val="55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Citation segmentation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13800" indent="-261720">
              <a:spcBef>
                <a:spcPts val="55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Search query disambiguation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Conclusion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TextBox 5"/>
          <p:cNvSpPr/>
          <p:nvPr/>
        </p:nvSpPr>
        <p:spPr>
          <a:xfrm>
            <a:off x="3168000" y="2895480"/>
            <a:ext cx="3009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dd9"/>
                </a:solidFill>
                <a:latin typeface="Times New Roman"/>
              </a:rPr>
              <a:t>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Slide Number Placeholder 2"/>
          <p:cNvSpPr/>
          <p:nvPr/>
        </p:nvSpPr>
        <p:spPr>
          <a:xfrm>
            <a:off x="868680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9F047-3948-4365-BAF3-ABE905CE2E38}" type="slidenum">
              <a:rPr b="1" lang="en-US" sz="1400" spc="-1" strike="noStrike">
                <a:solidFill>
                  <a:srgbClr val="0f6fc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Tw Cen MT"/>
              </a:rPr>
              <a:t>Citation segmentation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529" name="Slide Number Placeholder 2"/>
          <p:cNvSpPr/>
          <p:nvPr/>
        </p:nvSpPr>
        <p:spPr>
          <a:xfrm>
            <a:off x="868680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DBD7E-48A4-4B80-ABBF-5277D7877263}" type="slidenum">
              <a:rPr b="1" lang="en-US" sz="1400" spc="-1" strike="noStrike">
                <a:solidFill>
                  <a:srgbClr val="0f6fc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iteseer dataset </a:t>
            </a:r>
            <a:r>
              <a:rPr b="0" lang="en-US" sz="2000" spc="-1" strike="noStrike">
                <a:solidFill>
                  <a:srgbClr val="55a839"/>
                </a:solidFill>
                <a:latin typeface="Tw Cen MT"/>
              </a:rPr>
              <a:t>[Lawrence et.al., 1999]</a:t>
            </a:r>
            <a:r>
              <a:rPr b="0" lang="en-US" sz="2000" spc="-1" strike="noStrike">
                <a:solidFill>
                  <a:srgbClr val="55a839"/>
                </a:solidFill>
                <a:latin typeface="Times New Roman"/>
              </a:rPr>
              <a:t> [</a:t>
            </a:r>
            <a:r>
              <a:rPr b="0" lang="en-US" sz="2000" spc="-1" strike="noStrike">
                <a:solidFill>
                  <a:srgbClr val="55a839"/>
                </a:solidFill>
                <a:latin typeface="Tw Cen MT"/>
              </a:rPr>
              <a:t>Poon and Domingos, 2007</a:t>
            </a:r>
            <a:r>
              <a:rPr b="0" lang="en-US" sz="2000" spc="-1" strike="noStrike">
                <a:solidFill>
                  <a:srgbClr val="55a839"/>
                </a:solidFill>
                <a:latin typeface="Times New Roman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1,563 citations, divided into 4 research topic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Each citation is segmented into 3 fields: </a:t>
            </a:r>
            <a:r>
              <a:rPr b="0" i="1" lang="en-US" sz="2900" spc="-1" strike="noStrike">
                <a:solidFill>
                  <a:srgbClr val="000000"/>
                </a:solidFill>
                <a:latin typeface="Tw Cen MT"/>
              </a:rPr>
              <a:t>Author, Title, Venu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Used the simplest MLN in </a:t>
            </a:r>
            <a:r>
              <a:rPr b="0" lang="en-US" sz="2000" spc="-1" strike="noStrike">
                <a:solidFill>
                  <a:srgbClr val="55a839"/>
                </a:solidFill>
                <a:latin typeface="Times New Roman"/>
              </a:rPr>
              <a:t>[</a:t>
            </a:r>
            <a:r>
              <a:rPr b="0" lang="en-US" sz="2000" spc="-1" strike="noStrike">
                <a:solidFill>
                  <a:srgbClr val="55a839"/>
                </a:solidFill>
                <a:latin typeface="Tw Cen MT"/>
              </a:rPr>
              <a:t>Poon and Domingos, 2007]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Similar to a linear chain CRF: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Next(j,i) ^ !HasPunc(c,i) ^ InField(c,+f,i) =&gt; InField(c,+f,j)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Tw Cen MT"/>
              </a:rPr>
              <a:t>Experimental setup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ystems compared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MM: the max-margin weight learner for MLNs in batch setting </a:t>
            </a:r>
            <a:r>
              <a:rPr b="0" lang="en-US" sz="2000" spc="-1" strike="noStrike">
                <a:solidFill>
                  <a:srgbClr val="55a839"/>
                </a:solidFill>
                <a:latin typeface="Tw Cen MT"/>
              </a:rPr>
              <a:t>[Huynh &amp; Mooney, 2009]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1-best MIRA </a:t>
            </a:r>
            <a:r>
              <a:rPr b="0" lang="en-US" sz="2000" spc="-1" strike="noStrike">
                <a:solidFill>
                  <a:srgbClr val="55a839"/>
                </a:solidFill>
                <a:latin typeface="Tw Cen MT"/>
              </a:rPr>
              <a:t>[Crammer et al., 2005]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Subgradient </a:t>
            </a:r>
            <a:r>
              <a:rPr b="0" lang="en-US" sz="2000" spc="-1" strike="noStrike">
                <a:solidFill>
                  <a:srgbClr val="55a839"/>
                </a:solidFill>
                <a:latin typeface="Tw Cen MT"/>
              </a:rPr>
              <a:t>[Ratliff et al., 2007]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CDA1/PA1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CDA2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3" name="Slide Number Placeholder 3"/>
          <p:cNvSpPr/>
          <p:nvPr/>
        </p:nvSpPr>
        <p:spPr>
          <a:xfrm>
            <a:off x="868680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B4CD5-1FB4-4F0D-BEF1-2F613ACCCA6C}" type="slidenum">
              <a:rPr b="1" lang="en-US" sz="1400" spc="-1" strike="noStrike">
                <a:solidFill>
                  <a:srgbClr val="0f6fc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4" name="Picture 2" descr=""/>
          <p:cNvPicPr/>
          <p:nvPr/>
        </p:nvPicPr>
        <p:blipFill>
          <a:blip r:embed="rId1"/>
          <a:stretch/>
        </p:blipFill>
        <p:spPr>
          <a:xfrm>
            <a:off x="2278080" y="3406680"/>
            <a:ext cx="4122720" cy="63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Tw Cen MT"/>
              </a:rPr>
              <a:t>Experimental setup (cont.)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53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4-fold cross-validation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Metric: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59364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CiteSeer: micro-average F</a:t>
            </a:r>
            <a:r>
              <a:rPr b="0" lang="en-US" sz="2300" spc="-1" strike="noStrike" baseline="-25000">
                <a:solidFill>
                  <a:srgbClr val="000000"/>
                </a:solidFill>
                <a:latin typeface="Tw Cen MT"/>
              </a:rPr>
              <a:t>1</a:t>
            </a: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 at the token level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1"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Used exact MPE inference (Integer Linear Programming) for all online algorithms and approximate MPE inference (LP-relaxation) for the batch one.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Used Hamming loss as the label loss function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7" name="Slide Number Placeholder 3"/>
          <p:cNvSpPr/>
          <p:nvPr/>
        </p:nvSpPr>
        <p:spPr>
          <a:xfrm>
            <a:off x="868680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3CD06-1817-477E-BBBB-D52C9624B682}" type="slidenum">
              <a:rPr b="1" lang="en-US" sz="1400" spc="-1" strike="noStrike">
                <a:solidFill>
                  <a:srgbClr val="0f6fc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Tw Cen MT"/>
              </a:rPr>
              <a:t>Average F1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539" name="Slide Number Placeholder 2"/>
          <p:cNvSpPr/>
          <p:nvPr/>
        </p:nvSpPr>
        <p:spPr>
          <a:xfrm>
            <a:off x="868680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27A4B-BD96-4253-9A91-DA00E4D3C145}" type="slidenum">
              <a:rPr b="1" lang="en-US" sz="1400" spc="-1" strike="noStrike">
                <a:solidFill>
                  <a:srgbClr val="0f6fc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0" name="Chart 3" descr=""/>
          <p:cNvPicPr/>
          <p:nvPr/>
        </p:nvPicPr>
        <p:blipFill>
          <a:blip r:embed="rId1"/>
          <a:stretch/>
        </p:blipFill>
        <p:spPr>
          <a:xfrm>
            <a:off x="635040" y="1549440"/>
            <a:ext cx="7873920" cy="497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Tw Cen MT"/>
              </a:rPr>
              <a:t>Average training time in minutes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542" name="Slide Number Placeholder 2"/>
          <p:cNvSpPr/>
          <p:nvPr/>
        </p:nvSpPr>
        <p:spPr>
          <a:xfrm>
            <a:off x="868680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60C51-E4B6-4661-A621-5F8497BB0349}" type="slidenum">
              <a:rPr b="1" lang="en-US" sz="1400" spc="-1" strike="noStrike">
                <a:solidFill>
                  <a:srgbClr val="0f6fc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3" name="Chart 5" descr=""/>
          <p:cNvPicPr/>
          <p:nvPr/>
        </p:nvPicPr>
        <p:blipFill>
          <a:blip r:embed="rId1"/>
          <a:stretch/>
        </p:blipFill>
        <p:spPr>
          <a:xfrm>
            <a:off x="635040" y="1549440"/>
            <a:ext cx="8026200" cy="497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53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Tw Cen MT"/>
              </a:rPr>
              <a:t>Microsoft web search query dataset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545" name="Slide Number Placeholder 2"/>
          <p:cNvSpPr/>
          <p:nvPr/>
        </p:nvSpPr>
        <p:spPr>
          <a:xfrm>
            <a:off x="868680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63875-D9B2-4DC4-B1DA-52B536C42C34}" type="slidenum">
              <a:rPr b="1" lang="en-US" sz="1400" spc="-1" strike="noStrike">
                <a:solidFill>
                  <a:srgbClr val="0f6fc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Used the clean-up dataset created by </a:t>
            </a:r>
            <a:r>
              <a:rPr b="0" lang="en-US" sz="2900" spc="-1" strike="noStrike">
                <a:solidFill>
                  <a:srgbClr val="00b050"/>
                </a:solidFill>
                <a:latin typeface="Tw Cen MT"/>
              </a:rPr>
              <a:t>Mihalkova &amp; Mooney [2009]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Has thousands of search sessions where an ambiguous queries was asked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Goal: disambiguate search query based on previous related search session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Used 3 MLNs proposed in </a:t>
            </a:r>
            <a:r>
              <a:rPr b="0" lang="en-US" sz="2900" spc="-1" strike="noStrike">
                <a:solidFill>
                  <a:srgbClr val="00b050"/>
                </a:solidFill>
                <a:latin typeface="Tw Cen MT"/>
              </a:rPr>
              <a:t>[Mihalkova &amp; Mooney, 2009]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Tw Cen MT"/>
              </a:rPr>
              <a:t>Experimental setup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54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ystems compared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Contrastive Divergence (CD) </a:t>
            </a:r>
            <a:r>
              <a:rPr b="0" lang="en-US" sz="2600" spc="-1" strike="noStrike">
                <a:solidFill>
                  <a:srgbClr val="00b050"/>
                </a:solidFill>
                <a:latin typeface="Tw Cen MT"/>
              </a:rPr>
              <a:t>[Hinton 2002]</a:t>
            </a: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: used in </a:t>
            </a:r>
            <a:r>
              <a:rPr b="0" lang="en-US" sz="2600" spc="-1" strike="noStrike">
                <a:solidFill>
                  <a:srgbClr val="00b050"/>
                </a:solidFill>
                <a:latin typeface="Tw Cen MT"/>
              </a:rPr>
              <a:t>[Mihalkova &amp; Mooney, 2009]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1-best MIRA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Subgradient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CDA1/PA1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CDA2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Metric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Mean Average Precision (MAP): how close the relevant results are to the top of the ranking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9" name="Slide Number Placeholder 3"/>
          <p:cNvSpPr/>
          <p:nvPr/>
        </p:nvSpPr>
        <p:spPr>
          <a:xfrm>
            <a:off x="868680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5C2F5-D540-419B-A6A7-5D5E982F2607}" type="slidenum">
              <a:rPr b="1" lang="en-US" sz="1400" spc="-1" strike="noStrike">
                <a:solidFill>
                  <a:srgbClr val="0f6fc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Tw Cen MT"/>
              </a:rPr>
              <a:t>MAP scores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551" name="Slide Number Placeholder 2"/>
          <p:cNvSpPr/>
          <p:nvPr/>
        </p:nvSpPr>
        <p:spPr>
          <a:xfrm>
            <a:off x="868680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3BBCA-B38B-4031-AF4F-A929F0A44B54}" type="slidenum">
              <a:rPr b="1" lang="en-US" sz="1400" spc="-1" strike="noStrike">
                <a:solidFill>
                  <a:srgbClr val="0f6fc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2" name="Chart 4" descr=""/>
          <p:cNvPicPr/>
          <p:nvPr/>
        </p:nvPicPr>
        <p:blipFill>
          <a:blip r:embed="rId1"/>
          <a:stretch/>
        </p:blipFill>
        <p:spPr>
          <a:xfrm>
            <a:off x="711360" y="1473120"/>
            <a:ext cx="7873920" cy="51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Tw Cen MT"/>
              </a:rPr>
              <a:t>Conclusion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554" name="Slide Number Placeholder 2"/>
          <p:cNvSpPr/>
          <p:nvPr/>
        </p:nvSpPr>
        <p:spPr>
          <a:xfrm>
            <a:off x="868680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9FE5C-8D63-4258-8317-857E9F14B961}" type="slidenum">
              <a:rPr b="1" lang="en-US" sz="1400" spc="-1" strike="noStrike">
                <a:solidFill>
                  <a:srgbClr val="0f6fc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Derived CDA algorithms for max-margin structured prediction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Have same computational cost as existing online algorithms but increase the dual objective more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Experimental results on two real-world problems show that the new algorithms generally achieve better accuracy and also have more consistent performance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Tw Cen MT"/>
              </a:rPr>
              <a:t>Motivation</a:t>
            </a:r>
            <a:endParaRPr b="0" lang="en-US" sz="40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612720" y="160020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Most of the existing weight learning for MLNs are in the batch setting.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Need to run inference over all the training examples in each iteration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Usually take a few hundred iterations to converge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Cannot fit all the training examples in the memory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900" spc="-1" strike="noStrike">
                <a:solidFill>
                  <a:srgbClr val="ff0000"/>
                </a:solidFill>
                <a:latin typeface="Tw Cen MT"/>
              </a:rPr>
              <a:t> </a:t>
            </a:r>
            <a:r>
              <a:rPr b="0" lang="en-US" sz="2900" spc="-1" strike="noStrike">
                <a:solidFill>
                  <a:srgbClr val="ff0000"/>
                </a:solidFill>
                <a:latin typeface="Tw Cen MT"/>
              </a:rPr>
              <a:t>Conventional solution: online learning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4" name="Slide Number Placeholder 3"/>
          <p:cNvSpPr/>
          <p:nvPr/>
        </p:nvSpPr>
        <p:spPr>
          <a:xfrm>
            <a:off x="868680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0E26D-8855-41D1-B927-94D93BE8BACD}" type="slidenum">
              <a:rPr b="1" lang="en-US" sz="1400" spc="-1" strike="noStrike">
                <a:solidFill>
                  <a:srgbClr val="0f6fc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28600" y="2895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4617b"/>
                </a:solidFill>
                <a:latin typeface="Tw Cen MT"/>
              </a:rPr>
              <a:t>Thank you!</a:t>
            </a:r>
            <a:endParaRPr b="0" lang="en-US" sz="40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557" name="Slide Number Placeholder 2"/>
          <p:cNvSpPr/>
          <p:nvPr/>
        </p:nvSpPr>
        <p:spPr>
          <a:xfrm>
            <a:off x="868680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04033-3EAC-44E4-9ED3-1FB883FE8075}" type="slidenum">
              <a:rPr b="1" lang="en-US" sz="1400" spc="-1" strike="noStrike">
                <a:solidFill>
                  <a:srgbClr val="0f6fc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itle 1"/>
          <p:cNvSpPr/>
          <p:nvPr/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Tw Cen MT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TextBox 5"/>
          <p:cNvSpPr/>
          <p:nvPr/>
        </p:nvSpPr>
        <p:spPr>
          <a:xfrm>
            <a:off x="3165480" y="2895480"/>
            <a:ext cx="2919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dd9"/>
                </a:solidFill>
                <a:latin typeface="Times New Roman"/>
              </a:rPr>
              <a:t>Backgrou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Slide Number Placeholder 2"/>
          <p:cNvSpPr/>
          <p:nvPr/>
        </p:nvSpPr>
        <p:spPr>
          <a:xfrm>
            <a:off x="868680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A3CCE-884D-4F3B-B0BE-5F3E8CC32E35}" type="slidenum">
              <a:rPr b="1" lang="en-US" sz="1400" spc="-1" strike="noStrike">
                <a:solidFill>
                  <a:srgbClr val="0f6fc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 txBox="1"/>
          <p:nvPr/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An MLN is a weighted set of first-order formulas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Larger weight indicates stronger belief that the clause should hold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Probability of a possible world (a truth assignment to all ground atoms) x: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grpSp>
        <p:nvGrpSpPr>
          <p:cNvPr id="458" name="Group 18"/>
          <p:cNvGrpSpPr/>
          <p:nvPr/>
        </p:nvGrpSpPr>
        <p:grpSpPr>
          <a:xfrm>
            <a:off x="4495680" y="5322960"/>
            <a:ext cx="997200" cy="380880"/>
            <a:chOff x="4495680" y="5322960"/>
            <a:chExt cx="997200" cy="380880"/>
          </a:xfrm>
        </p:grpSpPr>
        <p:sp>
          <p:nvSpPr>
            <p:cNvPr id="459" name="Rectangle 26"/>
            <p:cNvSpPr/>
            <p:nvPr/>
          </p:nvSpPr>
          <p:spPr>
            <a:xfrm>
              <a:off x="4756320" y="5322960"/>
              <a:ext cx="736560" cy="3808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Rectangle 27"/>
            <p:cNvSpPr/>
            <p:nvPr/>
          </p:nvSpPr>
          <p:spPr>
            <a:xfrm>
              <a:off x="4495680" y="5322960"/>
              <a:ext cx="253800" cy="3808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Tw Cen MT"/>
              </a:rPr>
              <a:t>Markov Logic Networks (MLNs)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grpSp>
        <p:nvGrpSpPr>
          <p:cNvPr id="462" name="Group 19"/>
          <p:cNvGrpSpPr/>
          <p:nvPr/>
        </p:nvGrpSpPr>
        <p:grpSpPr>
          <a:xfrm>
            <a:off x="1152360" y="4948200"/>
            <a:ext cx="7252200" cy="1663920"/>
            <a:chOff x="1152360" y="4948200"/>
            <a:chExt cx="7252200" cy="1663920"/>
          </a:xfrm>
        </p:grpSpPr>
        <mc:AlternateContent>
          <mc:Choice xmlns:a14="http://schemas.microsoft.com/office/drawing/2010/main" Requires="a14">
            <p:sp>
              <p:nvSpPr>
                <p:cNvPr id="463" name="Object 25"/>
                <p:cNvSpPr txBox="1"/>
                <p:nvPr/>
              </p:nvSpPr>
              <p:spPr>
                <a:xfrm>
                  <a:off x="1152360" y="4948200"/>
                  <a:ext cx="4584960" cy="1092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=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 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Z</m:t>
                          </m:r>
                        </m:den>
                      </m:f>
                      <m:r>
                        <m:rPr>
                          <m:lit/>
                          <m:nor/>
                        </m:rPr>
                        <m:t xml:space="preserve">exp</m:t>
                      </m:r>
                      <m:r>
                        <m:t xml:space="preserve"> 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nary>
                            <m:naryPr>
                              <m:chr m:val="∑"/>
                              <m:supHide m:val="1"/>
                            </m:naryPr>
                            <m:sub>
                              <m:r>
                                <m:t xml:space="preserve">i</m:t>
                              </m:r>
                            </m:sub>
                            <m:sup/>
                            <m:e>
                              <m:sSub>
                                <m:e>
                                  <m:r>
                                    <m:t xml:space="preserve">w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  <m:r>
                                <m:t xml:space="preserve">(</m:t>
                              </m:r>
                              <m:r>
                                <m:t xml:space="preserve">x</m:t>
                              </m:r>
                              <m:r>
                                <m:t xml:space="preserve">)</m:t>
                              </m:r>
                            </m:e>
                          </m:nary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464" name="Text Box 28"/>
            <p:cNvSpPr/>
            <p:nvPr/>
          </p:nvSpPr>
          <p:spPr>
            <a:xfrm>
              <a:off x="2208240" y="6243840"/>
              <a:ext cx="2009520" cy="36828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Weight of formula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Text Box 29"/>
            <p:cNvSpPr/>
            <p:nvPr/>
          </p:nvSpPr>
          <p:spPr>
            <a:xfrm>
              <a:off x="4587480" y="6243840"/>
              <a:ext cx="3817080" cy="368280"/>
            </a:xfrm>
            <a:prstGeom prst="rect">
              <a:avLst/>
            </a:prstGeom>
            <a:noFill/>
            <a:ln w="1908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No. of true groundings of formula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i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30"/>
            <p:cNvSpPr/>
            <p:nvPr/>
          </p:nvSpPr>
          <p:spPr>
            <a:xfrm flipV="1">
              <a:off x="4038480" y="5710320"/>
              <a:ext cx="609480" cy="53352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31"/>
            <p:cNvSpPr/>
            <p:nvPr/>
          </p:nvSpPr>
          <p:spPr>
            <a:xfrm flipH="1" flipV="1">
              <a:off x="5029200" y="5710320"/>
              <a:ext cx="304560" cy="533520"/>
            </a:xfrm>
            <a:prstGeom prst="line">
              <a:avLst/>
            </a:prstGeom>
            <a:ln w="19080">
              <a:solidFill>
                <a:srgbClr val="3399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8" name="Text Box 4"/>
          <p:cNvSpPr/>
          <p:nvPr/>
        </p:nvSpPr>
        <p:spPr>
          <a:xfrm>
            <a:off x="5724000" y="886680"/>
            <a:ext cx="357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5a839"/>
                </a:solidFill>
                <a:latin typeface="Tw Cen MT"/>
              </a:rPr>
              <a:t>[Richardson &amp; Domingos, 2006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Rectangle 15"/>
          <p:cNvSpPr/>
          <p:nvPr/>
        </p:nvSpPr>
        <p:spPr>
          <a:xfrm>
            <a:off x="380880" y="2205000"/>
            <a:ext cx="8715600" cy="734040"/>
          </a:xfrm>
          <a:prstGeom prst="rect">
            <a:avLst/>
          </a:prstGeom>
          <a:noFill/>
          <a:ln w="1260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0000"/>
                </a:solidFill>
                <a:latin typeface="Tw Cen MT"/>
              </a:rPr>
              <a:t>2.5</a:t>
            </a:r>
            <a:r>
              <a:rPr b="0" lang="en-US" sz="2100" spc="-1" strike="noStrike">
                <a:solidFill>
                  <a:srgbClr val="009dd9"/>
                </a:solidFill>
                <a:latin typeface="Tw Cen MT"/>
              </a:rPr>
              <a:t>   </a:t>
            </a:r>
            <a:r>
              <a:rPr b="0" lang="en-US" sz="2100" spc="-1" strike="noStrike">
                <a:solidFill>
                  <a:srgbClr val="0f6fc6"/>
                </a:solidFill>
                <a:latin typeface="Tw Cen MT"/>
              </a:rPr>
              <a:t>Center(i,c) =&gt; InField(Ftitle,i,c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0000"/>
                </a:solidFill>
                <a:latin typeface="Tw Cen MT"/>
              </a:rPr>
              <a:t>1.2</a:t>
            </a:r>
            <a:r>
              <a:rPr b="0" lang="en-US" sz="2100" spc="-1" strike="noStrike">
                <a:solidFill>
                  <a:srgbClr val="009dd9"/>
                </a:solidFill>
                <a:latin typeface="Tw Cen MT"/>
              </a:rPr>
              <a:t>   </a:t>
            </a:r>
            <a:r>
              <a:rPr b="0" lang="en-US" sz="2100" spc="-1" strike="noStrike">
                <a:solidFill>
                  <a:srgbClr val="0f6fc6"/>
                </a:solidFill>
                <a:latin typeface="Tw Cen MT"/>
              </a:rPr>
              <a:t>InField(f,i,c) ^ Next(j,i) ^ </a:t>
            </a:r>
            <a:r>
              <a:rPr b="0" lang="en-US" sz="2100" spc="-1" strike="noStrike">
                <a:solidFill>
                  <a:srgbClr val="0f6fc6"/>
                </a:solidFill>
                <a:latin typeface="Tw Cen MT"/>
                <a:ea typeface="Times New Roman"/>
              </a:rPr>
              <a:t>¬HasPunc(c,i)</a:t>
            </a:r>
            <a:r>
              <a:rPr b="0" lang="en-US" sz="2100" spc="-1" strike="noStrike">
                <a:solidFill>
                  <a:srgbClr val="0f6fc6"/>
                </a:solidFill>
                <a:latin typeface="Tw Cen MT"/>
              </a:rPr>
              <a:t>=&gt; InField(f,j,c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Slide Number Placeholder 2"/>
          <p:cNvSpPr/>
          <p:nvPr/>
        </p:nvSpPr>
        <p:spPr>
          <a:xfrm>
            <a:off x="868680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20001-D952-4CB4-9DA0-3DCCD2F5FB2F}" type="slidenum">
              <a:rPr b="1" lang="en-US" sz="1400" spc="-1" strike="noStrike">
                <a:solidFill>
                  <a:srgbClr val="0f6fc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Tw Cen MT"/>
              </a:rPr>
              <a:t>Existing discriminative weight learning methods for MLNs</a:t>
            </a:r>
            <a:endParaRPr b="0" lang="en-US" sz="40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45684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maximize the Conditional Log Likelihood (CLL)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300" spc="-1" strike="noStrike">
                <a:solidFill>
                  <a:srgbClr val="55a839"/>
                </a:solidFill>
                <a:latin typeface="Tw Cen MT"/>
              </a:rPr>
              <a:t>[Singla &amp; Domingos, 2005], [Lowd &amp; Domingos, 2007], [Huynh &amp; Mooney, 2008]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maximize the margin, the log ratio between the probability of the correct label and the closest incorrect one </a:t>
            </a:r>
            <a:r>
              <a:rPr b="0" lang="en-US" sz="2300" spc="-1" strike="noStrike">
                <a:solidFill>
                  <a:srgbClr val="55a839"/>
                </a:solidFill>
                <a:latin typeface="Tw Cen MT"/>
              </a:rPr>
              <a:t>[Huynh &amp; Mooney, 2009]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3" name="Slide Number Placeholder 3"/>
          <p:cNvSpPr/>
          <p:nvPr/>
        </p:nvSpPr>
        <p:spPr>
          <a:xfrm>
            <a:off x="868680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E99DE-FE93-49DE-9B34-FD75F7B348DB}" type="slidenum">
              <a:rPr b="1" lang="en-US" sz="1400" spc="-1" strike="noStrike">
                <a:solidFill>
                  <a:srgbClr val="0f6fc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Tw Cen MT"/>
              </a:rPr>
              <a:t>Online learning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475" name="Slide Number Placeholder 2"/>
          <p:cNvSpPr/>
          <p:nvPr/>
        </p:nvSpPr>
        <p:spPr>
          <a:xfrm>
            <a:off x="868680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5664C-FA28-446D-A387-4AC4B7BE5C08}" type="slidenum">
              <a:rPr b="1" lang="en-US" sz="1400" spc="-1" strike="noStrike">
                <a:solidFill>
                  <a:srgbClr val="0f6fc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6" name="Content Placeholder 3" descr=""/>
          <p:cNvPicPr/>
          <p:nvPr/>
        </p:nvPicPr>
        <p:blipFill>
          <a:blip r:embed="rId1"/>
          <a:stretch/>
        </p:blipFill>
        <p:spPr>
          <a:xfrm>
            <a:off x="585720" y="1504800"/>
            <a:ext cx="8180280" cy="4591080"/>
          </a:xfrm>
          <a:prstGeom prst="rect">
            <a:avLst/>
          </a:prstGeom>
          <a:ln w="0">
            <a:noFill/>
          </a:ln>
        </p:spPr>
      </p:pic>
      <p:pic>
        <p:nvPicPr>
          <p:cNvPr id="477" name="Picture 5" descr="TP_tmp.emf"/>
          <p:cNvPicPr/>
          <p:nvPr/>
        </p:nvPicPr>
        <p:blipFill>
          <a:blip r:embed="rId2"/>
          <a:stretch/>
        </p:blipFill>
        <p:spPr>
          <a:xfrm>
            <a:off x="4546440" y="3174840"/>
            <a:ext cx="51120" cy="51120"/>
          </a:xfrm>
          <a:prstGeom prst="rect">
            <a:avLst/>
          </a:prstGeom>
          <a:ln w="0">
            <a:noFill/>
          </a:ln>
        </p:spPr>
      </p:pic>
      <p:pic>
        <p:nvPicPr>
          <p:cNvPr id="478" name="Picture 10" descr="TP_tmp.emf"/>
          <p:cNvPicPr/>
          <p:nvPr/>
        </p:nvPicPr>
        <p:blipFill>
          <a:blip r:embed="rId3"/>
          <a:stretch/>
        </p:blipFill>
        <p:spPr>
          <a:xfrm>
            <a:off x="4546440" y="3174840"/>
            <a:ext cx="51120" cy="51120"/>
          </a:xfrm>
          <a:prstGeom prst="rect">
            <a:avLst/>
          </a:prstGeom>
          <a:ln w="0">
            <a:noFill/>
          </a:ln>
        </p:spPr>
      </p:pic>
      <p:pic>
        <p:nvPicPr>
          <p:cNvPr id="479" name="Picture 13" descr="TP_tmp.emf"/>
          <p:cNvPicPr/>
          <p:nvPr/>
        </p:nvPicPr>
        <p:blipFill>
          <a:blip r:embed="rId4"/>
          <a:stretch/>
        </p:blipFill>
        <p:spPr>
          <a:xfrm>
            <a:off x="4546440" y="3174840"/>
            <a:ext cx="51120" cy="51120"/>
          </a:xfrm>
          <a:prstGeom prst="rect">
            <a:avLst/>
          </a:prstGeom>
          <a:ln w="0">
            <a:noFill/>
          </a:ln>
        </p:spPr>
      </p:pic>
      <p:pic>
        <p:nvPicPr>
          <p:cNvPr id="480" name="Picture 15" descr="TP_tmp.emf"/>
          <p:cNvPicPr/>
          <p:nvPr/>
        </p:nvPicPr>
        <p:blipFill>
          <a:blip r:embed="rId5"/>
          <a:stretch/>
        </p:blipFill>
        <p:spPr>
          <a:xfrm>
            <a:off x="4546440" y="3174840"/>
            <a:ext cx="51120" cy="5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"/>
          <p:cNvSpPr txBox="1"/>
          <p:nvPr/>
        </p:nvSpPr>
        <p:spPr>
          <a:xfrm>
            <a:off x="609120" y="1523880"/>
            <a:ext cx="81536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A general and latest framework for deriving low-regret online algorithm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Rewriting the regret bound as an optimization problem (called the primal problem), then considering the dual problem of the primal on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A condition that guarantees the increase in the dual objective in each step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Incremental-Dual-Ascent (IDA) algorithms. For example: subgradient method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Tw Cen MT"/>
              </a:rPr>
              <a:t>Primal-dual framework </a:t>
            </a:r>
            <a:r>
              <a:rPr b="0" lang="en-US" sz="2000" spc="-1" strike="noStrike">
                <a:solidFill>
                  <a:srgbClr val="55a839"/>
                </a:solidFill>
                <a:latin typeface="Tw Cen MT"/>
              </a:rPr>
              <a:t>[Shalev-Shwartz et al., 2006]</a:t>
            </a:r>
            <a:endParaRPr b="0" lang="en-US" sz="20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483" name="Slide Number Placeholder 2"/>
          <p:cNvSpPr/>
          <p:nvPr/>
        </p:nvSpPr>
        <p:spPr>
          <a:xfrm>
            <a:off x="868680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80156-1428-4EA9-A42B-5345F368F0BD}" type="slidenum">
              <a:rPr b="1" lang="en-US" sz="1400" spc="-1" strike="noStrike">
                <a:solidFill>
                  <a:srgbClr val="0f6fc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Tw Cen MT"/>
              </a:rPr>
              <a:t>Primal-dual framework (cont.)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485" name="Slide Number Placeholder 2"/>
          <p:cNvSpPr/>
          <p:nvPr/>
        </p:nvSpPr>
        <p:spPr>
          <a:xfrm>
            <a:off x="868680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B36D2-7CB4-4D7C-9784-E40667DD08AF}" type="slidenum">
              <a:rPr b="1" lang="en-US" sz="1400" spc="-1" strike="noStrike">
                <a:solidFill>
                  <a:srgbClr val="0f6fc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Proposed a new class of IDA algorithms called Coordinate-Dual-Ascent (CDA) algorithm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The CDA update rule only optimizes the dual w.r.t the last dual variable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A closed-form solution of CDA update rule </a:t>
            </a:r>
            <a:r>
              <a:rPr b="0" lang="en-US" sz="2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ff0000"/>
                </a:solidFill>
                <a:latin typeface="Tw Cen MT"/>
              </a:rPr>
              <a:t> CDA algorithms have the same cost as subgradient methods but increase the dual objective more in each step </a:t>
            </a:r>
            <a:r>
              <a:rPr b="0" lang="en-US" sz="2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ff0000"/>
                </a:solidFill>
                <a:latin typeface="Tw Cen MT"/>
              </a:rPr>
              <a:t> converging to the optimal value faster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2T20:34:32Z</dcterms:created>
  <dc:creator>Tuyen Ngoc Huynh</dc:creator>
  <dc:description/>
  <dc:language>en-US</dc:language>
  <cp:lastModifiedBy>Tuyen Ngoc Huynh</cp:lastModifiedBy>
  <dcterms:modified xsi:type="dcterms:W3CDTF">2010-07-17T20:59:00Z</dcterms:modified>
  <cp:revision>1004</cp:revision>
  <dc:subject/>
  <dc:title>Discriminative Structure and Parameter Learning for Markov Logic Networks</dc:title>
</cp:coreProperties>
</file>