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F23-8972-425F-9E77-AC03C47D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BA73-67EB-4452-B837-64595DE9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727-12B3-484A-9D2E-C908599F3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930-E116-400E-98EE-751A4AA2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FA5-DAD8-44AE-8559-B20BE5CE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FEE-D5B0-4D70-BF84-4BF1F444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001-946C-4B4A-81E2-01EE5E83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010-C4BB-4125-95CF-99853CC0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0D49-F820-4C11-8CEB-236C4091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161-06C0-4183-B63B-DDFE5246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C41-D140-4CC3-B8F1-78249C8B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3A0-FCDB-4889-9730-EC3C3230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EAB-C183-43B2-A751-4F27FC9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B061-00DF-4836-95BF-3DAA1E0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53FF8-2362-423A-AA15-C6942EA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03264-5247-4E17-96FF-98DDCBA8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EECC-688A-403B-BC6A-73A4A78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B4941-30B7-47A9-9B47-7BE001B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C7265-102B-4187-ACFD-C8422E4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E7C0F-5969-4AE1-B5D8-CBEF69A2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8BE8B-C506-471D-B9E5-A5F11562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680AE-F1E9-4BBA-B534-D3B3F83C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E4150-BAB1-44E0-86E1-B0F3AD80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52-A0D0-4059-BCA8-4FE9AF3F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E006B-5673-4194-95D9-40CF659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6E4DC-5F0D-4F00-AC65-A58B7B1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C377F-2FD8-487D-B221-B39E543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50E58-68F2-4848-A1A3-F69A8AA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E4D31-CB51-44CD-AADC-6073FCA0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E211A-21E5-4438-8D0E-F030CDE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4EA11-9E1F-4BE8-8DC2-B439376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9258F-0254-4110-AEC5-B99ABC8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C82B-2157-4EF2-907F-49E972F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4236D-5445-4CE3-9DD0-AEDD6C8F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A2F-2379-4778-9DF6-638DC443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13E4-735B-4BD3-85E2-025E6F35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45B-F918-4A4E-B437-D52374CF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C2DA-34FB-493B-8BA8-C8DF87C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AD1-883A-4ED5-B171-2990BBD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D1C6-AE65-44B0-B1D6-84E4DF9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22D-F1B6-4B5E-906F-2FA6820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7F0-53E2-441E-8CE9-27E1AB0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411-20D6-4215-84A2-41B576E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4AD-3C29-4301-8696-994BD39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70D8-56FC-4D8A-A75F-6B3CF7D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11A-1D76-483D-8A2D-0325033A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1141-66EC-448B-B8EA-2F5B561E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AD2B-7FD6-423F-B9F1-CCA7380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1461-2875-4152-B8B8-E2EB5C8C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1F16D-0C88-4A5E-AE43-11E67DC7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DE419-52C5-44FF-9A5B-FB319E7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68B31-9614-41DE-86C8-3C3E7980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A3E25-80C2-486A-8033-F144373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C0566-3E60-4D54-9536-FB5F773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CAF-AD2A-42A2-BC07-990D14E9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55AE8-95FF-442C-96AB-01236E23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FBBD6-54F2-4AEC-940D-9B70ED6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74785-12A0-42F4-8455-A74B682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96D3B-C695-439D-96F1-A414F54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C1BDD-7ADC-4F63-B1B6-1DAC279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5411A-D4F2-49F3-9A9C-A5932EB1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A61B0-75AB-460D-B56E-ED123A3C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4FBE3-42EA-450B-9E5F-B46ABF45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4CE21-3EC6-4D23-8F2C-1C886D2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91BA7-EAD1-42B1-98D9-179CBC2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877-BCF9-4635-9CB6-28F83DC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12FF7-C048-4733-971F-3FCD4B5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3A7E7-A29A-4486-AE78-1DB4DC51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23183-69DA-48C0-A4A8-4C5494B3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DDB9A-F40D-481D-A3AF-78E8AA6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EACA4-19D9-438F-8C6D-7D7E9A1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1D1CC-5CBD-4B91-83A1-9004114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F2B95-8500-4AFC-A9F0-F176F54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E8655-2AF9-4DAD-92BB-5FE13A6F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CEC86-04EB-4BAB-A1CD-3CF957C2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67C48-189D-46D2-81BA-8177D651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CB4-EBB2-4A8E-84AB-37D6844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AC3D4-3E31-47BA-982B-4D7C31B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13ED1-450E-4284-88B2-7614801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F9965-80B8-4E76-B327-12DC95F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85E86-2CBF-4490-B008-45783D15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B020E-343F-4A41-829F-9DEFA71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7A1E3-AE03-4D2E-89BC-11C123F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10C9F-6FBB-453E-B2FA-951C4A7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93585-DDCE-4811-9298-A05D3E4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898E4-ACF5-43D5-A1A5-D209E04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1E513-E1C2-45E4-9570-B31B5EBF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B50-8975-4236-8B81-9935877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F10F9-A438-451C-9F8C-804821D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C778-43E1-49AB-A68F-5B43CCB1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1F40F-F4D2-4B69-AA73-01E854B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FE54-6870-4978-8B04-08CBB2C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5815-C198-4834-8672-B270ED6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F0655-376B-4EDC-9BDA-4BC52AE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E8B6-AD1B-4348-BF65-A634599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5C4BF-9F10-4DC0-A3A1-9EC83F6F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4043-D6D4-4E65-A99A-48B945C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1AF9-A051-4BAC-8E60-2196561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B4D-DDE2-4F82-A201-354DCE4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673F0-B73F-4713-973D-38683E34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B70BD-EF68-4BD9-9D5A-A8B620E4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54A42-A772-4D1F-BE56-64B5FE8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90A4-318A-42FC-B990-0C0F90DC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2CBB3-13C2-4625-9C1F-5EF151C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FEE6-ECF0-4A63-ABB2-6A33BC4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FB175-ABC0-4AF8-9AFF-9F8FFA48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E615-A81B-42F9-A8CC-346BB4A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880A3-18BF-46C0-9DCA-FAA2A64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0602-67FF-4700-A587-451177C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AEF-EC3B-4B7C-9AF4-CD364DB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38804-4906-4377-AE80-C9C2E20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40436-E6AA-4F6E-8A0E-DC84813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B73E6-14C6-4093-8739-3DD7208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7469B-5C48-437C-9CFE-2DFB22C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4B97-293B-41A2-8E5A-F91EB65E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8E7F8-8D74-4135-BF53-B87E495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2A94E-D9DA-4EA4-B960-50336DDB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FDFA4-803E-49DC-9C33-005A8F3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082B9-BC14-41D9-B48B-2767B39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F1BB9-A7C4-491A-98EB-FB14443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A79-C909-40F6-A42B-D0E6C2E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D2124-30AE-4660-9E8E-4D48D60C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CC3D0-9565-4217-882D-078C4C7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39B050-567D-4A94-B472-52354CD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CBF157-AA6C-4D32-976C-5258ABA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CCED7-7A39-401B-B68E-3C297E3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1447A-7857-4E65-8B7D-7E5B9E1A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E73E7-4338-46EA-A072-17C52E47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84933-A552-44A1-9CDD-450F8A45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B15D3-B2E9-4BA6-AF16-09B22AC4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A2B80-07DA-4B9F-8004-680DE738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AA6-A2DD-435C-A1AD-89BC7A713C8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8287-8159-40EA-B653-4CFF609B90C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047-EF0C-4B06-A661-91334EBD9491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2AB-D29C-4D3D-B2D7-70F65967353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007-B366-49D3-8F9F-F53FE46D813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568C-EA4C-4253-9629-50D4495901D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939-A57C-4FB8-A0C0-99290A744AB2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61D-AAE0-4413-8DEC-E50BEED80C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172-18DB-43F6-BBC8-769C10B03565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F9E-3493-417D-804C-DC7BFDC279C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Online Max-Margin Weight Learning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with 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w Cen MT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745000" y="3733920"/>
            <a:ext cx="38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The 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91320" y="53341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Star AI 2010, July 12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imal-dual framework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581-FACD-4F3D-A488-5BAC7CCD7C7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Content Placeholder 3" descr=""/>
          <p:cNvPicPr/>
          <p:nvPr/>
        </p:nvPicPr>
        <p:blipFill>
          <a:blip r:embed="rId1"/>
          <a:stretch/>
        </p:blipFill>
        <p:spPr>
          <a:xfrm>
            <a:off x="615960" y="1530360"/>
            <a:ext cx="81500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5"/>
          <p:cNvSpPr/>
          <p:nvPr/>
        </p:nvSpPr>
        <p:spPr>
          <a:xfrm>
            <a:off x="101160" y="2895480"/>
            <a:ext cx="90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imes New Roman"/>
              </a:rPr>
              <a:t>CDA algorithms for max-margin structured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AB71-CB0E-4C25-A6CA-5E39190FC16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x-margin structured predic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850-D63F-4503-85F5-AB3336AA156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186400" cy="447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3197160" y="3276720"/>
                <a:ext cx="2814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"/>
              <p:cNvSpPr txBox="1"/>
              <p:nvPr/>
            </p:nvSpPr>
            <p:spPr>
              <a:xfrm>
                <a:off x="2793960" y="4268880"/>
                <a:ext cx="3475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362320" y="541188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Steps for deriving new CDA algorithm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BB9-3DDA-4BAD-B8E9-94907894E68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 the regularization and loss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conjugate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e a closed-form solution for the CDA update r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1. Define the regularization and loss functio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226-8384-40BD-B6E6-3CDA7B83054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283240" cy="5010120"/>
          </a:xfrm>
          <a:prstGeom prst="rect">
            <a:avLst/>
          </a:prstGeom>
          <a:ln w="0">
            <a:noFill/>
          </a:ln>
        </p:spPr>
      </p:pic>
      <p:sp>
        <p:nvSpPr>
          <p:cNvPr id="504" name="Rectangular Callout 4"/>
          <p:cNvSpPr/>
          <p:nvPr/>
        </p:nvSpPr>
        <p:spPr>
          <a:xfrm>
            <a:off x="5715000" y="3124080"/>
            <a:ext cx="2590920" cy="612720"/>
          </a:xfrm>
          <a:prstGeom prst="wedgeRectCallout">
            <a:avLst>
              <a:gd name="adj1" fmla="val -130842"/>
              <a:gd name="adj2" fmla="val 89638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Label los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1. Define the regularization and loss functio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0D26-998D-431E-86F4-802F379BF04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186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2. Find the conjugate functio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DF5-11DF-442C-89A9-82A18387877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Content Placeholder 3" descr=""/>
          <p:cNvPicPr/>
          <p:nvPr/>
        </p:nvPicPr>
        <p:blipFill>
          <a:blip r:embed="rId1"/>
          <a:stretch/>
        </p:blipFill>
        <p:spPr>
          <a:xfrm>
            <a:off x="585720" y="1542960"/>
            <a:ext cx="81802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2. Find the conjugate functio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FC6-8EC4-44FB-B49E-64EC1205067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Content Placeholder 3" descr=""/>
          <p:cNvPicPr/>
          <p:nvPr/>
        </p:nvPicPr>
        <p:blipFill>
          <a:blip r:embed="rId1"/>
          <a:stretch/>
        </p:blipFill>
        <p:spPr>
          <a:xfrm>
            <a:off x="585720" y="1542960"/>
            <a:ext cx="8180280" cy="4784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1752480" y="4952880"/>
            <a:ext cx="6353280" cy="7048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3"/>
          <a:stretch/>
        </p:blipFill>
        <p:spPr>
          <a:xfrm>
            <a:off x="2657520" y="3429000"/>
            <a:ext cx="4352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C02B-71B1-4ED4-B73A-727418043DD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ptimization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lu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3. Closed-form solution for the CDA update rul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011320" y="2155680"/>
            <a:ext cx="5227560" cy="173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1476360" y="4724280"/>
            <a:ext cx="6448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CDA algorithms for max-margin structured predic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517-963A-4954-B1BA-641E2E78EF2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Content Placeholder 3" descr=""/>
          <p:cNvPicPr/>
          <p:nvPr/>
        </p:nvPicPr>
        <p:blipFill>
          <a:blip r:embed="rId1"/>
          <a:stretch/>
        </p:blipFill>
        <p:spPr>
          <a:xfrm>
            <a:off x="512640" y="1517760"/>
            <a:ext cx="8253360" cy="4578120"/>
          </a:xfrm>
          <a:prstGeom prst="rect">
            <a:avLst/>
          </a:prstGeom>
          <a:ln w="0">
            <a:noFill/>
          </a:ln>
        </p:spPr>
      </p:pic>
      <p:pic>
        <p:nvPicPr>
          <p:cNvPr id="524" name="TextBox 4" descr=""/>
          <p:cNvPicPr/>
          <p:nvPr/>
        </p:nvPicPr>
        <p:blipFill>
          <a:blip r:embed="rId2"/>
          <a:stretch/>
        </p:blipFill>
        <p:spPr>
          <a:xfrm>
            <a:off x="7851600" y="2060640"/>
            <a:ext cx="1109880" cy="50004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 5" descr=""/>
          <p:cNvPicPr/>
          <p:nvPr/>
        </p:nvPicPr>
        <p:blipFill>
          <a:blip r:embed="rId3"/>
          <a:stretch/>
        </p:blipFill>
        <p:spPr>
          <a:xfrm>
            <a:off x="7785000" y="4529160"/>
            <a:ext cx="1365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67A-CD8F-44F5-9759-38FE22FA86A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rkov Logic Networ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mal-dual frame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ew online learning algorithm for structured predic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tation segmen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arch query disambig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0462-89C9-45BC-8109-02E3289725F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F1E-6BBD-4041-A976-12046C66726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milar to a linear chain CRF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ext(j,i) ^ !HasPunc(c,i) ^ InField(c,+f,i) =&gt; InField(c,+f,j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stems compar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M: the max-margin weight learner for MLNs in batch setting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Crammer et al., 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atliff et al.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1/PA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223-87C8-464D-B1FE-8335911B08A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278080" y="3406680"/>
            <a:ext cx="41227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iteSeer: micro-average 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t the token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d exact MPE inference (Integer Linear Programming) for all online algorithms and approximate MPE inference (LP-relaxation) for the batch on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d Hamming loss as the label loss fun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0193-0121-497C-AFDE-2F036912558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verage F1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3F94-91E6-4F91-BE06-96998C87614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Chart 3" descr=""/>
          <p:cNvPicPr/>
          <p:nvPr/>
        </p:nvPicPr>
        <p:blipFill>
          <a:blip r:embed="rId1"/>
          <a:stretch/>
        </p:blipFill>
        <p:spPr>
          <a:xfrm>
            <a:off x="635040" y="1549440"/>
            <a:ext cx="787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verage training time in minut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194-2F8C-4B51-9322-82FFC58FF76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hart 5" descr=""/>
          <p:cNvPicPr/>
          <p:nvPr/>
        </p:nvPicPr>
        <p:blipFill>
          <a:blip r:embed="rId1"/>
          <a:stretch/>
        </p:blipFill>
        <p:spPr>
          <a:xfrm>
            <a:off x="635040" y="1549440"/>
            <a:ext cx="8026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icrosoft web search query datase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428-1A37-4560-BBE7-3D9C3FB01B8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clean-up dataset created by </a:t>
            </a:r>
            <a:r>
              <a:rPr b="0" lang="en-US" sz="2900" spc="-1" strike="noStrike">
                <a:solidFill>
                  <a:srgbClr val="00b050"/>
                </a:solidFill>
                <a:latin typeface="Tw Cen MT"/>
              </a:rPr>
              <a:t>Mihalkova &amp; Mooney [2009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s thousands of search sessions where an ambiguous queries was ask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al: disambiguate search query based on previous related search se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3 MLNs proposed in </a:t>
            </a:r>
            <a:r>
              <a:rPr b="0" lang="en-US" sz="2900" spc="-1" strike="noStrike">
                <a:solidFill>
                  <a:srgbClr val="00b050"/>
                </a:solidFill>
                <a:latin typeface="Tw Cen MT"/>
              </a:rPr>
              <a:t>[Mihalkova &amp; Mooney, 2009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stems compar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rastive Divergence (CD)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[Hinton 2002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: used in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[Mihalkova &amp; Mooney, 2009]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1/PA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an Average Precision (MAP): how close the relevant results are to the top of the rank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0EE-C732-4766-957D-75C21C24ADE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P scor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802-B379-40C9-A8AC-2D292387816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Chart 4" descr=""/>
          <p:cNvPicPr/>
          <p:nvPr/>
        </p:nvPicPr>
        <p:blipFill>
          <a:blip r:embed="rId1"/>
          <a:stretch/>
        </p:blipFill>
        <p:spPr>
          <a:xfrm>
            <a:off x="711360" y="1473120"/>
            <a:ext cx="78739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A41-A635-46C4-921C-0FB7AA099D8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ed CDA algorithms for max-margin structured predi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ave same computational cost as existing online algorithms but increase the dual objective mor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erimental results on two real-world problems show that the new algorithms generally achieve better accuracy and also have more consistent perform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of the existing weight learning for MLNs are in the batch setting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ed to run inference over all the training examples in each ite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ually take a few hundred iterations to conver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not fit all the training examples in the mem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Conventional solution: online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B97A-4025-4C9F-B920-E070E569C04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E9F-069E-4A0A-99F8-9B63CF6C245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E3F-95AB-424C-BC25-E92711EE860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MLN is a weighted set of first-order formu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ability of a possible world (a truth assignment to all ground atoms) x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58" name="Group 18"/>
          <p:cNvGrpSpPr/>
          <p:nvPr/>
        </p:nvGrpSpPr>
        <p:grpSpPr>
          <a:xfrm>
            <a:off x="4495680" y="5322960"/>
            <a:ext cx="997200" cy="380880"/>
            <a:chOff x="4495680" y="5322960"/>
            <a:chExt cx="997200" cy="380880"/>
          </a:xfrm>
        </p:grpSpPr>
        <p:sp>
          <p:nvSpPr>
            <p:cNvPr id="459" name="Rectangle 26"/>
            <p:cNvSpPr/>
            <p:nvPr/>
          </p:nvSpPr>
          <p:spPr>
            <a:xfrm>
              <a:off x="4756320" y="532296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27"/>
            <p:cNvSpPr/>
            <p:nvPr/>
          </p:nvSpPr>
          <p:spPr>
            <a:xfrm>
              <a:off x="4495680" y="5322960"/>
              <a:ext cx="253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rkov Logic Networks (MLNs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462" name="Group 19"/>
          <p:cNvGrpSpPr/>
          <p:nvPr/>
        </p:nvGrpSpPr>
        <p:grpSpPr>
          <a:xfrm>
            <a:off x="1152360" y="4948200"/>
            <a:ext cx="7252200" cy="1663920"/>
            <a:chOff x="1152360" y="4948200"/>
            <a:chExt cx="7252200" cy="1663920"/>
          </a:xfrm>
        </p:grpSpPr>
        <mc:AlternateContent>
          <mc:Choice xmlns:a14="http://schemas.microsoft.com/office/drawing/2010/main" Requires="a14">
            <p:sp>
              <p:nvSpPr>
                <p:cNvPr id="463" name="Object 25"/>
                <p:cNvSpPr txBox="1"/>
                <p:nvPr/>
              </p:nvSpPr>
              <p:spPr>
                <a:xfrm>
                  <a:off x="1152360" y="494820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Text Box 28"/>
            <p:cNvSpPr/>
            <p:nvPr/>
          </p:nvSpPr>
          <p:spPr>
            <a:xfrm>
              <a:off x="2208240" y="624384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9"/>
            <p:cNvSpPr/>
            <p:nvPr/>
          </p:nvSpPr>
          <p:spPr>
            <a:xfrm>
              <a:off x="4587480" y="624384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0"/>
            <p:cNvSpPr/>
            <p:nvPr/>
          </p:nvSpPr>
          <p:spPr>
            <a:xfrm flipV="1">
              <a:off x="4038480" y="571032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1"/>
            <p:cNvSpPr/>
            <p:nvPr/>
          </p:nvSpPr>
          <p:spPr>
            <a:xfrm flipH="1" flipV="1">
              <a:off x="5029200" y="571032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4"/>
          <p:cNvSpPr/>
          <p:nvPr/>
        </p:nvSpPr>
        <p:spPr>
          <a:xfrm>
            <a:off x="5724000" y="886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380880" y="2205000"/>
            <a:ext cx="8715600" cy="73404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2.5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Center(i,c) =&gt; InField(Ftitle,i,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1.2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InField(f,i,c) ^ Next(j,i) ^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  <a:ea typeface="Times New Roman"/>
              </a:rPr>
              <a:t>¬HasPunc(c,i)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=&gt; InField(f,j,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F47-ADEE-4060-8508-8E7BD01673F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Existing discriminative weight learning methods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Conditional Log Likelihood (CLL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55a839"/>
                </a:solidFill>
                <a:latin typeface="Tw Cen MT"/>
              </a:rPr>
              <a:t>[Singla &amp; Domingos, 2005], [Lowd &amp; Domingos, 2007], [Huynh &amp; Mooney, 2008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margin, the log ratio between the probability of the correct label and the closest incorrect one </a:t>
            </a:r>
            <a:r>
              <a:rPr b="0" lang="en-US" sz="23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44E-9AC2-427B-BDBE-E400E4ED6F1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nline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C44-3FBA-4BE9-9DAE-5E23317BD05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Content Placeholder 3" descr=""/>
          <p:cNvPicPr/>
          <p:nvPr/>
        </p:nvPicPr>
        <p:blipFill>
          <a:blip r:embed="rId1"/>
          <a:stretch/>
        </p:blipFill>
        <p:spPr>
          <a:xfrm>
            <a:off x="585720" y="1504800"/>
            <a:ext cx="8180280" cy="4591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TP_tmp.emf"/>
          <p:cNvPicPr/>
          <p:nvPr/>
        </p:nvPicPr>
        <p:blipFill>
          <a:blip r:embed="rId2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TP_tmp.emf"/>
          <p:cNvPicPr/>
          <p:nvPr/>
        </p:nvPicPr>
        <p:blipFill>
          <a:blip r:embed="rId3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TP_tmp.emf"/>
          <p:cNvPicPr/>
          <p:nvPr/>
        </p:nvPicPr>
        <p:blipFill>
          <a:blip r:embed="rId4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TP_tmp.emf"/>
          <p:cNvPicPr/>
          <p:nvPr/>
        </p:nvPicPr>
        <p:blipFill>
          <a:blip r:embed="rId5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general and latest framework for deriving low-regret online algorith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writing the regret bound as an optimization problem (called the primal problem), then considering the dual problem of the primal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ndition that guarantees the increase in the dual objective in each step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mental-Dual-Ascent (IDA) algorithms. For example: subgradient metho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Primal-dual framework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halev-Shwartz et al., 2006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D75-57D4-4064-9306-D8EFCA2DD45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imal-dual framework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D30-408E-4106-B2F4-74EF63FE08F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 new class of IDA algorithms called Coordinate-Dual-Ascent (CDA)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CDA update rule only optimizes the dual w.r.t the last dual variab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closed-form solution of CDA update rule </a:t>
            </a:r>
            <a:r>
              <a:rPr b="0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CDA algorithms have the same cost as subgradient methods but increase the dual objective more in each step </a:t>
            </a:r>
            <a:r>
              <a:rPr b="0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converging to the optimal value fas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10-07-17T20:59:00Z</dcterms:modified>
  <cp:revision>1004</cp:revision>
  <dc:subject/>
  <dc:title>Discriminative Structure and Parameter Learning for Markov Logic Networks</dc:title>
</cp:coreProperties>
</file>