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fld id="{AEACA7AB-7E6A-4127-832A-407EF72FE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e needed a different parsing algo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baselines, not easy to improve up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BA97-36FD-4F41-8F61-33C504226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4998-6A45-4BE0-9035-AA2CA6DDF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C69C-A7F5-4628-9AFA-92AD0A9CF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1CC7-D855-49EC-B17C-A98CD7FFD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1F7B-5994-4357-880D-62EF4F29C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3D85-BE29-4B7C-A7C5-D6EACC89C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86DF-0D15-4644-BEC3-07586B457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1239-49C9-4329-B284-20137465D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DCD8B-470C-4ECC-A631-B88EF82DB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3695-B8D9-4E63-9435-A015416BD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CDCB5-D1B4-424F-AD62-FBF9562F8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53AD-3F1E-406A-9C91-C946CA618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8522-72C5-4797-B193-CE48820A5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1F6B-653D-4A3A-A94D-53D7E349404C}" type="slidenum"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36232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621240"/>
            <a:ext cx="647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621240"/>
            <a:ext cx="647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27280" y="4038480"/>
            <a:ext cx="5203800" cy="1793160"/>
            <a:chOff x="1727280" y="4038480"/>
            <a:chExt cx="5203800" cy="1793160"/>
          </a:xfrm>
        </p:grpSpPr>
        <p:sp>
          <p:nvSpPr>
            <p:cNvPr id="45" name=""/>
            <p:cNvSpPr/>
            <p:nvPr/>
          </p:nvSpPr>
          <p:spPr>
            <a:xfrm>
              <a:off x="2365200" y="4038480"/>
              <a:ext cx="39564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75680" y="4460760"/>
              <a:ext cx="494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epartment of Computer Scie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4884480"/>
              <a:ext cx="5203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he University of Texas at Aust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19560" y="530676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67560" y="4952880"/>
            <a:ext cx="157644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6320" y="84240"/>
            <a:ext cx="1752480" cy="90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Joint Entity and Relation Extraction using Card-Pyramid Pars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833560"/>
            <a:ext cx="65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Rohit J. K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41760" y="370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50840" y="2941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32080" y="2941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360" y="317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396720" y="3475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57456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587520" y="3733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oint Entity and Relation Extraction using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12240" y="309168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8920" y="3092400"/>
            <a:ext cx="9167760" cy="717840"/>
            <a:chOff x="88920" y="3092400"/>
            <a:chExt cx="9167760" cy="717840"/>
          </a:xfrm>
        </p:grpSpPr>
        <p:sp>
          <p:nvSpPr>
            <p:cNvPr id="199" name=""/>
            <p:cNvSpPr/>
            <p:nvPr/>
          </p:nvSpPr>
          <p:spPr>
            <a:xfrm>
              <a:off x="88920" y="30924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84200" y="3092400"/>
              <a:ext cx="12193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03520" y="3092400"/>
              <a:ext cx="106668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7600" y="3092400"/>
              <a:ext cx="9907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42200" y="3092400"/>
              <a:ext cx="91440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5560" y="344124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39720" y="344124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57240" y="344124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37480" y="347292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15400" y="347292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Orga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468520" y="2416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70000" y="274320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cubicBezTo>
                  <a:pt x="72" y="120"/>
                  <a:pt x="144" y="0"/>
                  <a:pt x="240" y="0"/>
                </a:cubicBezTo>
                <a:cubicBezTo>
                  <a:pt x="336" y="0"/>
                  <a:pt x="456" y="120"/>
                  <a:pt x="576" y="240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9800" y="2133720"/>
            <a:ext cx="2895840" cy="990360"/>
          </a:xfrm>
          <a:custGeom>
            <a:avLst/>
            <a:gdLst/>
            <a:ahLst/>
            <a:rect l="l" t="t" r="r" b="b"/>
            <a:pathLst>
              <a:path w="1824" h="624">
                <a:moveTo>
                  <a:pt x="0" y="624"/>
                </a:moveTo>
                <a:cubicBezTo>
                  <a:pt x="376" y="312"/>
                  <a:pt x="752" y="0"/>
                  <a:pt x="1056" y="0"/>
                </a:cubicBezTo>
                <a:cubicBezTo>
                  <a:pt x="1360" y="0"/>
                  <a:pt x="1592" y="312"/>
                  <a:pt x="1824" y="624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6120" y="2654280"/>
            <a:ext cx="1447920" cy="546120"/>
          </a:xfrm>
          <a:custGeom>
            <a:avLst/>
            <a:gdLst/>
            <a:ahLst/>
            <a:rect l="l" t="t" r="r" b="b"/>
            <a:pathLst>
              <a:path w="912" h="344">
                <a:moveTo>
                  <a:pt x="0" y="344"/>
                </a:moveTo>
                <a:cubicBezTo>
                  <a:pt x="188" y="180"/>
                  <a:pt x="376" y="16"/>
                  <a:pt x="528" y="8"/>
                </a:cubicBezTo>
                <a:cubicBezTo>
                  <a:pt x="680" y="0"/>
                  <a:pt x="796" y="148"/>
                  <a:pt x="912" y="296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94040" y="1676520"/>
            <a:ext cx="6400800" cy="1447560"/>
          </a:xfrm>
          <a:custGeom>
            <a:avLst/>
            <a:gdLst/>
            <a:ahLst/>
            <a:rect l="l" t="t" r="r" b="b"/>
            <a:pathLst>
              <a:path w="4032" h="912">
                <a:moveTo>
                  <a:pt x="0" y="912"/>
                </a:moveTo>
                <a:cubicBezTo>
                  <a:pt x="696" y="456"/>
                  <a:pt x="1392" y="0"/>
                  <a:pt x="2064" y="0"/>
                </a:cubicBezTo>
                <a:cubicBezTo>
                  <a:pt x="2736" y="0"/>
                  <a:pt x="3384" y="456"/>
                  <a:pt x="4032" y="912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41600" y="2209680"/>
            <a:ext cx="4876920" cy="990720"/>
          </a:xfrm>
          <a:custGeom>
            <a:avLst/>
            <a:gdLst/>
            <a:ahLst/>
            <a:rect l="l" t="t" r="r" b="b"/>
            <a:pathLst>
              <a:path w="3072" h="624">
                <a:moveTo>
                  <a:pt x="0" y="624"/>
                </a:moveTo>
                <a:cubicBezTo>
                  <a:pt x="296" y="312"/>
                  <a:pt x="592" y="0"/>
                  <a:pt x="1104" y="0"/>
                </a:cubicBezTo>
                <a:cubicBezTo>
                  <a:pt x="1616" y="0"/>
                  <a:pt x="2344" y="312"/>
                  <a:pt x="3072" y="624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5240" y="914400"/>
            <a:ext cx="8610480" cy="2209680"/>
          </a:xfrm>
          <a:custGeom>
            <a:avLst/>
            <a:gdLst/>
            <a:ahLst/>
            <a:rect l="l" t="t" r="r" b="b"/>
            <a:pathLst>
              <a:path w="5424" h="1392">
                <a:moveTo>
                  <a:pt x="0" y="1392"/>
                </a:moveTo>
                <a:cubicBezTo>
                  <a:pt x="964" y="696"/>
                  <a:pt x="1928" y="0"/>
                  <a:pt x="2832" y="0"/>
                </a:cubicBezTo>
                <a:cubicBezTo>
                  <a:pt x="3736" y="0"/>
                  <a:pt x="4580" y="696"/>
                  <a:pt x="5424" y="1392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88880" y="9745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81960" y="16441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88160" y="22539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95480" y="182844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9960" y="26665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33920" y="24379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ocated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141640" cy="25905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3733920" y="4038480"/>
            <a:ext cx="2666880" cy="22860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400440" y="4038480"/>
            <a:ext cx="2438280" cy="22860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400800" y="5181120"/>
            <a:ext cx="1295280" cy="11430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5029200" y="5257440"/>
            <a:ext cx="1371600" cy="106668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952880" y="4572000"/>
            <a:ext cx="2057400" cy="175248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343040" y="5867280"/>
            <a:ext cx="609480" cy="4572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620120" y="5790960"/>
            <a:ext cx="609480" cy="5331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715000" y="4648320"/>
            <a:ext cx="1905120" cy="16761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72040" y="6247800"/>
            <a:ext cx="5947560" cy="382320"/>
            <a:chOff x="3272040" y="6247800"/>
            <a:chExt cx="5947560" cy="382320"/>
          </a:xfrm>
        </p:grpSpPr>
        <p:sp>
          <p:nvSpPr>
            <p:cNvPr id="232" name=""/>
            <p:cNvSpPr/>
            <p:nvPr/>
          </p:nvSpPr>
          <p:spPr>
            <a:xfrm>
              <a:off x="3272040" y="62478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09000" y="6261840"/>
              <a:ext cx="99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24880" y="6247800"/>
              <a:ext cx="99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46800" y="626184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O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42600" y="624780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67000" y="64904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Aust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03080" y="64904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Los Ange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85200" y="64904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Californ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17480" y="64904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Ameri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94240" y="649044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ABC In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92400" y="37335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59840" y="42667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69320" y="49525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06960" y="441936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_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64160" y="495252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_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0520" y="56066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_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05800" y="563832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_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560" y="639972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6629400"/>
            <a:ext cx="4572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728880" y="5794200"/>
            <a:ext cx="60984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5791320"/>
            <a:ext cx="68580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654280"/>
            <a:ext cx="1447560" cy="546120"/>
          </a:xfrm>
          <a:custGeom>
            <a:avLst/>
            <a:gdLst/>
            <a:ahLst/>
            <a:rect l="l" t="t" r="r" b="b"/>
            <a:pathLst>
              <a:path w="912" h="344">
                <a:moveTo>
                  <a:pt x="0" y="344"/>
                </a:moveTo>
                <a:cubicBezTo>
                  <a:pt x="188" y="180"/>
                  <a:pt x="376" y="16"/>
                  <a:pt x="528" y="8"/>
                </a:cubicBezTo>
                <a:cubicBezTo>
                  <a:pt x="680" y="0"/>
                  <a:pt x="796" y="148"/>
                  <a:pt x="912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57400" y="274320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cubicBezTo>
                  <a:pt x="72" y="120"/>
                  <a:pt x="144" y="0"/>
                  <a:pt x="240" y="0"/>
                </a:cubicBezTo>
                <a:cubicBezTo>
                  <a:pt x="336" y="0"/>
                  <a:pt x="456" y="120"/>
                  <a:pt x="576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952880" y="5714640"/>
            <a:ext cx="7621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5715000"/>
            <a:ext cx="7621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133720"/>
            <a:ext cx="2895480" cy="990360"/>
          </a:xfrm>
          <a:custGeom>
            <a:avLst/>
            <a:gdLst/>
            <a:ahLst/>
            <a:rect l="l" t="t" r="r" b="b"/>
            <a:pathLst>
              <a:path w="1824" h="624">
                <a:moveTo>
                  <a:pt x="0" y="624"/>
                </a:moveTo>
                <a:cubicBezTo>
                  <a:pt x="376" y="312"/>
                  <a:pt x="752" y="0"/>
                  <a:pt x="1056" y="0"/>
                </a:cubicBezTo>
                <a:cubicBezTo>
                  <a:pt x="1360" y="0"/>
                  <a:pt x="1592" y="312"/>
                  <a:pt x="1824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733920" y="5181120"/>
            <a:ext cx="129528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5181480"/>
            <a:ext cx="14479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46520" y="55303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3440" y="49525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31000" y="5454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ocated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2209680"/>
            <a:ext cx="4876920" cy="990720"/>
          </a:xfrm>
          <a:custGeom>
            <a:avLst/>
            <a:gdLst/>
            <a:ahLst/>
            <a:rect l="l" t="t" r="r" b="b"/>
            <a:pathLst>
              <a:path w="3072" h="624">
                <a:moveTo>
                  <a:pt x="0" y="624"/>
                </a:moveTo>
                <a:cubicBezTo>
                  <a:pt x="296" y="312"/>
                  <a:pt x="592" y="0"/>
                  <a:pt x="1104" y="0"/>
                </a:cubicBezTo>
                <a:cubicBezTo>
                  <a:pt x="1616" y="0"/>
                  <a:pt x="2344" y="312"/>
                  <a:pt x="3072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400800" y="525744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7620120" y="5181120"/>
            <a:ext cx="121896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1676520"/>
            <a:ext cx="6400800" cy="1447560"/>
          </a:xfrm>
          <a:custGeom>
            <a:avLst/>
            <a:gdLst/>
            <a:ahLst/>
            <a:rect l="l" t="t" r="r" b="b"/>
            <a:pathLst>
              <a:path w="4032" h="912">
                <a:moveTo>
                  <a:pt x="0" y="912"/>
                </a:moveTo>
                <a:cubicBezTo>
                  <a:pt x="696" y="456"/>
                  <a:pt x="1392" y="0"/>
                  <a:pt x="2064" y="0"/>
                </a:cubicBezTo>
                <a:cubicBezTo>
                  <a:pt x="2736" y="0"/>
                  <a:pt x="3384" y="456"/>
                  <a:pt x="4032" y="9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52880" y="4572000"/>
            <a:ext cx="2057400" cy="175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10280" y="4572000"/>
            <a:ext cx="1828800" cy="175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914400"/>
            <a:ext cx="8610840" cy="2209680"/>
          </a:xfrm>
          <a:custGeom>
            <a:avLst/>
            <a:gdLst/>
            <a:ahLst/>
            <a:rect l="l" t="t" r="r" b="b"/>
            <a:pathLst>
              <a:path w="5424" h="1392">
                <a:moveTo>
                  <a:pt x="0" y="1392"/>
                </a:moveTo>
                <a:cubicBezTo>
                  <a:pt x="964" y="696"/>
                  <a:pt x="1928" y="0"/>
                  <a:pt x="2832" y="0"/>
                </a:cubicBezTo>
                <a:cubicBezTo>
                  <a:pt x="3736" y="0"/>
                  <a:pt x="4580" y="696"/>
                  <a:pt x="5424" y="13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733920" y="4038480"/>
            <a:ext cx="266688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038480"/>
            <a:ext cx="243828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oint Entity and Relation Extraction using Card-Pyrami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ies and their relations are compactly represented in a card-pyramid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entity and relation extraction reduces to finding the most probable joint labeling of its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veloped an efficient bottom-up card-pyramid parsing algorithm which uses dynamic programming and beam search, given entity and relation class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stinction from CFG Tre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876920" y="1828800"/>
            <a:ext cx="3886200" cy="3200400"/>
            <a:chOff x="4876920" y="1828800"/>
            <a:chExt cx="3886200" cy="3200400"/>
          </a:xfrm>
        </p:grpSpPr>
        <p:sp>
          <p:nvSpPr>
            <p:cNvPr id="276" name=""/>
            <p:cNvSpPr/>
            <p:nvPr/>
          </p:nvSpPr>
          <p:spPr>
            <a:xfrm flipV="1">
              <a:off x="4876920" y="1828800"/>
              <a:ext cx="181980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6696720" y="1828800"/>
              <a:ext cx="206640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928560" y="3551760"/>
              <a:ext cx="869760" cy="14770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5781960" y="3442680"/>
              <a:ext cx="1124640" cy="1585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805000" y="2628360"/>
              <a:ext cx="1413360" cy="24001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5304240" y="4290120"/>
              <a:ext cx="500040" cy="738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835040" y="4296600"/>
              <a:ext cx="447120" cy="7318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232680" y="2628360"/>
              <a:ext cx="1602000" cy="24001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80880" y="1828800"/>
            <a:ext cx="3885840" cy="3200400"/>
            <a:chOff x="380880" y="1828800"/>
            <a:chExt cx="3885840" cy="3200400"/>
          </a:xfrm>
        </p:grpSpPr>
        <p:sp>
          <p:nvSpPr>
            <p:cNvPr id="285" name=""/>
            <p:cNvSpPr/>
            <p:nvPr/>
          </p:nvSpPr>
          <p:spPr>
            <a:xfrm flipV="1">
              <a:off x="380880" y="1828800"/>
              <a:ext cx="181944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2199960" y="1828800"/>
              <a:ext cx="206676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433600" y="3552480"/>
              <a:ext cx="870120" cy="1476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1285920" y="3443040"/>
              <a:ext cx="1000080" cy="1585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808200" y="4290480"/>
              <a:ext cx="334800" cy="738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338640" y="4296960"/>
              <a:ext cx="447480" cy="7318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80960" y="4266720"/>
              <a:ext cx="447840" cy="7318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2865600" y="4266720"/>
              <a:ext cx="334800" cy="738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143000" y="3352680"/>
            <a:ext cx="304920" cy="30492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352680"/>
            <a:ext cx="304920" cy="30492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480060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68120" y="609516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64560" y="610956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9560" y="114228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G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21160" y="115668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-Pyra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4267080"/>
            <a:ext cx="1066680" cy="10670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4191120"/>
            <a:ext cx="1447560" cy="13716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4191120"/>
            <a:ext cx="1447560" cy="13716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4191120"/>
            <a:ext cx="1066680" cy="10666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stinction from CFG Tre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876920" y="1828800"/>
            <a:ext cx="3886200" cy="3200400"/>
            <a:chOff x="4876920" y="1828800"/>
            <a:chExt cx="3886200" cy="3200400"/>
          </a:xfrm>
        </p:grpSpPr>
        <p:sp>
          <p:nvSpPr>
            <p:cNvPr id="306" name=""/>
            <p:cNvSpPr/>
            <p:nvPr/>
          </p:nvSpPr>
          <p:spPr>
            <a:xfrm flipV="1">
              <a:off x="4876920" y="1828800"/>
              <a:ext cx="181980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6696720" y="1828800"/>
              <a:ext cx="206640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928560" y="3551760"/>
              <a:ext cx="869760" cy="14770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5781960" y="3442680"/>
              <a:ext cx="1124640" cy="1585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805000" y="2628360"/>
              <a:ext cx="1413360" cy="24001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5304240" y="4290120"/>
              <a:ext cx="500040" cy="738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835040" y="4296600"/>
              <a:ext cx="447120" cy="7318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6232680" y="2628360"/>
              <a:ext cx="1602000" cy="24001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80880" y="1828800"/>
            <a:ext cx="3885840" cy="3200400"/>
            <a:chOff x="380880" y="1828800"/>
            <a:chExt cx="3885840" cy="3200400"/>
          </a:xfrm>
        </p:grpSpPr>
        <p:sp>
          <p:nvSpPr>
            <p:cNvPr id="315" name=""/>
            <p:cNvSpPr/>
            <p:nvPr/>
          </p:nvSpPr>
          <p:spPr>
            <a:xfrm flipV="1">
              <a:off x="380880" y="1828800"/>
              <a:ext cx="181944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2199960" y="1828800"/>
              <a:ext cx="206676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433600" y="3552480"/>
              <a:ext cx="870120" cy="1476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1285920" y="3443040"/>
              <a:ext cx="1000080" cy="1585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808200" y="4290480"/>
              <a:ext cx="334800" cy="738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338640" y="4296960"/>
              <a:ext cx="447480" cy="7318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380960" y="4266720"/>
              <a:ext cx="447840" cy="7318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2865600" y="4266720"/>
              <a:ext cx="334800" cy="738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057400" y="1752480"/>
            <a:ext cx="304920" cy="30492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1752480"/>
            <a:ext cx="304920" cy="30492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38280" y="3505320"/>
            <a:ext cx="1981440" cy="2361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276720"/>
            <a:ext cx="304920" cy="30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8120" y="609516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64560" y="610956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3429000"/>
            <a:ext cx="1981440" cy="23623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2590920"/>
            <a:ext cx="3429000" cy="35812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2590920"/>
            <a:ext cx="3352680" cy="35812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403848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472428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472428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0120" y="472428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38880" y="403848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9560" y="114228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G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21160" y="115668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-Pyra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candidate entities are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an be obtained automatically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[Punyakanok &amp; Roth, 2001]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se a simple heuristic, like all noun-phrase chunk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n the worst case include every substring, they will get label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Other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f they are none of the given typ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88920" y="1279440"/>
            <a:ext cx="9067680" cy="397080"/>
            <a:chOff x="88920" y="1279440"/>
            <a:chExt cx="9067680" cy="397080"/>
          </a:xfrm>
        </p:grpSpPr>
        <p:sp>
          <p:nvSpPr>
            <p:cNvPr id="343" name=""/>
            <p:cNvSpPr/>
            <p:nvPr/>
          </p:nvSpPr>
          <p:spPr>
            <a:xfrm>
              <a:off x="88920" y="1295280"/>
              <a:ext cx="533520" cy="38124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84200" y="1279440"/>
              <a:ext cx="12193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03520" y="1279440"/>
              <a:ext cx="106668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27600" y="1279440"/>
              <a:ext cx="9907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42200" y="1279440"/>
              <a:ext cx="91440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349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27600" y="1279440"/>
            <a:ext cx="9907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42200" y="1279440"/>
            <a:ext cx="91440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371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8240" y="2271960"/>
            <a:ext cx="51325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entity classifiers at the leaf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M with standard features: words, POS tag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italization, gazetteer, suffixe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392" name=""/>
          <p:cNvGrpSpPr/>
          <p:nvPr/>
        </p:nvGrpSpPr>
        <p:grpSpPr>
          <a:xfrm>
            <a:off x="685800" y="5104440"/>
            <a:ext cx="2514600" cy="992880"/>
            <a:chOff x="685800" y="5104440"/>
            <a:chExt cx="2514600" cy="992880"/>
          </a:xfrm>
        </p:grpSpPr>
        <p:sp>
          <p:nvSpPr>
            <p:cNvPr id="393" name=""/>
            <p:cNvSpPr/>
            <p:nvPr/>
          </p:nvSpPr>
          <p:spPr>
            <a:xfrm>
              <a:off x="1296720" y="510444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B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5637600"/>
              <a:ext cx="19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Beam el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33720" y="5334120"/>
              <a:ext cx="914400" cy="2286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14600" y="5867280"/>
              <a:ext cx="6858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401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4280" y="1737720"/>
            <a:ext cx="49752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relation classifiers bottom-up 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nal nodes relating leftmost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most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M with word subsequence kernel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tterns of the two ent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Bunescu &amp; Mooney, 2005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426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171360" y="3347640"/>
            <a:ext cx="36403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every 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children’s beam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454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4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7" name=""/>
          <p:cNvSpPr/>
          <p:nvPr/>
        </p:nvSpPr>
        <p:spPr>
          <a:xfrm>
            <a:off x="0" y="4190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0"/>
                </a:solidFill>
                <a:latin typeface="Times New Roman"/>
              </a:rPr>
              <a:t> Per 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484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507" name=""/>
          <p:cNvSpPr/>
          <p:nvPr/>
        </p:nvSpPr>
        <p:spPr>
          <a:xfrm>
            <a:off x="0" y="4190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0"/>
                </a:solidFill>
                <a:latin typeface="Times New Roman"/>
              </a:rPr>
              <a:t> Per 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81280" y="5791320"/>
            <a:ext cx="304920" cy="1522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5791320"/>
            <a:ext cx="304920" cy="1522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62520" y="5140440"/>
            <a:ext cx="304560" cy="1522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Extraction is the task of extracting structured information from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, Location, Organiza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ted_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ocation, Locati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Person, Organizati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Organization, Locati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Person, Locati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l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Person, Pers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517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7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546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6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9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4190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cated_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0"/>
                </a:solidFill>
                <a:latin typeface="Times New Roman"/>
              </a:rPr>
              <a:t> Loc 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578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8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609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9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4190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0"/>
                </a:solidFill>
                <a:latin typeface="Times New Roman"/>
              </a:rPr>
              <a:t> Per 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643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3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9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684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9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1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726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7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1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2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768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4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3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4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7200" y="4128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0"/>
                </a:solidFill>
                <a:latin typeface="Times New Roman"/>
              </a:rPr>
              <a:t> Per 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04160" y="1764360"/>
            <a:ext cx="47955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with in-between entiti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used as features, for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ve_In -- Located_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any features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rom the sub-card-pyram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814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2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3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4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5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9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50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" y="4128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0"/>
                </a:solidFill>
                <a:latin typeface="Times New Roman"/>
              </a:rPr>
              <a:t> Per 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6320" y="2511000"/>
            <a:ext cx="4344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he probability which g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ed tw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343400" y="4724280"/>
            <a:ext cx="304920" cy="1526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2880" y="3809880"/>
            <a:ext cx="304920" cy="1526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19920" y="4724280"/>
            <a:ext cx="304560" cy="1526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00600" y="5586480"/>
            <a:ext cx="30492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864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0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1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2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3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4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85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89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0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06320" y="2511000"/>
            <a:ext cx="37850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am element represent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card-pyram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9760" y="344412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1400" y="3444840"/>
            <a:ext cx="9067680" cy="397080"/>
            <a:chOff x="41400" y="3444840"/>
            <a:chExt cx="9067680" cy="397080"/>
          </a:xfrm>
        </p:grpSpPr>
        <p:sp>
          <p:nvSpPr>
            <p:cNvPr id="110" name=""/>
            <p:cNvSpPr/>
            <p:nvPr/>
          </p:nvSpPr>
          <p:spPr>
            <a:xfrm>
              <a:off x="41400" y="3460680"/>
              <a:ext cx="533520" cy="38124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36680" y="3444840"/>
              <a:ext cx="12193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0" y="3444840"/>
              <a:ext cx="106668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80080" y="3444840"/>
              <a:ext cx="9907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94680" y="3444840"/>
              <a:ext cx="91440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680" y="3793680"/>
            <a:ext cx="9141120" cy="369000"/>
            <a:chOff x="67680" y="3793680"/>
            <a:chExt cx="9141120" cy="369000"/>
          </a:xfrm>
        </p:grpSpPr>
        <p:sp>
          <p:nvSpPr>
            <p:cNvPr id="116" name=""/>
            <p:cNvSpPr/>
            <p:nvPr/>
          </p:nvSpPr>
          <p:spPr>
            <a:xfrm>
              <a:off x="67680" y="379368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91840" y="37936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09360" y="37936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89600" y="382536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7520" y="382536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Orga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17360" y="1219320"/>
            <a:ext cx="8610480" cy="2286000"/>
            <a:chOff x="117360" y="1219320"/>
            <a:chExt cx="8610480" cy="2286000"/>
          </a:xfrm>
        </p:grpSpPr>
        <p:sp>
          <p:nvSpPr>
            <p:cNvPr id="122" name=""/>
            <p:cNvSpPr/>
            <p:nvPr/>
          </p:nvSpPr>
          <p:spPr>
            <a:xfrm>
              <a:off x="2420640" y="272088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22120" y="30481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240"/>
                  </a:moveTo>
                  <a:cubicBezTo>
                    <a:pt x="72" y="120"/>
                    <a:pt x="144" y="0"/>
                    <a:pt x="240" y="0"/>
                  </a:cubicBezTo>
                  <a:cubicBezTo>
                    <a:pt x="336" y="0"/>
                    <a:pt x="456" y="120"/>
                    <a:pt x="576" y="24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1920" y="2438280"/>
              <a:ext cx="2895840" cy="990720"/>
            </a:xfrm>
            <a:custGeom>
              <a:avLst/>
              <a:gdLst/>
              <a:ahLst/>
              <a:rect l="l" t="t" r="r" b="b"/>
              <a:pathLst>
                <a:path w="1824" h="624">
                  <a:moveTo>
                    <a:pt x="0" y="624"/>
                  </a:moveTo>
                  <a:cubicBezTo>
                    <a:pt x="376" y="312"/>
                    <a:pt x="752" y="0"/>
                    <a:pt x="1056" y="0"/>
                  </a:cubicBezTo>
                  <a:cubicBezTo>
                    <a:pt x="1360" y="0"/>
                    <a:pt x="1592" y="312"/>
                    <a:pt x="1824" y="624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240" y="2959200"/>
              <a:ext cx="1447920" cy="546120"/>
            </a:xfrm>
            <a:custGeom>
              <a:avLst/>
              <a:gdLst/>
              <a:ahLst/>
              <a:rect l="l" t="t" r="r" b="b"/>
              <a:pathLst>
                <a:path w="912" h="344">
                  <a:moveTo>
                    <a:pt x="0" y="344"/>
                  </a:moveTo>
                  <a:cubicBezTo>
                    <a:pt x="188" y="180"/>
                    <a:pt x="376" y="16"/>
                    <a:pt x="528" y="8"/>
                  </a:cubicBezTo>
                  <a:cubicBezTo>
                    <a:pt x="680" y="0"/>
                    <a:pt x="796" y="148"/>
                    <a:pt x="912" y="296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6160" y="1981080"/>
              <a:ext cx="6400800" cy="1447920"/>
            </a:xfrm>
            <a:custGeom>
              <a:avLst/>
              <a:gdLst/>
              <a:ahLst/>
              <a:rect l="l" t="t" r="r" b="b"/>
              <a:pathLst>
                <a:path w="4032" h="912">
                  <a:moveTo>
                    <a:pt x="0" y="912"/>
                  </a:moveTo>
                  <a:cubicBezTo>
                    <a:pt x="696" y="456"/>
                    <a:pt x="1392" y="0"/>
                    <a:pt x="2064" y="0"/>
                  </a:cubicBezTo>
                  <a:cubicBezTo>
                    <a:pt x="2736" y="0"/>
                    <a:pt x="3384" y="456"/>
                    <a:pt x="4032" y="912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93720" y="2514600"/>
              <a:ext cx="4876920" cy="990720"/>
            </a:xfrm>
            <a:custGeom>
              <a:avLst/>
              <a:gdLst/>
              <a:ahLst/>
              <a:rect l="l" t="t" r="r" b="b"/>
              <a:pathLst>
                <a:path w="3072" h="624">
                  <a:moveTo>
                    <a:pt x="0" y="624"/>
                  </a:moveTo>
                  <a:cubicBezTo>
                    <a:pt x="296" y="312"/>
                    <a:pt x="592" y="0"/>
                    <a:pt x="1104" y="0"/>
                  </a:cubicBezTo>
                  <a:cubicBezTo>
                    <a:pt x="1616" y="0"/>
                    <a:pt x="2344" y="312"/>
                    <a:pt x="3072" y="624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7360" y="1219320"/>
              <a:ext cx="8610480" cy="2209680"/>
            </a:xfrm>
            <a:custGeom>
              <a:avLst/>
              <a:gdLst/>
              <a:ahLst/>
              <a:rect l="l" t="t" r="r" b="b"/>
              <a:pathLst>
                <a:path w="5424" h="1392">
                  <a:moveTo>
                    <a:pt x="0" y="1392"/>
                  </a:moveTo>
                  <a:cubicBezTo>
                    <a:pt x="964" y="696"/>
                    <a:pt x="1928" y="0"/>
                    <a:pt x="2832" y="0"/>
                  </a:cubicBezTo>
                  <a:cubicBezTo>
                    <a:pt x="3736" y="0"/>
                    <a:pt x="4580" y="696"/>
                    <a:pt x="5424" y="1392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41000" y="1279080"/>
              <a:ext cx="102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Work_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11680" y="1949040"/>
              <a:ext cx="126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OrgBas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18240" y="2558520"/>
              <a:ext cx="126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OrgBas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47600" y="21333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Live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92080" y="297144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Live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86040" y="2742840"/>
              <a:ext cx="110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Locat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909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5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7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30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34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4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953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9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1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3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74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78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8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400640" y="560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8680" y="2882520"/>
            <a:ext cx="3004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(1)  check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cy of overl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999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5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6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7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8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9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0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3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4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8" name=""/>
          <p:cNvGraphicFramePr/>
          <p:nvPr/>
        </p:nvGraphicFramePr>
        <p:xfrm>
          <a:off x="5334120" y="182880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9" name=""/>
          <p:cNvGraphicFramePr/>
          <p:nvPr/>
        </p:nvGraphicFramePr>
        <p:xfrm>
          <a:off x="6400800" y="279072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0" name=""/>
          <p:cNvGraphicFramePr/>
          <p:nvPr/>
        </p:nvGraphicFramePr>
        <p:xfrm>
          <a:off x="4495680" y="2790720"/>
          <a:ext cx="152424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12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57913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2" name=""/>
          <p:cNvSpPr/>
          <p:nvPr/>
        </p:nvSpPr>
        <p:spPr>
          <a:xfrm>
            <a:off x="5181480" y="3048120"/>
            <a:ext cx="762120" cy="1269720"/>
          </a:xfrm>
          <a:custGeom>
            <a:avLst/>
            <a:gdLst/>
            <a:ahLst/>
            <a:rect l="l" t="t" r="r" b="b"/>
            <a:pathLst>
              <a:path w="480" h="800">
                <a:moveTo>
                  <a:pt x="0" y="0"/>
                </a:moveTo>
                <a:cubicBezTo>
                  <a:pt x="72" y="84"/>
                  <a:pt x="144" y="168"/>
                  <a:pt x="192" y="288"/>
                </a:cubicBezTo>
                <a:cubicBezTo>
                  <a:pt x="240" y="408"/>
                  <a:pt x="240" y="640"/>
                  <a:pt x="288" y="720"/>
                </a:cubicBezTo>
                <a:cubicBezTo>
                  <a:pt x="336" y="800"/>
                  <a:pt x="408" y="784"/>
                  <a:pt x="480" y="7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172200" y="2895480"/>
            <a:ext cx="304920" cy="99072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192" y="0"/>
                </a:moveTo>
                <a:cubicBezTo>
                  <a:pt x="136" y="140"/>
                  <a:pt x="80" y="280"/>
                  <a:pt x="48" y="384"/>
                </a:cubicBezTo>
                <a:cubicBezTo>
                  <a:pt x="16" y="488"/>
                  <a:pt x="8" y="556"/>
                  <a:pt x="0" y="62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869080" y="388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229600" y="1279440"/>
            <a:ext cx="91440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38680" y="2882520"/>
            <a:ext cx="3004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(1)  check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cy of overl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1051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7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8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9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0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1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2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6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4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5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-1440" y="2375280"/>
            <a:ext cx="367524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robable card-pyram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represented by th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element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roximation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finite beam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5334120" y="182880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1" name=""/>
          <p:cNvGraphicFramePr/>
          <p:nvPr/>
        </p:nvGraphicFramePr>
        <p:xfrm>
          <a:off x="6400800" y="279072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2" name=""/>
          <p:cNvGraphicFramePr/>
          <p:nvPr/>
        </p:nvGraphicFramePr>
        <p:xfrm>
          <a:off x="4495680" y="2790720"/>
          <a:ext cx="152424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12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3" name=""/>
          <p:cNvGraphicFramePr/>
          <p:nvPr/>
        </p:nvGraphicFramePr>
        <p:xfrm>
          <a:off x="57913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4" name=""/>
          <p:cNvSpPr/>
          <p:nvPr/>
        </p:nvSpPr>
        <p:spPr>
          <a:xfrm>
            <a:off x="5181480" y="3048120"/>
            <a:ext cx="762120" cy="1269720"/>
          </a:xfrm>
          <a:custGeom>
            <a:avLst/>
            <a:gdLst/>
            <a:ahLst/>
            <a:rect l="l" t="t" r="r" b="b"/>
            <a:pathLst>
              <a:path w="480" h="800">
                <a:moveTo>
                  <a:pt x="0" y="0"/>
                </a:moveTo>
                <a:cubicBezTo>
                  <a:pt x="72" y="84"/>
                  <a:pt x="144" y="168"/>
                  <a:pt x="192" y="288"/>
                </a:cubicBezTo>
                <a:cubicBezTo>
                  <a:pt x="240" y="408"/>
                  <a:pt x="240" y="640"/>
                  <a:pt x="288" y="720"/>
                </a:cubicBezTo>
                <a:cubicBezTo>
                  <a:pt x="336" y="800"/>
                  <a:pt x="408" y="784"/>
                  <a:pt x="480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172200" y="2895480"/>
            <a:ext cx="304920" cy="99072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192" y="0"/>
                </a:moveTo>
                <a:cubicBezTo>
                  <a:pt x="136" y="140"/>
                  <a:pt x="80" y="280"/>
                  <a:pt x="48" y="384"/>
                </a:cubicBezTo>
                <a:cubicBezTo>
                  <a:pt x="16" y="488"/>
                  <a:pt x="8" y="556"/>
                  <a:pt x="0" y="62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ining Classifie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correctly labeled card-pyramids for the annotated sentences in the train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the positive examples for all the classifiers from the labels of the card-pyram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examples for an entity classifier become negative examples for all other entity class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s of entities with correct entity types but not related by a relation become negative examples for that relation’s class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ated 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h &amp; Yih [2004, 200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Employs independent entity and relation classifier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Uses linear programming to find a consistent global solution from the classifier output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Output of other classifiers can’t be used as feature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edel et al. [200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olves a related problem of extracting bio-molecular events and their arguments using Markov Logic Network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ingle joint probabilistic model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Restricts extractors’ learning algorithm to Markov Logic Network’s learning algorithm, for example, cannot use kernel-based SVM for relation extrac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te &amp; Mooney [200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arse using a suite of classifiers to find the most probable semantic parse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used by Roth &amp; Yih [2004, 200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entences: 14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85)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68)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iz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78)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705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ted_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ocation, Location)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6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Person, Organization)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4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Organization, Location)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1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Person, Location)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1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l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Person, Person)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8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_Rel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7007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ed five-fold cross-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(percentage of output labels correct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(percentage of gold-standard labels correctly identified)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F-measur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(harmonic mea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 pipelined approach using our entity and relation classifier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est results of Roth &amp; Yih [2007] on joint extrac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ults: Entity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105" name=""/>
          <p:cNvGraphicFramePr/>
          <p:nvPr/>
        </p:nvGraphicFramePr>
        <p:xfrm>
          <a:off x="914400" y="1295280"/>
          <a:ext cx="777240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77240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7" name=""/>
          <p:cNvSpPr/>
          <p:nvPr/>
        </p:nvSpPr>
        <p:spPr>
          <a:xfrm>
            <a:off x="-78840" y="353448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-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ults: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1108080" y="1295280"/>
          <a:ext cx="738360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1295280"/>
                    <a:ext cx="738360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1" name=""/>
          <p:cNvSpPr/>
          <p:nvPr/>
        </p:nvSpPr>
        <p:spPr>
          <a:xfrm>
            <a:off x="-78840" y="353448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-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6552720" y="4650480"/>
            <a:ext cx="2138400" cy="858960"/>
            <a:chOff x="6552720" y="4650480"/>
            <a:chExt cx="2138400" cy="858960"/>
          </a:xfrm>
        </p:grpSpPr>
        <p:sp>
          <p:nvSpPr>
            <p:cNvPr id="1113" name=""/>
            <p:cNvSpPr/>
            <p:nvPr/>
          </p:nvSpPr>
          <p:spPr>
            <a:xfrm>
              <a:off x="6713640" y="4650480"/>
              <a:ext cx="19774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 unusual sente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 20 Locatio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parated by comma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 flipV="1">
              <a:off x="6552720" y="4724280"/>
              <a:ext cx="3812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ly, entity and relation extraction is done in a </a:t>
            </a:r>
            <a:r>
              <a:rPr b="0" i="1" lang="en-US" sz="3200" spc="-1" strike="noStrike">
                <a:solidFill>
                  <a:srgbClr val="ff6600"/>
                </a:solidFill>
                <a:latin typeface="Times New Roman"/>
              </a:rPr>
              <a:t>pip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entities are extra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relations are extracted assuming that the extracted entities are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General Method to Extract Structured Information  from a Sente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 what you want to extract and constraints between them in the produ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 a classifier for every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the classifiers to find the most probable structure allowed by the productions to jointly find the structur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ture 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 higher order relations: relations between relations such as temporal or causal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ly perform co-reference resolution with entity and relation ex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dd a new production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ef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f0"/>
                </a:solidFill>
                <a:latin typeface="Times New Roman"/>
              </a:rPr>
              <a:t>Person Pers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the structure of card-pyramid using a probabilistic graph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ernel to compute similarity between two card-pyramids and use it for relation class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d a card-pyramid structure for joint entity and relation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ly encode entities and relations in a sen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extraction reduces to jointly labeling the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an efficient parsing algorithm for joint labe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s demonstrated benefits of the approac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anks!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relations can influence entity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2240" y="453960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920" y="4540320"/>
            <a:ext cx="673200" cy="4125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4495680"/>
            <a:ext cx="1218960" cy="4129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74160" y="4855680"/>
            <a:ext cx="992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ers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o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39720" y="48891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054320"/>
            <a:ext cx="1447920" cy="546120"/>
          </a:xfrm>
          <a:custGeom>
            <a:avLst/>
            <a:gdLst/>
            <a:ahLst/>
            <a:rect l="l" t="t" r="r" b="b"/>
            <a:pathLst>
              <a:path w="912" h="344">
                <a:moveTo>
                  <a:pt x="0" y="344"/>
                </a:moveTo>
                <a:cubicBezTo>
                  <a:pt x="188" y="180"/>
                  <a:pt x="376" y="16"/>
                  <a:pt x="528" y="8"/>
                </a:cubicBezTo>
                <a:cubicBezTo>
                  <a:pt x="680" y="0"/>
                  <a:pt x="796" y="148"/>
                  <a:pt x="912" y="296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4440" y="40669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40" y="4855680"/>
            <a:ext cx="734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 can also influence extracting other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88560" y="476820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600" y="4768920"/>
            <a:ext cx="53352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08240" y="4768920"/>
            <a:ext cx="121896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66240" y="4768920"/>
            <a:ext cx="91440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40" y="511776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63400" y="51177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39080" y="51494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92200" y="4044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9800" y="4282920"/>
            <a:ext cx="1447920" cy="546120"/>
          </a:xfrm>
          <a:custGeom>
            <a:avLst/>
            <a:gdLst/>
            <a:ahLst/>
            <a:rect l="l" t="t" r="r" b="b"/>
            <a:pathLst>
              <a:path w="912" h="344">
                <a:moveTo>
                  <a:pt x="0" y="344"/>
                </a:moveTo>
                <a:cubicBezTo>
                  <a:pt x="188" y="180"/>
                  <a:pt x="376" y="16"/>
                  <a:pt x="528" y="8"/>
                </a:cubicBezTo>
                <a:cubicBezTo>
                  <a:pt x="680" y="0"/>
                  <a:pt x="796" y="148"/>
                  <a:pt x="912" y="296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8920" y="2543040"/>
            <a:ext cx="8610480" cy="2210040"/>
          </a:xfrm>
          <a:custGeom>
            <a:avLst/>
            <a:gdLst/>
            <a:ahLst/>
            <a:rect l="l" t="t" r="r" b="b"/>
            <a:pathLst>
              <a:path w="5424" h="1392">
                <a:moveTo>
                  <a:pt x="0" y="1392"/>
                </a:moveTo>
                <a:cubicBezTo>
                  <a:pt x="964" y="696"/>
                  <a:pt x="1928" y="0"/>
                  <a:pt x="2832" y="0"/>
                </a:cubicBezTo>
                <a:cubicBezTo>
                  <a:pt x="3736" y="0"/>
                  <a:pt x="4580" y="696"/>
                  <a:pt x="5424" y="1392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12560" y="26031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917720" y="3273120"/>
            <a:ext cx="6400800" cy="1479960"/>
            <a:chOff x="1917720" y="3273120"/>
            <a:chExt cx="6400800" cy="1479960"/>
          </a:xfrm>
        </p:grpSpPr>
        <p:sp>
          <p:nvSpPr>
            <p:cNvPr id="161" name=""/>
            <p:cNvSpPr/>
            <p:nvPr/>
          </p:nvSpPr>
          <p:spPr>
            <a:xfrm>
              <a:off x="1917720" y="3305160"/>
              <a:ext cx="6400800" cy="1447920"/>
            </a:xfrm>
            <a:custGeom>
              <a:avLst/>
              <a:gdLst/>
              <a:ahLst/>
              <a:rect l="l" t="t" r="r" b="b"/>
              <a:pathLst>
                <a:path w="4032" h="912">
                  <a:moveTo>
                    <a:pt x="0" y="912"/>
                  </a:moveTo>
                  <a:cubicBezTo>
                    <a:pt x="696" y="456"/>
                    <a:pt x="1392" y="0"/>
                    <a:pt x="2064" y="0"/>
                  </a:cubicBezTo>
                  <a:cubicBezTo>
                    <a:pt x="2736" y="0"/>
                    <a:pt x="3384" y="456"/>
                    <a:pt x="4032" y="912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6440" y="3273120"/>
              <a:ext cx="126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OrgBas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863640" y="42955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oint 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entity and relation extraction can benefit if done joi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orrect errors of each other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nfluence each other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rute force algorithm to find the most probable joint extraction is intrac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f there are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ntities in a sentence then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O(n</a:t>
            </a:r>
            <a:r>
              <a:rPr b="0" i="1" lang="en-US" sz="24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possible relations between them and for r relation labels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O(r</a:t>
            </a:r>
            <a:r>
              <a:rPr b="0" i="1" lang="en-US" sz="2400" spc="-1" strike="noStrike" baseline="30000">
                <a:solidFill>
                  <a:srgbClr val="008000"/>
                </a:solidFill>
                <a:latin typeface="Times New Roman"/>
              </a:rPr>
              <a:t>n^2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possibiliti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present a new method for joint extractio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oint 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it analogous to parsing with the following produ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ntity productions: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Person 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Candidate_entity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Location 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Candidate_entit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Organization 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Candidate_entit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Relation productions: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ocated_I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Location Loca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Person Organiza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Organization Loca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Person Loca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Kill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Person Pers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oint 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many entities are in multiple relations, with a lot of overl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-free grammar (CFG) tree structure is not adeq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ntroduce a new structure we call 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card-pyram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88560" y="466344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600" y="4664160"/>
            <a:ext cx="9167760" cy="717840"/>
            <a:chOff x="12600" y="4664160"/>
            <a:chExt cx="9167760" cy="717840"/>
          </a:xfrm>
        </p:grpSpPr>
        <p:sp>
          <p:nvSpPr>
            <p:cNvPr id="172" name=""/>
            <p:cNvSpPr/>
            <p:nvPr/>
          </p:nvSpPr>
          <p:spPr>
            <a:xfrm>
              <a:off x="12600" y="466416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07880" y="4664160"/>
              <a:ext cx="12193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27200" y="4664160"/>
              <a:ext cx="106668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51280" y="4664160"/>
              <a:ext cx="9907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65880" y="4664160"/>
              <a:ext cx="91440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240" y="501300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63400" y="50130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80920" y="50130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1160" y="5044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39080" y="50446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Orga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88920" y="2438280"/>
            <a:ext cx="8610480" cy="2286000"/>
            <a:chOff x="88920" y="2438280"/>
            <a:chExt cx="8610480" cy="2286000"/>
          </a:xfrm>
        </p:grpSpPr>
        <p:sp>
          <p:nvSpPr>
            <p:cNvPr id="183" name=""/>
            <p:cNvSpPr/>
            <p:nvPr/>
          </p:nvSpPr>
          <p:spPr>
            <a:xfrm>
              <a:off x="2392200" y="39398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93680" y="426708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240"/>
                  </a:moveTo>
                  <a:cubicBezTo>
                    <a:pt x="72" y="120"/>
                    <a:pt x="144" y="0"/>
                    <a:pt x="240" y="0"/>
                  </a:cubicBezTo>
                  <a:cubicBezTo>
                    <a:pt x="336" y="0"/>
                    <a:pt x="456" y="120"/>
                    <a:pt x="576" y="24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3480" y="3657240"/>
              <a:ext cx="2895840" cy="990720"/>
            </a:xfrm>
            <a:custGeom>
              <a:avLst/>
              <a:gdLst/>
              <a:ahLst/>
              <a:rect l="l" t="t" r="r" b="b"/>
              <a:pathLst>
                <a:path w="1824" h="624">
                  <a:moveTo>
                    <a:pt x="0" y="624"/>
                  </a:moveTo>
                  <a:cubicBezTo>
                    <a:pt x="376" y="312"/>
                    <a:pt x="752" y="0"/>
                    <a:pt x="1056" y="0"/>
                  </a:cubicBezTo>
                  <a:cubicBezTo>
                    <a:pt x="1360" y="0"/>
                    <a:pt x="1592" y="312"/>
                    <a:pt x="1824" y="624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9800" y="4178160"/>
              <a:ext cx="1447920" cy="546120"/>
            </a:xfrm>
            <a:custGeom>
              <a:avLst/>
              <a:gdLst/>
              <a:ahLst/>
              <a:rect l="l" t="t" r="r" b="b"/>
              <a:pathLst>
                <a:path w="912" h="344">
                  <a:moveTo>
                    <a:pt x="0" y="344"/>
                  </a:moveTo>
                  <a:cubicBezTo>
                    <a:pt x="188" y="180"/>
                    <a:pt x="376" y="16"/>
                    <a:pt x="528" y="8"/>
                  </a:cubicBezTo>
                  <a:cubicBezTo>
                    <a:pt x="680" y="0"/>
                    <a:pt x="796" y="148"/>
                    <a:pt x="912" y="296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17720" y="3200040"/>
              <a:ext cx="6400800" cy="1447920"/>
            </a:xfrm>
            <a:custGeom>
              <a:avLst/>
              <a:gdLst/>
              <a:ahLst/>
              <a:rect l="l" t="t" r="r" b="b"/>
              <a:pathLst>
                <a:path w="4032" h="912">
                  <a:moveTo>
                    <a:pt x="0" y="912"/>
                  </a:moveTo>
                  <a:cubicBezTo>
                    <a:pt x="696" y="456"/>
                    <a:pt x="1392" y="0"/>
                    <a:pt x="2064" y="0"/>
                  </a:cubicBezTo>
                  <a:cubicBezTo>
                    <a:pt x="2736" y="0"/>
                    <a:pt x="3384" y="456"/>
                    <a:pt x="4032" y="912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65280" y="3733560"/>
              <a:ext cx="4876920" cy="990720"/>
            </a:xfrm>
            <a:custGeom>
              <a:avLst/>
              <a:gdLst/>
              <a:ahLst/>
              <a:rect l="l" t="t" r="r" b="b"/>
              <a:pathLst>
                <a:path w="3072" h="624">
                  <a:moveTo>
                    <a:pt x="0" y="624"/>
                  </a:moveTo>
                  <a:cubicBezTo>
                    <a:pt x="296" y="312"/>
                    <a:pt x="592" y="0"/>
                    <a:pt x="1104" y="0"/>
                  </a:cubicBezTo>
                  <a:cubicBezTo>
                    <a:pt x="1616" y="0"/>
                    <a:pt x="2344" y="312"/>
                    <a:pt x="3072" y="624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8920" y="2438280"/>
              <a:ext cx="8610480" cy="2209680"/>
            </a:xfrm>
            <a:custGeom>
              <a:avLst/>
              <a:gdLst/>
              <a:ahLst/>
              <a:rect l="l" t="t" r="r" b="b"/>
              <a:pathLst>
                <a:path w="5424" h="1392">
                  <a:moveTo>
                    <a:pt x="0" y="1392"/>
                  </a:moveTo>
                  <a:cubicBezTo>
                    <a:pt x="964" y="696"/>
                    <a:pt x="1928" y="0"/>
                    <a:pt x="2832" y="0"/>
                  </a:cubicBezTo>
                  <a:cubicBezTo>
                    <a:pt x="3736" y="0"/>
                    <a:pt x="4580" y="696"/>
                    <a:pt x="5424" y="1392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2560" y="2498040"/>
              <a:ext cx="102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Work_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46960" y="3168000"/>
              <a:ext cx="126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OrgBas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53160" y="3777480"/>
              <a:ext cx="126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OrgBas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19160" y="335232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Live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63640" y="419040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Live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57600" y="3961800"/>
              <a:ext cx="110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Locat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07:47:29Z</dcterms:created>
  <dc:creator>melville</dc:creator>
  <dc:description/>
  <dc:language>en-US</dc:language>
  <cp:lastModifiedBy>Rohit Kate</cp:lastModifiedBy>
  <cp:lastPrinted>2008-04-29T02:40:33Z</cp:lastPrinted>
  <dcterms:modified xsi:type="dcterms:W3CDTF">2010-07-16T09:09:56Z</dcterms:modified>
  <cp:revision>3850</cp:revision>
  <dc:subject/>
  <dc:title>Content-Boosted Collaborative Filtering</dc:title>
</cp:coreProperties>
</file>