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fld id="{97DDC67C-46B2-49A7-8617-F21EB5EA4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FE794DF-FC5B-4AE5-AC44-CB1FE3432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observation Q, at least one of the Ps will be true but not more than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stead of “he paid for some milk” it was “He pointed a gun”, an existence of robbing event must be assu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BB6D-BF25-4CD2-85E7-254B683CC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EE29-CA6E-4164-8EA1-DA73E0264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46A6-9CC8-4C8F-81EA-59E73724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EE72-7085-4EE1-B8B5-69C77C5A5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0275-EFAD-47F6-89D2-26B62D1C0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1CA9-9E84-4CC5-B89A-A775E4231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2F39-CBA2-4BE9-9ED8-C65FC0566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EE0E-31C3-4F2E-8703-3253BBEF4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5C52-BD9A-4018-80AD-9F8ADF417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9B4C-BE39-4A45-8B54-BEB0A13EF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8E21-C44B-4BC2-BF65-00CAA619E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AB85-4B84-4A7E-BDE8-AA04B5A2E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02C-9937-4307-BD18-A98762C5B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6400800"/>
            <a:ext cx="3808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C3A3-A68A-4286-BC0E-F3A4D5EE4CCA}" type="slidenum"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514600"/>
            <a:ext cx="746784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621240"/>
            <a:ext cx="647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69920" y="4191120"/>
            <a:ext cx="5203800" cy="1787400"/>
            <a:chOff x="1969920" y="4191120"/>
            <a:chExt cx="5203800" cy="1787400"/>
          </a:xfrm>
        </p:grpSpPr>
        <p:sp>
          <p:nvSpPr>
            <p:cNvPr id="45" name=""/>
            <p:cNvSpPr/>
            <p:nvPr/>
          </p:nvSpPr>
          <p:spPr>
            <a:xfrm>
              <a:off x="2607840" y="4191120"/>
              <a:ext cx="3956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18320" y="4613400"/>
              <a:ext cx="49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Department of Computer Sci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9920" y="5037120"/>
              <a:ext cx="520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The University of Texas at Aust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62200" y="5459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6920" cy="109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8880" y="5257800"/>
            <a:ext cx="1430280" cy="143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635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Probabilistic Abduction using Markov Logic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3120" y="3382920"/>
            <a:ext cx="65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ohit J. Kate    Raymond J. Mo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44440" y="664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5236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LN Probabilistic Mod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onstructing a Markov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round literals correspond to nod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round clauses correspond to cliques connecting the ground literals in the clau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 world (truth assignments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97560" y="46562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343400" y="46562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918080" y="5562720"/>
            <a:ext cx="198216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cl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281120" y="5562720"/>
            <a:ext cx="394848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3809880" y="5105520"/>
            <a:ext cx="53352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 flipH="1" flipV="1">
            <a:off x="4800240" y="5091120"/>
            <a:ext cx="15228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1676520" y="4267080"/>
                <a:ext cx="3916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Text Box 12"/>
          <p:cNvSpPr/>
          <p:nvPr/>
        </p:nvSpPr>
        <p:spPr>
          <a:xfrm>
            <a:off x="7529400" y="72216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Mosquito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Bite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osquito(M)             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,Malaria)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ite(M,John)                        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Mosquito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Bite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osquito(M)             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,Malaria)    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ite(M,Mary)                      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ransfuse(Blood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 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use(Blood,John,Mary)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Malaria)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ransfuse(Blood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Infected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Malaria))     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John,Malaria) 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ected(Mary,Malaria)     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use(Blood,Mary,John) 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Probabilistic Model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uses with we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John, Mary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liter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Mosquito(M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,Malaria)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John)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ite(M,Mary)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John,Malaria)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fected(Mary,Malaria)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John,Mary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Transfuse(Blood,Mary,John)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422280" y="3505320"/>
                <a:ext cx="7273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                              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LNs Inference and Learn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probabilistic inference techniques one can determine the most probable truth assignment, probability that a clause hold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database of training examples, appropriate weights of the formulae can be learned to maximize the probability of the 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en-source software package for MLN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che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vailabl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duction using ML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fected(Mary,Malaria)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Transfuse(Blood,Mary,John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John,Malaria)) 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use is satisfied whethe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ected(Mary, Malar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or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observations, a world has the same probability in MLN whether the explanation is true or false, explanations cannot be inferr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LN inference mechanism is inherently 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deductive and not ab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inference to the best explanation for a given set of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include tasks in which observations need to be explained by the best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n recogni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tent recogni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ult diagnosis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previous work falls under two frameworks for ab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irst-order logic based Abduction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robabilistic abduction using Bayesian networks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ly include the reverse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tially quantify the universally quantified variables which appear on the LHS but not on the RHS in the original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give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ransfuse(Blood, Mary, Joh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fected(John, Malar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of the world in which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fected(Mary,Malar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 will b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600" y="19051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0512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9718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9718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could be multiple explanations for the same observ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servation should be explained by one explanation and not multiple expla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should suppo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xplaining awa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earl 1988]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8600" y="20574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0574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7432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74320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600" y="35812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26708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26708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y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disjunction clause and the mutual exclusivity clause for the same RHS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LN clauses are soft constraints both explanations can still be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760" y="3421440"/>
            <a:ext cx="6578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Infected(y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y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Infected(y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y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y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209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42900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flipH="1" flipV="1" rot="10800000">
            <a:off x="304560" y="2666520"/>
            <a:ext cx="467280" cy="1783440"/>
          </a:xfrm>
          <a:prstGeom prst="bentConnector3">
            <a:avLst>
              <a:gd name="adj1" fmla="val -46877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for the Horn clauses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ackground knowledge base,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reverse implication disjunction claus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… v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mutual exclusivity clause for every pair of explanat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  …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v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can be learned from training examples or can be set heuristically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0481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H="1" flipV="1" rot="10800000">
            <a:off x="304560" y="2285640"/>
            <a:ext cx="467280" cy="1783440"/>
          </a:xfrm>
          <a:prstGeom prst="bentConnector3">
            <a:avLst>
              <a:gd name="adj1" fmla="val -46877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200" y="5316120"/>
            <a:ext cx="62917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133720"/>
            <a:ext cx="0" cy="327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13372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4100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apting MLNs for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ould be constants or variables on the RHS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Mosquito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Bite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Transfuse(Blood,</a:t>
            </a:r>
            <a:r>
              <a:rPr b="0" i="1" lang="en-US" sz="20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→ 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Malaria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480" y="3040560"/>
            <a:ext cx="69170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fected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x (Transfuse(Blood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Joh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200" y="5316120"/>
            <a:ext cx="62917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(Mosquito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Bit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956560"/>
            <a:ext cx="8381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algorithm is described in the paper, requires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cations and variable re-na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Datase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recognition dataset used to evaluate abductive system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1; Charniak &amp; Goldman 199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’s higher-level plans must be inferred to explain their observed actions in a narrativ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red went to the supermarket. He pointed a gun at the owner. He packed his bag.”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&gt; robb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Jack went to the supermarket. He found some milk on the shelf. He paid for it.”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=&gt; shoppin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contains 25 develop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oldman 199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25 test examp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Dataset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knowledge-base was constructed for the ACCEL syst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and Mooney 199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with the 25 development examples; 107 such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) ^ go_step(s,g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nstance_going(g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) ^ go_step(s,g) ^ shopper(s,p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goer(g,p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 text is represented in first order logic; average 12.6 li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ill went to the store. He paid for some milk.”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going(Go1)     goer(Go1,Bill)    destination_go(Store1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paying(Pay1)  payer(Pay1,Bill)  thing_paid(Pay1,Milk1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explaining the abov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nstance_shopping(S1)  shopper(S1,Bill)  go_step(S1,Go1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ay_step(S1,Pay1)   thing_shopped_for(S1,Milk) 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gical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ackground knowl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form of a set of (Horn) clauses in first-order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form of atomic facts in first-order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ypothes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 set of assum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formulae) that logically entail the observations given th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, best explanation is the one with the fewest assumptions, e.g. minimizes |H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algorithm automatically adds clauses to the knowledge-base for performing abduction using M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ound that 25 development examples were too few to learn weights for MLNs, we heuristically set the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mall negative weights on unit clauses so that they are not assumed for no reason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edium weights on reverse implication clause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Large weights on mutual exlcusivity clauses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observations, we use Alchemy’s probabilistic inference to determine the most likely truth assignment for the remain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with the ACCEL syst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g &amp; Mooney 19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 purely logic-based system for ab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the best explanation using a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implicity metric: selects the explanation of smallest size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herence metric: selects the explanation that maximally connects the observations (specifically geared towards this task)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ohn took the bus. He bought milk.” =&gt; John took the bus to the store where he bought the milk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Methodology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ides finding the assumptions, a deductive system like MLN also finds other facts that can be deduced from the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ductively expand ACCEL’s output and gold-standard answers for a fai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ea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cisio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what fraction of the predicted ground literals are in the gold-standard answer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what fraction of the ground literals in the gold-standard answers were predicted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-measu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: harmonic mean of precision and recal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053000" y="1065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me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contd.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4300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636200" y="1065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s: Results contd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 performs better than ACCEL-simplicity particularly on the developmen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-coherence performs the best, but was specifically tailored for narrative understanding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set used does not require full probabilistic treatment because little uncertainty in the knowledge-base o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Ns did not need any heuristic metric but simply found the most probable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probabilistic abduction using MLNs on a task in which uncertainty plays a bigger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on a larger dataset on which the weights could be learned to automatically adapt to a particula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evious abductive systems like ACCEL have no learning mechanism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probabilistic abduction using other frameworks of combining first-order logic and graphical mode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toor &amp; Taskar 2007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example, Bayesian Logic Programm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ersting &amp; De Raedt 200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are with the present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method for probabilistic first-order logical abduction using M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off-the-shelf deductive inference system of MLNs is employed to do abduction by suitably reversing the im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uncertainties using probabilties and an unbounded number of related entities using first-order logic, capable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on a small plan recognition dataset demonstrated that it compares favorably with special-purpose logic-based abductive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anks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Logical Abduction Probl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578720" cy="46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Knowled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Mary, Malaria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vious Work in Logical Abduc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first-order logic based approach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oole et al. 1987; Stickel 1988; Ng &amp; Mooney 1991; Kakas et al. 199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first-order “backward” logical reasoning to determine the set of assumptions sufficient to deduc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ble to reason under uncertainty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most  probable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ground Knowled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lds 80% of the time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s 40% of the times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ected(John, Malaria) 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9% sur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fuse(Blood, Mary, John) 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% sure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vious Work in Probabilistic Abduction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e framework is based on Bayesian network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earl 198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ties are encoded in a directe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observations, probabilistic inference over the graph computes the posterior probabilities of expla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handle structured representations because essentially based on propositional log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stic Abduction using ML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a new approach for probabilistic abduction that combines first-order logic and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rkov Logic Networks (ML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chardson and Domingos 200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theoretically sound framework for combining first-order logic and probabilistic graph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tal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L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ur approach using ML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uture Work and Conclusions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kov Logic Networks (MLNs) 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[Richardson and Domingos 2006]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52388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gical knowledge base is a set o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ard constrai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t of possible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MLN is a set o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oft constraint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orld violates a clause, it becomes less probable, not im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ach clause a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we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igher weigh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ronger 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776160" y="5222880"/>
                <a:ext cx="7820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µ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clause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ple MLN Claus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Mosquito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Bite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Malaria)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Transfuse(Blood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→ Infected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Malaria))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07:47:29Z</dcterms:created>
  <dc:creator>melville</dc:creator>
  <dc:description/>
  <dc:language>en-US</dc:language>
  <cp:lastModifiedBy>Rohit Kate</cp:lastModifiedBy>
  <cp:lastPrinted>2009-07-09T00:07:13Z</cp:lastPrinted>
  <dcterms:modified xsi:type="dcterms:W3CDTF">2009-07-09T22:00:42Z</dcterms:modified>
  <cp:revision>3661</cp:revision>
  <dc:subject/>
  <dc:title>Content-Boosted Collaborative Filtering</dc:title>
</cp:coreProperties>
</file>