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fld id="{31C6A056-CAB2-4ABE-946D-F01AE8EC0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59D4F19-6EF7-4F22-839C-E294D686B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observation Q, at least one of the Ps will be true but not more than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nstead of “he paid for some milk” it was “He pointed a gun”, an existence of robbing event must be assu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4433-FC2B-4FA7-A513-618C0E7A5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FF58-FA02-4AE0-94E6-13B406B87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C7E8-3E46-4E5D-A265-89651CA2B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2D3A-C618-448B-8C50-9E46D9F64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F994-356C-4E13-9F62-2899536CA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5266-487A-48F0-9704-5335DA409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4400-9A72-4963-BDB6-2BDEC5146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E898-ED51-41B0-807A-414C55515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0CED-4C58-4013-A240-FBD6BEB5A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3DA5-DCE6-4684-95EE-D19C6C0F9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94DD-CEF1-45B0-ACD2-06EA1850E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18B7F-F4B6-4E38-936E-5A9579415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AFC0-91F1-43A2-97F9-444568176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0D1E-D597-4773-B2BF-224CE7DB1D8B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5146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621240"/>
            <a:ext cx="647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621240"/>
            <a:ext cx="647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69920" y="4191120"/>
            <a:ext cx="5203800" cy="1787400"/>
            <a:chOff x="1969920" y="4191120"/>
            <a:chExt cx="5203800" cy="1787400"/>
          </a:xfrm>
        </p:grpSpPr>
        <p:sp>
          <p:nvSpPr>
            <p:cNvPr id="45" name=""/>
            <p:cNvSpPr/>
            <p:nvPr/>
          </p:nvSpPr>
          <p:spPr>
            <a:xfrm>
              <a:off x="2607840" y="4191120"/>
              <a:ext cx="39560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18320" y="4613400"/>
              <a:ext cx="494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epartment of Computer Sci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9920" y="5037120"/>
              <a:ext cx="520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he University of Texas at Aust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62200" y="54594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6920" cy="109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238880" y="5257800"/>
            <a:ext cx="1430280" cy="1430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635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Probabilistic Abduction using Markov Logic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3120" y="3382920"/>
            <a:ext cx="65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ohit J. Kate    Raymond J.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244440" y="664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5236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LN Probabilistic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N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constructing a Markov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round literals correspond to nod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round clauses correspond to cliques connecting the ground literals in the claus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 world (truth assignments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597560" y="465624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343400" y="465624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918080" y="5562720"/>
            <a:ext cx="198216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clau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281120" y="5562720"/>
            <a:ext cx="394848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 flipV="1">
            <a:off x="3809880" y="5105520"/>
            <a:ext cx="53352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 flipH="1" flipV="1">
            <a:off x="4800240" y="5091120"/>
            <a:ext cx="152280" cy="4716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1676520" y="4267080"/>
                <a:ext cx="3916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Text Box 12"/>
          <p:cNvSpPr/>
          <p:nvPr/>
        </p:nvSpPr>
        <p:spPr>
          <a:xfrm>
            <a:off x="7529400" y="72216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Mosquito(M)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,Malaria)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John,Malaria)         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ary,Malaria)       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Mosquito(M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,Malaria)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John,Malaria)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ary,Malaria)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Mosquito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Malaria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Bite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Malaria))    2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osquito(M)                  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M,Malaria)     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ite(M,John)                         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John,Malaria) 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ary,Malaria)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Mosquito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Malaria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Bite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Malaria))    2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osquito(M)                 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M,Malaria)    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ite(M,Mary)                       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John,Malaria)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Mary,Malaria)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Malaria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Transfuse(Blood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Malaria))     5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Mosquito(M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,Malaria)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John,Malaria)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Mary,Malaria)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use(Blood,John,Mary)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Malaria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Transfuse(Blood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Malaria))     5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Mosquito(M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,Malaria)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John,Malaria)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Mary,Malaria)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use(Blood,Mary,John) 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Mosquito(M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,Malaria)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John,Malaria)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ary,Malaria)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422280" y="3505320"/>
                <a:ext cx="7273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                               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LNs Inference and Learn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probabilistic inference techniques one can determine the most probable truth assignment, probability that a clause hold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database of training examples, appropriate weights of the formulae can be learned to maximize the probability of the train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pen-source software package for MLN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chem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vailabl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duction using ML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fected(Mary,Malaria)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Transfuse(Blood,Mary,John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John,Malaria)) 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ansfuse(Blood, Mary, John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John, Malaria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use is satisfied whethe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ected(Mary, Malar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ue or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e observations, a world has the same probability in MLN whether the explanation is true or false, explanations cannot be inferr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LN inference mechanism is inherently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deductive and not abdu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inference to the best explanation for a given set of e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include tasks in which observations need to be explained by the best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lan recogni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tent recogni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Medical diagnosi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ult diagnosis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st previous work falls under two frameworks for ab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First-order logic based Abduc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Probabilistic abduction using Bayesian network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ly include the reverse i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    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tially quantify the universally quantified variables which appear on the LHS but not on the RHS in the original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given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ransfuse(Blood, Mary, Joh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fected(John, Malar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ability of the world in which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fected(Mary,Malar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rue will be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8600" y="19051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905120"/>
            <a:ext cx="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9718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97180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re could be multiple explanations for the same observ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    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servation should be explained by one explanation and not multiple expla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should suppo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explaining awa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earl 1988]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8600" y="20574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05740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7432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274320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28600" y="358128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26708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26708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y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y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disjunction clause and the mutual exclusivity clause for the same RHS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MLN clauses are soft constraints both explanations can still be 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760" y="3421440"/>
            <a:ext cx="65786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Infected(y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y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y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Infected(y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y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y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2096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42900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/>
          <p:nvPr/>
        </p:nvCxnSpPr>
        <p:spPr>
          <a:xfrm flipH="1" flipV="1" rot="10800000">
            <a:off x="304560" y="2666520"/>
            <a:ext cx="467280" cy="1783440"/>
          </a:xfrm>
          <a:prstGeom prst="bentConnector3">
            <a:avLst>
              <a:gd name="adj1" fmla="val -46877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for the Horn clauses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ackground knowledge base,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 reverse implication disjunction claus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v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v… v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 mutual exclusivity clause for every pair of explanatio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v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v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…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v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s can be learned from training examples or can be set heuristically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ould be constants or variables on the RHS 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ould be constants or variables on the RHS 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7480" y="3040560"/>
            <a:ext cx="69170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0481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/>
          <p:nvPr/>
        </p:nvCxnSpPr>
        <p:spPr>
          <a:xfrm flipH="1" flipV="1" rot="10800000">
            <a:off x="304560" y="2285640"/>
            <a:ext cx="467280" cy="1783440"/>
          </a:xfrm>
          <a:prstGeom prst="bentConnector3">
            <a:avLst>
              <a:gd name="adj1" fmla="val -46877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ould be constants or variables on the RHS 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7480" y="3040560"/>
            <a:ext cx="69170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200" y="5316120"/>
            <a:ext cx="62917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133720"/>
            <a:ext cx="0" cy="327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133720"/>
            <a:ext cx="152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41008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ould be constants or variables on the RHS 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480" y="3040560"/>
            <a:ext cx="69170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200" y="5316120"/>
            <a:ext cx="62917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956560"/>
            <a:ext cx="83818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algorithm is described in the paper, requires appropr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cations and variable re-nam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Datase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recognition dataset used to evaluate abductive system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g &amp; Mooney 1991; Charniak &amp; Goldman 199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’s higher-level plans must be inferred to explain their observed actions in a narrativ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red went to the supermarket. He pointed a gun at the owner. He packed his bag.”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=&gt; robb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Jack went to the supermarket. He found some milk on the shelf. He paid for it.”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=&gt; shopp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contains 25 developmen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oldman 199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25 test examp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g &amp; Mooney 199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Dataset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knowledge-base was constructed for the ACCEL syst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g and Mooney 1991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work with the 25 development examples; 107 such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stance_shopping(s) ^ go_step(s,g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stance_going(g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stance_shopping(s) ^ go_step(s,g) ^ shopper(s,p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goer(g,p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ative text is represented in first order logic; average 12.6 lit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ill went to the store. He paid for some milk.”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stance_going(Go1)     goer(Go1,Bill)    destination_go(Store1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stance_paying(Pay1)  payer(Pay1,Bill)  thing_paid(Pay1,Milk1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explaining the above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stance_shopping(S1)  shopper(S1,Bill)  go_step(S1,Go1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ay_step(S1,Pay1)   thing_shopped_for(S1,Milk)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gical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ackground knowled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the form of a set of (Horn) clauses in first-order log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bserv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the form of atomic facts in first-order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ypothesi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 set of assump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formulae) that logically entail the observations given the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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, best explanation is the one with the fewest assumptions, e.g. minimizes |H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Methodolog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algorithm automatically adds clauses to the knowledge-base for performing abduction using ML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ound that 25 development examples were too few to learn weights for MLNs, we heuristically set the we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mall negative weights on unit clauses so that they are not assumed for no reas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edium weights on reverse implication claus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Large weights on mutual exlcusivity clauses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observations, we use Alchemy’s probabilistic inference to determine the most likely truth assignment for the remaining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Methodology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with the ACCEL syst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g &amp; Mooney 19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 purely logic-based system for ab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s the best explanation using a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implicity metric: selects the explanation of smallest siz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herence metric: selects the explanation that maximally connects the observations (specifically geared towards this task)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John took the bus. He bought milk.” =&gt; John took the bus to the store where he bought the milk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Methodology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ides finding the assumptions, a deductive system like MLN also finds other facts that can be deduced from the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ductively expand ACCEL’s output and gold-standard answers for a fair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ea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: what fraction of the predicted ground literals are in the gold-standard answer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: what fraction of the ground literals in the gold-standard answers were predicted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: harmonic mean of precision and recall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Results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43000" y="1676520"/>
          <a:ext cx="68594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859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053000" y="10656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men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Results contd.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43000" y="1676520"/>
          <a:ext cx="68594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859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636200" y="10656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s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Results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N performs better than ACCEL-simplicity particularly on the developmen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-coherence performs the best, but was specifically tailored for narrative understanding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set used does not require full probabilistic treatment because little uncertainty in the knowledge-base or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Ns did not need any heuristic metric but simply found the most probable 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ture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probabilistic abduction using MLNs on a task in which uncertainty plays a bigger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on a larger dataset on which the weights could be learned to automatically adapt to a particular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revious abductive systems like ACCEL have no learning mechanism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probabilistic abduction using other frameworks of combining first-order logic and graphical model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Getoor &amp; Taskar 2007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example, Bayesian Logic Programm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Kersting &amp; De Raedt 200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mpare with the presented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method for probabilistic first-order logical abduction using ML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off-the-shelf deductive inference system of MLNs is employed to do abduction by suitably reversing the impli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uncertainties using probabilties and an unbounded number of related entities using first-order logic, capable of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s on a small plan recognition dataset demonstrated that it compares favorably with special-purpose logic-based abductive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anks!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Logical Abduction Proble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578720" cy="46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 Knowled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Mosquito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Bite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Transfuse(Blood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John, Malaria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ansfuse(Blood, Mary, Joh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n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Mary, Malaria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evious Work in Logical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first-order logic based approach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Poole et al. 1987; Stickel 1988; Ng &amp; Mooney 1991; Kakas et al. 199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first-order “backward” logical reasoning to determine the set of assumptions sufficient to deduc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ble to reason under uncertainty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most  probable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ground Knowled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(Mosquito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Bite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olds 80% of the times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Transfuse(Blood,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lds 40% of the times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John, Malaria)  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9% sur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ansfuse(Blood, Mary, John)  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% sure 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evious Work in Probabilistic Abduction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e framework is based on Bayesian network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Pearl 198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ertainties are encoded in a directed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observations, probabilistic inference over the graph computes the posterior probabilities of expla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ble to handle structured representations because essentially based on propositional log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stic Abduction using ML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esent a new approach for probabilistic abduction that combines first-order logic and probabilistic graphic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Markov Logic Networks (MLN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chardson and Domingos 200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theoretically sound framework for combining first-order logic and probabilistic graphic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of the tal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L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ur approach using ML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xperiment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uture Work and Conclusions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rkov Logic Networks (MLNs) </a:t>
            </a:r>
            <a:br>
              <a:rPr sz="32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[Richardson and Domingos 2006]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57200" y="152388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gical knowledge base is a set of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hard constrai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set of possible wor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MLN is a set of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oft constraints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world violates a clause, it becomes less probable, not im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each clause a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we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igher weight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tronger 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776160" y="5222880"/>
                <a:ext cx="78202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orld</m:t>
                    </m:r>
                    <m:r>
                      <m:t xml:space="preserve">)</m:t>
                    </m:r>
                    <m:r>
                      <m:t xml:space="preserve">µ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ights of clauses it satisfies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Claus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Mosquito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Bite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Transfuse(Blood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07:47:29Z</dcterms:created>
  <dc:creator>melville</dc:creator>
  <dc:description/>
  <dc:language>en-US</dc:language>
  <cp:lastModifiedBy>Rohit Kate</cp:lastModifiedBy>
  <cp:lastPrinted>2009-07-09T00:07:13Z</cp:lastPrinted>
  <dcterms:modified xsi:type="dcterms:W3CDTF">2009-07-09T22:00:42Z</dcterms:modified>
  <cp:revision>3661</cp:revision>
  <dc:subject/>
  <dc:title>Content-Boosted Collaborative Filtering</dc:title>
</cp:coreProperties>
</file>