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44A-3958-4627-A56B-1808FE77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529-40D9-40F5-9952-5B25F32C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064-4689-4141-96D5-E77FEDF6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D17-B547-4FB9-9B1A-B0AC4D49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AD01-89CB-426A-9C6E-8100DA73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6CEC-BB0F-4C89-AB65-03DDD154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3EF3-48F4-46AE-B187-9BC55209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5B5-D5AA-4100-97D3-A2928932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8A3-88A7-4EDD-A175-ABBDE1C9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7E78-C9FF-4B92-9EF5-145C8B47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37E5-5E59-4726-8C15-40B27EF9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ACEE-517A-4F89-B786-16B91AFC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7B150-5AD4-472C-9210-8315B92A74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BBC11-3C83-47B2-9A90-3A0C8E3C3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alibri"/>
              </a:rPr>
              <a:t>Learning to </a:t>
            </a:r>
            <a:r>
              <a:rPr b="0" lang="ja-JP" sz="38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en-US" sz="3800" spc="-1" strike="noStrike">
                <a:solidFill>
                  <a:srgbClr val="0000ff"/>
                </a:solidFill>
                <a:latin typeface="Calibri"/>
              </a:rPr>
              <a:t>Read Between the Lines</a:t>
            </a:r>
            <a:r>
              <a:rPr b="0" lang="ja-JP" sz="3800" spc="-1" strike="noStrike">
                <a:solidFill>
                  <a:srgbClr val="0000ff"/>
                </a:solidFill>
                <a:latin typeface="Calibri"/>
              </a:rPr>
              <a:t>”</a:t>
            </a:r>
            <a:r>
              <a:rPr b="0" lang="en-US" sz="3800" spc="-1" strike="noStrike">
                <a:solidFill>
                  <a:srgbClr val="0000ff"/>
                </a:solidFill>
                <a:latin typeface="Calibri"/>
              </a:rPr>
              <a:t> using Bayesian Logic Programs</a:t>
            </a:r>
            <a:endParaRPr b="0" lang="en-US" sz="38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3886200"/>
            <a:ext cx="83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indhu Raghavan, Raymond Mooney, and Hyeonseo K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Calibri"/>
              </a:rPr>
              <a:t>The University of Texas at Aust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July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7AAEC-436C-4CE0-A1EB-074F2DEDA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Bayesian Logic Programs</a:t>
            </a:r>
            <a:br>
              <a:rPr sz="4400"/>
            </a:b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[Kersting and De Raedt, 2001]</a:t>
            </a:r>
            <a:endParaRPr b="0" lang="en-US" sz="20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of Bayesian claus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 | 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....,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efinite clauses in first-order logic, universally quantified</a:t>
            </a: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ead of the clause -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ody of the clause -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i="1" lang="en-US" sz="2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, a</a:t>
            </a:r>
            <a:r>
              <a:rPr b="0" i="1" lang="en-US" sz="2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, …, a</a:t>
            </a:r>
            <a:r>
              <a:rPr b="0" i="1" lang="en-US" sz="22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ssociated conditional probability table (CPT)</a:t>
            </a: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lvl="2" marL="1119960" indent="-22392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P(head | body) </a:t>
            </a:r>
            <a:endParaRPr b="1" lang="en-US" sz="2200" spc="-1" strike="noStrike">
              <a:solidFill>
                <a:srgbClr val="008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yesian predicat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, 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 …, 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ve finite domai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ombining rule like noisy-or for mapping multiple CPTs into a single CPT</a:t>
            </a: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 a set of Bayesian clauses and a query,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SLD resolu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to construct ground Bayesian networks for probabilistic infere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9ED57-2D07-4C8A-BAD3-2051E470C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Why BLPs?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re logical deduction is brittle and results in many undifferentiated in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erence in BLPs is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probabilist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.e. inferences are assigned prob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robabilities can be used to select only high-confidence inferences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Efficient ground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chanism in BLPs enables our approach to s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F6CCA-98CC-40CC-A2E3-3ECDFEB9E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Inductive Logic Programming (ILP)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for learning first-order rules</a:t>
            </a:r>
            <a:endParaRPr b="0" lang="en-US" sz="40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733920" y="2743200"/>
            <a:ext cx="281916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LP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ule Learn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3733920" y="1600200"/>
            <a:ext cx="2819160" cy="5202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arget rel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hasCitizenship(X,Y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304920" y="1563840"/>
            <a:ext cx="2438280" cy="2302200"/>
          </a:xfrm>
          <a:prstGeom prst="rect">
            <a:avLst/>
          </a:prstGeom>
          <a:noFill/>
          <a:ln w="38160">
            <a:solidFill>
              <a:srgbClr val="00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sitive instanc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hasCitizenshi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(BarackObama, US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hasCitizenshi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(GeorgeBush, US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hasCitizenshi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(IndiraGandhi,Indi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304920" y="3962520"/>
            <a:ext cx="2438280" cy="2302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gative instanc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hasCitizenshi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(BarackObama, Indi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hasCitizenshi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(GeorgeBush, Indi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hasCitizenshi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(IndiraGandhi,US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3429000" y="4952880"/>
            <a:ext cx="3429000" cy="151020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660066"/>
                </a:solidFill>
                <a:latin typeface="Arial"/>
              </a:rPr>
              <a:t>hasBirthPlace(BarackObama,US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660066"/>
                </a:solidFill>
                <a:latin typeface="Arial"/>
              </a:rPr>
              <a:t>person(BarackObam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660066"/>
                </a:solidFill>
                <a:latin typeface="Arial"/>
              </a:rPr>
              <a:t>nationState(US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660066"/>
                </a:solidFill>
                <a:latin typeface="Arial"/>
              </a:rPr>
              <a:t>nationState(Indi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ight Arrow 8"/>
          <p:cNvSpPr/>
          <p:nvPr/>
        </p:nvSpPr>
        <p:spPr>
          <a:xfrm>
            <a:off x="2743200" y="3276720"/>
            <a:ext cx="9907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ight Arrow 9"/>
          <p:cNvSpPr/>
          <p:nvPr/>
        </p:nvSpPr>
        <p:spPr>
          <a:xfrm>
            <a:off x="2743200" y="4038480"/>
            <a:ext cx="9907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Down Arrow 10"/>
          <p:cNvSpPr/>
          <p:nvPr/>
        </p:nvSpPr>
        <p:spPr>
          <a:xfrm>
            <a:off x="4724280" y="2154240"/>
            <a:ext cx="533520" cy="5889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Down Arrow 11"/>
          <p:cNvSpPr/>
          <p:nvPr/>
        </p:nvSpPr>
        <p:spPr>
          <a:xfrm rot="10800000">
            <a:off x="4724280" y="4440240"/>
            <a:ext cx="533520" cy="51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7162920" y="2743200"/>
            <a:ext cx="1822320" cy="1676520"/>
          </a:xfrm>
          <a:prstGeom prst="rect">
            <a:avLst/>
          </a:prstGeom>
          <a:noFill/>
          <a:ln w="38160">
            <a:solidFill>
              <a:srgbClr val="471b8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u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471b8f"/>
                </a:solidFill>
                <a:latin typeface="Arial"/>
                <a:ea typeface="Arial"/>
              </a:rPr>
              <a:t>nationState(Y) </a:t>
            </a:r>
            <a:r>
              <a:rPr b="1" lang="en-US" sz="1300" spc="-1" strike="noStrike">
                <a:solidFill>
                  <a:srgbClr val="471b8f"/>
                </a:solidFill>
                <a:latin typeface="MS Gothic"/>
                <a:ea typeface="MS Gothic"/>
              </a:rPr>
              <a:t>∧</a:t>
            </a:r>
            <a:r>
              <a:rPr b="1" lang="en-US" sz="1300" spc="-1" strike="noStrike">
                <a:solidFill>
                  <a:srgbClr val="471b8f"/>
                </a:solidFill>
                <a:latin typeface="Arial"/>
                <a:ea typeface="Arial"/>
              </a:rPr>
              <a:t> isLedBy(Y,X) </a:t>
            </a:r>
            <a:r>
              <a:rPr b="1" lang="en-US" sz="1300" spc="-1" strike="noStrike">
                <a:solidFill>
                  <a:srgbClr val="471b8f"/>
                </a:solidFill>
                <a:latin typeface="Wingdings"/>
                <a:ea typeface="Wingdings"/>
              </a:rPr>
              <a:t>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471b8f"/>
                </a:solidFill>
                <a:latin typeface="Arial"/>
                <a:ea typeface="Arial"/>
              </a:rPr>
              <a:t>hasCitizenshi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471b8f"/>
                </a:solidFill>
                <a:latin typeface="Arial"/>
                <a:ea typeface="Arial"/>
              </a:rPr>
              <a:t>(X,Y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471b8f"/>
                </a:solidFill>
                <a:latin typeface="Arial"/>
                <a:ea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471b8f"/>
                </a:solidFill>
                <a:latin typeface="Arial"/>
                <a:ea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ight Arrow 13"/>
          <p:cNvSpPr/>
          <p:nvPr/>
        </p:nvSpPr>
        <p:spPr>
          <a:xfrm>
            <a:off x="6553080" y="3276720"/>
            <a:ext cx="609840" cy="53316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ounded Rectangle 4"/>
          <p:cNvSpPr/>
          <p:nvPr/>
        </p:nvSpPr>
        <p:spPr>
          <a:xfrm rot="19311600">
            <a:off x="0" y="4572000"/>
            <a:ext cx="2921040" cy="74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Generated using closed-    world as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9989C-A593-412A-B9F7-3DD3EC85F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erence using BLP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20840" y="1217520"/>
            <a:ext cx="8518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Test docu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300" spc="-1" strike="noStrike">
                <a:solidFill>
                  <a:srgbClr val="0000ff"/>
                </a:solidFill>
                <a:latin typeface="Calibri"/>
              </a:rPr>
              <a:t>Malaysian</a:t>
            </a:r>
            <a:r>
              <a:rPr b="1" lang="en-US" sz="23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Prime Minister</a:t>
            </a:r>
            <a:r>
              <a:rPr b="1" lang="en-US" sz="2300" spc="-1" strike="noStrike">
                <a:solidFill>
                  <a:srgbClr val="008000"/>
                </a:solidFill>
                <a:latin typeface="Calibri"/>
              </a:rPr>
              <a:t> Mahathir Mohamad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Wednesday</a:t>
            </a:r>
            <a:r>
              <a:rPr b="1" lang="en-US" sz="23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nnounced for the first time that he has appointed his deputy Abdullah Ahmad Badawi as his successor.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80880" y="3294000"/>
            <a:ext cx="70549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tracted fac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Calibri"/>
                <a:ea typeface="Calibri"/>
              </a:rPr>
              <a:t>nationState(malaysian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Calibri"/>
                <a:ea typeface="Calibri"/>
              </a:rPr>
              <a:t>Person(mahathir-mohamad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alibri"/>
                <a:ea typeface="Calibri"/>
              </a:rPr>
              <a:t>isLedBy(malaysian,mahathir-mohamad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alibri"/>
                <a:ea typeface="Calibri"/>
              </a:rPr>
              <a:t>employs(malaysian,mahatir-mohamad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80880" y="5291280"/>
            <a:ext cx="8191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arned ru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660066"/>
                </a:solidFill>
                <a:latin typeface="Calibri"/>
                <a:ea typeface="Calibri"/>
              </a:rPr>
              <a:t>nationState(B) </a:t>
            </a:r>
            <a:r>
              <a:rPr b="1" lang="en-US" sz="2300" spc="-1" strike="noStrike">
                <a:solidFill>
                  <a:srgbClr val="660066"/>
                </a:solidFill>
                <a:latin typeface="Calibri"/>
                <a:ea typeface="MS Gothic"/>
              </a:rPr>
              <a:t>∧</a:t>
            </a:r>
            <a:r>
              <a:rPr b="1" lang="en-US" sz="2300" spc="-1" strike="noStrike">
                <a:solidFill>
                  <a:srgbClr val="660066"/>
                </a:solidFill>
                <a:latin typeface="Calibri"/>
                <a:ea typeface="Calibri"/>
              </a:rPr>
              <a:t> isLedBy(B,A) </a:t>
            </a:r>
            <a:r>
              <a:rPr b="1" lang="en-US" sz="23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660066"/>
                </a:solidFill>
                <a:latin typeface="Calibri"/>
                <a:ea typeface="Calibri"/>
              </a:rPr>
              <a:t> hasCitizenship(A,B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660066"/>
                </a:solidFill>
                <a:latin typeface="Calibri"/>
                <a:ea typeface="Calibri"/>
              </a:rPr>
              <a:t>nationState(B) </a:t>
            </a:r>
            <a:r>
              <a:rPr b="1" lang="en-US" sz="2300" spc="-1" strike="noStrike">
                <a:solidFill>
                  <a:srgbClr val="660066"/>
                </a:solidFill>
                <a:latin typeface="Calibri"/>
                <a:ea typeface="MS Gothic"/>
              </a:rPr>
              <a:t>∧ </a:t>
            </a:r>
            <a:r>
              <a:rPr b="1" lang="en-US" sz="2300" spc="-1" strike="noStrike">
                <a:solidFill>
                  <a:srgbClr val="660066"/>
                </a:solidFill>
                <a:latin typeface="Calibri"/>
                <a:ea typeface="Calibri"/>
              </a:rPr>
              <a:t>employs(B,A) </a:t>
            </a:r>
            <a:r>
              <a:rPr b="1" lang="en-US" sz="23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660066"/>
                </a:solidFill>
                <a:latin typeface="Calibri"/>
                <a:ea typeface="Calibri"/>
              </a:rPr>
              <a:t> hasCitizenship(A,B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3419E-3621-48CA-B9E6-CF6AF3C2D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ogical Inference in BLP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533520" y="16765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Rule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660066"/>
                </a:solidFill>
                <a:latin typeface="Arial"/>
                <a:ea typeface="Arial"/>
              </a:rPr>
              <a:t>nationState(B) </a:t>
            </a:r>
            <a:r>
              <a:rPr b="1" lang="en-US" sz="2300" spc="-1" strike="noStrike">
                <a:solidFill>
                  <a:srgbClr val="660066"/>
                </a:solidFill>
                <a:latin typeface="MS Gothic"/>
                <a:ea typeface="MS Gothic"/>
              </a:rPr>
              <a:t>∧</a:t>
            </a:r>
            <a:r>
              <a:rPr b="1" lang="en-US" sz="2300" spc="-1" strike="noStrike">
                <a:solidFill>
                  <a:srgbClr val="660066"/>
                </a:solidFill>
                <a:latin typeface="Arial"/>
                <a:ea typeface="Arial"/>
              </a:rPr>
              <a:t> isLedBy(B,A) </a:t>
            </a:r>
            <a:r>
              <a:rPr b="1" lang="en-US" sz="23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660066"/>
                </a:solidFill>
                <a:latin typeface="Arial"/>
                <a:ea typeface="Arial"/>
              </a:rPr>
              <a:t> hasCitizenship(A,B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1920" y="245124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nationState(malaysia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541680" y="2521080"/>
            <a:ext cx="560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isLedBy(malaysian,mahathir-mohama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Straight Arrow Connector 6"/>
          <p:cNvCxnSpPr/>
          <p:nvPr/>
        </p:nvCxnSpPr>
        <p:spPr>
          <a:xfrm>
            <a:off x="1828440" y="3505320"/>
            <a:ext cx="1462680" cy="822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 flipH="1">
            <a:off x="4266720" y="3501720"/>
            <a:ext cx="1829520" cy="826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8"/>
          <p:cNvSpPr/>
          <p:nvPr/>
        </p:nvSpPr>
        <p:spPr>
          <a:xfrm>
            <a:off x="838080" y="4260960"/>
            <a:ext cx="7543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"/>
              </a:rPr>
              <a:t>hasCitizenship(mahathir-mohamad, malaysia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55AAF-35F2-42D7-B16B-4D8F3B3DA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ogical Inference in BLP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533520" y="16765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Rule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660066"/>
                </a:solidFill>
                <a:latin typeface="Arial"/>
                <a:ea typeface="Arial"/>
              </a:rPr>
              <a:t>nationState(B) </a:t>
            </a:r>
            <a:r>
              <a:rPr b="1" lang="en-US" sz="2300" spc="-1" strike="noStrike">
                <a:solidFill>
                  <a:srgbClr val="660066"/>
                </a:solidFill>
                <a:latin typeface="MS Gothic"/>
                <a:ea typeface="MS Gothic"/>
              </a:rPr>
              <a:t>∧</a:t>
            </a:r>
            <a:r>
              <a:rPr b="1" lang="en-US" sz="2300" spc="-1" strike="noStrike">
                <a:solidFill>
                  <a:srgbClr val="660066"/>
                </a:solidFill>
                <a:latin typeface="Arial"/>
                <a:ea typeface="Arial"/>
              </a:rPr>
              <a:t> employs(B,A) </a:t>
            </a:r>
            <a:r>
              <a:rPr b="1" lang="en-US" sz="23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660066"/>
                </a:solidFill>
                <a:latin typeface="Arial"/>
                <a:ea typeface="Arial"/>
              </a:rPr>
              <a:t> hasCitizenship(A,B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1920" y="245124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nationState(malaysia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541680" y="2521080"/>
            <a:ext cx="560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employs(malaysian,mahathir-mohama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Straight Arrow Connector 6"/>
          <p:cNvCxnSpPr/>
          <p:nvPr/>
        </p:nvCxnSpPr>
        <p:spPr>
          <a:xfrm>
            <a:off x="1828440" y="3505320"/>
            <a:ext cx="1462680" cy="822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Straight Arrow Connector 7"/>
          <p:cNvCxnSpPr/>
          <p:nvPr/>
        </p:nvCxnSpPr>
        <p:spPr>
          <a:xfrm flipH="1">
            <a:off x="4266720" y="3501720"/>
            <a:ext cx="1829520" cy="826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Rectangle 8"/>
          <p:cNvSpPr/>
          <p:nvPr/>
        </p:nvSpPr>
        <p:spPr>
          <a:xfrm>
            <a:off x="838080" y="4260960"/>
            <a:ext cx="7543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"/>
              </a:rPr>
              <a:t>hasCitizenship(mahathir-mohamad, malaysia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FDE2E-61BB-4A2B-AA84-CA8286B61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robabilistic inference in BLP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cxnSp>
        <p:nvCxnSpPr>
          <p:cNvPr id="143" name="Straight Arrow Connector 5"/>
          <p:cNvCxnSpPr/>
          <p:nvPr/>
        </p:nvCxnSpPr>
        <p:spPr>
          <a:xfrm>
            <a:off x="1401840" y="2857320"/>
            <a:ext cx="853200" cy="826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Straight Arrow Connector 6"/>
          <p:cNvCxnSpPr/>
          <p:nvPr/>
        </p:nvCxnSpPr>
        <p:spPr>
          <a:xfrm flipH="1">
            <a:off x="2716920" y="2814120"/>
            <a:ext cx="1172520" cy="869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Oval 11"/>
          <p:cNvSpPr/>
          <p:nvPr/>
        </p:nvSpPr>
        <p:spPr>
          <a:xfrm>
            <a:off x="2948040" y="1339920"/>
            <a:ext cx="2719440" cy="14698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nationSta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alaysia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0" y="1387440"/>
            <a:ext cx="2589120" cy="14702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sLedB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alaysian, mahathir-mohama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84320" y="2908440"/>
          <a:ext cx="1195200" cy="1493640"/>
        </p:xfrm>
        <a:graphic>
          <a:graphicData uri="http://schemas.openxmlformats.org/drawingml/2006/table">
            <a:tbl>
              <a:tblPr/>
              <a:tblGrid>
                <a:gridCol w="485640"/>
                <a:gridCol w="353880"/>
                <a:gridCol w="355680"/>
              </a:tblGrid>
              <a:tr h="395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Rectangle 19"/>
          <p:cNvSpPr/>
          <p:nvPr/>
        </p:nvSpPr>
        <p:spPr>
          <a:xfrm rot="19893000">
            <a:off x="186840" y="3171960"/>
            <a:ext cx="1235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Logical An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14"/>
          <p:cNvSpPr/>
          <p:nvPr/>
        </p:nvSpPr>
        <p:spPr>
          <a:xfrm>
            <a:off x="6004080" y="1270080"/>
            <a:ext cx="2589120" cy="1476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mploy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alaysian, mahathir-mohama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Straight Arrow Connector 15"/>
          <p:cNvCxnSpPr/>
          <p:nvPr/>
        </p:nvCxnSpPr>
        <p:spPr>
          <a:xfrm>
            <a:off x="4795560" y="2782800"/>
            <a:ext cx="851400" cy="758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Straight Arrow Connector 16"/>
          <p:cNvCxnSpPr>
            <a:stCxn id="149" idx="4"/>
          </p:cNvCxnSpPr>
          <p:nvPr/>
        </p:nvCxnSpPr>
        <p:spPr>
          <a:xfrm flipH="1">
            <a:off x="6333480" y="2746080"/>
            <a:ext cx="965880" cy="794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Oval 22"/>
          <p:cNvSpPr/>
          <p:nvPr/>
        </p:nvSpPr>
        <p:spPr>
          <a:xfrm>
            <a:off x="1506600" y="3683160"/>
            <a:ext cx="2306520" cy="1089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ummy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23"/>
          <p:cNvSpPr/>
          <p:nvPr/>
        </p:nvSpPr>
        <p:spPr>
          <a:xfrm>
            <a:off x="5170320" y="3537000"/>
            <a:ext cx="2160720" cy="10969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ummy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" name="Straight Arrow Connector 29"/>
          <p:cNvCxnSpPr/>
          <p:nvPr/>
        </p:nvCxnSpPr>
        <p:spPr>
          <a:xfrm>
            <a:off x="2717280" y="4771800"/>
            <a:ext cx="823320" cy="548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Straight Arrow Connector 35"/>
          <p:cNvCxnSpPr/>
          <p:nvPr/>
        </p:nvCxnSpPr>
        <p:spPr>
          <a:xfrm flipH="1">
            <a:off x="4606560" y="4603320"/>
            <a:ext cx="1000800" cy="716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Oval 38"/>
          <p:cNvSpPr/>
          <p:nvPr/>
        </p:nvSpPr>
        <p:spPr>
          <a:xfrm>
            <a:off x="2589120" y="5361120"/>
            <a:ext cx="3602160" cy="1360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hasCitizenshi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ahathir-mohamad, malaysia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0"/>
          <p:cNvSpPr/>
          <p:nvPr/>
        </p:nvSpPr>
        <p:spPr>
          <a:xfrm rot="20706600">
            <a:off x="2328480" y="5646600"/>
            <a:ext cx="3994200" cy="608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Marginal Probability 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27960" y="2951280"/>
          <a:ext cx="1065240" cy="1463400"/>
        </p:xfrm>
        <a:graphic>
          <a:graphicData uri="http://schemas.openxmlformats.org/drawingml/2006/table">
            <a:tbl>
              <a:tblPr/>
              <a:tblGrid>
                <a:gridCol w="355680"/>
                <a:gridCol w="353880"/>
                <a:gridCol w="3556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40"/>
          <p:cNvSpPr/>
          <p:nvPr/>
        </p:nvSpPr>
        <p:spPr>
          <a:xfrm rot="19893000">
            <a:off x="7383240" y="3240000"/>
            <a:ext cx="12348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Logical An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889440" y="3503520"/>
          <a:ext cx="1065240" cy="1463760"/>
        </p:xfrm>
        <a:graphic>
          <a:graphicData uri="http://schemas.openxmlformats.org/drawingml/2006/table">
            <a:tbl>
              <a:tblPr/>
              <a:tblGrid>
                <a:gridCol w="355680"/>
                <a:gridCol w="353880"/>
                <a:gridCol w="3556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42"/>
          <p:cNvSpPr/>
          <p:nvPr/>
        </p:nvSpPr>
        <p:spPr>
          <a:xfrm rot="19893000">
            <a:off x="3865680" y="3794040"/>
            <a:ext cx="12348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Noisy O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2765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BB751-3696-4D6B-82CD-DF9615C7D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ample rules learned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overnmentOrganization(A) </a:t>
            </a:r>
            <a:r>
              <a:rPr b="0" lang="en-US" sz="2500" spc="-1" strike="noStrike">
                <a:solidFill>
                  <a:srgbClr val="000000"/>
                </a:solidFill>
                <a:latin typeface="MS Gothic"/>
                <a:ea typeface="MS Gothic"/>
              </a:rPr>
              <a:t>∧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S Gothic"/>
              </a:rPr>
              <a:t>employs(A,B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S Gothic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S Gothic"/>
              </a:rPr>
              <a:t>hasMember(A,B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S Gothic"/>
              </a:rPr>
              <a:t>eventLocation(A,B) </a:t>
            </a:r>
            <a:r>
              <a:rPr b="0" lang="en-US" sz="2500" spc="-1" strike="noStrike">
                <a:solidFill>
                  <a:srgbClr val="000000"/>
                </a:solidFill>
                <a:latin typeface="MS Gothic"/>
                <a:ea typeface="MS Gothic"/>
              </a:rPr>
              <a:t>∧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S Gothic"/>
              </a:rPr>
              <a:t>bombing(A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S Gothic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S Gothic"/>
              </a:rPr>
              <a:t>thingPhysicallyDamage(A,B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S Gothic"/>
              </a:rPr>
              <a:t>isLedBy(A,B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S Gothic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S Gothic"/>
              </a:rPr>
              <a:t>hasMemberPerson(A,B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B61A2-D7F7-449D-8903-723760CFD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xperimental Evaluatio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RPA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 intelligence community (IC) data set from the Machine Reading Project (MRP)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ists of news articles on politics, terrorism, and other international events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,00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documents in total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10-fold cross vali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BDEC5-1C3B-408D-BB0E-3BA563F64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xperimental Evaluatio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first-order rules using LIME </a:t>
            </a:r>
            <a:r>
              <a:rPr b="1" i="1" lang="en-US" sz="1900" spc="-1" strike="noStrike">
                <a:solidFill>
                  <a:srgbClr val="ff6600"/>
                </a:solidFill>
                <a:latin typeface="Arial"/>
              </a:rPr>
              <a:t>[McCreath and Sharma, 1998]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Learn rules for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13 target relations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Learn rules using both positive and negative instances and using only positive instances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Include all unique rules learned from different models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BLP para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Learn noisy-or parameters using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Expectation Maximization (EM)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Set priors to maximum likelihood estimates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7FC86-3FF9-4D4E-A394-D9F8A7B9B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Extractio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extraction (IE) systems extract factual information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at occurs in text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[Cowie and Lenhert, 1996; Sarawagi, 200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tural language text is typically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“incomplete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ommonsense information is not explicitly stated</a:t>
            </a: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asily inferred facts are omitted from the text</a:t>
            </a: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uman readers use commonsense knowledge and </a:t>
            </a:r>
            <a:r>
              <a:rPr b="1" lang="ja-JP" sz="25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read between the lines</a:t>
            </a:r>
            <a:r>
              <a:rPr b="1" lang="ja-JP" sz="25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o infer implicit inform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E systems have no access to commonsense knowledge and hence cannot infer implicit inform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432E9-B06B-47A9-95D3-6424D7E84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xperimental Evaluatio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Manually evaluated inferred facts from 40 documents, randomly selected from each test set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ompute two precision scores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Unadjusted (UA) – does not account for extractor’s mistakes</a:t>
            </a:r>
            <a:endParaRPr b="1" lang="en-US" sz="2400" spc="-1" strike="noStrike">
              <a:solidFill>
                <a:srgbClr val="008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Adjusted (AD) – account for extractor’s mistakes </a:t>
            </a:r>
            <a:endParaRPr b="1" lang="en-US" sz="2400" spc="-1" strike="noStrike">
              <a:solidFill>
                <a:srgbClr val="008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Rank inferences using marginal probabilities and evaluate top-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F77F8-7FEC-4A2B-9F82-921CEDB00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xperimental Evaluatio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ystems compa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BLP Learned Weights 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Noisy-or parameters learned using online EM</a:t>
            </a:r>
            <a:endParaRPr b="1" lang="en-US" sz="2200" spc="-1" strike="noStrike">
              <a:solidFill>
                <a:srgbClr val="008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BLP Manual Weights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Noisy-or parameters set to 0.9</a:t>
            </a:r>
            <a:endParaRPr b="1" lang="en-US" sz="2200" spc="-1" strike="noStrike">
              <a:solidFill>
                <a:srgbClr val="008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Logical Deduction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MLN Learned Weights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Learn weights using generative online weight learner</a:t>
            </a:r>
            <a:endParaRPr b="1" lang="en-US" sz="2200" spc="-1" strike="noStrike">
              <a:solidFill>
                <a:srgbClr val="008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MLN Manual Weights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Assign a weight of 10 to all rules and MLE priors to all predicates  </a:t>
            </a:r>
            <a:endParaRPr b="1" lang="en-US" sz="2200" spc="-1" strike="noStrike">
              <a:solidFill>
                <a:srgbClr val="008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FF75D-1A1D-4CFD-A0A1-F1C05203B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Unadjusted Precisio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1BE05-D5D4-4C8E-AB62-FED85A611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5" descr="acl2012-ua-crop.pdf"/>
          <p:cNvPicPr/>
          <p:nvPr/>
        </p:nvPicPr>
        <p:blipFill>
          <a:blip r:embed="rId1"/>
          <a:stretch/>
        </p:blipFill>
        <p:spPr>
          <a:xfrm>
            <a:off x="457200" y="1206360"/>
            <a:ext cx="811548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Adjusted Precisio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3BF3B-DD97-4DE1-9CDA-E34925AA0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5" descr="acl2012-ad-crop.pdf"/>
          <p:cNvPicPr/>
          <p:nvPr/>
        </p:nvPicPr>
        <p:blipFill>
          <a:blip r:embed="rId1"/>
          <a:stretch/>
        </p:blipFill>
        <p:spPr>
          <a:xfrm>
            <a:off x="457200" y="1285920"/>
            <a:ext cx="80992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the performance of weight learning for BLPs and ML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Learn parameters on larger data sets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performance of ML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Use open-world assumption for learning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Add constraints required to prevent inference of facts like employs(a,a)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Specialize types that do not have strictly defined types</a:t>
            </a: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 an online rule learner that can learn rules from uncertain training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7DA91-61B5-4A84-A503-16CE81460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4173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t learning of probabilistic first-order rules that represent common sense knowledge using extractions from an I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erence of implicitly stated facts with high precision using BL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ior performance of BLPs over purely logical deduction and ML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FB317-05BD-4DFF-9C51-BCAD5A9F7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4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Questions??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F3094B-409F-47B4-AE18-30908E865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0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Back Up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48CBF-5C6D-42A3-9BB2-87EBC6E76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sults for Logical Deductio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2286000"/>
          <a:ext cx="8229600" cy="2286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U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A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recis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29.73 (443/1490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35.24 (443/1257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89130-96B9-409B-8FD5-11E66BF92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xperimental Evaluation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BLP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logical-and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model to combine evidence from the conjuncts in the body of the clause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noisy-or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del to combine evidence from several ground rules that have the same head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 noisy-or parameters using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xpectation Maximization (EM)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t priors to maximum likelihood estimates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7C01E-6A4E-4C12-A3F3-E0F812790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914400" y="1417680"/>
            <a:ext cx="7391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Natural language tex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ack Obama is the President of the United States of America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914400" y="3048120"/>
            <a:ext cx="739152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Que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ack Obama is the citizen of what country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896760" y="4876920"/>
            <a:ext cx="739152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Calibri"/>
                <a:ea typeface="MS PGothic"/>
              </a:rPr>
              <a:t>IE system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MS PGothic"/>
              </a:rPr>
              <a:t>cannot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  <a:ea typeface="MS PGothic"/>
              </a:rPr>
              <a:t> </a:t>
            </a:r>
            <a:r>
              <a:rPr b="0" lang="en-US" sz="3000" spc="-1" strike="noStrike">
                <a:solidFill>
                  <a:srgbClr val="008000"/>
                </a:solidFill>
                <a:latin typeface="Calibri"/>
                <a:ea typeface="MS PGothic"/>
              </a:rPr>
              <a:t>answer this query since citizenship information is not explicitly stated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32FD0A-1DC4-4BB2-AC55-D99F6D970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er implicit facts from explicitly stated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Extract explicitly stated facts using an IE system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earn common sense knowledge in the form of logical rules to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deduce</a:t>
            </a: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additional facts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Employ models from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statistical relational learning (SRL)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that allow probabilities to be estimated using well-founded probabilistic graphical models 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1859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DA64C9-DA44-4632-B415-D1D836D30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lated Work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87360"/>
            <a:ext cx="822960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propositional rules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[Nahm and Mooney, 2000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 propositional rules from the output of an IE system on computer-related job postings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erform logical deduction to infer new facts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urely logical deduction 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rittle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annot assign probabilities or confidence estimates to inferences</a:t>
            </a:r>
            <a:endParaRPr b="1" lang="en-US" sz="2400" spc="-1" strike="noStrike">
              <a:solidFill>
                <a:srgbClr val="008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D7323-12E9-45FD-AF79-A15B590A4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lated Work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768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first-order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Logical deduction using probabilistic rules</a:t>
            </a: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ff6600"/>
                </a:solidFill>
                <a:latin typeface="Arial"/>
              </a:rPr>
              <a:t>[Carlson et al., 2010; Doppa et al., 2010]</a:t>
            </a:r>
            <a:endParaRPr b="0" lang="en-US" sz="1900" spc="-1" strike="noStrike">
              <a:solidFill>
                <a:srgbClr val="0000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Modify existing rule learners like FOIL and FARMER to learn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probabilistic rules</a:t>
            </a:r>
            <a:endParaRPr b="1" lang="en-US" sz="2200" spc="-1" strike="noStrike">
              <a:solidFill>
                <a:srgbClr val="008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Probabilities are not computed using well-founded probabilistic graphical models </a:t>
            </a:r>
            <a:endParaRPr b="1" lang="en-US" sz="2200" spc="-1" strike="noStrike">
              <a:solidFill>
                <a:srgbClr val="008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2200" spc="-1" strike="noStrike">
              <a:solidFill>
                <a:srgbClr val="008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Use Markov Logic Networks (MLNs) </a:t>
            </a:r>
            <a:r>
              <a:rPr b="1" i="1" lang="en-US" sz="1900" spc="-1" strike="noStrike">
                <a:solidFill>
                  <a:srgbClr val="ff6600"/>
                </a:solidFill>
                <a:latin typeface="Arial"/>
              </a:rPr>
              <a:t>[Domingos and Lowd, 2009]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based approaches to infer additional facts </a:t>
            </a:r>
            <a:r>
              <a:rPr b="1" lang="en-US" sz="19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ff6600"/>
                </a:solidFill>
                <a:latin typeface="Arial"/>
              </a:rPr>
              <a:t>[Schoenmackers et al., 2010; Sorower et al., 2011]</a:t>
            </a:r>
            <a:endParaRPr b="0" lang="en-US" sz="1900" spc="-1" strike="noStrike">
              <a:solidFill>
                <a:srgbClr val="0000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Grounding process could result in intractably large networks for large domains</a:t>
            </a:r>
            <a:endParaRPr b="1" lang="en-US" sz="2200" spc="-1" strike="noStrike">
              <a:solidFill>
                <a:srgbClr val="008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F4EAD-BAB4-413B-B60F-93ACA1FAD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lated Work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for Textual Entailment </a:t>
            </a:r>
            <a:r>
              <a:rPr b="1" i="1" lang="en-US" sz="2000" spc="-1" strike="noStrike">
                <a:solidFill>
                  <a:srgbClr val="ff6600"/>
                </a:solidFill>
                <a:latin typeface="Calibri"/>
              </a:rPr>
              <a:t>[Lin and Pantel, 2001; Yates and Etzioni, 2007; Berant et al., 2011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extual entailment rules have a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single antecedent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in the body of the rule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Approaches from statistical relational learning have not been applied so far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Do not use extractions from a traditional IE system to learn rules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35E6B-BD11-4239-893E-21902D5FA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Our Approach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n off-the shelf IE system to extract f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commonsense knowledge from the extracted facts in the form of probabilistic first-order-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 additional facts based on the learned rules using </a:t>
            </a:r>
            <a:r>
              <a:rPr b="1" i="1" lang="en-US" sz="3000" spc="-1" strike="noStrike">
                <a:solidFill>
                  <a:srgbClr val="008000"/>
                </a:solidFill>
                <a:latin typeface="Arial"/>
              </a:rPr>
              <a:t>Bayesian Logic Programs (BLPs)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[Kersting and De Raedt, 2001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E6E00-A7B7-41E6-BC0F-59CA41191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ystem Architectur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8" name="Oval 3"/>
          <p:cNvSpPr/>
          <p:nvPr/>
        </p:nvSpPr>
        <p:spPr>
          <a:xfrm>
            <a:off x="977760" y="1535040"/>
            <a:ext cx="1625760" cy="8204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483000" y="1654200"/>
            <a:ext cx="2125080" cy="611640"/>
          </a:xfrm>
          <a:prstGeom prst="rect">
            <a:avLst/>
          </a:prstGeom>
          <a:solidFill>
            <a:srgbClr val="93cdd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formation Extract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IBM SIR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5"/>
          <p:cNvSpPr/>
          <p:nvPr/>
        </p:nvSpPr>
        <p:spPr>
          <a:xfrm>
            <a:off x="6559560" y="1535040"/>
            <a:ext cx="1530720" cy="8650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tra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6530400" y="2906640"/>
            <a:ext cx="1590480" cy="916920"/>
          </a:xfrm>
          <a:prstGeom prst="rect">
            <a:avLst/>
          </a:prstGeom>
          <a:solidFill>
            <a:srgbClr val="93cdd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ductive Log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LIM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7"/>
          <p:cNvSpPr/>
          <p:nvPr/>
        </p:nvSpPr>
        <p:spPr>
          <a:xfrm>
            <a:off x="3581640" y="2914560"/>
            <a:ext cx="1972800" cy="908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rst-Or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gical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884160" y="3033720"/>
            <a:ext cx="2043000" cy="642600"/>
          </a:xfrm>
          <a:prstGeom prst="rect">
            <a:avLst/>
          </a:prstGeom>
          <a:solidFill>
            <a:srgbClr val="93cdd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LP Weight Lear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version of E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9"/>
          <p:cNvSpPr/>
          <p:nvPr/>
        </p:nvSpPr>
        <p:spPr>
          <a:xfrm>
            <a:off x="806760" y="4430880"/>
            <a:ext cx="2205720" cy="908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yesian Log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gram (BL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828240" y="4549680"/>
            <a:ext cx="1479240" cy="642600"/>
          </a:xfrm>
          <a:prstGeom prst="rect">
            <a:avLst/>
          </a:prstGeom>
          <a:solidFill>
            <a:srgbClr val="93cdd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LP In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1"/>
          <p:cNvSpPr/>
          <p:nvPr/>
        </p:nvSpPr>
        <p:spPr>
          <a:xfrm>
            <a:off x="6452640" y="4197240"/>
            <a:ext cx="1675440" cy="12092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tra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12"/>
          <p:cNvSpPr/>
          <p:nvPr/>
        </p:nvSpPr>
        <p:spPr>
          <a:xfrm>
            <a:off x="3399840" y="5867280"/>
            <a:ext cx="2336760" cy="908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ferences w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bab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Straight Arrow Connector 13"/>
          <p:cNvCxnSpPr>
            <a:stCxn id="68" idx="6"/>
            <a:endCxn id="69" idx="1"/>
          </p:cNvCxnSpPr>
          <p:nvPr/>
        </p:nvCxnSpPr>
        <p:spPr>
          <a:xfrm>
            <a:off x="2607840" y="1947960"/>
            <a:ext cx="865800" cy="1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Straight Arrow Connector 14"/>
          <p:cNvCxnSpPr>
            <a:endCxn id="70" idx="2"/>
          </p:cNvCxnSpPr>
          <p:nvPr/>
        </p:nvCxnSpPr>
        <p:spPr>
          <a:xfrm>
            <a:off x="5600880" y="1947600"/>
            <a:ext cx="956160" cy="22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Straight Arrow Connector 15"/>
          <p:cNvCxnSpPr>
            <a:stCxn id="70" idx="4"/>
            <a:endCxn id="71" idx="0"/>
          </p:cNvCxnSpPr>
          <p:nvPr/>
        </p:nvCxnSpPr>
        <p:spPr>
          <a:xfrm>
            <a:off x="7326000" y="2403360"/>
            <a:ext cx="1080" cy="504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Straight Arrow Connector 16"/>
          <p:cNvCxnSpPr>
            <a:stCxn id="74" idx="6"/>
            <a:endCxn id="75" idx="1"/>
          </p:cNvCxnSpPr>
          <p:nvPr/>
        </p:nvCxnSpPr>
        <p:spPr>
          <a:xfrm flipV="1">
            <a:off x="3016080" y="4874760"/>
            <a:ext cx="805680" cy="13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Straight Arrow Connector 17"/>
          <p:cNvCxnSpPr>
            <a:stCxn id="71" idx="1"/>
            <a:endCxn id="72" idx="6"/>
          </p:cNvCxnSpPr>
          <p:nvPr/>
        </p:nvCxnSpPr>
        <p:spPr>
          <a:xfrm flipH="1">
            <a:off x="5557320" y="3369960"/>
            <a:ext cx="966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Straight Arrow Connector 18"/>
          <p:cNvCxnSpPr>
            <a:stCxn id="72" idx="2"/>
            <a:endCxn id="73" idx="3"/>
          </p:cNvCxnSpPr>
          <p:nvPr/>
        </p:nvCxnSpPr>
        <p:spPr>
          <a:xfrm flipH="1" flipV="1">
            <a:off x="2936520" y="3358440"/>
            <a:ext cx="642240" cy="1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Straight Arrow Connector 19"/>
          <p:cNvCxnSpPr/>
          <p:nvPr/>
        </p:nvCxnSpPr>
        <p:spPr>
          <a:xfrm>
            <a:off x="1790280" y="3682800"/>
            <a:ext cx="5400" cy="748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Straight Arrow Connector 20"/>
          <p:cNvCxnSpPr>
            <a:endCxn id="75" idx="3"/>
          </p:cNvCxnSpPr>
          <p:nvPr/>
        </p:nvCxnSpPr>
        <p:spPr>
          <a:xfrm flipH="1" flipV="1">
            <a:off x="5314680" y="4874400"/>
            <a:ext cx="1134000" cy="1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21"/>
          <p:cNvCxnSpPr>
            <a:stCxn id="75" idx="2"/>
          </p:cNvCxnSpPr>
          <p:nvPr/>
        </p:nvCxnSpPr>
        <p:spPr>
          <a:xfrm>
            <a:off x="4568400" y="5198760"/>
            <a:ext cx="396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21156-038A-4C25-9849-04FA315F7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Straight Arrow Connector 22"/>
          <p:cNvCxnSpPr/>
          <p:nvPr/>
        </p:nvCxnSpPr>
        <p:spPr>
          <a:xfrm>
            <a:off x="1790280" y="2360160"/>
            <a:ext cx="5400" cy="748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89" name="Group 1"/>
          <p:cNvGrpSpPr/>
          <p:nvPr/>
        </p:nvGrpSpPr>
        <p:grpSpPr>
          <a:xfrm>
            <a:off x="146160" y="334800"/>
            <a:ext cx="1668240" cy="1133280"/>
            <a:chOff x="146160" y="334800"/>
            <a:chExt cx="1668240" cy="1133280"/>
          </a:xfrm>
        </p:grpSpPr>
        <p:sp>
          <p:nvSpPr>
            <p:cNvPr id="90" name="Rectangle 24"/>
            <p:cNvSpPr/>
            <p:nvPr/>
          </p:nvSpPr>
          <p:spPr>
            <a:xfrm>
              <a:off x="146160" y="334800"/>
              <a:ext cx="1314360" cy="824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298440" y="487080"/>
              <a:ext cx="1314360" cy="824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23"/>
            <p:cNvSpPr/>
            <p:nvPr/>
          </p:nvSpPr>
          <p:spPr>
            <a:xfrm>
              <a:off x="499680" y="612720"/>
              <a:ext cx="1314720" cy="855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Barack Obama is the current President of USA……. Obama was born on August 4, 1961, in Hawaii, USA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3"/>
          <p:cNvGrpSpPr/>
          <p:nvPr/>
        </p:nvGrpSpPr>
        <p:grpSpPr>
          <a:xfrm>
            <a:off x="6945480" y="460440"/>
            <a:ext cx="2117520" cy="1008360"/>
            <a:chOff x="6945480" y="460440"/>
            <a:chExt cx="2117520" cy="1008360"/>
          </a:xfrm>
        </p:grpSpPr>
        <p:sp>
          <p:nvSpPr>
            <p:cNvPr id="94" name="Rectangle 29"/>
            <p:cNvSpPr/>
            <p:nvPr/>
          </p:nvSpPr>
          <p:spPr>
            <a:xfrm>
              <a:off x="7145280" y="460440"/>
              <a:ext cx="1917720" cy="824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7054920" y="612720"/>
              <a:ext cx="1917720" cy="824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28"/>
            <p:cNvSpPr/>
            <p:nvPr/>
          </p:nvSpPr>
          <p:spPr>
            <a:xfrm>
              <a:off x="6945480" y="766440"/>
              <a:ext cx="2027520" cy="702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Arial"/>
                </a:rPr>
                <a:t>nationState(USA)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Person(BarackObama)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Arial"/>
                </a:rPr>
                <a:t>isLedBy(USA,BarackObama)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660066"/>
                  </a:solidFill>
                  <a:latin typeface="Arial"/>
                </a:rPr>
                <a:t>hasBirthPlace(BarackObama,USA)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asCitizenship(BarackObama,USA)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Rectangle 36"/>
          <p:cNvSpPr/>
          <p:nvPr/>
        </p:nvSpPr>
        <p:spPr>
          <a:xfrm>
            <a:off x="2936880" y="3941640"/>
            <a:ext cx="3470400" cy="428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Calibri"/>
              </a:rPr>
              <a:t>nationState(B) </a:t>
            </a: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MS Gothic"/>
              </a:rPr>
              <a:t>∧</a:t>
            </a: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Calibri"/>
              </a:rPr>
              <a:t> isLedBy(B,A) </a:t>
            </a:r>
            <a:r>
              <a:rPr b="1" lang="en-US" sz="11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Calibri"/>
              </a:rPr>
              <a:t> hasCitizenship(A,B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Calibri"/>
              </a:rPr>
              <a:t>nationState(B) </a:t>
            </a: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MS Gothic"/>
              </a:rPr>
              <a:t>∧ </a:t>
            </a: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Calibri"/>
              </a:rPr>
              <a:t>employs(B,A) </a:t>
            </a:r>
            <a:r>
              <a:rPr b="1" lang="en-US" sz="11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Calibri"/>
              </a:rPr>
              <a:t> hasCitizenship(A,B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7"/>
          <p:cNvSpPr/>
          <p:nvPr/>
        </p:nvSpPr>
        <p:spPr>
          <a:xfrm>
            <a:off x="101520" y="5465880"/>
            <a:ext cx="3476880" cy="428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Calibri"/>
              </a:rPr>
              <a:t>hasCitizenship(A,B)  | nationState(B) , isLedBy(B,A)      .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Calibri"/>
              </a:rPr>
              <a:t>hasCitizenship(A,B)  | nationState(B) </a:t>
            </a: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MS Gothic"/>
              </a:rPr>
              <a:t>, e</a:t>
            </a:r>
            <a:r>
              <a:rPr b="1" lang="en-US" sz="1100" spc="-1" strike="noStrike">
                <a:solidFill>
                  <a:srgbClr val="660066"/>
                </a:solidFill>
                <a:latin typeface="Calibri"/>
                <a:ea typeface="Calibri"/>
              </a:rPr>
              <a:t>mploys(B,A)    .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6"/>
          <p:cNvSpPr/>
          <p:nvPr/>
        </p:nvSpPr>
        <p:spPr>
          <a:xfrm>
            <a:off x="6523200" y="5511960"/>
            <a:ext cx="20271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Calibri"/>
              </a:rPr>
              <a:t>nationState(malaysian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Calibri"/>
              </a:rPr>
              <a:t>Person(mahathir-mohamad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Calibri"/>
              </a:rPr>
              <a:t>isLedBy(malaysian,mahathir-mohamad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Calibri"/>
              </a:rPr>
              <a:t>employs(malaysian,mahatir-mohamad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7"/>
          <p:cNvSpPr/>
          <p:nvPr/>
        </p:nvSpPr>
        <p:spPr>
          <a:xfrm>
            <a:off x="160200" y="6269040"/>
            <a:ext cx="3135600" cy="39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hasCitizenship(mahathir-mohamad, malaysian) 0.7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3:22:35Z</dcterms:created>
  <dc:creator>Sindhu Raghavan</dc:creator>
  <dc:description/>
  <dc:language>en-US</dc:language>
  <cp:lastModifiedBy>Ray Mooney</cp:lastModifiedBy>
  <dcterms:modified xsi:type="dcterms:W3CDTF">2012-07-02T02:27:12Z</dcterms:modified>
  <cp:revision>317</cp:revision>
  <dc:subject/>
  <dc:title>PowerPoint Presentation</dc:title>
</cp:coreProperties>
</file>