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F8EFB-607A-4DFE-92D7-96826F07A9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B8C10-5919-4480-B172-0C4FE850F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2D586-FA09-4A08-88E5-78A1FABCF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0F6-2F20-48F8-9BDA-E3708CCD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BE8-04E5-40FB-B8CF-A1ABED98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403-4A3F-48D3-9E57-C4BB820A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1FD-37D7-49A0-91FF-47213708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137-2F62-4BF6-AF5A-7EFB3CB6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5B2-0804-4567-A20C-1F364A30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D70-C0BF-4B3C-8E95-9E8015FA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AC4-835E-4FFD-9EAD-8019DC4B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43D-10CA-4325-8CB4-0F90B30F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BB2-524D-48D2-B473-B5FBE1F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F75-2E7D-419A-AB27-BD7F6D1E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908-7081-4B9D-9193-0F08BA1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1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EAF78-8B0E-4DFA-871A-BF0ABCB55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EB24E-A23F-4999-B676-D486EB1FD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4"/>
          <p:cNvSpPr/>
          <p:nvPr/>
        </p:nvSpPr>
        <p:spPr>
          <a:xfrm flipH="1">
            <a:off x="151920" y="150840"/>
            <a:ext cx="1800" cy="657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152280" y="150840"/>
            <a:ext cx="87631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5"/>
          <p:cNvSpPr/>
          <p:nvPr/>
        </p:nvSpPr>
        <p:spPr>
          <a:xfrm flipH="1">
            <a:off x="8915400" y="152280"/>
            <a:ext cx="1440" cy="657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6"/>
          <p:cNvSpPr/>
          <p:nvPr/>
        </p:nvSpPr>
        <p:spPr>
          <a:xfrm>
            <a:off x="152280" y="6705720"/>
            <a:ext cx="87631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1523880"/>
            <a:ext cx="8915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bductive Plan Recognition By Extending Bayesian Logic Program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35049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ndhu V. Raghavan &amp; Raymond J. Moone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University of Texas at Aust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BFD3C-B951-4D97-9A74-DC2F2C659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LD re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ductive infer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used for predicting observations from top-level p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n recogni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ductiv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 nature and involves predicting the top-level plan from obser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4A827-04BF-4F72-B331-BAB740C49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57200" y="5486400"/>
            <a:ext cx="79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BLPs cannot be used as is for plan recog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A4AA3-4A5B-4F3B-B4B7-B010797E9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371600" y="2057400"/>
            <a:ext cx="18288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B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562720" y="2057400"/>
            <a:ext cx="18288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Logical Ab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505320" y="419112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BA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457200" y="563868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BALPs – Bayesian Abductive Logic Progr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886200" y="2209680"/>
            <a:ext cx="762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3886200" y="3176640"/>
            <a:ext cx="762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Abduction in BA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iven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et of observation literals  O = {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….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 and a knowledge base 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ute a set abductive proofs of O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ckel’s abduction algorith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Stickel 198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chain on each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til it is proved or assu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iteral is said to b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prov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it unifies with a fact or the head of some rule in KB, otherwise it is said to b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ssu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struct a Bayesian network using the resulting set of proofs as in BLPs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27371-19C9-4988-B85E-C111E73EB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 – Intelligent User Interfac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p-level plan predicat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-file, move-file, remove-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on predic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, 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nowledge Base (KB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(Filename,Destdir) | copy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(Filename,Destdir) | move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(Filename) | move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(Filename) | remove-file(Filena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p(test1.txt, my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m(test1.t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6640A-0F5E-4570-B566-FC725BAA2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FAFB6-2871-4701-A26F-B075DD982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(Filename,Destdir) |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py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28600" y="1219320"/>
            <a:ext cx="259092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wn Arrow 12"/>
          <p:cNvSpPr/>
          <p:nvPr/>
        </p:nvSpPr>
        <p:spPr>
          <a:xfrm>
            <a:off x="685800" y="1752480"/>
            <a:ext cx="533520" cy="1098720"/>
          </a:xfrm>
          <a:prstGeom prst="downArrow">
            <a:avLst>
              <a:gd name="adj1" fmla="val 50000"/>
              <a:gd name="adj2" fmla="val 4999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57D73-DEE3-4FED-9C4E-B04368CB1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990720" y="546588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(Filename,Destdir) |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ve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505320" y="1219320"/>
            <a:ext cx="259056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14"/>
          <p:cNvSpPr/>
          <p:nvPr/>
        </p:nvSpPr>
        <p:spPr>
          <a:xfrm>
            <a:off x="41911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04C7E-4A9B-4036-99B6-EDAC235B7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(Filename) | move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Down Arrow 12"/>
          <p:cNvSpPr/>
          <p:nvPr/>
        </p:nvSpPr>
        <p:spPr>
          <a:xfrm>
            <a:off x="41911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3505320" y="1219320"/>
            <a:ext cx="403848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tch existing 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9A8C0-EAE9-4AB4-B143-6640EC057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1371600" y="554184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(Filename) | remove-file(Filenam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Box 15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16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Down Arrow 14"/>
          <p:cNvSpPr/>
          <p:nvPr/>
        </p:nvSpPr>
        <p:spPr>
          <a:xfrm>
            <a:off x="71629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6019920" y="1219320"/>
            <a:ext cx="259056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ructure of Bayesian net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8A1A4-0B3D-44DF-A002-665F455DB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Box 15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16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8908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cifying probabilistic parame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-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Specify the CPT for combining the evidence from conjuncts in the body of the clause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Specify the CPT for combining the evidence from disjunctive contributions from different ground clauses with the same head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Model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“explaining away”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isy-and and noisy-or models reduce the number of parameters learned from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6D056-4144-4916-B0FD-ABF9B2C52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dict an agent’s top-level plans based on the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bductive reasoning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volving inference of cause from eff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y Understa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igent User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A4117-3255-4D6A-81C3-2F887713E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E6FD0-808C-4C4F-9190-DCAAC38C2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6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ost Probable Explanation (MPE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ultiple pl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ompute MPE, the most likely combination of truth values to all unknown literals given this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rginal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ingle top level pl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, compu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ginal probabi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ll instances of plan predicate and pick the instance with maximum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exact inference is intractable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ampleSear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Gogate and Dechter, 2007</a:t>
            </a:r>
            <a:r>
              <a:rPr b="0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 approximate inference algorithm for graphical models with deterministic constraints is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606D0-BC3C-49F9-AC88-2FDF754E3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A1235-481D-415B-8295-931C23864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E6EEC-6773-4269-A6D2-880B8CAB7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E7A96-1F6E-4E4A-9CA1-42884ABBB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B5200-CA3B-4852-9777-D53C85805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4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3657600" y="2382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8"/>
          <p:cNvSpPr/>
          <p:nvPr/>
        </p:nvSpPr>
        <p:spPr>
          <a:xfrm>
            <a:off x="67816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76212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"/>
          <p:cNvSpPr/>
          <p:nvPr/>
        </p:nvSpPr>
        <p:spPr>
          <a:xfrm>
            <a:off x="5486400" y="18082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5B6C2-0E58-40C3-A07E-A2DD56173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6" name="TextBox 6"/>
          <p:cNvSpPr/>
          <p:nvPr/>
        </p:nvSpPr>
        <p:spPr>
          <a:xfrm>
            <a:off x="152280" y="289548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copy-file(test1.txt,mydi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2514600" y="279864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ove-file(test1.txt,my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TextBox 11"/>
          <p:cNvSpPr/>
          <p:nvPr/>
        </p:nvSpPr>
        <p:spPr>
          <a:xfrm>
            <a:off x="6477120" y="2895480"/>
            <a:ext cx="3504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3657600" y="2382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8"/>
          <p:cNvSpPr/>
          <p:nvPr/>
        </p:nvSpPr>
        <p:spPr>
          <a:xfrm>
            <a:off x="67816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9"/>
          <p:cNvSpPr/>
          <p:nvPr/>
        </p:nvSpPr>
        <p:spPr>
          <a:xfrm>
            <a:off x="76212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5486400" y="18082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M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Lear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earn noisy-or/noisy-and parameters using the EM algorithm adapted for BLPs 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Kersting and De Raedt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tial observ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lan recognition domain, data is partially observ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dence is present only for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bserved ac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top-level pl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sub-goals, noisy-or, and noisy-and nodes are not obser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fy learning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logical-and instead of noisy-and to combine evidence from conjuncts in the body of a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2FD60-17A4-45DF-A258-DE49BDE65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roe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Strategic planning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ux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Intelligent user interfaces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ry Understanding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Story understanding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77D25-B995-4565-A79D-0D7FC89C1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and Linux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ro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volves recognizing top level plans in a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mergency response do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rtificially generated using HTN plan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recognizing top-level plans based o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8E495-9D66-4D2D-A932-397472EE1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905120" y="4572000"/>
          <a:ext cx="6476760" cy="16844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18960"/>
                <a:gridCol w="1371600"/>
                <a:gridCol w="16002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o. exa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vg. observations/ ex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otal top-level plan predic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otal observed action predic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ro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u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048120" cy="4179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3657600" y="1219320"/>
            <a:ext cx="4572000" cy="1981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cd test-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cp test1.txt my-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rm test1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581280" y="3124080"/>
            <a:ext cx="5181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task is the user perfor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move-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3581280" y="4119480"/>
            <a:ext cx="5105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files and directories are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test1.txt and test-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Plan Recognition in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Intelligent User Interface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Slide Number Placeholder 10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8D1A1-F797-4799-A86F-34EC0553D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457200" y="571500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Data is relational in nature - several files and directories and several relations between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and Linux </a:t>
            </a:r>
            <a:br>
              <a:rPr sz="3800"/>
            </a:b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ly encoded the knowledge b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lan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74"/>
              </a:spcBef>
              <a:buClr>
                <a:srgbClr val="ff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MLN-PC and MLN-HC do not run on Monroe and Linux due to scaling issues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31440" indent="-2426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ylock and Allen’s syste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25"/>
              </a:spcBef>
              <a:buClr>
                <a:srgbClr val="660066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ance metr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predicate was predict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D8238-1CB5-4A1E-9B76-E805B1451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A54A2-2FAF-402A-95BF-D2E8BF5AB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Content Placeholder 6" descr=""/>
          <p:cNvPicPr/>
          <p:nvPr/>
        </p:nvPicPr>
        <p:blipFill>
          <a:blip r:embed="rId1"/>
          <a:stretch/>
        </p:blipFill>
        <p:spPr>
          <a:xfrm>
            <a:off x="858960" y="1333440"/>
            <a:ext cx="7904160" cy="4191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6324480" y="3191040"/>
            <a:ext cx="10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.2 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 rot="16200000">
            <a:off x="-1514880" y="258156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vergence Sc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666880" y="496404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AL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4114800" y="4952880"/>
            <a:ext cx="20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LN-HC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5791320" y="495288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Blaylock &amp; A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380880" y="6076800"/>
            <a:ext cx="769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6B634-4580-45C7-A36A-3C5D760FE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Content Placeholder 6" descr=""/>
          <p:cNvPicPr/>
          <p:nvPr/>
        </p:nvPicPr>
        <p:blipFill>
          <a:blip r:embed="rId1"/>
          <a:stretch/>
        </p:blipFill>
        <p:spPr>
          <a:xfrm>
            <a:off x="858960" y="1208160"/>
            <a:ext cx="7904160" cy="4190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5"/>
          <p:cNvSpPr/>
          <p:nvPr/>
        </p:nvSpPr>
        <p:spPr>
          <a:xfrm rot="16200000">
            <a:off x="-1514880" y="258156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vergence Sc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2666880" y="496404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AL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4114800" y="4952880"/>
            <a:ext cx="20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LN-HC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8"/>
          <p:cNvSpPr/>
          <p:nvPr/>
        </p:nvSpPr>
        <p:spPr>
          <a:xfrm>
            <a:off x="5791320" y="495288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Blaylock &amp; A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6039000" y="2827440"/>
            <a:ext cx="102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6.1 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80880" y="6095880"/>
            <a:ext cx="769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s with partial observability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Limitations of convergence score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account for predicting the plan arguments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all the observations to be seen before plans can be predi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Early plan recognition with partial set of observations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plan recognition after observing th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first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5%, 50%, 75%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he ob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– Assign partial credit for the predicting plan predicate and a subset of the arguments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F906C-564C-4E10-A1EB-BB73360CD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D448C-65E5-4D5D-8411-359E29056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2438280" y="61261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 observations 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7"/>
          <p:cNvSpPr/>
          <p:nvPr/>
        </p:nvSpPr>
        <p:spPr>
          <a:xfrm rot="16200000">
            <a:off x="-1972080" y="33433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1" name="Content Placeholder 4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52592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13CC0-5105-4614-B640-8C1F8E5BB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"/>
          <p:cNvSpPr/>
          <p:nvPr/>
        </p:nvSpPr>
        <p:spPr>
          <a:xfrm rot="16200000">
            <a:off x="-1819440" y="33433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514600" y="61261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 observations 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91; 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character’s top level plans based on actions described in narrativ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ulti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examples in development set and 25 examples in test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6 observations per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top-level plan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B707C-BE37-4747-9675-D5DD3B540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21932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was created for ACCEL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s set ma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nsufficient number of examples in the development set to learn parameter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d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the best set of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007100"/>
                </a:solidFill>
                <a:latin typeface="Arial"/>
              </a:rPr>
              <a:t>Best performing MLN model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-Simplicit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-Coherenc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007100"/>
                </a:solidFill>
                <a:latin typeface="Arial"/>
              </a:rPr>
              <a:t>Specific for Story Understanding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26"/>
              </a:spcBef>
              <a:buClr>
                <a:srgbClr val="ff66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994320" indent="-19872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298440" indent="-29844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DCA94-5DF6-444C-B9D6-19FB2F4B7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12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198DD-578C-42DB-BF63-CA1456113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762120" y="6153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2743200" y="2362320"/>
            <a:ext cx="762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7620120" y="2438280"/>
            <a:ext cx="76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LPS – Extension of BLPs for plan recognition by employing logical abduction to construct 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tomatic learning of model parameters using 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irical results on all benchmark datasets demonstrate advantages over existing metho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FCD46-547B-4973-AD5D-6677E17F6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First-order logic based approache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[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Kautz and Allen, 1986; Ng and Mooney, 1992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of plans and 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reasoning or logical abduction to predict the best plan based on the observed a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able to handle uncertainty in data or estimate likelihood of alternativ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robabilistic graphical mode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89; Huber et al., 1994; Pynadath and Wellman, 2000; Bui, 2003; Blaylock and Allen, 2005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the domain knowledge using Bayesian networks, abstract hidden Markov models, or statistical n-gram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able to handle relational/structur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Statistical Relational Learning based approaches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ov Logic Networks for plan recog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ate and Mooney, 2009; 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94FC7-9822-4A32-8A82-3EE21869C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uture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abductive knowledge base automatically from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re BALPs with other probabilistic logics like ProbLog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De Raedt et. al, 2007]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PRIS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ato, 1995]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Poole’s Horn Abductio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Poole, 1993]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n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59050-650B-4D9C-957B-CBC871D7F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Questio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EA4CD-57D3-4FE2-B9A9-114E862E4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ckup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8ED7B-2D57-4DFD-9D08-CC6C7AB6C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mpleteness in 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ness - If a sentence is entailed by a KB, then it is possible to find the proof that entails 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tailment in first-order logic is semidecidable, i.e it is not possible to know if a sentence is entailed by a KB or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olution is complete in first-order log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set of sentences is unsatisfiable, then it is possible to find a contradi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ACAD7-CD5A-495C-8293-53752F97A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2824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ants – individual entitie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na, 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s – placeholders for object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X,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dicat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 over entities like worksFor, capital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teral – predicate or its negation applied to terms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m – Positive literal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orksFor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nd literal – literal with no variable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orksFor(anna,bob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ause – disjunction of litera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n clause ha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t most 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sitive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e clause ha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xactly 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sitive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C76D2-CA50-484F-91D3-B3AD68731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antifi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quantification - true for all object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tial quantification - true for some objects in the doma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ward Chaining– For every implicatio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 is true, then q is concluded to b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ward Chaining – For a query literal q, if an implicatio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q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present and p is true, then q is concluded to be true, otherwise backward chaining tries to prove 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97F62-68A8-4CB4-9347-B81666A1A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219320" y="2476440"/>
                <a:ext cx="4064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286000" y="3314880"/>
                <a:ext cx="355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$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orward chai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every implic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p is true, then q is concluded to be tr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s in addition of a new fact to KB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icient, but in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erence can explode and forward chaining may never termin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 of new facts might result in rules being satis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is data-driven, not goal-dr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ht result in irrelevant conclusion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B6D58-9027-4D57-851F-8603CB45B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ckward chai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a query literal q, if an implic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present and p is true, then q is concluded to be true, otherwise backward chaining tries to prove 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icient, but not 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y never terminate, might get stuck in infinite loo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onenti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al-dr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67636-40B8-4C9F-A712-BA4CD90BC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Herbrand Model Semantic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univer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onstant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b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ground atoms atoms over Herbrand unive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interpre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t of ground atoms from Herbrand base that ar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brand interpretation that satisfies all clauses in the knowledge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B1ED5-8BBE-458A-94D2-5BBDB33CB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Advantages of SRL models </a:t>
            </a:r>
            <a:br>
              <a:rPr sz="3000"/>
            </a:b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over vanilla probabilistic models</a:t>
            </a:r>
            <a:endParaRPr b="0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ctly represent domain knowledge in first-order log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loy logical inference to construct ground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ables parameter sha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F3CB8-7310-4B92-9D0A-5EA56B395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ur Approach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Bayesian Logic Program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(BLPs)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integrat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irst-order logic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BLP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Efficient grounding mechanis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cludes only those variables that are relevant to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extend by incorporating any type of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logical inferenc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struct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 suited for capturing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ausal rela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19C5C-33E9-4FCD-BEFA-2CD3F2274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sharing in SR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D37A4-3530-4713-9669-3B5C3FB33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62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762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048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048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57913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57913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Straight Arrow Connector 11"/>
          <p:cNvCxnSpPr/>
          <p:nvPr/>
        </p:nvCxnSpPr>
        <p:spPr>
          <a:xfrm flipH="1">
            <a:off x="1902600" y="3504960"/>
            <a:ext cx="252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Straight Arrow Connector 16"/>
          <p:cNvCxnSpPr/>
          <p:nvPr/>
        </p:nvCxnSpPr>
        <p:spPr>
          <a:xfrm flipH="1">
            <a:off x="411300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Straight Arrow Connector 17"/>
          <p:cNvCxnSpPr/>
          <p:nvPr/>
        </p:nvCxnSpPr>
        <p:spPr>
          <a:xfrm flipH="1">
            <a:off x="677988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Straight Arrow Connector 18"/>
          <p:cNvCxnSpPr/>
          <p:nvPr/>
        </p:nvCxnSpPr>
        <p:spPr>
          <a:xfrm>
            <a:off x="2058480" y="4647960"/>
            <a:ext cx="2055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Straight Arrow Connector 20"/>
          <p:cNvCxnSpPr/>
          <p:nvPr/>
        </p:nvCxnSpPr>
        <p:spPr>
          <a:xfrm flipH="1">
            <a:off x="4115520" y="44953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Straight Arrow Connector 21"/>
          <p:cNvCxnSpPr/>
          <p:nvPr/>
        </p:nvCxnSpPr>
        <p:spPr>
          <a:xfrm flipH="1">
            <a:off x="4342680" y="4494600"/>
            <a:ext cx="2439000" cy="83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Rectangle 24"/>
          <p:cNvSpPr/>
          <p:nvPr/>
        </p:nvSpPr>
        <p:spPr>
          <a:xfrm>
            <a:off x="3124080" y="53341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6"/>
          <p:cNvSpPr/>
          <p:nvPr/>
        </p:nvSpPr>
        <p:spPr>
          <a:xfrm>
            <a:off x="1905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7"/>
          <p:cNvSpPr/>
          <p:nvPr/>
        </p:nvSpPr>
        <p:spPr>
          <a:xfrm>
            <a:off x="4191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8"/>
          <p:cNvSpPr/>
          <p:nvPr/>
        </p:nvSpPr>
        <p:spPr>
          <a:xfrm>
            <a:off x="685800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sharing in SR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ther(X) 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parent(X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4A994-6F61-4FEA-A257-706F85E8D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762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762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048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048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57913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57913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Straight Arrow Connector 11"/>
          <p:cNvCxnSpPr/>
          <p:nvPr/>
        </p:nvCxnSpPr>
        <p:spPr>
          <a:xfrm flipH="1">
            <a:off x="1902600" y="3504960"/>
            <a:ext cx="252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Straight Arrow Connector 16"/>
          <p:cNvCxnSpPr/>
          <p:nvPr/>
        </p:nvCxnSpPr>
        <p:spPr>
          <a:xfrm flipH="1">
            <a:off x="411300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Straight Arrow Connector 17"/>
          <p:cNvCxnSpPr/>
          <p:nvPr/>
        </p:nvCxnSpPr>
        <p:spPr>
          <a:xfrm flipH="1">
            <a:off x="677988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Straight Arrow Connector 18"/>
          <p:cNvCxnSpPr/>
          <p:nvPr/>
        </p:nvCxnSpPr>
        <p:spPr>
          <a:xfrm>
            <a:off x="2058480" y="4647960"/>
            <a:ext cx="2055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Straight Arrow Connector 20"/>
          <p:cNvCxnSpPr/>
          <p:nvPr/>
        </p:nvCxnSpPr>
        <p:spPr>
          <a:xfrm flipH="1">
            <a:off x="4115520" y="44953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Straight Arrow Connector 21"/>
          <p:cNvCxnSpPr/>
          <p:nvPr/>
        </p:nvCxnSpPr>
        <p:spPr>
          <a:xfrm flipH="1">
            <a:off x="4342680" y="4494600"/>
            <a:ext cx="2439000" cy="83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Rectangle 24"/>
          <p:cNvSpPr/>
          <p:nvPr/>
        </p:nvSpPr>
        <p:spPr>
          <a:xfrm>
            <a:off x="3124080" y="53341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905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7"/>
          <p:cNvSpPr/>
          <p:nvPr/>
        </p:nvSpPr>
        <p:spPr>
          <a:xfrm>
            <a:off x="4191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8"/>
          <p:cNvSpPr/>
          <p:nvPr/>
        </p:nvSpPr>
        <p:spPr>
          <a:xfrm>
            <a:off x="685800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4191120" y="152388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Mode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caus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ve to occur simultaneously if eve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s to occu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ils to trigge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th probabilit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n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ounts for some unknown cause due to whic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s failed to trigg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(e) = (I – inh) Π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1-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^(1-c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39FAB-F40A-456C-A06D-DD0CFF51D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or Mode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caus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use eve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s to occu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dependently trigger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th probabilit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eak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ounts for some unknown cause due to whic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s trigge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(e) = 1 – [(I – inh) Π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(1-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^(1-c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]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els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plaining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w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are several causes of an event, and if there is evidence for one of the causes, then the probability that the other causes have caused the event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AE77B-34D8-4B95-B425-C53FF8FEA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And Noisy-or Model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2E6DB-020A-4CFD-8E42-3EE402777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2286000" y="4419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Straight Arrow Connector 10"/>
          <p:cNvCxnSpPr/>
          <p:nvPr/>
        </p:nvCxnSpPr>
        <p:spPr>
          <a:xfrm>
            <a:off x="2439720" y="3962520"/>
            <a:ext cx="144684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Straight Arrow Connector 11"/>
          <p:cNvCxnSpPr>
            <a:stCxn id="399" idx="2"/>
          </p:cNvCxnSpPr>
          <p:nvPr/>
        </p:nvCxnSpPr>
        <p:spPr>
          <a:xfrm flipH="1">
            <a:off x="4419000" y="3843000"/>
            <a:ext cx="57204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Straight Arrow Connector 12"/>
          <p:cNvCxnSpPr/>
          <p:nvPr/>
        </p:nvCxnSpPr>
        <p:spPr>
          <a:xfrm flipH="1">
            <a:off x="4800240" y="3842280"/>
            <a:ext cx="236304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And Noisy-or Model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9EC7A-5180-4ACF-8EDD-A58AEB795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2286000" y="6138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Straight Arrow Connector 10"/>
          <p:cNvCxnSpPr/>
          <p:nvPr/>
        </p:nvCxnSpPr>
        <p:spPr>
          <a:xfrm flipH="1">
            <a:off x="2439720" y="396360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Straight Arrow Connector 11"/>
          <p:cNvCxnSpPr>
            <a:stCxn id="410" idx="2"/>
          </p:cNvCxnSpPr>
          <p:nvPr/>
        </p:nvCxnSpPr>
        <p:spPr>
          <a:xfrm>
            <a:off x="4991040" y="3843360"/>
            <a:ext cx="1029600" cy="883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Straight Arrow Connector 12"/>
          <p:cNvCxnSpPr/>
          <p:nvPr/>
        </p:nvCxnSpPr>
        <p:spPr>
          <a:xfrm flipH="1">
            <a:off x="6323760" y="384300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TextBox 16"/>
          <p:cNvSpPr/>
          <p:nvPr/>
        </p:nvSpPr>
        <p:spPr>
          <a:xfrm>
            <a:off x="1219320" y="48434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502920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8"/>
          <p:cNvSpPr/>
          <p:nvPr/>
        </p:nvSpPr>
        <p:spPr>
          <a:xfrm>
            <a:off x="2057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9"/>
          <p:cNvSpPr/>
          <p:nvPr/>
        </p:nvSpPr>
        <p:spPr>
          <a:xfrm>
            <a:off x="220968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0"/>
          <p:cNvSpPr/>
          <p:nvPr/>
        </p:nvSpPr>
        <p:spPr>
          <a:xfrm>
            <a:off x="6400800" y="4309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Straight Arrow Connector 22"/>
          <p:cNvCxnSpPr/>
          <p:nvPr/>
        </p:nvCxnSpPr>
        <p:spPr>
          <a:xfrm>
            <a:off x="2671920" y="5138640"/>
            <a:ext cx="10627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Straight Arrow Connector 24"/>
          <p:cNvCxnSpPr>
            <a:stCxn id="417" idx="2"/>
            <a:endCxn id="407" idx="0"/>
          </p:cNvCxnSpPr>
          <p:nvPr/>
        </p:nvCxnSpPr>
        <p:spPr>
          <a:xfrm flipH="1">
            <a:off x="4152600" y="5138640"/>
            <a:ext cx="20577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Box 30"/>
          <p:cNvSpPr/>
          <p:nvPr/>
        </p:nvSpPr>
        <p:spPr>
          <a:xfrm>
            <a:off x="3124080" y="5376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4A63D-1C9B-4E42-BF89-8A98A7796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5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A81A-65CF-42EF-8A62-C5DF82D73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6C308-4F1E-4486-BE7B-C03AEE59D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6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9C007-F546-49CB-BDBB-8749D246F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5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5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Ab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Logic Programs (BL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ing BLPs 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F42F3-C7B3-4F99-A003-76D86F3DA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E482D-8323-4607-B908-2C8C3DD77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Straight Arrow Connector 12"/>
          <p:cNvCxnSpPr/>
          <p:nvPr/>
        </p:nvCxnSpPr>
        <p:spPr>
          <a:xfrm flipH="1">
            <a:off x="5028840" y="3733920"/>
            <a:ext cx="2160" cy="72144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328D9-E10C-47CD-824F-3D2417495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Straight Arrow Connector 12"/>
          <p:cNvCxnSpPr/>
          <p:nvPr/>
        </p:nvCxnSpPr>
        <p:spPr>
          <a:xfrm flipH="1">
            <a:off x="5028840" y="2514600"/>
            <a:ext cx="535680" cy="72144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6D0A5-EA88-4E44-BBAE-A5BE6B20A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Straight Arrow Connector 13"/>
          <p:cNvCxnSpPr>
            <a:stCxn id="484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90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EAC94-F6C8-406E-B433-274037D0C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0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Straight Arrow Connector 13"/>
          <p:cNvCxnSpPr>
            <a:stCxn id="496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4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6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44AD2-9AB4-428E-A4AB-CEEC3EEA9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13"/>
          <p:cNvCxnSpPr>
            <a:stCxn id="510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Straight Arrow Connector 16"/>
          <p:cNvCxnSpPr/>
          <p:nvPr/>
        </p:nvCxnSpPr>
        <p:spPr>
          <a:xfrm flipH="1">
            <a:off x="8305560" y="3700080"/>
            <a:ext cx="2160" cy="1443960"/>
          </a:xfrm>
          <a:prstGeom prst="straightConnector1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20" name="TextBox 18"/>
          <p:cNvSpPr/>
          <p:nvPr/>
        </p:nvSpPr>
        <p:spPr>
          <a:xfrm>
            <a:off x="6400800" y="53769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17900-A84A-4D92-B535-24D0E1757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1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71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Straight Arrow Connector 13"/>
          <p:cNvCxnSpPr>
            <a:stCxn id="526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Straight Arrow Connector 16"/>
          <p:cNvCxnSpPr/>
          <p:nvPr/>
        </p:nvCxnSpPr>
        <p:spPr>
          <a:xfrm flipH="1">
            <a:off x="8305560" y="3700080"/>
            <a:ext cx="2160" cy="1443960"/>
          </a:xfrm>
          <a:prstGeom prst="straightConnector1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36" name="TextBox 18"/>
          <p:cNvSpPr/>
          <p:nvPr/>
        </p:nvSpPr>
        <p:spPr>
          <a:xfrm>
            <a:off x="6400800" y="53769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Straight Arrow Connector 17"/>
          <p:cNvCxnSpPr/>
          <p:nvPr/>
        </p:nvCxnSpPr>
        <p:spPr>
          <a:xfrm>
            <a:off x="7048440" y="2481120"/>
            <a:ext cx="1029600" cy="72000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1A4B7-40B2-4611-9A7A-93AEDAE1A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2362320" y="35481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Straight Arrow Connector 16"/>
          <p:cNvCxnSpPr>
            <a:stCxn id="544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555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F321B-1B15-44C8-8CB9-582B258FC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2362320" y="3548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larm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1143000" y="2633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65" name="Straight Arrow Connector 16"/>
          <p:cNvCxnSpPr>
            <a:stCxn id="561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572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06633-208F-4162-8B3A-166CE8CA2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2362320" y="3548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alarm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3505320" y="26478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lives(james,yorksh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8"/>
          <p:cNvSpPr/>
          <p:nvPr/>
        </p:nvSpPr>
        <p:spPr>
          <a:xfrm>
            <a:off x="6400800" y="2633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tornado(yorksh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1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583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588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Straight Arrow Connector 21"/>
          <p:cNvCxnSpPr/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576E4-57CE-4313-A4AD-B4C52AAA4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2362320" y="35481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6"/>
          <p:cNvCxnSpPr>
            <a:stCxn id="595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604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8"/>
          <p:cNvSpPr/>
          <p:nvPr/>
        </p:nvSpPr>
        <p:spPr>
          <a:xfrm>
            <a:off x="457200" y="610704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100"/>
                </a:solidFill>
                <a:latin typeface="Arial"/>
              </a:rPr>
              <a:t>Use combining rule to combine multiple CPTs into a single C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752480" y="3216240"/>
          <a:ext cx="833400" cy="10508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</a:tbl>
          </a:graphicData>
        </a:graphic>
      </p:graphicFrame>
      <p:sp>
        <p:nvSpPr>
          <p:cNvPr id="607" name="TextBox 31"/>
          <p:cNvSpPr/>
          <p:nvPr/>
        </p:nvSpPr>
        <p:spPr>
          <a:xfrm>
            <a:off x="5067360" y="1427040"/>
            <a:ext cx="361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ves(stefan,freibur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2"/>
          <p:cNvSpPr/>
          <p:nvPr/>
        </p:nvSpPr>
        <p:spPr>
          <a:xfrm>
            <a:off x="6172200" y="121932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Zapf Dingbats"/>
                <a:ea typeface="Zapf Dingbats"/>
              </a:rPr>
              <a:t>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Abd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bdu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of finding the best explanation for a set of ob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ckground knowled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n the form of a set of (Horn) clauses in 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bserv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n the form of atomic facts in 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i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hypothesis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 set of assumptions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tomic facts) that logically entail the observations given the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5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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xplanation is the one with the fewest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F90CF-9DFD-4CA2-801F-7EBC0D377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BDD3A-61B8-4297-A733-7A983211D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2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3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8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620" name=""/>
          <p:cNvGraphicFramePr/>
          <p:nvPr/>
        </p:nvGraphicFramePr>
        <p:xfrm>
          <a:off x="1905120" y="5181480"/>
          <a:ext cx="2438280" cy="1067040"/>
        </p:xfrm>
        <a:graphic>
          <a:graphicData uri="http://schemas.openxmlformats.org/drawingml/2006/table">
            <a:tbl>
              <a:tblPr/>
              <a:tblGrid>
                <a:gridCol w="812520"/>
                <a:gridCol w="812880"/>
                <a:gridCol w="812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4800600" y="5181480"/>
          <a:ext cx="2438280" cy="106704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22" name="TextBox 17"/>
          <p:cNvSpPr/>
          <p:nvPr/>
        </p:nvSpPr>
        <p:spPr>
          <a:xfrm rot="20280000">
            <a:off x="1980360" y="5541840"/>
            <a:ext cx="243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8"/>
          <p:cNvSpPr/>
          <p:nvPr/>
        </p:nvSpPr>
        <p:spPr>
          <a:xfrm rot="20280000">
            <a:off x="4800240" y="5468760"/>
            <a:ext cx="243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5BE91-189F-4FAF-AEA2-A5109DF16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8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3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5" name="TextBox 17"/>
          <p:cNvSpPr/>
          <p:nvPr/>
        </p:nvSpPr>
        <p:spPr>
          <a:xfrm>
            <a:off x="1981080" y="5105520"/>
            <a:ext cx="243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7100"/>
                </a:solidFill>
                <a:latin typeface="Arial"/>
              </a:rPr>
              <a:t>2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8"/>
          <p:cNvSpPr/>
          <p:nvPr/>
        </p:nvSpPr>
        <p:spPr>
          <a:xfrm>
            <a:off x="4800600" y="5105520"/>
            <a:ext cx="243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7100"/>
                </a:solidFill>
                <a:latin typeface="Arial"/>
              </a:rPr>
              <a:t>2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9"/>
          <p:cNvSpPr/>
          <p:nvPr/>
        </p:nvSpPr>
        <p:spPr>
          <a:xfrm>
            <a:off x="1676520" y="373392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20"/>
          <p:cNvSpPr/>
          <p:nvPr/>
        </p:nvSpPr>
        <p:spPr>
          <a:xfrm>
            <a:off x="3200400" y="371304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1"/>
          <p:cNvSpPr/>
          <p:nvPr/>
        </p:nvSpPr>
        <p:spPr>
          <a:xfrm>
            <a:off x="4648320" y="371304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2"/>
          <p:cNvSpPr/>
          <p:nvPr/>
        </p:nvSpPr>
        <p:spPr>
          <a:xfrm>
            <a:off x="5791320" y="36370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3"/>
          <p:cNvSpPr/>
          <p:nvPr/>
        </p:nvSpPr>
        <p:spPr>
          <a:xfrm>
            <a:off x="457200" y="5692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Noisy models require parameters linear in the number of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in BLPs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8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ameter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ation Maxim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ient-ascent based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approaches optimize likelih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ucture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ll climbing search through the space of possible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structure obtained from CLAUDIE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De Raedt and Dehaspe, 1997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s from only positive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179E7-A7FF-4B5A-A8E3-016104048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 and Lear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Probable Explanation (M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Expectation Maximization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Gradient-ascent based learnin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Hill climbing search through the space of possible structur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896B6-FCFD-44F1-B9CD-2F4DBBE00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660066"/>
                </a:solidFill>
                <a:latin typeface="Arial"/>
              </a:rPr>
              <a:t>Expectation Maximization for BLPs/BALPs</a:t>
            </a:r>
            <a:endParaRPr b="0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Perform logical inference to construct a ground Bayesian network for each example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Let r denote rule, X denote a node, and Pa(X) denote parents of X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E Step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ner sum is over all groundings of rule 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M Step</a:t>
            </a: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B9C5F-0899-4C4C-82B3-C8F3CA6CE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6781680" cy="7239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"/>
          <p:cNvPicPr/>
          <p:nvPr/>
        </p:nvPicPr>
        <p:blipFill>
          <a:blip r:embed="rId2"/>
          <a:stretch/>
        </p:blipFill>
        <p:spPr>
          <a:xfrm>
            <a:off x="2438280" y="5626080"/>
            <a:ext cx="2667240" cy="851040"/>
          </a:xfrm>
          <a:prstGeom prst="rect">
            <a:avLst/>
          </a:prstGeom>
          <a:ln w="0">
            <a:noFill/>
          </a:ln>
        </p:spPr>
      </p:pic>
      <p:sp>
        <p:nvSpPr>
          <p:cNvPr id="653" name="TextBox 6"/>
          <p:cNvSpPr/>
          <p:nvPr/>
        </p:nvSpPr>
        <p:spPr>
          <a:xfrm>
            <a:off x="8458200" y="3962520"/>
            <a:ext cx="457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7"/>
          <p:cNvSpPr/>
          <p:nvPr/>
        </p:nvSpPr>
        <p:spPr>
          <a:xfrm>
            <a:off x="4724280" y="5562720"/>
            <a:ext cx="457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533520" y="6183360"/>
            <a:ext cx="312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i="1" lang="en-US" sz="1500" spc="-1" strike="noStrike">
                <a:solidFill>
                  <a:srgbClr val="ff0000"/>
                </a:solidFill>
                <a:latin typeface="Arial"/>
              </a:rPr>
              <a:t>From SRL tutorial at ECML 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552CC-9DD2-417A-B8FA-1AC88958B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Decomposable 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ress different influences using separate nod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se nodes can be combined using a deterministic fun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7E3D1-615A-4379-A375-E97F3E365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821BA-E16E-4490-8108-C8C9CA33F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4"/>
          <p:cNvSpPr/>
          <p:nvPr/>
        </p:nvSpPr>
        <p:spPr>
          <a:xfrm>
            <a:off x="2286000" y="6138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Straight Arrow Connector 10"/>
          <p:cNvCxnSpPr/>
          <p:nvPr/>
        </p:nvCxnSpPr>
        <p:spPr>
          <a:xfrm flipH="1">
            <a:off x="2439720" y="396360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9" name="Straight Arrow Connector 11"/>
          <p:cNvCxnSpPr>
            <a:stCxn id="665" idx="2"/>
          </p:cNvCxnSpPr>
          <p:nvPr/>
        </p:nvCxnSpPr>
        <p:spPr>
          <a:xfrm>
            <a:off x="4991040" y="3843360"/>
            <a:ext cx="1029600" cy="883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0" name="Straight Arrow Connector 12"/>
          <p:cNvCxnSpPr/>
          <p:nvPr/>
        </p:nvCxnSpPr>
        <p:spPr>
          <a:xfrm flipH="1">
            <a:off x="6323760" y="384300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1" name="TextBox 16"/>
          <p:cNvSpPr/>
          <p:nvPr/>
        </p:nvSpPr>
        <p:spPr>
          <a:xfrm>
            <a:off x="1219320" y="48434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7"/>
          <p:cNvSpPr/>
          <p:nvPr/>
        </p:nvSpPr>
        <p:spPr>
          <a:xfrm>
            <a:off x="502920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8"/>
          <p:cNvSpPr/>
          <p:nvPr/>
        </p:nvSpPr>
        <p:spPr>
          <a:xfrm>
            <a:off x="2057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9"/>
          <p:cNvSpPr/>
          <p:nvPr/>
        </p:nvSpPr>
        <p:spPr>
          <a:xfrm>
            <a:off x="220968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20"/>
          <p:cNvSpPr/>
          <p:nvPr/>
        </p:nvSpPr>
        <p:spPr>
          <a:xfrm>
            <a:off x="6400800" y="4309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Straight Arrow Connector 22"/>
          <p:cNvCxnSpPr/>
          <p:nvPr/>
        </p:nvCxnSpPr>
        <p:spPr>
          <a:xfrm>
            <a:off x="2671920" y="5138640"/>
            <a:ext cx="10627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7" name="Straight Arrow Connector 24"/>
          <p:cNvCxnSpPr>
            <a:stCxn id="672" idx="2"/>
            <a:endCxn id="662" idx="0"/>
          </p:cNvCxnSpPr>
          <p:nvPr/>
        </p:nvCxnSpPr>
        <p:spPr>
          <a:xfrm flipH="1">
            <a:off x="4152600" y="5138640"/>
            <a:ext cx="20577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8" name="TextBox 30"/>
          <p:cNvSpPr/>
          <p:nvPr/>
        </p:nvSpPr>
        <p:spPr>
          <a:xfrm>
            <a:off x="3124080" y="5376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Decomposable 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BB142-5FC3-40E0-B0BE-B558DEA18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2286000" y="6291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5"/>
          <p:cNvSpPr/>
          <p:nvPr/>
        </p:nvSpPr>
        <p:spPr>
          <a:xfrm>
            <a:off x="1066680" y="2666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6"/>
          <p:cNvSpPr/>
          <p:nvPr/>
        </p:nvSpPr>
        <p:spPr>
          <a:xfrm>
            <a:off x="990720" y="1371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7"/>
          <p:cNvSpPr/>
          <p:nvPr/>
        </p:nvSpPr>
        <p:spPr>
          <a:xfrm>
            <a:off x="3657600" y="2666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8"/>
          <p:cNvSpPr/>
          <p:nvPr/>
        </p:nvSpPr>
        <p:spPr>
          <a:xfrm>
            <a:off x="6324480" y="26668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6" name="Straight Arrow Connector 9"/>
          <p:cNvCxnSpPr/>
          <p:nvPr/>
        </p:nvCxnSpPr>
        <p:spPr>
          <a:xfrm flipH="1">
            <a:off x="2285640" y="1719000"/>
            <a:ext cx="2160" cy="9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Straight Arrow Connector 10"/>
          <p:cNvCxnSpPr/>
          <p:nvPr/>
        </p:nvCxnSpPr>
        <p:spPr>
          <a:xfrm flipH="1">
            <a:off x="2361960" y="312372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Straight Arrow Connector 11"/>
          <p:cNvCxnSpPr>
            <a:stCxn id="684" idx="2"/>
          </p:cNvCxnSpPr>
          <p:nvPr/>
        </p:nvCxnSpPr>
        <p:spPr>
          <a:xfrm>
            <a:off x="4991040" y="3004920"/>
            <a:ext cx="1029600" cy="88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Straight Arrow Connector 12"/>
          <p:cNvCxnSpPr/>
          <p:nvPr/>
        </p:nvCxnSpPr>
        <p:spPr>
          <a:xfrm flipH="1">
            <a:off x="6323760" y="300492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0" name="TextBox 16"/>
          <p:cNvSpPr/>
          <p:nvPr/>
        </p:nvSpPr>
        <p:spPr>
          <a:xfrm>
            <a:off x="1219320" y="40053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7"/>
          <p:cNvSpPr/>
          <p:nvPr/>
        </p:nvSpPr>
        <p:spPr>
          <a:xfrm>
            <a:off x="502920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8"/>
          <p:cNvSpPr/>
          <p:nvPr/>
        </p:nvSpPr>
        <p:spPr>
          <a:xfrm>
            <a:off x="2057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9"/>
          <p:cNvSpPr/>
          <p:nvPr/>
        </p:nvSpPr>
        <p:spPr>
          <a:xfrm>
            <a:off x="2209680" y="3352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20"/>
          <p:cNvSpPr/>
          <p:nvPr/>
        </p:nvSpPr>
        <p:spPr>
          <a:xfrm>
            <a:off x="6400800" y="34718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Straight Arrow Connector 22"/>
          <p:cNvCxnSpPr/>
          <p:nvPr/>
        </p:nvCxnSpPr>
        <p:spPr>
          <a:xfrm flipH="1">
            <a:off x="2439720" y="4343040"/>
            <a:ext cx="2160" cy="959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6" name="Straight Arrow Connector 24"/>
          <p:cNvCxnSpPr>
            <a:stCxn id="691" idx="2"/>
          </p:cNvCxnSpPr>
          <p:nvPr/>
        </p:nvCxnSpPr>
        <p:spPr>
          <a:xfrm>
            <a:off x="6210360" y="4300560"/>
            <a:ext cx="21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TextBox 30"/>
          <p:cNvSpPr/>
          <p:nvPr/>
        </p:nvSpPr>
        <p:spPr>
          <a:xfrm>
            <a:off x="1752480" y="453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27"/>
          <p:cNvSpPr/>
          <p:nvPr/>
        </p:nvSpPr>
        <p:spPr>
          <a:xfrm>
            <a:off x="5486400" y="453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28"/>
          <p:cNvSpPr/>
          <p:nvPr/>
        </p:nvSpPr>
        <p:spPr>
          <a:xfrm>
            <a:off x="1295280" y="53006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ummy1-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9"/>
          <p:cNvSpPr/>
          <p:nvPr/>
        </p:nvSpPr>
        <p:spPr>
          <a:xfrm>
            <a:off x="5105520" y="53006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ummy2 -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Straight Arrow Connector 33"/>
          <p:cNvCxnSpPr/>
          <p:nvPr/>
        </p:nvCxnSpPr>
        <p:spPr>
          <a:xfrm>
            <a:off x="2593440" y="5638320"/>
            <a:ext cx="1064520" cy="65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Straight Arrow Connector 35"/>
          <p:cNvCxnSpPr>
            <a:endCxn id="681" idx="0"/>
          </p:cNvCxnSpPr>
          <p:nvPr/>
        </p:nvCxnSpPr>
        <p:spPr>
          <a:xfrm flipH="1">
            <a:off x="4152240" y="5637600"/>
            <a:ext cx="1639080" cy="65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3" name="TextBox 38"/>
          <p:cNvSpPr/>
          <p:nvPr/>
        </p:nvSpPr>
        <p:spPr>
          <a:xfrm>
            <a:off x="2895480" y="58341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ces in repres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BLPs, Bayesian atoms take finite set of values, but in PLPs, each atom is logical in nature and it can take true or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ead of having neighborhood(x) = bad, in PLPs, we have neighborhood(x,b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pute probability of a query alarm(james), PLPs have to construct one proof tree for all possible values for all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ence is cumberso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PL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F702B-6F30-4CD3-904C-BA2850FA8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oole's Horn Abduction 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ces in repres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f P(x) and R(x) are two competing hypothesis, then either P(x) could be true or R(x) could b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probabilities of P(x) and R(x) should sum to 1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rictions of these kind are not there in B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Ps and hence BLPs are more flexible and have a richer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40FF5-309E-497D-AD8B-8C2302088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Logic Programs (BLPs)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t of Bayesian cla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|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....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e clauses that are universally quan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-restricted, i.e variables{head}      variables{body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d conditional probability table (CP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(head|body)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yesian predic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ve finite domai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rule like noisy-or for mapping multiple CPTs into a single CP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4F25D-993E-4B44-A7E0-E237282A8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867280" y="2641680"/>
                <a:ext cx="2286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Í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RM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P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Ms use entity-relationship models to represent knowledge and they use KBMC-like construction to construct a ground Bayesian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ttribute becomes a random variable in the ground network and relations over the entities are logical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BLP, each attribute becomes a Bayesian atom and relations become logic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gator functions can be transformed into combining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7ABC4-CCCC-4B4E-A4CD-C5ACAAF32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RB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RB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RBNs, each node in BN is a predicate and probability formulae are used to specify probabili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rules can be used to represent these probability formulae in BL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AA7C7-9384-4FD4-9B64-E9C3FA274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LPs vs. B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ike BLPs, BALPs use logic programs as templates for constructing 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nlike BLPs, BALPs 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ical abducti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st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o construct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99EC8-70A6-4600-AE17-9BF319971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top level plans in a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mergency response do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rtificially generated using HTN plan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include set-up-shelter, clear-road-wreck, provide-medical-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ain consists of several entities and sub-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sca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arge dom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 1000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197F5-9B16-4A67-9638-20417C003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based on the domain knowledge encoded in pl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arginal prob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instances of top level plans and pick the one with the highest marginal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laylock and Allen’s syste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2D91D-1F61-44DD-AC25-8E7C4437E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Results -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08CBB-76AD-4302-A8DE-5D9C2C047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295280" y="1905120"/>
          <a:ext cx="6858000" cy="298764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-St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-St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 Sco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nux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top level plans based on 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users asked to perform tasks in Linux and commands were recor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clude find-file-by-ext, remove-file-by-ext, copy-file, move-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handle nois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Users indicate success even when they have not achieved the task correctl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Some top-level plans like find-file-by-ext and file-file-by-name have identical action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 457 examples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49399-3396-4844-9018-013C7557E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based on the knowledge of 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arginal prob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instances of top level plans and pick the one with the highest marginal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laylock and Allen’s system </a:t>
            </a:r>
            <a:r>
              <a:rPr b="1" i="1" lang="en-US" sz="13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Blaylock and Allen, 2005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26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A3F8E-9E11-4843-BF4C-0847AAC77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Results -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735" name="Content Placeholder 4"/>
          <p:cNvGraphicFramePr/>
          <p:nvPr/>
        </p:nvGraphicFramePr>
        <p:xfrm>
          <a:off x="914400" y="1417680"/>
          <a:ext cx="76201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17680"/>
                    <a:ext cx="7620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4C4AA-61B6-4D13-AC0E-5BB143127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5"/>
          <p:cNvSpPr/>
          <p:nvPr/>
        </p:nvSpPr>
        <p:spPr>
          <a:xfrm rot="16200000">
            <a:off x="-765000" y="3279600"/>
            <a:ext cx="29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"/>
          <p:cNvSpPr/>
          <p:nvPr/>
        </p:nvSpPr>
        <p:spPr>
          <a:xfrm>
            <a:off x="2206800" y="5084640"/>
            <a:ext cx="52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Observ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600200" y="5638680"/>
          <a:ext cx="6095880" cy="7668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-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-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91; 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character’s top level plans based on actions described in narrativ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representation of actions literals pro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clude shopping, robbing, restaurant dining, partyin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ulti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predict multiple pl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developmen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tes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F785B-571A-4105-BEBD-F0862EAE9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ference in BLPs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BLP and a query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LD resol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used to construct proofs for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yesian network constru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ground atom is a random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ges are added from ground atoms in the body to the ground atom in 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Ts specified by the conditional probability distribution for the corresponding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X) =    P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| Pa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ost Probable Explanation (M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84BCD-A271-4AFF-9AC4-C2BB2529B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33720" y="5029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21932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53760" indent="-25128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for ACCEL by Ng and Moone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ufficient number of examples to learn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isy-or parameters set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isy-and parameters set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riors tuned on development set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the best set of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CCEL-Simplicit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</a:t>
            </a:r>
            <a:r>
              <a:rPr b="1" i="1" lang="en-US" sz="1300" spc="-1" strike="noStrike">
                <a:solidFill>
                  <a:srgbClr val="660066"/>
                </a:solidFill>
                <a:latin typeface="Arial"/>
              </a:rPr>
              <a:t>]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CCEL-Coherenc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3" marL="1407960" indent="-2008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ecific for Story Understa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buClr>
                <a:srgbClr val="ff66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301680" indent="-30168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8D8D1-0C46-4665-9307-7E1AD9D5E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748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9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B9901-50AC-46B0-B817-AD5AA6322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5"/>
          <p:cNvSpPr/>
          <p:nvPr/>
        </p:nvSpPr>
        <p:spPr>
          <a:xfrm>
            <a:off x="762120" y="6153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6095880" y="1600200"/>
            <a:ext cx="2362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ther Applications of BA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dical diagnosi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tual entail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utational bi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ring gene relations based on the output of micro-array experi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y application that requires abductive reaso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F3584-EB32-4289-805A-10AF3FA57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CCEL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based system 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city metric selects explanations that have the least number of assum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herence metric selects explanations that connect maximum number of obser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explanatory coh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 to text interpre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A2973-3DB9-4891-AC35-542A65C6C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ystem by Blaylock and Allen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istical n-gram models to predict plans based on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s plan recognition in two pha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s the plan schema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s arguments based on the predicted sche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20124-A801-47A8-877C-062FB1ECE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4:30:16Z</dcterms:created>
  <dc:creator>Office 2004 Test Drive User</dc:creator>
  <dc:description/>
  <dc:language>en-US</dc:language>
  <cp:lastModifiedBy>Office 2004 Test Drive User</cp:lastModifiedBy>
  <dcterms:modified xsi:type="dcterms:W3CDTF">2011-09-07T05:42:00Z</dcterms:modified>
  <cp:revision>1250</cp:revision>
  <dc:subject/>
  <dc:title>Slide 1</dc:title>
</cp:coreProperties>
</file>