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109B0-9D0C-406E-A169-CDF655803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83A5E-01FD-4EE3-96BF-3B527B5C5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3BA42-9C32-4F6A-A29B-99E5E15CE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7D8-304F-4CBF-895D-81D5D758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807-EB46-4596-BB60-FF10F6F2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B59-8DC7-4170-8980-335A9BFD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6AD-4A01-476E-B7AD-A37E734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41F-6EF9-4831-A095-675FB37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3A5-1B6D-45E3-BE1A-B2FDFE2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ECA-762C-49B7-AA19-418679D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5AF-BF88-4850-B50E-726B18C6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4F5-8078-4C50-9540-20E093E1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5F0-2480-4438-B601-E002ACF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796-640E-484B-8741-E9C8D98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37A-E0F1-4E0D-8098-780307E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1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4C6B6-3E2F-4434-B5BE-9F932B224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392FB-D8C1-4F94-A0D5-0E5660400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 flipH="1">
            <a:off x="151920" y="150840"/>
            <a:ext cx="180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152280" y="15084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 flipH="1">
            <a:off x="8915400" y="152280"/>
            <a:ext cx="144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152280" y="670572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15238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bductive Plan Recognition By Extending Bayesian Logic Program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35049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dhu V. Raghavan &amp; Raymond J. Moone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University of Texas at Aust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65588-73E5-4AD0-AF05-AAE567D87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infer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used for predicting observations from top-level p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n recogn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ducti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nature and involves predicting the top-level plan from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DFED3-8441-4D2F-98BB-6F26B0269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5486400"/>
            <a:ext cx="79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BLPs cannot be used as is for plan recog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FFF23-01C3-46FF-98A5-D8089DE52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7160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56272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Logical Ab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A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457200" y="56386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BALPs – Bayesian Abductive Logic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886200" y="220968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886200" y="317664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 in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t of observation literals  O = {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….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and a knowledge base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ute a set abductive proofs of O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ckel’s abduction algorith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Stickel 198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in on each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til it is proved or 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teral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v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unifies with a fact or the head of some rule in KB, otherwise it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18DE5-350E-4BA3-BBC6-6B2281074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 – Intelligent User Interfac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-level plan 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-file, move-file, re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 predic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, 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nowledge Base (KB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copy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remove-file(Filen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p(test1.txt, my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m(test1.t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C7F99-756B-4442-9D3A-099ABFDF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D5A69-00CC-4F46-8B8F-FBEC2A31E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28600" y="1219320"/>
            <a:ext cx="259092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2"/>
          <p:cNvSpPr/>
          <p:nvPr/>
        </p:nvSpPr>
        <p:spPr>
          <a:xfrm>
            <a:off x="685800" y="1752480"/>
            <a:ext cx="533520" cy="1098720"/>
          </a:xfrm>
          <a:prstGeom prst="downArrow">
            <a:avLst>
              <a:gd name="adj1" fmla="val 50000"/>
              <a:gd name="adj2" fmla="val 4999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98A32-BF2A-486A-A73C-E7B7CE87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990720" y="5465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5053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14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801AE-688E-4C3D-9A4C-B09F40DEC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Down Arrow 12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505320" y="1219320"/>
            <a:ext cx="403848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tch existing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3B2A0-B008-46F3-BA62-65949B9F3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71600" y="554184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remove-file(Filena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Down Arrow 14"/>
          <p:cNvSpPr/>
          <p:nvPr/>
        </p:nvSpPr>
        <p:spPr>
          <a:xfrm>
            <a:off x="71629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60199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ructure of Bayesian net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675BF-E4C6-4CCF-AC18-9EC3E7BC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890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conjuncts in the body of the claus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disjunctive contributions from different ground clauses with the same head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Model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explaining away”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isy-and and noisy-or models reduce the number of parameters learned from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1A3E5-F16B-4301-978F-998DA9AA1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t an agent’s top-level plans based on the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bductive reasoni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olving inference of cause from eff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y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User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C957-8744-4528-9ECF-AAAC174A6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946A4-9FDB-443F-8A38-884C780EC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st Probable Explanation (MPE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MPE, the most likely combination of truth values to all unknown literals given this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rginal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top level pl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, comp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ginal probabi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ll instances of plan predicate and pick the instance with maximum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exact inference is intractable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ampl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Gogate and Dechter, 2007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 approximate inference algorithm for graphical models with deterministic constraints i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3D7BA-99C9-4A70-9D27-E0FD621E3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B5CFF-DA29-4CCB-A993-2B4D4E244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B8E4B-96ED-4830-B09F-2B57F3E9B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8BF31-2437-4870-98C5-C7C29F95B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B7999-8A8A-4466-A80D-FF75697DE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2DFE1-C256-4BDE-BAD3-B2CD2539C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TextBox 6"/>
          <p:cNvSpPr/>
          <p:nvPr/>
        </p:nvSpPr>
        <p:spPr>
          <a:xfrm>
            <a:off x="152280" y="2895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opy-file(test1.txt,mydi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14600" y="279864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ve-file(test1.txt,my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TextBox 11"/>
          <p:cNvSpPr/>
          <p:nvPr/>
        </p:nvSpPr>
        <p:spPr>
          <a:xfrm>
            <a:off x="6477120" y="28954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arn noisy-or/noisy-and parameters using the EM algorithm adapted for BLPs 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 recognition domain, data is partially observ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 is present only f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bserved ac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top-level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sub-goals, noisy-or, and noisy-and nodes are not obser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y learning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logical-and instead of noisy-and to combine evidence from conjuncts in the body of a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6239A-656F-441B-8CF0-12B4240F5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roe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rategic plann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ux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Intelligent user interfaces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ry Understanding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ory understand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675B0-4458-4BB9-8512-3182F5314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ro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volves recognizing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recognizing top-level plans based 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5F2AF-36A2-4D07-844B-C477AE966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5120" y="4572000"/>
          <a:ext cx="6476760" cy="16844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18960"/>
                <a:gridCol w="1371600"/>
                <a:gridCol w="16002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o. exa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g. observations/ ex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top-level pla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observed actio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u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179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657600" y="1219320"/>
            <a:ext cx="4572000" cy="1981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d test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p test1.txt my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rm test1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81280" y="3124080"/>
            <a:ext cx="5181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ask is the user perfor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move-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581280" y="4119480"/>
            <a:ext cx="5105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files and directories ar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test1.txt and test-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Plan Recognition i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Intelligent User Interfac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Slide Number Placeholder 10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8E350-6C2B-4F27-91E2-43B784351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457200" y="5715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Data is relational in nature - several files and directories and several relations between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encoded the knowledge 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lan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MLN-PC and MLN-HC do not run on Monroe and Linux due to scaling issues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31440" indent="-2426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66006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predicate was predict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E0535-FAD6-40A5-85F8-4271CCB6E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7F686-6F8E-4E88-B8E0-ADDE7A25A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Content Placeholder 6" descr=""/>
          <p:cNvPicPr/>
          <p:nvPr/>
        </p:nvPicPr>
        <p:blipFill>
          <a:blip r:embed="rId1"/>
          <a:stretch/>
        </p:blipFill>
        <p:spPr>
          <a:xfrm>
            <a:off x="858960" y="1333440"/>
            <a:ext cx="7904160" cy="4191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6324480" y="3191040"/>
            <a:ext cx="10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.2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380880" y="607680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99799-E31E-42E1-BD47-0C129C8EF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ontent Placeholder 6" descr=""/>
          <p:cNvPicPr/>
          <p:nvPr/>
        </p:nvPicPr>
        <p:blipFill>
          <a:blip r:embed="rId1"/>
          <a:stretch/>
        </p:blipFill>
        <p:spPr>
          <a:xfrm>
            <a:off x="858960" y="1208160"/>
            <a:ext cx="7904160" cy="419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6039000" y="2827440"/>
            <a:ext cx="10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6.1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80880" y="609588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s with partial observability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imitations of convergence score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account for predicting the plan arguments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all the observations to be seen before plans can be predi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Early plan recognition with partial set of observations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plan recognition after observing th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%, 50%, 75%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– Assign partial credit for the predicting plan predicate and a subset of the arguments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00CA6-417B-4677-B8F7-F22A252E9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58B6-526D-4DBF-B092-ECA442D02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2438280" y="6126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observations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 rot="16200000">
            <a:off x="-1972080" y="3343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1" name="Content Placeholder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52592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028BE-6527-49D1-B672-1CDB46C87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 rot="16200000">
            <a:off x="-1819440" y="3343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514600" y="6126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observations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examples in development set and 25 examples in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6 observations per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top-level plan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15AD1-1001-4C3E-9419-5EADD731C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was created for ACCEL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 set ma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sufficient number of examples in the development set to learn parameter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Best performing MLN model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Specific for Story Understanding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298440" indent="-29844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52638-FB32-44B3-9CEE-1DF993937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1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A0B5-48BA-4F11-AFC1-8A7E5C00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2743200" y="2362320"/>
            <a:ext cx="7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620120" y="2438280"/>
            <a:ext cx="76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LPS – Extension of BLPs for plan recognition by employing logical abduction to construct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c learning of model parameters using 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irical results on all benchmark datasets demonstrate advantages over existing metho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9DD51-6073-4EFA-9FBC-ECE04180E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First-order logic based approache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Kautz and Allen, 1986; Ng and Mooney, 1992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of plans and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reasoning or logical abduction to predict the best plan based on the observed a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able to handle uncertainty in data or estimate likelihood of alternativ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robabilistic graphical mode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89; Huber et al., 1994; Pynadath and Wellman, 2000; Bui, 2003; Blaylock and Allen, 2005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the domain knowledge using Bayesian networks, abstract hidden Markov models, or statistical n-gram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able to handle relational/structu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tatistical Relational Learning based approaches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ov Logic Networks for plan recog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; 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651C0-DE1D-490C-8A40-82D8BA815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uture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abductive knowledge base automatically from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e BALPs with other probabilistic logics like ProbLo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et. al, 2007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PRIS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ato, 1995]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Poole’s Horn Abduc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Poole, 1993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n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04727-7032-4DF2-BA98-B5F16C6DB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Quest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0ED5B-0B74-43D9-8666-15408EC75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up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33A73-B9BD-4EE3-91C8-D08FF4AC9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pleteness in 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ness - If a sentence is entailed by a KB, then it is possible to find the proof that entails 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tailment in first-order logic is semidecidable, i.e it is not possible to know if a sentence is entailed by a KB or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lution is complet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set of sentences is unsatisfiable, then it is possible to find a contradi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8C3C9-1134-4508-8420-11641D8AC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ants – individual entiti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na,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– placeholders for object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X,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over entities like worksFor, capital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teral – predicate or its negation applied to terms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 – Positive literal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nd literal – literal with no variable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anna,bob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use – disjunction of liter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n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t most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xactly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842BD-8205-4C43-9FE9-347484337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antifi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quantification - true for all objec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tial quantification - true for some objects in the dom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ing– For every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 is true, then q is concluded to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ward Chaining – For a query literal q, if an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present and p is true, then q is concluded to be true, otherwise backward chaining tries to prove 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F249F-33A6-4E5F-B906-B9AF87CC9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19320" y="2476440"/>
                <a:ext cx="4064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286000" y="3314880"/>
                <a:ext cx="355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every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p is true, then q is concluded to be tr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s in addition of a new fact to K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in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ence can explode and forward chaining may never termi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 of new facts might result in rules being satis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data-driven, not 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ht result in irrelevant conclus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A5464-8EC9-4CF7-B2A4-40EB0651D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a query literal q, if an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present and p is true, then q is concluded to be true, otherwise backward chaining tries to prove 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not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y never terminate, might get stuck in infinite lo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E34CE-6362-4D1D-8579-350BBCEEF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Herbrand Model Semantic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univer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nstan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b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nd atoms atoms over Herbrand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interpre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ground atoms from Herbrand base that ar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brand interpretation that satisfies all clauses in the knowled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99B51-1E57-4508-9921-EE9B12CD9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Advantages of SRL models </a:t>
            </a:r>
            <a:br>
              <a:rPr sz="3000"/>
            </a:b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over vanilla probabilistic models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ctly represent domain knowledg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logical inference to construct ground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 parameter 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537DC-EC49-4F67-849A-348D7CCE6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r Approach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Bayesian Logic Program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(B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integrat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irst-order log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Efficient grounding mechanis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cludes only those variables that are relevant to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extend by incorporating any type of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logical inferenc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uct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suited for capturing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ausal re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08737-9FB3-40BB-A60C-F6B7459B5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790B2-0B24-4DAD-A0F5-2AB10FD16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1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4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ther(X)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arent(X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A6077-1D1B-405B-A5C0-BF541EEDA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4191120" y="152388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ve to occur simultaneously if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s to trigg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failed to trig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BF220-96A1-4875-8154-57ABDF8B6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or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dependently trigger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ak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trigge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1 – [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]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aining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several causes of an event, and if there is evidence for one of the causes, then the probability that the other causes have caused the event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604B8-DC33-44F6-A21B-D59714D04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5B684-D1B9-46DB-AB5F-30C3E56DE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2286000" y="4419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Straight Arrow Connector 10"/>
          <p:cNvCxnSpPr/>
          <p:nvPr/>
        </p:nvCxnSpPr>
        <p:spPr>
          <a:xfrm>
            <a:off x="2439720" y="3962520"/>
            <a:ext cx="144684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Straight Arrow Connector 11"/>
          <p:cNvCxnSpPr>
            <a:stCxn id="399" idx="2"/>
          </p:cNvCxnSpPr>
          <p:nvPr/>
        </p:nvCxnSpPr>
        <p:spPr>
          <a:xfrm flipH="1">
            <a:off x="4419000" y="3843000"/>
            <a:ext cx="57204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Straight Arrow Connector 12"/>
          <p:cNvCxnSpPr/>
          <p:nvPr/>
        </p:nvCxnSpPr>
        <p:spPr>
          <a:xfrm flipH="1">
            <a:off x="4800240" y="3842280"/>
            <a:ext cx="236304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2908B-45ED-4EAE-99AC-E51623E4D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4" name="Straight Arrow Connector 11"/>
          <p:cNvCxnSpPr>
            <a:stCxn id="410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6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24"/>
          <p:cNvCxnSpPr>
            <a:stCxn id="417" idx="2"/>
            <a:endCxn id="407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649F4-3FE7-4A7F-A464-16FCBD019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5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6B566-B108-40F1-9F15-E35D99B94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83381-B658-4494-8354-9706A0492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CB0B-040A-4D44-8BE0-F45EBFB78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ing BLPs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DAEEA-B426-4579-A3B6-DD6A8AC98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2EE3F-ABE9-4615-80B1-223651D96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Straight Arrow Connector 12"/>
          <p:cNvCxnSpPr/>
          <p:nvPr/>
        </p:nvCxnSpPr>
        <p:spPr>
          <a:xfrm flipH="1">
            <a:off x="5028840" y="3733920"/>
            <a:ext cx="216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1258A-AEE9-48FA-B493-481CC54B0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5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7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Straight Arrow Connector 12"/>
          <p:cNvCxnSpPr/>
          <p:nvPr/>
        </p:nvCxnSpPr>
        <p:spPr>
          <a:xfrm flipH="1">
            <a:off x="5028840" y="2514600"/>
            <a:ext cx="53568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691D-5224-4783-A108-CCAD830F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Straight Arrow Connector 13"/>
          <p:cNvCxnSpPr>
            <a:stCxn id="484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0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3FAA5-C267-4D82-BD4F-34F1827AB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Straight Arrow Connector 13"/>
          <p:cNvCxnSpPr>
            <a:stCxn id="49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4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6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99286-F622-4350-AB5F-21A3D663D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13"/>
          <p:cNvCxnSpPr>
            <a:stCxn id="510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8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520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AC240-824E-47A4-B5A3-825FC08C5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71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Straight Arrow Connector 13"/>
          <p:cNvCxnSpPr>
            <a:stCxn id="52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4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536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7"/>
          <p:cNvCxnSpPr/>
          <p:nvPr/>
        </p:nvCxnSpPr>
        <p:spPr>
          <a:xfrm>
            <a:off x="7048440" y="2481120"/>
            <a:ext cx="1029600" cy="72000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0B022-C4A8-42F2-A96F-45027BF9E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16"/>
          <p:cNvCxnSpPr>
            <a:stCxn id="544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0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55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DB1E5-CCC5-4B19-BC5D-AA0FC2E19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1143000" y="2633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4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565" name="Straight Arrow Connector 16"/>
          <p:cNvCxnSpPr>
            <a:stCxn id="561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6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7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72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E750C-06C6-4AC0-B6AC-24A9F2BAE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3505320" y="2647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lives(james,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6400800" y="2633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tornado(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1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2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583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588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Straight Arrow Connector 21"/>
          <p:cNvCxnSpPr/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EC400-AF84-4371-AE50-62239914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16"/>
          <p:cNvCxnSpPr>
            <a:stCxn id="595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1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04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8"/>
          <p:cNvSpPr/>
          <p:nvPr/>
        </p:nvSpPr>
        <p:spPr>
          <a:xfrm>
            <a:off x="457200" y="61070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Use combining rule to combine multiple CPTs into a single C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752480" y="3216240"/>
          <a:ext cx="833400" cy="1050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sp>
        <p:nvSpPr>
          <p:cNvPr id="607" name="TextBox 31"/>
          <p:cNvSpPr/>
          <p:nvPr/>
        </p:nvSpPr>
        <p:spPr>
          <a:xfrm>
            <a:off x="5067360" y="1427040"/>
            <a:ext cx="361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ves(stefan,freibur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2"/>
          <p:cNvSpPr/>
          <p:nvPr/>
        </p:nvSpPr>
        <p:spPr>
          <a:xfrm>
            <a:off x="6172200" y="121932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Zapf Dingbats"/>
                <a:ea typeface="Zapf Dingbats"/>
              </a:rPr>
              <a:t>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bd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of finding the best explanation for a set of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ground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 set of (Horn) clause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bserv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tomic fact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i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ypothesi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set of assumption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tomic facts) that logically entail the observations given th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5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xplanation is the one with the fewes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A5134-0AED-435A-A73C-9CC4DD4A3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47AC6-8F92-420F-ABAA-D38046E6C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620" name=""/>
          <p:cNvGraphicFramePr/>
          <p:nvPr/>
        </p:nvGraphicFramePr>
        <p:xfrm>
          <a:off x="190512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  <a:gridCol w="81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80060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22" name="TextBox 17"/>
          <p:cNvSpPr/>
          <p:nvPr/>
        </p:nvSpPr>
        <p:spPr>
          <a:xfrm rot="20280000">
            <a:off x="1980360" y="554184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8"/>
          <p:cNvSpPr/>
          <p:nvPr/>
        </p:nvSpPr>
        <p:spPr>
          <a:xfrm rot="20280000">
            <a:off x="4800240" y="546876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C408C-D667-4A9A-808A-90EF771C0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TextBox 17"/>
          <p:cNvSpPr/>
          <p:nvPr/>
        </p:nvSpPr>
        <p:spPr>
          <a:xfrm>
            <a:off x="1981080" y="510552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8"/>
          <p:cNvSpPr/>
          <p:nvPr/>
        </p:nvSpPr>
        <p:spPr>
          <a:xfrm>
            <a:off x="4800600" y="510552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9"/>
          <p:cNvSpPr/>
          <p:nvPr/>
        </p:nvSpPr>
        <p:spPr>
          <a:xfrm>
            <a:off x="1676520" y="373392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0"/>
          <p:cNvSpPr/>
          <p:nvPr/>
        </p:nvSpPr>
        <p:spPr>
          <a:xfrm>
            <a:off x="3200400" y="371304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>
            <a:off x="4648320" y="371304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2"/>
          <p:cNvSpPr/>
          <p:nvPr/>
        </p:nvSpPr>
        <p:spPr>
          <a:xfrm>
            <a:off x="5791320" y="36370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3"/>
          <p:cNvSpPr/>
          <p:nvPr/>
        </p:nvSpPr>
        <p:spPr>
          <a:xfrm>
            <a:off x="457200" y="569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oisy models require parameters linear in the number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ameter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ation Maxim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ient-ascent bas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pproaches optimize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ll climbing search through the space of possibl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structure obtained from CLAUDIE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and Dehaspe, 1997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from only positive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8E2D5-7050-41D9-9110-19F7B1A62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 and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pectation Maximiz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Gradient-ascent based lear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Hill climbing search through the space of possible structur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122B0-CA5C-4BB1-8EB6-112F15DEF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660066"/>
                </a:solidFill>
                <a:latin typeface="Arial"/>
              </a:rPr>
              <a:t>Expectation Maximization for BLPs/BALPs</a:t>
            </a:r>
            <a:endParaRPr b="0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Perform logical inference to construct a ground Bayesian network for each example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Let r denote rule, X denote a node, and Pa(X) denote parents of X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E Step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sum is over all groundings of rule 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 Step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1A1CC-AD65-4C2D-98D8-86CCCFB94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6781680" cy="7239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2438280" y="5626080"/>
            <a:ext cx="2667240" cy="851040"/>
          </a:xfrm>
          <a:prstGeom prst="rect">
            <a:avLst/>
          </a:prstGeom>
          <a:ln w="0">
            <a:noFill/>
          </a:ln>
        </p:spPr>
      </p:pic>
      <p:sp>
        <p:nvSpPr>
          <p:cNvPr id="653" name="TextBox 6"/>
          <p:cNvSpPr/>
          <p:nvPr/>
        </p:nvSpPr>
        <p:spPr>
          <a:xfrm>
            <a:off x="8458200" y="39625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7"/>
          <p:cNvSpPr/>
          <p:nvPr/>
        </p:nvSpPr>
        <p:spPr>
          <a:xfrm>
            <a:off x="4724280" y="55627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533520" y="6183360"/>
            <a:ext cx="312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From SRL tutorial at ECML 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1358B-32EA-4436-B9D5-A375A1FD7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ress different influences using separate no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se nodes can be combined using a deterministic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66716-CA13-4B2E-BBCF-5A398FA46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39683-CB82-454E-BE2C-C150A74D7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8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9" name="Straight Arrow Connector 11"/>
          <p:cNvCxnSpPr>
            <a:stCxn id="665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0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1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Straight Arrow Connector 24"/>
          <p:cNvCxnSpPr>
            <a:stCxn id="672" idx="2"/>
            <a:endCxn id="662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8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BB275-6816-45D1-9830-2DEC44AE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286000" y="6291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1066680" y="2666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990720" y="1371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7"/>
          <p:cNvSpPr/>
          <p:nvPr/>
        </p:nvSpPr>
        <p:spPr>
          <a:xfrm>
            <a:off x="3657600" y="2666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6324480" y="26668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Straight Arrow Connector 9"/>
          <p:cNvCxnSpPr/>
          <p:nvPr/>
        </p:nvCxnSpPr>
        <p:spPr>
          <a:xfrm flipH="1">
            <a:off x="2285640" y="1719000"/>
            <a:ext cx="2160" cy="9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7" name="Straight Arrow Connector 10"/>
          <p:cNvCxnSpPr/>
          <p:nvPr/>
        </p:nvCxnSpPr>
        <p:spPr>
          <a:xfrm flipH="1">
            <a:off x="2361960" y="312372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Straight Arrow Connector 11"/>
          <p:cNvCxnSpPr>
            <a:stCxn id="684" idx="2"/>
          </p:cNvCxnSpPr>
          <p:nvPr/>
        </p:nvCxnSpPr>
        <p:spPr>
          <a:xfrm>
            <a:off x="4991040" y="3004920"/>
            <a:ext cx="1029600" cy="88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9" name="Straight Arrow Connector 12"/>
          <p:cNvCxnSpPr/>
          <p:nvPr/>
        </p:nvCxnSpPr>
        <p:spPr>
          <a:xfrm flipH="1">
            <a:off x="6323760" y="300492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0" name="TextBox 16"/>
          <p:cNvSpPr/>
          <p:nvPr/>
        </p:nvSpPr>
        <p:spPr>
          <a:xfrm>
            <a:off x="1219320" y="40053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7"/>
          <p:cNvSpPr/>
          <p:nvPr/>
        </p:nvSpPr>
        <p:spPr>
          <a:xfrm>
            <a:off x="502920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8"/>
          <p:cNvSpPr/>
          <p:nvPr/>
        </p:nvSpPr>
        <p:spPr>
          <a:xfrm>
            <a:off x="2057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9"/>
          <p:cNvSpPr/>
          <p:nvPr/>
        </p:nvSpPr>
        <p:spPr>
          <a:xfrm>
            <a:off x="2209680" y="3352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20"/>
          <p:cNvSpPr/>
          <p:nvPr/>
        </p:nvSpPr>
        <p:spPr>
          <a:xfrm>
            <a:off x="6400800" y="34718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Straight Arrow Connector 22"/>
          <p:cNvCxnSpPr/>
          <p:nvPr/>
        </p:nvCxnSpPr>
        <p:spPr>
          <a:xfrm flipH="1">
            <a:off x="2439720" y="4343040"/>
            <a:ext cx="2160" cy="95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Straight Arrow Connector 24"/>
          <p:cNvCxnSpPr>
            <a:stCxn id="691" idx="2"/>
          </p:cNvCxnSpPr>
          <p:nvPr/>
        </p:nvCxnSpPr>
        <p:spPr>
          <a:xfrm>
            <a:off x="6210360" y="4300560"/>
            <a:ext cx="21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7" name="TextBox 30"/>
          <p:cNvSpPr/>
          <p:nvPr/>
        </p:nvSpPr>
        <p:spPr>
          <a:xfrm>
            <a:off x="175248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27"/>
          <p:cNvSpPr/>
          <p:nvPr/>
        </p:nvSpPr>
        <p:spPr>
          <a:xfrm>
            <a:off x="548640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28"/>
          <p:cNvSpPr/>
          <p:nvPr/>
        </p:nvSpPr>
        <p:spPr>
          <a:xfrm>
            <a:off x="1295280" y="5300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1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5105520" y="53006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2 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Straight Arrow Connector 33"/>
          <p:cNvCxnSpPr/>
          <p:nvPr/>
        </p:nvCxnSpPr>
        <p:spPr>
          <a:xfrm>
            <a:off x="2593440" y="5638320"/>
            <a:ext cx="106452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35"/>
          <p:cNvCxnSpPr>
            <a:endCxn id="681" idx="0"/>
          </p:cNvCxnSpPr>
          <p:nvPr/>
        </p:nvCxnSpPr>
        <p:spPr>
          <a:xfrm flipH="1">
            <a:off x="4152240" y="5637600"/>
            <a:ext cx="163908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TextBox 38"/>
          <p:cNvSpPr/>
          <p:nvPr/>
        </p:nvSpPr>
        <p:spPr>
          <a:xfrm>
            <a:off x="2895480" y="58341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s, Bayesian atoms take finite set of values, but in PLPs, each atom is logical in nature and it can take true or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ead of having neighborhood(x) = bad, in PLPs, we have neighborhood(x,b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ute probability of a query alarm(james), PLPs have to construct one proof tree for all possible values for all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is cumber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47A48-D7DB-4DB7-8547-30F26E65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oole's Horn Abduction 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f P(x) and R(x) are two competing hypothesis, then either P(x) could be true or R(x) could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robabilities of P(x) and R(x) should sum to 1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rictions of these kind are not there in B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Ps and hence BLPs are more flexible and have a richer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018CF-AB22-4067-82ED-F7E3389DE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of Bayesian cl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|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s that are universally qua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-restricted, i.e variables{head}      variables{body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(head|body)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predic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ve finite domai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 like noisy-or for mapping multiple CPTs into a single C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21340-3337-49AE-B366-109829B07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867280" y="2641680"/>
                <a:ext cx="2286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Í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R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Ms use entity-relationship models to represent knowledge and they use KBMC-like construction to construct a ground Bayesian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ttribute becomes a random variable in the ground network and relations over the entities are logical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, each attribute becomes a Bayesian atom and relations become logic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or functions can be transformed into combin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4CE17-F323-402A-A3E7-F80674E37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RB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RB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RBNs, each node in BN is a predicate and probability formulae are used to specify probabil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s can be used to represent these probability formulae in BL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911C0-627A-43C9-B7E6-589E47317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LPs vs. B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ke BLPs, BALPs use logic programs as templates for constructing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like BLPs, BALPs 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abduc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o construct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5B538-B00E-4460-B7A3-B6D4DF9A9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include set-up-shelter, clear-road-wreck, provide-medical-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consists of several entities and sub-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sc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arge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1000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02B4F-3D3A-4084-9E2D-9FB8C83F7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domain knowledge encoded in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93DBE-3FB0-470D-B656-6047B6DC3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72D40-829D-47C0-A1F4-B453795FF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295280" y="1905120"/>
          <a:ext cx="6858000" cy="29876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based on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users asked to perform tasks in Linux and commands were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find-file-by-ext, remove-file-by-ext, copy-file, 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handle noi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rs indicate success even when they have not achieved the task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ome top-level plans like find-file-by-ext and file-file-by-name have identical actio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457 example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B8129-EE13-449C-8E12-90A48D89F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knowledge of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3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582C1-B3AC-4064-A961-D82C5B2D5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735" name="Content Placeholder 4"/>
          <p:cNvGraphicFramePr/>
          <p:nvPr/>
        </p:nvGraphicFramePr>
        <p:xfrm>
          <a:off x="914400" y="1417680"/>
          <a:ext cx="76201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17680"/>
                    <a:ext cx="762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F371F-E460-4607-89A4-EA0D7EDB8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5"/>
          <p:cNvSpPr/>
          <p:nvPr/>
        </p:nvSpPr>
        <p:spPr>
          <a:xfrm rot="16200000">
            <a:off x="-765000" y="3279600"/>
            <a:ext cx="29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2206800" y="5084640"/>
            <a:ext cx="52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Observ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600200" y="5638680"/>
          <a:ext cx="6095880" cy="766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representation of actions literal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shopping, robbing, restaurant dining, party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predict multiple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develop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tes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E9891-1883-4699-AB1E-5BCD83471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BLP and a query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construct proofs for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network constr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ground atom is a random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ges are added from ground atoms in the body to the ground atom in 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s specified by the conditional probability distribution for the corresponding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 =    P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| Pa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1C90C-4927-4C6C-9EBA-70832163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33720" y="5029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for ACCEL by Ng and Moone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fficient number of examples to lear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or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and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iors tuned on development set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</a:t>
            </a:r>
            <a:r>
              <a:rPr b="1" i="1" lang="en-US" sz="1300" spc="-1" strike="noStrike">
                <a:solidFill>
                  <a:srgbClr val="660066"/>
                </a:solidFill>
                <a:latin typeface="Arial"/>
              </a:rPr>
              <a:t>]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3" marL="1407960" indent="-200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 for Story Understa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01680" indent="-30168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5098D-B9E9-461B-B434-EDD684816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48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357B6-ADE1-4490-A797-C125A5D40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095880" y="1600200"/>
            <a:ext cx="2362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Applications of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iagnos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tual entail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ing gene relations based on the output of micro-array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y application that requires abductive reas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72678-DCE0-4C2D-92A3-2B3ADEABF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CCEL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system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city metric selects explanations that have the least number of assum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herence metric selects explanations that connect maximum number of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explanatory co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to text interpre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5B99C-0BB8-4580-95A7-6912E0077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ystem by Blaylock and Alle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istical n-gram models to predict plans based on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s plan recognition in 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the plan schema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arguments based on the predicted sch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FF593-F26C-4CD3-8001-96644BDC2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4:30:16Z</dcterms:created>
  <dc:creator>Office 2004 Test Drive User</dc:creator>
  <dc:description/>
  <dc:language>en-US</dc:language>
  <cp:lastModifiedBy>Office 2004 Test Drive User</cp:lastModifiedBy>
  <dcterms:modified xsi:type="dcterms:W3CDTF">2011-09-07T05:42:00Z</dcterms:modified>
  <cp:revision>1250</cp:revision>
  <dc:subject/>
  <dc:title>Slide 1</dc:title>
</cp:coreProperties>
</file>