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2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7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144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2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49999F-29EC-47A5-8CB1-791C7A1ABF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984CD8-8A8A-4FE3-B7F0-A82F7FAAEE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D73B83-DE32-424B-8AD0-BE0DD5FEAF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5CA2-79DE-401A-9C16-CF99A7845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ACC8-5687-4526-8642-F132038E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15A1-5191-4B4E-848F-A3FE71223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9025-7082-494D-BE31-EAA7B3B93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84A0-C9FB-4D4E-8F00-065E9683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A95C-ACBA-4F12-869D-0B70A7C2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DA8B-8DE1-41DD-B7F9-0D9857FE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FFBD-81CD-45CF-8F99-F0B014BC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4D84-EF8E-4829-BF4E-FC386648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5155-E0D4-4348-932E-2E51FA9D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840B-F1FF-462E-A6EF-5A33582E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D220-40D3-4E2A-9A32-3017C714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1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FD3878-A100-4ECA-958C-E0762B75BE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41105C-293E-4479-96DD-5342084A1D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14"/>
          <p:cNvSpPr/>
          <p:nvPr/>
        </p:nvSpPr>
        <p:spPr>
          <a:xfrm flipH="1">
            <a:off x="151920" y="150840"/>
            <a:ext cx="1800" cy="65707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7"/>
          <p:cNvSpPr/>
          <p:nvPr/>
        </p:nvSpPr>
        <p:spPr>
          <a:xfrm>
            <a:off x="152280" y="150840"/>
            <a:ext cx="876312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Straight Connector 15"/>
          <p:cNvSpPr/>
          <p:nvPr/>
        </p:nvSpPr>
        <p:spPr>
          <a:xfrm flipH="1">
            <a:off x="8915400" y="152280"/>
            <a:ext cx="1440" cy="65707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6"/>
          <p:cNvSpPr/>
          <p:nvPr/>
        </p:nvSpPr>
        <p:spPr>
          <a:xfrm>
            <a:off x="152280" y="6705720"/>
            <a:ext cx="876312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1523880"/>
            <a:ext cx="8915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660066"/>
                </a:solidFill>
                <a:latin typeface="Arial"/>
              </a:rPr>
              <a:t>Extending Bayesian Logic Programs</a:t>
            </a:r>
            <a:br>
              <a:rPr sz="3400"/>
            </a:br>
            <a:r>
              <a:rPr b="0" lang="en-US" sz="3400" spc="-1" strike="noStrike">
                <a:solidFill>
                  <a:srgbClr val="660066"/>
                </a:solidFill>
                <a:latin typeface="Arial"/>
              </a:rPr>
              <a:t>for Plan Recognition and Machine Reading</a:t>
            </a:r>
            <a:endParaRPr b="0" lang="en-US" sz="3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ndhu V. Raghava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5500"/>
                </a:solidFill>
                <a:latin typeface="Arial"/>
              </a:rPr>
              <a:t>Advisor: Raymond Moone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D Proposa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May 12</a:t>
            </a:r>
            <a:r>
              <a:rPr b="0" lang="en-US" sz="2400" spc="-1" strike="noStrike" baseline="30000">
                <a:solidFill>
                  <a:srgbClr val="6600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, 2011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D38AFD-F04E-4A58-8D81-E39A372F03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Outlin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55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5500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rst-order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ical Ab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yesian Logic Programs (BLP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mpleted Wor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t 1 – Extending BLPs for Plan Recogn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t 2 – Extending BLPs for Machine Rea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oposed Wor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F60F87-438D-40C2-A0DB-75BB2BD68C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Backup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18EFBD-FC2D-4CC3-9E14-02DF2245AD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Timelin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457200" y="1265400"/>
            <a:ext cx="82296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ditional experiments comparing MLN-HCAM and BALPs for plan recognition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[Target completion – August 2011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ample Search to perform inference in MLN-HCAM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valuation of BLPs for Machine Reading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[Target completion – November 2011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rn parameters automaticall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aluation using Amazon Mechanical Tu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aluation of BLPs for answering que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arison of BLPs with MLNs for machine rea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veloping structure learner from positive and uncertain examples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[Target completion – May 2012]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posed defense and graduation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[August 2012]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37C259-1FFD-4213-BA64-D06FFA805C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Completeness in First-order Logic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mpleteness - If a sentence is entailed by a KB, then it is possible to find the proof that entails i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ntailment in first-order logic is semidecidable, i.e it is not possible to know if a sentence is entailed by a KB or no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solution is complete in first-order logic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 set of sentences is unsatisfiable, then it is possible to find a contradic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43D896-9CFD-4523-96DC-DA47B91CCC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Forward chaining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r every implication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i="1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f p is true, then q is concluded to be tru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sults in addition of a new fact to KB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fficient, but incomplet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ference can explode and forward chaining may never terminat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ition of new facts might result in rules being satisfi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t is data-driven, not goal-drive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ght result in irrelevant conclusion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D7F323-7E74-42F9-898A-9976490097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Backward chaining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r a query literal q, if an implication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i="1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is present and p is true, then q is concluded to be true, otherwise backward chaining tries to prove p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fficient, but not complet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ay never terminate, might get stuck in infinite loop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ponentia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oal-drive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E2C746-E57A-42F6-A519-1D49EDB0CB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Herbrand Model Semantic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erbrand univers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onstants in the dom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erbrand bas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ground atoms atoms over Herbrand univer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erbrand interpret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et of ground atoms from Herbrand base that are 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erbrand mod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rbrand interpretation that satisfies all clauses in the knowledge 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181593-FACE-45DC-A08D-F7C2E4A2E7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660066"/>
                </a:solidFill>
                <a:latin typeface="Arial"/>
              </a:rPr>
              <a:t>Advantages of SRL models </a:t>
            </a:r>
            <a:br>
              <a:rPr sz="3000"/>
            </a:br>
            <a:r>
              <a:rPr b="0" lang="en-US" sz="3000" spc="-1" strike="noStrike">
                <a:solidFill>
                  <a:srgbClr val="660066"/>
                </a:solidFill>
                <a:latin typeface="Arial"/>
              </a:rPr>
              <a:t>over vanilla probabilistic models</a:t>
            </a:r>
            <a:endParaRPr b="0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mpactly represent domain knowledge in first-order logic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mploy logical inference to construct ground network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nables parameter shar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D1D7EE-4F92-4D4A-B4C3-E3165D4BC2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arameter sharing in SRL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3543BD-2777-42C2-A4FD-AE64C94A23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4"/>
          <p:cNvSpPr/>
          <p:nvPr/>
        </p:nvSpPr>
        <p:spPr>
          <a:xfrm>
            <a:off x="762120" y="2895480"/>
            <a:ext cx="228600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ather(joh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762120" y="3962520"/>
            <a:ext cx="228600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arent(joh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3048120" y="2895480"/>
            <a:ext cx="228600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ather(mar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7"/>
          <p:cNvSpPr/>
          <p:nvPr/>
        </p:nvSpPr>
        <p:spPr>
          <a:xfrm>
            <a:off x="3048120" y="3962520"/>
            <a:ext cx="228600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arent(mar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8"/>
          <p:cNvSpPr/>
          <p:nvPr/>
        </p:nvSpPr>
        <p:spPr>
          <a:xfrm>
            <a:off x="5791320" y="2895480"/>
            <a:ext cx="228600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ather(ali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9"/>
          <p:cNvSpPr/>
          <p:nvPr/>
        </p:nvSpPr>
        <p:spPr>
          <a:xfrm>
            <a:off x="5791320" y="3962520"/>
            <a:ext cx="228600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arent(ali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1" name="Straight Arrow Connector 11"/>
          <p:cNvCxnSpPr/>
          <p:nvPr/>
        </p:nvCxnSpPr>
        <p:spPr>
          <a:xfrm flipH="1">
            <a:off x="1902600" y="3504960"/>
            <a:ext cx="2520" cy="686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2" name="Straight Arrow Connector 16"/>
          <p:cNvCxnSpPr/>
          <p:nvPr/>
        </p:nvCxnSpPr>
        <p:spPr>
          <a:xfrm flipH="1">
            <a:off x="4113000" y="3504960"/>
            <a:ext cx="2160" cy="686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3" name="Straight Arrow Connector 17"/>
          <p:cNvCxnSpPr/>
          <p:nvPr/>
        </p:nvCxnSpPr>
        <p:spPr>
          <a:xfrm flipH="1">
            <a:off x="6779880" y="3504960"/>
            <a:ext cx="2160" cy="686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4" name="Straight Arrow Connector 18"/>
          <p:cNvCxnSpPr/>
          <p:nvPr/>
        </p:nvCxnSpPr>
        <p:spPr>
          <a:xfrm>
            <a:off x="2058480" y="4647960"/>
            <a:ext cx="2055240" cy="686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5" name="Straight Arrow Connector 20"/>
          <p:cNvCxnSpPr/>
          <p:nvPr/>
        </p:nvCxnSpPr>
        <p:spPr>
          <a:xfrm flipH="1">
            <a:off x="4115520" y="4495320"/>
            <a:ext cx="1080" cy="686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6" name="Straight Arrow Connector 21"/>
          <p:cNvCxnSpPr/>
          <p:nvPr/>
        </p:nvCxnSpPr>
        <p:spPr>
          <a:xfrm flipH="1">
            <a:off x="4342680" y="4494600"/>
            <a:ext cx="2439000" cy="83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7" name="Rectangle 24"/>
          <p:cNvSpPr/>
          <p:nvPr/>
        </p:nvSpPr>
        <p:spPr>
          <a:xfrm>
            <a:off x="3124080" y="5334120"/>
            <a:ext cx="228600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um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26"/>
          <p:cNvSpPr/>
          <p:nvPr/>
        </p:nvSpPr>
        <p:spPr>
          <a:xfrm>
            <a:off x="1905120" y="3429000"/>
            <a:ext cx="60948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θ</a:t>
            </a:r>
            <a:r>
              <a:rPr b="1" lang="en-US" sz="25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27"/>
          <p:cNvSpPr/>
          <p:nvPr/>
        </p:nvSpPr>
        <p:spPr>
          <a:xfrm>
            <a:off x="4191120" y="3429000"/>
            <a:ext cx="60948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θ</a:t>
            </a:r>
            <a:r>
              <a:rPr b="1" lang="en-US" sz="25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28"/>
          <p:cNvSpPr/>
          <p:nvPr/>
        </p:nvSpPr>
        <p:spPr>
          <a:xfrm>
            <a:off x="6858000" y="3429000"/>
            <a:ext cx="60948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θ</a:t>
            </a:r>
            <a:r>
              <a:rPr b="1" lang="en-US" sz="25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arameter sharing in SRL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ather(X) </a:t>
            </a: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parent(X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C85F62-595A-49F6-8946-828FE5D0E0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4"/>
          <p:cNvSpPr/>
          <p:nvPr/>
        </p:nvSpPr>
        <p:spPr>
          <a:xfrm>
            <a:off x="762120" y="2895480"/>
            <a:ext cx="228600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ather(joh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5"/>
          <p:cNvSpPr/>
          <p:nvPr/>
        </p:nvSpPr>
        <p:spPr>
          <a:xfrm>
            <a:off x="762120" y="3962520"/>
            <a:ext cx="228600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arent(joh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6"/>
          <p:cNvSpPr/>
          <p:nvPr/>
        </p:nvSpPr>
        <p:spPr>
          <a:xfrm>
            <a:off x="3048120" y="2895480"/>
            <a:ext cx="228600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ather(mar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7"/>
          <p:cNvSpPr/>
          <p:nvPr/>
        </p:nvSpPr>
        <p:spPr>
          <a:xfrm>
            <a:off x="3048120" y="3962520"/>
            <a:ext cx="228600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arent(mar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8"/>
          <p:cNvSpPr/>
          <p:nvPr/>
        </p:nvSpPr>
        <p:spPr>
          <a:xfrm>
            <a:off x="5791320" y="2895480"/>
            <a:ext cx="228600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ather(ali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9"/>
          <p:cNvSpPr/>
          <p:nvPr/>
        </p:nvSpPr>
        <p:spPr>
          <a:xfrm>
            <a:off x="5791320" y="3962520"/>
            <a:ext cx="228600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arent(ali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0" name="Straight Arrow Connector 11"/>
          <p:cNvCxnSpPr/>
          <p:nvPr/>
        </p:nvCxnSpPr>
        <p:spPr>
          <a:xfrm flipH="1">
            <a:off x="1902600" y="3504960"/>
            <a:ext cx="2520" cy="686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1" name="Straight Arrow Connector 16"/>
          <p:cNvCxnSpPr/>
          <p:nvPr/>
        </p:nvCxnSpPr>
        <p:spPr>
          <a:xfrm flipH="1">
            <a:off x="4113000" y="3504960"/>
            <a:ext cx="2160" cy="686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2" name="Straight Arrow Connector 17"/>
          <p:cNvCxnSpPr/>
          <p:nvPr/>
        </p:nvCxnSpPr>
        <p:spPr>
          <a:xfrm flipH="1">
            <a:off x="6779880" y="3504960"/>
            <a:ext cx="2160" cy="686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3" name="Straight Arrow Connector 18"/>
          <p:cNvCxnSpPr/>
          <p:nvPr/>
        </p:nvCxnSpPr>
        <p:spPr>
          <a:xfrm>
            <a:off x="2058480" y="4647960"/>
            <a:ext cx="2055240" cy="686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4" name="Straight Arrow Connector 20"/>
          <p:cNvCxnSpPr/>
          <p:nvPr/>
        </p:nvCxnSpPr>
        <p:spPr>
          <a:xfrm flipH="1">
            <a:off x="4115520" y="4495320"/>
            <a:ext cx="1080" cy="686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5" name="Straight Arrow Connector 21"/>
          <p:cNvCxnSpPr/>
          <p:nvPr/>
        </p:nvCxnSpPr>
        <p:spPr>
          <a:xfrm flipH="1">
            <a:off x="4342680" y="4494600"/>
            <a:ext cx="2439000" cy="83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6" name="Rectangle 24"/>
          <p:cNvSpPr/>
          <p:nvPr/>
        </p:nvSpPr>
        <p:spPr>
          <a:xfrm>
            <a:off x="3124080" y="5334120"/>
            <a:ext cx="228600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um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26"/>
          <p:cNvSpPr/>
          <p:nvPr/>
        </p:nvSpPr>
        <p:spPr>
          <a:xfrm>
            <a:off x="1905120" y="3429000"/>
            <a:ext cx="60948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27"/>
          <p:cNvSpPr/>
          <p:nvPr/>
        </p:nvSpPr>
        <p:spPr>
          <a:xfrm>
            <a:off x="4191120" y="3429000"/>
            <a:ext cx="60948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28"/>
          <p:cNvSpPr/>
          <p:nvPr/>
        </p:nvSpPr>
        <p:spPr>
          <a:xfrm>
            <a:off x="6858000" y="3429000"/>
            <a:ext cx="60948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22"/>
          <p:cNvSpPr/>
          <p:nvPr/>
        </p:nvSpPr>
        <p:spPr>
          <a:xfrm>
            <a:off x="4191120" y="1523880"/>
            <a:ext cx="60948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Noisy-and Model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ral causes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ave to occur simultaneously if event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has to occu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ails to trigger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ith probability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inh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ccounts for some unknown cause due to which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e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as failed to trigg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P(e) = (I – inh) Π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(1-p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)^(1-c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A6B1B1-5817-4BCE-98E7-ED6694B94D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First-order Logic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28240" y="11430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er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tants – individual entities like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nna, bo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riables – placeholders for objects like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X, 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edicates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s over entities like worksFor, capital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iteral – predicate or its negation applied to terms 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om – Positive literal like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worksFor(X,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ound literal – literal with no variables lik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worksFor(anna,bob)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ause – disjunction of literal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n clause has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at most on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ositive lit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te clause has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exactly on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ositive lit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24FD4F-4955-4506-8683-03103745E8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Noisy-or Model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ral causes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ause event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has to occu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dependently triggers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ith probability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leak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ccounts for some unknown cause due to which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e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as triggere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P(e) = 1 – [(I – inh) Π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 (1-p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)^(1-c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)]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odels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explaining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awa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there are several causes of an event, and if there is evidence for one of the causes, then the probability that the other causes have caused the event goes 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50A345-97BC-430A-A877-2261697F02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Noisy-and And Noisy-or Model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68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9B33A4-0CD7-4336-BD51-4F5EFF43DC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4"/>
          <p:cNvSpPr/>
          <p:nvPr/>
        </p:nvSpPr>
        <p:spPr>
          <a:xfrm>
            <a:off x="2286000" y="441972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larm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Box 5"/>
          <p:cNvSpPr/>
          <p:nvPr/>
        </p:nvSpPr>
        <p:spPr>
          <a:xfrm>
            <a:off x="1066680" y="35053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urglary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Box 6"/>
          <p:cNvSpPr/>
          <p:nvPr/>
        </p:nvSpPr>
        <p:spPr>
          <a:xfrm>
            <a:off x="990720" y="22096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neighborhood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Box 7"/>
          <p:cNvSpPr/>
          <p:nvPr/>
        </p:nvSpPr>
        <p:spPr>
          <a:xfrm>
            <a:off x="3657600" y="3505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ves(james,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Box 8"/>
          <p:cNvSpPr/>
          <p:nvPr/>
        </p:nvSpPr>
        <p:spPr>
          <a:xfrm>
            <a:off x="6324480" y="350532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ornado(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4" name="Straight Arrow Connector 9"/>
          <p:cNvCxnSpPr/>
          <p:nvPr/>
        </p:nvCxnSpPr>
        <p:spPr>
          <a:xfrm flipH="1">
            <a:off x="2285640" y="2557440"/>
            <a:ext cx="2160" cy="9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5" name="Straight Arrow Connector 10"/>
          <p:cNvCxnSpPr/>
          <p:nvPr/>
        </p:nvCxnSpPr>
        <p:spPr>
          <a:xfrm>
            <a:off x="2439720" y="3962520"/>
            <a:ext cx="1446840" cy="457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6" name="Straight Arrow Connector 11"/>
          <p:cNvCxnSpPr>
            <a:stCxn id="772" idx="2"/>
          </p:cNvCxnSpPr>
          <p:nvPr/>
        </p:nvCxnSpPr>
        <p:spPr>
          <a:xfrm flipH="1">
            <a:off x="4419000" y="3843000"/>
            <a:ext cx="572040" cy="577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7" name="Straight Arrow Connector 12"/>
          <p:cNvCxnSpPr/>
          <p:nvPr/>
        </p:nvCxnSpPr>
        <p:spPr>
          <a:xfrm flipH="1">
            <a:off x="4800240" y="3842280"/>
            <a:ext cx="2363040" cy="6102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Noisy-and And Noisy-or Model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79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5028C6-B348-4298-9830-73EBDFCD97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Box 4"/>
          <p:cNvSpPr/>
          <p:nvPr/>
        </p:nvSpPr>
        <p:spPr>
          <a:xfrm>
            <a:off x="2286000" y="613872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larm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Box 5"/>
          <p:cNvSpPr/>
          <p:nvPr/>
        </p:nvSpPr>
        <p:spPr>
          <a:xfrm>
            <a:off x="1066680" y="35053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urglary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6"/>
          <p:cNvSpPr/>
          <p:nvPr/>
        </p:nvSpPr>
        <p:spPr>
          <a:xfrm>
            <a:off x="990720" y="22096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neighborhood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Box 7"/>
          <p:cNvSpPr/>
          <p:nvPr/>
        </p:nvSpPr>
        <p:spPr>
          <a:xfrm>
            <a:off x="3657600" y="3505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ves(james,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Box 8"/>
          <p:cNvSpPr/>
          <p:nvPr/>
        </p:nvSpPr>
        <p:spPr>
          <a:xfrm>
            <a:off x="6324480" y="350532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ornado(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5" name="Straight Arrow Connector 9"/>
          <p:cNvCxnSpPr/>
          <p:nvPr/>
        </p:nvCxnSpPr>
        <p:spPr>
          <a:xfrm flipH="1">
            <a:off x="2285640" y="2557440"/>
            <a:ext cx="2160" cy="9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6" name="Straight Arrow Connector 10"/>
          <p:cNvCxnSpPr/>
          <p:nvPr/>
        </p:nvCxnSpPr>
        <p:spPr>
          <a:xfrm flipH="1">
            <a:off x="2439720" y="3963600"/>
            <a:ext cx="2160" cy="7628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7" name="Straight Arrow Connector 11"/>
          <p:cNvCxnSpPr>
            <a:stCxn id="783" idx="2"/>
          </p:cNvCxnSpPr>
          <p:nvPr/>
        </p:nvCxnSpPr>
        <p:spPr>
          <a:xfrm>
            <a:off x="4991040" y="3843360"/>
            <a:ext cx="1029600" cy="8834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8" name="Straight Arrow Connector 12"/>
          <p:cNvCxnSpPr/>
          <p:nvPr/>
        </p:nvCxnSpPr>
        <p:spPr>
          <a:xfrm flipH="1">
            <a:off x="6323760" y="3843000"/>
            <a:ext cx="839160" cy="8816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89" name="TextBox 16"/>
          <p:cNvSpPr/>
          <p:nvPr/>
        </p:nvSpPr>
        <p:spPr>
          <a:xfrm>
            <a:off x="1219320" y="484344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ummy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17"/>
          <p:cNvSpPr/>
          <p:nvPr/>
        </p:nvSpPr>
        <p:spPr>
          <a:xfrm>
            <a:off x="5029200" y="48006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ummy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18"/>
          <p:cNvSpPr/>
          <p:nvPr/>
        </p:nvSpPr>
        <p:spPr>
          <a:xfrm>
            <a:off x="2057400" y="27432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/logical-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Box 19"/>
          <p:cNvSpPr/>
          <p:nvPr/>
        </p:nvSpPr>
        <p:spPr>
          <a:xfrm>
            <a:off x="2209680" y="41911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/logical-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20"/>
          <p:cNvSpPr/>
          <p:nvPr/>
        </p:nvSpPr>
        <p:spPr>
          <a:xfrm>
            <a:off x="6400800" y="43099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/logical-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4" name="Straight Arrow Connector 22"/>
          <p:cNvCxnSpPr/>
          <p:nvPr/>
        </p:nvCxnSpPr>
        <p:spPr>
          <a:xfrm>
            <a:off x="2671920" y="5138640"/>
            <a:ext cx="1062720" cy="10008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5" name="Straight Arrow Connector 24"/>
          <p:cNvCxnSpPr>
            <a:stCxn id="790" idx="2"/>
            <a:endCxn id="780" idx="0"/>
          </p:cNvCxnSpPr>
          <p:nvPr/>
        </p:nvCxnSpPr>
        <p:spPr>
          <a:xfrm flipH="1">
            <a:off x="4152600" y="5138640"/>
            <a:ext cx="2057760" cy="10008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6" name="TextBox 30"/>
          <p:cNvSpPr/>
          <p:nvPr/>
        </p:nvSpPr>
        <p:spPr>
          <a:xfrm>
            <a:off x="3124080" y="537696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-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Inference in BLPs</a:t>
            </a:r>
            <a:br>
              <a:rPr sz="3800"/>
            </a:b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Kersting and De Raedt, 2001]</a:t>
            </a:r>
            <a:endParaRPr b="0" lang="en-US" sz="15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gical inferen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ven a BLP and a query,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SLD resolu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used to construct proofs for the qu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ayesian network construc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ground atom is a random vari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dges are added from ground atoms in the body to the ground atom in he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PTs specified by the conditional probability distribution for the corresponding cla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(X) =    P(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| Pa(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obabilistic inferen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Marginal probability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ven evid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Most Probable Explanation (MPE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ven evid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DEE5D2-DAA7-400E-A205-BDCC44F9DC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2133720" y="5029200"/>
                <a:ext cx="3682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earning in BLPs</a:t>
            </a:r>
            <a:br>
              <a:rPr sz="3800"/>
            </a:b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Kersting and De Raedt, 2008]</a:t>
            </a:r>
            <a:endParaRPr b="0" lang="en-US" sz="15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arameter learn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ectation Maximiz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dient-ascent based lear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th approaches optimize likeliho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ructure learn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ll climbing search through the space of possible struc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ial structure obtained from CLAUDIEN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De Raedt and Dehaspe, 1997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rns from only positive exam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2332B7-5730-41DC-AC0B-7D5E37F85D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660066"/>
                </a:solidFill>
                <a:latin typeface="Arial"/>
              </a:rPr>
              <a:t>Expectation Maximization for BLPs/BALPs</a:t>
            </a:r>
            <a:endParaRPr b="0" lang="en-US" sz="37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Arial"/>
              </a:rPr>
              <a:t>Perform logical inference to construct a ground Bayesian network for each example</a:t>
            </a:r>
            <a:endParaRPr b="0" lang="en-US" sz="29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Arial"/>
              </a:rPr>
              <a:t>Let r denote rule, X denote a node, and Pa(X) denote parents of X</a:t>
            </a:r>
            <a:endParaRPr b="0" lang="en-US" sz="29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Arial"/>
              </a:rPr>
              <a:t>E Step</a:t>
            </a:r>
            <a:endParaRPr b="0" lang="en-US" sz="29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inner sum is over all groundings of rule 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M Step</a:t>
            </a:r>
            <a:endParaRPr b="0" lang="en-US" sz="26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6" name="Slide Number Placeholder 3"/>
          <p:cNvSpPr/>
          <p:nvPr/>
        </p:nvSpPr>
        <p:spPr>
          <a:xfrm>
            <a:off x="31240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40F17E-CAA8-4F7C-B47F-7DEDE2759D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Picture 4" descr=""/>
          <p:cNvPicPr/>
          <p:nvPr/>
        </p:nvPicPr>
        <p:blipFill>
          <a:blip r:embed="rId1"/>
          <a:stretch/>
        </p:blipFill>
        <p:spPr>
          <a:xfrm>
            <a:off x="1905120" y="4038480"/>
            <a:ext cx="6781680" cy="72396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5" descr=""/>
          <p:cNvPicPr/>
          <p:nvPr/>
        </p:nvPicPr>
        <p:blipFill>
          <a:blip r:embed="rId2"/>
          <a:stretch/>
        </p:blipFill>
        <p:spPr>
          <a:xfrm>
            <a:off x="2438280" y="5626080"/>
            <a:ext cx="2667240" cy="851040"/>
          </a:xfrm>
          <a:prstGeom prst="rect">
            <a:avLst/>
          </a:prstGeom>
          <a:ln w="0">
            <a:noFill/>
          </a:ln>
        </p:spPr>
      </p:pic>
      <p:sp>
        <p:nvSpPr>
          <p:cNvPr id="809" name="TextBox 6"/>
          <p:cNvSpPr/>
          <p:nvPr/>
        </p:nvSpPr>
        <p:spPr>
          <a:xfrm>
            <a:off x="8458200" y="3962520"/>
            <a:ext cx="4572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7"/>
          <p:cNvSpPr/>
          <p:nvPr/>
        </p:nvSpPr>
        <p:spPr>
          <a:xfrm>
            <a:off x="4724280" y="5562720"/>
            <a:ext cx="4572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Box 8"/>
          <p:cNvSpPr/>
          <p:nvPr/>
        </p:nvSpPr>
        <p:spPr>
          <a:xfrm>
            <a:off x="533520" y="6183360"/>
            <a:ext cx="312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* </a:t>
            </a:r>
            <a:r>
              <a:rPr b="0" i="1" lang="en-US" sz="1500" spc="-1" strike="noStrike">
                <a:solidFill>
                  <a:srgbClr val="ff0000"/>
                </a:solidFill>
                <a:latin typeface="Arial"/>
              </a:rPr>
              <a:t>From SRL tutorial at ECML 0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86664A-8FF1-45EB-AE6E-6EFD320D65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Decomposable Combining Rule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press different influences using separate nod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se nodes can be combined using a deterministic func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5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634330-CFF9-47BD-8F15-97070B67A0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Combining Rule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17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43A09C-4F82-4DF2-8CA7-CDEB37A29C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4"/>
          <p:cNvSpPr/>
          <p:nvPr/>
        </p:nvSpPr>
        <p:spPr>
          <a:xfrm>
            <a:off x="2286000" y="613872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larm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5"/>
          <p:cNvSpPr/>
          <p:nvPr/>
        </p:nvSpPr>
        <p:spPr>
          <a:xfrm>
            <a:off x="1066680" y="35053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urglary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6"/>
          <p:cNvSpPr/>
          <p:nvPr/>
        </p:nvSpPr>
        <p:spPr>
          <a:xfrm>
            <a:off x="990720" y="22096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neighborhood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7"/>
          <p:cNvSpPr/>
          <p:nvPr/>
        </p:nvSpPr>
        <p:spPr>
          <a:xfrm>
            <a:off x="3657600" y="3505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ves(james,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8"/>
          <p:cNvSpPr/>
          <p:nvPr/>
        </p:nvSpPr>
        <p:spPr>
          <a:xfrm>
            <a:off x="6324480" y="350532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ornado(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3" name="Straight Arrow Connector 9"/>
          <p:cNvCxnSpPr/>
          <p:nvPr/>
        </p:nvCxnSpPr>
        <p:spPr>
          <a:xfrm flipH="1">
            <a:off x="2285640" y="2557440"/>
            <a:ext cx="2160" cy="9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24" name="Straight Arrow Connector 10"/>
          <p:cNvCxnSpPr/>
          <p:nvPr/>
        </p:nvCxnSpPr>
        <p:spPr>
          <a:xfrm flipH="1">
            <a:off x="2439720" y="3963600"/>
            <a:ext cx="2160" cy="7628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25" name="Straight Arrow Connector 11"/>
          <p:cNvCxnSpPr>
            <a:stCxn id="821" idx="2"/>
          </p:cNvCxnSpPr>
          <p:nvPr/>
        </p:nvCxnSpPr>
        <p:spPr>
          <a:xfrm>
            <a:off x="4991040" y="3843360"/>
            <a:ext cx="1029600" cy="8834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26" name="Straight Arrow Connector 12"/>
          <p:cNvCxnSpPr/>
          <p:nvPr/>
        </p:nvCxnSpPr>
        <p:spPr>
          <a:xfrm flipH="1">
            <a:off x="6323760" y="3843000"/>
            <a:ext cx="839160" cy="8816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7" name="TextBox 16"/>
          <p:cNvSpPr/>
          <p:nvPr/>
        </p:nvSpPr>
        <p:spPr>
          <a:xfrm>
            <a:off x="1219320" y="484344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ummy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17"/>
          <p:cNvSpPr/>
          <p:nvPr/>
        </p:nvSpPr>
        <p:spPr>
          <a:xfrm>
            <a:off x="5029200" y="48006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ummy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18"/>
          <p:cNvSpPr/>
          <p:nvPr/>
        </p:nvSpPr>
        <p:spPr>
          <a:xfrm>
            <a:off x="2057400" y="27432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ogical-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19"/>
          <p:cNvSpPr/>
          <p:nvPr/>
        </p:nvSpPr>
        <p:spPr>
          <a:xfrm>
            <a:off x="2209680" y="41911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ogical-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20"/>
          <p:cNvSpPr/>
          <p:nvPr/>
        </p:nvSpPr>
        <p:spPr>
          <a:xfrm>
            <a:off x="6400800" y="43099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ogical-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2" name="Straight Arrow Connector 22"/>
          <p:cNvCxnSpPr/>
          <p:nvPr/>
        </p:nvCxnSpPr>
        <p:spPr>
          <a:xfrm>
            <a:off x="2671920" y="5138640"/>
            <a:ext cx="1062720" cy="10008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3" name="Straight Arrow Connector 24"/>
          <p:cNvCxnSpPr>
            <a:stCxn id="828" idx="2"/>
            <a:endCxn id="818" idx="0"/>
          </p:cNvCxnSpPr>
          <p:nvPr/>
        </p:nvCxnSpPr>
        <p:spPr>
          <a:xfrm flipH="1">
            <a:off x="4152600" y="5138640"/>
            <a:ext cx="2057760" cy="10008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34" name="TextBox 30"/>
          <p:cNvSpPr/>
          <p:nvPr/>
        </p:nvSpPr>
        <p:spPr>
          <a:xfrm>
            <a:off x="3124080" y="537696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-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Decomposable Combining Rule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A70ADE-D7D4-433B-A73C-0182AE07C7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4"/>
          <p:cNvSpPr/>
          <p:nvPr/>
        </p:nvSpPr>
        <p:spPr>
          <a:xfrm>
            <a:off x="2286000" y="629136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larm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Box 5"/>
          <p:cNvSpPr/>
          <p:nvPr/>
        </p:nvSpPr>
        <p:spPr>
          <a:xfrm>
            <a:off x="1066680" y="26668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urglary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Box 6"/>
          <p:cNvSpPr/>
          <p:nvPr/>
        </p:nvSpPr>
        <p:spPr>
          <a:xfrm>
            <a:off x="990720" y="13716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neighborhood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Box 7"/>
          <p:cNvSpPr/>
          <p:nvPr/>
        </p:nvSpPr>
        <p:spPr>
          <a:xfrm>
            <a:off x="3657600" y="26668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ves(james,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8"/>
          <p:cNvSpPr/>
          <p:nvPr/>
        </p:nvSpPr>
        <p:spPr>
          <a:xfrm>
            <a:off x="6324480" y="266688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ornado(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2" name="Straight Arrow Connector 9"/>
          <p:cNvCxnSpPr/>
          <p:nvPr/>
        </p:nvCxnSpPr>
        <p:spPr>
          <a:xfrm flipH="1">
            <a:off x="2285640" y="1719000"/>
            <a:ext cx="2160" cy="9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3" name="Straight Arrow Connector 10"/>
          <p:cNvCxnSpPr/>
          <p:nvPr/>
        </p:nvCxnSpPr>
        <p:spPr>
          <a:xfrm flipH="1">
            <a:off x="2361960" y="3123720"/>
            <a:ext cx="2160" cy="7628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4" name="Straight Arrow Connector 11"/>
          <p:cNvCxnSpPr>
            <a:stCxn id="840" idx="2"/>
          </p:cNvCxnSpPr>
          <p:nvPr/>
        </p:nvCxnSpPr>
        <p:spPr>
          <a:xfrm>
            <a:off x="4991040" y="3004920"/>
            <a:ext cx="1029600" cy="883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5" name="Straight Arrow Connector 12"/>
          <p:cNvCxnSpPr/>
          <p:nvPr/>
        </p:nvCxnSpPr>
        <p:spPr>
          <a:xfrm flipH="1">
            <a:off x="6323760" y="3004920"/>
            <a:ext cx="839160" cy="8816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6" name="TextBox 16"/>
          <p:cNvSpPr/>
          <p:nvPr/>
        </p:nvSpPr>
        <p:spPr>
          <a:xfrm>
            <a:off x="1219320" y="400536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ummy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17"/>
          <p:cNvSpPr/>
          <p:nvPr/>
        </p:nvSpPr>
        <p:spPr>
          <a:xfrm>
            <a:off x="5029200" y="39625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ummy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18"/>
          <p:cNvSpPr/>
          <p:nvPr/>
        </p:nvSpPr>
        <p:spPr>
          <a:xfrm>
            <a:off x="2057400" y="19051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ogical-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19"/>
          <p:cNvSpPr/>
          <p:nvPr/>
        </p:nvSpPr>
        <p:spPr>
          <a:xfrm>
            <a:off x="2209680" y="33526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ogical-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20"/>
          <p:cNvSpPr/>
          <p:nvPr/>
        </p:nvSpPr>
        <p:spPr>
          <a:xfrm>
            <a:off x="6400800" y="347184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ogical-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1" name="Straight Arrow Connector 22"/>
          <p:cNvCxnSpPr/>
          <p:nvPr/>
        </p:nvCxnSpPr>
        <p:spPr>
          <a:xfrm flipH="1">
            <a:off x="2439720" y="4343040"/>
            <a:ext cx="2160" cy="9594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2" name="Straight Arrow Connector 24"/>
          <p:cNvCxnSpPr>
            <a:stCxn id="847" idx="2"/>
          </p:cNvCxnSpPr>
          <p:nvPr/>
        </p:nvCxnSpPr>
        <p:spPr>
          <a:xfrm>
            <a:off x="6210360" y="4300560"/>
            <a:ext cx="2160" cy="10008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3" name="TextBox 30"/>
          <p:cNvSpPr/>
          <p:nvPr/>
        </p:nvSpPr>
        <p:spPr>
          <a:xfrm>
            <a:off x="1752480" y="45385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-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Box 27"/>
          <p:cNvSpPr/>
          <p:nvPr/>
        </p:nvSpPr>
        <p:spPr>
          <a:xfrm>
            <a:off x="5486400" y="45385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isy-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Box 28"/>
          <p:cNvSpPr/>
          <p:nvPr/>
        </p:nvSpPr>
        <p:spPr>
          <a:xfrm>
            <a:off x="1295280" y="530064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dummy1-n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29"/>
          <p:cNvSpPr/>
          <p:nvPr/>
        </p:nvSpPr>
        <p:spPr>
          <a:xfrm>
            <a:off x="5105520" y="530064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dummy2 -n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7" name="Straight Arrow Connector 33"/>
          <p:cNvCxnSpPr/>
          <p:nvPr/>
        </p:nvCxnSpPr>
        <p:spPr>
          <a:xfrm>
            <a:off x="2593440" y="5638320"/>
            <a:ext cx="1064520" cy="6534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8" name="Straight Arrow Connector 35"/>
          <p:cNvCxnSpPr>
            <a:endCxn id="837" idx="0"/>
          </p:cNvCxnSpPr>
          <p:nvPr/>
        </p:nvCxnSpPr>
        <p:spPr>
          <a:xfrm flipH="1">
            <a:off x="4152240" y="5637600"/>
            <a:ext cx="1639080" cy="6534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9" name="TextBox 38"/>
          <p:cNvSpPr/>
          <p:nvPr/>
        </p:nvSpPr>
        <p:spPr>
          <a:xfrm>
            <a:off x="2895480" y="583416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ogical-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BLPs vs. PLP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fferences in represent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BLPs, Bayesian atoms take finite set of values, but in PLPs, each atom is logical in nature and it can take true or 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ead of having neighborhood(x) = bad, in PLPs, we have neighborhood(x,ba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compute probability of a query alarm(james), PLPs have to construct one proof tree for all possible values for all predic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erence is cumbersom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LPs subsume PLP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2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2FE521-FA26-45EA-A39E-91AE47CBB0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First-order Logic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Quantifi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versal quantification - true for all objects in the dom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ential quantification - true for some objects in the domai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gical Inferen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ward Chaining– For every implication 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i="1" lang="en-US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p is true, then q is concluded to be 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ckward Chaining – For a query literal q, if an implication 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i="1" lang="en-US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q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present and p is true, then q is concluded to be true, otherwise backward chaining tries to prove 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8AF952-5899-4204-AC65-B6DF545032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219320" y="2476440"/>
                <a:ext cx="40644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286000" y="3314880"/>
                <a:ext cx="35568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$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BLPs vs. Poole's Horn Abduction 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fferences in represent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example, if P(x) and R(x) are two competing hypothesis, then either P(x) could be true or R(x) could be 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probabilities of P(x) and R(x) should sum to 1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trictions of these kind are are not these in BL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Ps and hence BLPs are more flexible and have a richer repres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5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2505DC-6739-4878-81AF-527C9ABDD8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BLPs vs. PRM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LPs subsume PR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Ms use entity-relationship models to represent knowledge and they use KBMC-like construction to construct a ground Bayesian networ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attribute becomes a random variable in the ground network and relations over the entities are logical constrai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BLP, each attribute becomes a Bayesian atom and relations become logical at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ggregator functions can be transformed into combining r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27750E-007C-4AC4-96AF-D5F1C26338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BLPs vs. RBN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LPs subsume RB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 RBNs, each node in BN is a predicate and probability formulae are used to specify probabiliti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ing rules can be used to represent these probability formulae in BLP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1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A2011D-F273-4F1F-BDB1-387B02805F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BALPs vs. BLP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Like BLPs, BALPs use logic programs as templates for constructing Bayesian network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Unlike BLPs, BALPs us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gical abduction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instead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du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to construct the networ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4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CBC342-043D-4D81-BCE5-D3D8748E6B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Monroe </a:t>
            </a:r>
            <a:br>
              <a:rPr sz="3800"/>
            </a:b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Blaylock and Allen, 2005]</a:t>
            </a:r>
            <a:endParaRPr b="0" lang="en-US" sz="15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as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gnize top level plans in an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emergency response domai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artificially generated using HTN plann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s include set-up-shelter, clear-road-wreck, provide-medical-att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Singl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rrect plan in each ex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main consists of several entities and sub-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st the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ability to scal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large domai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ains 1000 exam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03268A-AFF2-468C-9D9E-4C7465AAA6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Monro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ethodolog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68520" indent="-2570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nowledge base constructed based on the domain knowledge encoded in plan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rn noisy-or parameters using 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ute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 marginal probabilit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or instances of top level plans and pick the one with the highest marginal prob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ems compa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BALPs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2" marL="1028520" indent="-205560">
              <a:spcBef>
                <a:spcPts val="374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MLN-HCAM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Singla and Mooney, 2011]</a:t>
            </a:r>
            <a:endParaRPr b="1" lang="en-US" sz="1500" spc="-1" strike="noStrike">
              <a:solidFill>
                <a:srgbClr val="007100"/>
              </a:solidFill>
              <a:latin typeface="Arial"/>
            </a:endParaRPr>
          </a:p>
          <a:p>
            <a:pPr lvl="2" marL="1028520" indent="-205560">
              <a:spcBef>
                <a:spcPts val="374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Blaylock and Allen’s system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Blaylock and Allen, 2005]</a:t>
            </a:r>
            <a:endParaRPr b="1" lang="en-US" sz="1500" spc="-1" strike="noStrike">
              <a:solidFill>
                <a:srgbClr val="007100"/>
              </a:solidFill>
              <a:latin typeface="Arial"/>
            </a:endParaRPr>
          </a:p>
          <a:p>
            <a:pPr lvl="1" marL="668520" indent="-257040">
              <a:spcBef>
                <a:spcPts val="55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Convergence score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s the fraction of examples for which the plan schema was predicted correctly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0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F876E9-05F7-4A1F-A564-304F60F4C5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earning Results - Monro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82" name="Slide Number Placeholder 3"/>
          <p:cNvSpPr/>
          <p:nvPr/>
        </p:nvSpPr>
        <p:spPr>
          <a:xfrm>
            <a:off x="31240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06B44E-C9BA-41D3-AB3C-B1F9DE73AF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3" name=""/>
          <p:cNvGraphicFramePr/>
          <p:nvPr/>
        </p:nvGraphicFramePr>
        <p:xfrm>
          <a:off x="1295280" y="1905120"/>
          <a:ext cx="6858000" cy="298764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W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W-Star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d-Star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 Scor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.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.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.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-1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.1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.1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.8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-7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.0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6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7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-5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6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2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-2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4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inux </a:t>
            </a:r>
            <a:br>
              <a:rPr sz="3800"/>
            </a:b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Blaylock and Allen, 2005]</a:t>
            </a:r>
            <a:endParaRPr b="0" lang="en-US" sz="15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4572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as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gnize top level plans based on Linux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uman users asked to perform tasks in Linux and commands were recor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p-level plans include find-file-by-ext, remove-file-by-ext, copy-file, move-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Singl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rrect plan in each ex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sts the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ability to handle nois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Users indicate success even when they have not achieved the task correctly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Some top-level plans like find-file-by-ext and file-file-by-name have identical actions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ains 457 examples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946435-D411-4FA8-A9B0-97DE80E027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inux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ethodolog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nowledge base constructed based on the knowledge of Linux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rn noisy-or parameters using 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ute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 marginal probabilit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or instances of top level plans and pick the one with the highest marginal prob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ems compa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BALPs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2" marL="1062720" indent="-212400">
              <a:spcBef>
                <a:spcPts val="374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MLN-HCAM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Singla and Mooney, 2011]</a:t>
            </a:r>
            <a:endParaRPr b="1" lang="en-US" sz="1500" spc="-1" strike="noStrike">
              <a:solidFill>
                <a:srgbClr val="007100"/>
              </a:solidFill>
              <a:latin typeface="Arial"/>
            </a:endParaRPr>
          </a:p>
          <a:p>
            <a:pPr lvl="2" marL="1062720" indent="-212400">
              <a:spcBef>
                <a:spcPts val="374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Blaylock and Allen’s system </a:t>
            </a:r>
            <a:r>
              <a:rPr b="1" i="1" lang="en-US" sz="1300" spc="-1" strike="noStrike">
                <a:solidFill>
                  <a:srgbClr val="ff6600"/>
                </a:solidFill>
                <a:latin typeface="Arial"/>
              </a:rPr>
              <a:t>[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Blaylock and Allen, 2005]</a:t>
            </a:r>
            <a:endParaRPr b="1" lang="en-US" sz="1500" spc="-1" strike="noStrike">
              <a:solidFill>
                <a:srgbClr val="0071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Convergence score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s the fraction of examples for which the plan schema was predicted correctly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326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300" spc="-1" strike="noStrike">
                <a:solidFill>
                  <a:srgbClr val="007100"/>
                </a:solidFill>
                <a:latin typeface="Arial"/>
              </a:rPr>
              <a:t> </a:t>
            </a:r>
            <a:endParaRPr b="1" lang="en-US" sz="1300" spc="-1" strike="noStrike">
              <a:solidFill>
                <a:srgbClr val="007100"/>
              </a:solidFill>
              <a:latin typeface="Arial"/>
            </a:endParaRPr>
          </a:p>
          <a:p>
            <a:pPr marL="318960" indent="-318960">
              <a:spcBef>
                <a:spcPts val="326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9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5A6BF9-CB07-428B-A6D2-35F1B945C2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earning Results - Linux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891" name="Content Placeholder 4"/>
          <p:cNvGraphicFramePr/>
          <p:nvPr/>
        </p:nvGraphicFramePr>
        <p:xfrm>
          <a:off x="914400" y="1417680"/>
          <a:ext cx="762012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2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17680"/>
                    <a:ext cx="76201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3" name="Slide Number Placeholder 3"/>
          <p:cNvSpPr/>
          <p:nvPr/>
        </p:nvSpPr>
        <p:spPr>
          <a:xfrm>
            <a:off x="31240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3E748B-030F-4CE0-8AFF-855E52E4C1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Box 5"/>
          <p:cNvSpPr/>
          <p:nvPr/>
        </p:nvSpPr>
        <p:spPr>
          <a:xfrm rot="16200000">
            <a:off x="-765000" y="3279600"/>
            <a:ext cx="296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6"/>
          <p:cNvSpPr/>
          <p:nvPr/>
        </p:nvSpPr>
        <p:spPr>
          <a:xfrm>
            <a:off x="2206800" y="5084640"/>
            <a:ext cx="52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 Observ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6" name=""/>
          <p:cNvGraphicFramePr/>
          <p:nvPr/>
        </p:nvGraphicFramePr>
        <p:xfrm>
          <a:off x="1600200" y="5638680"/>
          <a:ext cx="6095880" cy="76680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W-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d-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 Sc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.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.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ogical Abduc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Abduc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16680" indent="-2372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of finding the best explanation for a set of observ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Give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16680" indent="-237240">
              <a:spcBef>
                <a:spcPts val="55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Background knowledg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in the form of a set of (Horn) clauses in first-order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55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Observatio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in the form of atomic facts in first-order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Fin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16680" indent="-2372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hypothesis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a set of assumptions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atomic facts) that logically entail the observations given the theor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spcBef>
                <a:spcPts val="550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H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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t explanation is the one with the fewest assump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 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45EEFF-D4A5-4EFE-BC0D-63C79173B1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Story Understanding </a:t>
            </a:r>
            <a:br>
              <a:rPr sz="3800"/>
            </a:b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Charniak and Goldman, 1991; Ng and Mooney, 1992]</a:t>
            </a:r>
            <a:endParaRPr b="0" lang="en-US" sz="15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as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gnize character’s top level plans based on actions described in narrative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ical representation of actions literals provi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p-level plans include shopping, robbing, restaurant dining, partying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Multipl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p-level plans in each ex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sts the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ability to predict multiple pla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5 development exam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5 test exam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99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E8B233-0703-4A76-A963-6C8FF18EB5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Story Understanding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01" name=""/>
          <p:cNvSpPr txBox="1"/>
          <p:nvPr/>
        </p:nvSpPr>
        <p:spPr>
          <a:xfrm>
            <a:off x="457200" y="121932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ethodolog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53760" indent="-251280">
              <a:spcBef>
                <a:spcPts val="374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nowledge base constructed for ACCEL by Ng and Mooney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1992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ufficient number of examples to learn parame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Noisy-or parameters set to 0.9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Noisy-and parameters set to 0.9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Priors tuned on development set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ute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 MP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get the best set of pl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ems compa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BALPs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2" marL="1005840" indent="-200880">
              <a:spcBef>
                <a:spcPts val="374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MLN-HCAM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Singla and Mooney, 2011]</a:t>
            </a:r>
            <a:endParaRPr b="1" lang="en-US" sz="1500" spc="-1" strike="noStrike">
              <a:solidFill>
                <a:srgbClr val="007100"/>
              </a:solidFill>
              <a:latin typeface="Arial"/>
            </a:endParaRPr>
          </a:p>
          <a:p>
            <a:pPr lvl="2" marL="1005840" indent="-200880">
              <a:spcBef>
                <a:spcPts val="326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ACCEL-Simplicity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Ng and Mooney, 1992</a:t>
            </a:r>
            <a:r>
              <a:rPr b="1" i="1" lang="en-US" sz="1300" spc="-1" strike="noStrike">
                <a:solidFill>
                  <a:srgbClr val="660066"/>
                </a:solidFill>
                <a:latin typeface="Arial"/>
              </a:rPr>
              <a:t>]</a:t>
            </a:r>
            <a:endParaRPr b="1" lang="en-US" sz="1300" spc="-1" strike="noStrike">
              <a:solidFill>
                <a:srgbClr val="007100"/>
              </a:solidFill>
              <a:latin typeface="Arial"/>
            </a:endParaRPr>
          </a:p>
          <a:p>
            <a:pPr lvl="2" marL="1005840" indent="-200880">
              <a:spcBef>
                <a:spcPts val="374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ACCEL-Coherence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Ng and Mooney, 1992]</a:t>
            </a:r>
            <a:endParaRPr b="1" lang="en-US" sz="1500" spc="-1" strike="noStrike">
              <a:solidFill>
                <a:srgbClr val="007100"/>
              </a:solidFill>
              <a:latin typeface="Arial"/>
            </a:endParaRPr>
          </a:p>
          <a:p>
            <a:pPr lvl="3" marL="1407960" indent="-20088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pecific for Story Understand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326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300" spc="-1" strike="noStrike">
                <a:solidFill>
                  <a:srgbClr val="007100"/>
                </a:solidFill>
                <a:latin typeface="Arial"/>
              </a:rPr>
              <a:t> </a:t>
            </a:r>
            <a:endParaRPr b="1" lang="en-US" sz="1300" spc="-1" strike="noStrike">
              <a:solidFill>
                <a:srgbClr val="007100"/>
              </a:solidFill>
              <a:latin typeface="Arial"/>
            </a:endParaRPr>
          </a:p>
          <a:p>
            <a:pPr lvl="2" marL="1005840" indent="-200880">
              <a:spcBef>
                <a:spcPts val="326"/>
              </a:spcBef>
              <a:buClr>
                <a:srgbClr val="ff66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1300" spc="-1" strike="noStrike">
              <a:solidFill>
                <a:srgbClr val="007100"/>
              </a:solidFill>
              <a:latin typeface="Arial"/>
            </a:endParaRPr>
          </a:p>
          <a:p>
            <a:pPr lvl="2" marL="1005840" indent="-200880">
              <a:spcBef>
                <a:spcPts val="326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300" spc="-1" strike="noStrike">
                <a:solidFill>
                  <a:srgbClr val="007100"/>
                </a:solidFill>
                <a:latin typeface="Arial"/>
              </a:rPr>
              <a:t> </a:t>
            </a:r>
            <a:endParaRPr b="1" lang="en-US" sz="1300" spc="-1" strike="noStrike">
              <a:solidFill>
                <a:srgbClr val="007100"/>
              </a:solidFill>
              <a:latin typeface="Arial"/>
            </a:endParaRPr>
          </a:p>
          <a:p>
            <a:pPr marL="301680" indent="-301680">
              <a:spcBef>
                <a:spcPts val="326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2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397096-76E8-48C2-8743-DE1C4FDEFF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Other Applications of BALP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edical diagnosi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extual entailmen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mputational biolog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erring gene relations based on the output of micro-array experi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ny application that requires abductive reason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5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E68FA4-5A68-4F89-81BE-DFEF158607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ACCEL</a:t>
            </a:r>
            <a:br>
              <a:rPr sz="3800"/>
            </a:b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Ng and Mooney, 1992]</a:t>
            </a:r>
            <a:endParaRPr b="0" lang="en-US" sz="15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rst-order logic based system for plan recogni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mplicity metric selects explanations that have the least number of assump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herence metric selects explanations that connect maximum number of observa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s explanatory coher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ific to text interpre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82D7DB-1DFB-4326-A174-D3A447555B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System by Blaylock and Allen</a:t>
            </a:r>
            <a:br>
              <a:rPr sz="3800"/>
            </a:b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2005]</a:t>
            </a:r>
            <a:endParaRPr b="0" lang="en-US" sz="15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atistical n-gram models to predict plans based on observed ac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erforms plan recognition in two phas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dicts the plan schema fir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dicts arguments based on the predicted schem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6875A2-800C-4994-B09A-7519545C3F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Machine Reading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achine reading involves automatic extraction of knowledge from natural language tex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pproaches to machine read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ract 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factual informatio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ke entities and relations between entities that occur in text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Cohen, 1999; Craven et al., 2000; Bunescu and Mooney, 2007; Etzioni et al, 2008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ract 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commonsense knowledg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bout the domain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Nahm and Mooney, 2000; Carlson at el., 2010, Schoenmackers et al., 2010; Doppa et al., 2010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660066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14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C745DF-B0CB-4BF3-A227-BE7120D94B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Natural Language Text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atural language text is not necessarily complet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onsense information is not explicitly stated i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 known facts are omitted from the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issing information has to be inferred from tex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uman brain performs deeper inference using commonsense knowled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 systems have no access to commonsense knowled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C02DE1-CB47-4324-9F80-824148D3A1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Box 4"/>
          <p:cNvSpPr/>
          <p:nvPr/>
        </p:nvSpPr>
        <p:spPr>
          <a:xfrm>
            <a:off x="457200" y="5486400"/>
            <a:ext cx="822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500" spc="-1" strike="noStrike">
                <a:solidFill>
                  <a:srgbClr val="ff0000"/>
                </a:solidFill>
                <a:latin typeface="Arial"/>
              </a:rPr>
              <a:t>IE systems are limited to extracting information stated explicitly in tex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IC ontology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5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57 ent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79 re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1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028B8B-EBBB-48DE-8467-84C71C82C3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Estimated Precision </a:t>
            </a:r>
            <a:br>
              <a:rPr sz="3800"/>
            </a:b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preliminary results)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923" name=""/>
          <p:cNvGraphicFramePr/>
          <p:nvPr/>
        </p:nvGraphicFramePr>
        <p:xfrm>
          <a:off x="457200" y="1512720"/>
          <a:ext cx="8229600" cy="1765440"/>
        </p:xfrm>
        <a:graphic>
          <a:graphicData uri="http://schemas.openxmlformats.org/drawingml/2006/table">
            <a:tbl>
              <a:tblPr/>
              <a:tblGrid>
                <a:gridCol w="3352680"/>
                <a:gridCol w="1524240"/>
                <a:gridCol w="1752480"/>
                <a:gridCol w="1600200"/>
              </a:tblGrid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P-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P-Pos-N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P-Pos-On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Baseline</a:t>
                      </a:r>
                      <a:r>
                        <a:rPr b="1" lang="en-US" sz="18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[No. facts inferred]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38,15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1,5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18,5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Estimated prec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24.94</a:t>
                      </a:r>
                      <a:r>
                        <a:rPr b="1" lang="en-US" sz="22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951/3813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16.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12/75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31.80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588/1849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24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5BDA4B-2D79-4FD8-B958-F7804A9E50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Box 6"/>
          <p:cNvSpPr/>
          <p:nvPr/>
        </p:nvSpPr>
        <p:spPr>
          <a:xfrm>
            <a:off x="457200" y="5715000"/>
            <a:ext cx="8458200" cy="11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tal facts extracted – 12,25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 - x out of y inferred facts were correct. These inferred facts are from the 20 randomly sampled documents from test set for manual evalu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Estimated Precision </a:t>
            </a:r>
            <a:br>
              <a:rPr sz="3800"/>
            </a:b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preliminary results)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927" name=""/>
          <p:cNvGraphicFramePr/>
          <p:nvPr/>
        </p:nvGraphicFramePr>
        <p:xfrm>
          <a:off x="457200" y="1512720"/>
          <a:ext cx="8229600" cy="2946600"/>
        </p:xfrm>
        <a:graphic>
          <a:graphicData uri="http://schemas.openxmlformats.org/drawingml/2006/table">
            <a:tbl>
              <a:tblPr/>
              <a:tblGrid>
                <a:gridCol w="3352680"/>
                <a:gridCol w="1524240"/>
                <a:gridCol w="1752480"/>
                <a:gridCol w="1600200"/>
              </a:tblGrid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P-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P-Pos-N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P-Pos-On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Baseline</a:t>
                      </a:r>
                      <a:r>
                        <a:rPr b="1" lang="en-US" sz="18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[No. facts inferred]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38,15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1,5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18,5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Estimated prec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24.94</a:t>
                      </a:r>
                      <a:r>
                        <a:rPr b="1" lang="en-US" sz="22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951/3813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16.00</a:t>
                      </a:r>
                      <a:r>
                        <a:rPr b="1" lang="en-US" sz="22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12/75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31.80</a:t>
                      </a:r>
                      <a:r>
                        <a:rPr b="1" lang="en-US" sz="22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588/1849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BLP-0.9 </a:t>
                      </a:r>
                      <a:r>
                        <a:rPr b="0" lang="en-US" sz="15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[No. facts inferred]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2,8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88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1,7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Estimated prec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4.6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419/1208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3.63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9/66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5.49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411/1158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8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BB5552-6F8B-4376-B084-E4AEE2F283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Box 6"/>
          <p:cNvSpPr/>
          <p:nvPr/>
        </p:nvSpPr>
        <p:spPr>
          <a:xfrm>
            <a:off x="457200" y="5715000"/>
            <a:ext cx="8458200" cy="11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tal facts extracted – 12,25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 - x out of y inferred facts were correct. These inferred facts are from the 20 randomly sampled documents from test set for manual evalu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Bayesian Logic Programs (BLPs) </a:t>
            </a:r>
            <a:br>
              <a:rPr sz="3800"/>
            </a:b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Kersting and De Raedt, 2001]</a:t>
            </a:r>
            <a:endParaRPr b="0" lang="en-US" sz="15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t of Bayesian claus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|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....,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te clauses that are universally quantifi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d of the clause -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dy of the clause -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, …, a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ge-restricted, i.e variables{head}      variables{body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ociated conditional probability table (CP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P(head|body) 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ayesian predicat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, 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…, 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have finite domai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ing rule like noisy-or for mapping multiple CPTs into a single CP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3C9FEB-B2C0-4862-96E2-DFBB55F0C1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943600" y="3403440"/>
                <a:ext cx="22860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Í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Estimated Precision </a:t>
            </a:r>
            <a:br>
              <a:rPr sz="3800"/>
            </a:b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preliminary results)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931" name=""/>
          <p:cNvGraphicFramePr/>
          <p:nvPr/>
        </p:nvGraphicFramePr>
        <p:xfrm>
          <a:off x="457200" y="1512720"/>
          <a:ext cx="8229600" cy="4125960"/>
        </p:xfrm>
        <a:graphic>
          <a:graphicData uri="http://schemas.openxmlformats.org/drawingml/2006/table">
            <a:tbl>
              <a:tblPr/>
              <a:tblGrid>
                <a:gridCol w="3352680"/>
                <a:gridCol w="1524240"/>
                <a:gridCol w="1752480"/>
                <a:gridCol w="16002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P-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P-Pos-N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P-Pos-On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Baseline</a:t>
                      </a:r>
                      <a:r>
                        <a:rPr b="1" lang="en-US" sz="18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[No. facts inferred]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38,15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1,5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18,5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Estimated prec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24.94</a:t>
                      </a:r>
                      <a:r>
                        <a:rPr b="1" lang="en-US" sz="22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951/3813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16.00</a:t>
                      </a:r>
                      <a:r>
                        <a:rPr b="1" lang="en-US" sz="22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12/75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31.80</a:t>
                      </a:r>
                      <a:r>
                        <a:rPr b="1" lang="en-US" sz="22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588/1849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BLP-0.9 </a:t>
                      </a:r>
                      <a:r>
                        <a:rPr b="0" lang="en-US" sz="15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[No. facts inferred]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2,8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88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1,7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Estimated prec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4.6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419/1208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3.63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9/66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5.49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411/1158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BLP-0.95 </a:t>
                      </a:r>
                      <a:r>
                        <a:rPr b="0" lang="en-US" sz="15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[No. of facts inferred]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826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Estimated prec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1.07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51/56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1/1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i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0/0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2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266C57-9DC4-4F3F-B854-25CEC86063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Box 6"/>
          <p:cNvSpPr/>
          <p:nvPr/>
        </p:nvSpPr>
        <p:spPr>
          <a:xfrm>
            <a:off x="457200" y="5715000"/>
            <a:ext cx="8458200" cy="11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tal facts extracted – 12,25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 - x out of y inferred facts were correct. These inferred facts are from the 20 randomly sampled documents from test set for manual evalu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Estimated Recall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35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D67D02-442C-4E6E-AB09-A938CAD4A9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4"/>
          <p:cNvSpPr/>
          <p:nvPr/>
        </p:nvSpPr>
        <p:spPr>
          <a:xfrm>
            <a:off x="990720" y="1219320"/>
            <a:ext cx="7391160" cy="16002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500" spc="-1" strike="noStrike">
                <a:solidFill>
                  <a:srgbClr val="008000"/>
                </a:solidFill>
                <a:latin typeface="Arial"/>
                <a:ea typeface="Arial"/>
              </a:rPr>
              <a:t>Barack Obama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is the current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Presiden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of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  <a:ea typeface="Arial"/>
              </a:rPr>
              <a:t>USA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……. Obama was </a:t>
            </a:r>
            <a:r>
              <a:rPr b="1" lang="en-US" sz="2500" spc="-1" strike="noStrike">
                <a:solidFill>
                  <a:srgbClr val="660066"/>
                </a:solidFill>
                <a:latin typeface="Arial"/>
                <a:ea typeface="Arial"/>
              </a:rPr>
              <a:t>bor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on August 4, 1961,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in Hawaii, USA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……."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5"/>
          <p:cNvSpPr/>
          <p:nvPr/>
        </p:nvSpPr>
        <p:spPr>
          <a:xfrm>
            <a:off x="380880" y="2514600"/>
            <a:ext cx="8305920" cy="2971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Extracted fac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  <a:ea typeface="Arial"/>
              </a:rPr>
              <a:t>nationState(USA)</a:t>
            </a:r>
            <a:r>
              <a:rPr b="1" lang="en-US" sz="2300" spc="-1" strike="noStrike">
                <a:solidFill>
                  <a:srgbClr val="660066"/>
                </a:solidFill>
                <a:latin typeface="Arial"/>
                <a:ea typeface="Arial"/>
              </a:rPr>
              <a:t>           hasBirthPlace(BarackObama,US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8000"/>
                </a:solidFill>
                <a:latin typeface="Arial"/>
                <a:ea typeface="Arial"/>
              </a:rPr>
              <a:t>Person(BarackObama)        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citizenOf(BarackObama,US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  <a:ea typeface="Arial"/>
              </a:rPr>
              <a:t>isLedBy(USA,BarackObam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6"/>
          <p:cNvSpPr/>
          <p:nvPr/>
        </p:nvSpPr>
        <p:spPr>
          <a:xfrm>
            <a:off x="457200" y="5486400"/>
            <a:ext cx="7696080" cy="9302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Ru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hasBirthPlace(A,B) </a:t>
            </a:r>
            <a:r>
              <a:rPr b="1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citizenOf(A,B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Estimated Recall for citizenOf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40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ADFF9C-B529-45AD-8BE6-B0A76CB853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4"/>
          <p:cNvSpPr/>
          <p:nvPr/>
        </p:nvSpPr>
        <p:spPr>
          <a:xfrm>
            <a:off x="380880" y="1219320"/>
            <a:ext cx="8305920" cy="2971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Extracted fac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nationState(USA)           hasBirthPlace(BarackObama,US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Person(BarackObama)          citizenOf(BarackObama,US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isLedBy(USA,BarackObam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5"/>
          <p:cNvSpPr/>
          <p:nvPr/>
        </p:nvSpPr>
        <p:spPr>
          <a:xfrm>
            <a:off x="4267080" y="2895480"/>
            <a:ext cx="4114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6"/>
          <p:cNvSpPr/>
          <p:nvPr/>
        </p:nvSpPr>
        <p:spPr>
          <a:xfrm>
            <a:off x="457200" y="3794040"/>
            <a:ext cx="7696080" cy="9302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  <a:ea typeface="Arial"/>
              </a:rPr>
              <a:t>hasBirthPlace(A,B) </a:t>
            </a:r>
            <a:r>
              <a:rPr b="1" lang="en-US" sz="23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  <a:ea typeface="Arial"/>
              </a:rPr>
              <a:t> citizenOf(A,B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7"/>
          <p:cNvSpPr/>
          <p:nvPr/>
        </p:nvSpPr>
        <p:spPr>
          <a:xfrm>
            <a:off x="457200" y="4403880"/>
            <a:ext cx="7696080" cy="9302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660066"/>
                </a:solidFill>
                <a:latin typeface="Arial"/>
                <a:ea typeface="Arial"/>
              </a:rPr>
              <a:t>hasBirthPlace(BarackObama,US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5" name="Straight Arrow Connector 9"/>
          <p:cNvCxnSpPr/>
          <p:nvPr/>
        </p:nvCxnSpPr>
        <p:spPr>
          <a:xfrm flipH="1">
            <a:off x="2588400" y="5030280"/>
            <a:ext cx="3960" cy="762840"/>
          </a:xfrm>
          <a:prstGeom prst="straightConnector1">
            <a:avLst/>
          </a:prstGeom>
          <a:ln w="57240">
            <a:solidFill>
              <a:srgbClr val="660066"/>
            </a:solidFill>
            <a:miter/>
            <a:tailEnd len="med" type="arrow" w="med"/>
          </a:ln>
        </p:spPr>
      </p:cxnSp>
      <p:sp>
        <p:nvSpPr>
          <p:cNvPr id="946" name="Rectangle 11"/>
          <p:cNvSpPr/>
          <p:nvPr/>
        </p:nvSpPr>
        <p:spPr>
          <a:xfrm>
            <a:off x="457200" y="5546880"/>
            <a:ext cx="7696080" cy="9302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660066"/>
                </a:solidFill>
                <a:latin typeface="Arial"/>
                <a:ea typeface="Arial"/>
              </a:rPr>
              <a:t>citizenOf(BarackObama,US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13"/>
          <p:cNvSpPr/>
          <p:nvPr/>
        </p:nvSpPr>
        <p:spPr>
          <a:xfrm rot="20217000">
            <a:off x="4906800" y="4517640"/>
            <a:ext cx="3810240" cy="9302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  <a:ea typeface="Arial"/>
              </a:rPr>
              <a:t>Estimated Recall – 1/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Estimated Recall for hasBirthPlac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49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6DF49A-F394-446C-9F8C-630AAB556C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4"/>
          <p:cNvSpPr/>
          <p:nvPr/>
        </p:nvSpPr>
        <p:spPr>
          <a:xfrm>
            <a:off x="380880" y="1219320"/>
            <a:ext cx="8305920" cy="2971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Extracted fac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nationState(USA)           hasBirthPlace(BarackObama,US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Person(BarackObama)          citizenOf(BarackObama,US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isLedBy(USA,BarackObam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5"/>
          <p:cNvSpPr/>
          <p:nvPr/>
        </p:nvSpPr>
        <p:spPr>
          <a:xfrm>
            <a:off x="3581280" y="2438280"/>
            <a:ext cx="4800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6"/>
          <p:cNvSpPr/>
          <p:nvPr/>
        </p:nvSpPr>
        <p:spPr>
          <a:xfrm>
            <a:off x="457200" y="3794040"/>
            <a:ext cx="7696080" cy="9302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  <a:ea typeface="Arial"/>
              </a:rPr>
              <a:t>hasBirthPlace(A,B) </a:t>
            </a:r>
            <a:r>
              <a:rPr b="1" lang="en-US" sz="23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  <a:ea typeface="Arial"/>
              </a:rPr>
              <a:t> citizenOf(A,B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13"/>
          <p:cNvSpPr/>
          <p:nvPr/>
        </p:nvSpPr>
        <p:spPr>
          <a:xfrm rot="20217000">
            <a:off x="4906800" y="4517640"/>
            <a:ext cx="3810240" cy="9302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  <a:ea typeface="Arial"/>
              </a:rPr>
              <a:t>Estimated Recall – 0/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10"/>
          <p:cNvSpPr/>
          <p:nvPr/>
        </p:nvSpPr>
        <p:spPr>
          <a:xfrm>
            <a:off x="380880" y="4708440"/>
            <a:ext cx="3200400" cy="9302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roposed Work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earn first-order rules from incomplete and uncertain data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ts extracted from natural language text are incomple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Existing rule/structure learners assume that data is complete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ractions from IE system have associated confidence sc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Existing structure learners cannot use these extraction probabilities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sence of negative insta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Most rule learners require both positive and negative instances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Closed world assumption does not hold for machine reading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57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B9CE33-43ED-4B77-9642-53DD929226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ogical Inference in BLPs </a:t>
            </a:r>
            <a:br>
              <a:rPr sz="3800"/>
            </a:b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 SLD Resolu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A909EF-97BF-4A55-BB7C-BBFB2428DC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533520" y="1600200"/>
            <a:ext cx="3733560" cy="311148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james,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stefan,freibur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ghborhood(jam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rnado(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rglary(X) | neighborhood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X) | burglary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X) | lives(X,Y), tornado(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533520" y="4495680"/>
            <a:ext cx="3733560" cy="64260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4572000" y="1557360"/>
            <a:ext cx="3733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5"/>
          <p:cNvSpPr/>
          <p:nvPr/>
        </p:nvSpPr>
        <p:spPr>
          <a:xfrm>
            <a:off x="533520" y="6076800"/>
            <a:ext cx="3733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Example from Ngo and Haddawy, 199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ogical Inference in BLPs </a:t>
            </a:r>
            <a:br>
              <a:rPr sz="3800"/>
            </a:b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 SLD Resolu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4CD63F-2D0F-4190-AB4C-128BA186B5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533520" y="1600200"/>
            <a:ext cx="3733560" cy="311148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james,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stefan,freibur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ghborhood(jam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rnado(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rglary(X) | neighborhood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larm(X) | burglary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X) | lives(X,Y), tornado(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533520" y="4495680"/>
            <a:ext cx="3733560" cy="64260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4572000" y="1557360"/>
            <a:ext cx="3733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Straight Arrow Connector 8"/>
          <p:cNvCxnSpPr/>
          <p:nvPr/>
        </p:nvCxnSpPr>
        <p:spPr>
          <a:xfrm flipH="1">
            <a:off x="5562000" y="2481120"/>
            <a:ext cx="610200" cy="7200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8" name="TextBox 10"/>
          <p:cNvSpPr/>
          <p:nvPr/>
        </p:nvSpPr>
        <p:spPr>
          <a:xfrm>
            <a:off x="4191120" y="32767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urglary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3"/>
          <p:cNvSpPr/>
          <p:nvPr/>
        </p:nvSpPr>
        <p:spPr>
          <a:xfrm>
            <a:off x="533520" y="6076800"/>
            <a:ext cx="3733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Example from Ngo and Haddawy, 199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ogical Inference in BLPs </a:t>
            </a:r>
            <a:br>
              <a:rPr sz="3800"/>
            </a:b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 SLD Resolu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12235D-7690-4C70-B21E-2B3387E10E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533520" y="1600200"/>
            <a:ext cx="3733560" cy="311148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james,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stefan,freibur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ghborhood(jam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rnado(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urglary(X) | neighborhood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X) | burglary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X) | lives(X,Y), tornado(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533520" y="4495680"/>
            <a:ext cx="3733560" cy="64260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4572000" y="1557360"/>
            <a:ext cx="3733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Straight Arrow Connector 8"/>
          <p:cNvCxnSpPr/>
          <p:nvPr/>
        </p:nvCxnSpPr>
        <p:spPr>
          <a:xfrm flipH="1">
            <a:off x="5562000" y="2481120"/>
            <a:ext cx="610200" cy="7200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6" name="TextBox 10"/>
          <p:cNvSpPr/>
          <p:nvPr/>
        </p:nvSpPr>
        <p:spPr>
          <a:xfrm>
            <a:off x="4191120" y="32767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rglary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Straight Arrow Connector 11"/>
          <p:cNvCxnSpPr/>
          <p:nvPr/>
        </p:nvCxnSpPr>
        <p:spPr>
          <a:xfrm flipH="1">
            <a:off x="5562360" y="3711600"/>
            <a:ext cx="2160" cy="7214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8" name="TextBox 12"/>
          <p:cNvSpPr/>
          <p:nvPr/>
        </p:nvSpPr>
        <p:spPr>
          <a:xfrm>
            <a:off x="4038480" y="450684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ighborhood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3"/>
          <p:cNvSpPr/>
          <p:nvPr/>
        </p:nvSpPr>
        <p:spPr>
          <a:xfrm>
            <a:off x="533520" y="6076800"/>
            <a:ext cx="3733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Example from Ngo and Haddawy, 199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ogical Inference in BLPs </a:t>
            </a:r>
            <a:br>
              <a:rPr sz="3800"/>
            </a:b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 SLD Resolu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7E3595-C726-4449-975F-FC59374308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533520" y="1600200"/>
            <a:ext cx="3733560" cy="311148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james,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stefan,freibur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eighborhood(jam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rnado(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Arial"/>
              </a:rPr>
              <a:t>burglary(X) | neighborhood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X) | burglary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X) | lives(X,Y), tornado(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533520" y="4495680"/>
            <a:ext cx="3733560" cy="64260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4572000" y="1557360"/>
            <a:ext cx="3733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Straight Arrow Connector 8"/>
          <p:cNvCxnSpPr/>
          <p:nvPr/>
        </p:nvCxnSpPr>
        <p:spPr>
          <a:xfrm flipH="1">
            <a:off x="5562000" y="2481120"/>
            <a:ext cx="610200" cy="7200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6" name="TextBox 10"/>
          <p:cNvSpPr/>
          <p:nvPr/>
        </p:nvSpPr>
        <p:spPr>
          <a:xfrm>
            <a:off x="4191120" y="32767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rglary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Straight Arrow Connector 11"/>
          <p:cNvCxnSpPr/>
          <p:nvPr/>
        </p:nvCxnSpPr>
        <p:spPr>
          <a:xfrm flipH="1">
            <a:off x="5562360" y="3711600"/>
            <a:ext cx="2160" cy="7214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8" name="TextBox 12"/>
          <p:cNvSpPr/>
          <p:nvPr/>
        </p:nvSpPr>
        <p:spPr>
          <a:xfrm>
            <a:off x="4038480" y="450684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neighborhood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3"/>
          <p:cNvSpPr/>
          <p:nvPr/>
        </p:nvSpPr>
        <p:spPr>
          <a:xfrm>
            <a:off x="533520" y="6076800"/>
            <a:ext cx="3733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Example from Ngo and Haddawy, 199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ogical Inference in BLPs </a:t>
            </a:r>
            <a:br>
              <a:rPr sz="3800"/>
            </a:b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 SLD Resolu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164A9A-0F4E-4320-B2F0-CF4F32E825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533520" y="1600200"/>
            <a:ext cx="3733560" cy="311148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james,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stefan,freibur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ghborhood(jam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rnado(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burglary(X) | neighborhood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X) | burglary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X) | lives(X,Y), tornado(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533520" y="4495680"/>
            <a:ext cx="3733560" cy="64260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4572000" y="1557360"/>
            <a:ext cx="3733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Straight Arrow Connector 8"/>
          <p:cNvCxnSpPr/>
          <p:nvPr/>
        </p:nvCxnSpPr>
        <p:spPr>
          <a:xfrm flipH="1">
            <a:off x="5562000" y="2481120"/>
            <a:ext cx="610200" cy="7200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6" name="TextBox 10"/>
          <p:cNvSpPr/>
          <p:nvPr/>
        </p:nvSpPr>
        <p:spPr>
          <a:xfrm>
            <a:off x="4191120" y="32767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burglary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Straight Arrow Connector 11"/>
          <p:cNvCxnSpPr/>
          <p:nvPr/>
        </p:nvCxnSpPr>
        <p:spPr>
          <a:xfrm flipH="1">
            <a:off x="5562360" y="3711600"/>
            <a:ext cx="2160" cy="7214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8" name="TextBox 12"/>
          <p:cNvSpPr/>
          <p:nvPr/>
        </p:nvSpPr>
        <p:spPr>
          <a:xfrm>
            <a:off x="4038480" y="450684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neighborhood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3"/>
          <p:cNvSpPr/>
          <p:nvPr/>
        </p:nvSpPr>
        <p:spPr>
          <a:xfrm>
            <a:off x="533520" y="6076800"/>
            <a:ext cx="3733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Example from Ngo and Haddawy, 199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Straight Arrow Connector 12"/>
          <p:cNvCxnSpPr/>
          <p:nvPr/>
        </p:nvCxnSpPr>
        <p:spPr>
          <a:xfrm flipH="1">
            <a:off x="5028840" y="3733920"/>
            <a:ext cx="2160" cy="721440"/>
          </a:xfrm>
          <a:prstGeom prst="straightConnector1">
            <a:avLst/>
          </a:prstGeom>
          <a:ln w="57240">
            <a:solidFill>
              <a:srgbClr val="007100"/>
            </a:solidFill>
            <a:prstDash val="sysDash"/>
            <a:miter/>
            <a:head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ontent Placeholder 3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3048120" cy="4179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3657600" y="1219320"/>
            <a:ext cx="4572000" cy="198108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$ cd my-d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$ cp test1.txt test-d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$ rm test1.t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3581280" y="3124080"/>
            <a:ext cx="51818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task is the user perform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ff6600"/>
                </a:solidFill>
                <a:latin typeface="Arial"/>
                <a:ea typeface="Arial"/>
              </a:rPr>
              <a:t>move-fi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3581280" y="3741840"/>
            <a:ext cx="5105520" cy="10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ich files and directories are involv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ff6600"/>
                </a:solidFill>
                <a:latin typeface="Arial"/>
                <a:ea typeface="Arial"/>
              </a:rPr>
              <a:t>test1.tx and test-di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Plan Recognition in 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Intelligent User Interfaces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0" name="Slide Number Placeholder 10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E3662F-E03E-43DF-A7FF-9F202C26CA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1"/>
          <p:cNvSpPr/>
          <p:nvPr/>
        </p:nvSpPr>
        <p:spPr>
          <a:xfrm>
            <a:off x="3505320" y="4732200"/>
            <a:ext cx="51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the task be performed more efficient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3"/>
          <p:cNvSpPr/>
          <p:nvPr/>
        </p:nvSpPr>
        <p:spPr>
          <a:xfrm>
            <a:off x="457200" y="5715000"/>
            <a:ext cx="822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Data is relational in nature - several files and directories and several relations between th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ogical Inference in BLPs </a:t>
            </a:r>
            <a:br>
              <a:rPr sz="3800"/>
            </a:b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 SLD Resolu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31AF91-5073-4743-BC12-61B49247FD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533520" y="1600200"/>
            <a:ext cx="3733560" cy="311148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james,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stefan,freibur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ghborhood(jam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rnado(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Arial"/>
              </a:rPr>
              <a:t>burglary(X) | neighborhood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alarm(X) | burglary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X) | lives(X,Y), tornado(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533520" y="4495680"/>
            <a:ext cx="3733560" cy="64260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4572000" y="1557360"/>
            <a:ext cx="3733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alarm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Straight Arrow Connector 8"/>
          <p:cNvCxnSpPr/>
          <p:nvPr/>
        </p:nvCxnSpPr>
        <p:spPr>
          <a:xfrm flipH="1">
            <a:off x="5562000" y="2481120"/>
            <a:ext cx="610200" cy="7200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7" name="TextBox 10"/>
          <p:cNvSpPr/>
          <p:nvPr/>
        </p:nvSpPr>
        <p:spPr>
          <a:xfrm>
            <a:off x="4191120" y="32767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burglary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Straight Arrow Connector 11"/>
          <p:cNvCxnSpPr/>
          <p:nvPr/>
        </p:nvCxnSpPr>
        <p:spPr>
          <a:xfrm flipH="1">
            <a:off x="5562360" y="3711600"/>
            <a:ext cx="2160" cy="7214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9" name="TextBox 12"/>
          <p:cNvSpPr/>
          <p:nvPr/>
        </p:nvSpPr>
        <p:spPr>
          <a:xfrm>
            <a:off x="4038480" y="450684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neighborhood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3"/>
          <p:cNvSpPr/>
          <p:nvPr/>
        </p:nvSpPr>
        <p:spPr>
          <a:xfrm>
            <a:off x="533520" y="6076800"/>
            <a:ext cx="3733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Example from Ngo and Haddawy, 199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Straight Arrow Connector 12"/>
          <p:cNvCxnSpPr/>
          <p:nvPr/>
        </p:nvCxnSpPr>
        <p:spPr>
          <a:xfrm flipH="1">
            <a:off x="5028840" y="2514600"/>
            <a:ext cx="535680" cy="721440"/>
          </a:xfrm>
          <a:prstGeom prst="straightConnector1">
            <a:avLst/>
          </a:prstGeom>
          <a:ln w="57240">
            <a:solidFill>
              <a:srgbClr val="007100"/>
            </a:solidFill>
            <a:prstDash val="sysDash"/>
            <a:miter/>
            <a:head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ogical Inference in BLPs </a:t>
            </a:r>
            <a:br>
              <a:rPr sz="3800"/>
            </a:b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 SLD Resolu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80000A-8DA3-49DA-8097-4530BB9F78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4"/>
          <p:cNvSpPr/>
          <p:nvPr/>
        </p:nvSpPr>
        <p:spPr>
          <a:xfrm>
            <a:off x="533520" y="1600200"/>
            <a:ext cx="3733560" cy="311148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james,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stefan,freibur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ghborhood(jam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rnado(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Arial"/>
              </a:rPr>
              <a:t>burglary(X) | neighborhood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X) | burglary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larm(X) | lives(X,Y), tornado(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5"/>
          <p:cNvSpPr/>
          <p:nvPr/>
        </p:nvSpPr>
        <p:spPr>
          <a:xfrm>
            <a:off x="533520" y="4495680"/>
            <a:ext cx="3733560" cy="64260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6"/>
          <p:cNvSpPr/>
          <p:nvPr/>
        </p:nvSpPr>
        <p:spPr>
          <a:xfrm>
            <a:off x="4572000" y="1557360"/>
            <a:ext cx="3733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Straight Arrow Connector 8"/>
          <p:cNvCxnSpPr/>
          <p:nvPr/>
        </p:nvCxnSpPr>
        <p:spPr>
          <a:xfrm flipH="1">
            <a:off x="5562000" y="2481120"/>
            <a:ext cx="610200" cy="7200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8" name="TextBox 10"/>
          <p:cNvSpPr/>
          <p:nvPr/>
        </p:nvSpPr>
        <p:spPr>
          <a:xfrm>
            <a:off x="4191120" y="32767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rglary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Straight Arrow Connector 11"/>
          <p:cNvCxnSpPr/>
          <p:nvPr/>
        </p:nvCxnSpPr>
        <p:spPr>
          <a:xfrm flipH="1">
            <a:off x="5562360" y="3711600"/>
            <a:ext cx="2160" cy="7214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0" name="TextBox 12"/>
          <p:cNvSpPr/>
          <p:nvPr/>
        </p:nvSpPr>
        <p:spPr>
          <a:xfrm>
            <a:off x="4038480" y="450684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ighborhood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Straight Arrow Connector 13"/>
          <p:cNvCxnSpPr>
            <a:stCxn id="166" idx="2"/>
          </p:cNvCxnSpPr>
          <p:nvPr/>
        </p:nvCxnSpPr>
        <p:spPr>
          <a:xfrm>
            <a:off x="6437880" y="2481120"/>
            <a:ext cx="1028880" cy="7200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72" name="TextBox 19"/>
          <p:cNvSpPr/>
          <p:nvPr/>
        </p:nvSpPr>
        <p:spPr>
          <a:xfrm>
            <a:off x="6324480" y="33163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ives(james,Y) tornado(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20"/>
          <p:cNvSpPr/>
          <p:nvPr/>
        </p:nvSpPr>
        <p:spPr>
          <a:xfrm>
            <a:off x="533520" y="6076800"/>
            <a:ext cx="3733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Example from Ngo and Haddawy, 199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ogical Inference in BLPs </a:t>
            </a:r>
            <a:br>
              <a:rPr sz="3800"/>
            </a:b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 SLD Resolu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ED33E5-B165-46F8-885C-5FA0D4E320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4"/>
          <p:cNvSpPr/>
          <p:nvPr/>
        </p:nvSpPr>
        <p:spPr>
          <a:xfrm>
            <a:off x="533520" y="1600200"/>
            <a:ext cx="3733560" cy="311148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lives(james,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stefan,freibur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ghborhood(jam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rnado(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Arial"/>
              </a:rPr>
              <a:t>burglary(X) | neighborhood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X) | burglary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X) | lives(X,Y), tornado(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5"/>
          <p:cNvSpPr/>
          <p:nvPr/>
        </p:nvSpPr>
        <p:spPr>
          <a:xfrm>
            <a:off x="533520" y="4495680"/>
            <a:ext cx="3733560" cy="64260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6"/>
          <p:cNvSpPr/>
          <p:nvPr/>
        </p:nvSpPr>
        <p:spPr>
          <a:xfrm>
            <a:off x="4572000" y="1557360"/>
            <a:ext cx="3733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Straight Arrow Connector 8"/>
          <p:cNvCxnSpPr/>
          <p:nvPr/>
        </p:nvCxnSpPr>
        <p:spPr>
          <a:xfrm flipH="1">
            <a:off x="5562000" y="2481120"/>
            <a:ext cx="610200" cy="7200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0" name="TextBox 10"/>
          <p:cNvSpPr/>
          <p:nvPr/>
        </p:nvSpPr>
        <p:spPr>
          <a:xfrm>
            <a:off x="4191120" y="32767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rglary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Straight Arrow Connector 11"/>
          <p:cNvCxnSpPr/>
          <p:nvPr/>
        </p:nvCxnSpPr>
        <p:spPr>
          <a:xfrm flipH="1">
            <a:off x="5562360" y="3711600"/>
            <a:ext cx="2160" cy="7214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2" name="TextBox 12"/>
          <p:cNvSpPr/>
          <p:nvPr/>
        </p:nvSpPr>
        <p:spPr>
          <a:xfrm>
            <a:off x="4038480" y="450684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ighborhood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Straight Arrow Connector 13"/>
          <p:cNvCxnSpPr>
            <a:stCxn id="178" idx="2"/>
          </p:cNvCxnSpPr>
          <p:nvPr/>
        </p:nvCxnSpPr>
        <p:spPr>
          <a:xfrm>
            <a:off x="6437880" y="2481120"/>
            <a:ext cx="1028880" cy="7200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4" name="TextBox 19"/>
          <p:cNvSpPr/>
          <p:nvPr/>
        </p:nvSpPr>
        <p:spPr>
          <a:xfrm>
            <a:off x="6324480" y="33163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ves(james,Y) tornado(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Straight Arrow Connector 14"/>
          <p:cNvCxnSpPr/>
          <p:nvPr/>
        </p:nvCxnSpPr>
        <p:spPr>
          <a:xfrm flipH="1">
            <a:off x="7160400" y="3733560"/>
            <a:ext cx="2520" cy="7196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6" name="TextBox 15"/>
          <p:cNvSpPr/>
          <p:nvPr/>
        </p:nvSpPr>
        <p:spPr>
          <a:xfrm>
            <a:off x="6324480" y="449568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lives(james,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6"/>
          <p:cNvSpPr/>
          <p:nvPr/>
        </p:nvSpPr>
        <p:spPr>
          <a:xfrm>
            <a:off x="533520" y="6076800"/>
            <a:ext cx="3733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Example from Ngo and Haddawy, 199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ogical Inference in BLPs </a:t>
            </a:r>
            <a:br>
              <a:rPr sz="3800"/>
            </a:b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 SLD Resolu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0DD474-B771-4E20-A9C3-AFE3C53D72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4"/>
          <p:cNvSpPr/>
          <p:nvPr/>
        </p:nvSpPr>
        <p:spPr>
          <a:xfrm>
            <a:off x="533520" y="1600200"/>
            <a:ext cx="3733560" cy="311148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james,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stefan,freibur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ghborhood(jam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ornado(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Arial"/>
              </a:rPr>
              <a:t>burglary(X) | neighborhood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X) | burglary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X) | lives(X,Y), tornado(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"/>
          <p:cNvSpPr/>
          <p:nvPr/>
        </p:nvSpPr>
        <p:spPr>
          <a:xfrm>
            <a:off x="533520" y="4495680"/>
            <a:ext cx="3733560" cy="64260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6"/>
          <p:cNvSpPr/>
          <p:nvPr/>
        </p:nvSpPr>
        <p:spPr>
          <a:xfrm>
            <a:off x="4572000" y="1557360"/>
            <a:ext cx="3733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Straight Arrow Connector 8"/>
          <p:cNvCxnSpPr/>
          <p:nvPr/>
        </p:nvCxnSpPr>
        <p:spPr>
          <a:xfrm flipH="1">
            <a:off x="5562000" y="2481120"/>
            <a:ext cx="610200" cy="7200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4" name="TextBox 10"/>
          <p:cNvSpPr/>
          <p:nvPr/>
        </p:nvSpPr>
        <p:spPr>
          <a:xfrm>
            <a:off x="4191120" y="32767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rglary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Straight Arrow Connector 11"/>
          <p:cNvCxnSpPr/>
          <p:nvPr/>
        </p:nvCxnSpPr>
        <p:spPr>
          <a:xfrm flipH="1">
            <a:off x="5562360" y="3711600"/>
            <a:ext cx="2160" cy="7214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6" name="TextBox 12"/>
          <p:cNvSpPr/>
          <p:nvPr/>
        </p:nvSpPr>
        <p:spPr>
          <a:xfrm>
            <a:off x="4038480" y="450684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ighborhood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Straight Arrow Connector 13"/>
          <p:cNvCxnSpPr>
            <a:stCxn id="192" idx="2"/>
          </p:cNvCxnSpPr>
          <p:nvPr/>
        </p:nvCxnSpPr>
        <p:spPr>
          <a:xfrm>
            <a:off x="6437880" y="2481120"/>
            <a:ext cx="1028880" cy="7200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8" name="TextBox 19"/>
          <p:cNvSpPr/>
          <p:nvPr/>
        </p:nvSpPr>
        <p:spPr>
          <a:xfrm>
            <a:off x="6324480" y="33163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ves(james,Y) tornado(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Straight Arrow Connector 14"/>
          <p:cNvCxnSpPr/>
          <p:nvPr/>
        </p:nvCxnSpPr>
        <p:spPr>
          <a:xfrm flipH="1">
            <a:off x="7160400" y="3733560"/>
            <a:ext cx="2520" cy="7196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0" name="TextBox 15"/>
          <p:cNvSpPr/>
          <p:nvPr/>
        </p:nvSpPr>
        <p:spPr>
          <a:xfrm>
            <a:off x="6324480" y="449568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ves(james,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Straight Arrow Connector 16"/>
          <p:cNvCxnSpPr/>
          <p:nvPr/>
        </p:nvCxnSpPr>
        <p:spPr>
          <a:xfrm flipH="1">
            <a:off x="8305560" y="3700080"/>
            <a:ext cx="2160" cy="1443960"/>
          </a:xfrm>
          <a:prstGeom prst="straightConnector1">
            <a:avLst/>
          </a:prstGeom>
          <a:ln w="57240">
            <a:solidFill>
              <a:srgbClr val="000000"/>
            </a:solidFill>
            <a:prstDash val="sysDot"/>
            <a:miter/>
            <a:tailEnd len="med" type="arrow" w="med"/>
          </a:ln>
        </p:spPr>
      </p:cxnSp>
      <p:sp>
        <p:nvSpPr>
          <p:cNvPr id="202" name="TextBox 18"/>
          <p:cNvSpPr/>
          <p:nvPr/>
        </p:nvSpPr>
        <p:spPr>
          <a:xfrm>
            <a:off x="6400800" y="537696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tornado(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0"/>
          <p:cNvSpPr/>
          <p:nvPr/>
        </p:nvSpPr>
        <p:spPr>
          <a:xfrm>
            <a:off x="533520" y="6076800"/>
            <a:ext cx="3733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Example from Ngo and Haddawy, 199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ogical Inference in BLPs </a:t>
            </a:r>
            <a:br>
              <a:rPr sz="3800"/>
            </a:b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 SLD Resolu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FB9853-0420-47E7-A0A8-765ECAEF58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533520" y="1600200"/>
            <a:ext cx="3733560" cy="311148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james,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(stefan,freibur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ghborhood(jam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rnado(yorkshi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Arial"/>
              </a:rPr>
              <a:t>burglary(X) | neighborhood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X) | burglary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7100"/>
                </a:solidFill>
                <a:latin typeface="Arial"/>
              </a:rPr>
              <a:t>alarm(X) | lives(X,Y), tornado(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5"/>
          <p:cNvSpPr/>
          <p:nvPr/>
        </p:nvSpPr>
        <p:spPr>
          <a:xfrm>
            <a:off x="533520" y="4495680"/>
            <a:ext cx="3733560" cy="64260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rm(ja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6"/>
          <p:cNvSpPr/>
          <p:nvPr/>
        </p:nvSpPr>
        <p:spPr>
          <a:xfrm>
            <a:off x="4572000" y="1557360"/>
            <a:ext cx="3733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7100"/>
                </a:solidFill>
                <a:latin typeface="Arial"/>
              </a:rPr>
              <a:t>alarm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Straight Arrow Connector 8"/>
          <p:cNvCxnSpPr/>
          <p:nvPr/>
        </p:nvCxnSpPr>
        <p:spPr>
          <a:xfrm flipH="1">
            <a:off x="5562000" y="2481120"/>
            <a:ext cx="610200" cy="7200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0" name="TextBox 10"/>
          <p:cNvSpPr/>
          <p:nvPr/>
        </p:nvSpPr>
        <p:spPr>
          <a:xfrm>
            <a:off x="4191120" y="32767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rglary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Straight Arrow Connector 11"/>
          <p:cNvCxnSpPr/>
          <p:nvPr/>
        </p:nvCxnSpPr>
        <p:spPr>
          <a:xfrm flipH="1">
            <a:off x="5562360" y="3711600"/>
            <a:ext cx="2160" cy="7214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2" name="TextBox 12"/>
          <p:cNvSpPr/>
          <p:nvPr/>
        </p:nvSpPr>
        <p:spPr>
          <a:xfrm>
            <a:off x="4038480" y="450684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ighborhood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13"/>
          <p:cNvCxnSpPr>
            <a:stCxn id="208" idx="2"/>
          </p:cNvCxnSpPr>
          <p:nvPr/>
        </p:nvCxnSpPr>
        <p:spPr>
          <a:xfrm>
            <a:off x="6437880" y="2481120"/>
            <a:ext cx="1028880" cy="7200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4" name="TextBox 19"/>
          <p:cNvSpPr/>
          <p:nvPr/>
        </p:nvSpPr>
        <p:spPr>
          <a:xfrm>
            <a:off x="6324480" y="33163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ves(james,Y) tornado(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Straight Arrow Connector 14"/>
          <p:cNvCxnSpPr/>
          <p:nvPr/>
        </p:nvCxnSpPr>
        <p:spPr>
          <a:xfrm flipH="1">
            <a:off x="7160400" y="3733560"/>
            <a:ext cx="2520" cy="7196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6" name="TextBox 15"/>
          <p:cNvSpPr/>
          <p:nvPr/>
        </p:nvSpPr>
        <p:spPr>
          <a:xfrm>
            <a:off x="6324480" y="449568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ves(james,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Straight Arrow Connector 16"/>
          <p:cNvCxnSpPr/>
          <p:nvPr/>
        </p:nvCxnSpPr>
        <p:spPr>
          <a:xfrm flipH="1">
            <a:off x="8305560" y="3700080"/>
            <a:ext cx="2160" cy="1443960"/>
          </a:xfrm>
          <a:prstGeom prst="straightConnector1">
            <a:avLst/>
          </a:prstGeom>
          <a:ln w="57240">
            <a:solidFill>
              <a:srgbClr val="000000"/>
            </a:solidFill>
            <a:prstDash val="sysDot"/>
            <a:miter/>
            <a:tailEnd len="med" type="arrow" w="med"/>
          </a:ln>
        </p:spPr>
      </p:cxnSp>
      <p:sp>
        <p:nvSpPr>
          <p:cNvPr id="218" name="TextBox 18"/>
          <p:cNvSpPr/>
          <p:nvPr/>
        </p:nvSpPr>
        <p:spPr>
          <a:xfrm>
            <a:off x="6400800" y="537696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rnado(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20"/>
          <p:cNvSpPr/>
          <p:nvPr/>
        </p:nvSpPr>
        <p:spPr>
          <a:xfrm>
            <a:off x="533520" y="6076800"/>
            <a:ext cx="3733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Example from Ngo and Haddawy, 199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Straight Arrow Connector 17"/>
          <p:cNvCxnSpPr/>
          <p:nvPr/>
        </p:nvCxnSpPr>
        <p:spPr>
          <a:xfrm>
            <a:off x="7048440" y="2481120"/>
            <a:ext cx="1029600" cy="720000"/>
          </a:xfrm>
          <a:prstGeom prst="straightConnector1">
            <a:avLst/>
          </a:prstGeom>
          <a:ln w="57240">
            <a:solidFill>
              <a:srgbClr val="007100"/>
            </a:solidFill>
            <a:prstDash val="sysDash"/>
            <a:miter/>
            <a:head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Bayesian Network Construc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9B3604-AB5B-4382-8CEB-5CF01F51F5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4"/>
          <p:cNvSpPr/>
          <p:nvPr/>
        </p:nvSpPr>
        <p:spPr>
          <a:xfrm>
            <a:off x="2362320" y="354816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larm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5"/>
          <p:cNvSpPr/>
          <p:nvPr/>
        </p:nvSpPr>
        <p:spPr>
          <a:xfrm>
            <a:off x="1143000" y="263376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urglary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1066680" y="133812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neighborhood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7"/>
          <p:cNvSpPr/>
          <p:nvPr/>
        </p:nvSpPr>
        <p:spPr>
          <a:xfrm>
            <a:off x="3733920" y="263376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ves(james,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8"/>
          <p:cNvSpPr/>
          <p:nvPr/>
        </p:nvSpPr>
        <p:spPr>
          <a:xfrm>
            <a:off x="6400800" y="263376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ornado(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Straight Arrow Connector 9"/>
          <p:cNvCxnSpPr/>
          <p:nvPr/>
        </p:nvCxnSpPr>
        <p:spPr>
          <a:xfrm flipH="1">
            <a:off x="2361960" y="1685880"/>
            <a:ext cx="2160" cy="9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9" name="Straight Arrow Connector 14"/>
          <p:cNvCxnSpPr/>
          <p:nvPr/>
        </p:nvCxnSpPr>
        <p:spPr>
          <a:xfrm>
            <a:off x="2516040" y="3090960"/>
            <a:ext cx="1447200" cy="457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0" name="Straight Arrow Connector 16"/>
          <p:cNvCxnSpPr>
            <a:stCxn id="226" idx="2"/>
          </p:cNvCxnSpPr>
          <p:nvPr/>
        </p:nvCxnSpPr>
        <p:spPr>
          <a:xfrm flipH="1">
            <a:off x="4495320" y="2971440"/>
            <a:ext cx="572400" cy="577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1" name="Straight Arrow Connector 19"/>
          <p:cNvCxnSpPr/>
          <p:nvPr/>
        </p:nvCxnSpPr>
        <p:spPr>
          <a:xfrm flipH="1">
            <a:off x="4876200" y="2970720"/>
            <a:ext cx="2362680" cy="6102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2" name="TextBox 23"/>
          <p:cNvSpPr/>
          <p:nvPr/>
        </p:nvSpPr>
        <p:spPr>
          <a:xfrm>
            <a:off x="457200" y="42670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ach ground atom becomes a node (random variable) in the Bayesian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4"/>
          <p:cNvSpPr/>
          <p:nvPr/>
        </p:nvSpPr>
        <p:spPr>
          <a:xfrm>
            <a:off x="457200" y="4876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ges are added from ground atoms in the body of a clause to the ground atom in the 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523880" y="1909800"/>
          <a:ext cx="457200" cy="45252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2286000" y="3281400"/>
          <a:ext cx="457200" cy="45252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6232680" y="3352680"/>
          <a:ext cx="625320" cy="5842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  <p:sp>
        <p:nvSpPr>
          <p:cNvPr id="237" name="TextBox 29"/>
          <p:cNvSpPr/>
          <p:nvPr/>
        </p:nvSpPr>
        <p:spPr>
          <a:xfrm>
            <a:off x="457200" y="5486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ecify probabilistic parameters using the CPTs associated with Bayesian cl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Bayesian Network Construc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0919C5-D1B1-4C99-ABDD-8EF6E36FE0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2362320" y="354816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alarm(ja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5"/>
          <p:cNvSpPr/>
          <p:nvPr/>
        </p:nvSpPr>
        <p:spPr>
          <a:xfrm>
            <a:off x="1143000" y="263376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burglary(ja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6"/>
          <p:cNvSpPr/>
          <p:nvPr/>
        </p:nvSpPr>
        <p:spPr>
          <a:xfrm>
            <a:off x="1066680" y="133812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neighborhood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3733920" y="263376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ves(james,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8"/>
          <p:cNvSpPr/>
          <p:nvPr/>
        </p:nvSpPr>
        <p:spPr>
          <a:xfrm>
            <a:off x="6400800" y="263376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ornado(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Straight Arrow Connector 9"/>
          <p:cNvCxnSpPr/>
          <p:nvPr/>
        </p:nvCxnSpPr>
        <p:spPr>
          <a:xfrm flipH="1">
            <a:off x="2361960" y="1685880"/>
            <a:ext cx="2160" cy="9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6" name="Straight Arrow Connector 14"/>
          <p:cNvCxnSpPr/>
          <p:nvPr/>
        </p:nvCxnSpPr>
        <p:spPr>
          <a:xfrm>
            <a:off x="2516040" y="3090960"/>
            <a:ext cx="1447200" cy="45792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247" name="Straight Arrow Connector 16"/>
          <p:cNvCxnSpPr>
            <a:stCxn id="243" idx="2"/>
          </p:cNvCxnSpPr>
          <p:nvPr/>
        </p:nvCxnSpPr>
        <p:spPr>
          <a:xfrm flipH="1">
            <a:off x="4495320" y="2971440"/>
            <a:ext cx="572400" cy="577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8" name="Straight Arrow Connector 19"/>
          <p:cNvCxnSpPr/>
          <p:nvPr/>
        </p:nvCxnSpPr>
        <p:spPr>
          <a:xfrm flipH="1">
            <a:off x="4876200" y="2970720"/>
            <a:ext cx="2362680" cy="6102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9" name="TextBox 23"/>
          <p:cNvSpPr/>
          <p:nvPr/>
        </p:nvSpPr>
        <p:spPr>
          <a:xfrm>
            <a:off x="457200" y="42670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ach ground atom becomes a node (random variable) in the Bayesian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4"/>
          <p:cNvSpPr/>
          <p:nvPr/>
        </p:nvSpPr>
        <p:spPr>
          <a:xfrm>
            <a:off x="457200" y="4876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ges are added from ground atoms in the body of a clause to the ground atom in the 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523880" y="1909800"/>
          <a:ext cx="457200" cy="45252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2286000" y="3281400"/>
          <a:ext cx="457200" cy="45252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0071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0071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6232680" y="3352680"/>
          <a:ext cx="625320" cy="5842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  <p:sp>
        <p:nvSpPr>
          <p:cNvPr id="254" name="TextBox 29"/>
          <p:cNvSpPr/>
          <p:nvPr/>
        </p:nvSpPr>
        <p:spPr>
          <a:xfrm>
            <a:off x="457200" y="5486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ecify probabilistic parameters using the CPTs associated with Bayesian cl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Bayesian Network Construc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18B6D1-E134-453D-ACEB-4477E629EB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4"/>
          <p:cNvSpPr/>
          <p:nvPr/>
        </p:nvSpPr>
        <p:spPr>
          <a:xfrm>
            <a:off x="2362320" y="354816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9e0417"/>
                </a:solidFill>
                <a:latin typeface="Arial"/>
              </a:rPr>
              <a:t>alarm(ja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5"/>
          <p:cNvSpPr/>
          <p:nvPr/>
        </p:nvSpPr>
        <p:spPr>
          <a:xfrm>
            <a:off x="1143000" y="263376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urglary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6"/>
          <p:cNvSpPr/>
          <p:nvPr/>
        </p:nvSpPr>
        <p:spPr>
          <a:xfrm>
            <a:off x="1066680" y="133812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neighborhood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7"/>
          <p:cNvSpPr/>
          <p:nvPr/>
        </p:nvSpPr>
        <p:spPr>
          <a:xfrm>
            <a:off x="3505320" y="26478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9e0417"/>
                </a:solidFill>
                <a:latin typeface="Arial"/>
              </a:rPr>
              <a:t>lives(james,yorkshi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8"/>
          <p:cNvSpPr/>
          <p:nvPr/>
        </p:nvSpPr>
        <p:spPr>
          <a:xfrm>
            <a:off x="6400800" y="263376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9e0417"/>
                </a:solidFill>
                <a:latin typeface="Arial"/>
              </a:rPr>
              <a:t>tornado(yorkshi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Straight Arrow Connector 9"/>
          <p:cNvCxnSpPr/>
          <p:nvPr/>
        </p:nvCxnSpPr>
        <p:spPr>
          <a:xfrm flipH="1">
            <a:off x="2361960" y="1685880"/>
            <a:ext cx="2160" cy="9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3" name="Straight Arrow Connector 14"/>
          <p:cNvCxnSpPr/>
          <p:nvPr/>
        </p:nvCxnSpPr>
        <p:spPr>
          <a:xfrm>
            <a:off x="2516040" y="3090960"/>
            <a:ext cx="1447200" cy="457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4" name="Straight Arrow Connector 19"/>
          <p:cNvCxnSpPr/>
          <p:nvPr/>
        </p:nvCxnSpPr>
        <p:spPr>
          <a:xfrm flipH="1">
            <a:off x="4876200" y="2970720"/>
            <a:ext cx="2362680" cy="61020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arrow" w="med"/>
          </a:ln>
        </p:spPr>
      </p:cxnSp>
      <p:sp>
        <p:nvSpPr>
          <p:cNvPr id="265" name="TextBox 23"/>
          <p:cNvSpPr/>
          <p:nvPr/>
        </p:nvSpPr>
        <p:spPr>
          <a:xfrm>
            <a:off x="457200" y="42670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ach ground atom becomes a node (random variable) in the Bayesian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4"/>
          <p:cNvSpPr/>
          <p:nvPr/>
        </p:nvSpPr>
        <p:spPr>
          <a:xfrm>
            <a:off x="457200" y="4876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ges are added from ground atoms in the body of a clause to the ground atom in the 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523880" y="1909800"/>
          <a:ext cx="457200" cy="45252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2286000" y="3281400"/>
          <a:ext cx="457200" cy="45252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6232680" y="3352680"/>
          <a:ext cx="625320" cy="5842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800000"/>
                    </a:solidFill>
                  </a:tcPr>
                </a:tc>
              </a:tr>
            </a:tbl>
          </a:graphicData>
        </a:graphic>
      </p:graphicFrame>
      <p:sp>
        <p:nvSpPr>
          <p:cNvPr id="270" name="TextBox 29"/>
          <p:cNvSpPr/>
          <p:nvPr/>
        </p:nvSpPr>
        <p:spPr>
          <a:xfrm>
            <a:off x="457200" y="5486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ecify probabilistic parameters using the CPTs associated with Bayesian cl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Straight Arrow Connector 21"/>
          <p:cNvCxnSpPr/>
          <p:nvPr/>
        </p:nvCxnSpPr>
        <p:spPr>
          <a:xfrm flipH="1">
            <a:off x="4495320" y="2971440"/>
            <a:ext cx="572400" cy="577080"/>
          </a:xfrm>
          <a:prstGeom prst="straightConnector1">
            <a:avLst/>
          </a:prstGeom>
          <a:ln w="57240">
            <a:solidFill>
              <a:srgbClr val="8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Bayesian Network Construc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13F098-4D0F-47F3-B039-1CB64B9392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4"/>
          <p:cNvSpPr/>
          <p:nvPr/>
        </p:nvSpPr>
        <p:spPr>
          <a:xfrm>
            <a:off x="2362320" y="354816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larm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5"/>
          <p:cNvSpPr/>
          <p:nvPr/>
        </p:nvSpPr>
        <p:spPr>
          <a:xfrm>
            <a:off x="1143000" y="263376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urglary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6"/>
          <p:cNvSpPr/>
          <p:nvPr/>
        </p:nvSpPr>
        <p:spPr>
          <a:xfrm>
            <a:off x="1066680" y="133812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neighborhood(ja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7"/>
          <p:cNvSpPr/>
          <p:nvPr/>
        </p:nvSpPr>
        <p:spPr>
          <a:xfrm>
            <a:off x="3733920" y="263376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ves(james,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8"/>
          <p:cNvSpPr/>
          <p:nvPr/>
        </p:nvSpPr>
        <p:spPr>
          <a:xfrm>
            <a:off x="6400800" y="263376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ornado(yorksh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9" name="Straight Arrow Connector 9"/>
          <p:cNvCxnSpPr/>
          <p:nvPr/>
        </p:nvCxnSpPr>
        <p:spPr>
          <a:xfrm flipH="1">
            <a:off x="2361960" y="1685880"/>
            <a:ext cx="2160" cy="9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0" name="Straight Arrow Connector 14"/>
          <p:cNvCxnSpPr/>
          <p:nvPr/>
        </p:nvCxnSpPr>
        <p:spPr>
          <a:xfrm>
            <a:off x="2516040" y="3090960"/>
            <a:ext cx="1447200" cy="457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1" name="Straight Arrow Connector 16"/>
          <p:cNvCxnSpPr>
            <a:stCxn id="277" idx="2"/>
          </p:cNvCxnSpPr>
          <p:nvPr/>
        </p:nvCxnSpPr>
        <p:spPr>
          <a:xfrm flipH="1">
            <a:off x="4495320" y="2971440"/>
            <a:ext cx="572400" cy="577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2" name="Straight Arrow Connector 19"/>
          <p:cNvCxnSpPr/>
          <p:nvPr/>
        </p:nvCxnSpPr>
        <p:spPr>
          <a:xfrm flipH="1">
            <a:off x="4876200" y="2970720"/>
            <a:ext cx="2362680" cy="6102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3" name="TextBox 23"/>
          <p:cNvSpPr/>
          <p:nvPr/>
        </p:nvSpPr>
        <p:spPr>
          <a:xfrm>
            <a:off x="457200" y="42670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ach ground atom becomes a node (random variable) in the Bayesian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24"/>
          <p:cNvSpPr/>
          <p:nvPr/>
        </p:nvSpPr>
        <p:spPr>
          <a:xfrm>
            <a:off x="457200" y="4876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ges are added from ground atoms in the body of a clause to the ground atom in the 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1523880" y="1909800"/>
          <a:ext cx="457200" cy="45252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sp>
        <p:nvSpPr>
          <p:cNvPr id="286" name="TextBox 29"/>
          <p:cNvSpPr/>
          <p:nvPr/>
        </p:nvSpPr>
        <p:spPr>
          <a:xfrm>
            <a:off x="457200" y="5486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ecify probabilistic parameters using the CPTs associated with Bayesian cl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8"/>
          <p:cNvSpPr/>
          <p:nvPr/>
        </p:nvSpPr>
        <p:spPr>
          <a:xfrm>
            <a:off x="457200" y="610704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7100"/>
                </a:solidFill>
                <a:latin typeface="Arial"/>
              </a:rPr>
              <a:t>Use combining rule to combine multiple CPTs into a single C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1752480" y="3216240"/>
          <a:ext cx="833400" cy="105084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100"/>
                    </a:solidFill>
                  </a:tcPr>
                </a:tc>
              </a:tr>
            </a:tbl>
          </a:graphicData>
        </a:graphic>
      </p:graphicFrame>
      <p:sp>
        <p:nvSpPr>
          <p:cNvPr id="289" name="TextBox 31"/>
          <p:cNvSpPr/>
          <p:nvPr/>
        </p:nvSpPr>
        <p:spPr>
          <a:xfrm>
            <a:off x="5067360" y="1427040"/>
            <a:ext cx="3619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ives(stefan,freiburg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32"/>
          <p:cNvSpPr/>
          <p:nvPr/>
        </p:nvSpPr>
        <p:spPr>
          <a:xfrm>
            <a:off x="6172200" y="1219320"/>
            <a:ext cx="838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ff6600"/>
                </a:solidFill>
                <a:latin typeface="Zapf Dingbats"/>
                <a:ea typeface="Zapf Dingbats"/>
              </a:rPr>
              <a:t>✖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robabilistic Inference and Learning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obabilistic inferen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rginal probability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ven evid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st Probable Explanation (MPE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ven evid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earning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Kersting and De Raedt, 2008]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Expectation Maximization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Gradient-ascent based learning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Hill climbing search through the space of possible structures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B559F3-6F6B-45AB-B5B9-31C2C1DC96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Characteristics of Real World Data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447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lational or structured data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ral entities in the dom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ral relations between ent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always follow the i.i.d assum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esence of noise or uncertaint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certainty in the types of ent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certainty in the re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70AE9B-F2E5-4FE6-8C13-922949BE19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457200" y="4952880"/>
            <a:ext cx="79246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Traditional approaches like </a:t>
            </a:r>
            <a:r>
              <a:rPr b="1" i="1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first-order logic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or </a:t>
            </a:r>
            <a:r>
              <a:rPr b="1" i="1" lang="en-US" sz="2500" spc="-1" strike="noStrike">
                <a:solidFill>
                  <a:srgbClr val="005500"/>
                </a:solidFill>
                <a:latin typeface="Arial"/>
                <a:ea typeface="Arial"/>
              </a:rPr>
              <a:t>probabilistic models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an handle either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structured data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or </a:t>
            </a:r>
            <a:r>
              <a:rPr b="1" lang="en-US" sz="2500" spc="-1" strike="noStrike">
                <a:solidFill>
                  <a:srgbClr val="005500"/>
                </a:solidFill>
                <a:latin typeface="Arial"/>
                <a:ea typeface="Arial"/>
              </a:rPr>
              <a:t>uncertainty,</a:t>
            </a:r>
            <a:r>
              <a:rPr b="0" lang="en-US" sz="2500" spc="-1" strike="noStrike">
                <a:solidFill>
                  <a:srgbClr val="005500"/>
                </a:solidFill>
                <a:latin typeface="Arial"/>
                <a:ea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but not both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art 1</a:t>
            </a:r>
            <a:br>
              <a:rPr sz="3800"/>
            </a:b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Extending BLPs for Plan Recognition</a:t>
            </a:r>
            <a:br>
              <a:rPr sz="3800"/>
            </a:b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Raghavan and Mooney, 2010]</a:t>
            </a:r>
            <a:br>
              <a:rPr sz="1500"/>
            </a:br>
            <a:endParaRPr b="0" lang="en-US" sz="15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8E8CBB-150F-4010-8925-56C1D19EDC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lan Recogni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edict an agent’s top-level plans based on the observed ac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Abductive reasoning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involving inference of cause from effec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23880" indent="-2397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ory Understa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Recognize character’s motives or plans based on its actions to answer questions about the story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1" marL="623880" indent="-2397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ategic pla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Predict other agents’ plans so as to work co-operatively 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1" marL="623880" indent="-2397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lligent User Interf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Predict the task that the user is performing so as to provide valuable tips to perform the task more efficiently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5F5F6C-57A3-40C4-B76D-575A5590D2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Related Work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7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rst-order logic based approaches </a:t>
            </a:r>
            <a:r>
              <a:rPr b="0" i="1" lang="en-US" sz="1500" spc="-1" strike="noStrike">
                <a:solidFill>
                  <a:srgbClr val="660066"/>
                </a:solidFill>
                <a:latin typeface="Arial"/>
              </a:rPr>
              <a:t>[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Kautz and Allen, 1986; Ng and Mooney, 1992]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nowledge base of plans and ac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ault reasoning or logical abduction to predict the best plan based on the observed actio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Unable to handle uncertainty in data or estimate likelihood of alternative pl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obabilistic graphical models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Charniak and Goldman, 1989; Huber et al., 1994; Pynadath and Wellman, 2000; Bui, 2003; Blaylock and Allen, 2005]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code the domain knowledge using Bayesian networks, abstract hidden Markov models, or statistical n-gram mod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Unable to handle relational/structured dat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3559CF-2D59-4098-948B-9E3A3516B1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Related Work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189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37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arkov Logic based approaches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Kate and Mooney, 2009; Singla and Mooney, 2011]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ical inference in MLNs is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deductiv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natu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LN-PC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Kate and Mooney, 2009]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Add reverse implications to handle abductive reasoning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Doe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 scale </a:t>
            </a: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to large domains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1" marL="653760" indent="-251280">
              <a:spcBef>
                <a:spcPts val="374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LN-HC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Singla and Mooney, 2011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Improves over MLN-PC by adding hidden causes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Still doe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 scale </a:t>
            </a: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to large domains  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LN-HCAM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Singla and Mooney, 2011]</a:t>
            </a:r>
            <a:r>
              <a:rPr b="0" i="1" lang="en-US" sz="15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logical abductio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constrain grou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374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Incorporates ideas from the BLP approach for plan recognition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Raghavan and Mooney, 2010]</a:t>
            </a:r>
            <a:endParaRPr b="1" lang="en-US" sz="1500" spc="-1" strike="noStrike">
              <a:solidFill>
                <a:srgbClr val="0071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MLN-HCAM performs better than MLN-PC and MLN-HC 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38D78C-C1DE-41E5-BBA5-9BAC7A7D7C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BLPs for Plan Recogni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5998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y BLPs 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irected model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ptures causal relationships w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fficient grounding proces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esults in smaller networks,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unlike in MLNs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LD resolution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ductive inferenc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, used for predicting observed actions from top-level pla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lan recognition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ductiv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in nature and involves predicting the top-level plan from observed ac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E6BE1F-CDF7-46D5-8F24-34993AFBB8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5"/>
          <p:cNvSpPr/>
          <p:nvPr/>
        </p:nvSpPr>
        <p:spPr>
          <a:xfrm>
            <a:off x="457200" y="5486400"/>
            <a:ext cx="79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BLPs cannot be used as is for plan recogni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Extending BLPs for Plan Recogni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D46F67-AE99-465C-AA7E-BFBCFB9B03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1371600" y="2057400"/>
            <a:ext cx="1828800" cy="1143000"/>
          </a:xfrm>
          <a:prstGeom prst="rect">
            <a:avLst/>
          </a:prstGeom>
          <a:noFill/>
          <a:ln w="57240">
            <a:solidFill>
              <a:srgbClr val="000000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alibri"/>
              </a:rPr>
              <a:t>BL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5562720" y="2057400"/>
            <a:ext cx="1828800" cy="1143000"/>
          </a:xfrm>
          <a:prstGeom prst="rect">
            <a:avLst/>
          </a:prstGeom>
          <a:noFill/>
          <a:ln w="57240">
            <a:solidFill>
              <a:srgbClr val="000000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alibri"/>
              </a:rPr>
              <a:t>Logical Ab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us 5"/>
          <p:cNvSpPr/>
          <p:nvPr/>
        </p:nvSpPr>
        <p:spPr>
          <a:xfrm>
            <a:off x="4038480" y="2362320"/>
            <a:ext cx="533520" cy="457200"/>
          </a:xfrm>
          <a:prstGeom prst="pie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3505320" y="4191120"/>
            <a:ext cx="1600200" cy="1143000"/>
          </a:xfrm>
          <a:prstGeom prst="rect">
            <a:avLst/>
          </a:prstGeom>
          <a:noFill/>
          <a:ln w="57240">
            <a:solidFill>
              <a:srgbClr val="000000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alibri"/>
              </a:rPr>
              <a:t>BAL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qual 7"/>
          <p:cNvSpPr/>
          <p:nvPr/>
        </p:nvSpPr>
        <p:spPr>
          <a:xfrm>
            <a:off x="3886200" y="3429000"/>
            <a:ext cx="762120" cy="38088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9"/>
          <p:cNvSpPr/>
          <p:nvPr/>
        </p:nvSpPr>
        <p:spPr>
          <a:xfrm>
            <a:off x="457200" y="5638680"/>
            <a:ext cx="8229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660066"/>
                </a:solidFill>
                <a:latin typeface="Arial"/>
              </a:rPr>
              <a:t>BALPs – Bayesian Abductive Logic Program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ogical Abduction in BALP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Given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set of observation literals  O = {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….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} and a knowledge base K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7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ute a set abductive proofs of O us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ickel’s abduction algorithm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[Stickel 1988]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ckchain on each 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until it is proved or assum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literal is said to be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prove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it unifies with a fact or the head of some rule in KB, otherwise it is said to be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assum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nstruct a Bayesian network using the resulting set of proofs as in BLPs.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76D3B4-8BF1-4BF0-B4E5-954B18AA25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Example – Intelligent User Interface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op-level plans predicates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py-file, move-file, remove-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ctions predicat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p, 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Knowledge Base (KB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p(filename,destdir) | copy-file(filename,destdi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p(filename,destdir) | move-file(filename,destdi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m(filename) | move-file(filename,destdi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m(filename) | remove-file(filenam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bserved ac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p(Test1.txt, Mydi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rm(Test1.tx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ff"/>
              </a:solidFill>
              <a:latin typeface="Arial"/>
            </a:endParaRPr>
          </a:p>
          <a:p>
            <a:pPr marL="291600" indent="-291600"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ff"/>
              </a:solidFill>
              <a:latin typeface="Arial"/>
            </a:endParaRPr>
          </a:p>
          <a:p>
            <a:pPr marL="291600" indent="-291600"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ff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40FB77-04B6-461F-B88C-5DC680499B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Abductive Inferenc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7EE2FF-875B-4FF3-8D4C-AB4A5A1485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Straight Arrow Connector 5"/>
          <p:cNvCxnSpPr/>
          <p:nvPr/>
        </p:nvCxnSpPr>
        <p:spPr>
          <a:xfrm>
            <a:off x="1828800" y="3504960"/>
            <a:ext cx="838800" cy="99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7" name="TextBox 10"/>
          <p:cNvSpPr/>
          <p:nvPr/>
        </p:nvSpPr>
        <p:spPr>
          <a:xfrm>
            <a:off x="152280" y="28954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py-file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11"/>
          <p:cNvSpPr/>
          <p:nvPr/>
        </p:nvSpPr>
        <p:spPr>
          <a:xfrm>
            <a:off x="1752480" y="45720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p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20"/>
          <p:cNvSpPr/>
          <p:nvPr/>
        </p:nvSpPr>
        <p:spPr>
          <a:xfrm>
            <a:off x="1371600" y="5465880"/>
            <a:ext cx="7238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p(filename,destdir) |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py-file(filename,destdir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228600" y="1219320"/>
            <a:ext cx="2590920" cy="5126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Assumed lit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Down Arrow 12"/>
          <p:cNvSpPr/>
          <p:nvPr/>
        </p:nvSpPr>
        <p:spPr>
          <a:xfrm>
            <a:off x="685800" y="1752480"/>
            <a:ext cx="533520" cy="1098720"/>
          </a:xfrm>
          <a:prstGeom prst="downArrow">
            <a:avLst>
              <a:gd name="adj1" fmla="val 50000"/>
              <a:gd name="adj2" fmla="val 49997"/>
            </a:avLst>
          </a:prstGeom>
          <a:noFill/>
          <a:ln w="2844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Abductive Inferenc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FF24C9-5698-47A2-848F-5449C6A1EA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5" name="Straight Arrow Connector 5"/>
          <p:cNvCxnSpPr/>
          <p:nvPr/>
        </p:nvCxnSpPr>
        <p:spPr>
          <a:xfrm>
            <a:off x="1828800" y="3504960"/>
            <a:ext cx="838800" cy="99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6" name="Straight Arrow Connector 6"/>
          <p:cNvCxnSpPr/>
          <p:nvPr/>
        </p:nvCxnSpPr>
        <p:spPr>
          <a:xfrm flipH="1">
            <a:off x="3428640" y="337176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7" name="TextBox 10"/>
          <p:cNvSpPr/>
          <p:nvPr/>
        </p:nvSpPr>
        <p:spPr>
          <a:xfrm>
            <a:off x="152280" y="28954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py-file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1"/>
          <p:cNvSpPr/>
          <p:nvPr/>
        </p:nvSpPr>
        <p:spPr>
          <a:xfrm>
            <a:off x="1752480" y="45720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p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4"/>
          <p:cNvSpPr/>
          <p:nvPr/>
        </p:nvSpPr>
        <p:spPr>
          <a:xfrm>
            <a:off x="32767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ve-file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20"/>
          <p:cNvSpPr/>
          <p:nvPr/>
        </p:nvSpPr>
        <p:spPr>
          <a:xfrm>
            <a:off x="1371600" y="5465880"/>
            <a:ext cx="7238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p(filename,destdir) |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ve-file(filename,destdir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3"/>
          <p:cNvSpPr/>
          <p:nvPr/>
        </p:nvSpPr>
        <p:spPr>
          <a:xfrm>
            <a:off x="3505320" y="1219320"/>
            <a:ext cx="2590560" cy="5126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Assumed lit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Down Arrow 14"/>
          <p:cNvSpPr/>
          <p:nvPr/>
        </p:nvSpPr>
        <p:spPr>
          <a:xfrm>
            <a:off x="4191120" y="1752480"/>
            <a:ext cx="533160" cy="1098720"/>
          </a:xfrm>
          <a:prstGeom prst="downArrow">
            <a:avLst>
              <a:gd name="adj1" fmla="val 50000"/>
              <a:gd name="adj2" fmla="val 50031"/>
            </a:avLst>
          </a:prstGeom>
          <a:noFill/>
          <a:ln w="2844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Statistical Relational Learning (SRL)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tegrates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rst-order logic and probabilistic graphical models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Getoor and Taskar, 2007]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es strengths of both first-order logic and probabilistic mod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75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RL formalis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ochastic Logic Programs (SLPs)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Muggleton, 1996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abilistic Relational Models (PRMs)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Friedman et al., 1999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yesian Logic Programs (BLPs)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Kersting and De Raedt, 2001]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kov Logic Networks (MLNs)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Richardson and Dominogs, 2006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660066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3EA92D-FC75-4C54-8CCF-2A3B35B9BE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Abductive Inferenc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661B12-15FB-4C0C-90A1-08EC145EB8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6" name="Straight Arrow Connector 5"/>
          <p:cNvCxnSpPr/>
          <p:nvPr/>
        </p:nvCxnSpPr>
        <p:spPr>
          <a:xfrm>
            <a:off x="1828800" y="3504960"/>
            <a:ext cx="838800" cy="99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Straight Arrow Connector 6"/>
          <p:cNvCxnSpPr/>
          <p:nvPr/>
        </p:nvCxnSpPr>
        <p:spPr>
          <a:xfrm flipH="1">
            <a:off x="3428640" y="337176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8" name="TextBox 10"/>
          <p:cNvSpPr/>
          <p:nvPr/>
        </p:nvSpPr>
        <p:spPr>
          <a:xfrm>
            <a:off x="152280" y="28954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py-file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1"/>
          <p:cNvSpPr/>
          <p:nvPr/>
        </p:nvSpPr>
        <p:spPr>
          <a:xfrm>
            <a:off x="1752480" y="45720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p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14"/>
          <p:cNvSpPr/>
          <p:nvPr/>
        </p:nvSpPr>
        <p:spPr>
          <a:xfrm>
            <a:off x="32767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ve-file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20"/>
          <p:cNvSpPr/>
          <p:nvPr/>
        </p:nvSpPr>
        <p:spPr>
          <a:xfrm>
            <a:off x="1371600" y="5465880"/>
            <a:ext cx="7238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m(filename) | move-file(filename,destdir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12"/>
          <p:cNvSpPr/>
          <p:nvPr/>
        </p:nvSpPr>
        <p:spPr>
          <a:xfrm>
            <a:off x="5105520" y="45529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m(Test1.t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3" name="Straight Arrow Connector 13"/>
          <p:cNvCxnSpPr/>
          <p:nvPr/>
        </p:nvCxnSpPr>
        <p:spPr>
          <a:xfrm>
            <a:off x="4723200" y="3429000"/>
            <a:ext cx="839160" cy="991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4" name="Down Arrow 12"/>
          <p:cNvSpPr/>
          <p:nvPr/>
        </p:nvSpPr>
        <p:spPr>
          <a:xfrm>
            <a:off x="4191120" y="1752480"/>
            <a:ext cx="533160" cy="1098720"/>
          </a:xfrm>
          <a:prstGeom prst="downArrow">
            <a:avLst>
              <a:gd name="adj1" fmla="val 50000"/>
              <a:gd name="adj2" fmla="val 50031"/>
            </a:avLst>
          </a:prstGeom>
          <a:noFill/>
          <a:ln w="2844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4"/>
          <p:cNvSpPr/>
          <p:nvPr/>
        </p:nvSpPr>
        <p:spPr>
          <a:xfrm>
            <a:off x="3505320" y="1219320"/>
            <a:ext cx="4038480" cy="5126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Match existing assum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Abductive Inferenc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9252D7-547B-4A39-8E9B-9A946B3387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9" name="Straight Arrow Connector 5"/>
          <p:cNvCxnSpPr/>
          <p:nvPr/>
        </p:nvCxnSpPr>
        <p:spPr>
          <a:xfrm>
            <a:off x="1828800" y="3504960"/>
            <a:ext cx="838800" cy="99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0" name="Straight Arrow Connector 6"/>
          <p:cNvCxnSpPr/>
          <p:nvPr/>
        </p:nvCxnSpPr>
        <p:spPr>
          <a:xfrm flipH="1">
            <a:off x="3428640" y="337176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1" name="TextBox 10"/>
          <p:cNvSpPr/>
          <p:nvPr/>
        </p:nvSpPr>
        <p:spPr>
          <a:xfrm>
            <a:off x="152280" y="28954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py-file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1"/>
          <p:cNvSpPr/>
          <p:nvPr/>
        </p:nvSpPr>
        <p:spPr>
          <a:xfrm>
            <a:off x="1752480" y="45720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p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4"/>
          <p:cNvSpPr/>
          <p:nvPr/>
        </p:nvSpPr>
        <p:spPr>
          <a:xfrm>
            <a:off x="32767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ve-file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20"/>
          <p:cNvSpPr/>
          <p:nvPr/>
        </p:nvSpPr>
        <p:spPr>
          <a:xfrm>
            <a:off x="1371600" y="5541840"/>
            <a:ext cx="7238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m(filename) | remove-file(filenam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12"/>
          <p:cNvSpPr/>
          <p:nvPr/>
        </p:nvSpPr>
        <p:spPr>
          <a:xfrm>
            <a:off x="5105520" y="45529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m(Test1.t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6" name="Straight Arrow Connector 13"/>
          <p:cNvCxnSpPr/>
          <p:nvPr/>
        </p:nvCxnSpPr>
        <p:spPr>
          <a:xfrm>
            <a:off x="4723200" y="3429000"/>
            <a:ext cx="839160" cy="991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7" name="TextBox 15"/>
          <p:cNvSpPr/>
          <p:nvPr/>
        </p:nvSpPr>
        <p:spPr>
          <a:xfrm>
            <a:off x="64771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move-file(Test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8" name="Straight Arrow Connector 16"/>
          <p:cNvCxnSpPr/>
          <p:nvPr/>
        </p:nvCxnSpPr>
        <p:spPr>
          <a:xfrm flipH="1">
            <a:off x="6019560" y="327672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9" name="Down Arrow 14"/>
          <p:cNvSpPr/>
          <p:nvPr/>
        </p:nvSpPr>
        <p:spPr>
          <a:xfrm>
            <a:off x="7162920" y="1752480"/>
            <a:ext cx="533160" cy="1098720"/>
          </a:xfrm>
          <a:prstGeom prst="downArrow">
            <a:avLst>
              <a:gd name="adj1" fmla="val 50000"/>
              <a:gd name="adj2" fmla="val 50031"/>
            </a:avLst>
          </a:prstGeom>
          <a:noFill/>
          <a:ln w="2844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5"/>
          <p:cNvSpPr/>
          <p:nvPr/>
        </p:nvSpPr>
        <p:spPr>
          <a:xfrm>
            <a:off x="6019920" y="1219320"/>
            <a:ext cx="2590560" cy="5126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Assumed lit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Structure of Bayesian network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125DC3-8BF3-416E-ABD6-6735CB7C11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Straight Arrow Connector 5"/>
          <p:cNvCxnSpPr/>
          <p:nvPr/>
        </p:nvCxnSpPr>
        <p:spPr>
          <a:xfrm>
            <a:off x="1828800" y="3504960"/>
            <a:ext cx="838800" cy="99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Straight Arrow Connector 6"/>
          <p:cNvCxnSpPr/>
          <p:nvPr/>
        </p:nvCxnSpPr>
        <p:spPr>
          <a:xfrm flipH="1">
            <a:off x="3428640" y="337176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5" name="TextBox 10"/>
          <p:cNvSpPr/>
          <p:nvPr/>
        </p:nvSpPr>
        <p:spPr>
          <a:xfrm>
            <a:off x="152280" y="28954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py-file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11"/>
          <p:cNvSpPr/>
          <p:nvPr/>
        </p:nvSpPr>
        <p:spPr>
          <a:xfrm>
            <a:off x="1752480" y="45720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p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4"/>
          <p:cNvSpPr/>
          <p:nvPr/>
        </p:nvSpPr>
        <p:spPr>
          <a:xfrm>
            <a:off x="32767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ve-file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2"/>
          <p:cNvSpPr/>
          <p:nvPr/>
        </p:nvSpPr>
        <p:spPr>
          <a:xfrm>
            <a:off x="5105520" y="45529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m(Test1.t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Straight Arrow Connector 13"/>
          <p:cNvCxnSpPr/>
          <p:nvPr/>
        </p:nvCxnSpPr>
        <p:spPr>
          <a:xfrm>
            <a:off x="4723200" y="3429000"/>
            <a:ext cx="839160" cy="991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0" name="TextBox 15"/>
          <p:cNvSpPr/>
          <p:nvPr/>
        </p:nvSpPr>
        <p:spPr>
          <a:xfrm>
            <a:off x="64771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move-file(Test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1" name="Straight Arrow Connector 16"/>
          <p:cNvCxnSpPr/>
          <p:nvPr/>
        </p:nvCxnSpPr>
        <p:spPr>
          <a:xfrm flipH="1">
            <a:off x="6019560" y="327672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robabilistic Inferenc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189080"/>
            <a:ext cx="8229600" cy="54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pecifying probabilistic paramet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isy-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  <a:ea typeface="ＭＳ Ｐゴシック"/>
              </a:rPr>
              <a:t>Specify the CPT for combining the evidence from conjuncts in the body of the clause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isy-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  <a:ea typeface="ＭＳ Ｐゴシック"/>
              </a:rPr>
              <a:t>Specify the CPT for combining the evidence from disjunctive contributions from different ground clauses with the same head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  <a:ea typeface="ＭＳ Ｐゴシック"/>
              </a:rPr>
              <a:t>Model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“explaining away”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isy-and and noisy-or models reduce the number of parameters learned from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8384B0-2108-4E56-8C03-46579D7490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robabilistic Inferenc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6543FC-8755-4FD1-8528-4FC7982A23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Straight Arrow Connector 4"/>
          <p:cNvCxnSpPr/>
          <p:nvPr/>
        </p:nvCxnSpPr>
        <p:spPr>
          <a:xfrm>
            <a:off x="1828800" y="3504960"/>
            <a:ext cx="838800" cy="99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8" name="Straight Arrow Connector 5"/>
          <p:cNvCxnSpPr/>
          <p:nvPr/>
        </p:nvCxnSpPr>
        <p:spPr>
          <a:xfrm flipH="1">
            <a:off x="3428640" y="337176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9" name="TextBox 6"/>
          <p:cNvSpPr/>
          <p:nvPr/>
        </p:nvSpPr>
        <p:spPr>
          <a:xfrm>
            <a:off x="152280" y="28954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py-file(Test1,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7"/>
          <p:cNvSpPr/>
          <p:nvPr/>
        </p:nvSpPr>
        <p:spPr>
          <a:xfrm>
            <a:off x="1752480" y="45720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p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8"/>
          <p:cNvSpPr/>
          <p:nvPr/>
        </p:nvSpPr>
        <p:spPr>
          <a:xfrm>
            <a:off x="32767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ve-file(Test1,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9"/>
          <p:cNvSpPr/>
          <p:nvPr/>
        </p:nvSpPr>
        <p:spPr>
          <a:xfrm>
            <a:off x="5105520" y="45529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m(Test1.t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3" name="Straight Arrow Connector 10"/>
          <p:cNvCxnSpPr/>
          <p:nvPr/>
        </p:nvCxnSpPr>
        <p:spPr>
          <a:xfrm>
            <a:off x="4723200" y="3429000"/>
            <a:ext cx="839160" cy="991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4" name="TextBox 11"/>
          <p:cNvSpPr/>
          <p:nvPr/>
        </p:nvSpPr>
        <p:spPr>
          <a:xfrm>
            <a:off x="64771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move-file(Test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Straight Arrow Connector 12"/>
          <p:cNvCxnSpPr/>
          <p:nvPr/>
        </p:nvCxnSpPr>
        <p:spPr>
          <a:xfrm flipH="1">
            <a:off x="6019560" y="327672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396" name=""/>
          <p:cNvGraphicFramePr/>
          <p:nvPr/>
        </p:nvGraphicFramePr>
        <p:xfrm>
          <a:off x="1905120" y="5181480"/>
          <a:ext cx="2438280" cy="1067040"/>
        </p:xfrm>
        <a:graphic>
          <a:graphicData uri="http://schemas.openxmlformats.org/drawingml/2006/table">
            <a:tbl>
              <a:tblPr/>
              <a:tblGrid>
                <a:gridCol w="812520"/>
                <a:gridCol w="812880"/>
                <a:gridCol w="812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7" name=""/>
          <p:cNvGraphicFramePr/>
          <p:nvPr/>
        </p:nvGraphicFramePr>
        <p:xfrm>
          <a:off x="4800600" y="5181480"/>
          <a:ext cx="2438280" cy="1067040"/>
        </p:xfrm>
        <a:graphic>
          <a:graphicData uri="http://schemas.openxmlformats.org/drawingml/2006/table">
            <a:tbl>
              <a:tblPr/>
              <a:tblGrid>
                <a:gridCol w="812880"/>
                <a:gridCol w="812880"/>
                <a:gridCol w="812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398" name="TextBox 17"/>
          <p:cNvSpPr/>
          <p:nvPr/>
        </p:nvSpPr>
        <p:spPr>
          <a:xfrm rot="20280000">
            <a:off x="1980360" y="5541840"/>
            <a:ext cx="2438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4 parame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18"/>
          <p:cNvSpPr/>
          <p:nvPr/>
        </p:nvSpPr>
        <p:spPr>
          <a:xfrm rot="20280000">
            <a:off x="4800240" y="5468760"/>
            <a:ext cx="2438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4 parame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robabilistic Inferenc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28902C-BCEB-4E8F-8640-92E5464EE2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2" name="Straight Arrow Connector 4"/>
          <p:cNvCxnSpPr/>
          <p:nvPr/>
        </p:nvCxnSpPr>
        <p:spPr>
          <a:xfrm>
            <a:off x="1828800" y="3504960"/>
            <a:ext cx="838800" cy="99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3" name="Straight Arrow Connector 5"/>
          <p:cNvCxnSpPr/>
          <p:nvPr/>
        </p:nvCxnSpPr>
        <p:spPr>
          <a:xfrm flipH="1">
            <a:off x="3428640" y="337176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4" name="TextBox 6"/>
          <p:cNvSpPr/>
          <p:nvPr/>
        </p:nvSpPr>
        <p:spPr>
          <a:xfrm>
            <a:off x="152280" y="28954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py-file(Test1,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7"/>
          <p:cNvSpPr/>
          <p:nvPr/>
        </p:nvSpPr>
        <p:spPr>
          <a:xfrm>
            <a:off x="1752480" y="45720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p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8"/>
          <p:cNvSpPr/>
          <p:nvPr/>
        </p:nvSpPr>
        <p:spPr>
          <a:xfrm>
            <a:off x="32767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ve-file(Test1,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9"/>
          <p:cNvSpPr/>
          <p:nvPr/>
        </p:nvSpPr>
        <p:spPr>
          <a:xfrm>
            <a:off x="5105520" y="45529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m(Test1.t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8" name="Straight Arrow Connector 10"/>
          <p:cNvCxnSpPr/>
          <p:nvPr/>
        </p:nvCxnSpPr>
        <p:spPr>
          <a:xfrm>
            <a:off x="4723200" y="3429000"/>
            <a:ext cx="839160" cy="991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9" name="TextBox 11"/>
          <p:cNvSpPr/>
          <p:nvPr/>
        </p:nvSpPr>
        <p:spPr>
          <a:xfrm>
            <a:off x="64771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move-file(Test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0" name="Straight Arrow Connector 12"/>
          <p:cNvCxnSpPr/>
          <p:nvPr/>
        </p:nvCxnSpPr>
        <p:spPr>
          <a:xfrm flipH="1">
            <a:off x="6019560" y="327672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1" name="TextBox 17"/>
          <p:cNvSpPr/>
          <p:nvPr/>
        </p:nvSpPr>
        <p:spPr>
          <a:xfrm>
            <a:off x="1981080" y="5105520"/>
            <a:ext cx="2438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7100"/>
                </a:solidFill>
                <a:latin typeface="Arial"/>
              </a:rPr>
              <a:t>2 parame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18"/>
          <p:cNvSpPr/>
          <p:nvPr/>
        </p:nvSpPr>
        <p:spPr>
          <a:xfrm>
            <a:off x="4800600" y="5105520"/>
            <a:ext cx="2438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7100"/>
                </a:solidFill>
                <a:latin typeface="Arial"/>
              </a:rPr>
              <a:t>2 parame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9"/>
          <p:cNvSpPr/>
          <p:nvPr/>
        </p:nvSpPr>
        <p:spPr>
          <a:xfrm>
            <a:off x="1676520" y="3733920"/>
            <a:ext cx="5331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7100"/>
                </a:solidFill>
                <a:latin typeface="Arial"/>
              </a:rPr>
              <a:t>θ</a:t>
            </a:r>
            <a:r>
              <a:rPr b="1" lang="en-US" sz="3000" spc="-1" strike="noStrike" baseline="-25000">
                <a:solidFill>
                  <a:srgbClr val="0071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20"/>
          <p:cNvSpPr/>
          <p:nvPr/>
        </p:nvSpPr>
        <p:spPr>
          <a:xfrm>
            <a:off x="3200400" y="3713040"/>
            <a:ext cx="5335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7100"/>
                </a:solidFill>
                <a:latin typeface="Arial"/>
              </a:rPr>
              <a:t>θ</a:t>
            </a:r>
            <a:r>
              <a:rPr b="1" lang="en-US" sz="3000" spc="-1" strike="noStrike" baseline="-25000">
                <a:solidFill>
                  <a:srgbClr val="0071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21"/>
          <p:cNvSpPr/>
          <p:nvPr/>
        </p:nvSpPr>
        <p:spPr>
          <a:xfrm>
            <a:off x="4648320" y="3713040"/>
            <a:ext cx="5331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7100"/>
                </a:solidFill>
                <a:latin typeface="Arial"/>
              </a:rPr>
              <a:t>θ</a:t>
            </a:r>
            <a:r>
              <a:rPr b="1" lang="en-US" sz="3000" spc="-1" strike="noStrike" baseline="-25000">
                <a:solidFill>
                  <a:srgbClr val="0071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22"/>
          <p:cNvSpPr/>
          <p:nvPr/>
        </p:nvSpPr>
        <p:spPr>
          <a:xfrm>
            <a:off x="5791320" y="3637080"/>
            <a:ext cx="5331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7100"/>
                </a:solidFill>
                <a:latin typeface="Arial"/>
              </a:rPr>
              <a:t>θ</a:t>
            </a:r>
            <a:r>
              <a:rPr b="1" lang="en-US" sz="3000" spc="-1" strike="noStrike" baseline="-25000">
                <a:solidFill>
                  <a:srgbClr val="0071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23"/>
          <p:cNvSpPr/>
          <p:nvPr/>
        </p:nvSpPr>
        <p:spPr>
          <a:xfrm>
            <a:off x="457200" y="56926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Noisy models require parameters linear in the number of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robabilistic Inferenc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Most Probable Explanation (MPE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multiple pla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compute MPE, the most likely combination of truth values to all unknown literals given this evid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Marginal Probabilit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ingle top level pla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diction, comput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ginal probability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all instances of plan predicate and pick the instance with maximum prob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exact inference is intractable,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ampleSearc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[Gogate and Dechter, 2007</a:t>
            </a:r>
            <a:r>
              <a:rPr b="0" i="1" lang="en-US" sz="15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]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an approximate inference algorithm for graphical models with deterministic constraints is u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1CDCF8-A112-4C16-81EF-CECD64D74D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robabilistic Inferenc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7F7C18-A6C0-4DE4-B8D9-C12562E3E3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3" name="Straight Arrow Connector 4"/>
          <p:cNvCxnSpPr/>
          <p:nvPr/>
        </p:nvCxnSpPr>
        <p:spPr>
          <a:xfrm>
            <a:off x="1828800" y="3504960"/>
            <a:ext cx="838800" cy="99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4" name="Straight Arrow Connector 5"/>
          <p:cNvCxnSpPr/>
          <p:nvPr/>
        </p:nvCxnSpPr>
        <p:spPr>
          <a:xfrm flipH="1">
            <a:off x="3428640" y="337176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5" name="TextBox 6"/>
          <p:cNvSpPr/>
          <p:nvPr/>
        </p:nvSpPr>
        <p:spPr>
          <a:xfrm>
            <a:off x="152280" y="28954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py-file(Test1,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7"/>
          <p:cNvSpPr/>
          <p:nvPr/>
        </p:nvSpPr>
        <p:spPr>
          <a:xfrm>
            <a:off x="1752480" y="45720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p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8"/>
          <p:cNvSpPr/>
          <p:nvPr/>
        </p:nvSpPr>
        <p:spPr>
          <a:xfrm>
            <a:off x="32767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ve-file(Test1,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9"/>
          <p:cNvSpPr/>
          <p:nvPr/>
        </p:nvSpPr>
        <p:spPr>
          <a:xfrm>
            <a:off x="5105520" y="45529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m(Test1.t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9" name="Straight Arrow Connector 10"/>
          <p:cNvCxnSpPr/>
          <p:nvPr/>
        </p:nvCxnSpPr>
        <p:spPr>
          <a:xfrm>
            <a:off x="4723200" y="3429000"/>
            <a:ext cx="839160" cy="991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0" name="TextBox 11"/>
          <p:cNvSpPr/>
          <p:nvPr/>
        </p:nvSpPr>
        <p:spPr>
          <a:xfrm>
            <a:off x="64771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move-file(Test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1" name="Straight Arrow Connector 12"/>
          <p:cNvCxnSpPr/>
          <p:nvPr/>
        </p:nvCxnSpPr>
        <p:spPr>
          <a:xfrm flipH="1">
            <a:off x="6019560" y="327672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2" name="TextBox 13"/>
          <p:cNvSpPr/>
          <p:nvPr/>
        </p:nvSpPr>
        <p:spPr>
          <a:xfrm>
            <a:off x="2514600" y="3897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isy-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14"/>
          <p:cNvSpPr/>
          <p:nvPr/>
        </p:nvSpPr>
        <p:spPr>
          <a:xfrm>
            <a:off x="5257800" y="3809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isy-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robabilistic Inferenc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3A64F8-06F5-4E05-89C5-77ECD5B385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6" name="Straight Arrow Connector 4"/>
          <p:cNvCxnSpPr/>
          <p:nvPr/>
        </p:nvCxnSpPr>
        <p:spPr>
          <a:xfrm>
            <a:off x="1828800" y="3504960"/>
            <a:ext cx="838800" cy="99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7" name="Straight Arrow Connector 5"/>
          <p:cNvCxnSpPr/>
          <p:nvPr/>
        </p:nvCxnSpPr>
        <p:spPr>
          <a:xfrm flipH="1">
            <a:off x="3428640" y="337176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8" name="TextBox 6"/>
          <p:cNvSpPr/>
          <p:nvPr/>
        </p:nvSpPr>
        <p:spPr>
          <a:xfrm>
            <a:off x="152280" y="28954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py-file(Test1,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7"/>
          <p:cNvSpPr/>
          <p:nvPr/>
        </p:nvSpPr>
        <p:spPr>
          <a:xfrm>
            <a:off x="1752480" y="45720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5500"/>
                </a:solidFill>
                <a:latin typeface="Arial"/>
              </a:rPr>
              <a:t>cp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8"/>
          <p:cNvSpPr/>
          <p:nvPr/>
        </p:nvSpPr>
        <p:spPr>
          <a:xfrm>
            <a:off x="32767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ve-file(Test1,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9"/>
          <p:cNvSpPr/>
          <p:nvPr/>
        </p:nvSpPr>
        <p:spPr>
          <a:xfrm>
            <a:off x="5105520" y="45529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5500"/>
                </a:solidFill>
                <a:latin typeface="Arial"/>
              </a:rPr>
              <a:t>rm(Test1.t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2" name="Straight Arrow Connector 10"/>
          <p:cNvCxnSpPr/>
          <p:nvPr/>
        </p:nvCxnSpPr>
        <p:spPr>
          <a:xfrm>
            <a:off x="4723200" y="3429000"/>
            <a:ext cx="839160" cy="991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3" name="TextBox 11"/>
          <p:cNvSpPr/>
          <p:nvPr/>
        </p:nvSpPr>
        <p:spPr>
          <a:xfrm>
            <a:off x="64771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move-file(Test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4" name="Straight Arrow Connector 12"/>
          <p:cNvCxnSpPr/>
          <p:nvPr/>
        </p:nvCxnSpPr>
        <p:spPr>
          <a:xfrm flipH="1">
            <a:off x="6019560" y="327672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5" name="TextBox 13"/>
          <p:cNvSpPr/>
          <p:nvPr/>
        </p:nvSpPr>
        <p:spPr>
          <a:xfrm>
            <a:off x="2514600" y="3897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isy-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14"/>
          <p:cNvSpPr/>
          <p:nvPr/>
        </p:nvSpPr>
        <p:spPr>
          <a:xfrm>
            <a:off x="5257800" y="3809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isy-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15"/>
          <p:cNvSpPr/>
          <p:nvPr/>
        </p:nvSpPr>
        <p:spPr>
          <a:xfrm>
            <a:off x="457200" y="5486400"/>
            <a:ext cx="426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5500"/>
                </a:solidFill>
                <a:latin typeface="Arial"/>
              </a:rPr>
              <a:t>Evide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robabilistic Inferenc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58A816-9268-489A-B677-FDFA957985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0" name="Straight Arrow Connector 4"/>
          <p:cNvCxnSpPr/>
          <p:nvPr/>
        </p:nvCxnSpPr>
        <p:spPr>
          <a:xfrm>
            <a:off x="1828800" y="3504960"/>
            <a:ext cx="838800" cy="99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1" name="Straight Arrow Connector 5"/>
          <p:cNvCxnSpPr/>
          <p:nvPr/>
        </p:nvCxnSpPr>
        <p:spPr>
          <a:xfrm flipH="1">
            <a:off x="3428640" y="337176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2" name="TextBox 6"/>
          <p:cNvSpPr/>
          <p:nvPr/>
        </p:nvSpPr>
        <p:spPr>
          <a:xfrm>
            <a:off x="152280" y="28954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py-file(Test1,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7"/>
          <p:cNvSpPr/>
          <p:nvPr/>
        </p:nvSpPr>
        <p:spPr>
          <a:xfrm>
            <a:off x="1752480" y="45720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5500"/>
                </a:solidFill>
                <a:latin typeface="Arial"/>
              </a:rPr>
              <a:t>cp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8"/>
          <p:cNvSpPr/>
          <p:nvPr/>
        </p:nvSpPr>
        <p:spPr>
          <a:xfrm>
            <a:off x="32767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ove-file(Test1,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9"/>
          <p:cNvSpPr/>
          <p:nvPr/>
        </p:nvSpPr>
        <p:spPr>
          <a:xfrm>
            <a:off x="5105520" y="45529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5500"/>
                </a:solidFill>
                <a:latin typeface="Arial"/>
              </a:rPr>
              <a:t>rm(Test1.t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6" name="Straight Arrow Connector 10"/>
          <p:cNvCxnSpPr/>
          <p:nvPr/>
        </p:nvCxnSpPr>
        <p:spPr>
          <a:xfrm>
            <a:off x="4723200" y="3429000"/>
            <a:ext cx="839160" cy="991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7" name="TextBox 11"/>
          <p:cNvSpPr/>
          <p:nvPr/>
        </p:nvSpPr>
        <p:spPr>
          <a:xfrm>
            <a:off x="64771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emove-file(Test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8" name="Straight Arrow Connector 12"/>
          <p:cNvCxnSpPr/>
          <p:nvPr/>
        </p:nvCxnSpPr>
        <p:spPr>
          <a:xfrm flipH="1">
            <a:off x="6019560" y="327672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9" name="TextBox 13"/>
          <p:cNvSpPr/>
          <p:nvPr/>
        </p:nvSpPr>
        <p:spPr>
          <a:xfrm>
            <a:off x="2514600" y="3897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isy-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14"/>
          <p:cNvSpPr/>
          <p:nvPr/>
        </p:nvSpPr>
        <p:spPr>
          <a:xfrm>
            <a:off x="5257800" y="3809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isy-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15"/>
          <p:cNvSpPr/>
          <p:nvPr/>
        </p:nvSpPr>
        <p:spPr>
          <a:xfrm>
            <a:off x="457200" y="5486400"/>
            <a:ext cx="426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5500"/>
                </a:solidFill>
                <a:latin typeface="Arial"/>
              </a:rPr>
              <a:t>Evide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16"/>
          <p:cNvSpPr/>
          <p:nvPr/>
        </p:nvSpPr>
        <p:spPr>
          <a:xfrm>
            <a:off x="533520" y="1905120"/>
            <a:ext cx="426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Query variab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Statistical Relational Learning (SRL)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tegrates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rst-order logic and probabilistic graphical models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Getoor and Taskar, 2007]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es strengths of both first-order logic and probabilistic mod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75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RL formalis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bfbfbf"/>
                </a:solidFill>
                <a:latin typeface="Arial"/>
              </a:rPr>
              <a:t>Stochastic Logic Programs (SLPs) </a:t>
            </a:r>
            <a:r>
              <a:rPr b="1" i="1" lang="en-US" sz="1500" spc="-1" strike="noStrike">
                <a:solidFill>
                  <a:srgbClr val="bfbfbf"/>
                </a:solidFill>
                <a:latin typeface="Arial"/>
              </a:rPr>
              <a:t>[Muggleton, 1996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bfbfbf"/>
                </a:solidFill>
                <a:latin typeface="Arial"/>
              </a:rPr>
              <a:t>Probabilistic Relational Models (PRMs)</a:t>
            </a:r>
            <a:r>
              <a:rPr b="0" lang="en-US" sz="15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1" i="1" lang="en-US" sz="1500" spc="-1" strike="noStrike">
                <a:solidFill>
                  <a:srgbClr val="bfbfbf"/>
                </a:solidFill>
                <a:latin typeface="Arial"/>
              </a:rPr>
              <a:t>[Friedman et al., 1999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Bayesian Logic Programs (BLPs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Kersting and De Raedt, 2001]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bfbfbf"/>
                </a:solidFill>
                <a:latin typeface="Arial"/>
              </a:rPr>
              <a:t>Markov Logic Networks (MLNs) </a:t>
            </a:r>
            <a:r>
              <a:rPr b="1" i="1" lang="en-US" sz="1500" spc="-1" strike="noStrike">
                <a:solidFill>
                  <a:srgbClr val="bfbfbf"/>
                </a:solidFill>
                <a:latin typeface="Arial"/>
              </a:rPr>
              <a:t>[Richardson and Dominogs, 2006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bfbfb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EBE5E6-0DA7-4636-9A6A-3BFF66C521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robabilistic Inferenc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46378D-D190-4A79-980F-4684F381A5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Straight Arrow Connector 4"/>
          <p:cNvCxnSpPr/>
          <p:nvPr/>
        </p:nvCxnSpPr>
        <p:spPr>
          <a:xfrm>
            <a:off x="1828800" y="3504960"/>
            <a:ext cx="838800" cy="99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6" name="Straight Arrow Connector 5"/>
          <p:cNvCxnSpPr/>
          <p:nvPr/>
        </p:nvCxnSpPr>
        <p:spPr>
          <a:xfrm flipH="1">
            <a:off x="3428640" y="337176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7" name="TextBox 6"/>
          <p:cNvSpPr/>
          <p:nvPr/>
        </p:nvSpPr>
        <p:spPr>
          <a:xfrm>
            <a:off x="152280" y="28954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py-file(Test1,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7"/>
          <p:cNvSpPr/>
          <p:nvPr/>
        </p:nvSpPr>
        <p:spPr>
          <a:xfrm>
            <a:off x="1752480" y="45720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5500"/>
                </a:solidFill>
                <a:latin typeface="Arial"/>
              </a:rPr>
              <a:t>cp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8"/>
          <p:cNvSpPr/>
          <p:nvPr/>
        </p:nvSpPr>
        <p:spPr>
          <a:xfrm>
            <a:off x="32767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ove-file(Test1,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9"/>
          <p:cNvSpPr/>
          <p:nvPr/>
        </p:nvSpPr>
        <p:spPr>
          <a:xfrm>
            <a:off x="5105520" y="45529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5500"/>
                </a:solidFill>
                <a:latin typeface="Arial"/>
              </a:rPr>
              <a:t>rm(Test1.t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Straight Arrow Connector 10"/>
          <p:cNvCxnSpPr/>
          <p:nvPr/>
        </p:nvCxnSpPr>
        <p:spPr>
          <a:xfrm>
            <a:off x="4723200" y="3429000"/>
            <a:ext cx="839160" cy="991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2" name="TextBox 11"/>
          <p:cNvSpPr/>
          <p:nvPr/>
        </p:nvSpPr>
        <p:spPr>
          <a:xfrm>
            <a:off x="64771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emove-file(Test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3" name="Straight Arrow Connector 12"/>
          <p:cNvCxnSpPr/>
          <p:nvPr/>
        </p:nvCxnSpPr>
        <p:spPr>
          <a:xfrm flipH="1">
            <a:off x="6019560" y="327672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4" name="TextBox 13"/>
          <p:cNvSpPr/>
          <p:nvPr/>
        </p:nvSpPr>
        <p:spPr>
          <a:xfrm>
            <a:off x="2514600" y="3897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isy-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14"/>
          <p:cNvSpPr/>
          <p:nvPr/>
        </p:nvSpPr>
        <p:spPr>
          <a:xfrm>
            <a:off x="5257800" y="3809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isy-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15"/>
          <p:cNvSpPr/>
          <p:nvPr/>
        </p:nvSpPr>
        <p:spPr>
          <a:xfrm>
            <a:off x="457200" y="5486400"/>
            <a:ext cx="426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5500"/>
                </a:solidFill>
                <a:latin typeface="Arial"/>
              </a:rPr>
              <a:t>Evide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533520" y="1905120"/>
            <a:ext cx="426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Query variab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7"/>
          <p:cNvSpPr/>
          <p:nvPr/>
        </p:nvSpPr>
        <p:spPr>
          <a:xfrm>
            <a:off x="3657600" y="23828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18"/>
          <p:cNvSpPr/>
          <p:nvPr/>
        </p:nvSpPr>
        <p:spPr>
          <a:xfrm>
            <a:off x="6781680" y="23623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19"/>
          <p:cNvSpPr/>
          <p:nvPr/>
        </p:nvSpPr>
        <p:spPr>
          <a:xfrm>
            <a:off x="762120" y="2362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16"/>
          <p:cNvSpPr/>
          <p:nvPr/>
        </p:nvSpPr>
        <p:spPr>
          <a:xfrm>
            <a:off x="5486400" y="1808280"/>
            <a:ext cx="289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MP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robabilistic Inferenc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A3E214-C857-41DE-ABCF-57ABD33D75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4" name="Straight Arrow Connector 4"/>
          <p:cNvCxnSpPr/>
          <p:nvPr/>
        </p:nvCxnSpPr>
        <p:spPr>
          <a:xfrm>
            <a:off x="1828800" y="3504960"/>
            <a:ext cx="838800" cy="99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5" name="Straight Arrow Connector 5"/>
          <p:cNvCxnSpPr/>
          <p:nvPr/>
        </p:nvCxnSpPr>
        <p:spPr>
          <a:xfrm flipH="1">
            <a:off x="3428640" y="337176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6" name="TextBox 6"/>
          <p:cNvSpPr/>
          <p:nvPr/>
        </p:nvSpPr>
        <p:spPr>
          <a:xfrm>
            <a:off x="152280" y="2895480"/>
            <a:ext cx="3200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Arial"/>
              </a:rPr>
              <a:t>copy-file(Test1,txt,Mydir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7"/>
          <p:cNvSpPr/>
          <p:nvPr/>
        </p:nvSpPr>
        <p:spPr>
          <a:xfrm>
            <a:off x="1752480" y="45720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5500"/>
                </a:solidFill>
                <a:latin typeface="Arial"/>
              </a:rPr>
              <a:t>cp(Test1.txt,My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8"/>
          <p:cNvSpPr/>
          <p:nvPr/>
        </p:nvSpPr>
        <p:spPr>
          <a:xfrm>
            <a:off x="2514600" y="2798640"/>
            <a:ext cx="426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ove-file(Test1,txt,Mydir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9"/>
          <p:cNvSpPr/>
          <p:nvPr/>
        </p:nvSpPr>
        <p:spPr>
          <a:xfrm>
            <a:off x="5105520" y="45529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5500"/>
                </a:solidFill>
                <a:latin typeface="Arial"/>
              </a:rPr>
              <a:t>rm(Test1.t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0" name="Straight Arrow Connector 10"/>
          <p:cNvCxnSpPr/>
          <p:nvPr/>
        </p:nvCxnSpPr>
        <p:spPr>
          <a:xfrm>
            <a:off x="4723200" y="3429000"/>
            <a:ext cx="839160" cy="991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1" name="TextBox 11"/>
          <p:cNvSpPr/>
          <p:nvPr/>
        </p:nvSpPr>
        <p:spPr>
          <a:xfrm>
            <a:off x="6477120" y="2895480"/>
            <a:ext cx="35049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Arial"/>
              </a:rPr>
              <a:t>remove-file(Test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2" name="Straight Arrow Connector 12"/>
          <p:cNvCxnSpPr/>
          <p:nvPr/>
        </p:nvCxnSpPr>
        <p:spPr>
          <a:xfrm flipH="1">
            <a:off x="6019560" y="3276720"/>
            <a:ext cx="915120" cy="112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3" name="TextBox 13"/>
          <p:cNvSpPr/>
          <p:nvPr/>
        </p:nvSpPr>
        <p:spPr>
          <a:xfrm>
            <a:off x="2514600" y="3897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isy-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14"/>
          <p:cNvSpPr/>
          <p:nvPr/>
        </p:nvSpPr>
        <p:spPr>
          <a:xfrm>
            <a:off x="5257800" y="3809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isy-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15"/>
          <p:cNvSpPr/>
          <p:nvPr/>
        </p:nvSpPr>
        <p:spPr>
          <a:xfrm>
            <a:off x="457200" y="5486400"/>
            <a:ext cx="426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a6a6a6"/>
                </a:solidFill>
                <a:latin typeface="Arial"/>
              </a:rPr>
              <a:t>Evide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16"/>
          <p:cNvSpPr/>
          <p:nvPr/>
        </p:nvSpPr>
        <p:spPr>
          <a:xfrm>
            <a:off x="533520" y="1905120"/>
            <a:ext cx="426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a6a6a6"/>
                </a:solidFill>
                <a:latin typeface="Arial"/>
              </a:rPr>
              <a:t>Query variab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17"/>
          <p:cNvSpPr/>
          <p:nvPr/>
        </p:nvSpPr>
        <p:spPr>
          <a:xfrm>
            <a:off x="3657600" y="23828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6a6a6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18"/>
          <p:cNvSpPr/>
          <p:nvPr/>
        </p:nvSpPr>
        <p:spPr>
          <a:xfrm>
            <a:off x="6781680" y="23623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6a6a6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19"/>
          <p:cNvSpPr/>
          <p:nvPr/>
        </p:nvSpPr>
        <p:spPr>
          <a:xfrm>
            <a:off x="762120" y="2362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6a6a6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16"/>
          <p:cNvSpPr/>
          <p:nvPr/>
        </p:nvSpPr>
        <p:spPr>
          <a:xfrm>
            <a:off x="5486400" y="1808280"/>
            <a:ext cx="289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a6a6a6"/>
                </a:solidFill>
                <a:latin typeface="Arial"/>
              </a:rPr>
              <a:t>MP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arameter Learning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37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Learn noisy-or/noisy-and parameters using the EM algorithm adapted for BLPs 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[Kersting and De Raedt, 2008]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artial observabilit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plan recognition domain, data is partially observ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idence is present only for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observed action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top-level pla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; sub-goals, noisy-or, and noisy-and nodes are not observ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mplify learning proble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rn noisy-or parameters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d logical-and instead of noisy-and to combine evidence from conjuncts in the body of a cla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8783E2-EF9B-45AC-9403-DAF0CB902C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Experimental Evalua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onroe </a:t>
            </a:r>
            <a:r>
              <a:rPr b="1" i="1" lang="en-US" sz="1500" spc="-1" strike="noStrike">
                <a:solidFill>
                  <a:srgbClr val="ff0000"/>
                </a:solidFill>
                <a:latin typeface="Arial"/>
              </a:rPr>
              <a:t>(Strategic planning)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inux </a:t>
            </a:r>
            <a:r>
              <a:rPr b="1" i="1" lang="en-US" sz="1500" spc="-1" strike="noStrike">
                <a:solidFill>
                  <a:srgbClr val="ff0000"/>
                </a:solidFill>
                <a:latin typeface="Arial"/>
              </a:rPr>
              <a:t>(Intelligent user interfaces)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ory Understanding </a:t>
            </a:r>
            <a:r>
              <a:rPr b="1" i="1" lang="en-US" sz="1500" spc="-1" strike="noStrike">
                <a:solidFill>
                  <a:srgbClr val="ff0000"/>
                </a:solidFill>
                <a:latin typeface="Arial"/>
              </a:rPr>
              <a:t>(Story understanding)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E9F4CC-26E1-466E-BF53-1246F830FF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Monroe and Linux </a:t>
            </a:r>
            <a:br>
              <a:rPr sz="3800"/>
            </a:b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Blaylock and Allen, 2005]</a:t>
            </a:r>
            <a:endParaRPr b="0" lang="en-US" sz="15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as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nro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volves recognizing top level plans in an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emergency response domai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artificially generated using HTN plann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nux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olves recognizing top-level plans based on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linux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Singl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rrect plan in each ex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7D1980-75F5-40E5-A9D8-A9CB3D8BB6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905120" y="4572000"/>
          <a:ext cx="6476760" cy="1684440"/>
        </p:xfrm>
        <a:graphic>
          <a:graphicData uri="http://schemas.openxmlformats.org/drawingml/2006/table">
            <a:tbl>
              <a:tblPr/>
              <a:tblGrid>
                <a:gridCol w="1295280"/>
                <a:gridCol w="990720"/>
                <a:gridCol w="1218960"/>
                <a:gridCol w="1371600"/>
                <a:gridCol w="1600200"/>
              </a:tblGrid>
              <a:tr h="100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5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No. examp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5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Avg. observations/ examp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5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Total top-level plan predicat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5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Total observed action predicat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ro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u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Monroe and Linux </a:t>
            </a:r>
            <a:br>
              <a:rPr sz="3800"/>
            </a:b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ethodolog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ually encoded the knowledge ba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rned noisy-or parameters using 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uted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arginal probability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plan insta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ystems compare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L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25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LN-HCAM </a:t>
            </a:r>
            <a:r>
              <a:rPr b="0" i="1" lang="en-US" sz="1700" spc="-1" strike="noStrike">
                <a:solidFill>
                  <a:srgbClr val="660066"/>
                </a:solidFill>
                <a:latin typeface="Arial"/>
              </a:rPr>
              <a:t>[Singla and Mooney, 2011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374"/>
              </a:spcBef>
              <a:buClr>
                <a:srgbClr val="ff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MLN-PC and MLN-HC do not run on Monroe and Linux due to scaling issues</a:t>
            </a:r>
            <a:endParaRPr b="1" lang="en-US" sz="1500" spc="-1" strike="noStrike">
              <a:solidFill>
                <a:srgbClr val="007100"/>
              </a:solidFill>
              <a:latin typeface="Arial"/>
            </a:endParaRPr>
          </a:p>
          <a:p>
            <a:pPr lvl="1" marL="631440" indent="-242640">
              <a:spcBef>
                <a:spcPts val="425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aylock and Allen’s system </a:t>
            </a:r>
            <a:r>
              <a:rPr b="0" i="1" lang="en-US" sz="1700" spc="-1" strike="noStrike">
                <a:solidFill>
                  <a:srgbClr val="660066"/>
                </a:solidFill>
                <a:latin typeface="Arial"/>
              </a:rPr>
              <a:t>[Blaylock and Allen, 2005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25"/>
              </a:spcBef>
              <a:buClr>
                <a:srgbClr val="660066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erformance metric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Convergence score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s the fraction of examples for which the plan schema was predicted correct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D0E154-7DC6-4533-9CFD-42C1261B9F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Results on Monro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696497-CFA9-4942-B3E2-9FAF875014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Content Placeholder 6" descr=""/>
          <p:cNvPicPr/>
          <p:nvPr/>
        </p:nvPicPr>
        <p:blipFill>
          <a:blip r:embed="rId1"/>
          <a:stretch/>
        </p:blipFill>
        <p:spPr>
          <a:xfrm>
            <a:off x="858960" y="1333440"/>
            <a:ext cx="7904160" cy="4191120"/>
          </a:xfrm>
          <a:prstGeom prst="rect">
            <a:avLst/>
          </a:prstGeom>
          <a:ln w="0">
            <a:noFill/>
          </a:ln>
        </p:spPr>
      </p:pic>
      <p:sp>
        <p:nvSpPr>
          <p:cNvPr id="517" name="TextBox 7"/>
          <p:cNvSpPr/>
          <p:nvPr/>
        </p:nvSpPr>
        <p:spPr>
          <a:xfrm>
            <a:off x="6324480" y="3191040"/>
            <a:ext cx="1028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94.2 *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8"/>
          <p:cNvSpPr/>
          <p:nvPr/>
        </p:nvSpPr>
        <p:spPr>
          <a:xfrm rot="16200000">
            <a:off x="-1514880" y="2581560"/>
            <a:ext cx="426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Convergence Sco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9"/>
          <p:cNvSpPr/>
          <p:nvPr/>
        </p:nvSpPr>
        <p:spPr>
          <a:xfrm>
            <a:off x="2666880" y="4964040"/>
            <a:ext cx="1371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BAL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10"/>
          <p:cNvSpPr/>
          <p:nvPr/>
        </p:nvSpPr>
        <p:spPr>
          <a:xfrm>
            <a:off x="4114800" y="4952880"/>
            <a:ext cx="2057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MLN-HC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11"/>
          <p:cNvSpPr/>
          <p:nvPr/>
        </p:nvSpPr>
        <p:spPr>
          <a:xfrm>
            <a:off x="5791320" y="4952880"/>
            <a:ext cx="27432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8000"/>
                </a:solidFill>
                <a:latin typeface="Arial"/>
              </a:rPr>
              <a:t>Blaylock &amp; All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2"/>
          <p:cNvSpPr/>
          <p:nvPr/>
        </p:nvSpPr>
        <p:spPr>
          <a:xfrm>
            <a:off x="380880" y="6076800"/>
            <a:ext cx="7696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500" spc="-1" strike="noStrike">
                <a:solidFill>
                  <a:srgbClr val="660066"/>
                </a:solidFill>
                <a:latin typeface="Arial"/>
              </a:rPr>
              <a:t>* - Differences are statistically significant wrt BALP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Results on Linux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444360-06AC-433B-8588-C3597F38E0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Content Placeholder 6" descr=""/>
          <p:cNvPicPr/>
          <p:nvPr/>
        </p:nvPicPr>
        <p:blipFill>
          <a:blip r:embed="rId1"/>
          <a:stretch/>
        </p:blipFill>
        <p:spPr>
          <a:xfrm>
            <a:off x="858960" y="1208160"/>
            <a:ext cx="7904160" cy="4190760"/>
          </a:xfrm>
          <a:prstGeom prst="rect">
            <a:avLst/>
          </a:prstGeom>
          <a:ln w="0">
            <a:noFill/>
          </a:ln>
        </p:spPr>
      </p:pic>
      <p:sp>
        <p:nvSpPr>
          <p:cNvPr id="526" name="TextBox 5"/>
          <p:cNvSpPr/>
          <p:nvPr/>
        </p:nvSpPr>
        <p:spPr>
          <a:xfrm rot="16200000">
            <a:off x="-1514880" y="2581560"/>
            <a:ext cx="426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Convergence Sco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6"/>
          <p:cNvSpPr/>
          <p:nvPr/>
        </p:nvSpPr>
        <p:spPr>
          <a:xfrm>
            <a:off x="2666880" y="4964040"/>
            <a:ext cx="1371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BAL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7"/>
          <p:cNvSpPr/>
          <p:nvPr/>
        </p:nvSpPr>
        <p:spPr>
          <a:xfrm>
            <a:off x="4114800" y="4952880"/>
            <a:ext cx="2057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MLN-HC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8"/>
          <p:cNvSpPr/>
          <p:nvPr/>
        </p:nvSpPr>
        <p:spPr>
          <a:xfrm>
            <a:off x="5791320" y="4952880"/>
            <a:ext cx="27432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8000"/>
                </a:solidFill>
                <a:latin typeface="Arial"/>
              </a:rPr>
              <a:t>Blaylock &amp; All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10"/>
          <p:cNvSpPr/>
          <p:nvPr/>
        </p:nvSpPr>
        <p:spPr>
          <a:xfrm>
            <a:off x="6039000" y="2827440"/>
            <a:ext cx="102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36.1 *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11"/>
          <p:cNvSpPr/>
          <p:nvPr/>
        </p:nvSpPr>
        <p:spPr>
          <a:xfrm>
            <a:off x="380880" y="6095880"/>
            <a:ext cx="7696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500" spc="-1" strike="noStrike">
                <a:solidFill>
                  <a:srgbClr val="660066"/>
                </a:solidFill>
                <a:latin typeface="Arial"/>
              </a:rPr>
              <a:t>* - Differences are statistically significant wrt BALP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Story Understanding </a:t>
            </a:r>
            <a:br>
              <a:rPr sz="3800"/>
            </a:b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Charniak and Goldman, 1991; Ng and Mooney, 1992]</a:t>
            </a:r>
            <a:endParaRPr b="0" lang="en-US" sz="15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as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gnize character’s top level plans based on actions described in narrative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Multipl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p-level plans in each ex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5 examples in development set and 25 examples in test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2.6 observations per ex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 top-level plan predic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93F934-DB80-4CF8-A566-7B1D8DFDE8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Story Understanding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57200" y="121932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ethodolog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46200" indent="-248400">
              <a:spcBef>
                <a:spcPts val="374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nowledge base was created for ACCEL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Ng and Mooney, 1992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meters set man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Insufficient number of examples in the development set to learn parameters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1" marL="646200" indent="-2484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uted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 MP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get the best set of pl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ystems compare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46200" indent="-2484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L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374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LN-HCAM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Singla and Mooney, 2011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374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500" spc="-1" strike="noStrike">
                <a:solidFill>
                  <a:srgbClr val="007100"/>
                </a:solidFill>
                <a:latin typeface="Arial"/>
              </a:rPr>
              <a:t>Best performing MLN model</a:t>
            </a:r>
            <a:endParaRPr b="1" lang="en-US" sz="1500" spc="-1" strike="noStrike">
              <a:solidFill>
                <a:srgbClr val="007100"/>
              </a:solidFill>
              <a:latin typeface="Arial"/>
            </a:endParaRPr>
          </a:p>
          <a:p>
            <a:pPr lvl="1" marL="646200" indent="-248400">
              <a:spcBef>
                <a:spcPts val="374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EL-Simplicity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Ng and Mooney, 1992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374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EL-Coherence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Ng and Mooney, 1992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374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500" spc="-1" strike="noStrike">
                <a:solidFill>
                  <a:srgbClr val="007100"/>
                </a:solidFill>
                <a:latin typeface="Arial"/>
              </a:rPr>
              <a:t>Specific for Story Understanding</a:t>
            </a:r>
            <a:endParaRPr b="1" lang="en-US" sz="1500" spc="-1" strike="noStrike">
              <a:solidFill>
                <a:srgbClr val="007100"/>
              </a:solidFill>
              <a:latin typeface="Arial"/>
            </a:endParaRPr>
          </a:p>
          <a:p>
            <a:pPr lvl="1" marL="646200" indent="-248400">
              <a:spcBef>
                <a:spcPts val="37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326"/>
              </a:spcBef>
              <a:buClr>
                <a:srgbClr val="ff66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1300" spc="-1" strike="noStrike">
              <a:solidFill>
                <a:srgbClr val="007100"/>
              </a:solidFill>
              <a:latin typeface="Arial"/>
            </a:endParaRPr>
          </a:p>
          <a:p>
            <a:pPr lvl="2" marL="994320" indent="-198720">
              <a:spcBef>
                <a:spcPts val="326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300" spc="-1" strike="noStrike">
                <a:solidFill>
                  <a:srgbClr val="007100"/>
                </a:solidFill>
                <a:latin typeface="Arial"/>
              </a:rPr>
              <a:t> </a:t>
            </a:r>
            <a:endParaRPr b="1" lang="en-US" sz="1300" spc="-1" strike="noStrike">
              <a:solidFill>
                <a:srgbClr val="007100"/>
              </a:solidFill>
              <a:latin typeface="Arial"/>
            </a:endParaRPr>
          </a:p>
          <a:p>
            <a:pPr marL="298440" indent="-298440">
              <a:spcBef>
                <a:spcPts val="326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E5F0C8-3128-4997-9B14-8B1698FA4E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Bayesian Logic Programs (BLPs)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tegrate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first-order logic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Bayesian network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y BLPs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Efficient grounding mechanism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includes only those variables that are relevant to the qu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sy to extend by incorporating any type of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logical inference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construct net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 suited for capturing 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causal relation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E9EDA2-3404-46EE-99DF-448449ACEA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Results on Story Understanding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539" name="Content Placeholder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40" name="Slide Number Placeholder 3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EA1243-8E58-4EDE-888C-99A0063FF0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5"/>
          <p:cNvSpPr/>
          <p:nvPr/>
        </p:nvSpPr>
        <p:spPr>
          <a:xfrm>
            <a:off x="762120" y="615312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660066"/>
                </a:solidFill>
                <a:latin typeface="Arial"/>
              </a:rPr>
              <a:t>* - Differences are statistically significant wrt BAL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6"/>
          <p:cNvSpPr/>
          <p:nvPr/>
        </p:nvSpPr>
        <p:spPr>
          <a:xfrm>
            <a:off x="6095880" y="1600200"/>
            <a:ext cx="2362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Results on Story Understanding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544" name="Content Placeholder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45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F31C78-567D-4E08-817D-7103CDF1E9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5"/>
          <p:cNvSpPr/>
          <p:nvPr/>
        </p:nvSpPr>
        <p:spPr>
          <a:xfrm>
            <a:off x="762120" y="615312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660066"/>
                </a:solidFill>
                <a:latin typeface="Arial"/>
              </a:rPr>
              <a:t>* - Differences are statistically significant wrt BAL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7"/>
          <p:cNvSpPr/>
          <p:nvPr/>
        </p:nvSpPr>
        <p:spPr>
          <a:xfrm>
            <a:off x="2743200" y="2362320"/>
            <a:ext cx="762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8"/>
          <p:cNvSpPr/>
          <p:nvPr/>
        </p:nvSpPr>
        <p:spPr>
          <a:xfrm>
            <a:off x="7620120" y="2438280"/>
            <a:ext cx="7617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Summary of BALPs </a:t>
            </a:r>
            <a:br>
              <a:rPr sz="3800"/>
            </a:b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for Plan Recogni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tend BLPs for plan recognition by employing logical abduction to construct Bayesian network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utomatic learning of model parameters using E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mpirical results on all benchmark datasets demonstrate advantages over existing method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FE0FB1-B30C-4C15-82F0-0E1B23F4A9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808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art 2</a:t>
            </a:r>
            <a:br>
              <a:rPr sz="3800"/>
            </a:b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Extending BLPs for Machine Reading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5CEF32-8B99-44A7-8CA6-F0715D1F7F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Machine Reading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achine reading involves automatic extraction of knowledge from natural language tex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formation extraction (IE) systems extract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factual information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ike entities and relations between entities that occur in text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Cohen, 1999; Craven et al., 2000; Bunescu and Mooney, 2007; Etzioni et al, 2008]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racted information can be used for answering queries automat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4F57EB-4979-4CE7-AD1C-B1037B01E9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imitations of IE System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tract information that is stat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plicitly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in text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tural language text is not necessarily comple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onsense information is not explicitly stated i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 known facts are omitted from the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issing information cannot be inferred from tex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uman brain performs deeper inference using commonsense knowled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 systems have no access to commonsense knowled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rrors in extraction process result in some facts not being extracte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6DA20B-CF0C-414A-A810-132E99C886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Our Objective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mprove performance of I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rn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general knowledg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commonsense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tion in the form of rules using the facts extracted by the I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er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 additional fact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hat are not stated explicitly in text using the learned r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C14E6D-FDB1-4FA2-B68A-72FAE3696E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Exampl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E4B065-0CF5-4C22-A608-FE679246D8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4"/>
          <p:cNvSpPr/>
          <p:nvPr/>
        </p:nvSpPr>
        <p:spPr>
          <a:xfrm>
            <a:off x="914400" y="1371600"/>
            <a:ext cx="7391520" cy="22860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laysian Prime Minister Mahathir Mohamad Wednesday announced for the first time that he has appointed his deputy Abdullah Ahmad Badawi as his successor.’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Exampl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8D8AB9-3BBB-4E1F-A106-D4E05111CF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4"/>
          <p:cNvSpPr/>
          <p:nvPr/>
        </p:nvSpPr>
        <p:spPr>
          <a:xfrm>
            <a:off x="914400" y="1371600"/>
            <a:ext cx="7391520" cy="22860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3000" spc="-1" strike="noStrike">
                <a:solidFill>
                  <a:srgbClr val="0000ff"/>
                </a:solidFill>
                <a:latin typeface="Calibri"/>
              </a:rPr>
              <a:t>Malaysian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Prime Minister</a:t>
            </a:r>
            <a:r>
              <a:rPr b="1" lang="en-US" sz="30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8000"/>
                </a:solidFill>
                <a:latin typeface="Calibri"/>
              </a:rPr>
              <a:t>Mahathir Mohama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Wednesday announced for the first time that he has appointed his deputy Abdullah Ahmad Badawi as his successor."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5"/>
          <p:cNvSpPr/>
          <p:nvPr/>
        </p:nvSpPr>
        <p:spPr>
          <a:xfrm>
            <a:off x="380880" y="3505320"/>
            <a:ext cx="6400800" cy="24224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Extracted fac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  <a:ea typeface="Arial"/>
              </a:rPr>
              <a:t>nationState(malaysian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8000"/>
                </a:solidFill>
                <a:latin typeface="Arial"/>
                <a:ea typeface="Arial"/>
              </a:rPr>
              <a:t>Person(mahathir-mohamad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isLedBy(malaysian,mahathir-mohamad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Exampl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202113-362E-4ED5-8C91-3A1657922E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4"/>
          <p:cNvSpPr/>
          <p:nvPr/>
        </p:nvSpPr>
        <p:spPr>
          <a:xfrm>
            <a:off x="914400" y="1371600"/>
            <a:ext cx="7391520" cy="22860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3000" spc="-1" strike="noStrike">
                <a:solidFill>
                  <a:srgbClr val="0000ff"/>
                </a:solidFill>
                <a:latin typeface="Calibri"/>
              </a:rPr>
              <a:t>Malaysian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Prime Minister</a:t>
            </a:r>
            <a:r>
              <a:rPr b="1" lang="en-US" sz="30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8000"/>
                </a:solidFill>
                <a:latin typeface="Calibri"/>
              </a:rPr>
              <a:t>Mahathir Mohama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Wednesday announced for the first time that he has appointed his deputy Abdullah Ahmad Badawi as his successor."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6"/>
          <p:cNvSpPr/>
          <p:nvPr/>
        </p:nvSpPr>
        <p:spPr>
          <a:xfrm>
            <a:off x="6477120" y="4267080"/>
            <a:ext cx="2438280" cy="16002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Que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isLedBy(X,Y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7"/>
          <p:cNvSpPr/>
          <p:nvPr/>
        </p:nvSpPr>
        <p:spPr>
          <a:xfrm>
            <a:off x="380880" y="3505320"/>
            <a:ext cx="6400800" cy="24224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Extracted fac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  <a:ea typeface="Arial"/>
              </a:rPr>
              <a:t>nationState(malaysian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8000"/>
                </a:solidFill>
                <a:latin typeface="Arial"/>
                <a:ea typeface="Arial"/>
              </a:rPr>
              <a:t>Person(mahathir-mohamad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isLedBy(malaysian,mahathir-mohamad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Objective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CA9319-8D8E-4BB2-A39C-47A8318798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457200" y="1828800"/>
            <a:ext cx="8001000" cy="1447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BLPs for Plan Recogn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457200" y="3962520"/>
            <a:ext cx="8001000" cy="1447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BLPs for Machine Rea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Exampl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ED6FB3-E41E-497F-9C7B-249062278C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4"/>
          <p:cNvSpPr/>
          <p:nvPr/>
        </p:nvSpPr>
        <p:spPr>
          <a:xfrm>
            <a:off x="914400" y="1371600"/>
            <a:ext cx="7391520" cy="22860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3000" spc="-1" strike="noStrike">
                <a:solidFill>
                  <a:srgbClr val="0000ff"/>
                </a:solidFill>
                <a:latin typeface="Calibri"/>
              </a:rPr>
              <a:t>Malaysian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Prime Minister</a:t>
            </a:r>
            <a:r>
              <a:rPr b="1" lang="en-US" sz="30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8000"/>
                </a:solidFill>
                <a:latin typeface="Calibri"/>
              </a:rPr>
              <a:t>Mahathir Mohama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Wednesday announced for the first time that he has appointed his deputy Abdullah Ahmad Badawi as his successor."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5"/>
          <p:cNvSpPr/>
          <p:nvPr/>
        </p:nvSpPr>
        <p:spPr>
          <a:xfrm>
            <a:off x="380880" y="3505320"/>
            <a:ext cx="6172200" cy="24224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a6a6a6"/>
                </a:solidFill>
                <a:latin typeface="Arial"/>
                <a:ea typeface="Arial"/>
              </a:rPr>
              <a:t>Extracted fac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a6a6a6"/>
                </a:solidFill>
                <a:latin typeface="Arial"/>
                <a:ea typeface="Arial"/>
              </a:rPr>
              <a:t>nationState(malaysian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a6a6a6"/>
                </a:solidFill>
                <a:latin typeface="Arial"/>
                <a:ea typeface="Arial"/>
              </a:rPr>
              <a:t>Person(mahathir-mohamad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a6a6a6"/>
                </a:solidFill>
                <a:latin typeface="Arial"/>
                <a:ea typeface="Arial"/>
              </a:rPr>
              <a:t>isLedBy(malaysian,mahatir-mohamad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6"/>
          <p:cNvSpPr/>
          <p:nvPr/>
        </p:nvSpPr>
        <p:spPr>
          <a:xfrm>
            <a:off x="6477120" y="4267080"/>
            <a:ext cx="2438280" cy="16002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a6a6a6"/>
                </a:solidFill>
                <a:latin typeface="Arial"/>
                <a:ea typeface="Arial"/>
              </a:rPr>
              <a:t>Que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a6a6a6"/>
                </a:solidFill>
                <a:latin typeface="Arial"/>
                <a:ea typeface="Arial"/>
              </a:rPr>
              <a:t>isLedBy(X,Y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7"/>
          <p:cNvSpPr/>
          <p:nvPr/>
        </p:nvSpPr>
        <p:spPr>
          <a:xfrm>
            <a:off x="2362320" y="4267080"/>
            <a:ext cx="4190760" cy="19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a6a6a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Arial"/>
              </a:rPr>
              <a:t>X = malays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Arial"/>
              </a:rPr>
              <a:t>Y = mahathir-moham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Exampl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8FCD8B-3B76-46E4-81B4-FB9BC93F05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4"/>
          <p:cNvSpPr/>
          <p:nvPr/>
        </p:nvSpPr>
        <p:spPr>
          <a:xfrm>
            <a:off x="914400" y="1371600"/>
            <a:ext cx="7391520" cy="22860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3000" spc="-1" strike="noStrike">
                <a:solidFill>
                  <a:srgbClr val="0000ff"/>
                </a:solidFill>
                <a:latin typeface="Calibri"/>
              </a:rPr>
              <a:t>Malaysian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Prime Minister</a:t>
            </a:r>
            <a:r>
              <a:rPr b="1" lang="en-US" sz="30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8000"/>
                </a:solidFill>
                <a:latin typeface="Calibri"/>
              </a:rPr>
              <a:t>Mahathir Mohama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Wednesday announced for the first time that he has appointed his deputy Abdullah Ahmad Badawi as his successor."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6"/>
          <p:cNvSpPr/>
          <p:nvPr/>
        </p:nvSpPr>
        <p:spPr>
          <a:xfrm>
            <a:off x="4648320" y="3429000"/>
            <a:ext cx="4190760" cy="16002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Que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itizenOf(mahathir-mohamad,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7"/>
          <p:cNvSpPr/>
          <p:nvPr/>
        </p:nvSpPr>
        <p:spPr>
          <a:xfrm>
            <a:off x="380880" y="3505320"/>
            <a:ext cx="6400800" cy="24224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Extracted fac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  <a:ea typeface="Arial"/>
              </a:rPr>
              <a:t>nationState(malaysian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8000"/>
                </a:solidFill>
                <a:latin typeface="Arial"/>
                <a:ea typeface="Arial"/>
              </a:rPr>
              <a:t>Person(mahathir-mohamad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isLedBy(malaysian,mahathir-mohamad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Exampl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BE8916-CDC1-4C6B-9983-881C01E4CA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4"/>
          <p:cNvSpPr/>
          <p:nvPr/>
        </p:nvSpPr>
        <p:spPr>
          <a:xfrm>
            <a:off x="914400" y="1371600"/>
            <a:ext cx="7391520" cy="22860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3000" spc="-1" strike="noStrike">
                <a:solidFill>
                  <a:srgbClr val="0000ff"/>
                </a:solidFill>
                <a:latin typeface="Calibri"/>
              </a:rPr>
              <a:t>Malaysian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Prime Minister</a:t>
            </a:r>
            <a:r>
              <a:rPr b="1" lang="en-US" sz="30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8000"/>
                </a:solidFill>
                <a:latin typeface="Calibri"/>
              </a:rPr>
              <a:t>Mahathir Mohama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Wednesday announced for the first time that he has appointed his deputy Abdullah Ahmad Badawi as his successor."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5"/>
          <p:cNvSpPr/>
          <p:nvPr/>
        </p:nvSpPr>
        <p:spPr>
          <a:xfrm>
            <a:off x="380880" y="3521160"/>
            <a:ext cx="6172200" cy="24224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a6a6a6"/>
                </a:solidFill>
                <a:latin typeface="Arial"/>
                <a:ea typeface="Arial"/>
              </a:rPr>
              <a:t>Extracted fac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a6a6a6"/>
                </a:solidFill>
                <a:latin typeface="Arial"/>
                <a:ea typeface="Arial"/>
              </a:rPr>
              <a:t>nationState(malaysian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a6a6a6"/>
                </a:solidFill>
                <a:latin typeface="Arial"/>
                <a:ea typeface="Arial"/>
              </a:rPr>
              <a:t>Person(mahathir-mohamad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a6a6a6"/>
                </a:solidFill>
                <a:latin typeface="Arial"/>
                <a:ea typeface="Arial"/>
              </a:rPr>
              <a:t>isLedBy(malaysian,mahatir-mohamad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8"/>
          <p:cNvSpPr/>
          <p:nvPr/>
        </p:nvSpPr>
        <p:spPr>
          <a:xfrm>
            <a:off x="4648320" y="3429000"/>
            <a:ext cx="4190760" cy="16002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a6a6a6"/>
                </a:solidFill>
                <a:latin typeface="Arial"/>
                <a:ea typeface="Arial"/>
              </a:rPr>
              <a:t>Que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Arial"/>
                <a:ea typeface="Arial"/>
              </a:rPr>
              <a:t>citizenOf(mahathir-mohamad,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7"/>
          <p:cNvSpPr/>
          <p:nvPr/>
        </p:nvSpPr>
        <p:spPr>
          <a:xfrm>
            <a:off x="2590920" y="4038480"/>
            <a:ext cx="4190760" cy="19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a6a6a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Arial"/>
              </a:rPr>
              <a:t>Y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Related Work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7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earning propositional rules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Nahm and Mooney, 2000]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rn propositional rules from the output of an IE system on computer-related job post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form deductive inference to infer new f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earning first-order rules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Carlson at el., 2010, Schoenmackers et al., 2010; Doppa et al., 2010]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rlson et al. and Doppa et al. modify existing rule learners like FOIL and FARMER to learn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probabilistic r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Perform deductive inference to infer additional facts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oenmackers et al. develop a new first-order rule learner based on statistical relev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Use MLN based approach to infer additional facts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117447-9E68-4FEA-9935-E4148B7197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Our Approach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se an off-the shelf IE system to extract fac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earn commonsense knowledge from the extracted facts in the form of first-order-rul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fer additional facts based on the learned rules us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P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re logical deduction results in inferring a large number of f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erence using BLPs is probabilistic in nature, i.e inferred facts are assigned probabilities.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Probabilities can be used to filter out facts with high confidence from the r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ficient grounding mechanism in BLPs enables our approach to scale to natural language 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3A49DE-B96C-404B-BECA-D6CED76517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Extending BLPs for Machine Reading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LD resolution does not result in inference of new fac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ven a query, SLD resolution will generated deductive proofs that prove the qu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mploy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forward chaining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o infer additional fac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ward chain on extracted facts to infer new f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se the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eductive proofs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from forward chaining to construct Bayesian network for probabilistic inferen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A324CD-0722-406B-A948-FF4F346152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earning First-order Rule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DAFC06-1971-4714-B338-7265884471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4"/>
          <p:cNvSpPr/>
          <p:nvPr/>
        </p:nvSpPr>
        <p:spPr>
          <a:xfrm>
            <a:off x="914400" y="1371600"/>
            <a:ext cx="7391520" cy="22860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3200" spc="-1" strike="noStrike">
                <a:solidFill>
                  <a:srgbClr val="008000"/>
                </a:solidFill>
                <a:latin typeface="Calibri"/>
                <a:ea typeface="Arial"/>
              </a:rPr>
              <a:t>Barack Obam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s the current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Presid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of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US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……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ama was </a:t>
            </a:r>
            <a:r>
              <a:rPr b="1" lang="en-US" sz="3200" spc="-1" strike="noStrike">
                <a:solidFill>
                  <a:srgbClr val="660066"/>
                </a:solidFill>
                <a:latin typeface="Calibri"/>
              </a:rPr>
              <a:t>bor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n August 4, 1961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Hawaii, US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’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380880" y="3505320"/>
            <a:ext cx="6782040" cy="31082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Extracted fac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  <a:ea typeface="Arial"/>
              </a:rPr>
              <a:t>nationState(USA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8000"/>
                </a:solidFill>
                <a:latin typeface="Arial"/>
                <a:ea typeface="Arial"/>
              </a:rPr>
              <a:t>Person(BarackObama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isLedBy(USA,BarackObama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660066"/>
                </a:solidFill>
                <a:latin typeface="Arial"/>
                <a:ea typeface="Arial"/>
              </a:rPr>
              <a:t>hasBirthPlace(BarackObama,USA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itizenOf(BarackObama,USA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Learning Patterns from Extracted Facts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ff"/>
              </a:solidFill>
              <a:latin typeface="Arial"/>
            </a:endParaRPr>
          </a:p>
          <a:p>
            <a:pPr marL="263880" indent="-263880"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ationState(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USA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∧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sLedBy(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USA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BarackObama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ff"/>
              </a:solidFill>
              <a:latin typeface="Arial"/>
            </a:endParaRPr>
          </a:p>
          <a:p>
            <a:pPr marL="263880" indent="-263880"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itizenOf(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BarackObama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USA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ff"/>
              </a:solidFill>
              <a:latin typeface="Arial"/>
            </a:endParaRPr>
          </a:p>
          <a:p>
            <a:pPr marL="263880" indent="-263880"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ff"/>
              </a:solidFill>
              <a:latin typeface="Arial"/>
            </a:endParaRPr>
          </a:p>
          <a:p>
            <a:pPr marL="263880" indent="-263880"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ationState(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USA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∧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sLedBy(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USA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BarackObama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ff"/>
              </a:solidFill>
              <a:latin typeface="Arial"/>
            </a:endParaRPr>
          </a:p>
          <a:p>
            <a:pPr marL="263880" indent="-263880"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hasBirthPlace(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BarackObama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USA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ff"/>
              </a:solidFill>
              <a:latin typeface="Arial"/>
            </a:endParaRPr>
          </a:p>
          <a:p>
            <a:pPr marL="263880" indent="-263880"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ff"/>
              </a:solidFill>
              <a:latin typeface="Arial"/>
            </a:endParaRPr>
          </a:p>
          <a:p>
            <a:pPr marL="263880" indent="-263880"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hasBirthPlace(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BarackObama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USA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ff"/>
              </a:solidFill>
              <a:latin typeface="Arial"/>
            </a:endParaRPr>
          </a:p>
          <a:p>
            <a:pPr marL="263880" indent="-263880"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itizenOf(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BarackObama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USA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ff"/>
              </a:solidFill>
              <a:latin typeface="Arial"/>
            </a:endParaRPr>
          </a:p>
          <a:p>
            <a:pPr marL="263880" indent="-263880" algn="ctr"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ff"/>
              </a:solidFill>
              <a:latin typeface="Arial"/>
            </a:endParaRPr>
          </a:p>
          <a:p>
            <a:pPr marL="263880" indent="-263880" algn="ctr"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ff"/>
              </a:solidFill>
              <a:latin typeface="Arial"/>
            </a:endParaRPr>
          </a:p>
          <a:p>
            <a:pPr marL="263880" indent="-263880" algn="ctr"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ff"/>
              </a:solidFill>
              <a:latin typeface="Arial"/>
            </a:endParaRPr>
          </a:p>
          <a:p>
            <a:pPr marL="263880" indent="-263880" algn="ctr"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ff"/>
              </a:solidFill>
              <a:latin typeface="Arial"/>
            </a:endParaRPr>
          </a:p>
          <a:p>
            <a:pPr marL="263880" indent="-263880" algn="ctr"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ff"/>
              </a:solidFill>
              <a:latin typeface="Arial"/>
            </a:endParaRPr>
          </a:p>
          <a:p>
            <a:pPr marL="263880" indent="-263880"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ff"/>
              </a:solidFill>
              <a:latin typeface="Arial"/>
            </a:endParaRPr>
          </a:p>
          <a:p>
            <a:pPr marL="263880" indent="-263880"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ff"/>
              </a:solidFill>
              <a:latin typeface="Arial"/>
            </a:endParaRPr>
          </a:p>
          <a:p>
            <a:pPr marL="263880" indent="-263880"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ff"/>
              </a:solidFill>
              <a:latin typeface="Arial"/>
            </a:endParaRPr>
          </a:p>
          <a:p>
            <a:pPr marL="263880" indent="-263880"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ff"/>
              </a:solidFill>
              <a:latin typeface="Arial"/>
            </a:endParaRPr>
          </a:p>
          <a:p>
            <a:pPr marL="263880" indent="-263880">
              <a:spcBef>
                <a:spcPts val="52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407010-05E3-42FF-98E1-0919DE8E44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Generalizing Patterns to Rule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D7A412-ED2D-4E93-9553-A0FCF3AACC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1066680" y="2209680"/>
            <a:ext cx="7239240" cy="2743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ationState(Y) </a:t>
            </a:r>
            <a:r>
              <a:rPr b="1" lang="en-US" sz="2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∧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LedBy(Y,X)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citizenOf(X,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ationState(Y) </a:t>
            </a:r>
            <a:r>
              <a:rPr b="1" lang="en-US" sz="2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∧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LedBy(Y,X)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hasBirthPlace(X,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asBirthPlace(X,Y)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citizenOf(X,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Inductive Logic Programming (ILP)</a:t>
            </a:r>
            <a:br>
              <a:rPr sz="3800"/>
            </a:b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Muggleton, 1992]</a:t>
            </a:r>
            <a:endParaRPr b="0" lang="en-US" sz="15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10EAF6-73DB-4C43-A9F1-F05A38CA54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4"/>
          <p:cNvSpPr/>
          <p:nvPr/>
        </p:nvSpPr>
        <p:spPr>
          <a:xfrm>
            <a:off x="3733920" y="2743200"/>
            <a:ext cx="281916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ILP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Rule Learn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5"/>
          <p:cNvSpPr/>
          <p:nvPr/>
        </p:nvSpPr>
        <p:spPr>
          <a:xfrm>
            <a:off x="3733920" y="1600200"/>
            <a:ext cx="2819160" cy="55044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arget rel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Arial"/>
              </a:rPr>
              <a:t>citizenOf(X,Y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Box 6"/>
          <p:cNvSpPr/>
          <p:nvPr/>
        </p:nvSpPr>
        <p:spPr>
          <a:xfrm>
            <a:off x="304920" y="1563840"/>
            <a:ext cx="2438280" cy="2148120"/>
          </a:xfrm>
          <a:prstGeom prst="rect">
            <a:avLst/>
          </a:prstGeom>
          <a:noFill/>
          <a:ln w="38160">
            <a:solidFill>
              <a:srgbClr val="007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ositive instan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8000"/>
                </a:solidFill>
                <a:latin typeface="Arial"/>
              </a:rPr>
              <a:t>citizenOf(BarackObama, USA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8000"/>
                </a:solidFill>
                <a:latin typeface="Arial"/>
              </a:rPr>
              <a:t>citizenOf(GeorgeBush, USA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8000"/>
                </a:solidFill>
                <a:latin typeface="Arial"/>
              </a:rPr>
              <a:t>citizenOf(IndiraGandhi,India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7"/>
          <p:cNvSpPr/>
          <p:nvPr/>
        </p:nvSpPr>
        <p:spPr>
          <a:xfrm>
            <a:off x="304920" y="3962520"/>
            <a:ext cx="2438280" cy="2148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egative instan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citizenOf(BarackObama, India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citizenOf(GeorgeBush, India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citizenOf(IndiraGandhi,USA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8"/>
          <p:cNvSpPr/>
          <p:nvPr/>
        </p:nvSpPr>
        <p:spPr>
          <a:xfrm>
            <a:off x="3429000" y="4952880"/>
            <a:ext cx="3429000" cy="169164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K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660066"/>
                </a:solidFill>
                <a:latin typeface="Arial"/>
              </a:rPr>
              <a:t>hasBirthPlace(BarackObama,USA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660066"/>
                </a:solidFill>
                <a:latin typeface="Arial"/>
              </a:rPr>
              <a:t>person(BarackObama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660066"/>
                </a:solidFill>
                <a:latin typeface="Arial"/>
              </a:rPr>
              <a:t>nationState(USA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660066"/>
                </a:solidFill>
                <a:latin typeface="Arial"/>
              </a:rPr>
              <a:t>nationState(India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ight Arrow 9"/>
          <p:cNvSpPr/>
          <p:nvPr/>
        </p:nvSpPr>
        <p:spPr>
          <a:xfrm>
            <a:off x="2743200" y="3276720"/>
            <a:ext cx="9907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ight Arrow 10"/>
          <p:cNvSpPr/>
          <p:nvPr/>
        </p:nvSpPr>
        <p:spPr>
          <a:xfrm>
            <a:off x="2743200" y="4038480"/>
            <a:ext cx="9907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Down Arrow 12"/>
          <p:cNvSpPr/>
          <p:nvPr/>
        </p:nvSpPr>
        <p:spPr>
          <a:xfrm>
            <a:off x="4724280" y="2154240"/>
            <a:ext cx="533520" cy="5889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Down Arrow 13"/>
          <p:cNvSpPr/>
          <p:nvPr/>
        </p:nvSpPr>
        <p:spPr>
          <a:xfrm rot="10800000">
            <a:off x="4724280" y="4440240"/>
            <a:ext cx="533520" cy="512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14"/>
          <p:cNvSpPr/>
          <p:nvPr/>
        </p:nvSpPr>
        <p:spPr>
          <a:xfrm>
            <a:off x="7162920" y="2743200"/>
            <a:ext cx="1676160" cy="1676520"/>
          </a:xfrm>
          <a:prstGeom prst="rect">
            <a:avLst/>
          </a:prstGeom>
          <a:noFill/>
          <a:ln w="38160">
            <a:solidFill>
              <a:srgbClr val="471b8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ul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471b8f"/>
                </a:solidFill>
                <a:latin typeface="Arial"/>
                <a:ea typeface="Arial"/>
              </a:rPr>
              <a:t>nationState(Y) </a:t>
            </a:r>
            <a:r>
              <a:rPr b="1" lang="en-US" sz="1500" spc="-1" strike="noStrike">
                <a:solidFill>
                  <a:srgbClr val="471b8f"/>
                </a:solidFill>
                <a:latin typeface="ＭＳ ゴシック"/>
                <a:ea typeface="ＭＳ ゴシック"/>
              </a:rPr>
              <a:t>∧</a:t>
            </a:r>
            <a:r>
              <a:rPr b="1" lang="en-US" sz="1500" spc="-1" strike="noStrike">
                <a:solidFill>
                  <a:srgbClr val="471b8f"/>
                </a:solidFill>
                <a:latin typeface="Arial"/>
                <a:ea typeface="Arial"/>
              </a:rPr>
              <a:t> isLedBy(Y,X) </a:t>
            </a:r>
            <a:r>
              <a:rPr b="1" lang="en-US" sz="1500" spc="-1" strike="noStrike">
                <a:solidFill>
                  <a:srgbClr val="471b8f"/>
                </a:solidFill>
                <a:latin typeface="Wingdings"/>
                <a:ea typeface="Wingdings"/>
              </a:rPr>
              <a:t></a:t>
            </a:r>
            <a:r>
              <a:rPr b="1" lang="en-US" sz="1500" spc="-1" strike="noStrike">
                <a:solidFill>
                  <a:srgbClr val="471b8f"/>
                </a:solidFill>
                <a:latin typeface="Arial"/>
                <a:ea typeface="Arial"/>
              </a:rPr>
              <a:t>citizenOf(X,Y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471b8f"/>
                </a:solidFill>
                <a:latin typeface="Arial"/>
                <a:ea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471b8f"/>
                </a:solidFill>
                <a:latin typeface="Arial"/>
                <a:ea typeface="Aria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ight Arrow 15"/>
          <p:cNvSpPr/>
          <p:nvPr/>
        </p:nvSpPr>
        <p:spPr>
          <a:xfrm>
            <a:off x="6553080" y="3276720"/>
            <a:ext cx="609840" cy="53316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Objective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BB37A9-BD23-4EBA-B8D2-251EE30AAD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457200" y="1828800"/>
            <a:ext cx="8001000" cy="1447920"/>
          </a:xfrm>
          <a:prstGeom prst="rect">
            <a:avLst/>
          </a:prstGeom>
          <a:noFill/>
          <a:ln w="101520">
            <a:solidFill>
              <a:srgbClr val="0000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Plan recognition involves predicting the top-level plan of an agent based on its ac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457200" y="3962520"/>
            <a:ext cx="8001000" cy="1447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BLPs for Machine Rea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Exampl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52E708-16A5-4CCC-BAEF-A8D1C3434F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380880" y="3200400"/>
            <a:ext cx="6172200" cy="19652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Extracted fac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  <a:ea typeface="Arial"/>
              </a:rPr>
              <a:t>nationState(malaysian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  <a:ea typeface="Arial"/>
              </a:rPr>
              <a:t>Person(mahathir-mohamad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  <a:ea typeface="Arial"/>
              </a:rPr>
              <a:t>isLedBy(malaysian,mahathir-mohamad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5"/>
          <p:cNvSpPr/>
          <p:nvPr/>
        </p:nvSpPr>
        <p:spPr>
          <a:xfrm>
            <a:off x="380880" y="5181480"/>
            <a:ext cx="8153640" cy="13716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Learned ru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nationState(B) </a:t>
            </a:r>
            <a:r>
              <a:rPr b="0" lang="en-US" sz="25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∧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 isLedBy(B,A) </a:t>
            </a:r>
            <a:r>
              <a:rPr b="0" lang="en-US" sz="25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 citizenOf(A,B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6"/>
          <p:cNvSpPr/>
          <p:nvPr/>
        </p:nvSpPr>
        <p:spPr>
          <a:xfrm>
            <a:off x="838080" y="1066680"/>
            <a:ext cx="7391520" cy="22860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laysian Prime Minister Mahathir Mohamad Wednesday announced for the first time that he has appointed his deputy Abdullah Ahmad Badawi as his successor.’’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Inference of Additional Fact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2310A9-99A8-4575-939A-E6D15BAEF9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4"/>
          <p:cNvSpPr/>
          <p:nvPr/>
        </p:nvSpPr>
        <p:spPr>
          <a:xfrm>
            <a:off x="533520" y="1676520"/>
            <a:ext cx="8153280" cy="76176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nationState(B) </a:t>
            </a:r>
            <a:r>
              <a:rPr b="0" lang="en-US" sz="25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∧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 isLedBy(B,A) </a:t>
            </a:r>
            <a:r>
              <a:rPr b="0" lang="en-US" sz="25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 citizenOf(A,B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5"/>
          <p:cNvSpPr/>
          <p:nvPr/>
        </p:nvSpPr>
        <p:spPr>
          <a:xfrm>
            <a:off x="228600" y="2438280"/>
            <a:ext cx="3657600" cy="9144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  <a:ea typeface="Arial"/>
              </a:rPr>
              <a:t>nationState(malaysian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6"/>
          <p:cNvSpPr/>
          <p:nvPr/>
        </p:nvSpPr>
        <p:spPr>
          <a:xfrm>
            <a:off x="4114800" y="2590920"/>
            <a:ext cx="5029200" cy="9144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  <a:ea typeface="Arial"/>
              </a:rPr>
              <a:t>isLedBy(malaysian,mahathir-mohamad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4" name="Straight Arrow Connector 8"/>
          <p:cNvCxnSpPr/>
          <p:nvPr/>
        </p:nvCxnSpPr>
        <p:spPr>
          <a:xfrm>
            <a:off x="1828440" y="3505320"/>
            <a:ext cx="2057760" cy="1372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5" name="Straight Arrow Connector 9"/>
          <p:cNvCxnSpPr/>
          <p:nvPr/>
        </p:nvCxnSpPr>
        <p:spPr>
          <a:xfrm flipH="1">
            <a:off x="4266720" y="3505320"/>
            <a:ext cx="1829520" cy="1372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6" name="Rectangle 11"/>
          <p:cNvSpPr/>
          <p:nvPr/>
        </p:nvSpPr>
        <p:spPr>
          <a:xfrm>
            <a:off x="838080" y="4876920"/>
            <a:ext cx="7543800" cy="9144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  <a:ea typeface="Arial"/>
              </a:rPr>
              <a:t>citizenOf(mahathir-mohamad, malaysian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Experimental Evalua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RPA’s intelligent community (IC) data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ists of news articles on politics, terrorism, and others international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000 documents, split into training and test in the ratio 9: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roximately 30,000 sente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formation Extrac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tion extraction using SIRE, IBM’s information extraction system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Florin et al., 2004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B8C2D9-549E-43EB-B987-59B207C6B2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Experimental Evalua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37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earning first-order rules using LIME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McCreath and Sharma, 1998]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  <a:p>
            <a:pPr lvl="1" marL="668520" indent="-2570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rns rules from only positive insta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s noise in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odel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68520" indent="-2570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LP-Pos-On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Learn rules using only positive instances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1" marL="668520" indent="-2570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LP-Pos-Ne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Learn rules using both positive and negative instances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Apply closed world assumption to automatically generate negative instances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1" marL="668520" indent="-2570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LP-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Includes rules learned from BLP-Pos-Only and BLP-Pos-Neg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FB267B-1130-4169-921B-DE05B931E9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Experimental Evalua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pecifying probabilistic paramet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ually specified parame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ical-and model to combine evidence from conjuncts in the body of the cla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t noisy-or parameters to 0.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t priors to maximum likelihood estim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F9576D-6BA6-40EC-A03E-EDCFB4CCDD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Experimental Evalua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ethodolog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rned rules for 13 relations including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hasCitizenshi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hasMemb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ttendedSch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lin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Perform pure logical deduction to infer all possible additional facts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LP-0.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Facts inferred using the BLP approach with marginal probability greater or equal to 0.9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LP-0.9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Facts inferred using the BLP approach with marginal probability greater or equal to 0.95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9485B3-1D54-4851-A529-089412E3E1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erformance Evalua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ecis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aluate if the inferred facts are correct, i.e if they can be inferred from the docu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No ground truth information available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Perform manual evaluation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Sample 20 documents randomly from the test set and evaluate inferred facts manually for all models 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1EF050-6BED-43DE-B184-02B23CD4D6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recision </a:t>
            </a:r>
            <a:br>
              <a:rPr sz="3800"/>
            </a:b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preliminary results)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457200" y="1646280"/>
          <a:ext cx="8229600" cy="2087640"/>
        </p:xfrm>
        <a:graphic>
          <a:graphicData uri="http://schemas.openxmlformats.org/drawingml/2006/table">
            <a:tbl>
              <a:tblPr/>
              <a:tblGrid>
                <a:gridCol w="3352680"/>
                <a:gridCol w="1524240"/>
                <a:gridCol w="1752480"/>
                <a:gridCol w="1600200"/>
              </a:tblGrid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P-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P-Pos-N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P-Pos-On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Baseline – Purely logical approach </a:t>
                      </a:r>
                      <a:r>
                        <a:rPr b="0" lang="en-US" sz="15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[No. facts inferred]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38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184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Prec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24.9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16.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31.8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54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072EB2-DD38-487D-96B5-ED4A0A4324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recision </a:t>
            </a:r>
            <a:br>
              <a:rPr sz="3800"/>
            </a:b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preliminary results)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457200" y="1600200"/>
          <a:ext cx="8229600" cy="3087720"/>
        </p:xfrm>
        <a:graphic>
          <a:graphicData uri="http://schemas.openxmlformats.org/drawingml/2006/table">
            <a:tbl>
              <a:tblPr/>
              <a:tblGrid>
                <a:gridCol w="3352680"/>
                <a:gridCol w="1524240"/>
                <a:gridCol w="1752480"/>
                <a:gridCol w="1600200"/>
              </a:tblGrid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P-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P-Pos-N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P-Pos-On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Baseline – Purely logical approach </a:t>
                      </a:r>
                      <a:r>
                        <a:rPr b="0" lang="en-US" sz="15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[No. facts inferred]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38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184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Prec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24.9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16.00</a:t>
                      </a:r>
                      <a:r>
                        <a:rPr b="1" lang="en-US" sz="22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31.8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BLP-0.9 </a:t>
                      </a:r>
                      <a:r>
                        <a:rPr b="0" lang="en-US" sz="15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[No. facts inferred]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20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6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15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Prec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4.6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3.63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5.4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7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B5F031-9D73-46B0-99C8-6F416CC989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traight Connector 7"/>
          <p:cNvSpPr/>
          <p:nvPr/>
        </p:nvSpPr>
        <p:spPr>
          <a:xfrm>
            <a:off x="457200" y="3733920"/>
            <a:ext cx="8229600" cy="14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recision </a:t>
            </a:r>
            <a:br>
              <a:rPr sz="3800"/>
            </a:b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preliminary results)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660" name=""/>
          <p:cNvGraphicFramePr/>
          <p:nvPr/>
        </p:nvGraphicFramePr>
        <p:xfrm>
          <a:off x="457200" y="1627200"/>
          <a:ext cx="8229600" cy="4087800"/>
        </p:xfrm>
        <a:graphic>
          <a:graphicData uri="http://schemas.openxmlformats.org/drawingml/2006/table">
            <a:tbl>
              <a:tblPr/>
              <a:tblGrid>
                <a:gridCol w="3352680"/>
                <a:gridCol w="1524240"/>
                <a:gridCol w="1752480"/>
                <a:gridCol w="16002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P-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P-Pos-N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P-Pos-On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Baseline – Purely logical approach </a:t>
                      </a:r>
                      <a:r>
                        <a:rPr b="0" lang="en-US" sz="15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[No. facts inferred]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38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184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Prec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24.9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16.00</a:t>
                      </a:r>
                      <a:r>
                        <a:rPr b="1" lang="en-US" sz="22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5500"/>
                          </a:solidFill>
                          <a:latin typeface="Arial"/>
                          <a:ea typeface="Arial"/>
                        </a:rPr>
                        <a:t>31.8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BLP-0.9 </a:t>
                      </a:r>
                      <a:r>
                        <a:rPr b="0" lang="en-US" sz="15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[No. facts inferred]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20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6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15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Prec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4.6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3.63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5.4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BLP-0.95 </a:t>
                      </a:r>
                      <a:r>
                        <a:rPr b="0" lang="en-US" sz="15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[No. of facts inferred]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56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rec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1.0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i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1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752977-CDD9-478B-8F6E-B01044CE00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traight Connector 7"/>
          <p:cNvSpPr/>
          <p:nvPr/>
        </p:nvSpPr>
        <p:spPr>
          <a:xfrm>
            <a:off x="457200" y="3657600"/>
            <a:ext cx="8229600" cy="14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traight Connector 8"/>
          <p:cNvSpPr/>
          <p:nvPr/>
        </p:nvSpPr>
        <p:spPr>
          <a:xfrm>
            <a:off x="457200" y="4648320"/>
            <a:ext cx="8229600" cy="14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Objective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EC7271-9589-4CC6-80B1-94C49A380F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457200" y="1828800"/>
            <a:ext cx="8001000" cy="1447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BLPs for Plan Recogn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457200" y="3962520"/>
            <a:ext cx="8001000" cy="1447560"/>
          </a:xfrm>
          <a:prstGeom prst="rect">
            <a:avLst/>
          </a:prstGeom>
          <a:noFill/>
          <a:ln w="101520">
            <a:solidFill>
              <a:srgbClr val="0000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Machine Reading involves automatic extraction of knowledge from natural language tex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erformance Evaluation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stimated recal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each target relation, eliminate instances of it from th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xtracted fact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 the test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y to infer the eliminated instances correctly based on the remaining facts using the BLP approach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For each threshold point (0.1 to 1), compute fraction of eliminated instances that were inferred correctly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71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7100"/>
                </a:solidFill>
                <a:latin typeface="Arial"/>
              </a:rPr>
              <a:t>True recall cannot be calculated because of lack of ground truth</a:t>
            </a:r>
            <a:endParaRPr b="1" lang="en-US" sz="2000" spc="-1" strike="noStrike">
              <a:solidFill>
                <a:srgbClr val="0071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187507-CF3B-4071-9972-646357DB3C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Estimated Recall </a:t>
            </a:r>
            <a:br>
              <a:rPr sz="3800"/>
            </a:b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preliminary results)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668" name="Content Placeholder 4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924680" cy="4525920"/>
          </a:xfrm>
          <a:prstGeom prst="rect">
            <a:avLst/>
          </a:prstGeom>
          <a:ln w="0">
            <a:noFill/>
          </a:ln>
        </p:spPr>
      </p:pic>
      <p:sp>
        <p:nvSpPr>
          <p:cNvPr id="669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306710-9C5C-44BF-A2DA-7E18190F38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Box 5"/>
          <p:cNvSpPr/>
          <p:nvPr/>
        </p:nvSpPr>
        <p:spPr>
          <a:xfrm rot="16200000">
            <a:off x="-1383120" y="3572280"/>
            <a:ext cx="3809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Estimated recal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Box 6"/>
          <p:cNvSpPr/>
          <p:nvPr/>
        </p:nvSpPr>
        <p:spPr>
          <a:xfrm>
            <a:off x="2743200" y="6075360"/>
            <a:ext cx="3809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Confidence threshol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Estimated Recall </a:t>
            </a:r>
            <a:br>
              <a:rPr sz="3800"/>
            </a:b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preliminary results)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673" name="Content Placeholder 4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924680" cy="4525920"/>
          </a:xfrm>
          <a:prstGeom prst="rect">
            <a:avLst/>
          </a:prstGeom>
          <a:ln w="0">
            <a:noFill/>
          </a:ln>
        </p:spPr>
      </p:pic>
      <p:sp>
        <p:nvSpPr>
          <p:cNvPr id="674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91D811-CA45-4916-A65C-EB584C1FF9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5"/>
          <p:cNvSpPr/>
          <p:nvPr/>
        </p:nvSpPr>
        <p:spPr>
          <a:xfrm rot="16200000">
            <a:off x="-1383120" y="3572280"/>
            <a:ext cx="3809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Estimated recal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Box 6"/>
          <p:cNvSpPr/>
          <p:nvPr/>
        </p:nvSpPr>
        <p:spPr>
          <a:xfrm>
            <a:off x="2743200" y="6075360"/>
            <a:ext cx="3809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Confidence threshol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7"/>
          <p:cNvSpPr/>
          <p:nvPr/>
        </p:nvSpPr>
        <p:spPr>
          <a:xfrm>
            <a:off x="4343400" y="1600200"/>
            <a:ext cx="3886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Estimated Recall </a:t>
            </a:r>
            <a:br>
              <a:rPr sz="3800"/>
            </a:b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preliminary results)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679" name="Content Placeholder 4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924680" cy="4525920"/>
          </a:xfrm>
          <a:prstGeom prst="rect">
            <a:avLst/>
          </a:prstGeom>
          <a:ln w="0">
            <a:noFill/>
          </a:ln>
        </p:spPr>
      </p:pic>
      <p:sp>
        <p:nvSpPr>
          <p:cNvPr id="680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4E85CE-2400-42FA-A9DF-156D99E59B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Box 5"/>
          <p:cNvSpPr/>
          <p:nvPr/>
        </p:nvSpPr>
        <p:spPr>
          <a:xfrm rot="16200000">
            <a:off x="-1383120" y="3572280"/>
            <a:ext cx="3809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Estimated recal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6"/>
          <p:cNvSpPr/>
          <p:nvPr/>
        </p:nvSpPr>
        <p:spPr>
          <a:xfrm>
            <a:off x="2743200" y="6075360"/>
            <a:ext cx="3809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Confidence threshol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7"/>
          <p:cNvSpPr/>
          <p:nvPr/>
        </p:nvSpPr>
        <p:spPr>
          <a:xfrm>
            <a:off x="6248520" y="1600200"/>
            <a:ext cx="19810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Estimated Recall </a:t>
            </a:r>
            <a:br>
              <a:rPr sz="3800"/>
            </a:b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preliminary results)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685" name="Content Placeholder 4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924680" cy="4525920"/>
          </a:xfrm>
          <a:prstGeom prst="rect">
            <a:avLst/>
          </a:prstGeom>
          <a:ln w="0">
            <a:noFill/>
          </a:ln>
        </p:spPr>
      </p:pic>
      <p:sp>
        <p:nvSpPr>
          <p:cNvPr id="686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D9BACB-BE9D-45B3-967E-776A4033D1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Box 5"/>
          <p:cNvSpPr/>
          <p:nvPr/>
        </p:nvSpPr>
        <p:spPr>
          <a:xfrm rot="16200000">
            <a:off x="-1383120" y="3572280"/>
            <a:ext cx="3809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Estimated recal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Box 6"/>
          <p:cNvSpPr/>
          <p:nvPr/>
        </p:nvSpPr>
        <p:spPr>
          <a:xfrm>
            <a:off x="2743200" y="6075360"/>
            <a:ext cx="3809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Confidence threshol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First-order Rules from LIME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oliticalParty(A) ^ employs(A,B) </a:t>
            </a:r>
            <a:r>
              <a:rPr b="0" lang="en-US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hasMemberPerson(A,B)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uilding(B) ^ eventLocation(A,B) ^ bombing(A) </a:t>
            </a:r>
            <a:r>
              <a:rPr b="0" lang="en-US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thingPhysicallyDamaged(A,B)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mploys(A,B) </a:t>
            </a:r>
            <a:r>
              <a:rPr b="0" lang="en-US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hasMember(A,B)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itizenOf(A,B) </a:t>
            </a:r>
            <a:r>
              <a:rPr b="0" lang="en-US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hasCitizenship(A,B)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ationState(B) ^ person(A) ^ employs(B,A) </a:t>
            </a:r>
            <a:r>
              <a:rPr b="0" lang="en-US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hasBirthPlace(A,B)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1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2049E4-E8EA-4CF1-AE27-A84A53E80F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Proposed Work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" y="1341000"/>
            <a:ext cx="822960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earning parameters automatically from data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 or gradient-ascent based algorithm adapted for BLPs by Kersting and De Raedt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2008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Human evaluatio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inferred facts using Amazon Mechanical Turk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Callison-Burch and Dredze, 2010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inferred facts to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nswer querie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tructed for evaluation in the DARPA sponsored machine reading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arison to existing approaches like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ML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velop a structure learner for incomplete and uncertain data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4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96D22C-E32B-4B70-8EDB-D5B83BA87C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Future Extension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ultiple predicate learn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rn rules for multiple relations at the same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scriminative parameter learning for BLP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 and gradient-ascent based algorithms for learning BLP parameters optimize likelihood of the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algorithm that learns parameters discriminatively for BLPs has been developed to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mparison of BALPs to other probabilistic logics for plan recogni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arison to PRISM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Sato, 1995]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Poole’s Horn Abduction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Poole, 1993]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Abductive Stochastic Logic Programs </a:t>
            </a:r>
            <a:r>
              <a:rPr b="1" i="1" lang="en-US" sz="1500" spc="-1" strike="noStrike">
                <a:solidFill>
                  <a:srgbClr val="660066"/>
                </a:solidFill>
                <a:latin typeface="Arial"/>
              </a:rPr>
              <a:t>[Tammadoni-Nezhad et al., 2006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8F422F-87FA-4B73-92FD-E629C8C411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Conclusion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tended BLPs to abductive plan recogni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hance BLPs with logical abduction, resulting in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Bayesian Abductive Logic Program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BALP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LPs outperform state-of-the-art approaches to plan recognition on several benchmark data s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tended BLPs to machine read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liminary results on the IC data set are encourag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form an extensive evaluation in immediate fu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 a first-order rule learner that learns from incomplete and uncertain data in fu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675272-4A2C-4F8A-A97F-3E4F3C7675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Questions</a:t>
            </a:r>
            <a:endParaRPr b="0" lang="en-US" sz="3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2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205DF4-7A07-43BF-97EA-55C7D4EE71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2T01:15:02Z</dcterms:created>
  <dc:creator>Office 2004 Test Drive User</dc:creator>
  <dc:description/>
  <dc:language>en-US</dc:language>
  <cp:lastModifiedBy>Office 2004 Test Drive User</cp:lastModifiedBy>
  <dcterms:modified xsi:type="dcterms:W3CDTF">2011-05-12T22:02:49Z</dcterms:modified>
  <cp:revision>931</cp:revision>
  <dc:subject/>
  <dc:title>Slide 1</dc:title>
</cp:coreProperties>
</file>