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A66E1-A212-4D37-ABC2-0F4B94D173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15B71-B89C-4ECA-9242-5E3574ED4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FA4A5-FFAA-46A4-8554-613179DBB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792-2F96-439F-A836-EAE5DB7B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FC9-0311-4613-9983-E7723105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5C5-1A15-4E75-994D-675F9508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A67-373A-417F-A3E0-0C7B09F3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1D6-F05A-4868-9267-1BDDA2F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364-6CF9-41B9-AA0F-BB2EB946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EBE-F813-4117-8490-808D7645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CD9-E8FE-414E-8710-658267E1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C31-90D6-46F7-8637-88FBC5BC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563-83E4-4E6B-B370-4BEE4BEB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E5E-86AA-4A2B-ABB5-FF15077E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088-4786-46C0-A925-02D5CBCC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1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8D657-DE19-48A9-A196-ABF02CF574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6F895-BECB-49D0-820A-EB7B424DA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14"/>
          <p:cNvSpPr/>
          <p:nvPr/>
        </p:nvSpPr>
        <p:spPr>
          <a:xfrm flipH="1">
            <a:off x="151920" y="150840"/>
            <a:ext cx="1800" cy="657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152280" y="150840"/>
            <a:ext cx="87631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15"/>
          <p:cNvSpPr/>
          <p:nvPr/>
        </p:nvSpPr>
        <p:spPr>
          <a:xfrm flipH="1">
            <a:off x="8915400" y="152280"/>
            <a:ext cx="1440" cy="657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6"/>
          <p:cNvSpPr/>
          <p:nvPr/>
        </p:nvSpPr>
        <p:spPr>
          <a:xfrm>
            <a:off x="152280" y="6705720"/>
            <a:ext cx="87631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1523880"/>
            <a:ext cx="8915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Extending Bayesian Logic Programs</a:t>
            </a:r>
            <a:br>
              <a:rPr sz="3400"/>
            </a:b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for Plan Recognition and Machine Reading</a:t>
            </a:r>
            <a:endParaRPr b="0" lang="en-US" sz="3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ndhu V. Raghava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500"/>
                </a:solidFill>
                <a:latin typeface="Arial"/>
              </a:rPr>
              <a:t>Advisor: Raymond Moone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D Propos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y 12</a:t>
            </a:r>
            <a:r>
              <a:rPr b="0" lang="en-US" sz="24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, 201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396AC-22B5-450D-A96F-1381FF894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5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5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Ab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yesian Logic Programs (BL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d 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 1 – Extending BLPs for Plan Recog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 2 – Extending BLPs for Machine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posed 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774C3-AD1F-4BB2-B5BC-79CD0B192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ckup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1E116-E64A-4D69-9E4D-6E87D60FE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Timelin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265400"/>
            <a:ext cx="82296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itional experiments comparing MLN-HCAM and BALPs for plan recognitio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[Target completion – August 2011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ample Search to perform inference in MLN-HCAM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on of BLPs for Machine Reading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[Target completion – November 2011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parameters automatical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ion using Amazon Mechanical Tu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ion of BLPs for answering qu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son of BLPs with MLNs for machine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ing structure learner from positive and uncertain example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[Target completion – May 2012]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osed defense and graduatio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[August 2012]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13B11-5F0C-4F42-8181-1324F0FF5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mpleteness in 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ness - If a sentence is entailed by a KB, then it is possible to find the proof that entails 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tailment in first-order logic is semidecidable, i.e it is not possible to know if a sentence is entailed by a KB or n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olution is complete in first-order log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set of sentences is unsatisfiable, then it is possible to find a contradi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2A68D-52BC-4C9D-ABA3-F41940D8A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orward chai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every implicati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p is true, then q is concluded to be tr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s in addition of a new fact to KB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icient, but incomple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erence can explode and forward chaining may never termin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 of new facts might result in rules being satis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is data-driven, not goal-dr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ht result in irrelevant conclusion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359EC-AD97-49E2-B4C2-EA3ED86FE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ckward chai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a query literal q, if an implicati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present and p is true, then q is concluded to be true, otherwise backward chaining tries to prove 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icient, but not comple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y never terminate, might get stuck in infinite loo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onenti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al-dr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EFE5C-401E-4E63-A928-9D6736813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Herbrand Model Semantic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univer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onstants in the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b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ground atoms atoms over Herbrand unive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interpre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t of ground atoms from Herbrand base that ar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brand interpretation that satisfies all clauses in the knowledge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EF7B0-1F5C-41EA-BB50-F2F105F56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Advantages of SRL models </a:t>
            </a:r>
            <a:br>
              <a:rPr sz="3000"/>
            </a:b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over vanilla probabilistic models</a:t>
            </a:r>
            <a:endParaRPr b="0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ctly represent domain knowledge in first-order log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mploy logical inference to construct ground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ables parameter sha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5DDE9-D0D3-440F-9539-B3BFC6004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sharing in SR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0FC32-24D0-43C1-A641-FEF2D97F6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762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762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3048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3048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7913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57913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Straight Arrow Connector 11"/>
          <p:cNvCxnSpPr/>
          <p:nvPr/>
        </p:nvCxnSpPr>
        <p:spPr>
          <a:xfrm flipH="1">
            <a:off x="1902600" y="3504960"/>
            <a:ext cx="252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Straight Arrow Connector 16"/>
          <p:cNvCxnSpPr/>
          <p:nvPr/>
        </p:nvCxnSpPr>
        <p:spPr>
          <a:xfrm flipH="1">
            <a:off x="411300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17"/>
          <p:cNvCxnSpPr/>
          <p:nvPr/>
        </p:nvCxnSpPr>
        <p:spPr>
          <a:xfrm flipH="1">
            <a:off x="677988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18"/>
          <p:cNvCxnSpPr/>
          <p:nvPr/>
        </p:nvCxnSpPr>
        <p:spPr>
          <a:xfrm>
            <a:off x="2058480" y="4647960"/>
            <a:ext cx="205524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20"/>
          <p:cNvCxnSpPr/>
          <p:nvPr/>
        </p:nvCxnSpPr>
        <p:spPr>
          <a:xfrm flipH="1">
            <a:off x="4115520" y="4495320"/>
            <a:ext cx="108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6" name="Straight Arrow Connector 21"/>
          <p:cNvCxnSpPr/>
          <p:nvPr/>
        </p:nvCxnSpPr>
        <p:spPr>
          <a:xfrm flipH="1">
            <a:off x="4342680" y="4494600"/>
            <a:ext cx="2439000" cy="83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7" name="Rectangle 24"/>
          <p:cNvSpPr/>
          <p:nvPr/>
        </p:nvSpPr>
        <p:spPr>
          <a:xfrm>
            <a:off x="3124080" y="53341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6"/>
          <p:cNvSpPr/>
          <p:nvPr/>
        </p:nvSpPr>
        <p:spPr>
          <a:xfrm>
            <a:off x="1905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7"/>
          <p:cNvSpPr/>
          <p:nvPr/>
        </p:nvSpPr>
        <p:spPr>
          <a:xfrm>
            <a:off x="4191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8"/>
          <p:cNvSpPr/>
          <p:nvPr/>
        </p:nvSpPr>
        <p:spPr>
          <a:xfrm>
            <a:off x="685800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sharing in SR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ther(X) </a:t>
            </a: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parent(X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4A976-F591-4462-819A-6ECD69F08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762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762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3048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3048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8"/>
          <p:cNvSpPr/>
          <p:nvPr/>
        </p:nvSpPr>
        <p:spPr>
          <a:xfrm>
            <a:off x="57913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57913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0" name="Straight Arrow Connector 11"/>
          <p:cNvCxnSpPr/>
          <p:nvPr/>
        </p:nvCxnSpPr>
        <p:spPr>
          <a:xfrm flipH="1">
            <a:off x="1902600" y="3504960"/>
            <a:ext cx="252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1" name="Straight Arrow Connector 16"/>
          <p:cNvCxnSpPr/>
          <p:nvPr/>
        </p:nvCxnSpPr>
        <p:spPr>
          <a:xfrm flipH="1">
            <a:off x="411300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2" name="Straight Arrow Connector 17"/>
          <p:cNvCxnSpPr/>
          <p:nvPr/>
        </p:nvCxnSpPr>
        <p:spPr>
          <a:xfrm flipH="1">
            <a:off x="677988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3" name="Straight Arrow Connector 18"/>
          <p:cNvCxnSpPr/>
          <p:nvPr/>
        </p:nvCxnSpPr>
        <p:spPr>
          <a:xfrm>
            <a:off x="2058480" y="4647960"/>
            <a:ext cx="205524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4" name="Straight Arrow Connector 20"/>
          <p:cNvCxnSpPr/>
          <p:nvPr/>
        </p:nvCxnSpPr>
        <p:spPr>
          <a:xfrm flipH="1">
            <a:off x="4115520" y="4495320"/>
            <a:ext cx="108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5" name="Straight Arrow Connector 21"/>
          <p:cNvCxnSpPr/>
          <p:nvPr/>
        </p:nvCxnSpPr>
        <p:spPr>
          <a:xfrm flipH="1">
            <a:off x="4342680" y="4494600"/>
            <a:ext cx="2439000" cy="83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6" name="Rectangle 24"/>
          <p:cNvSpPr/>
          <p:nvPr/>
        </p:nvSpPr>
        <p:spPr>
          <a:xfrm>
            <a:off x="3124080" y="53341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6"/>
          <p:cNvSpPr/>
          <p:nvPr/>
        </p:nvSpPr>
        <p:spPr>
          <a:xfrm>
            <a:off x="1905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7"/>
          <p:cNvSpPr/>
          <p:nvPr/>
        </p:nvSpPr>
        <p:spPr>
          <a:xfrm>
            <a:off x="4191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8"/>
          <p:cNvSpPr/>
          <p:nvPr/>
        </p:nvSpPr>
        <p:spPr>
          <a:xfrm>
            <a:off x="685800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2"/>
          <p:cNvSpPr/>
          <p:nvPr/>
        </p:nvSpPr>
        <p:spPr>
          <a:xfrm>
            <a:off x="4191120" y="152388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Mode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 caus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ve to occur simultaneously if even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s to occu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ils to trigge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th probabilit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n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ounts for some unknown cause due to which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s failed to trigg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(e) = (I – inh) Π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(1-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^(1-c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76AF8-3B06-4690-BD7E-7098774C8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ants – individual entities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na, 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s – placeholders for objects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X,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dicat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 over entities like worksFor, capital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teral – predicate or its negation applied to terms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om – Positive literal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orksFor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nd literal – literal with no variables li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orksFor(anna,bob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ause – disjunction of litera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n clause ha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t most 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sitive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e clause ha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xactly 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sitive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764C2-5DC1-41B1-AF86-80D8B608C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or Mode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 caus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use even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s to occu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dependently trigger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th probabilit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eak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ounts for some unknown cause due to which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s trigge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(e) = 1 – [(I – inh) Π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(1-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^(1-c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]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els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plaining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w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re are several causes of an event, and if there is evidence for one of the causes, then the probability that the other causes have caused the event goe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8949F-652A-4318-9751-CB267F43B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And Noisy-or Model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B2723-50AA-448D-A583-D86A69866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4"/>
          <p:cNvSpPr/>
          <p:nvPr/>
        </p:nvSpPr>
        <p:spPr>
          <a:xfrm>
            <a:off x="2286000" y="4419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4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5" name="Straight Arrow Connector 10"/>
          <p:cNvCxnSpPr/>
          <p:nvPr/>
        </p:nvCxnSpPr>
        <p:spPr>
          <a:xfrm>
            <a:off x="2439720" y="3962520"/>
            <a:ext cx="144684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6" name="Straight Arrow Connector 11"/>
          <p:cNvCxnSpPr>
            <a:stCxn id="772" idx="2"/>
          </p:cNvCxnSpPr>
          <p:nvPr/>
        </p:nvCxnSpPr>
        <p:spPr>
          <a:xfrm flipH="1">
            <a:off x="4419000" y="3843000"/>
            <a:ext cx="57204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7" name="Straight Arrow Connector 12"/>
          <p:cNvCxnSpPr/>
          <p:nvPr/>
        </p:nvCxnSpPr>
        <p:spPr>
          <a:xfrm flipH="1">
            <a:off x="4800240" y="3842280"/>
            <a:ext cx="236304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And Noisy-or Model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F4F80-A502-4BA7-90B6-2988E1FE5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4"/>
          <p:cNvSpPr/>
          <p:nvPr/>
        </p:nvSpPr>
        <p:spPr>
          <a:xfrm>
            <a:off x="2286000" y="6138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6" name="Straight Arrow Connector 10"/>
          <p:cNvCxnSpPr/>
          <p:nvPr/>
        </p:nvCxnSpPr>
        <p:spPr>
          <a:xfrm flipH="1">
            <a:off x="2439720" y="396360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7" name="Straight Arrow Connector 11"/>
          <p:cNvCxnSpPr>
            <a:stCxn id="783" idx="2"/>
          </p:cNvCxnSpPr>
          <p:nvPr/>
        </p:nvCxnSpPr>
        <p:spPr>
          <a:xfrm>
            <a:off x="4991040" y="3843360"/>
            <a:ext cx="1029600" cy="883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8" name="Straight Arrow Connector 12"/>
          <p:cNvCxnSpPr/>
          <p:nvPr/>
        </p:nvCxnSpPr>
        <p:spPr>
          <a:xfrm flipH="1">
            <a:off x="6323760" y="384300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9" name="TextBox 16"/>
          <p:cNvSpPr/>
          <p:nvPr/>
        </p:nvSpPr>
        <p:spPr>
          <a:xfrm>
            <a:off x="1219320" y="48434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7"/>
          <p:cNvSpPr/>
          <p:nvPr/>
        </p:nvSpPr>
        <p:spPr>
          <a:xfrm>
            <a:off x="5029200" y="48006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8"/>
          <p:cNvSpPr/>
          <p:nvPr/>
        </p:nvSpPr>
        <p:spPr>
          <a:xfrm>
            <a:off x="2057400" y="2743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9"/>
          <p:cNvSpPr/>
          <p:nvPr/>
        </p:nvSpPr>
        <p:spPr>
          <a:xfrm>
            <a:off x="2209680" y="4191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0"/>
          <p:cNvSpPr/>
          <p:nvPr/>
        </p:nvSpPr>
        <p:spPr>
          <a:xfrm>
            <a:off x="6400800" y="4309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Straight Arrow Connector 22"/>
          <p:cNvCxnSpPr/>
          <p:nvPr/>
        </p:nvCxnSpPr>
        <p:spPr>
          <a:xfrm>
            <a:off x="2671920" y="5138640"/>
            <a:ext cx="10627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5" name="Straight Arrow Connector 24"/>
          <p:cNvCxnSpPr>
            <a:stCxn id="790" idx="2"/>
            <a:endCxn id="780" idx="0"/>
          </p:cNvCxnSpPr>
          <p:nvPr/>
        </p:nvCxnSpPr>
        <p:spPr>
          <a:xfrm flipH="1">
            <a:off x="4152600" y="5138640"/>
            <a:ext cx="20577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6" name="TextBox 30"/>
          <p:cNvSpPr/>
          <p:nvPr/>
        </p:nvSpPr>
        <p:spPr>
          <a:xfrm>
            <a:off x="3124080" y="53769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ference in BLPs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ical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BLP and a query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LD resolu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used to construct proofs for the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yesian network constru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ground atom is a random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ges are added from ground atoms in the body to the ground atom in 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Ts specified by the conditional probability distribution for the corresponding cl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X) =    P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| Pa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babilistic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ost Probable Explanation (M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007A6-0CAD-4AC3-8A8B-4BE1A6FBD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33720" y="5029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in BLPs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8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ameter lear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ation Maxim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ient-ascent based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approaches optimize likelih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ucture lear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ll climbing search through the space of possible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structure obtained from CLAUDIE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De Raedt and Dehaspe, 1997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s from only positive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6E8A2-4943-4168-85A2-A4BFE9CDF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660066"/>
                </a:solidFill>
                <a:latin typeface="Arial"/>
              </a:rPr>
              <a:t>Expectation Maximization for BLPs/BALPs</a:t>
            </a:r>
            <a:endParaRPr b="0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Perform logical inference to construct a ground Bayesian network for each example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Let r denote rule, X denote a node, and Pa(X) denote parents of X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E Step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ner sum is over all groundings of rule 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M Step</a:t>
            </a: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4C9F8-447B-4986-8138-CBDBC8701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6781680" cy="7239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5" descr=""/>
          <p:cNvPicPr/>
          <p:nvPr/>
        </p:nvPicPr>
        <p:blipFill>
          <a:blip r:embed="rId2"/>
          <a:stretch/>
        </p:blipFill>
        <p:spPr>
          <a:xfrm>
            <a:off x="2438280" y="5626080"/>
            <a:ext cx="2667240" cy="851040"/>
          </a:xfrm>
          <a:prstGeom prst="rect">
            <a:avLst/>
          </a:prstGeom>
          <a:ln w="0">
            <a:noFill/>
          </a:ln>
        </p:spPr>
      </p:pic>
      <p:sp>
        <p:nvSpPr>
          <p:cNvPr id="809" name="TextBox 6"/>
          <p:cNvSpPr/>
          <p:nvPr/>
        </p:nvSpPr>
        <p:spPr>
          <a:xfrm>
            <a:off x="8458200" y="3962520"/>
            <a:ext cx="457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"/>
          <p:cNvSpPr/>
          <p:nvPr/>
        </p:nvSpPr>
        <p:spPr>
          <a:xfrm>
            <a:off x="4724280" y="5562720"/>
            <a:ext cx="457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8"/>
          <p:cNvSpPr/>
          <p:nvPr/>
        </p:nvSpPr>
        <p:spPr>
          <a:xfrm>
            <a:off x="533520" y="6183360"/>
            <a:ext cx="312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i="1" lang="en-US" sz="1500" spc="-1" strike="noStrike">
                <a:solidFill>
                  <a:srgbClr val="ff0000"/>
                </a:solidFill>
                <a:latin typeface="Arial"/>
              </a:rPr>
              <a:t>From SRL tutorial at ECML 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B44F3-885D-4720-87F8-BADF81693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Decomposable 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ress different influences using separate nod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se nodes can be combined using a deterministic fun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A5BA0-9D57-4AFB-8E89-A03689992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C5EA2-7DAE-46F6-8319-DD491A2D3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4"/>
          <p:cNvSpPr/>
          <p:nvPr/>
        </p:nvSpPr>
        <p:spPr>
          <a:xfrm>
            <a:off x="2286000" y="6138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4" name="Straight Arrow Connector 10"/>
          <p:cNvCxnSpPr/>
          <p:nvPr/>
        </p:nvCxnSpPr>
        <p:spPr>
          <a:xfrm flipH="1">
            <a:off x="2439720" y="396360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5" name="Straight Arrow Connector 11"/>
          <p:cNvCxnSpPr>
            <a:stCxn id="821" idx="2"/>
          </p:cNvCxnSpPr>
          <p:nvPr/>
        </p:nvCxnSpPr>
        <p:spPr>
          <a:xfrm>
            <a:off x="4991040" y="3843360"/>
            <a:ext cx="1029600" cy="883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6" name="Straight Arrow Connector 12"/>
          <p:cNvCxnSpPr/>
          <p:nvPr/>
        </p:nvCxnSpPr>
        <p:spPr>
          <a:xfrm flipH="1">
            <a:off x="6323760" y="384300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7" name="TextBox 16"/>
          <p:cNvSpPr/>
          <p:nvPr/>
        </p:nvSpPr>
        <p:spPr>
          <a:xfrm>
            <a:off x="1219320" y="48434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7"/>
          <p:cNvSpPr/>
          <p:nvPr/>
        </p:nvSpPr>
        <p:spPr>
          <a:xfrm>
            <a:off x="5029200" y="48006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18"/>
          <p:cNvSpPr/>
          <p:nvPr/>
        </p:nvSpPr>
        <p:spPr>
          <a:xfrm>
            <a:off x="2057400" y="2743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19"/>
          <p:cNvSpPr/>
          <p:nvPr/>
        </p:nvSpPr>
        <p:spPr>
          <a:xfrm>
            <a:off x="2209680" y="4191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20"/>
          <p:cNvSpPr/>
          <p:nvPr/>
        </p:nvSpPr>
        <p:spPr>
          <a:xfrm>
            <a:off x="6400800" y="4309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Straight Arrow Connector 22"/>
          <p:cNvCxnSpPr/>
          <p:nvPr/>
        </p:nvCxnSpPr>
        <p:spPr>
          <a:xfrm>
            <a:off x="2671920" y="5138640"/>
            <a:ext cx="10627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3" name="Straight Arrow Connector 24"/>
          <p:cNvCxnSpPr>
            <a:stCxn id="828" idx="2"/>
            <a:endCxn id="818" idx="0"/>
          </p:cNvCxnSpPr>
          <p:nvPr/>
        </p:nvCxnSpPr>
        <p:spPr>
          <a:xfrm flipH="1">
            <a:off x="4152600" y="5138640"/>
            <a:ext cx="20577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4" name="TextBox 30"/>
          <p:cNvSpPr/>
          <p:nvPr/>
        </p:nvSpPr>
        <p:spPr>
          <a:xfrm>
            <a:off x="3124080" y="53769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Decomposable 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9C9F6-91C5-4E9C-A008-DEF9BD2C3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4"/>
          <p:cNvSpPr/>
          <p:nvPr/>
        </p:nvSpPr>
        <p:spPr>
          <a:xfrm>
            <a:off x="2286000" y="62913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5"/>
          <p:cNvSpPr/>
          <p:nvPr/>
        </p:nvSpPr>
        <p:spPr>
          <a:xfrm>
            <a:off x="1066680" y="2666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6"/>
          <p:cNvSpPr/>
          <p:nvPr/>
        </p:nvSpPr>
        <p:spPr>
          <a:xfrm>
            <a:off x="990720" y="1371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7"/>
          <p:cNvSpPr/>
          <p:nvPr/>
        </p:nvSpPr>
        <p:spPr>
          <a:xfrm>
            <a:off x="3657600" y="2666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8"/>
          <p:cNvSpPr/>
          <p:nvPr/>
        </p:nvSpPr>
        <p:spPr>
          <a:xfrm>
            <a:off x="6324480" y="26668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Straight Arrow Connector 9"/>
          <p:cNvCxnSpPr/>
          <p:nvPr/>
        </p:nvCxnSpPr>
        <p:spPr>
          <a:xfrm flipH="1">
            <a:off x="2285640" y="1719000"/>
            <a:ext cx="2160" cy="9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3" name="Straight Arrow Connector 10"/>
          <p:cNvCxnSpPr/>
          <p:nvPr/>
        </p:nvCxnSpPr>
        <p:spPr>
          <a:xfrm flipH="1">
            <a:off x="2361960" y="312372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4" name="Straight Arrow Connector 11"/>
          <p:cNvCxnSpPr>
            <a:stCxn id="840" idx="2"/>
          </p:cNvCxnSpPr>
          <p:nvPr/>
        </p:nvCxnSpPr>
        <p:spPr>
          <a:xfrm>
            <a:off x="4991040" y="3004920"/>
            <a:ext cx="1029600" cy="88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5" name="Straight Arrow Connector 12"/>
          <p:cNvCxnSpPr/>
          <p:nvPr/>
        </p:nvCxnSpPr>
        <p:spPr>
          <a:xfrm flipH="1">
            <a:off x="6323760" y="300492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6" name="TextBox 16"/>
          <p:cNvSpPr/>
          <p:nvPr/>
        </p:nvSpPr>
        <p:spPr>
          <a:xfrm>
            <a:off x="1219320" y="40053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7"/>
          <p:cNvSpPr/>
          <p:nvPr/>
        </p:nvSpPr>
        <p:spPr>
          <a:xfrm>
            <a:off x="502920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8"/>
          <p:cNvSpPr/>
          <p:nvPr/>
        </p:nvSpPr>
        <p:spPr>
          <a:xfrm>
            <a:off x="2057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9"/>
          <p:cNvSpPr/>
          <p:nvPr/>
        </p:nvSpPr>
        <p:spPr>
          <a:xfrm>
            <a:off x="2209680" y="3352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0"/>
          <p:cNvSpPr/>
          <p:nvPr/>
        </p:nvSpPr>
        <p:spPr>
          <a:xfrm>
            <a:off x="6400800" y="34718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1" name="Straight Arrow Connector 22"/>
          <p:cNvCxnSpPr/>
          <p:nvPr/>
        </p:nvCxnSpPr>
        <p:spPr>
          <a:xfrm flipH="1">
            <a:off x="2439720" y="4343040"/>
            <a:ext cx="2160" cy="959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2" name="Straight Arrow Connector 24"/>
          <p:cNvCxnSpPr>
            <a:stCxn id="847" idx="2"/>
          </p:cNvCxnSpPr>
          <p:nvPr/>
        </p:nvCxnSpPr>
        <p:spPr>
          <a:xfrm>
            <a:off x="6210360" y="4300560"/>
            <a:ext cx="21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3" name="TextBox 30"/>
          <p:cNvSpPr/>
          <p:nvPr/>
        </p:nvSpPr>
        <p:spPr>
          <a:xfrm>
            <a:off x="1752480" y="453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27"/>
          <p:cNvSpPr/>
          <p:nvPr/>
        </p:nvSpPr>
        <p:spPr>
          <a:xfrm>
            <a:off x="5486400" y="453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8"/>
          <p:cNvSpPr/>
          <p:nvPr/>
        </p:nvSpPr>
        <p:spPr>
          <a:xfrm>
            <a:off x="1295280" y="53006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ummy1-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9"/>
          <p:cNvSpPr/>
          <p:nvPr/>
        </p:nvSpPr>
        <p:spPr>
          <a:xfrm>
            <a:off x="5105520" y="53006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ummy2 -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Straight Arrow Connector 33"/>
          <p:cNvCxnSpPr/>
          <p:nvPr/>
        </p:nvCxnSpPr>
        <p:spPr>
          <a:xfrm>
            <a:off x="2593440" y="5638320"/>
            <a:ext cx="1064520" cy="653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8" name="Straight Arrow Connector 35"/>
          <p:cNvCxnSpPr>
            <a:endCxn id="837" idx="0"/>
          </p:cNvCxnSpPr>
          <p:nvPr/>
        </p:nvCxnSpPr>
        <p:spPr>
          <a:xfrm flipH="1">
            <a:off x="4152240" y="5637600"/>
            <a:ext cx="1639080" cy="653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9" name="TextBox 38"/>
          <p:cNvSpPr/>
          <p:nvPr/>
        </p:nvSpPr>
        <p:spPr>
          <a:xfrm>
            <a:off x="2895480" y="58341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ces in repres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BLPs, Bayesian atoms take finite set of values, but in PLPs, each atom is logical in nature and it can take true or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ead of having neighborhood(x) = bad, in PLPs, we have neighborhood(x,b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mpute probability of a query alarm(james), PLPs have to construct one proof tree for all possible values for all pred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ence is cumberso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PL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8FDA1-BDA3-490A-8944-4D5B8D159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antifi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al quantification - true for all objects in the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ntial quantification - true for some objects in the doma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ical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ward Chaining– For every implication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p is true, then q is concluded to b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ward Chaining – For a query literal q, if an implication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q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present and p is true, then q is concluded to be true, otherwise backward chaining tries to prove 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5AE7E-A7CE-4BC9-A448-6630C62DE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19320" y="2476440"/>
                <a:ext cx="4064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286000" y="3314880"/>
                <a:ext cx="355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$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oole's Horn Abduction 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ces in repres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f P(x) and R(x) are two competing hypothesis, then either P(x) could be true or R(x) could b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probabilities of P(x) and R(x) should sum to 1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trictions of these kind are are not these in B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Ps and hence BLPs are more flexible and have a richer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ECB42-2CC9-49CB-B44C-B38AFCEA2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RM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PR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Ms use entity-relationship models to represent knowledge and they use KBMC-like construction to construct a ground Bayesian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ttribute becomes a random variable in the ground network and relations over the entities are logical 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BLP, each attribute becomes a Bayesian atom and relations become logic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regator functions can be transformed into combining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1A2E6-FEC5-4BFB-9DFC-FDEC0E4A7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RB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RB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RBNs, each node in BN is a predicate and probability formulae are used to specify probabili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ing rules can be used to represent these probability formulae in BL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6C513-4403-4C55-AD7D-F7AD063B4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LPs vs. B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ike BLPs, BALPs use logic programs as templates for constructing 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nlike BLPs, BALPs 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ical abductio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nstead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o construct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DD148-8FE1-4EC7-86FA-5F5A98919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top level plans in a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mergency response dom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artificially generated using HTN plann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s include set-up-shelter, clear-road-wreck, provide-medical-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ain consists of several entities and sub-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sca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large dom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s 1000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6E7F5-3A18-48E1-A161-80DBF268C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based on the domain knowledge encoded in pl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arginal prob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instances of top level plans and pick the one with the highest marginal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28520" indent="-20556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28520" indent="-20556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laylock and Allen’s syste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schema was predicted correctly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FAD0A-E4B5-45D2-A58A-2FB403617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Results - 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D3379-A7AC-44A0-B14E-0FB24DF17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1295280" y="1905120"/>
          <a:ext cx="6858000" cy="298764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-Star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-Star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 Sco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7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inux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top level plans based on 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users asked to perform tasks in Linux and commands were recor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clude find-file-by-ext, remove-file-by-ext, copy-file, move-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s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handle nois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Users indicate success even when they have not achieved the task correctly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Some top-level plans like find-file-by-ext and file-file-by-name have identical action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s 457 examples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CD1CE-5FA5-47CB-B129-9BF3892BB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based on the knowledge of 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arginal prob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instances of top level plans and pick the one with the highest marginal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laylock and Allen’s system </a:t>
            </a:r>
            <a:r>
              <a:rPr b="1" i="1" lang="en-US" sz="13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Blaylock and Allen, 2005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schema was predicted correctly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26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318960" indent="-31896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334B9-8292-481B-83BF-E6067FC2F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Results - 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891" name="Content Placeholder 4"/>
          <p:cNvGraphicFramePr/>
          <p:nvPr/>
        </p:nvGraphicFramePr>
        <p:xfrm>
          <a:off x="914400" y="1417680"/>
          <a:ext cx="762012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2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17680"/>
                    <a:ext cx="76201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40273-40DC-4559-8DF6-68688C462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5"/>
          <p:cNvSpPr/>
          <p:nvPr/>
        </p:nvSpPr>
        <p:spPr>
          <a:xfrm rot="16200000">
            <a:off x="-765000" y="3279600"/>
            <a:ext cx="29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6"/>
          <p:cNvSpPr/>
          <p:nvPr/>
        </p:nvSpPr>
        <p:spPr>
          <a:xfrm>
            <a:off x="2206800" y="5084640"/>
            <a:ext cx="52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Observ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1600200" y="5638680"/>
          <a:ext cx="6095880" cy="7668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-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-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Abd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bdu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of finding the best explanation for a set of ob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ackground knowled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n the form of a set of (Horn) clauses in first-orde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bserva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n the form of atomic facts in first-orde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i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hypothesis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 set of assumptions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tomic facts) that logically entail the observations given the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5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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explanation is the one with the fewest assu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66A0D-FA69-4EE4-845E-8C42EA746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91; 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character’s top level plans based on actions described in narrativ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representation of actions literals provi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clude shopping, robbing, restaurant dining, partying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ultip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s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predict multiple pla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development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test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73D94-C7D2-4CB6-83B9-0FA71BBA2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457200" y="121932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53760" indent="-25128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for ACCEL by Ng and Moone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ufficient number of examples to learn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Noisy-or parameters set to 0.9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Noisy-and parameters set to 0.9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riors tuned on development set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the best set of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CCEL-Simplicit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</a:t>
            </a:r>
            <a:r>
              <a:rPr b="1" i="1" lang="en-US" sz="1300" spc="-1" strike="noStrike">
                <a:solidFill>
                  <a:srgbClr val="660066"/>
                </a:solidFill>
                <a:latin typeface="Arial"/>
              </a:rPr>
              <a:t>]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CCEL-Coherence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3" marL="1407960" indent="-2008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ecific for Story Understa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buClr>
                <a:srgbClr val="ff66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301680" indent="-30168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C8412-929B-417A-AFD7-B91F474F9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ther Applications of BA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dical diagnosi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xtual entail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utational bi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ring gene relations based on the output of micro-array experi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y application that requires abductive reaso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4C665-56A3-4FB8-8989-41B09C544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CCEL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st-order logic based system for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icity metric selects explanations that have the least number of assump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herence metric selects explanations that connect maximum number of obser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explanatory coh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 to text interpre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E64FA-AC3B-451A-9195-333388846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ystem by Blaylock and Allen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istical n-gram models to predict plans based on 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s plan recognition in two pha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s the plan schema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s arguments based on the predicted sche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9A856-1B73-4EA7-993F-F762AA08C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achine Rea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chine reading involves automatic extraction of knowledge from natural language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roaches to machine rea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ct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factual inform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ke entities and relations between entities that occur in text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ohen, 1999; Craven et al., 2000; Bunescu and Mooney, 2007; Etzioni et al, 2008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ct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mmonsense knowled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out the domai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ahm and Mooney, 2000; Carlson at el., 2010, Schoenmackers et al., 2010; Doppa et al., 2010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60066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9577B-B572-4BE0-AB92-E6C9BE6D5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atural Language Text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atural language text is not necessarily comple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sense information is not explicitly stated i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 known facts are omitted from th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ssing information has to be inferred from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brain performs deeper inference using commonsense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 systems have no access to commonsense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8D4B9-09D2-43EA-9F8E-1A858DAD7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4"/>
          <p:cNvSpPr/>
          <p:nvPr/>
        </p:nvSpPr>
        <p:spPr>
          <a:xfrm>
            <a:off x="457200" y="548640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IE systems are limited to extracting information stated explicitly in tex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C ontology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57 ent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79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0C1DD-F555-4512-81D3-DC7992A5B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57200" y="1512720"/>
          <a:ext cx="8229600" cy="176544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,1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,5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,5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51/3813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2/75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88/1849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9B151-061B-4530-BDAB-9805A5B86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6"/>
          <p:cNvSpPr/>
          <p:nvPr/>
        </p:nvSpPr>
        <p:spPr>
          <a:xfrm>
            <a:off x="457200" y="5715000"/>
            <a:ext cx="84582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 facts extracted – 12,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- x out of y inferred facts were correct. These inferred facts are from the 20 randomly sampled documents from test set for manual evalu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457200" y="1512720"/>
          <a:ext cx="8229600" cy="294660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,1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,5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,5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51/3813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2/75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88/1849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LP-0.9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,8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,7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.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419/1208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.6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/66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5.4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11/1158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4A5A0-171A-40DD-98CE-BA0E5FED7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"/>
          <p:cNvSpPr/>
          <p:nvPr/>
        </p:nvSpPr>
        <p:spPr>
          <a:xfrm>
            <a:off x="457200" y="5715000"/>
            <a:ext cx="84582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 facts extracted – 12,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- x out of y inferred facts were correct. These inferred facts are from the 20 randomly sampled documents from test set for manual evalu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Logic Programs (BLPs)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t of Bayesian cla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|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....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e clauses that are universally quant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 of the clause 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y of the clause 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…, 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ge-restricted, i.e variables{head}      variables{body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ed conditional probability table (CP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(head|body)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yesian predic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ve finite domai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ing rule like noisy-or for mapping multiple CPTs into a single CP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F8A08-97A6-4C25-9357-E1D9BE903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943600" y="3403440"/>
                <a:ext cx="2286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Í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457200" y="1512720"/>
          <a:ext cx="8229600" cy="412596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,1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,5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,5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51/3813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2/75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88/1849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LP-0.9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,8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,7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.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419/1208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.6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/66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5.4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11/1158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BLP-0.95 </a:t>
                      </a: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[No. of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2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1.0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1/56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/1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0/0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6ECF7-40F6-4258-98CD-44A22B8E6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6"/>
          <p:cNvSpPr/>
          <p:nvPr/>
        </p:nvSpPr>
        <p:spPr>
          <a:xfrm>
            <a:off x="457200" y="5715000"/>
            <a:ext cx="84582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 facts extracted – 12,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- x out of y inferred facts were correct. These inferred facts are from the 20 randomly sampled documents from test set for manual evalu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5315C-4462-4B6C-8089-848FF18CA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4"/>
          <p:cNvSpPr/>
          <p:nvPr/>
        </p:nvSpPr>
        <p:spPr>
          <a:xfrm>
            <a:off x="990720" y="1219320"/>
            <a:ext cx="7391160" cy="16002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"/>
              </a:rPr>
              <a:t>Barack Obam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s the current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Presid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US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……. Obama was </a:t>
            </a:r>
            <a:r>
              <a:rPr b="1" lang="en-US" sz="2500" spc="-1" strike="noStrike">
                <a:solidFill>
                  <a:srgbClr val="660066"/>
                </a:solidFill>
                <a:latin typeface="Arial"/>
                <a:ea typeface="Arial"/>
              </a:rPr>
              <a:t>bor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on August 4, 1961,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n Hawaii, US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……."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80880" y="2514600"/>
            <a:ext cx="8305920" cy="2971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  <a:ea typeface="Arial"/>
              </a:rPr>
              <a:t>nationState(USA)</a:t>
            </a: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           hasBirthPlace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  <a:ea typeface="Arial"/>
              </a:rPr>
              <a:t>Person(BarackObama) 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itizenOf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isLedBy(USA,BarackOba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457200" y="5486400"/>
            <a:ext cx="769608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u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asBirthPlace(A,B) </a:t>
            </a:r>
            <a:r>
              <a:rPr b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citizenOf(A,B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for citizenOf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4561E-4E7E-48F8-8BD2-D20872578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"/>
          <p:cNvSpPr/>
          <p:nvPr/>
        </p:nvSpPr>
        <p:spPr>
          <a:xfrm>
            <a:off x="380880" y="1219320"/>
            <a:ext cx="8305920" cy="2971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ationState(USA)           hasBirthPlace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Person(BarackObama)          citizenOf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sLedBy(USA,BarackOba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4267080" y="2895480"/>
            <a:ext cx="4114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457200" y="3794040"/>
            <a:ext cx="769608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  <a:ea typeface="Arial"/>
              </a:rPr>
              <a:t>hasBirthPlace(A,B) </a:t>
            </a:r>
            <a:r>
              <a:rPr b="1" lang="en-US" sz="23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  <a:ea typeface="Arial"/>
              </a:rPr>
              <a:t> citizenOf(A,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7"/>
          <p:cNvSpPr/>
          <p:nvPr/>
        </p:nvSpPr>
        <p:spPr>
          <a:xfrm>
            <a:off x="457200" y="4403880"/>
            <a:ext cx="769608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hasBirthPlace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5" name="Straight Arrow Connector 9"/>
          <p:cNvCxnSpPr/>
          <p:nvPr/>
        </p:nvCxnSpPr>
        <p:spPr>
          <a:xfrm flipH="1">
            <a:off x="2588400" y="5030280"/>
            <a:ext cx="3960" cy="762840"/>
          </a:xfrm>
          <a:prstGeom prst="straightConnector1">
            <a:avLst/>
          </a:prstGeom>
          <a:ln w="57240">
            <a:solidFill>
              <a:srgbClr val="660066"/>
            </a:solidFill>
            <a:miter/>
            <a:tailEnd len="med" type="arrow" w="med"/>
          </a:ln>
        </p:spPr>
      </p:cxnSp>
      <p:sp>
        <p:nvSpPr>
          <p:cNvPr id="946" name="Rectangle 11"/>
          <p:cNvSpPr/>
          <p:nvPr/>
        </p:nvSpPr>
        <p:spPr>
          <a:xfrm>
            <a:off x="457200" y="5546880"/>
            <a:ext cx="769608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citizenOf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3"/>
          <p:cNvSpPr/>
          <p:nvPr/>
        </p:nvSpPr>
        <p:spPr>
          <a:xfrm rot="20217000">
            <a:off x="4906800" y="4517640"/>
            <a:ext cx="381024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stimated Recall – 1/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for hasBirthPla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8FBC0-15F1-435A-BFDD-EE3A67703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4"/>
          <p:cNvSpPr/>
          <p:nvPr/>
        </p:nvSpPr>
        <p:spPr>
          <a:xfrm>
            <a:off x="380880" y="1219320"/>
            <a:ext cx="8305920" cy="2971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ationState(USA)           hasBirthPlace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Person(BarackObama)          citizenOf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sLedBy(USA,BarackOba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5"/>
          <p:cNvSpPr/>
          <p:nvPr/>
        </p:nvSpPr>
        <p:spPr>
          <a:xfrm>
            <a:off x="3581280" y="24382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6"/>
          <p:cNvSpPr/>
          <p:nvPr/>
        </p:nvSpPr>
        <p:spPr>
          <a:xfrm>
            <a:off x="457200" y="3794040"/>
            <a:ext cx="769608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  <a:ea typeface="Arial"/>
              </a:rPr>
              <a:t>hasBirthPlace(A,B) </a:t>
            </a:r>
            <a:r>
              <a:rPr b="1" lang="en-US" sz="23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  <a:ea typeface="Arial"/>
              </a:rPr>
              <a:t> citizenOf(A,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3"/>
          <p:cNvSpPr/>
          <p:nvPr/>
        </p:nvSpPr>
        <p:spPr>
          <a:xfrm rot="20217000">
            <a:off x="4906800" y="4517640"/>
            <a:ext cx="381024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stimated Recall – 0/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0"/>
          <p:cNvSpPr/>
          <p:nvPr/>
        </p:nvSpPr>
        <p:spPr>
          <a:xfrm>
            <a:off x="380880" y="4708440"/>
            <a:ext cx="320040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pos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 first-order rules from incomplete and uncertain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s extracted from natural language text are in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Existing rule/structure learners assume that data is complete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ctions from IE system have associated confidence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Existing structure learners cannot use these extraction probabiliti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ence of negative in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ost rule learners require both positive and negative instanc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Closed world assumption does not hold for machine reading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BDE2D-1693-43F6-B618-B785CAD09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00925-26F8-4754-96FE-4AA50B9E1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53894-8118-4873-A805-988E5091D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371C4-3B20-4804-A82A-31A35AA47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8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80655-FF05-4158-A8CC-F8C8E9307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8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E1436-DBC1-4E22-9A68-F38A2BBC0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12"/>
          <p:cNvCxnSpPr/>
          <p:nvPr/>
        </p:nvCxnSpPr>
        <p:spPr>
          <a:xfrm flipH="1">
            <a:off x="5028840" y="3733920"/>
            <a:ext cx="2160" cy="72144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048120" cy="417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657600" y="1219320"/>
            <a:ext cx="4572000" cy="1981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cd my-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cp test1.txt test-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rm test1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581280" y="3124080"/>
            <a:ext cx="5181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task is the user perfor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6600"/>
                </a:solidFill>
                <a:latin typeface="Arial"/>
                <a:ea typeface="Arial"/>
              </a:rPr>
              <a:t>move-fi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581280" y="3741840"/>
            <a:ext cx="51055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files and directories are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6600"/>
                </a:solidFill>
                <a:latin typeface="Arial"/>
                <a:ea typeface="Arial"/>
              </a:rPr>
              <a:t>test1.tx and test-d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Plan Recognition in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Intelligent User Interface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Slide Number Placeholder 10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6F511-C736-401D-8AB2-84614F2F7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3505320" y="473220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 task be performed more efficien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457200" y="571500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Data is relational in nature - several files and directories and several relations between 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BC7CF-29D8-4733-BFD0-7BD9BF239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12"/>
          <p:cNvCxnSpPr/>
          <p:nvPr/>
        </p:nvCxnSpPr>
        <p:spPr>
          <a:xfrm flipH="1">
            <a:off x="5028840" y="2514600"/>
            <a:ext cx="535680" cy="72144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92CAB-91D1-411F-B4DA-5843FB2FC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13"/>
          <p:cNvCxnSpPr>
            <a:stCxn id="166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2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38BD2-C4AB-4764-9D53-86B975B2E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0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13"/>
          <p:cNvCxnSpPr>
            <a:stCxn id="178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6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ADC30-39BA-4C4A-9970-4ED27003E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6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13"/>
          <p:cNvCxnSpPr>
            <a:stCxn id="192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16"/>
          <p:cNvCxnSpPr/>
          <p:nvPr/>
        </p:nvCxnSpPr>
        <p:spPr>
          <a:xfrm flipH="1">
            <a:off x="8305560" y="3700080"/>
            <a:ext cx="2160" cy="1443960"/>
          </a:xfrm>
          <a:prstGeom prst="straightConnector1">
            <a:avLst/>
          </a:prstGeom>
          <a:ln w="572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202" name="TextBox 18"/>
          <p:cNvSpPr/>
          <p:nvPr/>
        </p:nvSpPr>
        <p:spPr>
          <a:xfrm>
            <a:off x="6400800" y="53769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802DD-ED4D-4A23-9A19-0754FA8B7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1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71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0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13"/>
          <p:cNvCxnSpPr>
            <a:stCxn id="208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4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16"/>
          <p:cNvCxnSpPr/>
          <p:nvPr/>
        </p:nvCxnSpPr>
        <p:spPr>
          <a:xfrm flipH="1">
            <a:off x="8305560" y="3700080"/>
            <a:ext cx="2160" cy="1443960"/>
          </a:xfrm>
          <a:prstGeom prst="straightConnector1">
            <a:avLst/>
          </a:prstGeom>
          <a:ln w="572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218" name="TextBox 18"/>
          <p:cNvSpPr/>
          <p:nvPr/>
        </p:nvSpPr>
        <p:spPr>
          <a:xfrm>
            <a:off x="6400800" y="53769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Straight Arrow Connector 17"/>
          <p:cNvCxnSpPr/>
          <p:nvPr/>
        </p:nvCxnSpPr>
        <p:spPr>
          <a:xfrm>
            <a:off x="7048440" y="2481120"/>
            <a:ext cx="1029600" cy="72000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A4C2E-77F6-4307-9430-12290AD36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2362320" y="354816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Straight Arrow Connector 16"/>
          <p:cNvCxnSpPr>
            <a:stCxn id="226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237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49698-A913-4C8F-9D64-50BD0AAA2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362320" y="3548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larm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143000" y="2633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47" name="Straight Arrow Connector 16"/>
          <p:cNvCxnSpPr>
            <a:stCxn id="243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9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254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6FED5-50EA-4D4A-8BF2-EA4CE28C5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2362320" y="3548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alarm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3505320" y="26478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lives(james,yorksh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6400800" y="2633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tornado(yorksh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265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  <p:sp>
        <p:nvSpPr>
          <p:cNvPr id="270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21"/>
          <p:cNvCxnSpPr/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AED6B-EE40-4929-B05E-D7C5B772A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2362320" y="354816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Straight Arrow Connector 16"/>
          <p:cNvCxnSpPr>
            <a:stCxn id="277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457200" y="610704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100"/>
                </a:solidFill>
                <a:latin typeface="Arial"/>
              </a:rPr>
              <a:t>Use combining rule to combine multiple CPTs into a single C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752480" y="3216240"/>
          <a:ext cx="833400" cy="10508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</a:tbl>
          </a:graphicData>
        </a:graphic>
      </p:graphicFrame>
      <p:sp>
        <p:nvSpPr>
          <p:cNvPr id="289" name="TextBox 31"/>
          <p:cNvSpPr/>
          <p:nvPr/>
        </p:nvSpPr>
        <p:spPr>
          <a:xfrm>
            <a:off x="5067360" y="1427040"/>
            <a:ext cx="361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ves(stefan,freibur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2"/>
          <p:cNvSpPr/>
          <p:nvPr/>
        </p:nvSpPr>
        <p:spPr>
          <a:xfrm>
            <a:off x="6172200" y="121932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Zapf Dingbats"/>
                <a:ea typeface="Zapf Dingbats"/>
              </a:rPr>
              <a:t>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 and Lear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babilistic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Probable Explanation (M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Expectation Maximization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Gradient-ascent based learning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Hill climbing search through the space of possible structur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274FC-E070-4688-BC86-A173C0067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haracteristics of Real World Data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ational or structured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al entities in the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al relations between ent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always follow the i.i.d 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sence of noise or uncertain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ertainty in the types of ent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ertainty in the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10705-BEE2-4453-B74E-93A91A9E2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7200" y="4952880"/>
            <a:ext cx="7924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raditional approaches like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first-order log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1" i="1" lang="en-US" sz="2500" spc="-1" strike="noStrike">
                <a:solidFill>
                  <a:srgbClr val="005500"/>
                </a:solidFill>
                <a:latin typeface="Arial"/>
                <a:ea typeface="Arial"/>
              </a:rPr>
              <a:t>probabilistic model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n handle either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structured data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1" lang="en-US" sz="2500" spc="-1" strike="noStrike">
                <a:solidFill>
                  <a:srgbClr val="005500"/>
                </a:solidFill>
                <a:latin typeface="Arial"/>
                <a:ea typeface="Arial"/>
              </a:rPr>
              <a:t>uncertainty,</a:t>
            </a:r>
            <a:r>
              <a:rPr b="0" lang="en-US" sz="2500" spc="-1" strike="noStrike">
                <a:solidFill>
                  <a:srgbClr val="0055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ut not bo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t 1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tending BLPs for Plan Recognition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Raghavan and Mooney, 2010]</a:t>
            </a:r>
            <a:br>
              <a:rPr sz="1500"/>
            </a:b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DABB5-FF6A-443D-ABE9-DEB73FDE1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dict an agent’s top-level plans based on the 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bductive reasoning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volving inference of cause from effe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y Understa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Recognize character’s motives or plans based on its actions to answer questions about the story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redict other agents’ plans so as to work co-operatively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ligent User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redict the task that the user is performing so as to provide valuable tips to perform the task more efficiently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D0138-6E00-4776-8B15-DE4D0F942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lat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st-order logic based approaches </a:t>
            </a: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[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Kautz and Allen, 1986; Ng and Mooney, 1992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of plans and ac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reasoning or logical abduction to predict the best plan based on the observed ac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nable to handle uncertainty in data or estimate likelihood of alternativ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babilistic graphical model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89; Huber et al., 1994; Pynadath and Wellman, 2000; Bui, 2003; Blaylock and Allen, 2005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e the domain knowledge using Bayesian networks, abstract hidden Markov models, or statistical n-gram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nable to handle relational/structured 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484D1-F7F2-41E8-A52B-318FB278E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lat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rkov Logic based approache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ate and Mooney, 2009; Singla and Mooney, 2011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inference in MLNs i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deductiv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na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PC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ate and Mooney, 2009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dd reverse implications to handle abductive reasoning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Do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scale </a:t>
            </a: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to large domain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53760" indent="-25128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Improves over MLN-PC by adding hidden caus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Still do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scale </a:t>
            </a: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to large domains 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r>
              <a:rPr b="0" i="1" lang="en-US" sz="15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logical abduc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strain gro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Incorporates ideas from the BLP approach for plan recognitio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Raghavan and Mooney, 2010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performs better than MLN-PC and MLN-HC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52A39-2196-4367-B93A-55E1925AA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for 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BLPs 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rected mode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tures causal relationship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ficient grounding proce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sults in smaller networks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nlike in MLNs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LD re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ductive inferenc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used for predicting observed actions from top-level pla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n recogni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ductiv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 nature and involves predicting the top-level plan from 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0028B-BC1D-4167-BB01-4BDFC2F7E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457200" y="5486400"/>
            <a:ext cx="79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BLPs cannot be used as is for plan recogn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tending BLPs for 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2573E-FAA6-46D0-937F-39040EAD3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371600" y="2057400"/>
            <a:ext cx="18288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B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562720" y="2057400"/>
            <a:ext cx="18288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Logical Ab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us 5"/>
          <p:cNvSpPr/>
          <p:nvPr/>
        </p:nvSpPr>
        <p:spPr>
          <a:xfrm>
            <a:off x="4038480" y="2362320"/>
            <a:ext cx="533520" cy="457200"/>
          </a:xfrm>
          <a:prstGeom prst="pie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505320" y="4191120"/>
            <a:ext cx="16002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BA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qual 7"/>
          <p:cNvSpPr/>
          <p:nvPr/>
        </p:nvSpPr>
        <p:spPr>
          <a:xfrm>
            <a:off x="3886200" y="3429000"/>
            <a:ext cx="762120" cy="3808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457200" y="563868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BALPs – Bayesian Abductive Logic Progra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Abduction in BA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iven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et of observation literals  O = {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….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 and a knowledge base 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ute a set abductive proofs of O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ckel’s abduction algorith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Stickel 198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chain on each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ntil it is proved or assu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iteral is said to b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prov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it unifies with a fact or the head of some rule in KB, otherwise it is said to b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ssu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nstruct a Bayesian network using the resulting set of proofs as in BLPs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484E2-FEC8-48CF-8F7C-439B6A971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 – Intelligent User Interfac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p-level plans predicat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-file, move-file, remove-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ons predica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, 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nowledge Base (KB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(filename,destdir) | copy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(filename,destdir) | move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(filename) | move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(filename) | remove-file(filena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p(Test1.txt, My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m(Test1.t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E6DF0-D78D-4BB1-88E3-ED22AB327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7AE56-016C-400F-AC30-3CBF527CC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0"/>
          <p:cNvSpPr/>
          <p:nvPr/>
        </p:nvSpPr>
        <p:spPr>
          <a:xfrm>
            <a:off x="1371600" y="54658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(filename,destdir) |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py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28600" y="1219320"/>
            <a:ext cx="259092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Down Arrow 12"/>
          <p:cNvSpPr/>
          <p:nvPr/>
        </p:nvSpPr>
        <p:spPr>
          <a:xfrm>
            <a:off x="685800" y="1752480"/>
            <a:ext cx="533520" cy="1098720"/>
          </a:xfrm>
          <a:prstGeom prst="downArrow">
            <a:avLst>
              <a:gd name="adj1" fmla="val 50000"/>
              <a:gd name="adj2" fmla="val 49997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02FD2-2725-445F-963D-31EACC49F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1371600" y="54658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(filename,destdir) |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ve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3505320" y="1219320"/>
            <a:ext cx="259056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Down Arrow 14"/>
          <p:cNvSpPr/>
          <p:nvPr/>
        </p:nvSpPr>
        <p:spPr>
          <a:xfrm>
            <a:off x="41911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atistical Relational Learning (SRL)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grates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st-order logic and probabilistic graphical model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Getoor and Taskar, 2007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strengths of both first-order logic and probabilistic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RL formal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chastic Logic Programs (SLPs)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Muggleton, 1996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ilistic Relational Models (PRMs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Friedman et al., 1999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yesian Logic Programs (BLPs)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Logic Networks (MLNs)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Richardson and Dominogs, 2006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60066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B2CF2-262C-4D55-814C-67DA98C28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924BA-A46C-4452-ADC7-26F8A158A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0"/>
          <p:cNvSpPr/>
          <p:nvPr/>
        </p:nvSpPr>
        <p:spPr>
          <a:xfrm>
            <a:off x="1371600" y="54658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(filename) | move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Down Arrow 12"/>
          <p:cNvSpPr/>
          <p:nvPr/>
        </p:nvSpPr>
        <p:spPr>
          <a:xfrm>
            <a:off x="41911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3505320" y="1219320"/>
            <a:ext cx="403848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atch existing 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8B5D0-BCDF-4D3B-9C3B-BC46E89EA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0"/>
          <p:cNvSpPr/>
          <p:nvPr/>
        </p:nvSpPr>
        <p:spPr>
          <a:xfrm>
            <a:off x="1371600" y="554184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(filename) | remove-file(filenam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TextBox 15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Straight Arrow Connector 16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Down Arrow 14"/>
          <p:cNvSpPr/>
          <p:nvPr/>
        </p:nvSpPr>
        <p:spPr>
          <a:xfrm>
            <a:off x="71629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6019920" y="1219320"/>
            <a:ext cx="259056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ructure of Bayesian net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E0981-12B4-41EF-BE41-8D614D8F8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TextBox 15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Straight Arrow Connector 16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18908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ecifying probabilistic parame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y-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Specify the CPT for combining the evidence from conjuncts in the body of the clause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Specify the CPT for combining the evidence from disjunctive contributions from different ground clauses with the same head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Model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“explaining away”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isy-and and noisy-or models reduce the number of parameters learned from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67321-9EEE-4CD4-AE65-6DEDCDDDA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38378-CF93-40EF-9917-86DA60A52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96" name=""/>
          <p:cNvGraphicFramePr/>
          <p:nvPr/>
        </p:nvGraphicFramePr>
        <p:xfrm>
          <a:off x="1905120" y="5181480"/>
          <a:ext cx="2438280" cy="1067040"/>
        </p:xfrm>
        <a:graphic>
          <a:graphicData uri="http://schemas.openxmlformats.org/drawingml/2006/table">
            <a:tbl>
              <a:tblPr/>
              <a:tblGrid>
                <a:gridCol w="812520"/>
                <a:gridCol w="812880"/>
                <a:gridCol w="812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4800600" y="5181480"/>
          <a:ext cx="2438280" cy="106704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  <a:gridCol w="81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98" name="TextBox 17"/>
          <p:cNvSpPr/>
          <p:nvPr/>
        </p:nvSpPr>
        <p:spPr>
          <a:xfrm rot="20280000">
            <a:off x="1980360" y="5541840"/>
            <a:ext cx="2438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8"/>
          <p:cNvSpPr/>
          <p:nvPr/>
        </p:nvSpPr>
        <p:spPr>
          <a:xfrm rot="20280000">
            <a:off x="4800240" y="5468760"/>
            <a:ext cx="243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63382-0686-4FDE-A66F-49746368A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TextBox 17"/>
          <p:cNvSpPr/>
          <p:nvPr/>
        </p:nvSpPr>
        <p:spPr>
          <a:xfrm>
            <a:off x="1981080" y="5105520"/>
            <a:ext cx="2438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7100"/>
                </a:solidFill>
                <a:latin typeface="Arial"/>
              </a:rPr>
              <a:t>2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8"/>
          <p:cNvSpPr/>
          <p:nvPr/>
        </p:nvSpPr>
        <p:spPr>
          <a:xfrm>
            <a:off x="4800600" y="5105520"/>
            <a:ext cx="243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7100"/>
                </a:solidFill>
                <a:latin typeface="Arial"/>
              </a:rPr>
              <a:t>2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9"/>
          <p:cNvSpPr/>
          <p:nvPr/>
        </p:nvSpPr>
        <p:spPr>
          <a:xfrm>
            <a:off x="1676520" y="373392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0"/>
          <p:cNvSpPr/>
          <p:nvPr/>
        </p:nvSpPr>
        <p:spPr>
          <a:xfrm>
            <a:off x="3200400" y="3713040"/>
            <a:ext cx="533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1"/>
          <p:cNvSpPr/>
          <p:nvPr/>
        </p:nvSpPr>
        <p:spPr>
          <a:xfrm>
            <a:off x="4648320" y="371304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2"/>
          <p:cNvSpPr/>
          <p:nvPr/>
        </p:nvSpPr>
        <p:spPr>
          <a:xfrm>
            <a:off x="5791320" y="36370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3"/>
          <p:cNvSpPr/>
          <p:nvPr/>
        </p:nvSpPr>
        <p:spPr>
          <a:xfrm>
            <a:off x="457200" y="5692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Noisy models require parameters linear in the number of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ost Probable Explanation (MPE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ultiple pl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ompute MPE, the most likely combination of truth values to all unknown literals given this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rginal Prob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ingle top level pla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on, compu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ginal probabi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ll instances of plan predicate and pick the instance with maximum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exact inference is intractable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ampleSear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Gogate and Dechter, 2007</a:t>
            </a:r>
            <a:r>
              <a:rPr b="0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n approximate inference algorithm for graphical models with deterministic constraints is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880D5-C71A-4E6E-BDB1-694E21C81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336C3-0748-482D-B3CF-E07F6CC8F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C7DB5-5FCB-4C18-AA18-F089E2B77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2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01133-2076-4025-9C70-4024DE74C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atistical Relational Learning (SRL)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grates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st-order logic and probabilistic graphical model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Getoor and Taskar, 2007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strengths of both first-order logic and probabilistic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RL formal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bfbfbf"/>
                </a:solidFill>
                <a:latin typeface="Arial"/>
              </a:rPr>
              <a:t>Stochastic Logic Programs (SLPs) </a:t>
            </a:r>
            <a:r>
              <a:rPr b="1" i="1" lang="en-US" sz="1500" spc="-1" strike="noStrike">
                <a:solidFill>
                  <a:srgbClr val="bfbfbf"/>
                </a:solidFill>
                <a:latin typeface="Arial"/>
              </a:rPr>
              <a:t>[Muggleton, 1996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bfbfbf"/>
                </a:solidFill>
                <a:latin typeface="Arial"/>
              </a:rPr>
              <a:t>Probabilistic Relational Models (PRMs)</a:t>
            </a: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bfbfbf"/>
                </a:solidFill>
                <a:latin typeface="Arial"/>
              </a:rPr>
              <a:t>[Friedman et al., 1999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ayesian Logic Programs (BLP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bfbfbf"/>
                </a:solidFill>
                <a:latin typeface="Arial"/>
              </a:rPr>
              <a:t>Markov Logic Networks (MLNs) </a:t>
            </a:r>
            <a:r>
              <a:rPr b="1" i="1" lang="en-US" sz="1500" spc="-1" strike="noStrike">
                <a:solidFill>
                  <a:srgbClr val="bfbfbf"/>
                </a:solidFill>
                <a:latin typeface="Arial"/>
              </a:rPr>
              <a:t>[Richardson and Dominogs, 2006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bfbfb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DB2A5-1614-48AE-BF18-882D0F6B9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AB102-5BDD-437A-9AEB-40DC026C9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7"/>
          <p:cNvSpPr/>
          <p:nvPr/>
        </p:nvSpPr>
        <p:spPr>
          <a:xfrm>
            <a:off x="3657600" y="2382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8"/>
          <p:cNvSpPr/>
          <p:nvPr/>
        </p:nvSpPr>
        <p:spPr>
          <a:xfrm>
            <a:off x="67816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762120" y="2362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6"/>
          <p:cNvSpPr/>
          <p:nvPr/>
        </p:nvSpPr>
        <p:spPr>
          <a:xfrm>
            <a:off x="5486400" y="180828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FF206-4E0F-4C09-8301-6BDB0D7D1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5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TextBox 6"/>
          <p:cNvSpPr/>
          <p:nvPr/>
        </p:nvSpPr>
        <p:spPr>
          <a:xfrm>
            <a:off x="152280" y="2895480"/>
            <a:ext cx="320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copy-file(Test1,txt,Mydi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8"/>
          <p:cNvSpPr/>
          <p:nvPr/>
        </p:nvSpPr>
        <p:spPr>
          <a:xfrm>
            <a:off x="2514600" y="279864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ove-file(Test1,txt,My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TextBox 11"/>
          <p:cNvSpPr/>
          <p:nvPr/>
        </p:nvSpPr>
        <p:spPr>
          <a:xfrm>
            <a:off x="6477120" y="2895480"/>
            <a:ext cx="3504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3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7"/>
          <p:cNvSpPr/>
          <p:nvPr/>
        </p:nvSpPr>
        <p:spPr>
          <a:xfrm>
            <a:off x="3657600" y="2382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8"/>
          <p:cNvSpPr/>
          <p:nvPr/>
        </p:nvSpPr>
        <p:spPr>
          <a:xfrm>
            <a:off x="67816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762120" y="2362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6"/>
          <p:cNvSpPr/>
          <p:nvPr/>
        </p:nvSpPr>
        <p:spPr>
          <a:xfrm>
            <a:off x="5486400" y="180828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M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Lear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earn noisy-or/noisy-and parameters using the EM algorithm adapted for BLPs 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Kersting and De Raedt, 200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tial observ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lan recognition domain, data is partially observ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dence is present only for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bserved act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top-level pl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sub-goals, noisy-or, and noisy-and nodes are not obser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ify learning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logical-and instead of noisy-and to combine evidence from conjuncts in the body of a cl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88AA8-2E20-49C8-A40E-732400E34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roe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Strategic planning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ux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Intelligent user interfaces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ory Understanding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Story understanding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BD53A-5E3E-46DA-9D1C-57B6952DE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and Linux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ro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volves recognizing top level plans in a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mergency response dom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artificially generated using HTN plann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s recognizing top-level plans based o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5E4BD-BE8C-4B48-9141-173A80789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905120" y="4572000"/>
          <a:ext cx="6476760" cy="16844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218960"/>
                <a:gridCol w="1371600"/>
                <a:gridCol w="160020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o. exa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vg. observations/ ex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otal top-level plan predic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otal observed action predic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ro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u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and Linux </a:t>
            </a:r>
            <a:br>
              <a:rPr sz="3800"/>
            </a:b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ally encoded the knowledge b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ed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lan in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ystems compa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25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 </a:t>
            </a:r>
            <a:r>
              <a:rPr b="0" i="1" lang="en-US" sz="17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74"/>
              </a:spcBef>
              <a:buClr>
                <a:srgbClr val="ff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MLN-PC and MLN-HC do not run on Monroe and Linux due to scaling issues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31440" indent="-242640">
              <a:spcBef>
                <a:spcPts val="425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ylock and Allen’s system </a:t>
            </a:r>
            <a:r>
              <a:rPr b="0" i="1" lang="en-US" sz="17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25"/>
              </a:spcBef>
              <a:buClr>
                <a:srgbClr val="660066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ance metr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schema was predict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825F6-ACD9-46CA-BBA8-61DAEAD98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D0930-C27E-437D-9BDC-004902AB5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Content Placeholder 6" descr=""/>
          <p:cNvPicPr/>
          <p:nvPr/>
        </p:nvPicPr>
        <p:blipFill>
          <a:blip r:embed="rId1"/>
          <a:stretch/>
        </p:blipFill>
        <p:spPr>
          <a:xfrm>
            <a:off x="858960" y="1333440"/>
            <a:ext cx="7904160" cy="4191120"/>
          </a:xfrm>
          <a:prstGeom prst="rect">
            <a:avLst/>
          </a:prstGeom>
          <a:ln w="0">
            <a:noFill/>
          </a:ln>
        </p:spPr>
      </p:pic>
      <p:sp>
        <p:nvSpPr>
          <p:cNvPr id="517" name="TextBox 7"/>
          <p:cNvSpPr/>
          <p:nvPr/>
        </p:nvSpPr>
        <p:spPr>
          <a:xfrm>
            <a:off x="6324480" y="3191040"/>
            <a:ext cx="10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.2 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8"/>
          <p:cNvSpPr/>
          <p:nvPr/>
        </p:nvSpPr>
        <p:spPr>
          <a:xfrm rot="16200000">
            <a:off x="-1514880" y="258156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vergence Sc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2666880" y="496404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AL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4114800" y="4952880"/>
            <a:ext cx="20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LN-HC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5791320" y="4952880"/>
            <a:ext cx="274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</a:rPr>
              <a:t>Blaylock &amp; A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2"/>
          <p:cNvSpPr/>
          <p:nvPr/>
        </p:nvSpPr>
        <p:spPr>
          <a:xfrm>
            <a:off x="380880" y="6076800"/>
            <a:ext cx="769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656DE-303D-4D24-A09A-EF288A191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Content Placeholder 6" descr=""/>
          <p:cNvPicPr/>
          <p:nvPr/>
        </p:nvPicPr>
        <p:blipFill>
          <a:blip r:embed="rId1"/>
          <a:stretch/>
        </p:blipFill>
        <p:spPr>
          <a:xfrm>
            <a:off x="858960" y="1208160"/>
            <a:ext cx="7904160" cy="4190760"/>
          </a:xfrm>
          <a:prstGeom prst="rect">
            <a:avLst/>
          </a:prstGeom>
          <a:ln w="0">
            <a:noFill/>
          </a:ln>
        </p:spPr>
      </p:pic>
      <p:sp>
        <p:nvSpPr>
          <p:cNvPr id="526" name="TextBox 5"/>
          <p:cNvSpPr/>
          <p:nvPr/>
        </p:nvSpPr>
        <p:spPr>
          <a:xfrm rot="16200000">
            <a:off x="-1514880" y="258156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vergence Sc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6"/>
          <p:cNvSpPr/>
          <p:nvPr/>
        </p:nvSpPr>
        <p:spPr>
          <a:xfrm>
            <a:off x="2666880" y="496404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AL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"/>
          <p:cNvSpPr/>
          <p:nvPr/>
        </p:nvSpPr>
        <p:spPr>
          <a:xfrm>
            <a:off x="4114800" y="4952880"/>
            <a:ext cx="20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LN-HC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8"/>
          <p:cNvSpPr/>
          <p:nvPr/>
        </p:nvSpPr>
        <p:spPr>
          <a:xfrm>
            <a:off x="5791320" y="4952880"/>
            <a:ext cx="274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</a:rPr>
              <a:t>Blaylock &amp; A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0"/>
          <p:cNvSpPr/>
          <p:nvPr/>
        </p:nvSpPr>
        <p:spPr>
          <a:xfrm>
            <a:off x="6039000" y="2827440"/>
            <a:ext cx="102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6.1 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1"/>
          <p:cNvSpPr/>
          <p:nvPr/>
        </p:nvSpPr>
        <p:spPr>
          <a:xfrm>
            <a:off x="380880" y="6095880"/>
            <a:ext cx="769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91; 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character’s top level plans based on actions described in narrativ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ultip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examples in development set and 25 examples in test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6 observations per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 top-level plan pred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B1389-A800-4864-AE5A-B735CDCBB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21932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was created for ACCEL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s set man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Insufficient number of examples in the development set to learn parameter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d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the best set of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ystems compa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007100"/>
                </a:solidFill>
                <a:latin typeface="Arial"/>
              </a:rPr>
              <a:t>Best performing MLN model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-Simplicit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-Coherence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007100"/>
                </a:solidFill>
                <a:latin typeface="Arial"/>
              </a:rPr>
              <a:t>Specific for Story Understanding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26"/>
              </a:spcBef>
              <a:buClr>
                <a:srgbClr val="ff66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994320" indent="-19872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298440" indent="-29844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012EA-CD74-4A16-8132-AA686B874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Logic Programs (BLPs)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grat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first-order logic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BLP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Efficient grounding mechanis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cludes only those variables that are relevant to the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extend by incorporating any type of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logical inferenc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struct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 suited for capturing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ausal relat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E9861-519F-4E34-8798-703C9C877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39" name="Content Placeholder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0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21613-5C12-4E49-ADAC-7F1518517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762120" y="6153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6095880" y="1600200"/>
            <a:ext cx="2362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44" name="Content Placeholder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02684-7631-4D2B-A180-1FB2CE2CE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762120" y="6153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7"/>
          <p:cNvSpPr/>
          <p:nvPr/>
        </p:nvSpPr>
        <p:spPr>
          <a:xfrm>
            <a:off x="2743200" y="2362320"/>
            <a:ext cx="762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7620120" y="2438280"/>
            <a:ext cx="76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ummary of BA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or 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 BLPs for plan recognition by employing logical abduction to construct 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utomatic learning of model parameters using 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mpirical results on all benchmark datasets demonstrate advantages over existing metho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EA0C0-75C1-4FA9-AB31-8E4DE5390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t 2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tending BLPs for Machine Rea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B1D37-3A8D-4B76-8D11-01B28DD3C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achine Rea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chine reading involves automatic extraction of knowledge from natural language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ormation extraction (IE) systems extract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actual informatio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ke entities and relations between entities that occur in text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ohen, 1999; Craven et al., 2000; Bunescu and Mooney, 2007; Etzioni et al, 200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cted information can be used for answering queries automat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4FF0A-6630-4CC6-8B42-1E7518E97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imitations of IE System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ract information that is st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 tex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ural language text is not necessarily 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sense information is not explicitly stated i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 known facts are omitted from th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ssing information cannot be inferred from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brain performs deeper inference using commonsense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 systems have no access to commonsense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rrors in extraction process result in some facts not being extrac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AA27D-8083-4769-934F-D8FB94833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Our Objective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e performance of I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general knowled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commonsens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in the form of rules using the facts extracted by the I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additional fac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are not stated explicitly in text using the learned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8E075-B0B8-4C86-8548-8F842FF00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032B8-F801-4B81-B57E-B615D6E41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laysian Prime Minister Mahathir Mohamad Wednesday announced for the first time that he has appointed his deputy Abdullah Ahmad Badawi as his successor.’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88D7B-02A3-4313-9ABC-796AC2B7A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Malaysia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Mahathir Moham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ednesday announced for the first time that he has appointed his deputy Abdullah Ahmad Badawi as his successor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380880" y="3505320"/>
            <a:ext cx="6400800" cy="24224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isLedBy(malaysian,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64B90-C4DE-4F52-838D-C5267A655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Malaysia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Mahathir Moham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ednesday announced for the first time that he has appointed his deputy Abdullah Ahmad Badawi as his successor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6477120" y="4267080"/>
            <a:ext cx="2438280" cy="16002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sLedBy(X,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380880" y="3505320"/>
            <a:ext cx="6400800" cy="24224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isLedBy(malaysian,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1B6AA-510F-4622-A4D2-356FC26BF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1828800"/>
            <a:ext cx="80010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LPs for Plan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57200" y="3962520"/>
            <a:ext cx="80010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LPs for Machin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C6776-5259-4722-965A-F10A92F6A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Malaysia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Mahathir Moham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ednesday announced for the first time that he has appointed his deputy Abdullah Ahmad Badawi as his successor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380880" y="3505320"/>
            <a:ext cx="6172200" cy="24224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isLedBy(malaysian,mahat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6477120" y="4267080"/>
            <a:ext cx="2438280" cy="16002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Qu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isLedBy(X,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2362320" y="4267080"/>
            <a:ext cx="419076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X = malay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Y = mahathir-moham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A46AF-8CB4-4733-91DB-C4890A603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Malaysia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Mahathir Moham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ednesday announced for the first time that he has appointed his deputy Abdullah Ahmad Badawi as his successor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4648320" y="3429000"/>
            <a:ext cx="4190760" cy="16002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tizenOf(mahathir-mohamad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0880" y="3505320"/>
            <a:ext cx="6400800" cy="24224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isLedBy(malaysian,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1DF62-4035-4DDF-A577-03F81BFE0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Malaysia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Mahathir Moham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ednesday announced for the first time that he has appointed his deputy Abdullah Ahmad Badawi as his successor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80880" y="3521160"/>
            <a:ext cx="6172200" cy="24224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isLedBy(malaysian,mahat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4648320" y="3429000"/>
            <a:ext cx="4190760" cy="16002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Qu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Arial"/>
                <a:ea typeface="Arial"/>
              </a:rPr>
              <a:t>citizenOf(mahathir-mohamad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590920" y="4038480"/>
            <a:ext cx="419076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Y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lat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propositional rule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ahm and Mooney, 2000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propositional rules from the output of an IE system on computer-related job pos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 deductive inference to infer new 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first-order rule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arlson at el., 2010, Schoenmackers et al., 2010; Doppa et al., 2010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lson et al. and Doppa et al. modify existing rule learners like FOIL and FARMER to lear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probabilistic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erform deductive inference to infer additional fact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enmackers et al. develop a new first-order rule learner based on statistical relev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Use MLN based approach to infer additional fact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F3BEB-4866-46C0-8AE7-8E94D5ACB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ur Approach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an off-the shelf IE system to extract fac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 commonsense knowledge from the extracted facts in the form of first-order-ru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er additional facts based on the learned rules u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P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logical deduction results in inferring a large number of 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ence using BLPs is probabilistic in nature, i.e inferred facts are assigned probabilities.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Probabilities can be used to filter out facts with high confidence from the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grounding mechanism in BLPs enables our approach to scale to natural language 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C409B-67D1-4422-86C1-499BB3F37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tending BLPs for Machine Rea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LD resolution does not result in inference of new fac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query, SLD resolution will generated deductive proofs that prove the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mploy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orward chaining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 infer additional fac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ward chain on extracted facts to infer new 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th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eductive proof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from forward chaining to construct Bayesian network for probabilistic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6EEB6-A683-48F9-A0BB-34E285ED9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First-order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79F9A-42CC-493D-80FB-45BC34D94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  <a:ea typeface="Arial"/>
              </a:rPr>
              <a:t>Barack Obam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s the curren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Presid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of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U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……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ama was </a:t>
            </a: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bor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August 4, 196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Hawaii, U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’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80880" y="3505320"/>
            <a:ext cx="6782040" cy="3108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US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"/>
              </a:rPr>
              <a:t>Person(BarackObam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isLedBy(USA,BarackObam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  <a:ea typeface="Arial"/>
              </a:rPr>
              <a:t>hasBirthPlace(BarackObama,US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itizenOf(BarackObama,US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earning Patterns from Extracted Fact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tionState(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∧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sLedBy(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tizenOf(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tionState(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∧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sLedBy(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asBirthPlace(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asBirthPlace(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tizenOf(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6A537-041D-4908-8AF3-861848690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Generalizing Patterns to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C4512-2D04-4735-A0C7-DB34CE8C0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1066680" y="2209680"/>
            <a:ext cx="7239240" cy="274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tionState(Y) </a:t>
            </a:r>
            <a:r>
              <a:rPr b="1" lang="en-US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∧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LedBy(Y,X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itizenOf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tionState(Y) </a:t>
            </a:r>
            <a:r>
              <a:rPr b="1" lang="en-US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∧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LedBy(Y,X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hasBirthPlace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BirthPlace(X,Y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itizenOf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ductive Logic Programming (ILP)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Muggleton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F9C32-EDB6-4431-90B8-CF0F943F9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733920" y="2743200"/>
            <a:ext cx="281916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L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ule Lear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3733920" y="1600200"/>
            <a:ext cx="2819160" cy="5504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arget re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citizenOf(X,Y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6"/>
          <p:cNvSpPr/>
          <p:nvPr/>
        </p:nvSpPr>
        <p:spPr>
          <a:xfrm>
            <a:off x="304920" y="1563840"/>
            <a:ext cx="2438280" cy="2148120"/>
          </a:xfrm>
          <a:prstGeom prst="rect">
            <a:avLst/>
          </a:prstGeom>
          <a:noFill/>
          <a:ln w="38160">
            <a:solidFill>
              <a:srgbClr val="00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sitive instan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citizenOf(BarackObama, U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citizenOf(GeorgeBush, U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citizenOf(IndiraGandhi,Indi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7"/>
          <p:cNvSpPr/>
          <p:nvPr/>
        </p:nvSpPr>
        <p:spPr>
          <a:xfrm>
            <a:off x="304920" y="3962520"/>
            <a:ext cx="2438280" cy="21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gative instan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itizenOf(BarackObama, Indi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itizenOf(GeorgeBush, Indi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itizenOf(IndiraGandhi,U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3429000" y="4952880"/>
            <a:ext cx="3429000" cy="169164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hasBirthPlace(BarackObama,U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person(BarackObam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nationState(U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nationState(Indi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ight Arrow 9"/>
          <p:cNvSpPr/>
          <p:nvPr/>
        </p:nvSpPr>
        <p:spPr>
          <a:xfrm>
            <a:off x="2743200" y="327672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ight Arrow 10"/>
          <p:cNvSpPr/>
          <p:nvPr/>
        </p:nvSpPr>
        <p:spPr>
          <a:xfrm>
            <a:off x="2743200" y="4038480"/>
            <a:ext cx="9907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own Arrow 12"/>
          <p:cNvSpPr/>
          <p:nvPr/>
        </p:nvSpPr>
        <p:spPr>
          <a:xfrm>
            <a:off x="4724280" y="2154240"/>
            <a:ext cx="533520" cy="5889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own Arrow 13"/>
          <p:cNvSpPr/>
          <p:nvPr/>
        </p:nvSpPr>
        <p:spPr>
          <a:xfrm rot="10800000">
            <a:off x="4724280" y="4440240"/>
            <a:ext cx="533520" cy="51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4"/>
          <p:cNvSpPr/>
          <p:nvPr/>
        </p:nvSpPr>
        <p:spPr>
          <a:xfrm>
            <a:off x="7162920" y="2743200"/>
            <a:ext cx="1676160" cy="1676520"/>
          </a:xfrm>
          <a:prstGeom prst="rect">
            <a:avLst/>
          </a:prstGeom>
          <a:noFill/>
          <a:ln w="38160">
            <a:solidFill>
              <a:srgbClr val="471b8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nationState(Y) </a:t>
            </a:r>
            <a:r>
              <a:rPr b="1" lang="en-US" sz="1500" spc="-1" strike="noStrike">
                <a:solidFill>
                  <a:srgbClr val="471b8f"/>
                </a:solidFill>
                <a:latin typeface="ＭＳ ゴシック"/>
                <a:ea typeface="ＭＳ ゴシック"/>
              </a:rPr>
              <a:t>∧</a:t>
            </a: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 isLedBy(Y,X) </a:t>
            </a:r>
            <a:r>
              <a:rPr b="1" lang="en-US" sz="1500" spc="-1" strike="noStrike">
                <a:solidFill>
                  <a:srgbClr val="471b8f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citizenOf(X,Y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ight Arrow 15"/>
          <p:cNvSpPr/>
          <p:nvPr/>
        </p:nvSpPr>
        <p:spPr>
          <a:xfrm>
            <a:off x="6553080" y="3276720"/>
            <a:ext cx="609840" cy="53316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63C12-E7BD-489E-B1C6-6773843B6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57200" y="1828800"/>
            <a:ext cx="8001000" cy="1447920"/>
          </a:xfrm>
          <a:prstGeom prst="rect">
            <a:avLst/>
          </a:prstGeom>
          <a:noFill/>
          <a:ln w="10152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lan recognition involves predicting the top-level plan of an agent based on its 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57200" y="3962520"/>
            <a:ext cx="80010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LPs for Machin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EB712-339C-44B1-8D6F-DB3CD148B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380880" y="3200400"/>
            <a:ext cx="6172200" cy="1965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isLedBy(malaysian,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380880" y="5181480"/>
            <a:ext cx="8153640" cy="13716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Learned ru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nationState(B) </a:t>
            </a:r>
            <a:r>
              <a:rPr b="0" lang="en-US" sz="25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∧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 isLedBy(B,A) </a:t>
            </a:r>
            <a:r>
              <a:rPr b="0" lang="en-US" sz="25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 citizenOf(A,B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838080" y="106668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laysian Prime Minister Mahathir Mohamad Wednesday announced for the first time that he has appointed his deputy Abdullah Ahmad Badawi as his successor.’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ference of Additional Fact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99EA7-9BE3-4A09-896C-21E5AE074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533520" y="1676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nationState(B) </a:t>
            </a:r>
            <a:r>
              <a:rPr b="0" lang="en-US" sz="25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∧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 isLedBy(B,A) </a:t>
            </a:r>
            <a:r>
              <a:rPr b="0" lang="en-US" sz="25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 citizenOf(A,B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228600" y="2438280"/>
            <a:ext cx="36576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4114800" y="2590920"/>
            <a:ext cx="50292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isLedBy(malaysian,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Straight Arrow Connector 8"/>
          <p:cNvCxnSpPr/>
          <p:nvPr/>
        </p:nvCxnSpPr>
        <p:spPr>
          <a:xfrm>
            <a:off x="1828440" y="3505320"/>
            <a:ext cx="2057760" cy="1372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5" name="Straight Arrow Connector 9"/>
          <p:cNvCxnSpPr/>
          <p:nvPr/>
        </p:nvCxnSpPr>
        <p:spPr>
          <a:xfrm flipH="1">
            <a:off x="4266720" y="3505320"/>
            <a:ext cx="1829520" cy="1372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6" name="Rectangle 11"/>
          <p:cNvSpPr/>
          <p:nvPr/>
        </p:nvSpPr>
        <p:spPr>
          <a:xfrm>
            <a:off x="838080" y="487692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citizenOf(mahathir-mohamad, 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RPA’s intelligent community (IC) data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s of news articles on politics, terrorism, and others international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0 documents, split into training and test in the ratio 9: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ly 30,000 sent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ormation Ext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extraction using SIRE, IBM’s information extraction syste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Florin et al., 2004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E6BA1-6FC8-41F1-8834-32D1FA214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first-order rules using LIME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McCreath and Sharma, 199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s rules from only positive in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s noise i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e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P-Pos-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Learn rules using only positive instanc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P-Pos-N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Learn rules using both positive and negative instanc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pply closed world assumption to automatically generate negative instanc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P-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Includes rules learned from BLP-Pos-Only and BLP-Pos-Neg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585E2-5DA5-4788-BC73-C1FCA663F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ecifying probabilistic parame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ally specified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-and model to combine evidence from conjuncts in the body of the cl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noisy-or parameters to 0.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priors to maximum likelihood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99AF6-D708-487B-ACDA-F243A9036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ed rules for 13 relations including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asCitizenshi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asMemb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ttended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l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erform pure logical deduction to infer all possible additional fact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P-0.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Facts inferred using the BLP approach with marginal probability greater or equal to 0.9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P-0.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Facts inferred using the BLP approach with marginal probability greater or equal to 0.95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D98D2-CC6A-4AC6-B6AA-76C77F517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erformance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eci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if the inferred facts are correct, i.e if they can be inferred from the doc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No ground truth information available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erform manual evaluation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Sample 20 documents randomly from the test set and evaluate inferred facts manually for all models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E76B1-0590-46F9-9A09-12093CD56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57200" y="1646280"/>
          <a:ext cx="8229600" cy="208764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 – Purely logical approach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A2F7B-18F6-4B1E-80C2-62165378A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57200" y="1600200"/>
          <a:ext cx="8229600" cy="308772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 – Purely logical approach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LP-0.9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5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.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.6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5.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B8B0B-340E-4BAC-B801-C6A60FF3F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7"/>
          <p:cNvSpPr/>
          <p:nvPr/>
        </p:nvSpPr>
        <p:spPr>
          <a:xfrm>
            <a:off x="457200" y="3733920"/>
            <a:ext cx="8229600" cy="14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457200" y="1627200"/>
          <a:ext cx="8229600" cy="408780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 – Purely logical approach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LP-0.9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5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.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.6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5.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BLP-0.95 </a:t>
                      </a: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[No. of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1.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4EFA1-B5F5-4C7F-9C75-BE2BDC44D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7"/>
          <p:cNvSpPr/>
          <p:nvPr/>
        </p:nvSpPr>
        <p:spPr>
          <a:xfrm>
            <a:off x="457200" y="3657600"/>
            <a:ext cx="8229600" cy="14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8"/>
          <p:cNvSpPr/>
          <p:nvPr/>
        </p:nvSpPr>
        <p:spPr>
          <a:xfrm>
            <a:off x="457200" y="4648320"/>
            <a:ext cx="8229600" cy="14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03D8F-EDA9-41CC-8FC5-5F5CA22CE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1828800"/>
            <a:ext cx="80010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LPs for Plan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7200" y="3962520"/>
            <a:ext cx="8001000" cy="1447560"/>
          </a:xfrm>
          <a:prstGeom prst="rect">
            <a:avLst/>
          </a:prstGeom>
          <a:noFill/>
          <a:ln w="10152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achine Reading involves automatic extraction of knowledge from natural language tex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erformance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stimated rec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target relation, eliminate instances of it from th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tracted fac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test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y to infer the eliminated instances correctly based on the remaining facts using the BLP approach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For each threshold point (0.1 to 1), compute fraction of eliminated instances that were inferred correctly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True recall cannot be calculated because of lack of ground truth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70B58-FE92-4EF0-9DB9-270FF675D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68" name="Content Placeholder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24680" cy="452592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ACBA2-104F-4D70-94EC-C5E61F9F1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5"/>
          <p:cNvSpPr/>
          <p:nvPr/>
        </p:nvSpPr>
        <p:spPr>
          <a:xfrm rot="16200000">
            <a:off x="-1383120" y="357228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stimated rec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6"/>
          <p:cNvSpPr/>
          <p:nvPr/>
        </p:nvSpPr>
        <p:spPr>
          <a:xfrm>
            <a:off x="2743200" y="607536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fidence thresh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3" name="Content Placeholder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24680" cy="4525920"/>
          </a:xfrm>
          <a:prstGeom prst="rect">
            <a:avLst/>
          </a:prstGeom>
          <a:ln w="0">
            <a:noFill/>
          </a:ln>
        </p:spPr>
      </p:pic>
      <p:sp>
        <p:nvSpPr>
          <p:cNvPr id="67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69617-CEBC-4D42-8DAD-6642FADEE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5"/>
          <p:cNvSpPr/>
          <p:nvPr/>
        </p:nvSpPr>
        <p:spPr>
          <a:xfrm rot="16200000">
            <a:off x="-1383120" y="357228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stimated rec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2743200" y="607536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fidence thresh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4343400" y="1600200"/>
            <a:ext cx="3886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9" name="Content Placeholder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24680" cy="4525920"/>
          </a:xfrm>
          <a:prstGeom prst="rect">
            <a:avLst/>
          </a:prstGeom>
          <a:ln w="0">
            <a:noFill/>
          </a:ln>
        </p:spPr>
      </p:pic>
      <p:sp>
        <p:nvSpPr>
          <p:cNvPr id="68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4F9EA-6DBC-4931-9E08-B66CC57AA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5"/>
          <p:cNvSpPr/>
          <p:nvPr/>
        </p:nvSpPr>
        <p:spPr>
          <a:xfrm rot="16200000">
            <a:off x="-1383120" y="357228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stimated rec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6"/>
          <p:cNvSpPr/>
          <p:nvPr/>
        </p:nvSpPr>
        <p:spPr>
          <a:xfrm>
            <a:off x="2743200" y="607536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fidence thresh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6248520" y="1600200"/>
            <a:ext cx="1981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85" name="Content Placeholder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24680" cy="4525920"/>
          </a:xfrm>
          <a:prstGeom prst="rect">
            <a:avLst/>
          </a:prstGeom>
          <a:ln w="0">
            <a:noFill/>
          </a:ln>
        </p:spPr>
      </p:pic>
      <p:sp>
        <p:nvSpPr>
          <p:cNvPr id="68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1724C-83B1-415E-A7EE-DC1CBBDB2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5"/>
          <p:cNvSpPr/>
          <p:nvPr/>
        </p:nvSpPr>
        <p:spPr>
          <a:xfrm rot="16200000">
            <a:off x="-1383120" y="357228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stimated rec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6"/>
          <p:cNvSpPr/>
          <p:nvPr/>
        </p:nvSpPr>
        <p:spPr>
          <a:xfrm>
            <a:off x="2743200" y="607536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fidence thresh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irst-order Rules from LIM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liticalParty(A) ^ employs(A,B)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hasMemberPerson(A,B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ilding(B) ^ eventLocation(A,B) ^ bombing(A)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hingPhysicallyDamaged(A,B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mploys(A,B)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hasMember(A,B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itizenOf(A,B)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hasCitizenship(A,B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ationState(B) ^ person(A) ^ employs(B,A)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hasBirthPlace(A,B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1E2E6-0290-4694-B2D2-005CB72DC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pos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341000"/>
            <a:ext cx="82296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parameters automatically from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 or gradient-ascent based algorithm adapted for BLPs by Kersting and De Raedt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2008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uman evalu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inferred facts using Amazon Mechanical Turk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allison-Burch and Dredze, 2010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inferred fact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swer queri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for evaluation in the DARPA sponsored machine reading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son to existing approaches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L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elop a structure learner for incomplete and uncertain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F0AE4-A938-452D-93E3-E68FD5A60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uture Extensio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e predicate lear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rules for multiple relations at the sam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criminative parameter learning for BL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 and gradient-ascent based algorithms for learning BLP parameters optimize likelihood of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algorithm that learns parameters discriminatively for BLPs has been developed to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rison of BALPs to other probabilistic logics for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son to PRIS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ato, 1995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Poole’s Horn Abductio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Poole, 1993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bductive Stochastic Logic Program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Tammadoni-Nezhad et al., 2006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18C9B-C319-4832-95A4-2921D0D70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nclusio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ed BLPs to abductive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hance BLPs with logical abduction, resulting in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ayesian Abductive Logic Program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BAL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 outperform state-of-the-art approaches to plan recognition on several benchmark data 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ed BLPs to machine rea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liminary results on the IC data set are encour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 an extensive evaluation in immediate fu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a first-order rule learner that learns from incomplete and uncertain data in fu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3A70A-3D51-464D-B439-F361C301A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Questio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D3B05-BDB9-45D7-8F47-BFAB2E0CD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1:15:02Z</dcterms:created>
  <dc:creator>Office 2004 Test Drive User</dc:creator>
  <dc:description/>
  <dc:language>en-US</dc:language>
  <cp:lastModifiedBy>Office 2004 Test Drive User</cp:lastModifiedBy>
  <dcterms:modified xsi:type="dcterms:W3CDTF">2011-05-12T22:02:49Z</dcterms:modified>
  <cp:revision>931</cp:revision>
  <dc:subject/>
  <dc:title>Slide 1</dc:title>
</cp:coreProperties>
</file>