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3F270-DC04-4321-91E3-205F43B279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60FF6-F7FC-487F-AEB5-A845BDB8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075DC-9552-4502-84C5-26AB79A3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643CB-AC8C-4338-9E20-2A77F940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C3DBE-3023-40A3-89BF-3AA82EA64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607EA-C8CA-436D-B1A3-0453D26D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720D3-6A3B-4BA7-AF8F-36DBC5DA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F4370-A5D8-4812-8D02-12F3CCCB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C14FA-7AF6-43AF-81AB-7133CE9F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CC167-D0B6-430C-AA77-BF4B644E8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21B2B-A1C1-4CCB-9908-55F81CB9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CCAF2-C442-4036-A45B-C862DE6C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03480-44AB-443E-9E67-F87743F8B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8B7D4-4E64-476F-B6A0-23D72AE8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3CAF2-B727-4285-87D5-4D4C4326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D6FEE-2FB3-43E3-AA85-00FDB429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B3D39-FB73-4342-B14A-42E11EED0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718CA-609D-4FF7-97EE-3B7B41C4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74C7C-CACC-45A3-8AF0-44F3D73B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057AF-DB04-4EBB-ADF4-53E63C53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54C79-9228-4D32-99DE-862EE8B6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428CB-95B7-4821-A5E0-10435887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EBC9D-8C78-4759-9FC3-910D1A33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0DDE9-7DB0-4B49-A933-A5C00A531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90164-DA79-44B5-B8EE-41F577A5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22DB7-C07D-4BD7-8F81-D4E0E118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2D53E-A92A-482B-8F09-B8C89C25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C42CA-A5BE-49A0-9884-4D56C27A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A5C0B-CB56-45FD-9BA7-F7CF55F8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FF1C4-489D-4EF7-9A8C-CC416B8C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138A3-614B-40F0-904C-9754C9FF4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47393-AA8C-4246-89DA-123F5634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2854E-38E0-40D9-B351-6318A234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C0C94-3140-4473-AE95-C1658F34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1A690-E45C-47C9-B034-8EFCD621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621AC-2D8B-4D6E-8E36-DFD669455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378D-C4C5-4C0B-9FA7-9CE6168C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DB6C4-0203-4545-A008-3946A020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1E830-14B0-4CFE-B676-E0D32DFB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26243-A66A-4010-BE22-57B8F472C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0C13B-90AD-40B1-8323-B3BC87CF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9CD-D899-456D-B16D-DD59036F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0CD-5A6A-48FF-83DF-7DEDEBF2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96E-1C0F-49D1-B740-EAAEFFD4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74C-D94C-442E-8C57-226168C4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C9DF6-E9DF-4506-BAB6-95735DC1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34AA7-EFF7-48D3-B2DE-53DC789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6D7AB-73FD-4A38-83FC-33E38A53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3537D-B71E-419F-9731-6D36D5C4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1C65-F4D3-40CF-BF73-86EB1DA6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51A1A-3197-4F70-90DE-82757E4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1673-0AFF-4CA7-B902-02828FA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DA2-CCD5-4DA2-93CD-3C5E90B1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8B7D-96FE-4FEE-A4E2-B02EB48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8A7BB-F8A3-4007-964B-E4A4955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D29C-D008-4C32-B0D6-212B84DD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8C3C2-C1B8-4302-9618-4278FEA6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7C083-B578-4A0D-AC29-39727E57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623-4405-4814-BF1B-468818D7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651-FFE4-4FDC-B367-580ABA67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AD7-12A4-4F99-BC1E-993E876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64A-4E02-4CC4-95F4-371F6C7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BBA-F013-4F90-9A42-F00EC48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877-F947-479B-B435-56261C0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A63-54E2-40A5-A4ED-4FC51B8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3D970-96AC-49F6-83B4-27EC6FF98C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7AE06-1268-44FF-9176-258F4B571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28600" y="228600"/>
            <a:ext cx="8686800" cy="6446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28600" y="228600"/>
            <a:ext cx="8686800" cy="6446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8125C-1834-4DC1-B0E8-912648CD43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3CBDA-70AF-4A94-9B73-CC5AAC1F1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ayesian Abductive Logic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60000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indhu Ragha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Raymond J. Mo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University of Texas at Au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6D012-954D-4859-ACBC-342E8BC5F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blem with Logical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handle uncertainty of assumptions and in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ble to chose between explanations with the same number of assumptions based on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34E44-0F6A-4C04-A43D-0BF9BEB8E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Other Approaches to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stic abduction using Bayesian network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ff6600"/>
                </a:solidFill>
                <a:latin typeface="Calibri"/>
              </a:rPr>
              <a:t>(Pearl 1988)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Unable to capture relational structure since Bayes nets are propositional in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stic relational abduction using Markov Logic Networks (MLNs) </a:t>
            </a:r>
            <a:r>
              <a:rPr b="0" i="1" lang="en-US" sz="2500" spc="-1" strike="noStrike">
                <a:solidFill>
                  <a:srgbClr val="ff6600"/>
                </a:solidFill>
                <a:latin typeface="Calibri"/>
              </a:rPr>
              <a:t>(Kate and Mooney 2009)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es not use logical abduction, instead uses complex reverse implications to approximate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86358-E2FC-45A5-A750-06902ED97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ayesian Logic Programs (BLP) </a:t>
            </a:r>
            <a:br>
              <a:rPr sz="4000"/>
            </a:br>
            <a:r>
              <a:rPr b="0" i="1" lang="en-US" sz="2400" spc="-1" strike="noStrike">
                <a:solidFill>
                  <a:srgbClr val="e46c0a"/>
                </a:solidFill>
                <a:latin typeface="Calibri"/>
              </a:rPr>
              <a:t>(Kersting and De Raedt, 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f0000"/>
              </a:buClr>
              <a:buSzPct val="14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yesian Logic Programs (BLPs) combine first-order logic and Bayesian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ductive logic programming used to construct structure of a Bayes 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ot suitable for problems requiring abductive logical inference to form a proof structure by making assum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0B98F-6F54-48F1-B698-8894238B1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ayesian Abductive Logic Programs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(BAL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371600" y="205740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B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562720" y="205740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A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us 5"/>
          <p:cNvSpPr/>
          <p:nvPr/>
        </p:nvSpPr>
        <p:spPr>
          <a:xfrm>
            <a:off x="4038480" y="2362320"/>
            <a:ext cx="533520" cy="457200"/>
          </a:xfrm>
          <a:custGeom>
            <a:avLst/>
            <a:gdLst>
              <a:gd name="textAreaLeft" fmla="*/ 70560 w 533520"/>
              <a:gd name="textAreaRight" fmla="*/ 462960 w 533520"/>
              <a:gd name="textAreaTop" fmla="*/ 174960 h 457200"/>
              <a:gd name="textAreaBottom" fmla="*/ 282240 h 457200"/>
            </a:gdLst>
            <a:ahLst/>
            <a:rect l="textAreaLeft" t="textAreaTop" r="textAreaRight" b="textAreaBottom"/>
            <a:pathLst>
              <a:path w="533400" h="457200">
                <a:moveTo>
                  <a:pt x="70702" y="174833"/>
                </a:moveTo>
                <a:lnTo>
                  <a:pt x="212933" y="174833"/>
                </a:lnTo>
                <a:lnTo>
                  <a:pt x="212933" y="60602"/>
                </a:lnTo>
                <a:lnTo>
                  <a:pt x="320467" y="60602"/>
                </a:lnTo>
                <a:lnTo>
                  <a:pt x="320467" y="174833"/>
                </a:lnTo>
                <a:lnTo>
                  <a:pt x="462698" y="174833"/>
                </a:lnTo>
                <a:lnTo>
                  <a:pt x="462698" y="282367"/>
                </a:lnTo>
                <a:lnTo>
                  <a:pt x="320467" y="282367"/>
                </a:lnTo>
                <a:lnTo>
                  <a:pt x="320467" y="396598"/>
                </a:lnTo>
                <a:lnTo>
                  <a:pt x="212933" y="396598"/>
                </a:lnTo>
                <a:lnTo>
                  <a:pt x="212933" y="282367"/>
                </a:lnTo>
                <a:lnTo>
                  <a:pt x="70702" y="2823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505320" y="419112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BA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qual 7"/>
          <p:cNvSpPr/>
          <p:nvPr/>
        </p:nvSpPr>
        <p:spPr>
          <a:xfrm>
            <a:off x="3886200" y="3429000"/>
            <a:ext cx="762120" cy="380880"/>
          </a:xfrm>
          <a:custGeom>
            <a:avLst/>
            <a:gdLst>
              <a:gd name="textAreaLeft" fmla="*/ 100800 w 762120"/>
              <a:gd name="textAreaRight" fmla="*/ 661320 w 762120"/>
              <a:gd name="textAreaTop" fmla="*/ 78480 h 380880"/>
              <a:gd name="textAreaBottom" fmla="*/ 302400 h 380880"/>
            </a:gdLst>
            <a:ahLst/>
            <a:rect l="textAreaLeft" t="textAreaTop" r="textAreaRight" b="textAreaBottom"/>
            <a:pathLst>
              <a:path w="762000" h="381000">
                <a:moveTo>
                  <a:pt x="101003" y="78486"/>
                </a:moveTo>
                <a:lnTo>
                  <a:pt x="660997" y="78486"/>
                </a:lnTo>
                <a:lnTo>
                  <a:pt x="660997" y="168097"/>
                </a:lnTo>
                <a:lnTo>
                  <a:pt x="101003" y="168097"/>
                </a:lnTo>
                <a:close/>
                <a:moveTo>
                  <a:pt x="101003" y="212903"/>
                </a:moveTo>
                <a:lnTo>
                  <a:pt x="660997" y="212903"/>
                </a:lnTo>
                <a:lnTo>
                  <a:pt x="660997" y="302514"/>
                </a:lnTo>
                <a:lnTo>
                  <a:pt x="101003" y="3025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457200" y="57150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Arial"/>
              </a:rPr>
              <a:t>Suitable for tasks involving abductive reasoning – plan recognition, diagnosi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CFA78-3E7B-4B79-8A23-8B7662ABD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LPs vs. BAL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17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BLPs, BALPs use logic programs as templates for constructing Bayesian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 BLPs, BALPs uses logical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abduction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 of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dedu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onstruct the net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41F89-7B1E-478A-8AC9-DE15C8564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on in BAL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: A set of observation literals  O = {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.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all distinct abductive proofs of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 a Bayesian network using the resulting set of proofs as in BL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probabilistic inference on the Bayesian network to compute the best expla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BD3C6-F97B-4E97-9B23-0A6A6C775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1165680" y="3276720"/>
            <a:ext cx="270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4"/>
          <p:cNvCxnSpPr>
            <a:stCxn id="157" idx="0"/>
          </p:cNvCxnSpPr>
          <p:nvPr/>
        </p:nvCxnSpPr>
        <p:spPr>
          <a:xfrm flipH="1" flipV="1">
            <a:off x="1752120" y="1980360"/>
            <a:ext cx="7675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9" name="Straight Arrow Connector 5"/>
          <p:cNvCxnSpPr>
            <a:stCxn id="157" idx="0"/>
          </p:cNvCxnSpPr>
          <p:nvPr/>
        </p:nvCxnSpPr>
        <p:spPr>
          <a:xfrm flipV="1">
            <a:off x="2519280" y="1980360"/>
            <a:ext cx="1139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0" name="TextBox 6"/>
          <p:cNvSpPr/>
          <p:nvPr/>
        </p:nvSpPr>
        <p:spPr>
          <a:xfrm>
            <a:off x="5281920" y="3276720"/>
            <a:ext cx="289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7"/>
          <p:cNvCxnSpPr>
            <a:stCxn id="160" idx="0"/>
          </p:cNvCxnSpPr>
          <p:nvPr/>
        </p:nvCxnSpPr>
        <p:spPr>
          <a:xfrm flipH="1" flipV="1">
            <a:off x="5936400" y="1980360"/>
            <a:ext cx="7930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2" name="Straight Arrow Connector 8"/>
          <p:cNvCxnSpPr>
            <a:stCxn id="160" idx="0"/>
          </p:cNvCxnSpPr>
          <p:nvPr/>
        </p:nvCxnSpPr>
        <p:spPr>
          <a:xfrm flipV="1">
            <a:off x="6728400" y="1980360"/>
            <a:ext cx="6562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74B20-FE5F-40FB-A3C7-CA9DB4181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48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2761200" y="32767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0"/>
          <p:cNvCxnSpPr>
            <a:stCxn id="166" idx="0"/>
          </p:cNvCxnSpPr>
          <p:nvPr/>
        </p:nvCxnSpPr>
        <p:spPr>
          <a:xfrm flipH="1" flipV="1">
            <a:off x="3422160" y="1980360"/>
            <a:ext cx="72000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>
            <a:stCxn id="166" idx="0"/>
          </p:cNvCxnSpPr>
          <p:nvPr/>
        </p:nvCxnSpPr>
        <p:spPr>
          <a:xfrm flipV="1">
            <a:off x="4140720" y="1980360"/>
            <a:ext cx="13993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9" name="Straight Arrow Connector 12"/>
          <p:cNvCxnSpPr>
            <a:stCxn id="166" idx="0"/>
          </p:cNvCxnSpPr>
          <p:nvPr/>
        </p:nvCxnSpPr>
        <p:spPr>
          <a:xfrm flipH="1" flipV="1">
            <a:off x="1975680" y="1980360"/>
            <a:ext cx="21661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0" name="Straight Arrow Connector 13"/>
          <p:cNvCxnSpPr>
            <a:stCxn id="166" idx="0"/>
          </p:cNvCxnSpPr>
          <p:nvPr/>
        </p:nvCxnSpPr>
        <p:spPr>
          <a:xfrm flipV="1">
            <a:off x="4141800" y="1980360"/>
            <a:ext cx="30218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1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D4E6C-50C4-4081-9939-0199CF982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861840" y="327672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4"/>
          <p:cNvCxnSpPr>
            <a:stCxn id="174" idx="0"/>
          </p:cNvCxnSpPr>
          <p:nvPr/>
        </p:nvCxnSpPr>
        <p:spPr>
          <a:xfrm flipH="1" flipV="1">
            <a:off x="1447560" y="1980360"/>
            <a:ext cx="11642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Straight Arrow Connector 5"/>
          <p:cNvCxnSpPr>
            <a:stCxn id="174" idx="0"/>
          </p:cNvCxnSpPr>
          <p:nvPr/>
        </p:nvCxnSpPr>
        <p:spPr>
          <a:xfrm flipV="1">
            <a:off x="2611440" y="1980360"/>
            <a:ext cx="9705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7" name="TextBox 6"/>
          <p:cNvSpPr/>
          <p:nvPr/>
        </p:nvSpPr>
        <p:spPr>
          <a:xfrm>
            <a:off x="4899960" y="327672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7"/>
          <p:cNvCxnSpPr>
            <a:stCxn id="177" idx="0"/>
          </p:cNvCxnSpPr>
          <p:nvPr/>
        </p:nvCxnSpPr>
        <p:spPr>
          <a:xfrm flipH="1" flipV="1">
            <a:off x="5555520" y="1980360"/>
            <a:ext cx="8643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9" name="Straight Arrow Connector 8"/>
          <p:cNvCxnSpPr>
            <a:stCxn id="177" idx="0"/>
          </p:cNvCxnSpPr>
          <p:nvPr/>
        </p:nvCxnSpPr>
        <p:spPr>
          <a:xfrm flipV="1">
            <a:off x="6419880" y="1980360"/>
            <a:ext cx="1085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0" name="TextBox 9"/>
          <p:cNvSpPr/>
          <p:nvPr/>
        </p:nvSpPr>
        <p:spPr>
          <a:xfrm>
            <a:off x="3307320" y="480060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12"/>
          <p:cNvCxnSpPr>
            <a:stCxn id="180" idx="0"/>
          </p:cNvCxnSpPr>
          <p:nvPr/>
        </p:nvCxnSpPr>
        <p:spPr>
          <a:xfrm flipH="1" flipV="1">
            <a:off x="3809160" y="198072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2" name="Straight Arrow Connector 14"/>
          <p:cNvCxnSpPr>
            <a:stCxn id="180" idx="0"/>
          </p:cNvCxnSpPr>
          <p:nvPr/>
        </p:nvCxnSpPr>
        <p:spPr>
          <a:xfrm flipV="1">
            <a:off x="4686840" y="198072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3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0E9BF-E8BB-4ECF-BE5D-F399E73F7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8"/>
          <p:cNvSpPr/>
          <p:nvPr/>
        </p:nvSpPr>
        <p:spPr>
          <a:xfrm>
            <a:off x="-63360" y="2054160"/>
            <a:ext cx="4767120" cy="2728800"/>
          </a:xfrm>
          <a:custGeom>
            <a:avLst/>
            <a:gdLst>
              <a:gd name="textAreaLeft" fmla="*/ 0 w 4767120"/>
              <a:gd name="textAreaRight" fmla="*/ 4767480 w 4767120"/>
              <a:gd name="textAreaTop" fmla="*/ 0 h 2728800"/>
              <a:gd name="textAreaBottom" fmla="*/ 2728800 h 272880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9"/>
          <p:cNvSpPr/>
          <p:nvPr/>
        </p:nvSpPr>
        <p:spPr>
          <a:xfrm>
            <a:off x="4687920" y="2057400"/>
            <a:ext cx="4437000" cy="271296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babilistic Para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 with BLPs, CPTs for Bayes net specified in first-order claus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500" spc="-1" strike="noStrike">
                <a:solidFill>
                  <a:srgbClr val="c00000"/>
                </a:solidFill>
                <a:latin typeface="Calibri"/>
              </a:rPr>
              <a:t>Noisy-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bining rule is used to specify the CPT for combining the conjuncts in the body of the cla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Reduces the number of parameters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Parameters can be learned from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500" spc="-1" strike="noStrike">
                <a:solidFill>
                  <a:srgbClr val="c00000"/>
                </a:solidFill>
                <a:latin typeface="Calibri"/>
              </a:rPr>
              <a:t>Noisy-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bining rule is used to specify the CPT for combining the disjunctive contributions from different ground clauses with the same h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Models “explaining away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alibri"/>
              </a:rPr>
              <a:t>Parameters can be learned from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8A491-8342-487A-BC8E-6792AF895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finding the best explanation for a set of observations </a:t>
            </a:r>
            <a:r>
              <a:rPr b="0" i="1" lang="en-US" sz="2800" spc="-1" strike="noStrike">
                <a:solidFill>
                  <a:srgbClr val="e46c0a"/>
                </a:solidFill>
                <a:latin typeface="Calibri"/>
              </a:rPr>
              <a:t>(Peirce 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 of cause from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Plan recog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Natural language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6E76E-D5D2-4A4E-B474-87E865C8E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861840" y="327672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4"/>
          <p:cNvCxnSpPr>
            <a:stCxn id="191" idx="0"/>
          </p:cNvCxnSpPr>
          <p:nvPr/>
        </p:nvCxnSpPr>
        <p:spPr>
          <a:xfrm flipH="1" flipV="1">
            <a:off x="1447560" y="1980360"/>
            <a:ext cx="11642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3" name="Straight Arrow Connector 5"/>
          <p:cNvCxnSpPr>
            <a:stCxn id="191" idx="0"/>
          </p:cNvCxnSpPr>
          <p:nvPr/>
        </p:nvCxnSpPr>
        <p:spPr>
          <a:xfrm flipV="1">
            <a:off x="2611440" y="1980360"/>
            <a:ext cx="9705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4" name="TextBox 6"/>
          <p:cNvSpPr/>
          <p:nvPr/>
        </p:nvSpPr>
        <p:spPr>
          <a:xfrm>
            <a:off x="4899960" y="327672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7"/>
          <p:cNvCxnSpPr>
            <a:stCxn id="194" idx="0"/>
          </p:cNvCxnSpPr>
          <p:nvPr/>
        </p:nvCxnSpPr>
        <p:spPr>
          <a:xfrm flipH="1" flipV="1">
            <a:off x="5555520" y="1980360"/>
            <a:ext cx="86436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6" name="Straight Arrow Connector 8"/>
          <p:cNvCxnSpPr>
            <a:stCxn id="194" idx="0"/>
          </p:cNvCxnSpPr>
          <p:nvPr/>
        </p:nvCxnSpPr>
        <p:spPr>
          <a:xfrm flipV="1">
            <a:off x="6419880" y="1980360"/>
            <a:ext cx="1085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7" name="TextBox 9"/>
          <p:cNvSpPr/>
          <p:nvPr/>
        </p:nvSpPr>
        <p:spPr>
          <a:xfrm>
            <a:off x="3307320" y="480060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2"/>
          <p:cNvCxnSpPr>
            <a:stCxn id="197" idx="0"/>
          </p:cNvCxnSpPr>
          <p:nvPr/>
        </p:nvCxnSpPr>
        <p:spPr>
          <a:xfrm flipH="1" flipV="1">
            <a:off x="3809160" y="198072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9" name="Straight Arrow Connector 14"/>
          <p:cNvCxnSpPr>
            <a:stCxn id="197" idx="0"/>
          </p:cNvCxnSpPr>
          <p:nvPr/>
        </p:nvCxnSpPr>
        <p:spPr>
          <a:xfrm flipV="1">
            <a:off x="4686840" y="198072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0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073B5-40F9-4357-827F-856C2D05E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8"/>
          <p:cNvSpPr/>
          <p:nvPr/>
        </p:nvSpPr>
        <p:spPr>
          <a:xfrm>
            <a:off x="-63360" y="2054160"/>
            <a:ext cx="4767120" cy="2728800"/>
          </a:xfrm>
          <a:custGeom>
            <a:avLst/>
            <a:gdLst>
              <a:gd name="textAreaLeft" fmla="*/ 0 w 4767120"/>
              <a:gd name="textAreaRight" fmla="*/ 4767480 w 4767120"/>
              <a:gd name="textAreaTop" fmla="*/ 0 h 2728800"/>
              <a:gd name="textAreaBottom" fmla="*/ 2728800 h 272880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"/>
          <p:cNvSpPr/>
          <p:nvPr/>
        </p:nvSpPr>
        <p:spPr>
          <a:xfrm>
            <a:off x="4687920" y="2057400"/>
            <a:ext cx="4437000" cy="271296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857880" y="22734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3054960" y="2441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5061600" y="250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7101360" y="224784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babilistic Infer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ruth value of observed 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</a:t>
            </a:r>
            <a:r>
              <a:rPr b="0" i="1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i="1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Most Probable Explanation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PE) to determine the most likely combination of truth values to all unknown literals given this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tandard Bayes-net package 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VI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in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24A87-B90D-4C1F-9AF1-E5C54DEA7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4"/>
          <p:cNvCxnSpPr>
            <a:stCxn id="212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Straight Arrow Connector 5"/>
          <p:cNvCxnSpPr>
            <a:stCxn id="212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5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7"/>
          <p:cNvCxnSpPr>
            <a:stCxn id="215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7" name="Straight Arrow Connector 8"/>
          <p:cNvCxnSpPr>
            <a:stCxn id="215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8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>
            <a:stCxn id="218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>
            <a:stCxn id="218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1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AC5DA-FC30-4AC3-B9F5-391A5FFE1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1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2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Straight Arrow Connector 4"/>
          <p:cNvCxnSpPr>
            <a:stCxn id="230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2" name="Straight Arrow Connector 5"/>
          <p:cNvCxnSpPr>
            <a:stCxn id="230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3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7"/>
          <p:cNvCxnSpPr>
            <a:stCxn id="233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Straight Arrow Connector 8"/>
          <p:cNvCxnSpPr>
            <a:stCxn id="233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12"/>
          <p:cNvCxnSpPr>
            <a:stCxn id="236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8" name="Straight Arrow Connector 14"/>
          <p:cNvCxnSpPr>
            <a:stCxn id="236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9" name="TextBox 20"/>
          <p:cNvSpPr/>
          <p:nvPr/>
        </p:nvSpPr>
        <p:spPr>
          <a:xfrm>
            <a:off x="584280" y="1187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Obser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1D5C4-8AAE-4F84-9F9D-88A74CA3A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2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3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4"/>
          <p:cNvCxnSpPr>
            <a:stCxn id="249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1" name="Straight Arrow Connector 5"/>
          <p:cNvCxnSpPr>
            <a:stCxn id="249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2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7"/>
          <p:cNvCxnSpPr>
            <a:stCxn id="252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4" name="Straight Arrow Connector 8"/>
          <p:cNvCxnSpPr>
            <a:stCxn id="252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5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12"/>
          <p:cNvCxnSpPr>
            <a:stCxn id="255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7" name="Straight Arrow Connector 14"/>
          <p:cNvCxnSpPr>
            <a:stCxn id="255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8" name="TextBox 20"/>
          <p:cNvSpPr/>
          <p:nvPr/>
        </p:nvSpPr>
        <p:spPr>
          <a:xfrm>
            <a:off x="584280" y="1187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Obser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849240" y="5580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6206A-DC97-416F-B74B-1EEB676F6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4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Resulting Bayes 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312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861840" y="380988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4"/>
          <p:cNvCxnSpPr>
            <a:stCxn id="269" idx="0"/>
          </p:cNvCxnSpPr>
          <p:nvPr/>
        </p:nvCxnSpPr>
        <p:spPr>
          <a:xfrm flipH="1" flipV="1">
            <a:off x="1447560" y="2514240"/>
            <a:ext cx="11642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5"/>
          <p:cNvCxnSpPr>
            <a:stCxn id="269" idx="0"/>
          </p:cNvCxnSpPr>
          <p:nvPr/>
        </p:nvCxnSpPr>
        <p:spPr>
          <a:xfrm flipV="1">
            <a:off x="2611440" y="2514240"/>
            <a:ext cx="9705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2" name="TextBox 6"/>
          <p:cNvSpPr/>
          <p:nvPr/>
        </p:nvSpPr>
        <p:spPr>
          <a:xfrm>
            <a:off x="4899960" y="380988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7"/>
          <p:cNvCxnSpPr>
            <a:stCxn id="272" idx="0"/>
          </p:cNvCxnSpPr>
          <p:nvPr/>
        </p:nvCxnSpPr>
        <p:spPr>
          <a:xfrm flipH="1" flipV="1">
            <a:off x="5555520" y="2514240"/>
            <a:ext cx="86436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8"/>
          <p:cNvCxnSpPr>
            <a:stCxn id="272" idx="0"/>
          </p:cNvCxnSpPr>
          <p:nvPr/>
        </p:nvCxnSpPr>
        <p:spPr>
          <a:xfrm flipV="1">
            <a:off x="6419880" y="2514240"/>
            <a:ext cx="1085040" cy="12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5" name="TextBox 9"/>
          <p:cNvSpPr/>
          <p:nvPr/>
        </p:nvSpPr>
        <p:spPr>
          <a:xfrm>
            <a:off x="3307320" y="53341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12"/>
          <p:cNvCxnSpPr>
            <a:stCxn id="275" idx="0"/>
          </p:cNvCxnSpPr>
          <p:nvPr/>
        </p:nvCxnSpPr>
        <p:spPr>
          <a:xfrm flipH="1" flipV="1">
            <a:off x="3809160" y="2514240"/>
            <a:ext cx="87876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7" name="Straight Arrow Connector 14"/>
          <p:cNvCxnSpPr>
            <a:stCxn id="275" idx="0"/>
          </p:cNvCxnSpPr>
          <p:nvPr/>
        </p:nvCxnSpPr>
        <p:spPr>
          <a:xfrm flipV="1">
            <a:off x="4686840" y="2514240"/>
            <a:ext cx="570600" cy="2820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8" name="TextBox 20"/>
          <p:cNvSpPr/>
          <p:nvPr/>
        </p:nvSpPr>
        <p:spPr>
          <a:xfrm>
            <a:off x="584280" y="1187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Obser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1"/>
          <p:cNvSpPr/>
          <p:nvPr/>
        </p:nvSpPr>
        <p:spPr>
          <a:xfrm>
            <a:off x="849240" y="5580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2"/>
          <p:cNvSpPr/>
          <p:nvPr/>
        </p:nvSpPr>
        <p:spPr>
          <a:xfrm>
            <a:off x="2165040" y="42879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3"/>
          <p:cNvSpPr/>
          <p:nvPr/>
        </p:nvSpPr>
        <p:spPr>
          <a:xfrm>
            <a:off x="5847120" y="42879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3945600" y="58118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864A9-F65A-49A9-A6C1-B6B842C8A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6"/>
          <p:cNvSpPr/>
          <p:nvPr/>
        </p:nvSpPr>
        <p:spPr>
          <a:xfrm>
            <a:off x="-41400" y="2604960"/>
            <a:ext cx="4765680" cy="2729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4766011" h="2728304">
                <a:moveTo>
                  <a:pt x="1379635" y="0"/>
                </a:moveTo>
                <a:cubicBezTo>
                  <a:pt x="689817" y="478237"/>
                  <a:pt x="0" y="956475"/>
                  <a:pt x="564396" y="1411192"/>
                </a:cubicBezTo>
                <a:cubicBezTo>
                  <a:pt x="1128792" y="1865909"/>
                  <a:pt x="2947401" y="2297106"/>
                  <a:pt x="4766011" y="272830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7"/>
          <p:cNvSpPr/>
          <p:nvPr/>
        </p:nvSpPr>
        <p:spPr>
          <a:xfrm>
            <a:off x="4724280" y="2620800"/>
            <a:ext cx="4437360" cy="2713320"/>
          </a:xfrm>
          <a:custGeom>
            <a:avLst/>
            <a:gdLst>
              <a:gd name="textAreaLeft" fmla="*/ 0 w 4437360"/>
              <a:gd name="textAreaRight" fmla="*/ 4437720 w 443736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4436780" h="2712624">
                <a:moveTo>
                  <a:pt x="3010112" y="0"/>
                </a:moveTo>
                <a:cubicBezTo>
                  <a:pt x="3723446" y="432504"/>
                  <a:pt x="4436780" y="865008"/>
                  <a:pt x="3935095" y="1317112"/>
                </a:cubicBezTo>
                <a:cubicBezTo>
                  <a:pt x="3433410" y="1769216"/>
                  <a:pt x="1716705" y="2240920"/>
                  <a:pt x="0" y="2712624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844920" y="2765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3096720" y="2979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8"/>
          <p:cNvSpPr/>
          <p:nvPr/>
        </p:nvSpPr>
        <p:spPr>
          <a:xfrm>
            <a:off x="5075640" y="30402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7117200" y="277956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xperimental 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91258-D451-4078-8142-33A49FD52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ing plans from narrative text </a:t>
            </a:r>
            <a:r>
              <a:rPr b="0" i="1" lang="en-US" sz="2400" spc="-1" strike="noStrike">
                <a:solidFill>
                  <a:srgbClr val="ff6600"/>
                </a:solidFill>
                <a:latin typeface="Calibri"/>
              </a:rPr>
              <a:t>(Charniak and Goldman 1991; Ng and Mooney 1992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 characters’ higher-level plans that explain their observed actions represented in log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Fred went to the supermarket. He pointed a gun at the owner. He packed his bag.”</a:t>
            </a:r>
            <a:r>
              <a:rPr b="0" i="1" lang="en-US" sz="18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=&gt; robb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Jack went to the supermarket. He found some milk on the shelf. He paid for it.”</a:t>
            </a:r>
            <a:r>
              <a:rPr b="0" i="1" lang="en-US" sz="1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=&gt; sh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velopment examples and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st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2.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ations pe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knowledge base originally constructed for ACCEL system </a:t>
            </a:r>
            <a:r>
              <a:rPr b="0" i="1" lang="en-US" sz="2400" spc="-1" strike="noStrike">
                <a:solidFill>
                  <a:srgbClr val="ff6600"/>
                </a:solidFill>
                <a:latin typeface="Calibri"/>
              </a:rPr>
              <a:t>(Ng and Mooney 199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B1B25-3CB5-47DC-81ED-7AC53046E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Noisy-and and noisy-or parameters set to 0.9 and priors hand-tuned on development dat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ultiple high-level plans per example are possi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PE inference used to compute the best explan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mputed precision, recall and F-measur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85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91E8B-87CF-4D35-BC1F-C688C1C6E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ystems Evalua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 – Simplicity </a:t>
            </a:r>
            <a:r>
              <a:rPr b="0" i="1" lang="en-US" sz="2800" spc="-1" strike="noStrike">
                <a:solidFill>
                  <a:srgbClr val="ff6600"/>
                </a:solidFill>
                <a:latin typeface="Calibri"/>
              </a:rPr>
              <a:t>(Ng and Mooney 199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ogical abduction preferring fewest #  of assum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 – Coherence </a:t>
            </a:r>
            <a:r>
              <a:rPr b="0" i="1" lang="en-US" sz="2800" spc="-1" strike="noStrike">
                <a:solidFill>
                  <a:srgbClr val="ff6600"/>
                </a:solidFill>
                <a:latin typeface="Calibri"/>
              </a:rPr>
              <a:t>(Ng and Mooney 199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ogical abduction that maximally connect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pecific to story understan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ductive MLNs </a:t>
            </a:r>
            <a:r>
              <a:rPr b="0" i="1" lang="en-US" sz="2800" spc="-1" strike="noStrike">
                <a:solidFill>
                  <a:srgbClr val="ff6600"/>
                </a:solidFill>
                <a:latin typeface="Calibri"/>
              </a:rPr>
              <a:t>(Kate and Moone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40EC6-8D4B-4FAD-8080-42A8DD1CE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Logical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73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Background knowled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 the form of a set of (Horn) clauses in first-order log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 the form of atomic facts in first-order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ypothes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set of assump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tomic facts) that logically entail the observations given the theo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, best explanation is the one with the fewest assumptions, e.g. minimizes |H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954E2-6B79-4DE0-AB00-37F76E7AC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tory Understanding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5D719-00E1-4A72-9A3D-A76DEA523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hart 4" descr=""/>
          <p:cNvPicPr/>
          <p:nvPr/>
        </p:nvPicPr>
        <p:blipFill>
          <a:blip r:embed="rId1"/>
          <a:stretch/>
        </p:blipFill>
        <p:spPr>
          <a:xfrm>
            <a:off x="762120" y="139716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3124080" y="1417680"/>
            <a:ext cx="1143000" cy="4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nro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31640" y="11318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ing high level plans in an emergency response dom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9900"/>
                </a:solidFill>
                <a:latin typeface="Symbol"/>
                <a:ea typeface="Symbol"/>
              </a:rPr>
              <a:t></a:t>
            </a:r>
            <a:r>
              <a:rPr b="0" lang="en-US" sz="21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9900"/>
                </a:solidFill>
                <a:latin typeface="Calibri"/>
              </a:rPr>
              <a:t>Developed by </a:t>
            </a:r>
            <a:r>
              <a:rPr b="0" lang="en-US" sz="2100" spc="-1" strike="noStrike">
                <a:solidFill>
                  <a:srgbClr val="ff6600"/>
                </a:solidFill>
                <a:latin typeface="Calibri"/>
              </a:rPr>
              <a:t>Blaylock and Allen (2005)</a:t>
            </a:r>
            <a:r>
              <a:rPr b="0" lang="en-US" sz="2100" spc="-1" strike="noStrike">
                <a:solidFill>
                  <a:srgbClr val="009900"/>
                </a:solidFill>
                <a:latin typeface="Calibri"/>
              </a:rPr>
              <a:t> to test a statistical n-gram approa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igh level plans including setting up shelter, providing medical attention, clearing road wre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icially generated using SHOP-2 HTN plan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amples for e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10.1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ation literals pe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orrect plan in each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base constructed based on the domain knowledge encoded in HT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C3177-3D86-4C2C-8606-626D8EBDD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nroe 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417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s were set as in story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d marginal probabilities for all high level plans and selected the single one with the highest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d </a:t>
            </a:r>
            <a:r>
              <a:rPr b="1" i="1" lang="en-US" sz="3200" spc="-1" strike="noStrike">
                <a:solidFill>
                  <a:srgbClr val="008000"/>
                </a:solidFill>
                <a:latin typeface="Calibri"/>
              </a:rPr>
              <a:t>convergence sc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ompare with Blaylock and Allen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Convergence score is the fraction of examples for which the top level plan schema (predicate only) was predicted accurately after seeing all observ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06C6A-6B24-45AC-9A49-A797E1B9A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nroe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2590920"/>
          <a:ext cx="822960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ylock and Alle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gence scor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3EFE3-3998-4435-9A19-42C9AC475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dified Monro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7124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pplying the Kate &amp; Mooney (2009) abductive MLN approach to Monroe, it resulted in explosively large ground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d Monroe domain just enough to prevent these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 typed clauses effective for abductive ML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 learning was still not tractable, so weights set manu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2909D-0238-4231-BA87-DE2C2EEB2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dified Monroe 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edly measured the percentage of correct plans inferred (including correct arguments) after observing an increasing fraction of the actions in the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7626B-BDB0-41E8-91DB-8EF8327C9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odified-Monroe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Content Placeholder 5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48720" cy="45259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6"/>
          <p:cNvSpPr/>
          <p:nvPr/>
        </p:nvSpPr>
        <p:spPr>
          <a:xfrm>
            <a:off x="1295280" y="5867280"/>
            <a:ext cx="693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% observations seen by the sy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 rot="16200000">
            <a:off x="-306360" y="3037320"/>
            <a:ext cx="200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1AB3E-EBBE-4E1E-A84C-3D9483964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Ongoing &amp; Future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 learning of BALP parameters from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MLN formulation more directly modeling the BALP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Preliminary results for story understanding and modified Monroe are only slightly worse than BALP results, but much worse for original Monro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to other SRL approaches that have incorporated logical abduction (SLPs, 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hen applied to plan recogn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on other datasets/tasks/dom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10708-12DD-4DAB-9E17-3AA446EBD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SRL framework BALP that combines Bayesian Logic Programs and Abductive Logic Programm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ll suited for relational abductive reasoning tasks like plan recogni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pirical results demonstrate advantages over existing metho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A0D73-3C1E-49C7-8C2B-C2EB72BA9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estions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6CF2D-AF77-4486-8770-191E20262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xample - Plan Recog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78640" indent="-2786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kground knowledg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(person,loc) :- shopping(person,loc,it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(person,loc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(person,instr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(person,instr) :- hunt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(loc) :- shopping(person,loc,it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(loc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n(instr) :- robb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n(instr) :- hunting(person,loc,inst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55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D5B8B-B347-4713-AFCD-6A8ED3960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ample Observations </a:t>
            </a:r>
            <a:r>
              <a:rPr b="0" i="1" lang="en-US" sz="40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8282F-9F8A-4478-958B-3B7C0FFE7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165680" y="3276720"/>
            <a:ext cx="270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unting(john,s2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4"/>
          <p:cNvCxnSpPr>
            <a:stCxn id="108" idx="0"/>
          </p:cNvCxnSpPr>
          <p:nvPr/>
        </p:nvCxnSpPr>
        <p:spPr>
          <a:xfrm flipH="1" flipV="1">
            <a:off x="1752120" y="1980360"/>
            <a:ext cx="7675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Straight Arrow Connector 5"/>
          <p:cNvCxnSpPr>
            <a:stCxn id="108" idx="0"/>
          </p:cNvCxnSpPr>
          <p:nvPr/>
        </p:nvCxnSpPr>
        <p:spPr>
          <a:xfrm flipV="1">
            <a:off x="2519280" y="1980360"/>
            <a:ext cx="11390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TextBox 6"/>
          <p:cNvSpPr/>
          <p:nvPr/>
        </p:nvSpPr>
        <p:spPr>
          <a:xfrm>
            <a:off x="5281920" y="3276720"/>
            <a:ext cx="2895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pping(john,p1,s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11" idx="0"/>
          </p:cNvCxnSpPr>
          <p:nvPr/>
        </p:nvCxnSpPr>
        <p:spPr>
          <a:xfrm flipH="1" flipV="1">
            <a:off x="5936400" y="1980360"/>
            <a:ext cx="7930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Straight Arrow Connector 8"/>
          <p:cNvCxnSpPr>
            <a:stCxn id="111" idx="0"/>
          </p:cNvCxnSpPr>
          <p:nvPr/>
        </p:nvCxnSpPr>
        <p:spPr>
          <a:xfrm flipV="1">
            <a:off x="6728400" y="1980360"/>
            <a:ext cx="65628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416A8-B871-4B57-B0BE-729C1E965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bductive Proof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(john,o1)           gun(o1)            go(john,p1)      store(p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761200" y="3276720"/>
            <a:ext cx="276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bbing(john,p1,o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0"/>
          <p:cNvCxnSpPr>
            <a:stCxn id="117" idx="0"/>
          </p:cNvCxnSpPr>
          <p:nvPr/>
        </p:nvCxnSpPr>
        <p:spPr>
          <a:xfrm flipH="1" flipV="1">
            <a:off x="3422160" y="1980360"/>
            <a:ext cx="72000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9" name="Straight Arrow Connector 11"/>
          <p:cNvCxnSpPr>
            <a:stCxn id="117" idx="0"/>
          </p:cNvCxnSpPr>
          <p:nvPr/>
        </p:nvCxnSpPr>
        <p:spPr>
          <a:xfrm flipV="1">
            <a:off x="4140720" y="1980360"/>
            <a:ext cx="13993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>
            <a:stCxn id="117" idx="0"/>
          </p:cNvCxnSpPr>
          <p:nvPr/>
        </p:nvCxnSpPr>
        <p:spPr>
          <a:xfrm flipH="1" flipV="1">
            <a:off x="1975680" y="1980360"/>
            <a:ext cx="216612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1" name="Straight Arrow Connector 13"/>
          <p:cNvCxnSpPr>
            <a:stCxn id="117" idx="0"/>
          </p:cNvCxnSpPr>
          <p:nvPr/>
        </p:nvCxnSpPr>
        <p:spPr>
          <a:xfrm flipV="1">
            <a:off x="4141800" y="1980360"/>
            <a:ext cx="3021840" cy="129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2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F73CF-B388-4BE4-AF86-AF3A47216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Best Expla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A8864-8412-4768-B2EC-AA4719C79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1905120"/>
            <a:ext cx="3124080" cy="213336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planation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hunting(john,s2,o1) shopping(john,p1,s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4280" y="1905120"/>
            <a:ext cx="3124440" cy="213336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plana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robbing(john,p1,o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038480" y="1676520"/>
            <a:ext cx="4496040" cy="2514600"/>
          </a:xfrm>
          <a:prstGeom prst="ellipse">
            <a:avLst/>
          </a:prstGeom>
          <a:noFill/>
          <a:ln w="7632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85800" y="4836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Best explanation makes fewest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Existing Work on Logical A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y of research from 70’s – 90’s.          </a:t>
            </a:r>
            <a:r>
              <a:rPr b="0" i="1" lang="en-US" sz="2500" spc="-1" strike="noStrike">
                <a:solidFill>
                  <a:srgbClr val="ff6600"/>
                </a:solidFill>
                <a:latin typeface="Calibri"/>
              </a:rPr>
              <a:t>(Pople 1973; Levesque 1989; Ng and Mooney 199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ff0000"/>
              </a:buClr>
              <a:buSzPct val="13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Abductive Logic Programming (ALP)</a:t>
            </a:r>
            <a:r>
              <a:rPr b="1" lang="en-US" sz="25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e46c0a"/>
                </a:solidFill>
                <a:latin typeface="Calibri"/>
              </a:rPr>
              <a:t>(Kakas, Kowalski, and Toni, 199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ization based on logic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EAF5C-2152-4C8E-A129-36D957F23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0:54:41Z</dcterms:created>
  <dc:creator>Office 2004 Test Drive User</dc:creator>
  <dc:description/>
  <dc:language>en-US</dc:language>
  <cp:lastModifiedBy>Ray Mooney</cp:lastModifiedBy>
  <dcterms:modified xsi:type="dcterms:W3CDTF">2010-07-10T19:35:05Z</dcterms:modified>
  <cp:revision>570</cp:revision>
  <dc:subject/>
  <dc:title>Bayesian Abductive Logic Programs</dc:title>
</cp:coreProperties>
</file>