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A402-6018-41CF-8407-F2451D5FA2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6A16D-C4CD-4F85-8BB7-394D965D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5C0AB-7958-4488-88DE-E0AEAD75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57114-EB0E-4C8E-B8F4-9B1063CF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FC228-2BBB-48CF-8EAF-DE6A5DE02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B38A3-7467-4FF6-8259-7E714E33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31A82-5D28-4010-96C4-5D743B16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C3D23-0BB4-49AC-9FDE-034F789E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CFC8D-D1C1-46F3-8D1C-A53C9EF1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5B2AB-02BE-4F33-949E-DA2B08E5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60EF2-D520-4532-8829-54E06EFE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FCAB4-92E1-48BA-96AC-D75A4E64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2C62D-CFFD-4528-A498-EB930CDA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4B134-9AEB-45E4-BC16-2B061B4A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487D9-414E-44B6-88C4-8B9E4D4B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5D2AF-309E-4C3D-BA15-E4CFDF2E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49B04-7421-470E-8DFC-CDB0AD27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DC8AE-9B75-4DD7-A81F-A680996CD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BBA5D-4240-435E-B266-2EE58C6A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768DD-648D-4E72-B528-F78DBA11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CEDDB-07A0-41A2-B278-1A715ECD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CA8A3-DB91-487B-A49F-50ACDC0C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88181-7248-47C4-8E1D-FA919192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CCE7-E6AE-4898-9639-760E4C50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F864A-ACA8-466F-A0D6-A3639EE54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8CD44-EB8A-4546-B176-E8322B05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21AF8-9850-4194-B13C-1486F94B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168AB-A6E8-4C75-9E5E-E76A9933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A7076-CECD-42F2-92A5-38A9F773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AF33C-660C-44E8-945F-9243CE1B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F493D-F219-48D4-BDEA-60A06EA1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18D72-A336-4BB5-9755-7E38A346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2D33F-42B9-404B-8084-C52ABD72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729AF-5412-4229-893A-3B278CA5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07299-1FFE-433C-B822-6D93FE11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EDAF3-B576-4EDA-B848-5193FC83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F557F-881E-4AAE-B2A6-1A68CA70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0B5AA-1731-47B9-9F53-A3599737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AE03-D894-457D-8221-388B5407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C8861-F295-4C54-AD31-677BE920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513A3-A2F0-4287-B548-0FAE9389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6C-C980-48A9-A46B-5DAD4A92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FC7-E4AC-4AFA-851A-7D2DD35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97F-7882-4BD3-AC07-9D1E1BCB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1CD-156F-4DDF-83AD-161DB43E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78AB-DE8F-4884-8848-D02818E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84D7-47DA-4F5D-B157-6E4BAA2C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1D0B8-B2EE-413B-8216-DF74868B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1ED23-1D62-4D80-86C3-4D6A288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2671-D341-4821-AFE3-B325415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07B1C-D4CA-4655-A051-4D2C462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E07B-482D-4E4D-A99A-7585F0E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2E1-3C54-44AD-AE32-0A6B666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45B3-0A0C-4100-B128-17A29B5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63042-E304-495E-9B9E-66B8D75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B4E2-C422-405D-8741-BFA4DF9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C1EB-258E-432D-8B81-343704B4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A88C9-86D0-42E7-8110-B481C71F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84-DF4C-4D05-9D1B-953AF43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7A4-8F44-48AE-95AC-8607AFC4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14D-ED85-43CD-993E-800CC36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4D5-7579-4546-A578-934FE88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830-AAD3-4C95-8889-A257C4C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AD5-96BA-428C-8536-2C360E7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D41-9679-493D-A1AA-BFDDC2FA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6506C-22B0-42D1-ABC3-D940C3056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E3866-EAFC-4C14-BE39-3379B7F3D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28600" y="228600"/>
            <a:ext cx="8686800" cy="6446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28600" y="228600"/>
            <a:ext cx="8686800" cy="6446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838F2-A74A-44F1-A395-F1F3948EF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62C49-C6B8-4EB6-BCFF-44ADE836E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ayesian Abductive Logic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60000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indhu Ragha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University of Texas at A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B4762-200D-4021-97AB-E3A33CB03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lem with 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handle uncertainty of assumptions and in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ble to chose between explanations with the same number of assumptions based on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8F51B-E610-4980-ABA1-C268C1326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Other Approaches to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stic abduction using Bayesian network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Pearl 1988)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Unable to capture relational structure since Bayes nets are propositional i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stic relational abduction using Markov Logic Networks (MLNs)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Kate and Mooney 2009)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es not use logical abduction, instead uses complex reverse implications to approximate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960E6-F252-497A-826B-5F681BA96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ayesian Logic Programs (BLP) </a:t>
            </a:r>
            <a:br>
              <a:rPr sz="4000"/>
            </a:br>
            <a:r>
              <a:rPr b="0" i="1" lang="en-US" sz="2400" spc="-1" strike="noStrike">
                <a:solidFill>
                  <a:srgbClr val="e46c0a"/>
                </a:solidFill>
                <a:latin typeface="Calibri"/>
              </a:rPr>
              <a:t>(Kersting and De Raedt,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f0000"/>
              </a:buClr>
              <a:buSzPct val="14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yesian Logic Programs (BLPs) combine first-order logic and Bayesian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ductive logic programming used to construct structure of a Bayes 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ot suitable for problems requiring abductive logical inference to form a proof structure by making assum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E959F-4BC8-4118-A736-EF1EBD8AC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ayesian Abductive Logic Programs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(BAL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371600" y="205740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B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562720" y="205740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A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us 5"/>
          <p:cNvSpPr/>
          <p:nvPr/>
        </p:nvSpPr>
        <p:spPr>
          <a:xfrm>
            <a:off x="4038480" y="2362320"/>
            <a:ext cx="533520" cy="457200"/>
          </a:xfrm>
          <a:custGeom>
            <a:avLst/>
            <a:gdLst>
              <a:gd name="textAreaLeft" fmla="*/ 70560 w 533520"/>
              <a:gd name="textAreaRight" fmla="*/ 462960 w 53352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BA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qual 7"/>
          <p:cNvSpPr/>
          <p:nvPr/>
        </p:nvSpPr>
        <p:spPr>
          <a:xfrm>
            <a:off x="3886200" y="3429000"/>
            <a:ext cx="762120" cy="380880"/>
          </a:xfrm>
          <a:custGeom>
            <a:avLst/>
            <a:gdLst>
              <a:gd name="textAreaLeft" fmla="*/ 100800 w 762120"/>
              <a:gd name="textAreaRight" fmla="*/ 661320 w 762120"/>
              <a:gd name="textAreaTop" fmla="*/ 78480 h 380880"/>
              <a:gd name="textAreaBottom" fmla="*/ 302400 h 380880"/>
            </a:gdLst>
            <a:ahLst/>
            <a:rect l="textAreaLeft" t="textAreaTop" r="textAreaRight" b="textAreaBottom"/>
            <a:pathLst>
              <a:path w="762000" h="381000">
                <a:moveTo>
                  <a:pt x="101003" y="78486"/>
                </a:moveTo>
                <a:lnTo>
                  <a:pt x="660997" y="78486"/>
                </a:lnTo>
                <a:lnTo>
                  <a:pt x="660997" y="168097"/>
                </a:lnTo>
                <a:lnTo>
                  <a:pt x="101003" y="168097"/>
                </a:lnTo>
                <a:close/>
                <a:moveTo>
                  <a:pt x="101003" y="212903"/>
                </a:moveTo>
                <a:lnTo>
                  <a:pt x="660997" y="212903"/>
                </a:lnTo>
                <a:lnTo>
                  <a:pt x="660997" y="302514"/>
                </a:lnTo>
                <a:lnTo>
                  <a:pt x="101003" y="3025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457200" y="57150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Arial"/>
              </a:rPr>
              <a:t>Suitable for tasks involving abductive reasoning – plan recognition, diagnosi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0DDB7-A9CD-48FF-BA5C-D61003F79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LPs vs. BAL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17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BLPs, BALPs use logic programs as templates for constructing Bayesian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BLPs, BALPs uses logical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abduction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 of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dedu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nstruct the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690E3-A948-488B-A668-A681BFA44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on in BAL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: A set of observation literals  O = {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.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all distinct abductive proofs of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probabilistic inference on the Bayesian network to compute the best expla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DF7A3-3852-4E04-8782-40D57462B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1165680" y="3276720"/>
            <a:ext cx="270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4"/>
          <p:cNvCxnSpPr>
            <a:stCxn id="157" idx="0"/>
          </p:cNvCxnSpPr>
          <p:nvPr/>
        </p:nvCxnSpPr>
        <p:spPr>
          <a:xfrm flipH="1" flipV="1">
            <a:off x="1752120" y="1980360"/>
            <a:ext cx="7675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Straight Arrow Connector 5"/>
          <p:cNvCxnSpPr>
            <a:stCxn id="157" idx="0"/>
          </p:cNvCxnSpPr>
          <p:nvPr/>
        </p:nvCxnSpPr>
        <p:spPr>
          <a:xfrm flipV="1">
            <a:off x="2519280" y="1980360"/>
            <a:ext cx="1139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0" name="TextBox 6"/>
          <p:cNvSpPr/>
          <p:nvPr/>
        </p:nvSpPr>
        <p:spPr>
          <a:xfrm>
            <a:off x="5281920" y="3276720"/>
            <a:ext cx="289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7"/>
          <p:cNvCxnSpPr>
            <a:stCxn id="160" idx="0"/>
          </p:cNvCxnSpPr>
          <p:nvPr/>
        </p:nvCxnSpPr>
        <p:spPr>
          <a:xfrm flipH="1" flipV="1">
            <a:off x="5936400" y="1980360"/>
            <a:ext cx="7930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2" name="Straight Arrow Connector 8"/>
          <p:cNvCxnSpPr>
            <a:stCxn id="160" idx="0"/>
          </p:cNvCxnSpPr>
          <p:nvPr/>
        </p:nvCxnSpPr>
        <p:spPr>
          <a:xfrm flipV="1">
            <a:off x="6728400" y="1980360"/>
            <a:ext cx="6562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97BCC-2CB8-4B4C-8F55-B3198268A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2761200" y="32767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0"/>
          <p:cNvCxnSpPr>
            <a:stCxn id="166" idx="0"/>
          </p:cNvCxnSpPr>
          <p:nvPr/>
        </p:nvCxnSpPr>
        <p:spPr>
          <a:xfrm flipH="1" flipV="1">
            <a:off x="3422160" y="1980360"/>
            <a:ext cx="72000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>
            <a:stCxn id="166" idx="0"/>
          </p:cNvCxnSpPr>
          <p:nvPr/>
        </p:nvCxnSpPr>
        <p:spPr>
          <a:xfrm flipV="1">
            <a:off x="4140720" y="1980360"/>
            <a:ext cx="13993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9" name="Straight Arrow Connector 12"/>
          <p:cNvCxnSpPr>
            <a:stCxn id="166" idx="0"/>
          </p:cNvCxnSpPr>
          <p:nvPr/>
        </p:nvCxnSpPr>
        <p:spPr>
          <a:xfrm flipH="1" flipV="1">
            <a:off x="1975680" y="1980360"/>
            <a:ext cx="21661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0" name="Straight Arrow Connector 13"/>
          <p:cNvCxnSpPr>
            <a:stCxn id="166" idx="0"/>
          </p:cNvCxnSpPr>
          <p:nvPr/>
        </p:nvCxnSpPr>
        <p:spPr>
          <a:xfrm flipV="1">
            <a:off x="4141800" y="1980360"/>
            <a:ext cx="30218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1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D23FB-0B8B-4927-BC3B-1DFA92F9D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861840" y="327672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4"/>
          <p:cNvCxnSpPr>
            <a:stCxn id="174" idx="0"/>
          </p:cNvCxnSpPr>
          <p:nvPr/>
        </p:nvCxnSpPr>
        <p:spPr>
          <a:xfrm flipH="1" flipV="1">
            <a:off x="1447560" y="1980360"/>
            <a:ext cx="11642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Straight Arrow Connector 5"/>
          <p:cNvCxnSpPr>
            <a:stCxn id="174" idx="0"/>
          </p:cNvCxnSpPr>
          <p:nvPr/>
        </p:nvCxnSpPr>
        <p:spPr>
          <a:xfrm flipV="1">
            <a:off x="2611440" y="1980360"/>
            <a:ext cx="9705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7" name="TextBox 6"/>
          <p:cNvSpPr/>
          <p:nvPr/>
        </p:nvSpPr>
        <p:spPr>
          <a:xfrm>
            <a:off x="4899960" y="327672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7"/>
          <p:cNvCxnSpPr>
            <a:stCxn id="177" idx="0"/>
          </p:cNvCxnSpPr>
          <p:nvPr/>
        </p:nvCxnSpPr>
        <p:spPr>
          <a:xfrm flipH="1" flipV="1">
            <a:off x="5555520" y="1980360"/>
            <a:ext cx="8643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9" name="Straight Arrow Connector 8"/>
          <p:cNvCxnSpPr>
            <a:stCxn id="177" idx="0"/>
          </p:cNvCxnSpPr>
          <p:nvPr/>
        </p:nvCxnSpPr>
        <p:spPr>
          <a:xfrm flipV="1">
            <a:off x="6419880" y="1980360"/>
            <a:ext cx="1085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TextBox 9"/>
          <p:cNvSpPr/>
          <p:nvPr/>
        </p:nvSpPr>
        <p:spPr>
          <a:xfrm>
            <a:off x="3307320" y="480060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12"/>
          <p:cNvCxnSpPr>
            <a:stCxn id="180" idx="0"/>
          </p:cNvCxnSpPr>
          <p:nvPr/>
        </p:nvCxnSpPr>
        <p:spPr>
          <a:xfrm flipH="1" flipV="1">
            <a:off x="3809160" y="198072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Straight Arrow Connector 14"/>
          <p:cNvCxnSpPr>
            <a:stCxn id="180" idx="0"/>
          </p:cNvCxnSpPr>
          <p:nvPr/>
        </p:nvCxnSpPr>
        <p:spPr>
          <a:xfrm flipV="1">
            <a:off x="4686840" y="198072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3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141E9-9611-4350-83F6-93AA0A2B1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8"/>
          <p:cNvSpPr/>
          <p:nvPr/>
        </p:nvSpPr>
        <p:spPr>
          <a:xfrm>
            <a:off x="-63360" y="2054160"/>
            <a:ext cx="4767120" cy="2728800"/>
          </a:xfrm>
          <a:custGeom>
            <a:avLst/>
            <a:gdLst>
              <a:gd name="textAreaLeft" fmla="*/ 0 w 4767120"/>
              <a:gd name="textAreaRight" fmla="*/ 4767480 w 4767120"/>
              <a:gd name="textAreaTop" fmla="*/ 0 h 2728800"/>
              <a:gd name="textAreaBottom" fmla="*/ 2728800 h 272880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4687920" y="2057400"/>
            <a:ext cx="4437000" cy="2712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abilistic Para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with BLPs, CPTs for Bayes net specified in first-order claus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Calibri"/>
              </a:rPr>
              <a:t>Noisy-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bining rule is used to specify the CPT for combining the conjuncts in the body of the cla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Reduces the number of parameters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Parameters can be learned from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Calibri"/>
              </a:rPr>
              <a:t>Noisy-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bining rule is used to specify the CPT for combining the disjunctive contributions from different ground clauses with the same h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Models “explaining away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Parameters can be learned from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18B9A-7891-4186-8EED-95FC5CC9B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finding the best explanation for a set of observations </a:t>
            </a:r>
            <a:r>
              <a:rPr b="0" i="1" lang="en-US" sz="2800" spc="-1" strike="noStrike">
                <a:solidFill>
                  <a:srgbClr val="e46c0a"/>
                </a:solidFill>
                <a:latin typeface="Calibri"/>
              </a:rPr>
              <a:t>(Peirce 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of cause from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Plan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Natural language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03F54-3E2C-4CCE-A851-7BD3B63F7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861840" y="327672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4"/>
          <p:cNvCxnSpPr>
            <a:stCxn id="191" idx="0"/>
          </p:cNvCxnSpPr>
          <p:nvPr/>
        </p:nvCxnSpPr>
        <p:spPr>
          <a:xfrm flipH="1" flipV="1">
            <a:off x="1447560" y="1980360"/>
            <a:ext cx="11642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3" name="Straight Arrow Connector 5"/>
          <p:cNvCxnSpPr>
            <a:stCxn id="191" idx="0"/>
          </p:cNvCxnSpPr>
          <p:nvPr/>
        </p:nvCxnSpPr>
        <p:spPr>
          <a:xfrm flipV="1">
            <a:off x="2611440" y="1980360"/>
            <a:ext cx="9705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4" name="TextBox 6"/>
          <p:cNvSpPr/>
          <p:nvPr/>
        </p:nvSpPr>
        <p:spPr>
          <a:xfrm>
            <a:off x="4899960" y="327672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7"/>
          <p:cNvCxnSpPr>
            <a:stCxn id="194" idx="0"/>
          </p:cNvCxnSpPr>
          <p:nvPr/>
        </p:nvCxnSpPr>
        <p:spPr>
          <a:xfrm flipH="1" flipV="1">
            <a:off x="5555520" y="1980360"/>
            <a:ext cx="8643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6" name="Straight Arrow Connector 8"/>
          <p:cNvCxnSpPr>
            <a:stCxn id="194" idx="0"/>
          </p:cNvCxnSpPr>
          <p:nvPr/>
        </p:nvCxnSpPr>
        <p:spPr>
          <a:xfrm flipV="1">
            <a:off x="6419880" y="1980360"/>
            <a:ext cx="1085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7" name="TextBox 9"/>
          <p:cNvSpPr/>
          <p:nvPr/>
        </p:nvSpPr>
        <p:spPr>
          <a:xfrm>
            <a:off x="3307320" y="480060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2"/>
          <p:cNvCxnSpPr>
            <a:stCxn id="197" idx="0"/>
          </p:cNvCxnSpPr>
          <p:nvPr/>
        </p:nvCxnSpPr>
        <p:spPr>
          <a:xfrm flipH="1" flipV="1">
            <a:off x="3809160" y="198072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9" name="Straight Arrow Connector 14"/>
          <p:cNvCxnSpPr>
            <a:stCxn id="197" idx="0"/>
          </p:cNvCxnSpPr>
          <p:nvPr/>
        </p:nvCxnSpPr>
        <p:spPr>
          <a:xfrm flipV="1">
            <a:off x="4686840" y="198072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0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9D1D5-8B9D-4EB8-82B3-42003DD0F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8"/>
          <p:cNvSpPr/>
          <p:nvPr/>
        </p:nvSpPr>
        <p:spPr>
          <a:xfrm>
            <a:off x="-63360" y="2054160"/>
            <a:ext cx="4767120" cy="2728800"/>
          </a:xfrm>
          <a:custGeom>
            <a:avLst/>
            <a:gdLst>
              <a:gd name="textAreaLeft" fmla="*/ 0 w 4767120"/>
              <a:gd name="textAreaRight" fmla="*/ 4767480 w 4767120"/>
              <a:gd name="textAreaTop" fmla="*/ 0 h 2728800"/>
              <a:gd name="textAreaBottom" fmla="*/ 2728800 h 272880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"/>
          <p:cNvSpPr/>
          <p:nvPr/>
        </p:nvSpPr>
        <p:spPr>
          <a:xfrm>
            <a:off x="4687920" y="2057400"/>
            <a:ext cx="4437000" cy="2712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857880" y="2273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3054960" y="2441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061600" y="250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7101360" y="22478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abilistic I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ruth value of observed 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Most Probable Explanation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PE) to determine the most likely combination of truth values to all unknown literals given this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ndard Bayes-net package 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VI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in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22B43-BE3E-4FAA-8AB5-5A3A282A8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4"/>
          <p:cNvCxnSpPr>
            <a:stCxn id="212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Straight Arrow Connector 5"/>
          <p:cNvCxnSpPr>
            <a:stCxn id="212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7"/>
          <p:cNvCxnSpPr>
            <a:stCxn id="215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7" name="Straight Arrow Connector 8"/>
          <p:cNvCxnSpPr>
            <a:stCxn id="215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8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>
            <a:stCxn id="218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>
            <a:stCxn id="218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404E1-C0B4-4902-BEE9-068C537F3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1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Straight Arrow Connector 4"/>
          <p:cNvCxnSpPr>
            <a:stCxn id="230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2" name="Straight Arrow Connector 5"/>
          <p:cNvCxnSpPr>
            <a:stCxn id="230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7"/>
          <p:cNvCxnSpPr>
            <a:stCxn id="233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Straight Arrow Connector 8"/>
          <p:cNvCxnSpPr>
            <a:stCxn id="233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2"/>
          <p:cNvCxnSpPr>
            <a:stCxn id="236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8" name="Straight Arrow Connector 14"/>
          <p:cNvCxnSpPr>
            <a:stCxn id="236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9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9FB4A-6D9A-452B-AF97-9CA465883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2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4"/>
          <p:cNvCxnSpPr>
            <a:stCxn id="249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1" name="Straight Arrow Connector 5"/>
          <p:cNvCxnSpPr>
            <a:stCxn id="249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2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7"/>
          <p:cNvCxnSpPr>
            <a:stCxn id="252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4" name="Straight Arrow Connector 8"/>
          <p:cNvCxnSpPr>
            <a:stCxn id="252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5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2"/>
          <p:cNvCxnSpPr>
            <a:stCxn id="255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7" name="Straight Arrow Connector 14"/>
          <p:cNvCxnSpPr>
            <a:stCxn id="255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8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849240" y="5580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194B7-DF35-4A2C-B00E-077B730FE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4"/>
          <p:cNvCxnSpPr>
            <a:stCxn id="269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5"/>
          <p:cNvCxnSpPr>
            <a:stCxn id="269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2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7"/>
          <p:cNvCxnSpPr>
            <a:stCxn id="272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8"/>
          <p:cNvCxnSpPr>
            <a:stCxn id="272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5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2"/>
          <p:cNvCxnSpPr>
            <a:stCxn id="275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7" name="Straight Arrow Connector 14"/>
          <p:cNvCxnSpPr>
            <a:stCxn id="275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8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1"/>
          <p:cNvSpPr/>
          <p:nvPr/>
        </p:nvSpPr>
        <p:spPr>
          <a:xfrm>
            <a:off x="849240" y="5580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2165040" y="42879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5847120" y="42879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3945600" y="58118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0D801-B867-4CA8-B925-85A62DB61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6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7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perimental 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4ABBB-D08C-4D46-AA50-C469807B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plans from narrative text </a:t>
            </a:r>
            <a:r>
              <a:rPr b="0" i="1" lang="en-US" sz="2400" spc="-1" strike="noStrike">
                <a:solidFill>
                  <a:srgbClr val="ff6600"/>
                </a:solidFill>
                <a:latin typeface="Calibri"/>
              </a:rPr>
              <a:t>(Charniak and Goldman 1991; Ng and Mooney 1992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 characters’ higher-level plans that explain their observed actions represented in log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Fred went to the supermarket. He pointed a gun at the owner. He packed his bag.”</a:t>
            </a:r>
            <a:r>
              <a:rPr b="0" i="1" lang="en-US" sz="18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=&gt; robb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Jack went to the supermarket. He found some milk on the shelf. He paid for it.”</a:t>
            </a:r>
            <a:r>
              <a:rPr b="0" i="1" lang="en-US" sz="1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=&gt; sh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velopment examples and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st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2.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ations pe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knowledge base originally constructed for ACCEL system </a:t>
            </a:r>
            <a:r>
              <a:rPr b="0" i="1" lang="en-US" sz="24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9D3DA-BD66-4DB7-8B26-6A70D0E30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Noisy-and and noisy-or parameters set to 0.9 and priors hand-tuned on development dat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ultiple high-level plans per example are possi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PE inference used to compute the best explan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mputed precision, recall and F-measur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53950-E3A7-4A8A-9734-2E0118BE3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ystems Evalua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 – Simplicity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gical abduction preferring fewest #  of assum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 – Coherence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gical abduction that maximally connect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pecific to story understa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ductive MLNs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Kate and Moone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D26B7-EDB5-4196-A812-4B89CEDA0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73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ackground knowled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 the form of a set of (Horn) clauses in first-order log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 the form of atomic facts in first-order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set of assump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tomic facts) that logically entail the observations given the the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, best explanation is the one with the fewest assumptions, e.g. minimizes |H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4DB0-B5E5-41C9-A262-C316D7FD1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84886-B520-47CA-A5AA-41B8519B3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hart 4" descr=""/>
          <p:cNvPicPr/>
          <p:nvPr/>
        </p:nvPicPr>
        <p:blipFill>
          <a:blip r:embed="rId1"/>
          <a:stretch/>
        </p:blipFill>
        <p:spPr>
          <a:xfrm>
            <a:off x="762120" y="139716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3124080" y="1417680"/>
            <a:ext cx="1143000" cy="4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31640" y="11318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high level plans in an emergency response dom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Developed by </a:t>
            </a:r>
            <a:r>
              <a:rPr b="0" lang="en-US" sz="2100" spc="-1" strike="noStrike">
                <a:solidFill>
                  <a:srgbClr val="ff6600"/>
                </a:solidFill>
                <a:latin typeface="Calibri"/>
              </a:rPr>
              <a:t>Blaylock and Allen (2005)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 to test a statistical n-gram approa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igh level plans including setting up shelter, providing medical attention, clearing road wre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icially generated using SHOP-2 HTN plan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s for e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.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ation literals pe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orrect plan in each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base constructed based on the domain knowledge encoded in HT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E254E-D7F3-4E95-AAB4-4CEFA9039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417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s were set as in story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marginal probabilities for all high level plans and selected the single one with the highest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</a:t>
            </a:r>
            <a:r>
              <a:rPr b="1" i="1" lang="en-US" sz="3200" spc="-1" strike="noStrike">
                <a:solidFill>
                  <a:srgbClr val="008000"/>
                </a:solidFill>
                <a:latin typeface="Calibri"/>
              </a:rPr>
              <a:t>convergence sc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mpare with Blaylock and Allen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nvergence score is the fraction of examples for which the top level plan schema (predicate only) was predicted accurately after seeing all observ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80B8B-37E2-467F-8BD9-E67CCC500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259092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ylock and Alle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gence scor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5A847-0114-4C5D-A9AE-77879A682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 Monro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7124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pplying the Kate &amp; Mooney (2009) abductive MLN approach to Monroe, it resulted in explosively large ground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Monroe domain just enough to prevent these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 typed clauses effective for abductive ML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 learning was still not tractable, so weights set man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1849A-AA4F-4C25-8FDA-F04CBF9E0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 Monroe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edly measured the percentage of correct plans inferred (including correct arguments) after observing an increasing fraction of the actions in the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B4687-CDFC-4490-B5F7-966F8CB86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-Monro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ontent Placeholder 5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48720" cy="4525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6"/>
          <p:cNvSpPr/>
          <p:nvPr/>
        </p:nvSpPr>
        <p:spPr>
          <a:xfrm>
            <a:off x="1295280" y="5867280"/>
            <a:ext cx="693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% observations seen by the sy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 rot="16200000">
            <a:off x="-306360" y="3037320"/>
            <a:ext cx="200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494E4-9F36-47A9-B3CE-2A9AA2148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Ongoing &amp; Future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 learning of BALP parameter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MLN formulation more directly modeling the BALP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Preliminary results for story understanding and modified Monroe are only slightly worse than BALP results, but much worse for original Monr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o other SRL approaches that have incorporated logical abduction (SLPs, 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hen applied to plan recogn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on other datasets/tasks/dom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B3260-09DD-4336-BA32-4B5EA2ECA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SRL framework BALP that combines Bayesian Logic Programs and Abductive Logic Programm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ll suited for relational abductive reasoning tasks like plan recogni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pirical results demonstrate advantages over existing metho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B755C-F9D5-4E42-80AC-A688027FF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estions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2B408-71D2-4A55-A906-C181CFDC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ample - Plan Recog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8640" indent="-2786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ground knowledg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(person,loc) :- shopping(person,loc,i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(person,loc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(person,instr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(person,instr) :- hunt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(loc) :- shopping(person,loc,i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(loc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n(instr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n(instr) :- hunt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039B2-A984-45E3-9062-5AB3B0CCD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ample Observations </a:t>
            </a:r>
            <a:r>
              <a:rPr b="0" i="1" lang="en-US" sz="40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C2E99-3008-4E53-A03A-0CBAAC69B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165680" y="3276720"/>
            <a:ext cx="270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"/>
          <p:cNvCxnSpPr>
            <a:stCxn id="108" idx="0"/>
          </p:cNvCxnSpPr>
          <p:nvPr/>
        </p:nvCxnSpPr>
        <p:spPr>
          <a:xfrm flipH="1" flipV="1">
            <a:off x="1752120" y="1980360"/>
            <a:ext cx="7675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Straight Arrow Connector 5"/>
          <p:cNvCxnSpPr>
            <a:stCxn id="108" idx="0"/>
          </p:cNvCxnSpPr>
          <p:nvPr/>
        </p:nvCxnSpPr>
        <p:spPr>
          <a:xfrm flipV="1">
            <a:off x="2519280" y="1980360"/>
            <a:ext cx="1139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TextBox 6"/>
          <p:cNvSpPr/>
          <p:nvPr/>
        </p:nvSpPr>
        <p:spPr>
          <a:xfrm>
            <a:off x="5281920" y="3276720"/>
            <a:ext cx="289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11" idx="0"/>
          </p:cNvCxnSpPr>
          <p:nvPr/>
        </p:nvCxnSpPr>
        <p:spPr>
          <a:xfrm flipH="1" flipV="1">
            <a:off x="5936400" y="1980360"/>
            <a:ext cx="7930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>
            <a:stCxn id="111" idx="0"/>
          </p:cNvCxnSpPr>
          <p:nvPr/>
        </p:nvCxnSpPr>
        <p:spPr>
          <a:xfrm flipV="1">
            <a:off x="6728400" y="1980360"/>
            <a:ext cx="6562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2C02C-7F66-4830-AFD1-96B50EFA4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761200" y="32767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0"/>
          <p:cNvCxnSpPr>
            <a:stCxn id="117" idx="0"/>
          </p:cNvCxnSpPr>
          <p:nvPr/>
        </p:nvCxnSpPr>
        <p:spPr>
          <a:xfrm flipH="1" flipV="1">
            <a:off x="3422160" y="1980360"/>
            <a:ext cx="72000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9" name="Straight Arrow Connector 11"/>
          <p:cNvCxnSpPr>
            <a:stCxn id="117" idx="0"/>
          </p:cNvCxnSpPr>
          <p:nvPr/>
        </p:nvCxnSpPr>
        <p:spPr>
          <a:xfrm flipV="1">
            <a:off x="4140720" y="1980360"/>
            <a:ext cx="13993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>
            <a:stCxn id="117" idx="0"/>
          </p:cNvCxnSpPr>
          <p:nvPr/>
        </p:nvCxnSpPr>
        <p:spPr>
          <a:xfrm flipH="1" flipV="1">
            <a:off x="1975680" y="1980360"/>
            <a:ext cx="21661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1" name="Straight Arrow Connector 13"/>
          <p:cNvCxnSpPr>
            <a:stCxn id="117" idx="0"/>
          </p:cNvCxnSpPr>
          <p:nvPr/>
        </p:nvCxnSpPr>
        <p:spPr>
          <a:xfrm flipV="1">
            <a:off x="4141800" y="1980360"/>
            <a:ext cx="30218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2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3BABC-84EF-4FCD-B023-03ABBE371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est Expla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9085-48CD-47E5-8B9E-0C714B1FD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1905120"/>
            <a:ext cx="3124080" cy="213336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lanation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hunting(john,s2,o1) shopping(john,p1,s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4280" y="1905120"/>
            <a:ext cx="3124440" cy="213336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lana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robbing(john,p1,o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038480" y="1676520"/>
            <a:ext cx="4496040" cy="2514600"/>
          </a:xfrm>
          <a:prstGeom prst="ellipse">
            <a:avLst/>
          </a:prstGeom>
          <a:noFill/>
          <a:ln w="7632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85800" y="4836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Best explanation makes fewest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isting Work on 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y of research from 70’s – 90’s.         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Pople 1973; Levesque 1989; Ng and Mooney 199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Abductive Logic Programming (ALP)</a:t>
            </a:r>
            <a:r>
              <a:rPr b="1" lang="en-US" sz="25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e46c0a"/>
                </a:solidFill>
                <a:latin typeface="Calibri"/>
              </a:rPr>
              <a:t>(Kakas, Kowalski, and Toni, 199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ization based on logic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A66EE-D8C8-49F2-B637-8E82AA904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0:54:41Z</dcterms:created>
  <dc:creator>Office 2004 Test Drive User</dc:creator>
  <dc:description/>
  <dc:language>en-US</dc:language>
  <cp:lastModifiedBy>Ray Mooney</cp:lastModifiedBy>
  <dcterms:modified xsi:type="dcterms:W3CDTF">2010-07-10T19:35:05Z</dcterms:modified>
  <cp:revision>570</cp:revision>
  <dc:subject/>
  <dc:title>Bayesian Abductive Logic Programs</dc:title>
</cp:coreProperties>
</file>