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DFDF-FD24-4C29-9ABA-DE7B076E1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D22D-9FF4-412B-827C-D2D108342D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C56E-35E6-4786-8637-DB93881291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6662-BEFB-4B4B-8C17-CC1BD2CEA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695B-7428-490F-8A69-5790FF90B5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DFFA-FF2B-43CC-BAE0-AB50B288A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5948-9F6D-4405-B6C2-FB22C18E9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83B6-07D3-4F35-90C1-0C177A527F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1973-DADD-4095-8E83-24FD74015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1F43-B18E-4821-961A-B4F9E4000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D7D6-4D93-4D03-8246-F374D7781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98FC-6815-4E65-8973-11B008769B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7C48-3A07-4905-96D0-E1A4A0605BB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46040"/>
            <a:ext cx="9144000" cy="424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1"/>
          </p:nvPr>
        </p:nvSpPr>
        <p:spPr>
          <a:xfrm>
            <a:off x="425520" y="650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647640"/>
            <a:ext cx="554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Presentation Central on w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527040" y="369720"/>
            <a:ext cx="1255680" cy="50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480" y="6276600"/>
            <a:ext cx="172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sp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MCAD 201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9175320" y="4341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  <a:p>
            <a:pPr lvl="1" marL="457200" indent="7920" algn="ctr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38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DD1-E764-4C5E-A215-034724DE2AD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08080" y="4036680"/>
            <a:ext cx="734544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Jason Baumgartner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www.research.ibm.com/sixthsense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IBM Corpo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8840" y="2203560"/>
            <a:ext cx="86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dware Model Check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us, Challenges, and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59280" y="1125360"/>
            <a:ext cx="3384720" cy="1033560"/>
          </a:xfrm>
          <a:prstGeom prst="wedgeEllipseCallout">
            <a:avLst>
              <a:gd name="adj1" fmla="val -33069"/>
              <a:gd name="adj2" fmla="val 667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NOT a solved problem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480" y="17136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680080"/>
            <a:ext cx="9144000" cy="12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veat: 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uarante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pacity;1) some tiny problems are unsolvable! 2) includ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o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y incomplete 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cumulative capacity trend leverages earlier innovations + SW enginee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hasn’t been much progress or activity in the area of Hardware Model Checking lately” ?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ee implementation-worthy improvements annually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71720" y="714240"/>
            <a:ext cx="501516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3660840" y="986040"/>
            <a:ext cx="423720" cy="267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D-Based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2910960" y="1152000"/>
            <a:ext cx="423720" cy="279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-State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511160" y="1173960"/>
            <a:ext cx="423720" cy="22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-Refin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5347800" y="1063440"/>
            <a:ext cx="423720" cy="16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-Based BM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509880" y="1164240"/>
            <a:ext cx="423720" cy="12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5911920" y="149760"/>
            <a:ext cx="423720" cy="25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-Based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155000" y="73800"/>
            <a:ext cx="423720" cy="18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ariant-Based I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383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del Checking Capacity vs Tim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6556320" y="2805120"/>
            <a:ext cx="667080" cy="21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quival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5671800" y="3263040"/>
            <a:ext cx="423720" cy="17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Formal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4237200" y="3704400"/>
            <a:ext cx="423720" cy="16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tioned BD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: A Waning Research Fie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"/>
          </a:bodyPr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jus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coming more sel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technology matures, harder to achieve a publishable res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drive well-tuned implementations: HWMCC, SAT, S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520" indent="-252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vailability of relatively good benchmark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improve upon a state-of-the-art so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pled with prevalent waning semiconductor research funding, fewer are working in this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ugh still a strong pace of advanc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ew, the strong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he HMC technology junkies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6058080" y="1338120"/>
            <a:ext cx="9475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Advances are </a:t>
            </a:r>
            <a:r>
              <a:rPr b="0" i="1" lang="en-US" sz="2800" spc="-1" strike="noStrike">
                <a:solidFill>
                  <a:srgbClr val="7889fb"/>
                </a:solidFill>
                <a:latin typeface="Arial"/>
              </a:rPr>
              <a:t>Engineering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Mostl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 some exten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driven by competitions and industrial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ugh why not conside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ortant r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ff: Engineering an Efficient SAT Solver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C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&gt;800 c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engineering is necessary to ma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C technique compet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3 itself could be considered “engineer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8080" indent="-26640">
              <a:spcBef>
                <a:spcPts val="400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3800" indent="-266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fundamentally hard; the pace of recent activity indicates we have plateau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has been significant advance in the last five years that has impacted practition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he current status of HMC is satisfa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0120" y="464652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12240" y="464328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9800" y="5829480"/>
            <a:ext cx="685800" cy="369720"/>
          </a:xfrm>
          <a:prstGeom prst="wedgeEllipseCallout">
            <a:avLst>
              <a:gd name="adj1" fmla="val -65277"/>
              <a:gd name="adj2" fmla="val -81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9560" y="6087960"/>
            <a:ext cx="3483000" cy="696960"/>
          </a:xfrm>
          <a:prstGeom prst="wedgeEllipseCallout">
            <a:avLst>
              <a:gd name="adj1" fmla="val -54601"/>
              <a:gd name="adj2" fmla="val -5250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 Capacity has scaled to a very useful level – though 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much more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Success should be Measured by Impa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solutely: almost everyone is using model checking today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major + some specialized CAD vendors license model chec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arge semiconductor houses continue internal invest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el checking algos have roles i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s, logic optimization, model-buil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valence che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ulation aids: eg coverage go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-purpose design tools: CDC, super-linters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has largely come about in the past 5-10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675"/>
              </a:spcBef>
              <a:spcAft>
                <a:spcPts val="675"/>
              </a:spcAft>
              <a:buSzPct val="1132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n’t just call everything that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esn’t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work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model checking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– Alan 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71520"/>
            <a:ext cx="9144000" cy="6110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080" y="604440"/>
            <a:ext cx="879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 Quick Trip down Memory Lane @ IBM… 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≈Paruthi FMCAD 2010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99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9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4280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55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8608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003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5760" y="2239920"/>
            <a:ext cx="11160" cy="639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760" y="1874880"/>
            <a:ext cx="1386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rly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50760" y="4824360"/>
            <a:ext cx="193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2800" y="4681440"/>
            <a:ext cx="400428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ed to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mall logi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~100s of regist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ually Intensive w/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expert FV us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quired setting up of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complex dr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905280" y="2940120"/>
            <a:ext cx="0" cy="581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1160" y="3494160"/>
            <a:ext cx="373608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vent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, scalable SEC, Parall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r logics verified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higher cove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ame “look and feel” as sim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 key to many newer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7760" y="22399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43160" y="1874880"/>
            <a:ext cx="1372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rn 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124680" y="2958840"/>
            <a:ext cx="0" cy="19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60360" y="4827600"/>
            <a:ext cx="2864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 scale FV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d approach / DL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ut-of-the-box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, capacity tools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0400" y="1508040"/>
            <a:ext cx="15264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Futur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47880" y="3429000"/>
            <a:ext cx="277776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void duplicat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Reusable methodologies / 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on, automation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y tuned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273640" y="1006560"/>
            <a:ext cx="91764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975440" y="1882800"/>
            <a:ext cx="1168560" cy="101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7924680" y="29275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28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342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680" y="5641920"/>
            <a:ext cx="393552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: Semi-forma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: Sequential Equivalence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LV: Designer-leve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80960" y="295596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182520" y="0"/>
            <a:ext cx="7769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2160" y="2354400"/>
            <a:ext cx="957240" cy="88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97120" y="1886040"/>
            <a:ext cx="1330560" cy="1038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120" y="2927520"/>
            <a:ext cx="762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5360" y="1508040"/>
            <a:ext cx="1434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ddle 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liferation of Model Check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" y="1433520"/>
            <a:ext cx="900576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challenges traditionally limited MC deploy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key facets have caused recent prolife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oosts in core proof techniques: transforms, SAT-based,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has scaled to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y usefu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though not necessari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ly 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mi-formal exten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least offer high bug-hunting power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enable broader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non-FV exper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aud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remains a specialist activity only on occasion, for do-or-die proof eff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usable specifications: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make it look like sim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-leverage designer specs; unified sim + FV specs + engine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method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02480" y="3454560"/>
            <a:ext cx="1474920" cy="14745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600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How can we give a fresh impetus to the area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7160" y="1198440"/>
            <a:ext cx="86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 progr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apacity: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HMC has definitely arriv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? In places it already has; probably not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FV is comparably critical (vs sim) to semiconductor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MC + SEC + Theorem Proving + STE + </a:t>
            </a: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specialized u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abled Moore’s law to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the HMC community in many w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ough capacity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remain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the biggest barrier to industrial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s contributions harde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good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miconductor industry is becoming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oo commodi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eat opportunities for improved automation + cost savings throughout 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fewer and fewer companies are funding resear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Our community needs another FDIV bug! - Robert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99280" y="3970440"/>
            <a:ext cx="424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7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23200" y="3740040"/>
            <a:ext cx="176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7781760" y="4913280"/>
            <a:ext cx="1175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600120"/>
            <a:ext cx="882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problem should a starting researcher consider?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6800" y="1120320"/>
            <a:ext cx="86472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major hindrance to wider industrial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b the best benchmarks you can + tons of coffee: it will 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which techniques work and which don’t –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the benchmarks: be creative about how to overcome 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y close to industrially-relevan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ity is the mother of 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still has needs; though cheaper with $ and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-weight automatic techniques to sol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probl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played by compe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ing onto decades-old benchmarks is a losing pro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nlikely to yield top-tier papers; meaningfu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16:07Z</dcterms:created>
  <dc:creator>HARIMONY</dc:creator>
  <dc:description/>
  <dc:language>en-US</dc:language>
  <cp:lastModifiedBy>Administrator</cp:lastModifiedBy>
  <dcterms:modified xsi:type="dcterms:W3CDTF">2011-11-01T15:15:32Z</dcterms:modified>
  <cp:revision>524</cp:revision>
  <dc:subject/>
  <dc:title>Scalable Automated Verification via Expert-System Guided Transformations</dc:title>
</cp:coreProperties>
</file>