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857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299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415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857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299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EAFD3-ED87-453B-9793-5022D07DCB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622A-7840-468A-B6A7-51534E7BB1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383F-CA8B-4051-AE3A-E347750967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A646-62B5-4E67-B5F1-127F5EEA9E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B10EB-18AA-4B5B-9601-1F1D32B5D5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4080" y="599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E597-4F51-46DA-84D3-E850F5252D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CE01-6049-4600-8D21-A8CFC6F67C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3481-FB4F-4E2A-AC86-D8FCE31058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4677F-1AB2-423D-ADD5-E24C6C7226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4654-C3F1-40D6-B4A8-9FA7D4C4C8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AC22-7671-48B6-BE45-A42F16F7FA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57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299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57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299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58AC-6BEA-4438-A455-5A825E7DCD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4080" y="599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57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299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415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857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299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54080" y="599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124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1440"/>
            <a:ext cx="9144000" cy="38124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light blue R204 | G204 | B255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1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-647640"/>
            <a:ext cx="560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8616960" y="6537240"/>
            <a:ext cx="450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6046-6654-41AC-93D0-CF3FEA33AB4F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346040"/>
            <a:ext cx="9144000" cy="424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Num" idx="1"/>
          </p:nvPr>
        </p:nvSpPr>
        <p:spPr>
          <a:xfrm>
            <a:off x="425520" y="650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335320" y="4203720"/>
            <a:ext cx="21592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sub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0pt Arial Regular,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590400" y="4343400"/>
            <a:ext cx="519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647640"/>
            <a:ext cx="554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Presentation Central on w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0" t="0" r="6654" b="0"/>
          <a:stretch/>
        </p:blipFill>
        <p:spPr>
          <a:xfrm>
            <a:off x="527040" y="369720"/>
            <a:ext cx="1255680" cy="501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4480" y="6276600"/>
            <a:ext cx="172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sp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FMCAD 201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9175320" y="4341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  <a:p>
            <a:pPr lvl="1" marL="457200" indent="7920" algn="ctr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7889f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7889fb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light blue R204 | G204 | B255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1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647640"/>
            <a:ext cx="560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138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616960" y="6537240"/>
            <a:ext cx="450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F201-F3BD-4FB6-8D47-1C9090EA7161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08080" y="4036680"/>
            <a:ext cx="734544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Jason Baumgartner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www.research.ibm.com/sixthsense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IBM Corpo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8840" y="2203560"/>
            <a:ext cx="86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dware Model Check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us, Challenges, and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59280" y="1125360"/>
            <a:ext cx="3384720" cy="1033560"/>
          </a:xfrm>
          <a:prstGeom prst="wedgeEllipseCallout">
            <a:avLst>
              <a:gd name="adj1" fmla="val -33069"/>
              <a:gd name="adj2" fmla="val 6674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NOT a solved problem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480" y="17136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5680080"/>
            <a:ext cx="9144000" cy="121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veat: no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uarante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pacity;1) some tiny problems are unsolvable! 2) includ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un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of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ery incomplete 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cumulative capacity trend leverages earlier innovations + SW enginee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re hasn’t been much progress or activity in the area of Hardware Model Checking lately” ??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see implementation-worthy improvements annually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71720" y="714240"/>
            <a:ext cx="5015160" cy="4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3660840" y="986040"/>
            <a:ext cx="423720" cy="267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D-Based Model Chec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2910960" y="1152000"/>
            <a:ext cx="423720" cy="279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-State Model Chec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4511160" y="1173960"/>
            <a:ext cx="423720" cy="22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ion-Refin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5347800" y="1063440"/>
            <a:ext cx="423720" cy="16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-Based BM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6509880" y="1164240"/>
            <a:ext cx="423720" cy="12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5911920" y="149760"/>
            <a:ext cx="423720" cy="25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-Based Ver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7155000" y="73800"/>
            <a:ext cx="423720" cy="188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ariant-Based I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080" y="383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odel Checking Capacity vs Tim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6556320" y="2805120"/>
            <a:ext cx="667080" cy="21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quival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ari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5671800" y="3263040"/>
            <a:ext cx="423720" cy="17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-Formal Ver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4237200" y="3704400"/>
            <a:ext cx="423720" cy="16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tioned BD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MC: A Waning Research Fie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1440" y="1332000"/>
            <a:ext cx="8872560" cy="57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"/>
          </a:bodyPr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a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jus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coming more sel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 a technology matures, harder to achieve a publishable resu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etitions drive well-tuned implementations: HWMCC, SAT, S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520" indent="-2520"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availability of relatively good benchmark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ch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improve upon a state-of-the-art so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upled with prevalent waning semiconductor research funding, fewer are working in this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ough still a strong pace of advanc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ew, the strong,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b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the HMC technology junkies)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6058080" y="1338120"/>
            <a:ext cx="9475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MC Advances are </a:t>
            </a:r>
            <a:r>
              <a:rPr b="0" i="1" lang="en-US" sz="2800" spc="-1" strike="noStrike">
                <a:solidFill>
                  <a:srgbClr val="7889fb"/>
                </a:solidFill>
                <a:latin typeface="Arial"/>
              </a:rPr>
              <a:t>Engineering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Mostl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1440" y="1332000"/>
            <a:ext cx="8872560" cy="57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0"/>
          </a:bodyPr>
          <a:p>
            <a:pPr marL="34200" indent="-342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 some exten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driven by competitions and industrial nee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ugh why not conside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ortant resear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ff: Engineering an Efficient SAT Solver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C 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&gt;800 ci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engineering is necessary to ma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C technique compet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3 itself could be considered “engineer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8080" indent="-26640">
              <a:spcBef>
                <a:spcPts val="400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3800" indent="-266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01"/>
              </a:spcBef>
              <a:spcAft>
                <a:spcPts val="601"/>
              </a:spcAft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problem is fundamentally hard; the pace of recent activity indicates we have plateau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01"/>
              </a:spcBef>
              <a:spcAft>
                <a:spcPts val="601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has been significant advance in the last five years that has impacted practition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he current status of HMC is satisfa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0120" y="4646520"/>
            <a:ext cx="685800" cy="370080"/>
          </a:xfrm>
          <a:prstGeom prst="wedgeEllipseCallout">
            <a:avLst>
              <a:gd name="adj1" fmla="val -43055"/>
              <a:gd name="adj2" fmla="val 774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12240" y="4643280"/>
            <a:ext cx="685800" cy="370080"/>
          </a:xfrm>
          <a:prstGeom prst="wedgeEllipseCallout">
            <a:avLst>
              <a:gd name="adj1" fmla="val -43055"/>
              <a:gd name="adj2" fmla="val 774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9800" y="5829480"/>
            <a:ext cx="685800" cy="369720"/>
          </a:xfrm>
          <a:prstGeom prst="wedgeEllipseCallout">
            <a:avLst>
              <a:gd name="adj1" fmla="val -65277"/>
              <a:gd name="adj2" fmla="val -81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19560" y="6087960"/>
            <a:ext cx="3483000" cy="696960"/>
          </a:xfrm>
          <a:prstGeom prst="wedgeEllipseCallout">
            <a:avLst>
              <a:gd name="adj1" fmla="val -54601"/>
              <a:gd name="adj2" fmla="val -5250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! Capacity has scaled to a very useful level – though </a:t>
            </a: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much more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MC Success should be Measured by Impa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1440" y="1332000"/>
            <a:ext cx="8872560" cy="57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"/>
          </a:bodyPr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bsolutely: almost everyone is using model checking today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l major + some specialized CAD vendors license model chec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arge semiconductor houses continue internal invest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el checking algos have roles i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thesis, logic optimization, model-buil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valence chec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ulation aids: eg coverage go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al-purpose design tools: CDC, super-linters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s has largely come about in the past 5-10 ye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675"/>
              </a:spcBef>
              <a:spcAft>
                <a:spcPts val="675"/>
              </a:spcAft>
              <a:buSzPct val="1132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Don’t just call everything that </a:t>
            </a:r>
            <a:r>
              <a:rPr b="0" i="1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doesn’t</a:t>
            </a:r>
            <a:r>
              <a:rPr b="0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work</a:t>
            </a:r>
            <a:r>
              <a:rPr b="0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 model checking 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  <a:ea typeface="Arial"/>
              </a:rPr>
              <a:t>– Alan 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71520"/>
            <a:ext cx="9144000" cy="6110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080" y="604440"/>
            <a:ext cx="879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 Quick Trip down Memory Lane @ IBM… </a:t>
            </a: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≈Paruthi FMCAD 2010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0992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980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4280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556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8608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0036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5760" y="2239920"/>
            <a:ext cx="11160" cy="639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2760" y="1874880"/>
            <a:ext cx="13863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arly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50760" y="4824360"/>
            <a:ext cx="193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2800" y="4681440"/>
            <a:ext cx="4004280" cy="82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lied to </a:t>
            </a: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small logi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(~100s of regist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ually Intensive w/ </a:t>
            </a: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expert FV us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quired setting up of </a:t>
            </a: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complex dri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905280" y="2940120"/>
            <a:ext cx="0" cy="581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1160" y="3494160"/>
            <a:ext cx="373608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vent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F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, scalable SEC, Parall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Larger logics verified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; higher cove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Same “look and feel” as sim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C key to many newer method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7760" y="22399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43160" y="1874880"/>
            <a:ext cx="1372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rn 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124680" y="2958840"/>
            <a:ext cx="0" cy="19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60360" y="4827600"/>
            <a:ext cx="286452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Large scale FV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grated approach / DL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ut-of-the-box method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, capacity tools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80400" y="1508040"/>
            <a:ext cx="15264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Futur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47880" y="3429000"/>
            <a:ext cx="277776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void duplicate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Reusable methodologies / 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utomation, automation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y tuned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273640" y="1006560"/>
            <a:ext cx="917640" cy="860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975440" y="1882800"/>
            <a:ext cx="1168560" cy="1012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7924680" y="292752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52840" y="1898640"/>
            <a:ext cx="0" cy="981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34240" y="1898640"/>
            <a:ext cx="0" cy="981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680" y="5641920"/>
            <a:ext cx="3935520" cy="82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FV: Semi-formal ver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C: Sequential Equivalence Chec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LV: Designer-level Ver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380960" y="295596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182520" y="0"/>
            <a:ext cx="7769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BM Systems and Technology Grou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92160" y="2354400"/>
            <a:ext cx="957240" cy="884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597120" y="1886040"/>
            <a:ext cx="1330560" cy="1038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62120" y="2927520"/>
            <a:ext cx="762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35360" y="1508040"/>
            <a:ext cx="1434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ddle 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liferation of Model Check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8240" y="1433520"/>
            <a:ext cx="9005760" cy="6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"/>
          </a:bodyPr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challenges traditionally limited MC deploy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key facets have caused recent prolife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boosts in core proof techniques: transforms, SAT-based,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C has scaled to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y useful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though not necessari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ly 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mi-formal extens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 least offer high bug-hunting power;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enable broader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non-FV exper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aud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C remains a specialist activity only on occasion, for do-or-die proof eff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usable specifications: </a:t>
            </a:r>
            <a:r>
              <a:rPr b="1" i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make it look like sim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oss-leverage designer specs; unified sim + FV specs + engine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method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602480" y="3454560"/>
            <a:ext cx="1474920" cy="14745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600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How can we give a fresh impetus to the area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7160" y="1198440"/>
            <a:ext cx="86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at progr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apacity: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HMC has definitely arriv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? In places it already has; probably not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87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"/>
              </a:rPr>
              <a:t>FV is comparably critical (vs sim) to semiconductor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HMC + SEC + Theorem Proving + STE + </a:t>
            </a:r>
            <a:r>
              <a:rPr b="0" i="1" lang="en-US" sz="1900" spc="-1" strike="noStrike">
                <a:solidFill>
                  <a:srgbClr val="0000ff"/>
                </a:solidFill>
                <a:latin typeface="Arial"/>
              </a:rPr>
              <a:t>specialized u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87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abled Moore’s law to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the HMC community in many way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ough capacity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remains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the biggest barrier to industrial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u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es contributions harder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good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miconductor industry is becoming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oo commodit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eat opportunities for improved automation + cost savings throughout 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gh fewer and fewer companies are funding resear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Our community needs another FDIV bug! - Robert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99280" y="3970440"/>
            <a:ext cx="424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7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23200" y="3740040"/>
            <a:ext cx="17640" cy="9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7781760" y="4913280"/>
            <a:ext cx="1175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600120"/>
            <a:ext cx="882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problem should a starting researcher consider?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6800" y="1120320"/>
            <a:ext cx="86472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ma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major hindrance to wider industrial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b the best benchmarks you can + tons of coffee: it will b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which techniques work and which don’t –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the benchmarks: be creative about how to overcome shortcom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y close to industrially-relevant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ity is the mother of i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 still has needs; though cheaper with $ and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-weight automatic techniques to sol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probl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played by compe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ing onto decades-old benchmarks is a losing pro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unlikely to yield top-tier papers; meaningful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6:16:07Z</dcterms:created>
  <dc:creator>HARIMONY</dc:creator>
  <dc:description/>
  <dc:language>en-US</dc:language>
  <cp:lastModifiedBy>Administrator</cp:lastModifiedBy>
  <dcterms:modified xsi:type="dcterms:W3CDTF">2011-11-01T15:15:32Z</dcterms:modified>
  <cp:revision>524</cp:revision>
  <dc:subject/>
  <dc:title>Scalable Automated Verification via Expert-System Guided Transformations</dc:title>
</cp:coreProperties>
</file>