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857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299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415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857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299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C73C-BAFD-4C30-AB85-B60747610B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74004-6046-4A88-B3D9-998489A21D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D1A4-C2E1-43C6-A919-8B2B877A43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AD7F-387D-4F6E-B612-C0E9B19398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6870F-39DD-482A-8954-2936DF5EAB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54080" y="599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2D1C-00D4-4DF7-99C3-9480600968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4CC4-966C-4B58-98A1-469BF0FA1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0228-0039-4335-96FB-7DAFC592BD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0A08D-5E13-4BC9-AB33-F34E74A856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4159-74E1-4D72-AF5D-9E15182746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B0CF-D21D-4949-B66B-6757A30874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857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299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15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857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299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2955-790F-43B1-A1F0-DDFF887B4D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54080" y="599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857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929920" y="143352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415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857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929920" y="3650760"/>
            <a:ext cx="251784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54080" y="599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48680" y="365076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4152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48680" y="1433520"/>
            <a:ext cx="381600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1520" y="3650760"/>
            <a:ext cx="7819920" cy="20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124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1440"/>
            <a:ext cx="9144000" cy="38124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light blue R204 | G204 | B255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1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-647640"/>
            <a:ext cx="560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8616960" y="6537240"/>
            <a:ext cx="450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7A75-C7FD-4295-BA7B-5E70DF882AD7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346040"/>
            <a:ext cx="9144000" cy="424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Num" idx="1"/>
          </p:nvPr>
        </p:nvSpPr>
        <p:spPr>
          <a:xfrm>
            <a:off x="425520" y="6505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335320" y="4203720"/>
            <a:ext cx="215928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sub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0pt Arial Regular,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590400" y="4343400"/>
            <a:ext cx="5191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-647640"/>
            <a:ext cx="554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Presentation Central on w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0" t="0" r="6654" b="0"/>
          <a:stretch/>
        </p:blipFill>
        <p:spPr>
          <a:xfrm>
            <a:off x="527040" y="369720"/>
            <a:ext cx="1255680" cy="501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44480" y="6276600"/>
            <a:ext cx="172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spAutoFit/>
          </a:bodyPr>
          <a:p>
            <a:pPr marL="343080" indent="-3430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FMCAD 201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862280" y="1362240"/>
            <a:ext cx="0" cy="32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9175320" y="4341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  <a:p>
            <a:pPr lvl="1" marL="457200" indent="7920" algn="ctr">
              <a:spcBef>
                <a:spcPts val="437"/>
              </a:spcBef>
              <a:spcAft>
                <a:spcPts val="26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7889fb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7889fb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41520" y="1433520"/>
            <a:ext cx="781992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75"/>
              </a:spcBef>
              <a:spcAft>
                <a:spcPts val="675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28pt Arial Regular, light blue R204 | G204 | B255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d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18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green R223 | G255 | B10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ff66"/>
                </a:solidFill>
                <a:latin typeface="Arial"/>
                <a:ea typeface="Arial"/>
              </a:rPr>
              <a:t>Indications in green = Live conten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-647640"/>
            <a:ext cx="56055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138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8616960" y="6537240"/>
            <a:ext cx="450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F196-3521-4EE2-9FE0-66C97EB306B2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108080" y="4036680"/>
            <a:ext cx="7345440" cy="138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Jason Baumgartner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www.research.ibm.com/sixthsense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IBM Corpo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8840" y="2203560"/>
            <a:ext cx="86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dware Model Check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tus, Challenges, and Opport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59280" y="1125360"/>
            <a:ext cx="3384720" cy="1033560"/>
          </a:xfrm>
          <a:prstGeom prst="wedgeEllipseCallout">
            <a:avLst>
              <a:gd name="adj1" fmla="val -33069"/>
              <a:gd name="adj2" fmla="val 6674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NOT a solved problem!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0480" y="171360"/>
            <a:ext cx="9144000" cy="6272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5680080"/>
            <a:ext cx="9144000" cy="121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veat: no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uarante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pacity;1) some tiny problems are unsolvable! 2) includ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ound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of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Very incomplete li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cumulative capacity trend leverages earlier innovations + SW engineer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re hasn’t been much progress or activity in the area of Hardware Model Checking lately” ??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see implementation-worthy improvements annually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71720" y="714240"/>
            <a:ext cx="5015160" cy="4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0800000">
            <a:off x="3660840" y="986040"/>
            <a:ext cx="423720" cy="267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D-Based Model Chec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2910960" y="1152000"/>
            <a:ext cx="423720" cy="279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icit-State Model Chec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4511160" y="1173960"/>
            <a:ext cx="423720" cy="221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straction-Refin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5347800" y="1063440"/>
            <a:ext cx="423720" cy="16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-Based BM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6509880" y="1164240"/>
            <a:ext cx="423720" cy="121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5911920" y="149760"/>
            <a:ext cx="423720" cy="25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ation-Based Ver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7155000" y="73800"/>
            <a:ext cx="423720" cy="188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ariant-Based I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4080" y="383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odel Checking Capacity vs Tim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6556320" y="2805120"/>
            <a:ext cx="667080" cy="21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bl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quival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ari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10800000">
            <a:off x="5671800" y="3263040"/>
            <a:ext cx="423720" cy="17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mi-Formal Ver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800000">
            <a:off x="4237200" y="3704400"/>
            <a:ext cx="423720" cy="165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tioned BD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MC: A Waning Research Fie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1440" y="1332000"/>
            <a:ext cx="8872560" cy="57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"/>
          </a:bodyPr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a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jus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becoming more sele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 a technology matures, harder to achieve a publishable resu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etitions drive well-tuned implementations: HWMCC, SAT, SM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520" indent="-2520"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availability of relatively good benchmark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ch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 improve upon a state-of-the-art so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upled with prevalent waning semiconductor research funding, fewer are working in this spa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ough still a strong pace of advanc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0" indent="-252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ew, the strong,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bl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the HMC technology junkies)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" indent="-3240"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6058080" y="1338120"/>
            <a:ext cx="9475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MC Advances are </a:t>
            </a:r>
            <a:r>
              <a:rPr b="0" i="1" lang="en-US" sz="2800" spc="-1" strike="noStrike">
                <a:solidFill>
                  <a:srgbClr val="7889fb"/>
                </a:solidFill>
                <a:latin typeface="Arial"/>
              </a:rPr>
              <a:t>Engineering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Mostl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1440" y="1332000"/>
            <a:ext cx="8872560" cy="57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0000"/>
          </a:bodyPr>
          <a:p>
            <a:pPr marL="34200" indent="-342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o some extent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driven by competitions and industrial nee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ugh why not conside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ngineer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ortant resear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ff: Engineering an Efficient SAT Solver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C 20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&gt;&gt;800 ci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engineering is necessary to ma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C technique compet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880" indent="-2844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C3 itself could be considered “engineering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8080" indent="-26640">
              <a:spcBef>
                <a:spcPts val="400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3800" indent="-266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01"/>
              </a:spcBef>
              <a:spcAft>
                <a:spcPts val="601"/>
              </a:spcAft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problem is fundamentally hard; the pace of recent activity indicates we have plateau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01"/>
              </a:spcBef>
              <a:spcAft>
                <a:spcPts val="601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has been significant advance in the last five years that has impacted practition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Arial"/>
              </a:rPr>
              <a:t>The current status of HMC is satisfac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00" indent="-34200">
              <a:spcBef>
                <a:spcPts val="675"/>
              </a:spcBef>
              <a:spcAft>
                <a:spcPts val="675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70120" y="4646520"/>
            <a:ext cx="685800" cy="370080"/>
          </a:xfrm>
          <a:prstGeom prst="wedgeEllipseCallout">
            <a:avLst>
              <a:gd name="adj1" fmla="val -43055"/>
              <a:gd name="adj2" fmla="val 774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12240" y="4643280"/>
            <a:ext cx="685800" cy="370080"/>
          </a:xfrm>
          <a:prstGeom prst="wedgeEllipseCallout">
            <a:avLst>
              <a:gd name="adj1" fmla="val -43055"/>
              <a:gd name="adj2" fmla="val 774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9800" y="5829480"/>
            <a:ext cx="685800" cy="369720"/>
          </a:xfrm>
          <a:prstGeom prst="wedgeEllipseCallout">
            <a:avLst>
              <a:gd name="adj1" fmla="val -65277"/>
              <a:gd name="adj2" fmla="val -8175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Y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119560" y="6087960"/>
            <a:ext cx="3483000" cy="696960"/>
          </a:xfrm>
          <a:prstGeom prst="wedgeEllipseCallout">
            <a:avLst>
              <a:gd name="adj1" fmla="val -54601"/>
              <a:gd name="adj2" fmla="val -52504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No! Capacity has scaled to a very useful level – though </a:t>
            </a: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much more is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MC Success should be Measured by Impa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1440" y="1332000"/>
            <a:ext cx="8872560" cy="573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"/>
          </a:bodyPr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bsolutely: almost everyone is using model checking today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ll major + some specialized CAD vendors license model check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arge semiconductor houses continue internal invest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del checking algos have roles i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thesis, logic optimization, model-buil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quivalence chec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ulation aids: eg coverage goal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624"/>
              </a:spcBef>
              <a:spcAft>
                <a:spcPts val="374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al-purpose design tools: CDC, super-linters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320" indent="-2556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s has largely come about in the past 5-10 ye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0600" indent="-30600">
              <a:spcBef>
                <a:spcPts val="675"/>
              </a:spcBef>
              <a:spcAft>
                <a:spcPts val="675"/>
              </a:spcAft>
              <a:buSzPct val="1132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Don’t just call everything that </a:t>
            </a:r>
            <a:r>
              <a:rPr b="0" i="1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doesn’t</a:t>
            </a:r>
            <a:r>
              <a:rPr b="0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work</a:t>
            </a:r>
            <a:r>
              <a:rPr b="0" lang="en-US" sz="2200" spc="-1" strike="noStrike">
                <a:solidFill>
                  <a:srgbClr val="6600ff"/>
                </a:solidFill>
                <a:latin typeface="Arial"/>
                <a:ea typeface="Arial"/>
              </a:rPr>
              <a:t> model checking </a:t>
            </a:r>
            <a:r>
              <a:rPr b="0" lang="en-US" sz="1800" spc="-1" strike="noStrike">
                <a:solidFill>
                  <a:srgbClr val="6600ff"/>
                </a:solidFill>
                <a:latin typeface="Arial"/>
                <a:ea typeface="Arial"/>
              </a:rPr>
              <a:t>– Alan H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71520"/>
            <a:ext cx="9144000" cy="61102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080" y="604440"/>
            <a:ext cx="879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A Quick Trip down Memory Lane @ IBM… </a:t>
            </a: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≈Paruthi FMCAD 2010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0992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1980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43800" y="2870280"/>
            <a:ext cx="0" cy="114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4280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8556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8608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00360" y="2960640"/>
            <a:ext cx="6865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85760" y="2239920"/>
            <a:ext cx="11160" cy="639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2760" y="1874880"/>
            <a:ext cx="13863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arly Ti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50760" y="4824360"/>
            <a:ext cx="19368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2800" y="4681440"/>
            <a:ext cx="4004280" cy="82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lied to </a:t>
            </a: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small logic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(~100s of register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ually Intensive w/ </a:t>
            </a: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expert FV us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quired setting up of </a:t>
            </a: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complex dri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905280" y="2940120"/>
            <a:ext cx="0" cy="581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61160" y="3494160"/>
            <a:ext cx="373608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dvent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F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, scalable SEC, Parall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Larger logics verified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; higher cove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Same “look and feel” as simul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C key to many newer method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657760" y="223992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43160" y="1874880"/>
            <a:ext cx="137232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rn 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124680" y="2958840"/>
            <a:ext cx="0" cy="1933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860360" y="4827600"/>
            <a:ext cx="286452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Large scale FV appl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grated approach / DL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ut-of-the-box method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igh speed, capacity tools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980400" y="1508040"/>
            <a:ext cx="15264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e Futur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47880" y="3429000"/>
            <a:ext cx="277776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void duplicate wor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dfff66"/>
                </a:solidFill>
                <a:latin typeface="Arial"/>
                <a:ea typeface="Arial"/>
              </a:rPr>
              <a:t>Reusable methodologies / 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utomation, automation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ay tuned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273640" y="1006560"/>
            <a:ext cx="917640" cy="8604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975440" y="1882800"/>
            <a:ext cx="1168560" cy="1012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7924680" y="292752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52840" y="1898640"/>
            <a:ext cx="0" cy="981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34240" y="1898640"/>
            <a:ext cx="0" cy="981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680" y="5641920"/>
            <a:ext cx="3935520" cy="82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FV: Semi-formal ver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C: Sequential Equivalence Check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LV: Designer-level Ver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380960" y="295596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6"/>
          <p:cNvSpPr/>
          <p:nvPr/>
        </p:nvSpPr>
        <p:spPr>
          <a:xfrm>
            <a:off x="182520" y="0"/>
            <a:ext cx="7769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BM Systems and Technology Grou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92160" y="2354400"/>
            <a:ext cx="957240" cy="884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597120" y="1886040"/>
            <a:ext cx="1330560" cy="10382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62120" y="2927520"/>
            <a:ext cx="762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35360" y="1508040"/>
            <a:ext cx="143496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ddle 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4080" y="599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liferation of Model Check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8240" y="1433520"/>
            <a:ext cx="9005760" cy="63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"/>
          </a:bodyPr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challenges traditionally limited MC deploy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veral key facets have caused recent prolifer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y boosts in core proof techniques: transforms, SAT-based,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C has scaled to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y useful lev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though not necessari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ly 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mi-formal extens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t least offer high bug-hunting power;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enable broader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non-FV expert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aud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C remains a specialist activity only on occasion, for do-or-die proof eff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Reusable specifications: </a:t>
            </a:r>
            <a:r>
              <a:rPr b="1" i="1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make it look like sim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9760" indent="-2268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ross-leverage designer specs; unified sim + FV specs + engine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360" indent="-27360">
              <a:lnSpc>
                <a:spcPct val="90000"/>
              </a:lnSpc>
              <a:spcBef>
                <a:spcPts val="825"/>
              </a:spcBef>
              <a:spcAft>
                <a:spcPts val="825"/>
              </a:spcAft>
              <a:buClr>
                <a:srgbClr val="000000"/>
              </a:buClr>
              <a:buSzPct val="11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d method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602480" y="3454560"/>
            <a:ext cx="1474920" cy="14745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6001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How can we give a fresh impetus to the area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7160" y="1198440"/>
            <a:ext cx="86025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at progres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apacity: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HMC has definitely arriv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? In places it already has; probably not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87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ff"/>
                </a:solidFill>
                <a:latin typeface="Arial"/>
              </a:rPr>
              <a:t>FV is comparably critical (vs sim) to semiconductor indust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HMC + SEC + Theorem Proving + STE + </a:t>
            </a:r>
            <a:r>
              <a:rPr b="0" i="1" lang="en-US" sz="1900" spc="-1" strike="noStrike">
                <a:solidFill>
                  <a:srgbClr val="0000ff"/>
                </a:solidFill>
                <a:latin typeface="Arial"/>
              </a:rPr>
              <a:t>specialized u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87"/>
              </a:spcBef>
              <a:spcAft>
                <a:spcPts val="3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abled Moore’s law to </a:t>
            </a: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the HMC community in many way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hough capacity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remains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the biggest barrier to industrial ad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u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es contributions harder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good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emiconductor industry is becoming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too commodit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eat opportunities for improved automation + cost savings throughout 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gh fewer and fewer companies are funding researc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Our community needs another FDIV bug! - Robert J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99280" y="3970440"/>
            <a:ext cx="424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7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23200" y="3740040"/>
            <a:ext cx="17640" cy="9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7781760" y="4913280"/>
            <a:ext cx="11750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600120"/>
            <a:ext cx="882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problem should a starting researcher consider?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6800" y="1120320"/>
            <a:ext cx="8647200" cy="535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t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ma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major hindrance to wider industrial ad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b the best benchmarks you can + tons of coffee: it will b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which techniques work and which don’t –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y the benchmarks: be creative about how to overcome shortcom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y close to industrially-relevant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ity is the mother of i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y still has needs; though cheaper with $ and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vy-weight automatic techniques to solv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probl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alu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7889f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played by compe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751"/>
              </a:spcAft>
              <a:buSzPct val="10178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ing onto decades-old benchmarks is a losing pro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unlikely to yield top-tier papers; meaningful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6:16:07Z</dcterms:created>
  <dc:creator>HARIMONY</dc:creator>
  <dc:description/>
  <dc:language>en-US</dc:language>
  <cp:lastModifiedBy>Administrator</cp:lastModifiedBy>
  <dcterms:modified xsi:type="dcterms:W3CDTF">2011-11-01T15:15:32Z</dcterms:modified>
  <cp:revision>524</cp:revision>
  <dc:subject/>
  <dc:title>Scalable Automated Verification via Expert-System Guided Transformations</dc:title>
</cp:coreProperties>
</file>