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522413" cy="1144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FEBC-E28F-47E5-A0F1-7FF4F914D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12952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14480" y="687960"/>
            <a:ext cx="12952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2D1B-3CBB-41EB-943A-1861D156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78320" y="3297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4480" y="6879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778320" y="6879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8F50-596E-42B6-8E84-D84457D2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4168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52600" y="329760"/>
            <a:ext cx="4168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990720" y="329760"/>
            <a:ext cx="4168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14480" y="687960"/>
            <a:ext cx="4168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552600" y="687960"/>
            <a:ext cx="4168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990720" y="687960"/>
            <a:ext cx="4168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1387-8273-4BC8-ACD0-B6B2D09E4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14480" y="329760"/>
            <a:ext cx="12952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"/>
              </a:spcBef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B430-D83C-4DC7-A0C0-C6195385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1295280" cy="685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09E4-CAEF-466F-9F80-FB068D6EE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631800" cy="685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778320" y="329760"/>
            <a:ext cx="631800" cy="685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6258-3915-4969-A0F7-916F12778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1FCF-A46D-4524-A304-D5B4B9969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480" y="101160"/>
            <a:ext cx="1295280" cy="88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"/>
              </a:spcBef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4F57-FAFD-4064-90CF-40FDB17A8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778320" y="329760"/>
            <a:ext cx="631800" cy="685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14480" y="6879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E370-E1EE-44D6-B974-7619FF23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631800" cy="685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778320" y="3297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78320" y="6879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B812-01C8-4DE0-A2E0-208EEAD8D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4480" y="3297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778320" y="329760"/>
            <a:ext cx="63180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4480" y="687960"/>
            <a:ext cx="1295280" cy="32688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indent="0">
              <a:spcBef>
                <a:spcPts val="125"/>
              </a:spcBef>
              <a:buNone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2911-C441-4441-BA55-D734A6B6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480" y="101160"/>
            <a:ext cx="1295280" cy="19044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ctr">
            <a:noAutofit/>
          </a:bodyPr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480" y="329760"/>
            <a:ext cx="1295280" cy="68580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rmAutofit/>
          </a:bodyPr>
          <a:p>
            <a:pPr marL="57240" indent="-5724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1" marL="123840" indent="-47520"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2" marL="190440" indent="-38160">
              <a:spcBef>
                <a:spcPts val="125"/>
              </a:spcBef>
              <a:buClr>
                <a:srgbClr val="000000"/>
              </a:buClr>
              <a:buFont typeface="Times New Roman"/>
              <a:buChar char="•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3" marL="266760" indent="-38160">
              <a:spcBef>
                <a:spcPts val="125"/>
              </a:spcBef>
              <a:buClr>
                <a:srgbClr val="000000"/>
              </a:buClr>
              <a:buFont typeface="Times New Roman"/>
              <a:buChar char="–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8160">
              <a:spcBef>
                <a:spcPts val="125"/>
              </a:spcBef>
              <a:buClr>
                <a:srgbClr val="000000"/>
              </a:buClr>
              <a:buFont typeface="Times New Roman"/>
              <a:buChar char="»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8160">
              <a:spcBef>
                <a:spcPts val="125"/>
              </a:spcBef>
              <a:buClr>
                <a:srgbClr val="000000"/>
              </a:buClr>
              <a:buFont typeface="Times New Roman"/>
              <a:buChar char="»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8160">
              <a:spcBef>
                <a:spcPts val="125"/>
              </a:spcBef>
              <a:buClr>
                <a:srgbClr val="000000"/>
              </a:buClr>
              <a:buFont typeface="Times New Roman"/>
              <a:buChar char="»"/>
              <a:tabLst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4120" y="1041120"/>
            <a:ext cx="317160" cy="759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Autofit/>
          </a:bodyPr>
          <a:lstStyle>
            <a:lvl1pPr indent="0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20200" y="1041120"/>
            <a:ext cx="482760" cy="759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Autofit/>
          </a:bodyPr>
          <a:lstStyle>
            <a:lvl1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92240" y="1041120"/>
            <a:ext cx="317520" cy="75960"/>
          </a:xfrm>
          <a:prstGeom prst="rect">
            <a:avLst/>
          </a:prstGeom>
          <a:noFill/>
          <a:ln w="0">
            <a:noFill/>
          </a:ln>
        </p:spPr>
        <p:txBody>
          <a:bodyPr lIns="15120" rIns="15120" tIns="7560" bIns="7560" anchor="t">
            <a:noAutofit/>
          </a:bodyPr>
          <a:lstStyle>
            <a:lvl1pPr indent="0" algn="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  <a:defRPr b="0" lang="en-US" sz="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52280"/>
                <a:tab algn="l" pos="304920"/>
                <a:tab algn="l" pos="457200"/>
                <a:tab algn="l" pos="609480"/>
                <a:tab algn="l" pos="762120"/>
                <a:tab algn="l" pos="914400"/>
                <a:tab algn="l" pos="1066680"/>
                <a:tab algn="l" pos="1219320"/>
                <a:tab algn="l" pos="1371600"/>
                <a:tab algn="l" pos="1523880"/>
                <a:tab algn="l" pos="1676520"/>
                <a:tab algn="l" pos="1828800"/>
                <a:tab algn="l" pos="1981080"/>
                <a:tab algn="l" pos="2133720"/>
                <a:tab algn="l" pos="2286000"/>
                <a:tab algn="l" pos="2438280"/>
                <a:tab algn="l" pos="2590920"/>
                <a:tab algn="l" pos="2743200"/>
                <a:tab algn="l" pos="2895480"/>
                <a:tab algn="l" pos="3048120"/>
              </a:tabLst>
            </a:pPr>
            <a:fld id="{7CCD2AD4-ED92-4099-8E78-58059E44D969}" type="slidenum">
              <a:rPr b="0" lang="en-US" sz="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523880" cy="1143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b" descr=""/>
          <p:cNvPicPr/>
          <p:nvPr/>
        </p:nvPicPr>
        <p:blipFill>
          <a:blip r:embed="rId2"/>
          <a:srcRect l="0" t="0" r="32959" b="0"/>
          <a:stretch/>
        </p:blipFill>
        <p:spPr>
          <a:xfrm>
            <a:off x="165240" y="101520"/>
            <a:ext cx="1191960" cy="9399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07000" y="152280"/>
            <a:ext cx="1095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434385"/>
                </a:solidFill>
                <a:latin typeface="Tahoma"/>
              </a:rPr>
              <a:t>JARP     </a:t>
            </a:r>
            <a:r>
              <a:rPr b="1" lang="pt-BR" sz="1000" spc="-1" strike="noStrike">
                <a:solidFill>
                  <a:srgbClr val="434385"/>
                </a:solidFill>
                <a:latin typeface="Tahoma"/>
              </a:rPr>
              <a:t>1.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1523880" cy="76320"/>
          </a:xfrm>
          <a:prstGeom prst="rect">
            <a:avLst/>
          </a:prstGeom>
          <a:gradFill rotWithShape="0">
            <a:gsLst>
              <a:gs pos="0">
                <a:srgbClr val="9999cc"/>
              </a:gs>
              <a:gs pos="100000">
                <a:srgbClr val="3c3c5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0400" y="914400"/>
            <a:ext cx="703440" cy="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" spc="-1" strike="noStrike">
                <a:solidFill>
                  <a:srgbClr val="000000"/>
                </a:solidFill>
                <a:latin typeface="Century Gothic"/>
              </a:rPr>
              <a:t>http://jarp.sourceforge.net/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57840" y="609480"/>
            <a:ext cx="8067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800" spc="-1" strike="noStrike">
                <a:solidFill>
                  <a:srgbClr val="5f5f5f"/>
                </a:solidFill>
                <a:latin typeface="Times New Roman"/>
              </a:rPr>
              <a:t>Petri Nets Analyze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1068480"/>
            <a:ext cx="1523880" cy="74520"/>
          </a:xfrm>
          <a:prstGeom prst="rect">
            <a:avLst/>
          </a:prstGeom>
          <a:gradFill rotWithShape="0">
            <a:gsLst>
              <a:gs pos="0">
                <a:srgbClr val="3c3c51"/>
              </a:gs>
              <a:gs pos="100000">
                <a:srgbClr val="9999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15238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2T13:29:15Z</dcterms:created>
  <dc:creator>Padilha</dc:creator>
  <dc:description/>
  <dc:language>en-US</dc:language>
  <cp:lastModifiedBy>Padilha</cp:lastModifiedBy>
  <dcterms:modified xsi:type="dcterms:W3CDTF">2001-03-26T22:33:05Z</dcterms:modified>
  <cp:revision>4</cp:revision>
  <dc:subject/>
  <dc:title>Apresentação do PowerPoint</dc:title>
</cp:coreProperties>
</file>