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1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  <p:sldId id="300" r:id="rId69"/>
    <p:sldId id="301" r:id="rId70"/>
    <p:sldId id="302" r:id="rId71"/>
    <p:sldId id="303" r:id="rId72"/>
    <p:sldId id="304" r:id="rId73"/>
    <p:sldId id="305" r:id="rId74"/>
    <p:sldId id="306" r:id="rId75"/>
    <p:sldId id="307" r:id="rId76"/>
    <p:sldId id="308" r:id="rId77"/>
    <p:sldId id="309" r:id="rId78"/>
    <p:sldId id="310" r:id="rId79"/>
    <p:sldId id="311" r:id="rId80"/>
    <p:sldId id="312" r:id="rId81"/>
    <p:sldId id="313" r:id="rId82"/>
    <p:sldId id="314" r:id="rId83"/>
    <p:sldId id="315" r:id="rId84"/>
    <p:sldId id="316" r:id="rId85"/>
    <p:sldId id="317" r:id="rId86"/>
    <p:sldId id="318" r:id="rId87"/>
    <p:sldId id="319" r:id="rId88"/>
    <p:sldId id="320" r:id="rId89"/>
    <p:sldId id="321" r:id="rId90"/>
    <p:sldId id="322" r:id="rId91"/>
    <p:sldId id="323" r:id="rId92"/>
    <p:sldId id="324" r:id="rId93"/>
    <p:sldId id="325" r:id="rId94"/>
    <p:sldId id="326" r:id="rId95"/>
    <p:sldId id="327" r:id="rId96"/>
    <p:sldId id="328" r:id="rId97"/>
    <p:sldId id="329" r:id="rId98"/>
    <p:sldId id="330" r:id="rId99"/>
    <p:sldId id="331" r:id="rId100"/>
    <p:sldId id="332" r:id="rId101"/>
    <p:sldId id="333" r:id="rId10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slide" Target="slides/slide45.xml"/><Relationship Id="rId70" Type="http://schemas.openxmlformats.org/officeDocument/2006/relationships/slide" Target="slides/slide46.xml"/><Relationship Id="rId71" Type="http://schemas.openxmlformats.org/officeDocument/2006/relationships/slide" Target="slides/slide47.xml"/><Relationship Id="rId72" Type="http://schemas.openxmlformats.org/officeDocument/2006/relationships/slide" Target="slides/slide48.xml"/><Relationship Id="rId73" Type="http://schemas.openxmlformats.org/officeDocument/2006/relationships/slide" Target="slides/slide49.xml"/><Relationship Id="rId74" Type="http://schemas.openxmlformats.org/officeDocument/2006/relationships/slide" Target="slides/slide50.xml"/><Relationship Id="rId75" Type="http://schemas.openxmlformats.org/officeDocument/2006/relationships/slide" Target="slides/slide51.xml"/><Relationship Id="rId76" Type="http://schemas.openxmlformats.org/officeDocument/2006/relationships/slide" Target="slides/slide52.xml"/><Relationship Id="rId77" Type="http://schemas.openxmlformats.org/officeDocument/2006/relationships/slide" Target="slides/slide53.xml"/><Relationship Id="rId78" Type="http://schemas.openxmlformats.org/officeDocument/2006/relationships/slide" Target="slides/slide54.xml"/><Relationship Id="rId79" Type="http://schemas.openxmlformats.org/officeDocument/2006/relationships/slide" Target="slides/slide55.xml"/><Relationship Id="rId80" Type="http://schemas.openxmlformats.org/officeDocument/2006/relationships/slide" Target="slides/slide56.xml"/><Relationship Id="rId81" Type="http://schemas.openxmlformats.org/officeDocument/2006/relationships/slide" Target="slides/slide57.xml"/><Relationship Id="rId82" Type="http://schemas.openxmlformats.org/officeDocument/2006/relationships/slide" Target="slides/slide58.xml"/><Relationship Id="rId83" Type="http://schemas.openxmlformats.org/officeDocument/2006/relationships/slide" Target="slides/slide59.xml"/><Relationship Id="rId84" Type="http://schemas.openxmlformats.org/officeDocument/2006/relationships/slide" Target="slides/slide60.xml"/><Relationship Id="rId85" Type="http://schemas.openxmlformats.org/officeDocument/2006/relationships/slide" Target="slides/slide61.xml"/><Relationship Id="rId86" Type="http://schemas.openxmlformats.org/officeDocument/2006/relationships/slide" Target="slides/slide62.xml"/><Relationship Id="rId87" Type="http://schemas.openxmlformats.org/officeDocument/2006/relationships/slide" Target="slides/slide63.xml"/><Relationship Id="rId88" Type="http://schemas.openxmlformats.org/officeDocument/2006/relationships/slide" Target="slides/slide64.xml"/><Relationship Id="rId89" Type="http://schemas.openxmlformats.org/officeDocument/2006/relationships/slide" Target="slides/slide65.xml"/><Relationship Id="rId90" Type="http://schemas.openxmlformats.org/officeDocument/2006/relationships/slide" Target="slides/slide66.xml"/><Relationship Id="rId91" Type="http://schemas.openxmlformats.org/officeDocument/2006/relationships/slide" Target="slides/slide67.xml"/><Relationship Id="rId92" Type="http://schemas.openxmlformats.org/officeDocument/2006/relationships/slide" Target="slides/slide68.xml"/><Relationship Id="rId93" Type="http://schemas.openxmlformats.org/officeDocument/2006/relationships/slide" Target="slides/slide69.xml"/><Relationship Id="rId94" Type="http://schemas.openxmlformats.org/officeDocument/2006/relationships/slide" Target="slides/slide70.xml"/><Relationship Id="rId95" Type="http://schemas.openxmlformats.org/officeDocument/2006/relationships/slide" Target="slides/slide71.xml"/><Relationship Id="rId96" Type="http://schemas.openxmlformats.org/officeDocument/2006/relationships/slide" Target="slides/slide72.xml"/><Relationship Id="rId97" Type="http://schemas.openxmlformats.org/officeDocument/2006/relationships/slide" Target="slides/slide73.xml"/><Relationship Id="rId98" Type="http://schemas.openxmlformats.org/officeDocument/2006/relationships/slide" Target="slides/slide74.xml"/><Relationship Id="rId99" Type="http://schemas.openxmlformats.org/officeDocument/2006/relationships/slide" Target="slides/slide75.xml"/><Relationship Id="rId100" Type="http://schemas.openxmlformats.org/officeDocument/2006/relationships/slide" Target="slides/slide76.xml"/><Relationship Id="rId101" Type="http://schemas.openxmlformats.org/officeDocument/2006/relationships/slide" Target="slides/slide77.xml"/><Relationship Id="rId102" Type="http://schemas.openxmlformats.org/officeDocument/2006/relationships/slide" Target="slides/slide7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dt" idx="67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ftr" idx="68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 type="sldNum" idx="69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DE8C-B9BD-43CE-A8DF-E742E346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7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00E-5E21-48E2-A255-738A7256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E414-D22A-4E6D-953D-0E46E9AD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D8CC-B61B-415C-BABA-5D1C1BDF8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B94-319E-4166-8DF6-FC2D1F5D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5AF7-946F-4FC0-98FE-E12496D4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D9DE-A8C3-4779-B60C-DA22D8AE2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78E-44B6-486D-B365-4B9C451D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58B8-2ED8-4446-8407-C8438E798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C293-1C94-42B9-9CB1-6CAC12E0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3E4F-1B76-4318-9C86-18ECB5C1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03A-1E05-4949-8027-9EC7EAB3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484-4098-4725-A15F-2BD81467F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03A0-CB74-49EC-8EE3-28EEBA4AF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8670-A079-4F73-BCB2-A23B835C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C163-5627-4361-A3CE-8C74EB664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3455-3E92-420C-8CAE-9CD0DFD8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7B0-04AE-48BA-BD42-2784C7E46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78E2-2523-49CC-A21A-8D1E6851A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D8E5-E1D8-4580-9667-AAC743A8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4C73-D10F-4C2C-B4A2-1CF9E32E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23D5-D427-4394-A270-629DAAC2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DA5-40DE-44BC-BE54-93DDAB8FC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1CDB-4E30-4D7F-B997-4BD98F8F9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FD9-76E0-436C-A5CB-45FE0AA87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B1F9-83D6-41D1-8595-C54DA09A3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6E1-4645-4C6C-AA9A-95A8B53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AE2-9EAA-4ED5-8C74-86E79FC7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B3A84A-30C1-4640-B308-7E0C87B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88818-6896-40B8-B495-41509F02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66C1E-B957-49B7-93E8-EDD2551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E6E74-A7CE-4F34-A35D-C567E5C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73D16-1D18-413C-8044-BD2A979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ABCCF-ACB4-4A45-BDBC-B618FC8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1F7D7-8E95-427E-85F1-1A1B331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11889-582B-4C6F-ACF6-C67045E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B53AD-ADD1-4331-8AB3-4ABDB33D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4512-837A-4349-BE17-2B705014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7A7-E481-4C42-9E03-12107BC1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6696-1037-4817-A66D-BA693FDA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54680-261B-47B1-9C58-21B93AA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736B5-6C21-489D-9C00-E1A2FC4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D887E-66DD-4C39-82F8-68C8876D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EE875-5EC3-48CC-8B3D-CEB87763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49D9F-FE15-4EED-88B5-B3B23195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2EB7C-975F-49C3-99A2-ABE9D5D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2340-41AB-4937-B39A-9903C27E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4407-461E-4DEC-B3BF-26B3824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ADF8A-99FA-44D7-A4CA-9DB7159E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2D5-41C5-4CA1-A72C-98A0DBD1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C2F59-41AD-47B1-86A8-4F3BE84A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53798-9FEE-4A40-93E4-90E7EB1A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1D0E8-7AAE-4941-8B73-BD08010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0E7C6-5D49-4AC4-92D7-142D337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0540-7A73-4565-8D6C-76E438FC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F50AF-8DF9-4977-9B83-9A310C35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88E65-5B87-4BBC-BE67-2D17E306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B3E15-F80B-4C29-B7A1-6FA97D7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E374C-4642-40EE-A827-07D3305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94AF-D195-41CB-B0DF-C3E6A1AE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A72C-0B23-4C8A-8236-AFBE7529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42B3F-5BB6-455D-935B-2852654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EA8E5-E513-4F0A-9246-056E808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23D2E-E627-4F56-B27D-F55D959A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D98F0-72FD-45DD-A6E2-49BA7D9B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9EB2B-642F-4016-8CBB-A1AC585B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6CC51-3054-4D1F-BCBC-68A3B8F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E9568-B0E0-4EAC-B728-F489767D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D5537-3102-4111-AE15-B87BCB92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7AD4B-C8FF-4E2F-84EA-95C9AE3B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BCE64-79CA-44DD-8075-823AB61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B028-2A9F-41DF-9CF7-9CEEEEB7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3EB17-D878-43AC-B51F-3FC31B4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E2D70-7B25-4CE4-BFDC-A5CA6FB2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1E0BC-A511-4A5F-9EDA-F6C2FDD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7F1F7-20BF-45D0-B2EB-D2823B09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ABC6-B4FA-4C26-8E62-7552C00A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479F4-8B52-4EAF-9D19-58DEBEE8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36352-3CF1-4930-9815-028F5AB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6D738-AB41-4BC8-9C3C-9C9A59F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85FDE-CBB3-4C29-B2D3-E264659A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29815-01C5-4DE8-A27B-9360062D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8AEE-A718-4407-A67A-A04A183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91742-96A4-42A8-AE06-DF1DF985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CE21C-8312-44FD-90A2-C8C6561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5FFDD-68F8-4967-B2E0-8A8E738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63E2C-9B63-4482-98BE-3D51E11B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21A53-0322-49AA-8730-711162D5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E7960-70AD-4DC0-A6FF-8E4FC8A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DB67A-779B-4A0D-B17D-33E9F7F8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01418B-2F16-4013-ACF4-BA4675CD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FFA743-444F-408C-99F7-9A4D399F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3F99A4-A52C-4051-8ED5-C43473E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7B49-CFF3-4D11-81D1-419850D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796BC1-8174-40F4-8AB6-27D3543C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A2EE66-CE46-4D3F-8A0A-C1BA7C0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7C4DEB-11EF-4A58-BC20-0C25B864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8460D8-F3B2-41C4-979F-FB6A4AC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808392-8E44-4CE7-8EA9-F839C31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946688-F268-4233-9783-8DDF193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D1BA34-4E90-4418-B863-B6A15D4C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5089FB-299F-43AE-942A-54BD927C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4A84CE-2223-4C46-9502-0C36F4BB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41D0D2-AC31-4514-8C85-4A1DDA1B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F67-3937-494A-884A-D52E0D37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738671-5058-4B71-AEB4-DBDCCFF3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3B8A0E-779A-40DD-B95A-5BE7E32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8F84C8-1B05-4EC7-8B4A-CF52027C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FBF8C3-C284-47AD-A867-7BF5D2B2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3D3876-A83D-4278-91F1-44F8860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81266B-C7EC-480D-BD26-78EA48A8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649A87-6ECE-4174-9E7C-20A97E8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9E74AE-FCA8-47AE-98A4-C39F7955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77B522-5C73-41A9-82C5-12FA9632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505DA6-EC6A-4BEB-8C20-2E1193A7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F17D-5D6A-4646-9DDE-25E9CBC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E03BC0-40A9-48EB-BD99-E3B202D0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76A17B-857A-4404-8525-88449865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544CB4-6A7C-4F19-BCE9-484CC5B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DBA8D5-447E-467D-B585-57E46AAF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C1F6BC-8605-4F26-9AD2-05E44FD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CBBAEA-98FD-4365-B759-1097220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44ED00-B86B-44DD-B697-5428DF2C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4CEC5D-22B7-4850-8F9C-2D27F94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FB867B-56F9-47B8-9008-6B2639F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395CFC-E7BC-48A4-9E6F-CEBD623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46E5-0BE7-49B9-871F-62C6DCA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34B4C9-83A0-4416-B435-EEDAF5F4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B04E02-0AAB-47FC-AC60-8826182C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1770FB-9026-4525-8904-01E1BEF6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41BB1-9F19-4889-A9C2-06D92EB3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8A6C8-C803-4135-B77A-6100821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E3F31-D2EF-4360-A1B6-071886CA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0A034-C41C-4E6A-A80C-2A606006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AC1D3-D7CF-488E-B64E-895D4BB9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BA55B-2570-439F-9B1F-0325FCD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79743-4DDA-41AD-BD62-AD8D135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426-F225-4922-B0A8-94C7CD5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F789-8406-4E1E-93A1-0C33A40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8B929-8510-4AFF-BE78-A6A692E2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E133A-61D9-4271-8A21-A7193979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26552-8AB1-4F0A-8415-766F4C49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B9AFB-4C78-4990-ADA3-410AE620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C6398-16AA-467B-B703-3DAB9356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A62AB-5538-4851-9DFC-8441CB0B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0D386-DA99-4495-AFE3-FC3AE22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A5A93-D3FF-40F6-90DD-C65BD22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A5A83-1A61-4300-9B02-D8BCADC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D5E45-6A73-4994-BC8C-8938753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5A96-43CE-4447-8D7C-C3067CD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3AFAD-4E63-4189-B0D4-A9245BEE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42317-4168-4CF6-B5B2-64C02AF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D6063-AC31-42EF-9490-EC0CF2F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73344-68AA-4B70-9AB5-EE2FBA0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6F1BE-AC89-4F77-A06F-5E5322E7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DB992-73E6-4563-B973-1BC6CD64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2FC5D-96B0-4680-9301-8D541386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88788B-DE7F-4644-A2EB-A7123F68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DC54E0-FD7D-4E75-9213-26DC17E6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D874A5-33FA-426A-BC9B-6AD6CE70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DD8F-E3E4-433F-AE60-2978540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C2C813-0E6D-4E7C-9B3A-5288699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AE8BC2-E4EC-4071-A822-D538A7F6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493E70-44B4-4266-B4A8-B1B075DC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1C02F5-9BF5-4A91-BDFD-D110CF4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32519C-9CDF-4CB6-B1ED-2123C22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448F34-BC45-4D79-B358-34E7EFD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DB5298-80D1-4698-946A-B2272517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0EAEA3-7A95-4600-8C56-49FA9AF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60B7C1-D35F-46CB-BCCE-63CD06AD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FD4A3-28B5-4108-BE66-0072D18E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B3D8-4887-4ED2-AC5B-30343006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0F85C-E047-4A07-8188-DC2D6B7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AC4C7-3A2E-47C0-9941-3485CDE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70B4F-7C2E-4540-BE9A-9AF6B1B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D4AE3-12A7-4023-B27B-D266369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2AB2C-DF51-4A22-B9DD-17E5AFC6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3A9A9-C275-457E-80CF-8B680B9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0AC48-7CBB-47DF-857C-04EC5460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9419B-1895-435E-B12F-69B902F4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A2C48-7538-45CB-95A9-E4FD82AA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EFF7E-7867-4F9B-B26D-A9DD5382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909-F6C9-4674-B688-8A6770BE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962DE-506A-4BB3-97BF-728C39C5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43276-E192-496E-BC7C-6786FC0D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5C963-824F-4C35-853B-26315AD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F2BE1-FBE0-460A-A20A-4B610FC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4B22A-B2C2-4108-BA62-6EE0616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83B20-919B-486F-81D3-A922DCB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20F75-3B73-4CA6-8FA5-F0A2835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F753B-8C63-4D64-8E8D-E1A99A9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92351-7B0E-4B3F-8166-C1A6793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B6F98D-31E5-4C52-A82A-22E0C89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49E1-E607-4482-8F4C-DB2C9755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AE169-A81A-442C-B9A9-7C98E24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0C056-54A6-46A3-921F-65C49766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B855E-DE73-4F63-9BBE-88445E69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F0D9E-8BCD-4C8B-938B-C6324B44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BF5D26-8CF4-4762-9447-158B8642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B63B9C-2313-42A6-AFFD-39E24F97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868DB-6352-4925-83A1-9A783E3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15DF1-6FAD-42A7-91BD-338231CA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A1E56-B6FE-430C-AC77-65CDA83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514F3-C451-41BE-A8E4-1ABC98A7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6892-69EB-4164-9031-6C40E5EB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DCB742-D755-4AE2-8E23-9334A02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4F0D9-151B-4DDB-82B8-B1F19E9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EC3B7-331A-48B6-8791-1137AF2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10912-646F-4B4A-814C-CA350755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592E2-7DAC-4AF1-B33B-7CA98017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90C2-24B7-4D34-869F-51B4E40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5D19-06A9-4057-9671-BD2B1BB9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24A4-B7E6-488C-A9BE-8EB497D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598-EF25-4FEF-AC48-B7A63E74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DCEA-E1C2-481C-86E4-D2D6516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D2BB-4CF0-4E15-86B4-BAF0164B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13A8-D7FC-4F9C-8951-5D24529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1930-AD2A-489C-94F7-BFA1F53C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F5E9-0807-4AA8-9A32-8079E095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B178-90D0-4389-B00C-8BF18C9F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818C-6BCE-47F9-90D2-88C1CEB0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0A843-E488-4569-8DE5-5874122E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0150D-4E5E-40AD-973E-F2370592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EA9BC-37C1-4E25-9B4B-115B245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98D-7C8B-49AA-A35B-34BF98F6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F7550-F3A4-46A6-B043-765EA28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75AEC-459E-48AB-9A33-FA1F220E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F1290-489E-493E-9C3B-027BC21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6CDF4-E0E5-482D-ADB0-44927F0B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E2980-2182-4275-BCBD-C33F7D7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F9451-D856-4601-93B2-48FD4F5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14AFD-F220-4643-8C90-C404574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7FD6B-1E42-4C62-B7BF-1BC5E69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2DD53-DADA-4AC1-A545-33F0B936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309A8-7738-43EA-ACF1-0160EEB3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D77-3BE3-4FE7-A8EB-274E7E67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958A9-F4EA-4469-A803-2F6E4CE0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803F8-2396-4A54-ABE0-A0FF008E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28C4C-9391-4CDD-A122-06FA121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AD572-CD79-4A85-AB2E-DC47DE3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73A20-4D18-4645-A224-A9F2956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2DD81-89AF-4CC2-BEDB-C8493FD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4DAD4-680D-41DD-98BB-81B6940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0F7BC-4158-406B-A0E8-5408AE5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36434-5E46-4FB9-BF14-E2ABFCE6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5C5B9-1746-4131-9E19-5CE399EE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A31-2235-4602-B618-8D712B38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1D218-A8CD-4373-B046-75CCF867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D16F5-C137-41F4-BF63-AC2688F8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07E28-1C45-42A6-8D7E-9B1AF07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60BCB-035E-4195-B71B-1A0C29B7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6474F-46BE-4726-8441-434698E8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23301-3724-4399-B18B-E83666BB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67168-7445-4872-A3C2-62FB500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5AF20-FD9C-4169-AFDC-F5E3616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FC91A-D6BA-471B-A369-2A5FF40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56F4C-FE17-4749-9832-B263824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DE8-5EB1-4886-8926-8DC8D6FF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CFA6F-D57F-434B-9FDE-579EDB83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49B95-6905-4988-97CE-4EEF3A18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84922-ADB1-4D81-B17F-89926D4C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7C0E-526F-427D-B32E-5EFAC0FC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F00F-29A3-4F7E-85B8-B8957BA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02E5-7A82-404F-B606-7411374B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D7929-9846-4984-B210-05E4B4FA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13D53-AB4D-4BF6-ACB6-BACFDA11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BC170-00EF-4954-9234-4287185E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C9FA5-CF2F-4693-8FCF-229F431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76D-CF73-4848-AB5D-A508784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CA7F2-9B2E-462E-B9C2-CCD4E74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7812F-0D04-445E-B3EF-D1D8288C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372A-EA1D-42E7-A268-0AE29B49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D200A-9C89-46C7-A897-E800D6F6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7334B-AB3E-4D72-A4F1-7040575D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8659-A73A-45F5-ADEB-3D05F685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18707-DA93-4A77-AD10-56E45385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1A46-B744-45EB-B6D3-36C38F36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0C44-35B2-4AE9-8B42-25D14D4A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AEF3-E1E5-4C0B-AEE0-B13C9752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FAC-500C-4906-9D92-6215C26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51096-C4DE-4856-99C3-CE5D56F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42EF-0328-4668-9EBB-29A2C0B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3C58A-9C47-42B0-BDBD-11697CA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D1E4-FE5C-4FA2-8556-956CA27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D880F-B9C9-4A43-A5DE-4A1F70F4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D285-F2B8-4794-A0E0-03AB7350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8EC20-41B0-4EB2-8B1D-D2A99590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24A601-289E-4AEC-9824-9B01C6D4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12310E-FFEB-4E93-8144-A0235F5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3808B-8213-410A-9E92-6CF4B37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4FF1-0BEF-4A50-BBBD-EFBE514146C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9183-0B04-4013-B4A6-ACC95AFE302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61E1-8AF7-4E6A-9191-523C2A6B089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D0FC-2560-4B7A-A16B-42C370E35DE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87A-9169-4F70-8730-17D008CF2452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EEB-3974-40A3-8B94-B8FE3E75326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D05B-B088-400D-B4E6-E74A45DAC41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4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DD05-AE00-44AD-B7A5-31CB4B43FFC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4C3-874B-468A-8858-A4B0264EFDBF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6873-E3FB-45BA-8717-B6641BF433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5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250-29DA-42AC-AE42-9BF4A18EF6DF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388-D2CF-4674-AA58-3B72633E35C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46D3-B703-4B96-A5CE-70B5136B985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6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4B20-EE7B-418A-AD0D-43D461A67D9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54F0-671D-40AC-B0DF-2345865BD7E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BC0-F502-4E8C-9FF0-0E5937588E13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D1B1-F9A4-46D8-9E28-5C70419FD5C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E64-FFE4-48A7-8CC6-8BAEAEC4AA6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0A3-0A5B-4A3B-A9FB-B34859A2E5F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9C01-6751-40AA-8784-616D3F53C509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849-0F33-46A6-A02E-031C55D800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2A1-BEB9-4CB7-95AA-B16D52B6A790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Discriminative Learning for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Markov Logic Network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w Cen MT"/>
              </a:rPr>
              <a:t>Tuyen N. Huynh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w Cen MT"/>
              </a:rPr>
              <a:t>Adviser:  Prof. Raymond J. Moone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3742200" y="4419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PhD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3748320" y="5345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October  9</a:t>
            </a:r>
            <a:r>
              <a:rPr b="1" lang="en-US" sz="1800" spc="-1" strike="noStrike" baseline="30000">
                <a:solidFill>
                  <a:srgbClr val="0f6fc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3077280" y="6248520"/>
            <a:ext cx="53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me slides are taken from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[Domingos, 2007], [Mooney, 200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0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D4D-6522-4D3C-B09E-A50072664CB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riminative learning for MLNs with non-recursive clause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Huynh &amp; Mooney, 2008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weight learning for MLNs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Huynh &amp; Mooney, 2009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First-Order Logic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FCA8-72F0-4853-957D-E24FFF1EDD5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onstant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Anna, Bob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Variables</a:t>
            </a: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: x, 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fatherOf(x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edicat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binary func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E.g: Smoke(x), Friends(x,y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Literal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Predicates or its nega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rounding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Replace all variables by constants</a:t>
            </a:r>
            <a:br>
              <a:rPr sz="2700"/>
            </a:b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E.g.: Friends (Anna, Bob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orld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model, interpretation): Assignment of truth values to all ground literal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First-Order Clause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4F3-F7F6-449A-8C9D-50D4C4C03D4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laus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A disjunction of liter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rewritten as a set of implication ru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TextBox 4"/>
          <p:cNvSpPr/>
          <p:nvPr/>
        </p:nvSpPr>
        <p:spPr>
          <a:xfrm>
            <a:off x="1445400" y="214308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¬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Smoke(x) v Cancer(x)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Box 5"/>
          <p:cNvSpPr/>
          <p:nvPr/>
        </p:nvSpPr>
        <p:spPr>
          <a:xfrm>
            <a:off x="1393920" y="3276720"/>
            <a:ext cx="38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Smoke(x) =&gt; Cancer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Box 6"/>
          <p:cNvSpPr/>
          <p:nvPr/>
        </p:nvSpPr>
        <p:spPr>
          <a:xfrm>
            <a:off x="1396080" y="3886200"/>
            <a:ext cx="42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¬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Cancer(x) 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¬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Smoke(x)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arkov Networks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Pearl, 1988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1" name="Oval 4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5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7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5" name="AutoShape 8"/>
          <p:cNvCxnSpPr>
            <a:stCxn id="1024" idx="6"/>
            <a:endCxn id="1021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6" name="AutoShape 9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7" name="AutoShape 10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8" name="AutoShape 11"/>
          <p:cNvCxnSpPr>
            <a:stCxn id="1023" idx="6"/>
            <a:endCxn id="1022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9" name="Rectangle 12"/>
          <p:cNvSpPr/>
          <p:nvPr/>
        </p:nvSpPr>
        <p:spPr>
          <a:xfrm>
            <a:off x="380880" y="30481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otential function: function defined over a clique ( a complete sub-grap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838080" y="3987720"/>
          <a:ext cx="3962520" cy="248940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(S,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1" name="Object 2"/>
              <p:cNvSpPr txBox="1"/>
              <p:nvPr/>
            </p:nvSpPr>
            <p:spPr>
              <a:xfrm>
                <a:off x="5475240" y="4157640"/>
                <a:ext cx="2982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Object 3"/>
              <p:cNvSpPr txBox="1"/>
              <p:nvPr/>
            </p:nvSpPr>
            <p:spPr>
              <a:xfrm>
                <a:off x="5584680" y="552924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3" name="Slide Number Placeholder 15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7827-614F-4003-8A93-EC062918022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17"/>
          <p:cNvSpPr/>
          <p:nvPr/>
        </p:nvSpPr>
        <p:spPr>
          <a:xfrm>
            <a:off x="1143000" y="1243080"/>
            <a:ext cx="495288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arkov Networks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Pearl, 1988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g-linear mode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2314080" y="4495680"/>
            <a:ext cx="22273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of Feature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4710240" y="4495680"/>
            <a:ext cx="11239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eature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9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10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2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3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Oval 13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14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15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6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0" name="AutoShape 17"/>
          <p:cNvCxnSpPr>
            <a:stCxn id="1049" idx="6"/>
            <a:endCxn id="1046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1" name="AutoShape 18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2" name="AutoShape 19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3" name="AutoShape 20"/>
          <p:cNvCxnSpPr>
            <a:stCxn id="1048" idx="6"/>
            <a:endCxn id="1047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54" name="Object 4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5" name="Slide Number Placeholder 21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7BF-0854-4758-9A11-5CE331A5265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22"/>
          <p:cNvSpPr/>
          <p:nvPr/>
        </p:nvSpPr>
        <p:spPr>
          <a:xfrm>
            <a:off x="1143000" y="1243080"/>
            <a:ext cx="495288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4"/>
          <p:cNvSpPr/>
          <p:nvPr/>
        </p:nvSpPr>
        <p:spPr>
          <a:xfrm>
            <a:off x="8751960" y="6416640"/>
            <a:ext cx="392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9822-A030-4065-8FD5-907786536B9E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Markov Logic Networks</a:t>
            </a:r>
            <a:r>
              <a:rPr b="0" lang="en-US" sz="2900" spc="-1" strike="noStrike">
                <a:solidFill>
                  <a:srgbClr val="04617b"/>
                </a:solidFill>
                <a:latin typeface="Tw Cen MT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Richardson &amp; Domingos, 2006]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t of weighted first-order clau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r weight indicates stronger belief that the clause should hol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auses are called the</a:t>
            </a:r>
            <a:r>
              <a:rPr b="0" lang="en-US" sz="2400" spc="-1" strike="noStrike">
                <a:solidFill>
                  <a:srgbClr val="e2d700"/>
                </a:solidFill>
                <a:latin typeface="Tw Cen MT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w Cen MT"/>
              </a:rPr>
              <a:t>structure</a:t>
            </a:r>
            <a:r>
              <a:rPr b="0" lang="en-US" sz="2400" spc="-1" strike="noStrike">
                <a:solidFill>
                  <a:srgbClr val="e2d7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f the ML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LNs are templates for constructing Markov networks for a given set of const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Rectangle 2"/>
          <p:cNvSpPr/>
          <p:nvPr/>
        </p:nvSpPr>
        <p:spPr>
          <a:xfrm>
            <a:off x="1523880" y="5105520"/>
            <a:ext cx="65534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2"/>
              <p:cNvSpPr txBox="1"/>
              <p:nvPr/>
            </p:nvSpPr>
            <p:spPr>
              <a:xfrm>
                <a:off x="1593720" y="5181480"/>
                <a:ext cx="6019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2" name="Rectangle 5"/>
          <p:cNvSpPr/>
          <p:nvPr/>
        </p:nvSpPr>
        <p:spPr>
          <a:xfrm>
            <a:off x="838080" y="5105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3"/>
              <p:cNvSpPr txBox="1"/>
              <p:nvPr/>
            </p:nvSpPr>
            <p:spPr>
              <a:xfrm>
                <a:off x="977760" y="5172120"/>
                <a:ext cx="4255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4" name="Rectangle 3"/>
          <p:cNvSpPr/>
          <p:nvPr/>
        </p:nvSpPr>
        <p:spPr>
          <a:xfrm>
            <a:off x="762120" y="4191120"/>
            <a:ext cx="7543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MLN Example: Friends &amp;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2"/>
              <p:cNvSpPr txBox="1"/>
              <p:nvPr/>
            </p:nvSpPr>
            <p:spPr>
              <a:xfrm>
                <a:off x="13399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8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0" name="Text Box 17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Slide Number Placeholder 1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724-28D0-4A3B-8B95-F913740B607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Object 2"/>
              <p:cNvSpPr txBox="1"/>
              <p:nvPr/>
            </p:nvSpPr>
            <p:spPr>
              <a:xfrm>
                <a:off x="13399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5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7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13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14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15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Slide Number Placeholder 1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7EDB-733E-4533-A850-465DF9CBEC2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2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0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1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AutoShape 12"/>
          <p:cNvCxnSpPr>
            <a:stCxn id="1093" idx="3"/>
            <a:endCxn id="1092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1098" name="Oval 13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15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AutoShape 16"/>
          <p:cNvCxnSpPr>
            <a:stCxn id="1096" idx="5"/>
            <a:endCxn id="1099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1102" name="Text Box 17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Slide Number Placeholder 1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9DD-45E8-49E5-8394-0D34017E040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8001000" y="1676520"/>
            <a:ext cx="76212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Object 2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8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0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AutoShape 12"/>
          <p:cNvCxnSpPr>
            <a:stCxn id="1113" idx="0"/>
            <a:endCxn id="1111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16" name="AutoShape 13"/>
          <p:cNvCxnSpPr>
            <a:stCxn id="1111" idx="6"/>
            <a:endCxn id="1114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17" name="AutoShape 14"/>
          <p:cNvCxnSpPr>
            <a:stCxn id="1114" idx="4"/>
            <a:endCxn id="1113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18" name="AutoShape 15"/>
          <p:cNvCxnSpPr>
            <a:stCxn id="1111" idx="3"/>
            <a:endCxn id="1110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1119" name="AutoShape 16"/>
          <p:cNvCxnSpPr>
            <a:stCxn id="1112" idx="6"/>
            <a:endCxn id="1111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20" name="Oval 17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1" name="AutoShape 18"/>
          <p:cNvCxnSpPr>
            <a:stCxn id="1120" idx="4"/>
            <a:endCxn id="1111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22" name="AutoShape 19"/>
          <p:cNvCxnSpPr>
            <a:stCxn id="1114" idx="0"/>
            <a:endCxn id="1120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23" name="Oval 2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1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5" name="AutoShape 22"/>
          <p:cNvCxnSpPr>
            <a:stCxn id="1114" idx="5"/>
            <a:endCxn id="1123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1126" name="AutoShape 23"/>
          <p:cNvCxnSpPr>
            <a:stCxn id="1124" idx="2"/>
            <a:endCxn id="1114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27" name="Text Box 24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2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BA8-5D13-4D2D-9225-97C2ECC6059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Straight Connector 27"/>
          <p:cNvSpPr/>
          <p:nvPr/>
        </p:nvSpPr>
        <p:spPr>
          <a:xfrm>
            <a:off x="8001000" y="1676520"/>
            <a:ext cx="76212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traight Connector 28"/>
          <p:cNvSpPr/>
          <p:nvPr/>
        </p:nvSpPr>
        <p:spPr>
          <a:xfrm>
            <a:off x="8001000" y="2057400"/>
            <a:ext cx="762120" cy="1440"/>
          </a:xfrm>
          <a:prstGeom prst="line">
            <a:avLst/>
          </a:prstGeom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machine learning methods assume independent and identically distributed (i.i.d.) examples represented as feature vecto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of data in the real world are not i.i.d. and also cannot be effectively represented as feature vectors 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ochemical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cial network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lti-relational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1CF-2887-437D-9E85-E89861ADB67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oup 16"/>
          <p:cNvGrpSpPr/>
          <p:nvPr/>
        </p:nvGrpSpPr>
        <p:grpSpPr>
          <a:xfrm>
            <a:off x="1066680" y="1981080"/>
            <a:ext cx="7175880" cy="1663920"/>
            <a:chOff x="1066680" y="1981080"/>
            <a:chExt cx="7175880" cy="1663920"/>
          </a:xfrm>
        </p:grpSpPr>
        <mc:AlternateContent>
          <mc:Choice xmlns:a14="http://schemas.microsoft.com/office/drawing/2010/main" Requires="a14">
            <p:sp>
              <p:nvSpPr>
                <p:cNvPr id="1132" name="Object 2"/>
                <p:cNvSpPr txBox="1"/>
                <p:nvPr/>
              </p:nvSpPr>
              <p:spPr>
                <a:xfrm>
                  <a:off x="1066680" y="1981080"/>
                  <a:ext cx="458496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3" name="Text Box 28"/>
            <p:cNvSpPr/>
            <p:nvPr/>
          </p:nvSpPr>
          <p:spPr>
            <a:xfrm>
              <a:off x="2046240" y="3276720"/>
              <a:ext cx="20095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Text Box 29"/>
            <p:cNvSpPr/>
            <p:nvPr/>
          </p:nvSpPr>
          <p:spPr>
            <a:xfrm>
              <a:off x="4425480" y="3276720"/>
              <a:ext cx="381708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30"/>
            <p:cNvSpPr/>
            <p:nvPr/>
          </p:nvSpPr>
          <p:spPr>
            <a:xfrm flipV="1">
              <a:off x="3876480" y="2743200"/>
              <a:ext cx="609480" cy="533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1"/>
            <p:cNvSpPr/>
            <p:nvPr/>
          </p:nvSpPr>
          <p:spPr>
            <a:xfrm flipH="1" flipV="1">
              <a:off x="4867200" y="2743200"/>
              <a:ext cx="304560" cy="53352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Slide Number Placeholder 3"/>
          <p:cNvSpPr/>
          <p:nvPr/>
        </p:nvSpPr>
        <p:spPr>
          <a:xfrm>
            <a:off x="8763120" y="6400800"/>
            <a:ext cx="380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654-1014-4C0C-B39A-39504645310A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bability of a possible worl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39" name="Text Box 6"/>
          <p:cNvSpPr/>
          <p:nvPr/>
        </p:nvSpPr>
        <p:spPr>
          <a:xfrm>
            <a:off x="0" y="534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sible world becomes exponentially less likely as the total weight of all the grounded clauses it violates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482760" y="152460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a possibl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Straight Arrow Connector 21"/>
          <p:cNvCxnSpPr>
            <a:stCxn id="1140" idx="2"/>
          </p:cNvCxnSpPr>
          <p:nvPr/>
        </p:nvCxnSpPr>
        <p:spPr>
          <a:xfrm>
            <a:off x="1445040" y="1893960"/>
            <a:ext cx="842040" cy="480240"/>
          </a:xfrm>
          <a:prstGeom prst="straightConnector1">
            <a:avLst/>
          </a:prstGeom>
          <a:ln w="28440">
            <a:solidFill>
              <a:srgbClr val="38702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2897280" y="3886200"/>
                <a:ext cx="34272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Inference in MLN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AP/MPE inference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find the most likely state of all unknown grounding literals given the ev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xWalkSAT algorithm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Kautz et al., 1997]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Cutting Plane Inference algorithm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Riedel, 2008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omputing the marginal conditional probability of a set of grounding literal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(Y=y|x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C-SAT algorithm 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Poon &amp; Domingos, 2006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fted first-order belief propagation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Singla &amp; Domingos, 2008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2"/>
              <p:cNvSpPr txBox="1"/>
              <p:nvPr/>
            </p:nvSpPr>
            <p:spPr>
              <a:xfrm>
                <a:off x="1260360" y="2443320"/>
                <a:ext cx="64771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7CF0-9226-45BC-9321-025270D5773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Existing structure learning methods for ML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DF45-A559-43C7-9389-AE25C641214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61272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p-down approach: MSL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ok &amp; Domingos 05], [Biba etal., 2008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art from unit clauses and search for new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ttom-up approach: BUSL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Mihalkova &amp; Mooney, 07]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HL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ok &amp; Domingos 0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 data to generate candidate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Existing weight learning methods in ML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enerativ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maximize the (Pseudo) Log-Likelihoo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Discriminativ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: maximize the Conditional Log- Likelihood (CLL)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ingla &amp; Domingos, 2005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ructured Perceptron 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Collins, 2002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Lowd &amp; Domingos, 2007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rst and second-order methods to optimize the CL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ound that the Preconditioned Scaled Conjugate Gradient (PSCG) performs be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0206-769D-4A09-83EE-07832187A07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7F2-A944-4CCF-8166-44A467F19A3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Discriminative learning for MLNs with non-recursive cl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weight learning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Drug design for Alzheimer’s disease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different analogues of Tacrine drug for Alzheimer’s disease on four biochemical properti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imization of inhibition of amine re-upta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inimization of toxic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imization of acetyl cholinesterase inhibi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imization of the reversal of scopolamine-induced memory impair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8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7D75-A241-46A5-8B0C-C1F3E35C609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Content Placeholder 4" descr="tacrine.gif"/>
          <p:cNvPicPr/>
          <p:nvPr/>
        </p:nvPicPr>
        <p:blipFill>
          <a:blip r:embed="rId1"/>
          <a:stretch/>
        </p:blipFill>
        <p:spPr>
          <a:xfrm>
            <a:off x="690480" y="4390920"/>
            <a:ext cx="2814840" cy="1629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6" descr="new_drug.gif"/>
          <p:cNvPicPr/>
          <p:nvPr/>
        </p:nvPicPr>
        <p:blipFill>
          <a:blip r:embed="rId2"/>
          <a:stretch/>
        </p:blipFill>
        <p:spPr>
          <a:xfrm>
            <a:off x="4272120" y="4257720"/>
            <a:ext cx="4414680" cy="1914480"/>
          </a:xfrm>
          <a:prstGeom prst="rect">
            <a:avLst/>
          </a:prstGeom>
          <a:ln w="0">
            <a:noFill/>
          </a:ln>
        </p:spPr>
      </p:pic>
      <p:sp>
        <p:nvSpPr>
          <p:cNvPr id="1161" name="TextBox 7"/>
          <p:cNvSpPr/>
          <p:nvPr/>
        </p:nvSpPr>
        <p:spPr>
          <a:xfrm>
            <a:off x="915480" y="60912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rine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4653720" y="616752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for the proposed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Inductive Logic Programm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C396-B38D-41D3-8754-5DC5EC0B935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first-order logic to represent background knowledge and examp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tomated learning of logic rules from examples and background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Inductive Logic Programming systems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6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7E7-F495-4830-A99B-90443B2D6DF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LEM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Muggleton and Feng, 199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IL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Quinlan, 1993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GOL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Muggleton, 1995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LIN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Zelle and Mooney, 1996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LEP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rinivasan, 2001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Inductive Logic Programming example</a:t>
            </a:r>
            <a:br>
              <a:rPr sz="3600"/>
            </a:br>
            <a:r>
              <a:rPr b="0" lang="en-US" sz="2000" spc="-1" strike="noStrike">
                <a:solidFill>
                  <a:srgbClr val="04617b"/>
                </a:solidFill>
                <a:latin typeface="Tw Cen MT"/>
              </a:rPr>
              <a:t>                                                                                    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ing et al., 1995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7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4C9-B626-486A-8D6F-B7495940516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1"/>
          <a:stretch/>
        </p:blipFill>
        <p:spPr>
          <a:xfrm>
            <a:off x="689040" y="2057400"/>
            <a:ext cx="79214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Results with existing learning methods for MLNs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612720" y="45716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at happened: The existing learning methods for MLNs fail to capture the relations between the background predicates and the target predic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n-US" sz="2700" spc="-1" strike="noStrike">
                <a:solidFill>
                  <a:srgbClr val="ff3300"/>
                </a:solidFill>
                <a:latin typeface="Tw Cen MT"/>
              </a:rPr>
              <a:t>New discriminative learning methods for ML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1174" name=""/>
          <p:cNvGraphicFramePr/>
          <p:nvPr/>
        </p:nvGraphicFramePr>
        <p:xfrm>
          <a:off x="1143000" y="1879560"/>
          <a:ext cx="6824520" cy="1854360"/>
        </p:xfrm>
        <a:graphic>
          <a:graphicData uri="http://schemas.openxmlformats.org/drawingml/2006/table">
            <a:tbl>
              <a:tblPr/>
              <a:tblGrid>
                <a:gridCol w="2093760"/>
                <a:gridCol w="1578240"/>
                <a:gridCol w="1576440"/>
                <a:gridCol w="157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LN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LN2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L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.1 ±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1.3 ± 2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1.6 ± 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4.7 ± 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1.7 ± 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1.7 ± 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8.2 ± 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9 ± 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9.6 ± 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 ± 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9.8 ± 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0 ± 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1175" name="Right Arrow 6"/>
          <p:cNvSpPr/>
          <p:nvPr/>
        </p:nvSpPr>
        <p:spPr>
          <a:xfrm>
            <a:off x="457200" y="5943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Box 5"/>
          <p:cNvSpPr/>
          <p:nvPr/>
        </p:nvSpPr>
        <p:spPr>
          <a:xfrm>
            <a:off x="3579480" y="1442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Box 7"/>
          <p:cNvSpPr/>
          <p:nvPr/>
        </p:nvSpPr>
        <p:spPr>
          <a:xfrm>
            <a:off x="1388880" y="3892680"/>
            <a:ext cx="22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MLN1: MSL 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MLN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L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lide Number Placeholder 8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78E-7E48-4CBC-BF55-853F0052418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6AA-BCF6-4128-9194-9F2D4EC7042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Biochemical dat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981" name="Content Placeholder 6" descr="mutagens.gif"/>
          <p:cNvPicPr/>
          <p:nvPr/>
        </p:nvPicPr>
        <p:blipFill>
          <a:blip r:embed="rId1"/>
          <a:stretch/>
        </p:blipFill>
        <p:spPr>
          <a:xfrm>
            <a:off x="3809880" y="1676520"/>
            <a:ext cx="4724640" cy="4952880"/>
          </a:xfrm>
          <a:prstGeom prst="rect">
            <a:avLst/>
          </a:prstGeom>
          <a:ln w="0">
            <a:noFill/>
          </a:ln>
        </p:spPr>
      </p:pic>
      <p:sp>
        <p:nvSpPr>
          <p:cNvPr id="982" name="TextBox 7"/>
          <p:cNvSpPr/>
          <p:nvPr/>
        </p:nvSpPr>
        <p:spPr>
          <a:xfrm>
            <a:off x="380880" y="3657600"/>
            <a:ext cx="3429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ting mutage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Srinivasan et. al, 19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posed approach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1180" name="Group 3"/>
          <p:cNvGrpSpPr/>
          <p:nvPr/>
        </p:nvGrpSpPr>
        <p:grpSpPr>
          <a:xfrm>
            <a:off x="533520" y="1600200"/>
            <a:ext cx="4266720" cy="4214520"/>
            <a:chOff x="533520" y="1600200"/>
            <a:chExt cx="4266720" cy="4214520"/>
          </a:xfrm>
        </p:grpSpPr>
        <p:sp>
          <p:nvSpPr>
            <p:cNvPr id="1181" name="Rectangle 4"/>
            <p:cNvSpPr/>
            <p:nvPr/>
          </p:nvSpPr>
          <p:spPr>
            <a:xfrm>
              <a:off x="830880" y="1972440"/>
              <a:ext cx="23814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5"/>
            <p:cNvSpPr/>
            <p:nvPr/>
          </p:nvSpPr>
          <p:spPr>
            <a:xfrm>
              <a:off x="762480" y="2487600"/>
              <a:ext cx="3144240" cy="2146320"/>
            </a:xfrm>
            <a:prstGeom prst="rect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4617b"/>
                  </a:solidFill>
                  <a:latin typeface="Tahoma"/>
                </a:rPr>
                <a:t>Clause Learn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6"/>
            <p:cNvSpPr/>
            <p:nvPr/>
          </p:nvSpPr>
          <p:spPr>
            <a:xfrm>
              <a:off x="632160" y="1600200"/>
              <a:ext cx="337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617b"/>
                  </a:solidFill>
                  <a:latin typeface="Tahoma"/>
                </a:rPr>
                <a:t>Step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7"/>
            <p:cNvSpPr/>
            <p:nvPr/>
          </p:nvSpPr>
          <p:spPr>
            <a:xfrm>
              <a:off x="533520" y="5415840"/>
              <a:ext cx="42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4617b"/>
                  </a:solidFill>
                  <a:latin typeface="Tahoma"/>
                </a:rPr>
                <a:t>(Generating candidate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20"/>
          <p:cNvGrpSpPr/>
          <p:nvPr/>
        </p:nvGrpSpPr>
        <p:grpSpPr>
          <a:xfrm>
            <a:off x="4419720" y="1600200"/>
            <a:ext cx="4266720" cy="4192200"/>
            <a:chOff x="4419720" y="1600200"/>
            <a:chExt cx="4266720" cy="4192200"/>
          </a:xfrm>
        </p:grpSpPr>
        <p:sp>
          <p:nvSpPr>
            <p:cNvPr id="1186" name="Text Box 21"/>
            <p:cNvSpPr/>
            <p:nvPr/>
          </p:nvSpPr>
          <p:spPr>
            <a:xfrm>
              <a:off x="4419720" y="160020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617b"/>
                  </a:solidFill>
                  <a:latin typeface="Tahoma"/>
                </a:rPr>
                <a:t>Step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22"/>
            <p:cNvSpPr/>
            <p:nvPr/>
          </p:nvSpPr>
          <p:spPr>
            <a:xfrm>
              <a:off x="4571280" y="539352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4617b"/>
                  </a:solidFill>
                  <a:latin typeface="Tahoma"/>
                </a:rPr>
                <a:t>(Selecting good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Group 23"/>
            <p:cNvGrpSpPr/>
            <p:nvPr/>
          </p:nvGrpSpPr>
          <p:grpSpPr>
            <a:xfrm>
              <a:off x="5104440" y="2890080"/>
              <a:ext cx="3180960" cy="2010600"/>
              <a:chOff x="5104440" y="2890080"/>
              <a:chExt cx="3180960" cy="2010600"/>
            </a:xfrm>
          </p:grpSpPr>
          <p:grpSp>
            <p:nvGrpSpPr>
              <p:cNvPr id="1189" name="Group 25"/>
              <p:cNvGrpSpPr/>
              <p:nvPr/>
            </p:nvGrpSpPr>
            <p:grpSpPr>
              <a:xfrm>
                <a:off x="5172480" y="2890080"/>
                <a:ext cx="3110400" cy="1995120"/>
                <a:chOff x="5172480" y="2890080"/>
                <a:chExt cx="3110400" cy="1995120"/>
              </a:xfrm>
            </p:grpSpPr>
            <p:sp>
              <p:nvSpPr>
                <p:cNvPr id="1190" name="Freeform 26"/>
                <p:cNvSpPr/>
                <p:nvPr/>
              </p:nvSpPr>
              <p:spPr>
                <a:xfrm>
                  <a:off x="5624640" y="4125960"/>
                  <a:ext cx="151560" cy="504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17" h="92">
                      <a:moveTo>
                        <a:pt x="117" y="26"/>
                      </a:moveTo>
                      <a:lnTo>
                        <a:pt x="110" y="30"/>
                      </a:lnTo>
                      <a:lnTo>
                        <a:pt x="85" y="43"/>
                      </a:lnTo>
                      <a:lnTo>
                        <a:pt x="60" y="58"/>
                      </a:lnTo>
                      <a:lnTo>
                        <a:pt x="35" y="73"/>
                      </a:lnTo>
                      <a:lnTo>
                        <a:pt x="11" y="89"/>
                      </a:lnTo>
                      <a:lnTo>
                        <a:pt x="6" y="92"/>
                      </a:lnTo>
                      <a:lnTo>
                        <a:pt x="6" y="81"/>
                      </a:lnTo>
                      <a:lnTo>
                        <a:pt x="5" y="70"/>
                      </a:lnTo>
                      <a:lnTo>
                        <a:pt x="5" y="58"/>
                      </a:lnTo>
                      <a:lnTo>
                        <a:pt x="4" y="47"/>
                      </a:lnTo>
                      <a:lnTo>
                        <a:pt x="2" y="35"/>
                      </a:lnTo>
                      <a:lnTo>
                        <a:pt x="2" y="24"/>
                      </a:lnTo>
                      <a:lnTo>
                        <a:pt x="1" y="1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1" y="21"/>
                      </a:lnTo>
                      <a:lnTo>
                        <a:pt x="11" y="26"/>
                      </a:lnTo>
                      <a:lnTo>
                        <a:pt x="24" y="26"/>
                      </a:lnTo>
                      <a:lnTo>
                        <a:pt x="37" y="26"/>
                      </a:lnTo>
                      <a:lnTo>
                        <a:pt x="51" y="26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0" y="26"/>
                      </a:lnTo>
                      <a:lnTo>
                        <a:pt x="104" y="26"/>
                      </a:lnTo>
                      <a:lnTo>
                        <a:pt x="117" y="2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27"/>
                <p:cNvSpPr/>
                <p:nvPr/>
              </p:nvSpPr>
              <p:spPr>
                <a:xfrm>
                  <a:off x="5630040" y="4139640"/>
                  <a:ext cx="1476360" cy="110160"/>
                </a:xfrm>
                <a:custGeom>
                  <a:avLst/>
                  <a:gdLst>
                    <a:gd name="textAreaLeft" fmla="*/ 0 w 1476360"/>
                    <a:gd name="textAreaRight" fmla="*/ 1476720 w 147636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1129" h="198">
                      <a:moveTo>
                        <a:pt x="111" y="0"/>
                      </a:moveTo>
                      <a:lnTo>
                        <a:pt x="104" y="4"/>
                      </a:lnTo>
                      <a:lnTo>
                        <a:pt x="79" y="17"/>
                      </a:lnTo>
                      <a:lnTo>
                        <a:pt x="54" y="32"/>
                      </a:lnTo>
                      <a:lnTo>
                        <a:pt x="29" y="47"/>
                      </a:lnTo>
                      <a:lnTo>
                        <a:pt x="5" y="63"/>
                      </a:lnTo>
                      <a:lnTo>
                        <a:pt x="0" y="66"/>
                      </a:lnTo>
                      <a:lnTo>
                        <a:pt x="1" y="84"/>
                      </a:lnTo>
                      <a:lnTo>
                        <a:pt x="2" y="100"/>
                      </a:lnTo>
                      <a:lnTo>
                        <a:pt x="2" y="118"/>
                      </a:lnTo>
                      <a:lnTo>
                        <a:pt x="3" y="134"/>
                      </a:lnTo>
                      <a:lnTo>
                        <a:pt x="3" y="150"/>
                      </a:lnTo>
                      <a:lnTo>
                        <a:pt x="3" y="166"/>
                      </a:lnTo>
                      <a:lnTo>
                        <a:pt x="3" y="183"/>
                      </a:lnTo>
                      <a:lnTo>
                        <a:pt x="3" y="198"/>
                      </a:lnTo>
                      <a:lnTo>
                        <a:pt x="9" y="194"/>
                      </a:lnTo>
                      <a:lnTo>
                        <a:pt x="30" y="177"/>
                      </a:lnTo>
                      <a:lnTo>
                        <a:pt x="53" y="162"/>
                      </a:lnTo>
                      <a:lnTo>
                        <a:pt x="75" y="147"/>
                      </a:lnTo>
                      <a:lnTo>
                        <a:pt x="98" y="134"/>
                      </a:lnTo>
                      <a:lnTo>
                        <a:pt x="121" y="120"/>
                      </a:lnTo>
                      <a:lnTo>
                        <a:pt x="145" y="107"/>
                      </a:lnTo>
                      <a:lnTo>
                        <a:pt x="168" y="94"/>
                      </a:lnTo>
                      <a:lnTo>
                        <a:pt x="192" y="84"/>
                      </a:lnTo>
                      <a:lnTo>
                        <a:pt x="216" y="73"/>
                      </a:lnTo>
                      <a:lnTo>
                        <a:pt x="241" y="62"/>
                      </a:lnTo>
                      <a:lnTo>
                        <a:pt x="266" y="52"/>
                      </a:lnTo>
                      <a:lnTo>
                        <a:pt x="292" y="44"/>
                      </a:lnTo>
                      <a:lnTo>
                        <a:pt x="316" y="36"/>
                      </a:lnTo>
                      <a:lnTo>
                        <a:pt x="343" y="28"/>
                      </a:lnTo>
                      <a:lnTo>
                        <a:pt x="368" y="23"/>
                      </a:lnTo>
                      <a:lnTo>
                        <a:pt x="395" y="16"/>
                      </a:lnTo>
                      <a:lnTo>
                        <a:pt x="420" y="12"/>
                      </a:lnTo>
                      <a:lnTo>
                        <a:pt x="447" y="6"/>
                      </a:lnTo>
                      <a:lnTo>
                        <a:pt x="469" y="4"/>
                      </a:lnTo>
                      <a:lnTo>
                        <a:pt x="424" y="2"/>
                      </a:lnTo>
                      <a:lnTo>
                        <a:pt x="380" y="2"/>
                      </a:lnTo>
                      <a:lnTo>
                        <a:pt x="335" y="1"/>
                      </a:lnTo>
                      <a:lnTo>
                        <a:pt x="289" y="1"/>
                      </a:lnTo>
                      <a:lnTo>
                        <a:pt x="245" y="1"/>
                      </a:lnTo>
                      <a:lnTo>
                        <a:pt x="200" y="0"/>
                      </a:lnTo>
                      <a:lnTo>
                        <a:pt x="156" y="0"/>
                      </a:lnTo>
                      <a:lnTo>
                        <a:pt x="111" y="0"/>
                      </a:lnTo>
                      <a:close/>
                      <a:moveTo>
                        <a:pt x="1129" y="173"/>
                      </a:moveTo>
                      <a:lnTo>
                        <a:pt x="1113" y="162"/>
                      </a:lnTo>
                      <a:lnTo>
                        <a:pt x="1091" y="147"/>
                      </a:lnTo>
                      <a:lnTo>
                        <a:pt x="1068" y="134"/>
                      </a:lnTo>
                      <a:lnTo>
                        <a:pt x="1044" y="120"/>
                      </a:lnTo>
                      <a:lnTo>
                        <a:pt x="1021" y="107"/>
                      </a:lnTo>
                      <a:lnTo>
                        <a:pt x="997" y="94"/>
                      </a:lnTo>
                      <a:lnTo>
                        <a:pt x="974" y="84"/>
                      </a:lnTo>
                      <a:lnTo>
                        <a:pt x="949" y="73"/>
                      </a:lnTo>
                      <a:lnTo>
                        <a:pt x="924" y="62"/>
                      </a:lnTo>
                      <a:lnTo>
                        <a:pt x="900" y="52"/>
                      </a:lnTo>
                      <a:lnTo>
                        <a:pt x="874" y="44"/>
                      </a:lnTo>
                      <a:lnTo>
                        <a:pt x="849" y="36"/>
                      </a:lnTo>
                      <a:lnTo>
                        <a:pt x="823" y="28"/>
                      </a:lnTo>
                      <a:lnTo>
                        <a:pt x="798" y="23"/>
                      </a:lnTo>
                      <a:lnTo>
                        <a:pt x="779" y="19"/>
                      </a:lnTo>
                      <a:lnTo>
                        <a:pt x="820" y="21"/>
                      </a:lnTo>
                      <a:lnTo>
                        <a:pt x="860" y="24"/>
                      </a:lnTo>
                      <a:lnTo>
                        <a:pt x="900" y="28"/>
                      </a:lnTo>
                      <a:lnTo>
                        <a:pt x="940" y="32"/>
                      </a:lnTo>
                      <a:lnTo>
                        <a:pt x="981" y="36"/>
                      </a:lnTo>
                      <a:lnTo>
                        <a:pt x="1020" y="40"/>
                      </a:lnTo>
                      <a:lnTo>
                        <a:pt x="1061" y="46"/>
                      </a:lnTo>
                      <a:lnTo>
                        <a:pt x="1100" y="51"/>
                      </a:lnTo>
                      <a:lnTo>
                        <a:pt x="1105" y="66"/>
                      </a:lnTo>
                      <a:lnTo>
                        <a:pt x="1108" y="80"/>
                      </a:lnTo>
                      <a:lnTo>
                        <a:pt x="1113" y="94"/>
                      </a:lnTo>
                      <a:lnTo>
                        <a:pt x="1116" y="111"/>
                      </a:lnTo>
                      <a:lnTo>
                        <a:pt x="1120" y="126"/>
                      </a:lnTo>
                      <a:lnTo>
                        <a:pt x="1123" y="142"/>
                      </a:lnTo>
                      <a:lnTo>
                        <a:pt x="1127" y="157"/>
                      </a:lnTo>
                      <a:lnTo>
                        <a:pt x="1129" y="173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28"/>
                <p:cNvSpPr/>
                <p:nvPr/>
              </p:nvSpPr>
              <p:spPr>
                <a:xfrm>
                  <a:off x="5624640" y="4142880"/>
                  <a:ext cx="1518480" cy="188640"/>
                </a:xfrm>
                <a:custGeom>
                  <a:avLst/>
                  <a:gdLst>
                    <a:gd name="textAreaLeft" fmla="*/ 0 w 1518480"/>
                    <a:gd name="textAreaRight" fmla="*/ 1518840 w 151848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163" h="340">
                      <a:moveTo>
                        <a:pt x="1135" y="169"/>
                      </a:moveTo>
                      <a:lnTo>
                        <a:pt x="1119" y="158"/>
                      </a:lnTo>
                      <a:lnTo>
                        <a:pt x="1097" y="143"/>
                      </a:lnTo>
                      <a:lnTo>
                        <a:pt x="1074" y="130"/>
                      </a:lnTo>
                      <a:lnTo>
                        <a:pt x="1050" y="116"/>
                      </a:lnTo>
                      <a:lnTo>
                        <a:pt x="1027" y="103"/>
                      </a:lnTo>
                      <a:lnTo>
                        <a:pt x="1003" y="90"/>
                      </a:lnTo>
                      <a:lnTo>
                        <a:pt x="980" y="80"/>
                      </a:lnTo>
                      <a:lnTo>
                        <a:pt x="955" y="69"/>
                      </a:lnTo>
                      <a:lnTo>
                        <a:pt x="930" y="58"/>
                      </a:lnTo>
                      <a:lnTo>
                        <a:pt x="906" y="48"/>
                      </a:lnTo>
                      <a:lnTo>
                        <a:pt x="880" y="40"/>
                      </a:lnTo>
                      <a:lnTo>
                        <a:pt x="855" y="32"/>
                      </a:lnTo>
                      <a:lnTo>
                        <a:pt x="829" y="24"/>
                      </a:lnTo>
                      <a:lnTo>
                        <a:pt x="804" y="19"/>
                      </a:lnTo>
                      <a:lnTo>
                        <a:pt x="785" y="15"/>
                      </a:lnTo>
                      <a:lnTo>
                        <a:pt x="747" y="12"/>
                      </a:lnTo>
                      <a:lnTo>
                        <a:pt x="708" y="9"/>
                      </a:lnTo>
                      <a:lnTo>
                        <a:pt x="669" y="6"/>
                      </a:lnTo>
                      <a:lnTo>
                        <a:pt x="630" y="5"/>
                      </a:lnTo>
                      <a:lnTo>
                        <a:pt x="592" y="4"/>
                      </a:lnTo>
                      <a:lnTo>
                        <a:pt x="552" y="2"/>
                      </a:lnTo>
                      <a:lnTo>
                        <a:pt x="514" y="1"/>
                      </a:lnTo>
                      <a:lnTo>
                        <a:pt x="475" y="0"/>
                      </a:lnTo>
                      <a:lnTo>
                        <a:pt x="453" y="2"/>
                      </a:lnTo>
                      <a:lnTo>
                        <a:pt x="426" y="8"/>
                      </a:lnTo>
                      <a:lnTo>
                        <a:pt x="401" y="12"/>
                      </a:lnTo>
                      <a:lnTo>
                        <a:pt x="374" y="19"/>
                      </a:lnTo>
                      <a:lnTo>
                        <a:pt x="349" y="24"/>
                      </a:lnTo>
                      <a:lnTo>
                        <a:pt x="322" y="32"/>
                      </a:lnTo>
                      <a:lnTo>
                        <a:pt x="298" y="40"/>
                      </a:lnTo>
                      <a:lnTo>
                        <a:pt x="272" y="48"/>
                      </a:lnTo>
                      <a:lnTo>
                        <a:pt x="247" y="58"/>
                      </a:lnTo>
                      <a:lnTo>
                        <a:pt x="222" y="69"/>
                      </a:lnTo>
                      <a:lnTo>
                        <a:pt x="198" y="80"/>
                      </a:lnTo>
                      <a:lnTo>
                        <a:pt x="174" y="90"/>
                      </a:lnTo>
                      <a:lnTo>
                        <a:pt x="151" y="103"/>
                      </a:lnTo>
                      <a:lnTo>
                        <a:pt x="127" y="116"/>
                      </a:lnTo>
                      <a:lnTo>
                        <a:pt x="104" y="130"/>
                      </a:lnTo>
                      <a:lnTo>
                        <a:pt x="81" y="143"/>
                      </a:lnTo>
                      <a:lnTo>
                        <a:pt x="59" y="158"/>
                      </a:lnTo>
                      <a:lnTo>
                        <a:pt x="36" y="173"/>
                      </a:lnTo>
                      <a:lnTo>
                        <a:pt x="15" y="190"/>
                      </a:lnTo>
                      <a:lnTo>
                        <a:pt x="9" y="194"/>
                      </a:lnTo>
                      <a:lnTo>
                        <a:pt x="8" y="213"/>
                      </a:lnTo>
                      <a:lnTo>
                        <a:pt x="8" y="232"/>
                      </a:lnTo>
                      <a:lnTo>
                        <a:pt x="7" y="251"/>
                      </a:lnTo>
                      <a:lnTo>
                        <a:pt x="6" y="268"/>
                      </a:lnTo>
                      <a:lnTo>
                        <a:pt x="5" y="287"/>
                      </a:lnTo>
                      <a:lnTo>
                        <a:pt x="4" y="305"/>
                      </a:lnTo>
                      <a:lnTo>
                        <a:pt x="2" y="323"/>
                      </a:lnTo>
                      <a:lnTo>
                        <a:pt x="0" y="340"/>
                      </a:lnTo>
                      <a:lnTo>
                        <a:pt x="9" y="332"/>
                      </a:lnTo>
                      <a:lnTo>
                        <a:pt x="48" y="299"/>
                      </a:lnTo>
                      <a:lnTo>
                        <a:pt x="87" y="271"/>
                      </a:lnTo>
                      <a:lnTo>
                        <a:pt x="127" y="242"/>
                      </a:lnTo>
                      <a:lnTo>
                        <a:pt x="169" y="218"/>
                      </a:lnTo>
                      <a:lnTo>
                        <a:pt x="212" y="195"/>
                      </a:lnTo>
                      <a:lnTo>
                        <a:pt x="234" y="185"/>
                      </a:lnTo>
                      <a:lnTo>
                        <a:pt x="256" y="175"/>
                      </a:lnTo>
                      <a:lnTo>
                        <a:pt x="278" y="165"/>
                      </a:lnTo>
                      <a:lnTo>
                        <a:pt x="301" y="157"/>
                      </a:lnTo>
                      <a:lnTo>
                        <a:pt x="323" y="149"/>
                      </a:lnTo>
                      <a:lnTo>
                        <a:pt x="346" y="142"/>
                      </a:lnTo>
                      <a:lnTo>
                        <a:pt x="371" y="135"/>
                      </a:lnTo>
                      <a:lnTo>
                        <a:pt x="394" y="128"/>
                      </a:lnTo>
                      <a:lnTo>
                        <a:pt x="417" y="124"/>
                      </a:lnTo>
                      <a:lnTo>
                        <a:pt x="441" y="119"/>
                      </a:lnTo>
                      <a:lnTo>
                        <a:pt x="466" y="115"/>
                      </a:lnTo>
                      <a:lnTo>
                        <a:pt x="490" y="112"/>
                      </a:lnTo>
                      <a:lnTo>
                        <a:pt x="514" y="109"/>
                      </a:lnTo>
                      <a:lnTo>
                        <a:pt x="539" y="108"/>
                      </a:lnTo>
                      <a:lnTo>
                        <a:pt x="564" y="107"/>
                      </a:lnTo>
                      <a:lnTo>
                        <a:pt x="588" y="107"/>
                      </a:lnTo>
                      <a:lnTo>
                        <a:pt x="614" y="107"/>
                      </a:lnTo>
                      <a:lnTo>
                        <a:pt x="638" y="108"/>
                      </a:lnTo>
                      <a:lnTo>
                        <a:pt x="664" y="109"/>
                      </a:lnTo>
                      <a:lnTo>
                        <a:pt x="688" y="112"/>
                      </a:lnTo>
                      <a:lnTo>
                        <a:pt x="712" y="115"/>
                      </a:lnTo>
                      <a:lnTo>
                        <a:pt x="737" y="119"/>
                      </a:lnTo>
                      <a:lnTo>
                        <a:pt x="760" y="124"/>
                      </a:lnTo>
                      <a:lnTo>
                        <a:pt x="784" y="128"/>
                      </a:lnTo>
                      <a:lnTo>
                        <a:pt x="807" y="135"/>
                      </a:lnTo>
                      <a:lnTo>
                        <a:pt x="830" y="142"/>
                      </a:lnTo>
                      <a:lnTo>
                        <a:pt x="854" y="149"/>
                      </a:lnTo>
                      <a:lnTo>
                        <a:pt x="877" y="157"/>
                      </a:lnTo>
                      <a:lnTo>
                        <a:pt x="899" y="165"/>
                      </a:lnTo>
                      <a:lnTo>
                        <a:pt x="922" y="175"/>
                      </a:lnTo>
                      <a:lnTo>
                        <a:pt x="944" y="185"/>
                      </a:lnTo>
                      <a:lnTo>
                        <a:pt x="966" y="195"/>
                      </a:lnTo>
                      <a:lnTo>
                        <a:pt x="1009" y="218"/>
                      </a:lnTo>
                      <a:lnTo>
                        <a:pt x="1050" y="242"/>
                      </a:lnTo>
                      <a:lnTo>
                        <a:pt x="1091" y="271"/>
                      </a:lnTo>
                      <a:lnTo>
                        <a:pt x="1130" y="299"/>
                      </a:lnTo>
                      <a:lnTo>
                        <a:pt x="1163" y="327"/>
                      </a:lnTo>
                      <a:lnTo>
                        <a:pt x="1159" y="308"/>
                      </a:lnTo>
                      <a:lnTo>
                        <a:pt x="1156" y="287"/>
                      </a:lnTo>
                      <a:lnTo>
                        <a:pt x="1152" y="267"/>
                      </a:lnTo>
                      <a:lnTo>
                        <a:pt x="1149" y="248"/>
                      </a:lnTo>
                      <a:lnTo>
                        <a:pt x="1145" y="228"/>
                      </a:lnTo>
                      <a:lnTo>
                        <a:pt x="1142" y="209"/>
                      </a:lnTo>
                      <a:lnTo>
                        <a:pt x="1138" y="188"/>
                      </a:lnTo>
                      <a:lnTo>
                        <a:pt x="1135" y="169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29"/>
                <p:cNvSpPr/>
                <p:nvPr/>
              </p:nvSpPr>
              <p:spPr>
                <a:xfrm>
                  <a:off x="5180040" y="4201200"/>
                  <a:ext cx="2475000" cy="672480"/>
                </a:xfrm>
                <a:custGeom>
                  <a:avLst/>
                  <a:gdLst>
                    <a:gd name="textAreaLeft" fmla="*/ 0 w 2475000"/>
                    <a:gd name="textAreaRight" fmla="*/ 2475360 w 24750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1894" h="1205">
                      <a:moveTo>
                        <a:pt x="1502" y="220"/>
                      </a:moveTo>
                      <a:lnTo>
                        <a:pt x="1469" y="192"/>
                      </a:lnTo>
                      <a:lnTo>
                        <a:pt x="1430" y="164"/>
                      </a:lnTo>
                      <a:lnTo>
                        <a:pt x="1389" y="135"/>
                      </a:lnTo>
                      <a:lnTo>
                        <a:pt x="1348" y="111"/>
                      </a:lnTo>
                      <a:lnTo>
                        <a:pt x="1305" y="88"/>
                      </a:lnTo>
                      <a:lnTo>
                        <a:pt x="1283" y="78"/>
                      </a:lnTo>
                      <a:lnTo>
                        <a:pt x="1261" y="68"/>
                      </a:lnTo>
                      <a:lnTo>
                        <a:pt x="1238" y="58"/>
                      </a:lnTo>
                      <a:lnTo>
                        <a:pt x="1216" y="50"/>
                      </a:lnTo>
                      <a:lnTo>
                        <a:pt x="1193" y="42"/>
                      </a:lnTo>
                      <a:lnTo>
                        <a:pt x="1169" y="35"/>
                      </a:lnTo>
                      <a:lnTo>
                        <a:pt x="1146" y="28"/>
                      </a:lnTo>
                      <a:lnTo>
                        <a:pt x="1123" y="21"/>
                      </a:lnTo>
                      <a:lnTo>
                        <a:pt x="1099" y="17"/>
                      </a:lnTo>
                      <a:lnTo>
                        <a:pt x="1076" y="12"/>
                      </a:lnTo>
                      <a:lnTo>
                        <a:pt x="1051" y="8"/>
                      </a:lnTo>
                      <a:lnTo>
                        <a:pt x="1027" y="5"/>
                      </a:lnTo>
                      <a:lnTo>
                        <a:pt x="1003" y="2"/>
                      </a:lnTo>
                      <a:lnTo>
                        <a:pt x="977" y="1"/>
                      </a:lnTo>
                      <a:lnTo>
                        <a:pt x="953" y="0"/>
                      </a:lnTo>
                      <a:lnTo>
                        <a:pt x="927" y="0"/>
                      </a:lnTo>
                      <a:lnTo>
                        <a:pt x="903" y="0"/>
                      </a:lnTo>
                      <a:lnTo>
                        <a:pt x="878" y="1"/>
                      </a:lnTo>
                      <a:lnTo>
                        <a:pt x="853" y="2"/>
                      </a:lnTo>
                      <a:lnTo>
                        <a:pt x="829" y="5"/>
                      </a:lnTo>
                      <a:lnTo>
                        <a:pt x="805" y="8"/>
                      </a:lnTo>
                      <a:lnTo>
                        <a:pt x="780" y="12"/>
                      </a:lnTo>
                      <a:lnTo>
                        <a:pt x="756" y="17"/>
                      </a:lnTo>
                      <a:lnTo>
                        <a:pt x="733" y="21"/>
                      </a:lnTo>
                      <a:lnTo>
                        <a:pt x="710" y="28"/>
                      </a:lnTo>
                      <a:lnTo>
                        <a:pt x="685" y="35"/>
                      </a:lnTo>
                      <a:lnTo>
                        <a:pt x="662" y="42"/>
                      </a:lnTo>
                      <a:lnTo>
                        <a:pt x="640" y="50"/>
                      </a:lnTo>
                      <a:lnTo>
                        <a:pt x="617" y="58"/>
                      </a:lnTo>
                      <a:lnTo>
                        <a:pt x="595" y="68"/>
                      </a:lnTo>
                      <a:lnTo>
                        <a:pt x="573" y="78"/>
                      </a:lnTo>
                      <a:lnTo>
                        <a:pt x="551" y="88"/>
                      </a:lnTo>
                      <a:lnTo>
                        <a:pt x="508" y="111"/>
                      </a:lnTo>
                      <a:lnTo>
                        <a:pt x="466" y="135"/>
                      </a:lnTo>
                      <a:lnTo>
                        <a:pt x="426" y="164"/>
                      </a:lnTo>
                      <a:lnTo>
                        <a:pt x="387" y="192"/>
                      </a:lnTo>
                      <a:lnTo>
                        <a:pt x="348" y="225"/>
                      </a:lnTo>
                      <a:lnTo>
                        <a:pt x="339" y="233"/>
                      </a:lnTo>
                      <a:lnTo>
                        <a:pt x="337" y="258"/>
                      </a:lnTo>
                      <a:lnTo>
                        <a:pt x="333" y="281"/>
                      </a:lnTo>
                      <a:lnTo>
                        <a:pt x="330" y="304"/>
                      </a:lnTo>
                      <a:lnTo>
                        <a:pt x="326" y="327"/>
                      </a:lnTo>
                      <a:lnTo>
                        <a:pt x="322" y="350"/>
                      </a:lnTo>
                      <a:lnTo>
                        <a:pt x="318" y="372"/>
                      </a:lnTo>
                      <a:lnTo>
                        <a:pt x="312" y="395"/>
                      </a:lnTo>
                      <a:lnTo>
                        <a:pt x="308" y="416"/>
                      </a:lnTo>
                      <a:lnTo>
                        <a:pt x="311" y="412"/>
                      </a:lnTo>
                      <a:lnTo>
                        <a:pt x="341" y="378"/>
                      </a:lnTo>
                      <a:lnTo>
                        <a:pt x="374" y="346"/>
                      </a:lnTo>
                      <a:lnTo>
                        <a:pt x="406" y="316"/>
                      </a:lnTo>
                      <a:lnTo>
                        <a:pt x="441" y="287"/>
                      </a:lnTo>
                      <a:lnTo>
                        <a:pt x="476" y="260"/>
                      </a:lnTo>
                      <a:lnTo>
                        <a:pt x="513" y="236"/>
                      </a:lnTo>
                      <a:lnTo>
                        <a:pt x="550" y="213"/>
                      </a:lnTo>
                      <a:lnTo>
                        <a:pt x="588" y="192"/>
                      </a:lnTo>
                      <a:lnTo>
                        <a:pt x="629" y="175"/>
                      </a:lnTo>
                      <a:lnTo>
                        <a:pt x="669" y="159"/>
                      </a:lnTo>
                      <a:lnTo>
                        <a:pt x="710" y="145"/>
                      </a:lnTo>
                      <a:lnTo>
                        <a:pt x="752" y="133"/>
                      </a:lnTo>
                      <a:lnTo>
                        <a:pt x="795" y="125"/>
                      </a:lnTo>
                      <a:lnTo>
                        <a:pt x="838" y="118"/>
                      </a:lnTo>
                      <a:lnTo>
                        <a:pt x="883" y="114"/>
                      </a:lnTo>
                      <a:lnTo>
                        <a:pt x="927" y="112"/>
                      </a:lnTo>
                      <a:lnTo>
                        <a:pt x="973" y="114"/>
                      </a:lnTo>
                      <a:lnTo>
                        <a:pt x="1017" y="118"/>
                      </a:lnTo>
                      <a:lnTo>
                        <a:pt x="1061" y="125"/>
                      </a:lnTo>
                      <a:lnTo>
                        <a:pt x="1103" y="133"/>
                      </a:lnTo>
                      <a:lnTo>
                        <a:pt x="1145" y="145"/>
                      </a:lnTo>
                      <a:lnTo>
                        <a:pt x="1187" y="159"/>
                      </a:lnTo>
                      <a:lnTo>
                        <a:pt x="1227" y="175"/>
                      </a:lnTo>
                      <a:lnTo>
                        <a:pt x="1267" y="192"/>
                      </a:lnTo>
                      <a:lnTo>
                        <a:pt x="1306" y="213"/>
                      </a:lnTo>
                      <a:lnTo>
                        <a:pt x="1343" y="236"/>
                      </a:lnTo>
                      <a:lnTo>
                        <a:pt x="1379" y="260"/>
                      </a:lnTo>
                      <a:lnTo>
                        <a:pt x="1415" y="287"/>
                      </a:lnTo>
                      <a:lnTo>
                        <a:pt x="1448" y="316"/>
                      </a:lnTo>
                      <a:lnTo>
                        <a:pt x="1482" y="346"/>
                      </a:lnTo>
                      <a:lnTo>
                        <a:pt x="1513" y="378"/>
                      </a:lnTo>
                      <a:lnTo>
                        <a:pt x="1542" y="410"/>
                      </a:lnTo>
                      <a:lnTo>
                        <a:pt x="1535" y="388"/>
                      </a:lnTo>
                      <a:lnTo>
                        <a:pt x="1530" y="365"/>
                      </a:lnTo>
                      <a:lnTo>
                        <a:pt x="1524" y="342"/>
                      </a:lnTo>
                      <a:lnTo>
                        <a:pt x="1519" y="319"/>
                      </a:lnTo>
                      <a:lnTo>
                        <a:pt x="1514" y="294"/>
                      </a:lnTo>
                      <a:lnTo>
                        <a:pt x="1510" y="270"/>
                      </a:lnTo>
                      <a:lnTo>
                        <a:pt x="1505" y="244"/>
                      </a:lnTo>
                      <a:lnTo>
                        <a:pt x="1502" y="220"/>
                      </a:lnTo>
                      <a:close/>
                      <a:moveTo>
                        <a:pt x="1855" y="1134"/>
                      </a:moveTo>
                      <a:lnTo>
                        <a:pt x="1799" y="1134"/>
                      </a:lnTo>
                      <a:lnTo>
                        <a:pt x="1798" y="1081"/>
                      </a:lnTo>
                      <a:lnTo>
                        <a:pt x="1795" y="1030"/>
                      </a:lnTo>
                      <a:lnTo>
                        <a:pt x="1794" y="1019"/>
                      </a:lnTo>
                      <a:lnTo>
                        <a:pt x="1800" y="1034"/>
                      </a:lnTo>
                      <a:lnTo>
                        <a:pt x="1807" y="1049"/>
                      </a:lnTo>
                      <a:lnTo>
                        <a:pt x="1816" y="1062"/>
                      </a:lnTo>
                      <a:lnTo>
                        <a:pt x="1822" y="1077"/>
                      </a:lnTo>
                      <a:lnTo>
                        <a:pt x="1831" y="1091"/>
                      </a:lnTo>
                      <a:lnTo>
                        <a:pt x="1839" y="1106"/>
                      </a:lnTo>
                      <a:lnTo>
                        <a:pt x="1847" y="1119"/>
                      </a:lnTo>
                      <a:lnTo>
                        <a:pt x="1855" y="1134"/>
                      </a:lnTo>
                      <a:close/>
                      <a:moveTo>
                        <a:pt x="1562" y="434"/>
                      </a:moveTo>
                      <a:lnTo>
                        <a:pt x="1547" y="415"/>
                      </a:lnTo>
                      <a:lnTo>
                        <a:pt x="1555" y="415"/>
                      </a:lnTo>
                      <a:lnTo>
                        <a:pt x="1555" y="418"/>
                      </a:lnTo>
                      <a:lnTo>
                        <a:pt x="1556" y="420"/>
                      </a:lnTo>
                      <a:lnTo>
                        <a:pt x="1557" y="422"/>
                      </a:lnTo>
                      <a:lnTo>
                        <a:pt x="1558" y="424"/>
                      </a:lnTo>
                      <a:lnTo>
                        <a:pt x="1560" y="427"/>
                      </a:lnTo>
                      <a:lnTo>
                        <a:pt x="1561" y="430"/>
                      </a:lnTo>
                      <a:lnTo>
                        <a:pt x="1561" y="431"/>
                      </a:lnTo>
                      <a:lnTo>
                        <a:pt x="1562" y="434"/>
                      </a:lnTo>
                      <a:close/>
                      <a:moveTo>
                        <a:pt x="59" y="1054"/>
                      </a:moveTo>
                      <a:lnTo>
                        <a:pt x="58" y="1081"/>
                      </a:lnTo>
                      <a:lnTo>
                        <a:pt x="57" y="1134"/>
                      </a:lnTo>
                      <a:lnTo>
                        <a:pt x="58" y="1186"/>
                      </a:lnTo>
                      <a:lnTo>
                        <a:pt x="59" y="1201"/>
                      </a:lnTo>
                      <a:lnTo>
                        <a:pt x="51" y="1201"/>
                      </a:lnTo>
                      <a:lnTo>
                        <a:pt x="44" y="1201"/>
                      </a:lnTo>
                      <a:lnTo>
                        <a:pt x="36" y="1199"/>
                      </a:lnTo>
                      <a:lnTo>
                        <a:pt x="29" y="1199"/>
                      </a:lnTo>
                      <a:lnTo>
                        <a:pt x="22" y="1199"/>
                      </a:lnTo>
                      <a:lnTo>
                        <a:pt x="14" y="1198"/>
                      </a:lnTo>
                      <a:lnTo>
                        <a:pt x="7" y="1198"/>
                      </a:lnTo>
                      <a:lnTo>
                        <a:pt x="0" y="1198"/>
                      </a:lnTo>
                      <a:lnTo>
                        <a:pt x="7" y="1179"/>
                      </a:lnTo>
                      <a:lnTo>
                        <a:pt x="15" y="1160"/>
                      </a:lnTo>
                      <a:lnTo>
                        <a:pt x="22" y="1142"/>
                      </a:lnTo>
                      <a:lnTo>
                        <a:pt x="30" y="1125"/>
                      </a:lnTo>
                      <a:lnTo>
                        <a:pt x="37" y="1107"/>
                      </a:lnTo>
                      <a:lnTo>
                        <a:pt x="45" y="1089"/>
                      </a:lnTo>
                      <a:lnTo>
                        <a:pt x="52" y="1072"/>
                      </a:lnTo>
                      <a:lnTo>
                        <a:pt x="59" y="1054"/>
                      </a:lnTo>
                      <a:close/>
                      <a:moveTo>
                        <a:pt x="1797" y="1205"/>
                      </a:moveTo>
                      <a:lnTo>
                        <a:pt x="1798" y="1186"/>
                      </a:lnTo>
                      <a:lnTo>
                        <a:pt x="1799" y="1134"/>
                      </a:lnTo>
                      <a:lnTo>
                        <a:pt x="1855" y="1134"/>
                      </a:lnTo>
                      <a:lnTo>
                        <a:pt x="1860" y="1142"/>
                      </a:lnTo>
                      <a:lnTo>
                        <a:pt x="1864" y="1150"/>
                      </a:lnTo>
                      <a:lnTo>
                        <a:pt x="1869" y="1159"/>
                      </a:lnTo>
                      <a:lnTo>
                        <a:pt x="1873" y="1165"/>
                      </a:lnTo>
                      <a:lnTo>
                        <a:pt x="1879" y="1173"/>
                      </a:lnTo>
                      <a:lnTo>
                        <a:pt x="1884" y="1182"/>
                      </a:lnTo>
                      <a:lnTo>
                        <a:pt x="1888" y="1190"/>
                      </a:lnTo>
                      <a:lnTo>
                        <a:pt x="1894" y="1198"/>
                      </a:lnTo>
                      <a:lnTo>
                        <a:pt x="1882" y="1199"/>
                      </a:lnTo>
                      <a:lnTo>
                        <a:pt x="1870" y="1199"/>
                      </a:lnTo>
                      <a:lnTo>
                        <a:pt x="1857" y="1201"/>
                      </a:lnTo>
                      <a:lnTo>
                        <a:pt x="1846" y="1202"/>
                      </a:lnTo>
                      <a:lnTo>
                        <a:pt x="1833" y="1202"/>
                      </a:lnTo>
                      <a:lnTo>
                        <a:pt x="1821" y="1203"/>
                      </a:lnTo>
                      <a:lnTo>
                        <a:pt x="1809" y="1205"/>
                      </a:lnTo>
                      <a:lnTo>
                        <a:pt x="1797" y="1205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30"/>
                <p:cNvSpPr/>
                <p:nvPr/>
              </p:nvSpPr>
              <p:spPr>
                <a:xfrm>
                  <a:off x="5253480" y="4264560"/>
                  <a:ext cx="2278800" cy="612000"/>
                </a:xfrm>
                <a:custGeom>
                  <a:avLst/>
                  <a:gdLst>
                    <a:gd name="textAreaLeft" fmla="*/ 0 w 2278800"/>
                    <a:gd name="textAreaRight" fmla="*/ 2279160 w 2278800"/>
                    <a:gd name="textAreaTop" fmla="*/ 0 h 612000"/>
                    <a:gd name="textAreaBottom" fmla="*/ 612360 h 612000"/>
                  </a:gdLst>
                  <a:ahLst/>
                  <a:rect l="textAreaLeft" t="textAreaTop" r="textAreaRight" b="textAreaBottom"/>
                  <a:pathLst>
                    <a:path w="1742" h="1099">
                      <a:moveTo>
                        <a:pt x="1742" y="1022"/>
                      </a:moveTo>
                      <a:lnTo>
                        <a:pt x="1741" y="969"/>
                      </a:lnTo>
                      <a:lnTo>
                        <a:pt x="1738" y="918"/>
                      </a:lnTo>
                      <a:lnTo>
                        <a:pt x="1737" y="907"/>
                      </a:lnTo>
                      <a:lnTo>
                        <a:pt x="1719" y="871"/>
                      </a:lnTo>
                      <a:lnTo>
                        <a:pt x="1703" y="835"/>
                      </a:lnTo>
                      <a:lnTo>
                        <a:pt x="1687" y="798"/>
                      </a:lnTo>
                      <a:lnTo>
                        <a:pt x="1672" y="762"/>
                      </a:lnTo>
                      <a:lnTo>
                        <a:pt x="1642" y="687"/>
                      </a:lnTo>
                      <a:lnTo>
                        <a:pt x="1614" y="612"/>
                      </a:lnTo>
                      <a:lnTo>
                        <a:pt x="1586" y="539"/>
                      </a:lnTo>
                      <a:lnTo>
                        <a:pt x="1559" y="466"/>
                      </a:lnTo>
                      <a:lnTo>
                        <a:pt x="1533" y="393"/>
                      </a:lnTo>
                      <a:lnTo>
                        <a:pt x="1505" y="322"/>
                      </a:lnTo>
                      <a:lnTo>
                        <a:pt x="1490" y="303"/>
                      </a:lnTo>
                      <a:lnTo>
                        <a:pt x="1486" y="303"/>
                      </a:lnTo>
                      <a:lnTo>
                        <a:pt x="1486" y="302"/>
                      </a:lnTo>
                      <a:lnTo>
                        <a:pt x="1486" y="302"/>
                      </a:lnTo>
                      <a:lnTo>
                        <a:pt x="1486" y="300"/>
                      </a:lnTo>
                      <a:lnTo>
                        <a:pt x="1485" y="300"/>
                      </a:lnTo>
                      <a:lnTo>
                        <a:pt x="1485" y="299"/>
                      </a:lnTo>
                      <a:lnTo>
                        <a:pt x="1485" y="299"/>
                      </a:lnTo>
                      <a:lnTo>
                        <a:pt x="1485" y="298"/>
                      </a:lnTo>
                      <a:lnTo>
                        <a:pt x="1485" y="298"/>
                      </a:lnTo>
                      <a:lnTo>
                        <a:pt x="1456" y="266"/>
                      </a:lnTo>
                      <a:lnTo>
                        <a:pt x="1425" y="234"/>
                      </a:lnTo>
                      <a:lnTo>
                        <a:pt x="1391" y="204"/>
                      </a:lnTo>
                      <a:lnTo>
                        <a:pt x="1358" y="175"/>
                      </a:lnTo>
                      <a:lnTo>
                        <a:pt x="1322" y="148"/>
                      </a:lnTo>
                      <a:lnTo>
                        <a:pt x="1286" y="124"/>
                      </a:lnTo>
                      <a:lnTo>
                        <a:pt x="1249" y="101"/>
                      </a:lnTo>
                      <a:lnTo>
                        <a:pt x="1210" y="80"/>
                      </a:lnTo>
                      <a:lnTo>
                        <a:pt x="1170" y="63"/>
                      </a:lnTo>
                      <a:lnTo>
                        <a:pt x="1130" y="47"/>
                      </a:lnTo>
                      <a:lnTo>
                        <a:pt x="1088" y="33"/>
                      </a:lnTo>
                      <a:lnTo>
                        <a:pt x="1046" y="21"/>
                      </a:lnTo>
                      <a:lnTo>
                        <a:pt x="1004" y="13"/>
                      </a:lnTo>
                      <a:lnTo>
                        <a:pt x="960" y="6"/>
                      </a:lnTo>
                      <a:lnTo>
                        <a:pt x="916" y="2"/>
                      </a:lnTo>
                      <a:lnTo>
                        <a:pt x="870" y="0"/>
                      </a:lnTo>
                      <a:lnTo>
                        <a:pt x="826" y="2"/>
                      </a:lnTo>
                      <a:lnTo>
                        <a:pt x="781" y="6"/>
                      </a:lnTo>
                      <a:lnTo>
                        <a:pt x="738" y="13"/>
                      </a:lnTo>
                      <a:lnTo>
                        <a:pt x="695" y="21"/>
                      </a:lnTo>
                      <a:lnTo>
                        <a:pt x="653" y="33"/>
                      </a:lnTo>
                      <a:lnTo>
                        <a:pt x="612" y="47"/>
                      </a:lnTo>
                      <a:lnTo>
                        <a:pt x="572" y="63"/>
                      </a:lnTo>
                      <a:lnTo>
                        <a:pt x="531" y="80"/>
                      </a:lnTo>
                      <a:lnTo>
                        <a:pt x="493" y="101"/>
                      </a:lnTo>
                      <a:lnTo>
                        <a:pt x="456" y="124"/>
                      </a:lnTo>
                      <a:lnTo>
                        <a:pt x="419" y="148"/>
                      </a:lnTo>
                      <a:lnTo>
                        <a:pt x="384" y="175"/>
                      </a:lnTo>
                      <a:lnTo>
                        <a:pt x="349" y="204"/>
                      </a:lnTo>
                      <a:lnTo>
                        <a:pt x="317" y="234"/>
                      </a:lnTo>
                      <a:lnTo>
                        <a:pt x="284" y="266"/>
                      </a:lnTo>
                      <a:lnTo>
                        <a:pt x="254" y="300"/>
                      </a:lnTo>
                      <a:lnTo>
                        <a:pt x="251" y="304"/>
                      </a:lnTo>
                      <a:lnTo>
                        <a:pt x="240" y="345"/>
                      </a:lnTo>
                      <a:lnTo>
                        <a:pt x="230" y="384"/>
                      </a:lnTo>
                      <a:lnTo>
                        <a:pt x="217" y="424"/>
                      </a:lnTo>
                      <a:lnTo>
                        <a:pt x="204" y="463"/>
                      </a:lnTo>
                      <a:lnTo>
                        <a:pt x="191" y="501"/>
                      </a:lnTo>
                      <a:lnTo>
                        <a:pt x="177" y="540"/>
                      </a:lnTo>
                      <a:lnTo>
                        <a:pt x="162" y="578"/>
                      </a:lnTo>
                      <a:lnTo>
                        <a:pt x="145" y="616"/>
                      </a:lnTo>
                      <a:lnTo>
                        <a:pt x="112" y="694"/>
                      </a:lnTo>
                      <a:lnTo>
                        <a:pt x="77" y="774"/>
                      </a:lnTo>
                      <a:lnTo>
                        <a:pt x="40" y="857"/>
                      </a:lnTo>
                      <a:lnTo>
                        <a:pt x="2" y="942"/>
                      </a:lnTo>
                      <a:lnTo>
                        <a:pt x="1" y="969"/>
                      </a:lnTo>
                      <a:lnTo>
                        <a:pt x="0" y="1022"/>
                      </a:lnTo>
                      <a:lnTo>
                        <a:pt x="1" y="1074"/>
                      </a:lnTo>
                      <a:lnTo>
                        <a:pt x="2" y="1089"/>
                      </a:lnTo>
                      <a:lnTo>
                        <a:pt x="13" y="1089"/>
                      </a:lnTo>
                      <a:lnTo>
                        <a:pt x="26" y="1090"/>
                      </a:lnTo>
                      <a:lnTo>
                        <a:pt x="38" y="1090"/>
                      </a:lnTo>
                      <a:lnTo>
                        <a:pt x="50" y="1091"/>
                      </a:lnTo>
                      <a:lnTo>
                        <a:pt x="62" y="1091"/>
                      </a:lnTo>
                      <a:lnTo>
                        <a:pt x="75" y="1093"/>
                      </a:lnTo>
                      <a:lnTo>
                        <a:pt x="86" y="1093"/>
                      </a:lnTo>
                      <a:lnTo>
                        <a:pt x="99" y="1093"/>
                      </a:lnTo>
                      <a:lnTo>
                        <a:pt x="97" y="1068"/>
                      </a:lnTo>
                      <a:lnTo>
                        <a:pt x="96" y="1022"/>
                      </a:lnTo>
                      <a:lnTo>
                        <a:pt x="97" y="975"/>
                      </a:lnTo>
                      <a:lnTo>
                        <a:pt x="100" y="928"/>
                      </a:lnTo>
                      <a:lnTo>
                        <a:pt x="105" y="884"/>
                      </a:lnTo>
                      <a:lnTo>
                        <a:pt x="112" y="839"/>
                      </a:lnTo>
                      <a:lnTo>
                        <a:pt x="121" y="794"/>
                      </a:lnTo>
                      <a:lnTo>
                        <a:pt x="132" y="752"/>
                      </a:lnTo>
                      <a:lnTo>
                        <a:pt x="143" y="710"/>
                      </a:lnTo>
                      <a:lnTo>
                        <a:pt x="157" y="668"/>
                      </a:lnTo>
                      <a:lnTo>
                        <a:pt x="172" y="629"/>
                      </a:lnTo>
                      <a:lnTo>
                        <a:pt x="189" y="589"/>
                      </a:lnTo>
                      <a:lnTo>
                        <a:pt x="208" y="551"/>
                      </a:lnTo>
                      <a:lnTo>
                        <a:pt x="229" y="515"/>
                      </a:lnTo>
                      <a:lnTo>
                        <a:pt x="250" y="478"/>
                      </a:lnTo>
                      <a:lnTo>
                        <a:pt x="273" y="444"/>
                      </a:lnTo>
                      <a:lnTo>
                        <a:pt x="297" y="412"/>
                      </a:lnTo>
                      <a:lnTo>
                        <a:pt x="323" y="380"/>
                      </a:lnTo>
                      <a:lnTo>
                        <a:pt x="350" y="349"/>
                      </a:lnTo>
                      <a:lnTo>
                        <a:pt x="378" y="321"/>
                      </a:lnTo>
                      <a:lnTo>
                        <a:pt x="407" y="295"/>
                      </a:lnTo>
                      <a:lnTo>
                        <a:pt x="437" y="269"/>
                      </a:lnTo>
                      <a:lnTo>
                        <a:pt x="470" y="246"/>
                      </a:lnTo>
                      <a:lnTo>
                        <a:pt x="502" y="223"/>
                      </a:lnTo>
                      <a:lnTo>
                        <a:pt x="535" y="204"/>
                      </a:lnTo>
                      <a:lnTo>
                        <a:pt x="569" y="185"/>
                      </a:lnTo>
                      <a:lnTo>
                        <a:pt x="604" y="169"/>
                      </a:lnTo>
                      <a:lnTo>
                        <a:pt x="640" y="155"/>
                      </a:lnTo>
                      <a:lnTo>
                        <a:pt x="677" y="143"/>
                      </a:lnTo>
                      <a:lnTo>
                        <a:pt x="715" y="132"/>
                      </a:lnTo>
                      <a:lnTo>
                        <a:pt x="752" y="124"/>
                      </a:lnTo>
                      <a:lnTo>
                        <a:pt x="792" y="118"/>
                      </a:lnTo>
                      <a:lnTo>
                        <a:pt x="831" y="116"/>
                      </a:lnTo>
                      <a:lnTo>
                        <a:pt x="870" y="114"/>
                      </a:lnTo>
                      <a:lnTo>
                        <a:pt x="911" y="116"/>
                      </a:lnTo>
                      <a:lnTo>
                        <a:pt x="950" y="118"/>
                      </a:lnTo>
                      <a:lnTo>
                        <a:pt x="988" y="124"/>
                      </a:lnTo>
                      <a:lnTo>
                        <a:pt x="1027" y="132"/>
                      </a:lnTo>
                      <a:lnTo>
                        <a:pt x="1064" y="143"/>
                      </a:lnTo>
                      <a:lnTo>
                        <a:pt x="1101" y="155"/>
                      </a:lnTo>
                      <a:lnTo>
                        <a:pt x="1137" y="169"/>
                      </a:lnTo>
                      <a:lnTo>
                        <a:pt x="1173" y="185"/>
                      </a:lnTo>
                      <a:lnTo>
                        <a:pt x="1206" y="204"/>
                      </a:lnTo>
                      <a:lnTo>
                        <a:pt x="1240" y="223"/>
                      </a:lnTo>
                      <a:lnTo>
                        <a:pt x="1272" y="246"/>
                      </a:lnTo>
                      <a:lnTo>
                        <a:pt x="1303" y="269"/>
                      </a:lnTo>
                      <a:lnTo>
                        <a:pt x="1334" y="295"/>
                      </a:lnTo>
                      <a:lnTo>
                        <a:pt x="1364" y="321"/>
                      </a:lnTo>
                      <a:lnTo>
                        <a:pt x="1391" y="349"/>
                      </a:lnTo>
                      <a:lnTo>
                        <a:pt x="1418" y="380"/>
                      </a:lnTo>
                      <a:lnTo>
                        <a:pt x="1444" y="412"/>
                      </a:lnTo>
                      <a:lnTo>
                        <a:pt x="1468" y="444"/>
                      </a:lnTo>
                      <a:lnTo>
                        <a:pt x="1491" y="478"/>
                      </a:lnTo>
                      <a:lnTo>
                        <a:pt x="1513" y="515"/>
                      </a:lnTo>
                      <a:lnTo>
                        <a:pt x="1533" y="551"/>
                      </a:lnTo>
                      <a:lnTo>
                        <a:pt x="1551" y="589"/>
                      </a:lnTo>
                      <a:lnTo>
                        <a:pt x="1569" y="629"/>
                      </a:lnTo>
                      <a:lnTo>
                        <a:pt x="1585" y="668"/>
                      </a:lnTo>
                      <a:lnTo>
                        <a:pt x="1599" y="710"/>
                      </a:lnTo>
                      <a:lnTo>
                        <a:pt x="1610" y="752"/>
                      </a:lnTo>
                      <a:lnTo>
                        <a:pt x="1621" y="794"/>
                      </a:lnTo>
                      <a:lnTo>
                        <a:pt x="1630" y="839"/>
                      </a:lnTo>
                      <a:lnTo>
                        <a:pt x="1636" y="884"/>
                      </a:lnTo>
                      <a:lnTo>
                        <a:pt x="1642" y="928"/>
                      </a:lnTo>
                      <a:lnTo>
                        <a:pt x="1644" y="975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lnTo>
                        <a:pt x="1741" y="1074"/>
                      </a:lnTo>
                      <a:lnTo>
                        <a:pt x="1740" y="1093"/>
                      </a:lnTo>
                      <a:lnTo>
                        <a:pt x="1727" y="1094"/>
                      </a:lnTo>
                      <a:lnTo>
                        <a:pt x="1716" y="1094"/>
                      </a:lnTo>
                      <a:lnTo>
                        <a:pt x="1703" y="1095"/>
                      </a:lnTo>
                      <a:lnTo>
                        <a:pt x="1691" y="1095"/>
                      </a:lnTo>
                      <a:lnTo>
                        <a:pt x="1679" y="1097"/>
                      </a:lnTo>
                      <a:lnTo>
                        <a:pt x="1667" y="1098"/>
                      </a:lnTo>
                      <a:lnTo>
                        <a:pt x="1654" y="1098"/>
                      </a:lnTo>
                      <a:lnTo>
                        <a:pt x="1643" y="1099"/>
                      </a:lnTo>
                      <a:lnTo>
                        <a:pt x="1644" y="1068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31"/>
                <p:cNvSpPr/>
                <p:nvPr/>
              </p:nvSpPr>
              <p:spPr>
                <a:xfrm>
                  <a:off x="5378400" y="4328280"/>
                  <a:ext cx="2025720" cy="551880"/>
                </a:xfrm>
                <a:custGeom>
                  <a:avLst/>
                  <a:gdLst>
                    <a:gd name="textAreaLeft" fmla="*/ 0 w 2025720"/>
                    <a:gd name="textAreaRight" fmla="*/ 2026080 w 2025720"/>
                    <a:gd name="textAreaTop" fmla="*/ 0 h 551880"/>
                    <a:gd name="textAreaBottom" fmla="*/ 552240 h 551880"/>
                  </a:gdLst>
                  <a:ahLst/>
                  <a:rect l="textAreaLeft" t="textAreaTop" r="textAreaRight" b="textAreaBottom"/>
                  <a:pathLst>
                    <a:path w="1549" h="990">
                      <a:moveTo>
                        <a:pt x="1549" y="908"/>
                      </a:moveTo>
                      <a:lnTo>
                        <a:pt x="1548" y="861"/>
                      </a:lnTo>
                      <a:lnTo>
                        <a:pt x="1546" y="814"/>
                      </a:lnTo>
                      <a:lnTo>
                        <a:pt x="1540" y="770"/>
                      </a:lnTo>
                      <a:lnTo>
                        <a:pt x="1534" y="725"/>
                      </a:lnTo>
                      <a:lnTo>
                        <a:pt x="1525" y="680"/>
                      </a:lnTo>
                      <a:lnTo>
                        <a:pt x="1514" y="638"/>
                      </a:lnTo>
                      <a:lnTo>
                        <a:pt x="1503" y="596"/>
                      </a:lnTo>
                      <a:lnTo>
                        <a:pt x="1489" y="554"/>
                      </a:lnTo>
                      <a:lnTo>
                        <a:pt x="1473" y="515"/>
                      </a:lnTo>
                      <a:lnTo>
                        <a:pt x="1455" y="475"/>
                      </a:lnTo>
                      <a:lnTo>
                        <a:pt x="1437" y="437"/>
                      </a:lnTo>
                      <a:lnTo>
                        <a:pt x="1417" y="401"/>
                      </a:lnTo>
                      <a:lnTo>
                        <a:pt x="1395" y="364"/>
                      </a:lnTo>
                      <a:lnTo>
                        <a:pt x="1372" y="330"/>
                      </a:lnTo>
                      <a:lnTo>
                        <a:pt x="1348" y="298"/>
                      </a:lnTo>
                      <a:lnTo>
                        <a:pt x="1322" y="266"/>
                      </a:lnTo>
                      <a:lnTo>
                        <a:pt x="1295" y="235"/>
                      </a:lnTo>
                      <a:lnTo>
                        <a:pt x="1268" y="207"/>
                      </a:lnTo>
                      <a:lnTo>
                        <a:pt x="1238" y="181"/>
                      </a:lnTo>
                      <a:lnTo>
                        <a:pt x="1207" y="155"/>
                      </a:lnTo>
                      <a:lnTo>
                        <a:pt x="1176" y="132"/>
                      </a:lnTo>
                      <a:lnTo>
                        <a:pt x="1144" y="109"/>
                      </a:lnTo>
                      <a:lnTo>
                        <a:pt x="1110" y="90"/>
                      </a:lnTo>
                      <a:lnTo>
                        <a:pt x="1077" y="71"/>
                      </a:lnTo>
                      <a:lnTo>
                        <a:pt x="1041" y="55"/>
                      </a:lnTo>
                      <a:lnTo>
                        <a:pt x="1005" y="41"/>
                      </a:lnTo>
                      <a:lnTo>
                        <a:pt x="968" y="29"/>
                      </a:lnTo>
                      <a:lnTo>
                        <a:pt x="931" y="18"/>
                      </a:lnTo>
                      <a:lnTo>
                        <a:pt x="892" y="10"/>
                      </a:lnTo>
                      <a:lnTo>
                        <a:pt x="854" y="4"/>
                      </a:lnTo>
                      <a:lnTo>
                        <a:pt x="815" y="2"/>
                      </a:lnTo>
                      <a:lnTo>
                        <a:pt x="774" y="0"/>
                      </a:lnTo>
                      <a:lnTo>
                        <a:pt x="735" y="2"/>
                      </a:lnTo>
                      <a:lnTo>
                        <a:pt x="696" y="4"/>
                      </a:lnTo>
                      <a:lnTo>
                        <a:pt x="656" y="10"/>
                      </a:lnTo>
                      <a:lnTo>
                        <a:pt x="619" y="18"/>
                      </a:lnTo>
                      <a:lnTo>
                        <a:pt x="581" y="29"/>
                      </a:lnTo>
                      <a:lnTo>
                        <a:pt x="544" y="41"/>
                      </a:lnTo>
                      <a:lnTo>
                        <a:pt x="508" y="55"/>
                      </a:lnTo>
                      <a:lnTo>
                        <a:pt x="473" y="71"/>
                      </a:lnTo>
                      <a:lnTo>
                        <a:pt x="439" y="90"/>
                      </a:lnTo>
                      <a:lnTo>
                        <a:pt x="406" y="109"/>
                      </a:lnTo>
                      <a:lnTo>
                        <a:pt x="374" y="132"/>
                      </a:lnTo>
                      <a:lnTo>
                        <a:pt x="341" y="155"/>
                      </a:lnTo>
                      <a:lnTo>
                        <a:pt x="311" y="181"/>
                      </a:lnTo>
                      <a:lnTo>
                        <a:pt x="282" y="207"/>
                      </a:lnTo>
                      <a:lnTo>
                        <a:pt x="254" y="235"/>
                      </a:lnTo>
                      <a:lnTo>
                        <a:pt x="227" y="266"/>
                      </a:lnTo>
                      <a:lnTo>
                        <a:pt x="201" y="298"/>
                      </a:lnTo>
                      <a:lnTo>
                        <a:pt x="177" y="330"/>
                      </a:lnTo>
                      <a:lnTo>
                        <a:pt x="154" y="364"/>
                      </a:lnTo>
                      <a:lnTo>
                        <a:pt x="133" y="401"/>
                      </a:lnTo>
                      <a:lnTo>
                        <a:pt x="112" y="437"/>
                      </a:lnTo>
                      <a:lnTo>
                        <a:pt x="93" y="475"/>
                      </a:lnTo>
                      <a:lnTo>
                        <a:pt x="76" y="515"/>
                      </a:lnTo>
                      <a:lnTo>
                        <a:pt x="61" y="554"/>
                      </a:lnTo>
                      <a:lnTo>
                        <a:pt x="47" y="596"/>
                      </a:lnTo>
                      <a:lnTo>
                        <a:pt x="36" y="638"/>
                      </a:lnTo>
                      <a:lnTo>
                        <a:pt x="25" y="680"/>
                      </a:lnTo>
                      <a:lnTo>
                        <a:pt x="16" y="725"/>
                      </a:lnTo>
                      <a:lnTo>
                        <a:pt x="9" y="770"/>
                      </a:lnTo>
                      <a:lnTo>
                        <a:pt x="4" y="814"/>
                      </a:lnTo>
                      <a:lnTo>
                        <a:pt x="1" y="861"/>
                      </a:lnTo>
                      <a:lnTo>
                        <a:pt x="0" y="908"/>
                      </a:lnTo>
                      <a:lnTo>
                        <a:pt x="1" y="954"/>
                      </a:lnTo>
                      <a:lnTo>
                        <a:pt x="3" y="979"/>
                      </a:lnTo>
                      <a:lnTo>
                        <a:pt x="15" y="980"/>
                      </a:lnTo>
                      <a:lnTo>
                        <a:pt x="27" y="980"/>
                      </a:lnTo>
                      <a:lnTo>
                        <a:pt x="39" y="981"/>
                      </a:lnTo>
                      <a:lnTo>
                        <a:pt x="52" y="981"/>
                      </a:lnTo>
                      <a:lnTo>
                        <a:pt x="63" y="981"/>
                      </a:lnTo>
                      <a:lnTo>
                        <a:pt x="76" y="983"/>
                      </a:lnTo>
                      <a:lnTo>
                        <a:pt x="88" y="983"/>
                      </a:lnTo>
                      <a:lnTo>
                        <a:pt x="100" y="983"/>
                      </a:lnTo>
                      <a:lnTo>
                        <a:pt x="98" y="949"/>
                      </a:lnTo>
                      <a:lnTo>
                        <a:pt x="97" y="908"/>
                      </a:lnTo>
                      <a:lnTo>
                        <a:pt x="98" y="866"/>
                      </a:lnTo>
                      <a:lnTo>
                        <a:pt x="100" y="827"/>
                      </a:lnTo>
                      <a:lnTo>
                        <a:pt x="105" y="786"/>
                      </a:lnTo>
                      <a:lnTo>
                        <a:pt x="111" y="748"/>
                      </a:lnTo>
                      <a:lnTo>
                        <a:pt x="119" y="709"/>
                      </a:lnTo>
                      <a:lnTo>
                        <a:pt x="127" y="672"/>
                      </a:lnTo>
                      <a:lnTo>
                        <a:pt x="139" y="634"/>
                      </a:lnTo>
                      <a:lnTo>
                        <a:pt x="150" y="599"/>
                      </a:lnTo>
                      <a:lnTo>
                        <a:pt x="164" y="563"/>
                      </a:lnTo>
                      <a:lnTo>
                        <a:pt x="179" y="530"/>
                      </a:lnTo>
                      <a:lnTo>
                        <a:pt x="195" y="496"/>
                      </a:lnTo>
                      <a:lnTo>
                        <a:pt x="213" y="463"/>
                      </a:lnTo>
                      <a:lnTo>
                        <a:pt x="231" y="432"/>
                      </a:lnTo>
                      <a:lnTo>
                        <a:pt x="252" y="402"/>
                      </a:lnTo>
                      <a:lnTo>
                        <a:pt x="273" y="373"/>
                      </a:lnTo>
                      <a:lnTo>
                        <a:pt x="296" y="346"/>
                      </a:lnTo>
                      <a:lnTo>
                        <a:pt x="319" y="319"/>
                      </a:lnTo>
                      <a:lnTo>
                        <a:pt x="344" y="295"/>
                      </a:lnTo>
                      <a:lnTo>
                        <a:pt x="369" y="272"/>
                      </a:lnTo>
                      <a:lnTo>
                        <a:pt x="396" y="249"/>
                      </a:lnTo>
                      <a:lnTo>
                        <a:pt x="423" y="228"/>
                      </a:lnTo>
                      <a:lnTo>
                        <a:pt x="451" y="209"/>
                      </a:lnTo>
                      <a:lnTo>
                        <a:pt x="481" y="192"/>
                      </a:lnTo>
                      <a:lnTo>
                        <a:pt x="511" y="175"/>
                      </a:lnTo>
                      <a:lnTo>
                        <a:pt x="542" y="162"/>
                      </a:lnTo>
                      <a:lnTo>
                        <a:pt x="573" y="150"/>
                      </a:lnTo>
                      <a:lnTo>
                        <a:pt x="605" y="139"/>
                      </a:lnTo>
                      <a:lnTo>
                        <a:pt x="638" y="129"/>
                      </a:lnTo>
                      <a:lnTo>
                        <a:pt x="671" y="122"/>
                      </a:lnTo>
                      <a:lnTo>
                        <a:pt x="705" y="117"/>
                      </a:lnTo>
                      <a:lnTo>
                        <a:pt x="740" y="114"/>
                      </a:lnTo>
                      <a:lnTo>
                        <a:pt x="774" y="113"/>
                      </a:lnTo>
                      <a:lnTo>
                        <a:pt x="809" y="114"/>
                      </a:lnTo>
                      <a:lnTo>
                        <a:pt x="844" y="117"/>
                      </a:lnTo>
                      <a:lnTo>
                        <a:pt x="877" y="122"/>
                      </a:lnTo>
                      <a:lnTo>
                        <a:pt x="911" y="129"/>
                      </a:lnTo>
                      <a:lnTo>
                        <a:pt x="945" y="139"/>
                      </a:lnTo>
                      <a:lnTo>
                        <a:pt x="976" y="150"/>
                      </a:lnTo>
                      <a:lnTo>
                        <a:pt x="1008" y="162"/>
                      </a:lnTo>
                      <a:lnTo>
                        <a:pt x="1038" y="175"/>
                      </a:lnTo>
                      <a:lnTo>
                        <a:pt x="1068" y="192"/>
                      </a:lnTo>
                      <a:lnTo>
                        <a:pt x="1097" y="209"/>
                      </a:lnTo>
                      <a:lnTo>
                        <a:pt x="1126" y="228"/>
                      </a:lnTo>
                      <a:lnTo>
                        <a:pt x="1154" y="249"/>
                      </a:lnTo>
                      <a:lnTo>
                        <a:pt x="1180" y="272"/>
                      </a:lnTo>
                      <a:lnTo>
                        <a:pt x="1206" y="295"/>
                      </a:lnTo>
                      <a:lnTo>
                        <a:pt x="1231" y="319"/>
                      </a:lnTo>
                      <a:lnTo>
                        <a:pt x="1254" y="346"/>
                      </a:lnTo>
                      <a:lnTo>
                        <a:pt x="1277" y="373"/>
                      </a:lnTo>
                      <a:lnTo>
                        <a:pt x="1298" y="402"/>
                      </a:lnTo>
                      <a:lnTo>
                        <a:pt x="1317" y="432"/>
                      </a:lnTo>
                      <a:lnTo>
                        <a:pt x="1337" y="463"/>
                      </a:lnTo>
                      <a:lnTo>
                        <a:pt x="1355" y="496"/>
                      </a:lnTo>
                      <a:lnTo>
                        <a:pt x="1371" y="530"/>
                      </a:lnTo>
                      <a:lnTo>
                        <a:pt x="1386" y="563"/>
                      </a:lnTo>
                      <a:lnTo>
                        <a:pt x="1400" y="599"/>
                      </a:lnTo>
                      <a:lnTo>
                        <a:pt x="1411" y="634"/>
                      </a:lnTo>
                      <a:lnTo>
                        <a:pt x="1422" y="672"/>
                      </a:lnTo>
                      <a:lnTo>
                        <a:pt x="1431" y="709"/>
                      </a:lnTo>
                      <a:lnTo>
                        <a:pt x="1439" y="748"/>
                      </a:lnTo>
                      <a:lnTo>
                        <a:pt x="1445" y="786"/>
                      </a:lnTo>
                      <a:lnTo>
                        <a:pt x="1449" y="827"/>
                      </a:lnTo>
                      <a:lnTo>
                        <a:pt x="1452" y="866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lnTo>
                        <a:pt x="1548" y="954"/>
                      </a:lnTo>
                      <a:lnTo>
                        <a:pt x="1547" y="985"/>
                      </a:lnTo>
                      <a:lnTo>
                        <a:pt x="1534" y="985"/>
                      </a:lnTo>
                      <a:lnTo>
                        <a:pt x="1522" y="987"/>
                      </a:lnTo>
                      <a:lnTo>
                        <a:pt x="1510" y="987"/>
                      </a:lnTo>
                      <a:lnTo>
                        <a:pt x="1498" y="987"/>
                      </a:lnTo>
                      <a:lnTo>
                        <a:pt x="1485" y="988"/>
                      </a:lnTo>
                      <a:lnTo>
                        <a:pt x="1474" y="988"/>
                      </a:lnTo>
                      <a:lnTo>
                        <a:pt x="1461" y="990"/>
                      </a:lnTo>
                      <a:lnTo>
                        <a:pt x="1448" y="990"/>
                      </a:lnTo>
                      <a:lnTo>
                        <a:pt x="1449" y="988"/>
                      </a:lnTo>
                      <a:lnTo>
                        <a:pt x="1452" y="949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32"/>
                <p:cNvSpPr/>
                <p:nvPr/>
              </p:nvSpPr>
              <p:spPr>
                <a:xfrm>
                  <a:off x="5506560" y="4390200"/>
                  <a:ext cx="1771920" cy="49176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356" h="881">
                      <a:moveTo>
                        <a:pt x="1356" y="795"/>
                      </a:moveTo>
                      <a:lnTo>
                        <a:pt x="1355" y="753"/>
                      </a:lnTo>
                      <a:lnTo>
                        <a:pt x="1352" y="714"/>
                      </a:lnTo>
                      <a:lnTo>
                        <a:pt x="1348" y="673"/>
                      </a:lnTo>
                      <a:lnTo>
                        <a:pt x="1342" y="635"/>
                      </a:lnTo>
                      <a:lnTo>
                        <a:pt x="1334" y="596"/>
                      </a:lnTo>
                      <a:lnTo>
                        <a:pt x="1325" y="559"/>
                      </a:lnTo>
                      <a:lnTo>
                        <a:pt x="1314" y="521"/>
                      </a:lnTo>
                      <a:lnTo>
                        <a:pt x="1303" y="486"/>
                      </a:lnTo>
                      <a:lnTo>
                        <a:pt x="1289" y="450"/>
                      </a:lnTo>
                      <a:lnTo>
                        <a:pt x="1274" y="417"/>
                      </a:lnTo>
                      <a:lnTo>
                        <a:pt x="1258" y="383"/>
                      </a:lnTo>
                      <a:lnTo>
                        <a:pt x="1240" y="350"/>
                      </a:lnTo>
                      <a:lnTo>
                        <a:pt x="1220" y="319"/>
                      </a:lnTo>
                      <a:lnTo>
                        <a:pt x="1201" y="289"/>
                      </a:lnTo>
                      <a:lnTo>
                        <a:pt x="1180" y="260"/>
                      </a:lnTo>
                      <a:lnTo>
                        <a:pt x="1157" y="233"/>
                      </a:lnTo>
                      <a:lnTo>
                        <a:pt x="1134" y="206"/>
                      </a:lnTo>
                      <a:lnTo>
                        <a:pt x="1109" y="182"/>
                      </a:lnTo>
                      <a:lnTo>
                        <a:pt x="1083" y="159"/>
                      </a:lnTo>
                      <a:lnTo>
                        <a:pt x="1057" y="136"/>
                      </a:lnTo>
                      <a:lnTo>
                        <a:pt x="1029" y="115"/>
                      </a:lnTo>
                      <a:lnTo>
                        <a:pt x="1000" y="96"/>
                      </a:lnTo>
                      <a:lnTo>
                        <a:pt x="971" y="79"/>
                      </a:lnTo>
                      <a:lnTo>
                        <a:pt x="941" y="62"/>
                      </a:lnTo>
                      <a:lnTo>
                        <a:pt x="911" y="49"/>
                      </a:lnTo>
                      <a:lnTo>
                        <a:pt x="879" y="37"/>
                      </a:lnTo>
                      <a:lnTo>
                        <a:pt x="848" y="26"/>
                      </a:lnTo>
                      <a:lnTo>
                        <a:pt x="814" y="16"/>
                      </a:lnTo>
                      <a:lnTo>
                        <a:pt x="780" y="9"/>
                      </a:lnTo>
                      <a:lnTo>
                        <a:pt x="747" y="4"/>
                      </a:lnTo>
                      <a:lnTo>
                        <a:pt x="712" y="1"/>
                      </a:lnTo>
                      <a:lnTo>
                        <a:pt x="677" y="0"/>
                      </a:lnTo>
                      <a:lnTo>
                        <a:pt x="643" y="1"/>
                      </a:lnTo>
                      <a:lnTo>
                        <a:pt x="608" y="4"/>
                      </a:lnTo>
                      <a:lnTo>
                        <a:pt x="574" y="9"/>
                      </a:lnTo>
                      <a:lnTo>
                        <a:pt x="541" y="16"/>
                      </a:lnTo>
                      <a:lnTo>
                        <a:pt x="508" y="26"/>
                      </a:lnTo>
                      <a:lnTo>
                        <a:pt x="476" y="37"/>
                      </a:lnTo>
                      <a:lnTo>
                        <a:pt x="445" y="49"/>
                      </a:lnTo>
                      <a:lnTo>
                        <a:pt x="414" y="62"/>
                      </a:lnTo>
                      <a:lnTo>
                        <a:pt x="384" y="79"/>
                      </a:lnTo>
                      <a:lnTo>
                        <a:pt x="354" y="96"/>
                      </a:lnTo>
                      <a:lnTo>
                        <a:pt x="326" y="115"/>
                      </a:lnTo>
                      <a:lnTo>
                        <a:pt x="299" y="136"/>
                      </a:lnTo>
                      <a:lnTo>
                        <a:pt x="272" y="159"/>
                      </a:lnTo>
                      <a:lnTo>
                        <a:pt x="247" y="182"/>
                      </a:lnTo>
                      <a:lnTo>
                        <a:pt x="222" y="206"/>
                      </a:lnTo>
                      <a:lnTo>
                        <a:pt x="199" y="233"/>
                      </a:lnTo>
                      <a:lnTo>
                        <a:pt x="176" y="260"/>
                      </a:lnTo>
                      <a:lnTo>
                        <a:pt x="155" y="289"/>
                      </a:lnTo>
                      <a:lnTo>
                        <a:pt x="134" y="319"/>
                      </a:lnTo>
                      <a:lnTo>
                        <a:pt x="116" y="350"/>
                      </a:lnTo>
                      <a:lnTo>
                        <a:pt x="98" y="383"/>
                      </a:lnTo>
                      <a:lnTo>
                        <a:pt x="82" y="417"/>
                      </a:lnTo>
                      <a:lnTo>
                        <a:pt x="67" y="450"/>
                      </a:lnTo>
                      <a:lnTo>
                        <a:pt x="53" y="486"/>
                      </a:lnTo>
                      <a:lnTo>
                        <a:pt x="42" y="521"/>
                      </a:lnTo>
                      <a:lnTo>
                        <a:pt x="30" y="559"/>
                      </a:lnTo>
                      <a:lnTo>
                        <a:pt x="22" y="596"/>
                      </a:lnTo>
                      <a:lnTo>
                        <a:pt x="14" y="635"/>
                      </a:lnTo>
                      <a:lnTo>
                        <a:pt x="8" y="673"/>
                      </a:lnTo>
                      <a:lnTo>
                        <a:pt x="3" y="714"/>
                      </a:lnTo>
                      <a:lnTo>
                        <a:pt x="1" y="753"/>
                      </a:lnTo>
                      <a:lnTo>
                        <a:pt x="0" y="795"/>
                      </a:lnTo>
                      <a:lnTo>
                        <a:pt x="1" y="836"/>
                      </a:lnTo>
                      <a:lnTo>
                        <a:pt x="3" y="870"/>
                      </a:lnTo>
                      <a:lnTo>
                        <a:pt x="15" y="871"/>
                      </a:lnTo>
                      <a:lnTo>
                        <a:pt x="28" y="871"/>
                      </a:lnTo>
                      <a:lnTo>
                        <a:pt x="39" y="871"/>
                      </a:lnTo>
                      <a:lnTo>
                        <a:pt x="52" y="872"/>
                      </a:lnTo>
                      <a:lnTo>
                        <a:pt x="64" y="872"/>
                      </a:lnTo>
                      <a:lnTo>
                        <a:pt x="76" y="872"/>
                      </a:lnTo>
                      <a:lnTo>
                        <a:pt x="89" y="874"/>
                      </a:lnTo>
                      <a:lnTo>
                        <a:pt x="101" y="874"/>
                      </a:lnTo>
                      <a:lnTo>
                        <a:pt x="100" y="864"/>
                      </a:lnTo>
                      <a:lnTo>
                        <a:pt x="97" y="829"/>
                      </a:lnTo>
                      <a:lnTo>
                        <a:pt x="97" y="795"/>
                      </a:lnTo>
                      <a:lnTo>
                        <a:pt x="97" y="760"/>
                      </a:lnTo>
                      <a:lnTo>
                        <a:pt x="100" y="725"/>
                      </a:lnTo>
                      <a:lnTo>
                        <a:pt x="103" y="691"/>
                      </a:lnTo>
                      <a:lnTo>
                        <a:pt x="109" y="657"/>
                      </a:lnTo>
                      <a:lnTo>
                        <a:pt x="115" y="624"/>
                      </a:lnTo>
                      <a:lnTo>
                        <a:pt x="123" y="592"/>
                      </a:lnTo>
                      <a:lnTo>
                        <a:pt x="132" y="560"/>
                      </a:lnTo>
                      <a:lnTo>
                        <a:pt x="142" y="529"/>
                      </a:lnTo>
                      <a:lnTo>
                        <a:pt x="154" y="499"/>
                      </a:lnTo>
                      <a:lnTo>
                        <a:pt x="167" y="469"/>
                      </a:lnTo>
                      <a:lnTo>
                        <a:pt x="181" y="441"/>
                      </a:lnTo>
                      <a:lnTo>
                        <a:pt x="196" y="414"/>
                      </a:lnTo>
                      <a:lnTo>
                        <a:pt x="212" y="387"/>
                      </a:lnTo>
                      <a:lnTo>
                        <a:pt x="229" y="362"/>
                      </a:lnTo>
                      <a:lnTo>
                        <a:pt x="248" y="336"/>
                      </a:lnTo>
                      <a:lnTo>
                        <a:pt x="267" y="313"/>
                      </a:lnTo>
                      <a:lnTo>
                        <a:pt x="287" y="290"/>
                      </a:lnTo>
                      <a:lnTo>
                        <a:pt x="308" y="270"/>
                      </a:lnTo>
                      <a:lnTo>
                        <a:pt x="330" y="250"/>
                      </a:lnTo>
                      <a:lnTo>
                        <a:pt x="353" y="231"/>
                      </a:lnTo>
                      <a:lnTo>
                        <a:pt x="376" y="213"/>
                      </a:lnTo>
                      <a:lnTo>
                        <a:pt x="401" y="195"/>
                      </a:lnTo>
                      <a:lnTo>
                        <a:pt x="426" y="180"/>
                      </a:lnTo>
                      <a:lnTo>
                        <a:pt x="452" y="167"/>
                      </a:lnTo>
                      <a:lnTo>
                        <a:pt x="478" y="155"/>
                      </a:lnTo>
                      <a:lnTo>
                        <a:pt x="505" y="144"/>
                      </a:lnTo>
                      <a:lnTo>
                        <a:pt x="533" y="136"/>
                      </a:lnTo>
                      <a:lnTo>
                        <a:pt x="560" y="128"/>
                      </a:lnTo>
                      <a:lnTo>
                        <a:pt x="589" y="122"/>
                      </a:lnTo>
                      <a:lnTo>
                        <a:pt x="618" y="118"/>
                      </a:lnTo>
                      <a:lnTo>
                        <a:pt x="648" y="115"/>
                      </a:lnTo>
                      <a:lnTo>
                        <a:pt x="677" y="114"/>
                      </a:lnTo>
                      <a:lnTo>
                        <a:pt x="707" y="115"/>
                      </a:lnTo>
                      <a:lnTo>
                        <a:pt x="738" y="118"/>
                      </a:lnTo>
                      <a:lnTo>
                        <a:pt x="767" y="122"/>
                      </a:lnTo>
                      <a:lnTo>
                        <a:pt x="794" y="128"/>
                      </a:lnTo>
                      <a:lnTo>
                        <a:pt x="823" y="136"/>
                      </a:lnTo>
                      <a:lnTo>
                        <a:pt x="850" y="144"/>
                      </a:lnTo>
                      <a:lnTo>
                        <a:pt x="878" y="155"/>
                      </a:lnTo>
                      <a:lnTo>
                        <a:pt x="904" y="167"/>
                      </a:lnTo>
                      <a:lnTo>
                        <a:pt x="930" y="180"/>
                      </a:lnTo>
                      <a:lnTo>
                        <a:pt x="954" y="195"/>
                      </a:lnTo>
                      <a:lnTo>
                        <a:pt x="978" y="213"/>
                      </a:lnTo>
                      <a:lnTo>
                        <a:pt x="1003" y="231"/>
                      </a:lnTo>
                      <a:lnTo>
                        <a:pt x="1025" y="250"/>
                      </a:lnTo>
                      <a:lnTo>
                        <a:pt x="1047" y="270"/>
                      </a:lnTo>
                      <a:lnTo>
                        <a:pt x="1069" y="290"/>
                      </a:lnTo>
                      <a:lnTo>
                        <a:pt x="1088" y="313"/>
                      </a:lnTo>
                      <a:lnTo>
                        <a:pt x="1108" y="336"/>
                      </a:lnTo>
                      <a:lnTo>
                        <a:pt x="1125" y="362"/>
                      </a:lnTo>
                      <a:lnTo>
                        <a:pt x="1143" y="387"/>
                      </a:lnTo>
                      <a:lnTo>
                        <a:pt x="1159" y="414"/>
                      </a:lnTo>
                      <a:lnTo>
                        <a:pt x="1174" y="441"/>
                      </a:lnTo>
                      <a:lnTo>
                        <a:pt x="1188" y="469"/>
                      </a:lnTo>
                      <a:lnTo>
                        <a:pt x="1201" y="499"/>
                      </a:lnTo>
                      <a:lnTo>
                        <a:pt x="1213" y="529"/>
                      </a:lnTo>
                      <a:lnTo>
                        <a:pt x="1224" y="560"/>
                      </a:lnTo>
                      <a:lnTo>
                        <a:pt x="1232" y="592"/>
                      </a:lnTo>
                      <a:lnTo>
                        <a:pt x="1240" y="624"/>
                      </a:lnTo>
                      <a:lnTo>
                        <a:pt x="1247" y="657"/>
                      </a:lnTo>
                      <a:lnTo>
                        <a:pt x="1252" y="691"/>
                      </a:lnTo>
                      <a:lnTo>
                        <a:pt x="1255" y="725"/>
                      </a:lnTo>
                      <a:lnTo>
                        <a:pt x="1258" y="760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lnTo>
                        <a:pt x="1355" y="836"/>
                      </a:lnTo>
                      <a:lnTo>
                        <a:pt x="1352" y="875"/>
                      </a:lnTo>
                      <a:lnTo>
                        <a:pt x="1351" y="877"/>
                      </a:lnTo>
                      <a:lnTo>
                        <a:pt x="1340" y="878"/>
                      </a:lnTo>
                      <a:lnTo>
                        <a:pt x="1327" y="878"/>
                      </a:lnTo>
                      <a:lnTo>
                        <a:pt x="1315" y="878"/>
                      </a:lnTo>
                      <a:lnTo>
                        <a:pt x="1303" y="879"/>
                      </a:lnTo>
                      <a:lnTo>
                        <a:pt x="1291" y="879"/>
                      </a:lnTo>
                      <a:lnTo>
                        <a:pt x="1278" y="879"/>
                      </a:lnTo>
                      <a:lnTo>
                        <a:pt x="1266" y="881"/>
                      </a:lnTo>
                      <a:lnTo>
                        <a:pt x="1254" y="881"/>
                      </a:lnTo>
                      <a:lnTo>
                        <a:pt x="1255" y="864"/>
                      </a:lnTo>
                      <a:lnTo>
                        <a:pt x="1258" y="829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33"/>
                <p:cNvSpPr/>
                <p:nvPr/>
              </p:nvSpPr>
              <p:spPr>
                <a:xfrm>
                  <a:off x="5635080" y="4453920"/>
                  <a:ext cx="1515240" cy="429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429480"/>
                    <a:gd name="textAreaBottom" fmla="*/ 429840 h 429480"/>
                  </a:gdLst>
                  <a:ahLst/>
                  <a:rect l="textAreaLeft" t="textAreaTop" r="textAreaRight" b="textAreaBottom"/>
                  <a:pathLst>
                    <a:path w="1162" h="769">
                      <a:moveTo>
                        <a:pt x="1162" y="681"/>
                      </a:moveTo>
                      <a:lnTo>
                        <a:pt x="1161" y="646"/>
                      </a:lnTo>
                      <a:lnTo>
                        <a:pt x="1158" y="611"/>
                      </a:lnTo>
                      <a:lnTo>
                        <a:pt x="1155" y="577"/>
                      </a:lnTo>
                      <a:lnTo>
                        <a:pt x="1150" y="543"/>
                      </a:lnTo>
                      <a:lnTo>
                        <a:pt x="1143" y="510"/>
                      </a:lnTo>
                      <a:lnTo>
                        <a:pt x="1135" y="478"/>
                      </a:lnTo>
                      <a:lnTo>
                        <a:pt x="1127" y="446"/>
                      </a:lnTo>
                      <a:lnTo>
                        <a:pt x="1116" y="415"/>
                      </a:lnTo>
                      <a:lnTo>
                        <a:pt x="1104" y="385"/>
                      </a:lnTo>
                      <a:lnTo>
                        <a:pt x="1091" y="355"/>
                      </a:lnTo>
                      <a:lnTo>
                        <a:pt x="1077" y="327"/>
                      </a:lnTo>
                      <a:lnTo>
                        <a:pt x="1062" y="300"/>
                      </a:lnTo>
                      <a:lnTo>
                        <a:pt x="1046" y="273"/>
                      </a:lnTo>
                      <a:lnTo>
                        <a:pt x="1028" y="248"/>
                      </a:lnTo>
                      <a:lnTo>
                        <a:pt x="1011" y="222"/>
                      </a:lnTo>
                      <a:lnTo>
                        <a:pt x="991" y="199"/>
                      </a:lnTo>
                      <a:lnTo>
                        <a:pt x="972" y="176"/>
                      </a:lnTo>
                      <a:lnTo>
                        <a:pt x="950" y="156"/>
                      </a:lnTo>
                      <a:lnTo>
                        <a:pt x="928" y="136"/>
                      </a:lnTo>
                      <a:lnTo>
                        <a:pt x="906" y="117"/>
                      </a:lnTo>
                      <a:lnTo>
                        <a:pt x="881" y="99"/>
                      </a:lnTo>
                      <a:lnTo>
                        <a:pt x="857" y="81"/>
                      </a:lnTo>
                      <a:lnTo>
                        <a:pt x="833" y="66"/>
                      </a:lnTo>
                      <a:lnTo>
                        <a:pt x="807" y="53"/>
                      </a:lnTo>
                      <a:lnTo>
                        <a:pt x="781" y="41"/>
                      </a:lnTo>
                      <a:lnTo>
                        <a:pt x="753" y="30"/>
                      </a:lnTo>
                      <a:lnTo>
                        <a:pt x="726" y="22"/>
                      </a:lnTo>
                      <a:lnTo>
                        <a:pt x="697" y="14"/>
                      </a:lnTo>
                      <a:lnTo>
                        <a:pt x="670" y="8"/>
                      </a:lnTo>
                      <a:lnTo>
                        <a:pt x="641" y="4"/>
                      </a:lnTo>
                      <a:lnTo>
                        <a:pt x="610" y="1"/>
                      </a:lnTo>
                      <a:lnTo>
                        <a:pt x="580" y="0"/>
                      </a:lnTo>
                      <a:lnTo>
                        <a:pt x="551" y="1"/>
                      </a:lnTo>
                      <a:lnTo>
                        <a:pt x="521" y="4"/>
                      </a:lnTo>
                      <a:lnTo>
                        <a:pt x="492" y="8"/>
                      </a:lnTo>
                      <a:lnTo>
                        <a:pt x="463" y="14"/>
                      </a:lnTo>
                      <a:lnTo>
                        <a:pt x="436" y="22"/>
                      </a:lnTo>
                      <a:lnTo>
                        <a:pt x="408" y="30"/>
                      </a:lnTo>
                      <a:lnTo>
                        <a:pt x="381" y="41"/>
                      </a:lnTo>
                      <a:lnTo>
                        <a:pt x="355" y="53"/>
                      </a:lnTo>
                      <a:lnTo>
                        <a:pt x="329" y="66"/>
                      </a:lnTo>
                      <a:lnTo>
                        <a:pt x="304" y="81"/>
                      </a:lnTo>
                      <a:lnTo>
                        <a:pt x="279" y="99"/>
                      </a:lnTo>
                      <a:lnTo>
                        <a:pt x="256" y="117"/>
                      </a:lnTo>
                      <a:lnTo>
                        <a:pt x="233" y="136"/>
                      </a:lnTo>
                      <a:lnTo>
                        <a:pt x="211" y="156"/>
                      </a:lnTo>
                      <a:lnTo>
                        <a:pt x="190" y="176"/>
                      </a:lnTo>
                      <a:lnTo>
                        <a:pt x="170" y="199"/>
                      </a:lnTo>
                      <a:lnTo>
                        <a:pt x="151" y="222"/>
                      </a:lnTo>
                      <a:lnTo>
                        <a:pt x="132" y="248"/>
                      </a:lnTo>
                      <a:lnTo>
                        <a:pt x="115" y="273"/>
                      </a:lnTo>
                      <a:lnTo>
                        <a:pt x="99" y="300"/>
                      </a:lnTo>
                      <a:lnTo>
                        <a:pt x="84" y="327"/>
                      </a:lnTo>
                      <a:lnTo>
                        <a:pt x="70" y="355"/>
                      </a:lnTo>
                      <a:lnTo>
                        <a:pt x="57" y="385"/>
                      </a:lnTo>
                      <a:lnTo>
                        <a:pt x="45" y="415"/>
                      </a:lnTo>
                      <a:lnTo>
                        <a:pt x="35" y="446"/>
                      </a:lnTo>
                      <a:lnTo>
                        <a:pt x="26" y="478"/>
                      </a:lnTo>
                      <a:lnTo>
                        <a:pt x="18" y="510"/>
                      </a:lnTo>
                      <a:lnTo>
                        <a:pt x="12" y="543"/>
                      </a:lnTo>
                      <a:lnTo>
                        <a:pt x="6" y="577"/>
                      </a:lnTo>
                      <a:lnTo>
                        <a:pt x="3" y="611"/>
                      </a:lnTo>
                      <a:lnTo>
                        <a:pt x="0" y="646"/>
                      </a:lnTo>
                      <a:lnTo>
                        <a:pt x="0" y="681"/>
                      </a:lnTo>
                      <a:lnTo>
                        <a:pt x="0" y="715"/>
                      </a:lnTo>
                      <a:lnTo>
                        <a:pt x="3" y="750"/>
                      </a:lnTo>
                      <a:lnTo>
                        <a:pt x="4" y="760"/>
                      </a:lnTo>
                      <a:lnTo>
                        <a:pt x="16" y="760"/>
                      </a:lnTo>
                      <a:lnTo>
                        <a:pt x="28" y="761"/>
                      </a:lnTo>
                      <a:lnTo>
                        <a:pt x="41" y="761"/>
                      </a:lnTo>
                      <a:lnTo>
                        <a:pt x="52" y="761"/>
                      </a:lnTo>
                      <a:lnTo>
                        <a:pt x="65" y="763"/>
                      </a:lnTo>
                      <a:lnTo>
                        <a:pt x="78" y="763"/>
                      </a:lnTo>
                      <a:lnTo>
                        <a:pt x="89" y="763"/>
                      </a:lnTo>
                      <a:lnTo>
                        <a:pt x="102" y="764"/>
                      </a:lnTo>
                      <a:lnTo>
                        <a:pt x="99" y="738"/>
                      </a:lnTo>
                      <a:lnTo>
                        <a:pt x="97" y="710"/>
                      </a:lnTo>
                      <a:lnTo>
                        <a:pt x="96" y="681"/>
                      </a:lnTo>
                      <a:lnTo>
                        <a:pt x="97" y="651"/>
                      </a:lnTo>
                      <a:lnTo>
                        <a:pt x="99" y="623"/>
                      </a:lnTo>
                      <a:lnTo>
                        <a:pt x="102" y="594"/>
                      </a:lnTo>
                      <a:lnTo>
                        <a:pt x="107" y="566"/>
                      </a:lnTo>
                      <a:lnTo>
                        <a:pt x="111" y="539"/>
                      </a:lnTo>
                      <a:lnTo>
                        <a:pt x="118" y="511"/>
                      </a:lnTo>
                      <a:lnTo>
                        <a:pt x="126" y="486"/>
                      </a:lnTo>
                      <a:lnTo>
                        <a:pt x="135" y="460"/>
                      </a:lnTo>
                      <a:lnTo>
                        <a:pt x="145" y="434"/>
                      </a:lnTo>
                      <a:lnTo>
                        <a:pt x="155" y="410"/>
                      </a:lnTo>
                      <a:lnTo>
                        <a:pt x="167" y="387"/>
                      </a:lnTo>
                      <a:lnTo>
                        <a:pt x="180" y="364"/>
                      </a:lnTo>
                      <a:lnTo>
                        <a:pt x="192" y="341"/>
                      </a:lnTo>
                      <a:lnTo>
                        <a:pt x="207" y="320"/>
                      </a:lnTo>
                      <a:lnTo>
                        <a:pt x="223" y="300"/>
                      </a:lnTo>
                      <a:lnTo>
                        <a:pt x="239" y="279"/>
                      </a:lnTo>
                      <a:lnTo>
                        <a:pt x="255" y="260"/>
                      </a:lnTo>
                      <a:lnTo>
                        <a:pt x="272" y="243"/>
                      </a:lnTo>
                      <a:lnTo>
                        <a:pt x="291" y="227"/>
                      </a:lnTo>
                      <a:lnTo>
                        <a:pt x="311" y="210"/>
                      </a:lnTo>
                      <a:lnTo>
                        <a:pt x="330" y="195"/>
                      </a:lnTo>
                      <a:lnTo>
                        <a:pt x="350" y="182"/>
                      </a:lnTo>
                      <a:lnTo>
                        <a:pt x="371" y="170"/>
                      </a:lnTo>
                      <a:lnTo>
                        <a:pt x="393" y="157"/>
                      </a:lnTo>
                      <a:lnTo>
                        <a:pt x="415" y="148"/>
                      </a:lnTo>
                      <a:lnTo>
                        <a:pt x="437" y="138"/>
                      </a:lnTo>
                      <a:lnTo>
                        <a:pt x="460" y="132"/>
                      </a:lnTo>
                      <a:lnTo>
                        <a:pt x="483" y="125"/>
                      </a:lnTo>
                      <a:lnTo>
                        <a:pt x="507" y="119"/>
                      </a:lnTo>
                      <a:lnTo>
                        <a:pt x="532" y="117"/>
                      </a:lnTo>
                      <a:lnTo>
                        <a:pt x="556" y="114"/>
                      </a:lnTo>
                      <a:lnTo>
                        <a:pt x="580" y="114"/>
                      </a:lnTo>
                      <a:lnTo>
                        <a:pt x="606" y="114"/>
                      </a:lnTo>
                      <a:lnTo>
                        <a:pt x="630" y="117"/>
                      </a:lnTo>
                      <a:lnTo>
                        <a:pt x="654" y="119"/>
                      </a:lnTo>
                      <a:lnTo>
                        <a:pt x="679" y="125"/>
                      </a:lnTo>
                      <a:lnTo>
                        <a:pt x="702" y="132"/>
                      </a:lnTo>
                      <a:lnTo>
                        <a:pt x="725" y="138"/>
                      </a:lnTo>
                      <a:lnTo>
                        <a:pt x="747" y="148"/>
                      </a:lnTo>
                      <a:lnTo>
                        <a:pt x="769" y="157"/>
                      </a:lnTo>
                      <a:lnTo>
                        <a:pt x="791" y="170"/>
                      </a:lnTo>
                      <a:lnTo>
                        <a:pt x="812" y="182"/>
                      </a:lnTo>
                      <a:lnTo>
                        <a:pt x="832" y="195"/>
                      </a:lnTo>
                      <a:lnTo>
                        <a:pt x="851" y="210"/>
                      </a:lnTo>
                      <a:lnTo>
                        <a:pt x="870" y="227"/>
                      </a:lnTo>
                      <a:lnTo>
                        <a:pt x="888" y="243"/>
                      </a:lnTo>
                      <a:lnTo>
                        <a:pt x="906" y="260"/>
                      </a:lnTo>
                      <a:lnTo>
                        <a:pt x="923" y="279"/>
                      </a:lnTo>
                      <a:lnTo>
                        <a:pt x="939" y="300"/>
                      </a:lnTo>
                      <a:lnTo>
                        <a:pt x="954" y="320"/>
                      </a:lnTo>
                      <a:lnTo>
                        <a:pt x="968" y="341"/>
                      </a:lnTo>
                      <a:lnTo>
                        <a:pt x="982" y="364"/>
                      </a:lnTo>
                      <a:lnTo>
                        <a:pt x="995" y="387"/>
                      </a:lnTo>
                      <a:lnTo>
                        <a:pt x="1006" y="410"/>
                      </a:lnTo>
                      <a:lnTo>
                        <a:pt x="1017" y="434"/>
                      </a:lnTo>
                      <a:lnTo>
                        <a:pt x="1026" y="460"/>
                      </a:lnTo>
                      <a:lnTo>
                        <a:pt x="1035" y="486"/>
                      </a:lnTo>
                      <a:lnTo>
                        <a:pt x="1044" y="511"/>
                      </a:lnTo>
                      <a:lnTo>
                        <a:pt x="1049" y="539"/>
                      </a:lnTo>
                      <a:lnTo>
                        <a:pt x="1055" y="566"/>
                      </a:lnTo>
                      <a:lnTo>
                        <a:pt x="1060" y="594"/>
                      </a:lnTo>
                      <a:lnTo>
                        <a:pt x="1062" y="623"/>
                      </a:lnTo>
                      <a:lnTo>
                        <a:pt x="1064" y="651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lnTo>
                        <a:pt x="1161" y="715"/>
                      </a:lnTo>
                      <a:lnTo>
                        <a:pt x="1158" y="750"/>
                      </a:lnTo>
                      <a:lnTo>
                        <a:pt x="1157" y="767"/>
                      </a:lnTo>
                      <a:lnTo>
                        <a:pt x="1144" y="767"/>
                      </a:lnTo>
                      <a:lnTo>
                        <a:pt x="1133" y="768"/>
                      </a:lnTo>
                      <a:lnTo>
                        <a:pt x="1120" y="768"/>
                      </a:lnTo>
                      <a:lnTo>
                        <a:pt x="1108" y="768"/>
                      </a:lnTo>
                      <a:lnTo>
                        <a:pt x="1096" y="768"/>
                      </a:lnTo>
                      <a:lnTo>
                        <a:pt x="1083" y="769"/>
                      </a:lnTo>
                      <a:lnTo>
                        <a:pt x="1071" y="769"/>
                      </a:lnTo>
                      <a:lnTo>
                        <a:pt x="1059" y="769"/>
                      </a:lnTo>
                      <a:lnTo>
                        <a:pt x="1060" y="767"/>
                      </a:lnTo>
                      <a:lnTo>
                        <a:pt x="1062" y="738"/>
                      </a:lnTo>
                      <a:lnTo>
                        <a:pt x="1064" y="710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34"/>
                <p:cNvSpPr/>
                <p:nvPr/>
              </p:nvSpPr>
              <p:spPr>
                <a:xfrm>
                  <a:off x="5760360" y="4517280"/>
                  <a:ext cx="1264680" cy="367920"/>
                </a:xfrm>
                <a:custGeom>
                  <a:avLst/>
                  <a:gdLst>
                    <a:gd name="textAreaLeft" fmla="*/ 0 w 1264680"/>
                    <a:gd name="textAreaRight" fmla="*/ 1265040 w 1264680"/>
                    <a:gd name="textAreaTop" fmla="*/ 0 h 367920"/>
                    <a:gd name="textAreaBottom" fmla="*/ 368280 h 367920"/>
                  </a:gdLst>
                  <a:ahLst/>
                  <a:rect l="textAreaLeft" t="textAreaTop" r="textAreaRight" b="textAreaBottom"/>
                  <a:pathLst>
                    <a:path w="968" h="658">
                      <a:moveTo>
                        <a:pt x="968" y="567"/>
                      </a:moveTo>
                      <a:lnTo>
                        <a:pt x="968" y="537"/>
                      </a:lnTo>
                      <a:lnTo>
                        <a:pt x="966" y="509"/>
                      </a:lnTo>
                      <a:lnTo>
                        <a:pt x="964" y="480"/>
                      </a:lnTo>
                      <a:lnTo>
                        <a:pt x="959" y="452"/>
                      </a:lnTo>
                      <a:lnTo>
                        <a:pt x="953" y="425"/>
                      </a:lnTo>
                      <a:lnTo>
                        <a:pt x="948" y="397"/>
                      </a:lnTo>
                      <a:lnTo>
                        <a:pt x="939" y="372"/>
                      </a:lnTo>
                      <a:lnTo>
                        <a:pt x="930" y="346"/>
                      </a:lnTo>
                      <a:lnTo>
                        <a:pt x="921" y="320"/>
                      </a:lnTo>
                      <a:lnTo>
                        <a:pt x="910" y="296"/>
                      </a:lnTo>
                      <a:lnTo>
                        <a:pt x="899" y="273"/>
                      </a:lnTo>
                      <a:lnTo>
                        <a:pt x="886" y="250"/>
                      </a:lnTo>
                      <a:lnTo>
                        <a:pt x="872" y="227"/>
                      </a:lnTo>
                      <a:lnTo>
                        <a:pt x="858" y="206"/>
                      </a:lnTo>
                      <a:lnTo>
                        <a:pt x="843" y="186"/>
                      </a:lnTo>
                      <a:lnTo>
                        <a:pt x="827" y="165"/>
                      </a:lnTo>
                      <a:lnTo>
                        <a:pt x="810" y="146"/>
                      </a:lnTo>
                      <a:lnTo>
                        <a:pt x="792" y="129"/>
                      </a:lnTo>
                      <a:lnTo>
                        <a:pt x="774" y="113"/>
                      </a:lnTo>
                      <a:lnTo>
                        <a:pt x="755" y="96"/>
                      </a:lnTo>
                      <a:lnTo>
                        <a:pt x="736" y="81"/>
                      </a:lnTo>
                      <a:lnTo>
                        <a:pt x="716" y="68"/>
                      </a:lnTo>
                      <a:lnTo>
                        <a:pt x="695" y="56"/>
                      </a:lnTo>
                      <a:lnTo>
                        <a:pt x="673" y="43"/>
                      </a:lnTo>
                      <a:lnTo>
                        <a:pt x="651" y="34"/>
                      </a:lnTo>
                      <a:lnTo>
                        <a:pt x="629" y="24"/>
                      </a:lnTo>
                      <a:lnTo>
                        <a:pt x="606" y="18"/>
                      </a:lnTo>
                      <a:lnTo>
                        <a:pt x="583" y="11"/>
                      </a:lnTo>
                      <a:lnTo>
                        <a:pt x="558" y="5"/>
                      </a:lnTo>
                      <a:lnTo>
                        <a:pt x="534" y="3"/>
                      </a:lnTo>
                      <a:lnTo>
                        <a:pt x="510" y="0"/>
                      </a:lnTo>
                      <a:lnTo>
                        <a:pt x="484" y="0"/>
                      </a:lnTo>
                      <a:lnTo>
                        <a:pt x="460" y="0"/>
                      </a:lnTo>
                      <a:lnTo>
                        <a:pt x="436" y="3"/>
                      </a:lnTo>
                      <a:lnTo>
                        <a:pt x="411" y="5"/>
                      </a:lnTo>
                      <a:lnTo>
                        <a:pt x="387" y="11"/>
                      </a:lnTo>
                      <a:lnTo>
                        <a:pt x="364" y="18"/>
                      </a:lnTo>
                      <a:lnTo>
                        <a:pt x="341" y="24"/>
                      </a:lnTo>
                      <a:lnTo>
                        <a:pt x="319" y="34"/>
                      </a:lnTo>
                      <a:lnTo>
                        <a:pt x="297" y="43"/>
                      </a:lnTo>
                      <a:lnTo>
                        <a:pt x="275" y="56"/>
                      </a:lnTo>
                      <a:lnTo>
                        <a:pt x="254" y="68"/>
                      </a:lnTo>
                      <a:lnTo>
                        <a:pt x="234" y="81"/>
                      </a:lnTo>
                      <a:lnTo>
                        <a:pt x="215" y="96"/>
                      </a:lnTo>
                      <a:lnTo>
                        <a:pt x="195" y="113"/>
                      </a:lnTo>
                      <a:lnTo>
                        <a:pt x="176" y="129"/>
                      </a:lnTo>
                      <a:lnTo>
                        <a:pt x="159" y="146"/>
                      </a:lnTo>
                      <a:lnTo>
                        <a:pt x="143" y="165"/>
                      </a:lnTo>
                      <a:lnTo>
                        <a:pt x="127" y="186"/>
                      </a:lnTo>
                      <a:lnTo>
                        <a:pt x="111" y="206"/>
                      </a:lnTo>
                      <a:lnTo>
                        <a:pt x="96" y="227"/>
                      </a:lnTo>
                      <a:lnTo>
                        <a:pt x="84" y="250"/>
                      </a:lnTo>
                      <a:lnTo>
                        <a:pt x="71" y="273"/>
                      </a:lnTo>
                      <a:lnTo>
                        <a:pt x="59" y="296"/>
                      </a:lnTo>
                      <a:lnTo>
                        <a:pt x="49" y="320"/>
                      </a:lnTo>
                      <a:lnTo>
                        <a:pt x="39" y="346"/>
                      </a:lnTo>
                      <a:lnTo>
                        <a:pt x="30" y="372"/>
                      </a:lnTo>
                      <a:lnTo>
                        <a:pt x="22" y="397"/>
                      </a:lnTo>
                      <a:lnTo>
                        <a:pt x="15" y="425"/>
                      </a:lnTo>
                      <a:lnTo>
                        <a:pt x="11" y="452"/>
                      </a:lnTo>
                      <a:lnTo>
                        <a:pt x="6" y="480"/>
                      </a:lnTo>
                      <a:lnTo>
                        <a:pt x="3" y="509"/>
                      </a:lnTo>
                      <a:lnTo>
                        <a:pt x="1" y="537"/>
                      </a:lnTo>
                      <a:lnTo>
                        <a:pt x="0" y="567"/>
                      </a:lnTo>
                      <a:lnTo>
                        <a:pt x="1" y="596"/>
                      </a:lnTo>
                      <a:lnTo>
                        <a:pt x="3" y="624"/>
                      </a:lnTo>
                      <a:lnTo>
                        <a:pt x="6" y="650"/>
                      </a:lnTo>
                      <a:lnTo>
                        <a:pt x="18" y="650"/>
                      </a:lnTo>
                      <a:lnTo>
                        <a:pt x="30" y="650"/>
                      </a:lnTo>
                      <a:lnTo>
                        <a:pt x="43" y="650"/>
                      </a:lnTo>
                      <a:lnTo>
                        <a:pt x="55" y="651"/>
                      </a:lnTo>
                      <a:lnTo>
                        <a:pt x="67" y="651"/>
                      </a:lnTo>
                      <a:lnTo>
                        <a:pt x="80" y="651"/>
                      </a:lnTo>
                      <a:lnTo>
                        <a:pt x="92" y="653"/>
                      </a:lnTo>
                      <a:lnTo>
                        <a:pt x="105" y="653"/>
                      </a:lnTo>
                      <a:lnTo>
                        <a:pt x="102" y="636"/>
                      </a:lnTo>
                      <a:lnTo>
                        <a:pt x="100" y="613"/>
                      </a:lnTo>
                      <a:lnTo>
                        <a:pt x="98" y="590"/>
                      </a:lnTo>
                      <a:lnTo>
                        <a:pt x="98" y="567"/>
                      </a:lnTo>
                      <a:lnTo>
                        <a:pt x="98" y="543"/>
                      </a:lnTo>
                      <a:lnTo>
                        <a:pt x="100" y="520"/>
                      </a:lnTo>
                      <a:lnTo>
                        <a:pt x="102" y="498"/>
                      </a:lnTo>
                      <a:lnTo>
                        <a:pt x="106" y="475"/>
                      </a:lnTo>
                      <a:lnTo>
                        <a:pt x="109" y="453"/>
                      </a:lnTo>
                      <a:lnTo>
                        <a:pt x="115" y="431"/>
                      </a:lnTo>
                      <a:lnTo>
                        <a:pt x="121" y="411"/>
                      </a:lnTo>
                      <a:lnTo>
                        <a:pt x="128" y="389"/>
                      </a:lnTo>
                      <a:lnTo>
                        <a:pt x="136" y="370"/>
                      </a:lnTo>
                      <a:lnTo>
                        <a:pt x="144" y="350"/>
                      </a:lnTo>
                      <a:lnTo>
                        <a:pt x="153" y="331"/>
                      </a:lnTo>
                      <a:lnTo>
                        <a:pt x="164" y="313"/>
                      </a:lnTo>
                      <a:lnTo>
                        <a:pt x="174" y="296"/>
                      </a:lnTo>
                      <a:lnTo>
                        <a:pt x="186" y="278"/>
                      </a:lnTo>
                      <a:lnTo>
                        <a:pt x="198" y="262"/>
                      </a:lnTo>
                      <a:lnTo>
                        <a:pt x="211" y="246"/>
                      </a:lnTo>
                      <a:lnTo>
                        <a:pt x="224" y="231"/>
                      </a:lnTo>
                      <a:lnTo>
                        <a:pt x="239" y="217"/>
                      </a:lnTo>
                      <a:lnTo>
                        <a:pt x="253" y="203"/>
                      </a:lnTo>
                      <a:lnTo>
                        <a:pt x="268" y="190"/>
                      </a:lnTo>
                      <a:lnTo>
                        <a:pt x="284" y="179"/>
                      </a:lnTo>
                      <a:lnTo>
                        <a:pt x="300" y="168"/>
                      </a:lnTo>
                      <a:lnTo>
                        <a:pt x="316" y="157"/>
                      </a:lnTo>
                      <a:lnTo>
                        <a:pt x="334" y="148"/>
                      </a:lnTo>
                      <a:lnTo>
                        <a:pt x="351" y="140"/>
                      </a:lnTo>
                      <a:lnTo>
                        <a:pt x="370" y="133"/>
                      </a:lnTo>
                      <a:lnTo>
                        <a:pt x="388" y="127"/>
                      </a:lnTo>
                      <a:lnTo>
                        <a:pt x="407" y="122"/>
                      </a:lnTo>
                      <a:lnTo>
                        <a:pt x="425" y="118"/>
                      </a:lnTo>
                      <a:lnTo>
                        <a:pt x="445" y="115"/>
                      </a:lnTo>
                      <a:lnTo>
                        <a:pt x="465" y="114"/>
                      </a:lnTo>
                      <a:lnTo>
                        <a:pt x="484" y="113"/>
                      </a:lnTo>
                      <a:lnTo>
                        <a:pt x="505" y="114"/>
                      </a:lnTo>
                      <a:lnTo>
                        <a:pt x="525" y="115"/>
                      </a:lnTo>
                      <a:lnTo>
                        <a:pt x="543" y="118"/>
                      </a:lnTo>
                      <a:lnTo>
                        <a:pt x="563" y="122"/>
                      </a:lnTo>
                      <a:lnTo>
                        <a:pt x="582" y="127"/>
                      </a:lnTo>
                      <a:lnTo>
                        <a:pt x="600" y="133"/>
                      </a:lnTo>
                      <a:lnTo>
                        <a:pt x="618" y="140"/>
                      </a:lnTo>
                      <a:lnTo>
                        <a:pt x="635" y="148"/>
                      </a:lnTo>
                      <a:lnTo>
                        <a:pt x="652" y="157"/>
                      </a:lnTo>
                      <a:lnTo>
                        <a:pt x="670" y="168"/>
                      </a:lnTo>
                      <a:lnTo>
                        <a:pt x="686" y="179"/>
                      </a:lnTo>
                      <a:lnTo>
                        <a:pt x="701" y="190"/>
                      </a:lnTo>
                      <a:lnTo>
                        <a:pt x="716" y="203"/>
                      </a:lnTo>
                      <a:lnTo>
                        <a:pt x="731" y="217"/>
                      </a:lnTo>
                      <a:lnTo>
                        <a:pt x="745" y="231"/>
                      </a:lnTo>
                      <a:lnTo>
                        <a:pt x="759" y="246"/>
                      </a:lnTo>
                      <a:lnTo>
                        <a:pt x="772" y="262"/>
                      </a:lnTo>
                      <a:lnTo>
                        <a:pt x="783" y="278"/>
                      </a:lnTo>
                      <a:lnTo>
                        <a:pt x="795" y="296"/>
                      </a:lnTo>
                      <a:lnTo>
                        <a:pt x="806" y="313"/>
                      </a:lnTo>
                      <a:lnTo>
                        <a:pt x="816" y="331"/>
                      </a:lnTo>
                      <a:lnTo>
                        <a:pt x="825" y="350"/>
                      </a:lnTo>
                      <a:lnTo>
                        <a:pt x="834" y="370"/>
                      </a:lnTo>
                      <a:lnTo>
                        <a:pt x="841" y="389"/>
                      </a:lnTo>
                      <a:lnTo>
                        <a:pt x="848" y="411"/>
                      </a:lnTo>
                      <a:lnTo>
                        <a:pt x="855" y="431"/>
                      </a:lnTo>
                      <a:lnTo>
                        <a:pt x="860" y="453"/>
                      </a:lnTo>
                      <a:lnTo>
                        <a:pt x="864" y="475"/>
                      </a:lnTo>
                      <a:lnTo>
                        <a:pt x="868" y="498"/>
                      </a:lnTo>
                      <a:lnTo>
                        <a:pt x="870" y="520"/>
                      </a:lnTo>
                      <a:lnTo>
                        <a:pt x="871" y="543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lnTo>
                        <a:pt x="968" y="596"/>
                      </a:lnTo>
                      <a:lnTo>
                        <a:pt x="966" y="624"/>
                      </a:lnTo>
                      <a:lnTo>
                        <a:pt x="964" y="653"/>
                      </a:lnTo>
                      <a:lnTo>
                        <a:pt x="963" y="655"/>
                      </a:lnTo>
                      <a:lnTo>
                        <a:pt x="951" y="655"/>
                      </a:lnTo>
                      <a:lnTo>
                        <a:pt x="938" y="657"/>
                      </a:lnTo>
                      <a:lnTo>
                        <a:pt x="926" y="657"/>
                      </a:lnTo>
                      <a:lnTo>
                        <a:pt x="914" y="657"/>
                      </a:lnTo>
                      <a:lnTo>
                        <a:pt x="901" y="657"/>
                      </a:lnTo>
                      <a:lnTo>
                        <a:pt x="888" y="657"/>
                      </a:lnTo>
                      <a:lnTo>
                        <a:pt x="877" y="658"/>
                      </a:lnTo>
                      <a:lnTo>
                        <a:pt x="864" y="658"/>
                      </a:lnTo>
                      <a:lnTo>
                        <a:pt x="868" y="636"/>
                      </a:lnTo>
                      <a:lnTo>
                        <a:pt x="870" y="613"/>
                      </a:lnTo>
                      <a:lnTo>
                        <a:pt x="871" y="590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35"/>
                <p:cNvSpPr/>
                <p:nvPr/>
              </p:nvSpPr>
              <p:spPr>
                <a:xfrm>
                  <a:off x="5886000" y="4581000"/>
                  <a:ext cx="1014120" cy="304200"/>
                </a:xfrm>
                <a:custGeom>
                  <a:avLst/>
                  <a:gdLst>
                    <a:gd name="textAreaLeft" fmla="*/ 0 w 1014120"/>
                    <a:gd name="textAreaRight" fmla="*/ 1014480 w 1014120"/>
                    <a:gd name="textAreaTop" fmla="*/ 0 h 304200"/>
                    <a:gd name="textAreaBottom" fmla="*/ 304560 h 304200"/>
                  </a:gdLst>
                  <a:ahLst/>
                  <a:rect l="textAreaLeft" t="textAreaTop" r="textAreaRight" b="textAreaBottom"/>
                  <a:pathLst>
                    <a:path w="774" h="546">
                      <a:moveTo>
                        <a:pt x="774" y="454"/>
                      </a:moveTo>
                      <a:lnTo>
                        <a:pt x="773" y="430"/>
                      </a:lnTo>
                      <a:lnTo>
                        <a:pt x="772" y="407"/>
                      </a:lnTo>
                      <a:lnTo>
                        <a:pt x="770" y="385"/>
                      </a:lnTo>
                      <a:lnTo>
                        <a:pt x="766" y="362"/>
                      </a:lnTo>
                      <a:lnTo>
                        <a:pt x="762" y="340"/>
                      </a:lnTo>
                      <a:lnTo>
                        <a:pt x="757" y="318"/>
                      </a:lnTo>
                      <a:lnTo>
                        <a:pt x="750" y="298"/>
                      </a:lnTo>
                      <a:lnTo>
                        <a:pt x="743" y="276"/>
                      </a:lnTo>
                      <a:lnTo>
                        <a:pt x="736" y="257"/>
                      </a:lnTo>
                      <a:lnTo>
                        <a:pt x="727" y="237"/>
                      </a:lnTo>
                      <a:lnTo>
                        <a:pt x="718" y="218"/>
                      </a:lnTo>
                      <a:lnTo>
                        <a:pt x="708" y="200"/>
                      </a:lnTo>
                      <a:lnTo>
                        <a:pt x="697" y="183"/>
                      </a:lnTo>
                      <a:lnTo>
                        <a:pt x="685" y="165"/>
                      </a:lnTo>
                      <a:lnTo>
                        <a:pt x="674" y="149"/>
                      </a:lnTo>
                      <a:lnTo>
                        <a:pt x="661" y="133"/>
                      </a:lnTo>
                      <a:lnTo>
                        <a:pt x="647" y="118"/>
                      </a:lnTo>
                      <a:lnTo>
                        <a:pt x="633" y="104"/>
                      </a:lnTo>
                      <a:lnTo>
                        <a:pt x="618" y="90"/>
                      </a:lnTo>
                      <a:lnTo>
                        <a:pt x="603" y="77"/>
                      </a:lnTo>
                      <a:lnTo>
                        <a:pt x="588" y="66"/>
                      </a:lnTo>
                      <a:lnTo>
                        <a:pt x="572" y="55"/>
                      </a:lnTo>
                      <a:lnTo>
                        <a:pt x="554" y="44"/>
                      </a:lnTo>
                      <a:lnTo>
                        <a:pt x="537" y="35"/>
                      </a:lnTo>
                      <a:lnTo>
                        <a:pt x="520" y="27"/>
                      </a:lnTo>
                      <a:lnTo>
                        <a:pt x="502" y="20"/>
                      </a:lnTo>
                      <a:lnTo>
                        <a:pt x="484" y="14"/>
                      </a:lnTo>
                      <a:lnTo>
                        <a:pt x="465" y="9"/>
                      </a:lnTo>
                      <a:lnTo>
                        <a:pt x="445" y="5"/>
                      </a:lnTo>
                      <a:lnTo>
                        <a:pt x="427" y="2"/>
                      </a:lnTo>
                      <a:lnTo>
                        <a:pt x="407" y="1"/>
                      </a:lnTo>
                      <a:lnTo>
                        <a:pt x="386" y="0"/>
                      </a:lnTo>
                      <a:lnTo>
                        <a:pt x="367" y="1"/>
                      </a:lnTo>
                      <a:lnTo>
                        <a:pt x="347" y="2"/>
                      </a:lnTo>
                      <a:lnTo>
                        <a:pt x="327" y="5"/>
                      </a:lnTo>
                      <a:lnTo>
                        <a:pt x="309" y="9"/>
                      </a:lnTo>
                      <a:lnTo>
                        <a:pt x="290" y="14"/>
                      </a:lnTo>
                      <a:lnTo>
                        <a:pt x="272" y="20"/>
                      </a:lnTo>
                      <a:lnTo>
                        <a:pt x="253" y="27"/>
                      </a:lnTo>
                      <a:lnTo>
                        <a:pt x="236" y="35"/>
                      </a:lnTo>
                      <a:lnTo>
                        <a:pt x="218" y="44"/>
                      </a:lnTo>
                      <a:lnTo>
                        <a:pt x="202" y="55"/>
                      </a:lnTo>
                      <a:lnTo>
                        <a:pt x="186" y="66"/>
                      </a:lnTo>
                      <a:lnTo>
                        <a:pt x="170" y="77"/>
                      </a:lnTo>
                      <a:lnTo>
                        <a:pt x="155" y="90"/>
                      </a:lnTo>
                      <a:lnTo>
                        <a:pt x="141" y="104"/>
                      </a:lnTo>
                      <a:lnTo>
                        <a:pt x="126" y="118"/>
                      </a:lnTo>
                      <a:lnTo>
                        <a:pt x="113" y="133"/>
                      </a:lnTo>
                      <a:lnTo>
                        <a:pt x="100" y="149"/>
                      </a:lnTo>
                      <a:lnTo>
                        <a:pt x="88" y="165"/>
                      </a:lnTo>
                      <a:lnTo>
                        <a:pt x="76" y="183"/>
                      </a:lnTo>
                      <a:lnTo>
                        <a:pt x="66" y="200"/>
                      </a:lnTo>
                      <a:lnTo>
                        <a:pt x="55" y="218"/>
                      </a:lnTo>
                      <a:lnTo>
                        <a:pt x="46" y="237"/>
                      </a:lnTo>
                      <a:lnTo>
                        <a:pt x="38" y="257"/>
                      </a:lnTo>
                      <a:lnTo>
                        <a:pt x="30" y="276"/>
                      </a:lnTo>
                      <a:lnTo>
                        <a:pt x="23" y="298"/>
                      </a:lnTo>
                      <a:lnTo>
                        <a:pt x="17" y="318"/>
                      </a:lnTo>
                      <a:lnTo>
                        <a:pt x="11" y="340"/>
                      </a:lnTo>
                      <a:lnTo>
                        <a:pt x="8" y="362"/>
                      </a:lnTo>
                      <a:lnTo>
                        <a:pt x="4" y="385"/>
                      </a:lnTo>
                      <a:lnTo>
                        <a:pt x="2" y="407"/>
                      </a:lnTo>
                      <a:lnTo>
                        <a:pt x="0" y="430"/>
                      </a:lnTo>
                      <a:lnTo>
                        <a:pt x="0" y="454"/>
                      </a:lnTo>
                      <a:lnTo>
                        <a:pt x="0" y="477"/>
                      </a:lnTo>
                      <a:lnTo>
                        <a:pt x="2" y="500"/>
                      </a:lnTo>
                      <a:lnTo>
                        <a:pt x="4" y="523"/>
                      </a:lnTo>
                      <a:lnTo>
                        <a:pt x="7" y="540"/>
                      </a:lnTo>
                      <a:lnTo>
                        <a:pt x="19" y="540"/>
                      </a:lnTo>
                      <a:lnTo>
                        <a:pt x="31" y="540"/>
                      </a:lnTo>
                      <a:lnTo>
                        <a:pt x="44" y="541"/>
                      </a:lnTo>
                      <a:lnTo>
                        <a:pt x="56" y="541"/>
                      </a:lnTo>
                      <a:lnTo>
                        <a:pt x="69" y="541"/>
                      </a:lnTo>
                      <a:lnTo>
                        <a:pt x="82" y="541"/>
                      </a:lnTo>
                      <a:lnTo>
                        <a:pt x="93" y="541"/>
                      </a:lnTo>
                      <a:lnTo>
                        <a:pt x="106" y="542"/>
                      </a:lnTo>
                      <a:lnTo>
                        <a:pt x="105" y="538"/>
                      </a:lnTo>
                      <a:lnTo>
                        <a:pt x="103" y="522"/>
                      </a:lnTo>
                      <a:lnTo>
                        <a:pt x="99" y="506"/>
                      </a:lnTo>
                      <a:lnTo>
                        <a:pt x="98" y="488"/>
                      </a:lnTo>
                      <a:lnTo>
                        <a:pt x="97" y="470"/>
                      </a:lnTo>
                      <a:lnTo>
                        <a:pt x="97" y="454"/>
                      </a:lnTo>
                      <a:lnTo>
                        <a:pt x="97" y="436"/>
                      </a:lnTo>
                      <a:lnTo>
                        <a:pt x="98" y="419"/>
                      </a:lnTo>
                      <a:lnTo>
                        <a:pt x="99" y="401"/>
                      </a:lnTo>
                      <a:lnTo>
                        <a:pt x="103" y="385"/>
                      </a:lnTo>
                      <a:lnTo>
                        <a:pt x="105" y="369"/>
                      </a:lnTo>
                      <a:lnTo>
                        <a:pt x="110" y="352"/>
                      </a:lnTo>
                      <a:lnTo>
                        <a:pt x="114" y="336"/>
                      </a:lnTo>
                      <a:lnTo>
                        <a:pt x="119" y="321"/>
                      </a:lnTo>
                      <a:lnTo>
                        <a:pt x="125" y="306"/>
                      </a:lnTo>
                      <a:lnTo>
                        <a:pt x="132" y="291"/>
                      </a:lnTo>
                      <a:lnTo>
                        <a:pt x="139" y="278"/>
                      </a:lnTo>
                      <a:lnTo>
                        <a:pt x="145" y="263"/>
                      </a:lnTo>
                      <a:lnTo>
                        <a:pt x="154" y="251"/>
                      </a:lnTo>
                      <a:lnTo>
                        <a:pt x="163" y="237"/>
                      </a:lnTo>
                      <a:lnTo>
                        <a:pt x="172" y="225"/>
                      </a:lnTo>
                      <a:lnTo>
                        <a:pt x="181" y="213"/>
                      </a:lnTo>
                      <a:lnTo>
                        <a:pt x="192" y="202"/>
                      </a:lnTo>
                      <a:lnTo>
                        <a:pt x="202" y="191"/>
                      </a:lnTo>
                      <a:lnTo>
                        <a:pt x="213" y="181"/>
                      </a:lnTo>
                      <a:lnTo>
                        <a:pt x="224" y="172"/>
                      </a:lnTo>
                      <a:lnTo>
                        <a:pt x="236" y="162"/>
                      </a:lnTo>
                      <a:lnTo>
                        <a:pt x="249" y="154"/>
                      </a:lnTo>
                      <a:lnTo>
                        <a:pt x="261" y="147"/>
                      </a:lnTo>
                      <a:lnTo>
                        <a:pt x="274" y="139"/>
                      </a:lnTo>
                      <a:lnTo>
                        <a:pt x="287" y="134"/>
                      </a:lnTo>
                      <a:lnTo>
                        <a:pt x="301" y="128"/>
                      </a:lnTo>
                      <a:lnTo>
                        <a:pt x="315" y="124"/>
                      </a:lnTo>
                      <a:lnTo>
                        <a:pt x="328" y="120"/>
                      </a:lnTo>
                      <a:lnTo>
                        <a:pt x="342" y="118"/>
                      </a:lnTo>
                      <a:lnTo>
                        <a:pt x="357" y="115"/>
                      </a:lnTo>
                      <a:lnTo>
                        <a:pt x="371" y="114"/>
                      </a:lnTo>
                      <a:lnTo>
                        <a:pt x="386" y="114"/>
                      </a:lnTo>
                      <a:lnTo>
                        <a:pt x="401" y="114"/>
                      </a:lnTo>
                      <a:lnTo>
                        <a:pt x="416" y="115"/>
                      </a:lnTo>
                      <a:lnTo>
                        <a:pt x="432" y="118"/>
                      </a:lnTo>
                      <a:lnTo>
                        <a:pt x="445" y="120"/>
                      </a:lnTo>
                      <a:lnTo>
                        <a:pt x="459" y="124"/>
                      </a:lnTo>
                      <a:lnTo>
                        <a:pt x="473" y="128"/>
                      </a:lnTo>
                      <a:lnTo>
                        <a:pt x="487" y="134"/>
                      </a:lnTo>
                      <a:lnTo>
                        <a:pt x="500" y="139"/>
                      </a:lnTo>
                      <a:lnTo>
                        <a:pt x="513" y="147"/>
                      </a:lnTo>
                      <a:lnTo>
                        <a:pt x="525" y="154"/>
                      </a:lnTo>
                      <a:lnTo>
                        <a:pt x="537" y="162"/>
                      </a:lnTo>
                      <a:lnTo>
                        <a:pt x="550" y="172"/>
                      </a:lnTo>
                      <a:lnTo>
                        <a:pt x="560" y="181"/>
                      </a:lnTo>
                      <a:lnTo>
                        <a:pt x="572" y="191"/>
                      </a:lnTo>
                      <a:lnTo>
                        <a:pt x="582" y="202"/>
                      </a:lnTo>
                      <a:lnTo>
                        <a:pt x="592" y="213"/>
                      </a:lnTo>
                      <a:lnTo>
                        <a:pt x="602" y="225"/>
                      </a:lnTo>
                      <a:lnTo>
                        <a:pt x="611" y="237"/>
                      </a:lnTo>
                      <a:lnTo>
                        <a:pt x="619" y="251"/>
                      </a:lnTo>
                      <a:lnTo>
                        <a:pt x="627" y="263"/>
                      </a:lnTo>
                      <a:lnTo>
                        <a:pt x="635" y="278"/>
                      </a:lnTo>
                      <a:lnTo>
                        <a:pt x="642" y="291"/>
                      </a:lnTo>
                      <a:lnTo>
                        <a:pt x="648" y="306"/>
                      </a:lnTo>
                      <a:lnTo>
                        <a:pt x="654" y="321"/>
                      </a:lnTo>
                      <a:lnTo>
                        <a:pt x="660" y="336"/>
                      </a:lnTo>
                      <a:lnTo>
                        <a:pt x="664" y="352"/>
                      </a:lnTo>
                      <a:lnTo>
                        <a:pt x="668" y="369"/>
                      </a:lnTo>
                      <a:lnTo>
                        <a:pt x="671" y="385"/>
                      </a:lnTo>
                      <a:lnTo>
                        <a:pt x="674" y="401"/>
                      </a:lnTo>
                      <a:lnTo>
                        <a:pt x="676" y="419"/>
                      </a:lnTo>
                      <a:lnTo>
                        <a:pt x="677" y="436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lnTo>
                        <a:pt x="773" y="477"/>
                      </a:lnTo>
                      <a:lnTo>
                        <a:pt x="772" y="500"/>
                      </a:lnTo>
                      <a:lnTo>
                        <a:pt x="770" y="523"/>
                      </a:lnTo>
                      <a:lnTo>
                        <a:pt x="766" y="545"/>
                      </a:lnTo>
                      <a:lnTo>
                        <a:pt x="753" y="545"/>
                      </a:lnTo>
                      <a:lnTo>
                        <a:pt x="741" y="545"/>
                      </a:lnTo>
                      <a:lnTo>
                        <a:pt x="729" y="545"/>
                      </a:lnTo>
                      <a:lnTo>
                        <a:pt x="716" y="545"/>
                      </a:lnTo>
                      <a:lnTo>
                        <a:pt x="704" y="545"/>
                      </a:lnTo>
                      <a:lnTo>
                        <a:pt x="691" y="546"/>
                      </a:lnTo>
                      <a:lnTo>
                        <a:pt x="679" y="546"/>
                      </a:lnTo>
                      <a:lnTo>
                        <a:pt x="667" y="546"/>
                      </a:lnTo>
                      <a:lnTo>
                        <a:pt x="668" y="538"/>
                      </a:lnTo>
                      <a:lnTo>
                        <a:pt x="671" y="522"/>
                      </a:lnTo>
                      <a:lnTo>
                        <a:pt x="674" y="506"/>
                      </a:lnTo>
                      <a:lnTo>
                        <a:pt x="676" y="488"/>
                      </a:lnTo>
                      <a:lnTo>
                        <a:pt x="677" y="470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36"/>
                <p:cNvSpPr/>
                <p:nvPr/>
              </p:nvSpPr>
              <p:spPr>
                <a:xfrm>
                  <a:off x="6013800" y="4644360"/>
                  <a:ext cx="757800" cy="240840"/>
                </a:xfrm>
                <a:custGeom>
                  <a:avLst/>
                  <a:gdLst>
                    <a:gd name="textAreaLeft" fmla="*/ 0 w 757800"/>
                    <a:gd name="textAreaRight" fmla="*/ 758160 w 757800"/>
                    <a:gd name="textAreaTop" fmla="*/ 0 h 240840"/>
                    <a:gd name="textAreaBottom" fmla="*/ 241200 h 240840"/>
                  </a:gdLst>
                  <a:ahLst/>
                  <a:rect l="textAreaLeft" t="textAreaTop" r="textAreaRight" b="textAreaBottom"/>
                  <a:pathLst>
                    <a:path w="580" h="432">
                      <a:moveTo>
                        <a:pt x="580" y="340"/>
                      </a:moveTo>
                      <a:lnTo>
                        <a:pt x="580" y="322"/>
                      </a:lnTo>
                      <a:lnTo>
                        <a:pt x="579" y="305"/>
                      </a:lnTo>
                      <a:lnTo>
                        <a:pt x="577" y="287"/>
                      </a:lnTo>
                      <a:lnTo>
                        <a:pt x="574" y="271"/>
                      </a:lnTo>
                      <a:lnTo>
                        <a:pt x="571" y="255"/>
                      </a:lnTo>
                      <a:lnTo>
                        <a:pt x="567" y="238"/>
                      </a:lnTo>
                      <a:lnTo>
                        <a:pt x="563" y="222"/>
                      </a:lnTo>
                      <a:lnTo>
                        <a:pt x="557" y="207"/>
                      </a:lnTo>
                      <a:lnTo>
                        <a:pt x="551" y="192"/>
                      </a:lnTo>
                      <a:lnTo>
                        <a:pt x="545" y="177"/>
                      </a:lnTo>
                      <a:lnTo>
                        <a:pt x="538" y="164"/>
                      </a:lnTo>
                      <a:lnTo>
                        <a:pt x="530" y="149"/>
                      </a:lnTo>
                      <a:lnTo>
                        <a:pt x="522" y="137"/>
                      </a:lnTo>
                      <a:lnTo>
                        <a:pt x="514" y="123"/>
                      </a:lnTo>
                      <a:lnTo>
                        <a:pt x="505" y="111"/>
                      </a:lnTo>
                      <a:lnTo>
                        <a:pt x="495" y="99"/>
                      </a:lnTo>
                      <a:lnTo>
                        <a:pt x="485" y="88"/>
                      </a:lnTo>
                      <a:lnTo>
                        <a:pt x="475" y="77"/>
                      </a:lnTo>
                      <a:lnTo>
                        <a:pt x="463" y="67"/>
                      </a:lnTo>
                      <a:lnTo>
                        <a:pt x="453" y="58"/>
                      </a:lnTo>
                      <a:lnTo>
                        <a:pt x="440" y="48"/>
                      </a:lnTo>
                      <a:lnTo>
                        <a:pt x="428" y="40"/>
                      </a:lnTo>
                      <a:lnTo>
                        <a:pt x="416" y="33"/>
                      </a:lnTo>
                      <a:lnTo>
                        <a:pt x="403" y="25"/>
                      </a:lnTo>
                      <a:lnTo>
                        <a:pt x="390" y="20"/>
                      </a:lnTo>
                      <a:lnTo>
                        <a:pt x="376" y="14"/>
                      </a:lnTo>
                      <a:lnTo>
                        <a:pt x="362" y="10"/>
                      </a:lnTo>
                      <a:lnTo>
                        <a:pt x="348" y="6"/>
                      </a:lnTo>
                      <a:lnTo>
                        <a:pt x="335" y="4"/>
                      </a:lnTo>
                      <a:lnTo>
                        <a:pt x="319" y="1"/>
                      </a:lnTo>
                      <a:lnTo>
                        <a:pt x="304" y="0"/>
                      </a:lnTo>
                      <a:lnTo>
                        <a:pt x="289" y="0"/>
                      </a:lnTo>
                      <a:lnTo>
                        <a:pt x="274" y="0"/>
                      </a:lnTo>
                      <a:lnTo>
                        <a:pt x="260" y="1"/>
                      </a:lnTo>
                      <a:lnTo>
                        <a:pt x="245" y="4"/>
                      </a:lnTo>
                      <a:lnTo>
                        <a:pt x="231" y="6"/>
                      </a:lnTo>
                      <a:lnTo>
                        <a:pt x="218" y="10"/>
                      </a:lnTo>
                      <a:lnTo>
                        <a:pt x="204" y="14"/>
                      </a:lnTo>
                      <a:lnTo>
                        <a:pt x="190" y="20"/>
                      </a:lnTo>
                      <a:lnTo>
                        <a:pt x="177" y="25"/>
                      </a:lnTo>
                      <a:lnTo>
                        <a:pt x="164" y="33"/>
                      </a:lnTo>
                      <a:lnTo>
                        <a:pt x="152" y="40"/>
                      </a:lnTo>
                      <a:lnTo>
                        <a:pt x="139" y="48"/>
                      </a:lnTo>
                      <a:lnTo>
                        <a:pt x="127" y="58"/>
                      </a:lnTo>
                      <a:lnTo>
                        <a:pt x="116" y="67"/>
                      </a:lnTo>
                      <a:lnTo>
                        <a:pt x="105" y="77"/>
                      </a:lnTo>
                      <a:lnTo>
                        <a:pt x="95" y="88"/>
                      </a:lnTo>
                      <a:lnTo>
                        <a:pt x="84" y="99"/>
                      </a:lnTo>
                      <a:lnTo>
                        <a:pt x="75" y="111"/>
                      </a:lnTo>
                      <a:lnTo>
                        <a:pt x="66" y="123"/>
                      </a:lnTo>
                      <a:lnTo>
                        <a:pt x="57" y="137"/>
                      </a:lnTo>
                      <a:lnTo>
                        <a:pt x="48" y="149"/>
                      </a:lnTo>
                      <a:lnTo>
                        <a:pt x="42" y="164"/>
                      </a:lnTo>
                      <a:lnTo>
                        <a:pt x="35" y="177"/>
                      </a:lnTo>
                      <a:lnTo>
                        <a:pt x="28" y="192"/>
                      </a:lnTo>
                      <a:lnTo>
                        <a:pt x="22" y="207"/>
                      </a:lnTo>
                      <a:lnTo>
                        <a:pt x="17" y="222"/>
                      </a:lnTo>
                      <a:lnTo>
                        <a:pt x="13" y="238"/>
                      </a:lnTo>
                      <a:lnTo>
                        <a:pt x="8" y="255"/>
                      </a:lnTo>
                      <a:lnTo>
                        <a:pt x="6" y="271"/>
                      </a:lnTo>
                      <a:lnTo>
                        <a:pt x="2" y="287"/>
                      </a:lnTo>
                      <a:lnTo>
                        <a:pt x="1" y="305"/>
                      </a:lnTo>
                      <a:lnTo>
                        <a:pt x="0" y="322"/>
                      </a:lnTo>
                      <a:lnTo>
                        <a:pt x="0" y="340"/>
                      </a:lnTo>
                      <a:lnTo>
                        <a:pt x="0" y="356"/>
                      </a:lnTo>
                      <a:lnTo>
                        <a:pt x="1" y="374"/>
                      </a:lnTo>
                      <a:lnTo>
                        <a:pt x="2" y="392"/>
                      </a:lnTo>
                      <a:lnTo>
                        <a:pt x="6" y="408"/>
                      </a:lnTo>
                      <a:lnTo>
                        <a:pt x="8" y="424"/>
                      </a:lnTo>
                      <a:lnTo>
                        <a:pt x="9" y="428"/>
                      </a:lnTo>
                      <a:lnTo>
                        <a:pt x="22" y="428"/>
                      </a:lnTo>
                      <a:lnTo>
                        <a:pt x="35" y="428"/>
                      </a:lnTo>
                      <a:lnTo>
                        <a:pt x="47" y="428"/>
                      </a:lnTo>
                      <a:lnTo>
                        <a:pt x="60" y="428"/>
                      </a:lnTo>
                      <a:lnTo>
                        <a:pt x="74" y="430"/>
                      </a:lnTo>
                      <a:lnTo>
                        <a:pt x="87" y="430"/>
                      </a:lnTo>
                      <a:lnTo>
                        <a:pt x="99" y="430"/>
                      </a:lnTo>
                      <a:lnTo>
                        <a:pt x="112" y="430"/>
                      </a:lnTo>
                      <a:lnTo>
                        <a:pt x="111" y="428"/>
                      </a:lnTo>
                      <a:lnTo>
                        <a:pt x="105" y="407"/>
                      </a:lnTo>
                      <a:lnTo>
                        <a:pt x="101" y="385"/>
                      </a:lnTo>
                      <a:lnTo>
                        <a:pt x="97" y="363"/>
                      </a:lnTo>
                      <a:lnTo>
                        <a:pt x="96" y="340"/>
                      </a:lnTo>
                      <a:lnTo>
                        <a:pt x="97" y="316"/>
                      </a:lnTo>
                      <a:lnTo>
                        <a:pt x="101" y="294"/>
                      </a:lnTo>
                      <a:lnTo>
                        <a:pt x="105" y="272"/>
                      </a:lnTo>
                      <a:lnTo>
                        <a:pt x="111" y="252"/>
                      </a:lnTo>
                      <a:lnTo>
                        <a:pt x="119" y="232"/>
                      </a:lnTo>
                      <a:lnTo>
                        <a:pt x="130" y="213"/>
                      </a:lnTo>
                      <a:lnTo>
                        <a:pt x="140" y="195"/>
                      </a:lnTo>
                      <a:lnTo>
                        <a:pt x="153" y="179"/>
                      </a:lnTo>
                      <a:lnTo>
                        <a:pt x="167" y="165"/>
                      </a:lnTo>
                      <a:lnTo>
                        <a:pt x="182" y="151"/>
                      </a:lnTo>
                      <a:lnTo>
                        <a:pt x="198" y="141"/>
                      </a:lnTo>
                      <a:lnTo>
                        <a:pt x="214" y="131"/>
                      </a:lnTo>
                      <a:lnTo>
                        <a:pt x="233" y="123"/>
                      </a:lnTo>
                      <a:lnTo>
                        <a:pt x="251" y="118"/>
                      </a:lnTo>
                      <a:lnTo>
                        <a:pt x="270" y="114"/>
                      </a:lnTo>
                      <a:lnTo>
                        <a:pt x="289" y="112"/>
                      </a:lnTo>
                      <a:lnTo>
                        <a:pt x="309" y="114"/>
                      </a:lnTo>
                      <a:lnTo>
                        <a:pt x="329" y="118"/>
                      </a:lnTo>
                      <a:lnTo>
                        <a:pt x="347" y="123"/>
                      </a:lnTo>
                      <a:lnTo>
                        <a:pt x="365" y="131"/>
                      </a:lnTo>
                      <a:lnTo>
                        <a:pt x="382" y="141"/>
                      </a:lnTo>
                      <a:lnTo>
                        <a:pt x="398" y="151"/>
                      </a:lnTo>
                      <a:lnTo>
                        <a:pt x="413" y="165"/>
                      </a:lnTo>
                      <a:lnTo>
                        <a:pt x="427" y="179"/>
                      </a:lnTo>
                      <a:lnTo>
                        <a:pt x="439" y="195"/>
                      </a:lnTo>
                      <a:lnTo>
                        <a:pt x="450" y="213"/>
                      </a:lnTo>
                      <a:lnTo>
                        <a:pt x="460" y="232"/>
                      </a:lnTo>
                      <a:lnTo>
                        <a:pt x="468" y="252"/>
                      </a:lnTo>
                      <a:lnTo>
                        <a:pt x="475" y="272"/>
                      </a:lnTo>
                      <a:lnTo>
                        <a:pt x="479" y="294"/>
                      </a:lnTo>
                      <a:lnTo>
                        <a:pt x="483" y="316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lnTo>
                        <a:pt x="580" y="356"/>
                      </a:lnTo>
                      <a:lnTo>
                        <a:pt x="579" y="374"/>
                      </a:lnTo>
                      <a:lnTo>
                        <a:pt x="577" y="392"/>
                      </a:lnTo>
                      <a:lnTo>
                        <a:pt x="574" y="408"/>
                      </a:lnTo>
                      <a:lnTo>
                        <a:pt x="571" y="424"/>
                      </a:lnTo>
                      <a:lnTo>
                        <a:pt x="570" y="432"/>
                      </a:lnTo>
                      <a:lnTo>
                        <a:pt x="557" y="432"/>
                      </a:lnTo>
                      <a:lnTo>
                        <a:pt x="543" y="432"/>
                      </a:lnTo>
                      <a:lnTo>
                        <a:pt x="530" y="432"/>
                      </a:lnTo>
                      <a:lnTo>
                        <a:pt x="517" y="432"/>
                      </a:lnTo>
                      <a:lnTo>
                        <a:pt x="505" y="432"/>
                      </a:lnTo>
                      <a:lnTo>
                        <a:pt x="492" y="432"/>
                      </a:lnTo>
                      <a:lnTo>
                        <a:pt x="479" y="432"/>
                      </a:lnTo>
                      <a:lnTo>
                        <a:pt x="467" y="432"/>
                      </a:lnTo>
                      <a:lnTo>
                        <a:pt x="468" y="428"/>
                      </a:lnTo>
                      <a:lnTo>
                        <a:pt x="475" y="407"/>
                      </a:lnTo>
                      <a:lnTo>
                        <a:pt x="479" y="385"/>
                      </a:lnTo>
                      <a:lnTo>
                        <a:pt x="483" y="363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37"/>
                <p:cNvSpPr/>
                <p:nvPr/>
              </p:nvSpPr>
              <p:spPr>
                <a:xfrm>
                  <a:off x="6139440" y="4706640"/>
                  <a:ext cx="506520" cy="1785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388" h="320">
                      <a:moveTo>
                        <a:pt x="388" y="228"/>
                      </a:moveTo>
                      <a:lnTo>
                        <a:pt x="387" y="204"/>
                      </a:lnTo>
                      <a:lnTo>
                        <a:pt x="383" y="182"/>
                      </a:lnTo>
                      <a:lnTo>
                        <a:pt x="379" y="160"/>
                      </a:lnTo>
                      <a:lnTo>
                        <a:pt x="372" y="140"/>
                      </a:lnTo>
                      <a:lnTo>
                        <a:pt x="364" y="120"/>
                      </a:lnTo>
                      <a:lnTo>
                        <a:pt x="354" y="101"/>
                      </a:lnTo>
                      <a:lnTo>
                        <a:pt x="343" y="83"/>
                      </a:lnTo>
                      <a:lnTo>
                        <a:pt x="331" y="67"/>
                      </a:lnTo>
                      <a:lnTo>
                        <a:pt x="317" y="53"/>
                      </a:lnTo>
                      <a:lnTo>
                        <a:pt x="302" y="39"/>
                      </a:lnTo>
                      <a:lnTo>
                        <a:pt x="286" y="29"/>
                      </a:lnTo>
                      <a:lnTo>
                        <a:pt x="269" y="19"/>
                      </a:lnTo>
                      <a:lnTo>
                        <a:pt x="251" y="11"/>
                      </a:lnTo>
                      <a:lnTo>
                        <a:pt x="233" y="6"/>
                      </a:lnTo>
                      <a:lnTo>
                        <a:pt x="213" y="2"/>
                      </a:lnTo>
                      <a:lnTo>
                        <a:pt x="193" y="0"/>
                      </a:lnTo>
                      <a:lnTo>
                        <a:pt x="174" y="2"/>
                      </a:lnTo>
                      <a:lnTo>
                        <a:pt x="155" y="6"/>
                      </a:lnTo>
                      <a:lnTo>
                        <a:pt x="137" y="11"/>
                      </a:lnTo>
                      <a:lnTo>
                        <a:pt x="118" y="19"/>
                      </a:lnTo>
                      <a:lnTo>
                        <a:pt x="102" y="29"/>
                      </a:lnTo>
                      <a:lnTo>
                        <a:pt x="86" y="39"/>
                      </a:lnTo>
                      <a:lnTo>
                        <a:pt x="71" y="53"/>
                      </a:lnTo>
                      <a:lnTo>
                        <a:pt x="57" y="67"/>
                      </a:lnTo>
                      <a:lnTo>
                        <a:pt x="44" y="83"/>
                      </a:lnTo>
                      <a:lnTo>
                        <a:pt x="34" y="101"/>
                      </a:lnTo>
                      <a:lnTo>
                        <a:pt x="23" y="120"/>
                      </a:lnTo>
                      <a:lnTo>
                        <a:pt x="15" y="140"/>
                      </a:lnTo>
                      <a:lnTo>
                        <a:pt x="9" y="160"/>
                      </a:lnTo>
                      <a:lnTo>
                        <a:pt x="5" y="182"/>
                      </a:lnTo>
                      <a:lnTo>
                        <a:pt x="1" y="204"/>
                      </a:lnTo>
                      <a:lnTo>
                        <a:pt x="0" y="228"/>
                      </a:lnTo>
                      <a:lnTo>
                        <a:pt x="1" y="251"/>
                      </a:lnTo>
                      <a:lnTo>
                        <a:pt x="5" y="273"/>
                      </a:lnTo>
                      <a:lnTo>
                        <a:pt x="9" y="295"/>
                      </a:lnTo>
                      <a:lnTo>
                        <a:pt x="15" y="316"/>
                      </a:lnTo>
                      <a:lnTo>
                        <a:pt x="16" y="318"/>
                      </a:lnTo>
                      <a:lnTo>
                        <a:pt x="60" y="319"/>
                      </a:lnTo>
                      <a:lnTo>
                        <a:pt x="105" y="319"/>
                      </a:lnTo>
                      <a:lnTo>
                        <a:pt x="149" y="320"/>
                      </a:lnTo>
                      <a:lnTo>
                        <a:pt x="193" y="320"/>
                      </a:lnTo>
                      <a:lnTo>
                        <a:pt x="237" y="320"/>
                      </a:lnTo>
                      <a:lnTo>
                        <a:pt x="283" y="320"/>
                      </a:lnTo>
                      <a:lnTo>
                        <a:pt x="327" y="320"/>
                      </a:lnTo>
                      <a:lnTo>
                        <a:pt x="371" y="320"/>
                      </a:lnTo>
                      <a:lnTo>
                        <a:pt x="372" y="316"/>
                      </a:lnTo>
                      <a:lnTo>
                        <a:pt x="379" y="295"/>
                      </a:lnTo>
                      <a:lnTo>
                        <a:pt x="383" y="273"/>
                      </a:lnTo>
                      <a:lnTo>
                        <a:pt x="387" y="251"/>
                      </a:lnTo>
                      <a:lnTo>
                        <a:pt x="388" y="228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38"/>
                <p:cNvSpPr/>
                <p:nvPr/>
              </p:nvSpPr>
              <p:spPr>
                <a:xfrm>
                  <a:off x="6267600" y="4770000"/>
                  <a:ext cx="250560" cy="1152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94" h="206">
                      <a:moveTo>
                        <a:pt x="194" y="114"/>
                      </a:moveTo>
                      <a:lnTo>
                        <a:pt x="192" y="102"/>
                      </a:lnTo>
                      <a:lnTo>
                        <a:pt x="191" y="91"/>
                      </a:lnTo>
                      <a:lnTo>
                        <a:pt x="189" y="80"/>
                      </a:lnTo>
                      <a:lnTo>
                        <a:pt x="186" y="69"/>
                      </a:lnTo>
                      <a:lnTo>
                        <a:pt x="182" y="60"/>
                      </a:lnTo>
                      <a:lnTo>
                        <a:pt x="177" y="50"/>
                      </a:lnTo>
                      <a:lnTo>
                        <a:pt x="172" y="41"/>
                      </a:lnTo>
                      <a:lnTo>
                        <a:pt x="165" y="33"/>
                      </a:lnTo>
                      <a:lnTo>
                        <a:pt x="158" y="26"/>
                      </a:lnTo>
                      <a:lnTo>
                        <a:pt x="151" y="19"/>
                      </a:lnTo>
                      <a:lnTo>
                        <a:pt x="143" y="14"/>
                      </a:lnTo>
                      <a:lnTo>
                        <a:pt x="135" y="10"/>
                      </a:lnTo>
                      <a:lnTo>
                        <a:pt x="125" y="6"/>
                      </a:lnTo>
                      <a:lnTo>
                        <a:pt x="116" y="3"/>
                      </a:lnTo>
                      <a:lnTo>
                        <a:pt x="107" y="0"/>
                      </a:lnTo>
                      <a:lnTo>
                        <a:pt x="96" y="0"/>
                      </a:lnTo>
                      <a:lnTo>
                        <a:pt x="87" y="0"/>
                      </a:lnTo>
                      <a:lnTo>
                        <a:pt x="77" y="3"/>
                      </a:lnTo>
                      <a:lnTo>
                        <a:pt x="67" y="6"/>
                      </a:lnTo>
                      <a:lnTo>
                        <a:pt x="59" y="10"/>
                      </a:lnTo>
                      <a:lnTo>
                        <a:pt x="50" y="14"/>
                      </a:lnTo>
                      <a:lnTo>
                        <a:pt x="43" y="19"/>
                      </a:lnTo>
                      <a:lnTo>
                        <a:pt x="35" y="26"/>
                      </a:lnTo>
                      <a:lnTo>
                        <a:pt x="28" y="33"/>
                      </a:lnTo>
                      <a:lnTo>
                        <a:pt x="22" y="41"/>
                      </a:lnTo>
                      <a:lnTo>
                        <a:pt x="16" y="50"/>
                      </a:lnTo>
                      <a:lnTo>
                        <a:pt x="12" y="60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1" y="91"/>
                      </a:lnTo>
                      <a:lnTo>
                        <a:pt x="0" y="102"/>
                      </a:lnTo>
                      <a:lnTo>
                        <a:pt x="0" y="114"/>
                      </a:lnTo>
                      <a:lnTo>
                        <a:pt x="0" y="125"/>
                      </a:lnTo>
                      <a:lnTo>
                        <a:pt x="1" y="136"/>
                      </a:lnTo>
                      <a:lnTo>
                        <a:pt x="4" y="147"/>
                      </a:lnTo>
                      <a:lnTo>
                        <a:pt x="7" y="158"/>
                      </a:lnTo>
                      <a:lnTo>
                        <a:pt x="12" y="167"/>
                      </a:lnTo>
                      <a:lnTo>
                        <a:pt x="16" y="177"/>
                      </a:lnTo>
                      <a:lnTo>
                        <a:pt x="22" y="186"/>
                      </a:lnTo>
                      <a:lnTo>
                        <a:pt x="28" y="194"/>
                      </a:lnTo>
                      <a:lnTo>
                        <a:pt x="35" y="201"/>
                      </a:lnTo>
                      <a:lnTo>
                        <a:pt x="41" y="205"/>
                      </a:lnTo>
                      <a:lnTo>
                        <a:pt x="55" y="206"/>
                      </a:lnTo>
                      <a:lnTo>
                        <a:pt x="69" y="206"/>
                      </a:lnTo>
                      <a:lnTo>
                        <a:pt x="82" y="206"/>
                      </a:lnTo>
                      <a:lnTo>
                        <a:pt x="96" y="206"/>
                      </a:lnTo>
                      <a:lnTo>
                        <a:pt x="110" y="206"/>
                      </a:lnTo>
                      <a:lnTo>
                        <a:pt x="124" y="206"/>
                      </a:lnTo>
                      <a:lnTo>
                        <a:pt x="138" y="206"/>
                      </a:lnTo>
                      <a:lnTo>
                        <a:pt x="152" y="206"/>
                      </a:lnTo>
                      <a:lnTo>
                        <a:pt x="158" y="201"/>
                      </a:lnTo>
                      <a:lnTo>
                        <a:pt x="165" y="194"/>
                      </a:lnTo>
                      <a:lnTo>
                        <a:pt x="172" y="186"/>
                      </a:lnTo>
                      <a:lnTo>
                        <a:pt x="177" y="177"/>
                      </a:lnTo>
                      <a:lnTo>
                        <a:pt x="182" y="167"/>
                      </a:lnTo>
                      <a:lnTo>
                        <a:pt x="186" y="158"/>
                      </a:lnTo>
                      <a:lnTo>
                        <a:pt x="189" y="147"/>
                      </a:lnTo>
                      <a:lnTo>
                        <a:pt x="191" y="136"/>
                      </a:lnTo>
                      <a:lnTo>
                        <a:pt x="192" y="125"/>
                      </a:lnTo>
                      <a:lnTo>
                        <a:pt x="194" y="1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39"/>
                <p:cNvSpPr/>
                <p:nvPr/>
              </p:nvSpPr>
              <p:spPr>
                <a:xfrm>
                  <a:off x="5329440" y="3634200"/>
                  <a:ext cx="410040" cy="522000"/>
                </a:xfrm>
                <a:custGeom>
                  <a:avLst/>
                  <a:gdLst>
                    <a:gd name="textAreaLeft" fmla="*/ 0 w 410040"/>
                    <a:gd name="textAreaRight" fmla="*/ 410400 w 41004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314" h="936">
                      <a:moveTo>
                        <a:pt x="102" y="0"/>
                      </a:moveTo>
                      <a:lnTo>
                        <a:pt x="314" y="936"/>
                      </a:lnTo>
                      <a:lnTo>
                        <a:pt x="285" y="916"/>
                      </a:lnTo>
                      <a:lnTo>
                        <a:pt x="259" y="896"/>
                      </a:lnTo>
                      <a:lnTo>
                        <a:pt x="232" y="874"/>
                      </a:lnTo>
                      <a:lnTo>
                        <a:pt x="207" y="851"/>
                      </a:lnTo>
                      <a:lnTo>
                        <a:pt x="182" y="828"/>
                      </a:lnTo>
                      <a:lnTo>
                        <a:pt x="160" y="803"/>
                      </a:lnTo>
                      <a:lnTo>
                        <a:pt x="138" y="778"/>
                      </a:lnTo>
                      <a:lnTo>
                        <a:pt x="119" y="750"/>
                      </a:lnTo>
                      <a:lnTo>
                        <a:pt x="100" y="725"/>
                      </a:lnTo>
                      <a:lnTo>
                        <a:pt x="83" y="696"/>
                      </a:lnTo>
                      <a:lnTo>
                        <a:pt x="68" y="668"/>
                      </a:lnTo>
                      <a:lnTo>
                        <a:pt x="54" y="638"/>
                      </a:lnTo>
                      <a:lnTo>
                        <a:pt x="41" y="608"/>
                      </a:lnTo>
                      <a:lnTo>
                        <a:pt x="29" y="577"/>
                      </a:lnTo>
                      <a:lnTo>
                        <a:pt x="20" y="546"/>
                      </a:lnTo>
                      <a:lnTo>
                        <a:pt x="13" y="513"/>
                      </a:lnTo>
                      <a:lnTo>
                        <a:pt x="7" y="482"/>
                      </a:lnTo>
                      <a:lnTo>
                        <a:pt x="3" y="449"/>
                      </a:lnTo>
                      <a:lnTo>
                        <a:pt x="0" y="418"/>
                      </a:lnTo>
                      <a:lnTo>
                        <a:pt x="0" y="385"/>
                      </a:lnTo>
                      <a:lnTo>
                        <a:pt x="0" y="354"/>
                      </a:lnTo>
                      <a:lnTo>
                        <a:pt x="3" y="322"/>
                      </a:lnTo>
                      <a:lnTo>
                        <a:pt x="6" y="289"/>
                      </a:lnTo>
                      <a:lnTo>
                        <a:pt x="11" y="258"/>
                      </a:lnTo>
                      <a:lnTo>
                        <a:pt x="18" y="225"/>
                      </a:lnTo>
                      <a:lnTo>
                        <a:pt x="26" y="193"/>
                      </a:lnTo>
                      <a:lnTo>
                        <a:pt x="35" y="160"/>
                      </a:lnTo>
                      <a:lnTo>
                        <a:pt x="46" y="128"/>
                      </a:lnTo>
                      <a:lnTo>
                        <a:pt x="57" y="96"/>
                      </a:lnTo>
                      <a:lnTo>
                        <a:pt x="71" y="64"/>
                      </a:lnTo>
                      <a:lnTo>
                        <a:pt x="86" y="33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40"/>
                <p:cNvSpPr/>
                <p:nvPr/>
              </p:nvSpPr>
              <p:spPr>
                <a:xfrm>
                  <a:off x="5462280" y="3513600"/>
                  <a:ext cx="567000" cy="700920"/>
                </a:xfrm>
                <a:custGeom>
                  <a:avLst/>
                  <a:gdLst>
                    <a:gd name="textAreaLeft" fmla="*/ 0 w 567000"/>
                    <a:gd name="textAreaRight" fmla="*/ 567360 w 56700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435" h="1258">
                      <a:moveTo>
                        <a:pt x="212" y="1152"/>
                      </a:moveTo>
                      <a:lnTo>
                        <a:pt x="0" y="216"/>
                      </a:lnTo>
                      <a:lnTo>
                        <a:pt x="15" y="189"/>
                      </a:lnTo>
                      <a:lnTo>
                        <a:pt x="32" y="161"/>
                      </a:lnTo>
                      <a:lnTo>
                        <a:pt x="49" y="133"/>
                      </a:lnTo>
                      <a:lnTo>
                        <a:pt x="66" y="106"/>
                      </a:lnTo>
                      <a:lnTo>
                        <a:pt x="86" y="79"/>
                      </a:lnTo>
                      <a:lnTo>
                        <a:pt x="106" y="53"/>
                      </a:lnTo>
                      <a:lnTo>
                        <a:pt x="127" y="26"/>
                      </a:lnTo>
                      <a:lnTo>
                        <a:pt x="149" y="0"/>
                      </a:lnTo>
                      <a:lnTo>
                        <a:pt x="435" y="1258"/>
                      </a:lnTo>
                      <a:lnTo>
                        <a:pt x="404" y="1249"/>
                      </a:lnTo>
                      <a:lnTo>
                        <a:pt x="376" y="1236"/>
                      </a:lnTo>
                      <a:lnTo>
                        <a:pt x="347" y="1224"/>
                      </a:lnTo>
                      <a:lnTo>
                        <a:pt x="318" y="1212"/>
                      </a:lnTo>
                      <a:lnTo>
                        <a:pt x="291" y="1197"/>
                      </a:lnTo>
                      <a:lnTo>
                        <a:pt x="264" y="1184"/>
                      </a:lnTo>
                      <a:lnTo>
                        <a:pt x="238" y="1167"/>
                      </a:lnTo>
                      <a:lnTo>
                        <a:pt x="212" y="115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41"/>
                <p:cNvSpPr/>
                <p:nvPr/>
              </p:nvSpPr>
              <p:spPr>
                <a:xfrm>
                  <a:off x="5655960" y="3426840"/>
                  <a:ext cx="647640" cy="81612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495" h="1464">
                      <a:moveTo>
                        <a:pt x="286" y="1415"/>
                      </a:moveTo>
                      <a:lnTo>
                        <a:pt x="0" y="157"/>
                      </a:lnTo>
                      <a:lnTo>
                        <a:pt x="18" y="137"/>
                      </a:lnTo>
                      <a:lnTo>
                        <a:pt x="37" y="117"/>
                      </a:lnTo>
                      <a:lnTo>
                        <a:pt x="56" y="96"/>
                      </a:lnTo>
                      <a:lnTo>
                        <a:pt x="76" y="76"/>
                      </a:lnTo>
                      <a:lnTo>
                        <a:pt x="97" y="57"/>
                      </a:lnTo>
                      <a:lnTo>
                        <a:pt x="118" y="38"/>
                      </a:lnTo>
                      <a:lnTo>
                        <a:pt x="140" y="19"/>
                      </a:lnTo>
                      <a:lnTo>
                        <a:pt x="162" y="0"/>
                      </a:lnTo>
                      <a:lnTo>
                        <a:pt x="495" y="1464"/>
                      </a:lnTo>
                      <a:lnTo>
                        <a:pt x="467" y="1460"/>
                      </a:lnTo>
                      <a:lnTo>
                        <a:pt x="441" y="1456"/>
                      </a:lnTo>
                      <a:lnTo>
                        <a:pt x="414" y="1450"/>
                      </a:lnTo>
                      <a:lnTo>
                        <a:pt x="387" y="1445"/>
                      </a:lnTo>
                      <a:lnTo>
                        <a:pt x="362" y="1438"/>
                      </a:lnTo>
                      <a:lnTo>
                        <a:pt x="337" y="1431"/>
                      </a:lnTo>
                      <a:lnTo>
                        <a:pt x="311" y="1423"/>
                      </a:lnTo>
                      <a:lnTo>
                        <a:pt x="286" y="1415"/>
                      </a:lnTo>
                      <a:close/>
                    </a:path>
                  </a:pathLst>
                </a:custGeom>
                <a:solidFill>
                  <a:srgbClr val="ffd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42"/>
                <p:cNvSpPr/>
                <p:nvPr/>
              </p:nvSpPr>
              <p:spPr>
                <a:xfrm>
                  <a:off x="5867640" y="3358080"/>
                  <a:ext cx="697320" cy="891720"/>
                </a:xfrm>
                <a:custGeom>
                  <a:avLst/>
                  <a:gdLst>
                    <a:gd name="textAreaLeft" fmla="*/ 0 w 697320"/>
                    <a:gd name="textAreaRight" fmla="*/ 697680 w 697320"/>
                    <a:gd name="textAreaTop" fmla="*/ 0 h 891720"/>
                    <a:gd name="textAreaBottom" fmla="*/ 892080 h 891720"/>
                  </a:gdLst>
                  <a:ahLst/>
                  <a:rect l="textAreaLeft" t="textAreaTop" r="textAreaRight" b="textAreaBottom"/>
                  <a:pathLst>
                    <a:path w="534" h="1598">
                      <a:moveTo>
                        <a:pt x="333" y="1586"/>
                      </a:moveTo>
                      <a:lnTo>
                        <a:pt x="0" y="122"/>
                      </a:lnTo>
                      <a:lnTo>
                        <a:pt x="19" y="106"/>
                      </a:lnTo>
                      <a:lnTo>
                        <a:pt x="40" y="89"/>
                      </a:lnTo>
                      <a:lnTo>
                        <a:pt x="61" y="75"/>
                      </a:lnTo>
                      <a:lnTo>
                        <a:pt x="82" y="58"/>
                      </a:lnTo>
                      <a:lnTo>
                        <a:pt x="103" y="43"/>
                      </a:lnTo>
                      <a:lnTo>
                        <a:pt x="125" y="28"/>
                      </a:lnTo>
                      <a:lnTo>
                        <a:pt x="148" y="15"/>
                      </a:lnTo>
                      <a:lnTo>
                        <a:pt x="170" y="0"/>
                      </a:lnTo>
                      <a:lnTo>
                        <a:pt x="534" y="1598"/>
                      </a:lnTo>
                      <a:lnTo>
                        <a:pt x="508" y="1598"/>
                      </a:lnTo>
                      <a:lnTo>
                        <a:pt x="483" y="1598"/>
                      </a:lnTo>
                      <a:lnTo>
                        <a:pt x="457" y="1597"/>
                      </a:lnTo>
                      <a:lnTo>
                        <a:pt x="432" y="1596"/>
                      </a:lnTo>
                      <a:lnTo>
                        <a:pt x="406" y="1594"/>
                      </a:lnTo>
                      <a:lnTo>
                        <a:pt x="382" y="1591"/>
                      </a:lnTo>
                      <a:lnTo>
                        <a:pt x="357" y="1589"/>
                      </a:lnTo>
                      <a:lnTo>
                        <a:pt x="333" y="1586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43"/>
                <p:cNvSpPr/>
                <p:nvPr/>
              </p:nvSpPr>
              <p:spPr>
                <a:xfrm>
                  <a:off x="6089760" y="3306600"/>
                  <a:ext cx="731880" cy="943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43200"/>
                    <a:gd name="textAreaBottom" fmla="*/ 943560 h 943200"/>
                  </a:gdLst>
                  <a:ahLst/>
                  <a:rect l="textAreaLeft" t="textAreaTop" r="textAreaRight" b="textAreaBottom"/>
                  <a:pathLst>
                    <a:path w="558" h="1692">
                      <a:moveTo>
                        <a:pt x="364" y="1692"/>
                      </a:moveTo>
                      <a:lnTo>
                        <a:pt x="0" y="94"/>
                      </a:lnTo>
                      <a:lnTo>
                        <a:pt x="21" y="82"/>
                      </a:lnTo>
                      <a:lnTo>
                        <a:pt x="43" y="69"/>
                      </a:lnTo>
                      <a:lnTo>
                        <a:pt x="64" y="57"/>
                      </a:lnTo>
                      <a:lnTo>
                        <a:pt x="86" y="45"/>
                      </a:lnTo>
                      <a:lnTo>
                        <a:pt x="109" y="33"/>
                      </a:lnTo>
                      <a:lnTo>
                        <a:pt x="131" y="22"/>
                      </a:lnTo>
                      <a:lnTo>
                        <a:pt x="154" y="11"/>
                      </a:lnTo>
                      <a:lnTo>
                        <a:pt x="177" y="0"/>
                      </a:lnTo>
                      <a:lnTo>
                        <a:pt x="558" y="1676"/>
                      </a:lnTo>
                      <a:lnTo>
                        <a:pt x="534" y="1680"/>
                      </a:lnTo>
                      <a:lnTo>
                        <a:pt x="508" y="1683"/>
                      </a:lnTo>
                      <a:lnTo>
                        <a:pt x="484" y="1685"/>
                      </a:lnTo>
                      <a:lnTo>
                        <a:pt x="460" y="1688"/>
                      </a:lnTo>
                      <a:lnTo>
                        <a:pt x="435" y="1690"/>
                      </a:lnTo>
                      <a:lnTo>
                        <a:pt x="411" y="1691"/>
                      </a:lnTo>
                      <a:lnTo>
                        <a:pt x="388" y="1692"/>
                      </a:lnTo>
                      <a:lnTo>
                        <a:pt x="364" y="1692"/>
                      </a:lnTo>
                      <a:close/>
                    </a:path>
                  </a:pathLst>
                </a:custGeom>
                <a:solidFill>
                  <a:srgbClr val="fff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44"/>
                <p:cNvSpPr/>
                <p:nvPr/>
              </p:nvSpPr>
              <p:spPr>
                <a:xfrm>
                  <a:off x="6322320" y="3267720"/>
                  <a:ext cx="744840" cy="97164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971640"/>
                    <a:gd name="textAreaBottom" fmla="*/ 972000 h 971640"/>
                  </a:gdLst>
                  <a:ahLst/>
                  <a:rect l="textAreaLeft" t="textAreaTop" r="textAreaRight" b="textAreaBottom"/>
                  <a:pathLst>
                    <a:path w="570" h="1744">
                      <a:moveTo>
                        <a:pt x="381" y="1744"/>
                      </a:moveTo>
                      <a:lnTo>
                        <a:pt x="0" y="68"/>
                      </a:lnTo>
                      <a:lnTo>
                        <a:pt x="22" y="59"/>
                      </a:lnTo>
                      <a:lnTo>
                        <a:pt x="44" y="49"/>
                      </a:lnTo>
                      <a:lnTo>
                        <a:pt x="66" y="41"/>
                      </a:lnTo>
                      <a:lnTo>
                        <a:pt x="89" y="32"/>
                      </a:lnTo>
                      <a:lnTo>
                        <a:pt x="112" y="23"/>
                      </a:lnTo>
                      <a:lnTo>
                        <a:pt x="136" y="15"/>
                      </a:lnTo>
                      <a:lnTo>
                        <a:pt x="159" y="7"/>
                      </a:lnTo>
                      <a:lnTo>
                        <a:pt x="182" y="0"/>
                      </a:lnTo>
                      <a:lnTo>
                        <a:pt x="570" y="1703"/>
                      </a:lnTo>
                      <a:lnTo>
                        <a:pt x="545" y="1710"/>
                      </a:lnTo>
                      <a:lnTo>
                        <a:pt x="522" y="1715"/>
                      </a:lnTo>
                      <a:lnTo>
                        <a:pt x="498" y="1721"/>
                      </a:lnTo>
                      <a:lnTo>
                        <a:pt x="475" y="1726"/>
                      </a:lnTo>
                      <a:lnTo>
                        <a:pt x="452" y="1732"/>
                      </a:lnTo>
                      <a:lnTo>
                        <a:pt x="427" y="1736"/>
                      </a:lnTo>
                      <a:lnTo>
                        <a:pt x="404" y="1740"/>
                      </a:lnTo>
                      <a:lnTo>
                        <a:pt x="381" y="1744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45"/>
                <p:cNvSpPr/>
                <p:nvPr/>
              </p:nvSpPr>
              <p:spPr>
                <a:xfrm>
                  <a:off x="6560280" y="3242880"/>
                  <a:ext cx="744120" cy="975240"/>
                </a:xfrm>
                <a:custGeom>
                  <a:avLst/>
                  <a:gdLst>
                    <a:gd name="textAreaLeft" fmla="*/ 0 w 744120"/>
                    <a:gd name="textAreaRight" fmla="*/ 744480 w 744120"/>
                    <a:gd name="textAreaTop" fmla="*/ 0 h 975240"/>
                    <a:gd name="textAreaBottom" fmla="*/ 975600 h 975240"/>
                  </a:gdLst>
                  <a:ahLst/>
                  <a:rect l="textAreaLeft" t="textAreaTop" r="textAreaRight" b="textAreaBottom"/>
                  <a:pathLst>
                    <a:path w="571" h="1749">
                      <a:moveTo>
                        <a:pt x="388" y="1749"/>
                      </a:moveTo>
                      <a:lnTo>
                        <a:pt x="0" y="46"/>
                      </a:lnTo>
                      <a:lnTo>
                        <a:pt x="5" y="45"/>
                      </a:lnTo>
                      <a:lnTo>
                        <a:pt x="9" y="44"/>
                      </a:lnTo>
                      <a:lnTo>
                        <a:pt x="14" y="42"/>
                      </a:lnTo>
                      <a:lnTo>
                        <a:pt x="17" y="41"/>
                      </a:lnTo>
                      <a:lnTo>
                        <a:pt x="22" y="40"/>
                      </a:lnTo>
                      <a:lnTo>
                        <a:pt x="27" y="38"/>
                      </a:lnTo>
                      <a:lnTo>
                        <a:pt x="31" y="37"/>
                      </a:lnTo>
                      <a:lnTo>
                        <a:pt x="36" y="36"/>
                      </a:lnTo>
                      <a:lnTo>
                        <a:pt x="54" y="30"/>
                      </a:lnTo>
                      <a:lnTo>
                        <a:pt x="74" y="25"/>
                      </a:lnTo>
                      <a:lnTo>
                        <a:pt x="93" y="21"/>
                      </a:lnTo>
                      <a:lnTo>
                        <a:pt x="112" y="15"/>
                      </a:lnTo>
                      <a:lnTo>
                        <a:pt x="131" y="11"/>
                      </a:lnTo>
                      <a:lnTo>
                        <a:pt x="150" y="7"/>
                      </a:lnTo>
                      <a:lnTo>
                        <a:pt x="169" y="3"/>
                      </a:lnTo>
                      <a:lnTo>
                        <a:pt x="187" y="0"/>
                      </a:lnTo>
                      <a:lnTo>
                        <a:pt x="571" y="1684"/>
                      </a:lnTo>
                      <a:lnTo>
                        <a:pt x="549" y="1694"/>
                      </a:lnTo>
                      <a:lnTo>
                        <a:pt x="527" y="1702"/>
                      </a:lnTo>
                      <a:lnTo>
                        <a:pt x="505" y="1711"/>
                      </a:lnTo>
                      <a:lnTo>
                        <a:pt x="482" y="1719"/>
                      </a:lnTo>
                      <a:lnTo>
                        <a:pt x="460" y="1728"/>
                      </a:lnTo>
                      <a:lnTo>
                        <a:pt x="436" y="1734"/>
                      </a:lnTo>
                      <a:lnTo>
                        <a:pt x="413" y="1742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close/>
                    </a:path>
                  </a:pathLst>
                </a:custGeom>
                <a:solidFill>
                  <a:srgbClr val="fff6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46"/>
                <p:cNvSpPr/>
                <p:nvPr/>
              </p:nvSpPr>
              <p:spPr>
                <a:xfrm>
                  <a:off x="6805800" y="3229560"/>
                  <a:ext cx="731880" cy="95148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51480"/>
                    <a:gd name="textAreaBottom" fmla="*/ 951840 h 951480"/>
                  </a:gdLst>
                  <a:ahLst/>
                  <a:rect l="textAreaLeft" t="textAreaTop" r="textAreaRight" b="textAreaBottom"/>
                  <a:pathLst>
                    <a:path w="561" h="1707">
                      <a:moveTo>
                        <a:pt x="384" y="1707"/>
                      </a:moveTo>
                      <a:lnTo>
                        <a:pt x="0" y="23"/>
                      </a:lnTo>
                      <a:lnTo>
                        <a:pt x="25" y="18"/>
                      </a:lnTo>
                      <a:lnTo>
                        <a:pt x="49" y="15"/>
                      </a:lnTo>
                      <a:lnTo>
                        <a:pt x="73" y="11"/>
                      </a:lnTo>
                      <a:lnTo>
                        <a:pt x="98" y="8"/>
                      </a:lnTo>
                      <a:lnTo>
                        <a:pt x="122" y="6"/>
                      </a:lnTo>
                      <a:lnTo>
                        <a:pt x="146" y="3"/>
                      </a:lnTo>
                      <a:lnTo>
                        <a:pt x="170" y="2"/>
                      </a:lnTo>
                      <a:lnTo>
                        <a:pt x="194" y="0"/>
                      </a:lnTo>
                      <a:lnTo>
                        <a:pt x="561" y="1615"/>
                      </a:lnTo>
                      <a:lnTo>
                        <a:pt x="540" y="1628"/>
                      </a:lnTo>
                      <a:lnTo>
                        <a:pt x="518" y="1641"/>
                      </a:lnTo>
                      <a:lnTo>
                        <a:pt x="497" y="1653"/>
                      </a:lnTo>
                      <a:lnTo>
                        <a:pt x="475" y="1664"/>
                      </a:lnTo>
                      <a:lnTo>
                        <a:pt x="453" y="1675"/>
                      </a:lnTo>
                      <a:lnTo>
                        <a:pt x="430" y="1687"/>
                      </a:lnTo>
                      <a:lnTo>
                        <a:pt x="407" y="1696"/>
                      </a:lnTo>
                      <a:lnTo>
                        <a:pt x="384" y="1707"/>
                      </a:lnTo>
                      <a:close/>
                    </a:path>
                  </a:pathLst>
                </a:custGeom>
                <a:solidFill>
                  <a:srgbClr val="ffe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47"/>
                <p:cNvSpPr/>
                <p:nvPr/>
              </p:nvSpPr>
              <p:spPr>
                <a:xfrm>
                  <a:off x="7056360" y="3229560"/>
                  <a:ext cx="703440" cy="899640"/>
                </a:xfrm>
                <a:custGeom>
                  <a:avLst/>
                  <a:gdLst>
                    <a:gd name="textAreaLeft" fmla="*/ 0 w 703440"/>
                    <a:gd name="textAreaRight" fmla="*/ 703800 w 703440"/>
                    <a:gd name="textAreaTop" fmla="*/ 0 h 899640"/>
                    <a:gd name="textAreaBottom" fmla="*/ 900000 h 899640"/>
                  </a:gdLst>
                  <a:ahLst/>
                  <a:rect l="textAreaLeft" t="textAreaTop" r="textAreaRight" b="textAreaBottom"/>
                  <a:pathLst>
                    <a:path w="537" h="1616">
                      <a:moveTo>
                        <a:pt x="367" y="1616"/>
                      </a:moveTo>
                      <a:lnTo>
                        <a:pt x="0" y="1"/>
                      </a:lnTo>
                      <a:lnTo>
                        <a:pt x="25" y="0"/>
                      </a:lnTo>
                      <a:lnTo>
                        <a:pt x="51" y="0"/>
                      </a:lnTo>
                      <a:lnTo>
                        <a:pt x="76" y="0"/>
                      </a:lnTo>
                      <a:lnTo>
                        <a:pt x="101" y="0"/>
                      </a:lnTo>
                      <a:lnTo>
                        <a:pt x="126" y="1"/>
                      </a:lnTo>
                      <a:lnTo>
                        <a:pt x="150" y="3"/>
                      </a:lnTo>
                      <a:lnTo>
                        <a:pt x="175" y="4"/>
                      </a:lnTo>
                      <a:lnTo>
                        <a:pt x="199" y="7"/>
                      </a:lnTo>
                      <a:lnTo>
                        <a:pt x="537" y="1494"/>
                      </a:lnTo>
                      <a:lnTo>
                        <a:pt x="517" y="1510"/>
                      </a:lnTo>
                      <a:lnTo>
                        <a:pt x="497" y="1526"/>
                      </a:lnTo>
                      <a:lnTo>
                        <a:pt x="476" y="1543"/>
                      </a:lnTo>
                      <a:lnTo>
                        <a:pt x="455" y="1558"/>
                      </a:lnTo>
                      <a:lnTo>
                        <a:pt x="434" y="1572"/>
                      </a:lnTo>
                      <a:lnTo>
                        <a:pt x="412" y="1587"/>
                      </a:lnTo>
                      <a:lnTo>
                        <a:pt x="390" y="1602"/>
                      </a:lnTo>
                      <a:lnTo>
                        <a:pt x="367" y="1616"/>
                      </a:lnTo>
                      <a:close/>
                    </a:path>
                  </a:pathLst>
                </a:custGeom>
                <a:solidFill>
                  <a:srgbClr val="ffe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48"/>
                <p:cNvSpPr/>
                <p:nvPr/>
              </p:nvSpPr>
              <p:spPr>
                <a:xfrm>
                  <a:off x="7318080" y="3232800"/>
                  <a:ext cx="653400" cy="829440"/>
                </a:xfrm>
                <a:custGeom>
                  <a:avLst/>
                  <a:gdLst>
                    <a:gd name="textAreaLeft" fmla="*/ 0 w 653400"/>
                    <a:gd name="textAreaRight" fmla="*/ 653760 w 653400"/>
                    <a:gd name="textAreaTop" fmla="*/ 0 h 829440"/>
                    <a:gd name="textAreaBottom" fmla="*/ 829800 h 829440"/>
                  </a:gdLst>
                  <a:ahLst/>
                  <a:rect l="textAreaLeft" t="textAreaTop" r="textAreaRight" b="textAreaBottom"/>
                  <a:pathLst>
                    <a:path w="499" h="1487">
                      <a:moveTo>
                        <a:pt x="338" y="1487"/>
                      </a:moveTo>
                      <a:lnTo>
                        <a:pt x="0" y="0"/>
                      </a:lnTo>
                      <a:lnTo>
                        <a:pt x="27" y="2"/>
                      </a:lnTo>
                      <a:lnTo>
                        <a:pt x="53" y="6"/>
                      </a:lnTo>
                      <a:lnTo>
                        <a:pt x="80" y="11"/>
                      </a:lnTo>
                      <a:lnTo>
                        <a:pt x="107" y="16"/>
                      </a:lnTo>
                      <a:lnTo>
                        <a:pt x="132" y="21"/>
                      </a:lnTo>
                      <a:lnTo>
                        <a:pt x="158" y="27"/>
                      </a:lnTo>
                      <a:lnTo>
                        <a:pt x="182" y="34"/>
                      </a:lnTo>
                      <a:lnTo>
                        <a:pt x="207" y="40"/>
                      </a:lnTo>
                      <a:lnTo>
                        <a:pt x="499" y="1324"/>
                      </a:lnTo>
                      <a:lnTo>
                        <a:pt x="481" y="1344"/>
                      </a:lnTo>
                      <a:lnTo>
                        <a:pt x="462" y="1366"/>
                      </a:lnTo>
                      <a:lnTo>
                        <a:pt x="442" y="1386"/>
                      </a:lnTo>
                      <a:lnTo>
                        <a:pt x="423" y="1408"/>
                      </a:lnTo>
                      <a:lnTo>
                        <a:pt x="403" y="1428"/>
                      </a:lnTo>
                      <a:lnTo>
                        <a:pt x="382" y="1447"/>
                      </a:lnTo>
                      <a:lnTo>
                        <a:pt x="360" y="1468"/>
                      </a:lnTo>
                      <a:lnTo>
                        <a:pt x="338" y="1487"/>
                      </a:lnTo>
                      <a:close/>
                    </a:path>
                  </a:pathLst>
                </a:custGeom>
                <a:solidFill>
                  <a:srgbClr val="ffdd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49"/>
                <p:cNvSpPr/>
                <p:nvPr/>
              </p:nvSpPr>
              <p:spPr>
                <a:xfrm>
                  <a:off x="7589880" y="3254400"/>
                  <a:ext cx="572400" cy="715680"/>
                </a:xfrm>
                <a:custGeom>
                  <a:avLst/>
                  <a:gdLst>
                    <a:gd name="textAreaLeft" fmla="*/ 0 w 572400"/>
                    <a:gd name="textAreaRight" fmla="*/ 572760 w 572400"/>
                    <a:gd name="textAreaTop" fmla="*/ 0 h 715680"/>
                    <a:gd name="textAreaBottom" fmla="*/ 716040 h 715680"/>
                  </a:gdLst>
                  <a:ahLst/>
                  <a:rect l="textAreaLeft" t="textAreaTop" r="textAreaRight" b="textAreaBottom"/>
                  <a:pathLst>
                    <a:path w="438" h="1284">
                      <a:moveTo>
                        <a:pt x="292" y="1284"/>
                      </a:moveTo>
                      <a:lnTo>
                        <a:pt x="0" y="0"/>
                      </a:lnTo>
                      <a:lnTo>
                        <a:pt x="30" y="11"/>
                      </a:lnTo>
                      <a:lnTo>
                        <a:pt x="59" y="21"/>
                      </a:lnTo>
                      <a:lnTo>
                        <a:pt x="88" y="33"/>
                      </a:lnTo>
                      <a:lnTo>
                        <a:pt x="116" y="45"/>
                      </a:lnTo>
                      <a:lnTo>
                        <a:pt x="144" y="59"/>
                      </a:lnTo>
                      <a:lnTo>
                        <a:pt x="171" y="72"/>
                      </a:lnTo>
                      <a:lnTo>
                        <a:pt x="196" y="87"/>
                      </a:lnTo>
                      <a:lnTo>
                        <a:pt x="221" y="103"/>
                      </a:lnTo>
                      <a:lnTo>
                        <a:pt x="438" y="1057"/>
                      </a:lnTo>
                      <a:lnTo>
                        <a:pt x="423" y="1086"/>
                      </a:lnTo>
                      <a:lnTo>
                        <a:pt x="408" y="1116"/>
                      </a:lnTo>
                      <a:lnTo>
                        <a:pt x="391" y="1144"/>
                      </a:lnTo>
                      <a:lnTo>
                        <a:pt x="373" y="1173"/>
                      </a:lnTo>
                      <a:lnTo>
                        <a:pt x="355" y="1201"/>
                      </a:lnTo>
                      <a:lnTo>
                        <a:pt x="335" y="1228"/>
                      </a:lnTo>
                      <a:lnTo>
                        <a:pt x="314" y="1257"/>
                      </a:lnTo>
                      <a:lnTo>
                        <a:pt x="292" y="128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50"/>
                <p:cNvSpPr/>
                <p:nvPr/>
              </p:nvSpPr>
              <p:spPr>
                <a:xfrm>
                  <a:off x="7877520" y="3312720"/>
                  <a:ext cx="405360" cy="532080"/>
                </a:xfrm>
                <a:custGeom>
                  <a:avLst/>
                  <a:gdLst>
                    <a:gd name="textAreaLeft" fmla="*/ 0 w 405360"/>
                    <a:gd name="textAreaRight" fmla="*/ 405720 w 4053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311" h="954">
                      <a:moveTo>
                        <a:pt x="217" y="954"/>
                      </a:moveTo>
                      <a:lnTo>
                        <a:pt x="0" y="0"/>
                      </a:lnTo>
                      <a:lnTo>
                        <a:pt x="28" y="19"/>
                      </a:lnTo>
                      <a:lnTo>
                        <a:pt x="56" y="40"/>
                      </a:lnTo>
                      <a:lnTo>
                        <a:pt x="82" y="62"/>
                      </a:lnTo>
                      <a:lnTo>
                        <a:pt x="106" y="83"/>
                      </a:lnTo>
                      <a:lnTo>
                        <a:pt x="130" y="106"/>
                      </a:lnTo>
                      <a:lnTo>
                        <a:pt x="152" y="131"/>
                      </a:lnTo>
                      <a:lnTo>
                        <a:pt x="173" y="157"/>
                      </a:lnTo>
                      <a:lnTo>
                        <a:pt x="193" y="182"/>
                      </a:lnTo>
                      <a:lnTo>
                        <a:pt x="211" y="209"/>
                      </a:lnTo>
                      <a:lnTo>
                        <a:pt x="227" y="238"/>
                      </a:lnTo>
                      <a:lnTo>
                        <a:pt x="243" y="268"/>
                      </a:lnTo>
                      <a:lnTo>
                        <a:pt x="256" y="298"/>
                      </a:lnTo>
                      <a:lnTo>
                        <a:pt x="269" y="327"/>
                      </a:lnTo>
                      <a:lnTo>
                        <a:pt x="280" y="360"/>
                      </a:lnTo>
                      <a:lnTo>
                        <a:pt x="289" y="391"/>
                      </a:lnTo>
                      <a:lnTo>
                        <a:pt x="297" y="425"/>
                      </a:lnTo>
                      <a:lnTo>
                        <a:pt x="303" y="456"/>
                      </a:lnTo>
                      <a:lnTo>
                        <a:pt x="307" y="489"/>
                      </a:lnTo>
                      <a:lnTo>
                        <a:pt x="310" y="522"/>
                      </a:lnTo>
                      <a:lnTo>
                        <a:pt x="311" y="555"/>
                      </a:lnTo>
                      <a:lnTo>
                        <a:pt x="311" y="588"/>
                      </a:lnTo>
                      <a:lnTo>
                        <a:pt x="310" y="621"/>
                      </a:lnTo>
                      <a:lnTo>
                        <a:pt x="306" y="654"/>
                      </a:lnTo>
                      <a:lnTo>
                        <a:pt x="302" y="688"/>
                      </a:lnTo>
                      <a:lnTo>
                        <a:pt x="296" y="721"/>
                      </a:lnTo>
                      <a:lnTo>
                        <a:pt x="289" y="755"/>
                      </a:lnTo>
                      <a:lnTo>
                        <a:pt x="281" y="789"/>
                      </a:lnTo>
                      <a:lnTo>
                        <a:pt x="270" y="821"/>
                      </a:lnTo>
                      <a:lnTo>
                        <a:pt x="259" y="855"/>
                      </a:lnTo>
                      <a:lnTo>
                        <a:pt x="246" y="888"/>
                      </a:lnTo>
                      <a:lnTo>
                        <a:pt x="232" y="920"/>
                      </a:lnTo>
                      <a:lnTo>
                        <a:pt x="217" y="9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51"/>
                <p:cNvSpPr/>
                <p:nvPr/>
              </p:nvSpPr>
              <p:spPr>
                <a:xfrm>
                  <a:off x="5329440" y="3229560"/>
                  <a:ext cx="2953440" cy="1020240"/>
                </a:xfrm>
                <a:custGeom>
                  <a:avLst/>
                  <a:gdLst>
                    <a:gd name="textAreaLeft" fmla="*/ 0 w 2953440"/>
                    <a:gd name="textAreaRight" fmla="*/ 2953800 w 2953440"/>
                    <a:gd name="textAreaTop" fmla="*/ 0 h 1020240"/>
                    <a:gd name="textAreaBottom" fmla="*/ 1020600 h 1020240"/>
                  </a:gdLst>
                  <a:ahLst/>
                  <a:rect l="textAreaLeft" t="textAreaTop" r="textAreaRight" b="textAreaBottom"/>
                  <a:pathLst>
                    <a:path w="2262" h="1830">
                      <a:moveTo>
                        <a:pt x="979" y="60"/>
                      </a:moveTo>
                      <a:lnTo>
                        <a:pt x="1038" y="43"/>
                      </a:lnTo>
                      <a:lnTo>
                        <a:pt x="1096" y="31"/>
                      </a:lnTo>
                      <a:lnTo>
                        <a:pt x="1155" y="20"/>
                      </a:lnTo>
                      <a:lnTo>
                        <a:pt x="1212" y="11"/>
                      </a:lnTo>
                      <a:lnTo>
                        <a:pt x="1268" y="5"/>
                      </a:lnTo>
                      <a:lnTo>
                        <a:pt x="1323" y="1"/>
                      </a:lnTo>
                      <a:lnTo>
                        <a:pt x="1378" y="0"/>
                      </a:lnTo>
                      <a:lnTo>
                        <a:pt x="1432" y="0"/>
                      </a:lnTo>
                      <a:lnTo>
                        <a:pt x="1484" y="3"/>
                      </a:lnTo>
                      <a:lnTo>
                        <a:pt x="1536" y="8"/>
                      </a:lnTo>
                      <a:lnTo>
                        <a:pt x="1586" y="15"/>
                      </a:lnTo>
                      <a:lnTo>
                        <a:pt x="1634" y="23"/>
                      </a:lnTo>
                      <a:lnTo>
                        <a:pt x="1682" y="34"/>
                      </a:lnTo>
                      <a:lnTo>
                        <a:pt x="1728" y="47"/>
                      </a:lnTo>
                      <a:lnTo>
                        <a:pt x="1773" y="62"/>
                      </a:lnTo>
                      <a:lnTo>
                        <a:pt x="1816" y="79"/>
                      </a:lnTo>
                      <a:lnTo>
                        <a:pt x="1858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4"/>
                      </a:lnTo>
                      <a:lnTo>
                        <a:pt x="2007" y="190"/>
                      </a:lnTo>
                      <a:lnTo>
                        <a:pt x="2040" y="217"/>
                      </a:lnTo>
                      <a:lnTo>
                        <a:pt x="2056" y="232"/>
                      </a:lnTo>
                      <a:lnTo>
                        <a:pt x="2071" y="247"/>
                      </a:lnTo>
                      <a:lnTo>
                        <a:pt x="2085" y="262"/>
                      </a:lnTo>
                      <a:lnTo>
                        <a:pt x="2100" y="277"/>
                      </a:lnTo>
                      <a:lnTo>
                        <a:pt x="2112" y="293"/>
                      </a:lnTo>
                      <a:lnTo>
                        <a:pt x="2126" y="309"/>
                      </a:lnTo>
                      <a:lnTo>
                        <a:pt x="2138" y="326"/>
                      </a:lnTo>
                      <a:lnTo>
                        <a:pt x="2151" y="343"/>
                      </a:lnTo>
                      <a:lnTo>
                        <a:pt x="2162" y="361"/>
                      </a:lnTo>
                      <a:lnTo>
                        <a:pt x="2173" y="378"/>
                      </a:lnTo>
                      <a:lnTo>
                        <a:pt x="2183" y="396"/>
                      </a:lnTo>
                      <a:lnTo>
                        <a:pt x="2192" y="415"/>
                      </a:lnTo>
                      <a:lnTo>
                        <a:pt x="2202" y="434"/>
                      </a:lnTo>
                      <a:lnTo>
                        <a:pt x="2210" y="453"/>
                      </a:lnTo>
                      <a:lnTo>
                        <a:pt x="2218" y="472"/>
                      </a:lnTo>
                      <a:lnTo>
                        <a:pt x="2225" y="492"/>
                      </a:lnTo>
                      <a:lnTo>
                        <a:pt x="2232" y="513"/>
                      </a:lnTo>
                      <a:lnTo>
                        <a:pt x="2238" y="533"/>
                      </a:lnTo>
                      <a:lnTo>
                        <a:pt x="2243" y="553"/>
                      </a:lnTo>
                      <a:lnTo>
                        <a:pt x="2248" y="575"/>
                      </a:lnTo>
                      <a:lnTo>
                        <a:pt x="2253" y="597"/>
                      </a:lnTo>
                      <a:lnTo>
                        <a:pt x="2256" y="619"/>
                      </a:lnTo>
                      <a:lnTo>
                        <a:pt x="2258" y="640"/>
                      </a:lnTo>
                      <a:lnTo>
                        <a:pt x="2261" y="662"/>
                      </a:lnTo>
                      <a:lnTo>
                        <a:pt x="2262" y="684"/>
                      </a:lnTo>
                      <a:lnTo>
                        <a:pt x="2262" y="705"/>
                      </a:lnTo>
                      <a:lnTo>
                        <a:pt x="2262" y="727"/>
                      </a:lnTo>
                      <a:lnTo>
                        <a:pt x="2262" y="750"/>
                      </a:lnTo>
                      <a:lnTo>
                        <a:pt x="2261" y="772"/>
                      </a:lnTo>
                      <a:lnTo>
                        <a:pt x="2258" y="795"/>
                      </a:lnTo>
                      <a:lnTo>
                        <a:pt x="2256" y="817"/>
                      </a:lnTo>
                      <a:lnTo>
                        <a:pt x="2253" y="840"/>
                      </a:lnTo>
                      <a:lnTo>
                        <a:pt x="2249" y="861"/>
                      </a:lnTo>
                      <a:lnTo>
                        <a:pt x="2244" y="885"/>
                      </a:lnTo>
                      <a:lnTo>
                        <a:pt x="2240" y="906"/>
                      </a:lnTo>
                      <a:lnTo>
                        <a:pt x="2234" y="929"/>
                      </a:lnTo>
                      <a:lnTo>
                        <a:pt x="2221" y="974"/>
                      </a:lnTo>
                      <a:lnTo>
                        <a:pt x="2205" y="1019"/>
                      </a:lnTo>
                      <a:lnTo>
                        <a:pt x="2188" y="1062"/>
                      </a:lnTo>
                      <a:lnTo>
                        <a:pt x="2167" y="1107"/>
                      </a:lnTo>
                      <a:lnTo>
                        <a:pt x="2145" y="1150"/>
                      </a:lnTo>
                      <a:lnTo>
                        <a:pt x="2119" y="1194"/>
                      </a:lnTo>
                      <a:lnTo>
                        <a:pt x="2093" y="1236"/>
                      </a:lnTo>
                      <a:lnTo>
                        <a:pt x="2064" y="1277"/>
                      </a:lnTo>
                      <a:lnTo>
                        <a:pt x="2033" y="1319"/>
                      </a:lnTo>
                      <a:lnTo>
                        <a:pt x="1999" y="1358"/>
                      </a:lnTo>
                      <a:lnTo>
                        <a:pt x="1963" y="1397"/>
                      </a:lnTo>
                      <a:lnTo>
                        <a:pt x="1926" y="1435"/>
                      </a:lnTo>
                      <a:lnTo>
                        <a:pt x="1887" y="1472"/>
                      </a:lnTo>
                      <a:lnTo>
                        <a:pt x="1845" y="1507"/>
                      </a:lnTo>
                      <a:lnTo>
                        <a:pt x="1801" y="1541"/>
                      </a:lnTo>
                      <a:lnTo>
                        <a:pt x="1756" y="1574"/>
                      </a:lnTo>
                      <a:lnTo>
                        <a:pt x="1709" y="1605"/>
                      </a:lnTo>
                      <a:lnTo>
                        <a:pt x="1661" y="1635"/>
                      </a:lnTo>
                      <a:lnTo>
                        <a:pt x="1610" y="1662"/>
                      </a:lnTo>
                      <a:lnTo>
                        <a:pt x="1558" y="1688"/>
                      </a:lnTo>
                      <a:lnTo>
                        <a:pt x="1503" y="1712"/>
                      </a:lnTo>
                      <a:lnTo>
                        <a:pt x="1448" y="1735"/>
                      </a:lnTo>
                      <a:lnTo>
                        <a:pt x="1391" y="1754"/>
                      </a:lnTo>
                      <a:lnTo>
                        <a:pt x="1332" y="1773"/>
                      </a:lnTo>
                      <a:lnTo>
                        <a:pt x="1273" y="1788"/>
                      </a:lnTo>
                      <a:lnTo>
                        <a:pt x="1214" y="1802"/>
                      </a:lnTo>
                      <a:lnTo>
                        <a:pt x="1155" y="1813"/>
                      </a:lnTo>
                      <a:lnTo>
                        <a:pt x="1097" y="1821"/>
                      </a:lnTo>
                      <a:lnTo>
                        <a:pt x="1040" y="1826"/>
                      </a:lnTo>
                      <a:lnTo>
                        <a:pt x="983" y="1829"/>
                      </a:lnTo>
                      <a:lnTo>
                        <a:pt x="927" y="1830"/>
                      </a:lnTo>
                      <a:lnTo>
                        <a:pt x="872" y="1829"/>
                      </a:lnTo>
                      <a:lnTo>
                        <a:pt x="818" y="1826"/>
                      </a:lnTo>
                      <a:lnTo>
                        <a:pt x="765" y="1821"/>
                      </a:lnTo>
                      <a:lnTo>
                        <a:pt x="712" y="1813"/>
                      </a:lnTo>
                      <a:lnTo>
                        <a:pt x="661" y="1803"/>
                      </a:lnTo>
                      <a:lnTo>
                        <a:pt x="612" y="1791"/>
                      </a:lnTo>
                      <a:lnTo>
                        <a:pt x="563" y="1777"/>
                      </a:lnTo>
                      <a:lnTo>
                        <a:pt x="516" y="1762"/>
                      </a:lnTo>
                      <a:lnTo>
                        <a:pt x="470" y="1745"/>
                      </a:lnTo>
                      <a:lnTo>
                        <a:pt x="426" y="1724"/>
                      </a:lnTo>
                      <a:lnTo>
                        <a:pt x="385" y="1704"/>
                      </a:lnTo>
                      <a:lnTo>
                        <a:pt x="344" y="1681"/>
                      </a:lnTo>
                      <a:lnTo>
                        <a:pt x="305" y="1655"/>
                      </a:lnTo>
                      <a:lnTo>
                        <a:pt x="268" y="1629"/>
                      </a:lnTo>
                      <a:lnTo>
                        <a:pt x="233" y="1601"/>
                      </a:lnTo>
                      <a:lnTo>
                        <a:pt x="217" y="1586"/>
                      </a:lnTo>
                      <a:lnTo>
                        <a:pt x="201" y="1571"/>
                      </a:lnTo>
                      <a:lnTo>
                        <a:pt x="186" y="1556"/>
                      </a:lnTo>
                      <a:lnTo>
                        <a:pt x="170" y="1540"/>
                      </a:lnTo>
                      <a:lnTo>
                        <a:pt x="155" y="1524"/>
                      </a:lnTo>
                      <a:lnTo>
                        <a:pt x="142" y="1507"/>
                      </a:lnTo>
                      <a:lnTo>
                        <a:pt x="129" y="1491"/>
                      </a:lnTo>
                      <a:lnTo>
                        <a:pt x="116" y="1473"/>
                      </a:lnTo>
                      <a:lnTo>
                        <a:pt x="104" y="1456"/>
                      </a:lnTo>
                      <a:lnTo>
                        <a:pt x="93" y="1438"/>
                      </a:lnTo>
                      <a:lnTo>
                        <a:pt x="81" y="1419"/>
                      </a:lnTo>
                      <a:lnTo>
                        <a:pt x="71" y="1400"/>
                      </a:lnTo>
                      <a:lnTo>
                        <a:pt x="62" y="1381"/>
                      </a:lnTo>
                      <a:lnTo>
                        <a:pt x="54" y="1362"/>
                      </a:lnTo>
                      <a:lnTo>
                        <a:pt x="44" y="1343"/>
                      </a:lnTo>
                      <a:lnTo>
                        <a:pt x="37" y="1323"/>
                      </a:lnTo>
                      <a:lnTo>
                        <a:pt x="30" y="1302"/>
                      </a:lnTo>
                      <a:lnTo>
                        <a:pt x="25" y="1282"/>
                      </a:lnTo>
                      <a:lnTo>
                        <a:pt x="19" y="1260"/>
                      </a:lnTo>
                      <a:lnTo>
                        <a:pt x="14" y="1240"/>
                      </a:lnTo>
                      <a:lnTo>
                        <a:pt x="10" y="1218"/>
                      </a:lnTo>
                      <a:lnTo>
                        <a:pt x="6" y="1197"/>
                      </a:lnTo>
                      <a:lnTo>
                        <a:pt x="4" y="1175"/>
                      </a:lnTo>
                      <a:lnTo>
                        <a:pt x="3" y="1153"/>
                      </a:lnTo>
                      <a:lnTo>
                        <a:pt x="1" y="1131"/>
                      </a:lnTo>
                      <a:lnTo>
                        <a:pt x="0" y="1110"/>
                      </a:lnTo>
                      <a:lnTo>
                        <a:pt x="1" y="1088"/>
                      </a:lnTo>
                      <a:lnTo>
                        <a:pt x="3" y="1065"/>
                      </a:lnTo>
                      <a:lnTo>
                        <a:pt x="4" y="1043"/>
                      </a:lnTo>
                      <a:lnTo>
                        <a:pt x="6" y="1022"/>
                      </a:lnTo>
                      <a:lnTo>
                        <a:pt x="10" y="999"/>
                      </a:lnTo>
                      <a:lnTo>
                        <a:pt x="14" y="977"/>
                      </a:lnTo>
                      <a:lnTo>
                        <a:pt x="18" y="955"/>
                      </a:lnTo>
                      <a:lnTo>
                        <a:pt x="23" y="932"/>
                      </a:lnTo>
                      <a:lnTo>
                        <a:pt x="29" y="910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2"/>
                      </a:lnTo>
                      <a:lnTo>
                        <a:pt x="69" y="800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6" y="670"/>
                      </a:lnTo>
                      <a:lnTo>
                        <a:pt x="162" y="628"/>
                      </a:lnTo>
                      <a:lnTo>
                        <a:pt x="191" y="587"/>
                      </a:lnTo>
                      <a:lnTo>
                        <a:pt x="223" y="545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70" y="392"/>
                      </a:lnTo>
                      <a:lnTo>
                        <a:pt x="411" y="355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5"/>
                      </a:lnTo>
                      <a:lnTo>
                        <a:pt x="645" y="195"/>
                      </a:lnTo>
                      <a:lnTo>
                        <a:pt x="697" y="168"/>
                      </a:lnTo>
                      <a:lnTo>
                        <a:pt x="751" y="142"/>
                      </a:lnTo>
                      <a:lnTo>
                        <a:pt x="806" y="119"/>
                      </a:lnTo>
                      <a:lnTo>
                        <a:pt x="862" y="98"/>
                      </a:lnTo>
                      <a:lnTo>
                        <a:pt x="920" y="77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52"/>
                <p:cNvSpPr/>
                <p:nvPr/>
              </p:nvSpPr>
              <p:spPr>
                <a:xfrm>
                  <a:off x="5242680" y="2936520"/>
                  <a:ext cx="2838240" cy="925200"/>
                </a:xfrm>
                <a:custGeom>
                  <a:avLst/>
                  <a:gdLst>
                    <a:gd name="textAreaLeft" fmla="*/ 0 w 2838240"/>
                    <a:gd name="textAreaRight" fmla="*/ 2838600 w 2838240"/>
                    <a:gd name="textAreaTop" fmla="*/ 0 h 925200"/>
                    <a:gd name="textAreaBottom" fmla="*/ 925560 h 925200"/>
                  </a:gdLst>
                  <a:ahLst/>
                  <a:rect l="textAreaLeft" t="textAreaTop" r="textAreaRight" b="textAreaBottom"/>
                  <a:pathLst>
                    <a:path w="2174" h="1660">
                      <a:moveTo>
                        <a:pt x="928" y="57"/>
                      </a:moveTo>
                      <a:lnTo>
                        <a:pt x="983" y="44"/>
                      </a:lnTo>
                      <a:lnTo>
                        <a:pt x="1039" y="30"/>
                      </a:lnTo>
                      <a:lnTo>
                        <a:pt x="1093" y="20"/>
                      </a:lnTo>
                      <a:lnTo>
                        <a:pt x="1148" y="12"/>
                      </a:lnTo>
                      <a:lnTo>
                        <a:pt x="1201" y="6"/>
                      </a:lnTo>
                      <a:lnTo>
                        <a:pt x="1254" y="1"/>
                      </a:lnTo>
                      <a:lnTo>
                        <a:pt x="1306" y="0"/>
                      </a:lnTo>
                      <a:lnTo>
                        <a:pt x="1359" y="0"/>
                      </a:lnTo>
                      <a:lnTo>
                        <a:pt x="1410" y="1"/>
                      </a:lnTo>
                      <a:lnTo>
                        <a:pt x="1459" y="6"/>
                      </a:lnTo>
                      <a:lnTo>
                        <a:pt x="1508" y="12"/>
                      </a:lnTo>
                      <a:lnTo>
                        <a:pt x="1555" y="19"/>
                      </a:lnTo>
                      <a:lnTo>
                        <a:pt x="1602" y="29"/>
                      </a:lnTo>
                      <a:lnTo>
                        <a:pt x="1648" y="41"/>
                      </a:lnTo>
                      <a:lnTo>
                        <a:pt x="1692" y="54"/>
                      </a:lnTo>
                      <a:lnTo>
                        <a:pt x="1734" y="69"/>
                      </a:lnTo>
                      <a:lnTo>
                        <a:pt x="1775" y="86"/>
                      </a:lnTo>
                      <a:lnTo>
                        <a:pt x="1815" y="105"/>
                      </a:lnTo>
                      <a:lnTo>
                        <a:pt x="1853" y="124"/>
                      </a:lnTo>
                      <a:lnTo>
                        <a:pt x="1889" y="145"/>
                      </a:lnTo>
                      <a:lnTo>
                        <a:pt x="1924" y="170"/>
                      </a:lnTo>
                      <a:lnTo>
                        <a:pt x="1956" y="194"/>
                      </a:lnTo>
                      <a:lnTo>
                        <a:pt x="1987" y="221"/>
                      </a:lnTo>
                      <a:lnTo>
                        <a:pt x="2015" y="248"/>
                      </a:lnTo>
                      <a:lnTo>
                        <a:pt x="2029" y="263"/>
                      </a:lnTo>
                      <a:lnTo>
                        <a:pt x="2042" y="278"/>
                      </a:lnTo>
                      <a:lnTo>
                        <a:pt x="2055" y="293"/>
                      </a:lnTo>
                      <a:lnTo>
                        <a:pt x="2066" y="309"/>
                      </a:lnTo>
                      <a:lnTo>
                        <a:pt x="2078" y="326"/>
                      </a:lnTo>
                      <a:lnTo>
                        <a:pt x="2088" y="342"/>
                      </a:lnTo>
                      <a:lnTo>
                        <a:pt x="2099" y="358"/>
                      </a:lnTo>
                      <a:lnTo>
                        <a:pt x="2109" y="376"/>
                      </a:lnTo>
                      <a:lnTo>
                        <a:pt x="2117" y="394"/>
                      </a:lnTo>
                      <a:lnTo>
                        <a:pt x="2125" y="411"/>
                      </a:lnTo>
                      <a:lnTo>
                        <a:pt x="2133" y="429"/>
                      </a:lnTo>
                      <a:lnTo>
                        <a:pt x="2140" y="448"/>
                      </a:lnTo>
                      <a:lnTo>
                        <a:pt x="2147" y="467"/>
                      </a:lnTo>
                      <a:lnTo>
                        <a:pt x="2153" y="486"/>
                      </a:lnTo>
                      <a:lnTo>
                        <a:pt x="2158" y="505"/>
                      </a:lnTo>
                      <a:lnTo>
                        <a:pt x="2162" y="525"/>
                      </a:lnTo>
                      <a:lnTo>
                        <a:pt x="2166" y="544"/>
                      </a:lnTo>
                      <a:lnTo>
                        <a:pt x="2169" y="565"/>
                      </a:lnTo>
                      <a:lnTo>
                        <a:pt x="2172" y="585"/>
                      </a:lnTo>
                      <a:lnTo>
                        <a:pt x="2173" y="605"/>
                      </a:lnTo>
                      <a:lnTo>
                        <a:pt x="2174" y="626"/>
                      </a:lnTo>
                      <a:lnTo>
                        <a:pt x="2174" y="646"/>
                      </a:lnTo>
                      <a:lnTo>
                        <a:pt x="2174" y="666"/>
                      </a:lnTo>
                      <a:lnTo>
                        <a:pt x="2173" y="687"/>
                      </a:lnTo>
                      <a:lnTo>
                        <a:pt x="2170" y="707"/>
                      </a:lnTo>
                      <a:lnTo>
                        <a:pt x="2168" y="727"/>
                      </a:lnTo>
                      <a:lnTo>
                        <a:pt x="2165" y="748"/>
                      </a:lnTo>
                      <a:lnTo>
                        <a:pt x="2161" y="768"/>
                      </a:lnTo>
                      <a:lnTo>
                        <a:pt x="2156" y="788"/>
                      </a:lnTo>
                      <a:lnTo>
                        <a:pt x="2152" y="809"/>
                      </a:lnTo>
                      <a:lnTo>
                        <a:pt x="2146" y="829"/>
                      </a:lnTo>
                      <a:lnTo>
                        <a:pt x="2139" y="848"/>
                      </a:lnTo>
                      <a:lnTo>
                        <a:pt x="2125" y="889"/>
                      </a:lnTo>
                      <a:lnTo>
                        <a:pt x="2108" y="930"/>
                      </a:lnTo>
                      <a:lnTo>
                        <a:pt x="2089" y="969"/>
                      </a:lnTo>
                      <a:lnTo>
                        <a:pt x="2067" y="1008"/>
                      </a:lnTo>
                      <a:lnTo>
                        <a:pt x="2043" y="1046"/>
                      </a:lnTo>
                      <a:lnTo>
                        <a:pt x="2017" y="1086"/>
                      </a:lnTo>
                      <a:lnTo>
                        <a:pt x="1990" y="1122"/>
                      </a:lnTo>
                      <a:lnTo>
                        <a:pt x="1960" y="1160"/>
                      </a:lnTo>
                      <a:lnTo>
                        <a:pt x="1927" y="1196"/>
                      </a:lnTo>
                      <a:lnTo>
                        <a:pt x="1894" y="1231"/>
                      </a:lnTo>
                      <a:lnTo>
                        <a:pt x="1858" y="1266"/>
                      </a:lnTo>
                      <a:lnTo>
                        <a:pt x="1819" y="1299"/>
                      </a:lnTo>
                      <a:lnTo>
                        <a:pt x="1780" y="1331"/>
                      </a:lnTo>
                      <a:lnTo>
                        <a:pt x="1740" y="1362"/>
                      </a:lnTo>
                      <a:lnTo>
                        <a:pt x="1697" y="1394"/>
                      </a:lnTo>
                      <a:lnTo>
                        <a:pt x="1652" y="1422"/>
                      </a:lnTo>
                      <a:lnTo>
                        <a:pt x="1606" y="1449"/>
                      </a:lnTo>
                      <a:lnTo>
                        <a:pt x="1559" y="1476"/>
                      </a:lnTo>
                      <a:lnTo>
                        <a:pt x="1509" y="1501"/>
                      </a:lnTo>
                      <a:lnTo>
                        <a:pt x="1459" y="1524"/>
                      </a:lnTo>
                      <a:lnTo>
                        <a:pt x="1408" y="1546"/>
                      </a:lnTo>
                      <a:lnTo>
                        <a:pt x="1355" y="1566"/>
                      </a:lnTo>
                      <a:lnTo>
                        <a:pt x="1302" y="1585"/>
                      </a:lnTo>
                      <a:lnTo>
                        <a:pt x="1246" y="1601"/>
                      </a:lnTo>
                      <a:lnTo>
                        <a:pt x="1191" y="1616"/>
                      </a:lnTo>
                      <a:lnTo>
                        <a:pt x="1136" y="1628"/>
                      </a:lnTo>
                      <a:lnTo>
                        <a:pt x="1082" y="1639"/>
                      </a:lnTo>
                      <a:lnTo>
                        <a:pt x="1027" y="1647"/>
                      </a:lnTo>
                      <a:lnTo>
                        <a:pt x="973" y="1653"/>
                      </a:lnTo>
                      <a:lnTo>
                        <a:pt x="921" y="1657"/>
                      </a:lnTo>
                      <a:lnTo>
                        <a:pt x="868" y="1660"/>
                      </a:lnTo>
                      <a:lnTo>
                        <a:pt x="817" y="1660"/>
                      </a:lnTo>
                      <a:lnTo>
                        <a:pt x="766" y="1657"/>
                      </a:lnTo>
                      <a:lnTo>
                        <a:pt x="716" y="1653"/>
                      </a:lnTo>
                      <a:lnTo>
                        <a:pt x="667" y="1647"/>
                      </a:lnTo>
                      <a:lnTo>
                        <a:pt x="619" y="1639"/>
                      </a:lnTo>
                      <a:lnTo>
                        <a:pt x="572" y="1630"/>
                      </a:lnTo>
                      <a:lnTo>
                        <a:pt x="527" y="1619"/>
                      </a:lnTo>
                      <a:lnTo>
                        <a:pt x="483" y="1605"/>
                      </a:lnTo>
                      <a:lnTo>
                        <a:pt x="440" y="1590"/>
                      </a:lnTo>
                      <a:lnTo>
                        <a:pt x="399" y="1573"/>
                      </a:lnTo>
                      <a:lnTo>
                        <a:pt x="359" y="1555"/>
                      </a:lnTo>
                      <a:lnTo>
                        <a:pt x="321" y="1535"/>
                      </a:lnTo>
                      <a:lnTo>
                        <a:pt x="285" y="1513"/>
                      </a:lnTo>
                      <a:lnTo>
                        <a:pt x="250" y="1490"/>
                      </a:lnTo>
                      <a:lnTo>
                        <a:pt x="218" y="1464"/>
                      </a:lnTo>
                      <a:lnTo>
                        <a:pt x="188" y="1438"/>
                      </a:lnTo>
                      <a:lnTo>
                        <a:pt x="159" y="1410"/>
                      </a:lnTo>
                      <a:lnTo>
                        <a:pt x="145" y="1395"/>
                      </a:lnTo>
                      <a:lnTo>
                        <a:pt x="132" y="1380"/>
                      </a:lnTo>
                      <a:lnTo>
                        <a:pt x="120" y="1365"/>
                      </a:lnTo>
                      <a:lnTo>
                        <a:pt x="108" y="1349"/>
                      </a:lnTo>
                      <a:lnTo>
                        <a:pt x="96" y="1334"/>
                      </a:lnTo>
                      <a:lnTo>
                        <a:pt x="86" y="1318"/>
                      </a:lnTo>
                      <a:lnTo>
                        <a:pt x="76" y="1300"/>
                      </a:lnTo>
                      <a:lnTo>
                        <a:pt x="66" y="1284"/>
                      </a:lnTo>
                      <a:lnTo>
                        <a:pt x="57" y="1266"/>
                      </a:lnTo>
                      <a:lnTo>
                        <a:pt x="49" y="1248"/>
                      </a:lnTo>
                      <a:lnTo>
                        <a:pt x="41" y="1229"/>
                      </a:lnTo>
                      <a:lnTo>
                        <a:pt x="34" y="1212"/>
                      </a:lnTo>
                      <a:lnTo>
                        <a:pt x="28" y="1193"/>
                      </a:lnTo>
                      <a:lnTo>
                        <a:pt x="22" y="1174"/>
                      </a:lnTo>
                      <a:lnTo>
                        <a:pt x="16" y="1153"/>
                      </a:lnTo>
                      <a:lnTo>
                        <a:pt x="12" y="1134"/>
                      </a:lnTo>
                      <a:lnTo>
                        <a:pt x="8" y="1114"/>
                      </a:lnTo>
                      <a:lnTo>
                        <a:pt x="5" y="1094"/>
                      </a:lnTo>
                      <a:lnTo>
                        <a:pt x="3" y="1073"/>
                      </a:lnTo>
                      <a:lnTo>
                        <a:pt x="1" y="1054"/>
                      </a:lnTo>
                      <a:lnTo>
                        <a:pt x="0" y="1034"/>
                      </a:lnTo>
                      <a:lnTo>
                        <a:pt x="0" y="1014"/>
                      </a:lnTo>
                      <a:lnTo>
                        <a:pt x="1" y="993"/>
                      </a:lnTo>
                      <a:lnTo>
                        <a:pt x="3" y="973"/>
                      </a:lnTo>
                      <a:lnTo>
                        <a:pt x="4" y="953"/>
                      </a:lnTo>
                      <a:lnTo>
                        <a:pt x="6" y="932"/>
                      </a:lnTo>
                      <a:lnTo>
                        <a:pt x="10" y="912"/>
                      </a:lnTo>
                      <a:lnTo>
                        <a:pt x="13" y="892"/>
                      </a:lnTo>
                      <a:lnTo>
                        <a:pt x="18" y="871"/>
                      </a:lnTo>
                      <a:lnTo>
                        <a:pt x="23" y="851"/>
                      </a:lnTo>
                      <a:lnTo>
                        <a:pt x="29" y="831"/>
                      </a:lnTo>
                      <a:lnTo>
                        <a:pt x="35" y="810"/>
                      </a:lnTo>
                      <a:lnTo>
                        <a:pt x="50" y="769"/>
                      </a:lnTo>
                      <a:lnTo>
                        <a:pt x="66" y="730"/>
                      </a:lnTo>
                      <a:lnTo>
                        <a:pt x="86" y="691"/>
                      </a:lnTo>
                      <a:lnTo>
                        <a:pt x="107" y="651"/>
                      </a:lnTo>
                      <a:lnTo>
                        <a:pt x="131" y="612"/>
                      </a:lnTo>
                      <a:lnTo>
                        <a:pt x="157" y="574"/>
                      </a:lnTo>
                      <a:lnTo>
                        <a:pt x="186" y="536"/>
                      </a:lnTo>
                      <a:lnTo>
                        <a:pt x="216" y="499"/>
                      </a:lnTo>
                      <a:lnTo>
                        <a:pt x="247" y="463"/>
                      </a:lnTo>
                      <a:lnTo>
                        <a:pt x="282" y="428"/>
                      </a:lnTo>
                      <a:lnTo>
                        <a:pt x="318" y="394"/>
                      </a:lnTo>
                      <a:lnTo>
                        <a:pt x="355" y="360"/>
                      </a:lnTo>
                      <a:lnTo>
                        <a:pt x="394" y="327"/>
                      </a:lnTo>
                      <a:lnTo>
                        <a:pt x="436" y="296"/>
                      </a:lnTo>
                      <a:lnTo>
                        <a:pt x="479" y="266"/>
                      </a:lnTo>
                      <a:lnTo>
                        <a:pt x="523" y="238"/>
                      </a:lnTo>
                      <a:lnTo>
                        <a:pt x="569" y="209"/>
                      </a:lnTo>
                      <a:lnTo>
                        <a:pt x="616" y="183"/>
                      </a:lnTo>
                      <a:lnTo>
                        <a:pt x="665" y="158"/>
                      </a:lnTo>
                      <a:lnTo>
                        <a:pt x="715" y="134"/>
                      </a:lnTo>
                      <a:lnTo>
                        <a:pt x="767" y="113"/>
                      </a:lnTo>
                      <a:lnTo>
                        <a:pt x="819" y="92"/>
                      </a:lnTo>
                      <a:lnTo>
                        <a:pt x="873" y="75"/>
                      </a:lnTo>
                      <a:lnTo>
                        <a:pt x="928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53"/>
                <p:cNvSpPr/>
                <p:nvPr/>
              </p:nvSpPr>
              <p:spPr>
                <a:xfrm>
                  <a:off x="5271840" y="3669480"/>
                  <a:ext cx="363240" cy="39276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92760"/>
                    <a:gd name="textAreaBottom" fmla="*/ 393120 h 392760"/>
                  </a:gdLst>
                  <a:ahLst/>
                  <a:rect l="textAreaLeft" t="textAreaTop" r="textAreaRight" b="textAreaBottom"/>
                  <a:pathLst>
                    <a:path w="279" h="705">
                      <a:moveTo>
                        <a:pt x="173" y="191"/>
                      </a:moveTo>
                      <a:lnTo>
                        <a:pt x="279" y="705"/>
                      </a:lnTo>
                      <a:lnTo>
                        <a:pt x="260" y="688"/>
                      </a:lnTo>
                      <a:lnTo>
                        <a:pt x="241" y="670"/>
                      </a:lnTo>
                      <a:lnTo>
                        <a:pt x="224" y="651"/>
                      </a:lnTo>
                      <a:lnTo>
                        <a:pt x="206" y="631"/>
                      </a:lnTo>
                      <a:lnTo>
                        <a:pt x="191" y="612"/>
                      </a:lnTo>
                      <a:lnTo>
                        <a:pt x="176" y="590"/>
                      </a:lnTo>
                      <a:lnTo>
                        <a:pt x="161" y="570"/>
                      </a:lnTo>
                      <a:lnTo>
                        <a:pt x="148" y="548"/>
                      </a:lnTo>
                      <a:lnTo>
                        <a:pt x="136" y="526"/>
                      </a:lnTo>
                      <a:lnTo>
                        <a:pt x="124" y="503"/>
                      </a:lnTo>
                      <a:lnTo>
                        <a:pt x="114" y="480"/>
                      </a:lnTo>
                      <a:lnTo>
                        <a:pt x="104" y="457"/>
                      </a:lnTo>
                      <a:lnTo>
                        <a:pt x="96" y="433"/>
                      </a:lnTo>
                      <a:lnTo>
                        <a:pt x="89" y="408"/>
                      </a:lnTo>
                      <a:lnTo>
                        <a:pt x="84" y="384"/>
                      </a:lnTo>
                      <a:lnTo>
                        <a:pt x="78" y="359"/>
                      </a:lnTo>
                      <a:lnTo>
                        <a:pt x="73" y="335"/>
                      </a:lnTo>
                      <a:lnTo>
                        <a:pt x="70" y="317"/>
                      </a:lnTo>
                      <a:lnTo>
                        <a:pt x="66" y="305"/>
                      </a:lnTo>
                      <a:lnTo>
                        <a:pt x="63" y="296"/>
                      </a:lnTo>
                      <a:lnTo>
                        <a:pt x="57" y="282"/>
                      </a:lnTo>
                      <a:lnTo>
                        <a:pt x="50" y="269"/>
                      </a:lnTo>
                      <a:lnTo>
                        <a:pt x="47" y="258"/>
                      </a:lnTo>
                      <a:lnTo>
                        <a:pt x="42" y="243"/>
                      </a:lnTo>
                      <a:lnTo>
                        <a:pt x="37" y="222"/>
                      </a:lnTo>
                      <a:lnTo>
                        <a:pt x="32" y="197"/>
                      </a:lnTo>
                      <a:lnTo>
                        <a:pt x="19" y="119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38" y="51"/>
                      </a:lnTo>
                      <a:lnTo>
                        <a:pt x="59" y="77"/>
                      </a:lnTo>
                      <a:lnTo>
                        <a:pt x="80" y="102"/>
                      </a:lnTo>
                      <a:lnTo>
                        <a:pt x="102" y="125"/>
                      </a:lnTo>
                      <a:lnTo>
                        <a:pt x="125" y="148"/>
                      </a:lnTo>
                      <a:lnTo>
                        <a:pt x="148" y="170"/>
                      </a:lnTo>
                      <a:lnTo>
                        <a:pt x="173" y="19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54"/>
                <p:cNvSpPr/>
                <p:nvPr/>
              </p:nvSpPr>
              <p:spPr>
                <a:xfrm>
                  <a:off x="5496480" y="3776400"/>
                  <a:ext cx="376200" cy="3560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356040"/>
                    <a:gd name="textAreaBottom" fmla="*/ 356400 h 356040"/>
                  </a:gdLst>
                  <a:ahLst/>
                  <a:rect l="textAreaLeft" t="textAreaTop" r="textAreaRight" b="textAreaBottom"/>
                  <a:pathLst>
                    <a:path w="288" h="638">
                      <a:moveTo>
                        <a:pt x="106" y="514"/>
                      </a:moveTo>
                      <a:lnTo>
                        <a:pt x="0" y="0"/>
                      </a:lnTo>
                      <a:lnTo>
                        <a:pt x="21" y="17"/>
                      </a:lnTo>
                      <a:lnTo>
                        <a:pt x="41" y="33"/>
                      </a:lnTo>
                      <a:lnTo>
                        <a:pt x="64" y="49"/>
                      </a:lnTo>
                      <a:lnTo>
                        <a:pt x="86" y="64"/>
                      </a:lnTo>
                      <a:lnTo>
                        <a:pt x="109" y="79"/>
                      </a:lnTo>
                      <a:lnTo>
                        <a:pt x="133" y="92"/>
                      </a:lnTo>
                      <a:lnTo>
                        <a:pt x="157" y="106"/>
                      </a:lnTo>
                      <a:lnTo>
                        <a:pt x="182" y="120"/>
                      </a:lnTo>
                      <a:lnTo>
                        <a:pt x="288" y="638"/>
                      </a:lnTo>
                      <a:lnTo>
                        <a:pt x="264" y="624"/>
                      </a:lnTo>
                      <a:lnTo>
                        <a:pt x="238" y="611"/>
                      </a:lnTo>
                      <a:lnTo>
                        <a:pt x="215" y="596"/>
                      </a:lnTo>
                      <a:lnTo>
                        <a:pt x="192" y="581"/>
                      </a:lnTo>
                      <a:lnTo>
                        <a:pt x="169" y="565"/>
                      </a:lnTo>
                      <a:lnTo>
                        <a:pt x="148" y="548"/>
                      </a:lnTo>
                      <a:lnTo>
                        <a:pt x="126" y="532"/>
                      </a:lnTo>
                      <a:lnTo>
                        <a:pt x="106" y="514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55"/>
                <p:cNvSpPr/>
                <p:nvPr/>
              </p:nvSpPr>
              <p:spPr>
                <a:xfrm>
                  <a:off x="5734080" y="3843360"/>
                  <a:ext cx="363240" cy="32616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26160"/>
                    <a:gd name="textAreaBottom" fmla="*/ 326520 h 326160"/>
                  </a:gdLst>
                  <a:ahLst/>
                  <a:rect l="textAreaLeft" t="textAreaTop" r="textAreaRight" b="textAreaBottom"/>
                  <a:pathLst>
                    <a:path w="278" h="584">
                      <a:moveTo>
                        <a:pt x="106" y="518"/>
                      </a:moveTo>
                      <a:lnTo>
                        <a:pt x="0" y="0"/>
                      </a:lnTo>
                      <a:lnTo>
                        <a:pt x="19" y="9"/>
                      </a:lnTo>
                      <a:lnTo>
                        <a:pt x="40" y="17"/>
                      </a:lnTo>
                      <a:lnTo>
                        <a:pt x="61" y="27"/>
                      </a:lnTo>
                      <a:lnTo>
                        <a:pt x="82" y="35"/>
                      </a:lnTo>
                      <a:lnTo>
                        <a:pt x="103" y="43"/>
                      </a:lnTo>
                      <a:lnTo>
                        <a:pt x="125" y="50"/>
                      </a:lnTo>
                      <a:lnTo>
                        <a:pt x="148" y="57"/>
                      </a:lnTo>
                      <a:lnTo>
                        <a:pt x="170" y="63"/>
                      </a:lnTo>
                      <a:lnTo>
                        <a:pt x="278" y="584"/>
                      </a:lnTo>
                      <a:lnTo>
                        <a:pt x="256" y="578"/>
                      </a:lnTo>
                      <a:lnTo>
                        <a:pt x="232" y="571"/>
                      </a:lnTo>
                      <a:lnTo>
                        <a:pt x="212" y="563"/>
                      </a:lnTo>
                      <a:lnTo>
                        <a:pt x="190" y="555"/>
                      </a:lnTo>
                      <a:lnTo>
                        <a:pt x="169" y="545"/>
                      </a:lnTo>
                      <a:lnTo>
                        <a:pt x="148" y="537"/>
                      </a:lnTo>
                      <a:lnTo>
                        <a:pt x="127" y="527"/>
                      </a:lnTo>
                      <a:lnTo>
                        <a:pt x="106" y="51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56"/>
                <p:cNvSpPr/>
                <p:nvPr/>
              </p:nvSpPr>
              <p:spPr>
                <a:xfrm>
                  <a:off x="5956560" y="3878640"/>
                  <a:ext cx="355320" cy="3110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272" h="558">
                      <a:moveTo>
                        <a:pt x="108" y="521"/>
                      </a:move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39" y="11"/>
                      </a:lnTo>
                      <a:lnTo>
                        <a:pt x="59" y="15"/>
                      </a:lnTo>
                      <a:lnTo>
                        <a:pt x="80" y="19"/>
                      </a:lnTo>
                      <a:lnTo>
                        <a:pt x="101" y="23"/>
                      </a:lnTo>
                      <a:lnTo>
                        <a:pt x="121" y="26"/>
                      </a:lnTo>
                      <a:lnTo>
                        <a:pt x="142" y="29"/>
                      </a:lnTo>
                      <a:lnTo>
                        <a:pt x="163" y="32"/>
                      </a:lnTo>
                      <a:lnTo>
                        <a:pt x="272" y="558"/>
                      </a:lnTo>
                      <a:lnTo>
                        <a:pt x="251" y="554"/>
                      </a:lnTo>
                      <a:lnTo>
                        <a:pt x="230" y="551"/>
                      </a:lnTo>
                      <a:lnTo>
                        <a:pt x="209" y="547"/>
                      </a:lnTo>
                      <a:lnTo>
                        <a:pt x="189" y="542"/>
                      </a:lnTo>
                      <a:lnTo>
                        <a:pt x="168" y="538"/>
                      </a:lnTo>
                      <a:lnTo>
                        <a:pt x="148" y="532"/>
                      </a:lnTo>
                      <a:lnTo>
                        <a:pt x="127" y="527"/>
                      </a:lnTo>
                      <a:lnTo>
                        <a:pt x="108" y="521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57"/>
                <p:cNvSpPr/>
                <p:nvPr/>
              </p:nvSpPr>
              <p:spPr>
                <a:xfrm>
                  <a:off x="6171120" y="3896640"/>
                  <a:ext cx="349560" cy="29952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299520"/>
                    <a:gd name="textAreaBottom" fmla="*/ 299880 h 299520"/>
                  </a:gdLst>
                  <a:ahLst/>
                  <a:rect l="textAreaLeft" t="textAreaTop" r="textAreaRight" b="textAreaBottom"/>
                  <a:pathLst>
                    <a:path w="269" h="538">
                      <a:moveTo>
                        <a:pt x="109" y="526"/>
                      </a:moveTo>
                      <a:lnTo>
                        <a:pt x="0" y="0"/>
                      </a:lnTo>
                      <a:lnTo>
                        <a:pt x="20" y="2"/>
                      </a:lnTo>
                      <a:lnTo>
                        <a:pt x="38" y="4"/>
                      </a:lnTo>
                      <a:lnTo>
                        <a:pt x="58" y="5"/>
                      </a:lnTo>
                      <a:lnTo>
                        <a:pt x="78" y="6"/>
                      </a:lnTo>
                      <a:lnTo>
                        <a:pt x="99" y="8"/>
                      </a:lnTo>
                      <a:lnTo>
                        <a:pt x="118" y="8"/>
                      </a:lnTo>
                      <a:lnTo>
                        <a:pt x="139" y="9"/>
                      </a:lnTo>
                      <a:lnTo>
                        <a:pt x="160" y="9"/>
                      </a:lnTo>
                      <a:lnTo>
                        <a:pt x="269" y="538"/>
                      </a:lnTo>
                      <a:lnTo>
                        <a:pt x="249" y="538"/>
                      </a:lnTo>
                      <a:lnTo>
                        <a:pt x="228" y="537"/>
                      </a:lnTo>
                      <a:lnTo>
                        <a:pt x="209" y="536"/>
                      </a:lnTo>
                      <a:lnTo>
                        <a:pt x="188" y="534"/>
                      </a:lnTo>
                      <a:lnTo>
                        <a:pt x="168" y="533"/>
                      </a:lnTo>
                      <a:lnTo>
                        <a:pt x="148" y="530"/>
                      </a:lnTo>
                      <a:lnTo>
                        <a:pt x="129" y="529"/>
                      </a:lnTo>
                      <a:lnTo>
                        <a:pt x="109" y="526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58"/>
                <p:cNvSpPr/>
                <p:nvPr/>
              </p:nvSpPr>
              <p:spPr>
                <a:xfrm>
                  <a:off x="6377400" y="3896640"/>
                  <a:ext cx="347040" cy="3009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300960"/>
                    <a:gd name="textAreaBottom" fmla="*/ 301320 h 300960"/>
                  </a:gdLst>
                  <a:ahLst/>
                  <a:rect l="textAreaLeft" t="textAreaTop" r="textAreaRight" b="textAreaBottom"/>
                  <a:pathLst>
                    <a:path w="265" h="540">
                      <a:moveTo>
                        <a:pt x="109" y="538"/>
                      </a:moveTo>
                      <a:lnTo>
                        <a:pt x="0" y="9"/>
                      </a:lnTo>
                      <a:lnTo>
                        <a:pt x="18" y="8"/>
                      </a:lnTo>
                      <a:lnTo>
                        <a:pt x="37" y="8"/>
                      </a:lnTo>
                      <a:lnTo>
                        <a:pt x="57" y="6"/>
                      </a:lnTo>
                      <a:lnTo>
                        <a:pt x="75" y="6"/>
                      </a:lnTo>
                      <a:lnTo>
                        <a:pt x="95" y="5"/>
                      </a:lnTo>
                      <a:lnTo>
                        <a:pt x="115" y="4"/>
                      </a:lnTo>
                      <a:lnTo>
                        <a:pt x="134" y="1"/>
                      </a:lnTo>
                      <a:lnTo>
                        <a:pt x="155" y="0"/>
                      </a:lnTo>
                      <a:lnTo>
                        <a:pt x="265" y="533"/>
                      </a:lnTo>
                      <a:lnTo>
                        <a:pt x="245" y="534"/>
                      </a:lnTo>
                      <a:lnTo>
                        <a:pt x="226" y="536"/>
                      </a:lnTo>
                      <a:lnTo>
                        <a:pt x="206" y="537"/>
                      </a:lnTo>
                      <a:lnTo>
                        <a:pt x="186" y="538"/>
                      </a:lnTo>
                      <a:lnTo>
                        <a:pt x="167" y="538"/>
                      </a:lnTo>
                      <a:lnTo>
                        <a:pt x="147" y="540"/>
                      </a:lnTo>
                      <a:lnTo>
                        <a:pt x="128" y="540"/>
                      </a:lnTo>
                      <a:lnTo>
                        <a:pt x="109" y="538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59"/>
                <p:cNvSpPr/>
                <p:nvPr/>
              </p:nvSpPr>
              <p:spPr>
                <a:xfrm>
                  <a:off x="6581160" y="3883320"/>
                  <a:ext cx="342360" cy="3092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62" h="556">
                      <a:moveTo>
                        <a:pt x="110" y="556"/>
                      </a:moveTo>
                      <a:lnTo>
                        <a:pt x="0" y="23"/>
                      </a:lnTo>
                      <a:lnTo>
                        <a:pt x="19" y="20"/>
                      </a:lnTo>
                      <a:lnTo>
                        <a:pt x="37" y="19"/>
                      </a:lnTo>
                      <a:lnTo>
                        <a:pt x="56" y="16"/>
                      </a:lnTo>
                      <a:lnTo>
                        <a:pt x="74" y="13"/>
                      </a:lnTo>
                      <a:lnTo>
                        <a:pt x="94" y="10"/>
                      </a:lnTo>
                      <a:lnTo>
                        <a:pt x="112" y="6"/>
                      </a:lnTo>
                      <a:lnTo>
                        <a:pt x="132" y="4"/>
                      </a:lnTo>
                      <a:lnTo>
                        <a:pt x="152" y="0"/>
                      </a:lnTo>
                      <a:lnTo>
                        <a:pt x="262" y="533"/>
                      </a:lnTo>
                      <a:lnTo>
                        <a:pt x="243" y="535"/>
                      </a:lnTo>
                      <a:lnTo>
                        <a:pt x="224" y="540"/>
                      </a:lnTo>
                      <a:lnTo>
                        <a:pt x="205" y="544"/>
                      </a:lnTo>
                      <a:lnTo>
                        <a:pt x="185" y="546"/>
                      </a:lnTo>
                      <a:lnTo>
                        <a:pt x="167" y="549"/>
                      </a:lnTo>
                      <a:lnTo>
                        <a:pt x="147" y="552"/>
                      </a:lnTo>
                      <a:lnTo>
                        <a:pt x="129" y="553"/>
                      </a:lnTo>
                      <a:lnTo>
                        <a:pt x="110" y="556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60"/>
                <p:cNvSpPr/>
                <p:nvPr/>
              </p:nvSpPr>
              <p:spPr>
                <a:xfrm>
                  <a:off x="6779880" y="3863520"/>
                  <a:ext cx="339480" cy="31788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317880"/>
                    <a:gd name="textAreaBottom" fmla="*/ 317880 h 317880"/>
                  </a:gdLst>
                  <a:ahLst/>
                  <a:rect l="textAreaLeft" t="textAreaTop" r="textAreaRight" b="textAreaBottom"/>
                  <a:pathLst>
                    <a:path w="259" h="569">
                      <a:moveTo>
                        <a:pt x="110" y="569"/>
                      </a:moveTo>
                      <a:lnTo>
                        <a:pt x="0" y="36"/>
                      </a:lnTo>
                      <a:lnTo>
                        <a:pt x="11" y="34"/>
                      </a:lnTo>
                      <a:lnTo>
                        <a:pt x="22" y="31"/>
                      </a:lnTo>
                      <a:lnTo>
                        <a:pt x="33" y="29"/>
                      </a:lnTo>
                      <a:lnTo>
                        <a:pt x="45" y="27"/>
                      </a:lnTo>
                      <a:lnTo>
                        <a:pt x="55" y="25"/>
                      </a:lnTo>
                      <a:lnTo>
                        <a:pt x="67" y="22"/>
                      </a:lnTo>
                      <a:lnTo>
                        <a:pt x="79" y="19"/>
                      </a:lnTo>
                      <a:lnTo>
                        <a:pt x="90" y="17"/>
                      </a:lnTo>
                      <a:lnTo>
                        <a:pt x="97" y="15"/>
                      </a:lnTo>
                      <a:lnTo>
                        <a:pt x="104" y="14"/>
                      </a:lnTo>
                      <a:lnTo>
                        <a:pt x="112" y="11"/>
                      </a:lnTo>
                      <a:lnTo>
                        <a:pt x="119" y="10"/>
                      </a:lnTo>
                      <a:lnTo>
                        <a:pt x="127" y="7"/>
                      </a:lnTo>
                      <a:lnTo>
                        <a:pt x="134" y="6"/>
                      </a:lnTo>
                      <a:lnTo>
                        <a:pt x="142" y="3"/>
                      </a:lnTo>
                      <a:lnTo>
                        <a:pt x="150" y="0"/>
                      </a:lnTo>
                      <a:lnTo>
                        <a:pt x="259" y="528"/>
                      </a:lnTo>
                      <a:lnTo>
                        <a:pt x="251" y="531"/>
                      </a:lnTo>
                      <a:lnTo>
                        <a:pt x="244" y="532"/>
                      </a:lnTo>
                      <a:lnTo>
                        <a:pt x="237" y="535"/>
                      </a:lnTo>
                      <a:lnTo>
                        <a:pt x="229" y="538"/>
                      </a:lnTo>
                      <a:lnTo>
                        <a:pt x="222" y="539"/>
                      </a:lnTo>
                      <a:lnTo>
                        <a:pt x="215" y="542"/>
                      </a:lnTo>
                      <a:lnTo>
                        <a:pt x="207" y="544"/>
                      </a:lnTo>
                      <a:lnTo>
                        <a:pt x="200" y="546"/>
                      </a:lnTo>
                      <a:lnTo>
                        <a:pt x="200" y="546"/>
                      </a:lnTo>
                      <a:lnTo>
                        <a:pt x="189" y="550"/>
                      </a:lnTo>
                      <a:lnTo>
                        <a:pt x="178" y="552"/>
                      </a:lnTo>
                      <a:lnTo>
                        <a:pt x="167" y="555"/>
                      </a:lnTo>
                      <a:lnTo>
                        <a:pt x="155" y="558"/>
                      </a:lnTo>
                      <a:lnTo>
                        <a:pt x="143" y="561"/>
                      </a:lnTo>
                      <a:lnTo>
                        <a:pt x="133" y="563"/>
                      </a:lnTo>
                      <a:lnTo>
                        <a:pt x="121" y="566"/>
                      </a:lnTo>
                      <a:lnTo>
                        <a:pt x="110" y="569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61"/>
                <p:cNvSpPr/>
                <p:nvPr/>
              </p:nvSpPr>
              <p:spPr>
                <a:xfrm>
                  <a:off x="6976080" y="3833280"/>
                  <a:ext cx="331560" cy="3240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54" h="582">
                      <a:moveTo>
                        <a:pt x="109" y="582"/>
                      </a:moveTo>
                      <a:lnTo>
                        <a:pt x="0" y="54"/>
                      </a:lnTo>
                      <a:lnTo>
                        <a:pt x="18" y="49"/>
                      </a:lnTo>
                      <a:lnTo>
                        <a:pt x="35" y="43"/>
                      </a:lnTo>
                      <a:lnTo>
                        <a:pt x="52" y="37"/>
                      </a:lnTo>
                      <a:lnTo>
                        <a:pt x="71" y="31"/>
                      </a:lnTo>
                      <a:lnTo>
                        <a:pt x="89" y="23"/>
                      </a:lnTo>
                      <a:lnTo>
                        <a:pt x="108" y="16"/>
                      </a:lnTo>
                      <a:lnTo>
                        <a:pt x="127" y="8"/>
                      </a:lnTo>
                      <a:lnTo>
                        <a:pt x="146" y="0"/>
                      </a:lnTo>
                      <a:lnTo>
                        <a:pt x="254" y="522"/>
                      </a:lnTo>
                      <a:lnTo>
                        <a:pt x="235" y="531"/>
                      </a:lnTo>
                      <a:lnTo>
                        <a:pt x="218" y="539"/>
                      </a:lnTo>
                      <a:lnTo>
                        <a:pt x="201" y="547"/>
                      </a:lnTo>
                      <a:lnTo>
                        <a:pt x="182" y="554"/>
                      </a:lnTo>
                      <a:lnTo>
                        <a:pt x="164" y="562"/>
                      </a:lnTo>
                      <a:lnTo>
                        <a:pt x="146" y="569"/>
                      </a:lnTo>
                      <a:lnTo>
                        <a:pt x="128" y="575"/>
                      </a:lnTo>
                      <a:lnTo>
                        <a:pt x="109" y="582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62"/>
                <p:cNvSpPr/>
                <p:nvPr/>
              </p:nvSpPr>
              <p:spPr>
                <a:xfrm>
                  <a:off x="7166880" y="3793320"/>
                  <a:ext cx="323280" cy="33084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48" h="594">
                      <a:moveTo>
                        <a:pt x="108" y="594"/>
                      </a:moveTo>
                      <a:lnTo>
                        <a:pt x="0" y="72"/>
                      </a:lnTo>
                      <a:lnTo>
                        <a:pt x="18" y="64"/>
                      </a:lnTo>
                      <a:lnTo>
                        <a:pt x="35" y="56"/>
                      </a:lnTo>
                      <a:lnTo>
                        <a:pt x="52" y="48"/>
                      </a:lnTo>
                      <a:lnTo>
                        <a:pt x="71" y="38"/>
                      </a:lnTo>
                      <a:lnTo>
                        <a:pt x="88" y="30"/>
                      </a:lnTo>
                      <a:lnTo>
                        <a:pt x="106" y="20"/>
                      </a:lnTo>
                      <a:lnTo>
                        <a:pt x="124" y="10"/>
                      </a:lnTo>
                      <a:lnTo>
                        <a:pt x="142" y="0"/>
                      </a:lnTo>
                      <a:lnTo>
                        <a:pt x="248" y="514"/>
                      </a:lnTo>
                      <a:lnTo>
                        <a:pt x="231" y="525"/>
                      </a:lnTo>
                      <a:lnTo>
                        <a:pt x="214" y="536"/>
                      </a:lnTo>
                      <a:lnTo>
                        <a:pt x="197" y="547"/>
                      </a:lnTo>
                      <a:lnTo>
                        <a:pt x="180" y="556"/>
                      </a:lnTo>
                      <a:lnTo>
                        <a:pt x="161" y="566"/>
                      </a:lnTo>
                      <a:lnTo>
                        <a:pt x="144" y="575"/>
                      </a:lnTo>
                      <a:lnTo>
                        <a:pt x="125" y="585"/>
                      </a:lnTo>
                      <a:lnTo>
                        <a:pt x="108" y="59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63"/>
                <p:cNvSpPr/>
                <p:nvPr/>
              </p:nvSpPr>
              <p:spPr>
                <a:xfrm>
                  <a:off x="7352280" y="3741120"/>
                  <a:ext cx="315720" cy="33768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243" h="606">
                      <a:moveTo>
                        <a:pt x="106" y="606"/>
                      </a:moveTo>
                      <a:lnTo>
                        <a:pt x="0" y="92"/>
                      </a:lnTo>
                      <a:lnTo>
                        <a:pt x="17" y="81"/>
                      </a:lnTo>
                      <a:lnTo>
                        <a:pt x="34" y="70"/>
                      </a:lnTo>
                      <a:lnTo>
                        <a:pt x="52" y="60"/>
                      </a:lnTo>
                      <a:lnTo>
                        <a:pt x="69" y="49"/>
                      </a:lnTo>
                      <a:lnTo>
                        <a:pt x="86" y="36"/>
                      </a:lnTo>
                      <a:lnTo>
                        <a:pt x="104" y="24"/>
                      </a:lnTo>
                      <a:lnTo>
                        <a:pt x="121" y="12"/>
                      </a:lnTo>
                      <a:lnTo>
                        <a:pt x="138" y="0"/>
                      </a:lnTo>
                      <a:lnTo>
                        <a:pt x="243" y="506"/>
                      </a:lnTo>
                      <a:lnTo>
                        <a:pt x="226" y="519"/>
                      </a:lnTo>
                      <a:lnTo>
                        <a:pt x="210" y="532"/>
                      </a:lnTo>
                      <a:lnTo>
                        <a:pt x="193" y="545"/>
                      </a:lnTo>
                      <a:lnTo>
                        <a:pt x="177" y="557"/>
                      </a:lnTo>
                      <a:lnTo>
                        <a:pt x="159" y="571"/>
                      </a:lnTo>
                      <a:lnTo>
                        <a:pt x="142" y="583"/>
                      </a:lnTo>
                      <a:lnTo>
                        <a:pt x="125" y="595"/>
                      </a:lnTo>
                      <a:lnTo>
                        <a:pt x="106" y="606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64"/>
                <p:cNvSpPr/>
                <p:nvPr/>
              </p:nvSpPr>
              <p:spPr>
                <a:xfrm>
                  <a:off x="7532640" y="3677760"/>
                  <a:ext cx="308160" cy="34596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36" h="620">
                      <a:moveTo>
                        <a:pt x="105" y="620"/>
                      </a:moveTo>
                      <a:lnTo>
                        <a:pt x="0" y="114"/>
                      </a:lnTo>
                      <a:lnTo>
                        <a:pt x="18" y="100"/>
                      </a:lnTo>
                      <a:lnTo>
                        <a:pt x="34" y="88"/>
                      </a:lnTo>
                      <a:lnTo>
                        <a:pt x="51" y="73"/>
                      </a:lnTo>
                      <a:lnTo>
                        <a:pt x="68" y="60"/>
                      </a:lnTo>
                      <a:lnTo>
                        <a:pt x="85" y="45"/>
                      </a:lnTo>
                      <a:lnTo>
                        <a:pt x="101" y="30"/>
                      </a:lnTo>
                      <a:lnTo>
                        <a:pt x="117" y="15"/>
                      </a:lnTo>
                      <a:lnTo>
                        <a:pt x="134" y="0"/>
                      </a:lnTo>
                      <a:lnTo>
                        <a:pt x="236" y="494"/>
                      </a:lnTo>
                      <a:lnTo>
                        <a:pt x="220" y="510"/>
                      </a:lnTo>
                      <a:lnTo>
                        <a:pt x="204" y="526"/>
                      </a:lnTo>
                      <a:lnTo>
                        <a:pt x="188" y="543"/>
                      </a:lnTo>
                      <a:lnTo>
                        <a:pt x="172" y="557"/>
                      </a:lnTo>
                      <a:lnTo>
                        <a:pt x="156" y="574"/>
                      </a:lnTo>
                      <a:lnTo>
                        <a:pt x="139" y="589"/>
                      </a:lnTo>
                      <a:lnTo>
                        <a:pt x="122" y="605"/>
                      </a:lnTo>
                      <a:lnTo>
                        <a:pt x="105" y="62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65"/>
                <p:cNvSpPr/>
                <p:nvPr/>
              </p:nvSpPr>
              <p:spPr>
                <a:xfrm>
                  <a:off x="7707240" y="3596040"/>
                  <a:ext cx="295560" cy="35748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357480"/>
                    <a:gd name="textAreaBottom" fmla="*/ 357840 h 357480"/>
                  </a:gdLst>
                  <a:ahLst/>
                  <a:rect l="textAreaLeft" t="textAreaTop" r="textAreaRight" b="textAreaBottom"/>
                  <a:pathLst>
                    <a:path w="225" h="642">
                      <a:moveTo>
                        <a:pt x="102" y="642"/>
                      </a:moveTo>
                      <a:lnTo>
                        <a:pt x="0" y="148"/>
                      </a:lnTo>
                      <a:lnTo>
                        <a:pt x="16" y="130"/>
                      </a:lnTo>
                      <a:lnTo>
                        <a:pt x="33" y="113"/>
                      </a:lnTo>
                      <a:lnTo>
                        <a:pt x="49" y="95"/>
                      </a:lnTo>
                      <a:lnTo>
                        <a:pt x="66" y="76"/>
                      </a:lnTo>
                      <a:lnTo>
                        <a:pt x="81" y="58"/>
                      </a:lnTo>
                      <a:lnTo>
                        <a:pt x="97" y="39"/>
                      </a:lnTo>
                      <a:lnTo>
                        <a:pt x="112" y="19"/>
                      </a:lnTo>
                      <a:lnTo>
                        <a:pt x="126" y="0"/>
                      </a:lnTo>
                      <a:lnTo>
                        <a:pt x="225" y="482"/>
                      </a:lnTo>
                      <a:lnTo>
                        <a:pt x="212" y="502"/>
                      </a:lnTo>
                      <a:lnTo>
                        <a:pt x="198" y="522"/>
                      </a:lnTo>
                      <a:lnTo>
                        <a:pt x="183" y="543"/>
                      </a:lnTo>
                      <a:lnTo>
                        <a:pt x="168" y="563"/>
                      </a:lnTo>
                      <a:lnTo>
                        <a:pt x="151" y="582"/>
                      </a:lnTo>
                      <a:lnTo>
                        <a:pt x="135" y="602"/>
                      </a:lnTo>
                      <a:lnTo>
                        <a:pt x="119" y="621"/>
                      </a:lnTo>
                      <a:lnTo>
                        <a:pt x="102" y="642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66"/>
                <p:cNvSpPr/>
                <p:nvPr/>
              </p:nvSpPr>
              <p:spPr>
                <a:xfrm>
                  <a:off x="7872120" y="3478680"/>
                  <a:ext cx="277200" cy="386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86280"/>
                    <a:gd name="textAreaBottom" fmla="*/ 386640 h 386280"/>
                  </a:gdLst>
                  <a:ahLst/>
                  <a:rect l="textAreaLeft" t="textAreaTop" r="textAreaRight" b="textAreaBottom"/>
                  <a:pathLst>
                    <a:path w="212" h="691">
                      <a:moveTo>
                        <a:pt x="99" y="691"/>
                      </a:moveTo>
                      <a:lnTo>
                        <a:pt x="0" y="209"/>
                      </a:lnTo>
                      <a:lnTo>
                        <a:pt x="17" y="185"/>
                      </a:lnTo>
                      <a:lnTo>
                        <a:pt x="32" y="160"/>
                      </a:lnTo>
                      <a:lnTo>
                        <a:pt x="49" y="134"/>
                      </a:lnTo>
                      <a:lnTo>
                        <a:pt x="62" y="109"/>
                      </a:lnTo>
                      <a:lnTo>
                        <a:pt x="77" y="83"/>
                      </a:lnTo>
                      <a:lnTo>
                        <a:pt x="90" y="56"/>
                      </a:lnTo>
                      <a:lnTo>
                        <a:pt x="103" y="28"/>
                      </a:lnTo>
                      <a:lnTo>
                        <a:pt x="115" y="0"/>
                      </a:lnTo>
                      <a:lnTo>
                        <a:pt x="212" y="475"/>
                      </a:lnTo>
                      <a:lnTo>
                        <a:pt x="201" y="502"/>
                      </a:lnTo>
                      <a:lnTo>
                        <a:pt x="189" y="529"/>
                      </a:lnTo>
                      <a:lnTo>
                        <a:pt x="176" y="556"/>
                      </a:lnTo>
                      <a:lnTo>
                        <a:pt x="162" y="583"/>
                      </a:lnTo>
                      <a:lnTo>
                        <a:pt x="148" y="611"/>
                      </a:lnTo>
                      <a:lnTo>
                        <a:pt x="133" y="638"/>
                      </a:lnTo>
                      <a:lnTo>
                        <a:pt x="117" y="663"/>
                      </a:lnTo>
                      <a:lnTo>
                        <a:pt x="99" y="69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67"/>
                <p:cNvSpPr/>
                <p:nvPr/>
              </p:nvSpPr>
              <p:spPr>
                <a:xfrm>
                  <a:off x="8021520" y="3318120"/>
                  <a:ext cx="205920" cy="4262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157" h="763">
                      <a:moveTo>
                        <a:pt x="97" y="763"/>
                      </a:moveTo>
                      <a:lnTo>
                        <a:pt x="0" y="288"/>
                      </a:lnTo>
                      <a:lnTo>
                        <a:pt x="11" y="254"/>
                      </a:lnTo>
                      <a:lnTo>
                        <a:pt x="23" y="220"/>
                      </a:lnTo>
                      <a:lnTo>
                        <a:pt x="32" y="186"/>
                      </a:lnTo>
                      <a:lnTo>
                        <a:pt x="41" y="150"/>
                      </a:lnTo>
                      <a:lnTo>
                        <a:pt x="48" y="114"/>
                      </a:lnTo>
                      <a:lnTo>
                        <a:pt x="54" y="76"/>
                      </a:lnTo>
                      <a:lnTo>
                        <a:pt x="57" y="40"/>
                      </a:lnTo>
                      <a:lnTo>
                        <a:pt x="61" y="0"/>
                      </a:lnTo>
                      <a:lnTo>
                        <a:pt x="84" y="103"/>
                      </a:lnTo>
                      <a:lnTo>
                        <a:pt x="100" y="173"/>
                      </a:lnTo>
                      <a:lnTo>
                        <a:pt x="112" y="216"/>
                      </a:lnTo>
                      <a:lnTo>
                        <a:pt x="119" y="243"/>
                      </a:lnTo>
                      <a:lnTo>
                        <a:pt x="125" y="261"/>
                      </a:lnTo>
                      <a:lnTo>
                        <a:pt x="129" y="280"/>
                      </a:lnTo>
                      <a:lnTo>
                        <a:pt x="136" y="308"/>
                      </a:lnTo>
                      <a:lnTo>
                        <a:pt x="145" y="354"/>
                      </a:lnTo>
                      <a:lnTo>
                        <a:pt x="150" y="378"/>
                      </a:lnTo>
                      <a:lnTo>
                        <a:pt x="154" y="402"/>
                      </a:lnTo>
                      <a:lnTo>
                        <a:pt x="156" y="426"/>
                      </a:lnTo>
                      <a:lnTo>
                        <a:pt x="157" y="451"/>
                      </a:lnTo>
                      <a:lnTo>
                        <a:pt x="157" y="475"/>
                      </a:lnTo>
                      <a:lnTo>
                        <a:pt x="156" y="501"/>
                      </a:lnTo>
                      <a:lnTo>
                        <a:pt x="155" y="525"/>
                      </a:lnTo>
                      <a:lnTo>
                        <a:pt x="152" y="551"/>
                      </a:lnTo>
                      <a:lnTo>
                        <a:pt x="148" y="577"/>
                      </a:lnTo>
                      <a:lnTo>
                        <a:pt x="143" y="604"/>
                      </a:lnTo>
                      <a:lnTo>
                        <a:pt x="138" y="630"/>
                      </a:lnTo>
                      <a:lnTo>
                        <a:pt x="132" y="656"/>
                      </a:lnTo>
                      <a:lnTo>
                        <a:pt x="125" y="683"/>
                      </a:lnTo>
                      <a:lnTo>
                        <a:pt x="116" y="710"/>
                      </a:lnTo>
                      <a:lnTo>
                        <a:pt x="107" y="736"/>
                      </a:lnTo>
                      <a:lnTo>
                        <a:pt x="97" y="76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68"/>
                <p:cNvSpPr/>
                <p:nvPr/>
              </p:nvSpPr>
              <p:spPr>
                <a:xfrm>
                  <a:off x="5271840" y="3318120"/>
                  <a:ext cx="2955600" cy="87948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2263" h="1576">
                      <a:moveTo>
                        <a:pt x="1245" y="994"/>
                      </a:moveTo>
                      <a:lnTo>
                        <a:pt x="1276" y="985"/>
                      </a:lnTo>
                      <a:lnTo>
                        <a:pt x="1310" y="976"/>
                      </a:lnTo>
                      <a:lnTo>
                        <a:pt x="1344" y="965"/>
                      </a:lnTo>
                      <a:lnTo>
                        <a:pt x="1378" y="953"/>
                      </a:lnTo>
                      <a:lnTo>
                        <a:pt x="1414" y="939"/>
                      </a:lnTo>
                      <a:lnTo>
                        <a:pt x="1451" y="923"/>
                      </a:lnTo>
                      <a:lnTo>
                        <a:pt x="1488" y="907"/>
                      </a:lnTo>
                      <a:lnTo>
                        <a:pt x="1525" y="888"/>
                      </a:lnTo>
                      <a:lnTo>
                        <a:pt x="1562" y="867"/>
                      </a:lnTo>
                      <a:lnTo>
                        <a:pt x="1601" y="846"/>
                      </a:lnTo>
                      <a:lnTo>
                        <a:pt x="1638" y="823"/>
                      </a:lnTo>
                      <a:lnTo>
                        <a:pt x="1676" y="798"/>
                      </a:lnTo>
                      <a:lnTo>
                        <a:pt x="1713" y="772"/>
                      </a:lnTo>
                      <a:lnTo>
                        <a:pt x="1749" y="745"/>
                      </a:lnTo>
                      <a:lnTo>
                        <a:pt x="1785" y="717"/>
                      </a:lnTo>
                      <a:lnTo>
                        <a:pt x="1821" y="686"/>
                      </a:lnTo>
                      <a:lnTo>
                        <a:pt x="1854" y="654"/>
                      </a:lnTo>
                      <a:lnTo>
                        <a:pt x="1888" y="620"/>
                      </a:lnTo>
                      <a:lnTo>
                        <a:pt x="1920" y="586"/>
                      </a:lnTo>
                      <a:lnTo>
                        <a:pt x="1950" y="550"/>
                      </a:lnTo>
                      <a:lnTo>
                        <a:pt x="1979" y="512"/>
                      </a:lnTo>
                      <a:lnTo>
                        <a:pt x="2007" y="473"/>
                      </a:lnTo>
                      <a:lnTo>
                        <a:pt x="2034" y="432"/>
                      </a:lnTo>
                      <a:lnTo>
                        <a:pt x="2058" y="390"/>
                      </a:lnTo>
                      <a:lnTo>
                        <a:pt x="2068" y="368"/>
                      </a:lnTo>
                      <a:lnTo>
                        <a:pt x="2080" y="346"/>
                      </a:lnTo>
                      <a:lnTo>
                        <a:pt x="2090" y="325"/>
                      </a:lnTo>
                      <a:lnTo>
                        <a:pt x="2100" y="302"/>
                      </a:lnTo>
                      <a:lnTo>
                        <a:pt x="2109" y="278"/>
                      </a:lnTo>
                      <a:lnTo>
                        <a:pt x="2117" y="255"/>
                      </a:lnTo>
                      <a:lnTo>
                        <a:pt x="2125" y="231"/>
                      </a:lnTo>
                      <a:lnTo>
                        <a:pt x="2132" y="207"/>
                      </a:lnTo>
                      <a:lnTo>
                        <a:pt x="2139" y="182"/>
                      </a:lnTo>
                      <a:lnTo>
                        <a:pt x="2145" y="158"/>
                      </a:lnTo>
                      <a:lnTo>
                        <a:pt x="2151" y="132"/>
                      </a:lnTo>
                      <a:lnTo>
                        <a:pt x="2155" y="106"/>
                      </a:lnTo>
                      <a:lnTo>
                        <a:pt x="2159" y="80"/>
                      </a:lnTo>
                      <a:lnTo>
                        <a:pt x="2162" y="55"/>
                      </a:lnTo>
                      <a:lnTo>
                        <a:pt x="2165" y="27"/>
                      </a:lnTo>
                      <a:lnTo>
                        <a:pt x="2167" y="0"/>
                      </a:lnTo>
                      <a:lnTo>
                        <a:pt x="2190" y="103"/>
                      </a:lnTo>
                      <a:lnTo>
                        <a:pt x="2206" y="173"/>
                      </a:lnTo>
                      <a:lnTo>
                        <a:pt x="2218" y="216"/>
                      </a:lnTo>
                      <a:lnTo>
                        <a:pt x="2225" y="243"/>
                      </a:lnTo>
                      <a:lnTo>
                        <a:pt x="2231" y="261"/>
                      </a:lnTo>
                      <a:lnTo>
                        <a:pt x="2235" y="280"/>
                      </a:lnTo>
                      <a:lnTo>
                        <a:pt x="2242" y="308"/>
                      </a:lnTo>
                      <a:lnTo>
                        <a:pt x="2251" y="354"/>
                      </a:lnTo>
                      <a:lnTo>
                        <a:pt x="2256" y="373"/>
                      </a:lnTo>
                      <a:lnTo>
                        <a:pt x="2258" y="392"/>
                      </a:lnTo>
                      <a:lnTo>
                        <a:pt x="2261" y="413"/>
                      </a:lnTo>
                      <a:lnTo>
                        <a:pt x="2262" y="432"/>
                      </a:lnTo>
                      <a:lnTo>
                        <a:pt x="2263" y="452"/>
                      </a:lnTo>
                      <a:lnTo>
                        <a:pt x="2263" y="473"/>
                      </a:lnTo>
                      <a:lnTo>
                        <a:pt x="2263" y="493"/>
                      </a:lnTo>
                      <a:lnTo>
                        <a:pt x="2262" y="513"/>
                      </a:lnTo>
                      <a:lnTo>
                        <a:pt x="2260" y="535"/>
                      </a:lnTo>
                      <a:lnTo>
                        <a:pt x="2257" y="555"/>
                      </a:lnTo>
                      <a:lnTo>
                        <a:pt x="2255" y="577"/>
                      </a:lnTo>
                      <a:lnTo>
                        <a:pt x="2250" y="597"/>
                      </a:lnTo>
                      <a:lnTo>
                        <a:pt x="2242" y="641"/>
                      </a:lnTo>
                      <a:lnTo>
                        <a:pt x="2231" y="683"/>
                      </a:lnTo>
                      <a:lnTo>
                        <a:pt x="2217" y="726"/>
                      </a:lnTo>
                      <a:lnTo>
                        <a:pt x="2200" y="770"/>
                      </a:lnTo>
                      <a:lnTo>
                        <a:pt x="2182" y="813"/>
                      </a:lnTo>
                      <a:lnTo>
                        <a:pt x="2161" y="857"/>
                      </a:lnTo>
                      <a:lnTo>
                        <a:pt x="2138" y="900"/>
                      </a:lnTo>
                      <a:lnTo>
                        <a:pt x="2112" y="943"/>
                      </a:lnTo>
                      <a:lnTo>
                        <a:pt x="2086" y="985"/>
                      </a:lnTo>
                      <a:lnTo>
                        <a:pt x="2057" y="1027"/>
                      </a:lnTo>
                      <a:lnTo>
                        <a:pt x="2026" y="1068"/>
                      </a:lnTo>
                      <a:lnTo>
                        <a:pt x="1993" y="1108"/>
                      </a:lnTo>
                      <a:lnTo>
                        <a:pt x="1957" y="1147"/>
                      </a:lnTo>
                      <a:lnTo>
                        <a:pt x="1921" y="1186"/>
                      </a:lnTo>
                      <a:lnTo>
                        <a:pt x="1882" y="1223"/>
                      </a:lnTo>
                      <a:lnTo>
                        <a:pt x="1843" y="1258"/>
                      </a:lnTo>
                      <a:lnTo>
                        <a:pt x="1800" y="1293"/>
                      </a:lnTo>
                      <a:lnTo>
                        <a:pt x="1757" y="1326"/>
                      </a:lnTo>
                      <a:lnTo>
                        <a:pt x="1712" y="1357"/>
                      </a:lnTo>
                      <a:lnTo>
                        <a:pt x="1665" y="1387"/>
                      </a:lnTo>
                      <a:lnTo>
                        <a:pt x="1617" y="1416"/>
                      </a:lnTo>
                      <a:lnTo>
                        <a:pt x="1567" y="1441"/>
                      </a:lnTo>
                      <a:lnTo>
                        <a:pt x="1516" y="1464"/>
                      </a:lnTo>
                      <a:lnTo>
                        <a:pt x="1464" y="1486"/>
                      </a:lnTo>
                      <a:lnTo>
                        <a:pt x="1437" y="1497"/>
                      </a:lnTo>
                      <a:lnTo>
                        <a:pt x="1410" y="1506"/>
                      </a:lnTo>
                      <a:lnTo>
                        <a:pt x="1383" y="1515"/>
                      </a:lnTo>
                      <a:lnTo>
                        <a:pt x="1355" y="1523"/>
                      </a:lnTo>
                      <a:lnTo>
                        <a:pt x="1300" y="1538"/>
                      </a:lnTo>
                      <a:lnTo>
                        <a:pt x="1244" y="1550"/>
                      </a:lnTo>
                      <a:lnTo>
                        <a:pt x="1188" y="1559"/>
                      </a:lnTo>
                      <a:lnTo>
                        <a:pt x="1134" y="1566"/>
                      </a:lnTo>
                      <a:lnTo>
                        <a:pt x="1078" y="1572"/>
                      </a:lnTo>
                      <a:lnTo>
                        <a:pt x="1024" y="1574"/>
                      </a:lnTo>
                      <a:lnTo>
                        <a:pt x="971" y="1576"/>
                      </a:lnTo>
                      <a:lnTo>
                        <a:pt x="917" y="1573"/>
                      </a:lnTo>
                      <a:lnTo>
                        <a:pt x="864" y="1570"/>
                      </a:lnTo>
                      <a:lnTo>
                        <a:pt x="812" y="1563"/>
                      </a:lnTo>
                      <a:lnTo>
                        <a:pt x="762" y="1557"/>
                      </a:lnTo>
                      <a:lnTo>
                        <a:pt x="711" y="1546"/>
                      </a:lnTo>
                      <a:lnTo>
                        <a:pt x="663" y="1534"/>
                      </a:lnTo>
                      <a:lnTo>
                        <a:pt x="615" y="1520"/>
                      </a:lnTo>
                      <a:lnTo>
                        <a:pt x="569" y="1505"/>
                      </a:lnTo>
                      <a:lnTo>
                        <a:pt x="525" y="1487"/>
                      </a:lnTo>
                      <a:lnTo>
                        <a:pt x="481" y="1468"/>
                      </a:lnTo>
                      <a:lnTo>
                        <a:pt x="439" y="1447"/>
                      </a:lnTo>
                      <a:lnTo>
                        <a:pt x="399" y="1424"/>
                      </a:lnTo>
                      <a:lnTo>
                        <a:pt x="360" y="1399"/>
                      </a:lnTo>
                      <a:lnTo>
                        <a:pt x="325" y="1373"/>
                      </a:lnTo>
                      <a:lnTo>
                        <a:pt x="290" y="1345"/>
                      </a:lnTo>
                      <a:lnTo>
                        <a:pt x="274" y="1331"/>
                      </a:lnTo>
                      <a:lnTo>
                        <a:pt x="259" y="1316"/>
                      </a:lnTo>
                      <a:lnTo>
                        <a:pt x="242" y="1302"/>
                      </a:lnTo>
                      <a:lnTo>
                        <a:pt x="228" y="1285"/>
                      </a:lnTo>
                      <a:lnTo>
                        <a:pt x="213" y="1269"/>
                      </a:lnTo>
                      <a:lnTo>
                        <a:pt x="201" y="1253"/>
                      </a:lnTo>
                      <a:lnTo>
                        <a:pt x="187" y="1236"/>
                      </a:lnTo>
                      <a:lnTo>
                        <a:pt x="175" y="1219"/>
                      </a:lnTo>
                      <a:lnTo>
                        <a:pt x="164" y="1202"/>
                      </a:lnTo>
                      <a:lnTo>
                        <a:pt x="152" y="1184"/>
                      </a:lnTo>
                      <a:lnTo>
                        <a:pt x="142" y="1166"/>
                      </a:lnTo>
                      <a:lnTo>
                        <a:pt x="131" y="1148"/>
                      </a:lnTo>
                      <a:lnTo>
                        <a:pt x="122" y="1129"/>
                      </a:lnTo>
                      <a:lnTo>
                        <a:pt x="114" y="1110"/>
                      </a:lnTo>
                      <a:lnTo>
                        <a:pt x="106" y="1090"/>
                      </a:lnTo>
                      <a:lnTo>
                        <a:pt x="99" y="1071"/>
                      </a:lnTo>
                      <a:lnTo>
                        <a:pt x="93" y="1051"/>
                      </a:lnTo>
                      <a:lnTo>
                        <a:pt x="87" y="1030"/>
                      </a:lnTo>
                      <a:lnTo>
                        <a:pt x="82" y="1010"/>
                      </a:lnTo>
                      <a:lnTo>
                        <a:pt x="78" y="989"/>
                      </a:lnTo>
                      <a:lnTo>
                        <a:pt x="73" y="965"/>
                      </a:lnTo>
                      <a:lnTo>
                        <a:pt x="70" y="947"/>
                      </a:lnTo>
                      <a:lnTo>
                        <a:pt x="66" y="935"/>
                      </a:lnTo>
                      <a:lnTo>
                        <a:pt x="63" y="926"/>
                      </a:lnTo>
                      <a:lnTo>
                        <a:pt x="57" y="912"/>
                      </a:lnTo>
                      <a:lnTo>
                        <a:pt x="50" y="899"/>
                      </a:lnTo>
                      <a:lnTo>
                        <a:pt x="47" y="888"/>
                      </a:lnTo>
                      <a:lnTo>
                        <a:pt x="42" y="873"/>
                      </a:lnTo>
                      <a:lnTo>
                        <a:pt x="37" y="852"/>
                      </a:lnTo>
                      <a:lnTo>
                        <a:pt x="32" y="827"/>
                      </a:lnTo>
                      <a:lnTo>
                        <a:pt x="19" y="749"/>
                      </a:lnTo>
                      <a:lnTo>
                        <a:pt x="0" y="630"/>
                      </a:lnTo>
                      <a:lnTo>
                        <a:pt x="21" y="660"/>
                      </a:lnTo>
                      <a:lnTo>
                        <a:pt x="43" y="688"/>
                      </a:lnTo>
                      <a:lnTo>
                        <a:pt x="66" y="715"/>
                      </a:lnTo>
                      <a:lnTo>
                        <a:pt x="91" y="743"/>
                      </a:lnTo>
                      <a:lnTo>
                        <a:pt x="116" y="768"/>
                      </a:lnTo>
                      <a:lnTo>
                        <a:pt x="142" y="794"/>
                      </a:lnTo>
                      <a:lnTo>
                        <a:pt x="169" y="817"/>
                      </a:lnTo>
                      <a:lnTo>
                        <a:pt x="197" y="842"/>
                      </a:lnTo>
                      <a:lnTo>
                        <a:pt x="227" y="863"/>
                      </a:lnTo>
                      <a:lnTo>
                        <a:pt x="257" y="884"/>
                      </a:lnTo>
                      <a:lnTo>
                        <a:pt x="289" y="904"/>
                      </a:lnTo>
                      <a:lnTo>
                        <a:pt x="322" y="923"/>
                      </a:lnTo>
                      <a:lnTo>
                        <a:pt x="356" y="941"/>
                      </a:lnTo>
                      <a:lnTo>
                        <a:pt x="392" y="957"/>
                      </a:lnTo>
                      <a:lnTo>
                        <a:pt x="428" y="972"/>
                      </a:lnTo>
                      <a:lnTo>
                        <a:pt x="465" y="987"/>
                      </a:lnTo>
                      <a:lnTo>
                        <a:pt x="504" y="999"/>
                      </a:lnTo>
                      <a:lnTo>
                        <a:pt x="545" y="1010"/>
                      </a:lnTo>
                      <a:lnTo>
                        <a:pt x="585" y="1019"/>
                      </a:lnTo>
                      <a:lnTo>
                        <a:pt x="628" y="1027"/>
                      </a:lnTo>
                      <a:lnTo>
                        <a:pt x="672" y="1034"/>
                      </a:lnTo>
                      <a:lnTo>
                        <a:pt x="717" y="1040"/>
                      </a:lnTo>
                      <a:lnTo>
                        <a:pt x="763" y="1042"/>
                      </a:lnTo>
                      <a:lnTo>
                        <a:pt x="812" y="1044"/>
                      </a:lnTo>
                      <a:lnTo>
                        <a:pt x="861" y="1044"/>
                      </a:lnTo>
                      <a:lnTo>
                        <a:pt x="912" y="1042"/>
                      </a:lnTo>
                      <a:lnTo>
                        <a:pt x="964" y="1040"/>
                      </a:lnTo>
                      <a:lnTo>
                        <a:pt x="1017" y="1034"/>
                      </a:lnTo>
                      <a:lnTo>
                        <a:pt x="1071" y="1027"/>
                      </a:lnTo>
                      <a:lnTo>
                        <a:pt x="1128" y="1018"/>
                      </a:lnTo>
                      <a:lnTo>
                        <a:pt x="1186" y="1007"/>
                      </a:lnTo>
                      <a:lnTo>
                        <a:pt x="1245" y="99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69"/>
                <p:cNvSpPr/>
                <p:nvPr/>
              </p:nvSpPr>
              <p:spPr>
                <a:xfrm>
                  <a:off x="5172480" y="2890080"/>
                  <a:ext cx="2955600" cy="101196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960"/>
                    <a:gd name="textAreaBottom" fmla="*/ 1012320 h 101196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  <a:close/>
                    </a:path>
                  </a:pathLst>
                </a:custGeom>
                <a:solidFill>
                  <a:srgbClr val="ffe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70"/>
                <p:cNvSpPr/>
                <p:nvPr/>
              </p:nvSpPr>
              <p:spPr>
                <a:xfrm>
                  <a:off x="5172480" y="2890080"/>
                  <a:ext cx="2955600" cy="101196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960"/>
                    <a:gd name="textAreaBottom" fmla="*/ 1012320 h 101196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71"/>
                <p:cNvSpPr/>
                <p:nvPr/>
              </p:nvSpPr>
              <p:spPr>
                <a:xfrm>
                  <a:off x="5250600" y="3222720"/>
                  <a:ext cx="394560" cy="46836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68360"/>
                    <a:gd name="textAreaBottom" fmla="*/ 468720 h 468360"/>
                  </a:gdLst>
                  <a:ahLst/>
                  <a:rect l="textAreaLeft" t="textAreaTop" r="textAreaRight" b="textAreaBottom"/>
                  <a:pathLst>
                    <a:path w="302" h="840">
                      <a:moveTo>
                        <a:pt x="195" y="0"/>
                      </a:moveTo>
                      <a:lnTo>
                        <a:pt x="302" y="525"/>
                      </a:lnTo>
                      <a:lnTo>
                        <a:pt x="213" y="652"/>
                      </a:lnTo>
                      <a:lnTo>
                        <a:pt x="116" y="840"/>
                      </a:lnTo>
                      <a:lnTo>
                        <a:pt x="46" y="751"/>
                      </a:lnTo>
                      <a:lnTo>
                        <a:pt x="8" y="642"/>
                      </a:lnTo>
                      <a:lnTo>
                        <a:pt x="0" y="483"/>
                      </a:lnTo>
                      <a:lnTo>
                        <a:pt x="34" y="272"/>
                      </a:lnTo>
                      <a:lnTo>
                        <a:pt x="188" y="6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72"/>
                <p:cNvSpPr/>
                <p:nvPr/>
              </p:nvSpPr>
              <p:spPr>
                <a:xfrm>
                  <a:off x="5504040" y="3174120"/>
                  <a:ext cx="263520" cy="34128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341280"/>
                    <a:gd name="textAreaBottom" fmla="*/ 341640 h 341280"/>
                  </a:gdLst>
                  <a:ahLst/>
                  <a:rect l="textAreaLeft" t="textAreaTop" r="textAreaRight" b="textAreaBottom"/>
                  <a:pathLst>
                    <a:path w="202" h="613">
                      <a:moveTo>
                        <a:pt x="107" y="613"/>
                      </a:moveTo>
                      <a:lnTo>
                        <a:pt x="0" y="88"/>
                      </a:lnTo>
                      <a:lnTo>
                        <a:pt x="96" y="0"/>
                      </a:lnTo>
                      <a:lnTo>
                        <a:pt x="202" y="516"/>
                      </a:lnTo>
                      <a:lnTo>
                        <a:pt x="136" y="574"/>
                      </a:lnTo>
                      <a:lnTo>
                        <a:pt x="107" y="61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73"/>
                <p:cNvSpPr/>
                <p:nvPr/>
              </p:nvSpPr>
              <p:spPr>
                <a:xfrm>
                  <a:off x="5630040" y="3125520"/>
                  <a:ext cx="266040" cy="336240"/>
                </a:xfrm>
                <a:custGeom>
                  <a:avLst/>
                  <a:gdLst>
                    <a:gd name="textAreaLeft" fmla="*/ 0 w 266040"/>
                    <a:gd name="textAreaRight" fmla="*/ 266400 w 26604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205" h="603">
                      <a:moveTo>
                        <a:pt x="106" y="603"/>
                      </a:moveTo>
                      <a:lnTo>
                        <a:pt x="0" y="87"/>
                      </a:lnTo>
                      <a:lnTo>
                        <a:pt x="90" y="4"/>
                      </a:lnTo>
                      <a:lnTo>
                        <a:pt x="96" y="0"/>
                      </a:lnTo>
                      <a:lnTo>
                        <a:pt x="205" y="525"/>
                      </a:lnTo>
                      <a:lnTo>
                        <a:pt x="162" y="554"/>
                      </a:lnTo>
                      <a:lnTo>
                        <a:pt x="106" y="603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74"/>
                <p:cNvSpPr/>
                <p:nvPr/>
              </p:nvSpPr>
              <p:spPr>
                <a:xfrm>
                  <a:off x="5754960" y="3085560"/>
                  <a:ext cx="274320" cy="3326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209" h="598">
                      <a:moveTo>
                        <a:pt x="109" y="598"/>
                      </a:moveTo>
                      <a:lnTo>
                        <a:pt x="0" y="73"/>
                      </a:lnTo>
                      <a:lnTo>
                        <a:pt x="99" y="0"/>
                      </a:lnTo>
                      <a:lnTo>
                        <a:pt x="209" y="531"/>
                      </a:lnTo>
                      <a:lnTo>
                        <a:pt x="109" y="59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75"/>
                <p:cNvSpPr/>
                <p:nvPr/>
              </p:nvSpPr>
              <p:spPr>
                <a:xfrm>
                  <a:off x="5886000" y="3048840"/>
                  <a:ext cx="274320" cy="3326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640"/>
                    <a:gd name="textAreaBottom" fmla="*/ 332640 h 332640"/>
                  </a:gdLst>
                  <a:ahLst/>
                  <a:rect l="textAreaLeft" t="textAreaTop" r="textAreaRight" b="textAreaBottom"/>
                  <a:pathLst>
                    <a:path w="211" h="596">
                      <a:moveTo>
                        <a:pt x="110" y="596"/>
                      </a:moveTo>
                      <a:lnTo>
                        <a:pt x="0" y="65"/>
                      </a:lnTo>
                      <a:lnTo>
                        <a:pt x="64" y="18"/>
                      </a:lnTo>
                      <a:lnTo>
                        <a:pt x="102" y="0"/>
                      </a:lnTo>
                      <a:lnTo>
                        <a:pt x="211" y="529"/>
                      </a:lnTo>
                      <a:lnTo>
                        <a:pt x="122" y="587"/>
                      </a:lnTo>
                      <a:lnTo>
                        <a:pt x="110" y="596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76"/>
                <p:cNvSpPr/>
                <p:nvPr/>
              </p:nvSpPr>
              <p:spPr>
                <a:xfrm>
                  <a:off x="6019200" y="3021840"/>
                  <a:ext cx="271440" cy="32112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210" h="578">
                      <a:moveTo>
                        <a:pt x="109" y="578"/>
                      </a:moveTo>
                      <a:lnTo>
                        <a:pt x="0" y="49"/>
                      </a:lnTo>
                      <a:lnTo>
                        <a:pt x="105" y="0"/>
                      </a:lnTo>
                      <a:lnTo>
                        <a:pt x="210" y="512"/>
                      </a:lnTo>
                      <a:lnTo>
                        <a:pt x="109" y="578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77"/>
                <p:cNvSpPr/>
                <p:nvPr/>
              </p:nvSpPr>
              <p:spPr>
                <a:xfrm>
                  <a:off x="6154920" y="2993400"/>
                  <a:ext cx="276480" cy="3128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312840"/>
                    <a:gd name="textAreaBottom" fmla="*/ 313200 h 312840"/>
                  </a:gdLst>
                  <a:ahLst/>
                  <a:rect l="textAreaLeft" t="textAreaTop" r="textAreaRight" b="textAreaBottom"/>
                  <a:pathLst>
                    <a:path w="211" h="561">
                      <a:moveTo>
                        <a:pt x="105" y="561"/>
                      </a:moveTo>
                      <a:lnTo>
                        <a:pt x="0" y="49"/>
                      </a:lnTo>
                      <a:lnTo>
                        <a:pt x="104" y="0"/>
                      </a:lnTo>
                      <a:lnTo>
                        <a:pt x="211" y="524"/>
                      </a:lnTo>
                      <a:lnTo>
                        <a:pt x="110" y="558"/>
                      </a:lnTo>
                      <a:lnTo>
                        <a:pt x="105" y="561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78"/>
                <p:cNvSpPr/>
                <p:nvPr/>
              </p:nvSpPr>
              <p:spPr>
                <a:xfrm>
                  <a:off x="6290640" y="2975400"/>
                  <a:ext cx="282600" cy="31104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216" h="558">
                      <a:moveTo>
                        <a:pt x="107" y="558"/>
                      </a:moveTo>
                      <a:lnTo>
                        <a:pt x="0" y="34"/>
                      </a:lnTo>
                      <a:lnTo>
                        <a:pt x="38" y="17"/>
                      </a:lnTo>
                      <a:lnTo>
                        <a:pt x="107" y="0"/>
                      </a:lnTo>
                      <a:lnTo>
                        <a:pt x="216" y="527"/>
                      </a:lnTo>
                      <a:lnTo>
                        <a:pt x="173" y="535"/>
                      </a:lnTo>
                      <a:lnTo>
                        <a:pt x="107" y="558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79"/>
                <p:cNvSpPr/>
                <p:nvPr/>
              </p:nvSpPr>
              <p:spPr>
                <a:xfrm>
                  <a:off x="6431760" y="2959920"/>
                  <a:ext cx="284760" cy="30924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18" h="555">
                      <a:moveTo>
                        <a:pt x="109" y="555"/>
                      </a:moveTo>
                      <a:lnTo>
                        <a:pt x="0" y="28"/>
                      </a:lnTo>
                      <a:lnTo>
                        <a:pt x="109" y="0"/>
                      </a:lnTo>
                      <a:lnTo>
                        <a:pt x="218" y="530"/>
                      </a:lnTo>
                      <a:lnTo>
                        <a:pt x="215" y="532"/>
                      </a:lnTo>
                      <a:lnTo>
                        <a:pt x="109" y="555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80"/>
                <p:cNvSpPr/>
                <p:nvPr/>
              </p:nvSpPr>
              <p:spPr>
                <a:xfrm>
                  <a:off x="6573600" y="2948400"/>
                  <a:ext cx="287280" cy="306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0" h="549">
                      <a:moveTo>
                        <a:pt x="109" y="549"/>
                      </a:moveTo>
                      <a:lnTo>
                        <a:pt x="0" y="19"/>
                      </a:lnTo>
                      <a:lnTo>
                        <a:pt x="57" y="5"/>
                      </a:lnTo>
                      <a:lnTo>
                        <a:pt x="110" y="0"/>
                      </a:lnTo>
                      <a:lnTo>
                        <a:pt x="220" y="533"/>
                      </a:lnTo>
                      <a:lnTo>
                        <a:pt x="109" y="549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81"/>
                <p:cNvSpPr/>
                <p:nvPr/>
              </p:nvSpPr>
              <p:spPr>
                <a:xfrm>
                  <a:off x="6716880" y="2943360"/>
                  <a:ext cx="290160" cy="3024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221" h="544">
                      <a:moveTo>
                        <a:pt x="110" y="544"/>
                      </a:moveTo>
                      <a:lnTo>
                        <a:pt x="0" y="11"/>
                      </a:lnTo>
                      <a:lnTo>
                        <a:pt x="113" y="0"/>
                      </a:lnTo>
                      <a:lnTo>
                        <a:pt x="221" y="525"/>
                      </a:lnTo>
                      <a:lnTo>
                        <a:pt x="115" y="543"/>
                      </a:lnTo>
                      <a:lnTo>
                        <a:pt x="110" y="54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82"/>
                <p:cNvSpPr/>
                <p:nvPr/>
              </p:nvSpPr>
              <p:spPr>
                <a:xfrm>
                  <a:off x="6863400" y="2936520"/>
                  <a:ext cx="290160" cy="29916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21" h="537">
                      <a:moveTo>
                        <a:pt x="108" y="537"/>
                      </a:moveTo>
                      <a:lnTo>
                        <a:pt x="0" y="12"/>
                      </a:lnTo>
                      <a:lnTo>
                        <a:pt x="112" y="0"/>
                      </a:lnTo>
                      <a:lnTo>
                        <a:pt x="221" y="530"/>
                      </a:lnTo>
                      <a:lnTo>
                        <a:pt x="128" y="533"/>
                      </a:lnTo>
                      <a:lnTo>
                        <a:pt x="108" y="537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83"/>
                <p:cNvSpPr/>
                <p:nvPr/>
              </p:nvSpPr>
              <p:spPr>
                <a:xfrm>
                  <a:off x="7009560" y="2936520"/>
                  <a:ext cx="300240" cy="3060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8" h="549">
                      <a:moveTo>
                        <a:pt x="109" y="53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7" y="12"/>
                      </a:lnTo>
                      <a:lnTo>
                        <a:pt x="228" y="549"/>
                      </a:lnTo>
                      <a:lnTo>
                        <a:pt x="148" y="529"/>
                      </a:lnTo>
                      <a:lnTo>
                        <a:pt x="109" y="53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84"/>
                <p:cNvSpPr/>
                <p:nvPr/>
              </p:nvSpPr>
              <p:spPr>
                <a:xfrm>
                  <a:off x="7163640" y="2943360"/>
                  <a:ext cx="303120" cy="315720"/>
                </a:xfrm>
                <a:custGeom>
                  <a:avLst/>
                  <a:gdLst>
                    <a:gd name="textAreaLeft" fmla="*/ 0 w 303120"/>
                    <a:gd name="textAreaRight" fmla="*/ 303480 w 30312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32" h="567">
                      <a:moveTo>
                        <a:pt x="111" y="537"/>
                      </a:moveTo>
                      <a:lnTo>
                        <a:pt x="0" y="0"/>
                      </a:lnTo>
                      <a:lnTo>
                        <a:pt x="110" y="14"/>
                      </a:lnTo>
                      <a:lnTo>
                        <a:pt x="118" y="16"/>
                      </a:lnTo>
                      <a:lnTo>
                        <a:pt x="232" y="567"/>
                      </a:lnTo>
                      <a:lnTo>
                        <a:pt x="111" y="53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85"/>
                <p:cNvSpPr/>
                <p:nvPr/>
              </p:nvSpPr>
              <p:spPr>
                <a:xfrm>
                  <a:off x="7318080" y="2951640"/>
                  <a:ext cx="311040" cy="33084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37" h="595">
                      <a:moveTo>
                        <a:pt x="114" y="551"/>
                      </a:moveTo>
                      <a:lnTo>
                        <a:pt x="0" y="0"/>
                      </a:lnTo>
                      <a:lnTo>
                        <a:pt x="124" y="44"/>
                      </a:lnTo>
                      <a:lnTo>
                        <a:pt x="237" y="595"/>
                      </a:lnTo>
                      <a:lnTo>
                        <a:pt x="145" y="559"/>
                      </a:lnTo>
                      <a:lnTo>
                        <a:pt x="114" y="55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86"/>
                <p:cNvSpPr/>
                <p:nvPr/>
              </p:nvSpPr>
              <p:spPr>
                <a:xfrm>
                  <a:off x="7480440" y="2976840"/>
                  <a:ext cx="311040" cy="33300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37" h="598">
                      <a:moveTo>
                        <a:pt x="113" y="551"/>
                      </a:moveTo>
                      <a:lnTo>
                        <a:pt x="0" y="0"/>
                      </a:lnTo>
                      <a:lnTo>
                        <a:pt x="123" y="44"/>
                      </a:lnTo>
                      <a:lnTo>
                        <a:pt x="237" y="598"/>
                      </a:lnTo>
                      <a:lnTo>
                        <a:pt x="113" y="55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87"/>
                <p:cNvSpPr/>
                <p:nvPr/>
              </p:nvSpPr>
              <p:spPr>
                <a:xfrm>
                  <a:off x="7639920" y="3000240"/>
                  <a:ext cx="430560" cy="364320"/>
                </a:xfrm>
                <a:custGeom>
                  <a:avLst/>
                  <a:gdLst>
                    <a:gd name="textAreaLeft" fmla="*/ 0 w 430560"/>
                    <a:gd name="textAreaRight" fmla="*/ 430920 w 43056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330" h="652">
                      <a:moveTo>
                        <a:pt x="114" y="554"/>
                      </a:move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01" y="161"/>
                      </a:lnTo>
                      <a:lnTo>
                        <a:pt x="310" y="338"/>
                      </a:lnTo>
                      <a:lnTo>
                        <a:pt x="316" y="378"/>
                      </a:lnTo>
                      <a:lnTo>
                        <a:pt x="322" y="416"/>
                      </a:lnTo>
                      <a:lnTo>
                        <a:pt x="326" y="454"/>
                      </a:lnTo>
                      <a:lnTo>
                        <a:pt x="330" y="492"/>
                      </a:lnTo>
                      <a:lnTo>
                        <a:pt x="330" y="511"/>
                      </a:lnTo>
                      <a:lnTo>
                        <a:pt x="330" y="530"/>
                      </a:lnTo>
                      <a:lnTo>
                        <a:pt x="329" y="549"/>
                      </a:lnTo>
                      <a:lnTo>
                        <a:pt x="327" y="569"/>
                      </a:lnTo>
                      <a:lnTo>
                        <a:pt x="325" y="589"/>
                      </a:lnTo>
                      <a:lnTo>
                        <a:pt x="322" y="610"/>
                      </a:lnTo>
                      <a:lnTo>
                        <a:pt x="317" y="630"/>
                      </a:lnTo>
                      <a:lnTo>
                        <a:pt x="311" y="652"/>
                      </a:lnTo>
                      <a:lnTo>
                        <a:pt x="289" y="641"/>
                      </a:lnTo>
                      <a:lnTo>
                        <a:pt x="267" y="630"/>
                      </a:lnTo>
                      <a:lnTo>
                        <a:pt x="246" y="619"/>
                      </a:lnTo>
                      <a:lnTo>
                        <a:pt x="224" y="608"/>
                      </a:lnTo>
                      <a:lnTo>
                        <a:pt x="202" y="597"/>
                      </a:lnTo>
                      <a:lnTo>
                        <a:pt x="181" y="585"/>
                      </a:lnTo>
                      <a:lnTo>
                        <a:pt x="159" y="574"/>
                      </a:lnTo>
                      <a:lnTo>
                        <a:pt x="137" y="564"/>
                      </a:lnTo>
                      <a:lnTo>
                        <a:pt x="114" y="5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88"/>
                <p:cNvSpPr/>
                <p:nvPr/>
              </p:nvSpPr>
              <p:spPr>
                <a:xfrm>
                  <a:off x="5250600" y="2936520"/>
                  <a:ext cx="2819880" cy="754200"/>
                </a:xfrm>
                <a:custGeom>
                  <a:avLst/>
                  <a:gdLst>
                    <a:gd name="textAreaLeft" fmla="*/ 0 w 2819880"/>
                    <a:gd name="textAreaRight" fmla="*/ 2820240 w 2819880"/>
                    <a:gd name="textAreaTop" fmla="*/ 0 h 754200"/>
                    <a:gd name="textAreaBottom" fmla="*/ 754560 h 754200"/>
                  </a:gdLst>
                  <a:ahLst/>
                  <a:rect l="textAreaLeft" t="textAreaTop" r="textAreaRight" b="textAreaBottom"/>
                  <a:pathLst>
                    <a:path w="2160" h="1355">
                      <a:moveTo>
                        <a:pt x="116" y="1355"/>
                      </a:moveTo>
                      <a:lnTo>
                        <a:pt x="46" y="1266"/>
                      </a:lnTo>
                      <a:lnTo>
                        <a:pt x="8" y="1157"/>
                      </a:lnTo>
                      <a:lnTo>
                        <a:pt x="0" y="998"/>
                      </a:lnTo>
                      <a:lnTo>
                        <a:pt x="34" y="787"/>
                      </a:lnTo>
                      <a:lnTo>
                        <a:pt x="188" y="521"/>
                      </a:lnTo>
                      <a:lnTo>
                        <a:pt x="381" y="344"/>
                      </a:lnTo>
                      <a:lnTo>
                        <a:pt x="550" y="220"/>
                      </a:lnTo>
                      <a:lnTo>
                        <a:pt x="835" y="87"/>
                      </a:lnTo>
                      <a:lnTo>
                        <a:pt x="1070" y="28"/>
                      </a:lnTo>
                      <a:lnTo>
                        <a:pt x="1353" y="0"/>
                      </a:lnTo>
                      <a:lnTo>
                        <a:pt x="1575" y="26"/>
                      </a:lnTo>
                      <a:lnTo>
                        <a:pt x="1838" y="119"/>
                      </a:lnTo>
                      <a:lnTo>
                        <a:pt x="2031" y="277"/>
                      </a:lnTo>
                      <a:lnTo>
                        <a:pt x="2140" y="454"/>
                      </a:lnTo>
                      <a:lnTo>
                        <a:pt x="2146" y="494"/>
                      </a:lnTo>
                      <a:lnTo>
                        <a:pt x="2152" y="532"/>
                      </a:lnTo>
                      <a:lnTo>
                        <a:pt x="2156" y="570"/>
                      </a:lnTo>
                      <a:lnTo>
                        <a:pt x="2160" y="608"/>
                      </a:lnTo>
                      <a:lnTo>
                        <a:pt x="2160" y="627"/>
                      </a:lnTo>
                      <a:lnTo>
                        <a:pt x="2160" y="646"/>
                      </a:lnTo>
                      <a:lnTo>
                        <a:pt x="2159" y="665"/>
                      </a:lnTo>
                      <a:lnTo>
                        <a:pt x="2157" y="685"/>
                      </a:lnTo>
                      <a:lnTo>
                        <a:pt x="2155" y="705"/>
                      </a:lnTo>
                      <a:lnTo>
                        <a:pt x="2152" y="726"/>
                      </a:lnTo>
                      <a:lnTo>
                        <a:pt x="2147" y="746"/>
                      </a:lnTo>
                      <a:lnTo>
                        <a:pt x="2141" y="768"/>
                      </a:lnTo>
                      <a:lnTo>
                        <a:pt x="2119" y="757"/>
                      </a:lnTo>
                      <a:lnTo>
                        <a:pt x="2097" y="746"/>
                      </a:lnTo>
                      <a:lnTo>
                        <a:pt x="2076" y="735"/>
                      </a:lnTo>
                      <a:lnTo>
                        <a:pt x="2054" y="724"/>
                      </a:lnTo>
                      <a:lnTo>
                        <a:pt x="2032" y="713"/>
                      </a:lnTo>
                      <a:lnTo>
                        <a:pt x="2011" y="701"/>
                      </a:lnTo>
                      <a:lnTo>
                        <a:pt x="1989" y="690"/>
                      </a:lnTo>
                      <a:lnTo>
                        <a:pt x="1967" y="680"/>
                      </a:lnTo>
                      <a:lnTo>
                        <a:pt x="1728" y="587"/>
                      </a:lnTo>
                      <a:lnTo>
                        <a:pt x="1496" y="529"/>
                      </a:lnTo>
                      <a:lnTo>
                        <a:pt x="1364" y="533"/>
                      </a:lnTo>
                      <a:lnTo>
                        <a:pt x="1238" y="555"/>
                      </a:lnTo>
                      <a:lnTo>
                        <a:pt x="1119" y="574"/>
                      </a:lnTo>
                      <a:lnTo>
                        <a:pt x="970" y="605"/>
                      </a:lnTo>
                      <a:lnTo>
                        <a:pt x="803" y="662"/>
                      </a:lnTo>
                      <a:lnTo>
                        <a:pt x="608" y="789"/>
                      </a:lnTo>
                      <a:lnTo>
                        <a:pt x="453" y="894"/>
                      </a:lnTo>
                      <a:lnTo>
                        <a:pt x="331" y="1001"/>
                      </a:lnTo>
                      <a:lnTo>
                        <a:pt x="213" y="1167"/>
                      </a:lnTo>
                      <a:lnTo>
                        <a:pt x="116" y="13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89"/>
                <p:cNvSpPr/>
                <p:nvPr/>
              </p:nvSpPr>
              <p:spPr>
                <a:xfrm>
                  <a:off x="5433840" y="32378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90"/>
                <p:cNvSpPr/>
                <p:nvPr/>
              </p:nvSpPr>
              <p:spPr>
                <a:xfrm>
                  <a:off x="5433840" y="32378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91"/>
                <p:cNvSpPr/>
                <p:nvPr/>
              </p:nvSpPr>
              <p:spPr>
                <a:xfrm>
                  <a:off x="6228360" y="3259440"/>
                  <a:ext cx="511920" cy="92160"/>
                </a:xfrm>
                <a:custGeom>
                  <a:avLst/>
                  <a:gdLst>
                    <a:gd name="textAreaLeft" fmla="*/ 0 w 511920"/>
                    <a:gd name="textAreaRight" fmla="*/ 512280 w 5119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393" h="165">
                      <a:moveTo>
                        <a:pt x="90" y="87"/>
                      </a:moveTo>
                      <a:lnTo>
                        <a:pt x="93" y="86"/>
                      </a:lnTo>
                      <a:lnTo>
                        <a:pt x="95" y="86"/>
                      </a:lnTo>
                      <a:lnTo>
                        <a:pt x="97" y="85"/>
                      </a:lnTo>
                      <a:lnTo>
                        <a:pt x="99" y="85"/>
                      </a:lnTo>
                      <a:lnTo>
                        <a:pt x="101" y="83"/>
                      </a:lnTo>
                      <a:lnTo>
                        <a:pt x="103" y="83"/>
                      </a:lnTo>
                      <a:lnTo>
                        <a:pt x="104" y="82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207" y="48"/>
                      </a:lnTo>
                      <a:lnTo>
                        <a:pt x="210" y="47"/>
                      </a:lnTo>
                      <a:lnTo>
                        <a:pt x="212" y="47"/>
                      </a:lnTo>
                      <a:lnTo>
                        <a:pt x="214" y="45"/>
                      </a:lnTo>
                      <a:lnTo>
                        <a:pt x="216" y="45"/>
                      </a:lnTo>
                      <a:lnTo>
                        <a:pt x="218" y="44"/>
                      </a:lnTo>
                      <a:lnTo>
                        <a:pt x="220" y="44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56" y="9"/>
                      </a:lnTo>
                      <a:lnTo>
                        <a:pt x="360" y="7"/>
                      </a:lnTo>
                      <a:lnTo>
                        <a:pt x="366" y="6"/>
                      </a:lnTo>
                      <a:lnTo>
                        <a:pt x="371" y="6"/>
                      </a:lnTo>
                      <a:lnTo>
                        <a:pt x="376" y="5"/>
                      </a:lnTo>
                      <a:lnTo>
                        <a:pt x="382" y="3"/>
                      </a:lnTo>
                      <a:lnTo>
                        <a:pt x="387" y="2"/>
                      </a:lnTo>
                      <a:lnTo>
                        <a:pt x="393" y="0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35" y="14"/>
                      </a:lnTo>
                      <a:lnTo>
                        <a:pt x="319" y="17"/>
                      </a:lnTo>
                      <a:lnTo>
                        <a:pt x="304" y="21"/>
                      </a:lnTo>
                      <a:lnTo>
                        <a:pt x="287" y="25"/>
                      </a:lnTo>
                      <a:lnTo>
                        <a:pt x="271" y="29"/>
                      </a:lnTo>
                      <a:lnTo>
                        <a:pt x="255" y="33"/>
                      </a:lnTo>
                      <a:lnTo>
                        <a:pt x="239" y="38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241" y="147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192" y="52"/>
                      </a:lnTo>
                      <a:lnTo>
                        <a:pt x="181" y="56"/>
                      </a:lnTo>
                      <a:lnTo>
                        <a:pt x="168" y="60"/>
                      </a:lnTo>
                      <a:lnTo>
                        <a:pt x="156" y="64"/>
                      </a:lnTo>
                      <a:lnTo>
                        <a:pt x="144" y="68"/>
                      </a:lnTo>
                      <a:lnTo>
                        <a:pt x="131" y="72"/>
                      </a:lnTo>
                      <a:lnTo>
                        <a:pt x="119" y="76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83" y="165"/>
                      </a:lnTo>
                      <a:lnTo>
                        <a:pt x="0" y="124"/>
                      </a:lnTo>
                      <a:lnTo>
                        <a:pt x="12" y="120"/>
                      </a:lnTo>
                      <a:lnTo>
                        <a:pt x="22" y="114"/>
                      </a:lnTo>
                      <a:lnTo>
                        <a:pt x="34" y="110"/>
                      </a:lnTo>
                      <a:lnTo>
                        <a:pt x="44" y="105"/>
                      </a:lnTo>
                      <a:lnTo>
                        <a:pt x="56" y="101"/>
                      </a:lnTo>
                      <a:lnTo>
                        <a:pt x="67" y="95"/>
                      </a:lnTo>
                      <a:lnTo>
                        <a:pt x="79" y="91"/>
                      </a:lnTo>
                      <a:lnTo>
                        <a:pt x="90" y="87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92"/>
                <p:cNvSpPr/>
                <p:nvPr/>
              </p:nvSpPr>
              <p:spPr>
                <a:xfrm>
                  <a:off x="7245000" y="3246120"/>
                  <a:ext cx="222120" cy="5472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71" h="97">
                      <a:moveTo>
                        <a:pt x="129" y="10"/>
                      </a:moveTo>
                      <a:lnTo>
                        <a:pt x="135" y="11"/>
                      </a:lnTo>
                      <a:lnTo>
                        <a:pt x="139" y="13"/>
                      </a:lnTo>
                      <a:lnTo>
                        <a:pt x="144" y="14"/>
                      </a:lnTo>
                      <a:lnTo>
                        <a:pt x="150" y="15"/>
                      </a:lnTo>
                      <a:lnTo>
                        <a:pt x="154" y="18"/>
                      </a:lnTo>
                      <a:lnTo>
                        <a:pt x="160" y="19"/>
                      </a:lnTo>
                      <a:lnTo>
                        <a:pt x="165" y="21"/>
                      </a:lnTo>
                      <a:lnTo>
                        <a:pt x="171" y="22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95" y="6"/>
                      </a:lnTo>
                      <a:lnTo>
                        <a:pt x="89" y="5"/>
                      </a:lnTo>
                      <a:lnTo>
                        <a:pt x="84" y="5"/>
                      </a:lnTo>
                      <a:lnTo>
                        <a:pt x="78" y="3"/>
                      </a:lnTo>
                      <a:lnTo>
                        <a:pt x="72" y="2"/>
                      </a:lnTo>
                      <a:lnTo>
                        <a:pt x="66" y="2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0" y="52"/>
                      </a:lnTo>
                      <a:lnTo>
                        <a:pt x="93" y="97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8" y="7"/>
                      </a:lnTo>
                      <a:lnTo>
                        <a:pt x="111" y="7"/>
                      </a:lnTo>
                      <a:lnTo>
                        <a:pt x="115" y="9"/>
                      </a:lnTo>
                      <a:lnTo>
                        <a:pt x="118" y="9"/>
                      </a:lnTo>
                      <a:lnTo>
                        <a:pt x="122" y="10"/>
                      </a:lnTo>
                      <a:lnTo>
                        <a:pt x="125" y="10"/>
                      </a:lnTo>
                      <a:lnTo>
                        <a:pt x="129" y="1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93"/>
                <p:cNvSpPr/>
                <p:nvPr/>
              </p:nvSpPr>
              <p:spPr>
                <a:xfrm>
                  <a:off x="7448760" y="3259440"/>
                  <a:ext cx="151560" cy="3168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14" h="57">
                      <a:moveTo>
                        <a:pt x="13" y="0"/>
                      </a:moveTo>
                      <a:lnTo>
                        <a:pt x="25" y="4"/>
                      </a:lnTo>
                      <a:lnTo>
                        <a:pt x="37" y="8"/>
                      </a:lnTo>
                      <a:lnTo>
                        <a:pt x="50" y="12"/>
                      </a:lnTo>
                      <a:lnTo>
                        <a:pt x="62" y="16"/>
                      </a:lnTo>
                      <a:lnTo>
                        <a:pt x="75" y="20"/>
                      </a:lnTo>
                      <a:lnTo>
                        <a:pt x="88" y="25"/>
                      </a:lnTo>
                      <a:lnTo>
                        <a:pt x="102" y="30"/>
                      </a:lnTo>
                      <a:lnTo>
                        <a:pt x="114" y="35"/>
                      </a:ln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94"/>
                <p:cNvSpPr/>
                <p:nvPr/>
              </p:nvSpPr>
              <p:spPr>
                <a:xfrm>
                  <a:off x="7571520" y="3278160"/>
                  <a:ext cx="156960" cy="38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21" h="67">
                      <a:moveTo>
                        <a:pt x="22" y="0"/>
                      </a:moveTo>
                      <a:lnTo>
                        <a:pt x="34" y="4"/>
                      </a:lnTo>
                      <a:lnTo>
                        <a:pt x="46" y="9"/>
                      </a:lnTo>
                      <a:lnTo>
                        <a:pt x="58" y="14"/>
                      </a:lnTo>
                      <a:lnTo>
                        <a:pt x="70" y="18"/>
                      </a:lnTo>
                      <a:lnTo>
                        <a:pt x="83" y="23"/>
                      </a:lnTo>
                      <a:lnTo>
                        <a:pt x="95" y="29"/>
                      </a:lnTo>
                      <a:lnTo>
                        <a:pt x="108" y="34"/>
                      </a:lnTo>
                      <a:lnTo>
                        <a:pt x="121" y="40"/>
                      </a:lnTo>
                      <a:lnTo>
                        <a:pt x="92" y="67"/>
                      </a:lnTo>
                      <a:lnTo>
                        <a:pt x="0" y="22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95"/>
                <p:cNvSpPr/>
                <p:nvPr/>
              </p:nvSpPr>
              <p:spPr>
                <a:xfrm>
                  <a:off x="7689600" y="3301200"/>
                  <a:ext cx="164160" cy="3996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25" h="72">
                      <a:moveTo>
                        <a:pt x="29" y="0"/>
                      </a:moveTo>
                      <a:lnTo>
                        <a:pt x="40" y="4"/>
                      </a:lnTo>
                      <a:lnTo>
                        <a:pt x="52" y="9"/>
                      </a:lnTo>
                      <a:lnTo>
                        <a:pt x="64" y="13"/>
                      </a:lnTo>
                      <a:lnTo>
                        <a:pt x="75" y="19"/>
                      </a:lnTo>
                      <a:lnTo>
                        <a:pt x="88" y="24"/>
                      </a:lnTo>
                      <a:lnTo>
                        <a:pt x="99" y="30"/>
                      </a:lnTo>
                      <a:lnTo>
                        <a:pt x="112" y="35"/>
                      </a:lnTo>
                      <a:lnTo>
                        <a:pt x="125" y="40"/>
                      </a:lnTo>
                      <a:lnTo>
                        <a:pt x="93" y="72"/>
                      </a:lnTo>
                      <a:lnTo>
                        <a:pt x="0" y="27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96"/>
                <p:cNvSpPr/>
                <p:nvPr/>
              </p:nvSpPr>
              <p:spPr>
                <a:xfrm>
                  <a:off x="7812360" y="3323160"/>
                  <a:ext cx="154080" cy="414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19" h="76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48" y="7"/>
                      </a:lnTo>
                      <a:lnTo>
                        <a:pt x="59" y="13"/>
                      </a:lnTo>
                      <a:lnTo>
                        <a:pt x="70" y="18"/>
                      </a:lnTo>
                      <a:lnTo>
                        <a:pt x="81" y="22"/>
                      </a:lnTo>
                      <a:lnTo>
                        <a:pt x="90" y="29"/>
                      </a:lnTo>
                      <a:lnTo>
                        <a:pt x="100" y="34"/>
                      </a:lnTo>
                      <a:lnTo>
                        <a:pt x="110" y="40"/>
                      </a:lnTo>
                      <a:lnTo>
                        <a:pt x="119" y="45"/>
                      </a:lnTo>
                      <a:lnTo>
                        <a:pt x="91" y="76"/>
                      </a:lnTo>
                      <a:lnTo>
                        <a:pt x="0" y="32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97"/>
                <p:cNvSpPr/>
                <p:nvPr/>
              </p:nvSpPr>
              <p:spPr>
                <a:xfrm>
                  <a:off x="7845840" y="3364920"/>
                  <a:ext cx="177480" cy="61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37" h="109">
                      <a:moveTo>
                        <a:pt x="137" y="55"/>
                      </a:moveTo>
                      <a:lnTo>
                        <a:pt x="137" y="57"/>
                      </a:lnTo>
                      <a:lnTo>
                        <a:pt x="136" y="59"/>
                      </a:lnTo>
                      <a:lnTo>
                        <a:pt x="136" y="60"/>
                      </a:lnTo>
                      <a:lnTo>
                        <a:pt x="134" y="63"/>
                      </a:lnTo>
                      <a:lnTo>
                        <a:pt x="134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71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18" y="26"/>
                      </a:lnTo>
                      <a:lnTo>
                        <a:pt x="120" y="30"/>
                      </a:lnTo>
                      <a:lnTo>
                        <a:pt x="123" y="33"/>
                      </a:lnTo>
                      <a:lnTo>
                        <a:pt x="125" y="37"/>
                      </a:lnTo>
                      <a:lnTo>
                        <a:pt x="127" y="41"/>
                      </a:lnTo>
                      <a:lnTo>
                        <a:pt x="130" y="44"/>
                      </a:lnTo>
                      <a:lnTo>
                        <a:pt x="132" y="48"/>
                      </a:lnTo>
                      <a:lnTo>
                        <a:pt x="134" y="51"/>
                      </a:lnTo>
                      <a:lnTo>
                        <a:pt x="137" y="55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98"/>
                <p:cNvSpPr/>
                <p:nvPr/>
              </p:nvSpPr>
              <p:spPr>
                <a:xfrm>
                  <a:off x="7966440" y="3405240"/>
                  <a:ext cx="51840" cy="28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40" h="50">
                      <a:moveTo>
                        <a:pt x="40" y="0"/>
                      </a:moveTo>
                      <a:lnTo>
                        <a:pt x="38" y="5"/>
                      </a:lnTo>
                      <a:lnTo>
                        <a:pt x="36" y="12"/>
                      </a:lnTo>
                      <a:lnTo>
                        <a:pt x="34" y="19"/>
                      </a:lnTo>
                      <a:lnTo>
                        <a:pt x="32" y="24"/>
                      </a:lnTo>
                      <a:lnTo>
                        <a:pt x="30" y="31"/>
                      </a:lnTo>
                      <a:lnTo>
                        <a:pt x="29" y="38"/>
                      </a:lnTo>
                      <a:lnTo>
                        <a:pt x="26" y="43"/>
                      </a:lnTo>
                      <a:lnTo>
                        <a:pt x="24" y="50"/>
                      </a:lnTo>
                      <a:lnTo>
                        <a:pt x="0" y="38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99"/>
                <p:cNvSpPr/>
                <p:nvPr/>
              </p:nvSpPr>
              <p:spPr>
                <a:xfrm>
                  <a:off x="7879680" y="3426840"/>
                  <a:ext cx="117720" cy="500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90" h="92">
                      <a:moveTo>
                        <a:pt x="90" y="12"/>
                      </a:moveTo>
                      <a:lnTo>
                        <a:pt x="87" y="22"/>
                      </a:lnTo>
                      <a:lnTo>
                        <a:pt x="83" y="33"/>
                      </a:lnTo>
                      <a:lnTo>
                        <a:pt x="80" y="42"/>
                      </a:lnTo>
                      <a:lnTo>
                        <a:pt x="75" y="53"/>
                      </a:lnTo>
                      <a:lnTo>
                        <a:pt x="71" y="62"/>
                      </a:lnTo>
                      <a:lnTo>
                        <a:pt x="68" y="72"/>
                      </a:lnTo>
                      <a:lnTo>
                        <a:pt x="63" y="83"/>
                      </a:lnTo>
                      <a:lnTo>
                        <a:pt x="59" y="92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0" y="12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100"/>
                <p:cNvSpPr/>
                <p:nvPr/>
              </p:nvSpPr>
              <p:spPr>
                <a:xfrm>
                  <a:off x="7794000" y="3462120"/>
                  <a:ext cx="161640" cy="583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24" h="106">
                      <a:moveTo>
                        <a:pt x="124" y="28"/>
                      </a:moveTo>
                      <a:lnTo>
                        <a:pt x="119" y="38"/>
                      </a:lnTo>
                      <a:lnTo>
                        <a:pt x="116" y="47"/>
                      </a:lnTo>
                      <a:lnTo>
                        <a:pt x="111" y="57"/>
                      </a:lnTo>
                      <a:lnTo>
                        <a:pt x="106" y="66"/>
                      </a:lnTo>
                      <a:lnTo>
                        <a:pt x="101" y="76"/>
                      </a:lnTo>
                      <a:lnTo>
                        <a:pt x="96" y="85"/>
                      </a:lnTo>
                      <a:lnTo>
                        <a:pt x="91" y="95"/>
                      </a:lnTo>
                      <a:lnTo>
                        <a:pt x="86" y="106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124" y="2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101"/>
                <p:cNvSpPr/>
                <p:nvPr/>
              </p:nvSpPr>
              <p:spPr>
                <a:xfrm>
                  <a:off x="7707240" y="3497040"/>
                  <a:ext cx="199080" cy="601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2" h="109">
                      <a:moveTo>
                        <a:pt x="152" y="44"/>
                      </a:moveTo>
                      <a:lnTo>
                        <a:pt x="150" y="45"/>
                      </a:lnTo>
                      <a:lnTo>
                        <a:pt x="149" y="48"/>
                      </a:lnTo>
                      <a:lnTo>
                        <a:pt x="148" y="50"/>
                      </a:lnTo>
                      <a:lnTo>
                        <a:pt x="147" y="52"/>
                      </a:lnTo>
                      <a:lnTo>
                        <a:pt x="146" y="54"/>
                      </a:lnTo>
                      <a:lnTo>
                        <a:pt x="145" y="56"/>
                      </a:lnTo>
                      <a:lnTo>
                        <a:pt x="143" y="59"/>
                      </a:lnTo>
                      <a:lnTo>
                        <a:pt x="142" y="61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52" y="44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102"/>
                <p:cNvSpPr/>
                <p:nvPr/>
              </p:nvSpPr>
              <p:spPr>
                <a:xfrm>
                  <a:off x="7830720" y="3530520"/>
                  <a:ext cx="65160" cy="31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0" h="56">
                      <a:moveTo>
                        <a:pt x="50" y="0"/>
                      </a:moveTo>
                      <a:lnTo>
                        <a:pt x="46" y="7"/>
                      </a:lnTo>
                      <a:lnTo>
                        <a:pt x="41" y="14"/>
                      </a:lnTo>
                      <a:lnTo>
                        <a:pt x="37" y="21"/>
                      </a:lnTo>
                      <a:lnTo>
                        <a:pt x="33" y="27"/>
                      </a:lnTo>
                      <a:lnTo>
                        <a:pt x="28" y="34"/>
                      </a:lnTo>
                      <a:lnTo>
                        <a:pt x="24" y="41"/>
                      </a:lnTo>
                      <a:lnTo>
                        <a:pt x="20" y="48"/>
                      </a:lnTo>
                      <a:lnTo>
                        <a:pt x="15" y="56"/>
                      </a:lnTo>
                      <a:lnTo>
                        <a:pt x="0" y="48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03"/>
                <p:cNvSpPr/>
                <p:nvPr/>
              </p:nvSpPr>
              <p:spPr>
                <a:xfrm>
                  <a:off x="7743960" y="3557160"/>
                  <a:ext cx="104760" cy="43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81" h="77">
                      <a:moveTo>
                        <a:pt x="81" y="8"/>
                      </a:moveTo>
                      <a:lnTo>
                        <a:pt x="75" y="16"/>
                      </a:lnTo>
                      <a:lnTo>
                        <a:pt x="69" y="24"/>
                      </a:lnTo>
                      <a:lnTo>
                        <a:pt x="63" y="34"/>
                      </a:lnTo>
                      <a:lnTo>
                        <a:pt x="56" y="42"/>
                      </a:lnTo>
                      <a:lnTo>
                        <a:pt x="49" y="51"/>
                      </a:lnTo>
                      <a:lnTo>
                        <a:pt x="42" y="59"/>
                      </a:lnTo>
                      <a:lnTo>
                        <a:pt x="36" y="69"/>
                      </a:lnTo>
                      <a:lnTo>
                        <a:pt x="29" y="77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81" y="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04"/>
                <p:cNvSpPr/>
                <p:nvPr/>
              </p:nvSpPr>
              <p:spPr>
                <a:xfrm>
                  <a:off x="7658280" y="3592440"/>
                  <a:ext cx="122400" cy="45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3" h="80">
                      <a:moveTo>
                        <a:pt x="93" y="13"/>
                      </a:moveTo>
                      <a:lnTo>
                        <a:pt x="86" y="21"/>
                      </a:lnTo>
                      <a:lnTo>
                        <a:pt x="78" y="29"/>
                      </a:lnTo>
                      <a:lnTo>
                        <a:pt x="71" y="38"/>
                      </a:lnTo>
                      <a:lnTo>
                        <a:pt x="64" y="46"/>
                      </a:lnTo>
                      <a:lnTo>
                        <a:pt x="56" y="55"/>
                      </a:lnTo>
                      <a:lnTo>
                        <a:pt x="49" y="63"/>
                      </a:lnTo>
                      <a:lnTo>
                        <a:pt x="41" y="71"/>
                      </a:lnTo>
                      <a:lnTo>
                        <a:pt x="33" y="80"/>
                      </a:ln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93" y="1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105"/>
                <p:cNvSpPr/>
                <p:nvPr/>
              </p:nvSpPr>
              <p:spPr>
                <a:xfrm>
                  <a:off x="7571520" y="3627360"/>
                  <a:ext cx="130680" cy="450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9" h="80">
                      <a:moveTo>
                        <a:pt x="99" y="18"/>
                      </a:moveTo>
                      <a:lnTo>
                        <a:pt x="91" y="26"/>
                      </a:lnTo>
                      <a:lnTo>
                        <a:pt x="83" y="32"/>
                      </a:lnTo>
                      <a:lnTo>
                        <a:pt x="75" y="41"/>
                      </a:lnTo>
                      <a:lnTo>
                        <a:pt x="67" y="49"/>
                      </a:lnTo>
                      <a:lnTo>
                        <a:pt x="59" y="57"/>
                      </a:lnTo>
                      <a:lnTo>
                        <a:pt x="49" y="64"/>
                      </a:lnTo>
                      <a:lnTo>
                        <a:pt x="41" y="72"/>
                      </a:lnTo>
                      <a:lnTo>
                        <a:pt x="32" y="80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9" y="1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106"/>
                <p:cNvSpPr/>
                <p:nvPr/>
              </p:nvSpPr>
              <p:spPr>
                <a:xfrm>
                  <a:off x="7488000" y="3662640"/>
                  <a:ext cx="127800" cy="414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7" h="74">
                      <a:moveTo>
                        <a:pt x="97" y="16"/>
                      </a:moveTo>
                      <a:lnTo>
                        <a:pt x="89" y="23"/>
                      </a:lnTo>
                      <a:lnTo>
                        <a:pt x="80" y="31"/>
                      </a:lnTo>
                      <a:lnTo>
                        <a:pt x="70" y="38"/>
                      </a:lnTo>
                      <a:lnTo>
                        <a:pt x="61" y="46"/>
                      </a:lnTo>
                      <a:lnTo>
                        <a:pt x="52" y="53"/>
                      </a:lnTo>
                      <a:lnTo>
                        <a:pt x="43" y="59"/>
                      </a:lnTo>
                      <a:lnTo>
                        <a:pt x="32" y="68"/>
                      </a:lnTo>
                      <a:lnTo>
                        <a:pt x="23" y="74"/>
                      </a:lnTo>
                      <a:lnTo>
                        <a:pt x="0" y="63"/>
                      </a:lnTo>
                      <a:lnTo>
                        <a:pt x="65" y="0"/>
                      </a:lnTo>
                      <a:lnTo>
                        <a:pt x="97" y="16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107"/>
                <p:cNvSpPr/>
                <p:nvPr/>
              </p:nvSpPr>
              <p:spPr>
                <a:xfrm>
                  <a:off x="7401600" y="3697920"/>
                  <a:ext cx="115560" cy="3672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89" h="66">
                      <a:moveTo>
                        <a:pt x="89" y="11"/>
                      </a:moveTo>
                      <a:lnTo>
                        <a:pt x="78" y="18"/>
                      </a:lnTo>
                      <a:lnTo>
                        <a:pt x="69" y="25"/>
                      </a:lnTo>
                      <a:lnTo>
                        <a:pt x="59" y="32"/>
                      </a:lnTo>
                      <a:lnTo>
                        <a:pt x="48" y="38"/>
                      </a:lnTo>
                      <a:lnTo>
                        <a:pt x="38" y="45"/>
                      </a:lnTo>
                      <a:lnTo>
                        <a:pt x="28" y="52"/>
                      </a:lnTo>
                      <a:lnTo>
                        <a:pt x="17" y="59"/>
                      </a:lnTo>
                      <a:lnTo>
                        <a:pt x="6" y="66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89" y="11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Freeform 108"/>
                <p:cNvSpPr/>
                <p:nvPr/>
              </p:nvSpPr>
              <p:spPr>
                <a:xfrm>
                  <a:off x="7111800" y="3707640"/>
                  <a:ext cx="298080" cy="817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29" h="145">
                      <a:moveTo>
                        <a:pt x="229" y="48"/>
                      </a:moveTo>
                      <a:lnTo>
                        <a:pt x="226" y="50"/>
                      </a:lnTo>
                      <a:lnTo>
                        <a:pt x="223" y="52"/>
                      </a:lnTo>
                      <a:lnTo>
                        <a:pt x="220" y="53"/>
                      </a:lnTo>
                      <a:lnTo>
                        <a:pt x="217" y="54"/>
                      </a:lnTo>
                      <a:lnTo>
                        <a:pt x="215" y="57"/>
                      </a:lnTo>
                      <a:lnTo>
                        <a:pt x="211" y="58"/>
                      </a:lnTo>
                      <a:lnTo>
                        <a:pt x="209" y="60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131" y="0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25" y="105"/>
                      </a:lnTo>
                      <a:lnTo>
                        <a:pt x="114" y="110"/>
                      </a:lnTo>
                      <a:lnTo>
                        <a:pt x="101" y="117"/>
                      </a:lnTo>
                      <a:lnTo>
                        <a:pt x="90" y="122"/>
                      </a:lnTo>
                      <a:lnTo>
                        <a:pt x="77" y="128"/>
                      </a:lnTo>
                      <a:lnTo>
                        <a:pt x="64" y="134"/>
                      </a:lnTo>
                      <a:lnTo>
                        <a:pt x="51" y="140"/>
                      </a:lnTo>
                      <a:lnTo>
                        <a:pt x="39" y="145"/>
                      </a:lnTo>
                      <a:lnTo>
                        <a:pt x="0" y="126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46" y="94"/>
                      </a:lnTo>
                      <a:lnTo>
                        <a:pt x="156" y="90"/>
                      </a:lnTo>
                      <a:lnTo>
                        <a:pt x="164" y="86"/>
                      </a:lnTo>
                      <a:lnTo>
                        <a:pt x="172" y="80"/>
                      </a:lnTo>
                      <a:lnTo>
                        <a:pt x="181" y="76"/>
                      </a:lnTo>
                      <a:lnTo>
                        <a:pt x="189" y="71"/>
                      </a:lnTo>
                      <a:lnTo>
                        <a:pt x="197" y="67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229" y="4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Freeform 109"/>
                <p:cNvSpPr/>
                <p:nvPr/>
              </p:nvSpPr>
              <p:spPr>
                <a:xfrm>
                  <a:off x="6818760" y="3754440"/>
                  <a:ext cx="342360" cy="788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262" h="143">
                      <a:moveTo>
                        <a:pt x="262" y="63"/>
                      </a:moveTo>
                      <a:lnTo>
                        <a:pt x="250" y="69"/>
                      </a:lnTo>
                      <a:lnTo>
                        <a:pt x="237" y="73"/>
                      </a:lnTo>
                      <a:lnTo>
                        <a:pt x="226" y="78"/>
                      </a:lnTo>
                      <a:lnTo>
                        <a:pt x="214" y="82"/>
                      </a:lnTo>
                      <a:lnTo>
                        <a:pt x="201" y="88"/>
                      </a:lnTo>
                      <a:lnTo>
                        <a:pt x="189" y="92"/>
                      </a:lnTo>
                      <a:lnTo>
                        <a:pt x="176" y="97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131" y="0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43" y="109"/>
                      </a:lnTo>
                      <a:lnTo>
                        <a:pt x="133" y="112"/>
                      </a:lnTo>
                      <a:lnTo>
                        <a:pt x="123" y="116"/>
                      </a:lnTo>
                      <a:lnTo>
                        <a:pt x="112" y="119"/>
                      </a:lnTo>
                      <a:lnTo>
                        <a:pt x="102" y="123"/>
                      </a:lnTo>
                      <a:lnTo>
                        <a:pt x="91" y="126"/>
                      </a:lnTo>
                      <a:lnTo>
                        <a:pt x="81" y="130"/>
                      </a:lnTo>
                      <a:lnTo>
                        <a:pt x="71" y="132"/>
                      </a:lnTo>
                      <a:lnTo>
                        <a:pt x="66" y="134"/>
                      </a:lnTo>
                      <a:lnTo>
                        <a:pt x="62" y="135"/>
                      </a:lnTo>
                      <a:lnTo>
                        <a:pt x="58" y="137"/>
                      </a:lnTo>
                      <a:lnTo>
                        <a:pt x="53" y="138"/>
                      </a:lnTo>
                      <a:lnTo>
                        <a:pt x="49" y="139"/>
                      </a:lnTo>
                      <a:lnTo>
                        <a:pt x="45" y="141"/>
                      </a:lnTo>
                      <a:lnTo>
                        <a:pt x="40" y="142"/>
                      </a:lnTo>
                      <a:lnTo>
                        <a:pt x="36" y="143"/>
                      </a:lnTo>
                      <a:lnTo>
                        <a:pt x="0" y="126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54" y="105"/>
                      </a:lnTo>
                      <a:lnTo>
                        <a:pt x="156" y="104"/>
                      </a:lnTo>
                      <a:lnTo>
                        <a:pt x="157" y="104"/>
                      </a:lnTo>
                      <a:lnTo>
                        <a:pt x="159" y="104"/>
                      </a:lnTo>
                      <a:lnTo>
                        <a:pt x="160" y="103"/>
                      </a:lnTo>
                      <a:lnTo>
                        <a:pt x="161" y="103"/>
                      </a:lnTo>
                      <a:lnTo>
                        <a:pt x="162" y="103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262" y="6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10"/>
                <p:cNvSpPr/>
                <p:nvPr/>
              </p:nvSpPr>
              <p:spPr>
                <a:xfrm>
                  <a:off x="5457240" y="3704400"/>
                  <a:ext cx="1408680" cy="160560"/>
                </a:xfrm>
                <a:custGeom>
                  <a:avLst/>
                  <a:gdLst>
                    <a:gd name="textAreaLeft" fmla="*/ 0 w 1408680"/>
                    <a:gd name="textAreaRight" fmla="*/ 1409040 w 14086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077" h="288">
                      <a:moveTo>
                        <a:pt x="1077" y="233"/>
                      </a:moveTo>
                      <a:lnTo>
                        <a:pt x="1068" y="236"/>
                      </a:lnTo>
                      <a:lnTo>
                        <a:pt x="1058" y="239"/>
                      </a:lnTo>
                      <a:lnTo>
                        <a:pt x="1049" y="241"/>
                      </a:lnTo>
                      <a:lnTo>
                        <a:pt x="1040" y="244"/>
                      </a:lnTo>
                      <a:lnTo>
                        <a:pt x="1030" y="247"/>
                      </a:lnTo>
                      <a:lnTo>
                        <a:pt x="1021" y="248"/>
                      </a:lnTo>
                      <a:lnTo>
                        <a:pt x="1012" y="251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949" y="171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33" y="267"/>
                      </a:lnTo>
                      <a:lnTo>
                        <a:pt x="918" y="270"/>
                      </a:lnTo>
                      <a:lnTo>
                        <a:pt x="904" y="273"/>
                      </a:lnTo>
                      <a:lnTo>
                        <a:pt x="890" y="274"/>
                      </a:lnTo>
                      <a:lnTo>
                        <a:pt x="876" y="277"/>
                      </a:lnTo>
                      <a:lnTo>
                        <a:pt x="863" y="278"/>
                      </a:lnTo>
                      <a:lnTo>
                        <a:pt x="849" y="279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792" y="189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80" y="286"/>
                      </a:lnTo>
                      <a:lnTo>
                        <a:pt x="766" y="286"/>
                      </a:lnTo>
                      <a:lnTo>
                        <a:pt x="754" y="286"/>
                      </a:lnTo>
                      <a:lnTo>
                        <a:pt x="741" y="288"/>
                      </a:lnTo>
                      <a:lnTo>
                        <a:pt x="728" y="288"/>
                      </a:lnTo>
                      <a:lnTo>
                        <a:pt x="716" y="288"/>
                      </a:lnTo>
                      <a:lnTo>
                        <a:pt x="703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634" y="20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587" y="281"/>
                      </a:lnTo>
                      <a:lnTo>
                        <a:pt x="583" y="281"/>
                      </a:lnTo>
                      <a:lnTo>
                        <a:pt x="580" y="279"/>
                      </a:lnTo>
                      <a:lnTo>
                        <a:pt x="577" y="279"/>
                      </a:lnTo>
                      <a:lnTo>
                        <a:pt x="572" y="279"/>
                      </a:lnTo>
                      <a:lnTo>
                        <a:pt x="568" y="278"/>
                      </a:lnTo>
                      <a:lnTo>
                        <a:pt x="565" y="278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31" y="254"/>
                      </a:lnTo>
                      <a:lnTo>
                        <a:pt x="417" y="250"/>
                      </a:lnTo>
                      <a:lnTo>
                        <a:pt x="404" y="246"/>
                      </a:lnTo>
                      <a:lnTo>
                        <a:pt x="390" y="243"/>
                      </a:lnTo>
                      <a:lnTo>
                        <a:pt x="377" y="239"/>
                      </a:lnTo>
                      <a:lnTo>
                        <a:pt x="363" y="235"/>
                      </a:lnTo>
                      <a:lnTo>
                        <a:pt x="351" y="23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28" y="180"/>
                      </a:lnTo>
                      <a:lnTo>
                        <a:pt x="216" y="175"/>
                      </a:lnTo>
                      <a:lnTo>
                        <a:pt x="205" y="170"/>
                      </a:lnTo>
                      <a:lnTo>
                        <a:pt x="194" y="163"/>
                      </a:lnTo>
                      <a:lnTo>
                        <a:pt x="183" y="157"/>
                      </a:lnTo>
                      <a:lnTo>
                        <a:pt x="172" y="151"/>
                      </a:lnTo>
                      <a:lnTo>
                        <a:pt x="161" y="145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60" y="75"/>
                      </a:lnTo>
                      <a:lnTo>
                        <a:pt x="51" y="66"/>
                      </a:lnTo>
                      <a:lnTo>
                        <a:pt x="40" y="58"/>
                      </a:lnTo>
                      <a:lnTo>
                        <a:pt x="32" y="50"/>
                      </a:lnTo>
                      <a:lnTo>
                        <a:pt x="23" y="42"/>
                      </a:lnTo>
                      <a:lnTo>
                        <a:pt x="15" y="3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80" y="90"/>
                      </a:lnTo>
                      <a:lnTo>
                        <a:pt x="89" y="98"/>
                      </a:lnTo>
                      <a:lnTo>
                        <a:pt x="98" y="104"/>
                      </a:lnTo>
                      <a:lnTo>
                        <a:pt x="109" y="111"/>
                      </a:lnTo>
                      <a:lnTo>
                        <a:pt x="119" y="118"/>
                      </a:lnTo>
                      <a:lnTo>
                        <a:pt x="130" y="125"/>
                      </a:lnTo>
                      <a:lnTo>
                        <a:pt x="140" y="132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52" y="191"/>
                      </a:lnTo>
                      <a:lnTo>
                        <a:pt x="264" y="197"/>
                      </a:lnTo>
                      <a:lnTo>
                        <a:pt x="275" y="202"/>
                      </a:lnTo>
                      <a:lnTo>
                        <a:pt x="288" y="206"/>
                      </a:lnTo>
                      <a:lnTo>
                        <a:pt x="300" y="212"/>
                      </a:lnTo>
                      <a:lnTo>
                        <a:pt x="313" y="217"/>
                      </a:lnTo>
                      <a:lnTo>
                        <a:pt x="325" y="22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58" y="260"/>
                      </a:lnTo>
                      <a:lnTo>
                        <a:pt x="473" y="263"/>
                      </a:lnTo>
                      <a:lnTo>
                        <a:pt x="487" y="266"/>
                      </a:lnTo>
                      <a:lnTo>
                        <a:pt x="502" y="269"/>
                      </a:lnTo>
                      <a:lnTo>
                        <a:pt x="516" y="271"/>
                      </a:lnTo>
                      <a:lnTo>
                        <a:pt x="531" y="274"/>
                      </a:lnTo>
                      <a:lnTo>
                        <a:pt x="546" y="275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603" y="282"/>
                      </a:lnTo>
                      <a:lnTo>
                        <a:pt x="615" y="284"/>
                      </a:lnTo>
                      <a:lnTo>
                        <a:pt x="627" y="285"/>
                      </a:lnTo>
                      <a:lnTo>
                        <a:pt x="640" y="285"/>
                      </a:lnTo>
                      <a:lnTo>
                        <a:pt x="652" y="286"/>
                      </a:lnTo>
                      <a:lnTo>
                        <a:pt x="665" y="286"/>
                      </a:lnTo>
                      <a:lnTo>
                        <a:pt x="677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98" y="285"/>
                      </a:lnTo>
                      <a:lnTo>
                        <a:pt x="804" y="284"/>
                      </a:lnTo>
                      <a:lnTo>
                        <a:pt x="808" y="284"/>
                      </a:lnTo>
                      <a:lnTo>
                        <a:pt x="814" y="284"/>
                      </a:lnTo>
                      <a:lnTo>
                        <a:pt x="819" y="284"/>
                      </a:lnTo>
                      <a:lnTo>
                        <a:pt x="824" y="282"/>
                      </a:lnTo>
                      <a:lnTo>
                        <a:pt x="829" y="282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54" y="263"/>
                      </a:lnTo>
                      <a:lnTo>
                        <a:pt x="961" y="262"/>
                      </a:lnTo>
                      <a:lnTo>
                        <a:pt x="968" y="260"/>
                      </a:lnTo>
                      <a:lnTo>
                        <a:pt x="975" y="259"/>
                      </a:lnTo>
                      <a:lnTo>
                        <a:pt x="982" y="258"/>
                      </a:lnTo>
                      <a:lnTo>
                        <a:pt x="989" y="256"/>
                      </a:lnTo>
                      <a:lnTo>
                        <a:pt x="996" y="255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1077" y="23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111"/>
                <p:cNvSpPr/>
                <p:nvPr/>
              </p:nvSpPr>
              <p:spPr>
                <a:xfrm>
                  <a:off x="5433840" y="3328200"/>
                  <a:ext cx="901440" cy="384480"/>
                </a:xfrm>
                <a:custGeom>
                  <a:avLst/>
                  <a:gdLst>
                    <a:gd name="textAreaLeft" fmla="*/ 0 w 901440"/>
                    <a:gd name="textAreaRight" fmla="*/ 901800 w 90144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691" h="689">
                      <a:moveTo>
                        <a:pt x="20" y="689"/>
                      </a:moveTo>
                      <a:lnTo>
                        <a:pt x="18" y="687"/>
                      </a:lnTo>
                      <a:lnTo>
                        <a:pt x="15" y="684"/>
                      </a:lnTo>
                      <a:lnTo>
                        <a:pt x="13" y="681"/>
                      </a:lnTo>
                      <a:lnTo>
                        <a:pt x="9" y="677"/>
                      </a:lnTo>
                      <a:lnTo>
                        <a:pt x="7" y="674"/>
                      </a:lnTo>
                      <a:lnTo>
                        <a:pt x="5" y="672"/>
                      </a:lnTo>
                      <a:lnTo>
                        <a:pt x="2" y="669"/>
                      </a:lnTo>
                      <a:lnTo>
                        <a:pt x="0" y="665"/>
                      </a:lnTo>
                      <a:lnTo>
                        <a:pt x="1" y="665"/>
                      </a:lnTo>
                      <a:lnTo>
                        <a:pt x="1" y="663"/>
                      </a:lnTo>
                      <a:lnTo>
                        <a:pt x="1" y="662"/>
                      </a:lnTo>
                      <a:lnTo>
                        <a:pt x="1" y="661"/>
                      </a:lnTo>
                      <a:lnTo>
                        <a:pt x="1" y="659"/>
                      </a:lnTo>
                      <a:lnTo>
                        <a:pt x="2" y="659"/>
                      </a:lnTo>
                      <a:lnTo>
                        <a:pt x="2" y="658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35" y="568"/>
                      </a:lnTo>
                      <a:lnTo>
                        <a:pt x="38" y="562"/>
                      </a:lnTo>
                      <a:lnTo>
                        <a:pt x="42" y="555"/>
                      </a:lnTo>
                      <a:lnTo>
                        <a:pt x="45" y="547"/>
                      </a:lnTo>
                      <a:lnTo>
                        <a:pt x="49" y="540"/>
                      </a:lnTo>
                      <a:lnTo>
                        <a:pt x="52" y="533"/>
                      </a:lnTo>
                      <a:lnTo>
                        <a:pt x="56" y="525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75" y="490"/>
                      </a:lnTo>
                      <a:lnTo>
                        <a:pt x="80" y="482"/>
                      </a:lnTo>
                      <a:lnTo>
                        <a:pt x="86" y="472"/>
                      </a:lnTo>
                      <a:lnTo>
                        <a:pt x="92" y="463"/>
                      </a:lnTo>
                      <a:lnTo>
                        <a:pt x="97" y="455"/>
                      </a:lnTo>
                      <a:lnTo>
                        <a:pt x="103" y="445"/>
                      </a:lnTo>
                      <a:lnTo>
                        <a:pt x="109" y="436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73" y="347"/>
                      </a:lnTo>
                      <a:lnTo>
                        <a:pt x="180" y="339"/>
                      </a:lnTo>
                      <a:lnTo>
                        <a:pt x="187" y="331"/>
                      </a:lnTo>
                      <a:lnTo>
                        <a:pt x="194" y="322"/>
                      </a:lnTo>
                      <a:lnTo>
                        <a:pt x="201" y="313"/>
                      </a:lnTo>
                      <a:lnTo>
                        <a:pt x="209" y="305"/>
                      </a:lnTo>
                      <a:lnTo>
                        <a:pt x="216" y="297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94" y="216"/>
                      </a:lnTo>
                      <a:lnTo>
                        <a:pt x="302" y="208"/>
                      </a:lnTo>
                      <a:lnTo>
                        <a:pt x="311" y="201"/>
                      </a:lnTo>
                      <a:lnTo>
                        <a:pt x="319" y="193"/>
                      </a:lnTo>
                      <a:lnTo>
                        <a:pt x="328" y="185"/>
                      </a:lnTo>
                      <a:lnTo>
                        <a:pt x="336" y="178"/>
                      </a:lnTo>
                      <a:lnTo>
                        <a:pt x="345" y="170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39" y="96"/>
                      </a:lnTo>
                      <a:lnTo>
                        <a:pt x="449" y="90"/>
                      </a:lnTo>
                      <a:lnTo>
                        <a:pt x="460" y="83"/>
                      </a:lnTo>
                      <a:lnTo>
                        <a:pt x="470" y="76"/>
                      </a:lnTo>
                      <a:lnTo>
                        <a:pt x="481" y="69"/>
                      </a:lnTo>
                      <a:lnTo>
                        <a:pt x="491" y="62"/>
                      </a:lnTo>
                      <a:lnTo>
                        <a:pt x="502" y="56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87" y="11"/>
                      </a:lnTo>
                      <a:lnTo>
                        <a:pt x="590" y="9"/>
                      </a:lnTo>
                      <a:lnTo>
                        <a:pt x="593" y="7"/>
                      </a:lnTo>
                      <a:lnTo>
                        <a:pt x="595" y="5"/>
                      </a:lnTo>
                      <a:lnTo>
                        <a:pt x="599" y="4"/>
                      </a:lnTo>
                      <a:lnTo>
                        <a:pt x="602" y="3"/>
                      </a:lnTo>
                      <a:lnTo>
                        <a:pt x="605" y="1"/>
                      </a:lnTo>
                      <a:lnTo>
                        <a:pt x="608" y="0"/>
                      </a:lnTo>
                      <a:lnTo>
                        <a:pt x="691" y="41"/>
                      </a:lnTo>
                      <a:lnTo>
                        <a:pt x="627" y="104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76" y="16"/>
                      </a:lnTo>
                      <a:lnTo>
                        <a:pt x="568" y="19"/>
                      </a:lnTo>
                      <a:lnTo>
                        <a:pt x="559" y="23"/>
                      </a:lnTo>
                      <a:lnTo>
                        <a:pt x="551" y="27"/>
                      </a:lnTo>
                      <a:lnTo>
                        <a:pt x="543" y="31"/>
                      </a:lnTo>
                      <a:lnTo>
                        <a:pt x="535" y="35"/>
                      </a:lnTo>
                      <a:lnTo>
                        <a:pt x="527" y="39"/>
                      </a:lnTo>
                      <a:lnTo>
                        <a:pt x="520" y="43"/>
                      </a:lnTo>
                      <a:lnTo>
                        <a:pt x="519" y="45"/>
                      </a:lnTo>
                      <a:lnTo>
                        <a:pt x="518" y="45"/>
                      </a:lnTo>
                      <a:lnTo>
                        <a:pt x="517" y="46"/>
                      </a:lnTo>
                      <a:lnTo>
                        <a:pt x="515" y="46"/>
                      </a:lnTo>
                      <a:lnTo>
                        <a:pt x="514" y="47"/>
                      </a:lnTo>
                      <a:lnTo>
                        <a:pt x="513" y="47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19" y="111"/>
                      </a:lnTo>
                      <a:lnTo>
                        <a:pt x="410" y="118"/>
                      </a:lnTo>
                      <a:lnTo>
                        <a:pt x="401" y="125"/>
                      </a:lnTo>
                      <a:lnTo>
                        <a:pt x="392" y="133"/>
                      </a:lnTo>
                      <a:lnTo>
                        <a:pt x="381" y="140"/>
                      </a:lnTo>
                      <a:lnTo>
                        <a:pt x="373" y="147"/>
                      </a:lnTo>
                      <a:lnTo>
                        <a:pt x="364" y="155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78" y="232"/>
                      </a:lnTo>
                      <a:lnTo>
                        <a:pt x="269" y="240"/>
                      </a:lnTo>
                      <a:lnTo>
                        <a:pt x="262" y="248"/>
                      </a:lnTo>
                      <a:lnTo>
                        <a:pt x="254" y="256"/>
                      </a:lnTo>
                      <a:lnTo>
                        <a:pt x="246" y="265"/>
                      </a:lnTo>
                      <a:lnTo>
                        <a:pt x="238" y="271"/>
                      </a:lnTo>
                      <a:lnTo>
                        <a:pt x="231" y="279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60" y="365"/>
                      </a:lnTo>
                      <a:lnTo>
                        <a:pt x="153" y="373"/>
                      </a:lnTo>
                      <a:lnTo>
                        <a:pt x="146" y="383"/>
                      </a:lnTo>
                      <a:lnTo>
                        <a:pt x="140" y="391"/>
                      </a:lnTo>
                      <a:lnTo>
                        <a:pt x="133" y="400"/>
                      </a:lnTo>
                      <a:lnTo>
                        <a:pt x="128" y="408"/>
                      </a:lnTo>
                      <a:lnTo>
                        <a:pt x="122" y="418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68" y="502"/>
                      </a:lnTo>
                      <a:lnTo>
                        <a:pt x="67" y="503"/>
                      </a:lnTo>
                      <a:lnTo>
                        <a:pt x="66" y="506"/>
                      </a:lnTo>
                      <a:lnTo>
                        <a:pt x="65" y="509"/>
                      </a:lnTo>
                      <a:lnTo>
                        <a:pt x="64" y="510"/>
                      </a:lnTo>
                      <a:lnTo>
                        <a:pt x="63" y="513"/>
                      </a:lnTo>
                      <a:lnTo>
                        <a:pt x="62" y="516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168" y="547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27" y="587"/>
                      </a:lnTo>
                      <a:lnTo>
                        <a:pt x="22" y="598"/>
                      </a:lnTo>
                      <a:lnTo>
                        <a:pt x="18" y="609"/>
                      </a:lnTo>
                      <a:lnTo>
                        <a:pt x="14" y="620"/>
                      </a:lnTo>
                      <a:lnTo>
                        <a:pt x="11" y="630"/>
                      </a:lnTo>
                      <a:lnTo>
                        <a:pt x="7" y="639"/>
                      </a:lnTo>
                      <a:lnTo>
                        <a:pt x="5" y="649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20" y="68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Freeform 112"/>
                <p:cNvSpPr/>
                <p:nvPr/>
              </p:nvSpPr>
              <p:spPr>
                <a:xfrm>
                  <a:off x="6711480" y="3242880"/>
                  <a:ext cx="603720" cy="53280"/>
                </a:xfrm>
                <a:custGeom>
                  <a:avLst/>
                  <a:gdLst>
                    <a:gd name="textAreaLeft" fmla="*/ 0 w 603720"/>
                    <a:gd name="textAreaRight" fmla="*/ 604080 w 603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461" h="95">
                      <a:moveTo>
                        <a:pt x="21" y="29"/>
                      </a:moveTo>
                      <a:lnTo>
                        <a:pt x="33" y="28"/>
                      </a:lnTo>
                      <a:lnTo>
                        <a:pt x="46" y="25"/>
                      </a:lnTo>
                      <a:lnTo>
                        <a:pt x="58" y="23"/>
                      </a:lnTo>
                      <a:lnTo>
                        <a:pt x="70" y="21"/>
                      </a:lnTo>
                      <a:lnTo>
                        <a:pt x="83" y="19"/>
                      </a:lnTo>
                      <a:lnTo>
                        <a:pt x="96" y="17"/>
                      </a:lnTo>
                      <a:lnTo>
                        <a:pt x="109" y="15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97" y="5"/>
                      </a:lnTo>
                      <a:lnTo>
                        <a:pt x="209" y="4"/>
                      </a:lnTo>
                      <a:lnTo>
                        <a:pt x="223" y="4"/>
                      </a:lnTo>
                      <a:lnTo>
                        <a:pt x="236" y="2"/>
                      </a:lnTo>
                      <a:lnTo>
                        <a:pt x="249" y="1"/>
                      </a:lnTo>
                      <a:lnTo>
                        <a:pt x="263" y="1"/>
                      </a:lnTo>
                      <a:lnTo>
                        <a:pt x="275" y="1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46" y="0"/>
                      </a:lnTo>
                      <a:lnTo>
                        <a:pt x="362" y="0"/>
                      </a:lnTo>
                      <a:lnTo>
                        <a:pt x="380" y="1"/>
                      </a:lnTo>
                      <a:lnTo>
                        <a:pt x="396" y="1"/>
                      </a:lnTo>
                      <a:lnTo>
                        <a:pt x="412" y="2"/>
                      </a:lnTo>
                      <a:lnTo>
                        <a:pt x="428" y="4"/>
                      </a:lnTo>
                      <a:lnTo>
                        <a:pt x="445" y="5"/>
                      </a:lnTo>
                      <a:lnTo>
                        <a:pt x="461" y="6"/>
                      </a:lnTo>
                      <a:lnTo>
                        <a:pt x="406" y="58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24" y="0"/>
                      </a:lnTo>
                      <a:lnTo>
                        <a:pt x="318" y="0"/>
                      </a:lnTo>
                      <a:lnTo>
                        <a:pt x="314" y="0"/>
                      </a:lnTo>
                      <a:lnTo>
                        <a:pt x="309" y="0"/>
                      </a:lnTo>
                      <a:lnTo>
                        <a:pt x="303" y="0"/>
                      </a:lnTo>
                      <a:lnTo>
                        <a:pt x="299" y="0"/>
                      </a:lnTo>
                      <a:lnTo>
                        <a:pt x="293" y="0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249" y="77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76" y="8"/>
                      </a:lnTo>
                      <a:lnTo>
                        <a:pt x="168" y="8"/>
                      </a:lnTo>
                      <a:lnTo>
                        <a:pt x="160" y="9"/>
                      </a:lnTo>
                      <a:lnTo>
                        <a:pt x="153" y="9"/>
                      </a:lnTo>
                      <a:lnTo>
                        <a:pt x="145" y="11"/>
                      </a:lnTo>
                      <a:lnTo>
                        <a:pt x="136" y="12"/>
                      </a:lnTo>
                      <a:lnTo>
                        <a:pt x="128" y="12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92" y="95"/>
                      </a:lnTo>
                      <a:lnTo>
                        <a:pt x="0" y="50"/>
                      </a:lnTo>
                      <a:lnTo>
                        <a:pt x="21" y="2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Freeform 113"/>
                <p:cNvSpPr/>
                <p:nvPr/>
              </p:nvSpPr>
              <p:spPr>
                <a:xfrm>
                  <a:off x="7932600" y="3358080"/>
                  <a:ext cx="67320" cy="219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52" h="40">
                      <a:moveTo>
                        <a:pt x="16" y="0"/>
                      </a:moveTo>
                      <a:lnTo>
                        <a:pt x="21" y="4"/>
                      </a:lnTo>
                      <a:lnTo>
                        <a:pt x="27" y="9"/>
                      </a:lnTo>
                      <a:lnTo>
                        <a:pt x="31" y="14"/>
                      </a:lnTo>
                      <a:lnTo>
                        <a:pt x="35" y="20"/>
                      </a:lnTo>
                      <a:lnTo>
                        <a:pt x="39" y="25"/>
                      </a:lnTo>
                      <a:lnTo>
                        <a:pt x="44" y="29"/>
                      </a:lnTo>
                      <a:lnTo>
                        <a:pt x="49" y="35"/>
                      </a:lnTo>
                      <a:lnTo>
                        <a:pt x="52" y="40"/>
                      </a:lnTo>
                      <a:lnTo>
                        <a:pt x="0" y="14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Freeform 114"/>
                <p:cNvSpPr/>
                <p:nvPr/>
              </p:nvSpPr>
              <p:spPr>
                <a:xfrm>
                  <a:off x="6045480" y="3361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115"/>
                <p:cNvSpPr/>
                <p:nvPr/>
              </p:nvSpPr>
              <p:spPr>
                <a:xfrm>
                  <a:off x="5958720" y="3396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Freeform 116"/>
                <p:cNvSpPr/>
                <p:nvPr/>
              </p:nvSpPr>
              <p:spPr>
                <a:xfrm>
                  <a:off x="5875200" y="34315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Freeform 117"/>
                <p:cNvSpPr/>
                <p:nvPr/>
              </p:nvSpPr>
              <p:spPr>
                <a:xfrm>
                  <a:off x="5789160" y="346860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118"/>
                <p:cNvSpPr/>
                <p:nvPr/>
              </p:nvSpPr>
              <p:spPr>
                <a:xfrm>
                  <a:off x="5702760" y="350208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119"/>
                <p:cNvSpPr/>
                <p:nvPr/>
              </p:nvSpPr>
              <p:spPr>
                <a:xfrm>
                  <a:off x="5616720" y="35391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Freeform 120"/>
                <p:cNvSpPr/>
                <p:nvPr/>
              </p:nvSpPr>
              <p:spPr>
                <a:xfrm>
                  <a:off x="5533200" y="357228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121"/>
                <p:cNvSpPr/>
                <p:nvPr/>
              </p:nvSpPr>
              <p:spPr>
                <a:xfrm>
                  <a:off x="6335280" y="3316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7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122"/>
                <p:cNvSpPr/>
                <p:nvPr/>
              </p:nvSpPr>
              <p:spPr>
                <a:xfrm>
                  <a:off x="6251760" y="3351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Freeform 123"/>
                <p:cNvSpPr/>
                <p:nvPr/>
              </p:nvSpPr>
              <p:spPr>
                <a:xfrm>
                  <a:off x="6165720" y="3386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124"/>
                <p:cNvSpPr/>
                <p:nvPr/>
              </p:nvSpPr>
              <p:spPr>
                <a:xfrm>
                  <a:off x="6079320" y="34218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125"/>
                <p:cNvSpPr/>
                <p:nvPr/>
              </p:nvSpPr>
              <p:spPr>
                <a:xfrm>
                  <a:off x="5993280" y="34570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126"/>
                <p:cNvSpPr/>
                <p:nvPr/>
              </p:nvSpPr>
              <p:spPr>
                <a:xfrm>
                  <a:off x="5909760" y="349200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127"/>
                <p:cNvSpPr/>
                <p:nvPr/>
              </p:nvSpPr>
              <p:spPr>
                <a:xfrm>
                  <a:off x="5823000" y="35272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128"/>
                <p:cNvSpPr/>
                <p:nvPr/>
              </p:nvSpPr>
              <p:spPr>
                <a:xfrm>
                  <a:off x="5739480" y="35640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129"/>
                <p:cNvSpPr/>
                <p:nvPr/>
              </p:nvSpPr>
              <p:spPr>
                <a:xfrm>
                  <a:off x="5653080" y="35989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130"/>
                <p:cNvSpPr/>
                <p:nvPr/>
              </p:nvSpPr>
              <p:spPr>
                <a:xfrm>
                  <a:off x="5567040" y="36342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131"/>
                <p:cNvSpPr/>
                <p:nvPr/>
              </p:nvSpPr>
              <p:spPr>
                <a:xfrm>
                  <a:off x="5480640" y="36694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132"/>
                <p:cNvSpPr/>
                <p:nvPr/>
              </p:nvSpPr>
              <p:spPr>
                <a:xfrm>
                  <a:off x="6627960" y="3271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133"/>
                <p:cNvSpPr/>
                <p:nvPr/>
              </p:nvSpPr>
              <p:spPr>
                <a:xfrm>
                  <a:off x="6541920" y="33066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134"/>
                <p:cNvSpPr/>
                <p:nvPr/>
              </p:nvSpPr>
              <p:spPr>
                <a:xfrm>
                  <a:off x="6458400" y="33415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Freeform 135"/>
                <p:cNvSpPr/>
                <p:nvPr/>
              </p:nvSpPr>
              <p:spPr>
                <a:xfrm>
                  <a:off x="6372000" y="33768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Freeform 136"/>
                <p:cNvSpPr/>
                <p:nvPr/>
              </p:nvSpPr>
              <p:spPr>
                <a:xfrm>
                  <a:off x="6285960" y="34120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137"/>
                <p:cNvSpPr/>
                <p:nvPr/>
              </p:nvSpPr>
              <p:spPr>
                <a:xfrm>
                  <a:off x="6199560" y="344664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138"/>
                <p:cNvSpPr/>
                <p:nvPr/>
              </p:nvSpPr>
              <p:spPr>
                <a:xfrm>
                  <a:off x="6116040" y="348192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7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139"/>
                <p:cNvSpPr/>
                <p:nvPr/>
              </p:nvSpPr>
              <p:spPr>
                <a:xfrm>
                  <a:off x="6029280" y="351684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140"/>
                <p:cNvSpPr/>
                <p:nvPr/>
              </p:nvSpPr>
              <p:spPr>
                <a:xfrm>
                  <a:off x="5943240" y="355392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141"/>
                <p:cNvSpPr/>
                <p:nvPr/>
              </p:nvSpPr>
              <p:spPr>
                <a:xfrm>
                  <a:off x="5856840" y="358740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142"/>
                <p:cNvSpPr/>
                <p:nvPr/>
              </p:nvSpPr>
              <p:spPr>
                <a:xfrm>
                  <a:off x="5770800" y="362448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43"/>
                <p:cNvSpPr/>
                <p:nvPr/>
              </p:nvSpPr>
              <p:spPr>
                <a:xfrm>
                  <a:off x="5687280" y="36594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144"/>
                <p:cNvSpPr/>
                <p:nvPr/>
              </p:nvSpPr>
              <p:spPr>
                <a:xfrm>
                  <a:off x="5600880" y="36946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145"/>
                <p:cNvSpPr/>
                <p:nvPr/>
              </p:nvSpPr>
              <p:spPr>
                <a:xfrm>
                  <a:off x="6834960" y="32612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146"/>
                <p:cNvSpPr/>
                <p:nvPr/>
              </p:nvSpPr>
              <p:spPr>
                <a:xfrm>
                  <a:off x="6748200" y="32961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147"/>
                <p:cNvSpPr/>
                <p:nvPr/>
              </p:nvSpPr>
              <p:spPr>
                <a:xfrm>
                  <a:off x="6662520" y="33314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4" y="0"/>
                      </a:moveTo>
                      <a:lnTo>
                        <a:pt x="156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148"/>
                <p:cNvSpPr/>
                <p:nvPr/>
              </p:nvSpPr>
              <p:spPr>
                <a:xfrm>
                  <a:off x="6575760" y="3366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149"/>
                <p:cNvSpPr/>
                <p:nvPr/>
              </p:nvSpPr>
              <p:spPr>
                <a:xfrm>
                  <a:off x="6489720" y="3401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150"/>
                <p:cNvSpPr/>
                <p:nvPr/>
              </p:nvSpPr>
              <p:spPr>
                <a:xfrm>
                  <a:off x="6405840" y="343692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151"/>
                <p:cNvSpPr/>
                <p:nvPr/>
              </p:nvSpPr>
              <p:spPr>
                <a:xfrm>
                  <a:off x="6319800" y="3471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152"/>
                <p:cNvSpPr/>
                <p:nvPr/>
              </p:nvSpPr>
              <p:spPr>
                <a:xfrm>
                  <a:off x="6233400" y="3508560"/>
                  <a:ext cx="206640" cy="5868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153"/>
                <p:cNvSpPr/>
                <p:nvPr/>
              </p:nvSpPr>
              <p:spPr>
                <a:xfrm>
                  <a:off x="6147360" y="3542040"/>
                  <a:ext cx="205920" cy="619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154"/>
                <p:cNvSpPr/>
                <p:nvPr/>
              </p:nvSpPr>
              <p:spPr>
                <a:xfrm>
                  <a:off x="6063840" y="357876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155"/>
                <p:cNvSpPr/>
                <p:nvPr/>
              </p:nvSpPr>
              <p:spPr>
                <a:xfrm>
                  <a:off x="5977080" y="361260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156"/>
                <p:cNvSpPr/>
                <p:nvPr/>
              </p:nvSpPr>
              <p:spPr>
                <a:xfrm>
                  <a:off x="5893560" y="364932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157"/>
                <p:cNvSpPr/>
                <p:nvPr/>
              </p:nvSpPr>
              <p:spPr>
                <a:xfrm>
                  <a:off x="5807520" y="368280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Freeform 158"/>
                <p:cNvSpPr/>
                <p:nvPr/>
              </p:nvSpPr>
              <p:spPr>
                <a:xfrm>
                  <a:off x="5721120" y="3719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159"/>
                <p:cNvSpPr/>
                <p:nvPr/>
              </p:nvSpPr>
              <p:spPr>
                <a:xfrm>
                  <a:off x="7038720" y="3251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160"/>
                <p:cNvSpPr/>
                <p:nvPr/>
              </p:nvSpPr>
              <p:spPr>
                <a:xfrm>
                  <a:off x="6952320" y="3286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161"/>
                <p:cNvSpPr/>
                <p:nvPr/>
              </p:nvSpPr>
              <p:spPr>
                <a:xfrm>
                  <a:off x="6866280" y="3321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Freeform 162"/>
                <p:cNvSpPr/>
                <p:nvPr/>
              </p:nvSpPr>
              <p:spPr>
                <a:xfrm>
                  <a:off x="6782040" y="33566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Freeform 163"/>
                <p:cNvSpPr/>
                <p:nvPr/>
              </p:nvSpPr>
              <p:spPr>
                <a:xfrm>
                  <a:off x="6696000" y="3391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164"/>
                <p:cNvSpPr/>
                <p:nvPr/>
              </p:nvSpPr>
              <p:spPr>
                <a:xfrm>
                  <a:off x="6612480" y="34268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165"/>
                <p:cNvSpPr/>
                <p:nvPr/>
              </p:nvSpPr>
              <p:spPr>
                <a:xfrm>
                  <a:off x="6526080" y="34621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166"/>
                <p:cNvSpPr/>
                <p:nvPr/>
              </p:nvSpPr>
              <p:spPr>
                <a:xfrm>
                  <a:off x="6440040" y="34970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167"/>
                <p:cNvSpPr/>
                <p:nvPr/>
              </p:nvSpPr>
              <p:spPr>
                <a:xfrm>
                  <a:off x="6353640" y="3532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168"/>
                <p:cNvSpPr/>
                <p:nvPr/>
              </p:nvSpPr>
              <p:spPr>
                <a:xfrm>
                  <a:off x="6270120" y="35676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169"/>
                <p:cNvSpPr/>
                <p:nvPr/>
              </p:nvSpPr>
              <p:spPr>
                <a:xfrm>
                  <a:off x="6184080" y="36043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170"/>
                <p:cNvSpPr/>
                <p:nvPr/>
              </p:nvSpPr>
              <p:spPr>
                <a:xfrm>
                  <a:off x="6097680" y="36378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171"/>
                <p:cNvSpPr/>
                <p:nvPr/>
              </p:nvSpPr>
              <p:spPr>
                <a:xfrm>
                  <a:off x="6011640" y="3674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172"/>
                <p:cNvSpPr/>
                <p:nvPr/>
              </p:nvSpPr>
              <p:spPr>
                <a:xfrm>
                  <a:off x="5927400" y="37094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173"/>
                <p:cNvSpPr/>
                <p:nvPr/>
              </p:nvSpPr>
              <p:spPr>
                <a:xfrm>
                  <a:off x="5841360" y="37447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174"/>
                <p:cNvSpPr/>
                <p:nvPr/>
              </p:nvSpPr>
              <p:spPr>
                <a:xfrm>
                  <a:off x="7158600" y="32760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175"/>
                <p:cNvSpPr/>
                <p:nvPr/>
              </p:nvSpPr>
              <p:spPr>
                <a:xfrm>
                  <a:off x="7072560" y="33112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176"/>
                <p:cNvSpPr/>
                <p:nvPr/>
              </p:nvSpPr>
              <p:spPr>
                <a:xfrm>
                  <a:off x="6989040" y="33465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177"/>
                <p:cNvSpPr/>
                <p:nvPr/>
              </p:nvSpPr>
              <p:spPr>
                <a:xfrm>
                  <a:off x="6902280" y="33814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178"/>
                <p:cNvSpPr/>
                <p:nvPr/>
              </p:nvSpPr>
              <p:spPr>
                <a:xfrm>
                  <a:off x="6816600" y="34167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179"/>
                <p:cNvSpPr/>
                <p:nvPr/>
              </p:nvSpPr>
              <p:spPr>
                <a:xfrm>
                  <a:off x="6729840" y="34516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180"/>
                <p:cNvSpPr/>
                <p:nvPr/>
              </p:nvSpPr>
              <p:spPr>
                <a:xfrm>
                  <a:off x="6646320" y="3486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181"/>
                <p:cNvSpPr/>
                <p:nvPr/>
              </p:nvSpPr>
              <p:spPr>
                <a:xfrm>
                  <a:off x="6560280" y="35222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182"/>
                <p:cNvSpPr/>
                <p:nvPr/>
              </p:nvSpPr>
              <p:spPr>
                <a:xfrm>
                  <a:off x="6476400" y="355716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183"/>
                <p:cNvSpPr/>
                <p:nvPr/>
              </p:nvSpPr>
              <p:spPr>
                <a:xfrm>
                  <a:off x="6390360" y="35924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184"/>
                <p:cNvSpPr/>
                <p:nvPr/>
              </p:nvSpPr>
              <p:spPr>
                <a:xfrm>
                  <a:off x="6303600" y="362736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185"/>
                <p:cNvSpPr/>
                <p:nvPr/>
              </p:nvSpPr>
              <p:spPr>
                <a:xfrm>
                  <a:off x="6217920" y="366408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186"/>
                <p:cNvSpPr/>
                <p:nvPr/>
              </p:nvSpPr>
              <p:spPr>
                <a:xfrm>
                  <a:off x="6134400" y="36979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87"/>
                <p:cNvSpPr/>
                <p:nvPr/>
              </p:nvSpPr>
              <p:spPr>
                <a:xfrm>
                  <a:off x="6047640" y="37346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188"/>
                <p:cNvSpPr/>
                <p:nvPr/>
              </p:nvSpPr>
              <p:spPr>
                <a:xfrm>
                  <a:off x="5961960" y="37695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189"/>
                <p:cNvSpPr/>
                <p:nvPr/>
              </p:nvSpPr>
              <p:spPr>
                <a:xfrm>
                  <a:off x="7365240" y="32662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190"/>
                <p:cNvSpPr/>
                <p:nvPr/>
              </p:nvSpPr>
              <p:spPr>
                <a:xfrm>
                  <a:off x="7278840" y="33012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91"/>
                <p:cNvSpPr/>
                <p:nvPr/>
              </p:nvSpPr>
              <p:spPr>
                <a:xfrm>
                  <a:off x="7195320" y="33364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92"/>
                <p:cNvSpPr/>
                <p:nvPr/>
              </p:nvSpPr>
              <p:spPr>
                <a:xfrm>
                  <a:off x="7109280" y="33717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93"/>
                <p:cNvSpPr/>
                <p:nvPr/>
              </p:nvSpPr>
              <p:spPr>
                <a:xfrm>
                  <a:off x="7022880" y="34066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94"/>
                <p:cNvSpPr/>
                <p:nvPr/>
              </p:nvSpPr>
              <p:spPr>
                <a:xfrm>
                  <a:off x="6936840" y="3441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195"/>
                <p:cNvSpPr/>
                <p:nvPr/>
              </p:nvSpPr>
              <p:spPr>
                <a:xfrm>
                  <a:off x="6852600" y="34768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196"/>
                <p:cNvSpPr/>
                <p:nvPr/>
              </p:nvSpPr>
              <p:spPr>
                <a:xfrm>
                  <a:off x="6766560" y="35121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197"/>
                <p:cNvSpPr/>
                <p:nvPr/>
              </p:nvSpPr>
              <p:spPr>
                <a:xfrm>
                  <a:off x="6680160" y="354744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198"/>
                <p:cNvSpPr/>
                <p:nvPr/>
              </p:nvSpPr>
              <p:spPr>
                <a:xfrm>
                  <a:off x="6594120" y="3582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199"/>
                <p:cNvSpPr/>
                <p:nvPr/>
              </p:nvSpPr>
              <p:spPr>
                <a:xfrm>
                  <a:off x="6510600" y="361908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200"/>
                <p:cNvSpPr/>
                <p:nvPr/>
              </p:nvSpPr>
              <p:spPr>
                <a:xfrm>
                  <a:off x="6424200" y="36529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201"/>
                <p:cNvSpPr/>
                <p:nvPr/>
              </p:nvSpPr>
              <p:spPr>
                <a:xfrm>
                  <a:off x="6338160" y="36896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202"/>
                <p:cNvSpPr/>
                <p:nvPr/>
              </p:nvSpPr>
              <p:spPr>
                <a:xfrm>
                  <a:off x="6251760" y="37231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203"/>
                <p:cNvSpPr/>
                <p:nvPr/>
              </p:nvSpPr>
              <p:spPr>
                <a:xfrm>
                  <a:off x="6167880" y="37598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204"/>
                <p:cNvSpPr/>
                <p:nvPr/>
              </p:nvSpPr>
              <p:spPr>
                <a:xfrm>
                  <a:off x="6082200" y="37947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205"/>
                <p:cNvSpPr/>
                <p:nvPr/>
              </p:nvSpPr>
              <p:spPr>
                <a:xfrm>
                  <a:off x="7485480" y="32911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206"/>
                <p:cNvSpPr/>
                <p:nvPr/>
              </p:nvSpPr>
              <p:spPr>
                <a:xfrm>
                  <a:off x="7399080" y="3326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207"/>
                <p:cNvSpPr/>
                <p:nvPr/>
              </p:nvSpPr>
              <p:spPr>
                <a:xfrm>
                  <a:off x="7313040" y="3361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208"/>
                <p:cNvSpPr/>
                <p:nvPr/>
              </p:nvSpPr>
              <p:spPr>
                <a:xfrm>
                  <a:off x="7229160" y="3396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209"/>
                <p:cNvSpPr/>
                <p:nvPr/>
              </p:nvSpPr>
              <p:spPr>
                <a:xfrm>
                  <a:off x="7143120" y="3431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210"/>
                <p:cNvSpPr/>
                <p:nvPr/>
              </p:nvSpPr>
              <p:spPr>
                <a:xfrm>
                  <a:off x="7056360" y="34668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Freeform 211"/>
                <p:cNvSpPr/>
                <p:nvPr/>
              </p:nvSpPr>
              <p:spPr>
                <a:xfrm>
                  <a:off x="6970680" y="35020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Freeform 212"/>
                <p:cNvSpPr/>
                <p:nvPr/>
              </p:nvSpPr>
              <p:spPr>
                <a:xfrm>
                  <a:off x="6887160" y="35370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Freeform 213"/>
                <p:cNvSpPr/>
                <p:nvPr/>
              </p:nvSpPr>
              <p:spPr>
                <a:xfrm>
                  <a:off x="6800400" y="35722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214"/>
                <p:cNvSpPr/>
                <p:nvPr/>
              </p:nvSpPr>
              <p:spPr>
                <a:xfrm>
                  <a:off x="6716880" y="36072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215"/>
                <p:cNvSpPr/>
                <p:nvPr/>
              </p:nvSpPr>
              <p:spPr>
                <a:xfrm>
                  <a:off x="6630840" y="364248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216"/>
                <p:cNvSpPr/>
                <p:nvPr/>
              </p:nvSpPr>
              <p:spPr>
                <a:xfrm>
                  <a:off x="6544440" y="36777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217"/>
                <p:cNvSpPr/>
                <p:nvPr/>
              </p:nvSpPr>
              <p:spPr>
                <a:xfrm>
                  <a:off x="6458400" y="37144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218"/>
                <p:cNvSpPr/>
                <p:nvPr/>
              </p:nvSpPr>
              <p:spPr>
                <a:xfrm>
                  <a:off x="6372000" y="37494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219"/>
                <p:cNvSpPr/>
                <p:nvPr/>
              </p:nvSpPr>
              <p:spPr>
                <a:xfrm>
                  <a:off x="6288480" y="37846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220"/>
                <p:cNvSpPr/>
                <p:nvPr/>
              </p:nvSpPr>
              <p:spPr>
                <a:xfrm>
                  <a:off x="7605360" y="3316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221"/>
                <p:cNvSpPr/>
                <p:nvPr/>
              </p:nvSpPr>
              <p:spPr>
                <a:xfrm>
                  <a:off x="7519320" y="33516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222"/>
                <p:cNvSpPr/>
                <p:nvPr/>
              </p:nvSpPr>
              <p:spPr>
                <a:xfrm>
                  <a:off x="7435800" y="33865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223"/>
                <p:cNvSpPr/>
                <p:nvPr/>
              </p:nvSpPr>
              <p:spPr>
                <a:xfrm>
                  <a:off x="7349400" y="34218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224"/>
                <p:cNvSpPr/>
                <p:nvPr/>
              </p:nvSpPr>
              <p:spPr>
                <a:xfrm>
                  <a:off x="7263360" y="34570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225"/>
                <p:cNvSpPr/>
                <p:nvPr/>
              </p:nvSpPr>
              <p:spPr>
                <a:xfrm>
                  <a:off x="7176960" y="34920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Group 226"/>
              <p:cNvGrpSpPr/>
              <p:nvPr/>
            </p:nvGrpSpPr>
            <p:grpSpPr>
              <a:xfrm>
                <a:off x="5263560" y="3341520"/>
                <a:ext cx="2702160" cy="526320"/>
                <a:chOff x="5263560" y="3341520"/>
                <a:chExt cx="2702160" cy="526320"/>
              </a:xfrm>
            </p:grpSpPr>
            <p:sp>
              <p:nvSpPr>
                <p:cNvPr id="1391" name="Freeform 227"/>
                <p:cNvSpPr/>
                <p:nvPr/>
              </p:nvSpPr>
              <p:spPr>
                <a:xfrm>
                  <a:off x="7093080" y="35272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228"/>
                <p:cNvSpPr/>
                <p:nvPr/>
              </p:nvSpPr>
              <p:spPr>
                <a:xfrm>
                  <a:off x="7007040" y="35618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229"/>
                <p:cNvSpPr/>
                <p:nvPr/>
              </p:nvSpPr>
              <p:spPr>
                <a:xfrm>
                  <a:off x="6920640" y="35971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230"/>
                <p:cNvSpPr/>
                <p:nvPr/>
              </p:nvSpPr>
              <p:spPr>
                <a:xfrm>
                  <a:off x="6834600" y="3632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7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231"/>
                <p:cNvSpPr/>
                <p:nvPr/>
              </p:nvSpPr>
              <p:spPr>
                <a:xfrm>
                  <a:off x="6748200" y="366732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232"/>
                <p:cNvSpPr/>
                <p:nvPr/>
              </p:nvSpPr>
              <p:spPr>
                <a:xfrm>
                  <a:off x="6664320" y="370404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233"/>
                <p:cNvSpPr/>
                <p:nvPr/>
              </p:nvSpPr>
              <p:spPr>
                <a:xfrm>
                  <a:off x="6577920" y="373752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234"/>
                <p:cNvSpPr/>
                <p:nvPr/>
              </p:nvSpPr>
              <p:spPr>
                <a:xfrm>
                  <a:off x="6491880" y="37742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235"/>
                <p:cNvSpPr/>
                <p:nvPr/>
              </p:nvSpPr>
              <p:spPr>
                <a:xfrm>
                  <a:off x="7725240" y="33415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236"/>
                <p:cNvSpPr/>
                <p:nvPr/>
              </p:nvSpPr>
              <p:spPr>
                <a:xfrm>
                  <a:off x="7639560" y="3376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237"/>
                <p:cNvSpPr/>
                <p:nvPr/>
              </p:nvSpPr>
              <p:spPr>
                <a:xfrm>
                  <a:off x="7552800" y="341172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238"/>
                <p:cNvSpPr/>
                <p:nvPr/>
              </p:nvSpPr>
              <p:spPr>
                <a:xfrm>
                  <a:off x="7467120" y="3446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239"/>
                <p:cNvSpPr/>
                <p:nvPr/>
              </p:nvSpPr>
              <p:spPr>
                <a:xfrm>
                  <a:off x="7383240" y="3481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240"/>
                <p:cNvSpPr/>
                <p:nvPr/>
              </p:nvSpPr>
              <p:spPr>
                <a:xfrm>
                  <a:off x="7296840" y="3516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241"/>
                <p:cNvSpPr/>
                <p:nvPr/>
              </p:nvSpPr>
              <p:spPr>
                <a:xfrm>
                  <a:off x="7210800" y="35521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Freeform 242"/>
                <p:cNvSpPr/>
                <p:nvPr/>
              </p:nvSpPr>
              <p:spPr>
                <a:xfrm>
                  <a:off x="7124400" y="3587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Freeform 243"/>
                <p:cNvSpPr/>
                <p:nvPr/>
              </p:nvSpPr>
              <p:spPr>
                <a:xfrm>
                  <a:off x="7040880" y="3622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Freeform 244"/>
                <p:cNvSpPr/>
                <p:nvPr/>
              </p:nvSpPr>
              <p:spPr>
                <a:xfrm>
                  <a:off x="6954480" y="3659040"/>
                  <a:ext cx="206640" cy="583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Freeform 245"/>
                <p:cNvSpPr/>
                <p:nvPr/>
              </p:nvSpPr>
              <p:spPr>
                <a:xfrm>
                  <a:off x="6870600" y="36925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Freeform 246"/>
                <p:cNvSpPr/>
                <p:nvPr/>
              </p:nvSpPr>
              <p:spPr>
                <a:xfrm>
                  <a:off x="6784920" y="37292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Freeform 247"/>
                <p:cNvSpPr/>
                <p:nvPr/>
              </p:nvSpPr>
              <p:spPr>
                <a:xfrm>
                  <a:off x="6698160" y="376308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Freeform 248"/>
                <p:cNvSpPr/>
                <p:nvPr/>
              </p:nvSpPr>
              <p:spPr>
                <a:xfrm>
                  <a:off x="7759800" y="3401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Freeform 249"/>
                <p:cNvSpPr/>
                <p:nvPr/>
              </p:nvSpPr>
              <p:spPr>
                <a:xfrm>
                  <a:off x="7673400" y="3436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250"/>
                <p:cNvSpPr/>
                <p:nvPr/>
              </p:nvSpPr>
              <p:spPr>
                <a:xfrm>
                  <a:off x="7589520" y="34718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Freeform 251"/>
                <p:cNvSpPr/>
                <p:nvPr/>
              </p:nvSpPr>
              <p:spPr>
                <a:xfrm>
                  <a:off x="7503120" y="35071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Freeform 252"/>
                <p:cNvSpPr/>
                <p:nvPr/>
              </p:nvSpPr>
              <p:spPr>
                <a:xfrm>
                  <a:off x="7417080" y="35420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Freeform 253"/>
                <p:cNvSpPr/>
                <p:nvPr/>
              </p:nvSpPr>
              <p:spPr>
                <a:xfrm>
                  <a:off x="7330680" y="3577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Freeform 254"/>
                <p:cNvSpPr/>
                <p:nvPr/>
              </p:nvSpPr>
              <p:spPr>
                <a:xfrm>
                  <a:off x="7247160" y="361260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255"/>
                <p:cNvSpPr/>
                <p:nvPr/>
              </p:nvSpPr>
              <p:spPr>
                <a:xfrm>
                  <a:off x="7161120" y="3647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Freeform 256"/>
                <p:cNvSpPr/>
                <p:nvPr/>
              </p:nvSpPr>
              <p:spPr>
                <a:xfrm>
                  <a:off x="7074720" y="368244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Freeform 257"/>
                <p:cNvSpPr/>
                <p:nvPr/>
              </p:nvSpPr>
              <p:spPr>
                <a:xfrm>
                  <a:off x="6988680" y="3717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Freeform 258"/>
                <p:cNvSpPr/>
                <p:nvPr/>
              </p:nvSpPr>
              <p:spPr>
                <a:xfrm>
                  <a:off x="7623360" y="35319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Freeform 259"/>
                <p:cNvSpPr/>
                <p:nvPr/>
              </p:nvSpPr>
              <p:spPr>
                <a:xfrm>
                  <a:off x="7537680" y="35672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Freeform 260"/>
                <p:cNvSpPr/>
                <p:nvPr/>
              </p:nvSpPr>
              <p:spPr>
                <a:xfrm>
                  <a:off x="7453800" y="36021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Freeform 261"/>
                <p:cNvSpPr/>
                <p:nvPr/>
              </p:nvSpPr>
              <p:spPr>
                <a:xfrm>
                  <a:off x="7367400" y="36374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Freeform 262"/>
                <p:cNvSpPr/>
                <p:nvPr/>
              </p:nvSpPr>
              <p:spPr>
                <a:xfrm>
                  <a:off x="7281360" y="3672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Freeform 263"/>
                <p:cNvSpPr/>
                <p:nvPr/>
              </p:nvSpPr>
              <p:spPr>
                <a:xfrm>
                  <a:off x="5349960" y="3522240"/>
                  <a:ext cx="96480" cy="1735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3" h="312">
                      <a:moveTo>
                        <a:pt x="38" y="0"/>
                      </a:moveTo>
                      <a:lnTo>
                        <a:pt x="39" y="37"/>
                      </a:lnTo>
                      <a:lnTo>
                        <a:pt x="41" y="78"/>
                      </a:lnTo>
                      <a:lnTo>
                        <a:pt x="45" y="117"/>
                      </a:lnTo>
                      <a:lnTo>
                        <a:pt x="48" y="155"/>
                      </a:lnTo>
                      <a:lnTo>
                        <a:pt x="53" y="194"/>
                      </a:lnTo>
                      <a:lnTo>
                        <a:pt x="59" y="232"/>
                      </a:lnTo>
                      <a:lnTo>
                        <a:pt x="64" y="270"/>
                      </a:lnTo>
                      <a:lnTo>
                        <a:pt x="71" y="308"/>
                      </a:lnTo>
                      <a:lnTo>
                        <a:pt x="73" y="312"/>
                      </a:lnTo>
                      <a:lnTo>
                        <a:pt x="66" y="308"/>
                      </a:lnTo>
                      <a:lnTo>
                        <a:pt x="59" y="304"/>
                      </a:lnTo>
                      <a:lnTo>
                        <a:pt x="53" y="297"/>
                      </a:lnTo>
                      <a:lnTo>
                        <a:pt x="47" y="291"/>
                      </a:lnTo>
                      <a:lnTo>
                        <a:pt x="41" y="284"/>
                      </a:lnTo>
                      <a:lnTo>
                        <a:pt x="36" y="278"/>
                      </a:lnTo>
                      <a:lnTo>
                        <a:pt x="29" y="276"/>
                      </a:lnTo>
                      <a:lnTo>
                        <a:pt x="22" y="274"/>
                      </a:lnTo>
                      <a:lnTo>
                        <a:pt x="22" y="269"/>
                      </a:lnTo>
                      <a:lnTo>
                        <a:pt x="20" y="264"/>
                      </a:lnTo>
                      <a:lnTo>
                        <a:pt x="18" y="259"/>
                      </a:lnTo>
                      <a:lnTo>
                        <a:pt x="16" y="254"/>
                      </a:lnTo>
                      <a:lnTo>
                        <a:pt x="15" y="250"/>
                      </a:lnTo>
                      <a:lnTo>
                        <a:pt x="12" y="245"/>
                      </a:lnTo>
                      <a:lnTo>
                        <a:pt x="11" y="240"/>
                      </a:lnTo>
                      <a:lnTo>
                        <a:pt x="11" y="235"/>
                      </a:lnTo>
                      <a:lnTo>
                        <a:pt x="11" y="240"/>
                      </a:lnTo>
                      <a:lnTo>
                        <a:pt x="12" y="245"/>
                      </a:lnTo>
                      <a:lnTo>
                        <a:pt x="14" y="249"/>
                      </a:lnTo>
                      <a:lnTo>
                        <a:pt x="14" y="253"/>
                      </a:lnTo>
                      <a:lnTo>
                        <a:pt x="12" y="257"/>
                      </a:lnTo>
                      <a:lnTo>
                        <a:pt x="11" y="258"/>
                      </a:lnTo>
                      <a:lnTo>
                        <a:pt x="7" y="261"/>
                      </a:lnTo>
                      <a:lnTo>
                        <a:pt x="0" y="261"/>
                      </a:lnTo>
                      <a:lnTo>
                        <a:pt x="1" y="228"/>
                      </a:lnTo>
                      <a:lnTo>
                        <a:pt x="1" y="194"/>
                      </a:lnTo>
                      <a:lnTo>
                        <a:pt x="1" y="160"/>
                      </a:lnTo>
                      <a:lnTo>
                        <a:pt x="2" y="127"/>
                      </a:lnTo>
                      <a:lnTo>
                        <a:pt x="4" y="110"/>
                      </a:lnTo>
                      <a:lnTo>
                        <a:pt x="7" y="94"/>
                      </a:lnTo>
                      <a:lnTo>
                        <a:pt x="9" y="78"/>
                      </a:lnTo>
                      <a:lnTo>
                        <a:pt x="12" y="61"/>
                      </a:lnTo>
                      <a:lnTo>
                        <a:pt x="17" y="45"/>
                      </a:lnTo>
                      <a:lnTo>
                        <a:pt x="23" y="30"/>
                      </a:lnTo>
                      <a:lnTo>
                        <a:pt x="30" y="1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d1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Freeform 264"/>
                <p:cNvSpPr/>
                <p:nvPr/>
              </p:nvSpPr>
              <p:spPr>
                <a:xfrm>
                  <a:off x="5399640" y="3485520"/>
                  <a:ext cx="232200" cy="29052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177" h="52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3" y="388"/>
                      </a:lnTo>
                      <a:lnTo>
                        <a:pt x="47" y="396"/>
                      </a:lnTo>
                      <a:lnTo>
                        <a:pt x="54" y="406"/>
                      </a:lnTo>
                      <a:lnTo>
                        <a:pt x="62" y="415"/>
                      </a:lnTo>
                      <a:lnTo>
                        <a:pt x="80" y="434"/>
                      </a:lnTo>
                      <a:lnTo>
                        <a:pt x="101" y="453"/>
                      </a:lnTo>
                      <a:lnTo>
                        <a:pt x="120" y="472"/>
                      </a:lnTo>
                      <a:lnTo>
                        <a:pt x="140" y="490"/>
                      </a:lnTo>
                      <a:lnTo>
                        <a:pt x="157" y="505"/>
                      </a:lnTo>
                      <a:lnTo>
                        <a:pt x="170" y="520"/>
                      </a:lnTo>
                      <a:lnTo>
                        <a:pt x="171" y="520"/>
                      </a:lnTo>
                      <a:lnTo>
                        <a:pt x="171" y="520"/>
                      </a:lnTo>
                      <a:lnTo>
                        <a:pt x="172" y="520"/>
                      </a:lnTo>
                      <a:lnTo>
                        <a:pt x="174" y="520"/>
                      </a:lnTo>
                      <a:lnTo>
                        <a:pt x="175" y="520"/>
                      </a:lnTo>
                      <a:lnTo>
                        <a:pt x="175" y="521"/>
                      </a:lnTo>
                      <a:lnTo>
                        <a:pt x="176" y="521"/>
                      </a:lnTo>
                      <a:lnTo>
                        <a:pt x="177" y="521"/>
                      </a:lnTo>
                      <a:lnTo>
                        <a:pt x="176" y="517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0" y="382"/>
                      </a:lnTo>
                      <a:lnTo>
                        <a:pt x="133" y="347"/>
                      </a:lnTo>
                      <a:lnTo>
                        <a:pt x="126" y="313"/>
                      </a:lnTo>
                      <a:lnTo>
                        <a:pt x="120" y="278"/>
                      </a:lnTo>
                      <a:lnTo>
                        <a:pt x="116" y="243"/>
                      </a:lnTo>
                      <a:lnTo>
                        <a:pt x="111" y="206"/>
                      </a:lnTo>
                      <a:lnTo>
                        <a:pt x="108" y="171"/>
                      </a:lnTo>
                      <a:lnTo>
                        <a:pt x="105" y="134"/>
                      </a:lnTo>
                      <a:lnTo>
                        <a:pt x="103" y="98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Freeform 265"/>
                <p:cNvSpPr/>
                <p:nvPr/>
              </p:nvSpPr>
              <p:spPr>
                <a:xfrm>
                  <a:off x="5533200" y="34534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1" y="155"/>
                      </a:lnTo>
                      <a:lnTo>
                        <a:pt x="3" y="191"/>
                      </a:lnTo>
                      <a:lnTo>
                        <a:pt x="6" y="228"/>
                      </a:lnTo>
                      <a:lnTo>
                        <a:pt x="9" y="263"/>
                      </a:lnTo>
                      <a:lnTo>
                        <a:pt x="14" y="300"/>
                      </a:lnTo>
                      <a:lnTo>
                        <a:pt x="18" y="335"/>
                      </a:lnTo>
                      <a:lnTo>
                        <a:pt x="24" y="370"/>
                      </a:lnTo>
                      <a:lnTo>
                        <a:pt x="31" y="404"/>
                      </a:lnTo>
                      <a:lnTo>
                        <a:pt x="38" y="439"/>
                      </a:ln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4" y="574"/>
                      </a:lnTo>
                      <a:lnTo>
                        <a:pt x="75" y="578"/>
                      </a:lnTo>
                      <a:lnTo>
                        <a:pt x="91" y="582"/>
                      </a:lnTo>
                      <a:lnTo>
                        <a:pt x="107" y="587"/>
                      </a:lnTo>
                      <a:lnTo>
                        <a:pt x="125" y="594"/>
                      </a:lnTo>
                      <a:lnTo>
                        <a:pt x="141" y="602"/>
                      </a:lnTo>
                      <a:lnTo>
                        <a:pt x="158" y="610"/>
                      </a:lnTo>
                      <a:lnTo>
                        <a:pt x="175" y="619"/>
                      </a:lnTo>
                      <a:lnTo>
                        <a:pt x="191" y="628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0" y="533"/>
                      </a:lnTo>
                      <a:lnTo>
                        <a:pt x="161" y="503"/>
                      </a:lnTo>
                      <a:lnTo>
                        <a:pt x="153" y="472"/>
                      </a:lnTo>
                      <a:lnTo>
                        <a:pt x="145" y="441"/>
                      </a:lnTo>
                      <a:lnTo>
                        <a:pt x="138" y="410"/>
                      </a:lnTo>
                      <a:lnTo>
                        <a:pt x="131" y="378"/>
                      </a:lnTo>
                      <a:lnTo>
                        <a:pt x="125" y="346"/>
                      </a:lnTo>
                      <a:lnTo>
                        <a:pt x="119" y="313"/>
                      </a:lnTo>
                      <a:lnTo>
                        <a:pt x="114" y="281"/>
                      </a:lnTo>
                      <a:lnTo>
                        <a:pt x="111" y="248"/>
                      </a:lnTo>
                      <a:lnTo>
                        <a:pt x="107" y="216"/>
                      </a:lnTo>
                      <a:lnTo>
                        <a:pt x="105" y="182"/>
                      </a:lnTo>
                      <a:lnTo>
                        <a:pt x="103" y="148"/>
                      </a:lnTo>
                      <a:lnTo>
                        <a:pt x="102" y="114"/>
                      </a:lnTo>
                      <a:lnTo>
                        <a:pt x="102" y="80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Freeform 266"/>
                <p:cNvSpPr/>
                <p:nvPr/>
              </p:nvSpPr>
              <p:spPr>
                <a:xfrm>
                  <a:off x="5665680" y="34333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117"/>
                      </a:lnTo>
                      <a:lnTo>
                        <a:pt x="0" y="151"/>
                      </a:lnTo>
                      <a:lnTo>
                        <a:pt x="1" y="185"/>
                      </a:lnTo>
                      <a:lnTo>
                        <a:pt x="3" y="219"/>
                      </a:lnTo>
                      <a:lnTo>
                        <a:pt x="5" y="253"/>
                      </a:lnTo>
                      <a:lnTo>
                        <a:pt x="9" y="285"/>
                      </a:lnTo>
                      <a:lnTo>
                        <a:pt x="12" y="318"/>
                      </a:lnTo>
                      <a:lnTo>
                        <a:pt x="17" y="350"/>
                      </a:lnTo>
                      <a:lnTo>
                        <a:pt x="23" y="383"/>
                      </a:lnTo>
                      <a:lnTo>
                        <a:pt x="29" y="415"/>
                      </a:lnTo>
                      <a:lnTo>
                        <a:pt x="36" y="447"/>
                      </a:lnTo>
                      <a:lnTo>
                        <a:pt x="43" y="478"/>
                      </a:lnTo>
                      <a:lnTo>
                        <a:pt x="51" y="509"/>
                      </a:lnTo>
                      <a:lnTo>
                        <a:pt x="59" y="540"/>
                      </a:lnTo>
                      <a:lnTo>
                        <a:pt x="68" y="570"/>
                      </a:ln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3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2" y="637"/>
                      </a:lnTo>
                      <a:lnTo>
                        <a:pt x="192" y="609"/>
                      </a:lnTo>
                      <a:lnTo>
                        <a:pt x="183" y="584"/>
                      </a:lnTo>
                      <a:lnTo>
                        <a:pt x="172" y="557"/>
                      </a:lnTo>
                      <a:lnTo>
                        <a:pt x="164" y="529"/>
                      </a:lnTo>
                      <a:lnTo>
                        <a:pt x="156" y="501"/>
                      </a:lnTo>
                      <a:lnTo>
                        <a:pt x="148" y="474"/>
                      </a:lnTo>
                      <a:lnTo>
                        <a:pt x="141" y="445"/>
                      </a:lnTo>
                      <a:lnTo>
                        <a:pt x="134" y="417"/>
                      </a:lnTo>
                      <a:lnTo>
                        <a:pt x="128" y="388"/>
                      </a:lnTo>
                      <a:lnTo>
                        <a:pt x="122" y="358"/>
                      </a:lnTo>
                      <a:lnTo>
                        <a:pt x="118" y="330"/>
                      </a:lnTo>
                      <a:lnTo>
                        <a:pt x="113" y="300"/>
                      </a:lnTo>
                      <a:lnTo>
                        <a:pt x="110" y="270"/>
                      </a:lnTo>
                      <a:lnTo>
                        <a:pt x="107" y="240"/>
                      </a:lnTo>
                      <a:lnTo>
                        <a:pt x="105" y="209"/>
                      </a:lnTo>
                      <a:lnTo>
                        <a:pt x="103" y="179"/>
                      </a:lnTo>
                      <a:lnTo>
                        <a:pt x="103" y="148"/>
                      </a:lnTo>
                      <a:lnTo>
                        <a:pt x="102" y="117"/>
                      </a:lnTo>
                      <a:lnTo>
                        <a:pt x="103" y="87"/>
                      </a:lnTo>
                      <a:lnTo>
                        <a:pt x="103" y="56"/>
                      </a:lnTo>
                      <a:lnTo>
                        <a:pt x="105" y="26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Freeform 267"/>
                <p:cNvSpPr/>
                <p:nvPr/>
              </p:nvSpPr>
              <p:spPr>
                <a:xfrm>
                  <a:off x="5799240" y="3428640"/>
                  <a:ext cx="379080" cy="43272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32720"/>
                    <a:gd name="textAreaBottom" fmla="*/ 433080 h 432720"/>
                  </a:gdLst>
                  <a:ahLst/>
                  <a:rect l="textAreaLeft" t="textAreaTop" r="textAreaRight" b="textAreaBottom"/>
                  <a:pathLst>
                    <a:path w="289" h="777">
                      <a:moveTo>
                        <a:pt x="4" y="9"/>
                      </a:moveTo>
                      <a:lnTo>
                        <a:pt x="3" y="35"/>
                      </a:lnTo>
                      <a:lnTo>
                        <a:pt x="1" y="65"/>
                      </a:lnTo>
                      <a:lnTo>
                        <a:pt x="1" y="96"/>
                      </a:lnTo>
                      <a:lnTo>
                        <a:pt x="0" y="126"/>
                      </a:lnTo>
                      <a:lnTo>
                        <a:pt x="1" y="157"/>
                      </a:lnTo>
                      <a:lnTo>
                        <a:pt x="1" y="188"/>
                      </a:lnTo>
                      <a:lnTo>
                        <a:pt x="3" y="218"/>
                      </a:lnTo>
                      <a:lnTo>
                        <a:pt x="5" y="249"/>
                      </a:lnTo>
                      <a:lnTo>
                        <a:pt x="8" y="279"/>
                      </a:lnTo>
                      <a:lnTo>
                        <a:pt x="11" y="309"/>
                      </a:lnTo>
                      <a:lnTo>
                        <a:pt x="16" y="339"/>
                      </a:lnTo>
                      <a:lnTo>
                        <a:pt x="20" y="367"/>
                      </a:lnTo>
                      <a:lnTo>
                        <a:pt x="26" y="397"/>
                      </a:lnTo>
                      <a:lnTo>
                        <a:pt x="32" y="426"/>
                      </a:lnTo>
                      <a:lnTo>
                        <a:pt x="39" y="454"/>
                      </a:lnTo>
                      <a:lnTo>
                        <a:pt x="46" y="483"/>
                      </a:lnTo>
                      <a:lnTo>
                        <a:pt x="54" y="510"/>
                      </a:lnTo>
                      <a:lnTo>
                        <a:pt x="62" y="538"/>
                      </a:lnTo>
                      <a:lnTo>
                        <a:pt x="70" y="566"/>
                      </a:lnTo>
                      <a:lnTo>
                        <a:pt x="81" y="593"/>
                      </a:lnTo>
                      <a:lnTo>
                        <a:pt x="90" y="618"/>
                      </a:lnTo>
                      <a:lnTo>
                        <a:pt x="100" y="646"/>
                      </a:lnTo>
                      <a:lnTo>
                        <a:pt x="112" y="671"/>
                      </a:lnTo>
                      <a:lnTo>
                        <a:pt x="123" y="697"/>
                      </a:lnTo>
                      <a:lnTo>
                        <a:pt x="135" y="722"/>
                      </a:lnTo>
                      <a:lnTo>
                        <a:pt x="147" y="746"/>
                      </a:lnTo>
                      <a:lnTo>
                        <a:pt x="164" y="751"/>
                      </a:lnTo>
                      <a:lnTo>
                        <a:pt x="180" y="755"/>
                      </a:lnTo>
                      <a:lnTo>
                        <a:pt x="198" y="761"/>
                      </a:lnTo>
                      <a:lnTo>
                        <a:pt x="215" y="765"/>
                      </a:lnTo>
                      <a:lnTo>
                        <a:pt x="233" y="768"/>
                      </a:lnTo>
                      <a:lnTo>
                        <a:pt x="251" y="772"/>
                      </a:lnTo>
                      <a:lnTo>
                        <a:pt x="269" y="774"/>
                      </a:lnTo>
                      <a:lnTo>
                        <a:pt x="289" y="777"/>
                      </a:lnTo>
                      <a:lnTo>
                        <a:pt x="284" y="770"/>
                      </a:lnTo>
                      <a:lnTo>
                        <a:pt x="259" y="728"/>
                      </a:lnTo>
                      <a:lnTo>
                        <a:pt x="235" y="685"/>
                      </a:lnTo>
                      <a:lnTo>
                        <a:pt x="213" y="640"/>
                      </a:lnTo>
                      <a:lnTo>
                        <a:pt x="193" y="594"/>
                      </a:lnTo>
                      <a:lnTo>
                        <a:pt x="174" y="545"/>
                      </a:lnTo>
                      <a:lnTo>
                        <a:pt x="158" y="496"/>
                      </a:lnTo>
                      <a:lnTo>
                        <a:pt x="143" y="446"/>
                      </a:lnTo>
                      <a:lnTo>
                        <a:pt x="130" y="396"/>
                      </a:lnTo>
                      <a:lnTo>
                        <a:pt x="121" y="343"/>
                      </a:lnTo>
                      <a:lnTo>
                        <a:pt x="117" y="317"/>
                      </a:lnTo>
                      <a:lnTo>
                        <a:pt x="113" y="290"/>
                      </a:lnTo>
                      <a:lnTo>
                        <a:pt x="110" y="264"/>
                      </a:lnTo>
                      <a:lnTo>
                        <a:pt x="107" y="237"/>
                      </a:lnTo>
                      <a:lnTo>
                        <a:pt x="105" y="209"/>
                      </a:lnTo>
                      <a:lnTo>
                        <a:pt x="104" y="182"/>
                      </a:lnTo>
                      <a:lnTo>
                        <a:pt x="103" y="154"/>
                      </a:lnTo>
                      <a:lnTo>
                        <a:pt x="101" y="126"/>
                      </a:lnTo>
                      <a:lnTo>
                        <a:pt x="103" y="99"/>
                      </a:lnTo>
                      <a:lnTo>
                        <a:pt x="104" y="72"/>
                      </a:lnTo>
                      <a:lnTo>
                        <a:pt x="105" y="43"/>
                      </a:lnTo>
                      <a:lnTo>
                        <a:pt x="107" y="16"/>
                      </a:lnTo>
                      <a:lnTo>
                        <a:pt x="108" y="1"/>
                      </a:lnTo>
                      <a:lnTo>
                        <a:pt x="96" y="0"/>
                      </a:lnTo>
                      <a:lnTo>
                        <a:pt x="83" y="1"/>
                      </a:lnTo>
                      <a:lnTo>
                        <a:pt x="70" y="1"/>
                      </a:lnTo>
                      <a:lnTo>
                        <a:pt x="57" y="2"/>
                      </a:lnTo>
                      <a:lnTo>
                        <a:pt x="45" y="2"/>
                      </a:lnTo>
                      <a:lnTo>
                        <a:pt x="31" y="5"/>
                      </a:lnTo>
                      <a:lnTo>
                        <a:pt x="18" y="7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268"/>
                <p:cNvSpPr/>
                <p:nvPr/>
              </p:nvSpPr>
              <p:spPr>
                <a:xfrm>
                  <a:off x="5932440" y="3428640"/>
                  <a:ext cx="428400" cy="43632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327" h="783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4" y="42"/>
                      </a:lnTo>
                      <a:lnTo>
                        <a:pt x="3" y="71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2" y="153"/>
                      </a:lnTo>
                      <a:lnTo>
                        <a:pt x="3" y="181"/>
                      </a:lnTo>
                      <a:lnTo>
                        <a:pt x="4" y="208"/>
                      </a:lnTo>
                      <a:lnTo>
                        <a:pt x="6" y="236"/>
                      </a:lnTo>
                      <a:lnTo>
                        <a:pt x="9" y="263"/>
                      </a:lnTo>
                      <a:lnTo>
                        <a:pt x="12" y="289"/>
                      </a:lnTo>
                      <a:lnTo>
                        <a:pt x="16" y="316"/>
                      </a:lnTo>
                      <a:lnTo>
                        <a:pt x="20" y="342"/>
                      </a:lnTo>
                      <a:lnTo>
                        <a:pt x="29" y="395"/>
                      </a:lnTo>
                      <a:lnTo>
                        <a:pt x="42" y="445"/>
                      </a:lnTo>
                      <a:lnTo>
                        <a:pt x="57" y="495"/>
                      </a:lnTo>
                      <a:lnTo>
                        <a:pt x="73" y="544"/>
                      </a:lnTo>
                      <a:lnTo>
                        <a:pt x="92" y="593"/>
                      </a:lnTo>
                      <a:lnTo>
                        <a:pt x="112" y="639"/>
                      </a:lnTo>
                      <a:lnTo>
                        <a:pt x="134" y="684"/>
                      </a:lnTo>
                      <a:lnTo>
                        <a:pt x="158" y="727"/>
                      </a:lnTo>
                      <a:lnTo>
                        <a:pt x="183" y="769"/>
                      </a:lnTo>
                      <a:lnTo>
                        <a:pt x="188" y="776"/>
                      </a:lnTo>
                      <a:lnTo>
                        <a:pt x="204" y="778"/>
                      </a:lnTo>
                      <a:lnTo>
                        <a:pt x="222" y="779"/>
                      </a:lnTo>
                      <a:lnTo>
                        <a:pt x="239" y="780"/>
                      </a:lnTo>
                      <a:lnTo>
                        <a:pt x="255" y="782"/>
                      </a:lnTo>
                      <a:lnTo>
                        <a:pt x="274" y="783"/>
                      </a:lnTo>
                      <a:lnTo>
                        <a:pt x="291" y="783"/>
                      </a:lnTo>
                      <a:lnTo>
                        <a:pt x="308" y="783"/>
                      </a:lnTo>
                      <a:lnTo>
                        <a:pt x="327" y="783"/>
                      </a:lnTo>
                      <a:lnTo>
                        <a:pt x="315" y="769"/>
                      </a:lnTo>
                      <a:lnTo>
                        <a:pt x="290" y="734"/>
                      </a:lnTo>
                      <a:lnTo>
                        <a:pt x="266" y="699"/>
                      </a:lnTo>
                      <a:lnTo>
                        <a:pt x="242" y="661"/>
                      </a:lnTo>
                      <a:lnTo>
                        <a:pt x="222" y="622"/>
                      </a:lnTo>
                      <a:lnTo>
                        <a:pt x="202" y="582"/>
                      </a:lnTo>
                      <a:lnTo>
                        <a:pt x="183" y="540"/>
                      </a:lnTo>
                      <a:lnTo>
                        <a:pt x="167" y="498"/>
                      </a:lnTo>
                      <a:lnTo>
                        <a:pt x="153" y="455"/>
                      </a:lnTo>
                      <a:lnTo>
                        <a:pt x="139" y="410"/>
                      </a:lnTo>
                      <a:lnTo>
                        <a:pt x="129" y="365"/>
                      </a:lnTo>
                      <a:lnTo>
                        <a:pt x="120" y="319"/>
                      </a:lnTo>
                      <a:lnTo>
                        <a:pt x="113" y="271"/>
                      </a:lnTo>
                      <a:lnTo>
                        <a:pt x="107" y="224"/>
                      </a:lnTo>
                      <a:lnTo>
                        <a:pt x="105" y="175"/>
                      </a:lnTo>
                      <a:lnTo>
                        <a:pt x="104" y="125"/>
                      </a:lnTo>
                      <a:lnTo>
                        <a:pt x="105" y="76"/>
                      </a:lnTo>
                      <a:lnTo>
                        <a:pt x="107" y="27"/>
                      </a:lnTo>
                      <a:lnTo>
                        <a:pt x="109" y="12"/>
                      </a:lnTo>
                      <a:lnTo>
                        <a:pt x="97" y="10"/>
                      </a:lnTo>
                      <a:lnTo>
                        <a:pt x="84" y="8"/>
                      </a:lnTo>
                      <a:lnTo>
                        <a:pt x="71" y="6"/>
                      </a:lnTo>
                      <a:lnTo>
                        <a:pt x="58" y="4"/>
                      </a:lnTo>
                      <a:lnTo>
                        <a:pt x="46" y="3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Freeform 269"/>
                <p:cNvSpPr/>
                <p:nvPr/>
              </p:nvSpPr>
              <p:spPr>
                <a:xfrm>
                  <a:off x="6068880" y="3435120"/>
                  <a:ext cx="475200" cy="429840"/>
                </a:xfrm>
                <a:custGeom>
                  <a:avLst/>
                  <a:gdLst>
                    <a:gd name="textAreaLeft" fmla="*/ 0 w 475200"/>
                    <a:gd name="textAreaRight" fmla="*/ 475560 w 4752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363" h="771">
                      <a:moveTo>
                        <a:pt x="5" y="0"/>
                      </a:moveTo>
                      <a:lnTo>
                        <a:pt x="3" y="15"/>
                      </a:lnTo>
                      <a:lnTo>
                        <a:pt x="1" y="64"/>
                      </a:lnTo>
                      <a:lnTo>
                        <a:pt x="0" y="113"/>
                      </a:lnTo>
                      <a:lnTo>
                        <a:pt x="1" y="163"/>
                      </a:lnTo>
                      <a:lnTo>
                        <a:pt x="3" y="212"/>
                      </a:lnTo>
                      <a:lnTo>
                        <a:pt x="9" y="259"/>
                      </a:lnTo>
                      <a:lnTo>
                        <a:pt x="16" y="307"/>
                      </a:lnTo>
                      <a:lnTo>
                        <a:pt x="25" y="353"/>
                      </a:lnTo>
                      <a:lnTo>
                        <a:pt x="35" y="398"/>
                      </a:lnTo>
                      <a:lnTo>
                        <a:pt x="49" y="443"/>
                      </a:lnTo>
                      <a:lnTo>
                        <a:pt x="63" y="486"/>
                      </a:lnTo>
                      <a:lnTo>
                        <a:pt x="79" y="528"/>
                      </a:lnTo>
                      <a:lnTo>
                        <a:pt x="98" y="570"/>
                      </a:lnTo>
                      <a:lnTo>
                        <a:pt x="118" y="610"/>
                      </a:lnTo>
                      <a:lnTo>
                        <a:pt x="138" y="649"/>
                      </a:lnTo>
                      <a:lnTo>
                        <a:pt x="162" y="687"/>
                      </a:lnTo>
                      <a:lnTo>
                        <a:pt x="186" y="722"/>
                      </a:lnTo>
                      <a:lnTo>
                        <a:pt x="211" y="757"/>
                      </a:lnTo>
                      <a:lnTo>
                        <a:pt x="223" y="771"/>
                      </a:lnTo>
                      <a:lnTo>
                        <a:pt x="240" y="771"/>
                      </a:lnTo>
                      <a:lnTo>
                        <a:pt x="257" y="770"/>
                      </a:lnTo>
                      <a:lnTo>
                        <a:pt x="275" y="770"/>
                      </a:lnTo>
                      <a:lnTo>
                        <a:pt x="293" y="768"/>
                      </a:lnTo>
                      <a:lnTo>
                        <a:pt x="310" y="767"/>
                      </a:lnTo>
                      <a:lnTo>
                        <a:pt x="327" y="766"/>
                      </a:lnTo>
                      <a:lnTo>
                        <a:pt x="346" y="763"/>
                      </a:lnTo>
                      <a:lnTo>
                        <a:pt x="363" y="761"/>
                      </a:lnTo>
                      <a:lnTo>
                        <a:pt x="362" y="760"/>
                      </a:lnTo>
                      <a:lnTo>
                        <a:pt x="335" y="733"/>
                      </a:lnTo>
                      <a:lnTo>
                        <a:pt x="311" y="706"/>
                      </a:lnTo>
                      <a:lnTo>
                        <a:pt x="287" y="677"/>
                      </a:lnTo>
                      <a:lnTo>
                        <a:pt x="265" y="646"/>
                      </a:lnTo>
                      <a:lnTo>
                        <a:pt x="244" y="615"/>
                      </a:lnTo>
                      <a:lnTo>
                        <a:pt x="223" y="582"/>
                      </a:lnTo>
                      <a:lnTo>
                        <a:pt x="204" y="548"/>
                      </a:lnTo>
                      <a:lnTo>
                        <a:pt x="187" y="513"/>
                      </a:lnTo>
                      <a:lnTo>
                        <a:pt x="172" y="477"/>
                      </a:lnTo>
                      <a:lnTo>
                        <a:pt x="157" y="440"/>
                      </a:lnTo>
                      <a:lnTo>
                        <a:pt x="144" y="402"/>
                      </a:lnTo>
                      <a:lnTo>
                        <a:pt x="134" y="363"/>
                      </a:lnTo>
                      <a:lnTo>
                        <a:pt x="123" y="323"/>
                      </a:lnTo>
                      <a:lnTo>
                        <a:pt x="115" y="283"/>
                      </a:lnTo>
                      <a:lnTo>
                        <a:pt x="110" y="240"/>
                      </a:lnTo>
                      <a:lnTo>
                        <a:pt x="105" y="200"/>
                      </a:lnTo>
                      <a:lnTo>
                        <a:pt x="103" y="156"/>
                      </a:lnTo>
                      <a:lnTo>
                        <a:pt x="101" y="113"/>
                      </a:lnTo>
                      <a:lnTo>
                        <a:pt x="103" y="71"/>
                      </a:lnTo>
                      <a:lnTo>
                        <a:pt x="105" y="27"/>
                      </a:lnTo>
                      <a:lnTo>
                        <a:pt x="105" y="25"/>
                      </a:lnTo>
                      <a:lnTo>
                        <a:pt x="92" y="21"/>
                      </a:lnTo>
                      <a:lnTo>
                        <a:pt x="81" y="18"/>
                      </a:lnTo>
                      <a:lnTo>
                        <a:pt x="68" y="15"/>
                      </a:lnTo>
                      <a:lnTo>
                        <a:pt x="55" y="11"/>
                      </a:lnTo>
                      <a:lnTo>
                        <a:pt x="42" y="8"/>
                      </a:lnTo>
                      <a:lnTo>
                        <a:pt x="30" y="6"/>
                      </a:lnTo>
                      <a:lnTo>
                        <a:pt x="18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270"/>
                <p:cNvSpPr/>
                <p:nvPr/>
              </p:nvSpPr>
              <p:spPr>
                <a:xfrm>
                  <a:off x="6201720" y="3448800"/>
                  <a:ext cx="535680" cy="410760"/>
                </a:xfrm>
                <a:custGeom>
                  <a:avLst/>
                  <a:gdLst>
                    <a:gd name="textAreaLeft" fmla="*/ 0 w 535680"/>
                    <a:gd name="textAreaRight" fmla="*/ 536040 w 535680"/>
                    <a:gd name="textAreaTop" fmla="*/ 0 h 410760"/>
                    <a:gd name="textAreaBottom" fmla="*/ 411120 h 410760"/>
                  </a:gdLst>
                  <a:ahLst/>
                  <a:rect l="textAreaLeft" t="textAreaTop" r="textAreaRight" b="textAreaBottom"/>
                  <a:pathLst>
                    <a:path w="410" h="73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46"/>
                      </a:lnTo>
                      <a:lnTo>
                        <a:pt x="0" y="88"/>
                      </a:lnTo>
                      <a:lnTo>
                        <a:pt x="2" y="131"/>
                      </a:lnTo>
                      <a:lnTo>
                        <a:pt x="4" y="175"/>
                      </a:lnTo>
                      <a:lnTo>
                        <a:pt x="9" y="215"/>
                      </a:lnTo>
                      <a:lnTo>
                        <a:pt x="14" y="258"/>
                      </a:lnTo>
                      <a:lnTo>
                        <a:pt x="22" y="298"/>
                      </a:lnTo>
                      <a:lnTo>
                        <a:pt x="33" y="338"/>
                      </a:lnTo>
                      <a:lnTo>
                        <a:pt x="43" y="377"/>
                      </a:lnTo>
                      <a:lnTo>
                        <a:pt x="56" y="415"/>
                      </a:lnTo>
                      <a:lnTo>
                        <a:pt x="71" y="452"/>
                      </a:lnTo>
                      <a:lnTo>
                        <a:pt x="86" y="488"/>
                      </a:lnTo>
                      <a:lnTo>
                        <a:pt x="103" y="523"/>
                      </a:lnTo>
                      <a:lnTo>
                        <a:pt x="122" y="557"/>
                      </a:lnTo>
                      <a:lnTo>
                        <a:pt x="143" y="590"/>
                      </a:lnTo>
                      <a:lnTo>
                        <a:pt x="164" y="621"/>
                      </a:lnTo>
                      <a:lnTo>
                        <a:pt x="186" y="652"/>
                      </a:lnTo>
                      <a:lnTo>
                        <a:pt x="210" y="681"/>
                      </a:lnTo>
                      <a:lnTo>
                        <a:pt x="234" y="708"/>
                      </a:lnTo>
                      <a:lnTo>
                        <a:pt x="261" y="735"/>
                      </a:lnTo>
                      <a:lnTo>
                        <a:pt x="262" y="736"/>
                      </a:lnTo>
                      <a:lnTo>
                        <a:pt x="281" y="734"/>
                      </a:lnTo>
                      <a:lnTo>
                        <a:pt x="299" y="731"/>
                      </a:lnTo>
                      <a:lnTo>
                        <a:pt x="318" y="728"/>
                      </a:lnTo>
                      <a:lnTo>
                        <a:pt x="336" y="726"/>
                      </a:lnTo>
                      <a:lnTo>
                        <a:pt x="355" y="723"/>
                      </a:lnTo>
                      <a:lnTo>
                        <a:pt x="373" y="719"/>
                      </a:lnTo>
                      <a:lnTo>
                        <a:pt x="392" y="715"/>
                      </a:lnTo>
                      <a:lnTo>
                        <a:pt x="410" y="712"/>
                      </a:lnTo>
                      <a:lnTo>
                        <a:pt x="398" y="703"/>
                      </a:lnTo>
                      <a:lnTo>
                        <a:pt x="372" y="684"/>
                      </a:lnTo>
                      <a:lnTo>
                        <a:pt x="349" y="663"/>
                      </a:lnTo>
                      <a:lnTo>
                        <a:pt x="326" y="643"/>
                      </a:lnTo>
                      <a:lnTo>
                        <a:pt x="303" y="620"/>
                      </a:lnTo>
                      <a:lnTo>
                        <a:pt x="282" y="597"/>
                      </a:lnTo>
                      <a:lnTo>
                        <a:pt x="262" y="571"/>
                      </a:lnTo>
                      <a:lnTo>
                        <a:pt x="242" y="545"/>
                      </a:lnTo>
                      <a:lnTo>
                        <a:pt x="224" y="518"/>
                      </a:lnTo>
                      <a:lnTo>
                        <a:pt x="207" y="490"/>
                      </a:lnTo>
                      <a:lnTo>
                        <a:pt x="192" y="461"/>
                      </a:lnTo>
                      <a:lnTo>
                        <a:pt x="176" y="431"/>
                      </a:lnTo>
                      <a:lnTo>
                        <a:pt x="163" y="400"/>
                      </a:lnTo>
                      <a:lnTo>
                        <a:pt x="151" y="367"/>
                      </a:lnTo>
                      <a:lnTo>
                        <a:pt x="139" y="335"/>
                      </a:lnTo>
                      <a:lnTo>
                        <a:pt x="130" y="302"/>
                      </a:lnTo>
                      <a:lnTo>
                        <a:pt x="122" y="268"/>
                      </a:lnTo>
                      <a:lnTo>
                        <a:pt x="115" y="233"/>
                      </a:lnTo>
                      <a:lnTo>
                        <a:pt x="109" y="198"/>
                      </a:lnTo>
                      <a:lnTo>
                        <a:pt x="106" y="163"/>
                      </a:lnTo>
                      <a:lnTo>
                        <a:pt x="103" y="126"/>
                      </a:lnTo>
                      <a:lnTo>
                        <a:pt x="102" y="88"/>
                      </a:lnTo>
                      <a:lnTo>
                        <a:pt x="103" y="51"/>
                      </a:lnTo>
                      <a:lnTo>
                        <a:pt x="105" y="23"/>
                      </a:lnTo>
                      <a:lnTo>
                        <a:pt x="92" y="20"/>
                      </a:lnTo>
                      <a:lnTo>
                        <a:pt x="79" y="17"/>
                      </a:lnTo>
                      <a:lnTo>
                        <a:pt x="66" y="15"/>
                      </a:lnTo>
                      <a:lnTo>
                        <a:pt x="54" y="12"/>
                      </a:lnTo>
                      <a:lnTo>
                        <a:pt x="41" y="9"/>
                      </a:lnTo>
                      <a:lnTo>
                        <a:pt x="29" y="5"/>
                      </a:lnTo>
                      <a:lnTo>
                        <a:pt x="1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271"/>
                <p:cNvSpPr/>
                <p:nvPr/>
              </p:nvSpPr>
              <p:spPr>
                <a:xfrm>
                  <a:off x="6334920" y="3461760"/>
                  <a:ext cx="624600" cy="384120"/>
                </a:xfrm>
                <a:custGeom>
                  <a:avLst/>
                  <a:gdLst>
                    <a:gd name="textAreaLeft" fmla="*/ 0 w 624600"/>
                    <a:gd name="textAreaRight" fmla="*/ 624960 w 62460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480" h="689">
                      <a:moveTo>
                        <a:pt x="3" y="0"/>
                      </a:moveTo>
                      <a:lnTo>
                        <a:pt x="1" y="28"/>
                      </a:lnTo>
                      <a:lnTo>
                        <a:pt x="0" y="65"/>
                      </a:lnTo>
                      <a:lnTo>
                        <a:pt x="1" y="103"/>
                      </a:lnTo>
                      <a:lnTo>
                        <a:pt x="4" y="140"/>
                      </a:lnTo>
                      <a:lnTo>
                        <a:pt x="7" y="175"/>
                      </a:lnTo>
                      <a:lnTo>
                        <a:pt x="13" y="210"/>
                      </a:lnTo>
                      <a:lnTo>
                        <a:pt x="20" y="245"/>
                      </a:lnTo>
                      <a:lnTo>
                        <a:pt x="28" y="279"/>
                      </a:lnTo>
                      <a:lnTo>
                        <a:pt x="37" y="312"/>
                      </a:lnTo>
                      <a:lnTo>
                        <a:pt x="49" y="344"/>
                      </a:lnTo>
                      <a:lnTo>
                        <a:pt x="61" y="377"/>
                      </a:lnTo>
                      <a:lnTo>
                        <a:pt x="74" y="408"/>
                      </a:lnTo>
                      <a:lnTo>
                        <a:pt x="90" y="438"/>
                      </a:lnTo>
                      <a:lnTo>
                        <a:pt x="105" y="467"/>
                      </a:lnTo>
                      <a:lnTo>
                        <a:pt x="122" y="495"/>
                      </a:lnTo>
                      <a:lnTo>
                        <a:pt x="140" y="522"/>
                      </a:lnTo>
                      <a:lnTo>
                        <a:pt x="160" y="548"/>
                      </a:lnTo>
                      <a:lnTo>
                        <a:pt x="180" y="574"/>
                      </a:lnTo>
                      <a:lnTo>
                        <a:pt x="201" y="597"/>
                      </a:lnTo>
                      <a:lnTo>
                        <a:pt x="224" y="620"/>
                      </a:lnTo>
                      <a:lnTo>
                        <a:pt x="247" y="640"/>
                      </a:lnTo>
                      <a:lnTo>
                        <a:pt x="270" y="661"/>
                      </a:lnTo>
                      <a:lnTo>
                        <a:pt x="296" y="680"/>
                      </a:lnTo>
                      <a:lnTo>
                        <a:pt x="308" y="689"/>
                      </a:lnTo>
                      <a:lnTo>
                        <a:pt x="330" y="684"/>
                      </a:lnTo>
                      <a:lnTo>
                        <a:pt x="351" y="678"/>
                      </a:lnTo>
                      <a:lnTo>
                        <a:pt x="373" y="674"/>
                      </a:lnTo>
                      <a:lnTo>
                        <a:pt x="394" y="667"/>
                      </a:lnTo>
                      <a:lnTo>
                        <a:pt x="416" y="662"/>
                      </a:lnTo>
                      <a:lnTo>
                        <a:pt x="437" y="656"/>
                      </a:lnTo>
                      <a:lnTo>
                        <a:pt x="459" y="650"/>
                      </a:lnTo>
                      <a:lnTo>
                        <a:pt x="480" y="643"/>
                      </a:lnTo>
                      <a:lnTo>
                        <a:pt x="461" y="637"/>
                      </a:lnTo>
                      <a:lnTo>
                        <a:pt x="438" y="628"/>
                      </a:lnTo>
                      <a:lnTo>
                        <a:pt x="415" y="617"/>
                      </a:lnTo>
                      <a:lnTo>
                        <a:pt x="392" y="605"/>
                      </a:lnTo>
                      <a:lnTo>
                        <a:pt x="370" y="591"/>
                      </a:lnTo>
                      <a:lnTo>
                        <a:pt x="349" y="578"/>
                      </a:lnTo>
                      <a:lnTo>
                        <a:pt x="328" y="562"/>
                      </a:lnTo>
                      <a:lnTo>
                        <a:pt x="307" y="545"/>
                      </a:lnTo>
                      <a:lnTo>
                        <a:pt x="289" y="528"/>
                      </a:lnTo>
                      <a:lnTo>
                        <a:pt x="270" y="509"/>
                      </a:lnTo>
                      <a:lnTo>
                        <a:pt x="252" y="488"/>
                      </a:lnTo>
                      <a:lnTo>
                        <a:pt x="235" y="468"/>
                      </a:lnTo>
                      <a:lnTo>
                        <a:pt x="219" y="446"/>
                      </a:lnTo>
                      <a:lnTo>
                        <a:pt x="204" y="423"/>
                      </a:lnTo>
                      <a:lnTo>
                        <a:pt x="190" y="400"/>
                      </a:lnTo>
                      <a:lnTo>
                        <a:pt x="176" y="376"/>
                      </a:lnTo>
                      <a:lnTo>
                        <a:pt x="165" y="351"/>
                      </a:lnTo>
                      <a:lnTo>
                        <a:pt x="153" y="325"/>
                      </a:lnTo>
                      <a:lnTo>
                        <a:pt x="143" y="298"/>
                      </a:lnTo>
                      <a:lnTo>
                        <a:pt x="134" y="271"/>
                      </a:lnTo>
                      <a:lnTo>
                        <a:pt x="125" y="244"/>
                      </a:lnTo>
                      <a:lnTo>
                        <a:pt x="118" y="216"/>
                      </a:lnTo>
                      <a:lnTo>
                        <a:pt x="113" y="186"/>
                      </a:lnTo>
                      <a:lnTo>
                        <a:pt x="108" y="157"/>
                      </a:lnTo>
                      <a:lnTo>
                        <a:pt x="106" y="126"/>
                      </a:lnTo>
                      <a:lnTo>
                        <a:pt x="103" y="96"/>
                      </a:lnTo>
                      <a:lnTo>
                        <a:pt x="102" y="65"/>
                      </a:lnTo>
                      <a:lnTo>
                        <a:pt x="103" y="35"/>
                      </a:lnTo>
                      <a:lnTo>
                        <a:pt x="105" y="8"/>
                      </a:lnTo>
                      <a:lnTo>
                        <a:pt x="98" y="9"/>
                      </a:lnTo>
                      <a:lnTo>
                        <a:pt x="92" y="9"/>
                      </a:lnTo>
                      <a:lnTo>
                        <a:pt x="85" y="11"/>
                      </a:lnTo>
                      <a:lnTo>
                        <a:pt x="79" y="11"/>
                      </a:lnTo>
                      <a:lnTo>
                        <a:pt x="73" y="11"/>
                      </a:lnTo>
                      <a:lnTo>
                        <a:pt x="68" y="11"/>
                      </a:lnTo>
                      <a:lnTo>
                        <a:pt x="63" y="11"/>
                      </a:lnTo>
                      <a:lnTo>
                        <a:pt x="58" y="9"/>
                      </a:lnTo>
                      <a:lnTo>
                        <a:pt x="51" y="9"/>
                      </a:lnTo>
                      <a:lnTo>
                        <a:pt x="44" y="8"/>
                      </a:lnTo>
                      <a:lnTo>
                        <a:pt x="37" y="7"/>
                      </a:lnTo>
                      <a:lnTo>
                        <a:pt x="30" y="5"/>
                      </a:lnTo>
                      <a:lnTo>
                        <a:pt x="24" y="4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Freeform 272"/>
                <p:cNvSpPr/>
                <p:nvPr/>
              </p:nvSpPr>
              <p:spPr>
                <a:xfrm>
                  <a:off x="6468480" y="3457080"/>
                  <a:ext cx="1278360" cy="362160"/>
                </a:xfrm>
                <a:custGeom>
                  <a:avLst/>
                  <a:gdLst>
                    <a:gd name="textAreaLeft" fmla="*/ 0 w 1278360"/>
                    <a:gd name="textAreaRight" fmla="*/ 1278720 w 1278360"/>
                    <a:gd name="textAreaTop" fmla="*/ 0 h 362160"/>
                    <a:gd name="textAreaBottom" fmla="*/ 362520 h 362160"/>
                  </a:gdLst>
                  <a:ahLst/>
                  <a:rect l="textAreaLeft" t="textAreaTop" r="textAreaRight" b="textAreaBottom"/>
                  <a:pathLst>
                    <a:path w="979" h="653">
                      <a:moveTo>
                        <a:pt x="3" y="18"/>
                      </a:moveTo>
                      <a:lnTo>
                        <a:pt x="1" y="45"/>
                      </a:lnTo>
                      <a:lnTo>
                        <a:pt x="0" y="75"/>
                      </a:lnTo>
                      <a:lnTo>
                        <a:pt x="1" y="106"/>
                      </a:lnTo>
                      <a:lnTo>
                        <a:pt x="4" y="136"/>
                      </a:lnTo>
                      <a:lnTo>
                        <a:pt x="6" y="167"/>
                      </a:lnTo>
                      <a:lnTo>
                        <a:pt x="11" y="196"/>
                      </a:lnTo>
                      <a:lnTo>
                        <a:pt x="16" y="226"/>
                      </a:lnTo>
                      <a:lnTo>
                        <a:pt x="23" y="254"/>
                      </a:lnTo>
                      <a:lnTo>
                        <a:pt x="32" y="281"/>
                      </a:lnTo>
                      <a:lnTo>
                        <a:pt x="41" y="308"/>
                      </a:lnTo>
                      <a:lnTo>
                        <a:pt x="51" y="335"/>
                      </a:lnTo>
                      <a:lnTo>
                        <a:pt x="63" y="361"/>
                      </a:lnTo>
                      <a:lnTo>
                        <a:pt x="74" y="386"/>
                      </a:lnTo>
                      <a:lnTo>
                        <a:pt x="88" y="410"/>
                      </a:lnTo>
                      <a:lnTo>
                        <a:pt x="102" y="433"/>
                      </a:lnTo>
                      <a:lnTo>
                        <a:pt x="117" y="456"/>
                      </a:lnTo>
                      <a:lnTo>
                        <a:pt x="133" y="478"/>
                      </a:lnTo>
                      <a:lnTo>
                        <a:pt x="150" y="498"/>
                      </a:lnTo>
                      <a:lnTo>
                        <a:pt x="168" y="519"/>
                      </a:lnTo>
                      <a:lnTo>
                        <a:pt x="187" y="538"/>
                      </a:lnTo>
                      <a:lnTo>
                        <a:pt x="205" y="555"/>
                      </a:lnTo>
                      <a:lnTo>
                        <a:pt x="226" y="572"/>
                      </a:lnTo>
                      <a:lnTo>
                        <a:pt x="247" y="588"/>
                      </a:lnTo>
                      <a:lnTo>
                        <a:pt x="268" y="601"/>
                      </a:lnTo>
                      <a:lnTo>
                        <a:pt x="290" y="615"/>
                      </a:lnTo>
                      <a:lnTo>
                        <a:pt x="313" y="627"/>
                      </a:lnTo>
                      <a:lnTo>
                        <a:pt x="336" y="638"/>
                      </a:lnTo>
                      <a:lnTo>
                        <a:pt x="359" y="647"/>
                      </a:lnTo>
                      <a:lnTo>
                        <a:pt x="378" y="653"/>
                      </a:lnTo>
                      <a:lnTo>
                        <a:pt x="423" y="638"/>
                      </a:lnTo>
                      <a:lnTo>
                        <a:pt x="467" y="622"/>
                      </a:lnTo>
                      <a:lnTo>
                        <a:pt x="511" y="604"/>
                      </a:lnTo>
                      <a:lnTo>
                        <a:pt x="554" y="586"/>
                      </a:lnTo>
                      <a:lnTo>
                        <a:pt x="597" y="566"/>
                      </a:lnTo>
                      <a:lnTo>
                        <a:pt x="637" y="546"/>
                      </a:lnTo>
                      <a:lnTo>
                        <a:pt x="677" y="525"/>
                      </a:lnTo>
                      <a:lnTo>
                        <a:pt x="714" y="504"/>
                      </a:lnTo>
                      <a:lnTo>
                        <a:pt x="751" y="481"/>
                      </a:lnTo>
                      <a:lnTo>
                        <a:pt x="784" y="456"/>
                      </a:lnTo>
                      <a:lnTo>
                        <a:pt x="818" y="433"/>
                      </a:lnTo>
                      <a:lnTo>
                        <a:pt x="848" y="407"/>
                      </a:lnTo>
                      <a:lnTo>
                        <a:pt x="877" y="382"/>
                      </a:lnTo>
                      <a:lnTo>
                        <a:pt x="902" y="356"/>
                      </a:lnTo>
                      <a:lnTo>
                        <a:pt x="927" y="329"/>
                      </a:lnTo>
                      <a:lnTo>
                        <a:pt x="947" y="301"/>
                      </a:lnTo>
                      <a:lnTo>
                        <a:pt x="959" y="291"/>
                      </a:lnTo>
                      <a:lnTo>
                        <a:pt x="968" y="280"/>
                      </a:lnTo>
                      <a:lnTo>
                        <a:pt x="974" y="269"/>
                      </a:lnTo>
                      <a:lnTo>
                        <a:pt x="978" y="259"/>
                      </a:lnTo>
                      <a:lnTo>
                        <a:pt x="979" y="251"/>
                      </a:lnTo>
                      <a:lnTo>
                        <a:pt x="979" y="243"/>
                      </a:lnTo>
                      <a:lnTo>
                        <a:pt x="976" y="235"/>
                      </a:lnTo>
                      <a:lnTo>
                        <a:pt x="973" y="228"/>
                      </a:lnTo>
                      <a:lnTo>
                        <a:pt x="969" y="223"/>
                      </a:lnTo>
                      <a:lnTo>
                        <a:pt x="964" y="217"/>
                      </a:lnTo>
                      <a:lnTo>
                        <a:pt x="959" y="212"/>
                      </a:lnTo>
                      <a:lnTo>
                        <a:pt x="953" y="208"/>
                      </a:lnTo>
                      <a:lnTo>
                        <a:pt x="943" y="202"/>
                      </a:lnTo>
                      <a:lnTo>
                        <a:pt x="936" y="200"/>
                      </a:lnTo>
                      <a:lnTo>
                        <a:pt x="934" y="198"/>
                      </a:lnTo>
                      <a:lnTo>
                        <a:pt x="931" y="197"/>
                      </a:lnTo>
                      <a:lnTo>
                        <a:pt x="928" y="197"/>
                      </a:lnTo>
                      <a:lnTo>
                        <a:pt x="924" y="196"/>
                      </a:lnTo>
                      <a:lnTo>
                        <a:pt x="921" y="194"/>
                      </a:lnTo>
                      <a:lnTo>
                        <a:pt x="916" y="194"/>
                      </a:lnTo>
                      <a:lnTo>
                        <a:pt x="913" y="193"/>
                      </a:lnTo>
                      <a:lnTo>
                        <a:pt x="908" y="192"/>
                      </a:lnTo>
                      <a:lnTo>
                        <a:pt x="907" y="196"/>
                      </a:lnTo>
                      <a:lnTo>
                        <a:pt x="901" y="217"/>
                      </a:lnTo>
                      <a:lnTo>
                        <a:pt x="895" y="240"/>
                      </a:lnTo>
                      <a:lnTo>
                        <a:pt x="887" y="262"/>
                      </a:lnTo>
                      <a:lnTo>
                        <a:pt x="879" y="283"/>
                      </a:lnTo>
                      <a:lnTo>
                        <a:pt x="871" y="304"/>
                      </a:lnTo>
                      <a:lnTo>
                        <a:pt x="861" y="323"/>
                      </a:lnTo>
                      <a:lnTo>
                        <a:pt x="850" y="344"/>
                      </a:lnTo>
                      <a:lnTo>
                        <a:pt x="839" y="361"/>
                      </a:lnTo>
                      <a:lnTo>
                        <a:pt x="827" y="380"/>
                      </a:lnTo>
                      <a:lnTo>
                        <a:pt x="813" y="398"/>
                      </a:lnTo>
                      <a:lnTo>
                        <a:pt x="800" y="414"/>
                      </a:lnTo>
                      <a:lnTo>
                        <a:pt x="787" y="430"/>
                      </a:lnTo>
                      <a:lnTo>
                        <a:pt x="771" y="445"/>
                      </a:lnTo>
                      <a:lnTo>
                        <a:pt x="755" y="459"/>
                      </a:lnTo>
                      <a:lnTo>
                        <a:pt x="740" y="472"/>
                      </a:lnTo>
                      <a:lnTo>
                        <a:pt x="723" y="485"/>
                      </a:lnTo>
                      <a:lnTo>
                        <a:pt x="705" y="497"/>
                      </a:lnTo>
                      <a:lnTo>
                        <a:pt x="688" y="506"/>
                      </a:lnTo>
                      <a:lnTo>
                        <a:pt x="671" y="516"/>
                      </a:lnTo>
                      <a:lnTo>
                        <a:pt x="652" y="525"/>
                      </a:lnTo>
                      <a:lnTo>
                        <a:pt x="633" y="532"/>
                      </a:lnTo>
                      <a:lnTo>
                        <a:pt x="613" y="539"/>
                      </a:lnTo>
                      <a:lnTo>
                        <a:pt x="593" y="544"/>
                      </a:lnTo>
                      <a:lnTo>
                        <a:pt x="573" y="548"/>
                      </a:lnTo>
                      <a:lnTo>
                        <a:pt x="553" y="551"/>
                      </a:lnTo>
                      <a:lnTo>
                        <a:pt x="532" y="554"/>
                      </a:lnTo>
                      <a:lnTo>
                        <a:pt x="511" y="554"/>
                      </a:lnTo>
                      <a:lnTo>
                        <a:pt x="490" y="554"/>
                      </a:lnTo>
                      <a:lnTo>
                        <a:pt x="469" y="551"/>
                      </a:lnTo>
                      <a:lnTo>
                        <a:pt x="450" y="548"/>
                      </a:lnTo>
                      <a:lnTo>
                        <a:pt x="429" y="544"/>
                      </a:lnTo>
                      <a:lnTo>
                        <a:pt x="409" y="539"/>
                      </a:lnTo>
                      <a:lnTo>
                        <a:pt x="389" y="532"/>
                      </a:lnTo>
                      <a:lnTo>
                        <a:pt x="371" y="525"/>
                      </a:lnTo>
                      <a:lnTo>
                        <a:pt x="352" y="516"/>
                      </a:lnTo>
                      <a:lnTo>
                        <a:pt x="334" y="506"/>
                      </a:lnTo>
                      <a:lnTo>
                        <a:pt x="316" y="497"/>
                      </a:lnTo>
                      <a:lnTo>
                        <a:pt x="299" y="485"/>
                      </a:lnTo>
                      <a:lnTo>
                        <a:pt x="283" y="472"/>
                      </a:lnTo>
                      <a:lnTo>
                        <a:pt x="267" y="459"/>
                      </a:lnTo>
                      <a:lnTo>
                        <a:pt x="252" y="445"/>
                      </a:lnTo>
                      <a:lnTo>
                        <a:pt x="236" y="430"/>
                      </a:lnTo>
                      <a:lnTo>
                        <a:pt x="223" y="414"/>
                      </a:lnTo>
                      <a:lnTo>
                        <a:pt x="209" y="398"/>
                      </a:lnTo>
                      <a:lnTo>
                        <a:pt x="196" y="380"/>
                      </a:lnTo>
                      <a:lnTo>
                        <a:pt x="184" y="361"/>
                      </a:lnTo>
                      <a:lnTo>
                        <a:pt x="173" y="344"/>
                      </a:lnTo>
                      <a:lnTo>
                        <a:pt x="162" y="323"/>
                      </a:lnTo>
                      <a:lnTo>
                        <a:pt x="152" y="304"/>
                      </a:lnTo>
                      <a:lnTo>
                        <a:pt x="143" y="283"/>
                      </a:lnTo>
                      <a:lnTo>
                        <a:pt x="135" y="262"/>
                      </a:lnTo>
                      <a:lnTo>
                        <a:pt x="128" y="240"/>
                      </a:lnTo>
                      <a:lnTo>
                        <a:pt x="121" y="217"/>
                      </a:lnTo>
                      <a:lnTo>
                        <a:pt x="116" y="196"/>
                      </a:lnTo>
                      <a:lnTo>
                        <a:pt x="111" y="173"/>
                      </a:lnTo>
                      <a:lnTo>
                        <a:pt x="108" y="148"/>
                      </a:lnTo>
                      <a:lnTo>
                        <a:pt x="104" y="124"/>
                      </a:lnTo>
                      <a:lnTo>
                        <a:pt x="103" y="101"/>
                      </a:lnTo>
                      <a:lnTo>
                        <a:pt x="102" y="75"/>
                      </a:lnTo>
                      <a:lnTo>
                        <a:pt x="103" y="50"/>
                      </a:lnTo>
                      <a:lnTo>
                        <a:pt x="104" y="26"/>
                      </a:lnTo>
                      <a:lnTo>
                        <a:pt x="108" y="3"/>
                      </a:lnTo>
                      <a:lnTo>
                        <a:pt x="108" y="0"/>
                      </a:lnTo>
                      <a:lnTo>
                        <a:pt x="93" y="3"/>
                      </a:lnTo>
                      <a:lnTo>
                        <a:pt x="78" y="6"/>
                      </a:lnTo>
                      <a:lnTo>
                        <a:pt x="64" y="8"/>
                      </a:lnTo>
                      <a:lnTo>
                        <a:pt x="51" y="11"/>
                      </a:lnTo>
                      <a:lnTo>
                        <a:pt x="37" y="14"/>
                      </a:lnTo>
                      <a:lnTo>
                        <a:pt x="26" y="15"/>
                      </a:lnTo>
                      <a:lnTo>
                        <a:pt x="14" y="17"/>
                      </a:lnTo>
                      <a:lnTo>
                        <a:pt x="3" y="18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Freeform 273"/>
                <p:cNvSpPr/>
                <p:nvPr/>
              </p:nvSpPr>
              <p:spPr>
                <a:xfrm>
                  <a:off x="6601680" y="3445200"/>
                  <a:ext cx="1053000" cy="318960"/>
                </a:xfrm>
                <a:custGeom>
                  <a:avLst/>
                  <a:gdLst>
                    <a:gd name="textAreaLeft" fmla="*/ 0 w 1053000"/>
                    <a:gd name="textAreaRight" fmla="*/ 1053360 w 1053000"/>
                    <a:gd name="textAreaTop" fmla="*/ 0 h 318960"/>
                    <a:gd name="textAreaBottom" fmla="*/ 319320 h 318960"/>
                  </a:gdLst>
                  <a:ahLst/>
                  <a:rect l="textAreaLeft" t="textAreaTop" r="textAreaRight" b="textAreaBottom"/>
                  <a:pathLst>
                    <a:path w="806" h="573">
                      <a:moveTo>
                        <a:pt x="6" y="19"/>
                      </a:moveTo>
                      <a:lnTo>
                        <a:pt x="6" y="22"/>
                      </a:lnTo>
                      <a:lnTo>
                        <a:pt x="2" y="45"/>
                      </a:lnTo>
                      <a:lnTo>
                        <a:pt x="1" y="69"/>
                      </a:lnTo>
                      <a:lnTo>
                        <a:pt x="0" y="94"/>
                      </a:lnTo>
                      <a:lnTo>
                        <a:pt x="1" y="120"/>
                      </a:lnTo>
                      <a:lnTo>
                        <a:pt x="2" y="143"/>
                      </a:lnTo>
                      <a:lnTo>
                        <a:pt x="6" y="167"/>
                      </a:lnTo>
                      <a:lnTo>
                        <a:pt x="9" y="192"/>
                      </a:lnTo>
                      <a:lnTo>
                        <a:pt x="14" y="215"/>
                      </a:lnTo>
                      <a:lnTo>
                        <a:pt x="19" y="236"/>
                      </a:lnTo>
                      <a:lnTo>
                        <a:pt x="26" y="259"/>
                      </a:lnTo>
                      <a:lnTo>
                        <a:pt x="33" y="281"/>
                      </a:lnTo>
                      <a:lnTo>
                        <a:pt x="41" y="302"/>
                      </a:lnTo>
                      <a:lnTo>
                        <a:pt x="50" y="323"/>
                      </a:lnTo>
                      <a:lnTo>
                        <a:pt x="60" y="342"/>
                      </a:lnTo>
                      <a:lnTo>
                        <a:pt x="71" y="363"/>
                      </a:lnTo>
                      <a:lnTo>
                        <a:pt x="82" y="380"/>
                      </a:lnTo>
                      <a:lnTo>
                        <a:pt x="94" y="399"/>
                      </a:lnTo>
                      <a:lnTo>
                        <a:pt x="107" y="417"/>
                      </a:lnTo>
                      <a:lnTo>
                        <a:pt x="121" y="433"/>
                      </a:lnTo>
                      <a:lnTo>
                        <a:pt x="134" y="449"/>
                      </a:lnTo>
                      <a:lnTo>
                        <a:pt x="150" y="464"/>
                      </a:lnTo>
                      <a:lnTo>
                        <a:pt x="165" y="478"/>
                      </a:lnTo>
                      <a:lnTo>
                        <a:pt x="181" y="491"/>
                      </a:lnTo>
                      <a:lnTo>
                        <a:pt x="197" y="504"/>
                      </a:lnTo>
                      <a:lnTo>
                        <a:pt x="214" y="516"/>
                      </a:lnTo>
                      <a:lnTo>
                        <a:pt x="232" y="525"/>
                      </a:lnTo>
                      <a:lnTo>
                        <a:pt x="250" y="535"/>
                      </a:lnTo>
                      <a:lnTo>
                        <a:pt x="269" y="544"/>
                      </a:lnTo>
                      <a:lnTo>
                        <a:pt x="287" y="551"/>
                      </a:lnTo>
                      <a:lnTo>
                        <a:pt x="307" y="558"/>
                      </a:lnTo>
                      <a:lnTo>
                        <a:pt x="327" y="563"/>
                      </a:lnTo>
                      <a:lnTo>
                        <a:pt x="348" y="567"/>
                      </a:lnTo>
                      <a:lnTo>
                        <a:pt x="367" y="570"/>
                      </a:lnTo>
                      <a:lnTo>
                        <a:pt x="388" y="573"/>
                      </a:lnTo>
                      <a:lnTo>
                        <a:pt x="409" y="573"/>
                      </a:lnTo>
                      <a:lnTo>
                        <a:pt x="430" y="573"/>
                      </a:lnTo>
                      <a:lnTo>
                        <a:pt x="451" y="570"/>
                      </a:lnTo>
                      <a:lnTo>
                        <a:pt x="471" y="567"/>
                      </a:lnTo>
                      <a:lnTo>
                        <a:pt x="491" y="563"/>
                      </a:lnTo>
                      <a:lnTo>
                        <a:pt x="511" y="558"/>
                      </a:lnTo>
                      <a:lnTo>
                        <a:pt x="531" y="551"/>
                      </a:lnTo>
                      <a:lnTo>
                        <a:pt x="550" y="544"/>
                      </a:lnTo>
                      <a:lnTo>
                        <a:pt x="569" y="535"/>
                      </a:lnTo>
                      <a:lnTo>
                        <a:pt x="586" y="525"/>
                      </a:lnTo>
                      <a:lnTo>
                        <a:pt x="603" y="516"/>
                      </a:lnTo>
                      <a:lnTo>
                        <a:pt x="621" y="504"/>
                      </a:lnTo>
                      <a:lnTo>
                        <a:pt x="638" y="491"/>
                      </a:lnTo>
                      <a:lnTo>
                        <a:pt x="653" y="478"/>
                      </a:lnTo>
                      <a:lnTo>
                        <a:pt x="669" y="464"/>
                      </a:lnTo>
                      <a:lnTo>
                        <a:pt x="685" y="449"/>
                      </a:lnTo>
                      <a:lnTo>
                        <a:pt x="698" y="433"/>
                      </a:lnTo>
                      <a:lnTo>
                        <a:pt x="711" y="417"/>
                      </a:lnTo>
                      <a:lnTo>
                        <a:pt x="725" y="399"/>
                      </a:lnTo>
                      <a:lnTo>
                        <a:pt x="737" y="380"/>
                      </a:lnTo>
                      <a:lnTo>
                        <a:pt x="748" y="363"/>
                      </a:lnTo>
                      <a:lnTo>
                        <a:pt x="759" y="342"/>
                      </a:lnTo>
                      <a:lnTo>
                        <a:pt x="769" y="323"/>
                      </a:lnTo>
                      <a:lnTo>
                        <a:pt x="777" y="302"/>
                      </a:lnTo>
                      <a:lnTo>
                        <a:pt x="785" y="281"/>
                      </a:lnTo>
                      <a:lnTo>
                        <a:pt x="793" y="259"/>
                      </a:lnTo>
                      <a:lnTo>
                        <a:pt x="799" y="236"/>
                      </a:lnTo>
                      <a:lnTo>
                        <a:pt x="805" y="215"/>
                      </a:lnTo>
                      <a:lnTo>
                        <a:pt x="806" y="211"/>
                      </a:lnTo>
                      <a:lnTo>
                        <a:pt x="795" y="208"/>
                      </a:lnTo>
                      <a:lnTo>
                        <a:pt x="783" y="205"/>
                      </a:lnTo>
                      <a:lnTo>
                        <a:pt x="770" y="204"/>
                      </a:lnTo>
                      <a:lnTo>
                        <a:pt x="757" y="201"/>
                      </a:lnTo>
                      <a:lnTo>
                        <a:pt x="745" y="197"/>
                      </a:lnTo>
                      <a:lnTo>
                        <a:pt x="731" y="194"/>
                      </a:lnTo>
                      <a:lnTo>
                        <a:pt x="718" y="192"/>
                      </a:lnTo>
                      <a:lnTo>
                        <a:pt x="705" y="189"/>
                      </a:lnTo>
                      <a:lnTo>
                        <a:pt x="702" y="201"/>
                      </a:lnTo>
                      <a:lnTo>
                        <a:pt x="697" y="217"/>
                      </a:lnTo>
                      <a:lnTo>
                        <a:pt x="691" y="234"/>
                      </a:lnTo>
                      <a:lnTo>
                        <a:pt x="686" y="250"/>
                      </a:lnTo>
                      <a:lnTo>
                        <a:pt x="679" y="266"/>
                      </a:lnTo>
                      <a:lnTo>
                        <a:pt x="672" y="281"/>
                      </a:lnTo>
                      <a:lnTo>
                        <a:pt x="664" y="295"/>
                      </a:lnTo>
                      <a:lnTo>
                        <a:pt x="654" y="310"/>
                      </a:lnTo>
                      <a:lnTo>
                        <a:pt x="645" y="323"/>
                      </a:lnTo>
                      <a:lnTo>
                        <a:pt x="636" y="335"/>
                      </a:lnTo>
                      <a:lnTo>
                        <a:pt x="625" y="349"/>
                      </a:lnTo>
                      <a:lnTo>
                        <a:pt x="615" y="360"/>
                      </a:lnTo>
                      <a:lnTo>
                        <a:pt x="605" y="372"/>
                      </a:lnTo>
                      <a:lnTo>
                        <a:pt x="593" y="382"/>
                      </a:lnTo>
                      <a:lnTo>
                        <a:pt x="580" y="392"/>
                      </a:lnTo>
                      <a:lnTo>
                        <a:pt x="568" y="402"/>
                      </a:lnTo>
                      <a:lnTo>
                        <a:pt x="555" y="410"/>
                      </a:lnTo>
                      <a:lnTo>
                        <a:pt x="542" y="418"/>
                      </a:lnTo>
                      <a:lnTo>
                        <a:pt x="528" y="425"/>
                      </a:lnTo>
                      <a:lnTo>
                        <a:pt x="514" y="432"/>
                      </a:lnTo>
                      <a:lnTo>
                        <a:pt x="500" y="437"/>
                      </a:lnTo>
                      <a:lnTo>
                        <a:pt x="485" y="443"/>
                      </a:lnTo>
                      <a:lnTo>
                        <a:pt x="471" y="447"/>
                      </a:lnTo>
                      <a:lnTo>
                        <a:pt x="456" y="449"/>
                      </a:lnTo>
                      <a:lnTo>
                        <a:pt x="440" y="452"/>
                      </a:lnTo>
                      <a:lnTo>
                        <a:pt x="425" y="453"/>
                      </a:lnTo>
                      <a:lnTo>
                        <a:pt x="409" y="453"/>
                      </a:lnTo>
                      <a:lnTo>
                        <a:pt x="394" y="453"/>
                      </a:lnTo>
                      <a:lnTo>
                        <a:pt x="378" y="452"/>
                      </a:lnTo>
                      <a:lnTo>
                        <a:pt x="363" y="449"/>
                      </a:lnTo>
                      <a:lnTo>
                        <a:pt x="348" y="447"/>
                      </a:lnTo>
                      <a:lnTo>
                        <a:pt x="332" y="443"/>
                      </a:lnTo>
                      <a:lnTo>
                        <a:pt x="319" y="437"/>
                      </a:lnTo>
                      <a:lnTo>
                        <a:pt x="304" y="432"/>
                      </a:lnTo>
                      <a:lnTo>
                        <a:pt x="290" y="425"/>
                      </a:lnTo>
                      <a:lnTo>
                        <a:pt x="277" y="418"/>
                      </a:lnTo>
                      <a:lnTo>
                        <a:pt x="263" y="410"/>
                      </a:lnTo>
                      <a:lnTo>
                        <a:pt x="250" y="402"/>
                      </a:lnTo>
                      <a:lnTo>
                        <a:pt x="238" y="392"/>
                      </a:lnTo>
                      <a:lnTo>
                        <a:pt x="226" y="382"/>
                      </a:lnTo>
                      <a:lnTo>
                        <a:pt x="214" y="372"/>
                      </a:lnTo>
                      <a:lnTo>
                        <a:pt x="203" y="360"/>
                      </a:lnTo>
                      <a:lnTo>
                        <a:pt x="192" y="349"/>
                      </a:lnTo>
                      <a:lnTo>
                        <a:pt x="182" y="335"/>
                      </a:lnTo>
                      <a:lnTo>
                        <a:pt x="173" y="323"/>
                      </a:lnTo>
                      <a:lnTo>
                        <a:pt x="163" y="310"/>
                      </a:lnTo>
                      <a:lnTo>
                        <a:pt x="155" y="295"/>
                      </a:lnTo>
                      <a:lnTo>
                        <a:pt x="147" y="281"/>
                      </a:lnTo>
                      <a:lnTo>
                        <a:pt x="140" y="266"/>
                      </a:lnTo>
                      <a:lnTo>
                        <a:pt x="133" y="250"/>
                      </a:lnTo>
                      <a:lnTo>
                        <a:pt x="126" y="234"/>
                      </a:lnTo>
                      <a:lnTo>
                        <a:pt x="122" y="217"/>
                      </a:lnTo>
                      <a:lnTo>
                        <a:pt x="117" y="201"/>
                      </a:lnTo>
                      <a:lnTo>
                        <a:pt x="112" y="185"/>
                      </a:lnTo>
                      <a:lnTo>
                        <a:pt x="109" y="167"/>
                      </a:lnTo>
                      <a:lnTo>
                        <a:pt x="107" y="150"/>
                      </a:lnTo>
                      <a:lnTo>
                        <a:pt x="104" y="131"/>
                      </a:lnTo>
                      <a:lnTo>
                        <a:pt x="103" y="113"/>
                      </a:lnTo>
                      <a:lnTo>
                        <a:pt x="103" y="94"/>
                      </a:lnTo>
                      <a:lnTo>
                        <a:pt x="103" y="76"/>
                      </a:lnTo>
                      <a:lnTo>
                        <a:pt x="104" y="57"/>
                      </a:lnTo>
                      <a:lnTo>
                        <a:pt x="107" y="40"/>
                      </a:lnTo>
                      <a:lnTo>
                        <a:pt x="109" y="22"/>
                      </a:lnTo>
                      <a:lnTo>
                        <a:pt x="112" y="4"/>
                      </a:lnTo>
                      <a:lnTo>
                        <a:pt x="114" y="0"/>
                      </a:lnTo>
                      <a:lnTo>
                        <a:pt x="100" y="2"/>
                      </a:lnTo>
                      <a:lnTo>
                        <a:pt x="85" y="4"/>
                      </a:lnTo>
                      <a:lnTo>
                        <a:pt x="71" y="7"/>
                      </a:lnTo>
                      <a:lnTo>
                        <a:pt x="58" y="10"/>
                      </a:lnTo>
                      <a:lnTo>
                        <a:pt x="44" y="12"/>
                      </a:lnTo>
                      <a:lnTo>
                        <a:pt x="31" y="15"/>
                      </a:lnTo>
                      <a:lnTo>
                        <a:pt x="19" y="17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Freeform 274"/>
                <p:cNvSpPr/>
                <p:nvPr/>
              </p:nvSpPr>
              <p:spPr>
                <a:xfrm>
                  <a:off x="6734880" y="3436920"/>
                  <a:ext cx="786240" cy="260640"/>
                </a:xfrm>
                <a:custGeom>
                  <a:avLst/>
                  <a:gdLst>
                    <a:gd name="textAreaLeft" fmla="*/ 0 w 786240"/>
                    <a:gd name="textAreaRight" fmla="*/ 786600 w 7862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602" h="468">
                      <a:moveTo>
                        <a:pt x="11" y="15"/>
                      </a:moveTo>
                      <a:lnTo>
                        <a:pt x="9" y="19"/>
                      </a:lnTo>
                      <a:lnTo>
                        <a:pt x="6" y="37"/>
                      </a:lnTo>
                      <a:lnTo>
                        <a:pt x="4" y="55"/>
                      </a:lnTo>
                      <a:lnTo>
                        <a:pt x="1" y="72"/>
                      </a:lnTo>
                      <a:lnTo>
                        <a:pt x="0" y="91"/>
                      </a:lnTo>
                      <a:lnTo>
                        <a:pt x="0" y="109"/>
                      </a:lnTo>
                      <a:lnTo>
                        <a:pt x="0" y="128"/>
                      </a:lnTo>
                      <a:lnTo>
                        <a:pt x="1" y="146"/>
                      </a:lnTo>
                      <a:lnTo>
                        <a:pt x="4" y="165"/>
                      </a:lnTo>
                      <a:lnTo>
                        <a:pt x="6" y="182"/>
                      </a:lnTo>
                      <a:lnTo>
                        <a:pt x="9" y="200"/>
                      </a:lnTo>
                      <a:lnTo>
                        <a:pt x="14" y="216"/>
                      </a:lnTo>
                      <a:lnTo>
                        <a:pt x="19" y="232"/>
                      </a:lnTo>
                      <a:lnTo>
                        <a:pt x="23" y="249"/>
                      </a:lnTo>
                      <a:lnTo>
                        <a:pt x="30" y="265"/>
                      </a:lnTo>
                      <a:lnTo>
                        <a:pt x="37" y="281"/>
                      </a:lnTo>
                      <a:lnTo>
                        <a:pt x="44" y="296"/>
                      </a:lnTo>
                      <a:lnTo>
                        <a:pt x="52" y="310"/>
                      </a:lnTo>
                      <a:lnTo>
                        <a:pt x="60" y="325"/>
                      </a:lnTo>
                      <a:lnTo>
                        <a:pt x="70" y="338"/>
                      </a:lnTo>
                      <a:lnTo>
                        <a:pt x="79" y="350"/>
                      </a:lnTo>
                      <a:lnTo>
                        <a:pt x="89" y="364"/>
                      </a:lnTo>
                      <a:lnTo>
                        <a:pt x="100" y="375"/>
                      </a:lnTo>
                      <a:lnTo>
                        <a:pt x="111" y="387"/>
                      </a:lnTo>
                      <a:lnTo>
                        <a:pt x="123" y="397"/>
                      </a:lnTo>
                      <a:lnTo>
                        <a:pt x="135" y="407"/>
                      </a:lnTo>
                      <a:lnTo>
                        <a:pt x="147" y="417"/>
                      </a:lnTo>
                      <a:lnTo>
                        <a:pt x="160" y="425"/>
                      </a:lnTo>
                      <a:lnTo>
                        <a:pt x="174" y="433"/>
                      </a:lnTo>
                      <a:lnTo>
                        <a:pt x="187" y="440"/>
                      </a:lnTo>
                      <a:lnTo>
                        <a:pt x="201" y="447"/>
                      </a:lnTo>
                      <a:lnTo>
                        <a:pt x="216" y="452"/>
                      </a:lnTo>
                      <a:lnTo>
                        <a:pt x="229" y="458"/>
                      </a:lnTo>
                      <a:lnTo>
                        <a:pt x="245" y="462"/>
                      </a:lnTo>
                      <a:lnTo>
                        <a:pt x="260" y="464"/>
                      </a:lnTo>
                      <a:lnTo>
                        <a:pt x="275" y="467"/>
                      </a:lnTo>
                      <a:lnTo>
                        <a:pt x="291" y="468"/>
                      </a:lnTo>
                      <a:lnTo>
                        <a:pt x="306" y="468"/>
                      </a:lnTo>
                      <a:lnTo>
                        <a:pt x="322" y="468"/>
                      </a:lnTo>
                      <a:lnTo>
                        <a:pt x="337" y="467"/>
                      </a:lnTo>
                      <a:lnTo>
                        <a:pt x="353" y="464"/>
                      </a:lnTo>
                      <a:lnTo>
                        <a:pt x="368" y="462"/>
                      </a:lnTo>
                      <a:lnTo>
                        <a:pt x="382" y="458"/>
                      </a:lnTo>
                      <a:lnTo>
                        <a:pt x="397" y="452"/>
                      </a:lnTo>
                      <a:lnTo>
                        <a:pt x="411" y="447"/>
                      </a:lnTo>
                      <a:lnTo>
                        <a:pt x="425" y="440"/>
                      </a:lnTo>
                      <a:lnTo>
                        <a:pt x="439" y="433"/>
                      </a:lnTo>
                      <a:lnTo>
                        <a:pt x="452" y="425"/>
                      </a:lnTo>
                      <a:lnTo>
                        <a:pt x="465" y="417"/>
                      </a:lnTo>
                      <a:lnTo>
                        <a:pt x="477" y="407"/>
                      </a:lnTo>
                      <a:lnTo>
                        <a:pt x="490" y="397"/>
                      </a:lnTo>
                      <a:lnTo>
                        <a:pt x="502" y="387"/>
                      </a:lnTo>
                      <a:lnTo>
                        <a:pt x="512" y="375"/>
                      </a:lnTo>
                      <a:lnTo>
                        <a:pt x="522" y="364"/>
                      </a:lnTo>
                      <a:lnTo>
                        <a:pt x="533" y="350"/>
                      </a:lnTo>
                      <a:lnTo>
                        <a:pt x="542" y="338"/>
                      </a:lnTo>
                      <a:lnTo>
                        <a:pt x="551" y="325"/>
                      </a:lnTo>
                      <a:lnTo>
                        <a:pt x="561" y="310"/>
                      </a:lnTo>
                      <a:lnTo>
                        <a:pt x="569" y="296"/>
                      </a:lnTo>
                      <a:lnTo>
                        <a:pt x="576" y="281"/>
                      </a:lnTo>
                      <a:lnTo>
                        <a:pt x="583" y="265"/>
                      </a:lnTo>
                      <a:lnTo>
                        <a:pt x="588" y="249"/>
                      </a:lnTo>
                      <a:lnTo>
                        <a:pt x="594" y="232"/>
                      </a:lnTo>
                      <a:lnTo>
                        <a:pt x="599" y="216"/>
                      </a:lnTo>
                      <a:lnTo>
                        <a:pt x="602" y="204"/>
                      </a:lnTo>
                      <a:lnTo>
                        <a:pt x="593" y="203"/>
                      </a:lnTo>
                      <a:lnTo>
                        <a:pt x="585" y="200"/>
                      </a:lnTo>
                      <a:lnTo>
                        <a:pt x="578" y="198"/>
                      </a:lnTo>
                      <a:lnTo>
                        <a:pt x="570" y="196"/>
                      </a:lnTo>
                      <a:lnTo>
                        <a:pt x="563" y="194"/>
                      </a:lnTo>
                      <a:lnTo>
                        <a:pt x="556" y="192"/>
                      </a:lnTo>
                      <a:lnTo>
                        <a:pt x="550" y="190"/>
                      </a:lnTo>
                      <a:lnTo>
                        <a:pt x="546" y="189"/>
                      </a:lnTo>
                      <a:lnTo>
                        <a:pt x="541" y="186"/>
                      </a:lnTo>
                      <a:lnTo>
                        <a:pt x="536" y="182"/>
                      </a:lnTo>
                      <a:lnTo>
                        <a:pt x="533" y="177"/>
                      </a:lnTo>
                      <a:lnTo>
                        <a:pt x="528" y="170"/>
                      </a:lnTo>
                      <a:lnTo>
                        <a:pt x="524" y="162"/>
                      </a:lnTo>
                      <a:lnTo>
                        <a:pt x="520" y="152"/>
                      </a:lnTo>
                      <a:lnTo>
                        <a:pt x="514" y="143"/>
                      </a:lnTo>
                      <a:lnTo>
                        <a:pt x="510" y="133"/>
                      </a:lnTo>
                      <a:lnTo>
                        <a:pt x="510" y="133"/>
                      </a:lnTo>
                      <a:lnTo>
                        <a:pt x="506" y="158"/>
                      </a:lnTo>
                      <a:lnTo>
                        <a:pt x="502" y="181"/>
                      </a:lnTo>
                      <a:lnTo>
                        <a:pt x="495" y="203"/>
                      </a:lnTo>
                      <a:lnTo>
                        <a:pt x="485" y="223"/>
                      </a:lnTo>
                      <a:lnTo>
                        <a:pt x="476" y="243"/>
                      </a:lnTo>
                      <a:lnTo>
                        <a:pt x="463" y="262"/>
                      </a:lnTo>
                      <a:lnTo>
                        <a:pt x="451" y="279"/>
                      </a:lnTo>
                      <a:lnTo>
                        <a:pt x="437" y="295"/>
                      </a:lnTo>
                      <a:lnTo>
                        <a:pt x="421" y="308"/>
                      </a:lnTo>
                      <a:lnTo>
                        <a:pt x="403" y="321"/>
                      </a:lnTo>
                      <a:lnTo>
                        <a:pt x="386" y="330"/>
                      </a:lnTo>
                      <a:lnTo>
                        <a:pt x="367" y="338"/>
                      </a:lnTo>
                      <a:lnTo>
                        <a:pt x="348" y="344"/>
                      </a:lnTo>
                      <a:lnTo>
                        <a:pt x="327" y="348"/>
                      </a:lnTo>
                      <a:lnTo>
                        <a:pt x="306" y="349"/>
                      </a:lnTo>
                      <a:lnTo>
                        <a:pt x="285" y="348"/>
                      </a:lnTo>
                      <a:lnTo>
                        <a:pt x="265" y="344"/>
                      </a:lnTo>
                      <a:lnTo>
                        <a:pt x="246" y="338"/>
                      </a:lnTo>
                      <a:lnTo>
                        <a:pt x="227" y="330"/>
                      </a:lnTo>
                      <a:lnTo>
                        <a:pt x="209" y="321"/>
                      </a:lnTo>
                      <a:lnTo>
                        <a:pt x="192" y="308"/>
                      </a:lnTo>
                      <a:lnTo>
                        <a:pt x="176" y="295"/>
                      </a:lnTo>
                      <a:lnTo>
                        <a:pt x="162" y="279"/>
                      </a:lnTo>
                      <a:lnTo>
                        <a:pt x="148" y="262"/>
                      </a:lnTo>
                      <a:lnTo>
                        <a:pt x="137" y="243"/>
                      </a:lnTo>
                      <a:lnTo>
                        <a:pt x="126" y="223"/>
                      </a:lnTo>
                      <a:lnTo>
                        <a:pt x="118" y="203"/>
                      </a:lnTo>
                      <a:lnTo>
                        <a:pt x="111" y="181"/>
                      </a:lnTo>
                      <a:lnTo>
                        <a:pt x="106" y="158"/>
                      </a:lnTo>
                      <a:lnTo>
                        <a:pt x="103" y="133"/>
                      </a:lnTo>
                      <a:lnTo>
                        <a:pt x="102" y="109"/>
                      </a:lnTo>
                      <a:lnTo>
                        <a:pt x="103" y="84"/>
                      </a:lnTo>
                      <a:lnTo>
                        <a:pt x="106" y="61"/>
                      </a:lnTo>
                      <a:lnTo>
                        <a:pt x="111" y="38"/>
                      </a:lnTo>
                      <a:lnTo>
                        <a:pt x="118" y="17"/>
                      </a:lnTo>
                      <a:lnTo>
                        <a:pt x="125" y="0"/>
                      </a:lnTo>
                      <a:lnTo>
                        <a:pt x="110" y="2"/>
                      </a:lnTo>
                      <a:lnTo>
                        <a:pt x="95" y="3"/>
                      </a:lnTo>
                      <a:lnTo>
                        <a:pt x="81" y="4"/>
                      </a:lnTo>
                      <a:lnTo>
                        <a:pt x="66" y="7"/>
                      </a:lnTo>
                      <a:lnTo>
                        <a:pt x="52" y="8"/>
                      </a:lnTo>
                      <a:lnTo>
                        <a:pt x="38" y="10"/>
                      </a:lnTo>
                      <a:lnTo>
                        <a:pt x="25" y="13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Freeform 275"/>
                <p:cNvSpPr/>
                <p:nvPr/>
              </p:nvSpPr>
              <p:spPr>
                <a:xfrm>
                  <a:off x="6868440" y="3435120"/>
                  <a:ext cx="532800" cy="197280"/>
                </a:xfrm>
                <a:custGeom>
                  <a:avLst/>
                  <a:gdLst>
                    <a:gd name="textAreaLeft" fmla="*/ 0 w 532800"/>
                    <a:gd name="textAreaRight" fmla="*/ 533160 w 53280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08" h="354">
                      <a:moveTo>
                        <a:pt x="23" y="5"/>
                      </a:moveTo>
                      <a:lnTo>
                        <a:pt x="16" y="22"/>
                      </a:lnTo>
                      <a:lnTo>
                        <a:pt x="9" y="43"/>
                      </a:lnTo>
                      <a:lnTo>
                        <a:pt x="4" y="66"/>
                      </a:lnTo>
                      <a:lnTo>
                        <a:pt x="1" y="89"/>
                      </a:lnTo>
                      <a:lnTo>
                        <a:pt x="0" y="114"/>
                      </a:lnTo>
                      <a:lnTo>
                        <a:pt x="1" y="138"/>
                      </a:lnTo>
                      <a:lnTo>
                        <a:pt x="4" y="163"/>
                      </a:lnTo>
                      <a:lnTo>
                        <a:pt x="9" y="186"/>
                      </a:lnTo>
                      <a:lnTo>
                        <a:pt x="16" y="208"/>
                      </a:lnTo>
                      <a:lnTo>
                        <a:pt x="24" y="228"/>
                      </a:lnTo>
                      <a:lnTo>
                        <a:pt x="35" y="248"/>
                      </a:lnTo>
                      <a:lnTo>
                        <a:pt x="46" y="267"/>
                      </a:lnTo>
                      <a:lnTo>
                        <a:pt x="60" y="284"/>
                      </a:lnTo>
                      <a:lnTo>
                        <a:pt x="74" y="300"/>
                      </a:lnTo>
                      <a:lnTo>
                        <a:pt x="90" y="313"/>
                      </a:lnTo>
                      <a:lnTo>
                        <a:pt x="107" y="326"/>
                      </a:lnTo>
                      <a:lnTo>
                        <a:pt x="125" y="335"/>
                      </a:lnTo>
                      <a:lnTo>
                        <a:pt x="144" y="343"/>
                      </a:lnTo>
                      <a:lnTo>
                        <a:pt x="163" y="349"/>
                      </a:lnTo>
                      <a:lnTo>
                        <a:pt x="183" y="353"/>
                      </a:lnTo>
                      <a:lnTo>
                        <a:pt x="204" y="354"/>
                      </a:lnTo>
                      <a:lnTo>
                        <a:pt x="225" y="353"/>
                      </a:lnTo>
                      <a:lnTo>
                        <a:pt x="246" y="349"/>
                      </a:lnTo>
                      <a:lnTo>
                        <a:pt x="265" y="343"/>
                      </a:lnTo>
                      <a:lnTo>
                        <a:pt x="284" y="335"/>
                      </a:lnTo>
                      <a:lnTo>
                        <a:pt x="301" y="326"/>
                      </a:lnTo>
                      <a:lnTo>
                        <a:pt x="319" y="313"/>
                      </a:lnTo>
                      <a:lnTo>
                        <a:pt x="335" y="300"/>
                      </a:lnTo>
                      <a:lnTo>
                        <a:pt x="349" y="284"/>
                      </a:lnTo>
                      <a:lnTo>
                        <a:pt x="361" y="267"/>
                      </a:lnTo>
                      <a:lnTo>
                        <a:pt x="374" y="248"/>
                      </a:lnTo>
                      <a:lnTo>
                        <a:pt x="383" y="228"/>
                      </a:lnTo>
                      <a:lnTo>
                        <a:pt x="393" y="208"/>
                      </a:lnTo>
                      <a:lnTo>
                        <a:pt x="400" y="186"/>
                      </a:lnTo>
                      <a:lnTo>
                        <a:pt x="404" y="163"/>
                      </a:lnTo>
                      <a:lnTo>
                        <a:pt x="408" y="138"/>
                      </a:lnTo>
                      <a:lnTo>
                        <a:pt x="408" y="138"/>
                      </a:lnTo>
                      <a:lnTo>
                        <a:pt x="397" y="119"/>
                      </a:lnTo>
                      <a:lnTo>
                        <a:pt x="386" y="100"/>
                      </a:lnTo>
                      <a:lnTo>
                        <a:pt x="379" y="89"/>
                      </a:lnTo>
                      <a:lnTo>
                        <a:pt x="372" y="80"/>
                      </a:lnTo>
                      <a:lnTo>
                        <a:pt x="364" y="70"/>
                      </a:lnTo>
                      <a:lnTo>
                        <a:pt x="354" y="61"/>
                      </a:lnTo>
                      <a:lnTo>
                        <a:pt x="345" y="53"/>
                      </a:lnTo>
                      <a:lnTo>
                        <a:pt x="336" y="45"/>
                      </a:lnTo>
                      <a:lnTo>
                        <a:pt x="324" y="37"/>
                      </a:lnTo>
                      <a:lnTo>
                        <a:pt x="313" y="30"/>
                      </a:lnTo>
                      <a:lnTo>
                        <a:pt x="300" y="23"/>
                      </a:lnTo>
                      <a:lnTo>
                        <a:pt x="286" y="18"/>
                      </a:lnTo>
                      <a:lnTo>
                        <a:pt x="271" y="13"/>
                      </a:lnTo>
                      <a:lnTo>
                        <a:pt x="255" y="11"/>
                      </a:lnTo>
                      <a:lnTo>
                        <a:pt x="226" y="5"/>
                      </a:lnTo>
                      <a:lnTo>
                        <a:pt x="197" y="3"/>
                      </a:lnTo>
                      <a:lnTo>
                        <a:pt x="167" y="1"/>
                      </a:lnTo>
                      <a:lnTo>
                        <a:pt x="138" y="0"/>
                      </a:lnTo>
                      <a:lnTo>
                        <a:pt x="109" y="0"/>
                      </a:lnTo>
                      <a:lnTo>
                        <a:pt x="80" y="1"/>
                      </a:lnTo>
                      <a:lnTo>
                        <a:pt x="51" y="3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Freeform 276"/>
                <p:cNvSpPr/>
                <p:nvPr/>
              </p:nvSpPr>
              <p:spPr>
                <a:xfrm>
                  <a:off x="7001640" y="3435120"/>
                  <a:ext cx="266400" cy="1303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04" h="234">
                      <a:moveTo>
                        <a:pt x="204" y="113"/>
                      </a:moveTo>
                      <a:lnTo>
                        <a:pt x="204" y="101"/>
                      </a:lnTo>
                      <a:lnTo>
                        <a:pt x="203" y="90"/>
                      </a:lnTo>
                      <a:lnTo>
                        <a:pt x="200" y="78"/>
                      </a:lnTo>
                      <a:lnTo>
                        <a:pt x="197" y="67"/>
                      </a:lnTo>
                      <a:lnTo>
                        <a:pt x="192" y="56"/>
                      </a:lnTo>
                      <a:lnTo>
                        <a:pt x="186" y="46"/>
                      </a:lnTo>
                      <a:lnTo>
                        <a:pt x="181" y="37"/>
                      </a:lnTo>
                      <a:lnTo>
                        <a:pt x="175" y="29"/>
                      </a:lnTo>
                      <a:lnTo>
                        <a:pt x="167" y="21"/>
                      </a:lnTo>
                      <a:lnTo>
                        <a:pt x="160" y="14"/>
                      </a:lnTo>
                      <a:lnTo>
                        <a:pt x="152" y="10"/>
                      </a:lnTo>
                      <a:lnTo>
                        <a:pt x="142" y="7"/>
                      </a:lnTo>
                      <a:lnTo>
                        <a:pt x="132" y="6"/>
                      </a:lnTo>
                      <a:lnTo>
                        <a:pt x="122" y="4"/>
                      </a:lnTo>
                      <a:lnTo>
                        <a:pt x="111" y="3"/>
                      </a:lnTo>
                      <a:lnTo>
                        <a:pt x="101" y="3"/>
                      </a:lnTo>
                      <a:lnTo>
                        <a:pt x="90" y="2"/>
                      </a:lnTo>
                      <a:lnTo>
                        <a:pt x="80" y="0"/>
                      </a:lnTo>
                      <a:lnTo>
                        <a:pt x="69" y="0"/>
                      </a:lnTo>
                      <a:lnTo>
                        <a:pt x="63" y="3"/>
                      </a:lnTo>
                      <a:lnTo>
                        <a:pt x="53" y="8"/>
                      </a:lnTo>
                      <a:lnTo>
                        <a:pt x="45" y="14"/>
                      </a:lnTo>
                      <a:lnTo>
                        <a:pt x="37" y="21"/>
                      </a:lnTo>
                      <a:lnTo>
                        <a:pt x="30" y="29"/>
                      </a:lnTo>
                      <a:lnTo>
                        <a:pt x="23" y="37"/>
                      </a:lnTo>
                      <a:lnTo>
                        <a:pt x="17" y="46"/>
                      </a:lnTo>
                      <a:lnTo>
                        <a:pt x="13" y="56"/>
                      </a:lnTo>
                      <a:lnTo>
                        <a:pt x="8" y="67"/>
                      </a:lnTo>
                      <a:lnTo>
                        <a:pt x="5" y="78"/>
                      </a:lnTo>
                      <a:lnTo>
                        <a:pt x="2" y="90"/>
                      </a:lnTo>
                      <a:lnTo>
                        <a:pt x="1" y="101"/>
                      </a:lnTo>
                      <a:lnTo>
                        <a:pt x="0" y="113"/>
                      </a:lnTo>
                      <a:lnTo>
                        <a:pt x="1" y="125"/>
                      </a:lnTo>
                      <a:lnTo>
                        <a:pt x="2" y="137"/>
                      </a:lnTo>
                      <a:lnTo>
                        <a:pt x="5" y="150"/>
                      </a:lnTo>
                      <a:lnTo>
                        <a:pt x="8" y="160"/>
                      </a:lnTo>
                      <a:lnTo>
                        <a:pt x="13" y="170"/>
                      </a:lnTo>
                      <a:lnTo>
                        <a:pt x="17" y="181"/>
                      </a:lnTo>
                      <a:lnTo>
                        <a:pt x="23" y="190"/>
                      </a:lnTo>
                      <a:lnTo>
                        <a:pt x="30" y="198"/>
                      </a:lnTo>
                      <a:lnTo>
                        <a:pt x="37" y="205"/>
                      </a:lnTo>
                      <a:lnTo>
                        <a:pt x="45" y="213"/>
                      </a:lnTo>
                      <a:lnTo>
                        <a:pt x="53" y="219"/>
                      </a:lnTo>
                      <a:lnTo>
                        <a:pt x="63" y="224"/>
                      </a:lnTo>
                      <a:lnTo>
                        <a:pt x="72" y="228"/>
                      </a:lnTo>
                      <a:lnTo>
                        <a:pt x="82" y="231"/>
                      </a:lnTo>
                      <a:lnTo>
                        <a:pt x="92" y="232"/>
                      </a:lnTo>
                      <a:lnTo>
                        <a:pt x="102" y="234"/>
                      </a:lnTo>
                      <a:lnTo>
                        <a:pt x="112" y="232"/>
                      </a:lnTo>
                      <a:lnTo>
                        <a:pt x="123" y="231"/>
                      </a:lnTo>
                      <a:lnTo>
                        <a:pt x="133" y="228"/>
                      </a:lnTo>
                      <a:lnTo>
                        <a:pt x="142" y="224"/>
                      </a:lnTo>
                      <a:lnTo>
                        <a:pt x="151" y="219"/>
                      </a:lnTo>
                      <a:lnTo>
                        <a:pt x="160" y="213"/>
                      </a:lnTo>
                      <a:lnTo>
                        <a:pt x="167" y="205"/>
                      </a:lnTo>
                      <a:lnTo>
                        <a:pt x="175" y="198"/>
                      </a:lnTo>
                      <a:lnTo>
                        <a:pt x="181" y="190"/>
                      </a:lnTo>
                      <a:lnTo>
                        <a:pt x="186" y="181"/>
                      </a:lnTo>
                      <a:lnTo>
                        <a:pt x="192" y="170"/>
                      </a:lnTo>
                      <a:lnTo>
                        <a:pt x="197" y="160"/>
                      </a:lnTo>
                      <a:lnTo>
                        <a:pt x="200" y="150"/>
                      </a:lnTo>
                      <a:lnTo>
                        <a:pt x="203" y="137"/>
                      </a:lnTo>
                      <a:lnTo>
                        <a:pt x="204" y="125"/>
                      </a:lnTo>
                      <a:lnTo>
                        <a:pt x="204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Freeform 277"/>
                <p:cNvSpPr/>
                <p:nvPr/>
              </p:nvSpPr>
              <p:spPr>
                <a:xfrm>
                  <a:off x="5349960" y="3428640"/>
                  <a:ext cx="2396520" cy="436320"/>
                </a:xfrm>
                <a:custGeom>
                  <a:avLst/>
                  <a:gdLst>
                    <a:gd name="textAreaLeft" fmla="*/ 0 w 2396520"/>
                    <a:gd name="textAreaRight" fmla="*/ 2396880 w 239652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1833" h="784">
                      <a:moveTo>
                        <a:pt x="0" y="430"/>
                      </a:moveTo>
                      <a:lnTo>
                        <a:pt x="1" y="396"/>
                      </a:lnTo>
                      <a:lnTo>
                        <a:pt x="1" y="362"/>
                      </a:lnTo>
                      <a:lnTo>
                        <a:pt x="1" y="327"/>
                      </a:lnTo>
                      <a:lnTo>
                        <a:pt x="3" y="291"/>
                      </a:lnTo>
                      <a:lnTo>
                        <a:pt x="4" y="274"/>
                      </a:lnTo>
                      <a:lnTo>
                        <a:pt x="7" y="256"/>
                      </a:lnTo>
                      <a:lnTo>
                        <a:pt x="10" y="240"/>
                      </a:lnTo>
                      <a:lnTo>
                        <a:pt x="15" y="222"/>
                      </a:lnTo>
                      <a:lnTo>
                        <a:pt x="20" y="206"/>
                      </a:lnTo>
                      <a:lnTo>
                        <a:pt x="26" y="191"/>
                      </a:lnTo>
                      <a:lnTo>
                        <a:pt x="34" y="175"/>
                      </a:lnTo>
                      <a:lnTo>
                        <a:pt x="44" y="160"/>
                      </a:lnTo>
                      <a:lnTo>
                        <a:pt x="48" y="154"/>
                      </a:lnTo>
                      <a:lnTo>
                        <a:pt x="55" y="150"/>
                      </a:lnTo>
                      <a:lnTo>
                        <a:pt x="64" y="144"/>
                      </a:lnTo>
                      <a:lnTo>
                        <a:pt x="80" y="137"/>
                      </a:lnTo>
                      <a:lnTo>
                        <a:pt x="98" y="126"/>
                      </a:lnTo>
                      <a:lnTo>
                        <a:pt x="124" y="112"/>
                      </a:lnTo>
                      <a:lnTo>
                        <a:pt x="156" y="95"/>
                      </a:lnTo>
                      <a:lnTo>
                        <a:pt x="197" y="70"/>
                      </a:lnTo>
                      <a:lnTo>
                        <a:pt x="220" y="58"/>
                      </a:lnTo>
                      <a:lnTo>
                        <a:pt x="242" y="47"/>
                      </a:lnTo>
                      <a:lnTo>
                        <a:pt x="263" y="38"/>
                      </a:lnTo>
                      <a:lnTo>
                        <a:pt x="283" y="28"/>
                      </a:lnTo>
                      <a:lnTo>
                        <a:pt x="304" y="21"/>
                      </a:lnTo>
                      <a:lnTo>
                        <a:pt x="325" y="16"/>
                      </a:lnTo>
                      <a:lnTo>
                        <a:pt x="345" y="11"/>
                      </a:lnTo>
                      <a:lnTo>
                        <a:pt x="364" y="7"/>
                      </a:lnTo>
                      <a:lnTo>
                        <a:pt x="384" y="4"/>
                      </a:lnTo>
                      <a:lnTo>
                        <a:pt x="403" y="1"/>
                      </a:lnTo>
                      <a:lnTo>
                        <a:pt x="421" y="1"/>
                      </a:lnTo>
                      <a:lnTo>
                        <a:pt x="440" y="0"/>
                      </a:lnTo>
                      <a:lnTo>
                        <a:pt x="477" y="2"/>
                      </a:lnTo>
                      <a:lnTo>
                        <a:pt x="513" y="7"/>
                      </a:lnTo>
                      <a:lnTo>
                        <a:pt x="549" y="12"/>
                      </a:lnTo>
                      <a:lnTo>
                        <a:pt x="584" y="20"/>
                      </a:lnTo>
                      <a:lnTo>
                        <a:pt x="620" y="28"/>
                      </a:lnTo>
                      <a:lnTo>
                        <a:pt x="657" y="38"/>
                      </a:lnTo>
                      <a:lnTo>
                        <a:pt x="693" y="47"/>
                      </a:lnTo>
                      <a:lnTo>
                        <a:pt x="731" y="57"/>
                      </a:lnTo>
                      <a:lnTo>
                        <a:pt x="770" y="63"/>
                      </a:lnTo>
                      <a:lnTo>
                        <a:pt x="810" y="70"/>
                      </a:lnTo>
                      <a:lnTo>
                        <a:pt x="828" y="72"/>
                      </a:lnTo>
                      <a:lnTo>
                        <a:pt x="850" y="70"/>
                      </a:lnTo>
                      <a:lnTo>
                        <a:pt x="876" y="66"/>
                      </a:lnTo>
                      <a:lnTo>
                        <a:pt x="905" y="62"/>
                      </a:lnTo>
                      <a:lnTo>
                        <a:pt x="972" y="50"/>
                      </a:lnTo>
                      <a:lnTo>
                        <a:pt x="1051" y="35"/>
                      </a:lnTo>
                      <a:lnTo>
                        <a:pt x="1093" y="28"/>
                      </a:lnTo>
                      <a:lnTo>
                        <a:pt x="1137" y="21"/>
                      </a:lnTo>
                      <a:lnTo>
                        <a:pt x="1181" y="17"/>
                      </a:lnTo>
                      <a:lnTo>
                        <a:pt x="1227" y="13"/>
                      </a:lnTo>
                      <a:lnTo>
                        <a:pt x="1275" y="12"/>
                      </a:lnTo>
                      <a:lnTo>
                        <a:pt x="1321" y="13"/>
                      </a:lnTo>
                      <a:lnTo>
                        <a:pt x="1345" y="15"/>
                      </a:lnTo>
                      <a:lnTo>
                        <a:pt x="1368" y="16"/>
                      </a:lnTo>
                      <a:lnTo>
                        <a:pt x="1393" y="19"/>
                      </a:lnTo>
                      <a:lnTo>
                        <a:pt x="1416" y="23"/>
                      </a:lnTo>
                      <a:lnTo>
                        <a:pt x="1429" y="25"/>
                      </a:lnTo>
                      <a:lnTo>
                        <a:pt x="1441" y="28"/>
                      </a:lnTo>
                      <a:lnTo>
                        <a:pt x="1452" y="32"/>
                      </a:lnTo>
                      <a:lnTo>
                        <a:pt x="1463" y="36"/>
                      </a:lnTo>
                      <a:lnTo>
                        <a:pt x="1473" y="42"/>
                      </a:lnTo>
                      <a:lnTo>
                        <a:pt x="1483" y="47"/>
                      </a:lnTo>
                      <a:lnTo>
                        <a:pt x="1491" y="53"/>
                      </a:lnTo>
                      <a:lnTo>
                        <a:pt x="1500" y="59"/>
                      </a:lnTo>
                      <a:lnTo>
                        <a:pt x="1515" y="73"/>
                      </a:lnTo>
                      <a:lnTo>
                        <a:pt x="1528" y="88"/>
                      </a:lnTo>
                      <a:lnTo>
                        <a:pt x="1541" y="103"/>
                      </a:lnTo>
                      <a:lnTo>
                        <a:pt x="1550" y="118"/>
                      </a:lnTo>
                      <a:lnTo>
                        <a:pt x="1568" y="149"/>
                      </a:lnTo>
                      <a:lnTo>
                        <a:pt x="1581" y="175"/>
                      </a:lnTo>
                      <a:lnTo>
                        <a:pt x="1587" y="186"/>
                      </a:lnTo>
                      <a:lnTo>
                        <a:pt x="1593" y="195"/>
                      </a:lnTo>
                      <a:lnTo>
                        <a:pt x="1599" y="202"/>
                      </a:lnTo>
                      <a:lnTo>
                        <a:pt x="1605" y="206"/>
                      </a:lnTo>
                      <a:lnTo>
                        <a:pt x="1623" y="211"/>
                      </a:lnTo>
                      <a:lnTo>
                        <a:pt x="1647" y="218"/>
                      </a:lnTo>
                      <a:lnTo>
                        <a:pt x="1674" y="224"/>
                      </a:lnTo>
                      <a:lnTo>
                        <a:pt x="1703" y="230"/>
                      </a:lnTo>
                      <a:lnTo>
                        <a:pt x="1731" y="236"/>
                      </a:lnTo>
                      <a:lnTo>
                        <a:pt x="1755" y="241"/>
                      </a:lnTo>
                      <a:lnTo>
                        <a:pt x="1776" y="247"/>
                      </a:lnTo>
                      <a:lnTo>
                        <a:pt x="1790" y="251"/>
                      </a:lnTo>
                      <a:lnTo>
                        <a:pt x="1797" y="253"/>
                      </a:lnTo>
                      <a:lnTo>
                        <a:pt x="1807" y="259"/>
                      </a:lnTo>
                      <a:lnTo>
                        <a:pt x="1813" y="263"/>
                      </a:lnTo>
                      <a:lnTo>
                        <a:pt x="1818" y="268"/>
                      </a:lnTo>
                      <a:lnTo>
                        <a:pt x="1823" y="274"/>
                      </a:lnTo>
                      <a:lnTo>
                        <a:pt x="1827" y="279"/>
                      </a:lnTo>
                      <a:lnTo>
                        <a:pt x="1830" y="286"/>
                      </a:lnTo>
                      <a:lnTo>
                        <a:pt x="1833" y="294"/>
                      </a:lnTo>
                      <a:lnTo>
                        <a:pt x="1833" y="302"/>
                      </a:lnTo>
                      <a:lnTo>
                        <a:pt x="1832" y="310"/>
                      </a:lnTo>
                      <a:lnTo>
                        <a:pt x="1828" y="320"/>
                      </a:lnTo>
                      <a:lnTo>
                        <a:pt x="1822" y="331"/>
                      </a:lnTo>
                      <a:lnTo>
                        <a:pt x="1813" y="342"/>
                      </a:lnTo>
                      <a:lnTo>
                        <a:pt x="1801" y="352"/>
                      </a:lnTo>
                      <a:lnTo>
                        <a:pt x="1790" y="369"/>
                      </a:lnTo>
                      <a:lnTo>
                        <a:pt x="1777" y="384"/>
                      </a:lnTo>
                      <a:lnTo>
                        <a:pt x="1764" y="399"/>
                      </a:lnTo>
                      <a:lnTo>
                        <a:pt x="1749" y="414"/>
                      </a:lnTo>
                      <a:lnTo>
                        <a:pt x="1719" y="443"/>
                      </a:lnTo>
                      <a:lnTo>
                        <a:pt x="1686" y="472"/>
                      </a:lnTo>
                      <a:lnTo>
                        <a:pt x="1650" y="499"/>
                      </a:lnTo>
                      <a:lnTo>
                        <a:pt x="1612" y="526"/>
                      </a:lnTo>
                      <a:lnTo>
                        <a:pt x="1571" y="552"/>
                      </a:lnTo>
                      <a:lnTo>
                        <a:pt x="1528" y="578"/>
                      </a:lnTo>
                      <a:lnTo>
                        <a:pt x="1484" y="601"/>
                      </a:lnTo>
                      <a:lnTo>
                        <a:pt x="1438" y="624"/>
                      </a:lnTo>
                      <a:lnTo>
                        <a:pt x="1389" y="646"/>
                      </a:lnTo>
                      <a:lnTo>
                        <a:pt x="1341" y="665"/>
                      </a:lnTo>
                      <a:lnTo>
                        <a:pt x="1291" y="684"/>
                      </a:lnTo>
                      <a:lnTo>
                        <a:pt x="1240" y="701"/>
                      </a:lnTo>
                      <a:lnTo>
                        <a:pt x="1188" y="717"/>
                      </a:lnTo>
                      <a:lnTo>
                        <a:pt x="1136" y="732"/>
                      </a:lnTo>
                      <a:lnTo>
                        <a:pt x="1084" y="745"/>
                      </a:lnTo>
                      <a:lnTo>
                        <a:pt x="1030" y="755"/>
                      </a:lnTo>
                      <a:lnTo>
                        <a:pt x="978" y="765"/>
                      </a:lnTo>
                      <a:lnTo>
                        <a:pt x="926" y="773"/>
                      </a:lnTo>
                      <a:lnTo>
                        <a:pt x="874" y="779"/>
                      </a:lnTo>
                      <a:lnTo>
                        <a:pt x="823" y="783"/>
                      </a:lnTo>
                      <a:lnTo>
                        <a:pt x="773" y="784"/>
                      </a:lnTo>
                      <a:lnTo>
                        <a:pt x="723" y="784"/>
                      </a:lnTo>
                      <a:lnTo>
                        <a:pt x="676" y="781"/>
                      </a:lnTo>
                      <a:lnTo>
                        <a:pt x="630" y="777"/>
                      </a:lnTo>
                      <a:lnTo>
                        <a:pt x="586" y="770"/>
                      </a:lnTo>
                      <a:lnTo>
                        <a:pt x="543" y="761"/>
                      </a:lnTo>
                      <a:lnTo>
                        <a:pt x="522" y="755"/>
                      </a:lnTo>
                      <a:lnTo>
                        <a:pt x="502" y="749"/>
                      </a:lnTo>
                      <a:lnTo>
                        <a:pt x="483" y="742"/>
                      </a:lnTo>
                      <a:lnTo>
                        <a:pt x="463" y="735"/>
                      </a:lnTo>
                      <a:lnTo>
                        <a:pt x="445" y="727"/>
                      </a:lnTo>
                      <a:lnTo>
                        <a:pt x="427" y="719"/>
                      </a:lnTo>
                      <a:lnTo>
                        <a:pt x="411" y="709"/>
                      </a:lnTo>
                      <a:lnTo>
                        <a:pt x="395" y="700"/>
                      </a:lnTo>
                      <a:lnTo>
                        <a:pt x="385" y="697"/>
                      </a:lnTo>
                      <a:lnTo>
                        <a:pt x="375" y="694"/>
                      </a:lnTo>
                      <a:lnTo>
                        <a:pt x="364" y="690"/>
                      </a:lnTo>
                      <a:lnTo>
                        <a:pt x="354" y="685"/>
                      </a:lnTo>
                      <a:lnTo>
                        <a:pt x="331" y="674"/>
                      </a:lnTo>
                      <a:lnTo>
                        <a:pt x="307" y="661"/>
                      </a:lnTo>
                      <a:lnTo>
                        <a:pt x="281" y="648"/>
                      </a:lnTo>
                      <a:lnTo>
                        <a:pt x="257" y="637"/>
                      </a:lnTo>
                      <a:lnTo>
                        <a:pt x="244" y="632"/>
                      </a:lnTo>
                      <a:lnTo>
                        <a:pt x="231" y="628"/>
                      </a:lnTo>
                      <a:lnTo>
                        <a:pt x="220" y="625"/>
                      </a:lnTo>
                      <a:lnTo>
                        <a:pt x="208" y="623"/>
                      </a:lnTo>
                      <a:lnTo>
                        <a:pt x="195" y="608"/>
                      </a:lnTo>
                      <a:lnTo>
                        <a:pt x="178" y="593"/>
                      </a:lnTo>
                      <a:lnTo>
                        <a:pt x="158" y="575"/>
                      </a:lnTo>
                      <a:lnTo>
                        <a:pt x="139" y="556"/>
                      </a:lnTo>
                      <a:lnTo>
                        <a:pt x="118" y="537"/>
                      </a:lnTo>
                      <a:lnTo>
                        <a:pt x="100" y="518"/>
                      </a:lnTo>
                      <a:lnTo>
                        <a:pt x="92" y="509"/>
                      </a:lnTo>
                      <a:lnTo>
                        <a:pt x="85" y="499"/>
                      </a:lnTo>
                      <a:lnTo>
                        <a:pt x="81" y="491"/>
                      </a:lnTo>
                      <a:lnTo>
                        <a:pt x="76" y="481"/>
                      </a:lnTo>
                      <a:lnTo>
                        <a:pt x="73" y="481"/>
                      </a:lnTo>
                      <a:lnTo>
                        <a:pt x="69" y="480"/>
                      </a:lnTo>
                      <a:lnTo>
                        <a:pt x="66" y="477"/>
                      </a:lnTo>
                      <a:lnTo>
                        <a:pt x="62" y="475"/>
                      </a:lnTo>
                      <a:lnTo>
                        <a:pt x="55" y="469"/>
                      </a:lnTo>
                      <a:lnTo>
                        <a:pt x="49" y="462"/>
                      </a:lnTo>
                      <a:lnTo>
                        <a:pt x="42" y="456"/>
                      </a:lnTo>
                      <a:lnTo>
                        <a:pt x="37" y="449"/>
                      </a:lnTo>
                      <a:lnTo>
                        <a:pt x="33" y="446"/>
                      </a:lnTo>
                      <a:lnTo>
                        <a:pt x="30" y="445"/>
                      </a:lnTo>
                      <a:lnTo>
                        <a:pt x="25" y="443"/>
                      </a:lnTo>
                      <a:lnTo>
                        <a:pt x="22" y="443"/>
                      </a:lnTo>
                      <a:lnTo>
                        <a:pt x="22" y="438"/>
                      </a:lnTo>
                      <a:lnTo>
                        <a:pt x="20" y="433"/>
                      </a:lnTo>
                      <a:lnTo>
                        <a:pt x="18" y="428"/>
                      </a:lnTo>
                      <a:lnTo>
                        <a:pt x="16" y="423"/>
                      </a:lnTo>
                      <a:lnTo>
                        <a:pt x="15" y="419"/>
                      </a:lnTo>
                      <a:lnTo>
                        <a:pt x="12" y="414"/>
                      </a:lnTo>
                      <a:lnTo>
                        <a:pt x="11" y="409"/>
                      </a:lnTo>
                      <a:lnTo>
                        <a:pt x="11" y="404"/>
                      </a:lnTo>
                      <a:lnTo>
                        <a:pt x="11" y="409"/>
                      </a:lnTo>
                      <a:lnTo>
                        <a:pt x="12" y="414"/>
                      </a:lnTo>
                      <a:lnTo>
                        <a:pt x="14" y="418"/>
                      </a:lnTo>
                      <a:lnTo>
                        <a:pt x="14" y="422"/>
                      </a:lnTo>
                      <a:lnTo>
                        <a:pt x="12" y="426"/>
                      </a:lnTo>
                      <a:lnTo>
                        <a:pt x="11" y="427"/>
                      </a:lnTo>
                      <a:lnTo>
                        <a:pt x="7" y="430"/>
                      </a:lnTo>
                      <a:lnTo>
                        <a:pt x="0" y="4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Freeform 278"/>
                <p:cNvSpPr/>
                <p:nvPr/>
              </p:nvSpPr>
              <p:spPr>
                <a:xfrm>
                  <a:off x="5665680" y="36090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Freeform 279"/>
                <p:cNvSpPr/>
                <p:nvPr/>
              </p:nvSpPr>
              <p:spPr>
                <a:xfrm>
                  <a:off x="5665680" y="3610440"/>
                  <a:ext cx="73440" cy="550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55" h="100">
                      <a:moveTo>
                        <a:pt x="32" y="0"/>
                      </a:moveTo>
                      <a:lnTo>
                        <a:pt x="55" y="100"/>
                      </a:lnTo>
                      <a:lnTo>
                        <a:pt x="48" y="99"/>
                      </a:lnTo>
                      <a:lnTo>
                        <a:pt x="41" y="97"/>
                      </a:lnTo>
                      <a:lnTo>
                        <a:pt x="34" y="96"/>
                      </a:lnTo>
                      <a:lnTo>
                        <a:pt x="27" y="93"/>
                      </a:lnTo>
                      <a:lnTo>
                        <a:pt x="20" y="92"/>
                      </a:lnTo>
                      <a:lnTo>
                        <a:pt x="13" y="91"/>
                      </a:lnTo>
                      <a:lnTo>
                        <a:pt x="6" y="91"/>
                      </a:lnTo>
                      <a:lnTo>
                        <a:pt x="0" y="91"/>
                      </a:lnTo>
                      <a:lnTo>
                        <a:pt x="3" y="81"/>
                      </a:lnTo>
                      <a:lnTo>
                        <a:pt x="5" y="69"/>
                      </a:lnTo>
                      <a:lnTo>
                        <a:pt x="8" y="53"/>
                      </a:lnTo>
                      <a:lnTo>
                        <a:pt x="11" y="35"/>
                      </a:lnTo>
                      <a:lnTo>
                        <a:pt x="13" y="20"/>
                      </a:lnTo>
                      <a:lnTo>
                        <a:pt x="17" y="8"/>
                      </a:lnTo>
                      <a:lnTo>
                        <a:pt x="18" y="4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2b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Freeform 280"/>
                <p:cNvSpPr/>
                <p:nvPr/>
              </p:nvSpPr>
              <p:spPr>
                <a:xfrm>
                  <a:off x="5707800" y="3609000"/>
                  <a:ext cx="339480" cy="15048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259" h="270">
                      <a:moveTo>
                        <a:pt x="23" y="102"/>
                      </a:moveTo>
                      <a:lnTo>
                        <a:pt x="0" y="2"/>
                      </a:lnTo>
                      <a:lnTo>
                        <a:pt x="18" y="0"/>
                      </a:lnTo>
                      <a:lnTo>
                        <a:pt x="37" y="0"/>
                      </a:lnTo>
                      <a:lnTo>
                        <a:pt x="54" y="0"/>
                      </a:lnTo>
                      <a:lnTo>
                        <a:pt x="71" y="2"/>
                      </a:lnTo>
                      <a:lnTo>
                        <a:pt x="84" y="3"/>
                      </a:lnTo>
                      <a:lnTo>
                        <a:pt x="100" y="6"/>
                      </a:lnTo>
                      <a:lnTo>
                        <a:pt x="112" y="10"/>
                      </a:lnTo>
                      <a:lnTo>
                        <a:pt x="125" y="14"/>
                      </a:lnTo>
                      <a:lnTo>
                        <a:pt x="138" y="18"/>
                      </a:lnTo>
                      <a:lnTo>
                        <a:pt x="149" y="25"/>
                      </a:lnTo>
                      <a:lnTo>
                        <a:pt x="161" y="30"/>
                      </a:lnTo>
                      <a:lnTo>
                        <a:pt x="171" y="38"/>
                      </a:lnTo>
                      <a:lnTo>
                        <a:pt x="193" y="56"/>
                      </a:lnTo>
                      <a:lnTo>
                        <a:pt x="214" y="76"/>
                      </a:lnTo>
                      <a:lnTo>
                        <a:pt x="259" y="270"/>
                      </a:lnTo>
                      <a:lnTo>
                        <a:pt x="251" y="266"/>
                      </a:lnTo>
                      <a:lnTo>
                        <a:pt x="242" y="258"/>
                      </a:lnTo>
                      <a:lnTo>
                        <a:pt x="230" y="250"/>
                      </a:lnTo>
                      <a:lnTo>
                        <a:pt x="219" y="241"/>
                      </a:lnTo>
                      <a:lnTo>
                        <a:pt x="206" y="230"/>
                      </a:lnTo>
                      <a:lnTo>
                        <a:pt x="194" y="222"/>
                      </a:lnTo>
                      <a:lnTo>
                        <a:pt x="184" y="213"/>
                      </a:lnTo>
                      <a:lnTo>
                        <a:pt x="176" y="208"/>
                      </a:lnTo>
                      <a:lnTo>
                        <a:pt x="172" y="201"/>
                      </a:lnTo>
                      <a:lnTo>
                        <a:pt x="167" y="194"/>
                      </a:lnTo>
                      <a:lnTo>
                        <a:pt x="160" y="188"/>
                      </a:lnTo>
                      <a:lnTo>
                        <a:pt x="150" y="181"/>
                      </a:lnTo>
                      <a:lnTo>
                        <a:pt x="130" y="169"/>
                      </a:lnTo>
                      <a:lnTo>
                        <a:pt x="106" y="156"/>
                      </a:lnTo>
                      <a:lnTo>
                        <a:pt x="83" y="144"/>
                      </a:lnTo>
                      <a:lnTo>
                        <a:pt x="64" y="131"/>
                      </a:lnTo>
                      <a:lnTo>
                        <a:pt x="56" y="125"/>
                      </a:lnTo>
                      <a:lnTo>
                        <a:pt x="50" y="118"/>
                      </a:lnTo>
                      <a:lnTo>
                        <a:pt x="46" y="112"/>
                      </a:lnTo>
                      <a:lnTo>
                        <a:pt x="44" y="105"/>
                      </a:lnTo>
                      <a:lnTo>
                        <a:pt x="42" y="105"/>
                      </a:lnTo>
                      <a:lnTo>
                        <a:pt x="39" y="105"/>
                      </a:lnTo>
                      <a:lnTo>
                        <a:pt x="36" y="105"/>
                      </a:lnTo>
                      <a:lnTo>
                        <a:pt x="34" y="105"/>
                      </a:lnTo>
                      <a:lnTo>
                        <a:pt x="31" y="103"/>
                      </a:lnTo>
                      <a:lnTo>
                        <a:pt x="28" y="103"/>
                      </a:lnTo>
                      <a:lnTo>
                        <a:pt x="25" y="103"/>
                      </a:lnTo>
                      <a:lnTo>
                        <a:pt x="23" y="102"/>
                      </a:lnTo>
                      <a:close/>
                    </a:path>
                  </a:pathLst>
                </a:custGeom>
                <a:solidFill>
                  <a:srgbClr val="f2c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Freeform 281"/>
                <p:cNvSpPr/>
                <p:nvPr/>
              </p:nvSpPr>
              <p:spPr>
                <a:xfrm>
                  <a:off x="5987520" y="3650760"/>
                  <a:ext cx="318600" cy="11196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244" h="200">
                      <a:moveTo>
                        <a:pt x="45" y="194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2" y="13"/>
                      </a:lnTo>
                      <a:lnTo>
                        <a:pt x="19" y="19"/>
                      </a:lnTo>
                      <a:lnTo>
                        <a:pt x="24" y="26"/>
                      </a:lnTo>
                      <a:lnTo>
                        <a:pt x="30" y="33"/>
                      </a:lnTo>
                      <a:lnTo>
                        <a:pt x="36" y="40"/>
                      </a:lnTo>
                      <a:lnTo>
                        <a:pt x="43" y="46"/>
                      </a:lnTo>
                      <a:lnTo>
                        <a:pt x="50" y="55"/>
                      </a:lnTo>
                      <a:lnTo>
                        <a:pt x="59" y="55"/>
                      </a:lnTo>
                      <a:lnTo>
                        <a:pt x="74" y="57"/>
                      </a:lnTo>
                      <a:lnTo>
                        <a:pt x="94" y="60"/>
                      </a:lnTo>
                      <a:lnTo>
                        <a:pt x="116" y="63"/>
                      </a:lnTo>
                      <a:lnTo>
                        <a:pt x="140" y="67"/>
                      </a:lnTo>
                      <a:lnTo>
                        <a:pt x="166" y="71"/>
                      </a:lnTo>
                      <a:lnTo>
                        <a:pt x="192" y="76"/>
                      </a:lnTo>
                      <a:lnTo>
                        <a:pt x="217" y="82"/>
                      </a:lnTo>
                      <a:lnTo>
                        <a:pt x="244" y="200"/>
                      </a:lnTo>
                      <a:lnTo>
                        <a:pt x="211" y="193"/>
                      </a:lnTo>
                      <a:lnTo>
                        <a:pt x="177" y="188"/>
                      </a:lnTo>
                      <a:lnTo>
                        <a:pt x="145" y="184"/>
                      </a:lnTo>
                      <a:lnTo>
                        <a:pt x="115" y="181"/>
                      </a:lnTo>
                      <a:lnTo>
                        <a:pt x="101" y="179"/>
                      </a:lnTo>
                      <a:lnTo>
                        <a:pt x="89" y="179"/>
                      </a:lnTo>
                      <a:lnTo>
                        <a:pt x="78" y="181"/>
                      </a:lnTo>
                      <a:lnTo>
                        <a:pt x="68" y="182"/>
                      </a:lnTo>
                      <a:lnTo>
                        <a:pt x="60" y="184"/>
                      </a:lnTo>
                      <a:lnTo>
                        <a:pt x="55" y="188"/>
                      </a:lnTo>
                      <a:lnTo>
                        <a:pt x="51" y="190"/>
                      </a:lnTo>
                      <a:lnTo>
                        <a:pt x="50" y="196"/>
                      </a:lnTo>
                      <a:lnTo>
                        <a:pt x="49" y="196"/>
                      </a:lnTo>
                      <a:lnTo>
                        <a:pt x="49" y="196"/>
                      </a:lnTo>
                      <a:lnTo>
                        <a:pt x="48" y="196"/>
                      </a:lnTo>
                      <a:lnTo>
                        <a:pt x="48" y="196"/>
                      </a:lnTo>
                      <a:lnTo>
                        <a:pt x="46" y="196"/>
                      </a:lnTo>
                      <a:lnTo>
                        <a:pt x="46" y="194"/>
                      </a:lnTo>
                      <a:lnTo>
                        <a:pt x="45" y="194"/>
                      </a:lnTo>
                      <a:lnTo>
                        <a:pt x="45" y="194"/>
                      </a:lnTo>
                      <a:close/>
                    </a:path>
                  </a:pathLst>
                </a:custGeom>
                <a:solidFill>
                  <a:srgbClr val="f2d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Freeform 282"/>
                <p:cNvSpPr/>
                <p:nvPr/>
              </p:nvSpPr>
              <p:spPr>
                <a:xfrm>
                  <a:off x="6269760" y="3697920"/>
                  <a:ext cx="182880" cy="7632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39" h="140">
                      <a:moveTo>
                        <a:pt x="27" y="118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3" y="7"/>
                      </a:lnTo>
                      <a:lnTo>
                        <a:pt x="47" y="9"/>
                      </a:lnTo>
                      <a:lnTo>
                        <a:pt x="60" y="13"/>
                      </a:lnTo>
                      <a:lnTo>
                        <a:pt x="70" y="16"/>
                      </a:lnTo>
                      <a:lnTo>
                        <a:pt x="77" y="19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9" y="23"/>
                      </a:lnTo>
                      <a:lnTo>
                        <a:pt x="92" y="21"/>
                      </a:lnTo>
                      <a:lnTo>
                        <a:pt x="96" y="20"/>
                      </a:lnTo>
                      <a:lnTo>
                        <a:pt x="99" y="17"/>
                      </a:lnTo>
                      <a:lnTo>
                        <a:pt x="102" y="15"/>
                      </a:lnTo>
                      <a:lnTo>
                        <a:pt x="104" y="13"/>
                      </a:lnTo>
                      <a:lnTo>
                        <a:pt x="106" y="12"/>
                      </a:lnTo>
                      <a:lnTo>
                        <a:pt x="106" y="11"/>
                      </a:lnTo>
                      <a:lnTo>
                        <a:pt x="113" y="19"/>
                      </a:lnTo>
                      <a:lnTo>
                        <a:pt x="120" y="27"/>
                      </a:lnTo>
                      <a:lnTo>
                        <a:pt x="125" y="35"/>
                      </a:lnTo>
                      <a:lnTo>
                        <a:pt x="128" y="42"/>
                      </a:lnTo>
                      <a:lnTo>
                        <a:pt x="132" y="50"/>
                      </a:lnTo>
                      <a:lnTo>
                        <a:pt x="133" y="57"/>
                      </a:lnTo>
                      <a:lnTo>
                        <a:pt x="135" y="65"/>
                      </a:lnTo>
                      <a:lnTo>
                        <a:pt x="135" y="72"/>
                      </a:lnTo>
                      <a:lnTo>
                        <a:pt x="136" y="87"/>
                      </a:lnTo>
                      <a:lnTo>
                        <a:pt x="136" y="103"/>
                      </a:lnTo>
                      <a:lnTo>
                        <a:pt x="138" y="121"/>
                      </a:lnTo>
                      <a:lnTo>
                        <a:pt x="139" y="140"/>
                      </a:lnTo>
                      <a:lnTo>
                        <a:pt x="133" y="138"/>
                      </a:lnTo>
                      <a:lnTo>
                        <a:pt x="124" y="137"/>
                      </a:lnTo>
                      <a:lnTo>
                        <a:pt x="112" y="134"/>
                      </a:lnTo>
                      <a:lnTo>
                        <a:pt x="98" y="131"/>
                      </a:lnTo>
                      <a:lnTo>
                        <a:pt x="82" y="129"/>
                      </a:lnTo>
                      <a:lnTo>
                        <a:pt x="65" y="125"/>
                      </a:lnTo>
                      <a:lnTo>
                        <a:pt x="46" y="121"/>
                      </a:lnTo>
                      <a:lnTo>
                        <a:pt x="27" y="118"/>
                      </a:lnTo>
                      <a:close/>
                    </a:path>
                  </a:pathLst>
                </a:custGeom>
                <a:solidFill>
                  <a:srgbClr val="f2e6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Freeform 283"/>
                <p:cNvSpPr/>
                <p:nvPr/>
              </p:nvSpPr>
              <p:spPr>
                <a:xfrm>
                  <a:off x="5665680" y="36090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Freeform 284"/>
                <p:cNvSpPr/>
                <p:nvPr/>
              </p:nvSpPr>
              <p:spPr>
                <a:xfrm>
                  <a:off x="5665680" y="36090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Freeform 285"/>
                <p:cNvSpPr/>
                <p:nvPr/>
              </p:nvSpPr>
              <p:spPr>
                <a:xfrm>
                  <a:off x="5684040" y="36104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18" y="0"/>
                      </a:moveTo>
                      <a:lnTo>
                        <a:pt x="0" y="1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Freeform 286"/>
                <p:cNvSpPr/>
                <p:nvPr/>
              </p:nvSpPr>
              <p:spPr>
                <a:xfrm>
                  <a:off x="5791320" y="3609000"/>
                  <a:ext cx="81000" cy="1512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2" h="26">
                      <a:moveTo>
                        <a:pt x="62" y="14"/>
                      </a:moveTo>
                      <a:lnTo>
                        <a:pt x="51" y="26"/>
                      </a:lnTo>
                      <a:lnTo>
                        <a:pt x="0" y="0"/>
                      </a:lnTo>
                      <a:lnTo>
                        <a:pt x="51" y="26"/>
                      </a:lnTo>
                      <a:lnTo>
                        <a:pt x="62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Freeform 287"/>
                <p:cNvSpPr/>
                <p:nvPr/>
              </p:nvSpPr>
              <p:spPr>
                <a:xfrm>
                  <a:off x="5676480" y="3609000"/>
                  <a:ext cx="180000" cy="5004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38" h="89">
                      <a:moveTo>
                        <a:pt x="87" y="0"/>
                      </a:moveTo>
                      <a:lnTo>
                        <a:pt x="138" y="26"/>
                      </a:lnTo>
                      <a:lnTo>
                        <a:pt x="72" y="89"/>
                      </a:lnTo>
                      <a:lnTo>
                        <a:pt x="0" y="53"/>
                      </a:lnTo>
                      <a:lnTo>
                        <a:pt x="72" y="89"/>
                      </a:lnTo>
                      <a:lnTo>
                        <a:pt x="138" y="26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Freeform 288"/>
                <p:cNvSpPr/>
                <p:nvPr/>
              </p:nvSpPr>
              <p:spPr>
                <a:xfrm>
                  <a:off x="5684040" y="36104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0" y="17"/>
                      </a:moveTo>
                      <a:lnTo>
                        <a:pt x="18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Freeform 289"/>
                <p:cNvSpPr/>
                <p:nvPr/>
              </p:nvSpPr>
              <p:spPr>
                <a:xfrm>
                  <a:off x="5676480" y="3638880"/>
                  <a:ext cx="93960" cy="266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72" h="50">
                      <a:moveTo>
                        <a:pt x="0" y="0"/>
                      </a:moveTo>
                      <a:lnTo>
                        <a:pt x="72" y="36"/>
                      </a:lnTo>
                      <a:lnTo>
                        <a:pt x="57" y="50"/>
                      </a:lnTo>
                      <a:lnTo>
                        <a:pt x="72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Freeform 290"/>
                <p:cNvSpPr/>
                <p:nvPr/>
              </p:nvSpPr>
              <p:spPr>
                <a:xfrm>
                  <a:off x="5856480" y="3617280"/>
                  <a:ext cx="123120" cy="31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3" h="57">
                      <a:moveTo>
                        <a:pt x="93" y="56"/>
                      </a:moveTo>
                      <a:lnTo>
                        <a:pt x="91" y="57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91" y="57"/>
                      </a:lnTo>
                      <a:lnTo>
                        <a:pt x="93" y="5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Freeform 291"/>
                <p:cNvSpPr/>
                <p:nvPr/>
              </p:nvSpPr>
              <p:spPr>
                <a:xfrm>
                  <a:off x="5770800" y="362412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0" y="63"/>
                      </a:lnTo>
                      <a:lnTo>
                        <a:pt x="92" y="107"/>
                      </a:lnTo>
                      <a:lnTo>
                        <a:pt x="157" y="45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Freeform 292"/>
                <p:cNvSpPr/>
                <p:nvPr/>
              </p:nvSpPr>
              <p:spPr>
                <a:xfrm>
                  <a:off x="5770800" y="3659040"/>
                  <a:ext cx="122400" cy="385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92" h="71">
                      <a:moveTo>
                        <a:pt x="0" y="0"/>
                      </a:moveTo>
                      <a:lnTo>
                        <a:pt x="92" y="44"/>
                      </a:lnTo>
                      <a:lnTo>
                        <a:pt x="64" y="71"/>
                      </a:lnTo>
                      <a:lnTo>
                        <a:pt x="92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Freeform 293"/>
                <p:cNvSpPr/>
                <p:nvPr/>
              </p:nvSpPr>
              <p:spPr>
                <a:xfrm>
                  <a:off x="5752440" y="3659040"/>
                  <a:ext cx="18360" cy="64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5" h="14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Freeform 294"/>
                <p:cNvSpPr/>
                <p:nvPr/>
              </p:nvSpPr>
              <p:spPr>
                <a:xfrm>
                  <a:off x="5977080" y="3647160"/>
                  <a:ext cx="7560" cy="32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6" y="4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6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Freeform 295"/>
                <p:cNvSpPr/>
                <p:nvPr/>
              </p:nvSpPr>
              <p:spPr>
                <a:xfrm>
                  <a:off x="5977080" y="3649320"/>
                  <a:ext cx="7560" cy="14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Freeform 296"/>
                <p:cNvSpPr/>
                <p:nvPr/>
              </p:nvSpPr>
              <p:spPr>
                <a:xfrm>
                  <a:off x="5893560" y="3649320"/>
                  <a:ext cx="182880" cy="597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40" h="108">
                      <a:moveTo>
                        <a:pt x="140" y="61"/>
                      </a:move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0" y="62"/>
                      </a:lnTo>
                      <a:lnTo>
                        <a:pt x="92" y="108"/>
                      </a:lnTo>
                      <a:lnTo>
                        <a:pt x="140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Freeform 297"/>
                <p:cNvSpPr/>
                <p:nvPr/>
              </p:nvSpPr>
              <p:spPr>
                <a:xfrm>
                  <a:off x="5893560" y="3682440"/>
                  <a:ext cx="117720" cy="482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92" h="86">
                      <a:moveTo>
                        <a:pt x="0" y="0"/>
                      </a:moveTo>
                      <a:lnTo>
                        <a:pt x="92" y="46"/>
                      </a:lnTo>
                      <a:lnTo>
                        <a:pt x="51" y="86"/>
                      </a:lnTo>
                      <a:lnTo>
                        <a:pt x="92" y="4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Freeform 298"/>
                <p:cNvSpPr/>
                <p:nvPr/>
              </p:nvSpPr>
              <p:spPr>
                <a:xfrm>
                  <a:off x="5856480" y="3682440"/>
                  <a:ext cx="36720" cy="1512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28" h="27">
                      <a:moveTo>
                        <a:pt x="0" y="27"/>
                      </a:moveTo>
                      <a:lnTo>
                        <a:pt x="28" y="0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299"/>
                <p:cNvSpPr/>
                <p:nvPr/>
              </p:nvSpPr>
              <p:spPr>
                <a:xfrm>
                  <a:off x="6170760" y="3689280"/>
                  <a:ext cx="59760" cy="82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48" h="17">
                      <a:moveTo>
                        <a:pt x="48" y="8"/>
                      </a:moveTo>
                      <a:lnTo>
                        <a:pt x="37" y="17"/>
                      </a:lnTo>
                      <a:lnTo>
                        <a:pt x="0" y="0"/>
                      </a:lnTo>
                      <a:lnTo>
                        <a:pt x="37" y="17"/>
                      </a:lnTo>
                      <a:lnTo>
                        <a:pt x="48" y="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Freeform 300"/>
                <p:cNvSpPr/>
                <p:nvPr/>
              </p:nvSpPr>
              <p:spPr>
                <a:xfrm>
                  <a:off x="6011280" y="3682440"/>
                  <a:ext cx="205920" cy="518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7" h="92">
                      <a:moveTo>
                        <a:pt x="120" y="11"/>
                      </a:moveTo>
                      <a:lnTo>
                        <a:pt x="157" y="28"/>
                      </a:lnTo>
                      <a:lnTo>
                        <a:pt x="92" y="92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0" y="47"/>
                      </a:lnTo>
                      <a:lnTo>
                        <a:pt x="92" y="92"/>
                      </a:lnTo>
                      <a:lnTo>
                        <a:pt x="157" y="28"/>
                      </a:lnTo>
                      <a:lnTo>
                        <a:pt x="120" y="1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Freeform 301"/>
                <p:cNvSpPr/>
                <p:nvPr/>
              </p:nvSpPr>
              <p:spPr>
                <a:xfrm>
                  <a:off x="6011280" y="3709080"/>
                  <a:ext cx="122400" cy="435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92" h="78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59" y="78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Freeform 302"/>
                <p:cNvSpPr/>
                <p:nvPr/>
              </p:nvSpPr>
              <p:spPr>
                <a:xfrm>
                  <a:off x="5958720" y="3709080"/>
                  <a:ext cx="52560" cy="219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1" h="40">
                      <a:moveTo>
                        <a:pt x="0" y="40"/>
                      </a:moveTo>
                      <a:lnTo>
                        <a:pt x="41" y="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Freeform 303"/>
                <p:cNvSpPr/>
                <p:nvPr/>
              </p:nvSpPr>
              <p:spPr>
                <a:xfrm>
                  <a:off x="6217560" y="3692520"/>
                  <a:ext cx="156240" cy="30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1" h="54">
                      <a:moveTo>
                        <a:pt x="121" y="27"/>
                      </a:moveTo>
                      <a:lnTo>
                        <a:pt x="93" y="54"/>
                      </a:lnTo>
                      <a:lnTo>
                        <a:pt x="0" y="9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93" y="54"/>
                      </a:lnTo>
                      <a:lnTo>
                        <a:pt x="121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Freeform 304"/>
                <p:cNvSpPr/>
                <p:nvPr/>
              </p:nvSpPr>
              <p:spPr>
                <a:xfrm>
                  <a:off x="6217560" y="3697920"/>
                  <a:ext cx="120240" cy="5976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3" h="108">
                      <a:moveTo>
                        <a:pt x="0" y="0"/>
                      </a:moveTo>
                      <a:lnTo>
                        <a:pt x="93" y="45"/>
                      </a:lnTo>
                      <a:lnTo>
                        <a:pt x="28" y="108"/>
                      </a:lnTo>
                      <a:lnTo>
                        <a:pt x="93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Freeform 305"/>
                <p:cNvSpPr/>
                <p:nvPr/>
              </p:nvSpPr>
              <p:spPr>
                <a:xfrm>
                  <a:off x="6134040" y="3697920"/>
                  <a:ext cx="114840" cy="5976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88" h="108">
                      <a:moveTo>
                        <a:pt x="88" y="108"/>
                      </a:moveTo>
                      <a:lnTo>
                        <a:pt x="0" y="64"/>
                      </a:lnTo>
                      <a:lnTo>
                        <a:pt x="65" y="0"/>
                      </a:lnTo>
                      <a:lnTo>
                        <a:pt x="0" y="64"/>
                      </a:lnTo>
                      <a:lnTo>
                        <a:pt x="88" y="10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Freeform 306"/>
                <p:cNvSpPr/>
                <p:nvPr/>
              </p:nvSpPr>
              <p:spPr>
                <a:xfrm>
                  <a:off x="6134040" y="3734640"/>
                  <a:ext cx="114840" cy="2304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8" h="44">
                      <a:moveTo>
                        <a:pt x="0" y="0"/>
                      </a:moveTo>
                      <a:lnTo>
                        <a:pt x="88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Freeform 307"/>
                <p:cNvSpPr/>
                <p:nvPr/>
              </p:nvSpPr>
              <p:spPr>
                <a:xfrm>
                  <a:off x="6089760" y="3734640"/>
                  <a:ext cx="44280" cy="180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Freeform 308"/>
                <p:cNvSpPr/>
                <p:nvPr/>
              </p:nvSpPr>
              <p:spPr>
                <a:xfrm>
                  <a:off x="6337800" y="3707640"/>
                  <a:ext cx="111960" cy="38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4" h="69">
                      <a:moveTo>
                        <a:pt x="84" y="69"/>
                      </a:moveTo>
                      <a:lnTo>
                        <a:pt x="0" y="27"/>
                      </a:lnTo>
                      <a:lnTo>
                        <a:pt x="28" y="0"/>
                      </a:lnTo>
                      <a:lnTo>
                        <a:pt x="0" y="27"/>
                      </a:lnTo>
                      <a:lnTo>
                        <a:pt x="84" y="69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Freeform 309"/>
                <p:cNvSpPr/>
                <p:nvPr/>
              </p:nvSpPr>
              <p:spPr>
                <a:xfrm>
                  <a:off x="6337800" y="3722760"/>
                  <a:ext cx="111960" cy="230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4" h="42">
                      <a:moveTo>
                        <a:pt x="0" y="0"/>
                      </a:moveTo>
                      <a:lnTo>
                        <a:pt x="84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Freeform 310"/>
                <p:cNvSpPr/>
                <p:nvPr/>
              </p:nvSpPr>
              <p:spPr>
                <a:xfrm>
                  <a:off x="6405480" y="37526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33" y="0"/>
                      </a:moveTo>
                      <a:lnTo>
                        <a:pt x="0" y="33"/>
                      </a:lnTo>
                      <a:lnTo>
                        <a:pt x="33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Freeform 311"/>
                <p:cNvSpPr/>
                <p:nvPr/>
              </p:nvSpPr>
              <p:spPr>
                <a:xfrm>
                  <a:off x="6254280" y="3722760"/>
                  <a:ext cx="83520" cy="3456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65" h="63">
                      <a:moveTo>
                        <a:pt x="0" y="63"/>
                      </a:moveTo>
                      <a:lnTo>
                        <a:pt x="65" y="0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Freeform 312"/>
                <p:cNvSpPr/>
                <p:nvPr/>
              </p:nvSpPr>
              <p:spPr>
                <a:xfrm>
                  <a:off x="6405480" y="37526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Freeform 313"/>
                <p:cNvSpPr/>
                <p:nvPr/>
              </p:nvSpPr>
              <p:spPr>
                <a:xfrm>
                  <a:off x="5665680" y="3617280"/>
                  <a:ext cx="39600" cy="450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0" h="83">
                      <a:moveTo>
                        <a:pt x="16" y="0"/>
                      </a:moveTo>
                      <a:lnTo>
                        <a:pt x="18" y="20"/>
                      </a:lnTo>
                      <a:lnTo>
                        <a:pt x="24" y="53"/>
                      </a:lnTo>
                      <a:lnTo>
                        <a:pt x="30" y="83"/>
                      </a:lnTo>
                      <a:lnTo>
                        <a:pt x="25" y="81"/>
                      </a:lnTo>
                      <a:lnTo>
                        <a:pt x="22" y="81"/>
                      </a:lnTo>
                      <a:lnTo>
                        <a:pt x="18" y="80"/>
                      </a:lnTo>
                      <a:lnTo>
                        <a:pt x="15" y="80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3" y="79"/>
                      </a:lnTo>
                      <a:lnTo>
                        <a:pt x="0" y="79"/>
                      </a:lnTo>
                      <a:lnTo>
                        <a:pt x="2" y="73"/>
                      </a:lnTo>
                      <a:lnTo>
                        <a:pt x="3" y="65"/>
                      </a:lnTo>
                      <a:lnTo>
                        <a:pt x="5" y="56"/>
                      </a:lnTo>
                      <a:lnTo>
                        <a:pt x="8" y="43"/>
                      </a:lnTo>
                      <a:lnTo>
                        <a:pt x="10" y="32"/>
                      </a:lnTo>
                      <a:lnTo>
                        <a:pt x="11" y="20"/>
                      </a:lnTo>
                      <a:lnTo>
                        <a:pt x="13" y="9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Freeform 314"/>
                <p:cNvSpPr/>
                <p:nvPr/>
              </p:nvSpPr>
              <p:spPr>
                <a:xfrm>
                  <a:off x="5687280" y="3609000"/>
                  <a:ext cx="174600" cy="900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134" h="163">
                      <a:moveTo>
                        <a:pt x="0" y="14"/>
                      </a:moveTo>
                      <a:lnTo>
                        <a:pt x="2" y="34"/>
                      </a:lnTo>
                      <a:lnTo>
                        <a:pt x="8" y="67"/>
                      </a:lnTo>
                      <a:lnTo>
                        <a:pt x="14" y="97"/>
                      </a:lnTo>
                      <a:lnTo>
                        <a:pt x="19" y="98"/>
                      </a:lnTo>
                      <a:lnTo>
                        <a:pt x="25" y="99"/>
                      </a:lnTo>
                      <a:lnTo>
                        <a:pt x="31" y="101"/>
                      </a:lnTo>
                      <a:lnTo>
                        <a:pt x="37" y="102"/>
                      </a:lnTo>
                      <a:lnTo>
                        <a:pt x="43" y="103"/>
                      </a:lnTo>
                      <a:lnTo>
                        <a:pt x="48" y="103"/>
                      </a:lnTo>
                      <a:lnTo>
                        <a:pt x="54" y="105"/>
                      </a:lnTo>
                      <a:lnTo>
                        <a:pt x="60" y="105"/>
                      </a:lnTo>
                      <a:lnTo>
                        <a:pt x="61" y="109"/>
                      </a:lnTo>
                      <a:lnTo>
                        <a:pt x="62" y="113"/>
                      </a:lnTo>
                      <a:lnTo>
                        <a:pt x="65" y="116"/>
                      </a:lnTo>
                      <a:lnTo>
                        <a:pt x="67" y="120"/>
                      </a:lnTo>
                      <a:lnTo>
                        <a:pt x="75" y="128"/>
                      </a:lnTo>
                      <a:lnTo>
                        <a:pt x="84" y="135"/>
                      </a:lnTo>
                      <a:lnTo>
                        <a:pt x="96" y="141"/>
                      </a:lnTo>
                      <a:lnTo>
                        <a:pt x="107" y="148"/>
                      </a:lnTo>
                      <a:lnTo>
                        <a:pt x="121" y="156"/>
                      </a:lnTo>
                      <a:lnTo>
                        <a:pt x="134" y="163"/>
                      </a:lnTo>
                      <a:lnTo>
                        <a:pt x="133" y="158"/>
                      </a:lnTo>
                      <a:lnTo>
                        <a:pt x="126" y="129"/>
                      </a:lnTo>
                      <a:lnTo>
                        <a:pt x="119" y="101"/>
                      </a:lnTo>
                      <a:lnTo>
                        <a:pt x="113" y="72"/>
                      </a:lnTo>
                      <a:lnTo>
                        <a:pt x="107" y="42"/>
                      </a:lnTo>
                      <a:lnTo>
                        <a:pt x="103" y="14"/>
                      </a:lnTo>
                      <a:lnTo>
                        <a:pt x="102" y="3"/>
                      </a:lnTo>
                      <a:lnTo>
                        <a:pt x="91" y="2"/>
                      </a:lnTo>
                      <a:lnTo>
                        <a:pt x="81" y="0"/>
                      </a:lnTo>
                      <a:lnTo>
                        <a:pt x="69" y="0"/>
                      </a:lnTo>
                      <a:lnTo>
                        <a:pt x="58" y="0"/>
                      </a:lnTo>
                      <a:lnTo>
                        <a:pt x="46" y="0"/>
                      </a:lnTo>
                      <a:lnTo>
                        <a:pt x="33" y="0"/>
                      </a:lnTo>
                      <a:lnTo>
                        <a:pt x="19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c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Freeform 315"/>
                <p:cNvSpPr/>
                <p:nvPr/>
              </p:nvSpPr>
              <p:spPr>
                <a:xfrm>
                  <a:off x="5820480" y="3610440"/>
                  <a:ext cx="232200" cy="15048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78" h="269">
                      <a:moveTo>
                        <a:pt x="0" y="0"/>
                      </a:moveTo>
                      <a:lnTo>
                        <a:pt x="1" y="11"/>
                      </a:lnTo>
                      <a:lnTo>
                        <a:pt x="5" y="39"/>
                      </a:lnTo>
                      <a:lnTo>
                        <a:pt x="11" y="69"/>
                      </a:lnTo>
                      <a:lnTo>
                        <a:pt x="17" y="98"/>
                      </a:lnTo>
                      <a:lnTo>
                        <a:pt x="24" y="126"/>
                      </a:lnTo>
                      <a:lnTo>
                        <a:pt x="31" y="155"/>
                      </a:lnTo>
                      <a:lnTo>
                        <a:pt x="32" y="160"/>
                      </a:lnTo>
                      <a:lnTo>
                        <a:pt x="42" y="166"/>
                      </a:lnTo>
                      <a:lnTo>
                        <a:pt x="52" y="171"/>
                      </a:lnTo>
                      <a:lnTo>
                        <a:pt x="61" y="176"/>
                      </a:lnTo>
                      <a:lnTo>
                        <a:pt x="69" y="182"/>
                      </a:lnTo>
                      <a:lnTo>
                        <a:pt x="77" y="187"/>
                      </a:lnTo>
                      <a:lnTo>
                        <a:pt x="83" y="193"/>
                      </a:lnTo>
                      <a:lnTo>
                        <a:pt x="88" y="198"/>
                      </a:lnTo>
                      <a:lnTo>
                        <a:pt x="90" y="205"/>
                      </a:lnTo>
                      <a:lnTo>
                        <a:pt x="99" y="210"/>
                      </a:lnTo>
                      <a:lnTo>
                        <a:pt x="111" y="220"/>
                      </a:lnTo>
                      <a:lnTo>
                        <a:pt x="125" y="231"/>
                      </a:lnTo>
                      <a:lnTo>
                        <a:pt x="137" y="242"/>
                      </a:lnTo>
                      <a:lnTo>
                        <a:pt x="150" y="252"/>
                      </a:lnTo>
                      <a:lnTo>
                        <a:pt x="162" y="261"/>
                      </a:lnTo>
                      <a:lnTo>
                        <a:pt x="171" y="266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59" y="217"/>
                      </a:lnTo>
                      <a:lnTo>
                        <a:pt x="143" y="168"/>
                      </a:lnTo>
                      <a:lnTo>
                        <a:pt x="128" y="118"/>
                      </a:lnTo>
                      <a:lnTo>
                        <a:pt x="115" y="68"/>
                      </a:lnTo>
                      <a:lnTo>
                        <a:pt x="114" y="60"/>
                      </a:lnTo>
                      <a:lnTo>
                        <a:pt x="102" y="48"/>
                      </a:lnTo>
                      <a:lnTo>
                        <a:pt x="89" y="37"/>
                      </a:lnTo>
                      <a:lnTo>
                        <a:pt x="75" y="29"/>
                      </a:lnTo>
                      <a:lnTo>
                        <a:pt x="61" y="20"/>
                      </a:lnTo>
                      <a:lnTo>
                        <a:pt x="47" y="14"/>
                      </a:lnTo>
                      <a:lnTo>
                        <a:pt x="32" y="8"/>
                      </a:lnTo>
                      <a:lnTo>
                        <a:pt x="1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Freeform 316"/>
                <p:cNvSpPr/>
                <p:nvPr/>
              </p:nvSpPr>
              <p:spPr>
                <a:xfrm>
                  <a:off x="5969160" y="3643920"/>
                  <a:ext cx="229680" cy="11556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75" h="206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14" y="58"/>
                      </a:lnTo>
                      <a:lnTo>
                        <a:pt x="29" y="108"/>
                      </a:lnTo>
                      <a:lnTo>
                        <a:pt x="45" y="157"/>
                      </a:lnTo>
                      <a:lnTo>
                        <a:pt x="64" y="206"/>
                      </a:lnTo>
                      <a:lnTo>
                        <a:pt x="64" y="206"/>
                      </a:lnTo>
                      <a:lnTo>
                        <a:pt x="65" y="203"/>
                      </a:lnTo>
                      <a:lnTo>
                        <a:pt x="69" y="201"/>
                      </a:lnTo>
                      <a:lnTo>
                        <a:pt x="72" y="198"/>
                      </a:lnTo>
                      <a:lnTo>
                        <a:pt x="76" y="197"/>
                      </a:lnTo>
                      <a:lnTo>
                        <a:pt x="87" y="194"/>
                      </a:lnTo>
                      <a:lnTo>
                        <a:pt x="101" y="192"/>
                      </a:lnTo>
                      <a:lnTo>
                        <a:pt x="117" y="192"/>
                      </a:lnTo>
                      <a:lnTo>
                        <a:pt x="135" y="194"/>
                      </a:lnTo>
                      <a:lnTo>
                        <a:pt x="154" y="195"/>
                      </a:lnTo>
                      <a:lnTo>
                        <a:pt x="175" y="198"/>
                      </a:lnTo>
                      <a:lnTo>
                        <a:pt x="174" y="195"/>
                      </a:lnTo>
                      <a:lnTo>
                        <a:pt x="155" y="153"/>
                      </a:lnTo>
                      <a:lnTo>
                        <a:pt x="139" y="111"/>
                      </a:lnTo>
                      <a:lnTo>
                        <a:pt x="128" y="76"/>
                      </a:lnTo>
                      <a:lnTo>
                        <a:pt x="116" y="74"/>
                      </a:lnTo>
                      <a:lnTo>
                        <a:pt x="106" y="72"/>
                      </a:lnTo>
                      <a:lnTo>
                        <a:pt x="96" y="70"/>
                      </a:lnTo>
                      <a:lnTo>
                        <a:pt x="87" y="70"/>
                      </a:lnTo>
                      <a:lnTo>
                        <a:pt x="80" y="69"/>
                      </a:lnTo>
                      <a:lnTo>
                        <a:pt x="73" y="68"/>
                      </a:lnTo>
                      <a:lnTo>
                        <a:pt x="67" y="68"/>
                      </a:lnTo>
                      <a:lnTo>
                        <a:pt x="64" y="68"/>
                      </a:lnTo>
                      <a:lnTo>
                        <a:pt x="55" y="58"/>
                      </a:lnTo>
                      <a:lnTo>
                        <a:pt x="47" y="49"/>
                      </a:lnTo>
                      <a:lnTo>
                        <a:pt x="38" y="39"/>
                      </a:lnTo>
                      <a:lnTo>
                        <a:pt x="30" y="30"/>
                      </a:lnTo>
                      <a:lnTo>
                        <a:pt x="22" y="21"/>
                      </a:lnTo>
                      <a:lnTo>
                        <a:pt x="15" y="13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Freeform 317"/>
                <p:cNvSpPr/>
                <p:nvPr/>
              </p:nvSpPr>
              <p:spPr>
                <a:xfrm>
                  <a:off x="6136560" y="3686040"/>
                  <a:ext cx="235080" cy="8172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80" h="146">
                      <a:moveTo>
                        <a:pt x="0" y="0"/>
                      </a:moveTo>
                      <a:lnTo>
                        <a:pt x="11" y="35"/>
                      </a:lnTo>
                      <a:lnTo>
                        <a:pt x="27" y="77"/>
                      </a:lnTo>
                      <a:lnTo>
                        <a:pt x="46" y="119"/>
                      </a:lnTo>
                      <a:lnTo>
                        <a:pt x="47" y="122"/>
                      </a:lnTo>
                      <a:lnTo>
                        <a:pt x="64" y="125"/>
                      </a:lnTo>
                      <a:lnTo>
                        <a:pt x="82" y="127"/>
                      </a:lnTo>
                      <a:lnTo>
                        <a:pt x="99" y="130"/>
                      </a:lnTo>
                      <a:lnTo>
                        <a:pt x="117" y="134"/>
                      </a:lnTo>
                      <a:lnTo>
                        <a:pt x="134" y="137"/>
                      </a:lnTo>
                      <a:lnTo>
                        <a:pt x="150" y="140"/>
                      </a:lnTo>
                      <a:lnTo>
                        <a:pt x="166" y="144"/>
                      </a:lnTo>
                      <a:lnTo>
                        <a:pt x="180" y="146"/>
                      </a:lnTo>
                      <a:lnTo>
                        <a:pt x="171" y="131"/>
                      </a:lnTo>
                      <a:lnTo>
                        <a:pt x="152" y="97"/>
                      </a:lnTo>
                      <a:lnTo>
                        <a:pt x="135" y="62"/>
                      </a:lnTo>
                      <a:lnTo>
                        <a:pt x="120" y="26"/>
                      </a:lnTo>
                      <a:lnTo>
                        <a:pt x="118" y="21"/>
                      </a:lnTo>
                      <a:lnTo>
                        <a:pt x="104" y="19"/>
                      </a:lnTo>
                      <a:lnTo>
                        <a:pt x="89" y="16"/>
                      </a:lnTo>
                      <a:lnTo>
                        <a:pt x="74" y="12"/>
                      </a:lnTo>
                      <a:lnTo>
                        <a:pt x="59" y="9"/>
                      </a:lnTo>
                      <a:lnTo>
                        <a:pt x="44" y="7"/>
                      </a:lnTo>
                      <a:lnTo>
                        <a:pt x="29" y="4"/>
                      </a:lnTo>
                      <a:lnTo>
                        <a:pt x="1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Freeform 318"/>
                <p:cNvSpPr/>
                <p:nvPr/>
              </p:nvSpPr>
              <p:spPr>
                <a:xfrm>
                  <a:off x="6290640" y="3697920"/>
                  <a:ext cx="162360" cy="76320"/>
                </a:xfrm>
                <a:custGeom>
                  <a:avLst/>
                  <a:gdLst>
                    <a:gd name="textAreaLeft" fmla="*/ 0 w 162360"/>
                    <a:gd name="textAreaRight" fmla="*/ 162720 w 1623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4" h="13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17" y="41"/>
                      </a:lnTo>
                      <a:lnTo>
                        <a:pt x="34" y="76"/>
                      </a:lnTo>
                      <a:lnTo>
                        <a:pt x="53" y="110"/>
                      </a:lnTo>
                      <a:lnTo>
                        <a:pt x="62" y="125"/>
                      </a:lnTo>
                      <a:lnTo>
                        <a:pt x="74" y="128"/>
                      </a:lnTo>
                      <a:lnTo>
                        <a:pt x="83" y="129"/>
                      </a:lnTo>
                      <a:lnTo>
                        <a:pt x="92" y="132"/>
                      </a:lnTo>
                      <a:lnTo>
                        <a:pt x="102" y="133"/>
                      </a:lnTo>
                      <a:lnTo>
                        <a:pt x="109" y="135"/>
                      </a:lnTo>
                      <a:lnTo>
                        <a:pt x="114" y="136"/>
                      </a:lnTo>
                      <a:lnTo>
                        <a:pt x="120" y="138"/>
                      </a:lnTo>
                      <a:lnTo>
                        <a:pt x="124" y="138"/>
                      </a:lnTo>
                      <a:lnTo>
                        <a:pt x="123" y="119"/>
                      </a:lnTo>
                      <a:lnTo>
                        <a:pt x="121" y="101"/>
                      </a:lnTo>
                      <a:lnTo>
                        <a:pt x="121" y="85"/>
                      </a:lnTo>
                      <a:lnTo>
                        <a:pt x="120" y="70"/>
                      </a:lnTo>
                      <a:lnTo>
                        <a:pt x="120" y="63"/>
                      </a:lnTo>
                      <a:lnTo>
                        <a:pt x="118" y="55"/>
                      </a:lnTo>
                      <a:lnTo>
                        <a:pt x="117" y="48"/>
                      </a:lnTo>
                      <a:lnTo>
                        <a:pt x="113" y="40"/>
                      </a:lnTo>
                      <a:lnTo>
                        <a:pt x="110" y="33"/>
                      </a:lnTo>
                      <a:lnTo>
                        <a:pt x="105" y="25"/>
                      </a:lnTo>
                      <a:lnTo>
                        <a:pt x="98" y="17"/>
                      </a:lnTo>
                      <a:lnTo>
                        <a:pt x="91" y="9"/>
                      </a:lnTo>
                      <a:lnTo>
                        <a:pt x="91" y="10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4" y="15"/>
                      </a:lnTo>
                      <a:lnTo>
                        <a:pt x="81" y="18"/>
                      </a:lnTo>
                      <a:lnTo>
                        <a:pt x="77" y="19"/>
                      </a:lnTo>
                      <a:lnTo>
                        <a:pt x="74" y="21"/>
                      </a:lnTo>
                      <a:lnTo>
                        <a:pt x="69" y="22"/>
                      </a:lnTo>
                      <a:lnTo>
                        <a:pt x="68" y="19"/>
                      </a:lnTo>
                      <a:lnTo>
                        <a:pt x="63" y="18"/>
                      </a:lnTo>
                      <a:lnTo>
                        <a:pt x="58" y="15"/>
                      </a:lnTo>
                      <a:lnTo>
                        <a:pt x="50" y="13"/>
                      </a:lnTo>
                      <a:lnTo>
                        <a:pt x="39" y="10"/>
                      </a:lnTo>
                      <a:lnTo>
                        <a:pt x="28" y="7"/>
                      </a:lnTo>
                      <a:lnTo>
                        <a:pt x="1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Freeform 319"/>
                <p:cNvSpPr/>
                <p:nvPr/>
              </p:nvSpPr>
              <p:spPr>
                <a:xfrm>
                  <a:off x="6666840" y="36892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320"/>
                <p:cNvSpPr/>
                <p:nvPr/>
              </p:nvSpPr>
              <p:spPr>
                <a:xfrm>
                  <a:off x="6666840" y="3695760"/>
                  <a:ext cx="159120" cy="7200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22" h="128">
                      <a:moveTo>
                        <a:pt x="95" y="9"/>
                      </a:moveTo>
                      <a:lnTo>
                        <a:pt x="122" y="128"/>
                      </a:lnTo>
                      <a:lnTo>
                        <a:pt x="110" y="128"/>
                      </a:lnTo>
                      <a:lnTo>
                        <a:pt x="100" y="127"/>
                      </a:lnTo>
                      <a:lnTo>
                        <a:pt x="90" y="124"/>
                      </a:lnTo>
                      <a:lnTo>
                        <a:pt x="82" y="118"/>
                      </a:lnTo>
                      <a:lnTo>
                        <a:pt x="79" y="116"/>
                      </a:lnTo>
                      <a:lnTo>
                        <a:pt x="75" y="112"/>
                      </a:lnTo>
                      <a:lnTo>
                        <a:pt x="72" y="108"/>
                      </a:lnTo>
                      <a:lnTo>
                        <a:pt x="71" y="102"/>
                      </a:lnTo>
                      <a:lnTo>
                        <a:pt x="68" y="97"/>
                      </a:lnTo>
                      <a:lnTo>
                        <a:pt x="67" y="91"/>
                      </a:lnTo>
                      <a:lnTo>
                        <a:pt x="66" y="85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5" y="2"/>
                      </a:lnTo>
                      <a:lnTo>
                        <a:pt x="46" y="3"/>
                      </a:lnTo>
                      <a:lnTo>
                        <a:pt x="59" y="4"/>
                      </a:lnTo>
                      <a:lnTo>
                        <a:pt x="71" y="6"/>
                      </a:lnTo>
                      <a:lnTo>
                        <a:pt x="82" y="7"/>
                      </a:lnTo>
                      <a:lnTo>
                        <a:pt x="95" y="9"/>
                      </a:lnTo>
                      <a:close/>
                    </a:path>
                  </a:pathLst>
                </a:custGeom>
                <a:solidFill>
                  <a:srgbClr val="f2f2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Freeform 321"/>
                <p:cNvSpPr/>
                <p:nvPr/>
              </p:nvSpPr>
              <p:spPr>
                <a:xfrm>
                  <a:off x="6792480" y="3692520"/>
                  <a:ext cx="271800" cy="752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208" h="133">
                      <a:moveTo>
                        <a:pt x="27" y="133"/>
                      </a:moveTo>
                      <a:lnTo>
                        <a:pt x="0" y="14"/>
                      </a:lnTo>
                      <a:lnTo>
                        <a:pt x="19" y="18"/>
                      </a:lnTo>
                      <a:lnTo>
                        <a:pt x="37" y="20"/>
                      </a:lnTo>
                      <a:lnTo>
                        <a:pt x="56" y="23"/>
                      </a:lnTo>
                      <a:lnTo>
                        <a:pt x="74" y="26"/>
                      </a:lnTo>
                      <a:lnTo>
                        <a:pt x="93" y="27"/>
                      </a:lnTo>
                      <a:lnTo>
                        <a:pt x="111" y="30"/>
                      </a:lnTo>
                      <a:lnTo>
                        <a:pt x="129" y="31"/>
                      </a:lnTo>
                      <a:lnTo>
                        <a:pt x="146" y="31"/>
                      </a:lnTo>
                      <a:lnTo>
                        <a:pt x="149" y="24"/>
                      </a:lnTo>
                      <a:lnTo>
                        <a:pt x="154" y="19"/>
                      </a:lnTo>
                      <a:lnTo>
                        <a:pt x="160" y="15"/>
                      </a:lnTo>
                      <a:lnTo>
                        <a:pt x="167" y="11"/>
                      </a:lnTo>
                      <a:lnTo>
                        <a:pt x="173" y="8"/>
                      </a:lnTo>
                      <a:lnTo>
                        <a:pt x="181" y="5"/>
                      </a:lnTo>
                      <a:lnTo>
                        <a:pt x="188" y="3"/>
                      </a:lnTo>
                      <a:lnTo>
                        <a:pt x="195" y="0"/>
                      </a:lnTo>
                      <a:lnTo>
                        <a:pt x="208" y="58"/>
                      </a:lnTo>
                      <a:lnTo>
                        <a:pt x="197" y="65"/>
                      </a:lnTo>
                      <a:lnTo>
                        <a:pt x="181" y="76"/>
                      </a:lnTo>
                      <a:lnTo>
                        <a:pt x="159" y="87"/>
                      </a:lnTo>
                      <a:lnTo>
                        <a:pt x="133" y="99"/>
                      </a:lnTo>
                      <a:lnTo>
                        <a:pt x="107" y="111"/>
                      </a:lnTo>
                      <a:lnTo>
                        <a:pt x="79" y="122"/>
                      </a:lnTo>
                      <a:lnTo>
                        <a:pt x="66" y="126"/>
                      </a:lnTo>
                      <a:lnTo>
                        <a:pt x="52" y="129"/>
                      </a:lnTo>
                      <a:lnTo>
                        <a:pt x="39" y="132"/>
                      </a:lnTo>
                      <a:lnTo>
                        <a:pt x="27" y="133"/>
                      </a:lnTo>
                      <a:close/>
                    </a:path>
                  </a:pathLst>
                </a:custGeom>
                <a:solidFill>
                  <a:srgbClr val="f2e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Freeform 322"/>
                <p:cNvSpPr/>
                <p:nvPr/>
              </p:nvSpPr>
              <p:spPr>
                <a:xfrm>
                  <a:off x="7046280" y="3689280"/>
                  <a:ext cx="20520" cy="367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7" h="66">
                      <a:moveTo>
                        <a:pt x="13" y="66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2" y="3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5" y="66"/>
                      </a:lnTo>
                      <a:lnTo>
                        <a:pt x="13" y="66"/>
                      </a:lnTo>
                      <a:lnTo>
                        <a:pt x="13" y="66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Freeform 323"/>
                <p:cNvSpPr/>
                <p:nvPr/>
              </p:nvSpPr>
              <p:spPr>
                <a:xfrm>
                  <a:off x="6666840" y="36892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Freeform 324"/>
                <p:cNvSpPr/>
                <p:nvPr/>
              </p:nvSpPr>
              <p:spPr>
                <a:xfrm>
                  <a:off x="6666840" y="36892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Freeform 325"/>
                <p:cNvSpPr/>
                <p:nvPr/>
              </p:nvSpPr>
              <p:spPr>
                <a:xfrm>
                  <a:off x="6719760" y="3697920"/>
                  <a:ext cx="38880" cy="6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4"/>
                      </a:moveTo>
                      <a:lnTo>
                        <a:pt x="22" y="12"/>
                      </a:lnTo>
                      <a:lnTo>
                        <a:pt x="0" y="0"/>
                      </a:lnTo>
                      <a:lnTo>
                        <a:pt x="22" y="12"/>
                      </a:lnTo>
                      <a:lnTo>
                        <a:pt x="30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Freeform 326"/>
                <p:cNvSpPr/>
                <p:nvPr/>
              </p:nvSpPr>
              <p:spPr>
                <a:xfrm>
                  <a:off x="6706440" y="3697920"/>
                  <a:ext cx="41400" cy="24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34" h="45">
                      <a:moveTo>
                        <a:pt x="12" y="0"/>
                      </a:moveTo>
                      <a:lnTo>
                        <a:pt x="34" y="12"/>
                      </a:lnTo>
                      <a:lnTo>
                        <a:pt x="0" y="45"/>
                      </a:lnTo>
                      <a:lnTo>
                        <a:pt x="34" y="12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Freeform 327"/>
                <p:cNvSpPr/>
                <p:nvPr/>
              </p:nvSpPr>
              <p:spPr>
                <a:xfrm>
                  <a:off x="6748200" y="3699360"/>
                  <a:ext cx="169920" cy="298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28" h="53">
                      <a:moveTo>
                        <a:pt x="128" y="17"/>
                      </a:moveTo>
                      <a:lnTo>
                        <a:pt x="92" y="53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92" y="53"/>
                      </a:lnTo>
                      <a:lnTo>
                        <a:pt x="128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Freeform 328"/>
                <p:cNvSpPr/>
                <p:nvPr/>
              </p:nvSpPr>
              <p:spPr>
                <a:xfrm>
                  <a:off x="6748200" y="3704040"/>
                  <a:ext cx="122400" cy="586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92" h="107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26" y="107"/>
                      </a:lnTo>
                      <a:lnTo>
                        <a:pt x="17" y="103"/>
                      </a:lnTo>
                      <a:lnTo>
                        <a:pt x="26" y="107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Freeform 329"/>
                <p:cNvSpPr/>
                <p:nvPr/>
              </p:nvSpPr>
              <p:spPr>
                <a:xfrm>
                  <a:off x="6706440" y="3704040"/>
                  <a:ext cx="41400" cy="183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33"/>
                      </a:moveTo>
                      <a:lnTo>
                        <a:pt x="34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330"/>
                <p:cNvSpPr/>
                <p:nvPr/>
              </p:nvSpPr>
              <p:spPr>
                <a:xfrm>
                  <a:off x="6771600" y="3760920"/>
                  <a:ext cx="12960" cy="3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331"/>
                <p:cNvSpPr/>
                <p:nvPr/>
              </p:nvSpPr>
              <p:spPr>
                <a:xfrm>
                  <a:off x="6996240" y="37026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54" y="26"/>
                      </a:moveTo>
                      <a:lnTo>
                        <a:pt x="0" y="0"/>
                      </a:lnTo>
                      <a:lnTo>
                        <a:pt x="54" y="2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332"/>
                <p:cNvSpPr/>
                <p:nvPr/>
              </p:nvSpPr>
              <p:spPr>
                <a:xfrm>
                  <a:off x="6996240" y="37026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0" y="0"/>
                      </a:moveTo>
                      <a:lnTo>
                        <a:pt x="54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333"/>
                <p:cNvSpPr/>
                <p:nvPr/>
              </p:nvSpPr>
              <p:spPr>
                <a:xfrm>
                  <a:off x="7046280" y="37209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16" y="0"/>
                      </a:move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334"/>
                <p:cNvSpPr/>
                <p:nvPr/>
              </p:nvSpPr>
              <p:spPr>
                <a:xfrm>
                  <a:off x="6870600" y="3709080"/>
                  <a:ext cx="93960" cy="38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73" h="71">
                      <a:moveTo>
                        <a:pt x="73" y="71"/>
                      </a:moveTo>
                      <a:lnTo>
                        <a:pt x="0" y="36"/>
                      </a:lnTo>
                      <a:lnTo>
                        <a:pt x="36" y="0"/>
                      </a:lnTo>
                      <a:lnTo>
                        <a:pt x="0" y="36"/>
                      </a:lnTo>
                      <a:lnTo>
                        <a:pt x="73" y="7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335"/>
                <p:cNvSpPr/>
                <p:nvPr/>
              </p:nvSpPr>
              <p:spPr>
                <a:xfrm>
                  <a:off x="6870600" y="3729240"/>
                  <a:ext cx="93960" cy="183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336"/>
                <p:cNvSpPr/>
                <p:nvPr/>
              </p:nvSpPr>
              <p:spPr>
                <a:xfrm>
                  <a:off x="6784920" y="3729240"/>
                  <a:ext cx="85680" cy="3672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11" y="68"/>
                      </a:moveTo>
                      <a:lnTo>
                        <a:pt x="0" y="62"/>
                      </a:lnTo>
                      <a:lnTo>
                        <a:pt x="66" y="0"/>
                      </a:lnTo>
                      <a:lnTo>
                        <a:pt x="0" y="62"/>
                      </a:lnTo>
                      <a:lnTo>
                        <a:pt x="11" y="6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337"/>
                <p:cNvSpPr/>
                <p:nvPr/>
              </p:nvSpPr>
              <p:spPr>
                <a:xfrm>
                  <a:off x="6784920" y="3763080"/>
                  <a:ext cx="12960" cy="28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0" y="0"/>
                      </a:moveTo>
                      <a:lnTo>
                        <a:pt x="11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338"/>
                <p:cNvSpPr/>
                <p:nvPr/>
              </p:nvSpPr>
              <p:spPr>
                <a:xfrm>
                  <a:off x="6781680" y="3763080"/>
                  <a:ext cx="2880" cy="144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339"/>
                <p:cNvSpPr/>
                <p:nvPr/>
              </p:nvSpPr>
              <p:spPr>
                <a:xfrm>
                  <a:off x="7046280" y="37209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340"/>
                <p:cNvSpPr/>
                <p:nvPr/>
              </p:nvSpPr>
              <p:spPr>
                <a:xfrm>
                  <a:off x="6666840" y="3695760"/>
                  <a:ext cx="290160" cy="720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222" h="128">
                      <a:moveTo>
                        <a:pt x="93" y="9"/>
                      </a:moveTo>
                      <a:lnTo>
                        <a:pt x="99" y="15"/>
                      </a:lnTo>
                      <a:lnTo>
                        <a:pt x="114" y="29"/>
                      </a:lnTo>
                      <a:lnTo>
                        <a:pt x="130" y="42"/>
                      </a:lnTo>
                      <a:lnTo>
                        <a:pt x="146" y="55"/>
                      </a:lnTo>
                      <a:lnTo>
                        <a:pt x="163" y="67"/>
                      </a:lnTo>
                      <a:lnTo>
                        <a:pt x="181" y="76"/>
                      </a:lnTo>
                      <a:lnTo>
                        <a:pt x="199" y="86"/>
                      </a:lnTo>
                      <a:lnTo>
                        <a:pt x="218" y="95"/>
                      </a:lnTo>
                      <a:lnTo>
                        <a:pt x="222" y="97"/>
                      </a:lnTo>
                      <a:lnTo>
                        <a:pt x="196" y="109"/>
                      </a:lnTo>
                      <a:lnTo>
                        <a:pt x="169" y="118"/>
                      </a:lnTo>
                      <a:lnTo>
                        <a:pt x="155" y="123"/>
                      </a:lnTo>
                      <a:lnTo>
                        <a:pt x="143" y="125"/>
                      </a:lnTo>
                      <a:lnTo>
                        <a:pt x="130" y="128"/>
                      </a:lnTo>
                      <a:lnTo>
                        <a:pt x="118" y="128"/>
                      </a:lnTo>
                      <a:lnTo>
                        <a:pt x="108" y="128"/>
                      </a:lnTo>
                      <a:lnTo>
                        <a:pt x="97" y="127"/>
                      </a:lnTo>
                      <a:lnTo>
                        <a:pt x="88" y="123"/>
                      </a:lnTo>
                      <a:lnTo>
                        <a:pt x="81" y="117"/>
                      </a:lnTo>
                      <a:lnTo>
                        <a:pt x="74" y="110"/>
                      </a:lnTo>
                      <a:lnTo>
                        <a:pt x="70" y="102"/>
                      </a:lnTo>
                      <a:lnTo>
                        <a:pt x="67" y="90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4" y="2"/>
                      </a:lnTo>
                      <a:lnTo>
                        <a:pt x="45" y="3"/>
                      </a:lnTo>
                      <a:lnTo>
                        <a:pt x="57" y="4"/>
                      </a:lnTo>
                      <a:lnTo>
                        <a:pt x="68" y="6"/>
                      </a:lnTo>
                      <a:lnTo>
                        <a:pt x="81" y="7"/>
                      </a:lnTo>
                      <a:lnTo>
                        <a:pt x="93" y="9"/>
                      </a:lnTo>
                      <a:close/>
                    </a:path>
                  </a:pathLst>
                </a:custGeom>
                <a:solidFill>
                  <a:srgbClr val="e2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341"/>
                <p:cNvSpPr/>
                <p:nvPr/>
              </p:nvSpPr>
              <p:spPr>
                <a:xfrm>
                  <a:off x="6787080" y="3692520"/>
                  <a:ext cx="279720" cy="5652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0" y="14"/>
                      </a:moveTo>
                      <a:lnTo>
                        <a:pt x="6" y="20"/>
                      </a:lnTo>
                      <a:lnTo>
                        <a:pt x="21" y="34"/>
                      </a:lnTo>
                      <a:lnTo>
                        <a:pt x="37" y="47"/>
                      </a:lnTo>
                      <a:lnTo>
                        <a:pt x="53" y="60"/>
                      </a:lnTo>
                      <a:lnTo>
                        <a:pt x="70" y="72"/>
                      </a:lnTo>
                      <a:lnTo>
                        <a:pt x="88" y="81"/>
                      </a:lnTo>
                      <a:lnTo>
                        <a:pt x="106" y="91"/>
                      </a:lnTo>
                      <a:lnTo>
                        <a:pt x="125" y="100"/>
                      </a:lnTo>
                      <a:lnTo>
                        <a:pt x="129" y="102"/>
                      </a:lnTo>
                      <a:lnTo>
                        <a:pt x="147" y="94"/>
                      </a:lnTo>
                      <a:lnTo>
                        <a:pt x="163" y="85"/>
                      </a:lnTo>
                      <a:lnTo>
                        <a:pt x="177" y="79"/>
                      </a:lnTo>
                      <a:lnTo>
                        <a:pt x="190" y="72"/>
                      </a:lnTo>
                      <a:lnTo>
                        <a:pt x="199" y="65"/>
                      </a:lnTo>
                      <a:lnTo>
                        <a:pt x="207" y="61"/>
                      </a:lnTo>
                      <a:lnTo>
                        <a:pt x="212" y="58"/>
                      </a:lnTo>
                      <a:lnTo>
                        <a:pt x="214" y="57"/>
                      </a:lnTo>
                      <a:lnTo>
                        <a:pt x="214" y="4"/>
                      </a:lnTo>
                      <a:lnTo>
                        <a:pt x="204" y="3"/>
                      </a:lnTo>
                      <a:lnTo>
                        <a:pt x="197" y="0"/>
                      </a:lnTo>
                      <a:lnTo>
                        <a:pt x="188" y="3"/>
                      </a:lnTo>
                      <a:lnTo>
                        <a:pt x="182" y="5"/>
                      </a:lnTo>
                      <a:lnTo>
                        <a:pt x="175" y="8"/>
                      </a:lnTo>
                      <a:lnTo>
                        <a:pt x="168" y="11"/>
                      </a:lnTo>
                      <a:lnTo>
                        <a:pt x="162" y="15"/>
                      </a:lnTo>
                      <a:lnTo>
                        <a:pt x="156" y="19"/>
                      </a:lnTo>
                      <a:lnTo>
                        <a:pt x="151" y="24"/>
                      </a:lnTo>
                      <a:lnTo>
                        <a:pt x="148" y="31"/>
                      </a:lnTo>
                      <a:lnTo>
                        <a:pt x="131" y="31"/>
                      </a:lnTo>
                      <a:lnTo>
                        <a:pt x="112" y="30"/>
                      </a:lnTo>
                      <a:lnTo>
                        <a:pt x="94" y="27"/>
                      </a:lnTo>
                      <a:lnTo>
                        <a:pt x="75" y="26"/>
                      </a:lnTo>
                      <a:lnTo>
                        <a:pt x="56" y="23"/>
                      </a:lnTo>
                      <a:lnTo>
                        <a:pt x="37" y="19"/>
                      </a:lnTo>
                      <a:lnTo>
                        <a:pt x="18" y="1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5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342"/>
                <p:cNvSpPr/>
                <p:nvPr/>
              </p:nvSpPr>
              <p:spPr>
                <a:xfrm>
                  <a:off x="7046280" y="3689280"/>
                  <a:ext cx="20520" cy="61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0" y="8"/>
                      </a:moveTo>
                      <a:lnTo>
                        <a:pt x="7" y="11"/>
                      </a:lnTo>
                      <a:lnTo>
                        <a:pt x="17" y="12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8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343"/>
                <p:cNvSpPr/>
                <p:nvPr/>
              </p:nvSpPr>
              <p:spPr>
                <a:xfrm>
                  <a:off x="5263560" y="34250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344"/>
                <p:cNvSpPr/>
                <p:nvPr/>
              </p:nvSpPr>
              <p:spPr>
                <a:xfrm>
                  <a:off x="5404320" y="3634200"/>
                  <a:ext cx="110160" cy="98280"/>
                </a:xfrm>
                <a:custGeom>
                  <a:avLst/>
                  <a:gdLst>
                    <a:gd name="textAreaLeft" fmla="*/ 0 w 110160"/>
                    <a:gd name="textAreaRight" fmla="*/ 110520 w 1101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4" h="177">
                      <a:moveTo>
                        <a:pt x="44" y="0"/>
                      </a:moveTo>
                      <a:lnTo>
                        <a:pt x="84" y="177"/>
                      </a:lnTo>
                      <a:lnTo>
                        <a:pt x="3" y="98"/>
                      </a:lnTo>
                      <a:lnTo>
                        <a:pt x="0" y="95"/>
                      </a:lnTo>
                      <a:lnTo>
                        <a:pt x="5" y="83"/>
                      </a:lnTo>
                      <a:lnTo>
                        <a:pt x="10" y="71"/>
                      </a:lnTo>
                      <a:lnTo>
                        <a:pt x="15" y="60"/>
                      </a:lnTo>
                      <a:lnTo>
                        <a:pt x="20" y="48"/>
                      </a:lnTo>
                      <a:lnTo>
                        <a:pt x="26" y="35"/>
                      </a:lnTo>
                      <a:lnTo>
                        <a:pt x="32" y="25"/>
                      </a:lnTo>
                      <a:lnTo>
                        <a:pt x="37" y="1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345"/>
                <p:cNvSpPr/>
                <p:nvPr/>
              </p:nvSpPr>
              <p:spPr>
                <a:xfrm>
                  <a:off x="5461920" y="3620880"/>
                  <a:ext cx="355320" cy="1936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1" h="347">
                      <a:moveTo>
                        <a:pt x="40" y="200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90" y="147"/>
                      </a:lnTo>
                      <a:lnTo>
                        <a:pt x="244" y="250"/>
                      </a:lnTo>
                      <a:lnTo>
                        <a:pt x="249" y="252"/>
                      </a:lnTo>
                      <a:lnTo>
                        <a:pt x="271" y="347"/>
                      </a:lnTo>
                      <a:lnTo>
                        <a:pt x="222" y="327"/>
                      </a:lnTo>
                      <a:lnTo>
                        <a:pt x="79" y="238"/>
                      </a:lnTo>
                      <a:lnTo>
                        <a:pt x="40" y="20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Freeform 346"/>
                <p:cNvSpPr/>
                <p:nvPr/>
              </p:nvSpPr>
              <p:spPr>
                <a:xfrm>
                  <a:off x="5789160" y="3760920"/>
                  <a:ext cx="308160" cy="950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238" h="171">
                      <a:moveTo>
                        <a:pt x="22" y="95"/>
                      </a:moveTo>
                      <a:lnTo>
                        <a:pt x="0" y="0"/>
                      </a:lnTo>
                      <a:lnTo>
                        <a:pt x="203" y="87"/>
                      </a:lnTo>
                      <a:lnTo>
                        <a:pt x="219" y="89"/>
                      </a:lnTo>
                      <a:lnTo>
                        <a:pt x="238" y="171"/>
                      </a:lnTo>
                      <a:lnTo>
                        <a:pt x="191" y="165"/>
                      </a:lnTo>
                      <a:lnTo>
                        <a:pt x="22" y="95"/>
                      </a:lnTo>
                      <a:close/>
                    </a:path>
                  </a:pathLst>
                </a:custGeom>
                <a:solidFill>
                  <a:srgbClr val="e5b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Freeform 347"/>
                <p:cNvSpPr/>
                <p:nvPr/>
              </p:nvSpPr>
              <p:spPr>
                <a:xfrm>
                  <a:off x="6073560" y="3810960"/>
                  <a:ext cx="287280" cy="565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0" h="101">
                      <a:moveTo>
                        <a:pt x="19" y="82"/>
                      </a:moveTo>
                      <a:lnTo>
                        <a:pt x="0" y="0"/>
                      </a:lnTo>
                      <a:lnTo>
                        <a:pt x="199" y="8"/>
                      </a:lnTo>
                      <a:lnTo>
                        <a:pt x="220" y="96"/>
                      </a:lnTo>
                      <a:lnTo>
                        <a:pt x="137" y="101"/>
                      </a:lnTo>
                      <a:lnTo>
                        <a:pt x="19" y="82"/>
                      </a:lnTo>
                      <a:close/>
                    </a:path>
                  </a:pathLst>
                </a:custGeom>
                <a:solidFill>
                  <a:srgbClr val="e5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348"/>
                <p:cNvSpPr/>
                <p:nvPr/>
              </p:nvSpPr>
              <p:spPr>
                <a:xfrm>
                  <a:off x="6334920" y="3813120"/>
                  <a:ext cx="279720" cy="5184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15" h="92">
                      <a:moveTo>
                        <a:pt x="21" y="92"/>
                      </a:moveTo>
                      <a:lnTo>
                        <a:pt x="0" y="4"/>
                      </a:lnTo>
                      <a:lnTo>
                        <a:pt x="80" y="8"/>
                      </a:lnTo>
                      <a:lnTo>
                        <a:pt x="198" y="0"/>
                      </a:lnTo>
                      <a:lnTo>
                        <a:pt x="215" y="72"/>
                      </a:lnTo>
                      <a:lnTo>
                        <a:pt x="157" y="84"/>
                      </a:lnTo>
                      <a:lnTo>
                        <a:pt x="21" y="92"/>
                      </a:lnTo>
                      <a:close/>
                    </a:path>
                  </a:pathLst>
                </a:custGeom>
                <a:solidFill>
                  <a:srgbClr val="e5d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349"/>
                <p:cNvSpPr/>
                <p:nvPr/>
              </p:nvSpPr>
              <p:spPr>
                <a:xfrm>
                  <a:off x="6594120" y="3799800"/>
                  <a:ext cx="266400" cy="5328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5" h="97">
                      <a:moveTo>
                        <a:pt x="17" y="97"/>
                      </a:moveTo>
                      <a:lnTo>
                        <a:pt x="0" y="25"/>
                      </a:lnTo>
                      <a:lnTo>
                        <a:pt x="91" y="19"/>
                      </a:lnTo>
                      <a:lnTo>
                        <a:pt x="193" y="0"/>
                      </a:lnTo>
                      <a:lnTo>
                        <a:pt x="205" y="56"/>
                      </a:lnTo>
                      <a:lnTo>
                        <a:pt x="200" y="59"/>
                      </a:lnTo>
                      <a:lnTo>
                        <a:pt x="17" y="97"/>
                      </a:lnTo>
                      <a:close/>
                    </a:path>
                  </a:pathLst>
                </a:custGeom>
                <a:solidFill>
                  <a:srgbClr val="e5e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350"/>
                <p:cNvSpPr/>
                <p:nvPr/>
              </p:nvSpPr>
              <p:spPr>
                <a:xfrm>
                  <a:off x="6844680" y="3774240"/>
                  <a:ext cx="258840" cy="5652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99" h="100">
                      <a:moveTo>
                        <a:pt x="12" y="100"/>
                      </a:moveTo>
                      <a:lnTo>
                        <a:pt x="0" y="44"/>
                      </a:lnTo>
                      <a:lnTo>
                        <a:pt x="95" y="25"/>
                      </a:lnTo>
                      <a:lnTo>
                        <a:pt x="187" y="0"/>
                      </a:lnTo>
                      <a:lnTo>
                        <a:pt x="199" y="48"/>
                      </a:lnTo>
                      <a:lnTo>
                        <a:pt x="12" y="100"/>
                      </a:lnTo>
                      <a:close/>
                    </a:path>
                  </a:pathLst>
                </a:custGeom>
                <a:solidFill>
                  <a:srgbClr val="e5d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Freeform 351"/>
                <p:cNvSpPr/>
                <p:nvPr/>
              </p:nvSpPr>
              <p:spPr>
                <a:xfrm>
                  <a:off x="7090560" y="3739320"/>
                  <a:ext cx="248040" cy="61560"/>
                </a:xfrm>
                <a:custGeom>
                  <a:avLst/>
                  <a:gdLst>
                    <a:gd name="textAreaLeft" fmla="*/ 0 w 248040"/>
                    <a:gd name="textAreaRight" fmla="*/ 248400 w 2480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0" h="111">
                      <a:moveTo>
                        <a:pt x="12" y="111"/>
                      </a:moveTo>
                      <a:lnTo>
                        <a:pt x="0" y="63"/>
                      </a:lnTo>
                      <a:lnTo>
                        <a:pt x="137" y="25"/>
                      </a:lnTo>
                      <a:lnTo>
                        <a:pt x="184" y="0"/>
                      </a:lnTo>
                      <a:lnTo>
                        <a:pt x="190" y="27"/>
                      </a:lnTo>
                      <a:lnTo>
                        <a:pt x="50" y="101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e5d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352"/>
                <p:cNvSpPr/>
                <p:nvPr/>
              </p:nvSpPr>
              <p:spPr>
                <a:xfrm>
                  <a:off x="7330680" y="3686040"/>
                  <a:ext cx="229680" cy="6804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77" h="125">
                      <a:moveTo>
                        <a:pt x="6" y="125"/>
                      </a:moveTo>
                      <a:lnTo>
                        <a:pt x="0" y="98"/>
                      </a:lnTo>
                      <a:lnTo>
                        <a:pt x="129" y="32"/>
                      </a:lnTo>
                      <a:lnTo>
                        <a:pt x="175" y="0"/>
                      </a:lnTo>
                      <a:lnTo>
                        <a:pt x="177" y="9"/>
                      </a:lnTo>
                      <a:lnTo>
                        <a:pt x="63" y="97"/>
                      </a:lnTo>
                      <a:lnTo>
                        <a:pt x="6" y="125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353"/>
                <p:cNvSpPr/>
                <p:nvPr/>
              </p:nvSpPr>
              <p:spPr>
                <a:xfrm>
                  <a:off x="7558200" y="3645720"/>
                  <a:ext cx="138600" cy="4500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07" h="79">
                      <a:moveTo>
                        <a:pt x="2" y="79"/>
                      </a:moveTo>
                      <a:lnTo>
                        <a:pt x="0" y="70"/>
                      </a:lnTo>
                      <a:lnTo>
                        <a:pt x="107" y="0"/>
                      </a:lnTo>
                      <a:lnTo>
                        <a:pt x="2" y="79"/>
                      </a:lnTo>
                      <a:close/>
                    </a:path>
                  </a:pathLst>
                </a:custGeom>
                <a:solidFill>
                  <a:srgbClr val="e5c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354"/>
                <p:cNvSpPr/>
                <p:nvPr/>
              </p:nvSpPr>
              <p:spPr>
                <a:xfrm>
                  <a:off x="5404320" y="3620880"/>
                  <a:ext cx="75600" cy="6660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57" h="118">
                      <a:moveTo>
                        <a:pt x="0" y="118"/>
                      </a:moveTo>
                      <a:lnTo>
                        <a:pt x="10" y="96"/>
                      </a:lnTo>
                      <a:lnTo>
                        <a:pt x="29" y="53"/>
                      </a:lnTo>
                      <a:lnTo>
                        <a:pt x="51" y="10"/>
                      </a:lnTo>
                      <a:lnTo>
                        <a:pt x="57" y="0"/>
                      </a:lnTo>
                      <a:lnTo>
                        <a:pt x="51" y="10"/>
                      </a:lnTo>
                      <a:lnTo>
                        <a:pt x="29" y="53"/>
                      </a:lnTo>
                      <a:lnTo>
                        <a:pt x="10" y="9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Freeform 355"/>
                <p:cNvSpPr/>
                <p:nvPr/>
              </p:nvSpPr>
              <p:spPr>
                <a:xfrm>
                  <a:off x="6818760" y="3707640"/>
                  <a:ext cx="655920" cy="12672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502" h="228">
                      <a:moveTo>
                        <a:pt x="502" y="0"/>
                      </a:moveTo>
                      <a:lnTo>
                        <a:pt x="490" y="10"/>
                      </a:lnTo>
                      <a:lnTo>
                        <a:pt x="445" y="38"/>
                      </a:lnTo>
                      <a:lnTo>
                        <a:pt x="399" y="65"/>
                      </a:lnTo>
                      <a:lnTo>
                        <a:pt x="352" y="92"/>
                      </a:lnTo>
                      <a:lnTo>
                        <a:pt x="302" y="117"/>
                      </a:lnTo>
                      <a:lnTo>
                        <a:pt x="252" y="140"/>
                      </a:lnTo>
                      <a:lnTo>
                        <a:pt x="201" y="162"/>
                      </a:lnTo>
                      <a:lnTo>
                        <a:pt x="148" y="182"/>
                      </a:lnTo>
                      <a:lnTo>
                        <a:pt x="95" y="201"/>
                      </a:lnTo>
                      <a:lnTo>
                        <a:pt x="39" y="217"/>
                      </a:lnTo>
                      <a:lnTo>
                        <a:pt x="0" y="228"/>
                      </a:lnTo>
                      <a:lnTo>
                        <a:pt x="39" y="217"/>
                      </a:lnTo>
                      <a:lnTo>
                        <a:pt x="95" y="201"/>
                      </a:lnTo>
                      <a:lnTo>
                        <a:pt x="148" y="182"/>
                      </a:lnTo>
                      <a:lnTo>
                        <a:pt x="201" y="162"/>
                      </a:lnTo>
                      <a:lnTo>
                        <a:pt x="252" y="140"/>
                      </a:lnTo>
                      <a:lnTo>
                        <a:pt x="302" y="117"/>
                      </a:lnTo>
                      <a:lnTo>
                        <a:pt x="352" y="92"/>
                      </a:lnTo>
                      <a:lnTo>
                        <a:pt x="399" y="65"/>
                      </a:lnTo>
                      <a:lnTo>
                        <a:pt x="445" y="38"/>
                      </a:lnTo>
                      <a:lnTo>
                        <a:pt x="490" y="10"/>
                      </a:lnTo>
                      <a:lnTo>
                        <a:pt x="50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Freeform 356"/>
                <p:cNvSpPr/>
                <p:nvPr/>
              </p:nvSpPr>
              <p:spPr>
                <a:xfrm>
                  <a:off x="5992920" y="3844800"/>
                  <a:ext cx="658440" cy="16560"/>
                </a:xfrm>
                <a:custGeom>
                  <a:avLst/>
                  <a:gdLst>
                    <a:gd name="textAreaLeft" fmla="*/ 0 w 658440"/>
                    <a:gd name="textAreaRight" fmla="*/ 658800 w 658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503" h="30">
                      <a:moveTo>
                        <a:pt x="503" y="9"/>
                      </a:moveTo>
                      <a:lnTo>
                        <a:pt x="452" y="17"/>
                      </a:lnTo>
                      <a:lnTo>
                        <a:pt x="398" y="23"/>
                      </a:lnTo>
                      <a:lnTo>
                        <a:pt x="346" y="27"/>
                      </a:lnTo>
                      <a:lnTo>
                        <a:pt x="293" y="30"/>
                      </a:lnTo>
                      <a:lnTo>
                        <a:pt x="242" y="30"/>
                      </a:lnTo>
                      <a:lnTo>
                        <a:pt x="191" y="27"/>
                      </a:lnTo>
                      <a:lnTo>
                        <a:pt x="141" y="23"/>
                      </a:lnTo>
                      <a:lnTo>
                        <a:pt x="92" y="17"/>
                      </a:lnTo>
                      <a:lnTo>
                        <a:pt x="44" y="9"/>
                      </a:lnTo>
                      <a:lnTo>
                        <a:pt x="0" y="0"/>
                      </a:lnTo>
                      <a:lnTo>
                        <a:pt x="44" y="9"/>
                      </a:lnTo>
                      <a:lnTo>
                        <a:pt x="92" y="17"/>
                      </a:lnTo>
                      <a:lnTo>
                        <a:pt x="141" y="23"/>
                      </a:lnTo>
                      <a:lnTo>
                        <a:pt x="191" y="27"/>
                      </a:lnTo>
                      <a:lnTo>
                        <a:pt x="242" y="30"/>
                      </a:lnTo>
                      <a:lnTo>
                        <a:pt x="293" y="30"/>
                      </a:lnTo>
                      <a:lnTo>
                        <a:pt x="346" y="27"/>
                      </a:lnTo>
                      <a:lnTo>
                        <a:pt x="398" y="23"/>
                      </a:lnTo>
                      <a:lnTo>
                        <a:pt x="452" y="17"/>
                      </a:lnTo>
                      <a:lnTo>
                        <a:pt x="50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357"/>
                <p:cNvSpPr/>
                <p:nvPr/>
              </p:nvSpPr>
              <p:spPr>
                <a:xfrm>
                  <a:off x="5263560" y="3578760"/>
                  <a:ext cx="5040" cy="1152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5" h="19">
                      <a:moveTo>
                        <a:pt x="5" y="19"/>
                      </a:moveTo>
                      <a:lnTo>
                        <a:pt x="0" y="0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358"/>
                <p:cNvSpPr/>
                <p:nvPr/>
              </p:nvSpPr>
              <p:spPr>
                <a:xfrm>
                  <a:off x="5263560" y="34250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c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359"/>
                <p:cNvSpPr/>
                <p:nvPr/>
              </p:nvSpPr>
              <p:spPr>
                <a:xfrm>
                  <a:off x="5263560" y="3436920"/>
                  <a:ext cx="368640" cy="250560"/>
                </a:xfrm>
                <a:custGeom>
                  <a:avLst/>
                  <a:gdLst>
                    <a:gd name="textAreaLeft" fmla="*/ 0 w 368640"/>
                    <a:gd name="textAreaRight" fmla="*/ 369000 w 36864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283" h="450">
                      <a:moveTo>
                        <a:pt x="263" y="0"/>
                      </a:moveTo>
                      <a:lnTo>
                        <a:pt x="283" y="97"/>
                      </a:lnTo>
                      <a:lnTo>
                        <a:pt x="200" y="158"/>
                      </a:lnTo>
                      <a:lnTo>
                        <a:pt x="156" y="222"/>
                      </a:lnTo>
                      <a:lnTo>
                        <a:pt x="166" y="337"/>
                      </a:lnTo>
                      <a:lnTo>
                        <a:pt x="167" y="339"/>
                      </a:lnTo>
                      <a:lnTo>
                        <a:pt x="109" y="450"/>
                      </a:lnTo>
                      <a:lnTo>
                        <a:pt x="35" y="337"/>
                      </a:lnTo>
                      <a:lnTo>
                        <a:pt x="33" y="335"/>
                      </a:lnTo>
                      <a:lnTo>
                        <a:pt x="28" y="325"/>
                      </a:lnTo>
                      <a:lnTo>
                        <a:pt x="21" y="313"/>
                      </a:lnTo>
                      <a:lnTo>
                        <a:pt x="14" y="298"/>
                      </a:lnTo>
                      <a:lnTo>
                        <a:pt x="7" y="282"/>
                      </a:lnTo>
                      <a:lnTo>
                        <a:pt x="3" y="267"/>
                      </a:lnTo>
                      <a:lnTo>
                        <a:pt x="0" y="262"/>
                      </a:lnTo>
                      <a:lnTo>
                        <a:pt x="0" y="256"/>
                      </a:lnTo>
                      <a:lnTo>
                        <a:pt x="0" y="251"/>
                      </a:lnTo>
                      <a:lnTo>
                        <a:pt x="2" y="248"/>
                      </a:lnTo>
                      <a:lnTo>
                        <a:pt x="35" y="158"/>
                      </a:lnTo>
                      <a:lnTo>
                        <a:pt x="100" y="69"/>
                      </a:lnTo>
                      <a:lnTo>
                        <a:pt x="200" y="17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360"/>
                <p:cNvSpPr/>
                <p:nvPr/>
              </p:nvSpPr>
              <p:spPr>
                <a:xfrm>
                  <a:off x="5605920" y="3425040"/>
                  <a:ext cx="156960" cy="65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20" h="118">
                      <a:moveTo>
                        <a:pt x="20" y="118"/>
                      </a:moveTo>
                      <a:lnTo>
                        <a:pt x="0" y="21"/>
                      </a:lnTo>
                      <a:lnTo>
                        <a:pt x="79" y="0"/>
                      </a:lnTo>
                      <a:lnTo>
                        <a:pt x="110" y="0"/>
                      </a:lnTo>
                      <a:lnTo>
                        <a:pt x="120" y="48"/>
                      </a:lnTo>
                      <a:lnTo>
                        <a:pt x="79" y="76"/>
                      </a:lnTo>
                      <a:lnTo>
                        <a:pt x="20" y="118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361"/>
                <p:cNvSpPr/>
                <p:nvPr/>
              </p:nvSpPr>
              <p:spPr>
                <a:xfrm>
                  <a:off x="5749920" y="3425040"/>
                  <a:ext cx="101880" cy="2628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8" h="48">
                      <a:moveTo>
                        <a:pt x="10" y="4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e5b8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362"/>
                <p:cNvSpPr/>
                <p:nvPr/>
              </p:nvSpPr>
              <p:spPr>
                <a:xfrm>
                  <a:off x="5404320" y="3625560"/>
                  <a:ext cx="75600" cy="615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58" h="111">
                      <a:moveTo>
                        <a:pt x="58" y="0"/>
                      </a:moveTo>
                      <a:lnTo>
                        <a:pt x="0" y="111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363"/>
                <p:cNvSpPr/>
                <p:nvPr/>
              </p:nvSpPr>
              <p:spPr>
                <a:xfrm>
                  <a:off x="5433480" y="3634200"/>
                  <a:ext cx="2202840" cy="230760"/>
                </a:xfrm>
                <a:custGeom>
                  <a:avLst/>
                  <a:gdLst>
                    <a:gd name="textAreaLeft" fmla="*/ 0 w 2202840"/>
                    <a:gd name="textAreaRight" fmla="*/ 2203200 w 22028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686" h="414">
                      <a:moveTo>
                        <a:pt x="1686" y="53"/>
                      </a:moveTo>
                      <a:lnTo>
                        <a:pt x="1666" y="72"/>
                      </a:lnTo>
                      <a:lnTo>
                        <a:pt x="1642" y="91"/>
                      </a:lnTo>
                      <a:lnTo>
                        <a:pt x="1618" y="110"/>
                      </a:lnTo>
                      <a:lnTo>
                        <a:pt x="1594" y="127"/>
                      </a:lnTo>
                      <a:lnTo>
                        <a:pt x="1568" y="145"/>
                      </a:lnTo>
                      <a:lnTo>
                        <a:pt x="1542" y="163"/>
                      </a:lnTo>
                      <a:lnTo>
                        <a:pt x="1514" y="180"/>
                      </a:lnTo>
                      <a:lnTo>
                        <a:pt x="1486" y="198"/>
                      </a:lnTo>
                      <a:lnTo>
                        <a:pt x="1456" y="214"/>
                      </a:lnTo>
                      <a:lnTo>
                        <a:pt x="1426" y="230"/>
                      </a:lnTo>
                      <a:lnTo>
                        <a:pt x="1395" y="245"/>
                      </a:lnTo>
                      <a:lnTo>
                        <a:pt x="1362" y="262"/>
                      </a:lnTo>
                      <a:lnTo>
                        <a:pt x="1329" y="277"/>
                      </a:lnTo>
                      <a:lnTo>
                        <a:pt x="1294" y="290"/>
                      </a:lnTo>
                      <a:lnTo>
                        <a:pt x="1258" y="305"/>
                      </a:lnTo>
                      <a:lnTo>
                        <a:pt x="1221" y="319"/>
                      </a:lnTo>
                      <a:lnTo>
                        <a:pt x="1087" y="357"/>
                      </a:lnTo>
                      <a:lnTo>
                        <a:pt x="846" y="407"/>
                      </a:lnTo>
                      <a:lnTo>
                        <a:pt x="741" y="414"/>
                      </a:lnTo>
                      <a:lnTo>
                        <a:pt x="689" y="412"/>
                      </a:lnTo>
                      <a:lnTo>
                        <a:pt x="637" y="410"/>
                      </a:lnTo>
                      <a:lnTo>
                        <a:pt x="587" y="404"/>
                      </a:lnTo>
                      <a:lnTo>
                        <a:pt x="540" y="397"/>
                      </a:lnTo>
                      <a:lnTo>
                        <a:pt x="492" y="389"/>
                      </a:lnTo>
                      <a:lnTo>
                        <a:pt x="447" y="378"/>
                      </a:lnTo>
                      <a:lnTo>
                        <a:pt x="403" y="366"/>
                      </a:lnTo>
                      <a:lnTo>
                        <a:pt x="362" y="353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101" y="216"/>
                      </a:lnTo>
                      <a:lnTo>
                        <a:pt x="0" y="118"/>
                      </a:lnTo>
                      <a:lnTo>
                        <a:pt x="3" y="107"/>
                      </a:lnTo>
                      <a:lnTo>
                        <a:pt x="6" y="95"/>
                      </a:lnTo>
                      <a:lnTo>
                        <a:pt x="10" y="81"/>
                      </a:lnTo>
                      <a:lnTo>
                        <a:pt x="15" y="68"/>
                      </a:lnTo>
                      <a:lnTo>
                        <a:pt x="21" y="51"/>
                      </a:lnTo>
                      <a:lnTo>
                        <a:pt x="28" y="35"/>
                      </a:lnTo>
                      <a:lnTo>
                        <a:pt x="35" y="19"/>
                      </a:lnTo>
                      <a:lnTo>
                        <a:pt x="44" y="0"/>
                      </a:lnTo>
                      <a:lnTo>
                        <a:pt x="112" y="125"/>
                      </a:lnTo>
                      <a:lnTo>
                        <a:pt x="266" y="228"/>
                      </a:lnTo>
                      <a:lnTo>
                        <a:pt x="474" y="317"/>
                      </a:lnTo>
                      <a:lnTo>
                        <a:pt x="769" y="331"/>
                      </a:lnTo>
                      <a:lnTo>
                        <a:pt x="978" y="317"/>
                      </a:lnTo>
                      <a:lnTo>
                        <a:pt x="1175" y="279"/>
                      </a:lnTo>
                      <a:lnTo>
                        <a:pt x="1404" y="216"/>
                      </a:lnTo>
                      <a:lnTo>
                        <a:pt x="1580" y="125"/>
                      </a:lnTo>
                      <a:lnTo>
                        <a:pt x="1686" y="5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364"/>
                <p:cNvSpPr/>
                <p:nvPr/>
              </p:nvSpPr>
              <p:spPr>
                <a:xfrm>
                  <a:off x="7545240" y="366408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9" h="57">
                      <a:moveTo>
                        <a:pt x="69" y="0"/>
                      </a:moveTo>
                      <a:lnTo>
                        <a:pt x="62" y="5"/>
                      </a:lnTo>
                      <a:lnTo>
                        <a:pt x="32" y="31"/>
                      </a:lnTo>
                      <a:lnTo>
                        <a:pt x="0" y="57"/>
                      </a:lnTo>
                      <a:lnTo>
                        <a:pt x="32" y="31"/>
                      </a:lnTo>
                      <a:lnTo>
                        <a:pt x="62" y="5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365"/>
                <p:cNvSpPr/>
                <p:nvPr/>
              </p:nvSpPr>
              <p:spPr>
                <a:xfrm>
                  <a:off x="7027920" y="3695760"/>
                  <a:ext cx="517320" cy="11520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96" h="208">
                      <a:moveTo>
                        <a:pt x="396" y="0"/>
                      </a:moveTo>
                      <a:lnTo>
                        <a:pt x="362" y="26"/>
                      </a:lnTo>
                      <a:lnTo>
                        <a:pt x="325" y="50"/>
                      </a:lnTo>
                      <a:lnTo>
                        <a:pt x="287" y="73"/>
                      </a:lnTo>
                      <a:lnTo>
                        <a:pt x="248" y="96"/>
                      </a:lnTo>
                      <a:lnTo>
                        <a:pt x="206" y="119"/>
                      </a:lnTo>
                      <a:lnTo>
                        <a:pt x="162" y="141"/>
                      </a:lnTo>
                      <a:lnTo>
                        <a:pt x="116" y="162"/>
                      </a:lnTo>
                      <a:lnTo>
                        <a:pt x="68" y="182"/>
                      </a:lnTo>
                      <a:lnTo>
                        <a:pt x="17" y="202"/>
                      </a:lnTo>
                      <a:lnTo>
                        <a:pt x="0" y="208"/>
                      </a:lnTo>
                      <a:lnTo>
                        <a:pt x="17" y="202"/>
                      </a:lnTo>
                      <a:lnTo>
                        <a:pt x="68" y="182"/>
                      </a:lnTo>
                      <a:lnTo>
                        <a:pt x="116" y="162"/>
                      </a:lnTo>
                      <a:lnTo>
                        <a:pt x="162" y="141"/>
                      </a:lnTo>
                      <a:lnTo>
                        <a:pt x="206" y="119"/>
                      </a:lnTo>
                      <a:lnTo>
                        <a:pt x="248" y="96"/>
                      </a:lnTo>
                      <a:lnTo>
                        <a:pt x="287" y="73"/>
                      </a:lnTo>
                      <a:lnTo>
                        <a:pt x="325" y="50"/>
                      </a:lnTo>
                      <a:lnTo>
                        <a:pt x="362" y="2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366"/>
                <p:cNvSpPr/>
                <p:nvPr/>
              </p:nvSpPr>
              <p:spPr>
                <a:xfrm>
                  <a:off x="5904000" y="3829680"/>
                  <a:ext cx="498960" cy="3492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83" h="61">
                      <a:moveTo>
                        <a:pt x="383" y="61"/>
                      </a:moveTo>
                      <a:lnTo>
                        <a:pt x="379" y="61"/>
                      </a:lnTo>
                      <a:lnTo>
                        <a:pt x="334" y="61"/>
                      </a:lnTo>
                      <a:lnTo>
                        <a:pt x="289" y="58"/>
                      </a:lnTo>
                      <a:lnTo>
                        <a:pt x="246" y="54"/>
                      </a:lnTo>
                      <a:lnTo>
                        <a:pt x="204" y="48"/>
                      </a:lnTo>
                      <a:lnTo>
                        <a:pt x="163" y="42"/>
                      </a:lnTo>
                      <a:lnTo>
                        <a:pt x="122" y="33"/>
                      </a:lnTo>
                      <a:lnTo>
                        <a:pt x="84" y="24"/>
                      </a:lnTo>
                      <a:lnTo>
                        <a:pt x="46" y="14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10" y="2"/>
                      </a:lnTo>
                      <a:lnTo>
                        <a:pt x="46" y="14"/>
                      </a:lnTo>
                      <a:lnTo>
                        <a:pt x="84" y="24"/>
                      </a:lnTo>
                      <a:lnTo>
                        <a:pt x="122" y="33"/>
                      </a:lnTo>
                      <a:lnTo>
                        <a:pt x="163" y="42"/>
                      </a:lnTo>
                      <a:lnTo>
                        <a:pt x="204" y="48"/>
                      </a:lnTo>
                      <a:lnTo>
                        <a:pt x="246" y="54"/>
                      </a:lnTo>
                      <a:lnTo>
                        <a:pt x="289" y="58"/>
                      </a:lnTo>
                      <a:lnTo>
                        <a:pt x="334" y="61"/>
                      </a:lnTo>
                      <a:lnTo>
                        <a:pt x="379" y="61"/>
                      </a:lnTo>
                      <a:lnTo>
                        <a:pt x="383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367"/>
                <p:cNvSpPr/>
                <p:nvPr/>
              </p:nvSpPr>
              <p:spPr>
                <a:xfrm>
                  <a:off x="5749920" y="3802680"/>
                  <a:ext cx="2160" cy="180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368"/>
                <p:cNvSpPr/>
                <p:nvPr/>
              </p:nvSpPr>
              <p:spPr>
                <a:xfrm>
                  <a:off x="5433480" y="3634200"/>
                  <a:ext cx="57240" cy="651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4" h="118">
                      <a:moveTo>
                        <a:pt x="0" y="118"/>
                      </a:moveTo>
                      <a:lnTo>
                        <a:pt x="3" y="106"/>
                      </a:lnTo>
                      <a:lnTo>
                        <a:pt x="7" y="91"/>
                      </a:lnTo>
                      <a:lnTo>
                        <a:pt x="12" y="74"/>
                      </a:lnTo>
                      <a:lnTo>
                        <a:pt x="19" y="57"/>
                      </a:lnTo>
                      <a:lnTo>
                        <a:pt x="27" y="38"/>
                      </a:lnTo>
                      <a:lnTo>
                        <a:pt x="35" y="17"/>
                      </a:lnTo>
                      <a:lnTo>
                        <a:pt x="44" y="0"/>
                      </a:lnTo>
                      <a:lnTo>
                        <a:pt x="35" y="17"/>
                      </a:lnTo>
                      <a:lnTo>
                        <a:pt x="27" y="38"/>
                      </a:lnTo>
                      <a:lnTo>
                        <a:pt x="19" y="57"/>
                      </a:lnTo>
                      <a:lnTo>
                        <a:pt x="12" y="74"/>
                      </a:lnTo>
                      <a:lnTo>
                        <a:pt x="7" y="91"/>
                      </a:lnTo>
                      <a:lnTo>
                        <a:pt x="3" y="10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369"/>
                <p:cNvSpPr/>
                <p:nvPr/>
              </p:nvSpPr>
              <p:spPr>
                <a:xfrm>
                  <a:off x="7610400" y="3662640"/>
                  <a:ext cx="25920" cy="9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19" y="0"/>
                      </a:moveTo>
                      <a:lnTo>
                        <a:pt x="11" y="8"/>
                      </a:lnTo>
                      <a:lnTo>
                        <a:pt x="2" y="16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11" y="8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370"/>
                <p:cNvSpPr/>
                <p:nvPr/>
              </p:nvSpPr>
              <p:spPr>
                <a:xfrm>
                  <a:off x="7503120" y="3672360"/>
                  <a:ext cx="112320" cy="316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85" h="58">
                      <a:moveTo>
                        <a:pt x="85" y="0"/>
                      </a:moveTo>
                      <a:lnTo>
                        <a:pt x="77" y="7"/>
                      </a:lnTo>
                      <a:lnTo>
                        <a:pt x="68" y="15"/>
                      </a:lnTo>
                      <a:lnTo>
                        <a:pt x="58" y="22"/>
                      </a:lnTo>
                      <a:lnTo>
                        <a:pt x="49" y="30"/>
                      </a:lnTo>
                      <a:lnTo>
                        <a:pt x="40" y="37"/>
                      </a:lnTo>
                      <a:lnTo>
                        <a:pt x="31" y="43"/>
                      </a:lnTo>
                      <a:lnTo>
                        <a:pt x="20" y="52"/>
                      </a:lnTo>
                      <a:lnTo>
                        <a:pt x="11" y="58"/>
                      </a:lnTo>
                      <a:lnTo>
                        <a:pt x="0" y="53"/>
                      </a:lnTo>
                      <a:lnTo>
                        <a:pt x="11" y="58"/>
                      </a:lnTo>
                      <a:lnTo>
                        <a:pt x="20" y="52"/>
                      </a:lnTo>
                      <a:lnTo>
                        <a:pt x="31" y="43"/>
                      </a:lnTo>
                      <a:lnTo>
                        <a:pt x="40" y="37"/>
                      </a:lnTo>
                      <a:lnTo>
                        <a:pt x="49" y="30"/>
                      </a:lnTo>
                      <a:lnTo>
                        <a:pt x="58" y="22"/>
                      </a:lnTo>
                      <a:lnTo>
                        <a:pt x="68" y="15"/>
                      </a:lnTo>
                      <a:lnTo>
                        <a:pt x="77" y="7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371"/>
                <p:cNvSpPr/>
                <p:nvPr/>
              </p:nvSpPr>
              <p:spPr>
                <a:xfrm>
                  <a:off x="7610400" y="3670920"/>
                  <a:ext cx="5040" cy="144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372"/>
                <p:cNvSpPr/>
                <p:nvPr/>
              </p:nvSpPr>
              <p:spPr>
                <a:xfrm>
                  <a:off x="7401240" y="3704040"/>
                  <a:ext cx="115560" cy="3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9" h="55">
                      <a:moveTo>
                        <a:pt x="89" y="0"/>
                      </a:moveTo>
                      <a:lnTo>
                        <a:pt x="78" y="7"/>
                      </a:lnTo>
                      <a:lnTo>
                        <a:pt x="69" y="14"/>
                      </a:lnTo>
                      <a:lnTo>
                        <a:pt x="59" y="21"/>
                      </a:lnTo>
                      <a:lnTo>
                        <a:pt x="48" y="27"/>
                      </a:lnTo>
                      <a:lnTo>
                        <a:pt x="38" y="34"/>
                      </a:lnTo>
                      <a:lnTo>
                        <a:pt x="28" y="41"/>
                      </a:lnTo>
                      <a:lnTo>
                        <a:pt x="17" y="48"/>
                      </a:lnTo>
                      <a:lnTo>
                        <a:pt x="6" y="55"/>
                      </a:lnTo>
                      <a:lnTo>
                        <a:pt x="0" y="52"/>
                      </a:lnTo>
                      <a:lnTo>
                        <a:pt x="36" y="18"/>
                      </a:lnTo>
                      <a:lnTo>
                        <a:pt x="0" y="52"/>
                      </a:lnTo>
                      <a:lnTo>
                        <a:pt x="6" y="55"/>
                      </a:lnTo>
                      <a:lnTo>
                        <a:pt x="17" y="48"/>
                      </a:lnTo>
                      <a:lnTo>
                        <a:pt x="28" y="41"/>
                      </a:lnTo>
                      <a:lnTo>
                        <a:pt x="38" y="34"/>
                      </a:lnTo>
                      <a:lnTo>
                        <a:pt x="48" y="27"/>
                      </a:lnTo>
                      <a:lnTo>
                        <a:pt x="59" y="21"/>
                      </a:lnTo>
                      <a:lnTo>
                        <a:pt x="69" y="14"/>
                      </a:lnTo>
                      <a:lnTo>
                        <a:pt x="78" y="7"/>
                      </a:lnTo>
                      <a:lnTo>
                        <a:pt x="8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373"/>
                <p:cNvSpPr/>
                <p:nvPr/>
              </p:nvSpPr>
              <p:spPr>
                <a:xfrm>
                  <a:off x="7503120" y="3700800"/>
                  <a:ext cx="13320" cy="32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1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374"/>
                <p:cNvSpPr/>
                <p:nvPr/>
              </p:nvSpPr>
              <p:spPr>
                <a:xfrm>
                  <a:off x="7378200" y="3729240"/>
                  <a:ext cx="31320" cy="1332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24" y="11"/>
                      </a:moveTo>
                      <a:lnTo>
                        <a:pt x="21" y="13"/>
                      </a:lnTo>
                      <a:lnTo>
                        <a:pt x="18" y="15"/>
                      </a:lnTo>
                      <a:lnTo>
                        <a:pt x="15" y="16"/>
                      </a:lnTo>
                      <a:lnTo>
                        <a:pt x="12" y="17"/>
                      </a:lnTo>
                      <a:lnTo>
                        <a:pt x="10" y="20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0" y="24"/>
                      </a:lnTo>
                      <a:lnTo>
                        <a:pt x="18" y="8"/>
                      </a:lnTo>
                      <a:lnTo>
                        <a:pt x="2" y="0"/>
                      </a:lnTo>
                      <a:lnTo>
                        <a:pt x="18" y="8"/>
                      </a:lnTo>
                      <a:lnTo>
                        <a:pt x="0" y="24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10" y="20"/>
                      </a:lnTo>
                      <a:lnTo>
                        <a:pt x="12" y="17"/>
                      </a:lnTo>
                      <a:lnTo>
                        <a:pt x="15" y="16"/>
                      </a:lnTo>
                      <a:lnTo>
                        <a:pt x="18" y="15"/>
                      </a:lnTo>
                      <a:lnTo>
                        <a:pt x="21" y="13"/>
                      </a:lnTo>
                      <a:lnTo>
                        <a:pt x="24" y="1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375"/>
                <p:cNvSpPr/>
                <p:nvPr/>
              </p:nvSpPr>
              <p:spPr>
                <a:xfrm>
                  <a:off x="7111440" y="3732480"/>
                  <a:ext cx="298080" cy="565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9" h="100">
                      <a:moveTo>
                        <a:pt x="109" y="39"/>
                      </a:moveTo>
                      <a:lnTo>
                        <a:pt x="138" y="54"/>
                      </a:lnTo>
                      <a:lnTo>
                        <a:pt x="125" y="60"/>
                      </a:lnTo>
                      <a:lnTo>
                        <a:pt x="114" y="65"/>
                      </a:lnTo>
                      <a:lnTo>
                        <a:pt x="101" y="72"/>
                      </a:lnTo>
                      <a:lnTo>
                        <a:pt x="90" y="77"/>
                      </a:lnTo>
                      <a:lnTo>
                        <a:pt x="77" y="83"/>
                      </a:lnTo>
                      <a:lnTo>
                        <a:pt x="64" y="89"/>
                      </a:lnTo>
                      <a:lnTo>
                        <a:pt x="51" y="95"/>
                      </a:lnTo>
                      <a:lnTo>
                        <a:pt x="39" y="100"/>
                      </a:lnTo>
                      <a:lnTo>
                        <a:pt x="0" y="81"/>
                      </a:lnTo>
                      <a:lnTo>
                        <a:pt x="17" y="65"/>
                      </a:lnTo>
                      <a:lnTo>
                        <a:pt x="0" y="81"/>
                      </a:lnTo>
                      <a:lnTo>
                        <a:pt x="39" y="100"/>
                      </a:lnTo>
                      <a:lnTo>
                        <a:pt x="51" y="95"/>
                      </a:lnTo>
                      <a:lnTo>
                        <a:pt x="64" y="89"/>
                      </a:lnTo>
                      <a:lnTo>
                        <a:pt x="77" y="83"/>
                      </a:lnTo>
                      <a:lnTo>
                        <a:pt x="90" y="77"/>
                      </a:lnTo>
                      <a:lnTo>
                        <a:pt x="101" y="72"/>
                      </a:lnTo>
                      <a:lnTo>
                        <a:pt x="114" y="65"/>
                      </a:lnTo>
                      <a:lnTo>
                        <a:pt x="125" y="60"/>
                      </a:lnTo>
                      <a:lnTo>
                        <a:pt x="138" y="54"/>
                      </a:lnTo>
                      <a:lnTo>
                        <a:pt x="109" y="39"/>
                      </a:lnTo>
                      <a:lnTo>
                        <a:pt x="138" y="54"/>
                      </a:lnTo>
                      <a:lnTo>
                        <a:pt x="146" y="49"/>
                      </a:lnTo>
                      <a:lnTo>
                        <a:pt x="156" y="45"/>
                      </a:lnTo>
                      <a:lnTo>
                        <a:pt x="164" y="41"/>
                      </a:lnTo>
                      <a:lnTo>
                        <a:pt x="172" y="35"/>
                      </a:lnTo>
                      <a:lnTo>
                        <a:pt x="181" y="31"/>
                      </a:lnTo>
                      <a:lnTo>
                        <a:pt x="189" y="26"/>
                      </a:lnTo>
                      <a:lnTo>
                        <a:pt x="197" y="22"/>
                      </a:lnTo>
                      <a:lnTo>
                        <a:pt x="205" y="16"/>
                      </a:lnTo>
                      <a:lnTo>
                        <a:pt x="223" y="0"/>
                      </a:lnTo>
                      <a:lnTo>
                        <a:pt x="229" y="3"/>
                      </a:lnTo>
                      <a:lnTo>
                        <a:pt x="223" y="0"/>
                      </a:lnTo>
                      <a:lnTo>
                        <a:pt x="205" y="16"/>
                      </a:lnTo>
                      <a:lnTo>
                        <a:pt x="197" y="22"/>
                      </a:lnTo>
                      <a:lnTo>
                        <a:pt x="189" y="26"/>
                      </a:lnTo>
                      <a:lnTo>
                        <a:pt x="181" y="31"/>
                      </a:lnTo>
                      <a:lnTo>
                        <a:pt x="172" y="35"/>
                      </a:lnTo>
                      <a:lnTo>
                        <a:pt x="164" y="41"/>
                      </a:lnTo>
                      <a:lnTo>
                        <a:pt x="156" y="45"/>
                      </a:lnTo>
                      <a:lnTo>
                        <a:pt x="146" y="49"/>
                      </a:lnTo>
                      <a:lnTo>
                        <a:pt x="138" y="54"/>
                      </a:lnTo>
                      <a:lnTo>
                        <a:pt x="109" y="3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376"/>
                <p:cNvSpPr/>
                <p:nvPr/>
              </p:nvSpPr>
              <p:spPr>
                <a:xfrm>
                  <a:off x="7032960" y="3774240"/>
                  <a:ext cx="127800" cy="349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98" h="63">
                      <a:moveTo>
                        <a:pt x="98" y="25"/>
                      </a:moveTo>
                      <a:lnTo>
                        <a:pt x="86" y="31"/>
                      </a:lnTo>
                      <a:lnTo>
                        <a:pt x="73" y="35"/>
                      </a:lnTo>
                      <a:lnTo>
                        <a:pt x="62" y="40"/>
                      </a:lnTo>
                      <a:lnTo>
                        <a:pt x="50" y="44"/>
                      </a:lnTo>
                      <a:lnTo>
                        <a:pt x="37" y="50"/>
                      </a:lnTo>
                      <a:lnTo>
                        <a:pt x="25" y="54"/>
                      </a:lnTo>
                      <a:lnTo>
                        <a:pt x="12" y="59"/>
                      </a:lnTo>
                      <a:lnTo>
                        <a:pt x="0" y="63"/>
                      </a:lnTo>
                      <a:lnTo>
                        <a:pt x="59" y="6"/>
                      </a:lnTo>
                      <a:lnTo>
                        <a:pt x="44" y="0"/>
                      </a:lnTo>
                      <a:lnTo>
                        <a:pt x="59" y="6"/>
                      </a:lnTo>
                      <a:lnTo>
                        <a:pt x="0" y="63"/>
                      </a:lnTo>
                      <a:lnTo>
                        <a:pt x="12" y="59"/>
                      </a:lnTo>
                      <a:lnTo>
                        <a:pt x="25" y="54"/>
                      </a:lnTo>
                      <a:lnTo>
                        <a:pt x="37" y="50"/>
                      </a:lnTo>
                      <a:lnTo>
                        <a:pt x="50" y="44"/>
                      </a:lnTo>
                      <a:lnTo>
                        <a:pt x="62" y="40"/>
                      </a:lnTo>
                      <a:lnTo>
                        <a:pt x="73" y="35"/>
                      </a:lnTo>
                      <a:lnTo>
                        <a:pt x="86" y="31"/>
                      </a:lnTo>
                      <a:lnTo>
                        <a:pt x="98" y="2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377"/>
                <p:cNvSpPr/>
                <p:nvPr/>
              </p:nvSpPr>
              <p:spPr>
                <a:xfrm>
                  <a:off x="6923520" y="3792960"/>
                  <a:ext cx="93600" cy="198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Freeform 378"/>
                <p:cNvSpPr/>
                <p:nvPr/>
              </p:nvSpPr>
              <p:spPr>
                <a:xfrm>
                  <a:off x="6818760" y="3796200"/>
                  <a:ext cx="70200" cy="345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53" h="63">
                      <a:moveTo>
                        <a:pt x="28" y="63"/>
                      </a:moveTo>
                      <a:lnTo>
                        <a:pt x="0" y="50"/>
                      </a:lnTo>
                      <a:lnTo>
                        <a:pt x="53" y="0"/>
                      </a:lnTo>
                      <a:lnTo>
                        <a:pt x="0" y="50"/>
                      </a:lnTo>
                      <a:lnTo>
                        <a:pt x="28" y="6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Freeform 379"/>
                <p:cNvSpPr/>
                <p:nvPr/>
              </p:nvSpPr>
              <p:spPr>
                <a:xfrm>
                  <a:off x="7027920" y="3777840"/>
                  <a:ext cx="133200" cy="331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01" h="59">
                      <a:moveTo>
                        <a:pt x="0" y="59"/>
                      </a:moveTo>
                      <a:lnTo>
                        <a:pt x="1" y="59"/>
                      </a:lnTo>
                      <a:lnTo>
                        <a:pt x="3" y="57"/>
                      </a:lnTo>
                      <a:lnTo>
                        <a:pt x="62" y="0"/>
                      </a:lnTo>
                      <a:lnTo>
                        <a:pt x="101" y="19"/>
                      </a:lnTo>
                      <a:lnTo>
                        <a:pt x="62" y="0"/>
                      </a:lnTo>
                      <a:lnTo>
                        <a:pt x="3" y="57"/>
                      </a:lnTo>
                      <a:lnTo>
                        <a:pt x="1" y="59"/>
                      </a:lnTo>
                      <a:lnTo>
                        <a:pt x="0" y="5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380"/>
                <p:cNvSpPr/>
                <p:nvPr/>
              </p:nvSpPr>
              <p:spPr>
                <a:xfrm>
                  <a:off x="6740280" y="3808080"/>
                  <a:ext cx="114840" cy="29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87" h="54">
                      <a:moveTo>
                        <a:pt x="32" y="54"/>
                      </a:moveTo>
                      <a:lnTo>
                        <a:pt x="59" y="29"/>
                      </a:lnTo>
                      <a:lnTo>
                        <a:pt x="0" y="0"/>
                      </a:lnTo>
                      <a:lnTo>
                        <a:pt x="59" y="29"/>
                      </a:lnTo>
                      <a:lnTo>
                        <a:pt x="32" y="54"/>
                      </a:lnTo>
                      <a:lnTo>
                        <a:pt x="59" y="29"/>
                      </a:lnTo>
                      <a:lnTo>
                        <a:pt x="87" y="42"/>
                      </a:lnTo>
                      <a:lnTo>
                        <a:pt x="59" y="29"/>
                      </a:lnTo>
                      <a:lnTo>
                        <a:pt x="32" y="5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Freeform 381"/>
                <p:cNvSpPr/>
                <p:nvPr/>
              </p:nvSpPr>
              <p:spPr>
                <a:xfrm>
                  <a:off x="6523560" y="3810960"/>
                  <a:ext cx="156240" cy="48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19" h="85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Freeform 382"/>
                <p:cNvSpPr/>
                <p:nvPr/>
              </p:nvSpPr>
              <p:spPr>
                <a:xfrm>
                  <a:off x="5461920" y="3704040"/>
                  <a:ext cx="1027440" cy="1605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787" h="288">
                      <a:moveTo>
                        <a:pt x="775" y="202"/>
                      </a:move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687" y="288"/>
                      </a:lnTo>
                      <a:lnTo>
                        <a:pt x="674" y="288"/>
                      </a:lnTo>
                      <a:lnTo>
                        <a:pt x="662" y="286"/>
                      </a:lnTo>
                      <a:lnTo>
                        <a:pt x="649" y="286"/>
                      </a:lnTo>
                      <a:lnTo>
                        <a:pt x="637" y="285"/>
                      </a:lnTo>
                      <a:lnTo>
                        <a:pt x="624" y="285"/>
                      </a:lnTo>
                      <a:lnTo>
                        <a:pt x="612" y="284"/>
                      </a:lnTo>
                      <a:lnTo>
                        <a:pt x="600" y="282"/>
                      </a:lnTo>
                      <a:lnTo>
                        <a:pt x="587" y="281"/>
                      </a:lnTo>
                      <a:lnTo>
                        <a:pt x="565" y="270"/>
                      </a:lnTo>
                      <a:lnTo>
                        <a:pt x="558" y="278"/>
                      </a:lnTo>
                      <a:lnTo>
                        <a:pt x="543" y="275"/>
                      </a:lnTo>
                      <a:lnTo>
                        <a:pt x="528" y="274"/>
                      </a:lnTo>
                      <a:lnTo>
                        <a:pt x="513" y="271"/>
                      </a:lnTo>
                      <a:lnTo>
                        <a:pt x="499" y="269"/>
                      </a:lnTo>
                      <a:lnTo>
                        <a:pt x="484" y="266"/>
                      </a:lnTo>
                      <a:lnTo>
                        <a:pt x="470" y="263"/>
                      </a:lnTo>
                      <a:lnTo>
                        <a:pt x="455" y="260"/>
                      </a:lnTo>
                      <a:lnTo>
                        <a:pt x="442" y="256"/>
                      </a:lnTo>
                      <a:lnTo>
                        <a:pt x="474" y="225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4" y="0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474" y="225"/>
                      </a:lnTo>
                      <a:lnTo>
                        <a:pt x="442" y="256"/>
                      </a:lnTo>
                      <a:lnTo>
                        <a:pt x="455" y="260"/>
                      </a:lnTo>
                      <a:lnTo>
                        <a:pt x="470" y="263"/>
                      </a:lnTo>
                      <a:lnTo>
                        <a:pt x="484" y="266"/>
                      </a:lnTo>
                      <a:lnTo>
                        <a:pt x="499" y="269"/>
                      </a:lnTo>
                      <a:lnTo>
                        <a:pt x="513" y="271"/>
                      </a:lnTo>
                      <a:lnTo>
                        <a:pt x="528" y="274"/>
                      </a:lnTo>
                      <a:lnTo>
                        <a:pt x="543" y="275"/>
                      </a:lnTo>
                      <a:lnTo>
                        <a:pt x="558" y="278"/>
                      </a:lnTo>
                      <a:lnTo>
                        <a:pt x="565" y="270"/>
                      </a:lnTo>
                      <a:lnTo>
                        <a:pt x="587" y="281"/>
                      </a:lnTo>
                      <a:lnTo>
                        <a:pt x="600" y="282"/>
                      </a:lnTo>
                      <a:lnTo>
                        <a:pt x="612" y="284"/>
                      </a:lnTo>
                      <a:lnTo>
                        <a:pt x="624" y="285"/>
                      </a:lnTo>
                      <a:lnTo>
                        <a:pt x="637" y="285"/>
                      </a:lnTo>
                      <a:lnTo>
                        <a:pt x="649" y="286"/>
                      </a:lnTo>
                      <a:lnTo>
                        <a:pt x="662" y="286"/>
                      </a:lnTo>
                      <a:lnTo>
                        <a:pt x="674" y="288"/>
                      </a:lnTo>
                      <a:lnTo>
                        <a:pt x="687" y="288"/>
                      </a:ln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775" y="20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Freeform 383"/>
                <p:cNvSpPr/>
                <p:nvPr/>
              </p:nvSpPr>
              <p:spPr>
                <a:xfrm>
                  <a:off x="5906520" y="3819600"/>
                  <a:ext cx="498960" cy="4536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383" h="80">
                      <a:moveTo>
                        <a:pt x="381" y="80"/>
                      </a:moveTo>
                      <a:lnTo>
                        <a:pt x="373" y="80"/>
                      </a:lnTo>
                      <a:lnTo>
                        <a:pt x="360" y="80"/>
                      </a:lnTo>
                      <a:lnTo>
                        <a:pt x="347" y="80"/>
                      </a:lnTo>
                      <a:lnTo>
                        <a:pt x="383" y="44"/>
                      </a:lnTo>
                      <a:lnTo>
                        <a:pt x="291" y="0"/>
                      </a:lnTo>
                      <a:lnTo>
                        <a:pt x="225" y="62"/>
                      </a:lnTo>
                      <a:lnTo>
                        <a:pt x="247" y="73"/>
                      </a:lnTo>
                      <a:lnTo>
                        <a:pt x="244" y="73"/>
                      </a:lnTo>
                      <a:lnTo>
                        <a:pt x="240" y="73"/>
                      </a:lnTo>
                      <a:lnTo>
                        <a:pt x="237" y="71"/>
                      </a:lnTo>
                      <a:lnTo>
                        <a:pt x="234" y="71"/>
                      </a:lnTo>
                      <a:lnTo>
                        <a:pt x="229" y="71"/>
                      </a:lnTo>
                      <a:lnTo>
                        <a:pt x="225" y="70"/>
                      </a:lnTo>
                      <a:lnTo>
                        <a:pt x="222" y="70"/>
                      </a:lnTo>
                      <a:lnTo>
                        <a:pt x="218" y="70"/>
                      </a:lnTo>
                      <a:lnTo>
                        <a:pt x="225" y="62"/>
                      </a:lnTo>
                      <a:lnTo>
                        <a:pt x="134" y="17"/>
                      </a:lnTo>
                      <a:lnTo>
                        <a:pt x="102" y="48"/>
                      </a:lnTo>
                      <a:lnTo>
                        <a:pt x="88" y="46"/>
                      </a:lnTo>
                      <a:lnTo>
                        <a:pt x="74" y="42"/>
                      </a:lnTo>
                      <a:lnTo>
                        <a:pt x="61" y="38"/>
                      </a:lnTo>
                      <a:lnTo>
                        <a:pt x="47" y="35"/>
                      </a:lnTo>
                      <a:lnTo>
                        <a:pt x="34" y="31"/>
                      </a:lnTo>
                      <a:lnTo>
                        <a:pt x="20" y="27"/>
                      </a:lnTo>
                      <a:lnTo>
                        <a:pt x="8" y="23"/>
                      </a:lnTo>
                      <a:lnTo>
                        <a:pt x="0" y="19"/>
                      </a:lnTo>
                      <a:lnTo>
                        <a:pt x="8" y="23"/>
                      </a:lnTo>
                      <a:lnTo>
                        <a:pt x="20" y="27"/>
                      </a:lnTo>
                      <a:lnTo>
                        <a:pt x="34" y="31"/>
                      </a:lnTo>
                      <a:lnTo>
                        <a:pt x="47" y="35"/>
                      </a:lnTo>
                      <a:lnTo>
                        <a:pt x="61" y="38"/>
                      </a:lnTo>
                      <a:lnTo>
                        <a:pt x="74" y="42"/>
                      </a:lnTo>
                      <a:lnTo>
                        <a:pt x="88" y="46"/>
                      </a:lnTo>
                      <a:lnTo>
                        <a:pt x="102" y="48"/>
                      </a:lnTo>
                      <a:lnTo>
                        <a:pt x="134" y="17"/>
                      </a:lnTo>
                      <a:lnTo>
                        <a:pt x="225" y="62"/>
                      </a:lnTo>
                      <a:lnTo>
                        <a:pt x="218" y="70"/>
                      </a:lnTo>
                      <a:lnTo>
                        <a:pt x="222" y="70"/>
                      </a:lnTo>
                      <a:lnTo>
                        <a:pt x="225" y="70"/>
                      </a:lnTo>
                      <a:lnTo>
                        <a:pt x="229" y="71"/>
                      </a:lnTo>
                      <a:lnTo>
                        <a:pt x="234" y="71"/>
                      </a:lnTo>
                      <a:lnTo>
                        <a:pt x="237" y="71"/>
                      </a:lnTo>
                      <a:lnTo>
                        <a:pt x="240" y="73"/>
                      </a:lnTo>
                      <a:lnTo>
                        <a:pt x="244" y="73"/>
                      </a:lnTo>
                      <a:lnTo>
                        <a:pt x="247" y="73"/>
                      </a:lnTo>
                      <a:lnTo>
                        <a:pt x="225" y="62"/>
                      </a:lnTo>
                      <a:lnTo>
                        <a:pt x="291" y="0"/>
                      </a:lnTo>
                      <a:lnTo>
                        <a:pt x="383" y="44"/>
                      </a:lnTo>
                      <a:lnTo>
                        <a:pt x="347" y="80"/>
                      </a:lnTo>
                      <a:lnTo>
                        <a:pt x="360" y="80"/>
                      </a:lnTo>
                      <a:lnTo>
                        <a:pt x="373" y="80"/>
                      </a:lnTo>
                      <a:lnTo>
                        <a:pt x="381" y="8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Line 384"/>
                <p:cNvSpPr/>
                <p:nvPr/>
              </p:nvSpPr>
              <p:spPr>
                <a:xfrm>
                  <a:off x="5752440" y="3802680"/>
                  <a:ext cx="2160" cy="1800"/>
                </a:xfrm>
                <a:prstGeom prst="line">
                  <a:avLst/>
                </a:prstGeom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385"/>
                <p:cNvSpPr/>
                <p:nvPr/>
              </p:nvSpPr>
              <p:spPr>
                <a:xfrm>
                  <a:off x="5433480" y="3677760"/>
                  <a:ext cx="112320" cy="26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0" y="40"/>
                      </a:move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36" y="48"/>
                      </a:lnTo>
                      <a:lnTo>
                        <a:pt x="86" y="0"/>
                      </a:lnTo>
                      <a:lnTo>
                        <a:pt x="36" y="48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386"/>
                <p:cNvSpPr/>
                <p:nvPr/>
              </p:nvSpPr>
              <p:spPr>
                <a:xfrm>
                  <a:off x="5436000" y="3634200"/>
                  <a:ext cx="88560" cy="766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69" h="140">
                      <a:moveTo>
                        <a:pt x="69" y="47"/>
                      </a:moveTo>
                      <a:lnTo>
                        <a:pt x="29" y="28"/>
                      </a:lnTo>
                      <a:lnTo>
                        <a:pt x="33" y="21"/>
                      </a:lnTo>
                      <a:lnTo>
                        <a:pt x="36" y="15"/>
                      </a:lnTo>
                      <a:lnTo>
                        <a:pt x="40" y="8"/>
                      </a:lnTo>
                      <a:lnTo>
                        <a:pt x="43" y="0"/>
                      </a:lnTo>
                      <a:lnTo>
                        <a:pt x="40" y="8"/>
                      </a:lnTo>
                      <a:lnTo>
                        <a:pt x="36" y="15"/>
                      </a:lnTo>
                      <a:lnTo>
                        <a:pt x="33" y="21"/>
                      </a:lnTo>
                      <a:lnTo>
                        <a:pt x="29" y="28"/>
                      </a:lnTo>
                      <a:lnTo>
                        <a:pt x="69" y="47"/>
                      </a:lnTo>
                      <a:lnTo>
                        <a:pt x="29" y="28"/>
                      </a:lnTo>
                      <a:lnTo>
                        <a:pt x="25" y="40"/>
                      </a:lnTo>
                      <a:lnTo>
                        <a:pt x="20" y="51"/>
                      </a:lnTo>
                      <a:lnTo>
                        <a:pt x="16" y="62"/>
                      </a:lnTo>
                      <a:lnTo>
                        <a:pt x="12" y="73"/>
                      </a:lnTo>
                      <a:lnTo>
                        <a:pt x="9" y="83"/>
                      </a:lnTo>
                      <a:lnTo>
                        <a:pt x="5" y="92"/>
                      </a:lnTo>
                      <a:lnTo>
                        <a:pt x="3" y="102"/>
                      </a:lnTo>
                      <a:lnTo>
                        <a:pt x="0" y="110"/>
                      </a:lnTo>
                      <a:lnTo>
                        <a:pt x="35" y="126"/>
                      </a:lnTo>
                      <a:lnTo>
                        <a:pt x="21" y="140"/>
                      </a:lnTo>
                      <a:lnTo>
                        <a:pt x="35" y="126"/>
                      </a:lnTo>
                      <a:lnTo>
                        <a:pt x="0" y="110"/>
                      </a:lnTo>
                      <a:lnTo>
                        <a:pt x="3" y="102"/>
                      </a:lnTo>
                      <a:lnTo>
                        <a:pt x="5" y="92"/>
                      </a:lnTo>
                      <a:lnTo>
                        <a:pt x="9" y="83"/>
                      </a:lnTo>
                      <a:lnTo>
                        <a:pt x="12" y="73"/>
                      </a:lnTo>
                      <a:lnTo>
                        <a:pt x="16" y="62"/>
                      </a:lnTo>
                      <a:lnTo>
                        <a:pt x="20" y="51"/>
                      </a:lnTo>
                      <a:lnTo>
                        <a:pt x="25" y="40"/>
                      </a:lnTo>
                      <a:lnTo>
                        <a:pt x="29" y="28"/>
                      </a:lnTo>
                      <a:lnTo>
                        <a:pt x="69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387"/>
                <p:cNvSpPr/>
                <p:nvPr/>
              </p:nvSpPr>
              <p:spPr>
                <a:xfrm>
                  <a:off x="5480280" y="3677760"/>
                  <a:ext cx="149040" cy="51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14" h="93">
                      <a:moveTo>
                        <a:pt x="114" y="72"/>
                      </a:moveTo>
                      <a:lnTo>
                        <a:pt x="92" y="93"/>
                      </a:lnTo>
                      <a:lnTo>
                        <a:pt x="0" y="48"/>
                      </a:lnTo>
                      <a:lnTo>
                        <a:pt x="50" y="0"/>
                      </a:lnTo>
                      <a:lnTo>
                        <a:pt x="0" y="48"/>
                      </a:lnTo>
                      <a:lnTo>
                        <a:pt x="92" y="93"/>
                      </a:lnTo>
                      <a:lnTo>
                        <a:pt x="114" y="7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388"/>
                <p:cNvSpPr/>
                <p:nvPr/>
              </p:nvSpPr>
              <p:spPr>
                <a:xfrm>
                  <a:off x="5600520" y="3717360"/>
                  <a:ext cx="136080" cy="3672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04" h="67">
                      <a:moveTo>
                        <a:pt x="104" y="55"/>
                      </a:moveTo>
                      <a:lnTo>
                        <a:pt x="92" y="67"/>
                      </a:lnTo>
                      <a:lnTo>
                        <a:pt x="0" y="21"/>
                      </a:lnTo>
                      <a:lnTo>
                        <a:pt x="22" y="0"/>
                      </a:lnTo>
                      <a:lnTo>
                        <a:pt x="0" y="21"/>
                      </a:lnTo>
                      <a:lnTo>
                        <a:pt x="92" y="67"/>
                      </a:lnTo>
                      <a:lnTo>
                        <a:pt x="104" y="5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389"/>
                <p:cNvSpPr/>
                <p:nvPr/>
              </p:nvSpPr>
              <p:spPr>
                <a:xfrm>
                  <a:off x="5720760" y="3747960"/>
                  <a:ext cx="133200" cy="3168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02" h="57">
                      <a:moveTo>
                        <a:pt x="102" y="47"/>
                      </a:move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0" y="12"/>
                      </a:lnTo>
                      <a:lnTo>
                        <a:pt x="92" y="57"/>
                      </a:lnTo>
                      <a:lnTo>
                        <a:pt x="102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390"/>
                <p:cNvSpPr/>
                <p:nvPr/>
              </p:nvSpPr>
              <p:spPr>
                <a:xfrm>
                  <a:off x="5841360" y="3774240"/>
                  <a:ext cx="138600" cy="3024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5" h="54">
                      <a:moveTo>
                        <a:pt x="105" y="41"/>
                      </a:moveTo>
                      <a:lnTo>
                        <a:pt x="92" y="54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92" y="54"/>
                      </a:lnTo>
                      <a:lnTo>
                        <a:pt x="105" y="4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391"/>
                <p:cNvSpPr/>
                <p:nvPr/>
              </p:nvSpPr>
              <p:spPr>
                <a:xfrm>
                  <a:off x="5961600" y="3796200"/>
                  <a:ext cx="161640" cy="331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24" h="58">
                      <a:moveTo>
                        <a:pt x="124" y="27"/>
                      </a:moveTo>
                      <a:lnTo>
                        <a:pt x="92" y="58"/>
                      </a:lnTo>
                      <a:lnTo>
                        <a:pt x="0" y="13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92" y="58"/>
                      </a:lnTo>
                      <a:lnTo>
                        <a:pt x="124" y="2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392"/>
                <p:cNvSpPr/>
                <p:nvPr/>
              </p:nvSpPr>
              <p:spPr>
                <a:xfrm>
                  <a:off x="6264360" y="3814560"/>
                  <a:ext cx="34200" cy="468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6" h="10">
                      <a:moveTo>
                        <a:pt x="26" y="1"/>
                      </a:moveTo>
                      <a:lnTo>
                        <a:pt x="17" y="10"/>
                      </a:lnTo>
                      <a:lnTo>
                        <a:pt x="0" y="0"/>
                      </a:lnTo>
                      <a:lnTo>
                        <a:pt x="17" y="10"/>
                      </a:lnTo>
                      <a:lnTo>
                        <a:pt x="26" y="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393"/>
                <p:cNvSpPr/>
                <p:nvPr/>
              </p:nvSpPr>
              <p:spPr>
                <a:xfrm>
                  <a:off x="6081840" y="3810960"/>
                  <a:ext cx="205920" cy="43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57" h="76">
                      <a:moveTo>
                        <a:pt x="140" y="4"/>
                      </a:moveTo>
                      <a:lnTo>
                        <a:pt x="157" y="14"/>
                      </a:lnTo>
                      <a:lnTo>
                        <a:pt x="91" y="76"/>
                      </a:lnTo>
                      <a:lnTo>
                        <a:pt x="0" y="31"/>
                      </a:lnTo>
                      <a:lnTo>
                        <a:pt x="32" y="0"/>
                      </a:lnTo>
                      <a:lnTo>
                        <a:pt x="0" y="31"/>
                      </a:lnTo>
                      <a:lnTo>
                        <a:pt x="91" y="76"/>
                      </a:lnTo>
                      <a:lnTo>
                        <a:pt x="157" y="14"/>
                      </a:lnTo>
                      <a:lnTo>
                        <a:pt x="140" y="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394"/>
                <p:cNvSpPr/>
                <p:nvPr/>
              </p:nvSpPr>
              <p:spPr>
                <a:xfrm>
                  <a:off x="6288120" y="3814560"/>
                  <a:ext cx="187560" cy="302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4" h="53">
                      <a:moveTo>
                        <a:pt x="144" y="3"/>
                      </a:moveTo>
                      <a:lnTo>
                        <a:pt x="92" y="53"/>
                      </a:lnTo>
                      <a:lnTo>
                        <a:pt x="0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2" y="53"/>
                      </a:lnTo>
                      <a:lnTo>
                        <a:pt x="144" y="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395"/>
                <p:cNvSpPr/>
                <p:nvPr/>
              </p:nvSpPr>
              <p:spPr>
                <a:xfrm>
                  <a:off x="6523560" y="3810960"/>
                  <a:ext cx="143280" cy="2340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10" h="41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396"/>
                <p:cNvSpPr/>
                <p:nvPr/>
              </p:nvSpPr>
              <p:spPr>
                <a:xfrm>
                  <a:off x="6740280" y="3796200"/>
                  <a:ext cx="148680" cy="2808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12" h="50">
                      <a:moveTo>
                        <a:pt x="112" y="0"/>
                      </a:moveTo>
                      <a:lnTo>
                        <a:pt x="59" y="50"/>
                      </a:lnTo>
                      <a:lnTo>
                        <a:pt x="0" y="21"/>
                      </a:lnTo>
                      <a:lnTo>
                        <a:pt x="59" y="5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397"/>
                <p:cNvSpPr/>
                <p:nvPr/>
              </p:nvSpPr>
              <p:spPr>
                <a:xfrm>
                  <a:off x="7090560" y="3769560"/>
                  <a:ext cx="41400" cy="828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32" h="16">
                      <a:moveTo>
                        <a:pt x="32" y="0"/>
                      </a:moveTo>
                      <a:lnTo>
                        <a:pt x="15" y="16"/>
                      </a:lnTo>
                      <a:lnTo>
                        <a:pt x="0" y="10"/>
                      </a:lnTo>
                      <a:lnTo>
                        <a:pt x="15" y="16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398"/>
                <p:cNvSpPr/>
                <p:nvPr/>
              </p:nvSpPr>
              <p:spPr>
                <a:xfrm>
                  <a:off x="7380360" y="3714480"/>
                  <a:ext cx="68040" cy="180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52" h="34">
                      <a:moveTo>
                        <a:pt x="52" y="0"/>
                      </a:moveTo>
                      <a:lnTo>
                        <a:pt x="16" y="34"/>
                      </a:lnTo>
                      <a:lnTo>
                        <a:pt x="0" y="26"/>
                      </a:lnTo>
                      <a:lnTo>
                        <a:pt x="16" y="34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399"/>
                <p:cNvSpPr/>
                <p:nvPr/>
              </p:nvSpPr>
              <p:spPr>
                <a:xfrm>
                  <a:off x="5352120" y="3522240"/>
                  <a:ext cx="93960" cy="173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2" h="312">
                      <a:moveTo>
                        <a:pt x="37" y="0"/>
                      </a:moveTo>
                      <a:lnTo>
                        <a:pt x="38" y="37"/>
                      </a:lnTo>
                      <a:lnTo>
                        <a:pt x="40" y="78"/>
                      </a:lnTo>
                      <a:lnTo>
                        <a:pt x="44" y="117"/>
                      </a:lnTo>
                      <a:lnTo>
                        <a:pt x="47" y="155"/>
                      </a:lnTo>
                      <a:lnTo>
                        <a:pt x="52" y="194"/>
                      </a:lnTo>
                      <a:lnTo>
                        <a:pt x="58" y="232"/>
                      </a:lnTo>
                      <a:lnTo>
                        <a:pt x="63" y="270"/>
                      </a:lnTo>
                      <a:lnTo>
                        <a:pt x="70" y="308"/>
                      </a:lnTo>
                      <a:lnTo>
                        <a:pt x="72" y="312"/>
                      </a:lnTo>
                      <a:lnTo>
                        <a:pt x="65" y="310"/>
                      </a:lnTo>
                      <a:lnTo>
                        <a:pt x="59" y="304"/>
                      </a:lnTo>
                      <a:lnTo>
                        <a:pt x="54" y="299"/>
                      </a:lnTo>
                      <a:lnTo>
                        <a:pt x="48" y="293"/>
                      </a:lnTo>
                      <a:lnTo>
                        <a:pt x="44" y="288"/>
                      </a:lnTo>
                      <a:lnTo>
                        <a:pt x="38" y="283"/>
                      </a:lnTo>
                      <a:lnTo>
                        <a:pt x="32" y="277"/>
                      </a:lnTo>
                      <a:lnTo>
                        <a:pt x="26" y="274"/>
                      </a:lnTo>
                      <a:lnTo>
                        <a:pt x="18" y="264"/>
                      </a:lnTo>
                      <a:lnTo>
                        <a:pt x="17" y="259"/>
                      </a:lnTo>
                      <a:lnTo>
                        <a:pt x="16" y="257"/>
                      </a:lnTo>
                      <a:lnTo>
                        <a:pt x="15" y="253"/>
                      </a:lnTo>
                      <a:lnTo>
                        <a:pt x="13" y="250"/>
                      </a:lnTo>
                      <a:lnTo>
                        <a:pt x="11" y="246"/>
                      </a:lnTo>
                      <a:lnTo>
                        <a:pt x="10" y="242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10" y="243"/>
                      </a:lnTo>
                      <a:lnTo>
                        <a:pt x="11" y="246"/>
                      </a:lnTo>
                      <a:lnTo>
                        <a:pt x="11" y="247"/>
                      </a:lnTo>
                      <a:lnTo>
                        <a:pt x="13" y="250"/>
                      </a:lnTo>
                      <a:lnTo>
                        <a:pt x="13" y="253"/>
                      </a:lnTo>
                      <a:lnTo>
                        <a:pt x="13" y="254"/>
                      </a:lnTo>
                      <a:lnTo>
                        <a:pt x="0" y="234"/>
                      </a:lnTo>
                      <a:lnTo>
                        <a:pt x="0" y="204"/>
                      </a:lnTo>
                      <a:lnTo>
                        <a:pt x="0" y="174"/>
                      </a:lnTo>
                      <a:lnTo>
                        <a:pt x="1" y="144"/>
                      </a:lnTo>
                      <a:lnTo>
                        <a:pt x="2" y="113"/>
                      </a:lnTo>
                      <a:lnTo>
                        <a:pt x="4" y="98"/>
                      </a:lnTo>
                      <a:lnTo>
                        <a:pt x="7" y="83"/>
                      </a:lnTo>
                      <a:lnTo>
                        <a:pt x="10" y="70"/>
                      </a:lnTo>
                      <a:lnTo>
                        <a:pt x="14" y="55"/>
                      </a:lnTo>
                      <a:lnTo>
                        <a:pt x="18" y="41"/>
                      </a:lnTo>
                      <a:lnTo>
                        <a:pt x="23" y="26"/>
                      </a:lnTo>
                      <a:lnTo>
                        <a:pt x="3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b8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400"/>
                <p:cNvSpPr/>
                <p:nvPr/>
              </p:nvSpPr>
              <p:spPr>
                <a:xfrm>
                  <a:off x="5399640" y="3485520"/>
                  <a:ext cx="229680" cy="2836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75" h="51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2" y="385"/>
                      </a:lnTo>
                      <a:lnTo>
                        <a:pt x="45" y="392"/>
                      </a:lnTo>
                      <a:lnTo>
                        <a:pt x="50" y="400"/>
                      </a:lnTo>
                      <a:lnTo>
                        <a:pt x="55" y="407"/>
                      </a:lnTo>
                      <a:lnTo>
                        <a:pt x="67" y="422"/>
                      </a:lnTo>
                      <a:lnTo>
                        <a:pt x="82" y="437"/>
                      </a:lnTo>
                      <a:lnTo>
                        <a:pt x="97" y="450"/>
                      </a:lnTo>
                      <a:lnTo>
                        <a:pt x="113" y="465"/>
                      </a:lnTo>
                      <a:lnTo>
                        <a:pt x="128" y="479"/>
                      </a:lnTo>
                      <a:lnTo>
                        <a:pt x="143" y="492"/>
                      </a:lnTo>
                      <a:lnTo>
                        <a:pt x="175" y="511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3" y="395"/>
                      </a:lnTo>
                      <a:lnTo>
                        <a:pt x="137" y="391"/>
                      </a:lnTo>
                      <a:lnTo>
                        <a:pt x="60" y="249"/>
                      </a:lnTo>
                      <a:lnTo>
                        <a:pt x="50" y="134"/>
                      </a:lnTo>
                      <a:lnTo>
                        <a:pt x="94" y="70"/>
                      </a:lnTo>
                      <a:lnTo>
                        <a:pt x="102" y="64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bc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401"/>
                <p:cNvSpPr/>
                <p:nvPr/>
              </p:nvSpPr>
              <p:spPr>
                <a:xfrm>
                  <a:off x="5533200" y="34534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0" y="121"/>
                      </a:lnTo>
                      <a:lnTo>
                        <a:pt x="102" y="47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  <a:moveTo>
                        <a:pt x="41" y="452"/>
                      </a:move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3" y="568"/>
                      </a:lnTo>
                      <a:lnTo>
                        <a:pt x="96" y="583"/>
                      </a:lnTo>
                      <a:lnTo>
                        <a:pt x="110" y="589"/>
                      </a:lnTo>
                      <a:lnTo>
                        <a:pt x="124" y="594"/>
                      </a:lnTo>
                      <a:lnTo>
                        <a:pt x="138" y="601"/>
                      </a:lnTo>
                      <a:lnTo>
                        <a:pt x="151" y="608"/>
                      </a:lnTo>
                      <a:lnTo>
                        <a:pt x="167" y="615"/>
                      </a:lnTo>
                      <a:lnTo>
                        <a:pt x="179" y="623"/>
                      </a:lnTo>
                      <a:lnTo>
                        <a:pt x="193" y="629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2" y="540"/>
                      </a:lnTo>
                      <a:lnTo>
                        <a:pt x="41" y="452"/>
                      </a:lnTo>
                      <a:close/>
                    </a:path>
                  </a:pathLst>
                </a:custGeom>
                <a:solidFill>
                  <a:srgbClr val="b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402"/>
                <p:cNvSpPr/>
                <p:nvPr/>
              </p:nvSpPr>
              <p:spPr>
                <a:xfrm>
                  <a:off x="5665680" y="34333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32" y="61"/>
                      </a:lnTo>
                      <a:lnTo>
                        <a:pt x="106" y="10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  <a:moveTo>
                        <a:pt x="70" y="577"/>
                      </a:move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4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3" y="638"/>
                      </a:lnTo>
                      <a:lnTo>
                        <a:pt x="87" y="588"/>
                      </a:lnTo>
                      <a:lnTo>
                        <a:pt x="70" y="577"/>
                      </a:lnTo>
                      <a:close/>
                    </a:path>
                  </a:pathLst>
                </a:custGeom>
                <a:solidFill>
                  <a:srgbClr val="c2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403"/>
                <p:cNvSpPr/>
                <p:nvPr/>
              </p:nvSpPr>
              <p:spPr>
                <a:xfrm>
                  <a:off x="5807520" y="3431520"/>
                  <a:ext cx="370800" cy="42984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285" h="770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  <a:moveTo>
                        <a:pt x="97" y="640"/>
                      </a:moveTo>
                      <a:lnTo>
                        <a:pt x="108" y="664"/>
                      </a:lnTo>
                      <a:lnTo>
                        <a:pt x="119" y="690"/>
                      </a:lnTo>
                      <a:lnTo>
                        <a:pt x="131" y="715"/>
                      </a:lnTo>
                      <a:lnTo>
                        <a:pt x="143" y="739"/>
                      </a:lnTo>
                      <a:lnTo>
                        <a:pt x="160" y="744"/>
                      </a:lnTo>
                      <a:lnTo>
                        <a:pt x="176" y="748"/>
                      </a:lnTo>
                      <a:lnTo>
                        <a:pt x="194" y="754"/>
                      </a:lnTo>
                      <a:lnTo>
                        <a:pt x="211" y="758"/>
                      </a:lnTo>
                      <a:lnTo>
                        <a:pt x="229" y="761"/>
                      </a:lnTo>
                      <a:lnTo>
                        <a:pt x="247" y="765"/>
                      </a:lnTo>
                      <a:lnTo>
                        <a:pt x="265" y="767"/>
                      </a:lnTo>
                      <a:lnTo>
                        <a:pt x="285" y="770"/>
                      </a:lnTo>
                      <a:lnTo>
                        <a:pt x="280" y="763"/>
                      </a:lnTo>
                      <a:lnTo>
                        <a:pt x="255" y="721"/>
                      </a:lnTo>
                      <a:lnTo>
                        <a:pt x="233" y="682"/>
                      </a:lnTo>
                      <a:lnTo>
                        <a:pt x="189" y="679"/>
                      </a:lnTo>
                      <a:lnTo>
                        <a:pt x="97" y="640"/>
                      </a:lnTo>
                      <a:close/>
                    </a:path>
                  </a:pathLst>
                </a:custGeom>
                <a:solidFill>
                  <a:srgbClr val="c5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404"/>
                <p:cNvSpPr/>
                <p:nvPr/>
              </p:nvSpPr>
              <p:spPr>
                <a:xfrm>
                  <a:off x="6110280" y="3810960"/>
                  <a:ext cx="250560" cy="5364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91" h="95">
                      <a:moveTo>
                        <a:pt x="0" y="0"/>
                      </a:moveTo>
                      <a:lnTo>
                        <a:pt x="22" y="39"/>
                      </a:lnTo>
                      <a:lnTo>
                        <a:pt x="47" y="81"/>
                      </a:lnTo>
                      <a:lnTo>
                        <a:pt x="52" y="88"/>
                      </a:lnTo>
                      <a:lnTo>
                        <a:pt x="68" y="90"/>
                      </a:lnTo>
                      <a:lnTo>
                        <a:pt x="86" y="91"/>
                      </a:lnTo>
                      <a:lnTo>
                        <a:pt x="103" y="92"/>
                      </a:lnTo>
                      <a:lnTo>
                        <a:pt x="119" y="94"/>
                      </a:lnTo>
                      <a:lnTo>
                        <a:pt x="138" y="95"/>
                      </a:lnTo>
                      <a:lnTo>
                        <a:pt x="155" y="95"/>
                      </a:lnTo>
                      <a:lnTo>
                        <a:pt x="172" y="95"/>
                      </a:lnTo>
                      <a:lnTo>
                        <a:pt x="191" y="95"/>
                      </a:lnTo>
                      <a:lnTo>
                        <a:pt x="179" y="81"/>
                      </a:lnTo>
                      <a:lnTo>
                        <a:pt x="154" y="46"/>
                      </a:lnTo>
                      <a:lnTo>
                        <a:pt x="130" y="11"/>
                      </a:lnTo>
                      <a:lnTo>
                        <a:pt x="126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Freeform 405"/>
                <p:cNvSpPr/>
                <p:nvPr/>
              </p:nvSpPr>
              <p:spPr>
                <a:xfrm>
                  <a:off x="6275160" y="3814560"/>
                  <a:ext cx="268920" cy="5040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05" h="90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28" y="41"/>
                      </a:lnTo>
                      <a:lnTo>
                        <a:pt x="53" y="76"/>
                      </a:lnTo>
                      <a:lnTo>
                        <a:pt x="65" y="90"/>
                      </a:lnTo>
                      <a:lnTo>
                        <a:pt x="66" y="90"/>
                      </a:lnTo>
                      <a:lnTo>
                        <a:pt x="67" y="90"/>
                      </a:lnTo>
                      <a:lnTo>
                        <a:pt x="70" y="90"/>
                      </a:lnTo>
                      <a:lnTo>
                        <a:pt x="71" y="90"/>
                      </a:lnTo>
                      <a:lnTo>
                        <a:pt x="72" y="90"/>
                      </a:lnTo>
                      <a:lnTo>
                        <a:pt x="74" y="90"/>
                      </a:lnTo>
                      <a:lnTo>
                        <a:pt x="75" y="90"/>
                      </a:lnTo>
                      <a:lnTo>
                        <a:pt x="77" y="90"/>
                      </a:lnTo>
                      <a:lnTo>
                        <a:pt x="167" y="85"/>
                      </a:lnTo>
                      <a:lnTo>
                        <a:pt x="172" y="85"/>
                      </a:lnTo>
                      <a:lnTo>
                        <a:pt x="176" y="83"/>
                      </a:lnTo>
                      <a:lnTo>
                        <a:pt x="181" y="83"/>
                      </a:lnTo>
                      <a:lnTo>
                        <a:pt x="185" y="83"/>
                      </a:lnTo>
                      <a:lnTo>
                        <a:pt x="191" y="82"/>
                      </a:lnTo>
                      <a:lnTo>
                        <a:pt x="196" y="82"/>
                      </a:lnTo>
                      <a:lnTo>
                        <a:pt x="201" y="80"/>
                      </a:lnTo>
                      <a:lnTo>
                        <a:pt x="205" y="80"/>
                      </a:lnTo>
                      <a:lnTo>
                        <a:pt x="204" y="79"/>
                      </a:lnTo>
                      <a:lnTo>
                        <a:pt x="177" y="52"/>
                      </a:lnTo>
                      <a:lnTo>
                        <a:pt x="153" y="25"/>
                      </a:lnTo>
                      <a:lnTo>
                        <a:pt x="137" y="4"/>
                      </a:lnTo>
                      <a:lnTo>
                        <a:pt x="125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Freeform 406"/>
                <p:cNvSpPr/>
                <p:nvPr/>
              </p:nvSpPr>
              <p:spPr>
                <a:xfrm>
                  <a:off x="6453000" y="3813120"/>
                  <a:ext cx="276480" cy="464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11" h="84">
                      <a:moveTo>
                        <a:pt x="0" y="8"/>
                      </a:moveTo>
                      <a:lnTo>
                        <a:pt x="16" y="29"/>
                      </a:lnTo>
                      <a:lnTo>
                        <a:pt x="40" y="56"/>
                      </a:lnTo>
                      <a:lnTo>
                        <a:pt x="67" y="83"/>
                      </a:lnTo>
                      <a:lnTo>
                        <a:pt x="68" y="84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4" y="83"/>
                      </a:lnTo>
                      <a:lnTo>
                        <a:pt x="75" y="83"/>
                      </a:lnTo>
                      <a:lnTo>
                        <a:pt x="77" y="83"/>
                      </a:lnTo>
                      <a:lnTo>
                        <a:pt x="79" y="83"/>
                      </a:lnTo>
                      <a:lnTo>
                        <a:pt x="81" y="83"/>
                      </a:lnTo>
                      <a:lnTo>
                        <a:pt x="83" y="83"/>
                      </a:lnTo>
                      <a:lnTo>
                        <a:pt x="211" y="56"/>
                      </a:lnTo>
                      <a:lnTo>
                        <a:pt x="204" y="51"/>
                      </a:lnTo>
                      <a:lnTo>
                        <a:pt x="178" y="32"/>
                      </a:lnTo>
                      <a:lnTo>
                        <a:pt x="155" y="11"/>
                      </a:lnTo>
                      <a:lnTo>
                        <a:pt x="14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e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407"/>
                <p:cNvSpPr/>
                <p:nvPr/>
              </p:nvSpPr>
              <p:spPr>
                <a:xfrm>
                  <a:off x="6638400" y="3799800"/>
                  <a:ext cx="318600" cy="43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243" h="80">
                      <a:moveTo>
                        <a:pt x="0" y="24"/>
                      </a:moveTo>
                      <a:lnTo>
                        <a:pt x="14" y="35"/>
                      </a:lnTo>
                      <a:lnTo>
                        <a:pt x="37" y="56"/>
                      </a:lnTo>
                      <a:lnTo>
                        <a:pt x="63" y="75"/>
                      </a:lnTo>
                      <a:lnTo>
                        <a:pt x="70" y="80"/>
                      </a:lnTo>
                      <a:lnTo>
                        <a:pt x="165" y="60"/>
                      </a:lnTo>
                      <a:lnTo>
                        <a:pt x="243" y="37"/>
                      </a:lnTo>
                      <a:lnTo>
                        <a:pt x="228" y="32"/>
                      </a:lnTo>
                      <a:lnTo>
                        <a:pt x="205" y="23"/>
                      </a:lnTo>
                      <a:lnTo>
                        <a:pt x="182" y="12"/>
                      </a:lnTo>
                      <a:lnTo>
                        <a:pt x="160" y="0"/>
                      </a:lnTo>
                      <a:lnTo>
                        <a:pt x="56" y="2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d2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Freeform 408"/>
                <p:cNvSpPr/>
                <p:nvPr/>
              </p:nvSpPr>
              <p:spPr>
                <a:xfrm>
                  <a:off x="6847560" y="3674160"/>
                  <a:ext cx="752400" cy="145080"/>
                </a:xfrm>
                <a:custGeom>
                  <a:avLst/>
                  <a:gdLst>
                    <a:gd name="textAreaLeft" fmla="*/ 0 w 752400"/>
                    <a:gd name="textAreaRight" fmla="*/ 752760 w 75240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575" h="261">
                      <a:moveTo>
                        <a:pt x="0" y="224"/>
                      </a:moveTo>
                      <a:lnTo>
                        <a:pt x="22" y="236"/>
                      </a:lnTo>
                      <a:lnTo>
                        <a:pt x="45" y="247"/>
                      </a:lnTo>
                      <a:lnTo>
                        <a:pt x="68" y="256"/>
                      </a:lnTo>
                      <a:lnTo>
                        <a:pt x="83" y="261"/>
                      </a:lnTo>
                      <a:lnTo>
                        <a:pt x="121" y="251"/>
                      </a:lnTo>
                      <a:lnTo>
                        <a:pt x="154" y="239"/>
                      </a:lnTo>
                      <a:lnTo>
                        <a:pt x="187" y="227"/>
                      </a:lnTo>
                      <a:lnTo>
                        <a:pt x="220" y="213"/>
                      </a:lnTo>
                      <a:lnTo>
                        <a:pt x="252" y="200"/>
                      </a:lnTo>
                      <a:lnTo>
                        <a:pt x="284" y="186"/>
                      </a:lnTo>
                      <a:lnTo>
                        <a:pt x="315" y="171"/>
                      </a:lnTo>
                      <a:lnTo>
                        <a:pt x="345" y="156"/>
                      </a:lnTo>
                      <a:lnTo>
                        <a:pt x="374" y="140"/>
                      </a:lnTo>
                      <a:lnTo>
                        <a:pt x="403" y="124"/>
                      </a:lnTo>
                      <a:lnTo>
                        <a:pt x="431" y="107"/>
                      </a:lnTo>
                      <a:lnTo>
                        <a:pt x="457" y="91"/>
                      </a:lnTo>
                      <a:lnTo>
                        <a:pt x="483" y="73"/>
                      </a:lnTo>
                      <a:lnTo>
                        <a:pt x="508" y="56"/>
                      </a:lnTo>
                      <a:lnTo>
                        <a:pt x="531" y="37"/>
                      </a:lnTo>
                      <a:lnTo>
                        <a:pt x="555" y="19"/>
                      </a:lnTo>
                      <a:lnTo>
                        <a:pt x="575" y="0"/>
                      </a:lnTo>
                      <a:lnTo>
                        <a:pt x="498" y="52"/>
                      </a:lnTo>
                      <a:lnTo>
                        <a:pt x="462" y="71"/>
                      </a:lnTo>
                      <a:lnTo>
                        <a:pt x="449" y="81"/>
                      </a:lnTo>
                      <a:lnTo>
                        <a:pt x="432" y="94"/>
                      </a:lnTo>
                      <a:lnTo>
                        <a:pt x="414" y="106"/>
                      </a:lnTo>
                      <a:lnTo>
                        <a:pt x="397" y="115"/>
                      </a:lnTo>
                      <a:lnTo>
                        <a:pt x="380" y="125"/>
                      </a:lnTo>
                      <a:lnTo>
                        <a:pt x="361" y="134"/>
                      </a:lnTo>
                      <a:lnTo>
                        <a:pt x="342" y="141"/>
                      </a:lnTo>
                      <a:lnTo>
                        <a:pt x="322" y="148"/>
                      </a:lnTo>
                      <a:lnTo>
                        <a:pt x="302" y="153"/>
                      </a:lnTo>
                      <a:lnTo>
                        <a:pt x="282" y="157"/>
                      </a:lnTo>
                      <a:lnTo>
                        <a:pt x="262" y="160"/>
                      </a:lnTo>
                      <a:lnTo>
                        <a:pt x="251" y="162"/>
                      </a:lnTo>
                      <a:lnTo>
                        <a:pt x="93" y="206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d5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Freeform 409"/>
                <p:cNvSpPr/>
                <p:nvPr/>
              </p:nvSpPr>
              <p:spPr>
                <a:xfrm>
                  <a:off x="7176600" y="3714480"/>
                  <a:ext cx="274320" cy="500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1" h="91">
                      <a:moveTo>
                        <a:pt x="0" y="91"/>
                      </a:moveTo>
                      <a:lnTo>
                        <a:pt x="11" y="89"/>
                      </a:lnTo>
                      <a:lnTo>
                        <a:pt x="31" y="86"/>
                      </a:lnTo>
                      <a:lnTo>
                        <a:pt x="51" y="82"/>
                      </a:lnTo>
                      <a:lnTo>
                        <a:pt x="71" y="77"/>
                      </a:lnTo>
                      <a:lnTo>
                        <a:pt x="91" y="70"/>
                      </a:lnTo>
                      <a:lnTo>
                        <a:pt x="110" y="63"/>
                      </a:lnTo>
                      <a:lnTo>
                        <a:pt x="129" y="54"/>
                      </a:lnTo>
                      <a:lnTo>
                        <a:pt x="146" y="44"/>
                      </a:lnTo>
                      <a:lnTo>
                        <a:pt x="163" y="35"/>
                      </a:lnTo>
                      <a:lnTo>
                        <a:pt x="181" y="23"/>
                      </a:lnTo>
                      <a:lnTo>
                        <a:pt x="198" y="10"/>
                      </a:lnTo>
                      <a:lnTo>
                        <a:pt x="211" y="0"/>
                      </a:lnTo>
                      <a:lnTo>
                        <a:pt x="71" y="72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d8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Freeform 410"/>
                <p:cNvSpPr/>
                <p:nvPr/>
              </p:nvSpPr>
              <p:spPr>
                <a:xfrm>
                  <a:off x="5352120" y="3431520"/>
                  <a:ext cx="475920" cy="221040"/>
                </a:xfrm>
                <a:custGeom>
                  <a:avLst/>
                  <a:gdLst>
                    <a:gd name="textAreaLeft" fmla="*/ 0 w 475920"/>
                    <a:gd name="textAreaRight" fmla="*/ 476280 w 47592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363" h="396">
                      <a:moveTo>
                        <a:pt x="0" y="396"/>
                      </a:moveTo>
                      <a:lnTo>
                        <a:pt x="0" y="389"/>
                      </a:lnTo>
                      <a:lnTo>
                        <a:pt x="0" y="355"/>
                      </a:lnTo>
                      <a:lnTo>
                        <a:pt x="0" y="320"/>
                      </a:lnTo>
                      <a:lnTo>
                        <a:pt x="2" y="284"/>
                      </a:lnTo>
                      <a:lnTo>
                        <a:pt x="3" y="267"/>
                      </a:lnTo>
                      <a:lnTo>
                        <a:pt x="6" y="249"/>
                      </a:lnTo>
                      <a:lnTo>
                        <a:pt x="9" y="233"/>
                      </a:lnTo>
                      <a:lnTo>
                        <a:pt x="14" y="215"/>
                      </a:lnTo>
                      <a:lnTo>
                        <a:pt x="19" y="199"/>
                      </a:lnTo>
                      <a:lnTo>
                        <a:pt x="25" y="184"/>
                      </a:lnTo>
                      <a:lnTo>
                        <a:pt x="33" y="168"/>
                      </a:lnTo>
                      <a:lnTo>
                        <a:pt x="43" y="153"/>
                      </a:lnTo>
                      <a:lnTo>
                        <a:pt x="47" y="147"/>
                      </a:lnTo>
                      <a:lnTo>
                        <a:pt x="54" y="143"/>
                      </a:lnTo>
                      <a:lnTo>
                        <a:pt x="63" y="137"/>
                      </a:lnTo>
                      <a:lnTo>
                        <a:pt x="79" y="130"/>
                      </a:lnTo>
                      <a:lnTo>
                        <a:pt x="97" y="119"/>
                      </a:lnTo>
                      <a:lnTo>
                        <a:pt x="123" y="105"/>
                      </a:lnTo>
                      <a:lnTo>
                        <a:pt x="155" y="88"/>
                      </a:lnTo>
                      <a:lnTo>
                        <a:pt x="196" y="63"/>
                      </a:lnTo>
                      <a:lnTo>
                        <a:pt x="219" y="51"/>
                      </a:lnTo>
                      <a:lnTo>
                        <a:pt x="241" y="40"/>
                      </a:lnTo>
                      <a:lnTo>
                        <a:pt x="262" y="31"/>
                      </a:lnTo>
                      <a:lnTo>
                        <a:pt x="282" y="21"/>
                      </a:lnTo>
                      <a:lnTo>
                        <a:pt x="303" y="14"/>
                      </a:lnTo>
                      <a:lnTo>
                        <a:pt x="324" y="9"/>
                      </a:lnTo>
                      <a:lnTo>
                        <a:pt x="344" y="4"/>
                      </a:lnTo>
                      <a:lnTo>
                        <a:pt x="363" y="0"/>
                      </a:lnTo>
                      <a:lnTo>
                        <a:pt x="344" y="4"/>
                      </a:lnTo>
                      <a:lnTo>
                        <a:pt x="324" y="9"/>
                      </a:lnTo>
                      <a:lnTo>
                        <a:pt x="303" y="14"/>
                      </a:lnTo>
                      <a:lnTo>
                        <a:pt x="282" y="21"/>
                      </a:lnTo>
                      <a:lnTo>
                        <a:pt x="262" y="31"/>
                      </a:lnTo>
                      <a:lnTo>
                        <a:pt x="241" y="40"/>
                      </a:lnTo>
                      <a:lnTo>
                        <a:pt x="219" y="51"/>
                      </a:lnTo>
                      <a:lnTo>
                        <a:pt x="196" y="63"/>
                      </a:lnTo>
                      <a:lnTo>
                        <a:pt x="155" y="88"/>
                      </a:lnTo>
                      <a:lnTo>
                        <a:pt x="123" y="105"/>
                      </a:lnTo>
                      <a:lnTo>
                        <a:pt x="97" y="119"/>
                      </a:lnTo>
                      <a:lnTo>
                        <a:pt x="79" y="130"/>
                      </a:lnTo>
                      <a:lnTo>
                        <a:pt x="63" y="137"/>
                      </a:lnTo>
                      <a:lnTo>
                        <a:pt x="54" y="143"/>
                      </a:lnTo>
                      <a:lnTo>
                        <a:pt x="47" y="147"/>
                      </a:lnTo>
                      <a:lnTo>
                        <a:pt x="43" y="153"/>
                      </a:lnTo>
                      <a:lnTo>
                        <a:pt x="33" y="168"/>
                      </a:lnTo>
                      <a:lnTo>
                        <a:pt x="25" y="184"/>
                      </a:lnTo>
                      <a:lnTo>
                        <a:pt x="19" y="199"/>
                      </a:lnTo>
                      <a:lnTo>
                        <a:pt x="14" y="215"/>
                      </a:lnTo>
                      <a:lnTo>
                        <a:pt x="9" y="233"/>
                      </a:lnTo>
                      <a:lnTo>
                        <a:pt x="6" y="249"/>
                      </a:lnTo>
                      <a:lnTo>
                        <a:pt x="3" y="267"/>
                      </a:lnTo>
                      <a:lnTo>
                        <a:pt x="2" y="284"/>
                      </a:lnTo>
                      <a:lnTo>
                        <a:pt x="0" y="320"/>
                      </a:lnTo>
                      <a:lnTo>
                        <a:pt x="0" y="355"/>
                      </a:lnTo>
                      <a:lnTo>
                        <a:pt x="0" y="389"/>
                      </a:lnTo>
                      <a:lnTo>
                        <a:pt x="0" y="39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Freeform 411"/>
                <p:cNvSpPr/>
                <p:nvPr/>
              </p:nvSpPr>
              <p:spPr>
                <a:xfrm>
                  <a:off x="7001640" y="3674160"/>
                  <a:ext cx="598320" cy="140040"/>
                </a:xfrm>
                <a:custGeom>
                  <a:avLst/>
                  <a:gdLst>
                    <a:gd name="textAreaLeft" fmla="*/ 0 w 598320"/>
                    <a:gd name="textAreaRight" fmla="*/ 598680 w 59832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457" h="251">
                      <a:moveTo>
                        <a:pt x="457" y="0"/>
                      </a:moveTo>
                      <a:lnTo>
                        <a:pt x="456" y="1"/>
                      </a:lnTo>
                      <a:lnTo>
                        <a:pt x="423" y="30"/>
                      </a:lnTo>
                      <a:lnTo>
                        <a:pt x="387" y="57"/>
                      </a:lnTo>
                      <a:lnTo>
                        <a:pt x="349" y="84"/>
                      </a:lnTo>
                      <a:lnTo>
                        <a:pt x="308" y="110"/>
                      </a:lnTo>
                      <a:lnTo>
                        <a:pt x="265" y="136"/>
                      </a:lnTo>
                      <a:lnTo>
                        <a:pt x="221" y="159"/>
                      </a:lnTo>
                      <a:lnTo>
                        <a:pt x="175" y="182"/>
                      </a:lnTo>
                      <a:lnTo>
                        <a:pt x="126" y="204"/>
                      </a:lnTo>
                      <a:lnTo>
                        <a:pt x="78" y="223"/>
                      </a:lnTo>
                      <a:lnTo>
                        <a:pt x="28" y="242"/>
                      </a:lnTo>
                      <a:lnTo>
                        <a:pt x="0" y="251"/>
                      </a:lnTo>
                      <a:lnTo>
                        <a:pt x="28" y="242"/>
                      </a:lnTo>
                      <a:lnTo>
                        <a:pt x="78" y="223"/>
                      </a:lnTo>
                      <a:lnTo>
                        <a:pt x="126" y="204"/>
                      </a:lnTo>
                      <a:lnTo>
                        <a:pt x="175" y="182"/>
                      </a:lnTo>
                      <a:lnTo>
                        <a:pt x="221" y="159"/>
                      </a:lnTo>
                      <a:lnTo>
                        <a:pt x="265" y="136"/>
                      </a:lnTo>
                      <a:lnTo>
                        <a:pt x="308" y="110"/>
                      </a:lnTo>
                      <a:lnTo>
                        <a:pt x="349" y="84"/>
                      </a:lnTo>
                      <a:lnTo>
                        <a:pt x="387" y="57"/>
                      </a:lnTo>
                      <a:lnTo>
                        <a:pt x="423" y="30"/>
                      </a:lnTo>
                      <a:lnTo>
                        <a:pt x="456" y="1"/>
                      </a:lnTo>
                      <a:lnTo>
                        <a:pt x="45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Freeform 412"/>
                <p:cNvSpPr/>
                <p:nvPr/>
              </p:nvSpPr>
              <p:spPr>
                <a:xfrm>
                  <a:off x="6491880" y="3858120"/>
                  <a:ext cx="70200" cy="32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53" h="6">
                      <a:moveTo>
                        <a:pt x="53" y="0"/>
                      </a:moveTo>
                      <a:lnTo>
                        <a:pt x="52" y="0"/>
                      </a:lnTo>
                      <a:lnTo>
                        <a:pt x="0" y="6"/>
                      </a:lnTo>
                      <a:lnTo>
                        <a:pt x="52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Freeform 413"/>
                <p:cNvSpPr/>
                <p:nvPr/>
              </p:nvSpPr>
              <p:spPr>
                <a:xfrm>
                  <a:off x="5658120" y="3777840"/>
                  <a:ext cx="723960" cy="87120"/>
                </a:xfrm>
                <a:custGeom>
                  <a:avLst/>
                  <a:gdLst>
                    <a:gd name="textAreaLeft" fmla="*/ 0 w 723960"/>
                    <a:gd name="textAreaRight" fmla="*/ 724320 w 723960"/>
                    <a:gd name="textAreaTop" fmla="*/ 0 h 87120"/>
                    <a:gd name="textAreaBottom" fmla="*/ 87120 h 87120"/>
                  </a:gdLst>
                  <a:ahLst/>
                  <a:rect l="textAreaLeft" t="textAreaTop" r="textAreaRight" b="textAreaBottom"/>
                  <a:pathLst>
                    <a:path w="552" h="155">
                      <a:moveTo>
                        <a:pt x="552" y="155"/>
                      </a:moveTo>
                      <a:lnTo>
                        <a:pt x="537" y="155"/>
                      </a:lnTo>
                      <a:lnTo>
                        <a:pt x="487" y="155"/>
                      </a:lnTo>
                      <a:lnTo>
                        <a:pt x="440" y="152"/>
                      </a:lnTo>
                      <a:lnTo>
                        <a:pt x="394" y="148"/>
                      </a:lnTo>
                      <a:lnTo>
                        <a:pt x="350" y="141"/>
                      </a:lnTo>
                      <a:lnTo>
                        <a:pt x="307" y="132"/>
                      </a:lnTo>
                      <a:lnTo>
                        <a:pt x="286" y="126"/>
                      </a:lnTo>
                      <a:lnTo>
                        <a:pt x="266" y="120"/>
                      </a:lnTo>
                      <a:lnTo>
                        <a:pt x="247" y="113"/>
                      </a:lnTo>
                      <a:lnTo>
                        <a:pt x="227" y="106"/>
                      </a:lnTo>
                      <a:lnTo>
                        <a:pt x="209" y="98"/>
                      </a:lnTo>
                      <a:lnTo>
                        <a:pt x="191" y="90"/>
                      </a:lnTo>
                      <a:lnTo>
                        <a:pt x="175" y="80"/>
                      </a:lnTo>
                      <a:lnTo>
                        <a:pt x="159" y="71"/>
                      </a:lnTo>
                      <a:lnTo>
                        <a:pt x="149" y="68"/>
                      </a:lnTo>
                      <a:lnTo>
                        <a:pt x="139" y="65"/>
                      </a:lnTo>
                      <a:lnTo>
                        <a:pt x="128" y="61"/>
                      </a:lnTo>
                      <a:lnTo>
                        <a:pt x="118" y="56"/>
                      </a:lnTo>
                      <a:lnTo>
                        <a:pt x="95" y="45"/>
                      </a:lnTo>
                      <a:lnTo>
                        <a:pt x="71" y="32"/>
                      </a:lnTo>
                      <a:lnTo>
                        <a:pt x="45" y="19"/>
                      </a:lnTo>
                      <a:lnTo>
                        <a:pt x="21" y="8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1" y="8"/>
                      </a:lnTo>
                      <a:lnTo>
                        <a:pt x="45" y="19"/>
                      </a:lnTo>
                      <a:lnTo>
                        <a:pt x="71" y="32"/>
                      </a:lnTo>
                      <a:lnTo>
                        <a:pt x="95" y="45"/>
                      </a:lnTo>
                      <a:lnTo>
                        <a:pt x="118" y="56"/>
                      </a:lnTo>
                      <a:lnTo>
                        <a:pt x="128" y="61"/>
                      </a:lnTo>
                      <a:lnTo>
                        <a:pt x="139" y="65"/>
                      </a:lnTo>
                      <a:lnTo>
                        <a:pt x="149" y="68"/>
                      </a:lnTo>
                      <a:lnTo>
                        <a:pt x="159" y="71"/>
                      </a:lnTo>
                      <a:lnTo>
                        <a:pt x="175" y="80"/>
                      </a:lnTo>
                      <a:lnTo>
                        <a:pt x="191" y="90"/>
                      </a:lnTo>
                      <a:lnTo>
                        <a:pt x="209" y="98"/>
                      </a:lnTo>
                      <a:lnTo>
                        <a:pt x="227" y="106"/>
                      </a:lnTo>
                      <a:lnTo>
                        <a:pt x="247" y="113"/>
                      </a:lnTo>
                      <a:lnTo>
                        <a:pt x="266" y="120"/>
                      </a:lnTo>
                      <a:lnTo>
                        <a:pt x="286" y="126"/>
                      </a:lnTo>
                      <a:lnTo>
                        <a:pt x="307" y="132"/>
                      </a:lnTo>
                      <a:lnTo>
                        <a:pt x="350" y="141"/>
                      </a:lnTo>
                      <a:lnTo>
                        <a:pt x="394" y="148"/>
                      </a:lnTo>
                      <a:lnTo>
                        <a:pt x="440" y="152"/>
                      </a:lnTo>
                      <a:lnTo>
                        <a:pt x="487" y="155"/>
                      </a:lnTo>
                      <a:lnTo>
                        <a:pt x="537" y="155"/>
                      </a:lnTo>
                      <a:lnTo>
                        <a:pt x="552" y="1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Freeform 414"/>
                <p:cNvSpPr/>
                <p:nvPr/>
              </p:nvSpPr>
              <p:spPr>
                <a:xfrm>
                  <a:off x="5386680" y="3674160"/>
                  <a:ext cx="200880" cy="8496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53" h="151">
                      <a:moveTo>
                        <a:pt x="153" y="151"/>
                      </a:moveTo>
                      <a:lnTo>
                        <a:pt x="151" y="150"/>
                      </a:lnTo>
                      <a:lnTo>
                        <a:pt x="131" y="132"/>
                      </a:lnTo>
                      <a:lnTo>
                        <a:pt x="112" y="113"/>
                      </a:lnTo>
                      <a:lnTo>
                        <a:pt x="91" y="94"/>
                      </a:lnTo>
                      <a:lnTo>
                        <a:pt x="73" y="75"/>
                      </a:lnTo>
                      <a:lnTo>
                        <a:pt x="65" y="66"/>
                      </a:lnTo>
                      <a:lnTo>
                        <a:pt x="58" y="56"/>
                      </a:lnTo>
                      <a:lnTo>
                        <a:pt x="54" y="48"/>
                      </a:lnTo>
                      <a:lnTo>
                        <a:pt x="49" y="38"/>
                      </a:lnTo>
                      <a:lnTo>
                        <a:pt x="46" y="38"/>
                      </a:lnTo>
                      <a:lnTo>
                        <a:pt x="42" y="37"/>
                      </a:lnTo>
                      <a:lnTo>
                        <a:pt x="39" y="34"/>
                      </a:lnTo>
                      <a:lnTo>
                        <a:pt x="35" y="32"/>
                      </a:lnTo>
                      <a:lnTo>
                        <a:pt x="28" y="26"/>
                      </a:lnTo>
                      <a:lnTo>
                        <a:pt x="22" y="19"/>
                      </a:lnTo>
                      <a:lnTo>
                        <a:pt x="15" y="13"/>
                      </a:lnTo>
                      <a:lnTo>
                        <a:pt x="10" y="6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0" y="6"/>
                      </a:lnTo>
                      <a:lnTo>
                        <a:pt x="15" y="13"/>
                      </a:lnTo>
                      <a:lnTo>
                        <a:pt x="22" y="19"/>
                      </a:lnTo>
                      <a:lnTo>
                        <a:pt x="28" y="26"/>
                      </a:lnTo>
                      <a:lnTo>
                        <a:pt x="35" y="32"/>
                      </a:lnTo>
                      <a:lnTo>
                        <a:pt x="39" y="34"/>
                      </a:lnTo>
                      <a:lnTo>
                        <a:pt x="42" y="37"/>
                      </a:lnTo>
                      <a:lnTo>
                        <a:pt x="46" y="38"/>
                      </a:lnTo>
                      <a:lnTo>
                        <a:pt x="49" y="38"/>
                      </a:lnTo>
                      <a:lnTo>
                        <a:pt x="54" y="48"/>
                      </a:lnTo>
                      <a:lnTo>
                        <a:pt x="58" y="56"/>
                      </a:lnTo>
                      <a:lnTo>
                        <a:pt x="65" y="66"/>
                      </a:lnTo>
                      <a:lnTo>
                        <a:pt x="73" y="75"/>
                      </a:lnTo>
                      <a:lnTo>
                        <a:pt x="91" y="94"/>
                      </a:lnTo>
                      <a:lnTo>
                        <a:pt x="112" y="113"/>
                      </a:lnTo>
                      <a:lnTo>
                        <a:pt x="131" y="132"/>
                      </a:lnTo>
                      <a:lnTo>
                        <a:pt x="151" y="150"/>
                      </a:lnTo>
                      <a:lnTo>
                        <a:pt x="153" y="15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Freeform 415"/>
                <p:cNvSpPr/>
                <p:nvPr/>
              </p:nvSpPr>
              <p:spPr>
                <a:xfrm>
                  <a:off x="5365440" y="3652560"/>
                  <a:ext cx="10440" cy="1656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" h="29">
                      <a:moveTo>
                        <a:pt x="8" y="29"/>
                      </a:moveTo>
                      <a:lnTo>
                        <a:pt x="7" y="24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4" y="15"/>
                      </a:lnTo>
                      <a:lnTo>
                        <a:pt x="5" y="19"/>
                      </a:lnTo>
                      <a:lnTo>
                        <a:pt x="7" y="24"/>
                      </a:lnTo>
                      <a:lnTo>
                        <a:pt x="8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Freeform 416"/>
                <p:cNvSpPr/>
                <p:nvPr/>
              </p:nvSpPr>
              <p:spPr>
                <a:xfrm>
                  <a:off x="7182000" y="36824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Freeform 417"/>
                <p:cNvSpPr/>
                <p:nvPr/>
              </p:nvSpPr>
              <p:spPr>
                <a:xfrm>
                  <a:off x="7182000" y="3682440"/>
                  <a:ext cx="135720" cy="6300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03" h="115">
                      <a:moveTo>
                        <a:pt x="89" y="2"/>
                      </a:moveTo>
                      <a:lnTo>
                        <a:pt x="103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lnTo>
                        <a:pt x="41" y="1"/>
                      </a:lnTo>
                      <a:lnTo>
                        <a:pt x="49" y="1"/>
                      </a:lnTo>
                      <a:lnTo>
                        <a:pt x="57" y="2"/>
                      </a:lnTo>
                      <a:lnTo>
                        <a:pt x="64" y="2"/>
                      </a:lnTo>
                      <a:lnTo>
                        <a:pt x="71" y="2"/>
                      </a:lnTo>
                      <a:lnTo>
                        <a:pt x="76" y="2"/>
                      </a:lnTo>
                      <a:lnTo>
                        <a:pt x="83" y="2"/>
                      </a:lnTo>
                      <a:lnTo>
                        <a:pt x="89" y="2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Freeform 418"/>
                <p:cNvSpPr/>
                <p:nvPr/>
              </p:nvSpPr>
              <p:spPr>
                <a:xfrm>
                  <a:off x="7299720" y="3682440"/>
                  <a:ext cx="57240" cy="345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4" h="61">
                      <a:moveTo>
                        <a:pt x="14" y="61"/>
                      </a:move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2" y="2"/>
                      </a:lnTo>
                      <a:lnTo>
                        <a:pt x="44" y="4"/>
                      </a:lnTo>
                      <a:lnTo>
                        <a:pt x="44" y="7"/>
                      </a:lnTo>
                      <a:lnTo>
                        <a:pt x="43" y="11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1" y="38"/>
                      </a:lnTo>
                      <a:lnTo>
                        <a:pt x="20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2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Freeform 419"/>
                <p:cNvSpPr/>
                <p:nvPr/>
              </p:nvSpPr>
              <p:spPr>
                <a:xfrm>
                  <a:off x="7182000" y="36824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420"/>
                <p:cNvSpPr/>
                <p:nvPr/>
              </p:nvSpPr>
              <p:spPr>
                <a:xfrm>
                  <a:off x="7182000" y="36824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Freeform 421"/>
                <p:cNvSpPr/>
                <p:nvPr/>
              </p:nvSpPr>
              <p:spPr>
                <a:xfrm>
                  <a:off x="7257600" y="3707640"/>
                  <a:ext cx="68040" cy="97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1" h="16">
                      <a:moveTo>
                        <a:pt x="51" y="16"/>
                      </a:moveTo>
                      <a:lnTo>
                        <a:pt x="17" y="0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51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Freeform 422"/>
                <p:cNvSpPr/>
                <p:nvPr/>
              </p:nvSpPr>
              <p:spPr>
                <a:xfrm>
                  <a:off x="7218720" y="3682440"/>
                  <a:ext cx="122400" cy="248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94" h="45">
                      <a:moveTo>
                        <a:pt x="94" y="0"/>
                      </a:moveTo>
                      <a:lnTo>
                        <a:pt x="47" y="45"/>
                      </a:lnTo>
                      <a:lnTo>
                        <a:pt x="0" y="22"/>
                      </a:lnTo>
                      <a:lnTo>
                        <a:pt x="47" y="45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423"/>
                <p:cNvSpPr/>
                <p:nvPr/>
              </p:nvSpPr>
              <p:spPr>
                <a:xfrm>
                  <a:off x="7218720" y="3695760"/>
                  <a:ext cx="62640" cy="21600"/>
                </a:xfrm>
                <a:custGeom>
                  <a:avLst/>
                  <a:gdLst>
                    <a:gd name="textAreaLeft" fmla="*/ 0 w 62640"/>
                    <a:gd name="textAreaRight" fmla="*/ 63000 w 626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0"/>
                      </a:moveTo>
                      <a:lnTo>
                        <a:pt x="47" y="23"/>
                      </a:lnTo>
                      <a:lnTo>
                        <a:pt x="30" y="39"/>
                      </a:lnTo>
                      <a:lnTo>
                        <a:pt x="47" y="2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Freeform 424"/>
                <p:cNvSpPr/>
                <p:nvPr/>
              </p:nvSpPr>
              <p:spPr>
                <a:xfrm>
                  <a:off x="7182000" y="37411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6" y="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Freeform 425"/>
                <p:cNvSpPr/>
                <p:nvPr/>
              </p:nvSpPr>
              <p:spPr>
                <a:xfrm>
                  <a:off x="7182000" y="37411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Freeform 426"/>
                <p:cNvSpPr/>
                <p:nvPr/>
              </p:nvSpPr>
              <p:spPr>
                <a:xfrm>
                  <a:off x="7281360" y="3682440"/>
                  <a:ext cx="59760" cy="345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7" h="61">
                      <a:moveTo>
                        <a:pt x="34" y="61"/>
                      </a:moveTo>
                      <a:lnTo>
                        <a:pt x="0" y="45"/>
                      </a:lnTo>
                      <a:lnTo>
                        <a:pt x="47" y="0"/>
                      </a:lnTo>
                      <a:lnTo>
                        <a:pt x="0" y="45"/>
                      </a:lnTo>
                      <a:lnTo>
                        <a:pt x="34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1" name="Freeform 427"/>
              <p:cNvSpPr/>
              <p:nvPr/>
            </p:nvSpPr>
            <p:spPr>
              <a:xfrm>
                <a:off x="7182720" y="3682800"/>
                <a:ext cx="175320" cy="63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113">
                    <a:moveTo>
                      <a:pt x="29" y="19"/>
                    </a:moveTo>
                    <a:lnTo>
                      <a:pt x="39" y="17"/>
                    </a:lnTo>
                    <a:lnTo>
                      <a:pt x="54" y="11"/>
                    </a:lnTo>
                    <a:lnTo>
                      <a:pt x="68" y="6"/>
                    </a:lnTo>
                    <a:lnTo>
                      <a:pt x="80" y="0"/>
                    </a:lnTo>
                    <a:lnTo>
                      <a:pt x="10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2"/>
                    </a:lnTo>
                    <a:lnTo>
                      <a:pt x="132" y="3"/>
                    </a:lnTo>
                    <a:lnTo>
                      <a:pt x="133" y="6"/>
                    </a:lnTo>
                    <a:lnTo>
                      <a:pt x="133" y="10"/>
                    </a:lnTo>
                    <a:lnTo>
                      <a:pt x="131" y="15"/>
                    </a:lnTo>
                    <a:lnTo>
                      <a:pt x="129" y="21"/>
                    </a:lnTo>
                    <a:lnTo>
                      <a:pt x="120" y="38"/>
                    </a:lnTo>
                    <a:lnTo>
                      <a:pt x="109" y="61"/>
                    </a:lnTo>
                    <a:lnTo>
                      <a:pt x="32" y="61"/>
                    </a:lnTo>
                    <a:lnTo>
                      <a:pt x="31" y="68"/>
                    </a:lnTo>
                    <a:lnTo>
                      <a:pt x="28" y="75"/>
                    </a:lnTo>
                    <a:lnTo>
                      <a:pt x="22" y="83"/>
                    </a:lnTo>
                    <a:lnTo>
                      <a:pt x="16" y="93"/>
                    </a:lnTo>
                    <a:lnTo>
                      <a:pt x="10" y="101"/>
                    </a:lnTo>
                    <a:lnTo>
                      <a:pt x="5" y="108"/>
                    </a:lnTo>
                    <a:lnTo>
                      <a:pt x="1" y="112"/>
                    </a:lnTo>
                    <a:lnTo>
                      <a:pt x="0" y="113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7" y="59"/>
                    </a:lnTo>
                    <a:lnTo>
                      <a:pt x="10" y="55"/>
                    </a:lnTo>
                    <a:lnTo>
                      <a:pt x="15" y="49"/>
                    </a:lnTo>
                    <a:lnTo>
                      <a:pt x="19" y="42"/>
                    </a:lnTo>
                    <a:lnTo>
                      <a:pt x="22" y="34"/>
                    </a:lnTo>
                    <a:lnTo>
                      <a:pt x="25" y="27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Freeform 428"/>
              <p:cNvSpPr/>
              <p:nvPr/>
            </p:nvSpPr>
            <p:spPr>
              <a:xfrm>
                <a:off x="7221600" y="3682800"/>
                <a:ext cx="65160" cy="11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1" h="21">
                    <a:moveTo>
                      <a:pt x="0" y="21"/>
                    </a:moveTo>
                    <a:lnTo>
                      <a:pt x="10" y="19"/>
                    </a:lnTo>
                    <a:lnTo>
                      <a:pt x="25" y="13"/>
                    </a:lnTo>
                    <a:lnTo>
                      <a:pt x="39" y="8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Freeform 429"/>
              <p:cNvSpPr/>
              <p:nvPr/>
            </p:nvSpPr>
            <p:spPr>
              <a:xfrm>
                <a:off x="6136920" y="36075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Freeform 430"/>
              <p:cNvSpPr/>
              <p:nvPr/>
            </p:nvSpPr>
            <p:spPr>
              <a:xfrm>
                <a:off x="6136920" y="3607560"/>
                <a:ext cx="112320" cy="468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4" h="84">
                    <a:moveTo>
                      <a:pt x="67" y="6"/>
                    </a:moveTo>
                    <a:lnTo>
                      <a:pt x="84" y="84"/>
                    </a:lnTo>
                    <a:lnTo>
                      <a:pt x="83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7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2" y="4"/>
                    </a:lnTo>
                    <a:lnTo>
                      <a:pt x="57" y="4"/>
                    </a:lnTo>
                    <a:lnTo>
                      <a:pt x="62" y="6"/>
                    </a:lnTo>
                    <a:lnTo>
                      <a:pt x="67" y="6"/>
                    </a:lnTo>
                    <a:close/>
                  </a:path>
                </a:pathLst>
              </a:custGeom>
              <a:solidFill>
                <a:srgbClr val="f2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Freeform 431"/>
              <p:cNvSpPr/>
              <p:nvPr/>
            </p:nvSpPr>
            <p:spPr>
              <a:xfrm>
                <a:off x="6225840" y="3610800"/>
                <a:ext cx="279720" cy="7200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213" h="129">
                    <a:moveTo>
                      <a:pt x="17" y="78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9" y="8"/>
                    </a:lnTo>
                    <a:lnTo>
                      <a:pt x="74" y="12"/>
                    </a:lnTo>
                    <a:lnTo>
                      <a:pt x="101" y="16"/>
                    </a:lnTo>
                    <a:lnTo>
                      <a:pt x="126" y="19"/>
                    </a:lnTo>
                    <a:lnTo>
                      <a:pt x="152" y="20"/>
                    </a:lnTo>
                    <a:lnTo>
                      <a:pt x="177" y="21"/>
                    </a:lnTo>
                    <a:lnTo>
                      <a:pt x="203" y="23"/>
                    </a:lnTo>
                    <a:lnTo>
                      <a:pt x="213" y="69"/>
                    </a:lnTo>
                    <a:lnTo>
                      <a:pt x="198" y="74"/>
                    </a:lnTo>
                    <a:lnTo>
                      <a:pt x="183" y="80"/>
                    </a:lnTo>
                    <a:lnTo>
                      <a:pt x="169" y="88"/>
                    </a:lnTo>
                    <a:lnTo>
                      <a:pt x="155" y="95"/>
                    </a:lnTo>
                    <a:lnTo>
                      <a:pt x="141" y="104"/>
                    </a:lnTo>
                    <a:lnTo>
                      <a:pt x="127" y="112"/>
                    </a:lnTo>
                    <a:lnTo>
                      <a:pt x="113" y="120"/>
                    </a:lnTo>
                    <a:lnTo>
                      <a:pt x="97" y="129"/>
                    </a:lnTo>
                    <a:lnTo>
                      <a:pt x="95" y="123"/>
                    </a:lnTo>
                    <a:lnTo>
                      <a:pt x="89" y="116"/>
                    </a:lnTo>
                    <a:lnTo>
                      <a:pt x="79" y="110"/>
                    </a:lnTo>
                    <a:lnTo>
                      <a:pt x="67" y="101"/>
                    </a:lnTo>
                    <a:lnTo>
                      <a:pt x="54" y="95"/>
                    </a:lnTo>
                    <a:lnTo>
                      <a:pt x="42" y="88"/>
                    </a:lnTo>
                    <a:lnTo>
                      <a:pt x="29" y="82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f2e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Freeform 432"/>
              <p:cNvSpPr/>
              <p:nvPr/>
            </p:nvSpPr>
            <p:spPr>
              <a:xfrm>
                <a:off x="6490080" y="3617640"/>
                <a:ext cx="106560" cy="31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1" h="56">
                    <a:moveTo>
                      <a:pt x="10" y="56"/>
                    </a:moveTo>
                    <a:lnTo>
                      <a:pt x="0" y="10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31" y="8"/>
                    </a:lnTo>
                    <a:lnTo>
                      <a:pt x="41" y="7"/>
                    </a:lnTo>
                    <a:lnTo>
                      <a:pt x="52" y="6"/>
                    </a:lnTo>
                    <a:lnTo>
                      <a:pt x="61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81" y="38"/>
                    </a:lnTo>
                    <a:lnTo>
                      <a:pt x="76" y="40"/>
                    </a:lnTo>
                    <a:lnTo>
                      <a:pt x="73" y="41"/>
                    </a:lnTo>
                    <a:lnTo>
                      <a:pt x="68" y="42"/>
                    </a:lnTo>
                    <a:lnTo>
                      <a:pt x="64" y="45"/>
                    </a:lnTo>
                    <a:lnTo>
                      <a:pt x="60" y="48"/>
                    </a:lnTo>
                    <a:lnTo>
                      <a:pt x="56" y="49"/>
                    </a:lnTo>
                    <a:lnTo>
                      <a:pt x="52" y="50"/>
                    </a:lnTo>
                    <a:lnTo>
                      <a:pt x="48" y="52"/>
                    </a:lnTo>
                    <a:lnTo>
                      <a:pt x="42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19" y="55"/>
                    </a:lnTo>
                    <a:lnTo>
                      <a:pt x="15" y="55"/>
                    </a:lnTo>
                    <a:lnTo>
                      <a:pt x="10" y="56"/>
                    </a:lnTo>
                    <a:close/>
                  </a:path>
                </a:pathLst>
              </a:custGeom>
              <a:solidFill>
                <a:srgbClr val="f2f2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Freeform 433"/>
              <p:cNvSpPr/>
              <p:nvPr/>
            </p:nvSpPr>
            <p:spPr>
              <a:xfrm>
                <a:off x="6136920" y="36075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Freeform 434"/>
              <p:cNvSpPr/>
              <p:nvPr/>
            </p:nvSpPr>
            <p:spPr>
              <a:xfrm>
                <a:off x="6136920" y="36075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Freeform 435"/>
              <p:cNvSpPr/>
              <p:nvPr/>
            </p:nvSpPr>
            <p:spPr>
              <a:xfrm>
                <a:off x="6192000" y="36108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43" y="0"/>
                    </a:moveTo>
                    <a:lnTo>
                      <a:pt x="0" y="42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Freeform 436"/>
              <p:cNvSpPr/>
              <p:nvPr/>
            </p:nvSpPr>
            <p:spPr>
              <a:xfrm>
                <a:off x="6338520" y="3617640"/>
                <a:ext cx="67320" cy="97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52" y="7"/>
                    </a:moveTo>
                    <a:lnTo>
                      <a:pt x="38" y="19"/>
                    </a:lnTo>
                    <a:lnTo>
                      <a:pt x="0" y="0"/>
                    </a:lnTo>
                    <a:lnTo>
                      <a:pt x="38" y="19"/>
                    </a:lnTo>
                    <a:lnTo>
                      <a:pt x="52" y="7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Freeform 437"/>
              <p:cNvSpPr/>
              <p:nvPr/>
            </p:nvSpPr>
            <p:spPr>
              <a:xfrm>
                <a:off x="6233400" y="3617640"/>
                <a:ext cx="156960" cy="46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18" h="83">
                    <a:moveTo>
                      <a:pt x="80" y="0"/>
                    </a:moveTo>
                    <a:lnTo>
                      <a:pt x="118" y="19"/>
                    </a:lnTo>
                    <a:lnTo>
                      <a:pt x="53" y="83"/>
                    </a:lnTo>
                    <a:lnTo>
                      <a:pt x="0" y="56"/>
                    </a:lnTo>
                    <a:lnTo>
                      <a:pt x="53" y="83"/>
                    </a:lnTo>
                    <a:lnTo>
                      <a:pt x="11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Freeform 438"/>
              <p:cNvSpPr/>
              <p:nvPr/>
            </p:nvSpPr>
            <p:spPr>
              <a:xfrm>
                <a:off x="6192000" y="36108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42"/>
                    </a:moveTo>
                    <a:lnTo>
                      <a:pt x="43" y="0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Freeform 439"/>
              <p:cNvSpPr/>
              <p:nvPr/>
            </p:nvSpPr>
            <p:spPr>
              <a:xfrm>
                <a:off x="6233400" y="3649680"/>
                <a:ext cx="70200" cy="14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0" y="0"/>
                    </a:moveTo>
                    <a:lnTo>
                      <a:pt x="53" y="27"/>
                    </a:lnTo>
                    <a:lnTo>
                      <a:pt x="52" y="27"/>
                    </a:lnTo>
                    <a:lnTo>
                      <a:pt x="53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Freeform 440"/>
              <p:cNvSpPr/>
              <p:nvPr/>
            </p:nvSpPr>
            <p:spPr>
              <a:xfrm>
                <a:off x="6594480" y="36176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Freeform 441"/>
              <p:cNvSpPr/>
              <p:nvPr/>
            </p:nvSpPr>
            <p:spPr>
              <a:xfrm>
                <a:off x="6526440" y="3617640"/>
                <a:ext cx="68040" cy="298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52" y="0"/>
                    </a:moveTo>
                    <a:lnTo>
                      <a:pt x="54" y="2"/>
                    </a:lnTo>
                    <a:lnTo>
                      <a:pt x="0" y="53"/>
                    </a:lnTo>
                    <a:lnTo>
                      <a:pt x="54" y="2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Freeform 442"/>
              <p:cNvSpPr/>
              <p:nvPr/>
            </p:nvSpPr>
            <p:spPr>
              <a:xfrm>
                <a:off x="6390720" y="3620880"/>
                <a:ext cx="101880" cy="29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80" h="52">
                    <a:moveTo>
                      <a:pt x="80" y="52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80" y="5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Freeform 443"/>
              <p:cNvSpPr/>
              <p:nvPr/>
            </p:nvSpPr>
            <p:spPr>
              <a:xfrm>
                <a:off x="6390720" y="3627360"/>
                <a:ext cx="101880" cy="234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80" h="40">
                    <a:moveTo>
                      <a:pt x="0" y="0"/>
                    </a:moveTo>
                    <a:lnTo>
                      <a:pt x="80" y="4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Freeform 444"/>
              <p:cNvSpPr/>
              <p:nvPr/>
            </p:nvSpPr>
            <p:spPr>
              <a:xfrm>
                <a:off x="6303960" y="3627360"/>
                <a:ext cx="86400" cy="504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5" h="90">
                    <a:moveTo>
                      <a:pt x="52" y="90"/>
                    </a:moveTo>
                    <a:lnTo>
                      <a:pt x="0" y="64"/>
                    </a:lnTo>
                    <a:lnTo>
                      <a:pt x="65" y="0"/>
                    </a:lnTo>
                    <a:lnTo>
                      <a:pt x="0" y="64"/>
                    </a:lnTo>
                    <a:lnTo>
                      <a:pt x="52" y="9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Freeform 445"/>
              <p:cNvSpPr/>
              <p:nvPr/>
            </p:nvSpPr>
            <p:spPr>
              <a:xfrm>
                <a:off x="6303960" y="3664440"/>
                <a:ext cx="68040" cy="13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0" y="0"/>
                    </a:moveTo>
                    <a:lnTo>
                      <a:pt x="52" y="2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Freeform 446"/>
              <p:cNvSpPr/>
              <p:nvPr/>
            </p:nvSpPr>
            <p:spPr>
              <a:xfrm>
                <a:off x="6303960" y="366444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Freeform 447"/>
              <p:cNvSpPr/>
              <p:nvPr/>
            </p:nvSpPr>
            <p:spPr>
              <a:xfrm>
                <a:off x="6594480" y="36176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Freeform 448"/>
              <p:cNvSpPr/>
              <p:nvPr/>
            </p:nvSpPr>
            <p:spPr>
              <a:xfrm>
                <a:off x="6594480" y="3619080"/>
                <a:ext cx="2160" cy="18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Freeform 449"/>
              <p:cNvSpPr/>
              <p:nvPr/>
            </p:nvSpPr>
            <p:spPr>
              <a:xfrm>
                <a:off x="6526440" y="3619080"/>
                <a:ext cx="68040" cy="28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51">
                    <a:moveTo>
                      <a:pt x="0" y="51"/>
                    </a:moveTo>
                    <a:lnTo>
                      <a:pt x="54" y="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Freeform 450"/>
              <p:cNvSpPr/>
              <p:nvPr/>
            </p:nvSpPr>
            <p:spPr>
              <a:xfrm>
                <a:off x="6136920" y="3607560"/>
                <a:ext cx="117720" cy="468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9" h="86">
                    <a:moveTo>
                      <a:pt x="69" y="7"/>
                    </a:moveTo>
                    <a:lnTo>
                      <a:pt x="70" y="15"/>
                    </a:lnTo>
                    <a:lnTo>
                      <a:pt x="81" y="55"/>
                    </a:lnTo>
                    <a:lnTo>
                      <a:pt x="89" y="86"/>
                    </a:lnTo>
                    <a:lnTo>
                      <a:pt x="88" y="86"/>
                    </a:lnTo>
                    <a:lnTo>
                      <a:pt x="85" y="84"/>
                    </a:lnTo>
                    <a:lnTo>
                      <a:pt x="84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d8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Freeform 451"/>
              <p:cNvSpPr/>
              <p:nvPr/>
            </p:nvSpPr>
            <p:spPr>
              <a:xfrm>
                <a:off x="6228720" y="3610800"/>
                <a:ext cx="182520" cy="720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39" h="128">
                    <a:moveTo>
                      <a:pt x="0" y="0"/>
                    </a:moveTo>
                    <a:lnTo>
                      <a:pt x="1" y="8"/>
                    </a:lnTo>
                    <a:lnTo>
                      <a:pt x="12" y="48"/>
                    </a:lnTo>
                    <a:lnTo>
                      <a:pt x="20" y="79"/>
                    </a:lnTo>
                    <a:lnTo>
                      <a:pt x="32" y="83"/>
                    </a:lnTo>
                    <a:lnTo>
                      <a:pt x="44" y="88"/>
                    </a:lnTo>
                    <a:lnTo>
                      <a:pt x="56" y="95"/>
                    </a:lnTo>
                    <a:lnTo>
                      <a:pt x="69" y="102"/>
                    </a:lnTo>
                    <a:lnTo>
                      <a:pt x="79" y="110"/>
                    </a:lnTo>
                    <a:lnTo>
                      <a:pt x="87" y="117"/>
                    </a:lnTo>
                    <a:lnTo>
                      <a:pt x="93" y="122"/>
                    </a:lnTo>
                    <a:lnTo>
                      <a:pt x="95" y="128"/>
                    </a:lnTo>
                    <a:lnTo>
                      <a:pt x="101" y="125"/>
                    </a:lnTo>
                    <a:lnTo>
                      <a:pt x="107" y="122"/>
                    </a:lnTo>
                    <a:lnTo>
                      <a:pt x="113" y="118"/>
                    </a:lnTo>
                    <a:lnTo>
                      <a:pt x="118" y="115"/>
                    </a:lnTo>
                    <a:lnTo>
                      <a:pt x="123" y="113"/>
                    </a:lnTo>
                    <a:lnTo>
                      <a:pt x="129" y="110"/>
                    </a:lnTo>
                    <a:lnTo>
                      <a:pt x="135" y="106"/>
                    </a:lnTo>
                    <a:lnTo>
                      <a:pt x="139" y="103"/>
                    </a:lnTo>
                    <a:lnTo>
                      <a:pt x="130" y="77"/>
                    </a:lnTo>
                    <a:lnTo>
                      <a:pt x="118" y="45"/>
                    </a:lnTo>
                    <a:lnTo>
                      <a:pt x="110" y="16"/>
                    </a:lnTo>
                    <a:lnTo>
                      <a:pt x="96" y="14"/>
                    </a:lnTo>
                    <a:lnTo>
                      <a:pt x="82" y="12"/>
                    </a:lnTo>
                    <a:lnTo>
                      <a:pt x="67" y="11"/>
                    </a:lnTo>
                    <a:lnTo>
                      <a:pt x="54" y="8"/>
                    </a:lnTo>
                    <a:lnTo>
                      <a:pt x="41" y="6"/>
                    </a:lnTo>
                    <a:lnTo>
                      <a:pt x="27" y="4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Freeform 452"/>
              <p:cNvSpPr/>
              <p:nvPr/>
            </p:nvSpPr>
            <p:spPr>
              <a:xfrm>
                <a:off x="6372360" y="3619080"/>
                <a:ext cx="164520" cy="482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27" h="87">
                    <a:moveTo>
                      <a:pt x="0" y="0"/>
                    </a:moveTo>
                    <a:lnTo>
                      <a:pt x="8" y="29"/>
                    </a:lnTo>
                    <a:lnTo>
                      <a:pt x="20" y="61"/>
                    </a:lnTo>
                    <a:lnTo>
                      <a:pt x="29" y="87"/>
                    </a:lnTo>
                    <a:lnTo>
                      <a:pt x="41" y="80"/>
                    </a:lnTo>
                    <a:lnTo>
                      <a:pt x="51" y="74"/>
                    </a:lnTo>
                    <a:lnTo>
                      <a:pt x="63" y="67"/>
                    </a:lnTo>
                    <a:lnTo>
                      <a:pt x="74" y="61"/>
                    </a:lnTo>
                    <a:lnTo>
                      <a:pt x="86" y="57"/>
                    </a:lnTo>
                    <a:lnTo>
                      <a:pt x="99" y="53"/>
                    </a:lnTo>
                    <a:lnTo>
                      <a:pt x="113" y="49"/>
                    </a:lnTo>
                    <a:lnTo>
                      <a:pt x="127" y="48"/>
                    </a:lnTo>
                    <a:lnTo>
                      <a:pt x="124" y="42"/>
                    </a:lnTo>
                    <a:lnTo>
                      <a:pt x="114" y="15"/>
                    </a:lnTo>
                    <a:lnTo>
                      <a:pt x="110" y="4"/>
                    </a:lnTo>
                    <a:lnTo>
                      <a:pt x="96" y="6"/>
                    </a:lnTo>
                    <a:lnTo>
                      <a:pt x="84" y="6"/>
                    </a:lnTo>
                    <a:lnTo>
                      <a:pt x="70" y="4"/>
                    </a:lnTo>
                    <a:lnTo>
                      <a:pt x="56" y="4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Freeform 453"/>
              <p:cNvSpPr/>
              <p:nvPr/>
            </p:nvSpPr>
            <p:spPr>
              <a:xfrm>
                <a:off x="6516360" y="3617640"/>
                <a:ext cx="80280" cy="284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2" h="52">
                    <a:moveTo>
                      <a:pt x="0" y="8"/>
                    </a:moveTo>
                    <a:lnTo>
                      <a:pt x="4" y="19"/>
                    </a:lnTo>
                    <a:lnTo>
                      <a:pt x="14" y="46"/>
                    </a:lnTo>
                    <a:lnTo>
                      <a:pt x="17" y="52"/>
                    </a:lnTo>
                    <a:lnTo>
                      <a:pt x="18" y="52"/>
                    </a:lnTo>
                    <a:lnTo>
                      <a:pt x="20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3" y="50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4" y="41"/>
                    </a:lnTo>
                    <a:lnTo>
                      <a:pt x="57" y="40"/>
                    </a:lnTo>
                    <a:lnTo>
                      <a:pt x="62" y="38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3"/>
                    </a:lnTo>
                    <a:lnTo>
                      <a:pt x="40" y="4"/>
                    </a:lnTo>
                    <a:lnTo>
                      <a:pt x="32" y="6"/>
                    </a:lnTo>
                    <a:lnTo>
                      <a:pt x="23" y="7"/>
                    </a:lnTo>
                    <a:lnTo>
                      <a:pt x="17" y="7"/>
                    </a:lnTo>
                    <a:lnTo>
                      <a:pt x="8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Freeform 454"/>
              <p:cNvSpPr/>
              <p:nvPr/>
            </p:nvSpPr>
            <p:spPr>
              <a:xfrm>
                <a:off x="5710680" y="4276800"/>
                <a:ext cx="12960" cy="198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Freeform 455"/>
              <p:cNvSpPr/>
              <p:nvPr/>
            </p:nvSpPr>
            <p:spPr>
              <a:xfrm>
                <a:off x="6267960" y="434052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Freeform 456"/>
              <p:cNvSpPr/>
              <p:nvPr/>
            </p:nvSpPr>
            <p:spPr>
              <a:xfrm>
                <a:off x="5922720" y="4305240"/>
                <a:ext cx="44280" cy="133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8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3" y="15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4" y="25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Freeform 457"/>
              <p:cNvSpPr/>
              <p:nvPr/>
            </p:nvSpPr>
            <p:spPr>
              <a:xfrm>
                <a:off x="6424200" y="440388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458"/>
              <p:cNvSpPr/>
              <p:nvPr/>
            </p:nvSpPr>
            <p:spPr>
              <a:xfrm>
                <a:off x="6424200" y="440388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459"/>
              <p:cNvSpPr/>
              <p:nvPr/>
            </p:nvSpPr>
            <p:spPr>
              <a:xfrm>
                <a:off x="5880960" y="4427280"/>
                <a:ext cx="57240" cy="12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4" h="24">
                    <a:moveTo>
                      <a:pt x="22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40" y="5"/>
                    </a:lnTo>
                    <a:lnTo>
                      <a:pt x="42" y="7"/>
                    </a:lnTo>
                    <a:lnTo>
                      <a:pt x="43" y="9"/>
                    </a:lnTo>
                    <a:lnTo>
                      <a:pt x="44" y="12"/>
                    </a:lnTo>
                    <a:lnTo>
                      <a:pt x="43" y="15"/>
                    </a:lnTo>
                    <a:lnTo>
                      <a:pt x="42" y="17"/>
                    </a:lnTo>
                    <a:lnTo>
                      <a:pt x="40" y="19"/>
                    </a:lnTo>
                    <a:lnTo>
                      <a:pt x="37" y="21"/>
                    </a:lnTo>
                    <a:lnTo>
                      <a:pt x="35" y="23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9" y="23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Freeform 460"/>
              <p:cNvSpPr/>
              <p:nvPr/>
            </p:nvSpPr>
            <p:spPr>
              <a:xfrm>
                <a:off x="6424200" y="433368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2">
                    <a:moveTo>
                      <a:pt x="22" y="0"/>
                    </a:moveTo>
                    <a:lnTo>
                      <a:pt x="26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3" y="8"/>
                    </a:lnTo>
                    <a:lnTo>
                      <a:pt x="40" y="9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Freeform 461"/>
              <p:cNvSpPr/>
              <p:nvPr/>
            </p:nvSpPr>
            <p:spPr>
              <a:xfrm>
                <a:off x="6079320" y="441900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Freeform 462"/>
              <p:cNvSpPr/>
              <p:nvPr/>
            </p:nvSpPr>
            <p:spPr>
              <a:xfrm>
                <a:off x="6079320" y="441900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Freeform 463"/>
              <p:cNvSpPr/>
              <p:nvPr/>
            </p:nvSpPr>
            <p:spPr>
              <a:xfrm>
                <a:off x="6667560" y="4348800"/>
                <a:ext cx="15840" cy="19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Freeform 464"/>
              <p:cNvSpPr/>
              <p:nvPr/>
            </p:nvSpPr>
            <p:spPr>
              <a:xfrm>
                <a:off x="6555240" y="455436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0" y="30"/>
                    </a:lnTo>
                    <a:lnTo>
                      <a:pt x="10" y="33"/>
                    </a:lnTo>
                    <a:lnTo>
                      <a:pt x="8" y="36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Freeform 465"/>
              <p:cNvSpPr/>
              <p:nvPr/>
            </p:nvSpPr>
            <p:spPr>
              <a:xfrm>
                <a:off x="6053400" y="45694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9" y="33"/>
                    </a:lnTo>
                    <a:lnTo>
                      <a:pt x="9" y="30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0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Freeform 466"/>
              <p:cNvSpPr/>
              <p:nvPr/>
            </p:nvSpPr>
            <p:spPr>
              <a:xfrm>
                <a:off x="5624640" y="4597920"/>
                <a:ext cx="12960" cy="36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1" h="64">
                    <a:moveTo>
                      <a:pt x="6" y="0"/>
                    </a:moveTo>
                    <a:lnTo>
                      <a:pt x="7" y="1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11" y="31"/>
                    </a:lnTo>
                    <a:lnTo>
                      <a:pt x="11" y="38"/>
                    </a:lnTo>
                    <a:lnTo>
                      <a:pt x="11" y="43"/>
                    </a:lnTo>
                    <a:lnTo>
                      <a:pt x="9" y="49"/>
                    </a:lnTo>
                    <a:lnTo>
                      <a:pt x="9" y="54"/>
                    </a:lnTo>
                    <a:lnTo>
                      <a:pt x="8" y="58"/>
                    </a:lnTo>
                    <a:lnTo>
                      <a:pt x="7" y="61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2" y="58"/>
                    </a:lnTo>
                    <a:lnTo>
                      <a:pt x="1" y="54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467"/>
              <p:cNvSpPr/>
              <p:nvPr/>
            </p:nvSpPr>
            <p:spPr>
              <a:xfrm>
                <a:off x="6852960" y="4748760"/>
                <a:ext cx="41760" cy="345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16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5"/>
                    </a:lnTo>
                    <a:lnTo>
                      <a:pt x="31" y="21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40"/>
                    </a:lnTo>
                    <a:lnTo>
                      <a:pt x="31" y="45"/>
                    </a:lnTo>
                    <a:lnTo>
                      <a:pt x="30" y="51"/>
                    </a:lnTo>
                    <a:lnTo>
                      <a:pt x="27" y="55"/>
                    </a:lnTo>
                    <a:lnTo>
                      <a:pt x="25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6" y="64"/>
                    </a:lnTo>
                    <a:lnTo>
                      <a:pt x="12" y="64"/>
                    </a:lnTo>
                    <a:lnTo>
                      <a:pt x="10" y="63"/>
                    </a:lnTo>
                    <a:lnTo>
                      <a:pt x="6" y="59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1" y="45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468"/>
              <p:cNvSpPr/>
              <p:nvPr/>
            </p:nvSpPr>
            <p:spPr>
              <a:xfrm>
                <a:off x="6338520" y="473364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16" y="0"/>
                    </a:moveTo>
                    <a:lnTo>
                      <a:pt x="20" y="1"/>
                    </a:lnTo>
                    <a:lnTo>
                      <a:pt x="22" y="2"/>
                    </a:lnTo>
                    <a:lnTo>
                      <a:pt x="25" y="4"/>
                    </a:lnTo>
                    <a:lnTo>
                      <a:pt x="28" y="8"/>
                    </a:lnTo>
                    <a:lnTo>
                      <a:pt x="30" y="12"/>
                    </a:lnTo>
                    <a:lnTo>
                      <a:pt x="31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1"/>
                    </a:lnTo>
                    <a:lnTo>
                      <a:pt x="31" y="35"/>
                    </a:lnTo>
                    <a:lnTo>
                      <a:pt x="30" y="40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2" y="50"/>
                    </a:lnTo>
                    <a:lnTo>
                      <a:pt x="20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Freeform 469"/>
              <p:cNvSpPr/>
              <p:nvPr/>
            </p:nvSpPr>
            <p:spPr>
              <a:xfrm>
                <a:off x="6008760" y="4720320"/>
                <a:ext cx="15840" cy="21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6" y="0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5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Freeform 470"/>
              <p:cNvSpPr/>
              <p:nvPr/>
            </p:nvSpPr>
            <p:spPr>
              <a:xfrm>
                <a:off x="6824520" y="4604760"/>
                <a:ext cx="44280" cy="14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3" h="26">
                    <a:moveTo>
                      <a:pt x="16" y="0"/>
                    </a:moveTo>
                    <a:lnTo>
                      <a:pt x="19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2" y="15"/>
                    </a:lnTo>
                    <a:lnTo>
                      <a:pt x="31" y="18"/>
                    </a:lnTo>
                    <a:lnTo>
                      <a:pt x="30" y="20"/>
                    </a:lnTo>
                    <a:lnTo>
                      <a:pt x="27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19" y="26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Freeform 471"/>
              <p:cNvSpPr/>
              <p:nvPr/>
            </p:nvSpPr>
            <p:spPr>
              <a:xfrm>
                <a:off x="5394600" y="4762080"/>
                <a:ext cx="41400" cy="151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7" y="0"/>
                    </a:moveTo>
                    <a:lnTo>
                      <a:pt x="21" y="0"/>
                    </a:lnTo>
                    <a:lnTo>
                      <a:pt x="23" y="2"/>
                    </a:lnTo>
                    <a:lnTo>
                      <a:pt x="27" y="3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2" y="8"/>
                    </a:lnTo>
                    <a:lnTo>
                      <a:pt x="34" y="11"/>
                    </a:lnTo>
                    <a:lnTo>
                      <a:pt x="34" y="14"/>
                    </a:lnTo>
                    <a:lnTo>
                      <a:pt x="34" y="15"/>
                    </a:lnTo>
                    <a:lnTo>
                      <a:pt x="32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3" y="25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Freeform 472"/>
              <p:cNvSpPr/>
              <p:nvPr/>
            </p:nvSpPr>
            <p:spPr>
              <a:xfrm>
                <a:off x="6238800" y="45626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Freeform 473"/>
              <p:cNvSpPr/>
              <p:nvPr/>
            </p:nvSpPr>
            <p:spPr>
              <a:xfrm>
                <a:off x="6238800" y="45626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Freeform 474"/>
              <p:cNvSpPr/>
              <p:nvPr/>
            </p:nvSpPr>
            <p:spPr>
              <a:xfrm>
                <a:off x="6280920" y="4440600"/>
                <a:ext cx="15120" cy="284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5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8" y="48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3" y="50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Freeform 475"/>
              <p:cNvSpPr/>
              <p:nvPr/>
            </p:nvSpPr>
            <p:spPr>
              <a:xfrm>
                <a:off x="6079320" y="4333680"/>
                <a:ext cx="28800" cy="21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38">
                    <a:moveTo>
                      <a:pt x="11" y="0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9" y="5"/>
                    </a:lnTo>
                    <a:lnTo>
                      <a:pt x="21" y="8"/>
                    </a:lnTo>
                    <a:lnTo>
                      <a:pt x="22" y="11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3"/>
                    </a:lnTo>
                    <a:lnTo>
                      <a:pt x="22" y="26"/>
                    </a:lnTo>
                    <a:lnTo>
                      <a:pt x="21" y="30"/>
                    </a:lnTo>
                    <a:lnTo>
                      <a:pt x="19" y="32"/>
                    </a:lnTo>
                    <a:lnTo>
                      <a:pt x="17" y="35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6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Freeform 476"/>
              <p:cNvSpPr/>
              <p:nvPr/>
            </p:nvSpPr>
            <p:spPr>
              <a:xfrm>
                <a:off x="6066360" y="45194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Freeform 477"/>
              <p:cNvSpPr/>
              <p:nvPr/>
            </p:nvSpPr>
            <p:spPr>
              <a:xfrm>
                <a:off x="6066360" y="45194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AutoShape 24"/>
              <p:cNvSpPr/>
              <p:nvPr/>
            </p:nvSpPr>
            <p:spPr>
              <a:xfrm>
                <a:off x="5172480" y="2890080"/>
                <a:ext cx="3112920" cy="20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AutoShape 24"/>
              <p:cNvSpPr/>
              <p:nvPr/>
            </p:nvSpPr>
            <p:spPr>
              <a:xfrm>
                <a:off x="5104440" y="2894760"/>
                <a:ext cx="3112920" cy="20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Right Arrow 477"/>
          <p:cNvSpPr/>
          <p:nvPr/>
        </p:nvSpPr>
        <p:spPr>
          <a:xfrm flipV="1">
            <a:off x="3886200" y="3352680"/>
            <a:ext cx="12952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ight Arrow 479"/>
          <p:cNvSpPr/>
          <p:nvPr/>
        </p:nvSpPr>
        <p:spPr>
          <a:xfrm>
            <a:off x="396252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7"/>
          <p:cNvSpPr/>
          <p:nvPr/>
        </p:nvSpPr>
        <p:spPr>
          <a:xfrm>
            <a:off x="533520" y="5029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Discriminative structur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7"/>
          <p:cNvSpPr/>
          <p:nvPr/>
        </p:nvSpPr>
        <p:spPr>
          <a:xfrm>
            <a:off x="4815000" y="50292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Discriminative weight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Slide Number Placeholder 470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095-E762-4429-A803-06AB925C04D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iscriminative structure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a variant of ALEPH, called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ALEPH+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to produce a larger set of candidate claus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ore the clauses by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-estimat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Dzeroski, 1991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, a Bayesian estimate of the accuracy of a claus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ep all the clauses having a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-estimat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greater than a pre-defined threshold (0.6), instead of the final theory produced by ALEPH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AC6-1094-4B30-B5F5-5C076BD06F4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TextBox 4"/>
          <p:cNvSpPr/>
          <p:nvPr/>
        </p:nvSpPr>
        <p:spPr>
          <a:xfrm>
            <a:off x="228600" y="228600"/>
            <a:ext cx="3200400" cy="612900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A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CL,POLAR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OCH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polar(POLAR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CL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OCH3,SIZ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size(SIZE2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A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 groups(B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D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HH1,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CL,FLEX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OCH3,FLE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A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B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HH1,A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5"/>
          <p:cNvSpPr/>
          <p:nvPr/>
        </p:nvSpPr>
        <p:spPr>
          <a:xfrm>
            <a:off x="3581280" y="3809880"/>
            <a:ext cx="5181840" cy="231516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Times New Roman"/>
              </a:rPr>
              <a:t>x_subst(d1,6,m1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Times New Roman"/>
              </a:rPr>
              <a:t>alk_groups(d1,0) ^ r_subst_1(d2,H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Times New Roman"/>
              </a:rPr>
              <a:t>x_subst(d1,6,m1) ^ polar(m1,POLAR3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4551480" y="1066680"/>
            <a:ext cx="3144600" cy="19051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ALEPH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ight Arrow 6"/>
          <p:cNvSpPr/>
          <p:nvPr/>
        </p:nvSpPr>
        <p:spPr>
          <a:xfrm flipV="1">
            <a:off x="3429000" y="1752480"/>
            <a:ext cx="11430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ight Arrow 7"/>
          <p:cNvSpPr/>
          <p:nvPr/>
        </p:nvSpPr>
        <p:spPr>
          <a:xfrm flipV="1" rot="5400000">
            <a:off x="5638680" y="3124080"/>
            <a:ext cx="8380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8"/>
          <p:cNvSpPr/>
          <p:nvPr/>
        </p:nvSpPr>
        <p:spPr>
          <a:xfrm>
            <a:off x="358128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all non-recursiv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9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3D43-5756-451F-A1BE-921F7508970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iscriminative weight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53316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CLL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with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L</a:t>
            </a:r>
            <a:r>
              <a:rPr b="0" lang="en-US" sz="2900" spc="-1" strike="noStrike" baseline="-25000">
                <a:solidFill>
                  <a:srgbClr val="ff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-regularizatio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inference instead of approximate infere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L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Tw Cen MT"/>
              </a:rPr>
              <a:t>1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-regularization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instead of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regulariz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1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FE67-A1E6-4048-9D26-580DBF3BC71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act inferenc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nce the candidate clauses are non-recursive, the query predicate appears only once in each clause, i.e. the probability of  a query atom being true or false only depends on the eviden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AD3-B977-4132-B1AF-10AC45BD243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5" name="Picture 2" descr=""/>
          <p:cNvPicPr/>
          <p:nvPr/>
        </p:nvPicPr>
        <p:blipFill>
          <a:blip r:embed="rId1"/>
          <a:stretch/>
        </p:blipFill>
        <p:spPr>
          <a:xfrm>
            <a:off x="2133720" y="4035600"/>
            <a:ext cx="54403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L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-regulariz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380520" y="15238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ut a Laplacian prior with zero mean on each weigh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gnores irrelevant features by setting their weights to zero 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Ng, 2004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Larger valu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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regularizing parameter, corresponds to smaller variance of the prior distribu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Object 2"/>
              <p:cNvSpPr txBox="1"/>
              <p:nvPr/>
            </p:nvSpPr>
            <p:spPr>
              <a:xfrm>
                <a:off x="3189240" y="1913040"/>
                <a:ext cx="3287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9" name="Picture 7" descr="Gaussian_pdf.jpeg"/>
          <p:cNvPicPr/>
          <p:nvPr/>
        </p:nvPicPr>
        <p:blipFill>
          <a:blip r:embed="rId1"/>
          <a:stretch/>
        </p:blipFill>
        <p:spPr>
          <a:xfrm>
            <a:off x="228600" y="22096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5" descr="Laplace_pdf.jpeg"/>
          <p:cNvPicPr/>
          <p:nvPr/>
        </p:nvPicPr>
        <p:blipFill>
          <a:blip r:embed="rId2"/>
          <a:stretch/>
        </p:blipFill>
        <p:spPr>
          <a:xfrm>
            <a:off x="4537080" y="220968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1671" name="Slide Number Placeholder 6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682-18C9-4DBD-B7CA-867A0DD0A2C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L with L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-regulariz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7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0EE2-AA04-4D5D-9E8E-23DE4C8959D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12720" y="45720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s convex and non-smooth optimization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 the Orthant-Wise Limited-memory Quasi-Newton (OWL-QN) software 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Andrew &amp; Gao, 2007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o solve the optimization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006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4"/>
          <p:cNvSpPr/>
          <p:nvPr/>
        </p:nvSpPr>
        <p:spPr>
          <a:xfrm>
            <a:off x="380880" y="304920"/>
            <a:ext cx="2895840" cy="20408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A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Box 6"/>
          <p:cNvSpPr/>
          <p:nvPr/>
        </p:nvSpPr>
        <p:spPr>
          <a:xfrm>
            <a:off x="3809880" y="304920"/>
            <a:ext cx="5029200" cy="19508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k_groups(d1,0) ^ r_subst_1(d2,H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_subst(d1,6,m1) ^ polar(m1,POLAR3) ^ alk_groups(d1,1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d1,6,m1) ^ alk_groups(d1,1) =&gt; 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ight Arrow 9"/>
          <p:cNvSpPr/>
          <p:nvPr/>
        </p:nvSpPr>
        <p:spPr>
          <a:xfrm flipV="1" rot="5400000">
            <a:off x="5029200" y="22860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5"/>
          <p:cNvSpPr/>
          <p:nvPr/>
        </p:nvSpPr>
        <p:spPr>
          <a:xfrm>
            <a:off x="1143000" y="2819520"/>
            <a:ext cx="7543800" cy="106668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ahoma"/>
              </a:rPr>
              <a:t>L</a:t>
            </a:r>
            <a:r>
              <a:rPr b="0" lang="en-US" sz="3200" spc="-1" strike="noStrike" baseline="-25000">
                <a:solidFill>
                  <a:srgbClr val="04617b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4617b"/>
                </a:solidFill>
                <a:latin typeface="Tahoma"/>
              </a:rPr>
              <a:t> weight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Box 7"/>
          <p:cNvSpPr/>
          <p:nvPr/>
        </p:nvSpPr>
        <p:spPr>
          <a:xfrm>
            <a:off x="304920" y="4430880"/>
            <a:ext cx="8534160" cy="19213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ighted cl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3448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lk_groups(d1,0) ^ r_subst_1(d2,H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703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_subst(d1,6,m1) ^ polar(m1,POLAR3) ^ alk_groups(d1,1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ight Arrow 10"/>
          <p:cNvSpPr/>
          <p:nvPr/>
        </p:nvSpPr>
        <p:spPr>
          <a:xfrm flipV="1" rot="5400000">
            <a:off x="1942920" y="2324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ight Arrow 11"/>
          <p:cNvSpPr/>
          <p:nvPr/>
        </p:nvSpPr>
        <p:spPr>
          <a:xfrm flipV="1" rot="5400000">
            <a:off x="4267080" y="38862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Box 8"/>
          <p:cNvSpPr/>
          <p:nvPr/>
        </p:nvSpPr>
        <p:spPr>
          <a:xfrm>
            <a:off x="304920" y="4724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   x_subst(v8719,6,v8774) ^ alk_groups(v8719,1) =&gt; less_toxic(v8719,v872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Slide Number Placeholder 1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8A17-2541-4A24-80AE-B4C58583151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0C8-DD6C-4757-8FA8-B8A40AA2DE5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ataset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8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E51-38C9-4861-930C-E20DC593A0C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914400" y="2590920"/>
          <a:ext cx="7207200" cy="1854000"/>
        </p:xfrm>
        <a:graphic>
          <a:graphicData uri="http://schemas.openxmlformats.org/drawingml/2006/table">
            <a:tbl>
              <a:tblPr/>
              <a:tblGrid>
                <a:gridCol w="2089080"/>
                <a:gridCol w="1571760"/>
                <a:gridCol w="1973160"/>
                <a:gridCol w="157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ata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#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Pos.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#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Web-KB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lattery &amp; Craven, 1998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984" name="Picture 3" descr=""/>
          <p:cNvPicPr/>
          <p:nvPr/>
        </p:nvPicPr>
        <p:blipFill>
          <a:blip r:embed="rId1"/>
          <a:srcRect l="4350" t="5945" r="25834" b="6322"/>
          <a:stretch/>
        </p:blipFill>
        <p:spPr>
          <a:xfrm>
            <a:off x="1371600" y="1562040"/>
            <a:ext cx="2346480" cy="1981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2"/>
          <a:srcRect l="4769" t="5749" r="25815" b="6143"/>
          <a:stretch/>
        </p:blipFill>
        <p:spPr>
          <a:xfrm>
            <a:off x="5691240" y="4676760"/>
            <a:ext cx="1981080" cy="1866960"/>
          </a:xfrm>
          <a:prstGeom prst="rect">
            <a:avLst/>
          </a:prstGeom>
          <a:ln w="0">
            <a:noFill/>
          </a:ln>
        </p:spPr>
      </p:pic>
      <p:cxnSp>
        <p:nvCxnSpPr>
          <p:cNvPr id="986" name="AutoShape 5"/>
          <p:cNvCxnSpPr/>
          <p:nvPr/>
        </p:nvCxnSpPr>
        <p:spPr>
          <a:xfrm>
            <a:off x="3718080" y="2552400"/>
            <a:ext cx="1769040" cy="153000"/>
          </a:xfrm>
          <a:prstGeom prst="straightConnector1">
            <a:avLst/>
          </a:prstGeom>
          <a:ln w="38160">
            <a:solidFill>
              <a:srgbClr val="85dfd0"/>
            </a:solidFill>
            <a:miter/>
            <a:headEnd len="med" type="triangle" w="med"/>
          </a:ln>
        </p:spPr>
      </p:cxnSp>
      <p:cxnSp>
        <p:nvCxnSpPr>
          <p:cNvPr id="987" name="AutoShape 6"/>
          <p:cNvCxnSpPr/>
          <p:nvPr/>
        </p:nvCxnSpPr>
        <p:spPr>
          <a:xfrm flipH="1" flipV="1">
            <a:off x="6667200" y="3809520"/>
            <a:ext cx="15120" cy="86760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  <p:cxnSp>
        <p:nvCxnSpPr>
          <p:cNvPr id="988" name="AutoShape 7"/>
          <p:cNvCxnSpPr/>
          <p:nvPr/>
        </p:nvCxnSpPr>
        <p:spPr>
          <a:xfrm flipH="1" flipV="1">
            <a:off x="3733200" y="5595480"/>
            <a:ext cx="1958040" cy="1512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  <p:pic>
        <p:nvPicPr>
          <p:cNvPr id="989" name="Picture 8" descr=""/>
          <p:cNvPicPr/>
          <p:nvPr/>
        </p:nvPicPr>
        <p:blipFill>
          <a:blip r:embed="rId3"/>
          <a:srcRect l="4315" t="5729" r="25815" b="6448"/>
          <a:stretch/>
        </p:blipFill>
        <p:spPr>
          <a:xfrm>
            <a:off x="1371600" y="4624560"/>
            <a:ext cx="2362320" cy="19429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2" descr="623"/>
          <p:cNvPicPr/>
          <p:nvPr/>
        </p:nvPicPr>
        <p:blipFill>
          <a:blip r:embed="rId4"/>
          <a:stretch/>
        </p:blipFill>
        <p:spPr>
          <a:xfrm>
            <a:off x="5486400" y="1600200"/>
            <a:ext cx="2362320" cy="2209680"/>
          </a:xfrm>
          <a:prstGeom prst="rect">
            <a:avLst/>
          </a:prstGeom>
          <a:ln w="0">
            <a:noFill/>
          </a:ln>
        </p:spPr>
      </p:pic>
      <p:cxnSp>
        <p:nvCxnSpPr>
          <p:cNvPr id="991" name="AutoShape 6"/>
          <p:cNvCxnSpPr/>
          <p:nvPr/>
        </p:nvCxnSpPr>
        <p:spPr>
          <a:xfrm flipH="1" flipV="1">
            <a:off x="2544480" y="3542760"/>
            <a:ext cx="8640" cy="108180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  <p:cxnSp>
        <p:nvCxnSpPr>
          <p:cNvPr id="992" name="AutoShape 7"/>
          <p:cNvCxnSpPr/>
          <p:nvPr/>
        </p:nvCxnSpPr>
        <p:spPr>
          <a:xfrm flipH="1" flipV="1">
            <a:off x="3657240" y="3504960"/>
            <a:ext cx="2057760" cy="121968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ethodology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0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 predictive accuracy over 10 fol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120-4939-447F-956A-EFE43E06FF8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1: Does the proposed approach perform better than existing learning methods for MLNs and traditional ILP method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94" name="Chart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317840"/>
          </a:xfrm>
          <a:prstGeom prst="rect">
            <a:avLst/>
          </a:prstGeom>
          <a:ln w="0">
            <a:noFill/>
          </a:ln>
        </p:spPr>
      </p:pic>
      <p:sp>
        <p:nvSpPr>
          <p:cNvPr id="1695" name="TextBox 4"/>
          <p:cNvSpPr/>
          <p:nvPr/>
        </p:nvSpPr>
        <p:spPr>
          <a:xfrm rot="16200000">
            <a:off x="-64440" y="36244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D419-97F5-4B3B-ADEF-BB6C37F4E7A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2: The effect of 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regulariz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98" name="Chart 8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5207040"/>
          </a:xfrm>
          <a:prstGeom prst="rect">
            <a:avLst/>
          </a:prstGeom>
          <a:ln w="0">
            <a:noFill/>
          </a:ln>
        </p:spPr>
      </p:pic>
      <p:sp>
        <p:nvSpPr>
          <p:cNvPr id="1699" name="TextBox 4"/>
          <p:cNvSpPr/>
          <p:nvPr/>
        </p:nvSpPr>
        <p:spPr>
          <a:xfrm rot="16200000">
            <a:off x="116640" y="32947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of 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A084-BFE2-4FB6-8440-84066554A32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2: The effect of 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regularization (cont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2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1703" name="TextBox 5"/>
          <p:cNvSpPr/>
          <p:nvPr/>
        </p:nvSpPr>
        <p:spPr>
          <a:xfrm rot="16200000">
            <a:off x="-198000" y="34434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Slide Number Placeholder 6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9AA1-956B-4E3A-972B-AA24B20C7F3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685800" y="152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3:The benefit of collective infer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ng a transitive clause with infinite weight to the learned MLN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6" name="Chart 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4064040"/>
          </a:xfrm>
          <a:prstGeom prst="rect">
            <a:avLst/>
          </a:prstGeom>
          <a:ln w="0">
            <a:noFill/>
          </a:ln>
        </p:spPr>
      </p:pic>
      <p:sp>
        <p:nvSpPr>
          <p:cNvPr id="1707" name="TextBox 4"/>
          <p:cNvSpPr/>
          <p:nvPr/>
        </p:nvSpPr>
        <p:spPr>
          <a:xfrm rot="16200000">
            <a:off x="-228960" y="3869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Box 5"/>
          <p:cNvSpPr/>
          <p:nvPr/>
        </p:nvSpPr>
        <p:spPr>
          <a:xfrm>
            <a:off x="1477800" y="1600200"/>
            <a:ext cx="64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Times New Roman"/>
              </a:rPr>
              <a:t>less_toxic(a,b) ^ less_toxic(b,c) =&gt; less_toxic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Slide Number Placeholder 6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4E5-D9C9-4A20-94AD-2FAF469881A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4: The performance of our approach against other “advanced ILP” metho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11" name="Chart 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925040" cy="505476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 rot="16200000">
            <a:off x="-350280" y="354816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68A6-2B6F-4718-BB5F-4EA98DCFF3F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1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757-8B6C-4C3E-98DE-8A020199D3D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riminative learning for MLNs with non-recursive cl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Max-margin weight learning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l of the existing training methods for MLNs learn a model that produce good predictive probabiliti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 many applications, the actual goal is to optimize some application specific performance measures such as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core (harmonic mean of precision and recall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x-margin training methods, especially Structural Support Vector Machines (SVMs), provide the framework to optimize these application specific measur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Training MLNs under the max-margin framework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1A7E-51D4-4DDE-BB2B-A5E2B9649D6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Generic Strutural SVMs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2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0F03-8B63-4392-827D-F8DEBD4B290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612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a discriminant function f: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Predict for a given input x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Can be formulated as a quadratic optimization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3" name="Object 2"/>
              <p:cNvSpPr txBox="1"/>
              <p:nvPr/>
            </p:nvSpPr>
            <p:spPr>
              <a:xfrm>
                <a:off x="2220840" y="4300560"/>
                <a:ext cx="494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Object 2"/>
              <p:cNvSpPr txBox="1"/>
              <p:nvPr/>
            </p:nvSpPr>
            <p:spPr>
              <a:xfrm>
                <a:off x="3197160" y="2209680"/>
                <a:ext cx="2814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Object 4"/>
              <p:cNvSpPr txBox="1"/>
              <p:nvPr/>
            </p:nvSpPr>
            <p:spPr>
              <a:xfrm>
                <a:off x="2795760" y="3162240"/>
                <a:ext cx="3473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Generic Strutural SVMs (cont.)</a:t>
            </a:r>
            <a:r>
              <a:rPr b="0" lang="en-US" sz="4400" spc="-1" strike="noStrike">
                <a:solidFill>
                  <a:srgbClr val="55a839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2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3CD-098D-4254-A48E-1A88FFB701A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Joachims et.al., 2009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the 1-slack formulation of the Structural SV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the original cutting-plane algorithm </a:t>
            </a: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run faster and more scal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9" name="Object 2"/>
              <p:cNvSpPr txBox="1"/>
              <p:nvPr/>
            </p:nvSpPr>
            <p:spPr>
              <a:xfrm>
                <a:off x="254160" y="2590920"/>
                <a:ext cx="8794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C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0" name="Oval 5"/>
          <p:cNvSpPr/>
          <p:nvPr/>
        </p:nvSpPr>
        <p:spPr>
          <a:xfrm>
            <a:off x="2085840" y="2819520"/>
            <a:ext cx="38124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"/>
          <p:cNvSpPr/>
          <p:nvPr/>
        </p:nvSpPr>
        <p:spPr>
          <a:xfrm>
            <a:off x="1066680" y="3429000"/>
            <a:ext cx="1295640" cy="76212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7"/>
          <p:cNvSpPr/>
          <p:nvPr/>
        </p:nvSpPr>
        <p:spPr>
          <a:xfrm>
            <a:off x="8721720" y="3657600"/>
            <a:ext cx="38088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Characteristics of these structured data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B50-7778-4589-9338-781401EA9C0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ins multiple objects/entities and relationships among the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 lot of uncertainties in the data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certainty about the attributes of an obj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certainty about the type of an obj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certainty about relationships between obje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structural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36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7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8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D0F-C2D4-4048-A695-9B7134E01A7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43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4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FEF-DCD4-4CED-ACBB-0D6EA3EF2F6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0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1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809-B693-4F06-81D0-7E1DAD48595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7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8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9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6E29-F426-496C-886D-95696FF4EFE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Applying the generic structural SVMs to a new problem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6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0D82-A795-4A22-A2D8-CDFC68EEA0F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a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 func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lgorithms to comput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dic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violated constraint: separation oracl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r 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ss-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gmented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.al.,2005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4" name="Object 2"/>
              <p:cNvSpPr txBox="1"/>
              <p:nvPr/>
            </p:nvSpPr>
            <p:spPr>
              <a:xfrm>
                <a:off x="1400040" y="3736800"/>
                <a:ext cx="3476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Object 5"/>
              <p:cNvSpPr txBox="1"/>
              <p:nvPr/>
            </p:nvSpPr>
            <p:spPr>
              <a:xfrm>
                <a:off x="2112840" y="5640480"/>
                <a:ext cx="42879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8"/>
          <p:cNvSpPr/>
          <p:nvPr/>
        </p:nvSpPr>
        <p:spPr>
          <a:xfrm>
            <a:off x="32241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9"/>
          <p:cNvSpPr/>
          <p:nvPr/>
        </p:nvSpPr>
        <p:spPr>
          <a:xfrm>
            <a:off x="52689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8" name="Object 5"/>
              <p:cNvSpPr txBox="1"/>
              <p:nvPr/>
            </p:nvSpPr>
            <p:spPr>
              <a:xfrm>
                <a:off x="1432080" y="4267080"/>
                <a:ext cx="4740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lim>
                        </m:limLow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9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rati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quivalent to 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formulated as a 1-slack Structural SV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Max-margin Markov Logic Networks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7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A689-FB14-46D9-AB29-7CF13899789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2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3" name="Object 3"/>
              <p:cNvSpPr txBox="1"/>
              <p:nvPr/>
            </p:nvSpPr>
            <p:spPr>
              <a:xfrm>
                <a:off x="2755800" y="2108160"/>
                <a:ext cx="35830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4" name="Object 4"/>
              <p:cNvSpPr txBox="1"/>
              <p:nvPr/>
            </p:nvSpPr>
            <p:spPr>
              <a:xfrm>
                <a:off x="3048120" y="3200400"/>
                <a:ext cx="3062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5" name="Flowchart: Process 10"/>
          <p:cNvSpPr/>
          <p:nvPr/>
        </p:nvSpPr>
        <p:spPr>
          <a:xfrm>
            <a:off x="6386400" y="4785120"/>
            <a:ext cx="2590920" cy="488160"/>
          </a:xfrm>
          <a:prstGeom prst="flowChartProcess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Joint feature: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Content Placeholder 3"/>
          <p:cNvSpPr/>
          <p:nvPr/>
        </p:nvSpPr>
        <p:spPr>
          <a:xfrm>
            <a:off x="612720" y="1430280"/>
            <a:ext cx="81532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-augmented 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Problem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MPE inference in MLNs are intract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c00"/>
                </a:solidFill>
                <a:latin typeface="Tw Cen MT"/>
              </a:rPr>
              <a:t>Solution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ion inference via relaxation methods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Finley et.al.,200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blems need to be solve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7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97D-247D-49CD-BE0B-DFA1CFB0E19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9" name="Object 2"/>
              <p:cNvSpPr txBox="1"/>
              <p:nvPr/>
            </p:nvSpPr>
            <p:spPr>
              <a:xfrm>
                <a:off x="2384280" y="3200400"/>
                <a:ext cx="416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Object 3"/>
              <p:cNvSpPr txBox="1"/>
              <p:nvPr/>
            </p:nvSpPr>
            <p:spPr>
              <a:xfrm>
                <a:off x="2406600" y="2006640"/>
                <a:ext cx="32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Relaxation MPE inference for MLN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8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D44-2DAC-4E5C-9370-F6DFD2D84FF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work on approximating the Weighted MAX-SAT via Linear Programming (LP) relaxatio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Goemans and Williamson, 1994], [Asano and Williamson, 2002], [Asano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vert the problem into an Integer Linear Programming (ILP) proble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lax the integer constraints to linear constrain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 the LP solution by some randomized procedur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Assume the weights are finite and positiv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8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BA85-B6A0-422A-B67D-719DBD4E336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late the MPE inference in a ground MLN into an ILP proble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rt all the ground clauses into clausal for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ign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unknown ground atom and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non-deterministic ground clau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late each ground clause into linear constraints of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 and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20"/>
          <p:cNvSpPr/>
          <p:nvPr/>
        </p:nvSpPr>
        <p:spPr>
          <a:xfrm>
            <a:off x="6705720" y="5562720"/>
            <a:ext cx="1447560" cy="304560"/>
          </a:xfrm>
          <a:prstGeom prst="rect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18"/>
          <p:cNvSpPr/>
          <p:nvPr/>
        </p:nvSpPr>
        <p:spPr>
          <a:xfrm>
            <a:off x="152280" y="4267080"/>
            <a:ext cx="5486400" cy="1067040"/>
          </a:xfrm>
          <a:prstGeom prst="rect">
            <a:avLst/>
          </a:prstGeom>
          <a:solidFill>
            <a:srgbClr val="ff9933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19"/>
          <p:cNvSpPr/>
          <p:nvPr/>
        </p:nvSpPr>
        <p:spPr>
          <a:xfrm>
            <a:off x="6705720" y="4267080"/>
            <a:ext cx="2209680" cy="1219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15"/>
          <p:cNvSpPr/>
          <p:nvPr/>
        </p:nvSpPr>
        <p:spPr>
          <a:xfrm>
            <a:off x="141120" y="3400560"/>
            <a:ext cx="541044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16"/>
          <p:cNvSpPr/>
          <p:nvPr/>
        </p:nvSpPr>
        <p:spPr>
          <a:xfrm>
            <a:off x="6705720" y="3429000"/>
            <a:ext cx="1218960" cy="7621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17"/>
          <p:cNvSpPr/>
          <p:nvPr/>
        </p:nvSpPr>
        <p:spPr>
          <a:xfrm>
            <a:off x="8129520" y="2479680"/>
            <a:ext cx="30492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11"/>
          <p:cNvSpPr/>
          <p:nvPr/>
        </p:nvSpPr>
        <p:spPr>
          <a:xfrm>
            <a:off x="152280" y="3065400"/>
            <a:ext cx="563904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12"/>
          <p:cNvSpPr/>
          <p:nvPr/>
        </p:nvSpPr>
        <p:spPr>
          <a:xfrm>
            <a:off x="6705720" y="3048120"/>
            <a:ext cx="129528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14"/>
          <p:cNvSpPr/>
          <p:nvPr/>
        </p:nvSpPr>
        <p:spPr>
          <a:xfrm>
            <a:off x="7326360" y="2490840"/>
            <a:ext cx="53352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8"/>
          <p:cNvSpPr/>
          <p:nvPr/>
        </p:nvSpPr>
        <p:spPr>
          <a:xfrm>
            <a:off x="152280" y="2514600"/>
            <a:ext cx="274320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10"/>
          <p:cNvSpPr/>
          <p:nvPr/>
        </p:nvSpPr>
        <p:spPr>
          <a:xfrm>
            <a:off x="6705720" y="2490840"/>
            <a:ext cx="38088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9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EDB2-7DAD-4888-B711-1EE2D772E13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7"/>
          <p:cNvSpPr/>
          <p:nvPr/>
        </p:nvSpPr>
        <p:spPr>
          <a:xfrm>
            <a:off x="2040840" y="1963800"/>
            <a:ext cx="1864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M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9"/>
          <p:cNvSpPr/>
          <p:nvPr/>
        </p:nvSpPr>
        <p:spPr>
          <a:xfrm>
            <a:off x="5977440" y="1957320"/>
            <a:ext cx="3097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d IL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Box 6"/>
          <p:cNvSpPr/>
          <p:nvPr/>
        </p:nvSpPr>
        <p:spPr>
          <a:xfrm>
            <a:off x="88920" y="2438280"/>
            <a:ext cx="5778360" cy="35053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InField(B1,Fauthor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InField(B1,Fauthor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InField(B1,Ftitle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titl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title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Object 2"/>
              <p:cNvSpPr txBox="1"/>
              <p:nvPr/>
            </p:nvSpPr>
            <p:spPr>
              <a:xfrm>
                <a:off x="6183360" y="2435400"/>
                <a:ext cx="2797200" cy="34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lim>
                        </m:limLow>
                        <m:r>
                          <m:t xml:space="preserve">3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4617b"/>
                </a:solidFill>
                <a:latin typeface="Tw Cen MT"/>
              </a:rPr>
              <a:t>Statistical Relational Learning (SRL)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EEE-4A0F-4CBD-B78E-1C25407920E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RL attempts to integrate methods from first-order logic and probabilistic graphical models to handle such noisy structured/relational dat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me proposed SRL mode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ochastic Logic Programs (S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Muggleton, 199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babilistic Relational Models (PRM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Friedman et al., 199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yesian Logic Programs (B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ersting &amp; De Raedt,  2001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lational Markov networks (RMN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 al., 2002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rkov Logic Networks (MLN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2A08-869F-4857-91E8-9BB73919F25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P-relaxation: relax the integer constraints {0,1} to linear constraints [0,1]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apt the ROUNDUP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Boros and Hammer, 2002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rocedure to round the solution of the LP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ick a non-integral component and round it in each ste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Loss-augmented LP-relaxation MPE inference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C5D-9D5F-4A19-9304-9CFC775763F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 the loss function as a linear function of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’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the loss term to the objective of the LP-relaxation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blem is still a LP problem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an be solved by the previous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0" name="Object 2"/>
              <p:cNvSpPr txBox="1"/>
              <p:nvPr/>
            </p:nvSpPr>
            <p:spPr>
              <a:xfrm>
                <a:off x="2235240" y="2687760"/>
                <a:ext cx="4699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mmming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7EB9-3A87-4FB1-9367-9968D86673C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Collective multi-label webpage classification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1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7699-8CC3-4A08-A85E-199274DDD43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KB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lattery and Craven, 1998] [Lowd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,165 web pages and 10,935 web links of 4 depart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page is labeled with a subset of 7 categorie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ourse, Department, Faculty, Person, Professor, Research Project, Stu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L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owd and Domingos, 2007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6" name="TextBox 4"/>
          <p:cNvSpPr/>
          <p:nvPr/>
        </p:nvSpPr>
        <p:spPr>
          <a:xfrm>
            <a:off x="1120320" y="5337000"/>
            <a:ext cx="7326720" cy="1280520"/>
          </a:xfrm>
          <a:prstGeom prst="rect">
            <a:avLst/>
          </a:prstGeom>
          <a:noFill/>
          <a:ln w="93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Class(+c1,p1) ^ Linked(p1,p2) =&gt; PageClass(+c2,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Collective multi-label webpage classification (cont.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1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F71-C531-4C5C-819A-388D1C59E52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depar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8,876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74,594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itation segment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2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930E-3EC6-41F6-9774-C7CA8675B88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teseer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awrence et.al., 1999]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,563 citations, divided into 4 research top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citation is segmented into 3 field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or, Title, Ven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simplest MLN in 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top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7,692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31,573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co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gainst th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econditioned Scaled Conjugate Gradient (PSCG) algorith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in with 5 different values of C: 1, 10, 100, 1000, 10000 and test with the one that performs best on trai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Mosek to solve the QP and LP proble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8CA6-6C22-45D3-A43C-FD48B9FFADA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2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2B4C-4741-4B28-8515-DF002B36634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Chart 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3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D49A-90A6-41B1-B9C5-5E492AE8BAE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1" name="Chart 6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Citeseer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3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88B-5A10-4246-9736-982621C8685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4" name="Chart 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4617b"/>
                </a:solidFill>
                <a:latin typeface="Tw Cen MT"/>
              </a:rPr>
              <a:t>Statistical Relational Learning (SRL)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0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531-AA80-4502-AD51-04598ECC679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RL attempts to integrate methods from first-order logic and probabilistic graphical models to handle such noisy structured/relational dat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me proposed SRL mode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ochastic Logic Programs (S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Muggleton, 199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babilistic Relational Models (PRM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Friedman et al., 199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yesian Logic Programs (B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ersting &amp; De Raedt,  2001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lational Markov networks (RMN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 al., 2002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Markov Logic Networks (MLNs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Sensitivity to the tuning parameter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3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12E-03C9-4C05-982C-529F591DC05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7" name="Chart 6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14800" cy="3784680"/>
          </a:xfrm>
          <a:prstGeom prst="rect">
            <a:avLst/>
          </a:prstGeom>
          <a:ln w="0">
            <a:noFill/>
          </a:ln>
        </p:spPr>
      </p:pic>
      <p:pic>
        <p:nvPicPr>
          <p:cNvPr id="1838" name="Chart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14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E58D-0F76-46F1-BE4F-E9B6B43A4BC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riminative learning for MLNs with non-recursive cl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weight learning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re efficient MPE inference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327-C4D9-49E1-89E0-FE39FC8EC09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al: Don’t need to ground the whole ground ML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rrent solu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zy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ingla &amp; Domingos, 2006]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loits the sparsity of the doma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PI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edel, 2008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exploits redundancies in the ground networ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fted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ingla &amp; Domingos, 2008; Kersting et al., 2009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exploits symmetries in the ground networ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allenge: combining the advantages of these algorithms to have a more efficient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ore efficient weight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07D-C5E9-4E7F-98D4-9F1B0F10DC3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pproach: online max-margin weight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gradient method </a:t>
            </a:r>
            <a:r>
              <a:rPr b="0" lang="en-US" sz="1700" spc="-1" strike="noStrike">
                <a:solidFill>
                  <a:srgbClr val="55a839"/>
                </a:solidFill>
                <a:latin typeface="Tw Cen MT"/>
              </a:rPr>
              <a:t>[Nathan Ratliff &amp; Zinkevich, 2007]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vert the problem into an unconstrained optimiz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the LP-relaxation MPE inference algorithm to compute the subgrad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ssive-aggressive algorithms </a:t>
            </a:r>
            <a:r>
              <a:rPr b="0" lang="en-US" sz="1700" spc="-1" strike="noStrike">
                <a:solidFill>
                  <a:srgbClr val="55a839"/>
                </a:solidFill>
                <a:latin typeface="Tw Cen MT"/>
              </a:rPr>
              <a:t>[Crammer et.al., 2006]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k-best MIRA algorithm </a:t>
            </a:r>
            <a:r>
              <a:rPr b="0" lang="en-US" sz="1700" spc="-1" strike="noStrike">
                <a:solidFill>
                  <a:srgbClr val="55a839"/>
                </a:solidFill>
                <a:latin typeface="Tw Cen MT"/>
              </a:rPr>
              <a:t>[Crammer et.al., 2005]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blem need to solve: find the k-best MP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iscriminative structure re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5310-B452-4FA0-ACED-01F7294203A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oal: revise bad clauses in the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oblems need to solv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tect bad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lauses whose weights are near zero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agnose bad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Use techniques in </a:t>
            </a:r>
            <a:r>
              <a:rPr b="0" lang="fi-FI" sz="2100" spc="-1" strike="noStrike">
                <a:solidFill>
                  <a:srgbClr val="000000"/>
                </a:solidFill>
                <a:latin typeface="Tw Cen MT"/>
              </a:rPr>
              <a:t>RTAMAR </a:t>
            </a:r>
            <a:r>
              <a:rPr b="0" lang="fi-FI" sz="1800" spc="-1" strike="noStrike">
                <a:solidFill>
                  <a:srgbClr val="55a839"/>
                </a:solidFill>
                <a:latin typeface="Tw Cen MT"/>
              </a:rPr>
              <a:t>[Mihalkova et al., 2007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w Cen MT"/>
              </a:rPr>
              <a:t>Revise bad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Tw Cen MT"/>
              </a:rPr>
              <a:t>Use top-down beam search or stochastic local search </a:t>
            </a:r>
            <a:r>
              <a:rPr b="0" lang="fi-FI" sz="1800" spc="-1" strike="noStrike">
                <a:solidFill>
                  <a:srgbClr val="55a839"/>
                </a:solidFill>
                <a:latin typeface="Tw Cen MT"/>
              </a:rPr>
              <a:t>[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Paes et al., 2007]</a:t>
            </a:r>
            <a:r>
              <a:rPr b="0" lang="en-US" sz="1600" spc="-1" strike="noStrike">
                <a:solidFill>
                  <a:srgbClr val="55a839"/>
                </a:solidFill>
                <a:latin typeface="Tw Cen MT"/>
              </a:rPr>
              <a:t> </a:t>
            </a:r>
            <a:r>
              <a:rPr b="0" lang="fi-FI" sz="2100" spc="-1" strike="noStrike">
                <a:solidFill>
                  <a:srgbClr val="000000"/>
                </a:solidFill>
                <a:latin typeface="Tw Cen MT"/>
              </a:rPr>
              <a:t>or bottom-up approach </a:t>
            </a:r>
            <a:r>
              <a:rPr b="0" lang="fi-FI" sz="1800" spc="-1" strike="noStrike">
                <a:solidFill>
                  <a:srgbClr val="55a839"/>
                </a:solidFill>
                <a:latin typeface="Tw Cen MT"/>
              </a:rPr>
              <a:t>[Duboc et al., 2008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core candidate clauses in an efficient 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line structure learning and revi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Joint learning in NL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4DE-F981-4B78-A4AB-1C4EF6BE414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Jointly recognizing entities and relations in sentences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Roth &amp; Yih, 200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struct an MLN with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uses that express the correlation between lexical and syntactical information and entity typ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uses that express the correlation between lexical and syntactical information and relation typ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uses that express the relationships among entities, among relations, and between entities and relation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llenge: learning weights and do inference with this complicated ML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4605-2E17-452F-A857-29DA4653568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Picture 3" descr="Y:\for_Barry\alipr\polo\00540.jpg"/>
          <p:cNvPicPr/>
          <p:nvPr/>
        </p:nvPicPr>
        <p:blipFill>
          <a:blip r:embed="rId1"/>
          <a:stretch/>
        </p:blipFill>
        <p:spPr>
          <a:xfrm>
            <a:off x="504720" y="1828800"/>
            <a:ext cx="2695680" cy="2228760"/>
          </a:xfrm>
          <a:prstGeom prst="rect">
            <a:avLst/>
          </a:prstGeom>
          <a:ln w="0">
            <a:noFill/>
          </a:ln>
        </p:spPr>
      </p:pic>
      <p:sp>
        <p:nvSpPr>
          <p:cNvPr id="1856" name="Rectangle 39"/>
          <p:cNvSpPr/>
          <p:nvPr/>
        </p:nvSpPr>
        <p:spPr>
          <a:xfrm>
            <a:off x="461520" y="17524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Arial"/>
              </a:rPr>
              <a:t>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41"/>
          <p:cNvSpPr/>
          <p:nvPr/>
        </p:nvSpPr>
        <p:spPr>
          <a:xfrm>
            <a:off x="694080" y="3189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Box 43"/>
          <p:cNvSpPr/>
          <p:nvPr/>
        </p:nvSpPr>
        <p:spPr>
          <a:xfrm>
            <a:off x="1805400" y="28749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Box 44"/>
          <p:cNvSpPr/>
          <p:nvPr/>
        </p:nvSpPr>
        <p:spPr>
          <a:xfrm>
            <a:off x="1447920" y="213372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Arial"/>
              </a:rPr>
              <a:t>Ath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98"/>
          <p:cNvSpPr/>
          <p:nvPr/>
        </p:nvSpPr>
        <p:spPr>
          <a:xfrm>
            <a:off x="2437920" y="19810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Arial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Box 67"/>
          <p:cNvSpPr/>
          <p:nvPr/>
        </p:nvSpPr>
        <p:spPr>
          <a:xfrm>
            <a:off x="1042560" y="4038480"/>
            <a:ext cx="16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las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Joint learning in computer vis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3352680" y="1599840"/>
            <a:ext cx="5407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blem: recognize both the objects and the scene of an im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pproach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MLNs to combine the outputs of scene and object classifi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arn an MLN that can detect both the objects and the sce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4" name="Rectangle 67"/>
          <p:cNvSpPr/>
          <p:nvPr/>
        </p:nvSpPr>
        <p:spPr>
          <a:xfrm>
            <a:off x="737280" y="45720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Times New Roman"/>
              </a:rPr>
              <a:t>[Li &amp; Fei-Fei 07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6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8AC8-1394-4425-BB59-7104E2BEEBB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have presented two different discriminative learning methods for ML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criminative structure and weight learning method for MLNs with non-recursive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x-margin weight learn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propos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velop more effective inference and weight learning metho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vise the clauses to improve the predictive accur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ly the system to joint learning problems in NLP and computer vi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Thank you!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6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E2C9-2EFE-46A0-9681-872FA795216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Discriminative learning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enerativ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learning: learn a joint model over all variab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iscriminativ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learning: learn a conditional model of the output variables given the input variab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rectly learn a model for predicting the output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better predictive performance on the outputs in gene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problems in structured/relational data are discriminative: make predictions based on some evidence (observable data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Discriminative learning is more suitab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933-118F-4CEC-8549-3288707A3B1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Box 5"/>
          <p:cNvSpPr/>
          <p:nvPr/>
        </p:nvSpPr>
        <p:spPr>
          <a:xfrm>
            <a:off x="1398600" y="2438280"/>
            <a:ext cx="645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Discriminative Learning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Markov Logic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8EEC-EDB3-48B8-9DEB-69DDD6C75ED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09-12-16T17:04:57Z</dcterms:modified>
  <cp:revision>867</cp:revision>
  <dc:subject/>
  <dc:title>Discriminative Structure and Parameter Learning for Markov Logic Networks</dc:title>
</cp:coreProperties>
</file>