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E851-0CA2-4A11-8CB2-590F945DE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2076-9673-4B3D-AA08-655F08269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20B6-5BD6-4235-B90E-33D656EA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8DE1-4366-4533-B076-36E8C8D2A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D45B-5B8F-4A09-89FD-48C820AF7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FCD-B5E6-47FA-8B70-0DB25692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340F-C388-4579-8CEA-91F0ECF4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294A-0A38-420E-9BE1-02D1C88B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3927C-ED5F-486B-B375-CFB2FD8A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FF2562-9A5B-4293-BF02-BDC31FCD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5203B8-C1FB-49C4-B60B-BF18FA53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9F39B7-4AA6-46D4-9DA1-9A99D0BC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D011E-13DF-438D-9D42-EF00A13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CBE335-A8A0-4B1B-B60E-1F51560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03A75F-2FC1-4CC5-9B91-DA5CC05C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CC6E74-B133-4720-8B32-E7A6F718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187A89-F58D-4635-AE54-07E74F27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5ACD94-736E-43E5-A7D9-D51B7192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C283-04DB-4947-A661-E2AA0A25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B80542-CCC7-4085-B3E1-59CCF195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C30D29-0599-4642-BCFA-4B1BCFD7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6D6C70-00A6-432B-8426-2FAEF807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3D9630-D9F3-42F8-B418-620523C2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34D2D8-D8C7-4E99-9F65-265298C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EAB747-2D98-4C60-ABE3-B9C74E54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8C2825-906B-4714-842D-2640DA49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CEB3DB-CA14-46E2-A9D0-2E55BBAA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4D021E-CCEA-4C90-81D9-068DE78A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F3676-8A27-48B4-9F3E-2D1D7B25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0265-38FD-43A6-B41A-AB3E1D87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F41410-621F-478E-852A-3FCAC603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4B29C5-58A6-41C6-941F-C88742BA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FBDE50-E89D-4DF2-BD06-DBA12636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0B657B-E2FA-461F-A429-FB43813D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354B5F-5E56-41BE-9EBF-5EB58986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E7CDE2-5059-449F-B435-AB60DB3A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C37FAF-85BE-47DC-B0ED-9A919BC6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55CE96-CA14-4EF3-BECF-713D7C6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19AC73-A56A-475C-858F-22791FC0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76F2B0-F7E2-4107-843E-260A35BE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791AA-E7A0-46A3-BBEF-13D05FA8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F85DAF-EB6E-4AE9-BF4E-99B9371D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5A7DCC-BC6C-4651-9716-39A6CA03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4FD51B-C9C1-4F70-BD8A-2234F1D7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C3DAB6-709B-4943-938F-653F87E1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2D4118-C30D-4912-A58D-213BC458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1EABF0-B88B-4A70-8F08-75F8930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606F17-B4DA-4F60-8A45-07A2E435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455FB1-62DC-48E7-910C-BBCF627A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82E6C5-1305-4109-8BAF-C17A1519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E1BA47-EF49-49E4-A650-6C2206D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0B34E-05F6-4789-BF32-61082F11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9B4B81-3289-4F77-A2DA-94340470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77DE1A-1A9A-41B8-A981-B8F1E629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AB0308-FDCA-448E-9454-E0013D53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F0ADDE-D4E2-4831-A5B9-A659E7E8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4F6106-B0B6-4762-A106-2C3B88E4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544E5-B2AC-406F-90F1-E3FFD13C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85BF9-D603-4F25-8FF2-C928D344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D30E4-FC16-47FA-BB9D-C3E92E3A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CBAE0-7032-4F76-8CC8-154501A0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4C742-237E-4647-8A04-02DE28C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3977-E8FC-4451-AB18-F3AF89D3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57C83-A5E5-4968-8C55-A509AE7F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CAB00-C2F7-4FE3-A80C-999889E6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AD40A-F749-4FA3-859E-619D2471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8A967-6C92-4BEE-84E1-1CEC71F0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8905D-16F3-49FA-A8FC-7D10E8F5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1D5EA-51A3-4A67-876D-3A926E21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76BD2-76C9-4142-A5B4-60F9B2B4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A2228-CC68-4571-BA4A-98E0C461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5684D-ABFF-4629-86A0-C4D15A2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02631-0BA5-4711-87C2-8199847B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8352-B48D-4442-B40F-8B2A577A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FBD5D-A810-4610-80DA-A8B795B9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81475-58A6-4ED8-82A8-198ECE9D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23D6D-5B6D-4D08-AAEF-FA0307A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CB280-C405-44A2-B751-4DA440B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B343A-CE14-42A0-B113-FA5981AB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6A1DD-A91D-439B-BD73-1977E9D4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22BA3-310F-4E78-802F-46FEF49B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40B5B-E501-4449-BDE4-89AD403C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076AE-F830-46F5-8400-0C280031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0B881-5FE9-4ED8-99E8-1A7102C1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4806-61AC-44A0-9DF6-C9240997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72708-60BB-402E-B512-BC57C55C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9C3A4-9957-4388-98B7-37560F15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15F6F-0A8A-450C-9A54-0D2A8156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56359-A469-477C-9BD8-C3F0A17D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7DB44-A817-47EC-AB9A-DF5485E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A8305-E259-42B0-A427-52C50F1C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DF5E1-635E-4800-B2B1-6D50553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80E52-5025-42BF-801E-A72F86E3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8D9E7-0815-4F20-9C35-D71F9331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0142F-9F4E-496D-9585-60986FF7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EB65-3B11-4B6A-9638-649996CC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6CC6E-A6EA-4BAB-8DEB-522D2E6C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C5BEC-5A74-4A90-9608-5ACB8056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6B027-ECEB-4C97-98AF-51145B7B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99419-8CCA-43E2-A528-1C5C3FC9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A0EA1-BB38-4B4A-86BB-D7AA3F05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C2A3D-A14E-4E1A-851D-C8D1B22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6BEC5-9440-4603-9686-64D741F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A3B3D-CF92-4FC2-8474-C44C000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B93B3-51DD-49F1-A32E-B840F032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1512D-7EF0-4B33-A029-CD90C867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72FB-DC83-4781-ABD7-C2AD6B56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DEF1B-1C86-4546-AAA2-555B038A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62985-E994-4C3C-A347-3C175815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C2854-8EF7-4E9C-8FA2-A4CC9D4C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C0BD5-5A4C-459B-854B-6762834C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EB823-1BD6-4F23-ADC0-8F097A16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67682-2AF5-4350-8631-78F2B3F5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E7B0E-6772-4C6C-BB03-A84A14D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84323-693D-413F-AE58-77A3FB35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389E0-B9E7-4185-8AD7-DE7AF49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C62DE-D0C7-40A4-82A5-40A834E7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0D0F-04D8-4FC7-9FC7-833B554C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C7953-8948-4DE9-AA04-8E3B17D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D2575-7A0A-4F6D-9DA9-E1B3202F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CE4AE-41DE-4973-A30A-54CFB06C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CE5A2-3BD6-4EE7-AF4F-6E4002DA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05358-F054-4A37-B369-0FD15C51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E6692-C751-476F-99BF-8CACA5D1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07B09-E45B-40CA-9B8C-2D694111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DE02A-CFC0-41BA-875F-3D6845FB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4A9E2-D975-4D10-9213-5E6A8E35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88CB3-3775-46AD-981D-8846EA9F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C0E5-B189-423B-AA08-D7B1475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50192-1614-43C7-86C2-27AA93A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C5A21-0BE5-478B-AD94-95120A95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B5DC7-51BF-4C73-B2F8-7F62C6B8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36E5C-F706-4D10-B98A-671C6DA9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540D2-3C5C-4090-9080-7BE70D05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28D12-55FA-4C0F-AB03-0FE46083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3FA477-3FD8-4CAD-915F-9615F17D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C676FB-05D3-4A11-B0EC-23D911DE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2FDD7F-2F73-421E-A381-C5913BE8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E41CF-456D-43E8-9A10-865C77A3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511D-612B-47E0-AD2B-9542959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C7D036-57E8-4AA6-9DDC-A06E8982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CEBA80-98D7-4179-A0BE-57A0ACE9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2AA57-CE85-47B2-9FF5-3874777F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4CBF73-4642-4F03-B252-F1171A6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236C89-3C73-4895-AB95-B0A9CC7E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EE2227-E3FF-44E8-A816-B02660A3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1135B0-C624-460E-9892-6D6691C4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3486C-196A-44FA-9F42-11ED3724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73BF54-0051-412D-9074-F4E3B21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E86F18-84B8-412F-BE8B-B8839BAF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0A61-BA23-4660-B683-6AEE119A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0C56-B5B3-428F-88B8-1B1E31E2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C317-DD9F-4F63-A075-4A1B37EF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6D40-F192-428D-B2DE-B563DCF7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7BF3-CD8B-4615-8AC2-74898B17E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EE67-693D-4CB5-B2B3-4F523345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1D6A-6EAB-40B7-A99F-9276A6C4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3BE4-853A-43A1-A822-27AC97F4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57B-4122-4217-8EEF-6B440F736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F115-CD15-4C24-9A84-42D6AAEB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F1BF-25B3-43B4-8096-7AD7A039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4D04-2690-4475-8E1C-4C6E49EF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6772-A2FC-471C-B0B3-B6737D78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S 178H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omputer Science Re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italy Shmatiko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E971-5F4D-4288-B23F-4DB07CE8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urse Goa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undergraduate students for eventually doing an honors 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art planning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earn about areas of CS in which you might wor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a (tentative) area in which you are interested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lan your course schedule so you take the necessary courses in time to start research in your junior year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ussion Top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an honors thesi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research and what is an honors thesi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reading of research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ad to an honors th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e of academia and research profess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739A-9F44-49FA-B662-E82F3D57D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uest Lectu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professors summarize their research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el of existing honors students present their persp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99B3-D4FB-43C5-B8A8-FC833F416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partment Research Are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hoice is to pick an area of computer sc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represented by research faculty in the depar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department research web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7C91-9A6B-44DE-A477-89FCA1044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1-25T15:30:16Z</dcterms:modified>
  <cp:revision>52</cp:revision>
  <dc:subject/>
  <dc:title>Intelligent Information Retrieval and Web Search</dc:title>
</cp:coreProperties>
</file>