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FE7-E006-4461-B8E9-1CB0EE18A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446D-BD2F-4486-97A3-9B909AD0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440-454A-4875-93A2-F6534292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A08-9EB2-411C-A481-15FD407E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2B8-56C3-42BA-9644-022A7F92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06C4-9DDC-4C9C-9D33-CF62ADACC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3B29-2A22-4850-9FEE-4D0E73A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3EF0-A634-49BC-B2E1-2E7339D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B4C91-DF2C-4C7F-9810-19A37DD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8102A-65E9-4BE4-9618-272A5FE8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D012EA-4D54-4B22-B06A-390B0A7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56A8D-8D45-4F5B-9B37-0CBD11E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4649E-2864-4011-9CFC-5EA3545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B6627-A691-4086-AD4A-8D9E96B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17917-770C-4E56-A6D3-A46D6802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92E63-0EBB-4122-B681-D3A766BE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89670-D7ED-4874-8178-022392ED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411E5D-F725-4FF5-B9C0-0A7486A4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4464-7125-483E-9497-0C69D400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614CC4-6920-434A-AF04-EFBE53E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6E41F-5FD7-4592-830D-033A93A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EC8FC8-0CFF-473A-9114-B4C2FB6A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0A58F-1B5A-4685-8F18-76187A9D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82F938-FF7C-426C-8CE0-0EDFDC8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78047-F31C-4163-A5D8-54D229F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2B478-ACAA-44A3-B5C5-81C1677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7E7C3-26B8-4389-9B43-3C1DDAB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6F3F5A-C35F-406F-B363-F30245A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734417-0AAE-45BF-8360-0ECCFD58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8970-7CF5-4884-8799-FC830588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BD597-9EFF-4900-A9AB-A858B194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A28DA8-0358-4A34-9698-053B0EBB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147073-F940-4DD7-A3DA-98AD948D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77BCF-5397-42FF-9703-626C47A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7E76C-7204-4C80-89DA-EC47409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6352E6-1C9D-4102-AE77-A750FE5B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17C3FD-6829-45EB-88FB-963E67F7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1BFA8-4582-47BD-A623-E6214AA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57D1F1-59F1-46C6-99EC-66A856E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D0DCB-ACA3-4320-A95E-77D0771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31B1-0007-4DC8-B8B2-3CA2E64D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BC38AE-0D4A-4B68-885D-32D5FAF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0AF59D-5377-4CC6-ADB1-42C3E1A2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1BA0FA-9B5C-4C04-B28B-C5FB806D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8604F-CC2E-4AA9-8F12-B0D5305B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2E2F90-A3D2-4B2A-8FB5-623A4D55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6E33C0-CA41-4412-A754-5CCCC211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D18336-230F-4E23-8701-136D7A6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54CAD1-9CBE-435E-9A3A-59D4EC3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A84761-17AA-4B7B-B7C1-D8F0E5B8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54EE08-DD8A-4145-900F-42B5FB9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6C3CD-5337-4E36-9444-275C532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5721A7-65B0-405D-A41B-DE3FF93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4F373F-34ED-4854-A393-28D4D17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C0789B-6E8A-4AEF-BC32-12C99CE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18B189-E504-4DA6-A121-C167C141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B4E857-652F-43A2-9E12-FC27B090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7B581-49AE-4FF0-9FF0-EFFF1E96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8172-35EA-4BE3-9AA8-50264E8F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56323-488E-44D1-B459-333776F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3784-1AFA-44E4-B4E1-35C4FFCA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1171E-031F-4AB0-978E-461E1D2A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8FDD-F6F7-4432-833D-013968C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D99A7-55AB-40B9-BE1C-2C0F411F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103B5-2E79-43E1-A8D8-B4F93A5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B8DA7-D3A7-405D-89A4-B6E4011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AD85F-4F1F-4BD9-8F88-FCAE7478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DCE9B-EF9C-4D0C-89B5-0B857A10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05BA6-899E-4A83-97AE-97A576C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0A84F-BFFC-4D13-B853-8784DDAF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3AAE9-BCF9-45AA-B7A4-EA394FDB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11905-CE9B-4E17-8021-16129C7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6B84B-FCDD-43CA-A539-86969E9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2C55-1ABE-4397-9F66-8C02DE7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13F4F-7D14-4673-A2CC-8F8B88A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F4613-EEA3-4A78-8DB6-EEEEE90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C43A9-06D0-4789-9ADA-8F26F0F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141F8-20E8-4DB6-A882-4CBAB07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5E008-8A2A-4248-873E-41B60869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52F07-4785-4B7E-BAC3-28AAE991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8CB9C-1B22-427B-8A85-44F466F1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3FA1E-4398-4CB6-BF73-464EC9D2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65592-D908-4170-A48D-98E67F2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FACD8-F737-4901-B024-A5A3F2C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92BA-B190-496F-8251-4BC334D9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AA1A9-227F-4735-9CFD-606BB4A1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0491A-DACB-4A62-B425-3370899B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C68BD-6125-4BEB-8F6D-BAC481F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9B0C7-CAFA-4924-9E4E-8B052DD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D7F3F-4EBB-4386-9660-BD35BA5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4875B-969F-4170-B7AA-6B47CC0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CA90B-6E8B-4097-B52D-F515745D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85578-5762-4B88-AD2E-307AD0A3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A6AB0-414B-4343-9A54-E814447C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92F17-E521-4434-9151-A0C7770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0249-6818-4777-B9D5-7EABB8D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DCC92-5C38-42B1-8323-04C1C07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50405-D0E3-49EB-94BC-3A2C0AE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CF44A-4F24-4506-A59A-81B4170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64EC9-9497-467A-BA02-59EC886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F3417-53B4-46B7-B58E-226BA4B3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0FD32-1899-49AF-96C7-213F90A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2CE39-C55B-4DD4-95B3-51A1382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82260-3F7C-400F-A88F-2A9EB8B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24A8F-9355-4DAD-B67D-46CC35F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BC67F-16C0-4FBA-BF40-5439AC20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4B12-DCDE-46BD-8A7C-96744471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8A4F7-733A-4E35-AF4B-7C9A77C6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DF5F6-1ED6-449D-A37F-DF51D5E5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CF305-8C1B-4010-8538-E1A29F1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E6E17-0975-4756-A7DC-954B311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FE102-C4EA-46BD-9FA6-B073F1E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F8D53-08F4-49C5-8705-80ED6C3F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4CD58-6E52-4508-9709-CEC87F4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78AE5-9386-49ED-95BC-76FD706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71251-7567-49BD-9FC2-F290249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B9A6A-8756-4C45-B39F-04ECB31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55FB-563B-4A86-8AC4-C2DEC83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4C157-F86E-4A45-966F-C940F20A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A7034-6B07-4D1B-9F52-ED5A7BE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DBF05-14C6-4CAA-8961-AA1551AD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97C23-CF5A-4357-A408-BAE36839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D0224-3CB2-4689-B147-93ECAB3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4C3EC-3C4D-410F-92B3-D14C00B2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285C2-7678-47FD-A675-96DE547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FBA35-E527-4FAB-BB99-F780953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19B17-35CD-4999-9700-3B13078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54A06-1C5F-491F-80C7-96DD745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22CF-BA1B-4ECE-8065-8E3FA50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7B54B-0BFC-4DE2-AC3E-CC16E06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B43CB-6999-40B8-A57A-E012EEB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63092-971C-4A31-89B2-0D076629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9A048-D94A-4749-BD67-5194BBAA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E9EA5-B1E9-484F-B608-D06B9449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4CF2D-369F-42BB-95EC-77BDA665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B2F68-CF91-4EC7-91FC-507571A8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A448A-789C-4908-B684-18AA8224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4D916-BB74-4175-940C-7D9B9C3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658BC-7FF5-4B30-995D-8F7CB71C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EB43-0DDE-4036-B5FE-5D5E3CAD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DA360-D618-482D-B849-826FC534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2AD2E-61D7-4EC8-8736-E189309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8A8A0-5E9D-4587-94CA-B7AA77B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9FF317-BF61-4C36-BB62-C969FA9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12295-7978-4193-A56F-96E558A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B2AE1-7EBA-4A5C-8693-E60104C3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9AE386-E8AB-4EDF-942E-295BCD8E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DEC60E-717E-47E3-93C4-AC14ACF8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6B6150-8A40-4015-AFA0-D2E02CE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AD5C8-5EE7-404A-A66D-AA21539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11FF-C462-4E6D-A4A4-DB9023D2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B33E-D19C-4375-BE31-401CD699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71B-D09C-4E5A-A6D6-0F98C18C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557A-7983-475D-AA86-52031B8D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365-42C4-4CD7-A4A9-EE894F7E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BF6-DA5A-4458-AE9F-6609105E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A84B-B21F-465F-A6BD-A9576E60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354-9BA0-4446-8028-44B13103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CC1F-F1AC-42BF-B082-58645635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136-9408-42F9-B122-362268F3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2F0-0E7E-46AE-8FE7-7C1D2CA9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F72-4A65-4B8E-B402-987C055C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58A-AF35-4B88-8FB3-7754F8D95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S 178H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omputer Science Re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taly Shmatik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02E5-8717-482F-81D8-44805043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urse Goa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undergraduate students for eventually doing an honors 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art planning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 about areas of CS in which you might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(tentative) area in which you are intereste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an your course schedule so you take the necessary courses in time to start research in your junior year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ussion Top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an honors thes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research and what is an honors thes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reading of research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ad to an honors 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academia and research profess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BBD-5CF9-4086-B967-F38E70DE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uest Lec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rofessors summarize their research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 of existing honors students present their persp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555-378E-4963-A054-FE5F5290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artment Research Are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hoice is to pick an area of computer sc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represented by research faculty in the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partment research web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A3E-0826-41BE-9808-837C7C91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1-25T15:30:16Z</dcterms:modified>
  <cp:revision>52</cp:revision>
  <dc:subject/>
  <dc:title>Intelligent Information Retrieval and Web Search</dc:title>
</cp:coreProperties>
</file>