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2.gif" ContentType="image/gif"/>
  <Override PartName="/ppt/media/image8.wmf" ContentType="image/x-wmf"/>
  <Override PartName="/ppt/media/image12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5892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5892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E04872B-CA59-4E39-B4F6-631EE3F0C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CCAFB05-C255-49B5-AED7-7FFB1E475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D964315-3B95-4A8D-A713-4A07C9EFB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C07807-EF7F-4067-9B81-0A84C94C2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A531C2-2835-4EDE-BF9B-50021171B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BFFABEA-9526-48FC-BBDA-1FF83131E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DBC5376-980E-4626-AD2B-1E8A2E0AE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38A6D1-35A0-47BB-9CD6-0D3682292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BF1497C-0C0C-4AC3-B011-6A54ED3E8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D5C372A-5FEC-40C1-B8F2-A4A8BB32D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4CD2-D5C3-4642-BA4C-360E4CFB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40C-D613-4E1C-8E89-11B5044F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79F-118F-4399-82A0-820517CC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CCC0-730B-4AB1-A099-7E89B6AB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35EE-E517-4621-8F95-2ED5E4BE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EACF-92C9-46AD-AB14-103B6112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55A2-065C-4CE6-A9D8-7BEF521F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7215-8DB4-410C-9602-6E45A021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A865-9722-4948-B984-483BEB24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7DBA-CE98-4A8E-B011-1CA02CDE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A659-7D4B-400C-8E2D-B5876D72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3146-BA53-40E6-9B2B-D600A12D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2711-57ED-4389-BE82-611D72D9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7E88-57E7-4E68-9671-916F0117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D21C-DDC1-4B5A-82D4-CE7C95BD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44BB-BE07-42D8-8205-02D67789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46A4-71B9-4E15-B84E-608B3A29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39FC-CEC3-433E-8BAD-CC710510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5FE-E0CE-4D4B-AE5A-68AE3533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5D4-53D3-4ACC-BE9C-0576517C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DD45-A01F-4894-A02A-91F6D4FC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877-FBD1-4DF0-B216-07A7F960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1381-B91E-4723-9681-147748DF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087-0671-4C26-BD5B-0587B7B2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42D4652-2EB6-4570-BAA2-6A3A2F426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4"/>
          <p:cNvSpPr/>
          <p:nvPr/>
        </p:nvSpPr>
        <p:spPr>
          <a:xfrm>
            <a:off x="533520" y="1295280"/>
            <a:ext cx="7619760" cy="763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1"/>
          <p:cNvSpPr/>
          <p:nvPr/>
        </p:nvSpPr>
        <p:spPr>
          <a:xfrm>
            <a:off x="609480" y="2895480"/>
            <a:ext cx="7620120" cy="763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82880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e574e"/>
                </a:solidFill>
                <a:latin typeface="Arial"/>
              </a:rPr>
              <a:t>slide </a:t>
            </a:r>
            <a:fld id="{3AB5154C-76C5-4793-90B4-1BF7FE01CFD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7721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The Nature of the Beast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19320" y="34858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guide to computer scient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7238880" y="6248520"/>
            <a:ext cx="18288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e574e"/>
                </a:solidFill>
                <a:latin typeface="Arial"/>
              </a:rPr>
              <a:t>slide </a:t>
            </a:r>
            <a:fld id="{0C2E108A-43DF-48A7-BB4E-899E369FBCF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4326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Success Factors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at a research university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374840" y="1752480"/>
            <a:ext cx="4254120" cy="40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00808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ff"/>
                </a:solidFill>
                <a:uFillTx/>
                <a:latin typeface="Tahoma"/>
              </a:rPr>
              <a:t>RESEARCH</a:t>
            </a:r>
            <a:endParaRPr b="0" lang="en-US" sz="5400" spc="-1" strike="noStrike">
              <a:solidFill>
                <a:srgbClr val="3366ff"/>
              </a:solidFill>
              <a:latin typeface="Tahoma"/>
            </a:endParaRPr>
          </a:p>
          <a:p>
            <a:pPr marL="457200" indent="-457200">
              <a:spcBef>
                <a:spcPts val="1349"/>
              </a:spcBef>
              <a:buClr>
                <a:srgbClr val="00808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ff"/>
                </a:solidFill>
                <a:uFillTx/>
                <a:latin typeface="Tahoma"/>
              </a:rPr>
              <a:t>RESEARCH</a:t>
            </a:r>
            <a:endParaRPr b="0" lang="en-US" sz="5400" spc="-1" strike="noStrike">
              <a:solidFill>
                <a:srgbClr val="3366ff"/>
              </a:solidFill>
              <a:latin typeface="Tahoma"/>
            </a:endParaRPr>
          </a:p>
          <a:p>
            <a:pPr marL="457200" indent="-457200">
              <a:spcBef>
                <a:spcPts val="1349"/>
              </a:spcBef>
              <a:buClr>
                <a:srgbClr val="00808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ff"/>
                </a:solidFill>
                <a:uFillTx/>
                <a:latin typeface="Tahoma"/>
              </a:rPr>
              <a:t>RESEARCH</a:t>
            </a:r>
            <a:endParaRPr b="0" lang="en-US" sz="5400" spc="-1" strike="noStrike">
              <a:solidFill>
                <a:srgbClr val="3366ff"/>
              </a:solidFill>
              <a:latin typeface="Tahoma"/>
            </a:endParaRPr>
          </a:p>
          <a:p>
            <a:pPr marL="457200" indent="-457200">
              <a:spcBef>
                <a:spcPts val="901"/>
              </a:spcBef>
              <a:buClr>
                <a:srgbClr val="00808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aching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  <a:p>
            <a:pPr marL="457200" indent="-457200">
              <a:lnSpc>
                <a:spcPct val="170000"/>
              </a:lnSpc>
              <a:spcBef>
                <a:spcPts val="451"/>
              </a:spcBef>
              <a:buClr>
                <a:srgbClr val="00808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1800" spc="-1" strike="noStrike">
              <a:solidFill>
                <a:srgbClr val="33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valuation by Rumor”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letters are extremely important in the tenure review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partment asks </a:t>
            </a:r>
            <a:r>
              <a:rPr b="0" lang="en-US" sz="2800" spc="-1" strike="noStrike">
                <a:solidFill>
                  <a:srgbClr val="9933ff"/>
                </a:solidFill>
                <a:latin typeface="Tahoma"/>
              </a:rPr>
              <a:t>prominent researchers in your fie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their opinions about your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Typically, senior faculty at leading universities in the field (MIT, Stanford, Berkeley …)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letter writers know you by your re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If they do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ahoma"/>
              </a:rPr>
              <a:t>not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 know you, you are in trouble!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clusion: the goal of a tenure-track faculty member is to acquire a stellar research re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cquiring Research Reputatio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High-impact publications in top-notch ven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act = excitement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searchers in the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Did you solve a long-standing open problem?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Do other researchers cite your work and build on it?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-notch venues = where is the best work in your field typically publish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CS is unique: conferences (with brutal peer review) matter more than most journal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ut Wait, There’s More!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599840"/>
            <a:ext cx="8178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To the department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Graduate admission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Faculty recruiting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Undergraduate curriculum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Run honors program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Develop departmental policie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To the college and university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To the academic community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xternal Servic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e and run scientific meet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Evaluate submitted research paper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 on editorial bo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Evaluate submitted journal paper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funding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Evaluate submitted grant proposal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affect people’s tenure cases and their l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5105520" y="1828800"/>
            <a:ext cx="3200400" cy="243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pic>
        <p:nvPicPr>
          <p:cNvPr id="128" name="Picture 3" descr="Original image"/>
          <p:cNvPicPr/>
          <p:nvPr/>
        </p:nvPicPr>
        <p:blipFill>
          <a:blip r:embed="rId1"/>
          <a:stretch/>
        </p:blipFill>
        <p:spPr>
          <a:xfrm>
            <a:off x="4952880" y="17524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4419720" y="4019400"/>
            <a:ext cx="3200400" cy="245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905120" y="2038320"/>
            <a:ext cx="2666880" cy="20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762120" y="3714840"/>
            <a:ext cx="3200400" cy="24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When I Am Not In My Office…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33" name="Picture 8" descr="Original image"/>
          <p:cNvPicPr/>
          <p:nvPr/>
        </p:nvPicPr>
        <p:blipFill>
          <a:blip r:embed="rId2"/>
          <a:stretch/>
        </p:blipFill>
        <p:spPr>
          <a:xfrm>
            <a:off x="4114800" y="38289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08aus2lago08"/>
          <p:cNvPicPr/>
          <p:nvPr/>
        </p:nvPicPr>
        <p:blipFill>
          <a:blip r:embed="rId3"/>
          <a:stretch/>
        </p:blipFill>
        <p:spPr>
          <a:xfrm>
            <a:off x="304920" y="3708360"/>
            <a:ext cx="3581280" cy="2387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21vfr"/>
          <p:cNvPicPr/>
          <p:nvPr/>
        </p:nvPicPr>
        <p:blipFill>
          <a:blip r:embed="rId4"/>
          <a:stretch/>
        </p:blipFill>
        <p:spPr>
          <a:xfrm>
            <a:off x="1447920" y="1676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094ultralightsusa"/>
          <p:cNvPicPr/>
          <p:nvPr/>
        </p:nvPicPr>
        <p:blipFill>
          <a:blip r:embed="rId1"/>
          <a:stretch/>
        </p:blipFill>
        <p:spPr>
          <a:xfrm>
            <a:off x="1066680" y="914400"/>
            <a:ext cx="6993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Non-Tenure Track Faculty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focus on teaching and service rather than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ake Home Point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aculty love their jo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have high expec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expect some of these traits in the students who they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somewhat prepared before you approach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omputer Scientist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ome in two flav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Industrial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Academic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simila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fferences: How they are evalu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he Ecology of Academi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600200"/>
            <a:ext cx="8178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kinds of facul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ure tr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Assistant Professor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Associate Professor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Full Professor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tenure tr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Lecturer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Adjunct Professor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Research Professor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Visiting Professor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enure Track Faculty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you become on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Get a PhD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Submit an application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Get an interview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Wow them on the interview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Congratulations!  The tenure clock starts ticking . . .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bout Me (pre-PhD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397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w up in a country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ist any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94: undergraduate degree in mathematics and computer 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University of Washing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Prior to that, a few years at Moscow University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0: PhD in computer science fro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f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4" descr="suflag"/>
          <p:cNvPicPr/>
          <p:nvPr/>
        </p:nvPicPr>
        <p:blipFill>
          <a:blip r:embed="rId1"/>
          <a:stretch/>
        </p:blipFill>
        <p:spPr>
          <a:xfrm>
            <a:off x="7792920" y="1676520"/>
            <a:ext cx="1046160" cy="709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stanford"/>
          <p:cNvPicPr/>
          <p:nvPr/>
        </p:nvPicPr>
        <p:blipFill>
          <a:blip r:embed="rId2"/>
          <a:stretch/>
        </p:blipFill>
        <p:spPr>
          <a:xfrm>
            <a:off x="7878600" y="4800600"/>
            <a:ext cx="884520" cy="99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UW"/>
          <p:cNvPicPr/>
          <p:nvPr/>
        </p:nvPicPr>
        <p:blipFill>
          <a:blip r:embed="rId3"/>
          <a:stretch/>
        </p:blipFill>
        <p:spPr>
          <a:xfrm>
            <a:off x="7924680" y="3860640"/>
            <a:ext cx="787680" cy="787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msu"/>
          <p:cNvPicPr/>
          <p:nvPr/>
        </p:nvPicPr>
        <p:blipFill>
          <a:blip r:embed="rId4"/>
          <a:srcRect l="16662" t="9955" r="16662" b="0"/>
          <a:stretch/>
        </p:blipFill>
        <p:spPr>
          <a:xfrm>
            <a:off x="7854840" y="2655720"/>
            <a:ext cx="908280" cy="10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bout Me (post-PhD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0: Bell Labs Silicon Val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Fired 3 months after joining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(Lucent shut down the lab)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1-04: SRI Intern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Researcher at a “think tank”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Active in research, kept publishing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2004: assistant prof. at UT Aust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Just received tenure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Promoted to associate prof. effective September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pic>
        <p:nvPicPr>
          <p:cNvPr id="108" name="Picture 10" descr="texas"/>
          <p:cNvPicPr/>
          <p:nvPr/>
        </p:nvPicPr>
        <p:blipFill>
          <a:blip r:embed="rId1"/>
          <a:srcRect l="1038" t="16208" r="72716" b="16208"/>
          <a:stretch/>
        </p:blipFill>
        <p:spPr>
          <a:xfrm>
            <a:off x="7564320" y="4419720"/>
            <a:ext cx="1198800" cy="377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sri"/>
          <p:cNvPicPr/>
          <p:nvPr/>
        </p:nvPicPr>
        <p:blipFill>
          <a:blip r:embed="rId2"/>
          <a:stretch/>
        </p:blipFill>
        <p:spPr>
          <a:xfrm>
            <a:off x="7467480" y="3112920"/>
            <a:ext cx="1295640" cy="696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MCTN00654_0000[1]"/>
          <p:cNvPicPr/>
          <p:nvPr/>
        </p:nvPicPr>
        <p:blipFill>
          <a:blip r:embed="rId3"/>
          <a:stretch/>
        </p:blipFill>
        <p:spPr>
          <a:xfrm>
            <a:off x="7391520" y="1257480"/>
            <a:ext cx="1328760" cy="122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How Did I Get a Faculty Position?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TCS is a top-10 computer science depar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did they hire m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done something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Publication record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Important people said good things about me (more about this later)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mount of lu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Worked on interesting problems in the “right” area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Was in the right place at the right time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What is Tenure?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with a long probationary peri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out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Tenure: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A job for life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No tenure: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Good luck!  Have a good life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enure deci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ion of teaching, research, and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Teach (and design) organized classe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Advise students (very time-consuming)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Do research (usually with graduate students)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Write paper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Attend scientific meeting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tain grants to fund more research           (10% hit rate at NS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Life of a Tenure-Track Professo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7T20:51:32Z</dcterms:created>
  <dc:creator>Vitaly Shmatikov</dc:creator>
  <dc:description/>
  <dc:language>en-US</dc:language>
  <cp:lastModifiedBy>Vitaly Shmatikov</cp:lastModifiedBy>
  <cp:lastPrinted>1998-09-22T18:15:52Z</cp:lastPrinted>
  <dcterms:modified xsi:type="dcterms:W3CDTF">2009-02-09T17:36:26Z</dcterms:modified>
  <cp:revision>5702</cp:revision>
  <dc:subject>CS 178H</dc:subject>
  <dc:title>Computer scientists in the wil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Documents\cs242\notes\web-slid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