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2.gif" ContentType="image/gif"/>
  <Override PartName="/ppt/media/image8.wmf" ContentType="image/x-wmf"/>
  <Override PartName="/ppt/media/image12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58920" y="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18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5892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B118CA8-1BE0-42D7-8778-F3248A73F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138972E-527A-40A1-A528-366E8F447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84710DA-2C2E-47E8-9524-964D12BAD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47B69DF-5C05-43A0-8133-51FD2CC47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BE463F1-D870-4B99-A7EC-626CBFE4A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98DD6AF-92C5-4953-8E8C-E9E21734A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D6B758B-4E6F-4AF4-8E71-9A823586A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0191CF1-A3C3-4064-B52A-6A81E832C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A10C842-FE57-406A-B8AF-9B58B7287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31C85DC-9FEC-409D-8C6E-71E1025AC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DD61-10D5-4AA5-BC36-8F737759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180F-96D2-43A0-B159-54F392DF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A99A-21F3-4AD9-894A-798F4725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0518-FDA7-4479-B968-8B69CF09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81E3-F3AF-4E0E-B3DB-7A2CCFDF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C9A4-81B8-431D-B7DE-0AE3F73B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7C19-9473-45BC-8732-0A465571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FBC9-6647-4E4E-92BD-FA5FB1AA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00A0-3F3A-46D5-BEBD-F16F96CB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0D45-334A-4CE9-9294-CF88F5FF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3D87-DCF3-4782-9EC6-E1C2B217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8126-DDC0-4B47-B2C8-7048EBED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ED41-F8B3-4B70-A442-92E4B6FA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7E6A-B47B-40BE-91F0-B9FA3510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5D22-B926-4FB9-B099-32B2E8D7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913A-95AD-4916-8588-28F697AA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DD04-910A-4E58-91D1-3C018123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2EEA-B2DA-43DE-BA57-BCC1624F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F584-1784-4385-BB2F-F6A6922D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308A-F6EB-4596-9398-D6384F3C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9BCE-9107-4E60-9E83-8364E58E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33E1-3B30-4726-A1AA-EFAAE6DC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19F6-0A13-4A5D-B101-47413B92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C86C-C16E-423A-881D-FA82ACB1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B0E13F5-34FA-46E6-8B8A-8E1211922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4"/>
          <p:cNvSpPr/>
          <p:nvPr/>
        </p:nvSpPr>
        <p:spPr>
          <a:xfrm>
            <a:off x="533520" y="1295280"/>
            <a:ext cx="7619760" cy="763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1"/>
          <p:cNvSpPr/>
          <p:nvPr/>
        </p:nvSpPr>
        <p:spPr>
          <a:xfrm>
            <a:off x="609480" y="2895480"/>
            <a:ext cx="7620120" cy="763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248520"/>
            <a:ext cx="1828800" cy="5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e574e"/>
                </a:solidFill>
                <a:latin typeface="Arial"/>
              </a:rPr>
              <a:t>slide </a:t>
            </a:r>
            <a:fld id="{B5D03862-32D0-492A-8397-65EA4FCBF27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77216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The Nature of the Beast</a:t>
            </a:r>
            <a:endParaRPr b="0" lang="en-US" sz="4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19320" y="34858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 guide to computer scient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7238880" y="6248520"/>
            <a:ext cx="18288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e574e"/>
                </a:solidFill>
                <a:latin typeface="Arial"/>
              </a:rPr>
              <a:t>slide </a:t>
            </a:r>
            <a:fld id="{A67FDBDF-A008-483A-9CB7-12350179BB3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4326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Success Factors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at a research university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374840" y="1752480"/>
            <a:ext cx="4254120" cy="40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00808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ff"/>
                </a:solidFill>
                <a:uFillTx/>
                <a:latin typeface="Tahoma"/>
              </a:rPr>
              <a:t>RESEARCH</a:t>
            </a:r>
            <a:endParaRPr b="0" lang="en-US" sz="5400" spc="-1" strike="noStrike">
              <a:solidFill>
                <a:srgbClr val="3366ff"/>
              </a:solidFill>
              <a:latin typeface="Tahoma"/>
            </a:endParaRPr>
          </a:p>
          <a:p>
            <a:pPr marL="457200" indent="-457200">
              <a:spcBef>
                <a:spcPts val="1349"/>
              </a:spcBef>
              <a:buClr>
                <a:srgbClr val="00808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ff"/>
                </a:solidFill>
                <a:uFillTx/>
                <a:latin typeface="Tahoma"/>
              </a:rPr>
              <a:t>RESEARCH</a:t>
            </a:r>
            <a:endParaRPr b="0" lang="en-US" sz="5400" spc="-1" strike="noStrike">
              <a:solidFill>
                <a:srgbClr val="3366ff"/>
              </a:solidFill>
              <a:latin typeface="Tahoma"/>
            </a:endParaRPr>
          </a:p>
          <a:p>
            <a:pPr marL="457200" indent="-457200">
              <a:spcBef>
                <a:spcPts val="1349"/>
              </a:spcBef>
              <a:buClr>
                <a:srgbClr val="00808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ff"/>
                </a:solidFill>
                <a:uFillTx/>
                <a:latin typeface="Tahoma"/>
              </a:rPr>
              <a:t>RESEARCH</a:t>
            </a:r>
            <a:endParaRPr b="0" lang="en-US" sz="5400" spc="-1" strike="noStrike">
              <a:solidFill>
                <a:srgbClr val="3366ff"/>
              </a:solidFill>
              <a:latin typeface="Tahoma"/>
            </a:endParaRPr>
          </a:p>
          <a:p>
            <a:pPr marL="457200" indent="-457200">
              <a:spcBef>
                <a:spcPts val="901"/>
              </a:spcBef>
              <a:buClr>
                <a:srgbClr val="00808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aching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  <a:p>
            <a:pPr marL="457200" indent="-457200">
              <a:lnSpc>
                <a:spcPct val="170000"/>
              </a:lnSpc>
              <a:spcBef>
                <a:spcPts val="451"/>
              </a:spcBef>
              <a:buClr>
                <a:srgbClr val="00808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ice</a:t>
            </a:r>
            <a:endParaRPr b="0" lang="en-US" sz="1800" spc="-1" strike="noStrike">
              <a:solidFill>
                <a:srgbClr val="33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valuation by Rumor”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letters are extremely important in the tenure review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epartment asks </a:t>
            </a:r>
            <a:r>
              <a:rPr b="0" lang="en-US" sz="2800" spc="-1" strike="noStrike">
                <a:solidFill>
                  <a:srgbClr val="9933ff"/>
                </a:solidFill>
                <a:latin typeface="Tahoma"/>
              </a:rPr>
              <a:t>prominent researchers in your fie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their opinions about your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Typically, senior faculty at leading universities in the field (MIT, Stanford, Berkeley …)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r letter writers know you by your re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If they do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ahoma"/>
              </a:rPr>
              <a:t>not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 know you, you are in trouble!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clusion: the goal of a tenure-track faculty member is to acquire a stellar research re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cquiring Research Reputatio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High-impact publications in top-notch ven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act = excitement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searchers in the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Did you solve a long-standing open problem?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Do other researchers cite your work and build on it?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-notch venues = where is the best work in your field typically publish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CS is unique: conferences (with brutal peer review) matter more than most journals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ut Wait, There’s More!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599840"/>
            <a:ext cx="8178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To the department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Graduate admissions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Faculty recruiting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Undergraduate curriculum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Run honors program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Develop departmental policies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To the college and university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To the academic community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xternal Servic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e and run scientific meet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Evaluate submitted research papers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 on editorial bo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Evaluate submitted journal papers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funding dec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Evaluate submitted grant proposals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affect people’s tenure cases and their l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5105520" y="1828800"/>
            <a:ext cx="3200400" cy="243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pic>
        <p:nvPicPr>
          <p:cNvPr id="128" name="Picture 3" descr="Original image"/>
          <p:cNvPicPr/>
          <p:nvPr/>
        </p:nvPicPr>
        <p:blipFill>
          <a:blip r:embed="rId1"/>
          <a:stretch/>
        </p:blipFill>
        <p:spPr>
          <a:xfrm>
            <a:off x="4952880" y="1752480"/>
            <a:ext cx="3276720" cy="2457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4419720" y="4019400"/>
            <a:ext cx="3200400" cy="245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905120" y="2038320"/>
            <a:ext cx="2666880" cy="201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762120" y="3714840"/>
            <a:ext cx="3200400" cy="245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When I Am Not In My Office…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33" name="Picture 8" descr="Original image"/>
          <p:cNvPicPr/>
          <p:nvPr/>
        </p:nvPicPr>
        <p:blipFill>
          <a:blip r:embed="rId2"/>
          <a:stretch/>
        </p:blipFill>
        <p:spPr>
          <a:xfrm>
            <a:off x="4114800" y="382896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08aus2lago08"/>
          <p:cNvPicPr/>
          <p:nvPr/>
        </p:nvPicPr>
        <p:blipFill>
          <a:blip r:embed="rId3"/>
          <a:stretch/>
        </p:blipFill>
        <p:spPr>
          <a:xfrm>
            <a:off x="304920" y="3708360"/>
            <a:ext cx="3581280" cy="2387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21vfr"/>
          <p:cNvPicPr/>
          <p:nvPr/>
        </p:nvPicPr>
        <p:blipFill>
          <a:blip r:embed="rId4"/>
          <a:stretch/>
        </p:blipFill>
        <p:spPr>
          <a:xfrm>
            <a:off x="1447920" y="16765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094ultralightsusa"/>
          <p:cNvPicPr/>
          <p:nvPr/>
        </p:nvPicPr>
        <p:blipFill>
          <a:blip r:embed="rId1"/>
          <a:stretch/>
        </p:blipFill>
        <p:spPr>
          <a:xfrm>
            <a:off x="1066680" y="914400"/>
            <a:ext cx="6993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Non-Tenure Track Faculty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focus on teaching and service rather than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ake Home Point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aculty love their jo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have high expec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expect some of these traits in the students who they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somewhat prepared before you approach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omputer Scientist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ome in two flav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Industrial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Academic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similar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fferences: How they are evalu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he Ecology of Academi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600200"/>
            <a:ext cx="8178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kinds of facul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nure tr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Assistant Professor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Associate Professor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Full Professor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tenure tr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Lecturers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Adjunct Professor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Research Professor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Visiting Professor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enure Track Faculty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you become on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Get a PhD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Submit an application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Get an interview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Wow them on the interview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Congratulations!  The tenure clock starts ticking . . .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bout Me (pre-PhD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397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w up in a country th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ist any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94: undergraduate degree in mathematics and computer sc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University of Washingt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Prior to that, a few years at Moscow University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00: PhD in computer science fro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f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4" descr="suflag"/>
          <p:cNvPicPr/>
          <p:nvPr/>
        </p:nvPicPr>
        <p:blipFill>
          <a:blip r:embed="rId1"/>
          <a:stretch/>
        </p:blipFill>
        <p:spPr>
          <a:xfrm>
            <a:off x="7792920" y="1676520"/>
            <a:ext cx="1046160" cy="709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stanford"/>
          <p:cNvPicPr/>
          <p:nvPr/>
        </p:nvPicPr>
        <p:blipFill>
          <a:blip r:embed="rId2"/>
          <a:stretch/>
        </p:blipFill>
        <p:spPr>
          <a:xfrm>
            <a:off x="7878600" y="4800600"/>
            <a:ext cx="884520" cy="99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UW"/>
          <p:cNvPicPr/>
          <p:nvPr/>
        </p:nvPicPr>
        <p:blipFill>
          <a:blip r:embed="rId3"/>
          <a:stretch/>
        </p:blipFill>
        <p:spPr>
          <a:xfrm>
            <a:off x="7924680" y="3860640"/>
            <a:ext cx="787680" cy="787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msu"/>
          <p:cNvPicPr/>
          <p:nvPr/>
        </p:nvPicPr>
        <p:blipFill>
          <a:blip r:embed="rId4"/>
          <a:srcRect l="16662" t="9955" r="16662" b="0"/>
          <a:stretch/>
        </p:blipFill>
        <p:spPr>
          <a:xfrm>
            <a:off x="7854840" y="2655720"/>
            <a:ext cx="908280" cy="10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bout Me (post-PhD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00: Bell Labs Silicon Val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Fired 3 months after joining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(Lucent shut down the lab)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01-04: SRI Intern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Researcher at a “think tank”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Active in research, kept publishing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2004: assistant prof. at UT Aust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Just received tenure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Promoted to associate prof. effective September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pic>
        <p:nvPicPr>
          <p:cNvPr id="108" name="Picture 10" descr="texas"/>
          <p:cNvPicPr/>
          <p:nvPr/>
        </p:nvPicPr>
        <p:blipFill>
          <a:blip r:embed="rId1"/>
          <a:srcRect l="1038" t="16208" r="72716" b="16208"/>
          <a:stretch/>
        </p:blipFill>
        <p:spPr>
          <a:xfrm>
            <a:off x="7564320" y="4419720"/>
            <a:ext cx="1198800" cy="377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sri"/>
          <p:cNvPicPr/>
          <p:nvPr/>
        </p:nvPicPr>
        <p:blipFill>
          <a:blip r:embed="rId2"/>
          <a:stretch/>
        </p:blipFill>
        <p:spPr>
          <a:xfrm>
            <a:off x="7467480" y="3112920"/>
            <a:ext cx="1295640" cy="696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MCTN00654_0000[1]"/>
          <p:cNvPicPr/>
          <p:nvPr/>
        </p:nvPicPr>
        <p:blipFill>
          <a:blip r:embed="rId3"/>
          <a:stretch/>
        </p:blipFill>
        <p:spPr>
          <a:xfrm>
            <a:off x="7391520" y="1257480"/>
            <a:ext cx="1328760" cy="122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How Did I Get a Faculty Position?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TCS is a top-10 computer science depart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did they hire m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done something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Publication record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Important people said good things about me (more about this later)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mount of lu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Worked on interesting problems in the “right” area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Was in the right place at the right time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What is Tenure?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with a long probationary peri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out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Tenure: 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A job for life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No tenure: 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Good luck!  Have a good life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enure deci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tion of teaching, research, and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Teach (and design) organized classes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Advise students (very time-consuming)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Do research (usually with graduate students)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Write papers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Attend scientific meetings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tain grants to fund more research           (10% hit rate at NS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Life of a Tenure-Track Professo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7T20:51:32Z</dcterms:created>
  <dc:creator>Vitaly Shmatikov</dc:creator>
  <dc:description/>
  <dc:language>en-US</dc:language>
  <cp:lastModifiedBy>Vitaly Shmatikov</cp:lastModifiedBy>
  <cp:lastPrinted>1998-09-22T18:15:52Z</cp:lastPrinted>
  <dcterms:modified xsi:type="dcterms:W3CDTF">2009-02-09T17:36:26Z</dcterms:modified>
  <cp:revision>5702</cp:revision>
  <dc:subject>CS 178H</dc:subject>
  <dc:title>Computer scientists in the wil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Documents\cs242\notes\web-slid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