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DF2F-FC53-4005-B59C-8AE1DBDD7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8048-772B-49C6-A6AD-1D922FAFC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AB7A-C972-4586-BC53-7F745B917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37CC-26C2-4297-927F-27392AE80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DB4A-E464-48CE-9254-4B6C485F1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28CE-D462-4189-9081-70B7A6D86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49CC-797F-4F45-8406-5D49562B3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8F78-E2C1-48DF-9334-8DA263E19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0971-807D-4134-9D15-5C987270F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09B1-FDB9-4AF9-9036-542CD963D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787D-F875-4079-B433-982628C15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01CF-E1E9-4330-88A2-E5441F348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C01E-09B1-45E1-B315-B5C388F46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49C2-4F6A-45B5-B779-4B697CA1C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7409-AFEB-49B6-A38B-9404D6BC5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15C6-5E27-4691-8A73-5B0B91108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70AC-9909-454E-9C30-EAFBA1A1F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FF62-3432-42F7-986C-3989654CE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3D9B-55A1-4D04-B9F8-828C49D81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BCCF-631B-4BC5-AFD1-8A9D46654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3C31-2EE2-4298-B3EE-FE40DF269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5FC0-4480-4FA9-A9DE-77468572A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C82F-F384-4C4E-BAAC-F4EB08D42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5600-B904-4B24-901E-4C7463D35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31DA-33CB-43A6-93CE-172A7AE5E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30B5-9C5B-421B-8FA0-8D0166D35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F7C1-09E8-4087-8DB0-238D71D1F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35888-C0C2-4FA1-8747-5788DAE4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5F831-B7A3-499F-BD8C-74791DC8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B450C4-8573-4ECA-B0C4-FA3BD47A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F98FAB-B83A-4152-B5EC-9B2DE53E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430E12-3E52-4CEC-916A-F9720452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1303EB-2BA0-40DC-9748-88C9E07B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EB8917-D5F1-493D-9F05-BA224152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9F85C8-54D7-45DD-92E6-F7293CE2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EBC4C9-2D72-46A5-8A6D-998627A8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C89D94-A4B9-4FF2-9E5D-C6241DBE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A25F1B-80FF-455B-A496-BF802228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9F242B-70B8-47E4-8FCC-238E6759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7DF72-311C-4CA8-B980-62BEDFE1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8B2A29-B92D-4E99-A227-7174885A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A755C5-FFAF-4CB7-966E-36B94CFB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594645-A359-458B-8B8C-F838CC15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1D0680-C6F1-4907-8458-1AE94C15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A618C9-EF9C-44CA-BDBE-A39FD3F1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E19A3C-4C47-4B9C-AE0D-79BA96F8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139250-F580-4E91-B92F-739F1A59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813775-8958-4791-8EC6-13FD2F7C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324498-EBD8-4E8D-A369-2F4C425E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4F10C0-4AF0-45EE-AB0E-7D58FB07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54A0B-3872-4F98-9D3C-355CA73C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CD63ED-F143-4310-85CA-2E63C24D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22AB3C-BDAB-4944-BC36-1BDA557C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7A9768-AB14-4823-BD74-ECB84A3C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645845-436F-4AA9-89F0-DAA19557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813854-71D7-4426-859F-CECFEC16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C36E9E-4FE8-4C3B-B8FD-5CF69C1B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56B8C9-E7BD-4049-83F5-BE28E76E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1A1140-FA48-4EE7-8450-9DD11AAE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33EC55-CEB7-4068-B601-6853B3C4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BD05E5-BA74-458A-B5D8-79AAA15F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D5E05-E159-405C-A336-42B9C0B3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E7AE10-4BDE-4BD0-BFC1-ED181703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631B96-6B69-40FA-BF69-F0E316CE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68C87E-99EE-4283-B336-BB8ED349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302422-B623-48D7-B399-4C076852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54B966-3FBF-479F-AD70-9EACD2F7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29398F-0ED8-44B9-8DFF-93376613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80FFFC-2E51-4800-8303-EECC5BE7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510596-4500-46F6-8A4B-5EAF583D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215058-A2E0-4992-B1BE-35494B63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CA1AE3-4525-41F9-881C-4C0EA3DB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2E658-1027-4B2C-82F6-0979ED32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2AC970-A6F4-4931-9834-B87F8E98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963DD6-269A-4DB5-9937-4BA3D9EE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5B677B-A978-4280-8B4F-66221030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385A9C-B4ED-4250-BDDA-3515F3BE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75A937-1CC6-40A1-9F9C-FFB19E3D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A77B3-2668-46A4-A173-1CC5530C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B0122-D96A-4A7F-A896-D4C84CE9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1C9F6-11DE-4FEC-95BB-8AFAFFCD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190A2-F109-4537-91F6-5ECF437C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B5C31-7069-43E4-AFC5-A8B4A6B8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96C6-92AB-48B2-8B73-84AB132D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65463-91B7-43AB-9B56-18467CDE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96AD3-9637-4C97-986F-A2541E17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48762-A771-4083-A641-DBB30E7D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FD53F-1165-42E3-8E71-4DBDB723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507F3-B917-4D3B-895B-26D9397F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658C6-51D4-442F-BD5F-F181B6C4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2944D-D18E-445A-AC74-06C999FF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63B88-F2FD-4D4C-A703-CE9180A9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01C3F-9AE2-48C2-9B2C-8CD97504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5622A-A368-42CC-BD59-CCCF2779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14FDA-E028-4602-A101-DC1E6C02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A99DE-B49C-455E-8F7A-72902EA1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91A34-56A6-4B94-AD4F-DC266605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9C13A-78F0-4653-9351-92F560C5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D8C50-E5C6-414D-9211-78074094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7F6A8-0104-4EEF-86B8-ADEFA126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0511D-328A-4BEB-9DAB-B44A7A40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ECD48-0113-4AA9-A4E5-C523A820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C3080E-31A7-412A-8E2E-B6EBC266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71C63E-D95E-4056-9929-D345EB55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D7D30F-859B-4334-911C-AAF43B49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99C3A-4732-4084-B1BF-BBBA2CE2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10FEFC-7DA9-4663-9B3E-92E9FA33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C5E6A1-010B-4E61-95FD-8C7F0A22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3882F2-587E-499B-9EDA-5ADBED4E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F2E094-A349-4B11-9921-2286F32E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774DF6-9B9B-4F11-8FDD-240BF3BD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23E91A-7D8B-487C-96D7-A528F789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F5253-A68C-42F6-9F79-28EA7893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BF603A-C9C6-4AD6-AC97-0889F3AD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4A19F-968E-4E44-BC86-18144949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047D78-4A23-4EDB-AD6F-0D8AFDF3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767BC-4965-4985-8081-458F6195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1AB701-F706-413E-BF34-836B43F2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A217ED-051D-452E-847E-E4997886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2B63A-587F-474E-A163-AB4F7932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3216EF-AA88-4E35-9845-71D60AD0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C5FD3-75D7-46B3-BE80-34FEEBE0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05F557-F08B-4E66-9D76-EE723A71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0B78B-0F46-4243-B976-0FCBAF17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B3B5EE-DA96-42E6-8D70-71F7EA6A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EB4FCA-3A6B-45CB-8CBC-4F8F148A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52C7A4-AA65-4F64-884F-E5197B49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7EB5-FDD9-4290-A541-8A0AFB5F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BBE203-CFB7-4743-992D-A8DA9152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AD917F-EAA6-4FC4-8C8D-6BC196F2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AA167-4253-4122-A2F1-963CAB6B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92410-C8F5-42E4-ABC6-8098662E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4DEECF-AFE5-4725-92E8-71E3B162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B4849-9B08-4BAB-9C9B-9FB37BF0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823E4-B5E1-4D71-A114-52281D7E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D8089D-01C3-4FC2-B94B-3A69822C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43D30-9313-4FF8-A8F8-985A5E02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7CBB0B-9DFC-4AC0-AC45-17AF8379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6F28-EBBA-43F4-8B6E-43EB0A6A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ADBC6F-EBF5-4A75-B3D8-4FF81D60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9D6671-666E-4938-9D2B-9C717D80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3ECFAC-7B5C-4534-ABD9-EA450EBB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1C5F91-CE89-4878-AC32-5157BC47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27A178-7C33-42CE-9616-8F15B060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95987-CAC1-456C-9CD5-787714F2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E27B65-1697-4AFB-83DF-9C34D2A0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3B144-A77F-44A6-AFFC-60083A4B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774151-C159-4119-8BFD-C2E6A498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071EA5-B852-4FEC-8C4F-F061636F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08C59-3153-4669-9860-64625D55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ADA37-D6F7-49F2-B809-DF411037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94120D-1BF8-4C4B-B8C8-8A833944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D0A01B-78ED-4338-93A8-586EC130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FD7D4A-9D89-43C7-9C6B-F4140703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EB6F4C-90F5-47E4-A418-82351987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46D166-218A-4CBF-8E69-6AFC800F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3F8468-5B8F-47B1-90F1-73E96485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73A195-4D2F-4D0F-B882-3601009C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5BEA65-E82D-4EC3-B2F6-5656EEA1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E4023A-5FCB-445B-BA55-EB854B28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564C0-AA55-475C-9117-79B4AF3E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1C9373-E1FE-4E9F-AE1B-6467C5B1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098BF8-0A11-4208-BFC9-C8488018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2B8127-7B8D-4C25-81EF-45BF7F88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E9DCB8-8B03-4A92-96D1-EC50FA1E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67392C-8202-42DF-A351-B0729580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96B596-DF29-4C24-90C8-C943445A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A423B8-93C9-4CB0-A4E0-74D5B65E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7B7B38-61D8-402E-8D24-D443F89F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C1BD65-E094-45E6-8D43-A901FD3C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215667-8E78-4571-A158-BB09794F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6A76-D83C-4E43-9373-72C539763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F244-ABE3-4E6E-A489-95293A5AF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74E5-950C-473D-BB66-F79A69F37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ABBB-D3CD-496E-818C-33E2C9E06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3C8D-3544-4C95-8299-117A47B2E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07FC-3505-45B0-AFC4-EDD25C844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A1CC-2EE3-45B3-99C6-12869F7B0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C6A2-86B3-4368-9C83-3C855D1CA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7967-1CB6-4F4A-9E2A-23A1A73A8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F53B-C4DC-4E5C-9F94-A1EFFDD05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BD82-9E4B-46A8-B0D9-F2F81FACB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32A2-25B0-426D-AE21-4B2F86C71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3E1C-0F05-4C7E-960D-0F46012FE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CS 178H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Introduction to 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Computer Science Research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CS Resear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cientific Method</a:t>
            </a:r>
            <a:br>
              <a:rPr sz="36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steps from Wikipedia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37160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Define the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Gather information and resources (obser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Form hypo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Perform experiment and collec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Analyz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Interpret data and draw conclusions that serve as a starting point for new hypo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) Publish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) Retest (frequently done by other scienti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431D-5C3D-48E7-8594-75E06A05F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Curved Right Arrow 14"/>
          <p:cNvSpPr/>
          <p:nvPr/>
        </p:nvSpPr>
        <p:spPr>
          <a:xfrm flipV="1">
            <a:off x="152280" y="2818800"/>
            <a:ext cx="457200" cy="1981080"/>
          </a:xfrm>
          <a:custGeom>
            <a:avLst/>
            <a:gdLst>
              <a:gd name="textAreaLeft" fmla="*/ 61200 w 457200"/>
              <a:gd name="textAreaRight" fmla="*/ 396000 w 457200"/>
              <a:gd name="textAreaTop" fmla="*/ 451800 h 1981080"/>
              <a:gd name="textAreaBottom" fmla="*/ 147132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66" stAng="-5400000" swAng="-5400000"/>
                <a:lnTo>
                  <a:pt x="0" y="11112"/>
                </a:lnTo>
                <a:arcTo wR="21600" hR="9866" stAng="10800000" swAng="-3631197"/>
                <a:lnTo>
                  <a:pt x="16200" y="21287"/>
                </a:lnTo>
                <a:lnTo>
                  <a:pt x="21600" y="20354"/>
                </a:lnTo>
                <a:lnTo>
                  <a:pt x="16200" y="18795"/>
                </a:lnTo>
                <a:lnTo>
                  <a:pt x="16200" y="19418"/>
                </a:lnTo>
                <a:arcTo wR="21600" hR="9866" stAng="7168803" swAng="3531873"/>
                <a:lnTo>
                  <a:pt x="43" y="10489"/>
                </a:lnTo>
                <a:arcTo wR="21600" hR="9866" stAng="-10700676" swAng="5300676"/>
                <a:close/>
              </a:path>
              <a:path fill="darkenLess" w="21600" h="21600">
                <a:moveTo>
                  <a:pt x="21600" y="0"/>
                </a:moveTo>
                <a:arcTo wR="21600" hR="9866" stAng="-5400000" swAng="-5400000"/>
                <a:lnTo>
                  <a:pt x="0" y="9866"/>
                </a:lnTo>
                <a:arcTo wR="21600" hR="9866" stAng="10800000" swAng="-99324"/>
                <a:lnTo>
                  <a:pt x="43" y="10489"/>
                </a:lnTo>
                <a:arcTo wR="21600" hR="9866" stAng="-10700676" swAng="5300676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1) Define the ques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8580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from My Research: Search Query Disambiguation from Short Ses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an a web search engine disambiguate queries?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195E-90F0-4CF7-807F-BF784FDEE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2666880" y="3276720"/>
            <a:ext cx="3353040" cy="4572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5"/>
          <p:cNvSpPr/>
          <p:nvPr/>
        </p:nvSpPr>
        <p:spPr>
          <a:xfrm>
            <a:off x="274320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Rounded Rectangle 6"/>
          <p:cNvGrpSpPr/>
          <p:nvPr/>
        </p:nvGrpSpPr>
        <p:grpSpPr>
          <a:xfrm>
            <a:off x="6235560" y="3267000"/>
            <a:ext cx="946440" cy="469800"/>
            <a:chOff x="6235560" y="3267000"/>
            <a:chExt cx="946440" cy="469800"/>
          </a:xfrm>
        </p:grpSpPr>
        <p:pic>
          <p:nvPicPr>
            <p:cNvPr id="548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6235560" y="3267000"/>
              <a:ext cx="9464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6272280" y="329868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Picture 2" descr=""/>
          <p:cNvPicPr/>
          <p:nvPr/>
        </p:nvPicPr>
        <p:blipFill>
          <a:blip r:embed="rId2"/>
          <a:stretch/>
        </p:blipFill>
        <p:spPr>
          <a:xfrm>
            <a:off x="1828800" y="46483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3"/>
          <a:stretch/>
        </p:blipFill>
        <p:spPr>
          <a:xfrm>
            <a:off x="5562720" y="4648320"/>
            <a:ext cx="1981080" cy="2063520"/>
          </a:xfrm>
          <a:prstGeom prst="rect">
            <a:avLst/>
          </a:prstGeom>
          <a:ln w="0">
            <a:noFill/>
          </a:ln>
        </p:spPr>
      </p:pic>
      <p:cxnSp>
        <p:nvCxnSpPr>
          <p:cNvPr id="552" name="Straight Arrow Connector 11"/>
          <p:cNvCxnSpPr/>
          <p:nvPr/>
        </p:nvCxnSpPr>
        <p:spPr>
          <a:xfrm flipH="1">
            <a:off x="3809520" y="3885840"/>
            <a:ext cx="53424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3" name="Straight Arrow Connector 13"/>
          <p:cNvCxnSpPr/>
          <p:nvPr/>
        </p:nvCxnSpPr>
        <p:spPr>
          <a:xfrm>
            <a:off x="4343400" y="3885840"/>
            <a:ext cx="1372320" cy="762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4" name="TextBox 14"/>
          <p:cNvSpPr/>
          <p:nvPr/>
        </p:nvSpPr>
        <p:spPr>
          <a:xfrm>
            <a:off x="4270320" y="39625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2) Gather information and resource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ed web search session data from 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instances of ambiguous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contextual clues that might help disambiguate que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F1CC-DF97-4766-886B-C3FF45860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ext can Aid Disambiguation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559" name="Group 5"/>
          <p:cNvGrpSpPr/>
          <p:nvPr/>
        </p:nvGrpSpPr>
        <p:grpSpPr>
          <a:xfrm>
            <a:off x="304920" y="1981080"/>
            <a:ext cx="3886200" cy="4343400"/>
            <a:chOff x="304920" y="1981080"/>
            <a:chExt cx="3886200" cy="4343400"/>
          </a:xfrm>
        </p:grpSpPr>
        <p:sp>
          <p:nvSpPr>
            <p:cNvPr id="560" name="AutoShape 6"/>
            <p:cNvSpPr/>
            <p:nvPr/>
          </p:nvSpPr>
          <p:spPr>
            <a:xfrm>
              <a:off x="304920" y="1981080"/>
              <a:ext cx="3886200" cy="4343400"/>
            </a:xfrm>
            <a:custGeom>
              <a:avLst/>
              <a:gdLst>
                <a:gd name="textAreaLeft" fmla="*/ 189720 w 3886200"/>
                <a:gd name="textAreaRight" fmla="*/ 3696480 w 3886200"/>
                <a:gd name="textAreaTop" fmla="*/ 189720 h 4343400"/>
                <a:gd name="textAreaBottom" fmla="*/ 4153680 h 4343400"/>
              </a:gdLst>
              <a:ahLst/>
              <a:rect l="textAreaLeft" t="textAreaTop" r="textAreaRight" b="textAreaBottom"/>
              <a:pathLst>
                <a:path w="21600" h="24141">
                  <a:moveTo>
                    <a:pt x="3600" y="0"/>
                  </a:moveTo>
                  <a:arcTo wR="3600" hR="3600" stAng="16200000" swAng="-5400000"/>
                  <a:lnTo>
                    <a:pt x="0" y="20541"/>
                  </a:lnTo>
                  <a:arcTo wR="3600" hR="3600" stAng="10800000" swAng="-5400000"/>
                  <a:lnTo>
                    <a:pt x="18000" y="24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7"/>
            <p:cNvSpPr/>
            <p:nvPr/>
          </p:nvSpPr>
          <p:spPr>
            <a:xfrm>
              <a:off x="539640" y="2209680"/>
              <a:ext cx="976320" cy="39888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8.7 f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8"/>
            <p:cNvSpPr/>
            <p:nvPr/>
          </p:nvSpPr>
          <p:spPr>
            <a:xfrm>
              <a:off x="508320" y="3581280"/>
              <a:ext cx="650160" cy="39888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ro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9"/>
            <p:cNvSpPr/>
            <p:nvPr/>
          </p:nvSpPr>
          <p:spPr>
            <a:xfrm>
              <a:off x="527040" y="4800600"/>
              <a:ext cx="833040" cy="39888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ru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AutoShape 10"/>
            <p:cNvSpPr/>
            <p:nvPr/>
          </p:nvSpPr>
          <p:spPr>
            <a:xfrm>
              <a:off x="380880" y="274320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AutoShape 11"/>
            <p:cNvSpPr/>
            <p:nvPr/>
          </p:nvSpPr>
          <p:spPr>
            <a:xfrm>
              <a:off x="380880" y="533412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AutoShape 12"/>
            <p:cNvSpPr/>
            <p:nvPr/>
          </p:nvSpPr>
          <p:spPr>
            <a:xfrm>
              <a:off x="380880" y="411480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13"/>
            <p:cNvSpPr/>
            <p:nvPr/>
          </p:nvSpPr>
          <p:spPr>
            <a:xfrm>
              <a:off x="911520" y="281952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www.star987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14"/>
            <p:cNvSpPr/>
            <p:nvPr/>
          </p:nvSpPr>
          <p:spPr>
            <a:xfrm>
              <a:off x="912240" y="419112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www.kroq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15"/>
            <p:cNvSpPr/>
            <p:nvPr/>
          </p:nvSpPr>
          <p:spPr>
            <a:xfrm>
              <a:off x="915120" y="541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??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16"/>
          <p:cNvGrpSpPr/>
          <p:nvPr/>
        </p:nvGrpSpPr>
        <p:grpSpPr>
          <a:xfrm>
            <a:off x="4648320" y="1981080"/>
            <a:ext cx="4349880" cy="4343400"/>
            <a:chOff x="4648320" y="1981080"/>
            <a:chExt cx="4349880" cy="4343400"/>
          </a:xfrm>
        </p:grpSpPr>
        <p:sp>
          <p:nvSpPr>
            <p:cNvPr id="571" name="AutoShape 17"/>
            <p:cNvSpPr/>
            <p:nvPr/>
          </p:nvSpPr>
          <p:spPr>
            <a:xfrm>
              <a:off x="4648320" y="1981080"/>
              <a:ext cx="3886200" cy="4343400"/>
            </a:xfrm>
            <a:custGeom>
              <a:avLst/>
              <a:gdLst>
                <a:gd name="textAreaLeft" fmla="*/ 189720 w 3886200"/>
                <a:gd name="textAreaRight" fmla="*/ 3696480 w 3886200"/>
                <a:gd name="textAreaTop" fmla="*/ 189720 h 4343400"/>
                <a:gd name="textAreaBottom" fmla="*/ 4153680 h 4343400"/>
              </a:gdLst>
              <a:ahLst/>
              <a:rect l="textAreaLeft" t="textAreaTop" r="textAreaRight" b="textAreaBottom"/>
              <a:pathLst>
                <a:path w="21600" h="24141">
                  <a:moveTo>
                    <a:pt x="3600" y="0"/>
                  </a:moveTo>
                  <a:arcTo wR="3600" hR="3600" stAng="16200000" swAng="-5400000"/>
                  <a:lnTo>
                    <a:pt x="0" y="20541"/>
                  </a:lnTo>
                  <a:arcTo wR="3600" hR="3600" stAng="10800000" swAng="-5400000"/>
                  <a:lnTo>
                    <a:pt x="18000" y="24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8"/>
            <p:cNvSpPr/>
            <p:nvPr/>
          </p:nvSpPr>
          <p:spPr>
            <a:xfrm>
              <a:off x="4989600" y="2209680"/>
              <a:ext cx="2055240" cy="39888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untsville hosp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9"/>
            <p:cNvSpPr/>
            <p:nvPr/>
          </p:nvSpPr>
          <p:spPr>
            <a:xfrm>
              <a:off x="4902120" y="3581280"/>
              <a:ext cx="1165320" cy="39888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bay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0"/>
            <p:cNvSpPr/>
            <p:nvPr/>
          </p:nvSpPr>
          <p:spPr>
            <a:xfrm>
              <a:off x="4870440" y="4800600"/>
              <a:ext cx="833040" cy="39888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ru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21"/>
            <p:cNvSpPr/>
            <p:nvPr/>
          </p:nvSpPr>
          <p:spPr>
            <a:xfrm>
              <a:off x="4724280" y="274320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22"/>
            <p:cNvSpPr/>
            <p:nvPr/>
          </p:nvSpPr>
          <p:spPr>
            <a:xfrm>
              <a:off x="4724280" y="533412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AutoShape 23"/>
            <p:cNvSpPr/>
            <p:nvPr/>
          </p:nvSpPr>
          <p:spPr>
            <a:xfrm>
              <a:off x="4724280" y="411480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24"/>
            <p:cNvSpPr/>
            <p:nvPr/>
          </p:nvSpPr>
          <p:spPr>
            <a:xfrm>
              <a:off x="5251320" y="2819520"/>
              <a:ext cx="374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www.huntsvillehospital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25"/>
            <p:cNvSpPr/>
            <p:nvPr/>
          </p:nvSpPr>
          <p:spPr>
            <a:xfrm>
              <a:off x="5255640" y="419112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www.ebay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Text Box 26"/>
            <p:cNvSpPr/>
            <p:nvPr/>
          </p:nvSpPr>
          <p:spPr>
            <a:xfrm>
              <a:off x="5258520" y="541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??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Group 29"/>
          <p:cNvGrpSpPr/>
          <p:nvPr/>
        </p:nvGrpSpPr>
        <p:grpSpPr>
          <a:xfrm>
            <a:off x="959760" y="5410080"/>
            <a:ext cx="5925240" cy="420840"/>
            <a:chOff x="959760" y="5410080"/>
            <a:chExt cx="5925240" cy="420840"/>
          </a:xfrm>
        </p:grpSpPr>
        <p:sp>
          <p:nvSpPr>
            <p:cNvPr id="582" name="Text Box 27"/>
            <p:cNvSpPr/>
            <p:nvPr/>
          </p:nvSpPr>
          <p:spPr>
            <a:xfrm>
              <a:off x="959760" y="5462640"/>
              <a:ext cx="1963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crubs-tv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Text Box 28"/>
            <p:cNvSpPr/>
            <p:nvPr/>
          </p:nvSpPr>
          <p:spPr>
            <a:xfrm>
              <a:off x="5332680" y="5410080"/>
              <a:ext cx="1552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crubs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3) Form Hypothesi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ous queries and clicks in a session can help disambiguate queries by relating them to previous sessions involving the same query (where we know what result was click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83CD-5E55-4AC2-9180-1F2EFADCF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4) Perform Experiment and Collect Data 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system that uses prior context and previous session data to predict clicked results for new u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der results from existing search engine based on predicted probability of clicking on a res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hould reduce number of results user needs to examine before finding a relevant on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on unseen data and compare predictions to actual results clic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0F0D-50C0-4A52-A1C9-5BF3FEE7B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ing Relational Information with a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rkov Logic Network (MLN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591" name="Group 29"/>
          <p:cNvGrpSpPr/>
          <p:nvPr/>
        </p:nvGrpSpPr>
        <p:grpSpPr>
          <a:xfrm>
            <a:off x="304920" y="1981080"/>
            <a:ext cx="3886200" cy="4343400"/>
            <a:chOff x="304920" y="1981080"/>
            <a:chExt cx="3886200" cy="4343400"/>
          </a:xfrm>
        </p:grpSpPr>
        <p:sp>
          <p:nvSpPr>
            <p:cNvPr id="592" name="AutoShape 3"/>
            <p:cNvSpPr/>
            <p:nvPr/>
          </p:nvSpPr>
          <p:spPr>
            <a:xfrm>
              <a:off x="304920" y="1981080"/>
              <a:ext cx="3886200" cy="4343400"/>
            </a:xfrm>
            <a:custGeom>
              <a:avLst/>
              <a:gdLst>
                <a:gd name="textAreaLeft" fmla="*/ 189720 w 3886200"/>
                <a:gd name="textAreaRight" fmla="*/ 3696480 w 3886200"/>
                <a:gd name="textAreaTop" fmla="*/ 189720 h 4343400"/>
                <a:gd name="textAreaBottom" fmla="*/ 4153680 h 4343400"/>
              </a:gdLst>
              <a:ahLst/>
              <a:rect l="textAreaLeft" t="textAreaTop" r="textAreaRight" b="textAreaBottom"/>
              <a:pathLst>
                <a:path w="21600" h="24141">
                  <a:moveTo>
                    <a:pt x="3600" y="0"/>
                  </a:moveTo>
                  <a:arcTo wR="3600" hR="3600" stAng="16200000" swAng="-5400000"/>
                  <a:lnTo>
                    <a:pt x="0" y="20541"/>
                  </a:lnTo>
                  <a:arcTo wR="3600" hR="3600" stAng="10800000" swAng="-5400000"/>
                  <a:lnTo>
                    <a:pt x="18000" y="24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5"/>
            <p:cNvSpPr/>
            <p:nvPr/>
          </p:nvSpPr>
          <p:spPr>
            <a:xfrm>
              <a:off x="646200" y="2209680"/>
              <a:ext cx="2055240" cy="39888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untsville hosp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Text Box 6"/>
            <p:cNvSpPr/>
            <p:nvPr/>
          </p:nvSpPr>
          <p:spPr>
            <a:xfrm>
              <a:off x="510120" y="3581280"/>
              <a:ext cx="662400" cy="39888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b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7"/>
            <p:cNvSpPr/>
            <p:nvPr/>
          </p:nvSpPr>
          <p:spPr>
            <a:xfrm>
              <a:off x="527040" y="4800600"/>
              <a:ext cx="833040" cy="39888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ru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AutoShape 8"/>
            <p:cNvSpPr/>
            <p:nvPr/>
          </p:nvSpPr>
          <p:spPr>
            <a:xfrm>
              <a:off x="380880" y="274320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380880" y="533412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380880" y="411480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909360" y="2819520"/>
              <a:ext cx="31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huntsvillehospital.or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Text Box 12"/>
            <p:cNvSpPr/>
            <p:nvPr/>
          </p:nvSpPr>
          <p:spPr>
            <a:xfrm>
              <a:off x="913680" y="419112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ebay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915120" y="541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??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Text Box 15"/>
          <p:cNvSpPr/>
          <p:nvPr/>
        </p:nvSpPr>
        <p:spPr>
          <a:xfrm>
            <a:off x="4823280" y="1752480"/>
            <a:ext cx="1915200" cy="3988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ntsville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16"/>
          <p:cNvSpPr/>
          <p:nvPr/>
        </p:nvSpPr>
        <p:spPr>
          <a:xfrm>
            <a:off x="4648320" y="220968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7"/>
          <p:cNvSpPr/>
          <p:nvPr/>
        </p:nvSpPr>
        <p:spPr>
          <a:xfrm>
            <a:off x="5181480" y="2286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18"/>
          <p:cNvSpPr/>
          <p:nvPr/>
        </p:nvSpPr>
        <p:spPr>
          <a:xfrm>
            <a:off x="4572000" y="1600200"/>
            <a:ext cx="4267080" cy="3048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9"/>
          <p:cNvSpPr/>
          <p:nvPr/>
        </p:nvSpPr>
        <p:spPr>
          <a:xfrm>
            <a:off x="4761360" y="3657600"/>
            <a:ext cx="500760" cy="3988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20"/>
          <p:cNvSpPr/>
          <p:nvPr/>
        </p:nvSpPr>
        <p:spPr>
          <a:xfrm>
            <a:off x="4724280" y="41148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1"/>
          <p:cNvSpPr/>
          <p:nvPr/>
        </p:nvSpPr>
        <p:spPr>
          <a:xfrm>
            <a:off x="5254560" y="41911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spitallink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22"/>
          <p:cNvSpPr/>
          <p:nvPr/>
        </p:nvSpPr>
        <p:spPr>
          <a:xfrm>
            <a:off x="4648320" y="4724280"/>
            <a:ext cx="4267080" cy="1981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23"/>
          <p:cNvSpPr/>
          <p:nvPr/>
        </p:nvSpPr>
        <p:spPr>
          <a:xfrm>
            <a:off x="4870440" y="4800600"/>
            <a:ext cx="833040" cy="3988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24"/>
          <p:cNvSpPr/>
          <p:nvPr/>
        </p:nvSpPr>
        <p:spPr>
          <a:xfrm>
            <a:off x="4800600" y="52578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5"/>
          <p:cNvSpPr/>
          <p:nvPr/>
        </p:nvSpPr>
        <p:spPr>
          <a:xfrm>
            <a:off x="5331600" y="53341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rubs-tv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6"/>
          <p:cNvSpPr/>
          <p:nvPr/>
        </p:nvSpPr>
        <p:spPr>
          <a:xfrm>
            <a:off x="4908240" y="5791320"/>
            <a:ext cx="435240" cy="3988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27"/>
          <p:cNvSpPr/>
          <p:nvPr/>
        </p:nvSpPr>
        <p:spPr>
          <a:xfrm>
            <a:off x="4876920" y="62485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8"/>
          <p:cNvSpPr/>
          <p:nvPr/>
        </p:nvSpPr>
        <p:spPr>
          <a:xfrm>
            <a:off x="5409360" y="6324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ba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Group 34"/>
          <p:cNvGrpSpPr/>
          <p:nvPr/>
        </p:nvGrpSpPr>
        <p:grpSpPr>
          <a:xfrm>
            <a:off x="380880" y="1523520"/>
            <a:ext cx="5639040" cy="1219680"/>
            <a:chOff x="380880" y="1523520"/>
            <a:chExt cx="5639040" cy="1219680"/>
          </a:xfrm>
        </p:grpSpPr>
        <p:sp>
          <p:nvSpPr>
            <p:cNvPr id="617" name="Oval 31"/>
            <p:cNvSpPr/>
            <p:nvPr/>
          </p:nvSpPr>
          <p:spPr>
            <a:xfrm>
              <a:off x="380880" y="2209680"/>
              <a:ext cx="1524240" cy="53352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4495680" y="1752480"/>
              <a:ext cx="1524240" cy="53352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9" name="AutoShape 33"/>
            <p:cNvCxnSpPr>
              <a:stCxn id="617" idx="0"/>
              <a:endCxn id="618" idx="0"/>
            </p:cNvCxnSpPr>
            <p:nvPr/>
          </p:nvCxnSpPr>
          <p:spPr>
            <a:xfrm flipH="1" flipV="1" rot="5400000">
              <a:off x="2971440" y="-87840"/>
              <a:ext cx="457920" cy="4115520"/>
            </a:xfrm>
            <a:prstGeom prst="curvedConnector5">
              <a:avLst>
                <a:gd name="adj1" fmla="val 147521"/>
                <a:gd name="adj2" fmla="val 49995"/>
                <a:gd name="adj3" fmla="val 147521"/>
              </a:avLst>
            </a:prstGeom>
            <a:ln w="22320">
              <a:solidFill>
                <a:srgbClr val="003366"/>
              </a:solidFill>
              <a:miter/>
            </a:ln>
          </p:spPr>
        </p:cxnSp>
      </p:grpSp>
      <p:grpSp>
        <p:nvGrpSpPr>
          <p:cNvPr id="620" name="Group 69"/>
          <p:cNvGrpSpPr/>
          <p:nvPr/>
        </p:nvGrpSpPr>
        <p:grpSpPr>
          <a:xfrm>
            <a:off x="2286000" y="2514600"/>
            <a:ext cx="4267080" cy="2133720"/>
            <a:chOff x="2286000" y="2514600"/>
            <a:chExt cx="4267080" cy="2133720"/>
          </a:xfrm>
        </p:grpSpPr>
        <p:sp>
          <p:nvSpPr>
            <p:cNvPr id="621" name="Oval 36"/>
            <p:cNvSpPr/>
            <p:nvPr/>
          </p:nvSpPr>
          <p:spPr>
            <a:xfrm>
              <a:off x="2286000" y="2743200"/>
              <a:ext cx="1371600" cy="53352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37"/>
            <p:cNvSpPr/>
            <p:nvPr/>
          </p:nvSpPr>
          <p:spPr>
            <a:xfrm>
              <a:off x="5257800" y="4114800"/>
              <a:ext cx="1295280" cy="53352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AutoShape 38"/>
            <p:cNvCxnSpPr>
              <a:stCxn id="621" idx="0"/>
              <a:endCxn id="622" idx="0"/>
            </p:cNvCxnSpPr>
            <p:nvPr/>
          </p:nvCxnSpPr>
          <p:spPr>
            <a:xfrm flipH="1" rot="16200000">
              <a:off x="3752640" y="1950840"/>
              <a:ext cx="1372320" cy="2934360"/>
            </a:xfrm>
            <a:prstGeom prst="curvedConnector5">
              <a:avLst>
                <a:gd name="adj1" fmla="val -15848"/>
                <a:gd name="adj2" fmla="val 50000"/>
                <a:gd name="adj3" fmla="val -15848"/>
              </a:avLst>
            </a:prstGeom>
            <a:ln w="22320">
              <a:solidFill>
                <a:srgbClr val="003366"/>
              </a:solidFill>
              <a:miter/>
            </a:ln>
          </p:spPr>
        </p:cxnSp>
      </p:grpSp>
      <p:grpSp>
        <p:nvGrpSpPr>
          <p:cNvPr id="624" name="Group 44"/>
          <p:cNvGrpSpPr/>
          <p:nvPr/>
        </p:nvGrpSpPr>
        <p:grpSpPr>
          <a:xfrm>
            <a:off x="914400" y="1523520"/>
            <a:ext cx="5105520" cy="1753200"/>
            <a:chOff x="914400" y="1523520"/>
            <a:chExt cx="5105520" cy="1753200"/>
          </a:xfrm>
        </p:grpSpPr>
        <p:sp>
          <p:nvSpPr>
            <p:cNvPr id="625" name="Oval 41"/>
            <p:cNvSpPr/>
            <p:nvPr/>
          </p:nvSpPr>
          <p:spPr>
            <a:xfrm>
              <a:off x="914400" y="2743200"/>
              <a:ext cx="1523880" cy="53352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42"/>
            <p:cNvSpPr/>
            <p:nvPr/>
          </p:nvSpPr>
          <p:spPr>
            <a:xfrm>
              <a:off x="4495680" y="1752480"/>
              <a:ext cx="1524240" cy="53352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7" name="AutoShape 43"/>
            <p:cNvCxnSpPr>
              <a:stCxn id="625" idx="0"/>
              <a:endCxn id="626" idx="0"/>
            </p:cNvCxnSpPr>
            <p:nvPr/>
          </p:nvCxnSpPr>
          <p:spPr>
            <a:xfrm flipH="1" flipV="1" rot="5400000">
              <a:off x="2971440" y="445680"/>
              <a:ext cx="991440" cy="3582000"/>
            </a:xfrm>
            <a:prstGeom prst="curvedConnector5">
              <a:avLst>
                <a:gd name="adj1" fmla="val 121939"/>
                <a:gd name="adj2" fmla="val 49994"/>
                <a:gd name="adj3" fmla="val 121939"/>
              </a:avLst>
            </a:prstGeom>
            <a:ln w="22320">
              <a:solidFill>
                <a:srgbClr val="003366"/>
              </a:solidFill>
              <a:miter/>
            </a:ln>
          </p:spPr>
        </p:cxnSp>
      </p:grpSp>
      <p:grpSp>
        <p:nvGrpSpPr>
          <p:cNvPr id="628" name="Group 70"/>
          <p:cNvGrpSpPr/>
          <p:nvPr/>
        </p:nvGrpSpPr>
        <p:grpSpPr>
          <a:xfrm>
            <a:off x="1752480" y="1904040"/>
            <a:ext cx="4876920" cy="2744280"/>
            <a:chOff x="1752480" y="1904040"/>
            <a:chExt cx="4876920" cy="2744280"/>
          </a:xfrm>
        </p:grpSpPr>
        <p:sp>
          <p:nvSpPr>
            <p:cNvPr id="629" name="Oval 46"/>
            <p:cNvSpPr/>
            <p:nvPr/>
          </p:nvSpPr>
          <p:spPr>
            <a:xfrm>
              <a:off x="1752480" y="2133720"/>
              <a:ext cx="1219320" cy="53316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47"/>
            <p:cNvSpPr/>
            <p:nvPr/>
          </p:nvSpPr>
          <p:spPr>
            <a:xfrm>
              <a:off x="5105520" y="4114800"/>
              <a:ext cx="1523880" cy="53352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1" name="AutoShape 48"/>
            <p:cNvCxnSpPr>
              <a:stCxn id="629" idx="0"/>
              <a:endCxn id="630" idx="0"/>
            </p:cNvCxnSpPr>
            <p:nvPr/>
          </p:nvCxnSpPr>
          <p:spPr>
            <a:xfrm flipH="1" rot="16200000">
              <a:off x="3124080" y="1359360"/>
              <a:ext cx="1981800" cy="3505680"/>
            </a:xfrm>
            <a:prstGeom prst="curvedConnector5">
              <a:avLst>
                <a:gd name="adj1" fmla="val -10973"/>
                <a:gd name="adj2" fmla="val 49994"/>
                <a:gd name="adj3" fmla="val -10973"/>
              </a:avLst>
            </a:prstGeom>
            <a:ln w="22320">
              <a:solidFill>
                <a:srgbClr val="003366"/>
              </a:solidFill>
              <a:miter/>
            </a:ln>
          </p:spPr>
        </p:cxnSp>
      </p:grpSp>
      <p:grpSp>
        <p:nvGrpSpPr>
          <p:cNvPr id="632" name="Group 71"/>
          <p:cNvGrpSpPr/>
          <p:nvPr/>
        </p:nvGrpSpPr>
        <p:grpSpPr>
          <a:xfrm>
            <a:off x="762120" y="3962520"/>
            <a:ext cx="6095880" cy="2749320"/>
            <a:chOff x="762120" y="3962520"/>
            <a:chExt cx="6095880" cy="2749320"/>
          </a:xfrm>
        </p:grpSpPr>
        <p:sp>
          <p:nvSpPr>
            <p:cNvPr id="633" name="Oval 51"/>
            <p:cNvSpPr/>
            <p:nvPr/>
          </p:nvSpPr>
          <p:spPr>
            <a:xfrm>
              <a:off x="762120" y="4191120"/>
              <a:ext cx="1523880" cy="38088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Oval 52"/>
            <p:cNvSpPr/>
            <p:nvPr/>
          </p:nvSpPr>
          <p:spPr>
            <a:xfrm>
              <a:off x="5334120" y="6324480"/>
              <a:ext cx="1523880" cy="38736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5" name="AutoShape 53"/>
            <p:cNvCxnSpPr>
              <a:stCxn id="633" idx="0"/>
              <a:endCxn id="634" idx="0"/>
            </p:cNvCxnSpPr>
            <p:nvPr/>
          </p:nvCxnSpPr>
          <p:spPr>
            <a:xfrm flipH="1" rot="16200000">
              <a:off x="2743200" y="2960280"/>
              <a:ext cx="2134080" cy="4572720"/>
            </a:xfrm>
            <a:prstGeom prst="curvedConnector5">
              <a:avLst>
                <a:gd name="adj1" fmla="val -10190"/>
                <a:gd name="adj2" fmla="val 49996"/>
                <a:gd name="adj3" fmla="val -10190"/>
              </a:avLst>
            </a:prstGeom>
            <a:ln w="22320">
              <a:solidFill>
                <a:srgbClr val="003366"/>
              </a:solidFill>
              <a:miter/>
            </a:ln>
          </p:spPr>
        </p:cxnSp>
      </p:grpSp>
      <p:sp>
        <p:nvSpPr>
          <p:cNvPr id="636" name="Text Box 66"/>
          <p:cNvSpPr/>
          <p:nvPr/>
        </p:nvSpPr>
        <p:spPr>
          <a:xfrm>
            <a:off x="4794120" y="2743200"/>
            <a:ext cx="833040" cy="3988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67"/>
          <p:cNvSpPr/>
          <p:nvPr/>
        </p:nvSpPr>
        <p:spPr>
          <a:xfrm>
            <a:off x="4724280" y="32004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68"/>
          <p:cNvSpPr/>
          <p:nvPr/>
        </p:nvSpPr>
        <p:spPr>
          <a:xfrm>
            <a:off x="5256360" y="32767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rub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rolled Experi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4920" y="1371600"/>
            <a:ext cx="8534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of experimental system must be compared to some baseline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s are necessary to demonstrate the system is improving over some naïve method (strawman) or current best system for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example, in the old joke, someone claims that they are snapping their fingers "to keep the tigers away"; and justifies this behavior by saying "see - its working!" While this "experiment" does not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alsif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the hypothesis "snapping fingers keeps the tigers away", it does not really support the hypothesis -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snapping your fingers does not keep the tigers away as well (Wikipedia: Experimen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D094-8BCF-4AE2-BBEA-AB8800A4F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rol for Query Disambig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control is to order results from search engine random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baseline is to just use ordering from existing (non-personalized) search eng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17E1-8B4F-4608-BFA8-9FF76D0C1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formance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quantitative measure of system’s performance (runtime or accurac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quantitative performance of experimental system to baseline control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easure accuracy of ordering of web search results we measure AUC-R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ercentage of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i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levant results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en by user before finding a relevant result (if scan results from top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A254-EC1E-4922-B727-DC5253076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hat is CS Research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y of new knowledge of computing through mathematical analysis and experimental evaluation of algorithms and computer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A517-A341-41F7-A4BD-518AD6C36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5) Analyze Dat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results support the hypothe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ces statistically signific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statistical test to determine if observed differences are unlikely to be due only to random variation, i.e. probability of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null hypothesi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&lt; .05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50CD-A994-4136-AC93-7352F2B8D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(AUC-ROC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652" name="Object 2"/>
          <p:cNvGraphicFramePr/>
          <p:nvPr/>
        </p:nvGraphicFramePr>
        <p:xfrm>
          <a:off x="-228600" y="1600200"/>
          <a:ext cx="8677440" cy="59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600200"/>
                    <a:ext cx="8677440" cy="59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Text Box 5"/>
          <p:cNvSpPr/>
          <p:nvPr/>
        </p:nvSpPr>
        <p:spPr>
          <a:xfrm>
            <a:off x="3048120" y="2895480"/>
            <a:ext cx="39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Times New Roman"/>
              </a:rPr>
              <a:t>*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5334120" y="2209680"/>
            <a:ext cx="39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Times New Roman"/>
              </a:rPr>
              <a:t>*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6477120" y="1676520"/>
            <a:ext cx="39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Times New Roman"/>
              </a:rPr>
              <a:t>*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Box 8"/>
          <p:cNvSpPr/>
          <p:nvPr/>
        </p:nvSpPr>
        <p:spPr>
          <a:xfrm>
            <a:off x="1463040" y="1219320"/>
            <a:ext cx="72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dicates statistically significant improvement over previous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6) Interpret data and draw conclusions that serve as a starting point for new hypothesi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andom ordering the best baseline to compare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 just order results based on popularity (i.e. how many people clicked on a particular result after submitting a given ambiguous quer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FB52-0DD2-432D-BA62-7F616715C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w Baseline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662" name="Content Placeholder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687920"/>
          </a:xfrm>
          <a:prstGeom prst="rect">
            <a:avLst/>
          </a:prstGeom>
          <a:ln w="0">
            <a:noFill/>
          </a:ln>
        </p:spPr>
      </p:pic>
      <p:sp>
        <p:nvSpPr>
          <p:cNvPr id="66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0965-8790-42F5-87DF-DA1728B94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fine Syst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MLN that incorporates popularity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run experiment to obtain results for revised version and verify the hypothesis that it performs better than the popularity base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A374-FAC4-421B-BF87-0B5030BFD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for Revised System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668" name="Content Placeholder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68792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D420-2B94-4858-BB8B-6BC386171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7) Publish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submitted to the international data mining con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DD-09: Paris, June 28 – July 1, 2009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0C6C-83F7-4135-82D0-38E6A8E28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pistemology</a:t>
            </a:r>
            <a:br>
              <a:rPr sz="3600"/>
            </a:b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definitions from Wikipedia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istem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rom Gree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πιστήμ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pist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"knowledge"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λόγο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"logos")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y of knowled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branch of philosophy concerned with the nature and scope (limitations) of knowledge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ddresses the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"What is knowledge?"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"How is knowledge acquired?"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"What do people know?"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"How do we know what we know?"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5D3C-39A2-42AD-9265-5DA484D2B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tionalis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ional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"any view appealing to reason as a source of knowledge or justification" (Lacey 286). In more technical terms it is a method or a theory "in which the criterion of the truth is not sensory but intellectual and deductive" (Bourke 263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ted with Socrates (469 BC–399 BC) and Plato (428/427 BC – 348/347 B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31B6-FBF0-4C3B-8982-DB3CD3017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piricis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iric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theory of knowledge which asserts that knowledge arises from experience. Empiricism emphasizes the role of experience and evidence, especially sensory perception, in the formation of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ted with Aristotle (384 BC – 322 B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D0FF-9316-40C9-8BBC-AD6F3C08A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tionalism in CS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heoretical CS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s are formal mathematical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important properties of algorithms/software can b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ov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ermin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rrectness (satisfies a formal specification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mputational Complexity (time and space requirements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4728-4B4E-4FDF-8BC7-0AC0802B4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oretical CS Resear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Design an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sign a new (more efficient) algorithm for some well-defined problem (e.g. sorting, longest-common-subsequence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thematically prove the correctness and improved complexity of the new algorithm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tical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m a mathematical conjecture about a computational problem (e.g. graph isomorphism is NP-complete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thematically prove the conjecture as a theorem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1F66-1C0C-4804-B12A-AFE1330C0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mits of Rationalism in 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software is too complex to analyze theoret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correctness cannot be characterized formally and depends on natural or human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tein fold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ndwriting/speech recogni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software behavior on real data depends on unknown natural properties of this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ocality affecting paging performanc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4FCA-2B54-4380-BC50-804352544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piricism in CS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Experimental CS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r of software can be studied experiment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cdotal evidence (running a few sample cases) is insuffic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 data (e.g. accuracy, run-time) on running programs many times on large, real-world benchmark coll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 hypotheses about behavior using controlled experi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ly analyze results for signific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35E4-1050-4B2A-A53B-3A9D2BF60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9-02-15T00:51:28Z</dcterms:modified>
  <cp:revision>119</cp:revision>
  <dc:subject/>
  <dc:title>Intelligent Information Retrieval and Web Search</dc:title>
</cp:coreProperties>
</file>