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5682-0BE0-4E9E-872A-610D7E14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0D5B-179E-4E8C-956C-1028B8FC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68D1-A095-4EBE-82A9-137DDD09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2C09-D538-4E91-B46B-F953A688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9738-EB4B-4B92-A6F2-D7B7064C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E9D5-0C76-4691-89B8-B022BF95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D99-7146-4926-AC62-93AF75AEA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65E-B81E-44E2-8A33-C9859D63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C7BD-4BE9-4A3D-B8D4-A2B643011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2338-09F3-4F7B-9328-6D23D09B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A96A-CADA-45DA-A28B-4A1A9A830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569-C502-42AD-8D6F-E4DEC155D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563D-6B5C-4457-9C23-0A27196A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3B5-B725-41CD-9261-B29A8277F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BE16-5532-472E-9023-639A73508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1EF4-6845-4CC5-B9F1-2FB86B1D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07BD-CEE4-46D7-88A0-5A9C2345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1AC5-5CCA-4549-B3A7-BA8D90B89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6B1C-3741-44DF-9537-6392FF684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7A7-50B3-4C73-A4F4-E4DF2502B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31B-2C7F-4C39-BD16-2B083109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9F7C-A20E-4A56-9F36-2874261CD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F2C-8731-4FFB-ACB4-98464502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95A7-0469-4C58-A7BE-6F0D8EB7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4F2-0918-4599-8096-02F89E935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EAAB-56D4-435F-A899-38A2B9A1C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C8A0-C270-435A-BE62-D8EA98EF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1A7D-10BC-4A12-B971-CA0A151B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C428-1628-4008-AD41-9C12E6BB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ACCA3B-ABB4-45E9-8E16-8F0C206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0C0DF8-FF32-4F70-9D3E-99803862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CE3CA-373F-4936-B509-590853AF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7F8A79-F72B-4FB7-8A13-3AF763E4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2E0F5-598E-4A56-B756-484A900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7B4E41-3319-43CC-A112-4CF7CB8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DFDAA0-162B-4689-ABAF-0E5247E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A1C86-EB9E-4577-AC51-A2A647FA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B7760-C2B0-443F-82D8-BA2F2FB7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ACD4AE-8873-4252-BB8C-D5C0574D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8260-A5E8-440F-BBC9-0FF5E9B2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120CA9-2A7C-4B76-915D-EA3FC7BC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5CBDF5-30CD-493A-A891-2865D0B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DA4CC-4E9C-4389-9CCA-6A0C70B8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884E8-FB1F-4F23-8262-90841CD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7811EA-846C-47ED-9014-19CD5EFA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ECD0EF-84C7-4EA4-B2EA-D9CCBAE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AE0562-E328-4140-8C38-9E1FE5C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60F77-C643-4E37-BFD6-D61902A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FC8308-2C10-423E-AE5E-859E06F7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ABEB3-3839-4333-A4DD-6F6131AF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92C1-C983-4FE2-BD43-D713D0C0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152A5C-BC46-4031-8448-7C28079C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E63ED3-23BA-4A2A-A80E-1BB0D266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CD582-D34F-4900-83A6-D47010ED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8BCEB8-0691-4929-8646-4F99CF6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5D9F36-330A-4625-9D57-966FA1E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5CF6B3-A02B-4B95-95F0-0EC6971D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0F7D00-4F6C-4BCB-9CF4-302C5E03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840553-6521-4E9B-8DE9-CF78297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B39A57-38C5-4BB9-8805-E6ED513A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6BA755-F09B-4E18-9857-0C1ADB7F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025CF-3FB9-450B-B487-E74B1156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9D703-4336-43F1-8CB4-2583D526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6573F0-7210-44F4-95D9-DFC76302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5C3B7C-8431-4CDD-B729-8E475B2E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E93442-4355-4FF1-AECC-FC81AD30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628EF0-1315-4E79-BE28-B754996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F8277D-8D4E-4917-A00A-E60D7AAA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730FB2-F9FF-429C-A299-20488AD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722B48-98C3-48FC-912E-F7C97F54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790BB2-253B-4C12-A6FB-90E646C1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C42CAF-30EF-4CA7-B069-62B67EB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B8860-99D8-4B29-B022-F9006AF2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DCD42B-66F7-4EA1-83C1-3773C88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2ECAF1-54CB-4F96-A05A-91A4C7BA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D71CE2-B917-48FE-A5FD-B7B414B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0E6D06-9B3A-49E7-9825-3D4F476C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D1558F-CD73-4963-8FE7-B2F23B20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43315-2B33-4A9C-8F84-08ECF334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C4F6F-E8AE-4C05-B200-0563BBF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66360-D36A-4877-9446-D3DE4816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5F229-CB04-45D6-8A72-6AEFA966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2AD61-B251-4CBC-9D36-5FD828F4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42D8-E77A-4708-BBBD-BA8D545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793A4-644B-4C34-803E-84A24E4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50EC-6C4A-4EF1-BB44-0881B3E8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D5307-9A26-40D0-A2FE-5C32C5DE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3DF6A-B9B7-4370-A06B-53583032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0650C-4D41-40AF-9A06-3DFF11B3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5814B-F8DB-417C-979F-49D04445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378DD-F17A-403D-A5F3-03F72971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EF0E1-4070-4A46-BE31-3C9D576C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C4999-A0BB-4C80-AB84-1EA3C7EA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3FC37-6497-4FA0-94A6-93780213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376B-9F78-4F2A-8627-483C9F6D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70005-29A7-4677-A839-EBDC1783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76C69-EA0F-494E-9A5D-F001428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54357-1839-48B3-B0A6-B7CCF3BC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7A3BE-70ED-49F8-B590-9246BCD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ED0C4-7B1A-4BC7-94AB-C5BA222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ED821-836C-4E13-BB22-312F70DF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D33E5-9F85-442E-B858-57F38DA5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5E986-BDBE-42C4-B4F7-E03ACAB3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4F79F-C126-4653-ACF6-1FBD22E1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0F5CA-98F0-4BE6-B236-318E9BA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AD7C-B6F6-4396-8A6A-D6E7D5B4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59864-239D-45AC-8665-D1F06A6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88F05-AF1F-4195-B024-AAE2C19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1C025-E0B7-43BB-BA21-924BEFF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FBA65-9463-4B96-B5F1-4203F61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D52FE-ED2E-4978-9808-E0C45A9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C6851-1EF2-4F6A-BE54-12AED1EB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3BFC4-B107-4AC6-9CB2-FFC50E01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110AC-43F6-4499-A4DD-52A62097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00B1D-643A-4856-BCB8-7E6509DA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F0A20-6EDC-41C6-81F0-056B6CF0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D5FE-3236-45C2-9177-535B62BB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AA41C-34DA-4003-B570-339DB4AE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DF0C4-9E09-4183-9DE8-C5ADF806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97921-42C9-4960-A0FC-36B4B445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15C3D-1711-4553-8D41-0A553C43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C476F-4427-4F40-A469-71CDBE32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07E8B-15B5-46D7-9F44-9FAF69C2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36A59-C53A-4338-9332-A67FB26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CD305-0C86-4F2B-9434-5542901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55F0D-5EF2-437D-966B-10EFA7A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C4CA8-1775-435C-BD22-78765FC0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CF4A-3BDE-4F35-A20E-9466B18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D77C8-C671-4BFC-822D-E06D643F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42710-850A-4427-9CF6-4D320EC4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8D288-F7B4-4569-B8DF-575CB01D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8160A-9459-4FA8-B0B4-4EA7B7E4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DF63F-15CE-4D33-A275-89AD0079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78F2C-4D5E-40CB-A6A8-92111057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A310C-DD25-4CE2-9907-D5CA4D41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7975F-F3D5-4A11-9A42-CD1BC5B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DD3C9-CD99-4D6C-ACF1-604DFA0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053C9-1C42-4749-9BA2-7583C17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4D74-6097-4776-8089-27244FCC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4585C-78AA-4B8D-8872-92F6602B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06029-5238-44AE-AD74-CBF2D698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D4C25-E6A6-4B38-B14F-2BA71644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12CCC-42C4-44F0-8D2B-DD301E38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78947-BF09-4E7D-933E-209605BA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12CCF-47FF-41D1-9015-201A4D6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B2B6D-6DB5-4DC7-8549-F8F4EB2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47A8E-51F4-4E88-B88F-8262B82D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9D302-E9CE-42D7-BF00-23EAC7F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27A0D-F88A-4A48-80F7-527DE47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038A-1185-4818-852F-D85657F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B8FBA-AA2C-47B9-B6D2-99F0877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4C469-3D62-4CA6-A8DB-CA94FE9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C82FB-DC41-46B0-8B24-41FFD238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4206A-AAA6-4294-BE12-36A8A0EB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7615B-D388-422C-B4E9-D27AE260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79D7E-6C6C-4125-835B-223B11C3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19FB9-1C95-4160-B4B0-8B907FD6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881C8F-F207-4DAD-AD6D-075A435D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1D139-F37D-434E-BA66-7368774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13E440-D21C-4B50-9715-46E6E2F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C44B-E633-4F89-AACB-86B4806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C24BA-EFB9-41DB-893C-CD45FFC2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12613-CE26-4BF1-8526-D914212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E2A75-2EDE-48D0-8FF3-EF9963ED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865FF-9EDE-487F-A712-0D6C99C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AE74DD-43DC-417A-A3ED-C911C1BA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B1C294-98DF-4FE0-B689-198F6C41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20795-1897-4E85-AAEE-FDF7C811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F329DD-0F33-42A8-B640-7F9AAF03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68216-8259-4B6F-8E8D-3D7696C9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F40D0-AB35-48C4-95FD-8CBEE0B0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3DA-B2A6-48B3-B4BB-15F98DB1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82C5-5E90-4B9A-ABCB-DDAC730B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F156-855F-4083-9982-0D8B6809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7614-39BE-4EB8-BA44-5148EB43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AC32-41EE-4773-9941-044951BD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BA6A-A873-4537-A01B-BE77CE08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2F57-28B6-4074-A316-05FA911F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6EB7-6ECE-4C2D-941C-90D7B143F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957-65ED-43EF-B3EB-5518E813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BF53-D5F6-4E68-A65A-BD58E110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7AF4-FBF0-4190-8BF1-2F93489E9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543-B0D0-4B72-9F53-F2F04946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A3DF-6A0B-4537-91FD-B55259B4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S 178H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omputer Science Re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CS Resear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tific Method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steps from Wikipedia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efine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Gather information and resources (obser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Form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Perform experiment and collec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Analyz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Interpret data and draw conclusions that serve as a starting point for new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) Publish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) Retest (frequently done by other scienti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5878-BB06-43E0-A1D6-A9A5007A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Curved Right Arrow 14"/>
          <p:cNvSpPr/>
          <p:nvPr/>
        </p:nvSpPr>
        <p:spPr>
          <a:xfrm flipV="1">
            <a:off x="152280" y="2818800"/>
            <a:ext cx="457200" cy="1981080"/>
          </a:xfrm>
          <a:custGeom>
            <a:avLst/>
            <a:gdLst>
              <a:gd name="textAreaLeft" fmla="*/ 61200 w 457200"/>
              <a:gd name="textAreaRight" fmla="*/ 396000 w 457200"/>
              <a:gd name="textAreaTop" fmla="*/ 451800 h 1981080"/>
              <a:gd name="textAreaBottom" fmla="*/ 147132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66" stAng="-5400000" swAng="-5400000"/>
                <a:lnTo>
                  <a:pt x="0" y="11112"/>
                </a:lnTo>
                <a:arcTo wR="21600" hR="9866" stAng="10800000" swAng="-3631197"/>
                <a:lnTo>
                  <a:pt x="16200" y="21287"/>
                </a:lnTo>
                <a:lnTo>
                  <a:pt x="21600" y="20354"/>
                </a:lnTo>
                <a:lnTo>
                  <a:pt x="16200" y="18795"/>
                </a:lnTo>
                <a:lnTo>
                  <a:pt x="16200" y="19418"/>
                </a:lnTo>
                <a:arcTo wR="21600" hR="9866" stAng="7168803" swAng="3531873"/>
                <a:lnTo>
                  <a:pt x="43" y="10489"/>
                </a:lnTo>
                <a:arcTo wR="21600" hR="9866" stAng="-10700676" swAng="5300676"/>
                <a:close/>
              </a:path>
              <a:path fill="darkenLess" w="21600" h="21600">
                <a:moveTo>
                  <a:pt x="21600" y="0"/>
                </a:moveTo>
                <a:arcTo wR="21600" hR="9866" stAng="-5400000" swAng="-5400000"/>
                <a:lnTo>
                  <a:pt x="0" y="9866"/>
                </a:lnTo>
                <a:arcTo wR="21600" hR="9866" stAng="10800000" swAng="-99324"/>
                <a:lnTo>
                  <a:pt x="43" y="10489"/>
                </a:lnTo>
                <a:arcTo wR="21600" hR="9866" stAng="-10700676" swAng="5300676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1) Define the ques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from My Research: Search Query Disambiguation from Short Se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n a web search engine disambiguate queries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1D7-4749-4A46-BA96-66AEF698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2666880" y="3276720"/>
            <a:ext cx="3353040" cy="457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27432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Rounded Rectangle 6"/>
          <p:cNvGrpSpPr/>
          <p:nvPr/>
        </p:nvGrpSpPr>
        <p:grpSpPr>
          <a:xfrm>
            <a:off x="6235560" y="3267000"/>
            <a:ext cx="946440" cy="469800"/>
            <a:chOff x="6235560" y="3267000"/>
            <a:chExt cx="946440" cy="469800"/>
          </a:xfrm>
        </p:grpSpPr>
        <p:pic>
          <p:nvPicPr>
            <p:cNvPr id="548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235560" y="3267000"/>
              <a:ext cx="9464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272280" y="3298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1828800" y="4648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3"/>
          <a:stretch/>
        </p:blipFill>
        <p:spPr>
          <a:xfrm>
            <a:off x="5562720" y="4648320"/>
            <a:ext cx="1981080" cy="2063520"/>
          </a:xfrm>
          <a:prstGeom prst="rect">
            <a:avLst/>
          </a:prstGeom>
          <a:ln w="0">
            <a:noFill/>
          </a:ln>
        </p:spPr>
      </p:pic>
      <p:cxnSp>
        <p:nvCxnSpPr>
          <p:cNvPr id="552" name="Straight Arrow Connector 11"/>
          <p:cNvCxnSpPr/>
          <p:nvPr/>
        </p:nvCxnSpPr>
        <p:spPr>
          <a:xfrm flipH="1">
            <a:off x="3809520" y="3885840"/>
            <a:ext cx="534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13"/>
          <p:cNvCxnSpPr/>
          <p:nvPr/>
        </p:nvCxnSpPr>
        <p:spPr>
          <a:xfrm>
            <a:off x="4343400" y="3885840"/>
            <a:ext cx="137232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4" name="TextBox 14"/>
          <p:cNvSpPr/>
          <p:nvPr/>
        </p:nvSpPr>
        <p:spPr>
          <a:xfrm>
            <a:off x="4270320" y="39625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) Gather information and resourc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ed web search session data from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instances of ambiguous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ontextual clues that might help disambiguate qu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126E-8655-4B73-B78D-E7AD52FD9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can Aid Disambigu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59" name="Group 5"/>
          <p:cNvGrpSpPr/>
          <p:nvPr/>
        </p:nvGrpSpPr>
        <p:grpSpPr>
          <a:xfrm>
            <a:off x="304920" y="1981080"/>
            <a:ext cx="3886200" cy="4343400"/>
            <a:chOff x="304920" y="1981080"/>
            <a:chExt cx="3886200" cy="4343400"/>
          </a:xfrm>
        </p:grpSpPr>
        <p:sp>
          <p:nvSpPr>
            <p:cNvPr id="560" name="AutoShape 6"/>
            <p:cNvSpPr/>
            <p:nvPr/>
          </p:nvSpPr>
          <p:spPr>
            <a:xfrm>
              <a:off x="304920" y="1981080"/>
              <a:ext cx="3886200" cy="4343400"/>
            </a:xfrm>
            <a:custGeom>
              <a:avLst/>
              <a:gdLst>
                <a:gd name="textAreaLeft" fmla="*/ 189720 w 3886200"/>
                <a:gd name="textAreaRight" fmla="*/ 3696480 w 3886200"/>
                <a:gd name="textAreaTop" fmla="*/ 189720 h 4343400"/>
                <a:gd name="textAreaBottom" fmla="*/ 4153680 h 4343400"/>
              </a:gdLst>
              <a:ahLst/>
              <a:rect l="textAreaLeft" t="textAreaTop" r="textAreaRight" b="textAreaBottom"/>
              <a:pathLst>
                <a:path w="21600" h="24141">
                  <a:moveTo>
                    <a:pt x="3600" y="0"/>
                  </a:moveTo>
                  <a:arcTo wR="3600" hR="3600" stAng="16200000" swAng="-5400000"/>
                  <a:lnTo>
                    <a:pt x="0" y="20541"/>
                  </a:lnTo>
                  <a:arcTo wR="3600" hR="3600" stAng="10800000" swAng="-5400000"/>
                  <a:lnTo>
                    <a:pt x="18000" y="24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7"/>
            <p:cNvSpPr/>
            <p:nvPr/>
          </p:nvSpPr>
          <p:spPr>
            <a:xfrm>
              <a:off x="539640" y="2209680"/>
              <a:ext cx="97632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8.7 f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8"/>
            <p:cNvSpPr/>
            <p:nvPr/>
          </p:nvSpPr>
          <p:spPr>
            <a:xfrm>
              <a:off x="508320" y="3581280"/>
              <a:ext cx="65016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ro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527040" y="4800600"/>
              <a:ext cx="8330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u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10"/>
            <p:cNvSpPr/>
            <p:nvPr/>
          </p:nvSpPr>
          <p:spPr>
            <a:xfrm>
              <a:off x="380880" y="27432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1"/>
            <p:cNvSpPr/>
            <p:nvPr/>
          </p:nvSpPr>
          <p:spPr>
            <a:xfrm>
              <a:off x="380880" y="533412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2"/>
            <p:cNvSpPr/>
            <p:nvPr/>
          </p:nvSpPr>
          <p:spPr>
            <a:xfrm>
              <a:off x="380880" y="4114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911520" y="281952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star987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4"/>
            <p:cNvSpPr/>
            <p:nvPr/>
          </p:nvSpPr>
          <p:spPr>
            <a:xfrm>
              <a:off x="912240" y="41911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kroq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5"/>
            <p:cNvSpPr/>
            <p:nvPr/>
          </p:nvSpPr>
          <p:spPr>
            <a:xfrm>
              <a:off x="915120" y="541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6"/>
          <p:cNvGrpSpPr/>
          <p:nvPr/>
        </p:nvGrpSpPr>
        <p:grpSpPr>
          <a:xfrm>
            <a:off x="4648320" y="1981080"/>
            <a:ext cx="4349880" cy="4343400"/>
            <a:chOff x="4648320" y="1981080"/>
            <a:chExt cx="4349880" cy="4343400"/>
          </a:xfrm>
        </p:grpSpPr>
        <p:sp>
          <p:nvSpPr>
            <p:cNvPr id="571" name="AutoShape 17"/>
            <p:cNvSpPr/>
            <p:nvPr/>
          </p:nvSpPr>
          <p:spPr>
            <a:xfrm>
              <a:off x="4648320" y="1981080"/>
              <a:ext cx="3886200" cy="4343400"/>
            </a:xfrm>
            <a:custGeom>
              <a:avLst/>
              <a:gdLst>
                <a:gd name="textAreaLeft" fmla="*/ 189720 w 3886200"/>
                <a:gd name="textAreaRight" fmla="*/ 3696480 w 3886200"/>
                <a:gd name="textAreaTop" fmla="*/ 189720 h 4343400"/>
                <a:gd name="textAreaBottom" fmla="*/ 4153680 h 4343400"/>
              </a:gdLst>
              <a:ahLst/>
              <a:rect l="textAreaLeft" t="textAreaTop" r="textAreaRight" b="textAreaBottom"/>
              <a:pathLst>
                <a:path w="21600" h="24141">
                  <a:moveTo>
                    <a:pt x="3600" y="0"/>
                  </a:moveTo>
                  <a:arcTo wR="3600" hR="3600" stAng="16200000" swAng="-5400000"/>
                  <a:lnTo>
                    <a:pt x="0" y="20541"/>
                  </a:lnTo>
                  <a:arcTo wR="3600" hR="3600" stAng="10800000" swAng="-5400000"/>
                  <a:lnTo>
                    <a:pt x="18000" y="24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8"/>
            <p:cNvSpPr/>
            <p:nvPr/>
          </p:nvSpPr>
          <p:spPr>
            <a:xfrm>
              <a:off x="4989600" y="2209680"/>
              <a:ext cx="20552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untsville hos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9"/>
            <p:cNvSpPr/>
            <p:nvPr/>
          </p:nvSpPr>
          <p:spPr>
            <a:xfrm>
              <a:off x="4902120" y="3581280"/>
              <a:ext cx="116532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bay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0"/>
            <p:cNvSpPr/>
            <p:nvPr/>
          </p:nvSpPr>
          <p:spPr>
            <a:xfrm>
              <a:off x="4870440" y="4800600"/>
              <a:ext cx="8330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u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1"/>
            <p:cNvSpPr/>
            <p:nvPr/>
          </p:nvSpPr>
          <p:spPr>
            <a:xfrm>
              <a:off x="4724280" y="27432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4724280" y="533412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4724280" y="4114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4"/>
            <p:cNvSpPr/>
            <p:nvPr/>
          </p:nvSpPr>
          <p:spPr>
            <a:xfrm>
              <a:off x="5251320" y="2819520"/>
              <a:ext cx="37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huntsvillehospital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5"/>
            <p:cNvSpPr/>
            <p:nvPr/>
          </p:nvSpPr>
          <p:spPr>
            <a:xfrm>
              <a:off x="5255640" y="41911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ww.ebay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26"/>
            <p:cNvSpPr/>
            <p:nvPr/>
          </p:nvSpPr>
          <p:spPr>
            <a:xfrm>
              <a:off x="5258520" y="541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Group 29"/>
          <p:cNvGrpSpPr/>
          <p:nvPr/>
        </p:nvGrpSpPr>
        <p:grpSpPr>
          <a:xfrm>
            <a:off x="959760" y="5410080"/>
            <a:ext cx="5925240" cy="420840"/>
            <a:chOff x="959760" y="5410080"/>
            <a:chExt cx="5925240" cy="420840"/>
          </a:xfrm>
        </p:grpSpPr>
        <p:sp>
          <p:nvSpPr>
            <p:cNvPr id="582" name="Text Box 27"/>
            <p:cNvSpPr/>
            <p:nvPr/>
          </p:nvSpPr>
          <p:spPr>
            <a:xfrm>
              <a:off x="959760" y="5462640"/>
              <a:ext cx="1963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crubs-tv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28"/>
            <p:cNvSpPr/>
            <p:nvPr/>
          </p:nvSpPr>
          <p:spPr>
            <a:xfrm>
              <a:off x="5332680" y="5410080"/>
              <a:ext cx="155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crubs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) Form Hypothe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queries and clicks in a session can help disambiguate queries by relating them to previous sessions involving the same query (where we know what result was click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FB3-9889-403B-9603-C9027C59F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) Perform Experiment and Collect Data 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system that uses prior context and previous session data to predict clicked results for new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 results from existing search engine based on predicted probability of clicking on a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hould reduce number of results user needs to examine before finding a relevant on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on unseen data and compare predictions to actual results cli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2C91-671A-46EE-829B-30E3BA03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Relational Information with a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rkov Logic Network (ML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91" name="Group 29"/>
          <p:cNvGrpSpPr/>
          <p:nvPr/>
        </p:nvGrpSpPr>
        <p:grpSpPr>
          <a:xfrm>
            <a:off x="304920" y="1981080"/>
            <a:ext cx="3886200" cy="4343400"/>
            <a:chOff x="304920" y="1981080"/>
            <a:chExt cx="3886200" cy="4343400"/>
          </a:xfrm>
        </p:grpSpPr>
        <p:sp>
          <p:nvSpPr>
            <p:cNvPr id="592" name="AutoShape 3"/>
            <p:cNvSpPr/>
            <p:nvPr/>
          </p:nvSpPr>
          <p:spPr>
            <a:xfrm>
              <a:off x="304920" y="1981080"/>
              <a:ext cx="3886200" cy="4343400"/>
            </a:xfrm>
            <a:custGeom>
              <a:avLst/>
              <a:gdLst>
                <a:gd name="textAreaLeft" fmla="*/ 189720 w 3886200"/>
                <a:gd name="textAreaRight" fmla="*/ 3696480 w 3886200"/>
                <a:gd name="textAreaTop" fmla="*/ 189720 h 4343400"/>
                <a:gd name="textAreaBottom" fmla="*/ 4153680 h 4343400"/>
              </a:gdLst>
              <a:ahLst/>
              <a:rect l="textAreaLeft" t="textAreaTop" r="textAreaRight" b="textAreaBottom"/>
              <a:pathLst>
                <a:path w="21600" h="24141">
                  <a:moveTo>
                    <a:pt x="3600" y="0"/>
                  </a:moveTo>
                  <a:arcTo wR="3600" hR="3600" stAng="16200000" swAng="-5400000"/>
                  <a:lnTo>
                    <a:pt x="0" y="20541"/>
                  </a:lnTo>
                  <a:arcTo wR="3600" hR="3600" stAng="10800000" swAng="-5400000"/>
                  <a:lnTo>
                    <a:pt x="18000" y="24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5"/>
            <p:cNvSpPr/>
            <p:nvPr/>
          </p:nvSpPr>
          <p:spPr>
            <a:xfrm>
              <a:off x="646200" y="2209680"/>
              <a:ext cx="20552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untsville hos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510120" y="3581280"/>
              <a:ext cx="66240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b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527040" y="4800600"/>
              <a:ext cx="833040" cy="39888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u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>
              <a:off x="380880" y="27432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380880" y="533412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380880" y="4114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909360" y="28195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huntsvillehospital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12"/>
            <p:cNvSpPr/>
            <p:nvPr/>
          </p:nvSpPr>
          <p:spPr>
            <a:xfrm>
              <a:off x="913680" y="4191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bay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915120" y="541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Text Box 15"/>
          <p:cNvSpPr/>
          <p:nvPr/>
        </p:nvSpPr>
        <p:spPr>
          <a:xfrm>
            <a:off x="4823280" y="1752480"/>
            <a:ext cx="191520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tsville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6"/>
          <p:cNvSpPr/>
          <p:nvPr/>
        </p:nvSpPr>
        <p:spPr>
          <a:xfrm>
            <a:off x="4648320" y="220968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5181480" y="2286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18"/>
          <p:cNvSpPr/>
          <p:nvPr/>
        </p:nvSpPr>
        <p:spPr>
          <a:xfrm>
            <a:off x="4572000" y="1600200"/>
            <a:ext cx="4267080" cy="3048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4761360" y="3657600"/>
            <a:ext cx="50076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4724280" y="41148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5254560" y="4191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pitallin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4648320" y="4724280"/>
            <a:ext cx="4267080" cy="1981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4870440" y="4800600"/>
            <a:ext cx="83304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4"/>
          <p:cNvSpPr/>
          <p:nvPr/>
        </p:nvSpPr>
        <p:spPr>
          <a:xfrm>
            <a:off x="4800600" y="52578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5"/>
          <p:cNvSpPr/>
          <p:nvPr/>
        </p:nvSpPr>
        <p:spPr>
          <a:xfrm>
            <a:off x="5331600" y="53341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rubs-tv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6"/>
          <p:cNvSpPr/>
          <p:nvPr/>
        </p:nvSpPr>
        <p:spPr>
          <a:xfrm>
            <a:off x="4908240" y="5791320"/>
            <a:ext cx="43524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7"/>
          <p:cNvSpPr/>
          <p:nvPr/>
        </p:nvSpPr>
        <p:spPr>
          <a:xfrm>
            <a:off x="4876920" y="6248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8"/>
          <p:cNvSpPr/>
          <p:nvPr/>
        </p:nvSpPr>
        <p:spPr>
          <a:xfrm>
            <a:off x="5409360" y="6324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ba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34"/>
          <p:cNvGrpSpPr/>
          <p:nvPr/>
        </p:nvGrpSpPr>
        <p:grpSpPr>
          <a:xfrm>
            <a:off x="380880" y="1523520"/>
            <a:ext cx="5639040" cy="1219680"/>
            <a:chOff x="380880" y="1523520"/>
            <a:chExt cx="5639040" cy="1219680"/>
          </a:xfrm>
        </p:grpSpPr>
        <p:sp>
          <p:nvSpPr>
            <p:cNvPr id="617" name="Oval 31"/>
            <p:cNvSpPr/>
            <p:nvPr/>
          </p:nvSpPr>
          <p:spPr>
            <a:xfrm>
              <a:off x="380880" y="2209680"/>
              <a:ext cx="152424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495680" y="1752480"/>
              <a:ext cx="152424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9" name="AutoShape 33"/>
            <p:cNvCxnSpPr>
              <a:stCxn id="617" idx="0"/>
              <a:endCxn id="618" idx="0"/>
            </p:cNvCxnSpPr>
            <p:nvPr/>
          </p:nvCxnSpPr>
          <p:spPr>
            <a:xfrm flipH="1" flipV="1" rot="5400000">
              <a:off x="2971440" y="-87840"/>
              <a:ext cx="457920" cy="4115520"/>
            </a:xfrm>
            <a:prstGeom prst="curvedConnector5">
              <a:avLst>
                <a:gd name="adj1" fmla="val 147521"/>
                <a:gd name="adj2" fmla="val 49995"/>
                <a:gd name="adj3" fmla="val 147521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20" name="Group 69"/>
          <p:cNvGrpSpPr/>
          <p:nvPr/>
        </p:nvGrpSpPr>
        <p:grpSpPr>
          <a:xfrm>
            <a:off x="2286000" y="2514600"/>
            <a:ext cx="4267080" cy="2133720"/>
            <a:chOff x="2286000" y="2514600"/>
            <a:chExt cx="4267080" cy="2133720"/>
          </a:xfrm>
        </p:grpSpPr>
        <p:sp>
          <p:nvSpPr>
            <p:cNvPr id="621" name="Oval 36"/>
            <p:cNvSpPr/>
            <p:nvPr/>
          </p:nvSpPr>
          <p:spPr>
            <a:xfrm>
              <a:off x="2286000" y="2743200"/>
              <a:ext cx="137160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5257800" y="4114800"/>
              <a:ext cx="129528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38"/>
            <p:cNvCxnSpPr>
              <a:stCxn id="621" idx="0"/>
              <a:endCxn id="622" idx="0"/>
            </p:cNvCxnSpPr>
            <p:nvPr/>
          </p:nvCxnSpPr>
          <p:spPr>
            <a:xfrm flipH="1" rot="16200000">
              <a:off x="3752640" y="1950840"/>
              <a:ext cx="1372320" cy="2934360"/>
            </a:xfrm>
            <a:prstGeom prst="curvedConnector5">
              <a:avLst>
                <a:gd name="adj1" fmla="val -15848"/>
                <a:gd name="adj2" fmla="val 50000"/>
                <a:gd name="adj3" fmla="val -15848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24" name="Group 44"/>
          <p:cNvGrpSpPr/>
          <p:nvPr/>
        </p:nvGrpSpPr>
        <p:grpSpPr>
          <a:xfrm>
            <a:off x="914400" y="1523520"/>
            <a:ext cx="5105520" cy="1753200"/>
            <a:chOff x="914400" y="1523520"/>
            <a:chExt cx="5105520" cy="1753200"/>
          </a:xfrm>
        </p:grpSpPr>
        <p:sp>
          <p:nvSpPr>
            <p:cNvPr id="625" name="Oval 41"/>
            <p:cNvSpPr/>
            <p:nvPr/>
          </p:nvSpPr>
          <p:spPr>
            <a:xfrm>
              <a:off x="914400" y="2743200"/>
              <a:ext cx="152388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42"/>
            <p:cNvSpPr/>
            <p:nvPr/>
          </p:nvSpPr>
          <p:spPr>
            <a:xfrm>
              <a:off x="4495680" y="1752480"/>
              <a:ext cx="152424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7" name="AutoShape 43"/>
            <p:cNvCxnSpPr>
              <a:stCxn id="625" idx="0"/>
              <a:endCxn id="626" idx="0"/>
            </p:cNvCxnSpPr>
            <p:nvPr/>
          </p:nvCxnSpPr>
          <p:spPr>
            <a:xfrm flipH="1" flipV="1" rot="5400000">
              <a:off x="2971440" y="445680"/>
              <a:ext cx="991440" cy="3582000"/>
            </a:xfrm>
            <a:prstGeom prst="curvedConnector5">
              <a:avLst>
                <a:gd name="adj1" fmla="val 121939"/>
                <a:gd name="adj2" fmla="val 49994"/>
                <a:gd name="adj3" fmla="val 121939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28" name="Group 70"/>
          <p:cNvGrpSpPr/>
          <p:nvPr/>
        </p:nvGrpSpPr>
        <p:grpSpPr>
          <a:xfrm>
            <a:off x="1752480" y="1904040"/>
            <a:ext cx="4876920" cy="2744280"/>
            <a:chOff x="1752480" y="1904040"/>
            <a:chExt cx="4876920" cy="2744280"/>
          </a:xfrm>
        </p:grpSpPr>
        <p:sp>
          <p:nvSpPr>
            <p:cNvPr id="629" name="Oval 46"/>
            <p:cNvSpPr/>
            <p:nvPr/>
          </p:nvSpPr>
          <p:spPr>
            <a:xfrm>
              <a:off x="1752480" y="2133720"/>
              <a:ext cx="1219320" cy="53316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47"/>
            <p:cNvSpPr/>
            <p:nvPr/>
          </p:nvSpPr>
          <p:spPr>
            <a:xfrm>
              <a:off x="5105520" y="4114800"/>
              <a:ext cx="1523880" cy="53352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AutoShape 48"/>
            <p:cNvCxnSpPr>
              <a:stCxn id="629" idx="0"/>
              <a:endCxn id="630" idx="0"/>
            </p:cNvCxnSpPr>
            <p:nvPr/>
          </p:nvCxnSpPr>
          <p:spPr>
            <a:xfrm flipH="1" rot="16200000">
              <a:off x="3124080" y="1359360"/>
              <a:ext cx="1981800" cy="3505680"/>
            </a:xfrm>
            <a:prstGeom prst="curvedConnector5">
              <a:avLst>
                <a:gd name="adj1" fmla="val -10973"/>
                <a:gd name="adj2" fmla="val 49994"/>
                <a:gd name="adj3" fmla="val -10973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grpSp>
        <p:nvGrpSpPr>
          <p:cNvPr id="632" name="Group 71"/>
          <p:cNvGrpSpPr/>
          <p:nvPr/>
        </p:nvGrpSpPr>
        <p:grpSpPr>
          <a:xfrm>
            <a:off x="762120" y="3962520"/>
            <a:ext cx="6095880" cy="2749320"/>
            <a:chOff x="762120" y="3962520"/>
            <a:chExt cx="6095880" cy="2749320"/>
          </a:xfrm>
        </p:grpSpPr>
        <p:sp>
          <p:nvSpPr>
            <p:cNvPr id="633" name="Oval 51"/>
            <p:cNvSpPr/>
            <p:nvPr/>
          </p:nvSpPr>
          <p:spPr>
            <a:xfrm>
              <a:off x="762120" y="4191120"/>
              <a:ext cx="1523880" cy="38088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52"/>
            <p:cNvSpPr/>
            <p:nvPr/>
          </p:nvSpPr>
          <p:spPr>
            <a:xfrm>
              <a:off x="5334120" y="6324480"/>
              <a:ext cx="1523880" cy="387360"/>
            </a:xfrm>
            <a:prstGeom prst="ellipse">
              <a:avLst/>
            </a:prstGeom>
            <a:noFill/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AutoShape 53"/>
            <p:cNvCxnSpPr>
              <a:stCxn id="633" idx="0"/>
              <a:endCxn id="634" idx="0"/>
            </p:cNvCxnSpPr>
            <p:nvPr/>
          </p:nvCxnSpPr>
          <p:spPr>
            <a:xfrm flipH="1" rot="16200000">
              <a:off x="2743200" y="2960280"/>
              <a:ext cx="2134080" cy="4572720"/>
            </a:xfrm>
            <a:prstGeom prst="curvedConnector5">
              <a:avLst>
                <a:gd name="adj1" fmla="val -10190"/>
                <a:gd name="adj2" fmla="val 49996"/>
                <a:gd name="adj3" fmla="val -10190"/>
              </a:avLst>
            </a:prstGeom>
            <a:ln w="22320">
              <a:solidFill>
                <a:srgbClr val="003366"/>
              </a:solidFill>
              <a:miter/>
            </a:ln>
          </p:spPr>
        </p:cxnSp>
      </p:grpSp>
      <p:sp>
        <p:nvSpPr>
          <p:cNvPr id="636" name="Text Box 66"/>
          <p:cNvSpPr/>
          <p:nvPr/>
        </p:nvSpPr>
        <p:spPr>
          <a:xfrm>
            <a:off x="4794120" y="2743200"/>
            <a:ext cx="833040" cy="3988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67"/>
          <p:cNvSpPr/>
          <p:nvPr/>
        </p:nvSpPr>
        <p:spPr>
          <a:xfrm>
            <a:off x="4724280" y="32004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68"/>
          <p:cNvSpPr/>
          <p:nvPr/>
        </p:nvSpPr>
        <p:spPr>
          <a:xfrm>
            <a:off x="5256360" y="3276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rub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rolled Experi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4920" y="13716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of experimental system must be compared to some baseline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re necessary to demonstrate the system is improving over some naïve method (strawman) or current best system for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xample, in the old joke, someone claims that they are snapping their fingers "to keep the tigers away"; and justifies this behavior by saying "see - its working!" While this "experiment" does no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alsif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the hypothesis "snapping fingers keeps the tigers away", it does not really support the hypothesis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snapping your fingers does not keep the tigers away as well (Wikipedia: Experimen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877B-3898-4A73-8D0E-BA05E978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rol for Query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control is to order results from search engine random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baseline is to just use ordering from existing (non-personalized) search eng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FA3-8FB6-46CB-AB41-E7F9B2BCF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quantitative measure of system’s performance (runtime or accurac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quantitative performance of experimental system to baseline contro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asure accuracy of ordering of web search results we measure AUC-R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centage of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i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evant results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en by user before finding a relevant result (if scan results from top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DFE6-BA5A-4F00-B15D-E051BF25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at is CS Research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 of new knowledge of computing through mathematical analysis and experimental evaluation of algorithms and computer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FEF4-507A-4F2F-AFAF-64126A3C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) Analyze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results suppor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ces statistically signific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statistical test to determine if observed differences are unlikely to be due only to random variation, i.e. probability of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null hypothesi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&lt; .05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A7A-6BF8-4876-BDE4-81FA02C3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(AUC-ROC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-228600" y="1600200"/>
          <a:ext cx="8677440" cy="59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600200"/>
                    <a:ext cx="8677440" cy="59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Text Box 5"/>
          <p:cNvSpPr/>
          <p:nvPr/>
        </p:nvSpPr>
        <p:spPr>
          <a:xfrm>
            <a:off x="3048120" y="2895480"/>
            <a:ext cx="39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334120" y="2209680"/>
            <a:ext cx="39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6477120" y="1676520"/>
            <a:ext cx="39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1463040" y="1219320"/>
            <a:ext cx="72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icates statistically significant improvement over previous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6) Interpret data and draw conclusions that serve as a starting point for new hypothesi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andom ordering the best baseline to compare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just order results based on popularity (i.e. how many people clicked on a particular result after submitting a given ambiguous quer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6BC-9A94-4D09-81EC-A3C83EBC1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Baseline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2" name="Content Placeholder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66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088-7B13-4A32-97FF-892EAA045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fine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LN that incorporates popularity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run experiment to obtain results for revised version and verify the hypothesis that it performs better than the popularity bas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DBC6-79D4-461B-8A5F-A4094148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for Revised System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8" name="Content Placeholder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05F8-12DB-43E2-9D37-61CC80EA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7) Publish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submitted to the international data mining co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DD-09: Paris, June 28 – July 1, 2009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E548-5CAF-4214-902A-FC7795A3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pistemology</a:t>
            </a:r>
            <a:br>
              <a:rPr sz="36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definitions from Wikipedia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rom Gree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πιστήμ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pist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knowledge"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λόγ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logos")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branch of philosophy concerned with the nature and scope (limitations) of knowledg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resses the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What is knowledge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How is knowledge acquired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What do people know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"How do we know what we know?"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7AE-690D-483A-9D05-C01B9455E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"any view appealing to reason as a source of knowledge or justification" (Lacey 286). In more technical terms it is a method or a theory "in which the criterion of the truth is not sensory but intellectual and deductive" (Bourke 26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ted with Socrates (469 BC–399 BC) and Plato (428/427 BC – 348/347 B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717-BAF3-4408-A326-8951097EE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iric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heory of knowledge which asserts that knowledge arises from experience. Empiricism emphasizes the role of experience and evidence, especially sensory perception, in the formation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ted with Aristotle (384 BC – 322 B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FFB-2ABF-406E-9D15-5DFAEC42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ism in C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heoretical C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are formal mathematica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mportant properties of algorithms/software can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v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rectness (satisfies a formal specification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utational Complexity (time and space requirement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02A-6AF5-4800-AC2F-48977D1D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oretical CS Re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Desig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ign a new (more efficient) algorithm for some well-defined problem (e.g. sorting, longest-common-subsequenc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hematically prove the correctness and improved complexity of the new algorith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m a mathematical conjecture about a computational problem (e.g. graph isomorphism is NP-complet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hematically prove the conjecture as a theorem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078C-A1A1-4D8E-A285-4FAE79639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mits of Rationalism in 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software is too complex to analyze theore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orrectness cannot be characterized formally and depends on natural or human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tein fol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writing/speech recogni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software behavior on real data depends on unknown natural properties of thi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cality affecting paging performa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2996-7B2E-4153-B3F0-977D4F968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ism in C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Experimental C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 of software can be studied experiment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cdotal evidence (running a few sample cases) is insuffic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data (e.g. accuracy, run-time) on running programs many times on large, real-world benchmark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hypotheses about behavior using controlled experi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analyze results for signific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7671-B6FC-4DBD-8336-11CCC4C6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2-15T00:51:28Z</dcterms:modified>
  <cp:revision>119</cp:revision>
  <dc:subject/>
  <dc:title>Intelligent Information Retrieval and Web Search</dc:title>
</cp:coreProperties>
</file>