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589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5892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1B5700-8586-4BF1-AA6A-01208668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86F06D-428A-4B1A-9694-C178A9CC4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D1CF26-5B9B-4508-884A-905DAED6D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050230-A0FE-44C3-B2C5-71E62BFD8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5BD3DA-C183-4AD9-B145-25134C5F1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BA2DB5-1D7D-4626-9D8A-B4F804D9F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B5732D-DEB7-40BD-94B2-381D81892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544150-8D39-4A92-B0A6-7499723F7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4EB-2E14-4E98-8CB3-DF94EA50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4F2-795B-4326-A8A2-1A732A1B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9F9-2520-424D-832E-957099D1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E6D-3D86-463E-BDDE-205C2351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DC8B-7F66-4FD6-B1C4-263101B7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4E72-37CE-465E-93DD-B76DFDFA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8164-8B20-4A04-BEA2-3E9B8466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6C22-5B04-4534-8C39-BBE58307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5EFC-13D5-4803-B157-E9B7B14C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8A13-4E9B-4908-BF24-D05C45EB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DC94-3DBE-4BA8-B4E3-60AB165A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59A-B204-4E1F-B232-CE8C4E3E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80B1-BEA3-412F-B802-40557600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B5EA-8A98-4746-B297-56CB866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1885-3EF9-43F9-9AB3-E64CE950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1098-B854-4AE2-976E-007E21EB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40F8-FDDE-42CE-80B8-17C07633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DF8-98DB-4BAD-9C69-86C4CB9E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167-DADC-422E-9521-C9A125FD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871-89F6-41D1-8D8E-B22C87F2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C9B-7DF2-4317-9FA3-1B07DF7A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4D6-BDA7-4CB5-B223-68AB3CA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B1C-0DB8-4920-A82F-308E7690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455-101B-438D-99F5-A87D4B21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FE26B08-C415-4135-8754-683FC8353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4"/>
          <p:cNvSpPr/>
          <p:nvPr/>
        </p:nvSpPr>
        <p:spPr>
          <a:xfrm>
            <a:off x="533520" y="1295280"/>
            <a:ext cx="7619760" cy="763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1"/>
          <p:cNvSpPr/>
          <p:nvPr/>
        </p:nvSpPr>
        <p:spPr>
          <a:xfrm>
            <a:off x="609480" y="2895480"/>
            <a:ext cx="7620120" cy="763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8288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e574e"/>
                </a:solidFill>
                <a:latin typeface="Arial"/>
              </a:rPr>
              <a:t>slide </a:t>
            </a:r>
            <a:fld id="{1C006171-F138-4758-811D-EDBB8C9D2DA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721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How To Read a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Research Paper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search Paper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form in which research results are disseminated in computer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erence papers (shor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urnal papers (long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Often the complete version of a conference pape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May come out several years after the conference paper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ading a Paper </a:t>
            </a:r>
            <a:r>
              <a:rPr b="0" lang="en-US" sz="4000" spc="-1" strike="noStrike" u="sng">
                <a:solidFill>
                  <a:srgbClr val="000099"/>
                </a:solidFill>
                <a:uFillTx/>
                <a:latin typeface="Tahoma"/>
              </a:rPr>
              <a:t>Critically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817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propose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competing approaches / desig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e the pa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Peer review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cornerstone of the scientific publish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Why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to do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to think critically about quality of research pa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Someone will be thinking critically about your own work!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n any discipline, there are fads and there are lasting ideas… learn to tell the difference!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issue: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what are the questions to as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valuating a Pap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problem being solv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s it important? Relevant? Why? 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hat is the prior work in this area?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proposed solution clev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leverness is orthogonal to importance!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assumptions and model reasonab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Easier to evaluate for older paper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Does other work build on it? Do other papers uses techniques and solutions proposed in this paper?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valuation Proces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low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ake notes as you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Question assumptions, importance of the problem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Write questions to track what you don’t understand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wha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paper is more important than what is i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Is there something the authors have overlooked? 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Don’t let ideas or design details pass until you understand them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assume the paper is correct, even if published in a prestigious peer-reviewed ve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round Ru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under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be afraid to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constru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pol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be afraid to criticize (constructivel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n This Cours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give you a research paper to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paper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unpublish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it has been submitted and is currently under revie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reat it as confidential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 not show it to anyone outside of this clas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yourself in the mind of a revie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March 23, we will discuss it in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Your opinions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Ray’s opinion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My own opinion</a:t>
            </a:r>
            <a:endParaRPr b="0" lang="en-US" sz="24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7T20:51:32Z</dcterms:created>
  <dc:creator>Vitaly Shmatikov</dc:creator>
  <dc:description/>
  <dc:language>en-US</dc:language>
  <cp:lastModifiedBy>Vitaly Shmatikov</cp:lastModifiedBy>
  <cp:lastPrinted>1998-09-22T18:15:52Z</cp:lastPrinted>
  <dcterms:modified xsi:type="dcterms:W3CDTF">2009-02-27T23:57:04Z</dcterms:modified>
  <cp:revision>5709</cp:revision>
  <dc:subject>CS 178H</dc:subject>
  <dc:title>How to read a research pap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ocuments\cs242\notes\web-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