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5892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5892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8E8C54-7025-4779-9C16-CCD991411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65BB16-9906-4B9F-B3C6-3264ED57E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01AE2B-C116-4414-B818-66A822945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052834-2F3D-4A1A-92F2-17942A8AD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C6431A-EEC0-4F0D-91F9-20E1652C6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493439-392A-4469-88AF-2D14C0AFA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34AFA9-4453-4D1E-A1DA-FCD01DF52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472951-AFE1-4661-B29D-BE0B66376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F36-02D8-4D9A-A599-0014F6DC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CD0-1D65-45FD-9C89-F564C5C4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121-F1EA-4189-A0A6-12997712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74E-FCD3-4699-829D-5D75C883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877A-09A7-4B61-BBD9-4CB5BC66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DCDB-DEA5-429F-83E1-6BA90B3C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B7FC-9637-41BB-9744-C61A3BF8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9A1A-EE80-4698-B026-BDB085EF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C6D2-4BD3-4078-A9C3-A74D0AA7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9460-252D-4B88-98CF-B24E20D6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754F-D7A8-43FB-AAAA-E55D1CFD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856-0548-4764-89CD-B7CD1515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90F8-C24B-4EEC-830C-935CE94E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FF10-1932-4CA7-8E9C-CDF6CAA3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55D6-B4E5-4B7E-9C2B-95077DD9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4247-A633-4EED-A830-873BF228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9D71-8E74-4197-B694-B2F73047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526-FD78-46DA-82DF-4D0CCDFA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875-A334-4B8C-9458-95C08A20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8FE-F56A-4411-99FF-43B0C27C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C27-B478-44A1-B8CF-13B93ED3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1FA-0357-435F-9E8E-32E27663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057-C9ED-4D47-A295-C890334A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675-5CBA-400D-B4D1-32F59F30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164F017-AD18-404C-9CF3-6B7B90A0A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4"/>
          <p:cNvSpPr/>
          <p:nvPr/>
        </p:nvSpPr>
        <p:spPr>
          <a:xfrm>
            <a:off x="533520" y="1295280"/>
            <a:ext cx="7619760" cy="763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1"/>
          <p:cNvSpPr/>
          <p:nvPr/>
        </p:nvSpPr>
        <p:spPr>
          <a:xfrm>
            <a:off x="609480" y="2895480"/>
            <a:ext cx="7620120" cy="763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8288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e574e"/>
                </a:solidFill>
                <a:latin typeface="Arial"/>
              </a:rPr>
              <a:t>slide </a:t>
            </a:r>
            <a:fld id="{57C4C66A-BFE4-47DC-8F2B-F2542B4FEA9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7721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How To Read a</a:t>
            </a:r>
            <a:br>
              <a:rPr sz="4800"/>
            </a:b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Research Paper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search Paper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form in which research results are disseminated in computer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erence papers (shor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urnal papers (long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Often the complete version of a conference pape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May come out several years after the conference pape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ading a Paper </a:t>
            </a:r>
            <a:r>
              <a:rPr b="0" lang="en-US" sz="4000" spc="-1" strike="noStrike" u="sng">
                <a:solidFill>
                  <a:srgbClr val="000099"/>
                </a:solidFill>
                <a:uFillTx/>
                <a:latin typeface="Tahoma"/>
              </a:rPr>
              <a:t>Critically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600200"/>
            <a:ext cx="8178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propose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competing approaches / desig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e the pa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Peer review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cornerstone of the scientific publishing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Why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 to do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 to think critically about quality of research pa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Someone will be thinking critically about your own work!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In any discipline, there are fads and there are lasting ideas… learn to tell the difference!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issue: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what are the questions to as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valuating a Pap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problem being solv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Is it important? Relevant? Why? 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What is the prior work in this area?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proposed solution clev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leverness is orthogonal to importance!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 assumptions and model reasonab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Easier to evaluate for older paper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Does other work build on it? Do other papers uses techniques and solutions proposed in this paper?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valuation Proces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low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ake notes as you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Question assumptions, importance of the problem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Write questions to track what you don’t understand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 wha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the paper is more important than what is i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Is there something the authors have overlooked? 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Don’t let ideas or design details pass until you understand them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assume the paper is correct, even if published in a prestigious peer-reviewed ven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round Rul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underst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be afraid to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constru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pol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be afraid to criticize (constructively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n This Cours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ill give you a research paper to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paper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unpublish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it has been submitted and is currently under revie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reat it as confidential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 not show it to anyone outside of this clas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yourself in the mind of a revie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March 23, we will discuss it in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Your opinion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Ray’s opinion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My own opinion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7T20:51:32Z</dcterms:created>
  <dc:creator>Vitaly Shmatikov</dc:creator>
  <dc:description/>
  <dc:language>en-US</dc:language>
  <cp:lastModifiedBy>Vitaly Shmatikov</cp:lastModifiedBy>
  <cp:lastPrinted>1998-09-22T18:15:52Z</cp:lastPrinted>
  <dcterms:modified xsi:type="dcterms:W3CDTF">2009-02-27T23:57:04Z</dcterms:modified>
  <cp:revision>5709</cp:revision>
  <dc:subject>CS 178H</dc:subject>
  <dc:title>How to read a research pap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Documents\cs242\notes\web-slid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