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452051-2C9F-4BE0-81D3-C0F67A01C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67A7E9-6ED2-47BF-930D-1852A57A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F1E-C1EB-4BE2-982D-D9A7EC504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C323-E8C2-4463-947F-FBC529D3F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CEA-CB29-4816-B250-85578C513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F8E8-85FD-459F-A852-1530D1E3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2AD7-22A8-46EB-916C-A5BB4626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C055-0579-405B-88E5-E856463AA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D20-30BB-4D7D-9A55-50F2FFE5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94B-D308-4DF5-B471-2D5EE4C2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EA4-5837-450D-A922-17287C54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70A-8A79-4EE3-BACE-080DE66D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ABC4-22E9-46FC-A719-0A592356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87ED-7402-4D9D-9B86-6C67A8D4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E735-5975-443D-8F3A-148FB11D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CB0D-BB0B-47E7-AADD-08BE8B12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ABFB-390A-4EE1-B86C-1C4FE2D2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61FD-F44C-426F-971C-30A0A96A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6431-8CC4-4E6F-B542-3357148D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772-EF53-4019-B97B-108483D4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F67E-485D-4CBE-89E9-8518171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61BC-9AE1-433B-87AC-30E75D6D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F56F-4336-4D5F-86F5-4AF782B9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FEE8-BAD4-4926-90BB-E689D902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EEAD-7197-47EA-9469-51BA07D8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F12-BD42-406C-BD1A-5B9A9F57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729-AD14-40F6-A9EF-06968B19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01B-587D-47A7-A458-E29D84EA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949-DB6D-4D3A-B510-7200BB09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809-5009-456C-A598-197D7E37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A0E-F202-4087-A6D5-FCBAC11B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3EF-B087-4F20-B76A-3D5B5FA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B124-4910-4DE7-B4C5-AD3F824378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AD4-1C4C-4EC1-A392-0081CAC183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arkov Logi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237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g Sing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Texas, Aus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733920" y="3505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anc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ugh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Oval 6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sthm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Oval 7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mok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263" name="AutoShape 8"/>
          <p:cNvCxnSpPr>
            <a:stCxn id="262" idx="6"/>
            <a:endCxn id="259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AutoShape 9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AutoShape 10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AutoShape 11"/>
          <p:cNvCxnSpPr>
            <a:stCxn id="261" idx="6"/>
            <a:endCxn id="260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" name="Rectangle 12"/>
          <p:cNvSpPr/>
          <p:nvPr/>
        </p:nvSpPr>
        <p:spPr>
          <a:xfrm>
            <a:off x="380880" y="30481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Potential functions defined over clique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419720" y="3657600"/>
          <a:ext cx="3962160" cy="248904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ing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,C)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1033560" y="3733920"/>
                <a:ext cx="29829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1143000" y="5105520"/>
                <a:ext cx="2629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" y="28954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Log-linear model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749840" y="360360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95680" y="360360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308320" y="4495680"/>
            <a:ext cx="224136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Weight of Feature </a:t>
            </a:r>
            <a:r>
              <a:rPr b="1" i="1" lang="en-US" sz="1800" spc="-1" strike="noStrike">
                <a:solidFill>
                  <a:srgbClr val="33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710240" y="4495680"/>
            <a:ext cx="113328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Feature </a:t>
            </a:r>
            <a:r>
              <a:rPr b="1" i="1" lang="en-US" sz="1800" spc="-1" strike="noStrike">
                <a:solidFill>
                  <a:srgbClr val="33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 flipV="1">
            <a:off x="4343400" y="4038480"/>
            <a:ext cx="15228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 flipH="1" flipV="1">
            <a:off x="4952880" y="4038480"/>
            <a:ext cx="15264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914400" y="5029200"/>
                <a:ext cx="66531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oking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ancer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¬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moking</m:t>
                              </m:r>
                              <m:r>
                                <m:t xml:space="preserve"> </m:t>
                              </m:r>
                              <m:r>
                                <m:t xml:space="preserve">∨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ancer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914400" y="5791320"/>
                <a:ext cx="1227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Oval 13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anc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ugh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Oval 15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sthm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Oval 16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mok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286" name="AutoShape 17"/>
          <p:cNvCxnSpPr>
            <a:stCxn id="285" idx="6"/>
            <a:endCxn id="282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AutoShape 18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AutoShape 19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AutoShape 20"/>
          <p:cNvCxnSpPr>
            <a:stCxn id="284" idx="6"/>
            <a:endCxn id="283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905120" y="3276720"/>
                <a:ext cx="3809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-Order Log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, variables, functions,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, x, MotherOf(x), Friends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ing: Replace all variables by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(Anna, Bo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: Predicates connected by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es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cer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Base (KB): A set of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equivalently converted into a claus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: Assignment of truth values to all ground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kov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Log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gical KB is a set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rd constrai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set of possible wor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make the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constrai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world violates a formula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becomes less probable, not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each formula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igh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Higher weight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Stronger constrai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582480" y="5334120"/>
                <a:ext cx="79790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ights of formulas it satisfies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Markov Logic Network (ML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set of pairs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F, w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formula in first-order log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real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gether with a finite set of constant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defines a Markov network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node for each grounding of each predicate in the M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eature for each grounding of each formula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MLN, with the corresponding weight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46928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9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46928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2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Oval 12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Oval 13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Oval 14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6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7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44" name="AutoShape 12"/>
          <p:cNvCxnSpPr>
            <a:stCxn id="340" idx="3"/>
            <a:endCxn id="339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45" name="Oval 13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Oval 14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48" name="AutoShape 16"/>
          <p:cNvCxnSpPr>
            <a:stCxn id="343" idx="5"/>
            <a:endCxn id="346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49" name="Text Box 17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8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9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60" name="AutoShape 12"/>
          <p:cNvCxnSpPr>
            <a:stCxn id="358" idx="0"/>
            <a:endCxn id="356" idx="4"/>
          </p:cNvCxnSpPr>
          <p:nvPr/>
        </p:nvCxnSpPr>
        <p:spPr>
          <a:xfrm flipH="1" flipV="1">
            <a:off x="3428640" y="4571280"/>
            <a:ext cx="9532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1" name="AutoShape 13"/>
          <p:cNvCxnSpPr>
            <a:stCxn id="356" idx="6"/>
            <a:endCxn id="359" idx="2"/>
          </p:cNvCxnSpPr>
          <p:nvPr/>
        </p:nvCxnSpPr>
        <p:spPr>
          <a:xfrm>
            <a:off x="411480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2" name="AutoShape 14"/>
          <p:cNvCxnSpPr>
            <a:stCxn id="359" idx="4"/>
            <a:endCxn id="358" idx="0"/>
          </p:cNvCxnSpPr>
          <p:nvPr/>
        </p:nvCxnSpPr>
        <p:spPr>
          <a:xfrm flipH="1">
            <a:off x="4381200" y="4571640"/>
            <a:ext cx="8769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3" name="AutoShape 15"/>
          <p:cNvCxnSpPr>
            <a:stCxn id="356" idx="3"/>
            <a:endCxn id="355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4" name="AutoShape 16"/>
          <p:cNvCxnSpPr>
            <a:stCxn id="357" idx="6"/>
            <a:endCxn id="356" idx="2"/>
          </p:cNvCxnSpPr>
          <p:nvPr/>
        </p:nvCxnSpPr>
        <p:spPr>
          <a:xfrm>
            <a:off x="2133360" y="430488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65" name="Oval 17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66" name="AutoShape 18"/>
          <p:cNvCxnSpPr>
            <a:stCxn id="365" idx="4"/>
            <a:endCxn id="356" idx="0"/>
          </p:cNvCxnSpPr>
          <p:nvPr/>
        </p:nvCxnSpPr>
        <p:spPr>
          <a:xfrm flipH="1">
            <a:off x="3428640" y="3504960"/>
            <a:ext cx="95328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7" name="AutoShape 19"/>
          <p:cNvCxnSpPr>
            <a:stCxn id="359" idx="0"/>
            <a:endCxn id="365" idx="4"/>
          </p:cNvCxnSpPr>
          <p:nvPr/>
        </p:nvCxnSpPr>
        <p:spPr>
          <a:xfrm flipH="1" flipV="1">
            <a:off x="4381200" y="3504600"/>
            <a:ext cx="87696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68" name="Oval 20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Oval 21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70" name="AutoShape 22"/>
          <p:cNvCxnSpPr>
            <a:stCxn id="359" idx="5"/>
            <a:endCxn id="368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71" name="AutoShape 23"/>
          <p:cNvCxnSpPr>
            <a:stCxn id="369" idx="2"/>
            <a:endCxn id="359" idx="6"/>
          </p:cNvCxnSpPr>
          <p:nvPr/>
        </p:nvCxnSpPr>
        <p:spPr>
          <a:xfrm flipH="1">
            <a:off x="594324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72" name="Text Box 24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5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5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26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83" name="AutoShape 12"/>
          <p:cNvCxnSpPr>
            <a:stCxn id="381" idx="0"/>
            <a:endCxn id="379" idx="4"/>
          </p:cNvCxnSpPr>
          <p:nvPr/>
        </p:nvCxnSpPr>
        <p:spPr>
          <a:xfrm flipH="1" flipV="1">
            <a:off x="3428640" y="4571280"/>
            <a:ext cx="9532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84" name="AutoShape 13"/>
          <p:cNvCxnSpPr>
            <a:stCxn id="379" idx="6"/>
            <a:endCxn id="382" idx="2"/>
          </p:cNvCxnSpPr>
          <p:nvPr/>
        </p:nvCxnSpPr>
        <p:spPr>
          <a:xfrm>
            <a:off x="411480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85" name="AutoShape 14"/>
          <p:cNvCxnSpPr>
            <a:stCxn id="382" idx="4"/>
            <a:endCxn id="381" idx="0"/>
          </p:cNvCxnSpPr>
          <p:nvPr/>
        </p:nvCxnSpPr>
        <p:spPr>
          <a:xfrm flipH="1">
            <a:off x="4381200" y="4571640"/>
            <a:ext cx="8769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86" name="AutoShape 15"/>
          <p:cNvCxnSpPr>
            <a:stCxn id="379" idx="3"/>
            <a:endCxn id="378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87" name="AutoShape 16"/>
          <p:cNvCxnSpPr>
            <a:stCxn id="380" idx="6"/>
            <a:endCxn id="379" idx="2"/>
          </p:cNvCxnSpPr>
          <p:nvPr/>
        </p:nvCxnSpPr>
        <p:spPr>
          <a:xfrm>
            <a:off x="2133360" y="430488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88" name="Oval 17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89" name="AutoShape 18"/>
          <p:cNvCxnSpPr>
            <a:stCxn id="388" idx="4"/>
            <a:endCxn id="379" idx="0"/>
          </p:cNvCxnSpPr>
          <p:nvPr/>
        </p:nvCxnSpPr>
        <p:spPr>
          <a:xfrm flipH="1">
            <a:off x="3428640" y="3504960"/>
            <a:ext cx="95328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90" name="AutoShape 19"/>
          <p:cNvCxnSpPr>
            <a:stCxn id="382" idx="0"/>
            <a:endCxn id="388" idx="4"/>
          </p:cNvCxnSpPr>
          <p:nvPr/>
        </p:nvCxnSpPr>
        <p:spPr>
          <a:xfrm flipH="1" flipV="1">
            <a:off x="4381200" y="3504600"/>
            <a:ext cx="87696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1" name="Oval 20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2" name="Oval 21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93" name="AutoShape 22"/>
          <p:cNvCxnSpPr>
            <a:stCxn id="382" idx="5"/>
            <a:endCxn id="391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94" name="AutoShape 23"/>
          <p:cNvCxnSpPr>
            <a:stCxn id="392" idx="2"/>
            <a:endCxn id="382" idx="6"/>
          </p:cNvCxnSpPr>
          <p:nvPr/>
        </p:nvCxnSpPr>
        <p:spPr>
          <a:xfrm flipH="1">
            <a:off x="594324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5" name="Text Box 24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5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8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6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 txBox="1"/>
          <p:nvPr/>
        </p:nvSpPr>
        <p:spPr>
          <a:xfrm>
            <a:off x="38088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e of the World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{0,1} Assignment to the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Logic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62012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LN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ground Markov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ty of a worl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eature for each ground form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32"/>
              <p:cNvSpPr txBox="1"/>
              <p:nvPr/>
            </p:nvSpPr>
            <p:spPr>
              <a:xfrm>
                <a:off x="1447920" y="3048120"/>
                <a:ext cx="44956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oun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mula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1143000" y="5410080"/>
                <a:ext cx="6319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h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formula is satisfied given 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      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Logic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73152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LN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ground Markov n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ty of a worl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1371600" y="4495680"/>
            <a:ext cx="7187760" cy="1663920"/>
            <a:chOff x="1371600" y="4495680"/>
            <a:chExt cx="7187760" cy="1663920"/>
          </a:xfrm>
        </p:grpSpPr>
        <p:sp>
          <p:nvSpPr>
            <p:cNvPr id="408" name="Rectangle 5"/>
            <p:cNvSpPr/>
            <p:nvPr/>
          </p:nvSpPr>
          <p:spPr>
            <a:xfrm>
              <a:off x="4826160" y="4884840"/>
              <a:ext cx="73656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572000" y="4884840"/>
              <a:ext cx="25416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2145600" y="5791320"/>
              <a:ext cx="208440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ight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4508640" y="5791320"/>
              <a:ext cx="4050720" cy="36828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. of true groundings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12" name="Line 9"/>
            <p:cNvSpPr/>
            <p:nvPr/>
          </p:nvSpPr>
          <p:spPr>
            <a:xfrm flipV="1">
              <a:off x="4038480" y="5334120"/>
              <a:ext cx="533520" cy="457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13" name="Line 10"/>
            <p:cNvSpPr/>
            <p:nvPr/>
          </p:nvSpPr>
          <p:spPr>
            <a:xfrm flipH="1" flipV="1">
              <a:off x="5028840" y="5319720"/>
              <a:ext cx="152280" cy="47160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Object 11"/>
                <p:cNvSpPr txBox="1"/>
                <p:nvPr/>
              </p:nvSpPr>
              <p:spPr>
                <a:xfrm>
                  <a:off x="1371600" y="4495680"/>
                  <a:ext cx="44323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N formulas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Object 12"/>
              <p:cNvSpPr txBox="1"/>
              <p:nvPr/>
            </p:nvSpPr>
            <p:spPr>
              <a:xfrm>
                <a:off x="1447920" y="3048120"/>
                <a:ext cx="44956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oun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mula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ion to Statistical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-linear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nenti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entropy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bbs dis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ltzmann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c reg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den Markov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al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ed by making all predicates zero-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ov logic allows objects to be interdepend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on-i.i.d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ion to First-Order Log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inite weights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iable KB, positive weight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ying assignments = Modes of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 allows contradictions between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 in infinite dom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Interface Lay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5438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ference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1486080" y="380988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2705040" y="2743200"/>
            <a:ext cx="156204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A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9536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467160" y="4114800"/>
            <a:ext cx="175248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>
            <a:off x="4533840" y="2743200"/>
            <a:ext cx="148608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29" name="AutoShape 12"/>
          <p:cNvCxnSpPr>
            <a:stCxn id="427" idx="0"/>
            <a:endCxn id="425" idx="4"/>
          </p:cNvCxnSpPr>
          <p:nvPr/>
        </p:nvCxnSpPr>
        <p:spPr>
          <a:xfrm flipH="1" flipV="1">
            <a:off x="3485520" y="3351960"/>
            <a:ext cx="857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0" name="AutoShape 13"/>
          <p:cNvCxnSpPr>
            <a:stCxn id="425" idx="6"/>
            <a:endCxn id="428" idx="2"/>
          </p:cNvCxnSpPr>
          <p:nvPr/>
        </p:nvCxnSpPr>
        <p:spPr>
          <a:xfrm>
            <a:off x="4266720" y="3048120"/>
            <a:ext cx="26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1" name="AutoShape 14"/>
          <p:cNvCxnSpPr>
            <a:stCxn id="428" idx="4"/>
            <a:endCxn id="427" idx="0"/>
          </p:cNvCxnSpPr>
          <p:nvPr/>
        </p:nvCxnSpPr>
        <p:spPr>
          <a:xfrm flipH="1">
            <a:off x="4342680" y="3352320"/>
            <a:ext cx="93420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2" name="AutoShape 15"/>
          <p:cNvCxnSpPr>
            <a:stCxn id="425" idx="3"/>
            <a:endCxn id="424" idx="7"/>
          </p:cNvCxnSpPr>
          <p:nvPr/>
        </p:nvCxnSpPr>
        <p:spPr>
          <a:xfrm flipH="1">
            <a:off x="2655720" y="3263400"/>
            <a:ext cx="278280" cy="624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3" name="AutoShape 16"/>
          <p:cNvCxnSpPr>
            <a:stCxn id="426" idx="6"/>
            <a:endCxn id="425" idx="2"/>
          </p:cNvCxnSpPr>
          <p:nvPr/>
        </p:nvCxnSpPr>
        <p:spPr>
          <a:xfrm flipV="1">
            <a:off x="2095200" y="3047760"/>
            <a:ext cx="61020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34" name="Oval 17"/>
          <p:cNvSpPr/>
          <p:nvPr/>
        </p:nvSpPr>
        <p:spPr>
          <a:xfrm>
            <a:off x="3505320" y="1752480"/>
            <a:ext cx="167616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35" name="AutoShape 18"/>
          <p:cNvCxnSpPr>
            <a:stCxn id="434" idx="4"/>
            <a:endCxn id="425" idx="0"/>
          </p:cNvCxnSpPr>
          <p:nvPr/>
        </p:nvCxnSpPr>
        <p:spPr>
          <a:xfrm flipH="1">
            <a:off x="3485520" y="2286000"/>
            <a:ext cx="8578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6" name="AutoShape 19"/>
          <p:cNvCxnSpPr>
            <a:stCxn id="428" idx="0"/>
            <a:endCxn id="434" idx="4"/>
          </p:cNvCxnSpPr>
          <p:nvPr/>
        </p:nvCxnSpPr>
        <p:spPr>
          <a:xfrm flipH="1" flipV="1">
            <a:off x="4342680" y="2285640"/>
            <a:ext cx="934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37" name="Oval 20"/>
          <p:cNvSpPr/>
          <p:nvPr/>
        </p:nvSpPr>
        <p:spPr>
          <a:xfrm>
            <a:off x="5867280" y="3886200"/>
            <a:ext cx="163836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cer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8" name="Oval 21"/>
          <p:cNvSpPr/>
          <p:nvPr/>
        </p:nvSpPr>
        <p:spPr>
          <a:xfrm>
            <a:off x="636264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39" name="AutoShape 22"/>
          <p:cNvCxnSpPr>
            <a:stCxn id="428" idx="5"/>
            <a:endCxn id="437" idx="0"/>
          </p:cNvCxnSpPr>
          <p:nvPr/>
        </p:nvCxnSpPr>
        <p:spPr>
          <a:xfrm>
            <a:off x="5802480" y="3263400"/>
            <a:ext cx="884880" cy="623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40" name="AutoShape 23"/>
          <p:cNvCxnSpPr>
            <a:stCxn id="438" idx="2"/>
            <a:endCxn id="428" idx="6"/>
          </p:cNvCxnSpPr>
          <p:nvPr/>
        </p:nvCxnSpPr>
        <p:spPr>
          <a:xfrm flipH="1" flipV="1">
            <a:off x="6019560" y="3047760"/>
            <a:ext cx="34344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5438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st Probable Explanation (MPE)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ference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Oval 7"/>
          <p:cNvSpPr/>
          <p:nvPr/>
        </p:nvSpPr>
        <p:spPr>
          <a:xfrm>
            <a:off x="1486080" y="380988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2705040" y="2743200"/>
            <a:ext cx="156204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A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49536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3467160" y="4114800"/>
            <a:ext cx="175248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Oval 11"/>
          <p:cNvSpPr/>
          <p:nvPr/>
        </p:nvSpPr>
        <p:spPr>
          <a:xfrm>
            <a:off x="4533840" y="2743200"/>
            <a:ext cx="148608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47" name="AutoShape 12"/>
          <p:cNvCxnSpPr>
            <a:stCxn id="445" idx="0"/>
            <a:endCxn id="443" idx="4"/>
          </p:cNvCxnSpPr>
          <p:nvPr/>
        </p:nvCxnSpPr>
        <p:spPr>
          <a:xfrm flipH="1" flipV="1">
            <a:off x="3485520" y="3351960"/>
            <a:ext cx="857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48" name="AutoShape 13"/>
          <p:cNvCxnSpPr>
            <a:stCxn id="443" idx="6"/>
            <a:endCxn id="446" idx="2"/>
          </p:cNvCxnSpPr>
          <p:nvPr/>
        </p:nvCxnSpPr>
        <p:spPr>
          <a:xfrm>
            <a:off x="4266720" y="3048120"/>
            <a:ext cx="26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49" name="AutoShape 14"/>
          <p:cNvCxnSpPr>
            <a:stCxn id="446" idx="4"/>
            <a:endCxn id="445" idx="0"/>
          </p:cNvCxnSpPr>
          <p:nvPr/>
        </p:nvCxnSpPr>
        <p:spPr>
          <a:xfrm flipH="1">
            <a:off x="4342680" y="3352320"/>
            <a:ext cx="93420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50" name="AutoShape 15"/>
          <p:cNvCxnSpPr>
            <a:stCxn id="443" idx="3"/>
            <a:endCxn id="442" idx="7"/>
          </p:cNvCxnSpPr>
          <p:nvPr/>
        </p:nvCxnSpPr>
        <p:spPr>
          <a:xfrm flipH="1">
            <a:off x="2655720" y="3263400"/>
            <a:ext cx="278280" cy="624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51" name="AutoShape 16"/>
          <p:cNvCxnSpPr>
            <a:stCxn id="444" idx="6"/>
            <a:endCxn id="443" idx="2"/>
          </p:cNvCxnSpPr>
          <p:nvPr/>
        </p:nvCxnSpPr>
        <p:spPr>
          <a:xfrm flipV="1">
            <a:off x="2095200" y="3047760"/>
            <a:ext cx="61020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52" name="Oval 17"/>
          <p:cNvSpPr/>
          <p:nvPr/>
        </p:nvSpPr>
        <p:spPr>
          <a:xfrm>
            <a:off x="3505320" y="1752480"/>
            <a:ext cx="167616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53" name="AutoShape 18"/>
          <p:cNvCxnSpPr>
            <a:stCxn id="452" idx="4"/>
            <a:endCxn id="443" idx="0"/>
          </p:cNvCxnSpPr>
          <p:nvPr/>
        </p:nvCxnSpPr>
        <p:spPr>
          <a:xfrm flipH="1">
            <a:off x="3485520" y="2286000"/>
            <a:ext cx="8578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54" name="AutoShape 19"/>
          <p:cNvCxnSpPr>
            <a:stCxn id="446" idx="0"/>
            <a:endCxn id="452" idx="4"/>
          </p:cNvCxnSpPr>
          <p:nvPr/>
        </p:nvCxnSpPr>
        <p:spPr>
          <a:xfrm flipH="1" flipV="1">
            <a:off x="4342680" y="2285640"/>
            <a:ext cx="934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55" name="Oval 20"/>
          <p:cNvSpPr/>
          <p:nvPr/>
        </p:nvSpPr>
        <p:spPr>
          <a:xfrm>
            <a:off x="5867280" y="3886200"/>
            <a:ext cx="163836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cer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Oval 21"/>
          <p:cNvSpPr/>
          <p:nvPr/>
        </p:nvSpPr>
        <p:spPr>
          <a:xfrm>
            <a:off x="636264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57" name="AutoShape 22"/>
          <p:cNvCxnSpPr>
            <a:stCxn id="446" idx="5"/>
            <a:endCxn id="455" idx="0"/>
          </p:cNvCxnSpPr>
          <p:nvPr/>
        </p:nvCxnSpPr>
        <p:spPr>
          <a:xfrm>
            <a:off x="5802480" y="3263400"/>
            <a:ext cx="884880" cy="623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58" name="AutoShape 23"/>
          <p:cNvCxnSpPr>
            <a:stCxn id="456" idx="2"/>
            <a:endCxn id="446" idx="6"/>
          </p:cNvCxnSpPr>
          <p:nvPr/>
        </p:nvCxnSpPr>
        <p:spPr>
          <a:xfrm flipH="1" flipV="1">
            <a:off x="6019560" y="3047760"/>
            <a:ext cx="34344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59" name="TextBox 75"/>
          <p:cNvSpPr/>
          <p:nvPr/>
        </p:nvSpPr>
        <p:spPr>
          <a:xfrm>
            <a:off x="304920" y="51055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is the most likely state of Smokes(A), Smokes(B), Cancer(B)?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6"/>
          <p:cNvSpPr/>
          <p:nvPr/>
        </p:nvSpPr>
        <p:spPr>
          <a:xfrm>
            <a:off x="5029200" y="4191120"/>
            <a:ext cx="1905120" cy="6094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3124080" y="4191120"/>
            <a:ext cx="14479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PE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4"/>
              <p:cNvSpPr txBox="1"/>
              <p:nvPr/>
            </p:nvSpPr>
            <p:spPr>
              <a:xfrm>
                <a:off x="2438280" y="2971800"/>
                <a:ext cx="32799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Text Box 5"/>
          <p:cNvSpPr/>
          <p:nvPr/>
        </p:nvSpPr>
        <p:spPr>
          <a:xfrm>
            <a:off x="3202200" y="419112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5105160" y="4191120"/>
            <a:ext cx="174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7" name="Line 7"/>
          <p:cNvSpPr/>
          <p:nvPr/>
        </p:nvSpPr>
        <p:spPr>
          <a:xfrm flipV="1">
            <a:off x="4419720" y="3657600"/>
            <a:ext cx="380880" cy="53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Line 14"/>
          <p:cNvSpPr/>
          <p:nvPr/>
        </p:nvSpPr>
        <p:spPr>
          <a:xfrm flipH="1" flipV="1">
            <a:off x="5410080" y="3581280"/>
            <a:ext cx="457200" cy="6098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PE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1523880" y="2819520"/>
                <a:ext cx="568188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PE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09680" y="2971800"/>
                <a:ext cx="42814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PE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just the weighted MaxSAT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weighted SAT solve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, MaxWalkS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autz et al. 97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4"/>
              <p:cNvSpPr txBox="1"/>
              <p:nvPr/>
            </p:nvSpPr>
            <p:spPr>
              <a:xfrm>
                <a:off x="2209680" y="2743200"/>
                <a:ext cx="42800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puting Probabilities: Marginal Inferen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Oval 7"/>
          <p:cNvSpPr/>
          <p:nvPr/>
        </p:nvSpPr>
        <p:spPr>
          <a:xfrm>
            <a:off x="1409760" y="380988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629080" y="2743200"/>
            <a:ext cx="156204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A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41904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Oval 10"/>
          <p:cNvSpPr/>
          <p:nvPr/>
        </p:nvSpPr>
        <p:spPr>
          <a:xfrm>
            <a:off x="3390840" y="4114800"/>
            <a:ext cx="175284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Oval 11"/>
          <p:cNvSpPr/>
          <p:nvPr/>
        </p:nvSpPr>
        <p:spPr>
          <a:xfrm>
            <a:off x="4457880" y="2743200"/>
            <a:ext cx="148572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84" name="AutoShape 12"/>
          <p:cNvCxnSpPr>
            <a:stCxn id="482" idx="0"/>
            <a:endCxn id="480" idx="4"/>
          </p:cNvCxnSpPr>
          <p:nvPr/>
        </p:nvCxnSpPr>
        <p:spPr>
          <a:xfrm flipH="1" flipV="1">
            <a:off x="3409200" y="3351960"/>
            <a:ext cx="857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5" name="AutoShape 13"/>
          <p:cNvCxnSpPr>
            <a:stCxn id="480" idx="6"/>
            <a:endCxn id="483" idx="2"/>
          </p:cNvCxnSpPr>
          <p:nvPr/>
        </p:nvCxnSpPr>
        <p:spPr>
          <a:xfrm>
            <a:off x="4190760" y="3048120"/>
            <a:ext cx="26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6" name="AutoShape 14"/>
          <p:cNvCxnSpPr>
            <a:stCxn id="483" idx="4"/>
            <a:endCxn id="482" idx="0"/>
          </p:cNvCxnSpPr>
          <p:nvPr/>
        </p:nvCxnSpPr>
        <p:spPr>
          <a:xfrm flipH="1">
            <a:off x="4266360" y="3352320"/>
            <a:ext cx="93420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7" name="AutoShape 15"/>
          <p:cNvCxnSpPr>
            <a:stCxn id="480" idx="3"/>
            <a:endCxn id="479" idx="7"/>
          </p:cNvCxnSpPr>
          <p:nvPr/>
        </p:nvCxnSpPr>
        <p:spPr>
          <a:xfrm flipH="1">
            <a:off x="2579760" y="3263400"/>
            <a:ext cx="278280" cy="624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8" name="AutoShape 16"/>
          <p:cNvCxnSpPr>
            <a:stCxn id="481" idx="6"/>
            <a:endCxn id="480" idx="2"/>
          </p:cNvCxnSpPr>
          <p:nvPr/>
        </p:nvCxnSpPr>
        <p:spPr>
          <a:xfrm flipV="1">
            <a:off x="2019240" y="3047760"/>
            <a:ext cx="61056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89" name="Oval 17"/>
          <p:cNvSpPr/>
          <p:nvPr/>
        </p:nvSpPr>
        <p:spPr>
          <a:xfrm>
            <a:off x="3429000" y="1752480"/>
            <a:ext cx="167652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90" name="AutoShape 18"/>
          <p:cNvCxnSpPr>
            <a:stCxn id="489" idx="4"/>
            <a:endCxn id="480" idx="0"/>
          </p:cNvCxnSpPr>
          <p:nvPr/>
        </p:nvCxnSpPr>
        <p:spPr>
          <a:xfrm flipH="1">
            <a:off x="3409200" y="2286000"/>
            <a:ext cx="8578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91" name="AutoShape 19"/>
          <p:cNvCxnSpPr>
            <a:stCxn id="483" idx="0"/>
            <a:endCxn id="489" idx="4"/>
          </p:cNvCxnSpPr>
          <p:nvPr/>
        </p:nvCxnSpPr>
        <p:spPr>
          <a:xfrm flipH="1" flipV="1">
            <a:off x="4266360" y="2285640"/>
            <a:ext cx="934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92" name="Oval 20"/>
          <p:cNvSpPr/>
          <p:nvPr/>
        </p:nvSpPr>
        <p:spPr>
          <a:xfrm>
            <a:off x="5791320" y="3886200"/>
            <a:ext cx="163836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cer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628668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94" name="AutoShape 22"/>
          <p:cNvCxnSpPr>
            <a:stCxn id="483" idx="5"/>
            <a:endCxn id="492" idx="0"/>
          </p:cNvCxnSpPr>
          <p:nvPr/>
        </p:nvCxnSpPr>
        <p:spPr>
          <a:xfrm>
            <a:off x="5726160" y="3263400"/>
            <a:ext cx="884880" cy="623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95" name="AutoShape 23"/>
          <p:cNvCxnSpPr>
            <a:stCxn id="493" idx="2"/>
            <a:endCxn id="483" idx="6"/>
          </p:cNvCxnSpPr>
          <p:nvPr/>
        </p:nvCxnSpPr>
        <p:spPr>
          <a:xfrm flipH="1" flipV="1">
            <a:off x="5942880" y="3047760"/>
            <a:ext cx="34380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96" name="TextBox 23"/>
          <p:cNvSpPr/>
          <p:nvPr/>
        </p:nvSpPr>
        <p:spPr>
          <a:xfrm>
            <a:off x="1523880" y="54864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at is the probability Smokes(B) = 1?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5029200" y="4191120"/>
            <a:ext cx="1905120" cy="6094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3124080" y="4191120"/>
            <a:ext cx="14479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ginal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the probability of query atoms give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6"/>
              <p:cNvSpPr txBox="1"/>
              <p:nvPr/>
            </p:nvSpPr>
            <p:spPr>
              <a:xfrm>
                <a:off x="4038480" y="3048120"/>
                <a:ext cx="1679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Text Box 7"/>
          <p:cNvSpPr/>
          <p:nvPr/>
        </p:nvSpPr>
        <p:spPr>
          <a:xfrm>
            <a:off x="3202200" y="419112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5105160" y="4191120"/>
            <a:ext cx="174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419720" y="3657600"/>
            <a:ext cx="380880" cy="53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 flipH="1" flipV="1">
            <a:off x="5410080" y="3581280"/>
            <a:ext cx="457200" cy="6098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ginal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772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the probability of query atoms give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11"/>
              <p:cNvSpPr txBox="1"/>
              <p:nvPr/>
            </p:nvSpPr>
            <p:spPr>
              <a:xfrm>
                <a:off x="1447920" y="3276720"/>
                <a:ext cx="5867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9" name="Text Box 13"/>
          <p:cNvSpPr/>
          <p:nvPr/>
        </p:nvSpPr>
        <p:spPr>
          <a:xfrm>
            <a:off x="1757880" y="5029200"/>
            <a:ext cx="56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ting 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akes exponential time!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wor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876920" y="3456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946840" y="50292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660840" y="457200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871440" y="16653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157800" y="20462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partite network of nodes (variables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arkov logic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= Ground a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tures =  Ground cla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hange messages until con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approximation to node margi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5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7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5867280" y="28954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24" name="AutoShape 16"/>
          <p:cNvCxnSpPr>
            <a:endCxn id="523" idx="1"/>
          </p:cNvCxnSpPr>
          <p:nvPr/>
        </p:nvCxnSpPr>
        <p:spPr>
          <a:xfrm flipV="1">
            <a:off x="3276720" y="270468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5" name="AutoShape 17"/>
          <p:cNvCxnSpPr>
            <a:stCxn id="515" idx="6"/>
            <a:endCxn id="519" idx="1"/>
          </p:cNvCxnSpPr>
          <p:nvPr/>
        </p:nvCxnSpPr>
        <p:spPr>
          <a:xfrm>
            <a:off x="3276720" y="32763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6" name="AutoShape 18"/>
          <p:cNvCxnSpPr>
            <a:stCxn id="513" idx="6"/>
            <a:endCxn id="519" idx="1"/>
          </p:cNvCxnSpPr>
          <p:nvPr/>
        </p:nvCxnSpPr>
        <p:spPr>
          <a:xfrm flipV="1">
            <a:off x="3286080" y="3466800"/>
            <a:ext cx="25725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7" name="AutoShape 19"/>
          <p:cNvCxnSpPr>
            <a:stCxn id="514" idx="6"/>
            <a:endCxn id="521" idx="1"/>
          </p:cNvCxnSpPr>
          <p:nvPr/>
        </p:nvCxnSpPr>
        <p:spPr>
          <a:xfrm flipV="1">
            <a:off x="3276720" y="4457160"/>
            <a:ext cx="2591280" cy="114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8" name="AutoShape 20"/>
          <p:cNvCxnSpPr>
            <a:stCxn id="513" idx="6"/>
            <a:endCxn id="518" idx="1"/>
          </p:cNvCxnSpPr>
          <p:nvPr/>
        </p:nvCxnSpPr>
        <p:spPr>
          <a:xfrm flipV="1">
            <a:off x="3276720" y="3009600"/>
            <a:ext cx="2591280" cy="953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9" name="AutoShape 21"/>
          <p:cNvCxnSpPr>
            <a:stCxn id="515" idx="6"/>
            <a:endCxn id="518" idx="1"/>
          </p:cNvCxnSpPr>
          <p:nvPr/>
        </p:nvCxnSpPr>
        <p:spPr>
          <a:xfrm flipV="1">
            <a:off x="3286080" y="3009600"/>
            <a:ext cx="257256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0" name="AutoShape 22"/>
          <p:cNvCxnSpPr>
            <a:stCxn id="521" idx="1"/>
            <a:endCxn id="517" idx="6"/>
          </p:cNvCxnSpPr>
          <p:nvPr/>
        </p:nvCxnSpPr>
        <p:spPr>
          <a:xfrm flipH="1">
            <a:off x="3276360" y="4456800"/>
            <a:ext cx="25912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1" name="AutoShape 23"/>
          <p:cNvCxnSpPr>
            <a:stCxn id="515" idx="6"/>
            <a:endCxn id="520" idx="1"/>
          </p:cNvCxnSpPr>
          <p:nvPr/>
        </p:nvCxnSpPr>
        <p:spPr>
          <a:xfrm>
            <a:off x="3276720" y="3276360"/>
            <a:ext cx="2591280" cy="72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2" name="AutoShape 24"/>
          <p:cNvCxnSpPr>
            <a:stCxn id="517" idx="6"/>
            <a:endCxn id="522" idx="1"/>
          </p:cNvCxnSpPr>
          <p:nvPr/>
        </p:nvCxnSpPr>
        <p:spPr>
          <a:xfrm flipV="1">
            <a:off x="3276720" y="4990680"/>
            <a:ext cx="259128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3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35" name="AutoShape 19"/>
          <p:cNvCxnSpPr>
            <a:stCxn id="513" idx="6"/>
            <a:endCxn id="520" idx="1"/>
          </p:cNvCxnSpPr>
          <p:nvPr/>
        </p:nvCxnSpPr>
        <p:spPr>
          <a:xfrm>
            <a:off x="3276720" y="396252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6" name="AutoShape 16"/>
          <p:cNvCxnSpPr>
            <a:stCxn id="514" idx="6"/>
            <a:endCxn id="522" idx="1"/>
          </p:cNvCxnSpPr>
          <p:nvPr/>
        </p:nvCxnSpPr>
        <p:spPr>
          <a:xfrm>
            <a:off x="3276720" y="4572000"/>
            <a:ext cx="259128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7" name="Rectangle 34"/>
          <p:cNvSpPr/>
          <p:nvPr/>
        </p:nvSpPr>
        <p:spPr>
          <a:xfrm>
            <a:off x="1752480" y="175248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00"/>
                </a:solidFill>
                <a:latin typeface="Arial"/>
              </a:rPr>
              <a:t>Smokes(Ana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8" name="Rectangle 28"/>
          <p:cNvSpPr/>
          <p:nvPr/>
        </p:nvSpPr>
        <p:spPr>
          <a:xfrm>
            <a:off x="4343400" y="1676520"/>
            <a:ext cx="4572000" cy="70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Smokes(Ana) </a:t>
            </a:r>
            <a:r>
              <a:rPr b="1" lang="en-GB" sz="2000" spc="-1" strike="noStrike">
                <a:solidFill>
                  <a:srgbClr val="990099"/>
                </a:solidFill>
                <a:latin typeface="Symbol"/>
                <a:ea typeface="Symbol"/>
              </a:rPr>
              <a:t>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 Friends(Ana, Bob)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Smokes(Bob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9" name="Line 29"/>
          <p:cNvSpPr/>
          <p:nvPr/>
        </p:nvSpPr>
        <p:spPr>
          <a:xfrm>
            <a:off x="4114800" y="15238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4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5867280" y="28954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9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1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52" name="AutoShape 16"/>
          <p:cNvCxnSpPr>
            <a:endCxn id="551" idx="1"/>
          </p:cNvCxnSpPr>
          <p:nvPr/>
        </p:nvCxnSpPr>
        <p:spPr>
          <a:xfrm flipV="1">
            <a:off x="3276720" y="270468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3" name="AutoShape 17"/>
          <p:cNvCxnSpPr>
            <a:stCxn id="543" idx="6"/>
            <a:endCxn id="547" idx="1"/>
          </p:cNvCxnSpPr>
          <p:nvPr/>
        </p:nvCxnSpPr>
        <p:spPr>
          <a:xfrm>
            <a:off x="3276720" y="32763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4" name="AutoShape 18"/>
          <p:cNvCxnSpPr>
            <a:stCxn id="541" idx="6"/>
            <a:endCxn id="547" idx="1"/>
          </p:cNvCxnSpPr>
          <p:nvPr/>
        </p:nvCxnSpPr>
        <p:spPr>
          <a:xfrm flipV="1">
            <a:off x="3286080" y="3466800"/>
            <a:ext cx="25725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5" name="AutoShape 19"/>
          <p:cNvCxnSpPr>
            <a:stCxn id="542" idx="6"/>
            <a:endCxn id="549" idx="1"/>
          </p:cNvCxnSpPr>
          <p:nvPr/>
        </p:nvCxnSpPr>
        <p:spPr>
          <a:xfrm flipV="1">
            <a:off x="3276720" y="4457160"/>
            <a:ext cx="2591280" cy="114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6" name="AutoShape 20"/>
          <p:cNvCxnSpPr>
            <a:stCxn id="541" idx="6"/>
            <a:endCxn id="546" idx="1"/>
          </p:cNvCxnSpPr>
          <p:nvPr/>
        </p:nvCxnSpPr>
        <p:spPr>
          <a:xfrm flipV="1">
            <a:off x="3276720" y="3009600"/>
            <a:ext cx="2591280" cy="953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7" name="AutoShape 21"/>
          <p:cNvCxnSpPr>
            <a:stCxn id="543" idx="6"/>
            <a:endCxn id="546" idx="1"/>
          </p:cNvCxnSpPr>
          <p:nvPr/>
        </p:nvCxnSpPr>
        <p:spPr>
          <a:xfrm flipV="1">
            <a:off x="3286080" y="3009600"/>
            <a:ext cx="257256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8" name="AutoShape 22"/>
          <p:cNvCxnSpPr>
            <a:stCxn id="549" idx="1"/>
            <a:endCxn id="545" idx="6"/>
          </p:cNvCxnSpPr>
          <p:nvPr/>
        </p:nvCxnSpPr>
        <p:spPr>
          <a:xfrm flipH="1">
            <a:off x="3276360" y="4456800"/>
            <a:ext cx="25912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9" name="AutoShape 23"/>
          <p:cNvCxnSpPr>
            <a:stCxn id="543" idx="6"/>
            <a:endCxn id="548" idx="1"/>
          </p:cNvCxnSpPr>
          <p:nvPr/>
        </p:nvCxnSpPr>
        <p:spPr>
          <a:xfrm>
            <a:off x="3276720" y="3276360"/>
            <a:ext cx="2591280" cy="72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0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62" name="AutoShape 19"/>
          <p:cNvCxnSpPr>
            <a:stCxn id="541" idx="6"/>
            <a:endCxn id="548" idx="1"/>
          </p:cNvCxnSpPr>
          <p:nvPr/>
        </p:nvCxnSpPr>
        <p:spPr>
          <a:xfrm>
            <a:off x="3276720" y="396252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3" name="AutoShape 16"/>
          <p:cNvCxnSpPr>
            <a:stCxn id="542" idx="6"/>
            <a:endCxn id="550" idx="1"/>
          </p:cNvCxnSpPr>
          <p:nvPr/>
        </p:nvCxnSpPr>
        <p:spPr>
          <a:xfrm>
            <a:off x="3276720" y="4572000"/>
            <a:ext cx="259128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5" name="AutoShape 24"/>
          <p:cNvCxnSpPr/>
          <p:nvPr/>
        </p:nvCxnSpPr>
        <p:spPr>
          <a:xfrm flipV="1">
            <a:off x="3276720" y="4990680"/>
            <a:ext cx="259128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6" name="Freeform 33"/>
          <p:cNvSpPr/>
          <p:nvPr/>
        </p:nvSpPr>
        <p:spPr>
          <a:xfrm>
            <a:off x="2514600" y="914400"/>
            <a:ext cx="4114800" cy="64440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4400"/>
              <a:gd name="textAreaBottom" fmla="*/ 644400 h 64440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8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9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2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5867280" y="28954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7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79" name="AutoShape 16"/>
          <p:cNvCxnSpPr>
            <a:endCxn id="578" idx="1"/>
          </p:cNvCxnSpPr>
          <p:nvPr/>
        </p:nvCxnSpPr>
        <p:spPr>
          <a:xfrm flipV="1">
            <a:off x="3276720" y="270468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0" name="AutoShape 17"/>
          <p:cNvCxnSpPr>
            <a:stCxn id="570" idx="6"/>
            <a:endCxn id="574" idx="1"/>
          </p:cNvCxnSpPr>
          <p:nvPr/>
        </p:nvCxnSpPr>
        <p:spPr>
          <a:xfrm>
            <a:off x="3276720" y="32763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1" name="AutoShape 18"/>
          <p:cNvCxnSpPr>
            <a:stCxn id="568" idx="6"/>
            <a:endCxn id="574" idx="1"/>
          </p:cNvCxnSpPr>
          <p:nvPr/>
        </p:nvCxnSpPr>
        <p:spPr>
          <a:xfrm flipV="1">
            <a:off x="3286080" y="3466800"/>
            <a:ext cx="25725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2" name="AutoShape 19"/>
          <p:cNvCxnSpPr>
            <a:stCxn id="569" idx="6"/>
            <a:endCxn id="576" idx="1"/>
          </p:cNvCxnSpPr>
          <p:nvPr/>
        </p:nvCxnSpPr>
        <p:spPr>
          <a:xfrm flipV="1">
            <a:off x="3276720" y="4457160"/>
            <a:ext cx="2591280" cy="114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3" name="AutoShape 20"/>
          <p:cNvCxnSpPr>
            <a:stCxn id="568" idx="6"/>
            <a:endCxn id="573" idx="1"/>
          </p:cNvCxnSpPr>
          <p:nvPr/>
        </p:nvCxnSpPr>
        <p:spPr>
          <a:xfrm flipV="1">
            <a:off x="3276720" y="3009600"/>
            <a:ext cx="2591280" cy="953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4" name="AutoShape 21"/>
          <p:cNvCxnSpPr>
            <a:stCxn id="570" idx="6"/>
            <a:endCxn id="573" idx="1"/>
          </p:cNvCxnSpPr>
          <p:nvPr/>
        </p:nvCxnSpPr>
        <p:spPr>
          <a:xfrm flipV="1">
            <a:off x="3286080" y="3009600"/>
            <a:ext cx="257256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5" name="AutoShape 22"/>
          <p:cNvCxnSpPr>
            <a:stCxn id="576" idx="1"/>
            <a:endCxn id="572" idx="6"/>
          </p:cNvCxnSpPr>
          <p:nvPr/>
        </p:nvCxnSpPr>
        <p:spPr>
          <a:xfrm flipH="1">
            <a:off x="3276360" y="4456800"/>
            <a:ext cx="25912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6" name="AutoShape 23"/>
          <p:cNvCxnSpPr>
            <a:stCxn id="570" idx="6"/>
            <a:endCxn id="575" idx="1"/>
          </p:cNvCxnSpPr>
          <p:nvPr/>
        </p:nvCxnSpPr>
        <p:spPr>
          <a:xfrm>
            <a:off x="3276720" y="3276360"/>
            <a:ext cx="2591280" cy="72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7" name="AutoShape 24"/>
          <p:cNvCxnSpPr>
            <a:stCxn id="572" idx="6"/>
            <a:endCxn id="577" idx="1"/>
          </p:cNvCxnSpPr>
          <p:nvPr/>
        </p:nvCxnSpPr>
        <p:spPr>
          <a:xfrm flipV="1">
            <a:off x="3276720" y="4990680"/>
            <a:ext cx="259128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8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9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90" name="AutoShape 19"/>
          <p:cNvCxnSpPr>
            <a:stCxn id="568" idx="6"/>
            <a:endCxn id="575" idx="1"/>
          </p:cNvCxnSpPr>
          <p:nvPr/>
        </p:nvCxnSpPr>
        <p:spPr>
          <a:xfrm>
            <a:off x="3276720" y="396252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1" name="AutoShape 16"/>
          <p:cNvCxnSpPr>
            <a:stCxn id="569" idx="6"/>
            <a:endCxn id="577" idx="1"/>
          </p:cNvCxnSpPr>
          <p:nvPr/>
        </p:nvCxnSpPr>
        <p:spPr>
          <a:xfrm>
            <a:off x="3276720" y="4572000"/>
            <a:ext cx="259128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92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Freeform 36"/>
          <p:cNvSpPr/>
          <p:nvPr/>
        </p:nvSpPr>
        <p:spPr>
          <a:xfrm flipV="1">
            <a:off x="2590920" y="6323760"/>
            <a:ext cx="4952880" cy="381240"/>
          </a:xfrm>
          <a:custGeom>
            <a:avLst/>
            <a:gdLst>
              <a:gd name="textAreaLeft" fmla="*/ 0 w 4952880"/>
              <a:gd name="textAreaRight" fmla="*/ 4953240 w 495288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2612880" y="5257800"/>
                <a:ext cx="48261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{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5" name="Freeform 33"/>
          <p:cNvSpPr/>
          <p:nvPr/>
        </p:nvSpPr>
        <p:spPr>
          <a:xfrm>
            <a:off x="2514600" y="914400"/>
            <a:ext cx="4114800" cy="64440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4400"/>
              <a:gd name="textAreaBottom" fmla="*/ 644400 h 64440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fted 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7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9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5867280" y="29718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608" name="AutoShape 16"/>
          <p:cNvCxnSpPr>
            <a:endCxn id="607" idx="1"/>
          </p:cNvCxnSpPr>
          <p:nvPr/>
        </p:nvCxnSpPr>
        <p:spPr>
          <a:xfrm flipV="1">
            <a:off x="3276720" y="270468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9" name="AutoShape 17"/>
          <p:cNvCxnSpPr>
            <a:stCxn id="599" idx="6"/>
            <a:endCxn id="603" idx="1"/>
          </p:cNvCxnSpPr>
          <p:nvPr/>
        </p:nvCxnSpPr>
        <p:spPr>
          <a:xfrm>
            <a:off x="3276720" y="32763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0" name="AutoShape 18"/>
          <p:cNvCxnSpPr>
            <a:stCxn id="597" idx="6"/>
            <a:endCxn id="603" idx="1"/>
          </p:cNvCxnSpPr>
          <p:nvPr/>
        </p:nvCxnSpPr>
        <p:spPr>
          <a:xfrm flipV="1">
            <a:off x="3286080" y="3466800"/>
            <a:ext cx="25725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1" name="AutoShape 19"/>
          <p:cNvCxnSpPr>
            <a:stCxn id="598" idx="6"/>
            <a:endCxn id="605" idx="1"/>
          </p:cNvCxnSpPr>
          <p:nvPr/>
        </p:nvCxnSpPr>
        <p:spPr>
          <a:xfrm flipV="1">
            <a:off x="3276720" y="4457160"/>
            <a:ext cx="2591280" cy="114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2" name="AutoShape 20"/>
          <p:cNvCxnSpPr>
            <a:stCxn id="597" idx="6"/>
            <a:endCxn id="602" idx="1"/>
          </p:cNvCxnSpPr>
          <p:nvPr/>
        </p:nvCxnSpPr>
        <p:spPr>
          <a:xfrm flipV="1">
            <a:off x="3276720" y="3085920"/>
            <a:ext cx="2591280" cy="876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3" name="AutoShape 21"/>
          <p:cNvCxnSpPr>
            <a:stCxn id="599" idx="6"/>
            <a:endCxn id="602" idx="1"/>
          </p:cNvCxnSpPr>
          <p:nvPr/>
        </p:nvCxnSpPr>
        <p:spPr>
          <a:xfrm flipV="1">
            <a:off x="3276720" y="30855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4" name="AutoShape 22"/>
          <p:cNvCxnSpPr>
            <a:stCxn id="605" idx="1"/>
            <a:endCxn id="601" idx="6"/>
          </p:cNvCxnSpPr>
          <p:nvPr/>
        </p:nvCxnSpPr>
        <p:spPr>
          <a:xfrm flipH="1">
            <a:off x="3276360" y="4456800"/>
            <a:ext cx="25912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5" name="AutoShape 23"/>
          <p:cNvCxnSpPr>
            <a:stCxn id="599" idx="6"/>
            <a:endCxn id="604" idx="1"/>
          </p:cNvCxnSpPr>
          <p:nvPr/>
        </p:nvCxnSpPr>
        <p:spPr>
          <a:xfrm>
            <a:off x="3276720" y="3276360"/>
            <a:ext cx="2591280" cy="72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6" name="AutoShape 24"/>
          <p:cNvCxnSpPr>
            <a:stCxn id="601" idx="6"/>
            <a:endCxn id="606" idx="1"/>
          </p:cNvCxnSpPr>
          <p:nvPr/>
        </p:nvCxnSpPr>
        <p:spPr>
          <a:xfrm flipV="1">
            <a:off x="3276720" y="4990680"/>
            <a:ext cx="259128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7" name="AutoShape 19"/>
          <p:cNvCxnSpPr>
            <a:stCxn id="597" idx="6"/>
            <a:endCxn id="604" idx="1"/>
          </p:cNvCxnSpPr>
          <p:nvPr/>
        </p:nvCxnSpPr>
        <p:spPr>
          <a:xfrm>
            <a:off x="3276720" y="396252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8" name="AutoShape 16"/>
          <p:cNvCxnSpPr>
            <a:stCxn id="598" idx="6"/>
            <a:endCxn id="606" idx="1"/>
          </p:cNvCxnSpPr>
          <p:nvPr/>
        </p:nvCxnSpPr>
        <p:spPr>
          <a:xfrm>
            <a:off x="3276720" y="4572000"/>
            <a:ext cx="259128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9" name="Rectangle 31"/>
          <p:cNvSpPr/>
          <p:nvPr/>
        </p:nvSpPr>
        <p:spPr>
          <a:xfrm>
            <a:off x="2286000" y="3048120"/>
            <a:ext cx="1523880" cy="12189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2286000" y="4267080"/>
            <a:ext cx="1523880" cy="12193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1" name="Rectangle 34"/>
          <p:cNvSpPr/>
          <p:nvPr/>
        </p:nvSpPr>
        <p:spPr>
          <a:xfrm>
            <a:off x="2286000" y="2514600"/>
            <a:ext cx="1523880" cy="533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2" name="Rectangle 36"/>
          <p:cNvSpPr/>
          <p:nvPr/>
        </p:nvSpPr>
        <p:spPr>
          <a:xfrm>
            <a:off x="5486400" y="2895480"/>
            <a:ext cx="1523880" cy="12956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Rectangle 37"/>
          <p:cNvSpPr/>
          <p:nvPr/>
        </p:nvSpPr>
        <p:spPr>
          <a:xfrm>
            <a:off x="5486400" y="4191120"/>
            <a:ext cx="1523880" cy="11430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Rectangle 36"/>
          <p:cNvSpPr/>
          <p:nvPr/>
        </p:nvSpPr>
        <p:spPr>
          <a:xfrm>
            <a:off x="5486400" y="2438280"/>
            <a:ext cx="1523880" cy="457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Freeform 36"/>
          <p:cNvSpPr/>
          <p:nvPr/>
        </p:nvSpPr>
        <p:spPr>
          <a:xfrm flipV="1">
            <a:off x="2590920" y="6323760"/>
            <a:ext cx="4952880" cy="381240"/>
          </a:xfrm>
          <a:custGeom>
            <a:avLst/>
            <a:gdLst>
              <a:gd name="textAreaLeft" fmla="*/ 0 w 4952880"/>
              <a:gd name="textAreaRight" fmla="*/ 4953240 w 495288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2514600" y="838080"/>
            <a:ext cx="4114800" cy="6447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3"/>
              <p:cNvSpPr txBox="1"/>
              <p:nvPr/>
            </p:nvSpPr>
            <p:spPr>
              <a:xfrm>
                <a:off x="2687760" y="5334120"/>
                <a:ext cx="48276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{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9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fted 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5867280" y="29718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Rectangle 31"/>
          <p:cNvSpPr/>
          <p:nvPr/>
        </p:nvSpPr>
        <p:spPr>
          <a:xfrm>
            <a:off x="2286000" y="3048120"/>
            <a:ext cx="1523880" cy="12189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Rectangle 32"/>
          <p:cNvSpPr/>
          <p:nvPr/>
        </p:nvSpPr>
        <p:spPr>
          <a:xfrm>
            <a:off x="2286000" y="4267080"/>
            <a:ext cx="1523880" cy="12193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Rectangle 34"/>
          <p:cNvSpPr/>
          <p:nvPr/>
        </p:nvSpPr>
        <p:spPr>
          <a:xfrm>
            <a:off x="2286000" y="2514600"/>
            <a:ext cx="1523880" cy="533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5486400" y="2895480"/>
            <a:ext cx="1523880" cy="12956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5486400" y="4191120"/>
            <a:ext cx="1523880" cy="11430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Rectangle 36"/>
          <p:cNvSpPr/>
          <p:nvPr/>
        </p:nvSpPr>
        <p:spPr>
          <a:xfrm>
            <a:off x="5486400" y="2438280"/>
            <a:ext cx="1523880" cy="457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Freeform 36"/>
          <p:cNvSpPr/>
          <p:nvPr/>
        </p:nvSpPr>
        <p:spPr>
          <a:xfrm flipV="1">
            <a:off x="2590920" y="6323760"/>
            <a:ext cx="4952880" cy="381240"/>
          </a:xfrm>
          <a:custGeom>
            <a:avLst/>
            <a:gdLst>
              <a:gd name="textAreaLeft" fmla="*/ 0 w 4952880"/>
              <a:gd name="textAreaRight" fmla="*/ 4953240 w 495288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651" name="AutoShape 16"/>
          <p:cNvCxnSpPr/>
          <p:nvPr/>
        </p:nvCxnSpPr>
        <p:spPr>
          <a:xfrm flipV="1">
            <a:off x="3823920" y="2666520"/>
            <a:ext cx="164844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2" name="AutoShape 19"/>
          <p:cNvCxnSpPr/>
          <p:nvPr/>
        </p:nvCxnSpPr>
        <p:spPr>
          <a:xfrm flipV="1">
            <a:off x="3809520" y="3543120"/>
            <a:ext cx="166284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3" name="AutoShape 24"/>
          <p:cNvCxnSpPr/>
          <p:nvPr/>
        </p:nvCxnSpPr>
        <p:spPr>
          <a:xfrm flipV="1">
            <a:off x="3823920" y="4762080"/>
            <a:ext cx="164844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2687760" y="5334120"/>
                <a:ext cx="48276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{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5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7" name="Freeform 33"/>
          <p:cNvSpPr/>
          <p:nvPr/>
        </p:nvSpPr>
        <p:spPr>
          <a:xfrm>
            <a:off x="2514600" y="838080"/>
            <a:ext cx="4114800" cy="6447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fted 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0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5867280" y="29718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0" name="Rectangle 31"/>
          <p:cNvSpPr/>
          <p:nvPr/>
        </p:nvSpPr>
        <p:spPr>
          <a:xfrm>
            <a:off x="2286000" y="3048120"/>
            <a:ext cx="1523880" cy="12189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Rectangle 32"/>
          <p:cNvSpPr/>
          <p:nvPr/>
        </p:nvSpPr>
        <p:spPr>
          <a:xfrm>
            <a:off x="2286000" y="4267080"/>
            <a:ext cx="1523880" cy="12193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2" name="Rectangle 34"/>
          <p:cNvSpPr/>
          <p:nvPr/>
        </p:nvSpPr>
        <p:spPr>
          <a:xfrm>
            <a:off x="2286000" y="2514600"/>
            <a:ext cx="1523880" cy="533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3" name="Rectangle 36"/>
          <p:cNvSpPr/>
          <p:nvPr/>
        </p:nvSpPr>
        <p:spPr>
          <a:xfrm>
            <a:off x="5486400" y="2895480"/>
            <a:ext cx="1523880" cy="12956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4" name="Rectangle 37"/>
          <p:cNvSpPr/>
          <p:nvPr/>
        </p:nvSpPr>
        <p:spPr>
          <a:xfrm>
            <a:off x="5486400" y="4191120"/>
            <a:ext cx="1523880" cy="11430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5" name="Rectangle 36"/>
          <p:cNvSpPr/>
          <p:nvPr/>
        </p:nvSpPr>
        <p:spPr>
          <a:xfrm>
            <a:off x="5486400" y="2438280"/>
            <a:ext cx="1523880" cy="457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Freeform 36"/>
          <p:cNvSpPr/>
          <p:nvPr/>
        </p:nvSpPr>
        <p:spPr>
          <a:xfrm flipV="1">
            <a:off x="2590920" y="6323760"/>
            <a:ext cx="4952880" cy="381240"/>
          </a:xfrm>
          <a:custGeom>
            <a:avLst/>
            <a:gdLst>
              <a:gd name="textAreaLeft" fmla="*/ 0 w 4952880"/>
              <a:gd name="textAreaRight" fmla="*/ 4953240 w 495288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678" name="AutoShape 16"/>
          <p:cNvCxnSpPr/>
          <p:nvPr/>
        </p:nvCxnSpPr>
        <p:spPr>
          <a:xfrm flipV="1">
            <a:off x="3823920" y="2666520"/>
            <a:ext cx="164844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79" name="AutoShape 19"/>
          <p:cNvCxnSpPr/>
          <p:nvPr/>
        </p:nvCxnSpPr>
        <p:spPr>
          <a:xfrm flipV="1">
            <a:off x="3809520" y="3543120"/>
            <a:ext cx="166284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0" name="AutoShape 24"/>
          <p:cNvCxnSpPr/>
          <p:nvPr/>
        </p:nvCxnSpPr>
        <p:spPr>
          <a:xfrm flipV="1">
            <a:off x="3823920" y="4762080"/>
            <a:ext cx="164844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81" name="Object 3"/>
              <p:cNvSpPr txBox="1"/>
              <p:nvPr/>
            </p:nvSpPr>
            <p:spPr>
              <a:xfrm>
                <a:off x="2687760" y="5334120"/>
                <a:ext cx="48276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{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2" name="Text Box 42"/>
          <p:cNvSpPr/>
          <p:nvPr/>
        </p:nvSpPr>
        <p:spPr>
          <a:xfrm>
            <a:off x="6326280" y="1251000"/>
            <a:ext cx="37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Symbol"/>
                <a:ea typeface="Symbol"/>
              </a:rPr>
              <a:t>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Text Box 43"/>
          <p:cNvSpPr/>
          <p:nvPr/>
        </p:nvSpPr>
        <p:spPr>
          <a:xfrm>
            <a:off x="4343400" y="1600200"/>
            <a:ext cx="32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Symbol"/>
                <a:ea typeface="Symbol"/>
              </a:rPr>
              <a:t>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Text Box 47"/>
          <p:cNvSpPr/>
          <p:nvPr/>
        </p:nvSpPr>
        <p:spPr>
          <a:xfrm>
            <a:off x="304920" y="914400"/>
            <a:ext cx="167616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66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Functions of edge count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6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7" name="Freeform 33"/>
          <p:cNvSpPr/>
          <p:nvPr/>
        </p:nvSpPr>
        <p:spPr>
          <a:xfrm>
            <a:off x="2514600" y="838080"/>
            <a:ext cx="4495680" cy="64476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3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5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9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01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02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b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190400" y="35053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508200" y="5181480"/>
            <a:ext cx="233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024600" y="4343400"/>
            <a:ext cx="235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415680" y="158904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803480" y="251460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T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616800" y="189396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6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08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09" name="TextBox 9"/>
          <p:cNvSpPr/>
          <p:nvPr/>
        </p:nvSpPr>
        <p:spPr>
          <a:xfrm>
            <a:off x="609480" y="58672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d World Assumption: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thing not in the database is assumed fals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4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16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17" name="TextBox 9"/>
          <p:cNvSpPr/>
          <p:nvPr/>
        </p:nvSpPr>
        <p:spPr>
          <a:xfrm>
            <a:off x="609480" y="58672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d World Assumption: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thing not in the database is assumed fals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3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25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26" name="TextBox 9"/>
          <p:cNvSpPr/>
          <p:nvPr/>
        </p:nvSpPr>
        <p:spPr>
          <a:xfrm>
            <a:off x="609480" y="58672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d World Assumption: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thing not in the database is assumed fals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6019920" y="3886200"/>
          <a:ext cx="2286000" cy="18543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Friend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Bob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John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John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a relationa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d world assumption (if not: 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parameters (weigh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imin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Parameters  (Discriminativ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train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e conditional likelihood of quer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given evidenc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gradient asc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local max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2"/>
          <p:cNvSpPr/>
          <p:nvPr/>
        </p:nvSpPr>
        <p:spPr>
          <a:xfrm>
            <a:off x="5584680" y="4629240"/>
            <a:ext cx="198144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Rectangle 13"/>
          <p:cNvSpPr/>
          <p:nvPr/>
        </p:nvSpPr>
        <p:spPr>
          <a:xfrm>
            <a:off x="4060800" y="462924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1179360" y="569592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7" name="Text Box 15"/>
          <p:cNvSpPr/>
          <p:nvPr/>
        </p:nvSpPr>
        <p:spPr>
          <a:xfrm>
            <a:off x="3695400" y="622944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Line 16"/>
          <p:cNvSpPr/>
          <p:nvPr/>
        </p:nvSpPr>
        <p:spPr>
          <a:xfrm flipV="1">
            <a:off x="4441680" y="5238720"/>
            <a:ext cx="15264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9" name="Line 17"/>
          <p:cNvSpPr/>
          <p:nvPr/>
        </p:nvSpPr>
        <p:spPr>
          <a:xfrm flipH="1" flipV="1">
            <a:off x="6270480" y="5238720"/>
            <a:ext cx="533520" cy="99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18"/>
              <p:cNvSpPr txBox="1"/>
              <p:nvPr/>
            </p:nvSpPr>
            <p:spPr>
              <a:xfrm>
                <a:off x="1012680" y="4476600"/>
                <a:ext cx="64756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5486400" y="3048120"/>
            <a:ext cx="19810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3962520" y="3048120"/>
            <a:ext cx="12189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520" y="122400"/>
            <a:ext cx="7620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Parameters (Discriminativ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inference at each step (slow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ximate expected counts by counts in MAP st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1080720" y="411480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3596760" y="464832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7" name="Line 8"/>
          <p:cNvSpPr/>
          <p:nvPr/>
        </p:nvSpPr>
        <p:spPr>
          <a:xfrm flipV="1">
            <a:off x="4343400" y="3657600"/>
            <a:ext cx="15228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8" name="Line 9"/>
          <p:cNvSpPr/>
          <p:nvPr/>
        </p:nvSpPr>
        <p:spPr>
          <a:xfrm flipH="1" flipV="1">
            <a:off x="6172200" y="3657600"/>
            <a:ext cx="533520" cy="99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10"/>
              <p:cNvSpPr txBox="1"/>
              <p:nvPr/>
            </p:nvSpPr>
            <p:spPr>
              <a:xfrm>
                <a:off x="914400" y="2895480"/>
                <a:ext cx="64753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Structur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6019920" y="3886200"/>
          <a:ext cx="2286000" cy="18543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Friend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Bob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John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John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54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5" name="TextBox 14"/>
          <p:cNvSpPr/>
          <p:nvPr/>
        </p:nvSpPr>
        <p:spPr>
          <a:xfrm>
            <a:off x="394920" y="5943600"/>
            <a:ext cx="72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we learn the set of the formulas in the MLN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Structur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9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61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6019920" y="3886200"/>
          <a:ext cx="2286000" cy="18543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Friend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Bob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John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John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64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TextBox 14"/>
          <p:cNvSpPr/>
          <p:nvPr/>
        </p:nvSpPr>
        <p:spPr>
          <a:xfrm>
            <a:off x="335160" y="594360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we refine the set of the formulas in the MLN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Structur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9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71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6019920" y="3886200"/>
          <a:ext cx="2286000" cy="18543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Friend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Bob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John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John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74" name="Rectangle 2"/>
          <p:cNvSpPr/>
          <p:nvPr/>
        </p:nvSpPr>
        <p:spPr>
          <a:xfrm>
            <a:off x="1981080" y="5943600"/>
            <a:ext cx="46483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4"/>
              <p:cNvSpPr txBox="1"/>
              <p:nvPr/>
            </p:nvSpPr>
            <p:spPr>
              <a:xfrm>
                <a:off x="2049480" y="6093000"/>
                <a:ext cx="4462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iend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Friend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6" name="Rectangle 5"/>
          <p:cNvSpPr/>
          <p:nvPr/>
        </p:nvSpPr>
        <p:spPr>
          <a:xfrm>
            <a:off x="1295280" y="5943600"/>
            <a:ext cx="6858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Object 6"/>
              <p:cNvSpPr txBox="1"/>
              <p:nvPr/>
            </p:nvSpPr>
            <p:spPr>
              <a:xfrm>
                <a:off x="1371600" y="6019920"/>
                <a:ext cx="5000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8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 the MLN formulas given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 in the space of possible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haustive search not possi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guide th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lauses or hand-coded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/remove literal, flip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+ structure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p-down, bottom-up, structural mo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 &amp; 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-m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iv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Pred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retrie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ty re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 Segmentation &amp; De-no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Network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Language Process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ot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 and MD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leaning and Integration – first step in the data-mining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rging of data from multiple sources results in dupl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ntity Resolu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blem of identifying which of the records/fields refer to the same underlying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4648320" y="5486400"/>
            <a:ext cx="2743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251460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685800" y="5486400"/>
            <a:ext cx="9144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Rectangle 8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5" name="Rectangle 9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Rectangle 10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Rectangle 11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Rectangle 12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Rectangle 13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Rectangle 14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2" name="Rectangle 16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3" name="Rectangle 17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Rectangle 18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5" name="Rectangle 19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6" name="Rectangle 20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7" name="Rectangle 21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0" name="Text Box 24"/>
          <p:cNvSpPr/>
          <p:nvPr/>
        </p:nvSpPr>
        <p:spPr>
          <a:xfrm>
            <a:off x="685800" y="1752480"/>
            <a:ext cx="794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n H. (2006). Efficent inference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1" name="Line 25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2" name="Line 26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3" name="Freeform 27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>
              <a:gd name="textAreaLeft" fmla="*/ 0 w 927000"/>
              <a:gd name="textAreaRight" fmla="*/ 927360 w 927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814" name="Group 33"/>
          <p:cNvGrpSpPr/>
          <p:nvPr/>
        </p:nvGrpSpPr>
        <p:grpSpPr>
          <a:xfrm>
            <a:off x="5334120" y="152280"/>
            <a:ext cx="1461240" cy="1414080"/>
            <a:chOff x="5334120" y="152280"/>
            <a:chExt cx="1461240" cy="1414080"/>
          </a:xfrm>
        </p:grpSpPr>
        <p:sp>
          <p:nvSpPr>
            <p:cNvPr id="815" name="Rectangle 41"/>
            <p:cNvSpPr/>
            <p:nvPr/>
          </p:nvSpPr>
          <p:spPr>
            <a:xfrm>
              <a:off x="5334120" y="228240"/>
              <a:ext cx="304560" cy="304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6" name="Rectangle 42"/>
            <p:cNvSpPr/>
            <p:nvPr/>
          </p:nvSpPr>
          <p:spPr>
            <a:xfrm>
              <a:off x="5334120" y="685800"/>
              <a:ext cx="304560" cy="30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7" name="Rectangle 43"/>
            <p:cNvSpPr/>
            <p:nvPr/>
          </p:nvSpPr>
          <p:spPr>
            <a:xfrm>
              <a:off x="5334120" y="1143000"/>
              <a:ext cx="30456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8" name="Text Box 44"/>
            <p:cNvSpPr/>
            <p:nvPr/>
          </p:nvSpPr>
          <p:spPr>
            <a:xfrm>
              <a:off x="5717160" y="152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9" name="Text Box 45"/>
            <p:cNvSpPr/>
            <p:nvPr/>
          </p:nvSpPr>
          <p:spPr>
            <a:xfrm>
              <a:off x="5717520" y="6094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20" name="Text Box 46"/>
            <p:cNvSpPr/>
            <p:nvPr/>
          </p:nvSpPr>
          <p:spPr>
            <a:xfrm>
              <a:off x="5702400" y="110664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nu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4648320" y="5486400"/>
            <a:ext cx="2743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251460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685800" y="5486400"/>
            <a:ext cx="9144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8" name="Rectangle 9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Rectangle 11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1" name="Rectangle 12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2" name="Rectangle 13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Rectangle 14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4" name="Rectangle 15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5" name="Rectangle 16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6" name="Rectangle 17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8" name="Rectangle 19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2" name="Text Box 23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3" name="Text Box 24"/>
          <p:cNvSpPr/>
          <p:nvPr/>
        </p:nvSpPr>
        <p:spPr>
          <a:xfrm>
            <a:off x="685800" y="1752480"/>
            <a:ext cx="794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n H. (2006). Efficent inference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4" name="Line 25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Line 26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6" name="Freeform 27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>
              <a:gd name="textAreaLeft" fmla="*/ 0 w 927000"/>
              <a:gd name="textAreaRight" fmla="*/ 927360 w 927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7" name="Line 28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8" name="Line 29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Line 30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0" name="Line 31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1" name="Line 32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2" name="Line 33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3" name="Line 34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Line 35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5" name="Line 36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Line 37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7" name="Line 38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Line 39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9" name="Line 40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860" name="Group 40"/>
          <p:cNvGrpSpPr/>
          <p:nvPr/>
        </p:nvGrpSpPr>
        <p:grpSpPr>
          <a:xfrm>
            <a:off x="5334120" y="152280"/>
            <a:ext cx="1461240" cy="1414080"/>
            <a:chOff x="5334120" y="152280"/>
            <a:chExt cx="1461240" cy="1414080"/>
          </a:xfrm>
        </p:grpSpPr>
        <p:sp>
          <p:nvSpPr>
            <p:cNvPr id="861" name="Rectangle 41"/>
            <p:cNvSpPr/>
            <p:nvPr/>
          </p:nvSpPr>
          <p:spPr>
            <a:xfrm>
              <a:off x="5334120" y="228240"/>
              <a:ext cx="304560" cy="304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2" name="Rectangle 42"/>
            <p:cNvSpPr/>
            <p:nvPr/>
          </p:nvSpPr>
          <p:spPr>
            <a:xfrm>
              <a:off x="5334120" y="685800"/>
              <a:ext cx="304560" cy="30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3" name="Rectangle 43"/>
            <p:cNvSpPr/>
            <p:nvPr/>
          </p:nvSpPr>
          <p:spPr>
            <a:xfrm>
              <a:off x="5334120" y="1143000"/>
              <a:ext cx="30456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4" name="Text Box 44"/>
            <p:cNvSpPr/>
            <p:nvPr/>
          </p:nvSpPr>
          <p:spPr>
            <a:xfrm>
              <a:off x="5717160" y="152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5" name="Text Box 45"/>
            <p:cNvSpPr/>
            <p:nvPr/>
          </p:nvSpPr>
          <p:spPr>
            <a:xfrm>
              <a:off x="5717520" y="6094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6" name="Text Box 46"/>
            <p:cNvSpPr/>
            <p:nvPr/>
          </p:nvSpPr>
          <p:spPr>
            <a:xfrm>
              <a:off x="5702400" y="110664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nu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4648320" y="5486400"/>
            <a:ext cx="2743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251460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685800" y="5486400"/>
            <a:ext cx="9144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4" name="Rectangle 9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Rectangle 10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6" name="Rectangle 11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7" name="Rectangle 12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Rectangle 13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9" name="Rectangle 14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0" name="Rectangle 15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1" name="Rectangle 16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2" name="Rectangle 17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Rectangle 18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4" name="Rectangle 19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5" name="Rectangle 20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6" name="Rectangle 21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8" name="Text Box 23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Text Box 24"/>
          <p:cNvSpPr/>
          <p:nvPr/>
        </p:nvSpPr>
        <p:spPr>
          <a:xfrm>
            <a:off x="685800" y="1752480"/>
            <a:ext cx="794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n H. (2006). Efficent inference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0" name="Line 25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1" name="Line 26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2" name="Freeform 27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>
              <a:gd name="textAreaLeft" fmla="*/ 0 w 927000"/>
              <a:gd name="textAreaRight" fmla="*/ 927360 w 927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3" name="Line 28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4" name="Line 29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5" name="Line 30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6" name="Line 31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7" name="Line 32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8" name="Line 33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9" name="Line 34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0" name="Line 35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1" name="Line 36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2" name="Line 37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3" name="Line 38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4" name="Line 39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5" name="Line 40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6" name="AutoShape 41"/>
          <p:cNvSpPr/>
          <p:nvPr/>
        </p:nvSpPr>
        <p:spPr>
          <a:xfrm rot="18357600">
            <a:off x="7048440" y="4304880"/>
            <a:ext cx="1371600" cy="1447920"/>
          </a:xfrm>
          <a:custGeom>
            <a:avLst/>
            <a:gdLst>
              <a:gd name="textAreaLeft" fmla="*/ 1285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16586" y="0"/>
                </a:moveTo>
                <a:lnTo>
                  <a:pt x="11571" y="5258"/>
                </a:lnTo>
                <a:lnTo>
                  <a:pt x="14652" y="5258"/>
                </a:lnTo>
                <a:lnTo>
                  <a:pt x="14652" y="14652"/>
                </a:lnTo>
                <a:lnTo>
                  <a:pt x="5258" y="14652"/>
                </a:lnTo>
                <a:lnTo>
                  <a:pt x="5258" y="11571"/>
                </a:lnTo>
                <a:lnTo>
                  <a:pt x="0" y="16586"/>
                </a:lnTo>
                <a:lnTo>
                  <a:pt x="5258" y="21600"/>
                </a:lnTo>
                <a:lnTo>
                  <a:pt x="5258" y="18519"/>
                </a:lnTo>
                <a:lnTo>
                  <a:pt x="18519" y="18519"/>
                </a:lnTo>
                <a:lnTo>
                  <a:pt x="18519" y="5258"/>
                </a:lnTo>
                <a:lnTo>
                  <a:pt x="21600" y="5258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7" name="AutoShape 42"/>
          <p:cNvSpPr/>
          <p:nvPr/>
        </p:nvSpPr>
        <p:spPr>
          <a:xfrm rot="18357600">
            <a:off x="6819840" y="2018880"/>
            <a:ext cx="1371600" cy="1447920"/>
          </a:xfrm>
          <a:custGeom>
            <a:avLst/>
            <a:gdLst>
              <a:gd name="textAreaLeft" fmla="*/ 1285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16586" y="0"/>
                </a:moveTo>
                <a:lnTo>
                  <a:pt x="11571" y="5258"/>
                </a:lnTo>
                <a:lnTo>
                  <a:pt x="14652" y="5258"/>
                </a:lnTo>
                <a:lnTo>
                  <a:pt x="14652" y="14652"/>
                </a:lnTo>
                <a:lnTo>
                  <a:pt x="5258" y="14652"/>
                </a:lnTo>
                <a:lnTo>
                  <a:pt x="5258" y="11571"/>
                </a:lnTo>
                <a:lnTo>
                  <a:pt x="0" y="16586"/>
                </a:lnTo>
                <a:lnTo>
                  <a:pt x="5258" y="21600"/>
                </a:lnTo>
                <a:lnTo>
                  <a:pt x="5258" y="18519"/>
                </a:lnTo>
                <a:lnTo>
                  <a:pt x="18519" y="18519"/>
                </a:lnTo>
                <a:lnTo>
                  <a:pt x="18519" y="5258"/>
                </a:lnTo>
                <a:lnTo>
                  <a:pt x="21600" y="5258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908" name="Group 42"/>
          <p:cNvGrpSpPr/>
          <p:nvPr/>
        </p:nvGrpSpPr>
        <p:grpSpPr>
          <a:xfrm>
            <a:off x="5334120" y="152280"/>
            <a:ext cx="1461240" cy="1414080"/>
            <a:chOff x="5334120" y="152280"/>
            <a:chExt cx="1461240" cy="1414080"/>
          </a:xfrm>
        </p:grpSpPr>
        <p:sp>
          <p:nvSpPr>
            <p:cNvPr id="909" name="Rectangle 41"/>
            <p:cNvSpPr/>
            <p:nvPr/>
          </p:nvSpPr>
          <p:spPr>
            <a:xfrm>
              <a:off x="5334120" y="228240"/>
              <a:ext cx="304560" cy="304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0" name="Rectangle 42"/>
            <p:cNvSpPr/>
            <p:nvPr/>
          </p:nvSpPr>
          <p:spPr>
            <a:xfrm>
              <a:off x="5334120" y="685800"/>
              <a:ext cx="304560" cy="30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1" name="Rectangle 43"/>
            <p:cNvSpPr/>
            <p:nvPr/>
          </p:nvSpPr>
          <p:spPr>
            <a:xfrm>
              <a:off x="5334120" y="1143000"/>
              <a:ext cx="30456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2" name="Text Box 44"/>
            <p:cNvSpPr/>
            <p:nvPr/>
          </p:nvSpPr>
          <p:spPr>
            <a:xfrm>
              <a:off x="5717160" y="152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3" name="Text Box 45"/>
            <p:cNvSpPr/>
            <p:nvPr/>
          </p:nvSpPr>
          <p:spPr>
            <a:xfrm>
              <a:off x="5717520" y="6094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4" name="Text Box 46"/>
            <p:cNvSpPr/>
            <p:nvPr/>
          </p:nvSpPr>
          <p:spPr>
            <a:xfrm>
              <a:off x="5702400" y="110664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nu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 Box 2"/>
          <p:cNvSpPr/>
          <p:nvPr/>
        </p:nvSpPr>
        <p:spPr>
          <a:xfrm>
            <a:off x="0" y="14479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2"/>
          <p:cNvSpPr/>
          <p:nvPr/>
        </p:nvSpPr>
        <p:spPr>
          <a:xfrm>
            <a:off x="0" y="1447920"/>
            <a:ext cx="9144000" cy="25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fields based on shared tokens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 &amp;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0" y="1447920"/>
            <a:ext cx="9144000" cy="43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fields based on shared tokens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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records based on similarity of fields and  vice-versa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 &amp;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2"/>
          <p:cNvSpPr/>
          <p:nvPr/>
        </p:nvSpPr>
        <p:spPr>
          <a:xfrm>
            <a:off x="0" y="1447920"/>
            <a:ext cx="91440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fields based on shared tokens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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records based on similarity of fields and  vice-versa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^ 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3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3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Transitivity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 &amp;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884760" y="350532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-Order Logic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 Box 2"/>
          <p:cNvSpPr/>
          <p:nvPr/>
        </p:nvSpPr>
        <p:spPr>
          <a:xfrm>
            <a:off x="0" y="1447920"/>
            <a:ext cx="91440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fields based on shared tokens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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records based on similarity of fields and  vice-versa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^ 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3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3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Transitivity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 &amp;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5" name="TextBox 3"/>
          <p:cNvSpPr/>
          <p:nvPr/>
        </p:nvSpPr>
        <p:spPr>
          <a:xfrm>
            <a:off x="1452600" y="6019920"/>
            <a:ext cx="6307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inner of Best Paper Award!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covery of Social Relationships in Consumer Photo Collect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1401840" y="259092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out all the photos of my chi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 friends!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928" name="Picture 4" descr="100_0082"/>
          <p:cNvPicPr/>
          <p:nvPr/>
        </p:nvPicPr>
        <p:blipFill>
          <a:blip r:embed="rId1"/>
          <a:stretch/>
        </p:blipFill>
        <p:spPr>
          <a:xfrm>
            <a:off x="1219320" y="3733920"/>
            <a:ext cx="2457360" cy="1638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" descr="100_0433"/>
          <p:cNvPicPr/>
          <p:nvPr/>
        </p:nvPicPr>
        <p:blipFill>
          <a:blip r:embed="rId2"/>
          <a:stretch/>
        </p:blipFill>
        <p:spPr>
          <a:xfrm>
            <a:off x="5334120" y="3809880"/>
            <a:ext cx="245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LN Ru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eople share a uniqu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s are older than their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’s friends are of similar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ng adult appearing with a child shares a parent-child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iends and relatives are clustered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Compar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1066680" y="2209680"/>
          <a:ext cx="7315200" cy="4071960"/>
        </p:xfrm>
        <a:graphic>
          <a:graphicData uri="http://schemas.openxmlformats.org/drawingml/2006/table">
            <a:tbl>
              <a:tblPr/>
              <a:tblGrid>
                <a:gridCol w="2103480"/>
                <a:gridCol w="5211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Random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prediction (uniform)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rior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based on priors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ard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constraints only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ard-prior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 of hard and prior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LN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constructed MLN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lts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7 Different Relationships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935" name="Picture 5" descr="plot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lchem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-source software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first-order logic synt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E inference, marginal 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ive &amp; discriminative weight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languag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755720" y="5334120"/>
            <a:ext cx="523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alchemy.cs.washington.edu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85120" y="3505320"/>
            <a:ext cx="38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al Models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732840" y="35053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stical + Logical A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7:43:43Z</dcterms:created>
  <dc:creator>Pedro Domingos</dc:creator>
  <dc:description/>
  <dc:language>en-US</dc:language>
  <cp:lastModifiedBy>parag</cp:lastModifiedBy>
  <dcterms:modified xsi:type="dcterms:W3CDTF">2010-11-24T16:19:43Z</dcterms:modified>
  <cp:revision>1843</cp:revision>
  <dc:subject/>
  <dc:title>Learning, Logic, and Probability: A Unified View</dc:title>
</cp:coreProperties>
</file>