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25334-CA9D-47FC-B1F2-101F1236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9F29B-F6BC-42BE-841D-34C92D86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20643-71B0-45E2-8B9C-DA80F130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4072F-2BE9-4C7A-8C4A-FC7D85F7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5B9AE-1FE1-46DC-AE63-AAC79ADE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D59AF-3220-4235-9D6C-BBB3BCB4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C24C-7B9E-44A9-B288-F59BED28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72401-83A2-43EB-A9C0-EC64AE41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54C5D-A16F-4436-AE59-59C961D0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BDE6F-4C66-49EC-8C25-D98D802F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53EF2-2696-474B-AD8E-9DF12493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1BBD3-F534-4D27-88DE-4ACFD9BE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858A-29D7-4917-9CD7-BF3D7C6AD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43: Artificial Intelligence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eural Networ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C704B-3D08-4C09-88DA-E8D2361380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upervised training examples giving the desired output for a unit given a set of known input activ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synaptic weights so that unit produces the correct output for each exa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ptron uses iterative update algorithm to learn a correct set of weigh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A94AF-968B-4B28-BF92-2787D75E96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Learning Ru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028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weights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“learning ra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teacher specified output for un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output is correct do noth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output is high, lower weights on active inpu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output is low, increase weights on active inpu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djust threshold to compens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85840" y="1822320"/>
                <a:ext cx="380988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374840" y="5788080"/>
                <a:ext cx="33717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η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F2A6B-0EC9-40A4-8781-421A663D4C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Learning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9185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vely update weights until converg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xecution of the outer loop is typically called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po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6720" y="2060640"/>
            <a:ext cx="826884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weights to random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outputs of all training examples are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training pair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current outpu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iven its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current output to target valu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synaptic weights and threshold using learning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8D2C5-7B97-424F-9ACE-7ABE21630C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as a Linear Separato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850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perceptron uses linear threshold function, it is searching for a linear separator that discriminates the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34920" y="3079440"/>
            <a:ext cx="0" cy="304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280" y="6005520"/>
            <a:ext cx="408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4960" y="38354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00040" y="41925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52680" y="4738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71440" y="51958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04960" y="3595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1440" y="45100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24080" y="46623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85840" y="4281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42688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19360" y="51958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0080" y="51958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01840" y="57164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24280" y="45864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01840" y="50306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00240" y="54244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86040" y="45100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71880" y="2997360"/>
            <a:ext cx="8856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81360" y="30733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8040" y="38354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181160" y="3149280"/>
            <a:ext cx="2666880" cy="259092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064120" y="2998800"/>
                <a:ext cx="31669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362160" y="2890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18200" y="5908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903920" y="3962520"/>
                <a:ext cx="345420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2975040" y="3268800"/>
            <a:ext cx="46332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rot="5400000">
            <a:off x="3784680" y="3408840"/>
            <a:ext cx="46332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16200000">
            <a:off x="869400" y="5310720"/>
            <a:ext cx="46368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1609560" y="5424120"/>
            <a:ext cx="46368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55400" y="3571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64360" y="5415120"/>
            <a:ext cx="281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Or </a:t>
            </a: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hyperplane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-dimension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CF9FF-1C1E-4507-9124-48FC814F8F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ept Perceptron Cannot Lear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learn exclusive-or, or parity function in gene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800440" y="2944440"/>
            <a:ext cx="0" cy="304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5440" y="5870520"/>
            <a:ext cx="408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046320" y="3014280"/>
            <a:ext cx="2667240" cy="259092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7320" y="275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83360" y="5773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40200" y="3133800"/>
            <a:ext cx="46368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rot="5400000">
            <a:off x="5650200" y="3273840"/>
            <a:ext cx="46332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rot="16200000">
            <a:off x="2736000" y="5175720"/>
            <a:ext cx="463320" cy="18288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3475080" y="5289120"/>
            <a:ext cx="46368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20920" y="3436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07280" y="3241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57520" y="3486240"/>
            <a:ext cx="24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07960" y="3255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47640" y="5762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55760" y="6067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68520" y="5668920"/>
            <a:ext cx="12600" cy="32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30720" y="3308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43960" y="5403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08360" y="5375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6163D-AC41-43CD-A646-91F90EFD44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Limi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obviously cannot learn concepts it cannot repre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ksy and Papert (1969) wrote a book analyzing the perceptron and demonstrating many functions it could not lea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results discouraged further research on neural nets; and symbolic AI became the dominate paradig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1F0FC-ACAA-4696-8985-13AA0E1B91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erceptron Convergence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and Cycling Theorem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erceptron convergence theor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the data is linearly separable and therefore a set of weights exist that are consistent with the data, then the Perceptron algorithm will eventually converge to a consistent set of weigh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erceptron cycling theor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the data is not linearly separable, the Perceptron algorithm will eventually repeat a set of weights and threshold at the end of some epoch and therefore enter an infinite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y checking for repeated weights+threshold, one can guarantee termination with either a positive or negative resul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D0F1B-85FC-4365-847C-0FEB99E83E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as Hill Climb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4280" y="1371600"/>
            <a:ext cx="82616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ypothesis space being search is a set of weights and a thresh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is to minimize classification error on the training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ron effectively does hill-climbing (gradient descent) in this space, changing the weights a small amount at each point to decrease training set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single model neuron, the space is well behaved with a single mi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027240" y="4505400"/>
            <a:ext cx="1800" cy="201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894040" y="6443640"/>
            <a:ext cx="40482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39360" y="63784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77680" y="637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24200" y="4689360"/>
            <a:ext cx="116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33800" y="4694400"/>
            <a:ext cx="3863880" cy="1760400"/>
          </a:xfrm>
          <a:custGeom>
            <a:avLst/>
            <a:gdLst/>
            <a:ahLst/>
            <a:rect l="l" t="t" r="r" b="b"/>
            <a:pathLst>
              <a:path w="2434" h="1109">
                <a:moveTo>
                  <a:pt x="0" y="31"/>
                </a:moveTo>
                <a:cubicBezTo>
                  <a:pt x="167" y="40"/>
                  <a:pt x="334" y="49"/>
                  <a:pt x="430" y="92"/>
                </a:cubicBezTo>
                <a:cubicBezTo>
                  <a:pt x="526" y="135"/>
                  <a:pt x="516" y="199"/>
                  <a:pt x="576" y="292"/>
                </a:cubicBezTo>
                <a:cubicBezTo>
                  <a:pt x="636" y="385"/>
                  <a:pt x="706" y="541"/>
                  <a:pt x="791" y="653"/>
                </a:cubicBezTo>
                <a:cubicBezTo>
                  <a:pt x="876" y="765"/>
                  <a:pt x="977" y="892"/>
                  <a:pt x="1083" y="967"/>
                </a:cubicBezTo>
                <a:cubicBezTo>
                  <a:pt x="1189" y="1042"/>
                  <a:pt x="1317" y="1103"/>
                  <a:pt x="1428" y="1106"/>
                </a:cubicBezTo>
                <a:cubicBezTo>
                  <a:pt x="1539" y="1109"/>
                  <a:pt x="1663" y="1044"/>
                  <a:pt x="1751" y="983"/>
                </a:cubicBezTo>
                <a:cubicBezTo>
                  <a:pt x="1839" y="922"/>
                  <a:pt x="1908" y="850"/>
                  <a:pt x="1958" y="737"/>
                </a:cubicBezTo>
                <a:cubicBezTo>
                  <a:pt x="2008" y="624"/>
                  <a:pt x="1971" y="430"/>
                  <a:pt x="2050" y="307"/>
                </a:cubicBezTo>
                <a:cubicBezTo>
                  <a:pt x="2129" y="184"/>
                  <a:pt x="2371" y="51"/>
                  <a:pt x="243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0D905-518A-42FC-BAAC-A76DB9E864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Performa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threshold functions are restrictive (high bias) but still reasonably expressive; more general th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ure conjunctiv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ure disjunctiv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-of-N  (at least M of a specified set of N features must be present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converges fairly quickly for linearly separabl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effectively use even incompletely converged results when only a few outliers are misclass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ly, Perceptron does quite well on many benchmark data se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B62B8-1C7D-426E-B196-AA15384724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ulti-Layer Networ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layer networks can represent arbitrary functions, but an effective learning algorithm for such networks was thought to be diffic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multi-layer network consists of an input, hidden and output layer, each fully connected to the next, with activation feeding for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eights determine the function computed. Given an arbitrary number of hidden units, any boolean function can be computed with a single hidden l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317760" y="3368520"/>
            <a:ext cx="2349720" cy="1423080"/>
            <a:chOff x="3317760" y="3368520"/>
            <a:chExt cx="2349720" cy="1423080"/>
          </a:xfrm>
        </p:grpSpPr>
        <p:sp>
          <p:nvSpPr>
            <p:cNvPr id="186" name=""/>
            <p:cNvSpPr/>
            <p:nvPr/>
          </p:nvSpPr>
          <p:spPr>
            <a:xfrm>
              <a:off x="4436640" y="3368520"/>
              <a:ext cx="83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55800" y="388620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dd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62600" y="43927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352680" y="4121280"/>
              <a:ext cx="146160" cy="52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11440" y="4133880"/>
              <a:ext cx="19548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11440" y="4146480"/>
              <a:ext cx="50004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11440" y="4157640"/>
              <a:ext cx="865440" cy="4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11440" y="4157640"/>
              <a:ext cx="121932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352680" y="4133880"/>
              <a:ext cx="59688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693960" y="4121280"/>
              <a:ext cx="26856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62520" y="4108320"/>
              <a:ext cx="60120" cy="51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75120" y="4121280"/>
              <a:ext cx="41436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75120" y="4157640"/>
              <a:ext cx="74304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365640" y="4133880"/>
              <a:ext cx="102384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693600" y="4133880"/>
              <a:ext cx="68292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035600" y="4146480"/>
              <a:ext cx="366480" cy="47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352400" y="4108320"/>
              <a:ext cx="73080" cy="51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13240" y="4121280"/>
              <a:ext cx="28116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511440" y="3621240"/>
              <a:ext cx="25560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80000" y="3621240"/>
              <a:ext cx="18252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67040" y="3621240"/>
              <a:ext cx="646200" cy="47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511080" y="3633840"/>
              <a:ext cx="669960" cy="4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949560" y="3633840"/>
              <a:ext cx="231840" cy="4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94000" y="3646440"/>
              <a:ext cx="20808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17760" y="4591080"/>
              <a:ext cx="109800" cy="1220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54360" y="4584600"/>
              <a:ext cx="109440" cy="1224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90960" y="4578480"/>
              <a:ext cx="109440" cy="1220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27560" y="4572000"/>
              <a:ext cx="109440" cy="1224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64160" y="4565520"/>
              <a:ext cx="109440" cy="1224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65360" y="4060800"/>
              <a:ext cx="109800" cy="1224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11760" y="4060800"/>
              <a:ext cx="109440" cy="1224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57800" y="4060800"/>
              <a:ext cx="109440" cy="1224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19520" y="3567240"/>
              <a:ext cx="109440" cy="1220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52960" y="3567240"/>
              <a:ext cx="109440" cy="1220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5933520" y="386712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91320" y="3462480"/>
            <a:ext cx="255600" cy="1218960"/>
          </a:xfrm>
          <a:prstGeom prst="upArrow">
            <a:avLst>
              <a:gd name="adj1" fmla="val 50000"/>
              <a:gd name="adj2" fmla="val 119225"/>
            </a:avLst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306CF-9302-44A4-BFF9-C58C2863AA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ural Networ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y to biological neural systems, the most robust learning systems we k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 to understand natural biological systems through computational mode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ive parallelism allows for computational effici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understand “distributed” nature of neural representations (rather than “localist” representation) that allow robustness and graceful degrad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ligent behavior as an “emergent” property of large number of simple units rather than from explicitly encoded symbolic rules and algorith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39401-1ADC-4AAB-AD86-01BCF78930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ll-Climbing in Multi-Layer Ne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“greed is good” perhaps hill-climbing can be used to learn multi-layer networks in practice although its theoretical limits are cl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o do gradient descent, we need the output of a unit to be a differentiable function of its input and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linear threshold function is not differentiable at the thresh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219480" y="4218120"/>
            <a:ext cx="0" cy="15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19480" y="5778360"/>
            <a:ext cx="2803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69040" y="5780160"/>
            <a:ext cx="53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880" y="4154400"/>
            <a:ext cx="34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56720" y="576900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35640" y="565632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35000" y="5586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27080" y="4678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110040" y="4876560"/>
            <a:ext cx="2682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219480" y="5765400"/>
            <a:ext cx="1305000" cy="12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524480" y="485136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506840" y="4821120"/>
            <a:ext cx="1305000" cy="1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05215-1553-4D99-A541-A2538D17D1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fferentiable Output Fun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non-linear output function to move beyond linear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 multi-layer linear network is still linear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solution is to use the non-linear, differentiable sigmoidal “logistic”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005440" y="3540240"/>
            <a:ext cx="0" cy="15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05440" y="5100480"/>
            <a:ext cx="2803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55000" y="5102280"/>
            <a:ext cx="53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42680" y="509112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21600" y="497844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20960" y="4908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13040" y="4000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96000" y="4198680"/>
            <a:ext cx="2682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11560" y="4619520"/>
            <a:ext cx="1330560" cy="525600"/>
          </a:xfrm>
          <a:custGeom>
            <a:avLst/>
            <a:gdLst/>
            <a:ahLst/>
            <a:rect l="l" t="t" r="r" b="b"/>
            <a:pathLst>
              <a:path w="838" h="446">
                <a:moveTo>
                  <a:pt x="0" y="415"/>
                </a:moveTo>
                <a:cubicBezTo>
                  <a:pt x="280" y="430"/>
                  <a:pt x="560" y="446"/>
                  <a:pt x="699" y="377"/>
                </a:cubicBezTo>
                <a:cubicBezTo>
                  <a:pt x="838" y="308"/>
                  <a:pt x="837" y="154"/>
                  <a:pt x="83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6335640" y="4114800"/>
            <a:ext cx="1330560" cy="525600"/>
          </a:xfrm>
          <a:custGeom>
            <a:avLst/>
            <a:gdLst/>
            <a:ahLst/>
            <a:rect l="l" t="t" r="r" b="b"/>
            <a:pathLst>
              <a:path w="838" h="446">
                <a:moveTo>
                  <a:pt x="0" y="415"/>
                </a:moveTo>
                <a:cubicBezTo>
                  <a:pt x="280" y="430"/>
                  <a:pt x="560" y="446"/>
                  <a:pt x="699" y="377"/>
                </a:cubicBezTo>
                <a:cubicBezTo>
                  <a:pt x="838" y="308"/>
                  <a:pt x="837" y="154"/>
                  <a:pt x="83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057320" y="3809880"/>
                <a:ext cx="288612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e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1716840" y="5842080"/>
            <a:ext cx="58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an also use tanh or Gaussian outpu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57A0A-4A7E-48BF-AAA0-9EC0DF894C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dient Desc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9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bjective to minimize err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training example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output unit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, respectively, the teacher and current output for un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xamp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rivative of a sigmoid unit with respect to net input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rule to change weights to minimize error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997360" y="1838160"/>
                <a:ext cx="3375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d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d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d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384720" y="4251240"/>
                <a:ext cx="21794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273480" y="5672160"/>
                <a:ext cx="18781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η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60B73-E727-4922-A91C-BBA07398CB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ckpropagation Learning Ru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weight chang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onstant called the learning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correct teacher output for un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error measure for un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471680" y="1909800"/>
                <a:ext cx="21096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η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441440" y="2622600"/>
                <a:ext cx="69166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if 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 is an output uni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390680" y="3157560"/>
                <a:ext cx="68277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  if 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 is a hidden uni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B65F1-A70E-4499-8FF6-75DA5BFA74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H="1">
            <a:off x="3425400" y="3165480"/>
            <a:ext cx="49860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443400" y="3171960"/>
            <a:ext cx="498240" cy="103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rror Backpropag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calculate error of output units and use this to change the top layer of weigh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92200" y="288144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92520" y="39844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57360" y="506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117600" y="4205160"/>
            <a:ext cx="284040" cy="10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25760" y="4232160"/>
            <a:ext cx="37944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25760" y="4259160"/>
            <a:ext cx="973080" cy="96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25760" y="4281480"/>
            <a:ext cx="1682640" cy="10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25760" y="4281480"/>
            <a:ext cx="237348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117960" y="4232160"/>
            <a:ext cx="11620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781080" y="4205160"/>
            <a:ext cx="52236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03800" y="4179960"/>
            <a:ext cx="117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27560" y="4205160"/>
            <a:ext cx="807840" cy="10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27560" y="4281480"/>
            <a:ext cx="144612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141720" y="4232160"/>
            <a:ext cx="19936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781440" y="4232160"/>
            <a:ext cx="132696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444560" y="4259160"/>
            <a:ext cx="714600" cy="9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062680" y="4179960"/>
            <a:ext cx="1425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4205160"/>
            <a:ext cx="54612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48120" y="3165480"/>
            <a:ext cx="35568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24360" y="3165480"/>
            <a:ext cx="125712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425400" y="3191040"/>
            <a:ext cx="1303560" cy="10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280040" y="3191040"/>
            <a:ext cx="449280" cy="9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54520" y="3216240"/>
            <a:ext cx="4050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560" y="518328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03680" y="5172120"/>
            <a:ext cx="214200" cy="2538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59240" y="515772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13360" y="514512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67480" y="513072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36840" y="407988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30760" y="305100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73520" y="3051000"/>
            <a:ext cx="2145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35280" y="2282760"/>
            <a:ext cx="27777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output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t output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–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(1–0.2)(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)=0.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36880" y="3056040"/>
            <a:ext cx="212760" cy="253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78360" y="3208320"/>
            <a:ext cx="355680" cy="103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03720" y="4079880"/>
            <a:ext cx="21420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7200" y="3184560"/>
            <a:ext cx="1257120" cy="992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72040" y="4079880"/>
            <a:ext cx="21420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696600" y="3697200"/>
            <a:ext cx="2367720" cy="857160"/>
            <a:chOff x="696600" y="3697200"/>
            <a:chExt cx="2367720" cy="857160"/>
          </a:xfrm>
        </p:grpSpPr>
        <p:sp>
          <p:nvSpPr>
            <p:cNvPr id="302" name=""/>
            <p:cNvSpPr/>
            <p:nvPr/>
          </p:nvSpPr>
          <p:spPr>
            <a:xfrm>
              <a:off x="696600" y="3697200"/>
              <a:ext cx="236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pdate weights in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1130400" y="4056120"/>
                  <a:ext cx="163188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ηδ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E9125-5851-4F5F-ABCB-C7B75666E2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 flipH="1">
            <a:off x="3425400" y="3165480"/>
            <a:ext cx="49860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rror Backpropag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calculate error for hidden units based on errors on the output units it feeds i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92200" y="288144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92520" y="39844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57360" y="506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117600" y="4205160"/>
            <a:ext cx="284040" cy="10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25760" y="4232160"/>
            <a:ext cx="37944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25760" y="4259160"/>
            <a:ext cx="973080" cy="96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5760" y="4281480"/>
            <a:ext cx="1682640" cy="10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25760" y="4281480"/>
            <a:ext cx="237348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117960" y="4232160"/>
            <a:ext cx="11620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781080" y="4205160"/>
            <a:ext cx="52236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03800" y="4179960"/>
            <a:ext cx="117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27560" y="4205160"/>
            <a:ext cx="807840" cy="10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27560" y="4281480"/>
            <a:ext cx="144612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141720" y="4232160"/>
            <a:ext cx="19936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781440" y="4232160"/>
            <a:ext cx="132696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444560" y="4259160"/>
            <a:ext cx="714600" cy="9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062680" y="4179960"/>
            <a:ext cx="1425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81480" y="4205160"/>
            <a:ext cx="54612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48120" y="3165480"/>
            <a:ext cx="35568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24360" y="3165480"/>
            <a:ext cx="125712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425400" y="3191040"/>
            <a:ext cx="1303560" cy="10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4280040" y="3191040"/>
            <a:ext cx="449280" cy="9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54520" y="3216240"/>
            <a:ext cx="4050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560" y="518328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03680" y="5172120"/>
            <a:ext cx="214200" cy="2538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59240" y="515772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13360" y="514512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67480" y="513072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36840" y="407988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36840" y="4067280"/>
            <a:ext cx="212760" cy="253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03720" y="4079880"/>
            <a:ext cx="21420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72040" y="4079880"/>
            <a:ext cx="21420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24040" y="3745080"/>
            <a:ext cx="18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22360" y="3746520"/>
                <a:ext cx="251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 flipH="1">
            <a:off x="3419640" y="3186000"/>
            <a:ext cx="498240" cy="104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481560" y="3173400"/>
            <a:ext cx="1303200" cy="1014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73520" y="3051000"/>
            <a:ext cx="2145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30760" y="305100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28960" y="3060720"/>
            <a:ext cx="21276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62360" y="3054240"/>
            <a:ext cx="21276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CCCEA-A53A-43D6-A4A2-90D08DF233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 flipH="1">
            <a:off x="3425400" y="3165480"/>
            <a:ext cx="49860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rror Backpropag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update bottom layer of weights based on errors calculated for hidden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92200" y="288144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92520" y="39844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57360" y="506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117600" y="4205160"/>
            <a:ext cx="284040" cy="10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25760" y="4232160"/>
            <a:ext cx="37944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25760" y="4259160"/>
            <a:ext cx="973080" cy="96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25760" y="4281480"/>
            <a:ext cx="1682640" cy="10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25760" y="4281480"/>
            <a:ext cx="237348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117960" y="4232160"/>
            <a:ext cx="11620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781080" y="4205160"/>
            <a:ext cx="52236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03800" y="4179960"/>
            <a:ext cx="117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27560" y="4205160"/>
            <a:ext cx="807840" cy="10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27560" y="4281480"/>
            <a:ext cx="144612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141720" y="4232160"/>
            <a:ext cx="19936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781440" y="4232160"/>
            <a:ext cx="132696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444560" y="4259160"/>
            <a:ext cx="714600" cy="9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062680" y="4179960"/>
            <a:ext cx="1425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81480" y="4205160"/>
            <a:ext cx="54612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48120" y="3165480"/>
            <a:ext cx="35568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24360" y="3165480"/>
            <a:ext cx="125712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3425400" y="3191040"/>
            <a:ext cx="1303560" cy="10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4280040" y="3191040"/>
            <a:ext cx="449280" cy="9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754520" y="3216240"/>
            <a:ext cx="4050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336840" y="407988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36840" y="4067280"/>
            <a:ext cx="212760" cy="253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03720" y="4079880"/>
            <a:ext cx="21420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072040" y="4079880"/>
            <a:ext cx="21420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24040" y="3745080"/>
            <a:ext cx="18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644400" y="3564000"/>
                <a:ext cx="251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4673520" y="3051000"/>
            <a:ext cx="2145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30760" y="305100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124080" y="4211640"/>
            <a:ext cx="284400" cy="1090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19640" y="4264200"/>
            <a:ext cx="379080" cy="1041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9560" y="518328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03680" y="5172120"/>
            <a:ext cx="214200" cy="2538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479760" y="4313160"/>
            <a:ext cx="9730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68600" y="4299120"/>
            <a:ext cx="1683000" cy="1014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68600" y="4311720"/>
            <a:ext cx="2373480" cy="938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67480" y="513072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13360" y="514512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359240" y="515772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891720" y="4186080"/>
            <a:ext cx="2367720" cy="857160"/>
            <a:chOff x="891720" y="4186080"/>
            <a:chExt cx="2367720" cy="857160"/>
          </a:xfrm>
        </p:grpSpPr>
        <p:sp>
          <p:nvSpPr>
            <p:cNvPr id="392" name=""/>
            <p:cNvSpPr/>
            <p:nvPr/>
          </p:nvSpPr>
          <p:spPr>
            <a:xfrm>
              <a:off x="891720" y="4186080"/>
              <a:ext cx="236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pdate weights in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1325520" y="4545000"/>
                  <a:ext cx="163188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ηδ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2991E-B00E-42B3-B8E0-AA26ED8132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ckpropagation Training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152568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he 3-layer network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dden units with full connectiv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layers. Set weights to small random real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training examples produce the correct value (withi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squared error ceases to decrease, or other termination 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ep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training exampl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network output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input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error between current output and correct output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weights by backpropagating error and using learning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ep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026F1-2939-410E-8CC1-D1E694574D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ments on Training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guaranteed to converge to zero training error, may converge to local optima or oscillate indefinit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in practice, does converge to low error for many large networks on real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epochs (thousands) may be required, hours or days of training for large netwo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void local-minima problems, run several trials starting with different random weight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andom rest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ake results of trial with lowest training set error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uild a committee of results from multiple trials (possibly weighting votes by training set accuracy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EC124-BE88-4B8D-906F-2C01615580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presentational Pow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oolean fun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ny boolean function can be represented by a two-layer network with sufficient hidden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inuous fun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ny bounded continuous function can be approximated with arbitrarily small error by a two-layer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gmoid functions can act as a set of basis functions for composing more complex functions, like sine waves in Fourier analysi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bitrary 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ny function can be approximated to arbitrary accuracy by a three-layer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45324-012A-4510-A231-48A32271F25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ural Speed Constrai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ns have a “switching time” on the order of a few milliseconds, compared to nanoseconds for current computing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neural systems can perform complex cognitive tasks (vision, speech understanding) in tenths of a sec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ime for performing 100 serial steps in this time frame, compared to orders of magnitude more for current compu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exploiting “massive parallelism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brain has about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urons with an average of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s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51FC0-DB4A-49F7-84E8-6413FC339C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Learned XOR Networ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9880" y="2552760"/>
            <a:ext cx="328680" cy="30492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7120" y="2558880"/>
            <a:ext cx="328680" cy="30492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9880" y="3309840"/>
            <a:ext cx="328680" cy="30492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1240" y="3303720"/>
            <a:ext cx="328320" cy="30456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4047840" y="2048040"/>
            <a:ext cx="352440" cy="51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2048040"/>
            <a:ext cx="341280" cy="51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4053960" y="2822400"/>
            <a:ext cx="755640" cy="54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75120" y="2841480"/>
            <a:ext cx="12600" cy="47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68640" y="2836800"/>
            <a:ext cx="878040" cy="50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932360" y="2847960"/>
            <a:ext cx="12600" cy="47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95400" y="168264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55600" y="211608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.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66680" y="210996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79840" y="2400480"/>
            <a:ext cx="18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321080" y="1785960"/>
            <a:ext cx="328680" cy="30492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75920" y="250020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01720" y="2955960"/>
            <a:ext cx="50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31640" y="266868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520" y="296712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69800" y="315756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27120" y="251136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2320" y="2513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07360" y="324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75400" y="3279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51280" y="250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89040" y="4129200"/>
            <a:ext cx="559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 Unit A represents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 Unit B represents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O represents: 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313520" y="1730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0B72D-3A08-40FA-AD15-CFAEABE46F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dden Unit Represent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ed hidden units can be seen as newly constructed features that make the target concept linearly separable in the transformed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many real domains, hidden units can be interpreted as representing meaningful features such as vowel detectors or edge detectors, etc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 hidden layer can also become a distributed representation of the input in which each individual unit is not easily interpretable as a meaningful fe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CEF64-F4AD-4212-A1D5-AC78163E6AA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uccessful Applic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to Speech (NetTal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ud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NC (eventually bought by Fair Isaac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cal Plant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villion Technologi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ed Veh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me Pla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eurogamm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writing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ABFF1-D8D7-45CF-9251-B50F9F82A5D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ural Network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approach based on modeling adaptation in biological neural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erceptr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nitial algorithm for learning simple neural networks (single layer) developed in the 1950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propag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More complex algorithm for learning multi-layer neural networks developed in the 1980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3FC53-29E6-406B-A1D0-111753DA84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al Neur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ell body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ndrit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x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ynaptic terminal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35520" y="1409760"/>
            <a:ext cx="3763800" cy="5049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51280" y="2193840"/>
            <a:ext cx="3035160" cy="231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4560" y="2730600"/>
            <a:ext cx="2170080" cy="293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340160" y="2646000"/>
            <a:ext cx="878040" cy="268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01920" y="3292560"/>
            <a:ext cx="5522760" cy="156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4000" y="3852720"/>
            <a:ext cx="1024200" cy="743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3A9F6-14D1-4DFF-97BB-337DC80BD7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ural Commun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1000" y="1371600"/>
            <a:ext cx="80168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potential across cell membrane exhibits spikes called action potent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ke originates in cell body, travels d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on, and causes synaptic terminal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neurotransmi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diffuses across synaps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drites of other neu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otransmitters can be excititory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ibi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et input of neurotransmitters to a neuron from other neurons is excititory and exceeds some threshold, it fires an action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03800" y="1922400"/>
            <a:ext cx="285768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DBFA8-39A8-4333-AA7A-DA8E2F95E4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al Neural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apses change size and strength with exper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ebbian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en two connected neurons are firing at the same time, the strength of the synapse between them in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ns that fire together, wire togeth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8548F-B0BD-4B57-A1D2-FAE94C8857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rtificial Neuron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328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network as a graph with cells as nodes and synaptic connections as weighted edges from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net input to cell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output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837400" y="2147760"/>
            <a:ext cx="2192040" cy="1770120"/>
            <a:chOff x="5837400" y="2147760"/>
            <a:chExt cx="2192040" cy="1770120"/>
          </a:xfrm>
        </p:grpSpPr>
        <p:sp>
          <p:nvSpPr>
            <p:cNvPr id="66" name=""/>
            <p:cNvSpPr/>
            <p:nvPr/>
          </p:nvSpPr>
          <p:spPr>
            <a:xfrm>
              <a:off x="6827760" y="2511360"/>
              <a:ext cx="121680" cy="1346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30640" y="3382560"/>
              <a:ext cx="12204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11600" y="3382560"/>
              <a:ext cx="12204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94360" y="3382560"/>
              <a:ext cx="12168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75320" y="3382560"/>
              <a:ext cx="12204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858080" y="3382560"/>
              <a:ext cx="12168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89600" y="2147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3240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9432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1336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3424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5998680" y="2620800"/>
              <a:ext cx="828360" cy="757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473160" y="2609640"/>
              <a:ext cx="377640" cy="7920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597040"/>
              <a:ext cx="61560" cy="804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24600" y="2573280"/>
              <a:ext cx="488520" cy="85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26040" y="2523960"/>
              <a:ext cx="950760" cy="88884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73040" y="275580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19080" y="306828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63680" y="303660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01640" y="288432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5560" y="275580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244520" y="3143160"/>
                <a:ext cx="2092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1188720" y="5599080"/>
            <a:ext cx="321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reshold for un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638360" y="4545000"/>
                <a:ext cx="20746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 if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t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if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≥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 flipV="1">
            <a:off x="5376960" y="4389120"/>
            <a:ext cx="0" cy="1560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76960" y="5950080"/>
            <a:ext cx="2803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6520" y="5951520"/>
            <a:ext cx="53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77000" y="4325760"/>
            <a:ext cx="34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14200" y="594036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92760" y="582768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92480" y="5757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84560" y="4849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267160" y="5047920"/>
            <a:ext cx="2685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76960" y="5937120"/>
            <a:ext cx="1305000" cy="1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681960" y="50227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664320" y="4992480"/>
            <a:ext cx="1305000" cy="12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79A48-2C79-4E1D-9488-69DCCFB096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ural Comput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916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Collough and Pitts (1943) showed how such model neurons could compute logical functions and be used to construct finite-state mach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to simulate logic g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D: Let all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ji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e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n,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here n is the number of input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OR: Let all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ji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e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NOT: Let threshold be 0, single input with a negative weight.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uild arbitrary logic circuits, sequential machines, and computers with such 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negated inputs, two layer network can compute any boolean function using a two level AND-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9F809-291C-427A-8161-D88573F821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mond J. Mooney</cp:lastModifiedBy>
  <dcterms:modified xsi:type="dcterms:W3CDTF">2006-12-27T21:43:16Z</dcterms:modified>
  <cp:revision>239</cp:revision>
  <dc:subject/>
  <dc:title>Intelligent Information Retrieval and Web Search</dc:title>
</cp:coreProperties>
</file>