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  <p:sldId id="361" r:id="rId120"/>
    <p:sldId id="362" r:id="rId121"/>
    <p:sldId id="363" r:id="rId122"/>
    <p:sldId id="364" r:id="rId123"/>
    <p:sldId id="365" r:id="rId124"/>
    <p:sldId id="366" r:id="rId125"/>
    <p:sldId id="367" r:id="rId126"/>
    <p:sldId id="368" r:id="rId127"/>
    <p:sldId id="369" r:id="rId128"/>
    <p:sldId id="370" r:id="rId129"/>
    <p:sldId id="371" r:id="rId130"/>
    <p:sldId id="372" r:id="rId131"/>
    <p:sldId id="373" r:id="rId13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slide" Target="slides/slide106.xml"/><Relationship Id="rId121" Type="http://schemas.openxmlformats.org/officeDocument/2006/relationships/slide" Target="slides/slide107.xml"/><Relationship Id="rId122" Type="http://schemas.openxmlformats.org/officeDocument/2006/relationships/slide" Target="slides/slide108.xml"/><Relationship Id="rId123" Type="http://schemas.openxmlformats.org/officeDocument/2006/relationships/slide" Target="slides/slide109.xml"/><Relationship Id="rId124" Type="http://schemas.openxmlformats.org/officeDocument/2006/relationships/slide" Target="slides/slide110.xml"/><Relationship Id="rId125" Type="http://schemas.openxmlformats.org/officeDocument/2006/relationships/slide" Target="slides/slide111.xml"/><Relationship Id="rId126" Type="http://schemas.openxmlformats.org/officeDocument/2006/relationships/slide" Target="slides/slide112.xml"/><Relationship Id="rId127" Type="http://schemas.openxmlformats.org/officeDocument/2006/relationships/slide" Target="slides/slide113.xml"/><Relationship Id="rId128" Type="http://schemas.openxmlformats.org/officeDocument/2006/relationships/slide" Target="slides/slide114.xml"/><Relationship Id="rId129" Type="http://schemas.openxmlformats.org/officeDocument/2006/relationships/slide" Target="slides/slide115.xml"/><Relationship Id="rId130" Type="http://schemas.openxmlformats.org/officeDocument/2006/relationships/slide" Target="slides/slide116.xml"/><Relationship Id="rId131" Type="http://schemas.openxmlformats.org/officeDocument/2006/relationships/slide" Target="slides/slide117.xml"/><Relationship Id="rId132" Type="http://schemas.openxmlformats.org/officeDocument/2006/relationships/slide" Target="slides/slide118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7828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074240" y="704520"/>
            <a:ext cx="469764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7828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3AF7-BBA6-406F-8F3A-639D825A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02D2-89AC-44E9-99BF-82282BC7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35AA-DBEB-4F64-99DF-63DD8C8E2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F3A9-B955-4786-BCF0-9D2D9A50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24D6-9B47-4545-8DEC-55052434D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CF30-C578-4C40-ABFC-745BE2312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41C0-03D2-4EA1-AC2B-A2FECD212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504E-80C4-4F23-AAED-BC4078D7C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D471-1186-4EDC-B8D8-29F90152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4667-D125-41D3-AA2E-BDEEE324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6B3-DEA3-4B24-8FBD-9CE691BC2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A48F-BA03-4DAD-8B26-E0A1C1ED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C120-9788-45F8-B049-1AAA30BC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7C8E-0D02-4784-A296-4C7B8374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7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989D-1EC9-471C-9229-40E4FAEEF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7D5D-71A4-4BFC-9FF3-4B338C10B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8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781-A931-47F2-84B3-91A10371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AE87-937F-44AA-AE9C-86EF895B5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9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29A-B01E-4ADD-AB76-8726F806F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9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1948-162A-4D72-B80F-3ED6AB409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1C6-AE0C-48F9-AB77-4A0476F9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455F-9ACB-4AEE-8732-D1E5BA72D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20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A30B-DF98-4917-82B8-C1625A848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225C-DB3C-4F10-B708-FA642018C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6DEE-9D9B-48F6-953E-6D5D5AC06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262D-81EB-4B7B-9D16-9C77E76A3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828F-4150-42C7-96DE-E0AF4DA0C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AB98-84F0-4C60-AF94-79E1A17B7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E172-F705-4662-A84F-5D0AF76A3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EEF-8784-4792-82D9-A4821653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4E7-E0C9-4DB9-82FD-1EBBA71C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8C1B-9BF1-4E03-A9CB-6C52468C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0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FED5-4B57-42CD-98AF-6220836E4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E170-4728-4F36-8A05-C495866C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9552-18FC-40B7-809D-14C443B4B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16E9-FD6B-4D6C-B55D-9BA4EBEC6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A656-C4F0-4BFD-BE4E-851541C0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897A-9C50-4A7F-B2FC-5F1371113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4141-83BA-40C6-A673-98E859FF7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AD86-1BF1-46A5-8973-2A3818EC7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515E-3503-40F2-8689-ED08A5A7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642F-EE2C-4DBE-9CEA-084554E3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9903-E49C-4452-8CDC-D4F64FD09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64B7-468C-4B49-B448-3ACE6BF2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4734-F490-4477-A5AF-F2294D6A1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B4AD-CFD7-4108-9494-80D702220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F5C6-EF94-4BC0-9C82-12E3333CC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7CC8-F2EE-448B-A366-6AD76CC84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6BA-CC18-4C9A-AD99-8F7CAC57C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5869-7D72-4FDA-8957-88B132B5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20B4-7427-44FD-998F-BB1BC5B32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8CCD-82B8-43EB-81E0-B9EC883C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1EBA-50A6-4C8E-90A9-74C7E619E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104A-E5B0-4C19-B848-C37350816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967C-B038-46B0-A6CB-A85FE6D6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955B-D8DF-4E67-85B1-8EEB0006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7EC5-682A-4CA7-A025-F049A9BBC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31E-8EAB-4D99-9FB7-D2D8AC5E4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D2C6-81A9-49F8-8654-B9A6A0326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834B-DC46-4745-A4BB-2E765CFDA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83A0-827D-4447-B407-454C5BB25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63D2-88C3-4084-858D-78AE3E172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4C33-E8FD-43A3-9365-66BFCA47B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654C-E97D-46A3-B92B-F0BD13FF0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84D6-9CD3-447B-B198-B907753F3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F560-2D52-4E76-B9DA-BF0E9848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0BF3-D630-4A0D-A964-9D8B9E662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68D7-3023-4527-A8E9-2F709CD5A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79D-70FE-46DA-91A1-1373ED68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FE9A-6C85-442E-A1B5-0BC5D867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60EC-FC43-4189-A8F8-613EE5010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147E-29C0-4064-90D4-76524B4E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02B3-7403-45D3-9E99-71985554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CAA6-972E-4300-954E-F485862C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A011-75CF-4B83-82FA-1C1A66B1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0DA3-9979-4AD2-99F9-23333454B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479A-60DB-4B5B-ADC8-21374FA8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CCCC-4BCC-40FD-BF8A-74596FA65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A512-BF0A-4B4A-9A97-2DEA6433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793-0F3F-42F5-81E2-A17A25F2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F2AC-550B-4E25-B23F-E9489EBF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57B7-6068-43A2-B222-B703A9B6C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5FC0-DD4A-44E4-ABAA-E5D0042DC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0B39-0856-48D0-A38D-E9564652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5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E29-5D53-4E22-838F-6B65C8411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8A9D-89EB-4CA3-8C41-7515C6E5DBE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134B-960C-4B2F-B6E0-37682D6FE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9073-CC4A-481B-BA75-68D89F4D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22C-23E9-4719-AFDD-FAECA1A26AE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5373-358C-4274-BCF3-F58EB840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B4A5-9414-45A0-9501-DE74F1C08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1943-584B-4FD3-8261-58578AFFC23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A24-9256-4A0F-8664-18EDC903C6A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Slide Number Placeholder 3"/>
          <p:cNvSpPr/>
          <p:nvPr/>
        </p:nvSpPr>
        <p:spPr>
          <a:xfrm>
            <a:off x="3876840" y="8924760"/>
            <a:ext cx="29667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72F2-F3F3-4DCC-A568-EAE33FC30CA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Slide Number Placeholder 3"/>
          <p:cNvSpPr/>
          <p:nvPr/>
        </p:nvSpPr>
        <p:spPr>
          <a:xfrm>
            <a:off x="3876840" y="8924760"/>
            <a:ext cx="29667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BC4E-74E7-464E-A0A9-EA318DF3C8C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D744-1139-4B8C-8618-0F451B305AD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D9D-5935-4643-B2F8-67B5C617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626F-8156-4BE5-9727-CE9F90CC7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327D-4E22-4B1C-8598-4C1AA7DF465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DFA7-D6BE-4467-B6FB-0520C211628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0BC1-9282-4760-854C-52D1C55DDE9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D359-77B0-4608-986A-68F5B614C3A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Slide Number Placeholder 3"/>
          <p:cNvSpPr/>
          <p:nvPr/>
        </p:nvSpPr>
        <p:spPr>
          <a:xfrm>
            <a:off x="3876840" y="8924760"/>
            <a:ext cx="29667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92A-96F0-445F-87C5-C4AA4B2E8B2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6A9F-DE1B-4C2C-BACD-3EF794AC0BF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42E-71F3-452B-9693-D56F5272C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29D2-C2C2-45B8-A69F-CCA022B1D7C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D54B-CEE1-40F3-8582-ABDC9D3EB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5932-8877-4588-A0F3-7CD5FD7CD96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D522-C47B-44E4-A1D2-BBB7107C0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F76F-BB10-4B07-8526-AE51FB7EE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D9C6-B367-4D79-9625-CFD2B9EBF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8CF5-2C9E-4C79-97A6-78CA13DA9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759F-6F91-4E3B-B652-2EC9EE80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A39D-E0B7-4A75-9BD6-89413AF32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A650-B394-4056-81ED-59591BB32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155C-FF83-46A3-B010-B95AC9338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28B4-823A-46BD-9D1C-081A360A2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FF87-1D78-4B9E-BBB7-F3756C830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6015-7DEC-4506-9254-B7EB700E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E355-B9F4-4D3D-B83C-91671E3F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B935-9D7A-43D8-8BD7-D034089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4DD952-B861-4BBC-8FA9-FCDC0877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EBCA2-F507-421D-88F0-EC523F9E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BB129C-1025-4F04-99D5-FCA2299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36584B-03AC-4ECF-A5BD-EA594A3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FFCAE-838B-45F4-9996-37BB2EB8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17E98-58BE-4261-A1EA-88F691E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9391E1-22A6-4D0A-9973-DDA3853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5D9B90-9D58-4B20-AE8E-390E4D7B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F81CE4-42D7-4613-BD73-36935D4E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4A8CA-FC12-4EB2-A3FE-48EF39E0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FD09-E98C-4965-BA15-F61F7159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D5E683-9B93-4394-9DCA-78A0BE55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7C83E-424E-426A-A270-ED75F0B3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B02DFC-B45D-43FB-9484-7DEA321F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F2A752-154A-4180-B5F7-E4D04AF0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FF20A7-A01E-4345-990D-8D7C541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A73E45-9F6F-4F53-9AC1-B76F05F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16B20C-0935-45C3-9354-B19A3FAD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8DFC2-6CAA-4646-963A-69470B2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7F8667-1A09-4929-B19A-CBD94A94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EF88B-B00D-431C-BBF1-DCB8E077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5220-2EF5-4828-9CF5-FA80228C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5C6379-213B-4B6F-AF75-EE9EEFE3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D5C0AE-9760-4B03-8E55-11530ED1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550906-1253-466D-815E-0E931826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04EC4E-9937-4EFD-AFFD-E2FE5BA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A71AB6-C0F5-4914-AD78-EF074B53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96B0B7-6823-491B-97AA-2CFC7509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AD2B46-86DD-451E-ABBB-56439962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7CB27F-A802-45C3-AFCC-6F11C74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814BE5-5A49-4324-940D-E4E9C47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19A4FA-A5A6-46E2-8F6B-C7EE026F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9F711-9E21-417F-B1E4-F0CDDA08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7A5789-2CC7-419E-87BE-EF3669D7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72B81F-2647-4B89-852F-9F660527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A1F8B0-2073-422C-ACB8-1E2C3553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598493-7412-4161-BA52-40D8E55B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8FC099-F826-4A24-A805-A918EA58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D5B287-7062-4972-A659-2B0F573D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7A4B6E-244B-4266-B1C9-43E0591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2EACB9-00AF-4085-A08D-5FDFB75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DBD3D0-4879-4742-9327-2BE0D247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F2810F-6EC4-4351-8E47-E0A1FD7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7EC3A-175B-4985-AD2B-5E69C8A9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E51FE0-5A06-4D36-902C-ED0D8272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B4CC86-6F78-4331-AED6-C756A993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9BCA99-3E99-4A9A-80A1-D9E3EE13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4026BC-134C-4BFC-86C0-26DEF938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31F97E-74B6-47DA-B547-D7DCC82C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EF883-ECBC-417E-8339-CDADEFCE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8199B-4C0B-4385-B6A2-CAC790D4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7AAD-10BB-4F01-8F16-C4175B49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8F769-3452-4CEE-917C-F5F9A2ED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D4670-3A24-4C1B-8175-21B32C5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586C-C59A-4F4B-B3CB-E9AB500F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26930-0907-4EE6-92BD-4C0DF22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DA479-0691-49BA-9A21-CCC38B8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F85B2-5303-4D45-8C8C-2E9EA892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A99AB-3BD4-450D-BB8E-4D851737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0ACE6-85D3-4556-8F45-24D7BA5A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94A19-2560-47E8-81F1-557F0BEC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DE578-E487-4628-B168-75D7AAF4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57004-7C2B-4C64-91BE-3696C62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C0069-AB87-4D76-9531-68E71680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0BCCB-DC2A-4BC1-9FF6-6823A079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829E-6BE7-4616-A3C9-6F3ED786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EFBF2-6582-46BA-B0B1-6111BB66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8A713-DDC4-4240-9B8C-DC8BAC00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CBD79-B626-4826-8E22-5C0EA01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347D3-C487-43A8-B830-C3270D4E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D6E4F-847E-40E2-A0D8-E9C73832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D526E-3E1B-4BAF-B80B-0F95735B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3B6F1-4947-4881-A318-0A5F9B12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9BE03E-84DE-4770-843B-B784F6B2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1B791-9D28-4516-A683-76594E9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5671D-CE91-41D4-AF35-780A4D2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8E26-E7B4-4CD8-8B17-10529CAE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2A5FD-B043-42E5-84FD-E7108F95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48570-97BE-4CA7-8476-D055AF8C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20AE9-02DF-4A64-B790-C2E7D015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D9CF8-C734-4EE1-A61F-3BF3C2A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A54FC-E5E4-43BD-B46D-516D7083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57B01-A581-4AD7-819D-249C4A27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8C3E2-AB7A-427E-905D-E7E1C954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002B8-87D4-4BF0-AD13-33B94B10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943B6-C0D5-4131-B00F-208BEF0D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5C913-599F-4BDB-A0AF-D7E97550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5A15-070C-4BE7-B793-7D996E62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89A6F-B5D6-4F01-9A99-280B1839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D9D67-8E9A-479C-AAE0-D1BE0DE3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9ECDF-F259-41A7-BF0E-9AB7C5AF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5F3DB-2368-419E-910C-F2E8F743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0AD92-211D-48DD-AF7D-51782104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BF621-6A69-4380-86B7-FF80CE1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883B5-ECD4-4C3C-90B9-24E73D4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EE816-9D0F-4411-B81C-0B351F5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611E3-9F50-472C-A68E-ECAC63B3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B3E19-CFFE-4B61-9463-E9D7B676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7CFE-F729-43EB-B8EC-99B0827C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29ED0-F436-4557-B849-418F858A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FDA2C-215A-43E5-81BC-F934415A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8512A-0E2B-4F1C-9825-1A48128A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63805-61D6-4219-96FE-E67C841C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57B63-1863-413F-B3C5-485D4654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200BE-447E-4E79-8B47-C1FAA4F5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29168-5D6A-438B-A258-A8A3817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532DF-DE6D-40DC-9173-2BE2AF34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FEA0B-62D8-4520-8044-B87F605E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E3E3D-9A47-467C-B3A3-AD85AA9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53F5-59A2-4366-8B17-A99B2BAB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676CF-F307-4787-85A9-E1A6DE5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00930-80F2-40F9-B882-22E6A8F9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222C8-281F-42CF-A15F-D191C4F9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C2157-30EB-4B70-9950-4513CA1D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63DD8-8ADB-4BB2-ADB4-F7FA8885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C0DACD-3957-478E-90A4-3DAEB99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4D3EB-BF45-432D-AAE7-763C6CB1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B79E8-EA84-4D4E-82BE-51F60419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92E7D-67C9-4059-A79F-ADEF62F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6C6C8-26B6-4466-899B-25388509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16AB-4997-4064-8D6C-7A8E91FC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823A5-B6E7-4410-B8EF-E7A20FB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E4C27-115B-46A0-820F-70EAEFAF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DCF3D-1A71-4E89-BD3D-4125BE90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22F76-B096-4BD5-B556-48E423EB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E902F-5F3E-4B7A-9268-CA2DB706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7D20AF-4C4C-42F9-B757-E3CD7870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373018-B16A-4026-8253-0BD4DD10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7E506F-F100-4366-BB7E-8F794BD2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D7FC3-C4AA-4A44-891F-D048CDB0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BE317-D758-4516-9992-A34533D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C9DA-88BE-49FC-ACD8-8EDF906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83CD9F-2F59-47BE-BE55-472F9F54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4419C9-7E9B-40A8-854D-0E1B749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0ED35-4710-49D7-8489-572E847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30DA66-E895-4EA4-8B14-E9F9D8B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09F3C6-D42C-4383-93A0-EE6E1387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4C3C88-3B68-4B8B-AA05-0AEF2F7D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D9106C-5669-499D-8E4D-A0730414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49F56-3147-4AA3-8DB2-2748729A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917B66-D098-4FB7-8AE9-33F33899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5E90F-D0C5-4800-8FF1-CF103D32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AC74-52CC-44F7-BBA0-92937A25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21EC-BF1C-4554-ABF7-7BD269B1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E614-DF7A-4666-811B-61F288E1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FC81-40B1-4A6D-99E4-A94EF69A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2F5F-2A2F-4C76-A2F6-483665E34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5A75-6F28-464D-8893-03662EF7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327E-86E6-4E85-80E5-8C76BD078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AFDC-7A4E-4B85-9455-F95CF281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FDDB-A8F6-446B-B633-0DEE5665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DBDF-17A5-4843-A994-85964FDF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996-6013-4EF4-802F-A3FC1A667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9878-26EF-4A47-AA2A-1FCFF2731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projects.washingtonpost.com/congress/members/o000167/" TargetMode="External"/><Relationship Id="rId2" Type="http://schemas.openxmlformats.org/officeDocument/2006/relationships/hyperlink" Target="http://projects.washingtonpost.com/congress/members/c001041/" TargetMode="External"/><Relationship Id="rId3" Type="http://schemas.openxmlformats.org/officeDocument/2006/relationships/hyperlink" Target="http://projects.washingtonpost.com/congress/members/m000303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mdb.com/name/nm0000634/" TargetMode="External"/><Relationship Id="rId2" Type="http://schemas.openxmlformats.org/officeDocument/2006/relationships/hyperlink" Target="http://www.imdb.com/name/nm0000634/" TargetMode="External"/><Relationship Id="rId3" Type="http://schemas.openxmlformats.org/officeDocument/2006/relationships/hyperlink" Target="http://www.imdb.com/name/nm0073539/" TargetMode="External"/><Relationship Id="rId4" Type="http://schemas.openxmlformats.org/officeDocument/2006/relationships/hyperlink" Target="http://www.imdb.com/name/nm0000634/" TargetMode="External"/><Relationship Id="rId5" Type="http://schemas.openxmlformats.org/officeDocument/2006/relationships/hyperlink" Target="http://www.imdb.com/name/nm0000634/" TargetMode="External"/><Relationship Id="rId6" Type="http://schemas.openxmlformats.org/officeDocument/2006/relationships/hyperlink" Target="http://www.imdb.com/name/nm0073539/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9418-CA16-4D38-AD1F-69A72A0A5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43: Artificial Intelligence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607A-61A0-4522-A54E-713A30DD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ity is Explosi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guities compound to generate enormous numbers of possible interpre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, a sentence end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positional phrases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interpretations (cf. Catalan numb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30000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with the telescope”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with the telescope.”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in Texas with the telescope”: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in Texas with the telescope at noon.”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2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in Texas with the telescope at noon on Monday”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2 par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Syntactic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Segmen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ing a string of characters (graphemes) into a sequence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ome written languages (e.g. Chinese) words are not separated by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n English, characters other than white-space can be used to separate words [e.g. </a:t>
            </a:r>
            <a:r>
              <a:rPr b="1" lang="en-US" sz="2800" spc="-1" strike="noStrike">
                <a:solidFill>
                  <a:srgbClr val="ff3f3f"/>
                </a:solidFill>
                <a:latin typeface="Times New Roman"/>
              </a:rPr>
              <a:t>, ; . - : (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from English UR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mptheshark.com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jump the shark 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yspace.com/pluckerswingbar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yspace .com pluckers wing b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yspace .com plucker swing b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6" name="Text Box 5"/>
          <p:cNvSpPr/>
          <p:nvPr/>
        </p:nvSpPr>
        <p:spPr>
          <a:xfrm>
            <a:off x="1418760" y="55800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phologic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field of linguistics that studies the internal structure of words. (Wikip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ph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mallest linguistic unit that has semantic meaning (Wikip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.g. “carry”, “pre”, “ed”, “ly”, “s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ological analysis is the task of segmenting a word into its morp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arried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arry + 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st tens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ependent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in + (depend + ent) + ly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oogler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(Google + er) + 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ural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nlockabl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un + (lock + able) 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un + lock) + able 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t Of Speech (POS) Tagg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tate each word in a sentence with a part-of-spe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subsequent syntactic parsing and word sense disambig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Text Box 4"/>
          <p:cNvSpPr/>
          <p:nvPr/>
        </p:nvSpPr>
        <p:spPr>
          <a:xfrm>
            <a:off x="920880" y="239400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    ate   the  spaghetti  with   meatbal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ro  V   Det        N       Prep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Text Box 5"/>
          <p:cNvSpPr/>
          <p:nvPr/>
        </p:nvSpPr>
        <p:spPr>
          <a:xfrm>
            <a:off x="821520" y="323532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ohn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aw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the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aw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and  decided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take  it   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the  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N      V   Det    N   Con      V     Part  V   Pro Prep Det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rase Chu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non-recursive noun phrases (NPs) and verb phrases (VPs) in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VP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he  spaghet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PP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 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eatb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]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VP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eckons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the current account defic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VP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will narrow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PP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only # 1.8 bill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PP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Sept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Semantic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0C6F-A7E5-46C9-91DE-C705DAB28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antic Role Labeling (SRL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clause, determine the semantic role played by each noun phrase that is an argument to the ve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gent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atien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ourc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destin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instrum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drove </a:t>
            </a:r>
            <a:r>
              <a:rPr b="0" lang="en-US" sz="2800" spc="-1" strike="noStrike">
                <a:solidFill>
                  <a:srgbClr val="e97c05"/>
                </a:solidFill>
                <a:latin typeface="Times New Roman"/>
              </a:rPr>
              <a:t>Mar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usti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Dalla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his Toyota Priu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The hamme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broke </a:t>
            </a:r>
            <a:r>
              <a:rPr b="0" lang="en-US" sz="2800" spc="-1" strike="noStrike">
                <a:solidFill>
                  <a:srgbClr val="e97c05"/>
                </a:solidFill>
                <a:latin typeface="Times New Roman"/>
              </a:rPr>
              <a:t>the window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referred to a “case role analysis,” “thematic analysis,” and “shallow semantic pars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184B-A505-46A7-91BE-02B2F947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s a natural-language sentence to a complete, detailed semantic representation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gic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apping an English database query to Prolo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w many cities are there in the US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(A, count(B, (city(B), loc(B, C),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(C, countryid(USA))),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ual Entail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 one natural language sentence entails (implies) another under an ordinary interpre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extual Entailment Problems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rom PASCAL Challeng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806" name=""/>
          <p:cNvGraphicFramePr/>
          <p:nvPr/>
        </p:nvGraphicFramePr>
        <p:xfrm>
          <a:off x="330120" y="1325520"/>
          <a:ext cx="8364600" cy="4917960"/>
        </p:xfrm>
        <a:graphic>
          <a:graphicData uri="http://schemas.openxmlformats.org/drawingml/2006/table">
            <a:tbl>
              <a:tblPr/>
              <a:tblGrid>
                <a:gridCol w="4448160"/>
                <a:gridCol w="2979720"/>
                <a:gridCol w="93672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eing the huge market potential, currently led by Google, Yahoo took over search company Overture Services Inc last ye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hoo bought Overtu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's rival Sun Microsystems Inc. bought Star Office last month and plans to boost its development as a Web-based device running over the Net on personal computers and Internet applia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 bought Star Off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ational Institute for Psychobiology in Israel was established in May 1971 as the Israel Center for Psychobiology by Prof. Jo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rael was established in May 197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 its formation in 1948, Israel fought many wars with neighboring Arab countr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rael was established in 194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FD70-338C-4BCE-82CF-9A7B3C63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or and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jokes rely on the ambiguity of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oucho Marx: One morning I shot an elephant in my pajamas.  How he got into my pajamas, I’ll never know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e criticized my apartment, so I knocked her fla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ah took all of the animals on the ark in pairs. Except the worms, they came in appl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liceman to little boy: “We are looking for a thief with a bicycle.” Little boy: “Wouldn’t you be better using your eyes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y is the teacher wearing sun-glasses. Because the class is so brigh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agmatics/Discourse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naphora Resolution/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-Referenc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96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ich phrases in a document refer to the same underlying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put the carrot on the plate and ate it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ush started the war in Iraq.  But the president needed the consent of Congres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ases require difficult rea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oday was Jack's birthday. Penny and Janet went to the store. They were going to get presents. Janet decided to get a kite. "Don't do that," said Penny. "Jack has a kite. He will make you take it back."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1" name="Oval 4"/>
          <p:cNvSpPr/>
          <p:nvPr/>
        </p:nvSpPr>
        <p:spPr>
          <a:xfrm>
            <a:off x="7045200" y="2548080"/>
            <a:ext cx="354240" cy="366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2" name="Group 15"/>
          <p:cNvGrpSpPr/>
          <p:nvPr/>
        </p:nvGrpSpPr>
        <p:grpSpPr>
          <a:xfrm>
            <a:off x="5168880" y="2548080"/>
            <a:ext cx="2023920" cy="522000"/>
            <a:chOff x="5168880" y="2548080"/>
            <a:chExt cx="2023920" cy="522000"/>
          </a:xfrm>
        </p:grpSpPr>
        <p:sp>
          <p:nvSpPr>
            <p:cNvPr id="1813" name="Freeform 7"/>
            <p:cNvSpPr/>
            <p:nvPr/>
          </p:nvSpPr>
          <p:spPr>
            <a:xfrm>
              <a:off x="5645160" y="2881440"/>
              <a:ext cx="1547640" cy="18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Oval 9"/>
            <p:cNvSpPr/>
            <p:nvPr/>
          </p:nvSpPr>
          <p:spPr>
            <a:xfrm>
              <a:off x="5168880" y="2548080"/>
              <a:ext cx="792360" cy="36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Group 16"/>
          <p:cNvGrpSpPr/>
          <p:nvPr/>
        </p:nvGrpSpPr>
        <p:grpSpPr>
          <a:xfrm>
            <a:off x="3286080" y="2554200"/>
            <a:ext cx="3924360" cy="522360"/>
            <a:chOff x="3286080" y="2554200"/>
            <a:chExt cx="3924360" cy="522360"/>
          </a:xfrm>
        </p:grpSpPr>
        <p:sp>
          <p:nvSpPr>
            <p:cNvPr id="1816" name="Freeform 13"/>
            <p:cNvSpPr/>
            <p:nvPr/>
          </p:nvSpPr>
          <p:spPr>
            <a:xfrm>
              <a:off x="3957480" y="2887560"/>
              <a:ext cx="3252960" cy="1890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Oval 14"/>
            <p:cNvSpPr/>
            <p:nvPr/>
          </p:nvSpPr>
          <p:spPr>
            <a:xfrm>
              <a:off x="3286080" y="2554200"/>
              <a:ext cx="938160" cy="36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Oval 17"/>
          <p:cNvSpPr/>
          <p:nvPr/>
        </p:nvSpPr>
        <p:spPr>
          <a:xfrm>
            <a:off x="6168960" y="3548160"/>
            <a:ext cx="2109960" cy="390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Group 22"/>
          <p:cNvGrpSpPr/>
          <p:nvPr/>
        </p:nvGrpSpPr>
        <p:grpSpPr>
          <a:xfrm>
            <a:off x="1444680" y="3529080"/>
            <a:ext cx="5600520" cy="541440"/>
            <a:chOff x="1444680" y="3529080"/>
            <a:chExt cx="5600520" cy="541440"/>
          </a:xfrm>
        </p:grpSpPr>
        <p:sp>
          <p:nvSpPr>
            <p:cNvPr id="1820" name="Oval 18"/>
            <p:cNvSpPr/>
            <p:nvPr/>
          </p:nvSpPr>
          <p:spPr>
            <a:xfrm>
              <a:off x="1444680" y="3529080"/>
              <a:ext cx="903240" cy="390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Freeform 20"/>
            <p:cNvSpPr/>
            <p:nvPr/>
          </p:nvSpPr>
          <p:spPr>
            <a:xfrm>
              <a:off x="2217600" y="3855960"/>
              <a:ext cx="4827600" cy="21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Oval 23"/>
          <p:cNvSpPr/>
          <p:nvPr/>
        </p:nvSpPr>
        <p:spPr>
          <a:xfrm>
            <a:off x="2295360" y="5638680"/>
            <a:ext cx="354240" cy="366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3" name="Group 27"/>
          <p:cNvGrpSpPr/>
          <p:nvPr/>
        </p:nvGrpSpPr>
        <p:grpSpPr>
          <a:xfrm>
            <a:off x="2646360" y="5108400"/>
            <a:ext cx="5327280" cy="667800"/>
            <a:chOff x="2646360" y="5108400"/>
            <a:chExt cx="5327280" cy="667800"/>
          </a:xfrm>
        </p:grpSpPr>
        <p:sp>
          <p:nvSpPr>
            <p:cNvPr id="1824" name="Oval 24"/>
            <p:cNvSpPr/>
            <p:nvPr/>
          </p:nvSpPr>
          <p:spPr>
            <a:xfrm>
              <a:off x="7308720" y="5108400"/>
              <a:ext cx="664920" cy="34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26"/>
            <p:cNvSpPr/>
            <p:nvPr/>
          </p:nvSpPr>
          <p:spPr>
            <a:xfrm flipV="1">
              <a:off x="2646360" y="5382000"/>
              <a:ext cx="4723560" cy="39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Group 31"/>
          <p:cNvGrpSpPr/>
          <p:nvPr/>
        </p:nvGrpSpPr>
        <p:grpSpPr>
          <a:xfrm>
            <a:off x="2664000" y="5394240"/>
            <a:ext cx="3778200" cy="426600"/>
            <a:chOff x="2664000" y="5394240"/>
            <a:chExt cx="3778200" cy="426600"/>
          </a:xfrm>
        </p:grpSpPr>
        <p:sp>
          <p:nvSpPr>
            <p:cNvPr id="1827" name="Oval 29"/>
            <p:cNvSpPr/>
            <p:nvPr/>
          </p:nvSpPr>
          <p:spPr>
            <a:xfrm>
              <a:off x="5770440" y="5394240"/>
              <a:ext cx="67176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Line 30"/>
            <p:cNvSpPr/>
            <p:nvPr/>
          </p:nvSpPr>
          <p:spPr>
            <a:xfrm flipV="1">
              <a:off x="2664000" y="5638320"/>
              <a:ext cx="316836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llipsis Resol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ly words and phrases are omitted from sentences when they can be inferred from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4"/>
          <p:cNvSpPr/>
          <p:nvPr/>
        </p:nvSpPr>
        <p:spPr>
          <a:xfrm>
            <a:off x="237960" y="3292560"/>
            <a:ext cx="818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"Wise men talk because they have something to sa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ols, because they have to say something.“ (Pla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5"/>
          <p:cNvSpPr/>
          <p:nvPr/>
        </p:nvSpPr>
        <p:spPr>
          <a:xfrm>
            <a:off x="231840" y="3284640"/>
            <a:ext cx="8562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"Wise men talk because they have something to sa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ol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alk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because they have to say something.“ (Pla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527-8726-4DE3-A7AD-3BA1244D6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formation Extraction (IE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hrases in language that refer to specific types of entities and relations in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entity recognition is task of identifying names of people, places, organizations, etc. in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rganiz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chael De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he CEO of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ell Computer Corpo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lives in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Austin Texa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extraction identifies specific relations between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chael De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he </a:t>
            </a:r>
            <a:r>
              <a:rPr b="0" lang="en-US" sz="2400" spc="-1" strike="noStrike">
                <a:solidFill>
                  <a:srgbClr val="e97c05"/>
                </a:solidFill>
                <a:latin typeface="Times New Roman"/>
              </a:rPr>
              <a:t>CEO of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ell Computer Corpo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lives i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Austin Texa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8" name="Freeform 4"/>
          <p:cNvSpPr/>
          <p:nvPr/>
        </p:nvSpPr>
        <p:spPr>
          <a:xfrm>
            <a:off x="2670120" y="4925880"/>
            <a:ext cx="1693800" cy="195480"/>
          </a:xfrm>
          <a:prstGeom prst="pie">
            <a:avLst/>
          </a:prstGeom>
          <a:noFill/>
          <a:ln w="28440">
            <a:solidFill>
              <a:srgbClr val="e97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reeform 5"/>
          <p:cNvSpPr/>
          <p:nvPr/>
        </p:nvSpPr>
        <p:spPr>
          <a:xfrm>
            <a:off x="4352760" y="4811760"/>
            <a:ext cx="1511640" cy="309600"/>
          </a:xfrm>
          <a:prstGeom prst="pie">
            <a:avLst/>
          </a:prstGeom>
          <a:noFill/>
          <a:ln w="28440">
            <a:solidFill>
              <a:srgbClr val="e97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Freeform 6"/>
          <p:cNvSpPr/>
          <p:nvPr/>
        </p:nvSpPr>
        <p:spPr>
          <a:xfrm>
            <a:off x="2610000" y="5327640"/>
            <a:ext cx="1304640" cy="700200"/>
          </a:xfrm>
          <a:prstGeom prst="pie">
            <a:avLst/>
          </a:pr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Freeform 7"/>
          <p:cNvSpPr/>
          <p:nvPr/>
        </p:nvSpPr>
        <p:spPr>
          <a:xfrm>
            <a:off x="3902040" y="5657760"/>
            <a:ext cx="1560600" cy="517680"/>
          </a:xfrm>
          <a:prstGeom prst="pie">
            <a:avLst/>
          </a:pr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stion Answ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answer natural language questions based on information presented in a corpora of textual documents (e.g. the web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n was Barack Obama born?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t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gust 4, 1961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o was president when Barack Obama was born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John F. Kennedy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ow many presidents have there been since Barack Obama was born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Summa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a short summary of a longer document or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ticle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th a split decision in the final two primaries and a flurry of superdelegate endorsements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Sen. Barack Obam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ealed the Democratic presidential nomination last night after a grueling and history-making campaign against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Sen. Hillary Rodham Clinto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that will make him the first African American to head a major-party ticket.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Before a chanting and cheering audience in St. Paul, Minn., the first-term senator from Illinois savored what once seemed an unlikely outcome to the Democratic race with a nod to the marathon that was ending and to what will be another hard-fought battle, against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Sen. John McCai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the presumptive Republican nominee…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ummary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nator Barack Obama was declared the presumptive Democratic presidential nomine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Translation (M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 a sentence from one natural languag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sta la vista, beb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ntil we see each other again, bab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E24-5ACA-4232-B6CE-0A7D6699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LP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for disambiguation makes language understanding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linguistic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agmatic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Gs can be used to parse natural language but produce many spurious par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learning methods can be us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omatically learn grammars from (annotated) corpor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ute the most likely interpretation based on a learned statistical mode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atural Languages vs. Computer Languag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ity is the primary difference between natural and computer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programming languages are designed to be unambiguous, i.e. they can be defined by a grammar that produces a unique parse for each sentence in the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 are also designed for efficient (deterministic) parsing, i.e. they are deterministic context-free languages (DCLF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 sentence in a DCFL can be parsed in O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time wher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he length of the st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313E-3EBB-4FC8-B51E-D0924516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the correct syntactic parse tree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322200" y="2565360"/>
            <a:ext cx="88218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 Free Grammars (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76000" y="1371600"/>
            <a:ext cx="8186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sjoin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form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A is a non-terminal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tring of symbols from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a designated non-terminal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CFG for ATIS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841320" y="1900080"/>
            <a:ext cx="3621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Aux NP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→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4481640" y="1979640"/>
            <a:ext cx="431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→ the | a | that |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→ book | flight | meal |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→ book | include | p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 → I | he | she |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 → Houston | N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x →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→ from | to | on | near |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531800" y="1452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4905720" y="1457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Gener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ences are generated by recursively rewriting the start symbol using the productions until only terminals symbols re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017960" y="267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920040" y="32148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3333240" y="37450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4105440" y="42400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901040" y="4832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3349080" y="4255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771880" y="534996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589360" y="581832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6859440" y="62690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6729480" y="580068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4250880" y="4842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4687560" y="58183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4170240" y="298764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7"/>
          <p:cNvSpPr/>
          <p:nvPr/>
        </p:nvSpPr>
        <p:spPr>
          <a:xfrm flipH="1">
            <a:off x="3706920" y="3511440"/>
            <a:ext cx="4507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8"/>
          <p:cNvSpPr/>
          <p:nvPr/>
        </p:nvSpPr>
        <p:spPr>
          <a:xfrm>
            <a:off x="4157640" y="3524400"/>
            <a:ext cx="8287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9"/>
          <p:cNvSpPr/>
          <p:nvPr/>
        </p:nvSpPr>
        <p:spPr>
          <a:xfrm>
            <a:off x="3645000" y="4059360"/>
            <a:ext cx="1260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0"/>
          <p:cNvSpPr/>
          <p:nvPr/>
        </p:nvSpPr>
        <p:spPr>
          <a:xfrm flipH="1">
            <a:off x="4704840" y="4035600"/>
            <a:ext cx="257400" cy="31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1"/>
          <p:cNvSpPr/>
          <p:nvPr/>
        </p:nvSpPr>
        <p:spPr>
          <a:xfrm>
            <a:off x="4962600" y="4048200"/>
            <a:ext cx="5364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 flipH="1">
            <a:off x="4498560" y="4535640"/>
            <a:ext cx="18252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3"/>
          <p:cNvSpPr/>
          <p:nvPr/>
        </p:nvSpPr>
        <p:spPr>
          <a:xfrm flipH="1">
            <a:off x="5339880" y="4559400"/>
            <a:ext cx="1825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4"/>
          <p:cNvSpPr/>
          <p:nvPr/>
        </p:nvSpPr>
        <p:spPr>
          <a:xfrm>
            <a:off x="5522760" y="4572000"/>
            <a:ext cx="80496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4732200" y="535608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 flipH="1">
            <a:off x="5132520" y="5157720"/>
            <a:ext cx="1713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27"/>
          <p:cNvSpPr/>
          <p:nvPr/>
        </p:nvSpPr>
        <p:spPr>
          <a:xfrm>
            <a:off x="5084640" y="566892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8"/>
          <p:cNvSpPr/>
          <p:nvPr/>
        </p:nvSpPr>
        <p:spPr>
          <a:xfrm flipH="1">
            <a:off x="6108480" y="5121360"/>
            <a:ext cx="2314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6340320" y="5121360"/>
            <a:ext cx="84168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0"/>
          <p:cNvSpPr/>
          <p:nvPr/>
        </p:nvSpPr>
        <p:spPr>
          <a:xfrm>
            <a:off x="6046920" y="565776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1"/>
          <p:cNvSpPr/>
          <p:nvPr/>
        </p:nvSpPr>
        <p:spPr>
          <a:xfrm>
            <a:off x="7182000" y="5645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>
            <a:off x="7242120" y="6156360"/>
            <a:ext cx="255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6760080" y="3049560"/>
            <a:ext cx="15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Deriv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4221-91F1-4A7C-950E-8FB1E279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e Trees and Syntactic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30200" y="1371240"/>
            <a:ext cx="41990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entence has more than one possible derivation (parse tree) it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actically ambigu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4" descr="telescope-parses"/>
          <p:cNvPicPr/>
          <p:nvPr/>
        </p:nvPicPr>
        <p:blipFill>
          <a:blip r:embed="rId1"/>
          <a:stretch/>
        </p:blipFill>
        <p:spPr>
          <a:xfrm>
            <a:off x="4448160" y="1343160"/>
            <a:ext cx="43768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E8C2-DD7D-4965-A72B-A310676A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epositional Phrase Attachment Explos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itive English sentence end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positional phrases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184760" y="2927520"/>
            <a:ext cx="69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aw the man on the hill with a telescope on Tuesday in Austin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6"/>
          <p:cNvSpPr/>
          <p:nvPr/>
        </p:nvSpPr>
        <p:spPr>
          <a:xfrm>
            <a:off x="2352600" y="2890800"/>
            <a:ext cx="573120" cy="193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7"/>
          <p:cNvSpPr/>
          <p:nvPr/>
        </p:nvSpPr>
        <p:spPr>
          <a:xfrm>
            <a:off x="1601640" y="2822400"/>
            <a:ext cx="1306800" cy="217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8"/>
          <p:cNvSpPr/>
          <p:nvPr/>
        </p:nvSpPr>
        <p:spPr>
          <a:xfrm>
            <a:off x="3540240" y="2860560"/>
            <a:ext cx="573120" cy="193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9"/>
          <p:cNvSpPr/>
          <p:nvPr/>
        </p:nvSpPr>
        <p:spPr>
          <a:xfrm>
            <a:off x="1654200" y="2779560"/>
            <a:ext cx="2405160" cy="266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0"/>
          <p:cNvSpPr/>
          <p:nvPr/>
        </p:nvSpPr>
        <p:spPr>
          <a:xfrm>
            <a:off x="5070600" y="2867040"/>
            <a:ext cx="573120" cy="193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1709640" y="2603520"/>
            <a:ext cx="3940200" cy="4618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12"/>
          <p:cNvSpPr/>
          <p:nvPr/>
        </p:nvSpPr>
        <p:spPr>
          <a:xfrm>
            <a:off x="6283440" y="2849400"/>
            <a:ext cx="573120" cy="193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13"/>
          <p:cNvSpPr/>
          <p:nvPr/>
        </p:nvSpPr>
        <p:spPr>
          <a:xfrm>
            <a:off x="1741320" y="2428920"/>
            <a:ext cx="5110200" cy="619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4"/>
          <p:cNvSpPr/>
          <p:nvPr/>
        </p:nvSpPr>
        <p:spPr>
          <a:xfrm>
            <a:off x="874800" y="3695760"/>
            <a:ext cx="77724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act number of parses is given by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talan 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15"/>
              <p:cNvSpPr txBox="1"/>
              <p:nvPr/>
            </p:nvSpPr>
            <p:spPr>
              <a:xfrm>
                <a:off x="3054240" y="4784760"/>
                <a:ext cx="28386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ad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Text Box 16"/>
          <p:cNvSpPr/>
          <p:nvPr/>
        </p:nvSpPr>
        <p:spPr>
          <a:xfrm>
            <a:off x="1757880" y="5865840"/>
            <a:ext cx="49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2, 5, 14, 132, 429, 1430, 4862, 16796,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0CF-B047-4555-8057-28AD81366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urious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arse trees of most NL sentences make no s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4" descr="flies-parses"/>
          <p:cNvPicPr/>
          <p:nvPr/>
        </p:nvPicPr>
        <p:blipFill>
          <a:blip r:embed="rId1"/>
          <a:stretch/>
        </p:blipFill>
        <p:spPr>
          <a:xfrm>
            <a:off x="2243160" y="2279520"/>
            <a:ext cx="49388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LP is the branch of computer science focused on developing systems that allow computers to communicate with people using everyday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all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utational Lingu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oncerns how computational methods can aid the understanding of human languag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2F2A-B591-4F7D-A876-6D16B445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tring of non-terminals and a CFG, determine if the string can be generated by the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return a parse tree for the st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return all possible parse trees for the st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earch space of derivations for one that derives the given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p-Down Pars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tart searching space of derivations for the start symbo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ttom-up Pars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tart search space of reverse deivations from the terminal symbols in the st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2" name="TextBox 2"/>
          <p:cNvSpPr/>
          <p:nvPr/>
        </p:nvSpPr>
        <p:spPr>
          <a:xfrm>
            <a:off x="5512320" y="173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5349960" y="24782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traight Connector 9"/>
          <p:cNvSpPr/>
          <p:nvPr/>
        </p:nvSpPr>
        <p:spPr>
          <a:xfrm flipH="1">
            <a:off x="5667120" y="2131920"/>
            <a:ext cx="612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12"/>
          <p:cNvSpPr/>
          <p:nvPr/>
        </p:nvSpPr>
        <p:spPr>
          <a:xfrm>
            <a:off x="5026680" y="322416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19"/>
          <p:cNvSpPr/>
          <p:nvPr/>
        </p:nvSpPr>
        <p:spPr>
          <a:xfrm>
            <a:off x="4986000" y="40910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traight Connector 21"/>
          <p:cNvSpPr/>
          <p:nvPr/>
        </p:nvSpPr>
        <p:spPr>
          <a:xfrm>
            <a:off x="5338080" y="35766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traight Connector 14"/>
          <p:cNvSpPr/>
          <p:nvPr/>
        </p:nvSpPr>
        <p:spPr>
          <a:xfrm flipH="1">
            <a:off x="5401800" y="2878200"/>
            <a:ext cx="26532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traight Connector 17"/>
          <p:cNvSpPr/>
          <p:nvPr/>
        </p:nvSpPr>
        <p:spPr>
          <a:xfrm>
            <a:off x="5666760" y="2878200"/>
            <a:ext cx="3474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10"/>
          <p:cNvSpPr/>
          <p:nvPr/>
        </p:nvSpPr>
        <p:spPr>
          <a:xfrm>
            <a:off x="5882040" y="407844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traight Connector 13"/>
          <p:cNvSpPr/>
          <p:nvPr/>
        </p:nvSpPr>
        <p:spPr>
          <a:xfrm>
            <a:off x="6040440" y="3586320"/>
            <a:ext cx="7128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traight Connector 18"/>
          <p:cNvSpPr/>
          <p:nvPr/>
        </p:nvSpPr>
        <p:spPr>
          <a:xfrm>
            <a:off x="6040440" y="3537000"/>
            <a:ext cx="83016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15"/>
          <p:cNvSpPr/>
          <p:nvPr/>
        </p:nvSpPr>
        <p:spPr>
          <a:xfrm>
            <a:off x="5878440" y="494496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traight Connector 20"/>
          <p:cNvSpPr/>
          <p:nvPr/>
        </p:nvSpPr>
        <p:spPr>
          <a:xfrm>
            <a:off x="6159600" y="444024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Box 16"/>
          <p:cNvSpPr/>
          <p:nvPr/>
        </p:nvSpPr>
        <p:spPr>
          <a:xfrm>
            <a:off x="6646680" y="495792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traight Connector 23"/>
          <p:cNvSpPr/>
          <p:nvPr/>
        </p:nvSpPr>
        <p:spPr>
          <a:xfrm flipH="1">
            <a:off x="6905520" y="4390920"/>
            <a:ext cx="1296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22"/>
          <p:cNvSpPr/>
          <p:nvPr/>
        </p:nvSpPr>
        <p:spPr>
          <a:xfrm>
            <a:off x="6634080" y="5823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traight Connector 25"/>
          <p:cNvSpPr/>
          <p:nvPr/>
        </p:nvSpPr>
        <p:spPr>
          <a:xfrm flipH="1">
            <a:off x="7000560" y="5357880"/>
            <a:ext cx="2052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4"/>
          <p:cNvSpPr/>
          <p:nvPr/>
        </p:nvSpPr>
        <p:spPr>
          <a:xfrm>
            <a:off x="1361520" y="362124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that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ight Arrow 26"/>
          <p:cNvSpPr/>
          <p:nvPr/>
        </p:nvSpPr>
        <p:spPr>
          <a:xfrm>
            <a:off x="3368520" y="3670200"/>
            <a:ext cx="1468440" cy="276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664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TextBox 5"/>
          <p:cNvSpPr/>
          <p:nvPr/>
        </p:nvSpPr>
        <p:spPr>
          <a:xfrm>
            <a:off x="3401280" y="323676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672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TextBox 5"/>
          <p:cNvSpPr/>
          <p:nvPr/>
        </p:nvSpPr>
        <p:spPr>
          <a:xfrm>
            <a:off x="3401280" y="323676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10"/>
          <p:cNvGrpSpPr/>
          <p:nvPr/>
        </p:nvGrpSpPr>
        <p:grpSpPr>
          <a:xfrm>
            <a:off x="3638160" y="3610080"/>
            <a:ext cx="692640" cy="927720"/>
            <a:chOff x="3638160" y="3610080"/>
            <a:chExt cx="692640" cy="927720"/>
          </a:xfrm>
        </p:grpSpPr>
        <p:sp>
          <p:nvSpPr>
            <p:cNvPr id="678" name="TextBox 11"/>
            <p:cNvSpPr/>
            <p:nvPr/>
          </p:nvSpPr>
          <p:spPr>
            <a:xfrm>
              <a:off x="3638160" y="413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Straight Connector 13"/>
            <p:cNvSpPr/>
            <p:nvPr/>
          </p:nvSpPr>
          <p:spPr>
            <a:xfrm>
              <a:off x="3969720" y="361008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Box 14"/>
            <p:cNvSpPr/>
            <p:nvPr/>
          </p:nvSpPr>
          <p:spPr>
            <a:xfrm>
              <a:off x="3744720" y="36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684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TextBox 5"/>
          <p:cNvSpPr/>
          <p:nvPr/>
        </p:nvSpPr>
        <p:spPr>
          <a:xfrm>
            <a:off x="3416400" y="32367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692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TextBox 5"/>
          <p:cNvSpPr/>
          <p:nvPr/>
        </p:nvSpPr>
        <p:spPr>
          <a:xfrm>
            <a:off x="3416400" y="32367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15"/>
          <p:cNvGrpSpPr/>
          <p:nvPr/>
        </p:nvGrpSpPr>
        <p:grpSpPr>
          <a:xfrm>
            <a:off x="3638160" y="3610080"/>
            <a:ext cx="692640" cy="927720"/>
            <a:chOff x="3638160" y="3610080"/>
            <a:chExt cx="692640" cy="927720"/>
          </a:xfrm>
        </p:grpSpPr>
        <p:sp>
          <p:nvSpPr>
            <p:cNvPr id="698" name="TextBox 10"/>
            <p:cNvSpPr/>
            <p:nvPr/>
          </p:nvSpPr>
          <p:spPr>
            <a:xfrm>
              <a:off x="3638160" y="413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3"/>
            <p:cNvSpPr/>
            <p:nvPr/>
          </p:nvSpPr>
          <p:spPr>
            <a:xfrm>
              <a:off x="3969720" y="361008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Box 14"/>
            <p:cNvSpPr/>
            <p:nvPr/>
          </p:nvSpPr>
          <p:spPr>
            <a:xfrm>
              <a:off x="3744720" y="36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704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TextBox 5"/>
          <p:cNvSpPr/>
          <p:nvPr/>
        </p:nvSpPr>
        <p:spPr>
          <a:xfrm>
            <a:off x="3198600" y="32479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traight Connector 12"/>
          <p:cNvSpPr/>
          <p:nvPr/>
        </p:nvSpPr>
        <p:spPr>
          <a:xfrm flipH="1">
            <a:off x="3489480" y="2840040"/>
            <a:ext cx="3492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traight Connector 13"/>
          <p:cNvSpPr/>
          <p:nvPr/>
        </p:nvSpPr>
        <p:spPr>
          <a:xfrm>
            <a:off x="3838680" y="2851200"/>
            <a:ext cx="37296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10"/>
          <p:cNvGrpSpPr/>
          <p:nvPr/>
        </p:nvGrpSpPr>
        <p:grpSpPr>
          <a:xfrm>
            <a:off x="3619800" y="2216160"/>
            <a:ext cx="1217160" cy="648720"/>
            <a:chOff x="3619800" y="2216160"/>
            <a:chExt cx="1217160" cy="648720"/>
          </a:xfrm>
        </p:grpSpPr>
        <p:sp>
          <p:nvSpPr>
            <p:cNvPr id="713" name="TextBox 4"/>
            <p:cNvSpPr/>
            <p:nvPr/>
          </p:nvSpPr>
          <p:spPr>
            <a:xfrm>
              <a:off x="3619800" y="2466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TextBox 5"/>
          <p:cNvSpPr/>
          <p:nvPr/>
        </p:nvSpPr>
        <p:spPr>
          <a:xfrm>
            <a:off x="3199320" y="32479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12"/>
          <p:cNvSpPr/>
          <p:nvPr/>
        </p:nvSpPr>
        <p:spPr>
          <a:xfrm flipH="1">
            <a:off x="3489480" y="2840040"/>
            <a:ext cx="3492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13"/>
          <p:cNvSpPr/>
          <p:nvPr/>
        </p:nvSpPr>
        <p:spPr>
          <a:xfrm>
            <a:off x="3838680" y="2851200"/>
            <a:ext cx="37296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10"/>
          <p:cNvGrpSpPr/>
          <p:nvPr/>
        </p:nvGrpSpPr>
        <p:grpSpPr>
          <a:xfrm>
            <a:off x="3060360" y="3549600"/>
            <a:ext cx="692640" cy="927720"/>
            <a:chOff x="3060360" y="3549600"/>
            <a:chExt cx="692640" cy="927720"/>
          </a:xfrm>
        </p:grpSpPr>
        <p:sp>
          <p:nvSpPr>
            <p:cNvPr id="720" name="TextBox 11"/>
            <p:cNvSpPr/>
            <p:nvPr/>
          </p:nvSpPr>
          <p:spPr>
            <a:xfrm>
              <a:off x="3060360" y="4078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Straight Connector 14"/>
            <p:cNvSpPr/>
            <p:nvPr/>
          </p:nvSpPr>
          <p:spPr>
            <a:xfrm>
              <a:off x="3391560" y="354960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Box 15"/>
            <p:cNvSpPr/>
            <p:nvPr/>
          </p:nvSpPr>
          <p:spPr>
            <a:xfrm>
              <a:off x="3166560" y="3549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4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"/>
          <p:cNvSpPr/>
          <p:nvPr/>
        </p:nvSpPr>
        <p:spPr>
          <a:xfrm>
            <a:off x="3315240" y="25020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x      NP     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traight Connector 7"/>
          <p:cNvSpPr/>
          <p:nvPr/>
        </p:nvSpPr>
        <p:spPr>
          <a:xfrm flipH="1">
            <a:off x="3825720" y="2216160"/>
            <a:ext cx="39240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traight Connector 9"/>
          <p:cNvSpPr/>
          <p:nvPr/>
        </p:nvSpPr>
        <p:spPr>
          <a:xfrm>
            <a:off x="4218120" y="2216160"/>
            <a:ext cx="1173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traight Connector 14"/>
          <p:cNvSpPr/>
          <p:nvPr/>
        </p:nvSpPr>
        <p:spPr>
          <a:xfrm>
            <a:off x="4217400" y="2216160"/>
            <a:ext cx="83484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4"/>
          <p:cNvSpPr/>
          <p:nvPr/>
        </p:nvSpPr>
        <p:spPr>
          <a:xfrm>
            <a:off x="3315240" y="25020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x      NP      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7"/>
          <p:cNvSpPr/>
          <p:nvPr/>
        </p:nvSpPr>
        <p:spPr>
          <a:xfrm flipH="1">
            <a:off x="3825720" y="2216160"/>
            <a:ext cx="39240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9"/>
          <p:cNvSpPr/>
          <p:nvPr/>
        </p:nvSpPr>
        <p:spPr>
          <a:xfrm>
            <a:off x="4218120" y="2216160"/>
            <a:ext cx="1173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14"/>
          <p:cNvSpPr/>
          <p:nvPr/>
        </p:nvSpPr>
        <p:spPr>
          <a:xfrm>
            <a:off x="4217400" y="2216160"/>
            <a:ext cx="83484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8"/>
          <p:cNvGrpSpPr/>
          <p:nvPr/>
        </p:nvGrpSpPr>
        <p:grpSpPr>
          <a:xfrm>
            <a:off x="3253320" y="2814480"/>
            <a:ext cx="692640" cy="928800"/>
            <a:chOff x="3253320" y="2814480"/>
            <a:chExt cx="692640" cy="928800"/>
          </a:xfrm>
        </p:grpSpPr>
        <p:sp>
          <p:nvSpPr>
            <p:cNvPr id="736" name="TextBox 10"/>
            <p:cNvSpPr/>
            <p:nvPr/>
          </p:nvSpPr>
          <p:spPr>
            <a:xfrm>
              <a:off x="3253320" y="33444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Straight Connector 11"/>
            <p:cNvSpPr/>
            <p:nvPr/>
          </p:nvSpPr>
          <p:spPr>
            <a:xfrm>
              <a:off x="3584520" y="2814480"/>
              <a:ext cx="1404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Box 12"/>
            <p:cNvSpPr/>
            <p:nvPr/>
          </p:nvSpPr>
          <p:spPr>
            <a:xfrm>
              <a:off x="3359880" y="2814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F93B-74E1-4752-B5EF-EC310904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in the production and comprehension of natural language is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for the speak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ten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Decide when and what information should be transmitted (a.k.a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rategic gene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.  May require planning and reasoning about agents’ goals and belief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Gene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Translate the information to be communicated (in internal logical representation or “language of thought”) into string of words in desired natural language (a.k.a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actical gene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ynthesi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Output the string in desired modality, text or spee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4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Box 12"/>
          <p:cNvSpPr/>
          <p:nvPr/>
        </p:nvSpPr>
        <p:spPr>
          <a:xfrm>
            <a:off x="3862800" y="32846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Box 12"/>
          <p:cNvSpPr/>
          <p:nvPr/>
        </p:nvSpPr>
        <p:spPr>
          <a:xfrm>
            <a:off x="3862800" y="32846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19"/>
          <p:cNvSpPr/>
          <p:nvPr/>
        </p:nvSpPr>
        <p:spPr>
          <a:xfrm>
            <a:off x="3866760" y="41623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21"/>
          <p:cNvSpPr/>
          <p:nvPr/>
        </p:nvSpPr>
        <p:spPr>
          <a:xfrm>
            <a:off x="4207680" y="368460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Box 12"/>
          <p:cNvSpPr/>
          <p:nvPr/>
        </p:nvSpPr>
        <p:spPr>
          <a:xfrm>
            <a:off x="3862800" y="32846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19"/>
          <p:cNvSpPr/>
          <p:nvPr/>
        </p:nvSpPr>
        <p:spPr>
          <a:xfrm>
            <a:off x="3866760" y="41623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traight Connector 21"/>
          <p:cNvSpPr/>
          <p:nvPr/>
        </p:nvSpPr>
        <p:spPr>
          <a:xfrm>
            <a:off x="4207680" y="368460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Box 10"/>
          <p:cNvSpPr/>
          <p:nvPr/>
        </p:nvSpPr>
        <p:spPr>
          <a:xfrm>
            <a:off x="4840200" y="3741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traight Connector 11"/>
          <p:cNvSpPr/>
          <p:nvPr/>
        </p:nvSpPr>
        <p:spPr>
          <a:xfrm>
            <a:off x="5058720" y="378936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Box 13"/>
          <p:cNvSpPr/>
          <p:nvPr/>
        </p:nvSpPr>
        <p:spPr>
          <a:xfrm>
            <a:off x="4795920" y="418608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6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5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Box 10"/>
          <p:cNvSpPr/>
          <p:nvPr/>
        </p:nvSpPr>
        <p:spPr>
          <a:xfrm>
            <a:off x="4435200" y="4162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traight Connector 13"/>
          <p:cNvSpPr/>
          <p:nvPr/>
        </p:nvSpPr>
        <p:spPr>
          <a:xfrm>
            <a:off x="4583880" y="3670200"/>
            <a:ext cx="37476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6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10"/>
          <p:cNvSpPr/>
          <p:nvPr/>
        </p:nvSpPr>
        <p:spPr>
          <a:xfrm>
            <a:off x="4435200" y="4162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traight Connector 13"/>
          <p:cNvSpPr/>
          <p:nvPr/>
        </p:nvSpPr>
        <p:spPr>
          <a:xfrm>
            <a:off x="4583880" y="3670200"/>
            <a:ext cx="37476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23"/>
          <p:cNvGrpSpPr/>
          <p:nvPr/>
        </p:nvGrpSpPr>
        <p:grpSpPr>
          <a:xfrm>
            <a:off x="4724640" y="4500000"/>
            <a:ext cx="561600" cy="1024920"/>
            <a:chOff x="4724640" y="4500000"/>
            <a:chExt cx="561600" cy="1024920"/>
          </a:xfrm>
        </p:grpSpPr>
        <p:sp>
          <p:nvSpPr>
            <p:cNvPr id="807" name="TextBox 24"/>
            <p:cNvSpPr/>
            <p:nvPr/>
          </p:nvSpPr>
          <p:spPr>
            <a:xfrm>
              <a:off x="4791960" y="45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Straight Connector 25"/>
            <p:cNvSpPr/>
            <p:nvPr/>
          </p:nvSpPr>
          <p:spPr>
            <a:xfrm flipH="1">
              <a:off x="5017320" y="450000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Box 26"/>
            <p:cNvSpPr/>
            <p:nvPr/>
          </p:nvSpPr>
          <p:spPr>
            <a:xfrm>
              <a:off x="4724640" y="512604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1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Box 10"/>
          <p:cNvSpPr/>
          <p:nvPr/>
        </p:nvSpPr>
        <p:spPr>
          <a:xfrm>
            <a:off x="4450320" y="416232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traight Connector 13"/>
          <p:cNvSpPr/>
          <p:nvPr/>
        </p:nvSpPr>
        <p:spPr>
          <a:xfrm>
            <a:off x="4584600" y="3670200"/>
            <a:ext cx="5810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Box 10"/>
          <p:cNvSpPr/>
          <p:nvPr/>
        </p:nvSpPr>
        <p:spPr>
          <a:xfrm>
            <a:off x="4450320" y="416232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traight Connector 13"/>
          <p:cNvSpPr/>
          <p:nvPr/>
        </p:nvSpPr>
        <p:spPr>
          <a:xfrm>
            <a:off x="4584600" y="3670200"/>
            <a:ext cx="5810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15"/>
          <p:cNvGrpSpPr/>
          <p:nvPr/>
        </p:nvGrpSpPr>
        <p:grpSpPr>
          <a:xfrm>
            <a:off x="4724640" y="4500000"/>
            <a:ext cx="561600" cy="1024920"/>
            <a:chOff x="4724640" y="4500000"/>
            <a:chExt cx="561600" cy="1024920"/>
          </a:xfrm>
        </p:grpSpPr>
        <p:sp>
          <p:nvSpPr>
            <p:cNvPr id="833" name="TextBox 16"/>
            <p:cNvSpPr/>
            <p:nvPr/>
          </p:nvSpPr>
          <p:spPr>
            <a:xfrm>
              <a:off x="4791960" y="45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Straight Connector 18"/>
            <p:cNvSpPr/>
            <p:nvPr/>
          </p:nvSpPr>
          <p:spPr>
            <a:xfrm flipH="1">
              <a:off x="5017320" y="450000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Box 20"/>
            <p:cNvSpPr/>
            <p:nvPr/>
          </p:nvSpPr>
          <p:spPr>
            <a:xfrm>
              <a:off x="4724640" y="512604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2787-4462-4D0D-8130-1185B11F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unication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for the hear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cep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Map input modality to a string of words, e.g.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optical character recogni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(OCR) or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peech recogni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si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Determine the information content of the st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yntactic interpretation (parsing):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Find the correct parse tree showing the phrase structure of the string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mantic Interpretatio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: Extract the (literal) meaning of the string 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logical form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Pragmatic Interpretatio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: Consider effect of the overall context on altering the literal meaning of a sentenc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corpor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Decide whether or not to believe the content of the string and add it to the KB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7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Box 10"/>
          <p:cNvSpPr/>
          <p:nvPr/>
        </p:nvSpPr>
        <p:spPr>
          <a:xfrm>
            <a:off x="4426200" y="41623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Box 10"/>
          <p:cNvSpPr/>
          <p:nvPr/>
        </p:nvSpPr>
        <p:spPr>
          <a:xfrm>
            <a:off x="4426200" y="41623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Box 15"/>
          <p:cNvSpPr/>
          <p:nvPr/>
        </p:nvSpPr>
        <p:spPr>
          <a:xfrm>
            <a:off x="4422960" y="502920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3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Box 10"/>
          <p:cNvSpPr/>
          <p:nvPr/>
        </p:nvSpPr>
        <p:spPr>
          <a:xfrm>
            <a:off x="4426200" y="41623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15"/>
          <p:cNvSpPr/>
          <p:nvPr/>
        </p:nvSpPr>
        <p:spPr>
          <a:xfrm>
            <a:off x="4422960" y="502920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16"/>
          <p:cNvSpPr/>
          <p:nvPr/>
        </p:nvSpPr>
        <p:spPr>
          <a:xfrm>
            <a:off x="5191200" y="5041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traight Connector 23"/>
          <p:cNvSpPr/>
          <p:nvPr/>
        </p:nvSpPr>
        <p:spPr>
          <a:xfrm flipH="1">
            <a:off x="5449680" y="447516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Box 4"/>
          <p:cNvSpPr/>
          <p:nvPr/>
        </p:nvSpPr>
        <p:spPr>
          <a:xfrm>
            <a:off x="3894120" y="25621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12"/>
          <p:cNvSpPr/>
          <p:nvPr/>
        </p:nvSpPr>
        <p:spPr>
          <a:xfrm>
            <a:off x="3570840" y="33084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Box 19"/>
          <p:cNvSpPr/>
          <p:nvPr/>
        </p:nvSpPr>
        <p:spPr>
          <a:xfrm>
            <a:off x="3530160" y="4175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Box 10"/>
          <p:cNvSpPr/>
          <p:nvPr/>
        </p:nvSpPr>
        <p:spPr>
          <a:xfrm>
            <a:off x="4426200" y="41623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Box 15"/>
          <p:cNvSpPr/>
          <p:nvPr/>
        </p:nvSpPr>
        <p:spPr>
          <a:xfrm>
            <a:off x="4422960" y="502920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Box 16"/>
          <p:cNvSpPr/>
          <p:nvPr/>
        </p:nvSpPr>
        <p:spPr>
          <a:xfrm>
            <a:off x="5191200" y="5041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traight Connector 23"/>
          <p:cNvSpPr/>
          <p:nvPr/>
        </p:nvSpPr>
        <p:spPr>
          <a:xfrm flipH="1">
            <a:off x="5449680" y="447516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22"/>
          <p:cNvSpPr/>
          <p:nvPr/>
        </p:nvSpPr>
        <p:spPr>
          <a:xfrm>
            <a:off x="5178240" y="5907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Straight Connector 25"/>
          <p:cNvSpPr/>
          <p:nvPr/>
        </p:nvSpPr>
        <p:spPr>
          <a:xfrm flipH="1">
            <a:off x="5544720" y="5442120"/>
            <a:ext cx="2052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6C9-E240-4B28-ABAE-45F48A785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03C9-4D09-44C2-B943-74551040B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849-C82C-4028-AD3C-F3AF25931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Box 12"/>
          <p:cNvSpPr/>
          <p:nvPr/>
        </p:nvSpPr>
        <p:spPr>
          <a:xfrm>
            <a:off x="2913120" y="35971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65E5-EAAB-40EB-8D0B-325362AC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Box 12"/>
          <p:cNvSpPr/>
          <p:nvPr/>
        </p:nvSpPr>
        <p:spPr>
          <a:xfrm>
            <a:off x="2928960" y="3597120"/>
            <a:ext cx="20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373-74CB-40D4-BEDE-7049F92E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12"/>
          <p:cNvSpPr/>
          <p:nvPr/>
        </p:nvSpPr>
        <p:spPr>
          <a:xfrm>
            <a:off x="2928960" y="3597120"/>
            <a:ext cx="20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Group 13"/>
          <p:cNvGrpSpPr/>
          <p:nvPr/>
        </p:nvGrpSpPr>
        <p:grpSpPr>
          <a:xfrm>
            <a:off x="4393800" y="4006800"/>
            <a:ext cx="474840" cy="1347840"/>
            <a:chOff x="4393800" y="4006800"/>
            <a:chExt cx="474840" cy="1347840"/>
          </a:xfrm>
        </p:grpSpPr>
        <p:sp>
          <p:nvSpPr>
            <p:cNvPr id="932" name="TextBox 15"/>
            <p:cNvSpPr/>
            <p:nvPr/>
          </p:nvSpPr>
          <p:spPr>
            <a:xfrm>
              <a:off x="4393800" y="4006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Straight Connector 16"/>
            <p:cNvSpPr/>
            <p:nvPr/>
          </p:nvSpPr>
          <p:spPr>
            <a:xfrm flipH="1">
              <a:off x="4619160" y="4006800"/>
              <a:ext cx="11880" cy="13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6C74-15A5-4757-8FF0-3FD9B5C33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Box 5"/>
          <p:cNvSpPr/>
          <p:nvPr/>
        </p:nvSpPr>
        <p:spPr>
          <a:xfrm>
            <a:off x="3025800" y="4608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74AB-D745-4281-AECF-73A4102AA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unication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25" name="Picture 4" descr="fig22"/>
          <p:cNvPicPr/>
          <p:nvPr/>
        </p:nvPicPr>
        <p:blipFill>
          <a:blip r:embed="rId1"/>
          <a:stretch/>
        </p:blipFill>
        <p:spPr>
          <a:xfrm>
            <a:off x="1068480" y="1751040"/>
            <a:ext cx="69339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797-974A-4846-8779-7347B273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12B-C6BD-461E-BA5D-7A3FC0E6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4"/>
          <p:cNvSpPr/>
          <p:nvPr/>
        </p:nvSpPr>
        <p:spPr>
          <a:xfrm>
            <a:off x="3047760" y="525780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992D-30C1-4BCD-A7F5-54C779284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0081-F17C-4497-8272-12F77B74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DBD0-1F2D-4B13-BEFC-39D0158CF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Box 24"/>
          <p:cNvSpPr/>
          <p:nvPr/>
        </p:nvSpPr>
        <p:spPr>
          <a:xfrm>
            <a:off x="5729760" y="34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27"/>
          <p:cNvSpPr/>
          <p:nvPr/>
        </p:nvSpPr>
        <p:spPr>
          <a:xfrm>
            <a:off x="6579720" y="4151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traight Connector 29"/>
          <p:cNvSpPr/>
          <p:nvPr/>
        </p:nvSpPr>
        <p:spPr>
          <a:xfrm flipH="1">
            <a:off x="5316480" y="3876840"/>
            <a:ext cx="5745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Straight Connector 31"/>
          <p:cNvSpPr/>
          <p:nvPr/>
        </p:nvSpPr>
        <p:spPr>
          <a:xfrm>
            <a:off x="5890320" y="3876840"/>
            <a:ext cx="94140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E83-DDEA-4E7C-BCCE-089BD4CF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Box 24"/>
          <p:cNvSpPr/>
          <p:nvPr/>
        </p:nvSpPr>
        <p:spPr>
          <a:xfrm>
            <a:off x="5729760" y="34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Box 27"/>
          <p:cNvSpPr/>
          <p:nvPr/>
        </p:nvSpPr>
        <p:spPr>
          <a:xfrm>
            <a:off x="6579720" y="4151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Straight Connector 29"/>
          <p:cNvSpPr/>
          <p:nvPr/>
        </p:nvSpPr>
        <p:spPr>
          <a:xfrm flipH="1">
            <a:off x="5316480" y="3876840"/>
            <a:ext cx="5745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Straight Connector 31"/>
          <p:cNvSpPr/>
          <p:nvPr/>
        </p:nvSpPr>
        <p:spPr>
          <a:xfrm>
            <a:off x="5890320" y="3876840"/>
            <a:ext cx="94140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Group 28"/>
          <p:cNvGrpSpPr/>
          <p:nvPr/>
        </p:nvGrpSpPr>
        <p:grpSpPr>
          <a:xfrm>
            <a:off x="6593040" y="4440240"/>
            <a:ext cx="561600" cy="708840"/>
            <a:chOff x="6593040" y="4440240"/>
            <a:chExt cx="561600" cy="708840"/>
          </a:xfrm>
        </p:grpSpPr>
        <p:sp>
          <p:nvSpPr>
            <p:cNvPr id="1056" name="TextBox 30"/>
            <p:cNvSpPr/>
            <p:nvPr/>
          </p:nvSpPr>
          <p:spPr>
            <a:xfrm>
              <a:off x="6679800" y="4524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Straight Connector 32"/>
            <p:cNvSpPr/>
            <p:nvPr/>
          </p:nvSpPr>
          <p:spPr>
            <a:xfrm flipH="1">
              <a:off x="6905160" y="451152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TextBox 33"/>
            <p:cNvSpPr/>
            <p:nvPr/>
          </p:nvSpPr>
          <p:spPr>
            <a:xfrm>
              <a:off x="6593040" y="44402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DDCC-4999-4690-966E-1C922052F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Box 5"/>
          <p:cNvSpPr/>
          <p:nvPr/>
        </p:nvSpPr>
        <p:spPr>
          <a:xfrm>
            <a:off x="3022200" y="46083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Box 12"/>
          <p:cNvSpPr/>
          <p:nvPr/>
        </p:nvSpPr>
        <p:spPr>
          <a:xfrm>
            <a:off x="2920320" y="35971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Box 8"/>
          <p:cNvSpPr/>
          <p:nvPr/>
        </p:nvSpPr>
        <p:spPr>
          <a:xfrm>
            <a:off x="3583080" y="2824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30"/>
          <p:cNvSpPr/>
          <p:nvPr/>
        </p:nvSpPr>
        <p:spPr>
          <a:xfrm flipH="1">
            <a:off x="4559040" y="3962520"/>
            <a:ext cx="145800" cy="7063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31"/>
          <p:cNvSpPr/>
          <p:nvPr/>
        </p:nvSpPr>
        <p:spPr>
          <a:xfrm>
            <a:off x="4767120" y="3962520"/>
            <a:ext cx="487440" cy="2188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Box 30"/>
          <p:cNvSpPr/>
          <p:nvPr/>
        </p:nvSpPr>
        <p:spPr>
          <a:xfrm>
            <a:off x="4581360" y="3683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FF0D-10C3-4DA0-8593-FF336B856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Box 4"/>
          <p:cNvSpPr/>
          <p:nvPr/>
        </p:nvSpPr>
        <p:spPr>
          <a:xfrm>
            <a:off x="3020400" y="525780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030D-90BD-4DFE-A6F0-F53F81D7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Box 4"/>
          <p:cNvSpPr/>
          <p:nvPr/>
        </p:nvSpPr>
        <p:spPr>
          <a:xfrm>
            <a:off x="3021120" y="5257800"/>
            <a:ext cx="23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3F5-C34A-48AD-96DA-B687DF9C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3020760" y="525780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Box 8"/>
          <p:cNvSpPr/>
          <p:nvPr/>
        </p:nvSpPr>
        <p:spPr>
          <a:xfrm>
            <a:off x="32389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traight Connector 11"/>
          <p:cNvSpPr/>
          <p:nvPr/>
        </p:nvSpPr>
        <p:spPr>
          <a:xfrm>
            <a:off x="3400560" y="3468600"/>
            <a:ext cx="288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EBF7-B9DF-4BE9-89B7-2E8A9091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, Semantic, Pragma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concerns the proper ordering of words and its affect on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dog bit the bo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boy bit the dog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* Bit boy dog the th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lorless green ideas sleep furiousl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s concerns the (literal) meaning of words, phrases, and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nt” as a photosynthetic organi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nt” as a manufacturing facilit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nt” as the act of sow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matics concerns the overall communicative and social context and its effect on interpre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ham sandwich wants another beer. (co-reference, anaphora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 thinks vanilla.  (ellipsis)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6A90-ECAC-4496-9064-F5F96FFF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Box 4"/>
          <p:cNvSpPr/>
          <p:nvPr/>
        </p:nvSpPr>
        <p:spPr>
          <a:xfrm>
            <a:off x="3020760" y="525780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Box 8"/>
          <p:cNvSpPr/>
          <p:nvPr/>
        </p:nvSpPr>
        <p:spPr>
          <a:xfrm>
            <a:off x="32389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Straight Connector 11"/>
          <p:cNvSpPr/>
          <p:nvPr/>
        </p:nvSpPr>
        <p:spPr>
          <a:xfrm>
            <a:off x="3400560" y="3468600"/>
            <a:ext cx="288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Box 15"/>
          <p:cNvSpPr/>
          <p:nvPr/>
        </p:nvSpPr>
        <p:spPr>
          <a:xfrm>
            <a:off x="4244760" y="370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4"/>
          <p:cNvSpPr/>
          <p:nvPr/>
        </p:nvSpPr>
        <p:spPr>
          <a:xfrm flipH="1">
            <a:off x="4438800" y="4170240"/>
            <a:ext cx="47520" cy="2923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25"/>
          <p:cNvSpPr/>
          <p:nvPr/>
        </p:nvSpPr>
        <p:spPr>
          <a:xfrm>
            <a:off x="4608360" y="4121280"/>
            <a:ext cx="328680" cy="133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C6D1-1CCF-45B3-8580-5D77CED1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Box 8"/>
          <p:cNvSpPr/>
          <p:nvPr/>
        </p:nvSpPr>
        <p:spPr>
          <a:xfrm>
            <a:off x="3788280" y="3008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Straight Connector 11"/>
          <p:cNvSpPr/>
          <p:nvPr/>
        </p:nvSpPr>
        <p:spPr>
          <a:xfrm flipH="1">
            <a:off x="3403080" y="3408480"/>
            <a:ext cx="6382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Box 14"/>
          <p:cNvSpPr/>
          <p:nvPr/>
        </p:nvSpPr>
        <p:spPr>
          <a:xfrm>
            <a:off x="4228920" y="3873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traight Connector 16"/>
          <p:cNvSpPr/>
          <p:nvPr/>
        </p:nvSpPr>
        <p:spPr>
          <a:xfrm>
            <a:off x="4041720" y="3408480"/>
            <a:ext cx="4190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Box 37"/>
          <p:cNvSpPr/>
          <p:nvPr/>
        </p:nvSpPr>
        <p:spPr>
          <a:xfrm>
            <a:off x="4122720" y="40384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5E70-55DD-4002-B05F-2318E5467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3150720" y="38736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Box 8"/>
          <p:cNvSpPr/>
          <p:nvPr/>
        </p:nvSpPr>
        <p:spPr>
          <a:xfrm>
            <a:off x="3788280" y="3008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traight Connector 11"/>
          <p:cNvSpPr/>
          <p:nvPr/>
        </p:nvSpPr>
        <p:spPr>
          <a:xfrm flipH="1">
            <a:off x="3403080" y="3408480"/>
            <a:ext cx="6382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Box 14"/>
          <p:cNvSpPr/>
          <p:nvPr/>
        </p:nvSpPr>
        <p:spPr>
          <a:xfrm>
            <a:off x="4228920" y="3873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traight Connector 16"/>
          <p:cNvSpPr/>
          <p:nvPr/>
        </p:nvSpPr>
        <p:spPr>
          <a:xfrm>
            <a:off x="4041720" y="3408480"/>
            <a:ext cx="4190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Box 35"/>
          <p:cNvSpPr/>
          <p:nvPr/>
        </p:nvSpPr>
        <p:spPr>
          <a:xfrm>
            <a:off x="4209840" y="4051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Box 37"/>
          <p:cNvSpPr/>
          <p:nvPr/>
        </p:nvSpPr>
        <p:spPr>
          <a:xfrm>
            <a:off x="4122720" y="40384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Straight Connector 39"/>
          <p:cNvSpPr/>
          <p:nvPr/>
        </p:nvSpPr>
        <p:spPr>
          <a:xfrm>
            <a:off x="4571280" y="4102200"/>
            <a:ext cx="20520" cy="554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Straight Connector 41"/>
          <p:cNvSpPr/>
          <p:nvPr/>
        </p:nvSpPr>
        <p:spPr>
          <a:xfrm>
            <a:off x="4608360" y="4091040"/>
            <a:ext cx="517680" cy="120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7BB1-A3EC-4D73-8648-B0ECB273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Box 6"/>
          <p:cNvSpPr/>
          <p:nvPr/>
        </p:nvSpPr>
        <p:spPr>
          <a:xfrm>
            <a:off x="3150720" y="3754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traight Connector 40"/>
          <p:cNvSpPr/>
          <p:nvPr/>
        </p:nvSpPr>
        <p:spPr>
          <a:xfrm>
            <a:off x="3403440" y="4154400"/>
            <a:ext cx="78264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Box 42"/>
          <p:cNvSpPr/>
          <p:nvPr/>
        </p:nvSpPr>
        <p:spPr>
          <a:xfrm>
            <a:off x="3896280" y="44038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74D0-16FF-4B40-80A2-8F8230E41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Box 6"/>
          <p:cNvSpPr/>
          <p:nvPr/>
        </p:nvSpPr>
        <p:spPr>
          <a:xfrm>
            <a:off x="3150720" y="3754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traight Connector 40"/>
          <p:cNvSpPr/>
          <p:nvPr/>
        </p:nvSpPr>
        <p:spPr>
          <a:xfrm>
            <a:off x="3403440" y="4154400"/>
            <a:ext cx="1649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580A-B546-4D1C-84BD-65C54A0B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Box 4"/>
          <p:cNvSpPr/>
          <p:nvPr/>
        </p:nvSpPr>
        <p:spPr>
          <a:xfrm>
            <a:off x="3031920" y="52578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Box 5"/>
          <p:cNvSpPr/>
          <p:nvPr/>
        </p:nvSpPr>
        <p:spPr>
          <a:xfrm>
            <a:off x="3021120" y="46083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Box 6"/>
          <p:cNvSpPr/>
          <p:nvPr/>
        </p:nvSpPr>
        <p:spPr>
          <a:xfrm>
            <a:off x="3150720" y="3754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Box 15"/>
          <p:cNvSpPr/>
          <p:nvPr/>
        </p:nvSpPr>
        <p:spPr>
          <a:xfrm>
            <a:off x="4317840" y="46562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Box 17"/>
          <p:cNvSpPr/>
          <p:nvPr/>
        </p:nvSpPr>
        <p:spPr>
          <a:xfrm>
            <a:off x="5063760" y="4102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5451840" y="4643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Box 20"/>
          <p:cNvSpPr/>
          <p:nvPr/>
        </p:nvSpPr>
        <p:spPr>
          <a:xfrm>
            <a:off x="5527440" y="5931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Box 22"/>
          <p:cNvSpPr/>
          <p:nvPr/>
        </p:nvSpPr>
        <p:spPr>
          <a:xfrm>
            <a:off x="5600520" y="52941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40"/>
          <p:cNvSpPr/>
          <p:nvPr/>
        </p:nvSpPr>
        <p:spPr>
          <a:xfrm>
            <a:off x="3403440" y="4154400"/>
            <a:ext cx="1649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Box 28"/>
          <p:cNvSpPr/>
          <p:nvPr/>
        </p:nvSpPr>
        <p:spPr>
          <a:xfrm>
            <a:off x="325872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35"/>
          <p:cNvSpPr/>
          <p:nvPr/>
        </p:nvSpPr>
        <p:spPr>
          <a:xfrm flipH="1">
            <a:off x="3403080" y="3319560"/>
            <a:ext cx="1620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vs. Bottom U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 never explores options that will not lead to a full parse, but can explore many options that never connect to the actual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up never explores options that do not connect to the actual sentence but can explore options that can never lead to a full p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amounts of wasted search depend on how much the grammar branches in each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3852-EF1F-4835-8973-866085F71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Parsing &amp;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produces all possible parse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ddress the important issue of ambiguity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5CCF-3D8A-4A01-B1AE-5B22A5D3E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arsing uses a probabilistic model of syntax in order to assign probabilities to each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principled approach to resolving syntactic ambigu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supervised learning of parsers from tree-banks of parse trees provided by human lingu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 unsupervised learning of parsers from unannotated text, but the accuracy of such parsers has been lim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106C-EA09-41B0-8565-4B68DF6A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4BCF-3E7F-4963-B5A8-934B4176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obabilistic Context Free Grammar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PCFG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CFG is a probabilistic version of a CFG where each production has a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ies of all productions rewriting a given non-terminal must add to 1, defining a distribution for each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neration is now probabilistic where production probabilities are used to non-deterministically select a production for rewriting a given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0D4F-B27A-4DC3-8DCC-81BAECAA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dular Comprehen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31" name="Group 8"/>
          <p:cNvGrpSpPr/>
          <p:nvPr/>
        </p:nvGrpSpPr>
        <p:grpSpPr>
          <a:xfrm>
            <a:off x="992160" y="3059280"/>
            <a:ext cx="1201680" cy="768240"/>
            <a:chOff x="992160" y="3059280"/>
            <a:chExt cx="1201680" cy="768240"/>
          </a:xfrm>
        </p:grpSpPr>
        <p:sp>
          <p:nvSpPr>
            <p:cNvPr id="532" name="Rectangle 5"/>
            <p:cNvSpPr/>
            <p:nvPr/>
          </p:nvSpPr>
          <p:spPr>
            <a:xfrm>
              <a:off x="1033200" y="3059280"/>
              <a:ext cx="1108080" cy="768240"/>
            </a:xfrm>
            <a:prstGeom prst="rect">
              <a:avLst/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992160" y="3062160"/>
              <a:ext cx="1201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oustic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one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Group 31"/>
          <p:cNvGrpSpPr/>
          <p:nvPr/>
        </p:nvGrpSpPr>
        <p:grpSpPr>
          <a:xfrm>
            <a:off x="2978280" y="3054240"/>
            <a:ext cx="1233000" cy="768240"/>
            <a:chOff x="2978280" y="3054240"/>
            <a:chExt cx="1233000" cy="768240"/>
          </a:xfrm>
        </p:grpSpPr>
        <p:sp>
          <p:nvSpPr>
            <p:cNvPr id="535" name="Rectangle 10"/>
            <p:cNvSpPr/>
            <p:nvPr/>
          </p:nvSpPr>
          <p:spPr>
            <a:xfrm>
              <a:off x="2978280" y="3054240"/>
              <a:ext cx="1107720" cy="768240"/>
            </a:xfrm>
            <a:prstGeom prst="rect">
              <a:avLst/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009600" y="320364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n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Rectangle 13"/>
          <p:cNvSpPr/>
          <p:nvPr/>
        </p:nvSpPr>
        <p:spPr>
          <a:xfrm>
            <a:off x="4800600" y="3048120"/>
            <a:ext cx="1204920" cy="76824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759200" y="3209760"/>
            <a:ext cx="13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25"/>
          <p:cNvGrpSpPr/>
          <p:nvPr/>
        </p:nvGrpSpPr>
        <p:grpSpPr>
          <a:xfrm>
            <a:off x="6643800" y="2874960"/>
            <a:ext cx="1334880" cy="923760"/>
            <a:chOff x="6643800" y="2874960"/>
            <a:chExt cx="1334880" cy="923760"/>
          </a:xfrm>
        </p:grpSpPr>
        <p:sp>
          <p:nvSpPr>
            <p:cNvPr id="540" name="Rectangle 18"/>
            <p:cNvSpPr/>
            <p:nvPr/>
          </p:nvSpPr>
          <p:spPr>
            <a:xfrm>
              <a:off x="6672240" y="3030480"/>
              <a:ext cx="1204560" cy="768240"/>
            </a:xfrm>
            <a:prstGeom prst="rect">
              <a:avLst/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6643800" y="2874960"/>
              <a:ext cx="133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agma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30"/>
          <p:cNvGrpSpPr/>
          <p:nvPr/>
        </p:nvGrpSpPr>
        <p:grpSpPr>
          <a:xfrm>
            <a:off x="2131920" y="3474720"/>
            <a:ext cx="852480" cy="472320"/>
            <a:chOff x="2131920" y="3474720"/>
            <a:chExt cx="852480" cy="472320"/>
          </a:xfrm>
        </p:grpSpPr>
        <p:sp>
          <p:nvSpPr>
            <p:cNvPr id="543" name="Text Box 20"/>
            <p:cNvSpPr/>
            <p:nvPr/>
          </p:nvSpPr>
          <p:spPr>
            <a:xfrm>
              <a:off x="2149200" y="354816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1"/>
            <p:cNvSpPr/>
            <p:nvPr/>
          </p:nvSpPr>
          <p:spPr>
            <a:xfrm flipV="1">
              <a:off x="2131920" y="3474720"/>
              <a:ext cx="8524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32"/>
          <p:cNvGrpSpPr/>
          <p:nvPr/>
        </p:nvGrpSpPr>
        <p:grpSpPr>
          <a:xfrm>
            <a:off x="4076640" y="3392640"/>
            <a:ext cx="741240" cy="813240"/>
            <a:chOff x="4076640" y="3392640"/>
            <a:chExt cx="741240" cy="813240"/>
          </a:xfrm>
        </p:grpSpPr>
        <p:sp>
          <p:nvSpPr>
            <p:cNvPr id="546" name="Text Box 23"/>
            <p:cNvSpPr/>
            <p:nvPr/>
          </p:nvSpPr>
          <p:spPr>
            <a:xfrm>
              <a:off x="4099320" y="3502080"/>
              <a:ext cx="71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2"/>
            <p:cNvSpPr/>
            <p:nvPr/>
          </p:nvSpPr>
          <p:spPr>
            <a:xfrm flipV="1">
              <a:off x="4076640" y="3392640"/>
              <a:ext cx="73008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33"/>
          <p:cNvGrpSpPr/>
          <p:nvPr/>
        </p:nvGrpSpPr>
        <p:grpSpPr>
          <a:xfrm>
            <a:off x="5928840" y="3386160"/>
            <a:ext cx="1058400" cy="830880"/>
            <a:chOff x="5928840" y="3386160"/>
            <a:chExt cx="1058400" cy="830880"/>
          </a:xfrm>
        </p:grpSpPr>
        <p:sp>
          <p:nvSpPr>
            <p:cNvPr id="549" name="Text Box 24"/>
            <p:cNvSpPr/>
            <p:nvPr/>
          </p:nvSpPr>
          <p:spPr>
            <a:xfrm>
              <a:off x="5928840" y="3513240"/>
              <a:ext cx="105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te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6"/>
            <p:cNvSpPr/>
            <p:nvPr/>
          </p:nvSpPr>
          <p:spPr>
            <a:xfrm flipV="1">
              <a:off x="5997960" y="3386160"/>
              <a:ext cx="68256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34"/>
          <p:cNvGrpSpPr/>
          <p:nvPr/>
        </p:nvGrpSpPr>
        <p:grpSpPr>
          <a:xfrm>
            <a:off x="7442280" y="3368520"/>
            <a:ext cx="1827000" cy="1131120"/>
            <a:chOff x="7442280" y="3368520"/>
            <a:chExt cx="1827000" cy="1131120"/>
          </a:xfrm>
        </p:grpSpPr>
        <p:sp>
          <p:nvSpPr>
            <p:cNvPr id="552" name="Line 27"/>
            <p:cNvSpPr/>
            <p:nvPr/>
          </p:nvSpPr>
          <p:spPr>
            <a:xfrm flipV="1">
              <a:off x="7893000" y="3368520"/>
              <a:ext cx="6822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8"/>
            <p:cNvSpPr/>
            <p:nvPr/>
          </p:nvSpPr>
          <p:spPr>
            <a:xfrm>
              <a:off x="7442280" y="3490920"/>
              <a:ext cx="182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contextualiz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Line 29"/>
          <p:cNvSpPr/>
          <p:nvPr/>
        </p:nvSpPr>
        <p:spPr>
          <a:xfrm flipV="1">
            <a:off x="125280" y="3444480"/>
            <a:ext cx="8892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37"/>
          <p:cNvGrpSpPr/>
          <p:nvPr/>
        </p:nvGrpSpPr>
        <p:grpSpPr>
          <a:xfrm>
            <a:off x="123120" y="3489480"/>
            <a:ext cx="1423080" cy="1679400"/>
            <a:chOff x="123120" y="3489480"/>
            <a:chExt cx="1423080" cy="1679400"/>
          </a:xfrm>
        </p:grpSpPr>
        <p:sp>
          <p:nvSpPr>
            <p:cNvPr id="556" name="Text Box 4"/>
            <p:cNvSpPr/>
            <p:nvPr/>
          </p:nvSpPr>
          <p:spPr>
            <a:xfrm>
              <a:off x="123120" y="3489480"/>
              <a:ext cx="85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Picture 36" descr=""/>
            <p:cNvPicPr/>
            <p:nvPr/>
          </p:nvPicPr>
          <p:blipFill>
            <a:blip r:embed="rId1"/>
            <a:stretch/>
          </p:blipFill>
          <p:spPr>
            <a:xfrm>
              <a:off x="184320" y="4149720"/>
              <a:ext cx="1361880" cy="101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PCFG for ATIS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68120" y="1881360"/>
            <a:ext cx="3121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Aux NP VP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→ VP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Pro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7"/>
          <p:cNvSpPr/>
          <p:nvPr/>
        </p:nvSpPr>
        <p:spPr>
          <a:xfrm>
            <a:off x="919080" y="1457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AutoShape 5"/>
          <p:cNvSpPr/>
          <p:nvPr/>
        </p:nvSpPr>
        <p:spPr>
          <a:xfrm>
            <a:off x="3514680" y="2093760"/>
            <a:ext cx="378000" cy="744840"/>
          </a:xfrm>
          <a:custGeom>
            <a:avLst/>
            <a:gdLst>
              <a:gd name="textAreaLeft" fmla="*/ 0 w 378000"/>
              <a:gd name="textAreaRight" fmla="*/ 265320 w 378000"/>
              <a:gd name="textAreaTop" fmla="*/ 30960 h 744840"/>
              <a:gd name="textAreaBottom" fmla="*/ 71388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3044880" y="1909800"/>
            <a:ext cx="533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7"/>
          <p:cNvSpPr/>
          <p:nvPr/>
        </p:nvSpPr>
        <p:spPr>
          <a:xfrm>
            <a:off x="3158640" y="14526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Box 9"/>
          <p:cNvSpPr/>
          <p:nvPr/>
        </p:nvSpPr>
        <p:spPr>
          <a:xfrm>
            <a:off x="3664800" y="2246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utoShape 5"/>
          <p:cNvSpPr/>
          <p:nvPr/>
        </p:nvSpPr>
        <p:spPr>
          <a:xfrm>
            <a:off x="3514680" y="2932200"/>
            <a:ext cx="378000" cy="744480"/>
          </a:xfrm>
          <a:custGeom>
            <a:avLst/>
            <a:gdLst>
              <a:gd name="textAreaLeft" fmla="*/ 0 w 378000"/>
              <a:gd name="textAreaRight" fmla="*/ 265320 w 37800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AutoShape 5"/>
          <p:cNvSpPr/>
          <p:nvPr/>
        </p:nvSpPr>
        <p:spPr>
          <a:xfrm>
            <a:off x="3502080" y="386712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AutoShape 5"/>
          <p:cNvSpPr/>
          <p:nvPr/>
        </p:nvSpPr>
        <p:spPr>
          <a:xfrm>
            <a:off x="3489480" y="477684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Box 13"/>
          <p:cNvSpPr/>
          <p:nvPr/>
        </p:nvSpPr>
        <p:spPr>
          <a:xfrm>
            <a:off x="3666960" y="308448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Box 14"/>
          <p:cNvSpPr/>
          <p:nvPr/>
        </p:nvSpPr>
        <p:spPr>
          <a:xfrm>
            <a:off x="3654360" y="4019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Box 15"/>
          <p:cNvSpPr/>
          <p:nvPr/>
        </p:nvSpPr>
        <p:spPr>
          <a:xfrm>
            <a:off x="3641760" y="4929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4"/>
          <p:cNvSpPr/>
          <p:nvPr/>
        </p:nvSpPr>
        <p:spPr>
          <a:xfrm>
            <a:off x="3895560" y="2246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95560" y="3084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3859200" y="4019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3870360" y="4881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6"/>
          <p:cNvSpPr/>
          <p:nvPr/>
        </p:nvSpPr>
        <p:spPr>
          <a:xfrm>
            <a:off x="4827600" y="1981080"/>
            <a:ext cx="431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→ the | a   | that |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6  0.2  0.1   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→ book | flight | meal |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     0.5      0.2    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→ book | include | p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     0.2        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oun → I    | he | she |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 0.1  0.1    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 → Houston | N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        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x →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→ from | to   | on | near |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5  0.25  0.1    0.2    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8"/>
          <p:cNvSpPr/>
          <p:nvPr/>
        </p:nvSpPr>
        <p:spPr>
          <a:xfrm>
            <a:off x="5807520" y="1447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201A-74B3-4A2A-B35E-2229C0CB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Prob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productions for each node are chosen independ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derivation is the product of the probabilities of its prod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93"/>
          <p:cNvSpPr/>
          <p:nvPr/>
        </p:nvSpPr>
        <p:spPr>
          <a:xfrm>
            <a:off x="250920" y="3124080"/>
            <a:ext cx="46764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1 x 0.5 x 0.5 x 0.6 x 0.6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 x 0.3 x 1.0 x 0.2 x 0.2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 x 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0.0000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96"/>
          <p:cNvSpPr/>
          <p:nvPr/>
        </p:nvSpPr>
        <p:spPr>
          <a:xfrm>
            <a:off x="693720" y="4702320"/>
            <a:ext cx="77724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4"/>
          <p:cNvSpPr/>
          <p:nvPr/>
        </p:nvSpPr>
        <p:spPr>
          <a:xfrm>
            <a:off x="641160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5171040" y="32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5074200" y="36147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6"/>
          <p:cNvSpPr/>
          <p:nvPr/>
        </p:nvSpPr>
        <p:spPr>
          <a:xfrm>
            <a:off x="4660920" y="40194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7"/>
          <p:cNvSpPr/>
          <p:nvPr/>
        </p:nvSpPr>
        <p:spPr>
          <a:xfrm>
            <a:off x="5058720" y="439740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8"/>
          <p:cNvSpPr/>
          <p:nvPr/>
        </p:nvSpPr>
        <p:spPr>
          <a:xfrm>
            <a:off x="5721120" y="484992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9"/>
          <p:cNvSpPr/>
          <p:nvPr/>
        </p:nvSpPr>
        <p:spPr>
          <a:xfrm>
            <a:off x="4605120" y="4410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0"/>
          <p:cNvSpPr/>
          <p:nvPr/>
        </p:nvSpPr>
        <p:spPr>
          <a:xfrm>
            <a:off x="6567840" y="52434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1"/>
          <p:cNvSpPr/>
          <p:nvPr/>
        </p:nvSpPr>
        <p:spPr>
          <a:xfrm>
            <a:off x="6337440" y="56008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2"/>
          <p:cNvSpPr/>
          <p:nvPr/>
        </p:nvSpPr>
        <p:spPr>
          <a:xfrm>
            <a:off x="7328520" y="59450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3"/>
          <p:cNvSpPr/>
          <p:nvPr/>
        </p:nvSpPr>
        <p:spPr>
          <a:xfrm>
            <a:off x="7176600" y="558792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4"/>
          <p:cNvSpPr/>
          <p:nvPr/>
        </p:nvSpPr>
        <p:spPr>
          <a:xfrm>
            <a:off x="5335920" y="48560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5"/>
          <p:cNvSpPr/>
          <p:nvPr/>
        </p:nvSpPr>
        <p:spPr>
          <a:xfrm>
            <a:off x="5654520" y="5600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16"/>
          <p:cNvSpPr/>
          <p:nvPr/>
        </p:nvSpPr>
        <p:spPr>
          <a:xfrm>
            <a:off x="5324400" y="344160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17"/>
          <p:cNvSpPr/>
          <p:nvPr/>
        </p:nvSpPr>
        <p:spPr>
          <a:xfrm flipH="1">
            <a:off x="4960800" y="384192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18"/>
          <p:cNvSpPr/>
          <p:nvPr/>
        </p:nvSpPr>
        <p:spPr>
          <a:xfrm>
            <a:off x="5315040" y="3851280"/>
            <a:ext cx="6523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19"/>
          <p:cNvSpPr/>
          <p:nvPr/>
        </p:nvSpPr>
        <p:spPr>
          <a:xfrm>
            <a:off x="4911840" y="425916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20"/>
          <p:cNvSpPr/>
          <p:nvPr/>
        </p:nvSpPr>
        <p:spPr>
          <a:xfrm flipH="1">
            <a:off x="5745240" y="424188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21"/>
          <p:cNvSpPr/>
          <p:nvPr/>
        </p:nvSpPr>
        <p:spPr>
          <a:xfrm>
            <a:off x="5948280" y="42512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22"/>
          <p:cNvSpPr/>
          <p:nvPr/>
        </p:nvSpPr>
        <p:spPr>
          <a:xfrm flipH="1">
            <a:off x="5582880" y="462276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23"/>
          <p:cNvSpPr/>
          <p:nvPr/>
        </p:nvSpPr>
        <p:spPr>
          <a:xfrm flipH="1">
            <a:off x="6244920" y="4640400"/>
            <a:ext cx="14436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24"/>
          <p:cNvSpPr/>
          <p:nvPr/>
        </p:nvSpPr>
        <p:spPr>
          <a:xfrm>
            <a:off x="6389640" y="4649760"/>
            <a:ext cx="6318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5"/>
          <p:cNvSpPr/>
          <p:nvPr/>
        </p:nvSpPr>
        <p:spPr>
          <a:xfrm>
            <a:off x="5687280" y="524844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26"/>
          <p:cNvSpPr/>
          <p:nvPr/>
        </p:nvSpPr>
        <p:spPr>
          <a:xfrm flipH="1">
            <a:off x="6081840" y="5097600"/>
            <a:ext cx="134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27"/>
          <p:cNvSpPr/>
          <p:nvPr/>
        </p:nvSpPr>
        <p:spPr>
          <a:xfrm>
            <a:off x="6043680" y="54878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28"/>
          <p:cNvSpPr/>
          <p:nvPr/>
        </p:nvSpPr>
        <p:spPr>
          <a:xfrm flipH="1">
            <a:off x="6849720" y="506880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29"/>
          <p:cNvSpPr/>
          <p:nvPr/>
        </p:nvSpPr>
        <p:spPr>
          <a:xfrm>
            <a:off x="7032600" y="5068800"/>
            <a:ext cx="662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Line 30"/>
          <p:cNvSpPr/>
          <p:nvPr/>
        </p:nvSpPr>
        <p:spPr>
          <a:xfrm>
            <a:off x="6800760" y="54784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31"/>
          <p:cNvSpPr/>
          <p:nvPr/>
        </p:nvSpPr>
        <p:spPr>
          <a:xfrm>
            <a:off x="7694640" y="54687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32"/>
          <p:cNvSpPr/>
          <p:nvPr/>
        </p:nvSpPr>
        <p:spPr>
          <a:xfrm>
            <a:off x="7742160" y="58593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Box 91"/>
          <p:cNvSpPr/>
          <p:nvPr/>
        </p:nvSpPr>
        <p:spPr>
          <a:xfrm>
            <a:off x="5486400" y="3733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Box 92"/>
          <p:cNvSpPr/>
          <p:nvPr/>
        </p:nvSpPr>
        <p:spPr>
          <a:xfrm>
            <a:off x="4269240" y="4191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Box 93"/>
          <p:cNvSpPr/>
          <p:nvPr/>
        </p:nvSpPr>
        <p:spPr>
          <a:xfrm>
            <a:off x="6402600" y="40384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Box 94"/>
          <p:cNvSpPr/>
          <p:nvPr/>
        </p:nvSpPr>
        <p:spPr>
          <a:xfrm>
            <a:off x="5183640" y="4572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Box 95"/>
          <p:cNvSpPr/>
          <p:nvPr/>
        </p:nvSpPr>
        <p:spPr>
          <a:xfrm>
            <a:off x="7088400" y="4495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Box 96"/>
          <p:cNvSpPr/>
          <p:nvPr/>
        </p:nvSpPr>
        <p:spPr>
          <a:xfrm>
            <a:off x="739332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Box 97"/>
          <p:cNvSpPr/>
          <p:nvPr/>
        </p:nvSpPr>
        <p:spPr>
          <a:xfrm>
            <a:off x="7926840" y="5334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Box 98"/>
          <p:cNvSpPr/>
          <p:nvPr/>
        </p:nvSpPr>
        <p:spPr>
          <a:xfrm>
            <a:off x="5716800" y="50292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Box 99"/>
          <p:cNvSpPr/>
          <p:nvPr/>
        </p:nvSpPr>
        <p:spPr>
          <a:xfrm>
            <a:off x="5335920" y="5486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Box 100"/>
          <p:cNvSpPr/>
          <p:nvPr/>
        </p:nvSpPr>
        <p:spPr>
          <a:xfrm>
            <a:off x="6326640" y="5410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Box 101"/>
          <p:cNvSpPr/>
          <p:nvPr/>
        </p:nvSpPr>
        <p:spPr>
          <a:xfrm>
            <a:off x="7317000" y="57913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Box 102"/>
          <p:cNvSpPr/>
          <p:nvPr/>
        </p:nvSpPr>
        <p:spPr>
          <a:xfrm>
            <a:off x="5335920" y="335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Disambig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ve ambiguity by picking most probable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37BE-681C-4D67-AD77-25C166D8C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0BA0-60E7-4C9F-A7BC-4C8F8EAB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96"/>
          <p:cNvSpPr/>
          <p:nvPr/>
        </p:nvSpPr>
        <p:spPr>
          <a:xfrm flipV="1">
            <a:off x="693720" y="2437200"/>
            <a:ext cx="7772400" cy="22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94"/>
          <p:cNvSpPr/>
          <p:nvPr/>
        </p:nvSpPr>
        <p:spPr>
          <a:xfrm>
            <a:off x="6716520" y="23623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5"/>
          <p:cNvSpPr/>
          <p:nvPr/>
        </p:nvSpPr>
        <p:spPr>
          <a:xfrm>
            <a:off x="5074200" y="32338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6"/>
          <p:cNvSpPr/>
          <p:nvPr/>
        </p:nvSpPr>
        <p:spPr>
          <a:xfrm>
            <a:off x="4660920" y="36385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7"/>
          <p:cNvSpPr/>
          <p:nvPr/>
        </p:nvSpPr>
        <p:spPr>
          <a:xfrm>
            <a:off x="5058720" y="40165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9"/>
          <p:cNvSpPr/>
          <p:nvPr/>
        </p:nvSpPr>
        <p:spPr>
          <a:xfrm>
            <a:off x="4605120" y="40291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0"/>
          <p:cNvSpPr/>
          <p:nvPr/>
        </p:nvSpPr>
        <p:spPr>
          <a:xfrm>
            <a:off x="6942600" y="441972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1"/>
          <p:cNvSpPr/>
          <p:nvPr/>
        </p:nvSpPr>
        <p:spPr>
          <a:xfrm>
            <a:off x="6711840" y="47768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2"/>
          <p:cNvSpPr/>
          <p:nvPr/>
        </p:nvSpPr>
        <p:spPr>
          <a:xfrm>
            <a:off x="7703280" y="51213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3"/>
          <p:cNvSpPr/>
          <p:nvPr/>
        </p:nvSpPr>
        <p:spPr>
          <a:xfrm>
            <a:off x="7550640" y="476424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4"/>
          <p:cNvSpPr/>
          <p:nvPr/>
        </p:nvSpPr>
        <p:spPr>
          <a:xfrm>
            <a:off x="5335920" y="447516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5"/>
          <p:cNvSpPr/>
          <p:nvPr/>
        </p:nvSpPr>
        <p:spPr>
          <a:xfrm>
            <a:off x="5916600" y="4772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6"/>
          <p:cNvSpPr/>
          <p:nvPr/>
        </p:nvSpPr>
        <p:spPr>
          <a:xfrm flipH="1">
            <a:off x="5324400" y="3200400"/>
            <a:ext cx="6192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7"/>
          <p:cNvSpPr/>
          <p:nvPr/>
        </p:nvSpPr>
        <p:spPr>
          <a:xfrm flipH="1">
            <a:off x="4960800" y="346068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18"/>
          <p:cNvSpPr/>
          <p:nvPr/>
        </p:nvSpPr>
        <p:spPr>
          <a:xfrm>
            <a:off x="5315040" y="347040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19"/>
          <p:cNvSpPr/>
          <p:nvPr/>
        </p:nvSpPr>
        <p:spPr>
          <a:xfrm>
            <a:off x="4911840" y="38782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20"/>
          <p:cNvSpPr/>
          <p:nvPr/>
        </p:nvSpPr>
        <p:spPr>
          <a:xfrm flipH="1">
            <a:off x="5745240" y="386064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21"/>
          <p:cNvSpPr/>
          <p:nvPr/>
        </p:nvSpPr>
        <p:spPr>
          <a:xfrm>
            <a:off x="5948280" y="387036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22"/>
          <p:cNvSpPr/>
          <p:nvPr/>
        </p:nvSpPr>
        <p:spPr>
          <a:xfrm flipH="1">
            <a:off x="5582880" y="424188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5950080" y="441972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Line 26"/>
          <p:cNvSpPr/>
          <p:nvPr/>
        </p:nvSpPr>
        <p:spPr>
          <a:xfrm flipH="1">
            <a:off x="6345360" y="4268880"/>
            <a:ext cx="1332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27"/>
          <p:cNvSpPr/>
          <p:nvPr/>
        </p:nvSpPr>
        <p:spPr>
          <a:xfrm>
            <a:off x="6307200" y="465768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28"/>
          <p:cNvSpPr/>
          <p:nvPr/>
        </p:nvSpPr>
        <p:spPr>
          <a:xfrm flipH="1">
            <a:off x="7222680" y="424512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Line 29"/>
          <p:cNvSpPr/>
          <p:nvPr/>
        </p:nvSpPr>
        <p:spPr>
          <a:xfrm>
            <a:off x="7405560" y="424512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30"/>
          <p:cNvSpPr/>
          <p:nvPr/>
        </p:nvSpPr>
        <p:spPr>
          <a:xfrm>
            <a:off x="7175520" y="46544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31"/>
          <p:cNvSpPr/>
          <p:nvPr/>
        </p:nvSpPr>
        <p:spPr>
          <a:xfrm>
            <a:off x="8067600" y="464508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Line 32"/>
          <p:cNvSpPr/>
          <p:nvPr/>
        </p:nvSpPr>
        <p:spPr>
          <a:xfrm>
            <a:off x="8115480" y="503568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Box 37"/>
          <p:cNvSpPr/>
          <p:nvPr/>
        </p:nvSpPr>
        <p:spPr>
          <a:xfrm>
            <a:off x="5412240" y="3276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38"/>
          <p:cNvSpPr/>
          <p:nvPr/>
        </p:nvSpPr>
        <p:spPr>
          <a:xfrm>
            <a:off x="4269240" y="38098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39"/>
          <p:cNvSpPr/>
          <p:nvPr/>
        </p:nvSpPr>
        <p:spPr>
          <a:xfrm>
            <a:off x="6098040" y="3657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Box 40"/>
          <p:cNvSpPr/>
          <p:nvPr/>
        </p:nvSpPr>
        <p:spPr>
          <a:xfrm>
            <a:off x="5183640" y="4191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Box 42"/>
          <p:cNvSpPr/>
          <p:nvPr/>
        </p:nvSpPr>
        <p:spPr>
          <a:xfrm>
            <a:off x="7768080" y="40528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Box 43"/>
          <p:cNvSpPr/>
          <p:nvPr/>
        </p:nvSpPr>
        <p:spPr>
          <a:xfrm>
            <a:off x="8301240" y="4510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Box 44"/>
          <p:cNvSpPr/>
          <p:nvPr/>
        </p:nvSpPr>
        <p:spPr>
          <a:xfrm>
            <a:off x="5827320" y="4276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45"/>
          <p:cNvSpPr/>
          <p:nvPr/>
        </p:nvSpPr>
        <p:spPr>
          <a:xfrm>
            <a:off x="5598720" y="4657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Box 46"/>
          <p:cNvSpPr/>
          <p:nvPr/>
        </p:nvSpPr>
        <p:spPr>
          <a:xfrm>
            <a:off x="6701040" y="4586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Box 47"/>
          <p:cNvSpPr/>
          <p:nvPr/>
        </p:nvSpPr>
        <p:spPr>
          <a:xfrm>
            <a:off x="7691760" y="4967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5797440" y="2362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5"/>
          <p:cNvSpPr/>
          <p:nvPr/>
        </p:nvSpPr>
        <p:spPr>
          <a:xfrm>
            <a:off x="5666400" y="28954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Box 51"/>
          <p:cNvSpPr/>
          <p:nvPr/>
        </p:nvSpPr>
        <p:spPr>
          <a:xfrm>
            <a:off x="5945400" y="259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traight Connector 53"/>
          <p:cNvSpPr/>
          <p:nvPr/>
        </p:nvSpPr>
        <p:spPr>
          <a:xfrm flipH="1">
            <a:off x="5942160" y="2592360"/>
            <a:ext cx="2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5"/>
          <p:cNvSpPr/>
          <p:nvPr/>
        </p:nvSpPr>
        <p:spPr>
          <a:xfrm>
            <a:off x="7251480" y="3886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Straight Connector 56"/>
          <p:cNvSpPr/>
          <p:nvPr/>
        </p:nvSpPr>
        <p:spPr>
          <a:xfrm>
            <a:off x="5919840" y="3198960"/>
            <a:ext cx="147168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Box 57"/>
          <p:cNvSpPr/>
          <p:nvPr/>
        </p:nvSpPr>
        <p:spPr>
          <a:xfrm>
            <a:off x="6250320" y="3048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93"/>
          <p:cNvSpPr/>
          <p:nvPr/>
        </p:nvSpPr>
        <p:spPr>
          <a:xfrm>
            <a:off x="250920" y="2514600"/>
            <a:ext cx="4600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1 x 0.3 x 0.5 x 0.6 x 0.5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6 x 0.3 x 1.0 x 0.5 x 0.2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2 x 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0.000012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Prob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a sentence is the sum of the probabilities of all of its der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29BC-FDCA-4AB6-82BD-E856E46B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93"/>
          <p:cNvSpPr/>
          <p:nvPr/>
        </p:nvSpPr>
        <p:spPr>
          <a:xfrm>
            <a:off x="1181160" y="2666880"/>
            <a:ext cx="5260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“book the flight through Houston”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+ 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0000216 + 0.000012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0.00003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F7DA-797F-449D-AE7A-6C87E77C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ree Useful PCFG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05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servation likelih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lassify and order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t likely 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the most likely parse tree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ximum likelihood tr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train a PCFG to fit empirical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02A7-8D67-4F8F-B0CF-3FB54B0B4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Observation Likeliho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at a given string is produced by a given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a PCFG as a language model to choose between alternative sentences for speech recognition or machine transl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" name="Group 4"/>
          <p:cNvGrpSpPr/>
          <p:nvPr/>
        </p:nvGrpSpPr>
        <p:grpSpPr>
          <a:xfrm>
            <a:off x="1415880" y="3630600"/>
            <a:ext cx="1706400" cy="2628000"/>
            <a:chOff x="1415880" y="3630600"/>
            <a:chExt cx="1706400" cy="2628000"/>
          </a:xfrm>
        </p:grpSpPr>
        <p:grpSp>
          <p:nvGrpSpPr>
            <p:cNvPr id="1410" name="Group 5"/>
            <p:cNvGrpSpPr/>
            <p:nvPr/>
          </p:nvGrpSpPr>
          <p:grpSpPr>
            <a:xfrm>
              <a:off x="1415880" y="3630600"/>
              <a:ext cx="1706400" cy="2236320"/>
              <a:chOff x="1415880" y="3630600"/>
              <a:chExt cx="1706400" cy="2236320"/>
            </a:xfrm>
          </p:grpSpPr>
          <p:grpSp>
            <p:nvGrpSpPr>
              <p:cNvPr id="1411" name="Group 6"/>
              <p:cNvGrpSpPr/>
              <p:nvPr/>
            </p:nvGrpSpPr>
            <p:grpSpPr>
              <a:xfrm>
                <a:off x="1425960" y="3630600"/>
                <a:ext cx="1633320" cy="2236320"/>
                <a:chOff x="1425960" y="3630600"/>
                <a:chExt cx="1633320" cy="2236320"/>
              </a:xfrm>
            </p:grpSpPr>
            <p:sp>
              <p:nvSpPr>
                <p:cNvPr id="1412" name="Text Box 7"/>
                <p:cNvSpPr/>
                <p:nvPr/>
              </p:nvSpPr>
              <p:spPr>
                <a:xfrm>
                  <a:off x="1425960" y="363060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Text Box 8"/>
                <p:cNvSpPr/>
                <p:nvPr/>
              </p:nvSpPr>
              <p:spPr>
                <a:xfrm>
                  <a:off x="2654640" y="364176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4" name="Rectangle 9"/>
              <p:cNvSpPr/>
              <p:nvPr/>
            </p:nvSpPr>
            <p:spPr>
              <a:xfrm>
                <a:off x="1415880" y="365292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5" name="Text Box 10"/>
            <p:cNvSpPr/>
            <p:nvPr/>
          </p:nvSpPr>
          <p:spPr>
            <a:xfrm>
              <a:off x="1809360" y="58597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Group 11"/>
          <p:cNvGrpSpPr/>
          <p:nvPr/>
        </p:nvGrpSpPr>
        <p:grpSpPr>
          <a:xfrm>
            <a:off x="4221000" y="3643200"/>
            <a:ext cx="2517840" cy="2093040"/>
            <a:chOff x="4221000" y="3643200"/>
            <a:chExt cx="2517840" cy="2093040"/>
          </a:xfrm>
        </p:grpSpPr>
        <p:sp>
          <p:nvSpPr>
            <p:cNvPr id="1417" name="Text Box 12"/>
            <p:cNvSpPr/>
            <p:nvPr/>
          </p:nvSpPr>
          <p:spPr>
            <a:xfrm>
              <a:off x="4946400" y="3898800"/>
              <a:ext cx="181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13"/>
            <p:cNvSpPr/>
            <p:nvPr/>
          </p:nvSpPr>
          <p:spPr>
            <a:xfrm>
              <a:off x="4383000" y="4167000"/>
              <a:ext cx="22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dog big bark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14"/>
            <p:cNvSpPr/>
            <p:nvPr/>
          </p:nvSpPr>
          <p:spPr>
            <a:xfrm>
              <a:off x="4354920" y="486216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big dog bar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Oval 15"/>
            <p:cNvSpPr/>
            <p:nvPr/>
          </p:nvSpPr>
          <p:spPr>
            <a:xfrm>
              <a:off x="4221000" y="4835160"/>
              <a:ext cx="2462040" cy="439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Oval 16"/>
            <p:cNvSpPr/>
            <p:nvPr/>
          </p:nvSpPr>
          <p:spPr>
            <a:xfrm>
              <a:off x="4276440" y="4135320"/>
              <a:ext cx="2462400" cy="43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17"/>
            <p:cNvSpPr/>
            <p:nvPr/>
          </p:nvSpPr>
          <p:spPr>
            <a:xfrm>
              <a:off x="5194800" y="3643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18"/>
            <p:cNvSpPr/>
            <p:nvPr/>
          </p:nvSpPr>
          <p:spPr>
            <a:xfrm>
              <a:off x="5237640" y="52956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Group 19"/>
          <p:cNvGrpSpPr/>
          <p:nvPr/>
        </p:nvGrpSpPr>
        <p:grpSpPr>
          <a:xfrm>
            <a:off x="3097080" y="3970440"/>
            <a:ext cx="3923280" cy="2148840"/>
            <a:chOff x="3097080" y="3970440"/>
            <a:chExt cx="3923280" cy="2148840"/>
          </a:xfrm>
        </p:grpSpPr>
        <p:sp>
          <p:nvSpPr>
            <p:cNvPr id="1425" name="Freeform 20"/>
            <p:cNvSpPr/>
            <p:nvPr/>
          </p:nvSpPr>
          <p:spPr>
            <a:xfrm>
              <a:off x="3097080" y="4048200"/>
              <a:ext cx="1255680" cy="22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Freeform 21"/>
            <p:cNvSpPr/>
            <p:nvPr/>
          </p:nvSpPr>
          <p:spPr>
            <a:xfrm flipV="1">
              <a:off x="3139920" y="5085720"/>
              <a:ext cx="1144440" cy="260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22"/>
            <p:cNvSpPr/>
            <p:nvPr/>
          </p:nvSpPr>
          <p:spPr>
            <a:xfrm>
              <a:off x="3515760" y="3970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Text Box 23"/>
            <p:cNvSpPr/>
            <p:nvPr/>
          </p:nvSpPr>
          <p:spPr>
            <a:xfrm>
              <a:off x="3522240" y="4818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Text Box 24"/>
            <p:cNvSpPr/>
            <p:nvPr/>
          </p:nvSpPr>
          <p:spPr>
            <a:xfrm>
              <a:off x="3334680" y="5678640"/>
              <a:ext cx="368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| English) &gt; 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| English)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ost Likely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ost probable derivation (parse tree)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Group 4"/>
          <p:cNvGrpSpPr/>
          <p:nvPr/>
        </p:nvGrpSpPr>
        <p:grpSpPr>
          <a:xfrm>
            <a:off x="1195560" y="3755880"/>
            <a:ext cx="1706400" cy="2628000"/>
            <a:chOff x="1195560" y="3755880"/>
            <a:chExt cx="1706400" cy="2628000"/>
          </a:xfrm>
        </p:grpSpPr>
        <p:grpSp>
          <p:nvGrpSpPr>
            <p:cNvPr id="1433" name="Group 5"/>
            <p:cNvGrpSpPr/>
            <p:nvPr/>
          </p:nvGrpSpPr>
          <p:grpSpPr>
            <a:xfrm>
              <a:off x="1195560" y="3755880"/>
              <a:ext cx="1706400" cy="2236320"/>
              <a:chOff x="1195560" y="3755880"/>
              <a:chExt cx="1706400" cy="2236320"/>
            </a:xfrm>
          </p:grpSpPr>
          <p:grpSp>
            <p:nvGrpSpPr>
              <p:cNvPr id="1434" name="Group 6"/>
              <p:cNvGrpSpPr/>
              <p:nvPr/>
            </p:nvGrpSpPr>
            <p:grpSpPr>
              <a:xfrm>
                <a:off x="1205640" y="3755880"/>
                <a:ext cx="1633320" cy="2236320"/>
                <a:chOff x="1205640" y="3755880"/>
                <a:chExt cx="1633320" cy="2236320"/>
              </a:xfrm>
            </p:grpSpPr>
            <p:sp>
              <p:nvSpPr>
                <p:cNvPr id="1435" name="Text Box 7"/>
                <p:cNvSpPr/>
                <p:nvPr/>
              </p:nvSpPr>
              <p:spPr>
                <a:xfrm>
                  <a:off x="1205640" y="375588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Text Box 8"/>
                <p:cNvSpPr/>
                <p:nvPr/>
              </p:nvSpPr>
              <p:spPr>
                <a:xfrm>
                  <a:off x="2434320" y="376704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Rectangle 9"/>
              <p:cNvSpPr/>
              <p:nvPr/>
            </p:nvSpPr>
            <p:spPr>
              <a:xfrm>
                <a:off x="1195560" y="377820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8" name="Text Box 10"/>
            <p:cNvSpPr/>
            <p:nvPr/>
          </p:nvSpPr>
          <p:spPr>
            <a:xfrm>
              <a:off x="1589040" y="5985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Group 11"/>
          <p:cNvGrpSpPr/>
          <p:nvPr/>
        </p:nvGrpSpPr>
        <p:grpSpPr>
          <a:xfrm>
            <a:off x="2889360" y="4400640"/>
            <a:ext cx="2036160" cy="938160"/>
            <a:chOff x="2889360" y="4400640"/>
            <a:chExt cx="2036160" cy="938160"/>
          </a:xfrm>
        </p:grpSpPr>
        <p:sp>
          <p:nvSpPr>
            <p:cNvPr id="1440" name="Rectangle 12"/>
            <p:cNvSpPr/>
            <p:nvPr/>
          </p:nvSpPr>
          <p:spPr>
            <a:xfrm>
              <a:off x="3571560" y="4400640"/>
              <a:ext cx="1353960" cy="938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Text Box 13"/>
            <p:cNvSpPr/>
            <p:nvPr/>
          </p:nvSpPr>
          <p:spPr>
            <a:xfrm>
              <a:off x="3841200" y="452412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AutoShape 14"/>
            <p:cNvSpPr/>
            <p:nvPr/>
          </p:nvSpPr>
          <p:spPr>
            <a:xfrm>
              <a:off x="2889360" y="4814640"/>
              <a:ext cx="658440" cy="218880"/>
            </a:xfrm>
            <a:prstGeom prst="rightArrow">
              <a:avLst>
                <a:gd name="adj1" fmla="val 50000"/>
                <a:gd name="adj2" fmla="val 7520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Text Box 16"/>
          <p:cNvSpPr/>
          <p:nvPr/>
        </p:nvSpPr>
        <p:spPr>
          <a:xfrm>
            <a:off x="2867400" y="354960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liked the dog in the 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Oval 17"/>
          <p:cNvSpPr/>
          <p:nvPr/>
        </p:nvSpPr>
        <p:spPr>
          <a:xfrm>
            <a:off x="2890800" y="3483000"/>
            <a:ext cx="3294000" cy="56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AutoShape 18"/>
          <p:cNvSpPr/>
          <p:nvPr/>
        </p:nvSpPr>
        <p:spPr>
          <a:xfrm>
            <a:off x="4194000" y="3997440"/>
            <a:ext cx="146160" cy="390240"/>
          </a:xfrm>
          <a:prstGeom prst="downArrow">
            <a:avLst>
              <a:gd name="adj1" fmla="val 50000"/>
              <a:gd name="adj2" fmla="val 6674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Group 19"/>
          <p:cNvGrpSpPr/>
          <p:nvPr/>
        </p:nvGrpSpPr>
        <p:grpSpPr>
          <a:xfrm>
            <a:off x="4775400" y="3767040"/>
            <a:ext cx="3597480" cy="2043720"/>
            <a:chOff x="4775400" y="3767040"/>
            <a:chExt cx="3597480" cy="2043720"/>
          </a:xfrm>
        </p:grpSpPr>
        <p:sp>
          <p:nvSpPr>
            <p:cNvPr id="1447" name="Text Box 20"/>
            <p:cNvSpPr/>
            <p:nvPr/>
          </p:nvSpPr>
          <p:spPr>
            <a:xfrm>
              <a:off x="6194520" y="3767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Text Box 21"/>
            <p:cNvSpPr/>
            <p:nvPr/>
          </p:nvSpPr>
          <p:spPr>
            <a:xfrm>
              <a:off x="5788800" y="42069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Text Box 22"/>
            <p:cNvSpPr/>
            <p:nvPr/>
          </p:nvSpPr>
          <p:spPr>
            <a:xfrm>
              <a:off x="5597280" y="4606920"/>
              <a:ext cx="23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Text Box 23"/>
            <p:cNvSpPr/>
            <p:nvPr/>
          </p:nvSpPr>
          <p:spPr>
            <a:xfrm>
              <a:off x="6076800" y="508968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ked    the dog  in the 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Line 24"/>
            <p:cNvSpPr/>
            <p:nvPr/>
          </p:nvSpPr>
          <p:spPr>
            <a:xfrm flipH="1">
              <a:off x="6022800" y="4010040"/>
              <a:ext cx="3175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25"/>
            <p:cNvSpPr/>
            <p:nvPr/>
          </p:nvSpPr>
          <p:spPr>
            <a:xfrm>
              <a:off x="6340320" y="4010040"/>
              <a:ext cx="46368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26"/>
            <p:cNvSpPr/>
            <p:nvPr/>
          </p:nvSpPr>
          <p:spPr>
            <a:xfrm flipH="1">
              <a:off x="5876640" y="4460760"/>
              <a:ext cx="7308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27"/>
            <p:cNvSpPr/>
            <p:nvPr/>
          </p:nvSpPr>
          <p:spPr>
            <a:xfrm flipH="1">
              <a:off x="6486120" y="4424400"/>
              <a:ext cx="3049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28"/>
            <p:cNvSpPr/>
            <p:nvPr/>
          </p:nvSpPr>
          <p:spPr>
            <a:xfrm>
              <a:off x="6778800" y="4413240"/>
              <a:ext cx="856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29"/>
            <p:cNvSpPr/>
            <p:nvPr/>
          </p:nvSpPr>
          <p:spPr>
            <a:xfrm>
              <a:off x="6791400" y="4437000"/>
              <a:ext cx="86508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30"/>
            <p:cNvSpPr/>
            <p:nvPr/>
          </p:nvSpPr>
          <p:spPr>
            <a:xfrm flipH="1">
              <a:off x="6267240" y="4851360"/>
              <a:ext cx="20628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31"/>
            <p:cNvSpPr/>
            <p:nvPr/>
          </p:nvSpPr>
          <p:spPr>
            <a:xfrm flipH="1">
              <a:off x="6742080" y="4863960"/>
              <a:ext cx="1713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32"/>
            <p:cNvSpPr/>
            <p:nvPr/>
          </p:nvSpPr>
          <p:spPr>
            <a:xfrm>
              <a:off x="6742080" y="519264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33"/>
            <p:cNvSpPr/>
            <p:nvPr/>
          </p:nvSpPr>
          <p:spPr>
            <a:xfrm>
              <a:off x="6913440" y="4863960"/>
              <a:ext cx="4017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34"/>
            <p:cNvSpPr/>
            <p:nvPr/>
          </p:nvSpPr>
          <p:spPr>
            <a:xfrm flipH="1">
              <a:off x="7486560" y="4851360"/>
              <a:ext cx="20664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35"/>
            <p:cNvSpPr/>
            <p:nvPr/>
          </p:nvSpPr>
          <p:spPr>
            <a:xfrm flipV="1">
              <a:off x="7461360" y="5179680"/>
              <a:ext cx="792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36"/>
            <p:cNvSpPr/>
            <p:nvPr/>
          </p:nvSpPr>
          <p:spPr>
            <a:xfrm>
              <a:off x="7693200" y="4827600"/>
              <a:ext cx="5601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AutoShape 37"/>
            <p:cNvSpPr/>
            <p:nvPr/>
          </p:nvSpPr>
          <p:spPr>
            <a:xfrm>
              <a:off x="4917960" y="478476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Text Box 38"/>
            <p:cNvSpPr/>
            <p:nvPr/>
          </p:nvSpPr>
          <p:spPr>
            <a:xfrm>
              <a:off x="4775400" y="3933720"/>
              <a:ext cx="107244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5853-4A26-455E-8860-E92B16C5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ost Likely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ost probable derivation (parse tree)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Group 4"/>
          <p:cNvGrpSpPr/>
          <p:nvPr/>
        </p:nvGrpSpPr>
        <p:grpSpPr>
          <a:xfrm>
            <a:off x="1195560" y="3755880"/>
            <a:ext cx="1706400" cy="2628000"/>
            <a:chOff x="1195560" y="3755880"/>
            <a:chExt cx="1706400" cy="2628000"/>
          </a:xfrm>
        </p:grpSpPr>
        <p:grpSp>
          <p:nvGrpSpPr>
            <p:cNvPr id="1470" name="Group 5"/>
            <p:cNvGrpSpPr/>
            <p:nvPr/>
          </p:nvGrpSpPr>
          <p:grpSpPr>
            <a:xfrm>
              <a:off x="1195560" y="3755880"/>
              <a:ext cx="1706400" cy="2236320"/>
              <a:chOff x="1195560" y="3755880"/>
              <a:chExt cx="1706400" cy="2236320"/>
            </a:xfrm>
          </p:grpSpPr>
          <p:grpSp>
            <p:nvGrpSpPr>
              <p:cNvPr id="1471" name="Group 6"/>
              <p:cNvGrpSpPr/>
              <p:nvPr/>
            </p:nvGrpSpPr>
            <p:grpSpPr>
              <a:xfrm>
                <a:off x="1205640" y="3755880"/>
                <a:ext cx="1633320" cy="2236320"/>
                <a:chOff x="1205640" y="3755880"/>
                <a:chExt cx="1633320" cy="2236320"/>
              </a:xfrm>
            </p:grpSpPr>
            <p:sp>
              <p:nvSpPr>
                <p:cNvPr id="1472" name="Text Box 7"/>
                <p:cNvSpPr/>
                <p:nvPr/>
              </p:nvSpPr>
              <p:spPr>
                <a:xfrm>
                  <a:off x="1205640" y="375588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Text Box 8"/>
                <p:cNvSpPr/>
                <p:nvPr/>
              </p:nvSpPr>
              <p:spPr>
                <a:xfrm>
                  <a:off x="2434320" y="376704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4" name="Rectangle 9"/>
              <p:cNvSpPr/>
              <p:nvPr/>
            </p:nvSpPr>
            <p:spPr>
              <a:xfrm>
                <a:off x="1195560" y="377820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Text Box 10"/>
            <p:cNvSpPr/>
            <p:nvPr/>
          </p:nvSpPr>
          <p:spPr>
            <a:xfrm>
              <a:off x="1589040" y="5985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Group 11"/>
          <p:cNvGrpSpPr/>
          <p:nvPr/>
        </p:nvGrpSpPr>
        <p:grpSpPr>
          <a:xfrm>
            <a:off x="2889360" y="4400640"/>
            <a:ext cx="2036160" cy="938160"/>
            <a:chOff x="2889360" y="4400640"/>
            <a:chExt cx="2036160" cy="938160"/>
          </a:xfrm>
        </p:grpSpPr>
        <p:sp>
          <p:nvSpPr>
            <p:cNvPr id="1477" name="Rectangle 12"/>
            <p:cNvSpPr/>
            <p:nvPr/>
          </p:nvSpPr>
          <p:spPr>
            <a:xfrm>
              <a:off x="3571560" y="4400640"/>
              <a:ext cx="1353960" cy="938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Text Box 13"/>
            <p:cNvSpPr/>
            <p:nvPr/>
          </p:nvSpPr>
          <p:spPr>
            <a:xfrm>
              <a:off x="3841200" y="452412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AutoShape 14"/>
            <p:cNvSpPr/>
            <p:nvPr/>
          </p:nvSpPr>
          <p:spPr>
            <a:xfrm>
              <a:off x="2889360" y="4814640"/>
              <a:ext cx="658440" cy="218880"/>
            </a:xfrm>
            <a:prstGeom prst="rightArrow">
              <a:avLst>
                <a:gd name="adj1" fmla="val 50000"/>
                <a:gd name="adj2" fmla="val 7520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Text Box 16"/>
          <p:cNvSpPr/>
          <p:nvPr/>
        </p:nvSpPr>
        <p:spPr>
          <a:xfrm>
            <a:off x="2867400" y="354960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liked the dog in the 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17"/>
          <p:cNvSpPr/>
          <p:nvPr/>
        </p:nvSpPr>
        <p:spPr>
          <a:xfrm>
            <a:off x="2890800" y="3483000"/>
            <a:ext cx="3281400" cy="56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AutoShape 18"/>
          <p:cNvSpPr/>
          <p:nvPr/>
        </p:nvSpPr>
        <p:spPr>
          <a:xfrm>
            <a:off x="4194000" y="3997440"/>
            <a:ext cx="146160" cy="390240"/>
          </a:xfrm>
          <a:prstGeom prst="downArrow">
            <a:avLst>
              <a:gd name="adj1" fmla="val 50000"/>
              <a:gd name="adj2" fmla="val 6674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Group 19"/>
          <p:cNvGrpSpPr/>
          <p:nvPr/>
        </p:nvGrpSpPr>
        <p:grpSpPr>
          <a:xfrm>
            <a:off x="4917960" y="3902040"/>
            <a:ext cx="3626280" cy="1659600"/>
            <a:chOff x="4917960" y="3902040"/>
            <a:chExt cx="3626280" cy="1659600"/>
          </a:xfrm>
        </p:grpSpPr>
        <p:sp>
          <p:nvSpPr>
            <p:cNvPr id="1484" name="AutoShape 20"/>
            <p:cNvSpPr/>
            <p:nvPr/>
          </p:nvSpPr>
          <p:spPr>
            <a:xfrm>
              <a:off x="4917960" y="478476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Text Box 21"/>
            <p:cNvSpPr/>
            <p:nvPr/>
          </p:nvSpPr>
          <p:spPr>
            <a:xfrm>
              <a:off x="6377040" y="3902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Text Box 22"/>
            <p:cNvSpPr/>
            <p:nvPr/>
          </p:nvSpPr>
          <p:spPr>
            <a:xfrm>
              <a:off x="5971680" y="43419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Text Box 23"/>
            <p:cNvSpPr/>
            <p:nvPr/>
          </p:nvSpPr>
          <p:spPr>
            <a:xfrm>
              <a:off x="5777640" y="4741920"/>
              <a:ext cx="162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      V     N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Text Box 24"/>
            <p:cNvSpPr/>
            <p:nvPr/>
          </p:nvSpPr>
          <p:spPr>
            <a:xfrm>
              <a:off x="6248160" y="522432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ked    the dog  in the 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25"/>
            <p:cNvSpPr/>
            <p:nvPr/>
          </p:nvSpPr>
          <p:spPr>
            <a:xfrm flipH="1">
              <a:off x="6205680" y="4145040"/>
              <a:ext cx="3175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26"/>
            <p:cNvSpPr/>
            <p:nvPr/>
          </p:nvSpPr>
          <p:spPr>
            <a:xfrm>
              <a:off x="6523200" y="4145040"/>
              <a:ext cx="4633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27"/>
            <p:cNvSpPr/>
            <p:nvPr/>
          </p:nvSpPr>
          <p:spPr>
            <a:xfrm flipH="1">
              <a:off x="6059160" y="4595760"/>
              <a:ext cx="730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28"/>
            <p:cNvSpPr/>
            <p:nvPr/>
          </p:nvSpPr>
          <p:spPr>
            <a:xfrm flipH="1">
              <a:off x="6668640" y="4559400"/>
              <a:ext cx="3049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Line 29"/>
            <p:cNvSpPr/>
            <p:nvPr/>
          </p:nvSpPr>
          <p:spPr>
            <a:xfrm>
              <a:off x="6961320" y="4548240"/>
              <a:ext cx="856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Line 30"/>
            <p:cNvSpPr/>
            <p:nvPr/>
          </p:nvSpPr>
          <p:spPr>
            <a:xfrm flipH="1">
              <a:off x="6473520" y="4986360"/>
              <a:ext cx="1825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31"/>
            <p:cNvSpPr/>
            <p:nvPr/>
          </p:nvSpPr>
          <p:spPr>
            <a:xfrm flipH="1">
              <a:off x="6924600" y="4998960"/>
              <a:ext cx="1713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32"/>
            <p:cNvSpPr/>
            <p:nvPr/>
          </p:nvSpPr>
          <p:spPr>
            <a:xfrm>
              <a:off x="6924600" y="5327640"/>
              <a:ext cx="145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33"/>
            <p:cNvSpPr/>
            <p:nvPr/>
          </p:nvSpPr>
          <p:spPr>
            <a:xfrm>
              <a:off x="7070760" y="4975200"/>
              <a:ext cx="136512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6CB1-5293-4A0C-92F7-A0FF1EC9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Supervise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515520" y="1371600"/>
            <a:ext cx="82710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rse trees are provided for training sentences, a grammar and its parameters can be can all be estimated directly from counts accumulated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ee-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ith appropriate smooth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4"/>
          <p:cNvSpPr/>
          <p:nvPr/>
        </p:nvSpPr>
        <p:spPr>
          <a:xfrm>
            <a:off x="1260720" y="5711760"/>
            <a:ext cx="269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5"/>
          <p:cNvSpPr/>
          <p:nvPr/>
        </p:nvSpPr>
        <p:spPr>
          <a:xfrm>
            <a:off x="554040" y="3495600"/>
            <a:ext cx="2255760" cy="321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6"/>
          <p:cNvSpPr/>
          <p:nvPr/>
        </p:nvSpPr>
        <p:spPr>
          <a:xfrm>
            <a:off x="1089000" y="31068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Group 7"/>
          <p:cNvGrpSpPr/>
          <p:nvPr/>
        </p:nvGrpSpPr>
        <p:grpSpPr>
          <a:xfrm>
            <a:off x="2819520" y="4494240"/>
            <a:ext cx="2877480" cy="1303200"/>
            <a:chOff x="2819520" y="4494240"/>
            <a:chExt cx="2877480" cy="1303200"/>
          </a:xfrm>
        </p:grpSpPr>
        <p:sp>
          <p:nvSpPr>
            <p:cNvPr id="1505" name="Rectangle 8"/>
            <p:cNvSpPr/>
            <p:nvPr/>
          </p:nvSpPr>
          <p:spPr>
            <a:xfrm>
              <a:off x="3770280" y="4494240"/>
              <a:ext cx="1926720" cy="13032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Text Box 9"/>
            <p:cNvSpPr/>
            <p:nvPr/>
          </p:nvSpPr>
          <p:spPr>
            <a:xfrm>
              <a:off x="3956400" y="4506840"/>
              <a:ext cx="153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erv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10"/>
            <p:cNvSpPr/>
            <p:nvPr/>
          </p:nvSpPr>
          <p:spPr>
            <a:xfrm>
              <a:off x="2819520" y="5041800"/>
              <a:ext cx="963360" cy="219240"/>
            </a:xfrm>
            <a:prstGeom prst="rightArrow">
              <a:avLst>
                <a:gd name="adj1" fmla="val 50000"/>
                <a:gd name="adj2" fmla="val 10985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Group 11"/>
          <p:cNvGrpSpPr/>
          <p:nvPr/>
        </p:nvGrpSpPr>
        <p:grpSpPr>
          <a:xfrm>
            <a:off x="5715000" y="3886200"/>
            <a:ext cx="2639880" cy="2627640"/>
            <a:chOff x="5715000" y="3886200"/>
            <a:chExt cx="2639880" cy="2627640"/>
          </a:xfrm>
        </p:grpSpPr>
        <p:grpSp>
          <p:nvGrpSpPr>
            <p:cNvPr id="1509" name="Group 12"/>
            <p:cNvGrpSpPr/>
            <p:nvPr/>
          </p:nvGrpSpPr>
          <p:grpSpPr>
            <a:xfrm>
              <a:off x="6648480" y="3886200"/>
              <a:ext cx="1706400" cy="2627640"/>
              <a:chOff x="6648480" y="3886200"/>
              <a:chExt cx="1706400" cy="2627640"/>
            </a:xfrm>
          </p:grpSpPr>
          <p:grpSp>
            <p:nvGrpSpPr>
              <p:cNvPr id="1510" name="Group 13"/>
              <p:cNvGrpSpPr/>
              <p:nvPr/>
            </p:nvGrpSpPr>
            <p:grpSpPr>
              <a:xfrm>
                <a:off x="6648480" y="3886200"/>
                <a:ext cx="1706400" cy="2235960"/>
                <a:chOff x="6648480" y="3886200"/>
                <a:chExt cx="1706400" cy="2235960"/>
              </a:xfrm>
            </p:grpSpPr>
            <p:grpSp>
              <p:nvGrpSpPr>
                <p:cNvPr id="1511" name="Group 14"/>
                <p:cNvGrpSpPr/>
                <p:nvPr/>
              </p:nvGrpSpPr>
              <p:grpSpPr>
                <a:xfrm>
                  <a:off x="6658560" y="3886200"/>
                  <a:ext cx="1633320" cy="2235960"/>
                  <a:chOff x="6658560" y="3886200"/>
                  <a:chExt cx="1633320" cy="2235960"/>
                </a:xfrm>
              </p:grpSpPr>
              <p:sp>
                <p:nvSpPr>
                  <p:cNvPr id="1512" name="Text Box 15"/>
                  <p:cNvSpPr/>
                  <p:nvPr/>
                </p:nvSpPr>
                <p:spPr>
                  <a:xfrm>
                    <a:off x="6658560" y="3886200"/>
                    <a:ext cx="127656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Det A 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N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Prop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Adj 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P → Prep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Text Box 16"/>
                  <p:cNvSpPr/>
                  <p:nvPr/>
                </p:nvSpPr>
                <p:spPr>
                  <a:xfrm>
                    <a:off x="7887240" y="3897000"/>
                    <a:ext cx="40464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4" name="Rectangle 17"/>
                <p:cNvSpPr/>
                <p:nvPr/>
              </p:nvSpPr>
              <p:spPr>
                <a:xfrm>
                  <a:off x="6648480" y="3908160"/>
                  <a:ext cx="1706400" cy="22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5" name="Text Box 18"/>
              <p:cNvSpPr/>
              <p:nvPr/>
            </p:nvSpPr>
            <p:spPr>
              <a:xfrm>
                <a:off x="7041960" y="61149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glis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6" name="AutoShape 19"/>
            <p:cNvSpPr/>
            <p:nvPr/>
          </p:nvSpPr>
          <p:spPr>
            <a:xfrm>
              <a:off x="5715000" y="5024520"/>
              <a:ext cx="963360" cy="218880"/>
            </a:xfrm>
            <a:prstGeom prst="rightArrow">
              <a:avLst>
                <a:gd name="adj1" fmla="val 50000"/>
                <a:gd name="adj2" fmla="val 11003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Group 20"/>
          <p:cNvGrpSpPr/>
          <p:nvPr/>
        </p:nvGrpSpPr>
        <p:grpSpPr>
          <a:xfrm>
            <a:off x="641880" y="3527280"/>
            <a:ext cx="1509480" cy="1041120"/>
            <a:chOff x="641880" y="3527280"/>
            <a:chExt cx="1509480" cy="1041120"/>
          </a:xfrm>
        </p:grpSpPr>
        <p:sp>
          <p:nvSpPr>
            <p:cNvPr id="1518" name="Text Box 21"/>
            <p:cNvSpPr/>
            <p:nvPr/>
          </p:nvSpPr>
          <p:spPr>
            <a:xfrm>
              <a:off x="936720" y="35272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Text Box 22"/>
            <p:cNvSpPr/>
            <p:nvPr/>
          </p:nvSpPr>
          <p:spPr>
            <a:xfrm>
              <a:off x="744120" y="3774960"/>
              <a:ext cx="72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Text Box 23"/>
            <p:cNvSpPr/>
            <p:nvPr/>
          </p:nvSpPr>
          <p:spPr>
            <a:xfrm>
              <a:off x="641880" y="4022640"/>
              <a:ext cx="126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Text Box 24"/>
            <p:cNvSpPr/>
            <p:nvPr/>
          </p:nvSpPr>
          <p:spPr>
            <a:xfrm>
              <a:off x="966240" y="4352760"/>
              <a:ext cx="118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t    the dog  in the p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Line 25"/>
            <p:cNvSpPr/>
            <p:nvPr/>
          </p:nvSpPr>
          <p:spPr>
            <a:xfrm flipH="1">
              <a:off x="880560" y="3670200"/>
              <a:ext cx="1731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Line 26"/>
            <p:cNvSpPr/>
            <p:nvPr/>
          </p:nvSpPr>
          <p:spPr>
            <a:xfrm>
              <a:off x="1054080" y="3670200"/>
              <a:ext cx="2505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Line 27"/>
            <p:cNvSpPr/>
            <p:nvPr/>
          </p:nvSpPr>
          <p:spPr>
            <a:xfrm flipH="1">
              <a:off x="803160" y="3948120"/>
              <a:ext cx="381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Line 28"/>
            <p:cNvSpPr/>
            <p:nvPr/>
          </p:nvSpPr>
          <p:spPr>
            <a:xfrm flipH="1">
              <a:off x="1132920" y="3925800"/>
              <a:ext cx="165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Line 29"/>
            <p:cNvSpPr/>
            <p:nvPr/>
          </p:nvSpPr>
          <p:spPr>
            <a:xfrm>
              <a:off x="1290600" y="3917880"/>
              <a:ext cx="47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Line 30"/>
            <p:cNvSpPr/>
            <p:nvPr/>
          </p:nvSpPr>
          <p:spPr>
            <a:xfrm>
              <a:off x="1298520" y="3932280"/>
              <a:ext cx="4683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Line 31"/>
            <p:cNvSpPr/>
            <p:nvPr/>
          </p:nvSpPr>
          <p:spPr>
            <a:xfrm flipH="1">
              <a:off x="1112400" y="4187880"/>
              <a:ext cx="1260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Line 32"/>
            <p:cNvSpPr/>
            <p:nvPr/>
          </p:nvSpPr>
          <p:spPr>
            <a:xfrm flipH="1">
              <a:off x="1271520" y="4195800"/>
              <a:ext cx="921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Line 33"/>
            <p:cNvSpPr/>
            <p:nvPr/>
          </p:nvSpPr>
          <p:spPr>
            <a:xfrm>
              <a:off x="1271520" y="43988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34"/>
            <p:cNvSpPr/>
            <p:nvPr/>
          </p:nvSpPr>
          <p:spPr>
            <a:xfrm>
              <a:off x="1363680" y="4195800"/>
              <a:ext cx="2188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35"/>
            <p:cNvSpPr/>
            <p:nvPr/>
          </p:nvSpPr>
          <p:spPr>
            <a:xfrm flipH="1">
              <a:off x="1674360" y="4187880"/>
              <a:ext cx="1112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36"/>
            <p:cNvSpPr/>
            <p:nvPr/>
          </p:nvSpPr>
          <p:spPr>
            <a:xfrm flipV="1">
              <a:off x="1660320" y="4390920"/>
              <a:ext cx="430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Line 37"/>
            <p:cNvSpPr/>
            <p:nvPr/>
          </p:nvSpPr>
          <p:spPr>
            <a:xfrm>
              <a:off x="1785960" y="4173480"/>
              <a:ext cx="304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Group 38"/>
          <p:cNvGrpSpPr/>
          <p:nvPr/>
        </p:nvGrpSpPr>
        <p:grpSpPr>
          <a:xfrm>
            <a:off x="616680" y="4603680"/>
            <a:ext cx="1509480" cy="1041120"/>
            <a:chOff x="616680" y="4603680"/>
            <a:chExt cx="1509480" cy="1041120"/>
          </a:xfrm>
        </p:grpSpPr>
        <p:sp>
          <p:nvSpPr>
            <p:cNvPr id="1536" name="Text Box 39"/>
            <p:cNvSpPr/>
            <p:nvPr/>
          </p:nvSpPr>
          <p:spPr>
            <a:xfrm>
              <a:off x="911520" y="4603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Text Box 40"/>
            <p:cNvSpPr/>
            <p:nvPr/>
          </p:nvSpPr>
          <p:spPr>
            <a:xfrm>
              <a:off x="718920" y="4851360"/>
              <a:ext cx="72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Text Box 41"/>
            <p:cNvSpPr/>
            <p:nvPr/>
          </p:nvSpPr>
          <p:spPr>
            <a:xfrm>
              <a:off x="616680" y="5099040"/>
              <a:ext cx="126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Text Box 42"/>
            <p:cNvSpPr/>
            <p:nvPr/>
          </p:nvSpPr>
          <p:spPr>
            <a:xfrm>
              <a:off x="941040" y="5429160"/>
              <a:ext cx="118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t    the dog  in the p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Line 43"/>
            <p:cNvSpPr/>
            <p:nvPr/>
          </p:nvSpPr>
          <p:spPr>
            <a:xfrm flipH="1">
              <a:off x="855360" y="4746600"/>
              <a:ext cx="1731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44"/>
            <p:cNvSpPr/>
            <p:nvPr/>
          </p:nvSpPr>
          <p:spPr>
            <a:xfrm>
              <a:off x="1028880" y="4746600"/>
              <a:ext cx="2505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Line 45"/>
            <p:cNvSpPr/>
            <p:nvPr/>
          </p:nvSpPr>
          <p:spPr>
            <a:xfrm flipH="1">
              <a:off x="777960" y="5024520"/>
              <a:ext cx="381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Line 46"/>
            <p:cNvSpPr/>
            <p:nvPr/>
          </p:nvSpPr>
          <p:spPr>
            <a:xfrm flipH="1">
              <a:off x="1107720" y="5002200"/>
              <a:ext cx="165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Line 47"/>
            <p:cNvSpPr/>
            <p:nvPr/>
          </p:nvSpPr>
          <p:spPr>
            <a:xfrm>
              <a:off x="1265400" y="4994280"/>
              <a:ext cx="47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Line 48"/>
            <p:cNvSpPr/>
            <p:nvPr/>
          </p:nvSpPr>
          <p:spPr>
            <a:xfrm>
              <a:off x="1273320" y="5008680"/>
              <a:ext cx="4683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Line 49"/>
            <p:cNvSpPr/>
            <p:nvPr/>
          </p:nvSpPr>
          <p:spPr>
            <a:xfrm flipH="1">
              <a:off x="1087200" y="5264280"/>
              <a:ext cx="1260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Line 50"/>
            <p:cNvSpPr/>
            <p:nvPr/>
          </p:nvSpPr>
          <p:spPr>
            <a:xfrm flipH="1">
              <a:off x="1246320" y="5272200"/>
              <a:ext cx="921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51"/>
            <p:cNvSpPr/>
            <p:nvPr/>
          </p:nvSpPr>
          <p:spPr>
            <a:xfrm>
              <a:off x="1246320" y="54752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Line 52"/>
            <p:cNvSpPr/>
            <p:nvPr/>
          </p:nvSpPr>
          <p:spPr>
            <a:xfrm>
              <a:off x="1338480" y="5272200"/>
              <a:ext cx="2188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Line 53"/>
            <p:cNvSpPr/>
            <p:nvPr/>
          </p:nvSpPr>
          <p:spPr>
            <a:xfrm flipH="1">
              <a:off x="1649160" y="5264280"/>
              <a:ext cx="1112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54"/>
            <p:cNvSpPr/>
            <p:nvPr/>
          </p:nvSpPr>
          <p:spPr>
            <a:xfrm flipV="1">
              <a:off x="1635120" y="5467320"/>
              <a:ext cx="430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Line 55"/>
            <p:cNvSpPr/>
            <p:nvPr/>
          </p:nvSpPr>
          <p:spPr>
            <a:xfrm>
              <a:off x="1760760" y="5249880"/>
              <a:ext cx="304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duction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production rules can be taken directly from the set of rewrite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can be directly estimated from frequency count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28BE-F1AB-4346-ADD3-15D11372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Object 2"/>
              <p:cNvSpPr txBox="1"/>
              <p:nvPr/>
            </p:nvSpPr>
            <p:spPr>
              <a:xfrm>
                <a:off x="1371600" y="3962520"/>
                <a:ext cx="6222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→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E35E-8225-4C2B-9F61-4035A7663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9520" y="1371600"/>
            <a:ext cx="5759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language is highly ambiguous and must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ambigu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man on the hill with a telescop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saw the Grand Canyon flying to L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me flies like an arrow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rse flies like a sugar cub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me runners like a coa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me cars like a Porsch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61" name="Picture 4" descr="telescope-fig"/>
          <p:cNvPicPr/>
          <p:nvPr/>
        </p:nvPicPr>
        <p:blipFill>
          <a:blip r:embed="rId1"/>
          <a:stretch/>
        </p:blipFill>
        <p:spPr>
          <a:xfrm>
            <a:off x="5975280" y="1562040"/>
            <a:ext cx="27529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0888-8D14-47FA-B4B1-9EB06885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aximum Likelihoo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set of sentences, induce a grammar that maximizes the probability that this data was generated from this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he number of non-terminals in the grammar is spec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need to have an unannotated set of sequences generated from the model. Does not need correct parse trees for these sentences. In this sense, it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D76-975C-4371-87A7-6E66BB402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aximum Likelihoo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2" name="Text Box 3"/>
          <p:cNvSpPr/>
          <p:nvPr/>
        </p:nvSpPr>
        <p:spPr>
          <a:xfrm>
            <a:off x="476280" y="2670120"/>
            <a:ext cx="21477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ate the 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og bit 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y hit the 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gave Mary the c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"/>
          <p:cNvSpPr/>
          <p:nvPr/>
        </p:nvSpPr>
        <p:spPr>
          <a:xfrm>
            <a:off x="1206720" y="3546360"/>
            <a:ext cx="269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439560" y="2536920"/>
            <a:ext cx="2256120" cy="2097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6"/>
          <p:cNvSpPr/>
          <p:nvPr/>
        </p:nvSpPr>
        <p:spPr>
          <a:xfrm>
            <a:off x="532440" y="206388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Group 7"/>
          <p:cNvGrpSpPr/>
          <p:nvPr/>
        </p:nvGrpSpPr>
        <p:grpSpPr>
          <a:xfrm>
            <a:off x="2693880" y="2951280"/>
            <a:ext cx="2878200" cy="1303200"/>
            <a:chOff x="2693880" y="2951280"/>
            <a:chExt cx="2878200" cy="1303200"/>
          </a:xfrm>
        </p:grpSpPr>
        <p:sp>
          <p:nvSpPr>
            <p:cNvPr id="1567" name="Rectangle 8"/>
            <p:cNvSpPr/>
            <p:nvPr/>
          </p:nvSpPr>
          <p:spPr>
            <a:xfrm>
              <a:off x="3645000" y="2951280"/>
              <a:ext cx="1927080" cy="13032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Text Box 9"/>
            <p:cNvSpPr/>
            <p:nvPr/>
          </p:nvSpPr>
          <p:spPr>
            <a:xfrm>
              <a:off x="3918960" y="3132000"/>
              <a:ext cx="140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CF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AutoShape 10"/>
            <p:cNvSpPr/>
            <p:nvPr/>
          </p:nvSpPr>
          <p:spPr>
            <a:xfrm>
              <a:off x="2693880" y="3498840"/>
              <a:ext cx="963720" cy="219240"/>
            </a:xfrm>
            <a:prstGeom prst="rightArrow">
              <a:avLst>
                <a:gd name="adj1" fmla="val 50000"/>
                <a:gd name="adj2" fmla="val 10989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Group 11"/>
          <p:cNvGrpSpPr/>
          <p:nvPr/>
        </p:nvGrpSpPr>
        <p:grpSpPr>
          <a:xfrm>
            <a:off x="5589720" y="2343240"/>
            <a:ext cx="2639880" cy="2627640"/>
            <a:chOff x="5589720" y="2343240"/>
            <a:chExt cx="2639880" cy="2627640"/>
          </a:xfrm>
        </p:grpSpPr>
        <p:grpSp>
          <p:nvGrpSpPr>
            <p:cNvPr id="1571" name="Group 12"/>
            <p:cNvGrpSpPr/>
            <p:nvPr/>
          </p:nvGrpSpPr>
          <p:grpSpPr>
            <a:xfrm>
              <a:off x="6523200" y="2343240"/>
              <a:ext cx="1706400" cy="2627640"/>
              <a:chOff x="6523200" y="2343240"/>
              <a:chExt cx="1706400" cy="2627640"/>
            </a:xfrm>
          </p:grpSpPr>
          <p:grpSp>
            <p:nvGrpSpPr>
              <p:cNvPr id="1572" name="Group 13"/>
              <p:cNvGrpSpPr/>
              <p:nvPr/>
            </p:nvGrpSpPr>
            <p:grpSpPr>
              <a:xfrm>
                <a:off x="6523200" y="2343240"/>
                <a:ext cx="1706400" cy="2235960"/>
                <a:chOff x="6523200" y="2343240"/>
                <a:chExt cx="1706400" cy="2235960"/>
              </a:xfrm>
            </p:grpSpPr>
            <p:grpSp>
              <p:nvGrpSpPr>
                <p:cNvPr id="1573" name="Group 14"/>
                <p:cNvGrpSpPr/>
                <p:nvPr/>
              </p:nvGrpSpPr>
              <p:grpSpPr>
                <a:xfrm>
                  <a:off x="6533280" y="2343240"/>
                  <a:ext cx="1633320" cy="2235960"/>
                  <a:chOff x="6533280" y="2343240"/>
                  <a:chExt cx="1633320" cy="2235960"/>
                </a:xfrm>
              </p:grpSpPr>
              <p:sp>
                <p:nvSpPr>
                  <p:cNvPr id="1574" name="Text Box 15"/>
                  <p:cNvSpPr/>
                  <p:nvPr/>
                </p:nvSpPr>
                <p:spPr>
                  <a:xfrm>
                    <a:off x="6533280" y="2343240"/>
                    <a:ext cx="127656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Det A 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N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Prop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Adj 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P → Prep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Text Box 16"/>
                  <p:cNvSpPr/>
                  <p:nvPr/>
                </p:nvSpPr>
                <p:spPr>
                  <a:xfrm>
                    <a:off x="7761960" y="2354040"/>
                    <a:ext cx="40464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6" name="Rectangle 17"/>
                <p:cNvSpPr/>
                <p:nvPr/>
              </p:nvSpPr>
              <p:spPr>
                <a:xfrm>
                  <a:off x="6523200" y="2365200"/>
                  <a:ext cx="1706400" cy="22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7" name="Text Box 18"/>
              <p:cNvSpPr/>
              <p:nvPr/>
            </p:nvSpPr>
            <p:spPr>
              <a:xfrm>
                <a:off x="6916680" y="45720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glis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AutoShape 19"/>
            <p:cNvSpPr/>
            <p:nvPr/>
          </p:nvSpPr>
          <p:spPr>
            <a:xfrm>
              <a:off x="5589720" y="3481560"/>
              <a:ext cx="963360" cy="218880"/>
            </a:xfrm>
            <a:prstGeom prst="rightArrow">
              <a:avLst>
                <a:gd name="adj1" fmla="val 50000"/>
                <a:gd name="adj2" fmla="val 11003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7F0E-4CFA-403B-9459-F7982A16F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nilla PCFG Limi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robabilities of productions do not rely on specific words or concepts, only general structural disambiguation is possible (e.g. prefer to attach PPs to Nomina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vanilla PCFGs cannot resolve syntactic ambiguities that require semantics to resolve, e.g. ate with fork vs. meatb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work well, PCFGs must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xic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productions must be specialized to specific words by including their head-word in their LHS non-terminals (e.g. VP-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Importance of Lex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8809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preference for attaching PPs to NPs rather than VPs can be learned by a vanill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desired preference can depend on specific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5492-274E-497E-AC4A-8FC7EF21A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Group 4"/>
          <p:cNvGrpSpPr/>
          <p:nvPr/>
        </p:nvGrpSpPr>
        <p:grpSpPr>
          <a:xfrm>
            <a:off x="1646280" y="4122720"/>
            <a:ext cx="1706400" cy="2628000"/>
            <a:chOff x="1646280" y="4122720"/>
            <a:chExt cx="1706400" cy="2628000"/>
          </a:xfrm>
        </p:grpSpPr>
        <p:grpSp>
          <p:nvGrpSpPr>
            <p:cNvPr id="1586" name="Group 5"/>
            <p:cNvGrpSpPr/>
            <p:nvPr/>
          </p:nvGrpSpPr>
          <p:grpSpPr>
            <a:xfrm>
              <a:off x="1646280" y="4122720"/>
              <a:ext cx="1706400" cy="2236320"/>
              <a:chOff x="1646280" y="4122720"/>
              <a:chExt cx="1706400" cy="2236320"/>
            </a:xfrm>
          </p:grpSpPr>
          <p:grpSp>
            <p:nvGrpSpPr>
              <p:cNvPr id="1587" name="Group 6"/>
              <p:cNvGrpSpPr/>
              <p:nvPr/>
            </p:nvGrpSpPr>
            <p:grpSpPr>
              <a:xfrm>
                <a:off x="1656360" y="4122720"/>
                <a:ext cx="1633320" cy="2236320"/>
                <a:chOff x="1656360" y="4122720"/>
                <a:chExt cx="1633320" cy="2236320"/>
              </a:xfrm>
            </p:grpSpPr>
            <p:sp>
              <p:nvSpPr>
                <p:cNvPr id="1588" name="Text Box 7"/>
                <p:cNvSpPr/>
                <p:nvPr/>
              </p:nvSpPr>
              <p:spPr>
                <a:xfrm>
                  <a:off x="1656360" y="412272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Text Box 8"/>
                <p:cNvSpPr/>
                <p:nvPr/>
              </p:nvSpPr>
              <p:spPr>
                <a:xfrm>
                  <a:off x="2885040" y="413388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0" name="Rectangle 9"/>
              <p:cNvSpPr/>
              <p:nvPr/>
            </p:nvSpPr>
            <p:spPr>
              <a:xfrm>
                <a:off x="1646280" y="414504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1" name="Text Box 10"/>
            <p:cNvSpPr/>
            <p:nvPr/>
          </p:nvSpPr>
          <p:spPr>
            <a:xfrm>
              <a:off x="2039760" y="6351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Group 11"/>
          <p:cNvGrpSpPr/>
          <p:nvPr/>
        </p:nvGrpSpPr>
        <p:grpSpPr>
          <a:xfrm>
            <a:off x="3340080" y="4767120"/>
            <a:ext cx="2036880" cy="938520"/>
            <a:chOff x="3340080" y="4767120"/>
            <a:chExt cx="2036880" cy="938520"/>
          </a:xfrm>
        </p:grpSpPr>
        <p:sp>
          <p:nvSpPr>
            <p:cNvPr id="1593" name="Rectangle 12"/>
            <p:cNvSpPr/>
            <p:nvPr/>
          </p:nvSpPr>
          <p:spPr>
            <a:xfrm>
              <a:off x="4022640" y="4767120"/>
              <a:ext cx="1354320" cy="938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Text Box 13"/>
            <p:cNvSpPr/>
            <p:nvPr/>
          </p:nvSpPr>
          <p:spPr>
            <a:xfrm>
              <a:off x="4292280" y="489096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AutoShape 14"/>
            <p:cNvSpPr/>
            <p:nvPr/>
          </p:nvSpPr>
          <p:spPr>
            <a:xfrm>
              <a:off x="3340080" y="5181480"/>
              <a:ext cx="658800" cy="219240"/>
            </a:xfrm>
            <a:prstGeom prst="rightArrow">
              <a:avLst>
                <a:gd name="adj1" fmla="val 50000"/>
                <a:gd name="adj2" fmla="val 7512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Group 15"/>
          <p:cNvGrpSpPr/>
          <p:nvPr/>
        </p:nvGrpSpPr>
        <p:grpSpPr>
          <a:xfrm>
            <a:off x="5369040" y="4133880"/>
            <a:ext cx="3442320" cy="1659600"/>
            <a:chOff x="5369040" y="4133880"/>
            <a:chExt cx="3442320" cy="1659600"/>
          </a:xfrm>
        </p:grpSpPr>
        <p:grpSp>
          <p:nvGrpSpPr>
            <p:cNvPr id="1597" name="Group 16"/>
            <p:cNvGrpSpPr/>
            <p:nvPr/>
          </p:nvGrpSpPr>
          <p:grpSpPr>
            <a:xfrm>
              <a:off x="6048360" y="4133880"/>
              <a:ext cx="2763000" cy="1659600"/>
              <a:chOff x="6048360" y="4133880"/>
              <a:chExt cx="2763000" cy="1659600"/>
            </a:xfrm>
          </p:grpSpPr>
          <p:sp>
            <p:nvSpPr>
              <p:cNvPr id="1598" name="Text Box 17"/>
              <p:cNvSpPr/>
              <p:nvPr/>
            </p:nvSpPr>
            <p:spPr>
              <a:xfrm>
                <a:off x="6645240" y="4133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Text Box 18"/>
              <p:cNvSpPr/>
              <p:nvPr/>
            </p:nvSpPr>
            <p:spPr>
              <a:xfrm>
                <a:off x="6239880" y="4573440"/>
                <a:ext cx="125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P           V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Text Box 19"/>
              <p:cNvSpPr/>
              <p:nvPr/>
            </p:nvSpPr>
            <p:spPr>
              <a:xfrm>
                <a:off x="6048360" y="4973760"/>
                <a:ext cx="230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ohn       V     NP          P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Text Box 20"/>
              <p:cNvSpPr/>
              <p:nvPr/>
            </p:nvSpPr>
            <p:spPr>
              <a:xfrm>
                <a:off x="6661800" y="5456160"/>
                <a:ext cx="21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ut    the dog  in the p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Line 21"/>
              <p:cNvSpPr/>
              <p:nvPr/>
            </p:nvSpPr>
            <p:spPr>
              <a:xfrm flipH="1">
                <a:off x="6473880" y="4376880"/>
                <a:ext cx="3175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Line 22"/>
              <p:cNvSpPr/>
              <p:nvPr/>
            </p:nvSpPr>
            <p:spPr>
              <a:xfrm>
                <a:off x="6791400" y="4376880"/>
                <a:ext cx="4633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Line 23"/>
              <p:cNvSpPr/>
              <p:nvPr/>
            </p:nvSpPr>
            <p:spPr>
              <a:xfrm flipH="1">
                <a:off x="6327360" y="4827600"/>
                <a:ext cx="7308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Line 24"/>
              <p:cNvSpPr/>
              <p:nvPr/>
            </p:nvSpPr>
            <p:spPr>
              <a:xfrm flipH="1">
                <a:off x="6936840" y="4791240"/>
                <a:ext cx="30492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Line 25"/>
              <p:cNvSpPr/>
              <p:nvPr/>
            </p:nvSpPr>
            <p:spPr>
              <a:xfrm>
                <a:off x="7229520" y="4780080"/>
                <a:ext cx="8568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Line 26"/>
              <p:cNvSpPr/>
              <p:nvPr/>
            </p:nvSpPr>
            <p:spPr>
              <a:xfrm>
                <a:off x="7242120" y="4803840"/>
                <a:ext cx="865080" cy="24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Line 27"/>
              <p:cNvSpPr/>
              <p:nvPr/>
            </p:nvSpPr>
            <p:spPr>
              <a:xfrm flipH="1">
                <a:off x="6900840" y="5218200"/>
                <a:ext cx="2376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Line 28"/>
              <p:cNvSpPr/>
              <p:nvPr/>
            </p:nvSpPr>
            <p:spPr>
              <a:xfrm flipH="1">
                <a:off x="7192440" y="5230800"/>
                <a:ext cx="17172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Line 29"/>
              <p:cNvSpPr/>
              <p:nvPr/>
            </p:nvSpPr>
            <p:spPr>
              <a:xfrm>
                <a:off x="7192800" y="5559480"/>
                <a:ext cx="54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Line 30"/>
              <p:cNvSpPr/>
              <p:nvPr/>
            </p:nvSpPr>
            <p:spPr>
              <a:xfrm>
                <a:off x="7364520" y="5230800"/>
                <a:ext cx="40140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Line 31"/>
              <p:cNvSpPr/>
              <p:nvPr/>
            </p:nvSpPr>
            <p:spPr>
              <a:xfrm flipH="1">
                <a:off x="7937280" y="5218200"/>
                <a:ext cx="20628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Line 32"/>
              <p:cNvSpPr/>
              <p:nvPr/>
            </p:nvSpPr>
            <p:spPr>
              <a:xfrm flipV="1">
                <a:off x="7912080" y="5546520"/>
                <a:ext cx="79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Line 33"/>
              <p:cNvSpPr/>
              <p:nvPr/>
            </p:nvSpPr>
            <p:spPr>
              <a:xfrm>
                <a:off x="8143920" y="5194440"/>
                <a:ext cx="5605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5" name="AutoShape 34"/>
            <p:cNvSpPr/>
            <p:nvPr/>
          </p:nvSpPr>
          <p:spPr>
            <a:xfrm>
              <a:off x="5369040" y="515160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" name="Text Box 36"/>
          <p:cNvSpPr/>
          <p:nvPr/>
        </p:nvSpPr>
        <p:spPr>
          <a:xfrm>
            <a:off x="3433320" y="39765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put the dog in the 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37"/>
          <p:cNvSpPr/>
          <p:nvPr/>
        </p:nvSpPr>
        <p:spPr>
          <a:xfrm>
            <a:off x="3500280" y="3889440"/>
            <a:ext cx="3021120" cy="56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AutoShape 38"/>
          <p:cNvSpPr/>
          <p:nvPr/>
        </p:nvSpPr>
        <p:spPr>
          <a:xfrm>
            <a:off x="4645080" y="4363920"/>
            <a:ext cx="146160" cy="390600"/>
          </a:xfrm>
          <a:prstGeom prst="downArrow">
            <a:avLst>
              <a:gd name="adj1" fmla="val 50000"/>
              <a:gd name="adj2" fmla="val 6681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DA2D-86B0-4306-99FD-0013EB3B3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Importance of Lex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8809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preference for attaching PPs to NPs rather than VPs can be learned by a vanill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desired preference can depend on specific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" name="Group 4"/>
          <p:cNvGrpSpPr/>
          <p:nvPr/>
        </p:nvGrpSpPr>
        <p:grpSpPr>
          <a:xfrm>
            <a:off x="1646280" y="4122720"/>
            <a:ext cx="1706400" cy="2628000"/>
            <a:chOff x="1646280" y="4122720"/>
            <a:chExt cx="1706400" cy="2628000"/>
          </a:xfrm>
        </p:grpSpPr>
        <p:grpSp>
          <p:nvGrpSpPr>
            <p:cNvPr id="1623" name="Group 5"/>
            <p:cNvGrpSpPr/>
            <p:nvPr/>
          </p:nvGrpSpPr>
          <p:grpSpPr>
            <a:xfrm>
              <a:off x="1646280" y="4122720"/>
              <a:ext cx="1706400" cy="2236320"/>
              <a:chOff x="1646280" y="4122720"/>
              <a:chExt cx="1706400" cy="2236320"/>
            </a:xfrm>
          </p:grpSpPr>
          <p:grpSp>
            <p:nvGrpSpPr>
              <p:cNvPr id="1624" name="Group 6"/>
              <p:cNvGrpSpPr/>
              <p:nvPr/>
            </p:nvGrpSpPr>
            <p:grpSpPr>
              <a:xfrm>
                <a:off x="1656360" y="4122720"/>
                <a:ext cx="1633320" cy="2236320"/>
                <a:chOff x="1656360" y="4122720"/>
                <a:chExt cx="1633320" cy="2236320"/>
              </a:xfrm>
            </p:grpSpPr>
            <p:sp>
              <p:nvSpPr>
                <p:cNvPr id="1625" name="Text Box 7"/>
                <p:cNvSpPr/>
                <p:nvPr/>
              </p:nvSpPr>
              <p:spPr>
                <a:xfrm>
                  <a:off x="1656360" y="412272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Text Box 8"/>
                <p:cNvSpPr/>
                <p:nvPr/>
              </p:nvSpPr>
              <p:spPr>
                <a:xfrm>
                  <a:off x="2885040" y="413388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7" name="Rectangle 9"/>
              <p:cNvSpPr/>
              <p:nvPr/>
            </p:nvSpPr>
            <p:spPr>
              <a:xfrm>
                <a:off x="1646280" y="414504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8" name="Text Box 10"/>
            <p:cNvSpPr/>
            <p:nvPr/>
          </p:nvSpPr>
          <p:spPr>
            <a:xfrm>
              <a:off x="2039760" y="6351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11"/>
          <p:cNvGrpSpPr/>
          <p:nvPr/>
        </p:nvGrpSpPr>
        <p:grpSpPr>
          <a:xfrm>
            <a:off x="3340080" y="4767120"/>
            <a:ext cx="2036880" cy="938520"/>
            <a:chOff x="3340080" y="4767120"/>
            <a:chExt cx="2036880" cy="938520"/>
          </a:xfrm>
        </p:grpSpPr>
        <p:sp>
          <p:nvSpPr>
            <p:cNvPr id="1630" name="Rectangle 12"/>
            <p:cNvSpPr/>
            <p:nvPr/>
          </p:nvSpPr>
          <p:spPr>
            <a:xfrm>
              <a:off x="4022640" y="4767120"/>
              <a:ext cx="1354320" cy="938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Text Box 13"/>
            <p:cNvSpPr/>
            <p:nvPr/>
          </p:nvSpPr>
          <p:spPr>
            <a:xfrm>
              <a:off x="4292280" y="489096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AutoShape 14"/>
            <p:cNvSpPr/>
            <p:nvPr/>
          </p:nvSpPr>
          <p:spPr>
            <a:xfrm>
              <a:off x="3340080" y="5181480"/>
              <a:ext cx="658800" cy="219240"/>
            </a:xfrm>
            <a:prstGeom prst="rightArrow">
              <a:avLst>
                <a:gd name="adj1" fmla="val 50000"/>
                <a:gd name="adj2" fmla="val 7512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3" name="Text Box 15"/>
          <p:cNvSpPr/>
          <p:nvPr/>
        </p:nvSpPr>
        <p:spPr>
          <a:xfrm>
            <a:off x="6645240" y="4133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16"/>
          <p:cNvSpPr/>
          <p:nvPr/>
        </p:nvSpPr>
        <p:spPr>
          <a:xfrm>
            <a:off x="6239880" y="4573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P          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17"/>
          <p:cNvSpPr/>
          <p:nvPr/>
        </p:nvSpPr>
        <p:spPr>
          <a:xfrm>
            <a:off x="6046200" y="49737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      V     N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18"/>
          <p:cNvSpPr/>
          <p:nvPr/>
        </p:nvSpPr>
        <p:spPr>
          <a:xfrm>
            <a:off x="6661800" y="54561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    the dog  in the 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Line 19"/>
          <p:cNvSpPr/>
          <p:nvPr/>
        </p:nvSpPr>
        <p:spPr>
          <a:xfrm flipH="1">
            <a:off x="6473880" y="4376880"/>
            <a:ext cx="3175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Line 20"/>
          <p:cNvSpPr/>
          <p:nvPr/>
        </p:nvSpPr>
        <p:spPr>
          <a:xfrm>
            <a:off x="6791400" y="4376880"/>
            <a:ext cx="4633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Line 21"/>
          <p:cNvSpPr/>
          <p:nvPr/>
        </p:nvSpPr>
        <p:spPr>
          <a:xfrm flipH="1">
            <a:off x="6327360" y="4827600"/>
            <a:ext cx="730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22"/>
          <p:cNvSpPr/>
          <p:nvPr/>
        </p:nvSpPr>
        <p:spPr>
          <a:xfrm flipH="1">
            <a:off x="6936840" y="4791240"/>
            <a:ext cx="30492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Line 23"/>
          <p:cNvSpPr/>
          <p:nvPr/>
        </p:nvSpPr>
        <p:spPr>
          <a:xfrm>
            <a:off x="7229520" y="4780080"/>
            <a:ext cx="85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Line 24"/>
          <p:cNvSpPr/>
          <p:nvPr/>
        </p:nvSpPr>
        <p:spPr>
          <a:xfrm flipH="1">
            <a:off x="6900840" y="5218200"/>
            <a:ext cx="237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Line 25"/>
          <p:cNvSpPr/>
          <p:nvPr/>
        </p:nvSpPr>
        <p:spPr>
          <a:xfrm flipH="1">
            <a:off x="7192440" y="5230800"/>
            <a:ext cx="17172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Line 26"/>
          <p:cNvSpPr/>
          <p:nvPr/>
        </p:nvSpPr>
        <p:spPr>
          <a:xfrm>
            <a:off x="7192800" y="5559480"/>
            <a:ext cx="14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Line 27"/>
          <p:cNvSpPr/>
          <p:nvPr/>
        </p:nvSpPr>
        <p:spPr>
          <a:xfrm>
            <a:off x="7338960" y="5207040"/>
            <a:ext cx="13654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AutoShape 28"/>
          <p:cNvSpPr/>
          <p:nvPr/>
        </p:nvSpPr>
        <p:spPr>
          <a:xfrm>
            <a:off x="5369040" y="5151600"/>
            <a:ext cx="658800" cy="218880"/>
          </a:xfrm>
          <a:prstGeom prst="rightArrow">
            <a:avLst>
              <a:gd name="adj1" fmla="val 50000"/>
              <a:gd name="adj2" fmla="val 7524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29"/>
          <p:cNvSpPr/>
          <p:nvPr/>
        </p:nvSpPr>
        <p:spPr>
          <a:xfrm>
            <a:off x="5202720" y="431316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1"/>
          <p:cNvSpPr/>
          <p:nvPr/>
        </p:nvSpPr>
        <p:spPr>
          <a:xfrm>
            <a:off x="3433320" y="39765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put the dog in the 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32"/>
          <p:cNvSpPr/>
          <p:nvPr/>
        </p:nvSpPr>
        <p:spPr>
          <a:xfrm>
            <a:off x="3500280" y="3878280"/>
            <a:ext cx="3032280" cy="565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AutoShape 33"/>
          <p:cNvSpPr/>
          <p:nvPr/>
        </p:nvSpPr>
        <p:spPr>
          <a:xfrm>
            <a:off x="4645080" y="4363920"/>
            <a:ext cx="146160" cy="390600"/>
          </a:xfrm>
          <a:prstGeom prst="downArrow">
            <a:avLst>
              <a:gd name="adj1" fmla="val 50000"/>
              <a:gd name="adj2" fmla="val 6681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33A4-CCB4-475B-BE5E-1C1625AB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eeban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glish Penn Treeb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andard corpus for testing syntactic parsing consists of 1.2 M words of text from the Wall Street Journal (WS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to train on about 40,000 parsed sentences and test on an additional standard disjoint test set of 2,416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inese Penn Treeb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K words from the Xinhua news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orpora existing in many languages, see the Wikipedia article “Treeban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rst WSJ Sent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A33A-40FA-4175-95EB-E1BC455F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Box 6"/>
          <p:cNvSpPr/>
          <p:nvPr/>
        </p:nvSpPr>
        <p:spPr>
          <a:xfrm>
            <a:off x="1821240" y="1600200"/>
            <a:ext cx="5534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(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-SB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 (NNP Pierre) (NNP Vinken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, ,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DJ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 (CD 61) (NNS years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JJ old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, ,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P (MD wil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P (VB jo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 (DT the) (NN board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P-CLR (IN 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 (DT a) (JJ nonexecutive) (NN director)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P-TMP (NNP Nov.) (CD 29) 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 .)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2520-A5B6-42EE-B3FA-7EF98923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96640" y="1371600"/>
            <a:ext cx="8599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VAL metrics measure the fraction of the constituents that match between the computed and human parse trees.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ystem’s parse tre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human parse tree (the “gold standard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(# correct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/ (#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(# correct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/ (#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abeled Precis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abeled reca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getting the non-terminal label on the constituent node correct to count as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armonic mean of precision and re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1" name="Text Box 94"/>
          <p:cNvSpPr/>
          <p:nvPr/>
        </p:nvSpPr>
        <p:spPr>
          <a:xfrm>
            <a:off x="535320" y="182880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ct Tre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4"/>
          <p:cNvSpPr/>
          <p:nvPr/>
        </p:nvSpPr>
        <p:spPr>
          <a:xfrm>
            <a:off x="1114920" y="2260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5"/>
          <p:cNvSpPr/>
          <p:nvPr/>
        </p:nvSpPr>
        <p:spPr>
          <a:xfrm>
            <a:off x="1016640" y="26748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6"/>
          <p:cNvSpPr/>
          <p:nvPr/>
        </p:nvSpPr>
        <p:spPr>
          <a:xfrm>
            <a:off x="532080" y="30798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7"/>
          <p:cNvSpPr/>
          <p:nvPr/>
        </p:nvSpPr>
        <p:spPr>
          <a:xfrm>
            <a:off x="1124280" y="345744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8"/>
          <p:cNvSpPr/>
          <p:nvPr/>
        </p:nvSpPr>
        <p:spPr>
          <a:xfrm>
            <a:off x="1761120" y="390996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    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9"/>
          <p:cNvSpPr/>
          <p:nvPr/>
        </p:nvSpPr>
        <p:spPr>
          <a:xfrm>
            <a:off x="564840" y="34704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10"/>
          <p:cNvSpPr/>
          <p:nvPr/>
        </p:nvSpPr>
        <p:spPr>
          <a:xfrm>
            <a:off x="2464920" y="43038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11"/>
          <p:cNvSpPr/>
          <p:nvPr/>
        </p:nvSpPr>
        <p:spPr>
          <a:xfrm>
            <a:off x="2304360" y="466092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12"/>
          <p:cNvSpPr/>
          <p:nvPr/>
        </p:nvSpPr>
        <p:spPr>
          <a:xfrm>
            <a:off x="3317040" y="50054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13"/>
          <p:cNvSpPr/>
          <p:nvPr/>
        </p:nvSpPr>
        <p:spPr>
          <a:xfrm>
            <a:off x="3187080" y="464832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14"/>
          <p:cNvSpPr/>
          <p:nvPr/>
        </p:nvSpPr>
        <p:spPr>
          <a:xfrm>
            <a:off x="1284480" y="3916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15"/>
          <p:cNvSpPr/>
          <p:nvPr/>
        </p:nvSpPr>
        <p:spPr>
          <a:xfrm>
            <a:off x="1593000" y="4660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Line 16"/>
          <p:cNvSpPr/>
          <p:nvPr/>
        </p:nvSpPr>
        <p:spPr>
          <a:xfrm>
            <a:off x="122868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Line 17"/>
          <p:cNvSpPr/>
          <p:nvPr/>
        </p:nvSpPr>
        <p:spPr>
          <a:xfrm flipH="1">
            <a:off x="865080" y="290196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Line 18"/>
          <p:cNvSpPr/>
          <p:nvPr/>
        </p:nvSpPr>
        <p:spPr>
          <a:xfrm>
            <a:off x="1219320" y="2911320"/>
            <a:ext cx="6523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Line 19"/>
          <p:cNvSpPr/>
          <p:nvPr/>
        </p:nvSpPr>
        <p:spPr>
          <a:xfrm>
            <a:off x="816120" y="331956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Line 20"/>
          <p:cNvSpPr/>
          <p:nvPr/>
        </p:nvSpPr>
        <p:spPr>
          <a:xfrm flipH="1">
            <a:off x="1649520" y="330192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Line 21"/>
          <p:cNvSpPr/>
          <p:nvPr/>
        </p:nvSpPr>
        <p:spPr>
          <a:xfrm>
            <a:off x="1852560" y="33116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Line 22"/>
          <p:cNvSpPr/>
          <p:nvPr/>
        </p:nvSpPr>
        <p:spPr>
          <a:xfrm flipH="1">
            <a:off x="1487160" y="368316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Line 23"/>
          <p:cNvSpPr/>
          <p:nvPr/>
        </p:nvSpPr>
        <p:spPr>
          <a:xfrm flipH="1">
            <a:off x="2149200" y="3700440"/>
            <a:ext cx="14436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Line 24"/>
          <p:cNvSpPr/>
          <p:nvPr/>
        </p:nvSpPr>
        <p:spPr>
          <a:xfrm>
            <a:off x="2293920" y="3710160"/>
            <a:ext cx="63180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25"/>
          <p:cNvSpPr/>
          <p:nvPr/>
        </p:nvSpPr>
        <p:spPr>
          <a:xfrm>
            <a:off x="1651320" y="430848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Line 26"/>
          <p:cNvSpPr/>
          <p:nvPr/>
        </p:nvSpPr>
        <p:spPr>
          <a:xfrm flipH="1">
            <a:off x="1986120" y="4157640"/>
            <a:ext cx="134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Line 27"/>
          <p:cNvSpPr/>
          <p:nvPr/>
        </p:nvSpPr>
        <p:spPr>
          <a:xfrm>
            <a:off x="1947960" y="45482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Line 28"/>
          <p:cNvSpPr/>
          <p:nvPr/>
        </p:nvSpPr>
        <p:spPr>
          <a:xfrm flipH="1">
            <a:off x="2754000" y="412920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29"/>
          <p:cNvSpPr/>
          <p:nvPr/>
        </p:nvSpPr>
        <p:spPr>
          <a:xfrm>
            <a:off x="2936880" y="412920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Line 30"/>
          <p:cNvSpPr/>
          <p:nvPr/>
        </p:nvSpPr>
        <p:spPr>
          <a:xfrm>
            <a:off x="2705040" y="45385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Line 31"/>
          <p:cNvSpPr/>
          <p:nvPr/>
        </p:nvSpPr>
        <p:spPr>
          <a:xfrm>
            <a:off x="3598920" y="4529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Line 32"/>
          <p:cNvSpPr/>
          <p:nvPr/>
        </p:nvSpPr>
        <p:spPr>
          <a:xfrm>
            <a:off x="3646440" y="49197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94"/>
          <p:cNvSpPr/>
          <p:nvPr/>
        </p:nvSpPr>
        <p:spPr>
          <a:xfrm>
            <a:off x="4575240" y="18288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d Tre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5"/>
          <p:cNvSpPr/>
          <p:nvPr/>
        </p:nvSpPr>
        <p:spPr>
          <a:xfrm>
            <a:off x="4869360" y="31719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6"/>
          <p:cNvSpPr/>
          <p:nvPr/>
        </p:nvSpPr>
        <p:spPr>
          <a:xfrm>
            <a:off x="4384800" y="35766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7"/>
          <p:cNvSpPr/>
          <p:nvPr/>
        </p:nvSpPr>
        <p:spPr>
          <a:xfrm>
            <a:off x="4977000" y="395460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9"/>
          <p:cNvSpPr/>
          <p:nvPr/>
        </p:nvSpPr>
        <p:spPr>
          <a:xfrm>
            <a:off x="4417920" y="39672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0"/>
          <p:cNvSpPr/>
          <p:nvPr/>
        </p:nvSpPr>
        <p:spPr>
          <a:xfrm>
            <a:off x="6692400" y="43578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    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1"/>
          <p:cNvSpPr/>
          <p:nvPr/>
        </p:nvSpPr>
        <p:spPr>
          <a:xfrm>
            <a:off x="6531840" y="471492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2"/>
          <p:cNvSpPr/>
          <p:nvPr/>
        </p:nvSpPr>
        <p:spPr>
          <a:xfrm>
            <a:off x="7544520" y="50594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3"/>
          <p:cNvSpPr/>
          <p:nvPr/>
        </p:nvSpPr>
        <p:spPr>
          <a:xfrm>
            <a:off x="7414560" y="470232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4"/>
          <p:cNvSpPr/>
          <p:nvPr/>
        </p:nvSpPr>
        <p:spPr>
          <a:xfrm>
            <a:off x="5137200" y="44132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5"/>
          <p:cNvSpPr/>
          <p:nvPr/>
        </p:nvSpPr>
        <p:spPr>
          <a:xfrm>
            <a:off x="5707800" y="4710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16"/>
          <p:cNvSpPr/>
          <p:nvPr/>
        </p:nvSpPr>
        <p:spPr>
          <a:xfrm flipH="1">
            <a:off x="5081400" y="3138480"/>
            <a:ext cx="6188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Line 17"/>
          <p:cNvSpPr/>
          <p:nvPr/>
        </p:nvSpPr>
        <p:spPr>
          <a:xfrm flipH="1">
            <a:off x="4717800" y="3398760"/>
            <a:ext cx="35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Line 18"/>
          <p:cNvSpPr/>
          <p:nvPr/>
        </p:nvSpPr>
        <p:spPr>
          <a:xfrm>
            <a:off x="5072040" y="340848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Line 19"/>
          <p:cNvSpPr/>
          <p:nvPr/>
        </p:nvSpPr>
        <p:spPr>
          <a:xfrm>
            <a:off x="4703760" y="38386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Line 20"/>
          <p:cNvSpPr/>
          <p:nvPr/>
        </p:nvSpPr>
        <p:spPr>
          <a:xfrm flipH="1">
            <a:off x="5501880" y="3798720"/>
            <a:ext cx="2034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Line 21"/>
          <p:cNvSpPr/>
          <p:nvPr/>
        </p:nvSpPr>
        <p:spPr>
          <a:xfrm>
            <a:off x="5705640" y="38084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Line 22"/>
          <p:cNvSpPr/>
          <p:nvPr/>
        </p:nvSpPr>
        <p:spPr>
          <a:xfrm flipH="1">
            <a:off x="5340240" y="4179960"/>
            <a:ext cx="14472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5"/>
          <p:cNvSpPr/>
          <p:nvPr/>
        </p:nvSpPr>
        <p:spPr>
          <a:xfrm>
            <a:off x="5766120" y="4357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Line 26"/>
          <p:cNvSpPr/>
          <p:nvPr/>
        </p:nvSpPr>
        <p:spPr>
          <a:xfrm flipH="1">
            <a:off x="6102360" y="4206960"/>
            <a:ext cx="1332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Line 27"/>
          <p:cNvSpPr/>
          <p:nvPr/>
        </p:nvSpPr>
        <p:spPr>
          <a:xfrm>
            <a:off x="6064200" y="459576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Line 28"/>
          <p:cNvSpPr/>
          <p:nvPr/>
        </p:nvSpPr>
        <p:spPr>
          <a:xfrm flipH="1">
            <a:off x="6980040" y="418320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Line 29"/>
          <p:cNvSpPr/>
          <p:nvPr/>
        </p:nvSpPr>
        <p:spPr>
          <a:xfrm>
            <a:off x="7162920" y="418320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Line 30"/>
          <p:cNvSpPr/>
          <p:nvPr/>
        </p:nvSpPr>
        <p:spPr>
          <a:xfrm>
            <a:off x="6932520" y="45925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Line 31"/>
          <p:cNvSpPr/>
          <p:nvPr/>
        </p:nvSpPr>
        <p:spPr>
          <a:xfrm>
            <a:off x="7824960" y="4583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Line 32"/>
          <p:cNvSpPr/>
          <p:nvPr/>
        </p:nvSpPr>
        <p:spPr>
          <a:xfrm>
            <a:off x="7872480" y="49737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5"/>
          <p:cNvSpPr/>
          <p:nvPr/>
        </p:nvSpPr>
        <p:spPr>
          <a:xfrm>
            <a:off x="5553720" y="23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5"/>
          <p:cNvSpPr/>
          <p:nvPr/>
        </p:nvSpPr>
        <p:spPr>
          <a:xfrm>
            <a:off x="5461560" y="2833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3"/>
          <p:cNvSpPr/>
          <p:nvPr/>
        </p:nvSpPr>
        <p:spPr>
          <a:xfrm flipH="1">
            <a:off x="5698800" y="2530440"/>
            <a:ext cx="3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5"/>
          <p:cNvSpPr/>
          <p:nvPr/>
        </p:nvSpPr>
        <p:spPr>
          <a:xfrm>
            <a:off x="7007040" y="38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traight Connector 56"/>
          <p:cNvSpPr/>
          <p:nvPr/>
        </p:nvSpPr>
        <p:spPr>
          <a:xfrm>
            <a:off x="5715000" y="3200400"/>
            <a:ext cx="147168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Picture 91" descr="MCj04347130000[1]"/>
          <p:cNvPicPr/>
          <p:nvPr/>
        </p:nvPicPr>
        <p:blipFill>
          <a:blip r:embed="rId1"/>
          <a:stretch/>
        </p:blipFill>
        <p:spPr>
          <a:xfrm>
            <a:off x="4572000" y="46483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92" descr="MCj04347130000[1]"/>
          <p:cNvPicPr/>
          <p:nvPr/>
        </p:nvPicPr>
        <p:blipFill>
          <a:blip r:embed="rId2"/>
          <a:stretch/>
        </p:blipFill>
        <p:spPr>
          <a:xfrm>
            <a:off x="8826480" y="47242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93" descr="MCj04347130000[1]"/>
          <p:cNvPicPr/>
          <p:nvPr/>
        </p:nvPicPr>
        <p:blipFill>
          <a:blip r:embed="rId3"/>
          <a:stretch/>
        </p:blipFill>
        <p:spPr>
          <a:xfrm>
            <a:off x="3809880" y="426708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94" descr="MCj04347130000[1]"/>
          <p:cNvPicPr/>
          <p:nvPr/>
        </p:nvPicPr>
        <p:blipFill>
          <a:blip r:embed="rId4"/>
          <a:stretch/>
        </p:blipFill>
        <p:spPr>
          <a:xfrm>
            <a:off x="8077320" y="43434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95" descr="MCj04347130000[1]"/>
          <p:cNvPicPr/>
          <p:nvPr/>
        </p:nvPicPr>
        <p:blipFill>
          <a:blip r:embed="rId5"/>
          <a:stretch/>
        </p:blipFill>
        <p:spPr>
          <a:xfrm>
            <a:off x="3048120" y="43434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27" name="Picture 96" descr="MCj04347130000[1]"/>
          <p:cNvPicPr/>
          <p:nvPr/>
        </p:nvPicPr>
        <p:blipFill>
          <a:blip r:embed="rId6"/>
          <a:stretch/>
        </p:blipFill>
        <p:spPr>
          <a:xfrm>
            <a:off x="72388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97" descr="MCj04347130000[1]"/>
          <p:cNvPicPr/>
          <p:nvPr/>
        </p:nvPicPr>
        <p:blipFill>
          <a:blip r:embed="rId7"/>
          <a:stretch/>
        </p:blipFill>
        <p:spPr>
          <a:xfrm>
            <a:off x="7391520" y="38098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98" descr="MCj04347130000[1]"/>
          <p:cNvPicPr/>
          <p:nvPr/>
        </p:nvPicPr>
        <p:blipFill>
          <a:blip r:embed="rId8"/>
          <a:stretch/>
        </p:blipFill>
        <p:spPr>
          <a:xfrm>
            <a:off x="3276720" y="38862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99" descr="MCj04347130000[1]"/>
          <p:cNvPicPr/>
          <p:nvPr/>
        </p:nvPicPr>
        <p:blipFill>
          <a:blip r:embed="rId9"/>
          <a:stretch/>
        </p:blipFill>
        <p:spPr>
          <a:xfrm>
            <a:off x="22096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100" descr="MCj04347130000[1]"/>
          <p:cNvPicPr/>
          <p:nvPr/>
        </p:nvPicPr>
        <p:blipFill>
          <a:blip r:embed="rId10"/>
          <a:stretch/>
        </p:blipFill>
        <p:spPr>
          <a:xfrm>
            <a:off x="63244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32" name="Picture 101" descr="MCj04347130000[1]"/>
          <p:cNvPicPr/>
          <p:nvPr/>
        </p:nvPicPr>
        <p:blipFill>
          <a:blip r:embed="rId11"/>
          <a:stretch/>
        </p:blipFill>
        <p:spPr>
          <a:xfrm>
            <a:off x="6858000" y="3962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33" name="Picture 102" descr="MCj04347130000[1]"/>
          <p:cNvPicPr/>
          <p:nvPr/>
        </p:nvPicPr>
        <p:blipFill>
          <a:blip r:embed="rId12"/>
          <a:stretch/>
        </p:blipFill>
        <p:spPr>
          <a:xfrm>
            <a:off x="2590920" y="38862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34" name="Picture 103" descr="MCj04347130000[1]"/>
          <p:cNvPicPr/>
          <p:nvPr/>
        </p:nvPicPr>
        <p:blipFill>
          <a:blip r:embed="rId13"/>
          <a:stretch/>
        </p:blipFill>
        <p:spPr>
          <a:xfrm>
            <a:off x="1905120" y="35053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104" descr="MCj04347130000[1]"/>
          <p:cNvPicPr/>
          <p:nvPr/>
        </p:nvPicPr>
        <p:blipFill>
          <a:blip r:embed="rId14"/>
          <a:stretch/>
        </p:blipFill>
        <p:spPr>
          <a:xfrm>
            <a:off x="5715000" y="3962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05" descr="MCj04347130000[1]"/>
          <p:cNvPicPr/>
          <p:nvPr/>
        </p:nvPicPr>
        <p:blipFill>
          <a:blip r:embed="rId15"/>
          <a:stretch/>
        </p:blipFill>
        <p:spPr>
          <a:xfrm>
            <a:off x="1066680" y="3048120"/>
            <a:ext cx="268560" cy="28080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06" descr="MCj04347130000[1]"/>
          <p:cNvPicPr/>
          <p:nvPr/>
        </p:nvPicPr>
        <p:blipFill>
          <a:blip r:embed="rId16"/>
          <a:stretch/>
        </p:blipFill>
        <p:spPr>
          <a:xfrm>
            <a:off x="4952880" y="358128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07" descr="MCj04347130000[1]"/>
          <p:cNvPicPr/>
          <p:nvPr/>
        </p:nvPicPr>
        <p:blipFill>
          <a:blip r:embed="rId17"/>
          <a:stretch/>
        </p:blipFill>
        <p:spPr>
          <a:xfrm>
            <a:off x="1371600" y="26668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108" descr="MCj04347130000[1]"/>
          <p:cNvPicPr/>
          <p:nvPr/>
        </p:nvPicPr>
        <p:blipFill>
          <a:blip r:embed="rId18"/>
          <a:stretch/>
        </p:blipFill>
        <p:spPr>
          <a:xfrm>
            <a:off x="5791320" y="2819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109" descr="MCj04347130000[1]"/>
          <p:cNvPicPr/>
          <p:nvPr/>
        </p:nvPicPr>
        <p:blipFill>
          <a:blip r:embed="rId19"/>
          <a:stretch/>
        </p:blipFill>
        <p:spPr>
          <a:xfrm>
            <a:off x="5791320" y="22860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741" name="Picture 110" descr="MCj04347130000[1]"/>
          <p:cNvPicPr/>
          <p:nvPr/>
        </p:nvPicPr>
        <p:blipFill>
          <a:blip r:embed="rId20"/>
          <a:stretch/>
        </p:blipFill>
        <p:spPr>
          <a:xfrm>
            <a:off x="1295280" y="2209680"/>
            <a:ext cx="268560" cy="281160"/>
          </a:xfrm>
          <a:prstGeom prst="rect">
            <a:avLst/>
          </a:prstGeom>
          <a:ln w="0">
            <a:noFill/>
          </a:ln>
        </p:spPr>
      </p:pic>
      <p:sp>
        <p:nvSpPr>
          <p:cNvPr id="1742" name="Text Box 111"/>
          <p:cNvSpPr/>
          <p:nvPr/>
        </p:nvSpPr>
        <p:spPr>
          <a:xfrm>
            <a:off x="969840" y="544680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# Constituents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12"/>
          <p:cNvSpPr/>
          <p:nvPr/>
        </p:nvSpPr>
        <p:spPr>
          <a:xfrm>
            <a:off x="5557680" y="54100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# Constituents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13"/>
          <p:cNvSpPr/>
          <p:nvPr/>
        </p:nvSpPr>
        <p:spPr>
          <a:xfrm>
            <a:off x="3035880" y="571500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# Correct Constituents: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14"/>
          <p:cNvSpPr/>
          <p:nvPr/>
        </p:nvSpPr>
        <p:spPr>
          <a:xfrm>
            <a:off x="762120" y="617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15"/>
          <p:cNvSpPr/>
          <p:nvPr/>
        </p:nvSpPr>
        <p:spPr>
          <a:xfrm>
            <a:off x="659160" y="6172200"/>
            <a:ext cx="25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Recall = 10/12= 83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16"/>
          <p:cNvSpPr/>
          <p:nvPr/>
        </p:nvSpPr>
        <p:spPr>
          <a:xfrm>
            <a:off x="3176280" y="617220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recision = 10/12=83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117"/>
          <p:cNvSpPr/>
          <p:nvPr/>
        </p:nvSpPr>
        <p:spPr>
          <a:xfrm>
            <a:off x="6471000" y="6172200"/>
            <a:ext cx="132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= 83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E3B2-228A-4409-92B7-0D6C59562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eebank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296640" y="1371600"/>
            <a:ext cx="8599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current state-of-the-art systems on the English Penn WSJ treebank are slightly greater than 90% labeled precision and re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FBE4-D317-400F-A908-9D979ABF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ity is Ubiquito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6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ch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gnize speech” vs. “wreck a nice beach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youth in Asia” vs. “euthanasia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c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 ate spaghetti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chopsticks” vs. “I ate spaghetti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meatballs.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dog is i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” vs. “The ink is i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 put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an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n the window” vs. “Ford put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an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n Mexico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ma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From “The Pink Panther Strikes Again”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louseau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Does your dog bite? </a:t>
            </a:r>
            <a:br>
              <a:rPr sz="2000"/>
            </a:b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otel Cler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No. </a:t>
            </a:r>
            <a:br>
              <a:rPr sz="2000"/>
            </a:b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Clouseau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[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owing down to pet the do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] Nice doggie.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og barks and bites Clouseau in the han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] </a:t>
            </a:r>
            <a:br>
              <a:rPr sz="2000"/>
            </a:b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Clouseau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I thought you said your dog did not bite! </a:t>
            </a:r>
            <a:br>
              <a:rPr sz="2000"/>
            </a:b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Hotel Cler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That is not my dog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6FD-B812-4828-BD2B-F995B4AF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Sense Disambiguation (WSD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in natural language usually have a fair number of different possible mea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len has a stro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es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in computational linguistic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len pays a large amount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es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n her credit card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y tasks (question answering, translation), the proper sense of each ambiguous word in a sentence must b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90F3-DB40-4D32-B749-E309939BD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mbiguity Resolution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 Required for Transl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and semantic ambiguities must be properly resolved for correct 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plays the guitar.”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“John toca la guitarra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John plays soccer.” → “John juega el fútbol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pocryphal story is that an early MT system gave the following results when translating from English to Russian and then back to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spirit is willing but the flesh is weak.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“The liquor is good but the meat is spoiled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ut of sight, out of mind.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“Invisible idiot.”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EB1C-82A1-45B2-8DA0-A56CB423E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ord Sense Disambiguation (WSD)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s Text Categoriz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nse of an ambiguous word is treated as a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y”  (verb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game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instrument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role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n” (noun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writing-instrument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enclosure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current sentence (or preceding and current sentence) as a document to be class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y”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game: “John played soccer in the stadium on Friday.”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instrument: “John played guitar in the band on Friday.”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lay-role: “John played Hamlet in the theater on Friday.”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n”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writing-instrument: “John wrote the letter with a pen in New York.”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enclosure: “John put the dog in the pen in New York.”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6244-73C7-4BE5-9535-5FED4D01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part-of-speech (POS), e.g. noun, verb, adjective, for the target word is deter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as a classification problem with the appropriate potential senses for the target word given its POS as the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context using a set of features to be used for disambig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a classifier on labeled data encoded using these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rained classifier to disambiguate future instances of the target word given their contextual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46C5-1ABB-4A31-89CD-6F9D40DF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SD “line” Corp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49 examples from newspaper articles containing the word “l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tance of “line” labeled with one of 6 senses from Word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ample includes a sentence containing “line” and the previous sentence for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1A0C-87DD-463B-B8DD-AB36E1B60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s of “line”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79520" y="1371240"/>
            <a:ext cx="822312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While he wouldn’t estimate the sale price, analysts have estimated that it would exceed $1 billion.  Kraft also told analysts it plans to develop and test a line of refrigerated entrees and desserts, under the Chillery brand nam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C-LD-R L-V-S V-NNA reads a sign in Caldor’s book department. The 1,000 or so people fighting for a place in line have no trouble filling in the blank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Newspaper editor Francis P. Church became famous for a 1897 editorial, addressed to a child, that included the line “Yes, Virginia, there is a Santa Claus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It is known as an aggressive, tenacious litigator. Richard D. Parsons, a partner at Patterson, Belknap, Webb and Tyler, likes the experience of opposing Sullivan &amp; Cromwell to “having a thousand-pound tuna on the lin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vi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Today, it is more vital than ever. In 1983, the act was entrenched in a new constitution, which established a tricameral parliament along racial lines, whith separate chambers for whites, coloreds and Asians but none for black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On the tape recording of Mrs. Guba's call to the 911 emergency line, played at the trial, the baby sitter is heard begging for an ambulanc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F077-8657-48EE-AB2D-F9C5B1CF6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Data for WSD of “line”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equal number of examples of each sense to construct a corpus of 2,0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as simple binary vectors of word occurrences in 2 sentence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op words eliminat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emmed to eliminate morphological vari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examples represented with 2,859 binary word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32E0-D502-41A6-A5C2-6107C559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Ba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inary featur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Nearest Neigh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instance-based algorithm with k=3 and Hamming distanc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neural-network algorithm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ate of the art decision-tree induction algorith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FOIL-D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logical rule learner for Disjunctive Normal For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FOIL-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logical rule learner for Conjunctive Normal For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FOIL-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ple logical rule learner for decision-list of conjunctive rul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C25-6A10-4CCC-A695-4ADE20A3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Curves for WSD of “line”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78" name="Picture 3" descr="all-test2-emnlp"/>
          <p:cNvPicPr/>
          <p:nvPr/>
        </p:nvPicPr>
        <p:blipFill>
          <a:blip r:embed="rId1"/>
          <a:stretch/>
        </p:blipFill>
        <p:spPr>
          <a:xfrm>
            <a:off x="770040" y="1368360"/>
            <a:ext cx="75009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5AE0-08B9-41FD-A0A5-E7054FE7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iscussion of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earning Curves for WSD of “line”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Bayes and Perceptron give the best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se a weighted linear combination of evidence from many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systems that try to find a small set of relevant features tend to overfit the training data and are not as accu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est neighbor method that weights all features equally is also not as accu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ymbolic systems, decision lists work the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4-25T20:32:55Z</dcterms:modified>
  <cp:revision>320</cp:revision>
  <dc:subject/>
  <dc:title>Intelligent Information Retrieval and Web Search</dc:title>
</cp:coreProperties>
</file>