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6D49-97A8-4A47-A57A-01963CE8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173-4654-450F-8521-FDB0A7CF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664-5203-42FC-AB5E-12768800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C850-BD50-48FB-A996-F2F495DA3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1FF3-9BCE-45E1-943D-60B8A162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D184-CCFF-4204-A516-97003196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E65-94C1-47E1-A0DA-E5E70956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5DD-E848-4879-A9BF-5E4FBEE4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432B-53EC-46E1-9A8D-5415CACC0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C20-FB1D-4C93-A936-C8AAB055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F87-DCBB-48A2-B190-0FC6DF26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99F-F74E-423D-BCD3-10068EB0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2D9-1712-4A3F-BCDE-349D55B7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936-FAAB-48A0-A408-C9122311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F9CB-19BB-4CC2-9D2A-9191D0843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853-65B2-4E26-A16A-1EA1E2E9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B773-196B-48DB-86EE-28A05DC0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22B4-C4C1-475D-9C6C-CF893990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B18-CD91-434A-B804-AEF4DE93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C6C2-B92B-4481-AA77-C70F3752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205-CD81-4E98-8632-10442F0B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443-F52A-46A1-8343-6245A1BF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EC3-4468-4380-A902-02A94C05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515-2F46-4FD1-924E-7F6E42B85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5ACA-0920-4466-8E80-61C48358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3B20-8216-420C-AA65-F9CF64A6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00C1A5-4EBE-4A4F-A366-C606924D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7AE673-69A9-4DF8-B19B-BDD9FD1D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4ACCB-938D-4A2B-A443-1D46D98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3B4C9-05B0-4A0A-8A78-F0045E3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CFFFF-0096-4653-808E-60D07BA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A3585-1221-4166-919F-BAD1242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6A91B-49F0-42FB-98AE-702062C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7579A-8F77-401C-89E6-6FDA6A56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0F077-C8FF-4980-9743-040B3B5A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9FBA94-F07C-4506-8936-0641A3CC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C159-817C-479D-BE8E-87F55582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7368F9-7CD8-4A9B-9A60-E83CF457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5ABF31-8532-4251-A35F-F3FABCBC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B728C-F17A-41CF-9CDC-E503120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58A2F-8F25-4EE6-A7EE-811863FA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B077E-FB1B-4B5E-87C1-CDEA5086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57A87-A303-413D-95B9-69D82DE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0F6F2-1E65-4BA3-8EB9-B29730C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A7406F-4124-4D26-A8EE-2ACB4C6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718AA-92A9-4E08-A3D8-A1F8EEF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802B0F-A7D5-470E-8D4C-7C4F5035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0542-8FA8-44BF-BE34-F35A0F2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576EF-57B3-49C9-92F8-900F118E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D1B1A8-C712-40F1-84D0-342E0B87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E313FC-D230-4DA2-A330-BCFCB6DF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E85C2-1AA1-48C4-AA25-A8F1F3F1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13768-AA67-43BD-AB12-1E200AC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AAF6BD-FEBB-48A6-8D48-7BCCEBF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8AEA19-8F0D-47E9-B2AC-6F2C472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1E18AF-1B2E-4CA6-AC93-47BEDA94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4BABFC-C0D8-491E-9964-C7D7FE4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CA4EF-1993-410A-AAC9-196D937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9DCD-49E8-4CFD-9B1E-DE3ED482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A165BF-FDD4-4C5D-9A69-9A0C7796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F2C6F-31EB-4BB7-85D2-4F34E2D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DFECD2-220A-4882-9FB3-6001C618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47A0F0-E3FF-40C4-947B-11D2BF6E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DB2725-C149-46A0-A8F9-5D21625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3A42E0-EF77-4DD0-BCE0-7992361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C72DE6-5835-45DB-8152-2BD5930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B14E3-2317-413D-A175-7B9B8E1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F3C98B-3FFE-46A5-A9F7-4DCA48F5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37EA6D-F980-42FE-B788-5D4AC6E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0021D-27BC-4D54-B000-71824FCF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60F6DB-892B-43DB-A722-2CD25DC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1870EF-B3AB-4541-80A1-78E9DE8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E60F6F-D15E-42A5-99BE-40F97305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7CBC2-C2BF-48AE-B037-6CBE3CF3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7E0397-F616-4257-BE50-6A7800A6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B70896-A820-42A0-882C-DB71FDB9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807D62-AE6F-46E6-BF6A-86A46F97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A1033-061D-42AD-9157-AA3F775D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C32E0A-EA03-448D-B74A-B42B3F8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C7422-8917-46EB-9ADB-4855923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43F7A-C513-460F-A602-70CDA1F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FB13CB-6F0C-4E00-9F0E-2F39298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04E641-5634-4184-8256-135CCE9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680E9B-E005-4AA9-A06F-63CAA57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CC8493-8803-4747-A9AC-B55EA4D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EE6374-9403-4490-B4B1-D263D33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A10C73-0275-4656-8E08-FF4BD336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9420A8-4FC5-42ED-920F-B2C0CD51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E7BF-2808-4F06-AAC7-FD6924D0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99BAE-ACFB-4416-86C9-747E685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1E275-6466-4A73-B72E-8B07DB5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6082A-1B42-47A1-B364-1FC4B0A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E04F-0543-423C-B4E5-4EEE96F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F4268-7A4E-4D31-B0F6-FB3D133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F9A90-5644-4C29-9475-24732FE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999EB-874C-4FF5-98EC-F55FD7D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E21F0-151F-4A0C-9803-3169F789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CD56A-F3FF-40B0-8F24-0F855A4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79A8B-2479-47CD-98A4-950FC836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1C169-CC76-4CE5-810E-414288A8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5A229-05A0-49EB-9969-2DA75D7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FBAB6-9458-4EBB-BE00-9495FB08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53AD0-4A7E-4834-BEDD-A7944C5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B5C2-72F2-4CB2-918C-3D3D2A4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96D7-E24A-47AC-91AB-42EE1809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54FCA-8D38-4225-8447-B7F73FE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F91D1-B64C-4647-B363-24B4D7D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13511-E74E-4450-A96A-D3C3FAE9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DAB66-82AC-4CB4-9ACC-575A419D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30752-104F-4427-A0D5-23BEA2E3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EA3EC-9272-4477-B187-964FCE48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E254A-3EA2-4AF2-8D1E-FFABDCD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E87D3-4606-485D-B796-350A7AC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4722E-ABA1-4DA3-B26F-38B4C9B7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FF1E-AB7F-41A4-B225-4430299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FD39B-1ECA-4A7E-9EA8-D0B11F9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46E5A-BD7A-435C-9A05-7B1CED1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336E-C061-43BA-9837-AD6B058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0BA55-57F5-4D83-8A7C-EC81D1A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91626-FB46-4F7D-A073-3463587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493DB-03F5-4BE7-9174-9AAB815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2BCEE-E8A1-4540-9C0D-7868A34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D2E52-641B-4B53-B048-BA771C9D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7B2AD-AD17-434D-84AF-1DAF6726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41158-6E1C-4034-90AD-724F5184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5687-E7F7-42BB-84A7-86FD8E3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F2E48-0087-4192-A06C-7AE0DBD1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41680-1C72-4E68-98AA-AA1FA709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C1318-8790-4B36-B22E-83CF81C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503CC-9FEF-4896-BA34-53AF38AB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9C194-DDEC-456A-8B62-E3F877C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9CBAA-C5E7-4D89-97DE-181606F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2C77E-3A8D-4D57-94B8-E876EB4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DDC1D-F1DB-4D30-A420-26EE6B9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A846D-4D32-4A32-A5A1-2C0F8DDA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6B238-EB81-466B-A49B-257765A1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3348-8ECE-4FB1-90D1-45D747D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AFD5D-7456-4DB9-A9E8-872289C6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0B473-EF52-4242-9BBC-13DAFC13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CDC16-E627-42A8-8102-BA4D281B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7AC3B-5C64-48B2-895A-C9A39D48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055FF-B9D4-4AE9-8633-4C40B291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0EDEF-EAED-4516-BDF4-2B060EA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ACB65-86F1-4C41-89FA-C7A83571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BABC8-6C20-4441-B4B3-AD6689F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BF5A1-A576-4E67-B435-ADF2C95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38677-5D6C-44FF-81F7-51BE40B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65C2-0895-401F-BA71-E032554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3A4B4-83D8-47E1-B3A4-362413A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F9E26-0CC6-4165-87D7-D0AA5905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743ED-0F31-4720-A60A-5A0C6C9C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E863B-485B-4589-83EF-7A7E4B78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57CB6-90BF-459B-B438-5631309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308C7-4366-4C51-9353-2EA24094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B5D16-D501-43EE-BA27-50EF953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E38B8-435F-4A46-BFB5-27196D5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01A9E-10DA-4F25-B7C5-83EDE44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61491-CF0E-4569-9EB9-777D070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B79-3507-42C0-8134-E4EC207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F414B-600B-4A5B-9CB4-ADCABBD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935E8-EBEF-4038-90A8-55304BD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9B6DE-D895-4DBA-A02E-3480F9B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2BF79-67A0-4A60-8A15-9D4C9B2D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94BC6-ACBD-47F1-AADA-B8B0F802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3B7E4-B320-47BC-B2AC-16522B81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A8C22-8346-4757-8547-0517CCE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09D3B-B33D-4162-8655-0C85DA35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723ED-E6FD-49F5-B3E9-85B96C7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F5556-B3E8-4709-9C56-4FD1CFE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CB11-9C94-49D6-8499-B0DD09E9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1B25A-7587-486A-8E8C-711D87B9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3B954-1E84-4A52-8447-5A5E579B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3D7CC-D607-4BE7-8F2B-EA60F0C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9AA18-1476-468C-955D-61F8BDB5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519BE-8044-42E7-A814-9F6FF83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FC204-4EBC-4E30-B206-6AD0F06C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935EC-8FFF-4215-BA18-AFF0D07B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2500A-19BB-4127-A652-A5A07BD4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666B1-CE4D-4C2E-8569-B83154F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16F7C-9065-47DB-AEEA-DAF3350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FCC5-ACE9-41F7-9776-D9FE540F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2C9F-AA73-43A3-B225-BC2F4A9D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0342-DDB0-45BC-85FA-7042C7D9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BCB-1120-4A1E-9CFF-CC0BA4C2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E62-6DDE-46E3-9A93-1B216D10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A2CD-3BBD-47C9-883F-80C59426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2F9-4AC6-45A1-A0F7-29CDBC40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A17-310B-4AD2-AEA5-0A2711BA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95C-8DCE-485F-B6C0-1E97245A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FAD-10D5-4C8E-8340-B3AEA02F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73AF-0DC0-46F5-9A6D-3B6703AA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EB65-B9B9-464E-A347-3DDB792A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F71-E01B-47EA-987A-92BE1284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38B5-40C8-491C-889F-A7FC3B18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robabilistic Reasoning and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aïve Bay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62E-751E-4C4A-ABE7-EC4A8785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346-CE1E-4110-B62C-A2991EB7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4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5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6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7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Text Box 8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1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063-1965-46EC-90BC-5EB43224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5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6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8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E30-7607-4721-AE4C-524E87D9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111-F576-4029-92D1-7B3E7086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4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A65E-A017-48AC-B430-27184E9A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639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640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641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645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649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654" name="Freeform 19"/>
            <p:cNvSpPr/>
            <p:nvPr/>
          </p:nvSpPr>
          <p:spPr>
            <a:xfrm>
              <a:off x="5183280" y="48193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20"/>
            <p:cNvSpPr/>
            <p:nvPr/>
          </p:nvSpPr>
          <p:spPr>
            <a:xfrm flipH="1">
              <a:off x="5736240" y="48157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658" name="Freeform 23"/>
            <p:cNvSpPr/>
            <p:nvPr/>
          </p:nvSpPr>
          <p:spPr>
            <a:xfrm>
              <a:off x="6281640" y="48132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 flipH="1">
              <a:off x="6834240" y="48096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662" name="Freeform 27"/>
            <p:cNvSpPr/>
            <p:nvPr/>
          </p:nvSpPr>
          <p:spPr>
            <a:xfrm>
              <a:off x="7381800" y="48034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 flipH="1">
              <a:off x="7934400" y="47998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31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667" name="Freeform 32"/>
            <p:cNvSpPr/>
            <p:nvPr/>
          </p:nvSpPr>
          <p:spPr>
            <a:xfrm>
              <a:off x="3970440" y="2033280"/>
              <a:ext cx="55296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33"/>
            <p:cNvSpPr/>
            <p:nvPr/>
          </p:nvSpPr>
          <p:spPr>
            <a:xfrm flipH="1">
              <a:off x="4523400" y="2029680"/>
              <a:ext cx="55296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34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7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8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9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0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1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2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3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94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6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6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6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6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6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6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7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93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97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01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0405-F462-46A3-97A4-9299A6BC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32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733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734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735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739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743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6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748" name="Freeform 19"/>
            <p:cNvSpPr/>
            <p:nvPr/>
          </p:nvSpPr>
          <p:spPr>
            <a:xfrm>
              <a:off x="5183280" y="48193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 flipH="1">
              <a:off x="5736240" y="48157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752" name="Freeform 23"/>
            <p:cNvSpPr/>
            <p:nvPr/>
          </p:nvSpPr>
          <p:spPr>
            <a:xfrm>
              <a:off x="6281640" y="48132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24"/>
            <p:cNvSpPr/>
            <p:nvPr/>
          </p:nvSpPr>
          <p:spPr>
            <a:xfrm flipH="1">
              <a:off x="6834240" y="48096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756" name="Freeform 27"/>
            <p:cNvSpPr/>
            <p:nvPr/>
          </p:nvSpPr>
          <p:spPr>
            <a:xfrm>
              <a:off x="7381800" y="48034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28"/>
            <p:cNvSpPr/>
            <p:nvPr/>
          </p:nvSpPr>
          <p:spPr>
            <a:xfrm flipH="1">
              <a:off x="7934400" y="47998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Group 31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761" name="Freeform 32"/>
            <p:cNvSpPr/>
            <p:nvPr/>
          </p:nvSpPr>
          <p:spPr>
            <a:xfrm>
              <a:off x="4019400" y="3106440"/>
              <a:ext cx="55332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33"/>
            <p:cNvSpPr/>
            <p:nvPr/>
          </p:nvSpPr>
          <p:spPr>
            <a:xfrm flipH="1">
              <a:off x="4572000" y="3102840"/>
              <a:ext cx="55332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7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8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9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0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1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2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43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94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95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Group 96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826" name="Line 97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98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99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ED0-F7F5-4FCA-9934-2A8C49901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4"/>
              <p:cNvSpPr txBox="1"/>
              <p:nvPr/>
            </p:nvSpPr>
            <p:spPr>
              <a:xfrm>
                <a:off x="1306440" y="1933560"/>
                <a:ext cx="6453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2F4-8B43-480A-895A-120C966A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ategriz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457200" y="1600200"/>
          <a:ext cx="4648320" cy="405144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6" name="Line 249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50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51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12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E3C-918B-42EE-BDD7-8CEA68E4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ategoriz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57200" y="1600200"/>
          <a:ext cx="4648320" cy="18432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Line 53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54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5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63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64"/>
          <p:cNvSpPr/>
          <p:nvPr/>
        </p:nvSpPr>
        <p:spPr>
          <a:xfrm>
            <a:off x="24840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01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2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3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5"/>
          <p:cNvSpPr/>
          <p:nvPr/>
        </p:nvSpPr>
        <p:spPr>
          <a:xfrm>
            <a:off x="566784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E22E-BD9D-4232-AD63-067975A8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ed for Probabilistic Reaso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93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veryday reasoning is based on uncertain evidence and in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logic, which only allows conclusions to be strictly true or strictly false, does not account for this uncertainty or the need to weigh and combine conflicting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 application of probability theory is impractical since the large number of probability parameters required are rarely, if ever,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early expert systems employed fai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 h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for reasoning under uncertainty and for combining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, methods more rigorously founded in probability theory that attempt to decrease the amount of conditional probabilities required have flour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A68D-E903-43D2-88E1-FACCDD7A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Diagnosi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{allergy, cold, wel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neeze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ough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{sneeze, cough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1523880" y="3505320"/>
          <a:ext cx="5181840" cy="2297160"/>
        </p:xfrm>
        <a:graphic>
          <a:graphicData uri="http://schemas.openxmlformats.org/drawingml/2006/table">
            <a:tbl>
              <a:tblPr/>
              <a:tblGrid>
                <a:gridCol w="1676520"/>
                <a:gridCol w="1104840"/>
                <a:gridCol w="11811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neeze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ough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fever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FBA-4701-4ED7-A512-EB6934A0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Diagnosis Example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well | E) = (0.9)(0.1)(0.1)(0.99)/P(E)=0.0089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cold | E) = (0.05)(0.9)(0.8)(0.3)/P(E)=0.01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allergy | E) = (0.05)(0.9)(0.7)(0.6)/P(E)=0.019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probable category: all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E) = 0.0089 + 0.01 + 0.019 = 0.03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well | E) = 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cold | E) = 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allergy | E)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38080" y="1447920"/>
          <a:ext cx="5029200" cy="1963440"/>
        </p:xfrm>
        <a:graphic>
          <a:graphicData uri="http://schemas.openxmlformats.org/drawingml/2006/table">
            <a:tbl>
              <a:tblPr/>
              <a:tblGrid>
                <a:gridCol w="1676520"/>
                <a:gridCol w="1104840"/>
                <a:gridCol w="1181160"/>
                <a:gridCol w="1066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neeze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ough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fever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7"/>
          <p:cNvSpPr/>
          <p:nvPr/>
        </p:nvSpPr>
        <p:spPr>
          <a:xfrm>
            <a:off x="5946120" y="220968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={sneeze, cough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ve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61D-40E6-423E-9F81-2D5E912C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4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E98-7EB7-4452-8FD4-76C31526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4425840" y="1487520"/>
          <a:ext cx="4572000" cy="4051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0" name="Group 164"/>
          <p:cNvGrpSpPr/>
          <p:nvPr/>
        </p:nvGrpSpPr>
        <p:grpSpPr>
          <a:xfrm>
            <a:off x="151200" y="4919760"/>
            <a:ext cx="5103360" cy="1719720"/>
            <a:chOff x="151200" y="4919760"/>
            <a:chExt cx="5103360" cy="1719720"/>
          </a:xfrm>
        </p:grpSpPr>
        <p:sp>
          <p:nvSpPr>
            <p:cNvPr id="871" name="Text Box 161"/>
            <p:cNvSpPr/>
            <p:nvPr/>
          </p:nvSpPr>
          <p:spPr>
            <a:xfrm>
              <a:off x="981720" y="491976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62"/>
            <p:cNvSpPr/>
            <p:nvPr/>
          </p:nvSpPr>
          <p:spPr>
            <a:xfrm>
              <a:off x="160200" y="578160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163"/>
            <p:cNvSpPr/>
            <p:nvPr/>
          </p:nvSpPr>
          <p:spPr>
            <a:xfrm>
              <a:off x="151200" y="6240600"/>
              <a:ext cx="51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306-FCFB-45DD-B155-949564BB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4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C24-7903-407B-B99E-80FA22A5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1" name="Line 4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07F-CBE5-4F70-8AFA-4D1AAAE5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ahoo-like classifi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/Blog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timent analysis for marke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ioritizing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lderiz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vertising on G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1CF-C003-4F95-A1F3-94DAA7A4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representation of a document is a “bag of words,” i.e. set of words with their frequencies, word order is ign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high-dimensional vector representation (one feature for each wor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sparse since most words are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Zipf’s law and heavy-tailed distribu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E57-03AB-46AE-AEB9-5FA3BDF4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5ED-55CC-4985-B497-B2D8DEE0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96" name="Group 6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897" name="Freeform 7"/>
            <p:cNvSpPr/>
            <p:nvPr/>
          </p:nvSpPr>
          <p:spPr>
            <a:xfrm>
              <a:off x="5943600" y="427788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8"/>
            <p:cNvSpPr/>
            <p:nvPr/>
          </p:nvSpPr>
          <p:spPr>
            <a:xfrm flipH="1">
              <a:off x="6814440" y="427176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9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0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901" name="Freeform 11"/>
            <p:cNvSpPr/>
            <p:nvPr/>
          </p:nvSpPr>
          <p:spPr>
            <a:xfrm>
              <a:off x="1143000" y="427788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 flipH="1">
              <a:off x="2013840" y="427176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Text Box 14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6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7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8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9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0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1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2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3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24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6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27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28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35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926" name="Freeform 36"/>
            <p:cNvSpPr/>
            <p:nvPr/>
          </p:nvSpPr>
          <p:spPr>
            <a:xfrm>
              <a:off x="3581280" y="191592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37"/>
            <p:cNvSpPr/>
            <p:nvPr/>
          </p:nvSpPr>
          <p:spPr>
            <a:xfrm flipH="1">
              <a:off x="4452120" y="190980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38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Text Box 39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0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1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52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153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162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166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170" dur="2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174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53FE-43AD-4D0A-AC1C-6D70A04E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Oval 6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1ED-9CD7-4753-BB1A-830FB0E5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Text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5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Group 6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949" name="Freeform 7"/>
            <p:cNvSpPr/>
            <p:nvPr/>
          </p:nvSpPr>
          <p:spPr>
            <a:xfrm>
              <a:off x="6095880" y="443052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8"/>
            <p:cNvSpPr/>
            <p:nvPr/>
          </p:nvSpPr>
          <p:spPr>
            <a:xfrm flipH="1">
              <a:off x="6966720" y="442440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10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953" name="Freeform 11"/>
            <p:cNvSpPr/>
            <p:nvPr/>
          </p:nvSpPr>
          <p:spPr>
            <a:xfrm>
              <a:off x="1295280" y="443052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2"/>
            <p:cNvSpPr/>
            <p:nvPr/>
          </p:nvSpPr>
          <p:spPr>
            <a:xfrm flipH="1">
              <a:off x="2166120" y="442440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4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5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16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7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8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1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2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4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5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6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27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8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9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0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1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4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35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978" name="Freeform 36"/>
            <p:cNvSpPr/>
            <p:nvPr/>
          </p:nvSpPr>
          <p:spPr>
            <a:xfrm>
              <a:off x="3657600" y="275400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37"/>
            <p:cNvSpPr/>
            <p:nvPr/>
          </p:nvSpPr>
          <p:spPr>
            <a:xfrm flipH="1">
              <a:off x="4528440" y="274788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38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Text Box 39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0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1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2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3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4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5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6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7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48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49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Group 50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993" name="Line 51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52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53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061E-3C82-4FDC-9A00-0E48D7BE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452-68D9-42C3-AA2F-985EBF8E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4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F65-1A4F-4B5F-B9A8-DD1724A3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54D7-32B8-4548-B6E9-C23A4FCD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Naïve Bay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babilistic inference tractable by making a strong assumption of conditional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s to work fairly well despite this strong assum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show it to be quite competitive with other classification methods on standard data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popular for text categorization, e.g. spam fil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F5DD-E2A7-420D-BD4D-24EF5487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Oval 5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6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3BC-C129-46A7-99BE-24AF3EC1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6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7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Text Box 8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9E86-7C03-4A7E-91B3-F8CFAAF5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assification (Categorizatio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description of an instanc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where X is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nstance langu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nstance spac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fixed set of categories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category o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,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s a categorization function whose domain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whose range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s a binary functio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{0,1} ({true,false}, {positive, negative}) then it is called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947-41D7-40D3-ACB8-B1C41DC94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ining example is an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ed with its correct categ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   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 for an unknown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training exampl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ypothesized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4"/>
              <p:cNvSpPr txBox="1"/>
              <p:nvPr/>
            </p:nvSpPr>
            <p:spPr>
              <a:xfrm>
                <a:off x="1582560" y="5181480"/>
                <a:ext cx="5295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Text Box 5"/>
          <p:cNvSpPr/>
          <p:nvPr/>
        </p:nvSpPr>
        <p:spPr>
          <a:xfrm>
            <a:off x="3078360" y="5664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0119-542B-4394-997A-27488DEF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ategory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language: &lt;size, color, sha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mall, medium, larg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or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red, blue, green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ap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quare, circle, triangl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positive, negativ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639800" y="3962520"/>
          <a:ext cx="6858000" cy="2566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43C-D41F-4F77-A801-1538976F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511280" y="2963880"/>
          <a:ext cx="284148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4713120" y="2946240"/>
          <a:ext cx="284184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Text Box 50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1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52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53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54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4-04T16:33:30Z</dcterms:modified>
  <cp:revision>186</cp:revision>
  <dc:subject/>
  <dc:title>Intelligent Information Retrieval and Web Search</dc:title>
</cp:coreProperties>
</file>