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1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42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EA1E-6D1B-4394-AE3F-3FDDDCB9D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95A0-BD93-4D0B-9288-BFFD8B330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B1E4-40A0-477F-830B-1E0B929F0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1A96-902D-4CC5-82A0-5B8B90DC1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480A-0BE1-4B64-854A-5CABEC7C9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4EFA-84AA-4D4B-AC6B-4B99B270D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C991-B0F2-4C1E-95D4-B3E8F180F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62AC-6E4C-47DD-B234-B6F7BC171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2B2D-67FF-4FC7-920B-0D9D4E580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7F46-A2AE-4EE4-A787-3136A2EB6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0A9B-43BC-4BC3-AA32-ED78EE904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7BCE-B7F2-4DFC-9AC3-D01347C37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43F4-DF96-4A90-B5FB-C2773540E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8984-0721-4D8B-AF15-64528DAE5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C359-4C30-4D5D-9A26-C8B6EDB01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9BAA-CCD5-4450-9DDC-8729DA6F9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FEB9-4F6F-4C7B-A611-F5A188500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451F-CD96-4C4F-897E-E704A4893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39F9-50A5-4430-8370-E5CDEEA09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4026-AE3D-4289-B433-76EFF3B83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3D7D-4781-4DD7-8000-CC44B9774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5CDF-4316-4126-908D-8267E7736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5BEE-3267-4A19-9AEC-0F152E0C6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5537-F3F1-4B45-AF0F-27A5A2907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1C11-8388-4040-BAAB-BC712A8E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58146-5C94-4015-92F1-3BC71B28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CF8F42-A1C2-4E74-9F24-FFE959D0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C547E5-11C3-449A-B30D-7AC0E6C7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7BEED9-3639-4742-BC13-1AB04272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C14A7E-47FA-4573-A806-24C63F49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5B8405-CABC-460C-860B-A4D6C8A0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53673D-CD64-48BE-8E71-43F11323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A08DCE-293E-402B-8F69-247E4B75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B9C8AA-35C6-402A-B8DC-B2F3DE06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A9D5BF-97CE-4AEC-99CE-D90F51AD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0B3222-DEEC-4EEC-8B4F-88DA0514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F8F4-074D-4934-AC88-1209E83D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A9CAE1-DA52-4963-869A-6DFBFF7E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9E3D6A-0568-4344-B569-72342F80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93339B-7519-453A-A62F-BF9581AF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3DA2ED-1331-47F7-99A3-1C592C54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24D3FC-91C0-44BE-8296-242BF0FB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AA4650-67B8-4179-9AD8-4BDDB660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325270-5CB8-4153-8257-3FB9E83C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C28EF1-CD8E-45AE-9D22-A797EC6B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7B3056-6243-4D09-A32C-2DEF9B81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CE8939-128F-4796-B1FC-240747AE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EB09-38C9-4E76-B249-8C85D7C7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A7CB64-CB68-439C-8E2E-3895FB95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532E53-E48F-4BB3-9C1D-9A465074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316B63-4DD7-4470-8CF0-992F9FCC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D1CF12-6E60-4097-B3D4-D4DDD99E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D08B50-3758-4DB0-8AEF-207991E2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D81748-1507-4945-8622-0FC26124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4B118B-8699-4068-96EB-8C3797FB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49722E-8299-440A-9F49-D06D0053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E9F244-3C3E-4009-9513-10ED4A0E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46A0E6-6AC0-45D1-8236-99FF0214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5EB4C-6C38-429A-B957-231D1C09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1C748F-69C7-43B9-99C9-AD10305F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97B174-04A2-4562-8BE5-49B2CB29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C911E4-68D7-4D49-97FC-F34795E3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BF96B9-9187-4E4B-8263-FE0DEA40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CB6283-F896-4368-8369-6CCA115C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206122-E2C1-4189-9AF0-403DC540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C63B7A-5EC0-4C32-8490-CBAE34A0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1CFA00-D5CB-4E51-A00E-6362184B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8F1541-6357-41B7-A611-EE0B7C56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A7F900-F014-451B-BF81-FEDF7177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257EA-03B7-48CE-9191-FB871564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3F483A-1CD7-4E96-A5D6-27AD2B89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BF29A4-EFA0-4CE4-B264-15D89FC8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FD6B6A-A04C-4136-8155-AE473B77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C1817D-9EE0-4170-A52F-A91746F9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718F46-0A6C-44ED-BFDA-5346B8DE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346240-131D-4D97-9B82-1B9E6130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0FB969-B0A4-4DCB-8E7A-756D1C6A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6E80C0-62D7-4517-94D7-FC76E0FE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B49A67-659F-473C-AAA9-62E64CCD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BBD33D-C18B-4BAA-BFB7-FA1E540D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25A6A-44B4-4A39-A322-C9F4A7B1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10CF37-E770-44F9-BC69-FAB80673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764099-9D5B-487D-85B9-E8DB2CFE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8E33E9-8159-44C8-93C3-975EA9BC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C34DFC-50FB-4467-8016-8BABA6B9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DE1ECA-5BB0-4283-9920-BC529D0A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F7A482-6261-470E-841D-361CE5C3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D4A516-2780-4437-B227-7DCA46CB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49B65-F36F-420D-9C69-23E61763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C771E-922C-4CD4-B2D8-5A8A9F7B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BC0BC-BF65-452F-B22C-652290D6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E8A66-0B47-4CD6-BD83-4D3C9B79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4AFD-619F-4CC4-BD47-AA1FF2C4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B49A1-A7FD-4063-A739-91203EE5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54A21-4BD6-4D5E-BB85-7702FCD4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78B7B-6FCE-43E2-BB4F-9AF86D7E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93FF6-0BDA-4DEE-B82A-6D56F5AA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6235B-8E5F-41A0-B74C-565FCA97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C001F-C81A-4D90-BC15-3899FCB8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968B4-BA00-4B00-B802-ECD90ADE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1528C-BA66-4F5A-BE64-A21FD26A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F347D-B455-473C-B787-52DE213D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1B095-D011-4836-8D16-7C207592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D7628-A1F1-4A4C-BDCA-32DAF64C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A65EB-917B-4FB7-88E7-15842040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095A9-53B3-495A-9B94-456BA7A9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0A502-245E-4B22-8D5E-2563EACC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CB1A0-F575-40BF-A421-3F8087FB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53304-52BD-47D4-AF60-FD02DF92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B553C-BC60-4CCF-B004-EC054F5E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38F25-00CA-43DC-A0C7-4F862159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D1E486-35C0-43E5-A3F2-AB9F957F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C19EE-8D4A-4616-8733-773E4FBE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FA4848-5E4C-4212-B454-55F8C96D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F75D-47FE-4806-9723-D1AC51CE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236D9-380D-4B60-A4EE-2448FCDE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15480F-66F2-4CED-8B0E-7EB26CF6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D12174-7D28-4487-8EE2-28848664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354590-7DA6-4A85-8A22-BF60EAB1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45675-D2BE-43D4-96CA-A52DB317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3FB47C-0767-413A-928A-085F0E6D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E4EA5D-7B6D-47B5-BEFA-317BD330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3D0E16-BAD3-43FC-9DD2-F6ABF6C2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866E1-B9D3-4764-A136-77888D05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83385-C5A7-43D6-BF36-2AF92FB4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1C80F-C3D3-4A94-B30B-877E4FC8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922D8-E4D2-42DC-B05C-E7170FDC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F8CA09-13E3-4E8C-82C6-D798AC8F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5C4C60-D3BE-4071-8683-8D0781D3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FA4918-E02B-42A9-843F-A31FD771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363469-C4F1-4EFF-A54D-72D6F3C8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B95311-8F62-47B1-A921-9F8A2D11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FE31FF-72A7-4B9E-8E53-FA924342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FE46B-B98E-47C8-8F4A-965D4C02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0F588-F6B8-471D-AD98-DA6EB454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4E539-BA39-411F-82CC-B623AEB8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1A3E-921C-4188-A1B0-0A4CB8DF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5E1BF8-9602-4927-BD51-1BFBA684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3FF81-FCBF-4DFD-8CAF-437C5BF5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7C240-0CD0-41B5-BC7B-9C6B123B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9C1AB5-6AC3-4873-82AF-71370AC2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6F1DC-91EC-4924-90B3-A5FC8E1B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3FE5A-05B0-4F79-B85C-594A2019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1D5C78-330B-41BF-B428-5FB407B4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F1E8B0-8EEF-4258-B470-9E6C76BD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8751E-12F1-4654-A9D8-744EA068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103740-2EE1-46AF-9340-15786F3A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830F-01B8-4360-A875-5450C556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A9E91-C301-4259-9A86-986D6EEE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C6ACD-53AC-4D8C-B907-9E434E8A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77DBE5-7094-4249-B8B9-36B689CE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50A00C-FBDC-491C-83AA-C805F71B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57590D-5BEB-4698-9B96-B8D7AADE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CF16A0-20E9-4A9A-8AF0-4FEFE4AF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6C09A-E7CD-4FB4-9DBD-7A67167A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B962C9-3D3D-439A-9FBE-7069E332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65C1EF-FFD6-48EB-8722-5A74D67A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0E86D4-F0A8-46DA-90D3-F136313F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48FE-E1C8-4809-A44F-7C2DE850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7B4750-631C-4588-A3B6-FD7EAC7C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51F6E-7B51-442E-8AC4-DEEEB386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EFB0EA-5A3E-42AE-B083-E4B7C9AE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1D646A-3275-4D2D-A697-F0D2795C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C5D613-5CB9-4A03-8D74-9305CEA1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9E1459-D32F-4DC5-9533-0D22A755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01E086-F88B-4155-ADC0-9171E5B7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50ADC6-807C-471F-9DE8-87D4EBB5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AD720B-CA8C-4A7C-ACEE-8E3B01EE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CB2055-D893-4C7A-89A9-C60B2D3D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43C8-9094-4723-9313-D7585CD3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96A34C-4E6B-413C-8592-662B8933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33B451-FF0D-4146-91A0-315B57AD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FDC0DE-ACB4-4A3A-9D22-6B804667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2C4741-4D09-4378-8FBF-F2E7058E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C92D43-5F92-41D6-A971-85C7E924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53C456-91A3-4960-BA97-1D48B659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57B9F9-0E74-460A-99F9-A409489F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4E70AD-2CB7-44BF-BFE9-80F651E2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B5D96C-3767-4A56-A48F-84127391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DE24B5-7C17-4B6C-9161-4823B762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3B5B-CC49-4BFA-8C22-D1B23355D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8A22-97AC-40F3-BFED-31CFA96B4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C6CB-CE92-4F4B-94AD-41153B151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326C-98EE-4171-8319-598C37BDD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1BBC-0C78-4449-B611-C8010F604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FD6B-ACAB-4F86-9380-209FF7AC9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7C03-A280-41EB-AE97-D157B4A8C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8108-15A1-4E27-A033-02E70A648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E874-A2EB-4C30-BF00-19803637B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4553-A985-4144-88A8-2F655D964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B6C1-355F-4ECB-ACBE-CD6F648A4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A365-CD14-4A60-83BE-152353E28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C996-2A39-40B9-A191-A0DAC16BD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A8A6-4C6E-42CB-89E9-FC3B4A198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S 343: Artificial Intelligence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Probabilistic Reasoning and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Naïve Baye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40C9-B8AB-4605-B6D1-D06F2B79B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83680" y="1371600"/>
            <a:ext cx="84661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random variable for the class which takes values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random variable describing an instance consisting of a vector of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atures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,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possible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possible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lassification, we need to compu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given no other assumptions, this requires a table giving the probability of each category for each possible instance in the instance space, which is impossible to accurately estimate from a reasonably-sized training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ssuming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nd all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re binary, we need 2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tries to specify      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pos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for each of the 2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possibl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’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nc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neg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= 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pos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mpared to 2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</a:rPr>
              <a:t>+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1 entries for the joint distribution 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1EAD-02C6-40FF-A24A-5F236C892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 Theor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proof from definition of conditional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Object 4"/>
              <p:cNvSpPr txBox="1"/>
              <p:nvPr/>
            </p:nvSpPr>
            <p:spPr>
              <a:xfrm>
                <a:off x="1295280" y="5562720"/>
                <a:ext cx="32004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5"/>
              <p:cNvSpPr txBox="1"/>
              <p:nvPr/>
            </p:nvSpPr>
            <p:spPr>
              <a:xfrm>
                <a:off x="1371600" y="3276720"/>
                <a:ext cx="2514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∧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Object 6"/>
              <p:cNvSpPr txBox="1"/>
              <p:nvPr/>
            </p:nvSpPr>
            <p:spPr>
              <a:xfrm>
                <a:off x="1752480" y="4114800"/>
                <a:ext cx="2590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∧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7"/>
              <p:cNvSpPr txBox="1"/>
              <p:nvPr/>
            </p:nvSpPr>
            <p:spPr>
              <a:xfrm>
                <a:off x="1752480" y="4952880"/>
                <a:ext cx="32767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∧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Text Box 8"/>
          <p:cNvSpPr/>
          <p:nvPr/>
        </p:nvSpPr>
        <p:spPr>
          <a:xfrm>
            <a:off x="398880" y="56656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9"/>
          <p:cNvSpPr/>
          <p:nvPr/>
        </p:nvSpPr>
        <p:spPr>
          <a:xfrm>
            <a:off x="4058640" y="338292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Def. cond. pro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4604760" y="428148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Def. cond. pro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11"/>
              <p:cNvSpPr txBox="1"/>
              <p:nvPr/>
            </p:nvSpPr>
            <p:spPr>
              <a:xfrm>
                <a:off x="533520" y="1523880"/>
                <a:ext cx="32572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9C8C-843B-4A51-AAC9-75ADE9717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371600"/>
            <a:ext cx="81694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categor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determining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determined since categories are complete and disj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4"/>
              <p:cNvSpPr txBox="1"/>
              <p:nvPr/>
            </p:nvSpPr>
            <p:spPr>
              <a:xfrm>
                <a:off x="1525680" y="2130480"/>
                <a:ext cx="55926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5"/>
              <p:cNvSpPr txBox="1"/>
              <p:nvPr/>
            </p:nvSpPr>
            <p:spPr>
              <a:xfrm>
                <a:off x="2265480" y="4379760"/>
                <a:ext cx="212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6"/>
              <p:cNvSpPr txBox="1"/>
              <p:nvPr/>
            </p:nvSpPr>
            <p:spPr>
              <a:xfrm>
                <a:off x="1343160" y="4344840"/>
                <a:ext cx="66373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8"/>
              <p:cNvSpPr txBox="1"/>
              <p:nvPr/>
            </p:nvSpPr>
            <p:spPr>
              <a:xfrm>
                <a:off x="1265400" y="5240160"/>
                <a:ext cx="50241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0F81-D464-4B64-B82A-AE1557350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Categorization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kn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iors: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ditionals: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easily estimated from d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of the example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are in 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n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/ |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|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any possible instances (e.g.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binary features) to estimate all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 to make some sort of independence assumptions about the features to make learning trac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CE7D-387E-4D8E-8278-D8DC98900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tive Probabilistic Mode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a simple (usually unrealistic) probabilistic method by which the data was gener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ategorization, each category has a different parameterized generative model that characterizes that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i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the data for each category to estimate the parameters of the generative model for that categ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ximum Likelihood Estimation (ML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Set parameters to maximize the probability that the model produced the given training data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l-GR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λ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denotes a model with parameter values λ and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s the training data for th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 class, find model parameters for class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λ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that maximize the likelihood o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Bayesian analysis to determine the category model that most likely generated a specific test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4"/>
              <p:cNvSpPr txBox="1"/>
              <p:nvPr/>
            </p:nvSpPr>
            <p:spPr>
              <a:xfrm>
                <a:off x="3079800" y="5229360"/>
                <a:ext cx="32194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limLow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λ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7F28-D8CF-43C7-B789-4A987D80C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Generative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38" name="Group 3"/>
          <p:cNvGrpSpPr/>
          <p:nvPr/>
        </p:nvGrpSpPr>
        <p:grpSpPr>
          <a:xfrm>
            <a:off x="604800" y="4802040"/>
            <a:ext cx="3304800" cy="1512000"/>
            <a:chOff x="604800" y="4802040"/>
            <a:chExt cx="3304800" cy="1512000"/>
          </a:xfrm>
        </p:grpSpPr>
        <p:grpSp>
          <p:nvGrpSpPr>
            <p:cNvPr id="639" name="Group 4"/>
            <p:cNvGrpSpPr/>
            <p:nvPr/>
          </p:nvGrpSpPr>
          <p:grpSpPr>
            <a:xfrm>
              <a:off x="604800" y="4802040"/>
              <a:ext cx="3304800" cy="1142280"/>
              <a:chOff x="604800" y="4802040"/>
              <a:chExt cx="3304800" cy="1142280"/>
            </a:xfrm>
          </p:grpSpPr>
          <p:grpSp>
            <p:nvGrpSpPr>
              <p:cNvPr id="640" name="Group 5"/>
              <p:cNvGrpSpPr/>
              <p:nvPr/>
            </p:nvGrpSpPr>
            <p:grpSpPr>
              <a:xfrm>
                <a:off x="604800" y="4817160"/>
                <a:ext cx="1105920" cy="1127160"/>
                <a:chOff x="604800" y="4817160"/>
                <a:chExt cx="1105920" cy="1127160"/>
              </a:xfrm>
            </p:grpSpPr>
            <p:sp>
              <p:nvSpPr>
                <p:cNvPr id="641" name="Freeform 6"/>
                <p:cNvSpPr/>
                <p:nvPr/>
              </p:nvSpPr>
              <p:spPr>
                <a:xfrm>
                  <a:off x="604800" y="482328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Freeform 7"/>
                <p:cNvSpPr/>
                <p:nvPr/>
              </p:nvSpPr>
              <p:spPr>
                <a:xfrm flipH="1">
                  <a:off x="1157760" y="481968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8"/>
                <p:cNvSpPr/>
                <p:nvPr/>
              </p:nvSpPr>
              <p:spPr>
                <a:xfrm flipV="1">
                  <a:off x="779040" y="481716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Group 9"/>
              <p:cNvGrpSpPr/>
              <p:nvPr/>
            </p:nvGrpSpPr>
            <p:grpSpPr>
              <a:xfrm>
                <a:off x="1703160" y="4810680"/>
                <a:ext cx="1105920" cy="1127160"/>
                <a:chOff x="1703160" y="4810680"/>
                <a:chExt cx="1105920" cy="1127160"/>
              </a:xfrm>
            </p:grpSpPr>
            <p:sp>
              <p:nvSpPr>
                <p:cNvPr id="645" name="Freeform 10"/>
                <p:cNvSpPr/>
                <p:nvPr/>
              </p:nvSpPr>
              <p:spPr>
                <a:xfrm>
                  <a:off x="1703160" y="481680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Freeform 11"/>
                <p:cNvSpPr/>
                <p:nvPr/>
              </p:nvSpPr>
              <p:spPr>
                <a:xfrm flipH="1">
                  <a:off x="2256120" y="481320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Line 12"/>
                <p:cNvSpPr/>
                <p:nvPr/>
              </p:nvSpPr>
              <p:spPr>
                <a:xfrm flipV="1">
                  <a:off x="1877400" y="481068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Group 13"/>
              <p:cNvGrpSpPr/>
              <p:nvPr/>
            </p:nvGrpSpPr>
            <p:grpSpPr>
              <a:xfrm>
                <a:off x="2803680" y="4802040"/>
                <a:ext cx="1105920" cy="1127160"/>
                <a:chOff x="2803680" y="4802040"/>
                <a:chExt cx="1105920" cy="1127160"/>
              </a:xfrm>
            </p:grpSpPr>
            <p:sp>
              <p:nvSpPr>
                <p:cNvPr id="649" name="Freeform 14"/>
                <p:cNvSpPr/>
                <p:nvPr/>
              </p:nvSpPr>
              <p:spPr>
                <a:xfrm>
                  <a:off x="2803680" y="480816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Freeform 15"/>
                <p:cNvSpPr/>
                <p:nvPr/>
              </p:nvSpPr>
              <p:spPr>
                <a:xfrm flipH="1">
                  <a:off x="3356640" y="480456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Line 16"/>
                <p:cNvSpPr/>
                <p:nvPr/>
              </p:nvSpPr>
              <p:spPr>
                <a:xfrm flipV="1">
                  <a:off x="2977920" y="4802040"/>
                  <a:ext cx="76536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2" name="Text Box 17"/>
            <p:cNvSpPr/>
            <p:nvPr/>
          </p:nvSpPr>
          <p:spPr>
            <a:xfrm>
              <a:off x="792360" y="5915160"/>
              <a:ext cx="30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ze          Color        Shap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5183280" y="4813200"/>
            <a:ext cx="1105920" cy="1127160"/>
            <a:chOff x="5183280" y="4813200"/>
            <a:chExt cx="1105920" cy="1127160"/>
          </a:xfrm>
        </p:grpSpPr>
        <p:sp>
          <p:nvSpPr>
            <p:cNvPr id="654" name="Freeform 19"/>
            <p:cNvSpPr/>
            <p:nvPr/>
          </p:nvSpPr>
          <p:spPr>
            <a:xfrm>
              <a:off x="5183280" y="4819320"/>
              <a:ext cx="55296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20"/>
            <p:cNvSpPr/>
            <p:nvPr/>
          </p:nvSpPr>
          <p:spPr>
            <a:xfrm flipH="1">
              <a:off x="5736240" y="4815720"/>
              <a:ext cx="55296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21"/>
            <p:cNvSpPr/>
            <p:nvPr/>
          </p:nvSpPr>
          <p:spPr>
            <a:xfrm flipV="1">
              <a:off x="5357520" y="4813200"/>
              <a:ext cx="76572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22"/>
          <p:cNvGrpSpPr/>
          <p:nvPr/>
        </p:nvGrpSpPr>
        <p:grpSpPr>
          <a:xfrm>
            <a:off x="6281640" y="4807080"/>
            <a:ext cx="1106280" cy="1127160"/>
            <a:chOff x="6281640" y="4807080"/>
            <a:chExt cx="1106280" cy="1127160"/>
          </a:xfrm>
        </p:grpSpPr>
        <p:sp>
          <p:nvSpPr>
            <p:cNvPr id="658" name="Freeform 23"/>
            <p:cNvSpPr/>
            <p:nvPr/>
          </p:nvSpPr>
          <p:spPr>
            <a:xfrm>
              <a:off x="6281640" y="4813200"/>
              <a:ext cx="55332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24"/>
            <p:cNvSpPr/>
            <p:nvPr/>
          </p:nvSpPr>
          <p:spPr>
            <a:xfrm flipH="1">
              <a:off x="6834240" y="4809600"/>
              <a:ext cx="55332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 flipV="1">
              <a:off x="6455880" y="480708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Group 26"/>
          <p:cNvGrpSpPr/>
          <p:nvPr/>
        </p:nvGrpSpPr>
        <p:grpSpPr>
          <a:xfrm>
            <a:off x="7381800" y="4797360"/>
            <a:ext cx="1106280" cy="1127160"/>
            <a:chOff x="7381800" y="4797360"/>
            <a:chExt cx="1106280" cy="1127160"/>
          </a:xfrm>
        </p:grpSpPr>
        <p:sp>
          <p:nvSpPr>
            <p:cNvPr id="662" name="Freeform 27"/>
            <p:cNvSpPr/>
            <p:nvPr/>
          </p:nvSpPr>
          <p:spPr>
            <a:xfrm>
              <a:off x="7381800" y="4803480"/>
              <a:ext cx="55332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Freeform 28"/>
            <p:cNvSpPr/>
            <p:nvPr/>
          </p:nvSpPr>
          <p:spPr>
            <a:xfrm flipH="1">
              <a:off x="7934400" y="4799880"/>
              <a:ext cx="55332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9"/>
            <p:cNvSpPr/>
            <p:nvPr/>
          </p:nvSpPr>
          <p:spPr>
            <a:xfrm flipV="1">
              <a:off x="7556040" y="479736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Text Box 30"/>
          <p:cNvSpPr/>
          <p:nvPr/>
        </p:nvSpPr>
        <p:spPr>
          <a:xfrm>
            <a:off x="5370480" y="59101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         Color        Sha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31"/>
          <p:cNvGrpSpPr/>
          <p:nvPr/>
        </p:nvGrpSpPr>
        <p:grpSpPr>
          <a:xfrm>
            <a:off x="3970440" y="2027160"/>
            <a:ext cx="1105920" cy="1127160"/>
            <a:chOff x="3970440" y="2027160"/>
            <a:chExt cx="1105920" cy="1127160"/>
          </a:xfrm>
        </p:grpSpPr>
        <p:sp>
          <p:nvSpPr>
            <p:cNvPr id="667" name="Freeform 32"/>
            <p:cNvSpPr/>
            <p:nvPr/>
          </p:nvSpPr>
          <p:spPr>
            <a:xfrm>
              <a:off x="3970440" y="2033280"/>
              <a:ext cx="552960" cy="11210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Freeform 33"/>
            <p:cNvSpPr/>
            <p:nvPr/>
          </p:nvSpPr>
          <p:spPr>
            <a:xfrm flipH="1">
              <a:off x="4523400" y="2029680"/>
              <a:ext cx="552960" cy="11210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34"/>
            <p:cNvSpPr/>
            <p:nvPr/>
          </p:nvSpPr>
          <p:spPr>
            <a:xfrm flipV="1">
              <a:off x="4144680" y="2027160"/>
              <a:ext cx="765720" cy="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Text Box 35"/>
          <p:cNvSpPr/>
          <p:nvPr/>
        </p:nvSpPr>
        <p:spPr>
          <a:xfrm>
            <a:off x="1476360" y="6243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36"/>
          <p:cNvSpPr/>
          <p:nvPr/>
        </p:nvSpPr>
        <p:spPr>
          <a:xfrm>
            <a:off x="6214320" y="62247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37"/>
          <p:cNvSpPr/>
          <p:nvPr/>
        </p:nvSpPr>
        <p:spPr>
          <a:xfrm>
            <a:off x="4082760" y="23302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8"/>
          <p:cNvSpPr/>
          <p:nvPr/>
        </p:nvSpPr>
        <p:spPr>
          <a:xfrm>
            <a:off x="4378320" y="252108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9"/>
          <p:cNvSpPr/>
          <p:nvPr/>
        </p:nvSpPr>
        <p:spPr>
          <a:xfrm>
            <a:off x="4464000" y="23572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0"/>
          <p:cNvSpPr/>
          <p:nvPr/>
        </p:nvSpPr>
        <p:spPr>
          <a:xfrm>
            <a:off x="4008240" y="25480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41"/>
          <p:cNvSpPr/>
          <p:nvPr/>
        </p:nvSpPr>
        <p:spPr>
          <a:xfrm>
            <a:off x="4160880" y="270036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42"/>
          <p:cNvSpPr/>
          <p:nvPr/>
        </p:nvSpPr>
        <p:spPr>
          <a:xfrm>
            <a:off x="4506840" y="269712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43"/>
          <p:cNvSpPr/>
          <p:nvPr/>
        </p:nvSpPr>
        <p:spPr>
          <a:xfrm>
            <a:off x="4268880" y="21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44"/>
          <p:cNvSpPr/>
          <p:nvPr/>
        </p:nvSpPr>
        <p:spPr>
          <a:xfrm>
            <a:off x="801360" y="55832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45"/>
          <p:cNvSpPr/>
          <p:nvPr/>
        </p:nvSpPr>
        <p:spPr>
          <a:xfrm>
            <a:off x="642600" y="52722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6"/>
          <p:cNvSpPr/>
          <p:nvPr/>
        </p:nvSpPr>
        <p:spPr>
          <a:xfrm>
            <a:off x="754200" y="540072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7"/>
          <p:cNvSpPr/>
          <p:nvPr/>
        </p:nvSpPr>
        <p:spPr>
          <a:xfrm>
            <a:off x="1138320" y="517536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48"/>
          <p:cNvSpPr/>
          <p:nvPr/>
        </p:nvSpPr>
        <p:spPr>
          <a:xfrm>
            <a:off x="1088640" y="5570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49"/>
          <p:cNvSpPr/>
          <p:nvPr/>
        </p:nvSpPr>
        <p:spPr>
          <a:xfrm>
            <a:off x="1236240" y="54054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50"/>
          <p:cNvSpPr/>
          <p:nvPr/>
        </p:nvSpPr>
        <p:spPr>
          <a:xfrm>
            <a:off x="752040" y="51069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51"/>
          <p:cNvSpPr/>
          <p:nvPr/>
        </p:nvSpPr>
        <p:spPr>
          <a:xfrm>
            <a:off x="923400" y="49546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52"/>
          <p:cNvSpPr/>
          <p:nvPr/>
        </p:nvSpPr>
        <p:spPr>
          <a:xfrm>
            <a:off x="966960" y="539604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3"/>
          <p:cNvSpPr/>
          <p:nvPr/>
        </p:nvSpPr>
        <p:spPr>
          <a:xfrm>
            <a:off x="2029680" y="4870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54"/>
          <p:cNvSpPr/>
          <p:nvPr/>
        </p:nvSpPr>
        <p:spPr>
          <a:xfrm>
            <a:off x="2328120" y="52293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55"/>
          <p:cNvSpPr/>
          <p:nvPr/>
        </p:nvSpPr>
        <p:spPr>
          <a:xfrm>
            <a:off x="1713600" y="5261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56"/>
          <p:cNvSpPr/>
          <p:nvPr/>
        </p:nvSpPr>
        <p:spPr>
          <a:xfrm>
            <a:off x="1783440" y="5511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57"/>
          <p:cNvSpPr/>
          <p:nvPr/>
        </p:nvSpPr>
        <p:spPr>
          <a:xfrm>
            <a:off x="2096280" y="56167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58"/>
          <p:cNvSpPr/>
          <p:nvPr/>
        </p:nvSpPr>
        <p:spPr>
          <a:xfrm>
            <a:off x="1947960" y="50767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59"/>
          <p:cNvSpPr/>
          <p:nvPr/>
        </p:nvSpPr>
        <p:spPr>
          <a:xfrm>
            <a:off x="2210040" y="54500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60"/>
          <p:cNvSpPr/>
          <p:nvPr/>
        </p:nvSpPr>
        <p:spPr>
          <a:xfrm>
            <a:off x="1998720" y="5248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61"/>
          <p:cNvSpPr/>
          <p:nvPr/>
        </p:nvSpPr>
        <p:spPr>
          <a:xfrm>
            <a:off x="2989440" y="55706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62"/>
          <p:cNvSpPr/>
          <p:nvPr/>
        </p:nvSpPr>
        <p:spPr>
          <a:xfrm>
            <a:off x="2849760" y="5332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3"/>
          <p:cNvSpPr/>
          <p:nvPr/>
        </p:nvSpPr>
        <p:spPr>
          <a:xfrm>
            <a:off x="3124440" y="48387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64"/>
          <p:cNvSpPr/>
          <p:nvPr/>
        </p:nvSpPr>
        <p:spPr>
          <a:xfrm>
            <a:off x="3375000" y="5199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65"/>
          <p:cNvSpPr/>
          <p:nvPr/>
        </p:nvSpPr>
        <p:spPr>
          <a:xfrm>
            <a:off x="3394440" y="54975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66"/>
          <p:cNvSpPr/>
          <p:nvPr/>
        </p:nvSpPr>
        <p:spPr>
          <a:xfrm>
            <a:off x="2947680" y="5114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67"/>
          <p:cNvSpPr/>
          <p:nvPr/>
        </p:nvSpPr>
        <p:spPr>
          <a:xfrm>
            <a:off x="3246120" y="50356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68"/>
          <p:cNvSpPr/>
          <p:nvPr/>
        </p:nvSpPr>
        <p:spPr>
          <a:xfrm>
            <a:off x="3233880" y="5351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9"/>
          <p:cNvSpPr/>
          <p:nvPr/>
        </p:nvSpPr>
        <p:spPr>
          <a:xfrm>
            <a:off x="8056800" y="5380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70"/>
          <p:cNvSpPr/>
          <p:nvPr/>
        </p:nvSpPr>
        <p:spPr>
          <a:xfrm>
            <a:off x="7437240" y="5189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71"/>
          <p:cNvSpPr/>
          <p:nvPr/>
        </p:nvSpPr>
        <p:spPr>
          <a:xfrm>
            <a:off x="5378040" y="55753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72"/>
          <p:cNvSpPr/>
          <p:nvPr/>
        </p:nvSpPr>
        <p:spPr>
          <a:xfrm>
            <a:off x="5491440" y="48322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73"/>
          <p:cNvSpPr/>
          <p:nvPr/>
        </p:nvSpPr>
        <p:spPr>
          <a:xfrm>
            <a:off x="5208120" y="5240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74"/>
          <p:cNvSpPr/>
          <p:nvPr/>
        </p:nvSpPr>
        <p:spPr>
          <a:xfrm>
            <a:off x="5487480" y="50641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75"/>
          <p:cNvSpPr/>
          <p:nvPr/>
        </p:nvSpPr>
        <p:spPr>
          <a:xfrm>
            <a:off x="5686560" y="53802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76"/>
          <p:cNvSpPr/>
          <p:nvPr/>
        </p:nvSpPr>
        <p:spPr>
          <a:xfrm>
            <a:off x="5719320" y="5165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77"/>
          <p:cNvSpPr/>
          <p:nvPr/>
        </p:nvSpPr>
        <p:spPr>
          <a:xfrm>
            <a:off x="5839200" y="5532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78"/>
          <p:cNvSpPr/>
          <p:nvPr/>
        </p:nvSpPr>
        <p:spPr>
          <a:xfrm>
            <a:off x="5335200" y="54338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79"/>
          <p:cNvSpPr/>
          <p:nvPr/>
        </p:nvSpPr>
        <p:spPr>
          <a:xfrm>
            <a:off x="6431040" y="561168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80"/>
          <p:cNvSpPr/>
          <p:nvPr/>
        </p:nvSpPr>
        <p:spPr>
          <a:xfrm>
            <a:off x="6593400" y="48625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81"/>
          <p:cNvSpPr/>
          <p:nvPr/>
        </p:nvSpPr>
        <p:spPr>
          <a:xfrm>
            <a:off x="6350040" y="5221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82"/>
          <p:cNvSpPr/>
          <p:nvPr/>
        </p:nvSpPr>
        <p:spPr>
          <a:xfrm>
            <a:off x="6527880" y="50148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83"/>
          <p:cNvSpPr/>
          <p:nvPr/>
        </p:nvSpPr>
        <p:spPr>
          <a:xfrm>
            <a:off x="6848640" y="5573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84"/>
          <p:cNvSpPr/>
          <p:nvPr/>
        </p:nvSpPr>
        <p:spPr>
          <a:xfrm>
            <a:off x="6423840" y="54118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85"/>
          <p:cNvSpPr/>
          <p:nvPr/>
        </p:nvSpPr>
        <p:spPr>
          <a:xfrm>
            <a:off x="6715080" y="51832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86"/>
          <p:cNvSpPr/>
          <p:nvPr/>
        </p:nvSpPr>
        <p:spPr>
          <a:xfrm>
            <a:off x="6796080" y="53802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87"/>
          <p:cNvSpPr/>
          <p:nvPr/>
        </p:nvSpPr>
        <p:spPr>
          <a:xfrm>
            <a:off x="7686720" y="484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88"/>
          <p:cNvSpPr/>
          <p:nvPr/>
        </p:nvSpPr>
        <p:spPr>
          <a:xfrm>
            <a:off x="7561800" y="5592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89"/>
          <p:cNvSpPr/>
          <p:nvPr/>
        </p:nvSpPr>
        <p:spPr>
          <a:xfrm>
            <a:off x="7930800" y="55864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90"/>
          <p:cNvSpPr/>
          <p:nvPr/>
        </p:nvSpPr>
        <p:spPr>
          <a:xfrm>
            <a:off x="7454880" y="5391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91"/>
          <p:cNvSpPr/>
          <p:nvPr/>
        </p:nvSpPr>
        <p:spPr>
          <a:xfrm>
            <a:off x="7660080" y="508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92"/>
          <p:cNvSpPr/>
          <p:nvPr/>
        </p:nvSpPr>
        <p:spPr>
          <a:xfrm>
            <a:off x="7942320" y="5197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93"/>
          <p:cNvSpPr/>
          <p:nvPr/>
        </p:nvSpPr>
        <p:spPr>
          <a:xfrm>
            <a:off x="7778520" y="53481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94"/>
          <p:cNvSpPr/>
          <p:nvPr/>
        </p:nvSpPr>
        <p:spPr>
          <a:xfrm>
            <a:off x="3981240" y="30970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2 0.03168 C 0.0033 0.000230000000000001 -0.00642 -0.03122 -0.01094 -0.05366 C -0.01545 -0.07609 -0.01684 -0.09089 -0.01354 -0.10338 C -0.01024 -0.11587 -0.0059 -0.12142 0.0092 -0.12813 C 0.02431 -0.13483 0.05729 -0.14663 0.07709 -0.14408 C 0.09688 -0.14154 0.11528 -0.12512 0.12778 -0.11217 C 0.14028 -0.09922 0.14809 -0.07355 0.15174 -0.06591 E">
                                      <p:cBhvr>
                                        <p:cTn id="6" dur="2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6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6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6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250" autoRev="1" fill="hold"/>
                                        <p:tgtEl>
                                          <p:spTgt spid="6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250" autoRev="1" fill="hold"/>
                                        <p:tgtEl>
                                          <p:spTgt spid="6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6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6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6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6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6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6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" autoRev="1" fill="hold"/>
                                        <p:tgtEl>
                                          <p:spTgt spid="6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6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6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6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6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6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6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6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6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6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6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6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7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250" autoRev="1" fill="hold"/>
                                        <p:tgtEl>
                                          <p:spTgt spid="7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7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7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3 -0.03076 C 0.00364 -0.06105 0.00243 -0.09112 0.00243 -0.10892 C 0.00243 -0.12673 0.00173 -0.12673 0.00503 -0.13737 C 0.00833 -0.14801 0.01527 -0.1635 0.02239 -0.17299 C 0.02951 -0.18247 0.03854 -0.18848 0.04774 -0.19426 E">
                                      <p:cBhvr>
                                        <p:cTn id="93" dur="2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2 -0.05042 -0.0184 -0.1006 -0.02136 -0.13136 C -0.02431 -0.16212 -0.01892 -0.17137 -0.01736 -0.18479 C -0.0158 -0.1982 -0.01302 -0.20676 -0.01198 -0.21138 E">
                                      <p:cBhvr>
                                        <p:cTn id="97" dur="20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042 -0.0222 -0.02066 -0.04417 -0.02396 -0.06406 C -0.02726 -0.08395 -0.0217 -0.10638 -0.01997 -0.1191 C -0.01823 -0.13182 -0.00695 -0.12974 -0.01337 -0.14038 C -0.01979 -0.15102 -0.03924 -0.16697 -0.05868 -0.18293 E">
                                      <p:cBhvr>
                                        <p:cTn id="101" dur="2000" fill="hold"/>
                                        <p:tgtEl>
                                          <p:spTgt spid="7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53F5-EAA6-40CE-9A38-7EACFA7DD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Inference Probl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732" name="Group 3"/>
          <p:cNvGrpSpPr/>
          <p:nvPr/>
        </p:nvGrpSpPr>
        <p:grpSpPr>
          <a:xfrm>
            <a:off x="604800" y="4802040"/>
            <a:ext cx="3304800" cy="1512000"/>
            <a:chOff x="604800" y="4802040"/>
            <a:chExt cx="3304800" cy="1512000"/>
          </a:xfrm>
        </p:grpSpPr>
        <p:grpSp>
          <p:nvGrpSpPr>
            <p:cNvPr id="733" name="Group 4"/>
            <p:cNvGrpSpPr/>
            <p:nvPr/>
          </p:nvGrpSpPr>
          <p:grpSpPr>
            <a:xfrm>
              <a:off x="604800" y="4802040"/>
              <a:ext cx="3304800" cy="1142280"/>
              <a:chOff x="604800" y="4802040"/>
              <a:chExt cx="3304800" cy="1142280"/>
            </a:xfrm>
          </p:grpSpPr>
          <p:grpSp>
            <p:nvGrpSpPr>
              <p:cNvPr id="734" name="Group 5"/>
              <p:cNvGrpSpPr/>
              <p:nvPr/>
            </p:nvGrpSpPr>
            <p:grpSpPr>
              <a:xfrm>
                <a:off x="604800" y="4817160"/>
                <a:ext cx="1105920" cy="1127160"/>
                <a:chOff x="604800" y="4817160"/>
                <a:chExt cx="1105920" cy="1127160"/>
              </a:xfrm>
            </p:grpSpPr>
            <p:sp>
              <p:nvSpPr>
                <p:cNvPr id="735" name="Freeform 6"/>
                <p:cNvSpPr/>
                <p:nvPr/>
              </p:nvSpPr>
              <p:spPr>
                <a:xfrm>
                  <a:off x="604800" y="482328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Freeform 7"/>
                <p:cNvSpPr/>
                <p:nvPr/>
              </p:nvSpPr>
              <p:spPr>
                <a:xfrm flipH="1">
                  <a:off x="1157760" y="481968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Line 8"/>
                <p:cNvSpPr/>
                <p:nvPr/>
              </p:nvSpPr>
              <p:spPr>
                <a:xfrm flipV="1">
                  <a:off x="779040" y="481716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Group 9"/>
              <p:cNvGrpSpPr/>
              <p:nvPr/>
            </p:nvGrpSpPr>
            <p:grpSpPr>
              <a:xfrm>
                <a:off x="1703160" y="4810680"/>
                <a:ext cx="1105920" cy="1127160"/>
                <a:chOff x="1703160" y="4810680"/>
                <a:chExt cx="1105920" cy="1127160"/>
              </a:xfrm>
            </p:grpSpPr>
            <p:sp>
              <p:nvSpPr>
                <p:cNvPr id="739" name="Freeform 10"/>
                <p:cNvSpPr/>
                <p:nvPr/>
              </p:nvSpPr>
              <p:spPr>
                <a:xfrm>
                  <a:off x="1703160" y="481680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Freeform 11"/>
                <p:cNvSpPr/>
                <p:nvPr/>
              </p:nvSpPr>
              <p:spPr>
                <a:xfrm flipH="1">
                  <a:off x="2256120" y="481320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Line 12"/>
                <p:cNvSpPr/>
                <p:nvPr/>
              </p:nvSpPr>
              <p:spPr>
                <a:xfrm flipV="1">
                  <a:off x="1877400" y="481068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Group 13"/>
              <p:cNvGrpSpPr/>
              <p:nvPr/>
            </p:nvGrpSpPr>
            <p:grpSpPr>
              <a:xfrm>
                <a:off x="2803680" y="4802040"/>
                <a:ext cx="1105920" cy="1127160"/>
                <a:chOff x="2803680" y="4802040"/>
                <a:chExt cx="1105920" cy="1127160"/>
              </a:xfrm>
            </p:grpSpPr>
            <p:sp>
              <p:nvSpPr>
                <p:cNvPr id="743" name="Freeform 14"/>
                <p:cNvSpPr/>
                <p:nvPr/>
              </p:nvSpPr>
              <p:spPr>
                <a:xfrm>
                  <a:off x="2803680" y="480816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15"/>
                <p:cNvSpPr/>
                <p:nvPr/>
              </p:nvSpPr>
              <p:spPr>
                <a:xfrm flipH="1">
                  <a:off x="3356640" y="4804560"/>
                  <a:ext cx="552960" cy="11210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Line 16"/>
                <p:cNvSpPr/>
                <p:nvPr/>
              </p:nvSpPr>
              <p:spPr>
                <a:xfrm flipV="1">
                  <a:off x="2977920" y="4802040"/>
                  <a:ext cx="76536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6" name="Text Box 17"/>
            <p:cNvSpPr/>
            <p:nvPr/>
          </p:nvSpPr>
          <p:spPr>
            <a:xfrm>
              <a:off x="792360" y="5915160"/>
              <a:ext cx="30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ze          Color        Shap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Group 18"/>
          <p:cNvGrpSpPr/>
          <p:nvPr/>
        </p:nvGrpSpPr>
        <p:grpSpPr>
          <a:xfrm>
            <a:off x="5183280" y="4813200"/>
            <a:ext cx="1105920" cy="1127160"/>
            <a:chOff x="5183280" y="4813200"/>
            <a:chExt cx="1105920" cy="1127160"/>
          </a:xfrm>
        </p:grpSpPr>
        <p:sp>
          <p:nvSpPr>
            <p:cNvPr id="748" name="Freeform 19"/>
            <p:cNvSpPr/>
            <p:nvPr/>
          </p:nvSpPr>
          <p:spPr>
            <a:xfrm>
              <a:off x="5183280" y="4819320"/>
              <a:ext cx="55296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20"/>
            <p:cNvSpPr/>
            <p:nvPr/>
          </p:nvSpPr>
          <p:spPr>
            <a:xfrm flipH="1">
              <a:off x="5736240" y="4815720"/>
              <a:ext cx="55296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21"/>
            <p:cNvSpPr/>
            <p:nvPr/>
          </p:nvSpPr>
          <p:spPr>
            <a:xfrm flipV="1">
              <a:off x="5357520" y="4813200"/>
              <a:ext cx="76572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Group 22"/>
          <p:cNvGrpSpPr/>
          <p:nvPr/>
        </p:nvGrpSpPr>
        <p:grpSpPr>
          <a:xfrm>
            <a:off x="6281640" y="4807080"/>
            <a:ext cx="1106280" cy="1127160"/>
            <a:chOff x="6281640" y="4807080"/>
            <a:chExt cx="1106280" cy="1127160"/>
          </a:xfrm>
        </p:grpSpPr>
        <p:sp>
          <p:nvSpPr>
            <p:cNvPr id="752" name="Freeform 23"/>
            <p:cNvSpPr/>
            <p:nvPr/>
          </p:nvSpPr>
          <p:spPr>
            <a:xfrm>
              <a:off x="6281640" y="4813200"/>
              <a:ext cx="55332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Freeform 24"/>
            <p:cNvSpPr/>
            <p:nvPr/>
          </p:nvSpPr>
          <p:spPr>
            <a:xfrm flipH="1">
              <a:off x="6834240" y="4809600"/>
              <a:ext cx="55332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25"/>
            <p:cNvSpPr/>
            <p:nvPr/>
          </p:nvSpPr>
          <p:spPr>
            <a:xfrm flipV="1">
              <a:off x="6455880" y="480708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26"/>
          <p:cNvGrpSpPr/>
          <p:nvPr/>
        </p:nvGrpSpPr>
        <p:grpSpPr>
          <a:xfrm>
            <a:off x="7381800" y="4797360"/>
            <a:ext cx="1106280" cy="1127160"/>
            <a:chOff x="7381800" y="4797360"/>
            <a:chExt cx="1106280" cy="1127160"/>
          </a:xfrm>
        </p:grpSpPr>
        <p:sp>
          <p:nvSpPr>
            <p:cNvPr id="756" name="Freeform 27"/>
            <p:cNvSpPr/>
            <p:nvPr/>
          </p:nvSpPr>
          <p:spPr>
            <a:xfrm>
              <a:off x="7381800" y="4803480"/>
              <a:ext cx="55332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Freeform 28"/>
            <p:cNvSpPr/>
            <p:nvPr/>
          </p:nvSpPr>
          <p:spPr>
            <a:xfrm flipH="1">
              <a:off x="7934400" y="4799880"/>
              <a:ext cx="553320" cy="11210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29"/>
            <p:cNvSpPr/>
            <p:nvPr/>
          </p:nvSpPr>
          <p:spPr>
            <a:xfrm flipV="1">
              <a:off x="7556040" y="479736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Text Box 30"/>
          <p:cNvSpPr/>
          <p:nvPr/>
        </p:nvSpPr>
        <p:spPr>
          <a:xfrm>
            <a:off x="5370480" y="59101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         Color        Sha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Group 31"/>
          <p:cNvGrpSpPr/>
          <p:nvPr/>
        </p:nvGrpSpPr>
        <p:grpSpPr>
          <a:xfrm>
            <a:off x="4019400" y="3100320"/>
            <a:ext cx="1106280" cy="1127160"/>
            <a:chOff x="4019400" y="3100320"/>
            <a:chExt cx="1106280" cy="1127160"/>
          </a:xfrm>
        </p:grpSpPr>
        <p:sp>
          <p:nvSpPr>
            <p:cNvPr id="761" name="Freeform 32"/>
            <p:cNvSpPr/>
            <p:nvPr/>
          </p:nvSpPr>
          <p:spPr>
            <a:xfrm>
              <a:off x="4019400" y="3106440"/>
              <a:ext cx="553320" cy="11210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33"/>
            <p:cNvSpPr/>
            <p:nvPr/>
          </p:nvSpPr>
          <p:spPr>
            <a:xfrm flipH="1">
              <a:off x="4572000" y="3102840"/>
              <a:ext cx="553320" cy="11210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 flipV="1">
              <a:off x="4193640" y="3100320"/>
              <a:ext cx="766080" cy="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Text Box 35"/>
          <p:cNvSpPr/>
          <p:nvPr/>
        </p:nvSpPr>
        <p:spPr>
          <a:xfrm>
            <a:off x="1476360" y="6243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36"/>
          <p:cNvSpPr/>
          <p:nvPr/>
        </p:nvSpPr>
        <p:spPr>
          <a:xfrm>
            <a:off x="6214320" y="62247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37"/>
          <p:cNvSpPr/>
          <p:nvPr/>
        </p:nvSpPr>
        <p:spPr>
          <a:xfrm>
            <a:off x="4132080" y="34034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38"/>
          <p:cNvSpPr/>
          <p:nvPr/>
        </p:nvSpPr>
        <p:spPr>
          <a:xfrm>
            <a:off x="4427640" y="359424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39"/>
          <p:cNvSpPr/>
          <p:nvPr/>
        </p:nvSpPr>
        <p:spPr>
          <a:xfrm>
            <a:off x="4512960" y="34304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40"/>
          <p:cNvSpPr/>
          <p:nvPr/>
        </p:nvSpPr>
        <p:spPr>
          <a:xfrm>
            <a:off x="4057560" y="36212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41"/>
          <p:cNvSpPr/>
          <p:nvPr/>
        </p:nvSpPr>
        <p:spPr>
          <a:xfrm>
            <a:off x="4209840" y="37735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42"/>
          <p:cNvSpPr/>
          <p:nvPr/>
        </p:nvSpPr>
        <p:spPr>
          <a:xfrm>
            <a:off x="4556160" y="377028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43"/>
          <p:cNvSpPr/>
          <p:nvPr/>
        </p:nvSpPr>
        <p:spPr>
          <a:xfrm>
            <a:off x="4317840" y="326376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44"/>
          <p:cNvSpPr/>
          <p:nvPr/>
        </p:nvSpPr>
        <p:spPr>
          <a:xfrm>
            <a:off x="801360" y="55832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45"/>
          <p:cNvSpPr/>
          <p:nvPr/>
        </p:nvSpPr>
        <p:spPr>
          <a:xfrm>
            <a:off x="642600" y="52722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46"/>
          <p:cNvSpPr/>
          <p:nvPr/>
        </p:nvSpPr>
        <p:spPr>
          <a:xfrm>
            <a:off x="754200" y="540072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47"/>
          <p:cNvSpPr/>
          <p:nvPr/>
        </p:nvSpPr>
        <p:spPr>
          <a:xfrm>
            <a:off x="1138320" y="517536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48"/>
          <p:cNvSpPr/>
          <p:nvPr/>
        </p:nvSpPr>
        <p:spPr>
          <a:xfrm>
            <a:off x="1088640" y="5570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49"/>
          <p:cNvSpPr/>
          <p:nvPr/>
        </p:nvSpPr>
        <p:spPr>
          <a:xfrm>
            <a:off x="1236240" y="54054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50"/>
          <p:cNvSpPr/>
          <p:nvPr/>
        </p:nvSpPr>
        <p:spPr>
          <a:xfrm>
            <a:off x="752040" y="51069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51"/>
          <p:cNvSpPr/>
          <p:nvPr/>
        </p:nvSpPr>
        <p:spPr>
          <a:xfrm>
            <a:off x="923400" y="49546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52"/>
          <p:cNvSpPr/>
          <p:nvPr/>
        </p:nvSpPr>
        <p:spPr>
          <a:xfrm>
            <a:off x="966960" y="539604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53"/>
          <p:cNvSpPr/>
          <p:nvPr/>
        </p:nvSpPr>
        <p:spPr>
          <a:xfrm>
            <a:off x="2029680" y="4870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54"/>
          <p:cNvSpPr/>
          <p:nvPr/>
        </p:nvSpPr>
        <p:spPr>
          <a:xfrm>
            <a:off x="2328120" y="52293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5"/>
          <p:cNvSpPr/>
          <p:nvPr/>
        </p:nvSpPr>
        <p:spPr>
          <a:xfrm>
            <a:off x="1713600" y="5261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56"/>
          <p:cNvSpPr/>
          <p:nvPr/>
        </p:nvSpPr>
        <p:spPr>
          <a:xfrm>
            <a:off x="1783440" y="5511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57"/>
          <p:cNvSpPr/>
          <p:nvPr/>
        </p:nvSpPr>
        <p:spPr>
          <a:xfrm>
            <a:off x="2096280" y="56167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58"/>
          <p:cNvSpPr/>
          <p:nvPr/>
        </p:nvSpPr>
        <p:spPr>
          <a:xfrm>
            <a:off x="1947960" y="50767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59"/>
          <p:cNvSpPr/>
          <p:nvPr/>
        </p:nvSpPr>
        <p:spPr>
          <a:xfrm>
            <a:off x="2210040" y="54500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60"/>
          <p:cNvSpPr/>
          <p:nvPr/>
        </p:nvSpPr>
        <p:spPr>
          <a:xfrm>
            <a:off x="1998720" y="5248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61"/>
          <p:cNvSpPr/>
          <p:nvPr/>
        </p:nvSpPr>
        <p:spPr>
          <a:xfrm>
            <a:off x="2989440" y="55706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62"/>
          <p:cNvSpPr/>
          <p:nvPr/>
        </p:nvSpPr>
        <p:spPr>
          <a:xfrm>
            <a:off x="2849760" y="5332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63"/>
          <p:cNvSpPr/>
          <p:nvPr/>
        </p:nvSpPr>
        <p:spPr>
          <a:xfrm>
            <a:off x="3124440" y="48387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64"/>
          <p:cNvSpPr/>
          <p:nvPr/>
        </p:nvSpPr>
        <p:spPr>
          <a:xfrm>
            <a:off x="3375000" y="5199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65"/>
          <p:cNvSpPr/>
          <p:nvPr/>
        </p:nvSpPr>
        <p:spPr>
          <a:xfrm>
            <a:off x="3394440" y="54975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66"/>
          <p:cNvSpPr/>
          <p:nvPr/>
        </p:nvSpPr>
        <p:spPr>
          <a:xfrm>
            <a:off x="2947680" y="5114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67"/>
          <p:cNvSpPr/>
          <p:nvPr/>
        </p:nvSpPr>
        <p:spPr>
          <a:xfrm>
            <a:off x="3246120" y="50356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68"/>
          <p:cNvSpPr/>
          <p:nvPr/>
        </p:nvSpPr>
        <p:spPr>
          <a:xfrm>
            <a:off x="3233880" y="5351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69"/>
          <p:cNvSpPr/>
          <p:nvPr/>
        </p:nvSpPr>
        <p:spPr>
          <a:xfrm>
            <a:off x="8056800" y="5380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70"/>
          <p:cNvSpPr/>
          <p:nvPr/>
        </p:nvSpPr>
        <p:spPr>
          <a:xfrm>
            <a:off x="7437240" y="5189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71"/>
          <p:cNvSpPr/>
          <p:nvPr/>
        </p:nvSpPr>
        <p:spPr>
          <a:xfrm>
            <a:off x="5378040" y="55753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72"/>
          <p:cNvSpPr/>
          <p:nvPr/>
        </p:nvSpPr>
        <p:spPr>
          <a:xfrm>
            <a:off x="5491440" y="48322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73"/>
          <p:cNvSpPr/>
          <p:nvPr/>
        </p:nvSpPr>
        <p:spPr>
          <a:xfrm>
            <a:off x="5208120" y="5240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74"/>
          <p:cNvSpPr/>
          <p:nvPr/>
        </p:nvSpPr>
        <p:spPr>
          <a:xfrm>
            <a:off x="5487480" y="50641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75"/>
          <p:cNvSpPr/>
          <p:nvPr/>
        </p:nvSpPr>
        <p:spPr>
          <a:xfrm>
            <a:off x="5686560" y="53802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76"/>
          <p:cNvSpPr/>
          <p:nvPr/>
        </p:nvSpPr>
        <p:spPr>
          <a:xfrm>
            <a:off x="5719320" y="5165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5839200" y="5532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78"/>
          <p:cNvSpPr/>
          <p:nvPr/>
        </p:nvSpPr>
        <p:spPr>
          <a:xfrm>
            <a:off x="5335200" y="54338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79"/>
          <p:cNvSpPr/>
          <p:nvPr/>
        </p:nvSpPr>
        <p:spPr>
          <a:xfrm>
            <a:off x="6431040" y="561168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80"/>
          <p:cNvSpPr/>
          <p:nvPr/>
        </p:nvSpPr>
        <p:spPr>
          <a:xfrm>
            <a:off x="6593400" y="48625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81"/>
          <p:cNvSpPr/>
          <p:nvPr/>
        </p:nvSpPr>
        <p:spPr>
          <a:xfrm>
            <a:off x="6350040" y="5221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82"/>
          <p:cNvSpPr/>
          <p:nvPr/>
        </p:nvSpPr>
        <p:spPr>
          <a:xfrm>
            <a:off x="6527880" y="50148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83"/>
          <p:cNvSpPr/>
          <p:nvPr/>
        </p:nvSpPr>
        <p:spPr>
          <a:xfrm>
            <a:off x="6848640" y="5573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84"/>
          <p:cNvSpPr/>
          <p:nvPr/>
        </p:nvSpPr>
        <p:spPr>
          <a:xfrm>
            <a:off x="6423840" y="54118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85"/>
          <p:cNvSpPr/>
          <p:nvPr/>
        </p:nvSpPr>
        <p:spPr>
          <a:xfrm>
            <a:off x="6715080" y="51832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86"/>
          <p:cNvSpPr/>
          <p:nvPr/>
        </p:nvSpPr>
        <p:spPr>
          <a:xfrm>
            <a:off x="6796080" y="53802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87"/>
          <p:cNvSpPr/>
          <p:nvPr/>
        </p:nvSpPr>
        <p:spPr>
          <a:xfrm>
            <a:off x="7686720" y="484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88"/>
          <p:cNvSpPr/>
          <p:nvPr/>
        </p:nvSpPr>
        <p:spPr>
          <a:xfrm>
            <a:off x="7561800" y="5592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89"/>
          <p:cNvSpPr/>
          <p:nvPr/>
        </p:nvSpPr>
        <p:spPr>
          <a:xfrm>
            <a:off x="7930800" y="55864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90"/>
          <p:cNvSpPr/>
          <p:nvPr/>
        </p:nvSpPr>
        <p:spPr>
          <a:xfrm>
            <a:off x="7454880" y="5391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91"/>
          <p:cNvSpPr/>
          <p:nvPr/>
        </p:nvSpPr>
        <p:spPr>
          <a:xfrm>
            <a:off x="7660080" y="508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92"/>
          <p:cNvSpPr/>
          <p:nvPr/>
        </p:nvSpPr>
        <p:spPr>
          <a:xfrm>
            <a:off x="7942320" y="5197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93"/>
          <p:cNvSpPr/>
          <p:nvPr/>
        </p:nvSpPr>
        <p:spPr>
          <a:xfrm>
            <a:off x="7778520" y="53481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94"/>
          <p:cNvSpPr/>
          <p:nvPr/>
        </p:nvSpPr>
        <p:spPr>
          <a:xfrm>
            <a:off x="4030560" y="4170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95"/>
          <p:cNvSpPr/>
          <p:nvPr/>
        </p:nvSpPr>
        <p:spPr>
          <a:xfrm>
            <a:off x="3852720" y="200196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g  red cir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Group 96"/>
          <p:cNvGrpSpPr/>
          <p:nvPr/>
        </p:nvGrpSpPr>
        <p:grpSpPr>
          <a:xfrm>
            <a:off x="2682720" y="2206800"/>
            <a:ext cx="3638520" cy="1864800"/>
            <a:chOff x="2682720" y="2206800"/>
            <a:chExt cx="3638520" cy="1864800"/>
          </a:xfrm>
        </p:grpSpPr>
        <p:sp>
          <p:nvSpPr>
            <p:cNvPr id="826" name="Line 97"/>
            <p:cNvSpPr/>
            <p:nvPr/>
          </p:nvSpPr>
          <p:spPr>
            <a:xfrm flipV="1">
              <a:off x="2682720" y="2511000"/>
              <a:ext cx="1243080" cy="15606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98"/>
            <p:cNvSpPr/>
            <p:nvPr/>
          </p:nvSpPr>
          <p:spPr>
            <a:xfrm flipH="1" flipV="1">
              <a:off x="5078160" y="2443320"/>
              <a:ext cx="1243080" cy="1560240"/>
            </a:xfrm>
            <a:prstGeom prst="line">
              <a:avLst/>
            </a:prstGeom>
            <a:ln w="7632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99"/>
            <p:cNvSpPr/>
            <p:nvPr/>
          </p:nvSpPr>
          <p:spPr>
            <a:xfrm>
              <a:off x="3889440" y="2206800"/>
              <a:ext cx="12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??     ?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1ECD-9DE3-4394-8DA4-B733480B4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ian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features of an instance are independ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 the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onditionally 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we then only need to know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possible pair of a feature-value and a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binary, this requires specifying only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) and 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false) for each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fals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= 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d to specifying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without any independence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Object 4"/>
              <p:cNvSpPr txBox="1"/>
              <p:nvPr/>
            </p:nvSpPr>
            <p:spPr>
              <a:xfrm>
                <a:off x="1306440" y="1933560"/>
                <a:ext cx="64533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EA87-01AC-48D0-B3BE-37A68B904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Categrization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457200" y="1600200"/>
          <a:ext cx="4648320" cy="4051440"/>
        </p:xfrm>
        <a:graphic>
          <a:graphicData uri="http://schemas.openxmlformats.org/drawingml/2006/table">
            <a:tbl>
              <a:tblPr/>
              <a:tblGrid>
                <a:gridCol w="1549440"/>
                <a:gridCol w="1549440"/>
                <a:gridCol w="15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mall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medium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larg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red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blu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green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quar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riang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irc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6" name="Line 249"/>
          <p:cNvSpPr/>
          <p:nvPr/>
        </p:nvSpPr>
        <p:spPr>
          <a:xfrm>
            <a:off x="446040" y="231300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250"/>
          <p:cNvSpPr/>
          <p:nvPr/>
        </p:nvSpPr>
        <p:spPr>
          <a:xfrm>
            <a:off x="457200" y="342900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251"/>
          <p:cNvSpPr/>
          <p:nvPr/>
        </p:nvSpPr>
        <p:spPr>
          <a:xfrm>
            <a:off x="439560" y="4519440"/>
            <a:ext cx="4648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312"/>
          <p:cNvSpPr/>
          <p:nvPr/>
        </p:nvSpPr>
        <p:spPr>
          <a:xfrm>
            <a:off x="5642640" y="3124080"/>
            <a:ext cx="24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dium ,red, circ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33A1-5E9A-49F0-8144-3EBE7E737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Categorization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457200" y="1600200"/>
          <a:ext cx="4648320" cy="1843200"/>
        </p:xfrm>
        <a:graphic>
          <a:graphicData uri="http://schemas.openxmlformats.org/drawingml/2006/table">
            <a:tbl>
              <a:tblPr/>
              <a:tblGrid>
                <a:gridCol w="1549440"/>
                <a:gridCol w="1549440"/>
                <a:gridCol w="15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medium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red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irc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3" name="Line 53"/>
          <p:cNvSpPr/>
          <p:nvPr/>
        </p:nvSpPr>
        <p:spPr>
          <a:xfrm>
            <a:off x="446040" y="231300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54"/>
          <p:cNvSpPr/>
          <p:nvPr/>
        </p:nvSpPr>
        <p:spPr>
          <a:xfrm>
            <a:off x="433440" y="2697120"/>
            <a:ext cx="4648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55"/>
          <p:cNvSpPr/>
          <p:nvPr/>
        </p:nvSpPr>
        <p:spPr>
          <a:xfrm>
            <a:off x="441360" y="305604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63"/>
          <p:cNvSpPr/>
          <p:nvPr/>
        </p:nvSpPr>
        <p:spPr>
          <a:xfrm>
            <a:off x="295200" y="3581280"/>
            <a:ext cx="8730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posi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P(positive)*P(medium | positive)*P(red | positive)*P(circle | positive)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        *               0.1              *        0.9            *       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0.0405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64"/>
          <p:cNvSpPr/>
          <p:nvPr/>
        </p:nvSpPr>
        <p:spPr>
          <a:xfrm>
            <a:off x="248400" y="4572000"/>
            <a:ext cx="9053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nega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P(negative)*P(medium | negative)*P(red | negative)*P(circle | negative)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       *              0.2               *        0.3             *     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0.009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101"/>
          <p:cNvSpPr/>
          <p:nvPr/>
        </p:nvSpPr>
        <p:spPr>
          <a:xfrm>
            <a:off x="218160" y="5562720"/>
            <a:ext cx="62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posi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P(nega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0.0405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0.009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102"/>
          <p:cNvSpPr/>
          <p:nvPr/>
        </p:nvSpPr>
        <p:spPr>
          <a:xfrm>
            <a:off x="299880" y="6019920"/>
            <a:ext cx="33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(0.0405 + 0.009) = 0.049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03"/>
          <p:cNvSpPr/>
          <p:nvPr/>
        </p:nvSpPr>
        <p:spPr>
          <a:xfrm>
            <a:off x="3272760" y="419112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.0405 / 0.0495 = 0.81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04"/>
          <p:cNvSpPr/>
          <p:nvPr/>
        </p:nvSpPr>
        <p:spPr>
          <a:xfrm>
            <a:off x="3196440" y="518148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.009 / 0.0495 = 0.18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05"/>
          <p:cNvSpPr/>
          <p:nvPr/>
        </p:nvSpPr>
        <p:spPr>
          <a:xfrm>
            <a:off x="5667840" y="2587680"/>
            <a:ext cx="24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dium ,red, circ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C134-A67F-4B0C-AF8F-DBC45E858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ed for Probabilistic Reaso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893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everyday reasoning is based on uncertain evidence and infer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al logic, which only allows conclusions to be strictly true or strictly false, does not account for this uncertainty or the need to weigh and combine conflicting evi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ghtforward application of probability theory is impractical since the large number of probability parameters required are rarely, if ever,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early expert systems employed fair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 ho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for reasoning under uncertainty and for combining evi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ly, methods more rigorously founded in probability theory that attempt to decrease the amount of conditional probabilities required have flour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864A-1A60-4017-910D-AB95DECB2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Diagnosis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= {allergy, cold, well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neeze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ough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f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= {sneeze, cough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1523880" y="3505320"/>
          <a:ext cx="5181840" cy="2297160"/>
        </p:xfrm>
        <a:graphic>
          <a:graphicData uri="http://schemas.openxmlformats.org/drawingml/2006/table">
            <a:tbl>
              <a:tblPr/>
              <a:tblGrid>
                <a:gridCol w="1676520"/>
                <a:gridCol w="1104840"/>
                <a:gridCol w="11811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r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neeze|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ough|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fever|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3913-388E-4636-BD46-4699FCE9C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Diagnosis Example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well | E) = (0.9)(0.1)(0.1)(0.99)/P(E)=0.0089/P(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cold | E) = (0.05)(0.9)(0.8)(0.3)/P(E)=0.01/P(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allergy | E) = (0.05)(0.9)(0.7)(0.6)/P(E)=0.019/P(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probable category: all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E) = 0.0089 + 0.01 + 0.019 = 0.03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well | E) = 0.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cold | E) = 0.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allergy | E) = 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838080" y="1447920"/>
          <a:ext cx="5029200" cy="1963440"/>
        </p:xfrm>
        <a:graphic>
          <a:graphicData uri="http://schemas.openxmlformats.org/drawingml/2006/table">
            <a:tbl>
              <a:tblPr/>
              <a:tblGrid>
                <a:gridCol w="1676520"/>
                <a:gridCol w="1104840"/>
                <a:gridCol w="1181160"/>
                <a:gridCol w="10666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neeze |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ough |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fever |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1" name="Rectangle 37"/>
          <p:cNvSpPr/>
          <p:nvPr/>
        </p:nvSpPr>
        <p:spPr>
          <a:xfrm>
            <a:off x="5946120" y="2209680"/>
            <a:ext cx="29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={sneeze, cough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ver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F888-43BF-40C0-A167-031BFA109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stimating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91856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ly, probabilities are estimated based on observed frequencies in the training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in categ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 hav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value for fea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estimating such probabilities from small training sets is error-pr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ue only to chance, a rare featur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always false in the training dat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then occurs in a test examp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result is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4"/>
              <p:cNvSpPr txBox="1"/>
              <p:nvPr/>
            </p:nvSpPr>
            <p:spPr>
              <a:xfrm>
                <a:off x="2503440" y="2708280"/>
                <a:ext cx="35625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02D8-1037-422B-9816-B67972211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ty Estimation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4425840" y="1487520"/>
          <a:ext cx="4572000" cy="40514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mall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medium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larg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red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blu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green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quar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riang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irc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9" name=""/>
          <p:cNvGraphicFramePr/>
          <p:nvPr/>
        </p:nvGraphicFramePr>
        <p:xfrm>
          <a:off x="0" y="1644480"/>
          <a:ext cx="4343400" cy="2867040"/>
        </p:xfrm>
        <a:graphic>
          <a:graphicData uri="http://schemas.openxmlformats.org/drawingml/2006/table">
            <a:tbl>
              <a:tblPr/>
              <a:tblGrid>
                <a:gridCol w="828720"/>
                <a:gridCol w="828720"/>
                <a:gridCol w="825480"/>
                <a:gridCol w="826920"/>
                <a:gridCol w="1033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ha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tri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b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70" name="Group 164"/>
          <p:cNvGrpSpPr/>
          <p:nvPr/>
        </p:nvGrpSpPr>
        <p:grpSpPr>
          <a:xfrm>
            <a:off x="151200" y="4919760"/>
            <a:ext cx="5103360" cy="1719720"/>
            <a:chOff x="151200" y="4919760"/>
            <a:chExt cx="5103360" cy="1719720"/>
          </a:xfrm>
        </p:grpSpPr>
        <p:sp>
          <p:nvSpPr>
            <p:cNvPr id="871" name="Text Box 161"/>
            <p:cNvSpPr/>
            <p:nvPr/>
          </p:nvSpPr>
          <p:spPr>
            <a:xfrm>
              <a:off x="981720" y="4919760"/>
              <a:ext cx="244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st Instanc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medium, red, circl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162"/>
            <p:cNvSpPr/>
            <p:nvPr/>
          </p:nvSpPr>
          <p:spPr>
            <a:xfrm>
              <a:off x="160200" y="5781600"/>
              <a:ext cx="504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positive |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0.5 * 0.0 * 1.0 * 1.0 / P(X) 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Text Box 163"/>
            <p:cNvSpPr/>
            <p:nvPr/>
          </p:nvSpPr>
          <p:spPr>
            <a:xfrm>
              <a:off x="151200" y="6240600"/>
              <a:ext cx="51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negative |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0.5 * 0.0 * 0.5 * 0.5 / P(X) 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0298-AC09-489C-9A4F-9F62F3B31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count for estimation from small samples, probability estimates are adjuste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mooth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lace smoothing using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estimate assumes that each feature is given a prior probabilit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is assumed to have been previously observed in a “virtual”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binary featur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imply assumed to be 0.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Object 4"/>
              <p:cNvSpPr txBox="1"/>
              <p:nvPr/>
            </p:nvSpPr>
            <p:spPr>
              <a:xfrm>
                <a:off x="2187720" y="4038480"/>
                <a:ext cx="39909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470C-D272-4AA9-BDD6-18BE6AF65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place Smoth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raining set contains 10 positive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4: sm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: mediu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6: larg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parameters as follows (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small | positive) = (4 + 1/3) / (10 + 1) =     0.394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medium | positive) = (0 + 1/3) / (10 + 1) = 0.03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large | positive) = (6 + 1/3) / (10 + 1) =      0.576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small or medium or large | positive) =        1.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1" name="Line 4"/>
          <p:cNvSpPr/>
          <p:nvPr/>
        </p:nvSpPr>
        <p:spPr>
          <a:xfrm>
            <a:off x="6705720" y="5029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2E43-D794-4519-9B17-6B87B68B2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Categorization Applic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p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commend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Yahoo-like classifica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group/Blog Mess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commend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m filter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entiment analysis for market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 arti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rsonalized newspap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 mess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out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ioritizing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olderiz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m filter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vertising on Gmai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B37E-60A0-4BFF-8518-292FBED3D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Categorization Metho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 representation of a document is a “bag of words,” i.e. set of words with their frequencies, word order is igno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a high-dimensional vector representation (one feature for each wor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ctors are sparse since most words are r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Zipf’s law and heavy-tailed distributio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8635-A93E-4192-9BBB-A02BCE3F1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ed as generating a bag of words for a document in a given category by repeatedly sampling with replacement from a vocabula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sed on the probabilities 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ooth probability estimates with Laplace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stimates assuming a uniform distribution over all word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/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quivalent to a virtual sample of seeing each word in each category exactly onc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648B-AE0C-4FB6-B605-E6B055B9E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"/>
          <p:cNvSpPr/>
          <p:nvPr/>
        </p:nvSpPr>
        <p:spPr>
          <a:xfrm>
            <a:off x="2158920" y="54039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3"/>
          <p:cNvSpPr/>
          <p:nvPr/>
        </p:nvSpPr>
        <p:spPr>
          <a:xfrm>
            <a:off x="2188440" y="516744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"/>
          <p:cNvSpPr/>
          <p:nvPr/>
        </p:nvSpPr>
        <p:spPr>
          <a:xfrm>
            <a:off x="1167840" y="51530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Generative Model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896" name="Group 6"/>
          <p:cNvGrpSpPr/>
          <p:nvPr/>
        </p:nvGrpSpPr>
        <p:grpSpPr>
          <a:xfrm>
            <a:off x="5943600" y="4266720"/>
            <a:ext cx="1742760" cy="1971720"/>
            <a:chOff x="5943600" y="4266720"/>
            <a:chExt cx="1742760" cy="1971720"/>
          </a:xfrm>
        </p:grpSpPr>
        <p:sp>
          <p:nvSpPr>
            <p:cNvPr id="897" name="Freeform 7"/>
            <p:cNvSpPr/>
            <p:nvPr/>
          </p:nvSpPr>
          <p:spPr>
            <a:xfrm>
              <a:off x="5943600" y="4277880"/>
              <a:ext cx="871560" cy="196056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Freeform 8"/>
            <p:cNvSpPr/>
            <p:nvPr/>
          </p:nvSpPr>
          <p:spPr>
            <a:xfrm flipH="1">
              <a:off x="6814440" y="4271760"/>
              <a:ext cx="871560" cy="196056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9"/>
            <p:cNvSpPr/>
            <p:nvPr/>
          </p:nvSpPr>
          <p:spPr>
            <a:xfrm flipV="1">
              <a:off x="6218280" y="4266720"/>
              <a:ext cx="1206720" cy="126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0"/>
          <p:cNvGrpSpPr/>
          <p:nvPr/>
        </p:nvGrpSpPr>
        <p:grpSpPr>
          <a:xfrm>
            <a:off x="1143000" y="4266720"/>
            <a:ext cx="1742760" cy="1971720"/>
            <a:chOff x="1143000" y="4266720"/>
            <a:chExt cx="1742760" cy="1971720"/>
          </a:xfrm>
        </p:grpSpPr>
        <p:sp>
          <p:nvSpPr>
            <p:cNvPr id="901" name="Freeform 11"/>
            <p:cNvSpPr/>
            <p:nvPr/>
          </p:nvSpPr>
          <p:spPr>
            <a:xfrm>
              <a:off x="1143000" y="4277880"/>
              <a:ext cx="871560" cy="1960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2"/>
            <p:cNvSpPr/>
            <p:nvPr/>
          </p:nvSpPr>
          <p:spPr>
            <a:xfrm flipH="1">
              <a:off x="2013840" y="4271760"/>
              <a:ext cx="871560" cy="1960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13"/>
            <p:cNvSpPr/>
            <p:nvPr/>
          </p:nvSpPr>
          <p:spPr>
            <a:xfrm flipV="1">
              <a:off x="1417680" y="4266720"/>
              <a:ext cx="120672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4" name="Text Box 14"/>
          <p:cNvSpPr/>
          <p:nvPr/>
        </p:nvSpPr>
        <p:spPr>
          <a:xfrm>
            <a:off x="1521360" y="61484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5"/>
          <p:cNvSpPr/>
          <p:nvPr/>
        </p:nvSpPr>
        <p:spPr>
          <a:xfrm>
            <a:off x="6440400" y="61768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6"/>
          <p:cNvSpPr/>
          <p:nvPr/>
        </p:nvSpPr>
        <p:spPr>
          <a:xfrm>
            <a:off x="1427040" y="49766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7"/>
          <p:cNvSpPr/>
          <p:nvPr/>
        </p:nvSpPr>
        <p:spPr>
          <a:xfrm>
            <a:off x="1743120" y="582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8"/>
          <p:cNvSpPr/>
          <p:nvPr/>
        </p:nvSpPr>
        <p:spPr>
          <a:xfrm>
            <a:off x="1863360" y="5646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9"/>
          <p:cNvSpPr/>
          <p:nvPr/>
        </p:nvSpPr>
        <p:spPr>
          <a:xfrm>
            <a:off x="1223280" y="53974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t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20"/>
          <p:cNvSpPr/>
          <p:nvPr/>
        </p:nvSpPr>
        <p:spPr>
          <a:xfrm>
            <a:off x="2286000" y="4902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21"/>
          <p:cNvSpPr/>
          <p:nvPr/>
        </p:nvSpPr>
        <p:spPr>
          <a:xfrm>
            <a:off x="1981080" y="5054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22"/>
          <p:cNvSpPr/>
          <p:nvPr/>
        </p:nvSpPr>
        <p:spPr>
          <a:xfrm>
            <a:off x="1692360" y="4714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23"/>
          <p:cNvSpPr/>
          <p:nvPr/>
        </p:nvSpPr>
        <p:spPr>
          <a:xfrm>
            <a:off x="6867360" y="5006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24"/>
          <p:cNvSpPr/>
          <p:nvPr/>
        </p:nvSpPr>
        <p:spPr>
          <a:xfrm>
            <a:off x="6703560" y="58183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25"/>
          <p:cNvSpPr/>
          <p:nvPr/>
        </p:nvSpPr>
        <p:spPr>
          <a:xfrm>
            <a:off x="5952240" y="4995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26"/>
          <p:cNvSpPr/>
          <p:nvPr/>
        </p:nvSpPr>
        <p:spPr>
          <a:xfrm>
            <a:off x="6168960" y="5783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27"/>
          <p:cNvSpPr/>
          <p:nvPr/>
        </p:nvSpPr>
        <p:spPr>
          <a:xfrm>
            <a:off x="6464880" y="47163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28"/>
          <p:cNvSpPr/>
          <p:nvPr/>
        </p:nvSpPr>
        <p:spPr>
          <a:xfrm>
            <a:off x="6086160" y="524664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9"/>
          <p:cNvSpPr/>
          <p:nvPr/>
        </p:nvSpPr>
        <p:spPr>
          <a:xfrm>
            <a:off x="6140520" y="55245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30"/>
          <p:cNvSpPr/>
          <p:nvPr/>
        </p:nvSpPr>
        <p:spPr>
          <a:xfrm>
            <a:off x="6390720" y="43480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31"/>
          <p:cNvSpPr/>
          <p:nvPr/>
        </p:nvSpPr>
        <p:spPr>
          <a:xfrm>
            <a:off x="1603080" y="44211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32"/>
          <p:cNvSpPr/>
          <p:nvPr/>
        </p:nvSpPr>
        <p:spPr>
          <a:xfrm>
            <a:off x="6546960" y="52689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33"/>
          <p:cNvSpPr/>
          <p:nvPr/>
        </p:nvSpPr>
        <p:spPr>
          <a:xfrm>
            <a:off x="6961320" y="5518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4"/>
          <p:cNvSpPr/>
          <p:nvPr/>
        </p:nvSpPr>
        <p:spPr>
          <a:xfrm>
            <a:off x="1447920" y="56642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Group 35"/>
          <p:cNvGrpSpPr/>
          <p:nvPr/>
        </p:nvGrpSpPr>
        <p:grpSpPr>
          <a:xfrm>
            <a:off x="3581280" y="1904760"/>
            <a:ext cx="1742760" cy="1971720"/>
            <a:chOff x="3581280" y="1904760"/>
            <a:chExt cx="1742760" cy="1971720"/>
          </a:xfrm>
        </p:grpSpPr>
        <p:sp>
          <p:nvSpPr>
            <p:cNvPr id="926" name="Freeform 36"/>
            <p:cNvSpPr/>
            <p:nvPr/>
          </p:nvSpPr>
          <p:spPr>
            <a:xfrm>
              <a:off x="3581280" y="1915920"/>
              <a:ext cx="871560" cy="1960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37"/>
            <p:cNvSpPr/>
            <p:nvPr/>
          </p:nvSpPr>
          <p:spPr>
            <a:xfrm flipH="1">
              <a:off x="4452120" y="1909800"/>
              <a:ext cx="871560" cy="1960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38"/>
            <p:cNvSpPr/>
            <p:nvPr/>
          </p:nvSpPr>
          <p:spPr>
            <a:xfrm flipV="1">
              <a:off x="3855960" y="1904760"/>
              <a:ext cx="120672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Text Box 39"/>
          <p:cNvSpPr/>
          <p:nvPr/>
        </p:nvSpPr>
        <p:spPr>
          <a:xfrm>
            <a:off x="3732480" y="2590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40"/>
          <p:cNvSpPr/>
          <p:nvPr/>
        </p:nvSpPr>
        <p:spPr>
          <a:xfrm>
            <a:off x="3733200" y="28954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1"/>
          <p:cNvSpPr/>
          <p:nvPr/>
        </p:nvSpPr>
        <p:spPr>
          <a:xfrm>
            <a:off x="3808800" y="32004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42"/>
          <p:cNvSpPr/>
          <p:nvPr/>
        </p:nvSpPr>
        <p:spPr>
          <a:xfrm>
            <a:off x="4418280" y="26668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43"/>
          <p:cNvSpPr/>
          <p:nvPr/>
        </p:nvSpPr>
        <p:spPr>
          <a:xfrm>
            <a:off x="4156920" y="23623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44"/>
          <p:cNvSpPr/>
          <p:nvPr/>
        </p:nvSpPr>
        <p:spPr>
          <a:xfrm>
            <a:off x="4037400" y="19810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45"/>
          <p:cNvSpPr/>
          <p:nvPr/>
        </p:nvSpPr>
        <p:spPr>
          <a:xfrm>
            <a:off x="4494960" y="29718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46"/>
          <p:cNvSpPr/>
          <p:nvPr/>
        </p:nvSpPr>
        <p:spPr>
          <a:xfrm>
            <a:off x="4037760" y="342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47"/>
          <p:cNvSpPr/>
          <p:nvPr/>
        </p:nvSpPr>
        <p:spPr>
          <a:xfrm>
            <a:off x="4494600" y="3276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8"/>
          <p:cNvSpPr/>
          <p:nvPr/>
        </p:nvSpPr>
        <p:spPr>
          <a:xfrm>
            <a:off x="3784680" y="38368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49"/>
          <p:cNvSpPr/>
          <p:nvPr/>
        </p:nvSpPr>
        <p:spPr>
          <a:xfrm>
            <a:off x="1861920" y="56484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50"/>
          <p:cNvSpPr/>
          <p:nvPr/>
        </p:nvSpPr>
        <p:spPr>
          <a:xfrm>
            <a:off x="2188440" y="516744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51"/>
          <p:cNvSpPr/>
          <p:nvPr/>
        </p:nvSpPr>
        <p:spPr>
          <a:xfrm>
            <a:off x="1427040" y="49766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52"/>
          <p:cNvSpPr/>
          <p:nvPr/>
        </p:nvSpPr>
        <p:spPr>
          <a:xfrm>
            <a:off x="2286000" y="490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5.78035E-008 C -0.01285 -0.02751 -0.02553 -0.05503 -0.03178 -0.08879 C -0.03803 -0.12254 -0.03716 -0.18405 -0.03803 -0.203 E">
                                      <p:cBhvr>
                                        <p:cTn id="153" dur="2000" fill="hold"/>
                                        <p:tgtEl>
                                          <p:spTgt spid="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7052E-006 C -0.01059 -0.04579 -0.02101 -0.09134 -0.02709 -0.1311 C -0.03316 -0.17087 -0.01528 -0.21411 -0.03663 -0.23885 C -0.05799 -0.26359 -0.13577 -0.27214 -0.15556 -0.27908 E">
                                      <p:cBhvr>
                                        <p:cTn id="162" dur="2000" fill="hold"/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6.99422E-006 C 0.01337 -0.02405 0.02674 -0.04787 0.03021 -0.07608 C 0.03369 -0.10429 0.0283 -0.15076 0.02067 -0.16903 C 0.01303 -0.18729 -0.00972 -0.1829 -0.01579 -0.18614 E">
                                      <p:cBhvr>
                                        <p:cTn id="166" dur="20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2948E-006 C -0.01545 -0.02197 -0.0309 -0.04393 -0.03958 -0.06544 C -0.04826 -0.08694 -0.05538 -0.10336 -0.05225 -0.12902 C -0.04913 -0.15468 -0.02552 -0.2044 -0.02048 -0.21989 E">
                                      <p:cBhvr>
                                        <p:cTn id="170" dur="2000" fill="hold"/>
                                        <p:tgtEl>
                                          <p:spTgt spid="8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79191E-006 C -0.0191 -0.01989 -0.03819 -0.03954 -0.04444 -0.05919 C -0.05069 -0.07885 -0.05416 -0.09943 -0.03802 -0.11839 C -0.02187 -0.13734 0.03733 -0.1637 0.05243 -0.17318 E">
                                      <p:cBhvr>
                                        <p:cTn id="174" dur="200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B480-FBA5-4B55-A788-48FBEB39A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xioms of Probability The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babilities between 0 an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proposition has probability 1, false has probability 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true) = 1        P(false) =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of  disjunctio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4"/>
              <p:cNvSpPr txBox="1"/>
              <p:nvPr/>
            </p:nvSpPr>
            <p:spPr>
              <a:xfrm>
                <a:off x="1676520" y="2057400"/>
                <a:ext cx="1987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5"/>
              <p:cNvSpPr txBox="1"/>
              <p:nvPr/>
            </p:nvSpPr>
            <p:spPr>
              <a:xfrm>
                <a:off x="1447920" y="4800600"/>
                <a:ext cx="5410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4" name="Oval 6"/>
          <p:cNvSpPr/>
          <p:nvPr/>
        </p:nvSpPr>
        <p:spPr>
          <a:xfrm>
            <a:off x="2963880" y="5487840"/>
            <a:ext cx="16002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Oval 7"/>
          <p:cNvSpPr/>
          <p:nvPr/>
        </p:nvSpPr>
        <p:spPr>
          <a:xfrm>
            <a:off x="3573360" y="5487840"/>
            <a:ext cx="175284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3040200" y="5640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4877280" y="5638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10"/>
              <p:cNvSpPr txBox="1"/>
              <p:nvPr/>
            </p:nvSpPr>
            <p:spPr>
              <a:xfrm>
                <a:off x="3726000" y="5678640"/>
                <a:ext cx="7617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562F-87B0-486F-B9D3-A79D72E6E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Text Classification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5" name="Text Box 3"/>
          <p:cNvSpPr/>
          <p:nvPr/>
        </p:nvSpPr>
        <p:spPr>
          <a:xfrm>
            <a:off x="2311560" y="5556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4"/>
          <p:cNvSpPr/>
          <p:nvPr/>
        </p:nvSpPr>
        <p:spPr>
          <a:xfrm>
            <a:off x="2350440" y="531972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5"/>
          <p:cNvSpPr/>
          <p:nvPr/>
        </p:nvSpPr>
        <p:spPr>
          <a:xfrm>
            <a:off x="1320480" y="53053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Group 6"/>
          <p:cNvGrpSpPr/>
          <p:nvPr/>
        </p:nvGrpSpPr>
        <p:grpSpPr>
          <a:xfrm>
            <a:off x="6095880" y="4419360"/>
            <a:ext cx="1742760" cy="1971720"/>
            <a:chOff x="6095880" y="4419360"/>
            <a:chExt cx="1742760" cy="1971720"/>
          </a:xfrm>
        </p:grpSpPr>
        <p:sp>
          <p:nvSpPr>
            <p:cNvPr id="949" name="Freeform 7"/>
            <p:cNvSpPr/>
            <p:nvPr/>
          </p:nvSpPr>
          <p:spPr>
            <a:xfrm>
              <a:off x="6095880" y="4430520"/>
              <a:ext cx="871560" cy="196056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Freeform 8"/>
            <p:cNvSpPr/>
            <p:nvPr/>
          </p:nvSpPr>
          <p:spPr>
            <a:xfrm flipH="1">
              <a:off x="6966720" y="4424400"/>
              <a:ext cx="871560" cy="196056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Line 9"/>
            <p:cNvSpPr/>
            <p:nvPr/>
          </p:nvSpPr>
          <p:spPr>
            <a:xfrm flipV="1">
              <a:off x="6370560" y="4419360"/>
              <a:ext cx="1206720" cy="126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Group 10"/>
          <p:cNvGrpSpPr/>
          <p:nvPr/>
        </p:nvGrpSpPr>
        <p:grpSpPr>
          <a:xfrm>
            <a:off x="1295280" y="4419360"/>
            <a:ext cx="1742760" cy="1971720"/>
            <a:chOff x="1295280" y="4419360"/>
            <a:chExt cx="1742760" cy="1971720"/>
          </a:xfrm>
        </p:grpSpPr>
        <p:sp>
          <p:nvSpPr>
            <p:cNvPr id="953" name="Freeform 11"/>
            <p:cNvSpPr/>
            <p:nvPr/>
          </p:nvSpPr>
          <p:spPr>
            <a:xfrm>
              <a:off x="1295280" y="4430520"/>
              <a:ext cx="871560" cy="1960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12"/>
            <p:cNvSpPr/>
            <p:nvPr/>
          </p:nvSpPr>
          <p:spPr>
            <a:xfrm flipH="1">
              <a:off x="2166120" y="4424400"/>
              <a:ext cx="871560" cy="1960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13"/>
            <p:cNvSpPr/>
            <p:nvPr/>
          </p:nvSpPr>
          <p:spPr>
            <a:xfrm flipV="1">
              <a:off x="1569960" y="4419360"/>
              <a:ext cx="120672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Text Box 14"/>
          <p:cNvSpPr/>
          <p:nvPr/>
        </p:nvSpPr>
        <p:spPr>
          <a:xfrm>
            <a:off x="1673640" y="6300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5"/>
          <p:cNvSpPr/>
          <p:nvPr/>
        </p:nvSpPr>
        <p:spPr>
          <a:xfrm>
            <a:off x="6593040" y="63295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16"/>
          <p:cNvSpPr/>
          <p:nvPr/>
        </p:nvSpPr>
        <p:spPr>
          <a:xfrm>
            <a:off x="1579680" y="5129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7"/>
          <p:cNvSpPr/>
          <p:nvPr/>
        </p:nvSpPr>
        <p:spPr>
          <a:xfrm>
            <a:off x="1895400" y="597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18"/>
          <p:cNvSpPr/>
          <p:nvPr/>
        </p:nvSpPr>
        <p:spPr>
          <a:xfrm>
            <a:off x="2016000" y="57992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19"/>
          <p:cNvSpPr/>
          <p:nvPr/>
        </p:nvSpPr>
        <p:spPr>
          <a:xfrm>
            <a:off x="1375560" y="554976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t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20"/>
          <p:cNvSpPr/>
          <p:nvPr/>
        </p:nvSpPr>
        <p:spPr>
          <a:xfrm>
            <a:off x="2438280" y="5054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1"/>
          <p:cNvSpPr/>
          <p:nvPr/>
        </p:nvSpPr>
        <p:spPr>
          <a:xfrm>
            <a:off x="2133720" y="5207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2"/>
          <p:cNvSpPr/>
          <p:nvPr/>
        </p:nvSpPr>
        <p:spPr>
          <a:xfrm>
            <a:off x="1844640" y="4867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3"/>
          <p:cNvSpPr/>
          <p:nvPr/>
        </p:nvSpPr>
        <p:spPr>
          <a:xfrm>
            <a:off x="7020000" y="515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24"/>
          <p:cNvSpPr/>
          <p:nvPr/>
        </p:nvSpPr>
        <p:spPr>
          <a:xfrm>
            <a:off x="6855840" y="59706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25"/>
          <p:cNvSpPr/>
          <p:nvPr/>
        </p:nvSpPr>
        <p:spPr>
          <a:xfrm>
            <a:off x="6104520" y="51483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26"/>
          <p:cNvSpPr/>
          <p:nvPr/>
        </p:nvSpPr>
        <p:spPr>
          <a:xfrm>
            <a:off x="6321600" y="5935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27"/>
          <p:cNvSpPr/>
          <p:nvPr/>
        </p:nvSpPr>
        <p:spPr>
          <a:xfrm>
            <a:off x="6617520" y="4869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28"/>
          <p:cNvSpPr/>
          <p:nvPr/>
        </p:nvSpPr>
        <p:spPr>
          <a:xfrm>
            <a:off x="6238440" y="539892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29"/>
          <p:cNvSpPr/>
          <p:nvPr/>
        </p:nvSpPr>
        <p:spPr>
          <a:xfrm>
            <a:off x="6292800" y="56768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30"/>
          <p:cNvSpPr/>
          <p:nvPr/>
        </p:nvSpPr>
        <p:spPr>
          <a:xfrm>
            <a:off x="6543000" y="45007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31"/>
          <p:cNvSpPr/>
          <p:nvPr/>
        </p:nvSpPr>
        <p:spPr>
          <a:xfrm>
            <a:off x="1755360" y="45734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32"/>
          <p:cNvSpPr/>
          <p:nvPr/>
        </p:nvSpPr>
        <p:spPr>
          <a:xfrm>
            <a:off x="6699240" y="54212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33"/>
          <p:cNvSpPr/>
          <p:nvPr/>
        </p:nvSpPr>
        <p:spPr>
          <a:xfrm>
            <a:off x="7113600" y="5670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34"/>
          <p:cNvSpPr/>
          <p:nvPr/>
        </p:nvSpPr>
        <p:spPr>
          <a:xfrm>
            <a:off x="1600200" y="581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Group 35"/>
          <p:cNvGrpSpPr/>
          <p:nvPr/>
        </p:nvGrpSpPr>
        <p:grpSpPr>
          <a:xfrm>
            <a:off x="3657600" y="2742840"/>
            <a:ext cx="1742760" cy="1971720"/>
            <a:chOff x="3657600" y="2742840"/>
            <a:chExt cx="1742760" cy="1971720"/>
          </a:xfrm>
        </p:grpSpPr>
        <p:sp>
          <p:nvSpPr>
            <p:cNvPr id="978" name="Freeform 36"/>
            <p:cNvSpPr/>
            <p:nvPr/>
          </p:nvSpPr>
          <p:spPr>
            <a:xfrm>
              <a:off x="3657600" y="2754000"/>
              <a:ext cx="871560" cy="1960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37"/>
            <p:cNvSpPr/>
            <p:nvPr/>
          </p:nvSpPr>
          <p:spPr>
            <a:xfrm flipH="1">
              <a:off x="4528440" y="2747880"/>
              <a:ext cx="871560" cy="1960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Line 38"/>
            <p:cNvSpPr/>
            <p:nvPr/>
          </p:nvSpPr>
          <p:spPr>
            <a:xfrm flipV="1">
              <a:off x="3932280" y="2742840"/>
              <a:ext cx="120672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Text Box 39"/>
          <p:cNvSpPr/>
          <p:nvPr/>
        </p:nvSpPr>
        <p:spPr>
          <a:xfrm>
            <a:off x="3808800" y="3429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0"/>
          <p:cNvSpPr/>
          <p:nvPr/>
        </p:nvSpPr>
        <p:spPr>
          <a:xfrm>
            <a:off x="3809160" y="3733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1"/>
          <p:cNvSpPr/>
          <p:nvPr/>
        </p:nvSpPr>
        <p:spPr>
          <a:xfrm>
            <a:off x="3885120" y="40384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42"/>
          <p:cNvSpPr/>
          <p:nvPr/>
        </p:nvSpPr>
        <p:spPr>
          <a:xfrm>
            <a:off x="4494600" y="35053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43"/>
          <p:cNvSpPr/>
          <p:nvPr/>
        </p:nvSpPr>
        <p:spPr>
          <a:xfrm>
            <a:off x="4233240" y="32004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4"/>
          <p:cNvSpPr/>
          <p:nvPr/>
        </p:nvSpPr>
        <p:spPr>
          <a:xfrm>
            <a:off x="4113720" y="28195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45"/>
          <p:cNvSpPr/>
          <p:nvPr/>
        </p:nvSpPr>
        <p:spPr>
          <a:xfrm>
            <a:off x="4571280" y="38098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46"/>
          <p:cNvSpPr/>
          <p:nvPr/>
        </p:nvSpPr>
        <p:spPr>
          <a:xfrm>
            <a:off x="4114080" y="4267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47"/>
          <p:cNvSpPr/>
          <p:nvPr/>
        </p:nvSpPr>
        <p:spPr>
          <a:xfrm>
            <a:off x="4570920" y="4114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48"/>
          <p:cNvSpPr/>
          <p:nvPr/>
        </p:nvSpPr>
        <p:spPr>
          <a:xfrm>
            <a:off x="3860640" y="46753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49"/>
          <p:cNvSpPr/>
          <p:nvPr/>
        </p:nvSpPr>
        <p:spPr>
          <a:xfrm>
            <a:off x="3652560" y="152388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 lotttery $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Group 50"/>
          <p:cNvGrpSpPr/>
          <p:nvPr/>
        </p:nvGrpSpPr>
        <p:grpSpPr>
          <a:xfrm>
            <a:off x="2666880" y="1828800"/>
            <a:ext cx="3638160" cy="1864800"/>
            <a:chOff x="2666880" y="1828800"/>
            <a:chExt cx="3638160" cy="1864800"/>
          </a:xfrm>
        </p:grpSpPr>
        <p:sp>
          <p:nvSpPr>
            <p:cNvPr id="993" name="Line 51"/>
            <p:cNvSpPr/>
            <p:nvPr/>
          </p:nvSpPr>
          <p:spPr>
            <a:xfrm flipV="1">
              <a:off x="2666880" y="2133000"/>
              <a:ext cx="1242720" cy="15606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52"/>
            <p:cNvSpPr/>
            <p:nvPr/>
          </p:nvSpPr>
          <p:spPr>
            <a:xfrm flipH="1" flipV="1">
              <a:off x="5062320" y="2065320"/>
              <a:ext cx="1242720" cy="1560240"/>
            </a:xfrm>
            <a:prstGeom prst="line">
              <a:avLst/>
            </a:prstGeom>
            <a:ln w="7632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Text Box 53"/>
            <p:cNvSpPr/>
            <p:nvPr/>
          </p:nvSpPr>
          <p:spPr>
            <a:xfrm>
              <a:off x="3872880" y="1828800"/>
              <a:ext cx="12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??     ?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F727-E1F8-45BE-9C2B-BD37E4448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Naïve Bayes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rain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8" name="Text Box 3"/>
          <p:cNvSpPr/>
          <p:nvPr/>
        </p:nvSpPr>
        <p:spPr>
          <a:xfrm>
            <a:off x="304200" y="1600200"/>
            <a:ext cx="8588520" cy="49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vocabulary of all words in the docum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atego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subset of docum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catego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/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concatenation of all the docum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total number of word occurrenc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number of occurrenc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) /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C914-DF12-4A88-9F0F-E88398834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Naïve Bayes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es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460440" y="1676520"/>
            <a:ext cx="783072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test docu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number of word occurrenc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the categ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word occurr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 position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Object 4"/>
              <p:cNvSpPr txBox="1"/>
              <p:nvPr/>
            </p:nvSpPr>
            <p:spPr>
              <a:xfrm>
                <a:off x="990720" y="2895480"/>
                <a:ext cx="38098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2B30-8A49-4E16-B4CA-BBF581773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nderflow Preven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ing lots of probabilities, which are between 0 and 1 by definition, can result in floating-point underf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it is better to perform all computations by summing logs of probabilities rather than multiplying prob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with highest final un-normalized log probability score is still the most prob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37BB-F970-49C4-85C1-3D567E7A5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ments on Naïve Bay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probabilistic inference tractable by making a strong assumption of conditional 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s to work fairly well despite this strong assum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s show it to be quite competitive with other classification methods on standard data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ularly popular for text categorization, e.g. spam fil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CBA8-86D3-415C-8135-EAB4D501D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ditional Probability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probability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iv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ll and only information 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4"/>
              <p:cNvSpPr txBox="1"/>
              <p:nvPr/>
            </p:nvSpPr>
            <p:spPr>
              <a:xfrm>
                <a:off x="1905120" y="3657600"/>
                <a:ext cx="2819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3" name="Oval 5"/>
          <p:cNvSpPr/>
          <p:nvPr/>
        </p:nvSpPr>
        <p:spPr>
          <a:xfrm>
            <a:off x="2819520" y="5105520"/>
            <a:ext cx="1600200" cy="99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Oval 6"/>
          <p:cNvSpPr/>
          <p:nvPr/>
        </p:nvSpPr>
        <p:spPr>
          <a:xfrm>
            <a:off x="3429000" y="5105520"/>
            <a:ext cx="1752480" cy="99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2895480" y="52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4732560" y="525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9"/>
              <p:cNvSpPr txBox="1"/>
              <p:nvPr/>
            </p:nvSpPr>
            <p:spPr>
              <a:xfrm>
                <a:off x="3581280" y="5295960"/>
                <a:ext cx="7621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C3E2-07C1-45A0-9159-95BC4275D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depend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depend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depend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4"/>
              <p:cNvSpPr txBox="1"/>
              <p:nvPr/>
            </p:nvSpPr>
            <p:spPr>
              <a:xfrm>
                <a:off x="1447920" y="2057400"/>
                <a:ext cx="20574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5"/>
              <p:cNvSpPr txBox="1"/>
              <p:nvPr/>
            </p:nvSpPr>
            <p:spPr>
              <a:xfrm>
                <a:off x="1447920" y="2590920"/>
                <a:ext cx="20574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6"/>
              <p:cNvSpPr txBox="1"/>
              <p:nvPr/>
            </p:nvSpPr>
            <p:spPr>
              <a:xfrm>
                <a:off x="1371600" y="3809880"/>
                <a:ext cx="38242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7"/>
              <p:cNvSpPr txBox="1"/>
              <p:nvPr/>
            </p:nvSpPr>
            <p:spPr>
              <a:xfrm>
                <a:off x="1371600" y="4952880"/>
                <a:ext cx="3505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Text Box 8"/>
          <p:cNvSpPr/>
          <p:nvPr/>
        </p:nvSpPr>
        <p:spPr>
          <a:xfrm>
            <a:off x="3614760" y="2224080"/>
            <a:ext cx="48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hese two constraints are logically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2A70-BF1C-4C6F-9876-1716ED844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assification (Categorization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 description of an instance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where X is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instance languag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or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instance spac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 fixed set of categories: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=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…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category of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,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is a categorization function whose domain is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and whose range is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is a binary functio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{0,1} ({true,false}, {positive, negative}) then it is called a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ncep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38C3-64B3-4862-8DE6-038C850DD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ining example is an inst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ed with its correct catego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        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 for an unknown categorization functio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training exampl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hypothesized categorization functio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4"/>
              <p:cNvSpPr txBox="1"/>
              <p:nvPr/>
            </p:nvSpPr>
            <p:spPr>
              <a:xfrm>
                <a:off x="1582560" y="5181480"/>
                <a:ext cx="5295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∈</m:t>
                    </m:r>
                    <m:r>
                      <m:t xml:space="preserve">D</m:t>
                    </m:r>
                    <m:r>
                      <m:t xml:space="preserve">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Text Box 5"/>
          <p:cNvSpPr/>
          <p:nvPr/>
        </p:nvSpPr>
        <p:spPr>
          <a:xfrm>
            <a:off x="3078360" y="566424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C662-7509-4B77-AFD9-A16633EA8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Category Learning Probl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language: &lt;size, color, shap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z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{small, medium, large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lor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{red, blue, green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hap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{square, circle, triangle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positive, negativ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639800" y="3962520"/>
          <a:ext cx="6858000" cy="2566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ha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triang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3B98-A061-42F9-9A64-16B530632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Joint Distribu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36480" y="1273320"/>
            <a:ext cx="77724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joint probability distribution for a set of random variabl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ives the probability of every combination of values (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imensional array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 if all variables are discret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, 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 must sum to 1): 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of all possible conjunctions (assignments of values to some subset of variables) can be calculated by summing the appropriate subset of values from the joint dis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fore, all conditional probabilities can also be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511280" y="2963880"/>
          <a:ext cx="2841480" cy="1103400"/>
        </p:xfrm>
        <a:graphic>
          <a:graphicData uri="http://schemas.openxmlformats.org/drawingml/2006/table">
            <a:tbl>
              <a:tblPr/>
              <a:tblGrid>
                <a:gridCol w="947880"/>
                <a:gridCol w="946080"/>
                <a:gridCol w="94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4713120" y="2946240"/>
          <a:ext cx="2841840" cy="1103400"/>
        </p:xfrm>
        <a:graphic>
          <a:graphicData uri="http://schemas.openxmlformats.org/drawingml/2006/table">
            <a:tbl>
              <a:tblPr/>
              <a:tblGrid>
                <a:gridCol w="947880"/>
                <a:gridCol w="946080"/>
                <a:gridCol w="94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3" name="Text Box 50"/>
          <p:cNvSpPr/>
          <p:nvPr/>
        </p:nvSpPr>
        <p:spPr>
          <a:xfrm>
            <a:off x="2532960" y="25732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51"/>
          <p:cNvSpPr/>
          <p:nvPr/>
        </p:nvSpPr>
        <p:spPr>
          <a:xfrm>
            <a:off x="5767920" y="255420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52"/>
              <p:cNvSpPr txBox="1"/>
              <p:nvPr/>
            </p:nvSpPr>
            <p:spPr>
              <a:xfrm>
                <a:off x="2328840" y="5010120"/>
                <a:ext cx="39132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circl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53"/>
              <p:cNvSpPr txBox="1"/>
              <p:nvPr/>
            </p:nvSpPr>
            <p:spPr>
              <a:xfrm>
                <a:off x="762120" y="6019920"/>
                <a:ext cx="73738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sitiv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circl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ositive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red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circl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d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circle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54"/>
              <p:cNvSpPr txBox="1"/>
              <p:nvPr/>
            </p:nvSpPr>
            <p:spPr>
              <a:xfrm>
                <a:off x="2081160" y="5308560"/>
                <a:ext cx="43196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9-04-04T16:33:30Z</dcterms:modified>
  <cp:revision>186</cp:revision>
  <dc:subject/>
  <dc:title>Intelligent Information Retrieval and Web Search</dc:title>
</cp:coreProperties>
</file>