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240F-07E3-40A1-8B32-2A2D5EBC2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9E82-EA8A-4F6C-9F50-B9F65FD33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136E-97B7-4AAD-8CC0-61B9184E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8682-AA07-44E5-BDEC-19509B9F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6ECA60-119E-45ED-9FAF-C9472E4D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246CBB-C658-47B4-B957-B0D5C119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684F5F-59C6-48F7-8990-DD8C8DF7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00D76D-5937-4D5F-8591-457DDA89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996F85-62BF-4415-A25D-C7FEA5A1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3B378A-1512-4290-BFB2-622D8A05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BFB1DE-1546-4F8E-A621-81573622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2CAA26-60AE-4FCD-8EE9-A60EC7B1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54E73A-50AF-4C36-8E90-44EE9EF8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3777E2-B71B-4C65-B5E3-334507D6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5A67-4205-448B-8C4A-43511690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C2AB38-4C65-4EC3-9027-1BB8F486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5E992C-C520-4E09-8FB8-942D1BDC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8BCD41-3B39-4A9E-9300-AF1A449B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730744-ADD9-4DA5-B8BD-B8B2DB98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7058AA-6770-4931-A5BC-BAB565BE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74D07F-AFE1-4FEC-826C-C7A30B03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364C50-D291-4F0A-8026-353AD36D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2DE83C-3CBA-47D3-AEFC-E61A7DBF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6EAE4D-A291-4D6A-AEBB-B6F74A22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89B187-3B7B-4917-BF25-3B00B544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A0AB-1220-4E09-A0B6-CC3ED96A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373B58-43BC-4B00-9E3A-2994F6C0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F26839-4F64-4D9E-A1DE-D8B1BFF0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C62F86-E47C-4FEE-9B95-07B25881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96383D-D784-457F-A38D-9E25BEE2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627022-2975-40F3-A99A-2F04BCB5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1EAB8F-0F1D-49FB-8C87-644079B8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6F4302-60B1-44D6-9040-3A61CBBE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5A2F39-3FFD-475A-B215-8B2C44F4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8BBFBC-DFBF-4FFE-BFBC-1F99166E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962503-61CA-40BC-ACB7-23055F37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40549-E329-428B-BD85-3138D9A4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75E3F9-49D7-404C-9D33-BF34E642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BD00AD-3DF1-441D-93B9-6A041556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E1CF8E-E548-42E2-84F2-135D0995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661807-7073-4C38-956E-EF94DBF2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23AFFC-F61C-48D6-9F56-E41F25A6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037B4B-A699-46C7-8AFA-56B750A1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DA4913-C775-4393-99F1-D49CDA20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94C7EC-4D50-46BB-A2D8-B4EEAF7F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09976F-F7D8-4F06-9EFB-2F93C96D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809928-3560-450C-A980-ACB9DC25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59936-D25A-40E9-9ABF-6C1A555C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2F265D-A903-4C5B-BD3B-CBADD974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E9714B-3F4F-4276-A563-F5B39C78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7BE9B9-36F0-4603-8A6B-83924B38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4474BE-F379-4648-9DC2-20DB3A8D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D135F2-4BCD-437A-B391-B93E878A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8F78D-FF8C-4773-9548-F9D6AAD8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43017-9121-4778-8F3D-0EEB452A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B054D-E0A0-4DCB-AFC3-DF7C9CCF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5AC44-421A-498C-93BB-00C9B93B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5196D-9086-4B81-A2E5-6091BC87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DF05-CCF6-4256-9C69-2D23E4BA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B1947-3A79-4876-A079-3DD39A5A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22A33-E21A-47C5-8AE3-697077FB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3D56A-6ACE-4367-8200-1AB28A89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AA44B-8BC3-42F5-921A-737CDAC9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772DF-7A7F-4052-8EA5-97305652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AE9F0-8579-48E2-B9BA-E93636D8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46DCF-52C7-4433-A558-B8FDF5FD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79E69-4C99-44EC-BA79-9D67BB41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01EB0-7D24-4D1E-B002-5CFABBD6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3055B-BAA6-4AA3-8E88-C56A152A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B8E0-96C8-482D-AB67-6CAD36A4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265A6-629F-4DCE-86B0-A84FCAA1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F67D3-7A8B-4B79-93A0-414966EC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3C69D-529D-48B7-A36B-C3E4E0FC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C7E88-9068-4E5C-9104-14E8FD01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BAFE7-D023-4EFB-A955-4699B9AD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D491F-51B2-489E-A2E6-B0B8062F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AC99A-4C8D-4CE8-98AC-A605379A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202FA-5087-42C5-BFA2-76C49E6E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E146AF-BC92-4024-B514-1CD550A3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6D5CE-022F-4091-81D4-50C1EB03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F736-2A64-4039-A500-661C6C44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51657-BC01-439D-BB57-954AE777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EBEA32-1C71-4C4A-979F-BA96AE96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B3A0D-14B5-46E1-9F71-23F77B45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B020D4-7D84-468D-AE73-59714094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7886B-79DA-4A0B-B44B-ED00E895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74F63-CB7E-4D25-AA2B-9C539F80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1BC7A-4D8D-419F-956A-A1C10218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3FBDB-8CA0-4BE9-A0A8-6B7BC3AF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9FFC6A-23DF-4AAE-84A8-70294904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6519A9-AF4D-489E-A569-DACCC985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4A50-02F1-4F04-9A50-30C60F05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BA660-163F-4FCB-BFDF-00406800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72B37-580B-4ABF-92C2-0C66FB04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EBC80-76F3-4B7A-93F8-E1194047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35080-4BAC-465D-9FDF-16614B62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EFD90-6798-47EE-A6F7-14807C58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A9129-311F-44C7-958B-6BDC85BC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A1026-E6FE-4429-B670-61061202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ED95A-5304-4C61-8558-5DD5B2F4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2CF54-2AB6-4EC2-B4BB-F897A47E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B9C38-5871-4CE6-8F4B-9D6C8041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6C6C-213A-46CF-9A9F-2173499E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46156-AC1A-4B2E-B2F8-0D59DB7F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EB8F30-5146-4E52-B9F2-99678933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C5A478-F274-4A85-A53F-4E8DF061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62A45B-2741-498E-8379-71F83013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1C359-3F7C-4F4F-BA77-5B46047E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3A1D5-7EBB-4387-BD65-006F3181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2AA032-20F4-459D-9399-1C28C375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86F16-837F-4A9D-B937-7ED42707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8EF82B-5B75-4E66-8331-7D599E46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235AC-500D-4E87-9921-2BD796D7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12647-1CBF-4572-93E2-568E3733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9E084-6BCD-4AE9-9FA9-9EA074D4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25CAE-459F-4D5E-957E-970244D9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B6ED2-06BC-4EEC-97F0-2F401326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C3E71-3399-423E-8196-93D7790B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9A242-CE28-4344-85C0-12B7914D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AFCBB2-9F12-4CC7-81FB-FD78086F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4A8AFE-F09F-4289-A133-8FE906BE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57D8DC-CDFB-46B5-AC9C-E4514B2D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2A9F8-8A69-488D-998E-A09BD1B0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F0F2C-0B53-48E3-84FE-007F606E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1D5E2-9A01-472E-95E6-63790A83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32C56F-8917-42BF-AC61-12089C81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00D0BE-CB4F-4685-8922-EBEA9051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A13DD-9165-47C2-95C6-288FE250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E7D8FF-DB21-4F8C-AF96-938707FD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D6606-C355-4DE3-9CBD-3AD2E194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F6C0C9-E26B-410E-958E-B62B0D04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C4787B-3E3C-4263-B0FC-AC29761B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D0BD4F-2854-4C73-9020-3E5F5434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F1DA46-2DE5-47A7-90F0-655C5ED0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C76D35-D4E5-4DA6-BD11-4BD4237E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0EA9-64B2-4C28-B92F-B3ECC2FF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3FFF54-9148-4F8A-AE45-18F1B036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C3B7C4-11CB-44AF-91EA-36DB084C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CFDF00-B697-452B-8B17-B1CE1DF8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EB0A8E-FA56-4FCD-8BFB-FA65C69F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66A524-03CC-44BB-BCFA-DA861455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83F157-32BC-4728-8DFE-AB7D6B09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EDC80F-BA18-47DD-B01A-918E206E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D8E0B0-7E8A-4930-91D4-EB1554DA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213416-0673-45A1-AEC6-79253E52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EE66A1-2AA0-4932-AE72-BFDB98B2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9DB1-7843-4EEF-A2B5-3366449E3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2EE1-E1DC-4092-9176-2FEE44CF8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7C01-A3C9-4F0C-902D-EF91056D0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FA0C-BDC9-497F-8AB0-A720A1899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54E9-CAF5-49E9-AF09-1C522543E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48FB-2C6C-4B93-9F35-24D1FA44F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5BDA-6025-4907-AD55-074002DB6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D28F-20E8-4E79-9852-2ECA73DB9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18B0-CD78-4B6C-95E2-592B01294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5F9D-32DC-48ED-80E1-B10E4AD9B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10D8-731A-4941-AA6A-BF3704C4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5261-2BAE-41AD-88AB-092BEFE80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63DE-14E8-404B-BACC-9D578517A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e of the Ar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7440" y="1371240"/>
            <a:ext cx="856476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ep Blue beats Kasparo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journer, Spirit, and Opportunity explore M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A Remote Agent in Deep Space I probe explores sol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PA grand challenge: Autonomous vehicle navigates across desert and then urban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bot Roomba automated vacuum cleaner, and PackBot used in Afghanistan and Iraq w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ed speech/language systems for airline tra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m filters using machine lea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answering systems automatically answer factoid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ble machine translation thru Goo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10-08-24T21:10:09Z</dcterms:modified>
  <cp:revision>270</cp:revision>
  <dc:subject/>
  <dc:title>Intelligent Information Retrieval and Web Search</dc:title>
</cp:coreProperties>
</file>