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42CC-BA1C-4D46-97FB-DFA7EF5D8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3046-020D-4DA6-B6E8-DBCA50FB3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A50E-D8EB-44B9-8688-291022F6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0D468-8591-4054-A0D5-255DAF1A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64A861-608E-4DAF-969E-FAEC3DD6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946B83-7393-4B39-964A-AF7016AC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594087-5B5A-4E46-961F-E5C11FEF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F9C3BB-6038-4807-9392-B671CDF3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497808-C9D5-4679-AEA9-CFD37EB0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EE34C7-48D0-4AAA-BB45-F0E3EAF7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95F229-3F2A-400F-B052-51CC9B0C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F81648-A3AE-4C39-9184-FBE5986D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A8A391-294A-4868-ABB2-F865B97B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8D7964-EA21-48A7-BE84-2346F265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92FC-3E97-431C-B777-01A9E05B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C5582B-6000-44C9-A068-49DA4D32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4D4CD1-A34C-46F9-8A5F-5BA455E9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38E82F-129C-4E06-A632-BD28D343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6D2F38-80E0-4617-BAB9-19A48AF5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94AF3C-A770-4025-88DC-346CE876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CB3236-B90E-4AF2-ADAA-CA30ED9A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AC36D9-B744-4BF3-9425-14D436D3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B4E607-0294-4FFB-83D0-92FC2DFF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67F942-9BFB-44E3-B7C2-092E35B6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48C0EA-BA3D-45E7-A343-55C3B041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759C-58E9-4FC1-9ABE-87104E05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246E63-FC96-47E2-86A3-9C05FDC7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77DDBD-98E7-4EE6-9693-B5BDC9B9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77FA28-6681-4CF4-B344-8BED4CA0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4827AB-11E0-49DD-9716-A2F2B716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9B9BAD-F628-4822-81DA-50D6566E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779421-B20A-4AAF-8D19-97238058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6B2D08-D5C9-4A13-B799-526965D1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D42C25-908F-4C17-BCAB-69FB71B4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86325C-2CEF-4672-883C-0E92A060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00A3A1-23DC-4E01-B6C9-837D661D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08374-59BC-4AC5-8066-B8BC921B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2FBFD4-99A5-4305-95FD-B50D0CA4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A5D87B-BACB-4BD3-9D0C-B635AFB1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E5DFC9-E001-461A-8C7E-7CB05E3F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CF4EC3-F6AE-4B82-B778-D0FB2495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4DB1C8-518D-4B7F-A11E-A4C7B54B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0555EF-1538-411F-85B9-76A456CC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E45F4A-D052-450D-946B-4CA003E6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1650BE-3DDE-46A9-9FAD-A58827F0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DC4F96-CB4B-4332-A61E-F2D5685F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28A76F-F91E-416D-B6F1-581AF8DF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621E3-6C7E-4EFC-AC66-3EA2CC89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51BB48-7CCF-47F6-8899-9DDFF25F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311A26-6241-406F-874C-954C4C22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3C45B5-15AA-4D7F-B930-6108A56B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E71BB7-2D5B-48FF-BBDE-822709B4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5D4C07-F309-4BA3-8A28-3D1B408A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FA6A4-9757-4FB4-9497-79539BA2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017F9-0A6D-44E7-98C7-540DEC4B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50016-BE08-40D4-9126-A8AF80FE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4D1BE-B394-482F-A5E5-8BE91FB3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867CA-0151-419C-B693-B93C3E71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C2B7A-1E22-42B0-B406-D45FD53F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024CD-3F1E-4918-A346-3F722869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119CB-AA10-429A-B407-63267258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4715C-9F00-421C-ABAE-ADDA101E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2CA9B-5E31-4DFE-B1B4-6EC2826F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A7B09-50A6-4F3B-A64C-6C0C37E7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0606E-C1A6-4151-80B4-C067BAF5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3916E-886C-4918-93D3-EC17085A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890D1-7B78-4EEC-A559-DFBC3425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01B8E-8CF8-47D8-86AA-9F404DA8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5EFC0-FAA2-40AF-A1A7-6006943A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35F9-3320-48C2-8FD9-C0DEB6EE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CF89D-D92D-400A-8090-69774795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84E6A-D9B8-45F0-965E-D66D89B0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163E8-C0B0-4686-91D5-351DA348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D1EE8-214F-4AA1-9A08-B18C64F8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40AC4-5D22-498F-896E-08241ADD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8C908-F36B-4582-BD42-CCC67259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831CC-BF80-4AC9-9E1E-5504EEEF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1EBEF-E7C7-4F54-91FA-29225504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FC8D4-C803-4AF2-AE8C-EE3A7CC1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892E0-2C03-4DF2-88FF-4791D9D9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D703-92A8-4EE8-8D97-B6B703CC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41DFA-20E7-42E0-A90A-32463ECD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EAD3A-EB28-4831-8A7B-1A59E996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A4351-B9D2-4E61-A2D8-CC180953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AB2FF-C5BA-42E9-824C-4FC9CA89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6CBF8-9AE5-4E15-B3CB-6DC39F71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58DB93-88EB-4E89-B6B8-8E007F33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F52E1-4BE9-4E3F-A9FF-5DB24E21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3E22C0-D933-4BC4-AA5D-3C1CA20F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20DC4-776E-44B3-B023-FEA887B8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634687-8463-4CF5-8631-78D4DF28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EFE3B-AD0F-4C29-89DE-54AF317A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8449E-F00E-4BFD-BAA7-EE76597A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D6FCC-9231-4EF8-AE23-CC6C06D5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5446CD-0AD4-4B89-BF0D-479D37CD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15E78-9EE6-4ED8-9940-00A87A9E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C06F7-64A3-4E9E-98FD-4021AD8A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414DA-D6E5-46A5-934A-1C8E81B5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F2327-CF0B-46C4-AA08-B6A0EA86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2C82D-8460-440F-912F-03B52118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93319-C184-47FA-802D-530F3601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BA8B0-16DC-4036-8BBB-DC2DB860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BB80-9AD1-4BA9-A92E-18B6ED4B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288A9E-EBA9-45B2-B348-39C03882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6B597-BB90-4C0B-A12C-FBEB3987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98C99-71E8-4923-AA54-53651D0B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0F782A-C003-45BA-9284-59E7931F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88FFE-6EA3-4720-9E46-F12D8A7B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1EC7CA-2B1D-4B1E-95D6-D536CFB8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5593A-66B8-419D-8194-056E456A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982C3A-B567-4D7A-8AB9-7D8839F3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6564A-355B-46BD-8279-9DD5A183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AF71F-1FFE-454A-BE08-30DD43D8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A12E-4714-4CCB-AA1F-DF57058B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A9B27-23BE-42A7-94D1-89184CD2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9D430-C3BB-480E-9FE9-180F0D3B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F62F6-EC8F-4C90-A520-A3EE6502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81F213-7213-4F26-9FB7-F97CC68E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CFCB1-46E5-44CF-ACD0-F86DB9AB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40BB4D-EC52-4E3B-8B04-7355E79C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29D1A4-83CD-493B-ADE9-2B06BF32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355722-C9C5-4C2B-9FEB-74324E79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7B1FB5-B8C7-45BB-9479-6DC02E36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317D8-9616-469C-B617-CDE7755D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402B-7198-4448-AD92-05C7E70F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85AA9-BE55-48E8-90D2-50367A2E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63785-D9CC-49C9-A6BB-FA6EABFB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5732D-BDDB-46C5-8A28-3EB0F358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DD0A9-53B4-44D2-BAAC-54BEE7F4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CE47E7-21FD-4E84-9BB1-507DB58E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42E002-A497-46D4-A288-3D20AB82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81ADDE-719A-41C0-AA22-02DE815D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0589BF-259A-4D66-AFB7-0E9D4EE4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26AA81-2D26-42FD-B26A-2F76F864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7FCBBB-A616-4541-9EFE-4388285F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03BD-708C-464D-8A95-C3AC7254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AA7006-84AA-4F71-837A-D2131445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369117-5D5D-4918-94F3-7D08D110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A9ED56-3D16-47E4-A43E-2A4A9DDB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A0804D-2778-440E-8BDE-3B0AA93C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6A57FD-6CE9-4BD1-8448-15D17DC7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742707-591D-45C3-9218-0FCD1843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BE49D4-45C8-4363-AA1D-FB962255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B44DD2-8300-4F47-88DC-49F51E6B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BFC6A5-2915-4D5E-AA4C-95A09A7E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1CF7A0-8BE0-4D45-946E-084B4B83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5B1E-F748-4484-BB58-EEB6EEF7F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1156-82A6-4764-97C8-420002569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66AE-3F53-4AC1-88B6-A20B491E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3558-F202-4356-8253-AA1AA6986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3224-6CD3-4516-8BC4-FF488081C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6D18-1057-4A1B-89CA-2EAB41566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99AA-4746-4A94-A924-5283A9859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5827-A9BD-44F2-B5DE-8E1CBC00A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9541-52ED-4F1A-BD47-29DE6F7B4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C611-43FD-483F-8342-80E89590F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1BA0-4295-4ADA-B269-E9998ACED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57D3-61A0-479D-81BB-056910DAE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4C94-1DCF-4361-9E54-B548759A1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e of the Ar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7440" y="1371240"/>
            <a:ext cx="856476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ep Blue beats Kasparo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journer, Spirit, and Opportunity explore M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A Remote Agent in Deep Space I probe explores sol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PA grand challenge: Autonomous vehicle navigates across desert and then urban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bot Roomba automated vacuum cleaner, and PackBot used in Afghanistan and Iraq w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d speech/language systems for airline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m filters using machine lea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answering systems automatically answer factoid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ble machine translation thru Goo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10-08-24T21:10:09Z</dcterms:modified>
  <cp:revision>270</cp:revision>
  <dc:subject/>
  <dc:title>Intelligent Information Retrieval and Web Search</dc:title>
</cp:coreProperties>
</file>