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47200" cy="93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7828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074240" y="704520"/>
            <a:ext cx="4697640" cy="35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7828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D1AF-88C3-475E-AEC8-D4873B99F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A884-269E-4F00-81A5-4D66C9ED4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9009-2E26-4328-BD71-34FEA6714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888E-1711-4B57-82FE-B5B6F40C4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6172-911C-486A-8E71-5D888C270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02B0-0F10-4CAA-ADAA-1EF0AB6E6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EAF1-F67E-4CFD-9347-D37534399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CD69-FEF9-47C5-AF3C-4F07C319E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8DA1-24B2-449E-8D1F-AE2846FB6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A940-ED37-416A-9ADF-1C98BD3A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B645-CE1E-4E17-8A0E-7CDC31CF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2419-C57B-4F3F-B29C-0A797342B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B9D0-4F4A-4334-9774-CF7451714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EDA7-CC0D-462D-84BB-26D54F8E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159A-7A76-406A-B539-DFC1E5A31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BE2D-590F-4C87-BFCD-CF8BEE99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0008-CFAE-4D11-ABB0-21BEDCCD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EC6F6D-A04F-4B2B-ABB3-947CF84C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D06E3C-B9FB-4C9B-9939-3A5442A3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3A551-DB14-418E-873D-A99B23E2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F1C951-A3DE-4A17-9496-32B9DE6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D31887-632C-4F5E-9053-5EBC1502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63A78E-00E2-4A6D-A4E0-9A796736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1F70E5-015C-4633-B523-FB30E5B3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C7824D-BA9D-4C90-B16F-08FAE066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85969E-0F1E-4E34-B90D-6D418460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E1D95E-79B7-4EBB-8851-5E031D3F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C1A7-F66D-4B1E-821F-8AF09C72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82B793-D7ED-4652-B0CE-06526492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2121FA-5AF7-4B6B-B850-07A48D9B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BAF815-64D4-4338-9EDC-7A3BA690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A11A6-EFFD-4A1A-B3A2-A77934A1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D441A9-3046-44AB-A14B-10FB24CA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48F4D4-0960-42AA-BE73-04F78CB2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FFFBC3-CE1B-4459-8810-580F14F5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651C68-C626-4019-AB73-8C9AEC3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E6280E-F149-492A-BE0C-47EBFE88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815064-92E3-46DB-A016-85FF8A53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388A-4C0F-49F8-B091-9FB51996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E1CB95-A176-45B2-A74F-5D1E0390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D00CB2-5E6E-4079-B116-F2E34686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0DA1A7-4C78-4B4B-946E-E0510BC5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226A6C-213D-4CED-97CA-1248CA3C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664906-35F1-4A60-B107-0346655D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DD280F-7E3D-447A-B49B-4E893BB7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B27BCA-146A-48B2-B9FA-2E85817C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F34875-8F3D-4D3C-8CBB-ED5DB592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28A7FD-ABAF-4BC9-A8E2-BC55AD6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35B515-A12B-4086-9C38-3C39A8A7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23101-678A-4DE4-BB65-7933C4B8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BA2D5B-0876-4831-BDF9-6DD5DE6B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23EDBE-D157-4CC2-8758-F15CC74E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F6B0CB-F951-459F-926D-030B82CE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BD741D-8BE2-4FCA-BB2C-2B2F5D7F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168BC3-73C8-4A0B-8228-A285DDA6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8CE2CA-922C-4FFA-A269-05822CBA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208345-CBF3-48EB-B24B-ACFD2C93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BAC15C-E329-48ED-8704-85D75CBD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96D584-015D-4748-8FCC-B3EC76D1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5F7539-C23D-40BC-A37B-67D7D6AD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B1A86-527E-4890-9D0B-3A7BB068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3B5F31-99DF-4E6E-BF1A-1D77E5D0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EB08DC-C21E-4DFC-913B-DBAC6FA3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4544AF-A77D-4F8C-9120-2FB8D56F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1D8D5D-375B-41F0-82D3-154E1E51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E65ACF-3700-431A-9DA9-559DC4F2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CEB4C-8CFE-497B-BBA5-4B47BAF3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2CA04-317E-4360-BFEE-9C6AC43A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7FCF9-5D51-4F52-8E91-24AEE759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11A9A-DD7A-41C9-9165-57056829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84B23-727B-40BB-BEF8-04620126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FE473-D841-476E-BEE4-29897645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07828-97CF-4EBC-A2F4-C44D4EBA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7F053-BDE1-44CF-A8C5-03657BF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8393D-6EFA-4A19-9589-9492EBAD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C1797-1547-4980-878A-8A18AA2F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E66B5-4296-425E-B8EC-8524119F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3BCB6-3B44-4F93-BF6D-E96B3273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99461-8504-4EDC-82B7-16B66245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BECDE-C642-4C56-8570-34A8BDCA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3C92D-D588-4724-AB85-B83E078F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CEF59-1C50-4F0E-B8D3-31790A04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B2A2-6B76-4581-A652-9EC3581C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4C3AA-D887-448C-8BE6-D1991DF0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89A77-D536-4979-A649-DF777F74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E5FB0-0800-4B42-AA72-FC71724F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EF658-B4C8-41BB-9E15-5239E829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4A8F6-A6E9-407C-973F-3D0628F2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6725A-030F-43A7-8720-37161FF8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21026-B2B2-4D9C-A936-32E2A248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7BA92-CF9A-4616-B37E-FAE942BF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50713-6925-4EF9-8C79-5B1B517E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131FB-529A-41F5-B581-6B475F75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FD89A-46B1-4556-945C-BCE84797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FB8EE-B616-47E1-81E8-460C28CE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2BBCF-D7F4-43DE-B45A-C49282AC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86755-D9A0-4E34-A659-AD99BB86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ABC182-FB73-4AA7-86E9-8BB66609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5A45B-69C6-4CAD-865C-909673B0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35863-7293-4B0B-A815-3E2F7BA1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61E96-8390-4E90-B0DC-79F06B68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1964F-252F-44D0-8A50-4D018032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4BE1D-09EF-4D34-982E-88E1FE1F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E1ECA-3CFA-46F1-86B8-56061FBA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C6DD-B82E-490C-981B-AB14E331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C955D-8C83-4AC3-AB0A-B1721D98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5B9DA-A34C-4CDB-9579-B01EF3C2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886D2-86FB-4952-A9F0-F7C70A78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669C1-B3B8-4207-A12E-1609E9E1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CBC84-7D2F-4CE7-9E20-4D7289FF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F3938-62D7-4903-AF71-695AF327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8D069-1B25-4AF7-9428-F4D7D88A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63F1F-D91A-4A5E-9B13-9BAFB2C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0AC8C-97E1-4FFE-AB9A-61ADA7E1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9FB96-0F94-4899-9468-F76B70B2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F4C8-878F-43E9-914F-1D978D0D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2FCD7-F6A0-45E2-A1A7-098C5DD4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E7513F-EE0E-4229-B836-26C21354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662AE-4298-4356-BEBB-F98FC43C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384BA-2220-483F-B2AE-47024DC0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AFEE3-2E2F-4F8A-BC73-B9B28349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450ED-D975-46C2-8BF9-D8A522C1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6902AB-2A28-4289-920C-F6E62369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7561A-BFB5-40E7-9FA0-8992771B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23E01-1175-42EC-906C-D506826E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F51DB-F35D-4DDF-90AF-30991B2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4791-0C15-4D6C-9BBB-886B410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0AB26-450C-4A89-8D4A-B0C8F4A7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86A1D-30A9-45E4-931F-AED2A1BA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62988-275C-40BE-BA57-2AA6D7AF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FD7AF-3254-44D7-8316-6A45C645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D02EF-7EC7-4872-95D4-A25AE07F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AD5B5F-F1D4-4881-8D80-70AF9A4D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93F44-495E-447A-988A-A5FB2EAD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8F103-34F3-4DA7-9FE0-F68DB1FE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B12E8-260E-47B9-ABCA-B0259A38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FEB2E-4492-4FAA-B806-86CE24A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A848-26AF-47E2-85EE-981E45F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7615D-6F1E-48AF-8593-96DB732C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90356-13C1-46F8-8FDA-FE42C90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BE939-7931-4951-A305-165CB4E3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082DA-6257-4DD6-A53B-1EF327A3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CE80A-5666-4AF2-97D0-75B836BB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56C77-F190-4825-8EA3-17C6CEF2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88016B-E77E-4C5E-AEC3-A3499836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5C807-E8BE-473B-822E-49494056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1F7F46-94E8-490C-A69D-E039BE88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4CAC9-E161-4B71-BBF4-26BA89AE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040C-4494-4772-AA63-379728DC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0B3FBF-2D3E-4CF5-8790-C9D9F0B8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D52024-5FE1-44AC-958C-841A8B40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173156-95EB-42F3-9C3F-6A03B92F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7FF92F-17C7-4FDC-9665-39003433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AE60B3-D438-4E8A-9B02-1F84CC61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74E24C-717A-47D4-8326-A2F904DE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8441D-AED9-4171-9F02-FC76ADB5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1626CF-6F68-4529-B899-EDAB61BF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97344B-CED5-4D99-B276-887E9784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EB9ECA-7D2D-4BD9-8A24-174135E7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C072-DDE4-4276-BEE0-53E63B089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A41F-59EE-4730-AE82-294404E78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E618-9DEC-4654-83CF-D390A58E5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DA91-125F-4427-843C-E584784F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B6C0-77A3-4F24-A8E4-6A7A44152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58DB-A5A4-4EA0-A091-BEBC569E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1CB9-642A-4417-B0C4-BD38F8412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3968-6AE6-4841-AC22-5423826D6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5A5B-451D-4FE2-9811-DA475860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EDC2-077D-4CBB-BB50-B9D7982F5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E41F-C376-4DDA-9CE5-6F51A7BD5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B84C-35F2-4FC0-901E-A2E894F13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-Gram Model Formula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 rule of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ram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-gram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4"/>
              <p:cNvSpPr txBox="1"/>
              <p:nvPr/>
            </p:nvSpPr>
            <p:spPr>
              <a:xfrm>
                <a:off x="1569960" y="1930320"/>
                <a:ext cx="1689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5"/>
              <p:cNvSpPr txBox="1"/>
              <p:nvPr/>
            </p:nvSpPr>
            <p:spPr>
              <a:xfrm>
                <a:off x="1120680" y="3030480"/>
                <a:ext cx="7537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6"/>
              <p:cNvSpPr txBox="1"/>
              <p:nvPr/>
            </p:nvSpPr>
            <p:spPr>
              <a:xfrm>
                <a:off x="1859040" y="5413320"/>
                <a:ext cx="3024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7"/>
              <p:cNvSpPr txBox="1"/>
              <p:nvPr/>
            </p:nvSpPr>
            <p:spPr>
              <a:xfrm>
                <a:off x="1887480" y="4211640"/>
                <a:ext cx="2763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the Viterbi Scor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9A9C-37A4-4B68-BBF0-88AC374C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2382840" y="1936800"/>
                <a:ext cx="4911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  <m:r>
                                <m:t xml:space="preserve">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608040" y="3098880"/>
                <a:ext cx="83786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m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4"/>
              <p:cNvSpPr txBox="1"/>
              <p:nvPr/>
            </p:nvSpPr>
            <p:spPr>
              <a:xfrm>
                <a:off x="2036880" y="4910040"/>
                <a:ext cx="49863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0" name="TextBox 7"/>
          <p:cNvSpPr/>
          <p:nvPr/>
        </p:nvSpPr>
        <p:spPr>
          <a:xfrm>
            <a:off x="509400" y="6135840"/>
            <a:ext cx="85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Analogous to Forward algorithm except take </a:t>
            </a:r>
            <a:r>
              <a:rPr b="1" i="1" lang="en-US" sz="2400" spc="-1" strike="noStrike">
                <a:solidFill>
                  <a:srgbClr val="00b050"/>
                </a:solidFill>
                <a:latin typeface="Times New Roman"/>
              </a:rPr>
              <a:t>max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 instead of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the Viterbi Backpoint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4AE3-D677-410C-94F5-93B6462E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"/>
              <p:cNvSpPr txBox="1"/>
              <p:nvPr/>
            </p:nvSpPr>
            <p:spPr>
              <a:xfrm>
                <a:off x="2887560" y="1954080"/>
                <a:ext cx="3900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3"/>
              <p:cNvSpPr txBox="1"/>
              <p:nvPr/>
            </p:nvSpPr>
            <p:spPr>
              <a:xfrm>
                <a:off x="79200" y="3086280"/>
                <a:ext cx="9064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m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4"/>
              <p:cNvSpPr txBox="1"/>
              <p:nvPr/>
            </p:nvSpPr>
            <p:spPr>
              <a:xfrm>
                <a:off x="1611360" y="4873680"/>
                <a:ext cx="58150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7" name="TextBox 7"/>
          <p:cNvSpPr/>
          <p:nvPr/>
        </p:nvSpPr>
        <p:spPr>
          <a:xfrm>
            <a:off x="733320" y="5811840"/>
            <a:ext cx="74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Final state in the most probable state sequence. Fol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backpointers to initial state to construct ful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pervised Parameter Estim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80960" y="1371600"/>
            <a:ext cx="8121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state transition probabilities based on tag bigram and unigram statistics in the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observation probabilities based on tag/word co-occurrence statistics in the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priate smoothing if training data is sp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0B21-2204-4570-8914-0945C4C9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2"/>
              <p:cNvSpPr txBox="1"/>
              <p:nvPr/>
            </p:nvSpPr>
            <p:spPr>
              <a:xfrm>
                <a:off x="2583000" y="2200320"/>
                <a:ext cx="35208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3"/>
              <p:cNvSpPr txBox="1"/>
              <p:nvPr/>
            </p:nvSpPr>
            <p:spPr>
              <a:xfrm>
                <a:off x="2422440" y="4179960"/>
                <a:ext cx="36356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EE14-4DFC-461D-AA23-D2B630AB6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Artificial Neuron Model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Linear Threshold Unit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32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work as a graph with cells as nodes and synaptic connections as weighted edges from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 input to c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output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5837400" y="2147760"/>
            <a:ext cx="2192040" cy="1770120"/>
            <a:chOff x="5837400" y="2147760"/>
            <a:chExt cx="2192040" cy="1770120"/>
          </a:xfrm>
        </p:grpSpPr>
        <p:sp>
          <p:nvSpPr>
            <p:cNvPr id="587" name="Oval 5"/>
            <p:cNvSpPr/>
            <p:nvPr/>
          </p:nvSpPr>
          <p:spPr>
            <a:xfrm>
              <a:off x="6827760" y="2511360"/>
              <a:ext cx="121680" cy="1346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Oval 6"/>
            <p:cNvSpPr/>
            <p:nvPr/>
          </p:nvSpPr>
          <p:spPr>
            <a:xfrm>
              <a:off x="593064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Oval 7"/>
            <p:cNvSpPr/>
            <p:nvPr/>
          </p:nvSpPr>
          <p:spPr>
            <a:xfrm>
              <a:off x="641160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Oval 8"/>
            <p:cNvSpPr/>
            <p:nvPr/>
          </p:nvSpPr>
          <p:spPr>
            <a:xfrm>
              <a:off x="689436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Oval 9"/>
            <p:cNvSpPr/>
            <p:nvPr/>
          </p:nvSpPr>
          <p:spPr>
            <a:xfrm>
              <a:off x="737532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10"/>
            <p:cNvSpPr/>
            <p:nvPr/>
          </p:nvSpPr>
          <p:spPr>
            <a:xfrm>
              <a:off x="785808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6789600" y="2147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6332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13"/>
            <p:cNvSpPr/>
            <p:nvPr/>
          </p:nvSpPr>
          <p:spPr>
            <a:xfrm>
              <a:off x="5837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>
              <a:off x="729432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5"/>
            <p:cNvSpPr/>
            <p:nvPr/>
          </p:nvSpPr>
          <p:spPr>
            <a:xfrm>
              <a:off x="681336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16"/>
            <p:cNvSpPr/>
            <p:nvPr/>
          </p:nvSpPr>
          <p:spPr>
            <a:xfrm>
              <a:off x="773424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7"/>
            <p:cNvSpPr/>
            <p:nvPr/>
          </p:nvSpPr>
          <p:spPr>
            <a:xfrm flipH="1">
              <a:off x="5998680" y="2620800"/>
              <a:ext cx="828360" cy="75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8"/>
            <p:cNvSpPr/>
            <p:nvPr/>
          </p:nvSpPr>
          <p:spPr>
            <a:xfrm flipH="1">
              <a:off x="6473160" y="2609640"/>
              <a:ext cx="377640" cy="7920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9"/>
            <p:cNvSpPr/>
            <p:nvPr/>
          </p:nvSpPr>
          <p:spPr>
            <a:xfrm>
              <a:off x="6887880" y="2597040"/>
              <a:ext cx="61560" cy="80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20"/>
            <p:cNvSpPr/>
            <p:nvPr/>
          </p:nvSpPr>
          <p:spPr>
            <a:xfrm>
              <a:off x="6924600" y="2573280"/>
              <a:ext cx="488520" cy="85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21"/>
            <p:cNvSpPr/>
            <p:nvPr/>
          </p:nvSpPr>
          <p:spPr>
            <a:xfrm>
              <a:off x="6926040" y="2523960"/>
              <a:ext cx="950760" cy="8888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22"/>
            <p:cNvSpPr/>
            <p:nvPr/>
          </p:nvSpPr>
          <p:spPr>
            <a:xfrm>
              <a:off x="587304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23"/>
            <p:cNvSpPr/>
            <p:nvPr/>
          </p:nvSpPr>
          <p:spPr>
            <a:xfrm>
              <a:off x="6319080" y="306828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24"/>
            <p:cNvSpPr/>
            <p:nvPr/>
          </p:nvSpPr>
          <p:spPr>
            <a:xfrm>
              <a:off x="6763680" y="30366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25"/>
            <p:cNvSpPr/>
            <p:nvPr/>
          </p:nvSpPr>
          <p:spPr>
            <a:xfrm>
              <a:off x="7001640" y="288432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749556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9" name="Object 2"/>
              <p:cNvSpPr txBox="1"/>
              <p:nvPr/>
            </p:nvSpPr>
            <p:spPr>
              <a:xfrm>
                <a:off x="1249200" y="3143160"/>
                <a:ext cx="2092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0" name="Text Box 28"/>
          <p:cNvSpPr/>
          <p:nvPr/>
        </p:nvSpPr>
        <p:spPr>
          <a:xfrm>
            <a:off x="1188720" y="5599080"/>
            <a:ext cx="321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reshold for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3"/>
              <p:cNvSpPr txBox="1"/>
              <p:nvPr/>
            </p:nvSpPr>
            <p:spPr>
              <a:xfrm>
                <a:off x="1638360" y="4545000"/>
                <a:ext cx="20746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12" name="Line 30"/>
          <p:cNvSpPr/>
          <p:nvPr/>
        </p:nvSpPr>
        <p:spPr>
          <a:xfrm flipV="1">
            <a:off x="5376960" y="4389120"/>
            <a:ext cx="0" cy="156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1"/>
          <p:cNvSpPr/>
          <p:nvPr/>
        </p:nvSpPr>
        <p:spPr>
          <a:xfrm>
            <a:off x="5376960" y="595008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2"/>
          <p:cNvSpPr/>
          <p:nvPr/>
        </p:nvSpPr>
        <p:spPr>
          <a:xfrm>
            <a:off x="7562520" y="5951520"/>
            <a:ext cx="46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4994640" y="4325760"/>
            <a:ext cx="315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4"/>
          <p:cNvSpPr/>
          <p:nvPr/>
        </p:nvSpPr>
        <p:spPr>
          <a:xfrm>
            <a:off x="6533280" y="5940360"/>
            <a:ext cx="32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5"/>
          <p:cNvSpPr/>
          <p:nvPr/>
        </p:nvSpPr>
        <p:spPr>
          <a:xfrm>
            <a:off x="6692760" y="58276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5005080" y="5757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7"/>
          <p:cNvSpPr/>
          <p:nvPr/>
        </p:nvSpPr>
        <p:spPr>
          <a:xfrm>
            <a:off x="4997160" y="4849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38"/>
          <p:cNvSpPr/>
          <p:nvPr/>
        </p:nvSpPr>
        <p:spPr>
          <a:xfrm flipV="1">
            <a:off x="5267160" y="5047920"/>
            <a:ext cx="268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39"/>
          <p:cNvSpPr/>
          <p:nvPr/>
        </p:nvSpPr>
        <p:spPr>
          <a:xfrm flipV="1">
            <a:off x="5376960" y="5937120"/>
            <a:ext cx="1305000" cy="1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0"/>
          <p:cNvSpPr/>
          <p:nvPr/>
        </p:nvSpPr>
        <p:spPr>
          <a:xfrm flipV="1">
            <a:off x="6681960" y="50227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41"/>
          <p:cNvSpPr/>
          <p:nvPr/>
        </p:nvSpPr>
        <p:spPr>
          <a:xfrm flipV="1">
            <a:off x="6664320" y="4992480"/>
            <a:ext cx="130500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1BDF-FABE-4722-8B10-C0C0289C3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028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weights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“learning 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teacher specified output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correct do not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high, lower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low, increase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just threshold to compens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2"/>
              <p:cNvSpPr txBox="1"/>
              <p:nvPr/>
            </p:nvSpPr>
            <p:spPr>
              <a:xfrm>
                <a:off x="1185840" y="1822320"/>
                <a:ext cx="38098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3"/>
              <p:cNvSpPr txBox="1"/>
              <p:nvPr/>
            </p:nvSpPr>
            <p:spPr>
              <a:xfrm>
                <a:off x="1374840" y="5788080"/>
                <a:ext cx="3371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BB38-A88D-417C-A641-3201A2684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18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ly update weights until converg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xecution of the outer loop is typically called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po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576720" y="2060640"/>
            <a:ext cx="826884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weights to random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outputs of all training examples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pai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current outp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n its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current output to target valu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ynaptic weights and threshold using learn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xt Free Grammars (CF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6000" y="1371600"/>
            <a:ext cx="8186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n-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sjoint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form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A is a non-terminal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tring of symbols from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)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a designated non-terminal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duction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production rules can be taken directly from the set of rewrite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can be directly estimated from frequency count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06B7-9735-4F7C-9B07-F52262C54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1371600" y="3962520"/>
                <a:ext cx="62229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→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gram conditional probabilities can be estimated from raw text based o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lative frequen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word seq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ave a consistent probabilistic model, append a unique start (&lt;s&gt;) and end (&lt;/s&gt;) symbol to every sentence and treat these as additional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4"/>
              <p:cNvSpPr txBox="1"/>
              <p:nvPr/>
            </p:nvSpPr>
            <p:spPr>
              <a:xfrm>
                <a:off x="3881520" y="2593800"/>
                <a:ext cx="29113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5"/>
              <p:cNvSpPr txBox="1"/>
              <p:nvPr/>
            </p:nvSpPr>
            <p:spPr>
              <a:xfrm>
                <a:off x="3922560" y="3497400"/>
                <a:ext cx="33800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Text Box 6"/>
          <p:cNvSpPr/>
          <p:nvPr/>
        </p:nvSpPr>
        <p:spPr>
          <a:xfrm>
            <a:off x="2202480" y="27320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2195280" y="36892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-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how well a model “fits” the tes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he probability that the model assigns to the test corp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s for the number of words in the test corpus and takes the in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4"/>
              <p:cNvSpPr txBox="1"/>
              <p:nvPr/>
            </p:nvSpPr>
            <p:spPr>
              <a:xfrm>
                <a:off x="2535120" y="3576600"/>
                <a:ext cx="3275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6" name="Rectangle 5"/>
          <p:cNvSpPr/>
          <p:nvPr/>
        </p:nvSpPr>
        <p:spPr>
          <a:xfrm>
            <a:off x="666720" y="4767120"/>
            <a:ext cx="77724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the weighted average branching factor in predicting the next word (lower is bet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 (Add-One) 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40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lucinate” additional training data in which each possible N-gram occurs exactly once and adjust estimates according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otal number of possible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-grams (i.e. the vocabulary size for a bigram mode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4"/>
              <p:cNvSpPr txBox="1"/>
              <p:nvPr/>
            </p:nvSpPr>
            <p:spPr>
              <a:xfrm>
                <a:off x="3873600" y="2471760"/>
                <a:ext cx="3244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3916440" y="3289320"/>
                <a:ext cx="3711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Text Box 6"/>
          <p:cNvSpPr/>
          <p:nvPr/>
        </p:nvSpPr>
        <p:spPr>
          <a:xfrm>
            <a:off x="2372400" y="2633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354040" y="3481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-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765000" y="5086440"/>
            <a:ext cx="80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ds to reassign too much mass to unseen events, so can be adjusted to add 0&l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 (normalized b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terpo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ly combine estimates of N-gram models of increasing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66720" y="4255920"/>
            <a:ext cx="77724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proper values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raining to (approximately) maximize the likelihood of an independen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.k.a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rp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5"/>
              <p:cNvSpPr txBox="1"/>
              <p:nvPr/>
            </p:nvSpPr>
            <p:spPr>
              <a:xfrm>
                <a:off x="963720" y="2943360"/>
                <a:ext cx="7448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Text Box 6"/>
          <p:cNvSpPr/>
          <p:nvPr/>
        </p:nvSpPr>
        <p:spPr>
          <a:xfrm>
            <a:off x="998640" y="258588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olated Trigram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7"/>
              <p:cNvSpPr txBox="1"/>
              <p:nvPr/>
            </p:nvSpPr>
            <p:spPr>
              <a:xfrm>
                <a:off x="3049560" y="3598920"/>
                <a:ext cx="113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Text Box 8"/>
          <p:cNvSpPr/>
          <p:nvPr/>
        </p:nvSpPr>
        <p:spPr>
          <a:xfrm>
            <a:off x="2090520" y="36338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0E7D-5277-4B5C-B501-E2AD83653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al Definition of an HM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90320" y="1384200"/>
            <a:ext cx="8248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istinguished start state: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istinguished final state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observ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te transition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 probability distribution for each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arameter set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4"/>
              <p:cNvSpPr txBox="1"/>
              <p:nvPr/>
            </p:nvSpPr>
            <p:spPr>
              <a:xfrm>
                <a:off x="1138320" y="3495600"/>
                <a:ext cx="7621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857160" y="5635800"/>
                <a:ext cx="748692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t </m:t>
                    </m:r>
                    <m:r>
                      <m:t xml:space="preserve">t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 1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9"/>
              <p:cNvSpPr txBox="1"/>
              <p:nvPr/>
            </p:nvSpPr>
            <p:spPr>
              <a:xfrm>
                <a:off x="1136520" y="3963960"/>
                <a:ext cx="3430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r>
                            <m:t xml:space="preserve">i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ward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62040" y="1757160"/>
            <a:ext cx="777240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probability of being in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fter seeing the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servations (by summing over all initial paths leading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4135-D53D-4AB1-BF4D-9D8095807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2"/>
              <p:cNvSpPr txBox="1"/>
              <p:nvPr/>
            </p:nvSpPr>
            <p:spPr>
              <a:xfrm>
                <a:off x="1782720" y="3597120"/>
                <a:ext cx="5668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the Forward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D86E-23AF-4099-BA54-9B93D5DB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2"/>
              <p:cNvSpPr txBox="1"/>
              <p:nvPr/>
            </p:nvSpPr>
            <p:spPr>
              <a:xfrm>
                <a:off x="2333520" y="1936800"/>
                <a:ext cx="4984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  <m:r>
                                <m:t xml:space="preserve">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476280" y="3154320"/>
                <a:ext cx="8667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d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1611360" y="4821120"/>
                <a:ext cx="58150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iterbi Scor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 compute the probability of the most likely subsequence of states that accounts for the fir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servations and ends in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F190-88F6-480F-945F-8DDF69F6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747720" y="2970360"/>
                <a:ext cx="8056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Content Placeholder 2"/>
          <p:cNvSpPr/>
          <p:nvPr/>
        </p:nvSpPr>
        <p:spPr>
          <a:xfrm>
            <a:off x="609480" y="3870360"/>
            <a:ext cx="7885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cord “backpointers” that subsequently allow backtracing the most probable state sequ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tores the state at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that maximizes the probability that system was in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iven the observed seque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7-02-23T18:11:06Z</dcterms:modified>
  <cp:revision>390</cp:revision>
  <dc:subject/>
  <dc:title>Intelligent Information Retrieval and Web Search</dc:title>
</cp:coreProperties>
</file>