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074240" y="704520"/>
            <a:ext cx="469764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FB9F-1447-4AB2-BA4C-1273952FA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3C3B-7FC2-433E-B3E7-94E53033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0BD5-ABEA-473D-AA72-FFB5E70D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07A-E092-413B-8290-EDFBAA513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20E-B998-415D-85DF-6BBBBA36B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DA8-767A-4943-A1D2-24E73F07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F15-9009-416D-BB76-1472FE08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A2B-7E3F-4F42-995C-3A52C51B8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8B3B-412F-4F11-B616-38A6ADDEA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16A7-D552-4B01-879B-F5DA1F531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D67-323E-4F1D-84CA-2A217C389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5F1-DA7A-4321-BE8F-428645F6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0CA-C5F8-4CD3-8DD6-AB40AF49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D596-1F82-4D39-92D3-6BBEBF4E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74600" y="704880"/>
            <a:ext cx="4697640" cy="3522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F4B6-6DDC-4D1F-B39E-B03040B29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A744-AA53-4A99-A7F5-80D8E1A2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D5FE-B4B9-4554-BC49-781CA044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B9FE1-333F-4037-B936-39EA749D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9D384-7937-4F62-9D4E-6C6E4D6F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82DB6-A314-4155-89B1-AF36145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D9090C-9C1E-4792-A0F2-469BD81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AB006-8E00-4186-87B5-FE8E865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308BE-036D-44EF-BA7F-3576FFD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1FDE2-A8E4-456F-A17D-08CDDA0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3B1AC-6083-4D9F-B84A-A83FD947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0640C3-6568-4A36-844E-16EE216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9B897-AE8C-4C30-A90D-F2C5FBD8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CD8F-4442-468E-8547-F364F740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3EE6FC-C634-4F7A-8B65-CA4F0EA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D8909-F546-4892-BFE3-973BFF6F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9FABC-9C14-40DD-843E-BDD1B0B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7900D7-F25B-4E69-A6AF-7ACA87A6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D872B-477A-408F-868C-BE70CA3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237E2-B69D-4E9E-A364-810E533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AD783-BB17-4504-9E04-9255A26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A3B49-F58B-4E1E-9475-EED36ABD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721E1-CEDE-4B82-9751-47D2315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65AF9-9508-410A-85AF-A0C7979C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E8EA-41CA-48A2-B2A6-32DD2A1E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847FCF-073F-463A-86F0-6FD68F4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E5A976-E582-4D39-983E-1FB6A5AB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B496E5-9FA5-4FC8-99DC-3518638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2501E6-04D0-47ED-B31B-517B01AD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BA2358-2FEB-4038-984D-B2DEFFE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71B0CB-8403-4FDF-B557-925ADCC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8EC185-C609-4E8A-9660-28DB1C7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E74012-764E-441B-8A39-9C30297F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901F73-FE9E-403E-B9D7-F223F74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62496D-5E0D-46D1-967E-7EF72D4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55ADB-EFF3-4F1C-95D7-BD2AF063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589B0-73E7-4400-BD38-84C232A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77671-D50B-46AC-96A8-D077449B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5876C-FF30-4DD9-A434-4456B7A3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F06824-6905-426D-818C-481AFC27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7B1B7-BF69-468C-93C6-375B4AD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8B1257-4262-451E-A35B-B5D9146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EDF4A4-C9F9-4977-A874-B104AB0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668BA2-52C3-4698-A0DA-DFDD15E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CC607-CE32-4D55-BEB6-64E4360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C78CA2-809A-4F76-B551-610FCB8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F63F-F0FC-499A-AFD7-77C9EB0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74407E-BA39-49D2-A929-4FB66524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CCA03D-DD54-4176-9452-6AF3719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EFA124-212C-4CF5-B5DB-4484FABA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2C1F68-251E-406F-9799-E6656CE8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D9A50-9E25-4E8B-BBA8-1A118832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A8943-3081-43C1-AD82-70FE8F1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E0CC-96A1-4A70-B0D8-17324E6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7728-0C35-4168-9F20-BF02369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7579-0E13-43A4-B5BE-FFA7F5C3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D3D0-F368-4C86-B70C-90491B2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FC2A-8787-4DFE-B35C-DBCA5758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086C6-2453-4A80-8290-A39017D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FF0F-3AF0-4DC3-AF99-B659D93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B3C3E-326D-49C5-BCE7-2B3AE30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B665-28D0-4473-B211-FE87743E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37EB2-6988-4AD1-91B7-EC86AED7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40E07-0A2E-4CBC-BEDB-5D727AB2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BB23F-5D29-456C-B84F-21B9067E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C08DE-752E-41A5-B117-B37D58B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95066-3E14-4C19-921E-0D8B4AE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A4312-3CA3-4060-B119-78B6B6E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433E-D6D6-4544-BFF7-460EF10C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777B1-0E2E-4679-95B6-61598E9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AC3F5-7265-465B-8074-D925CD0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772F9-E369-4792-A2C1-0E92657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43258-CECF-4578-9E72-DEEDF47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EEE09-BBF9-4F70-B61D-72BFC6CE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959F7-6A82-41B5-9540-FDAF1DC2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F60D9-7F96-43FE-9FD7-55B20718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3862D-DE88-4A00-939D-610CE44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91011-9D16-417B-A83F-E7CD1DB9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8BABF-4DFF-478F-B0CE-F548527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87A4-DECE-40A7-A6A4-426E4EE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22B1D-1CC6-4FF5-91FB-628D3454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00B5C-2FDE-4F99-86D3-4310F411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76404-908F-4F3C-A1AD-0F371DF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2D0CF-E205-428D-8224-7FA63F8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81D69-0006-406E-A0E4-936D8BA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A624A-C671-44FD-9B39-578F393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46914-8B75-4D71-AE31-3C6E6C41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DE08C-93F0-4058-8AE6-FEDE59BA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C388F-3531-442D-BD4F-4882752D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0EC87-70B6-4B29-9E1C-8779889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E9D7-FBB2-48CF-B45D-58D6FA91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5621A-A52A-4315-BFA0-1C127C0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6BC24-8B8F-44AC-AFCB-4B52C56B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38F24-458A-47A8-8A27-29A8E3C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2C804-111F-446B-85B3-C00EB45C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34643-BCB9-46AC-98FC-EAEDDAF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9DD5F-03BD-4E66-83D1-E336C8C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DDD38-FF48-42FB-AEBB-3EF70E2F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4ED9D-7B00-4539-95A1-EE4CFDE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44662-DED6-48D9-BCA0-44DC1BF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BCDED-1BF3-47E5-A59E-EC54B9B7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93EB-440C-4130-A21B-871904E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809BF-4915-43CD-BB3C-707564C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1EB59-23B8-45E4-825E-92212A21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958CF-2A7C-4E0C-96B0-23CEF5F7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00408-6E35-4D59-98E1-DB195A3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5F518-AB31-40D3-A5F9-AD5BE89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9F2DE-1DD9-483D-BD9E-40880DC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87281-600D-4629-A03E-EE3ED6E8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DB84C-A912-4BEC-AA24-C1DD06DF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F8FE4-E8A0-4126-8A13-A1A91FF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69061-0C93-43DE-9BC7-FD573C1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B638-AE09-42FB-BD51-EF209FF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466E6-2F1D-41D5-8ACE-FEA07D8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5767D-3372-4F07-9C50-A3AF55D0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EB35A-B2F6-4320-B226-B008FDB0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D7079-2E32-4490-B06B-467114A8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2CACC-1647-4DD1-9E86-E5943FC9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A46B5-A72A-40B5-B59F-1AF7640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8569A-7B2F-4391-8DF6-EBDE32C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FB9D6-B97E-4FB7-94FA-D8DAA82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7293A-D557-4188-A6FF-65469AE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7DD42-9FC9-46B6-8A29-DC0D06D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70AC-C81B-436C-9EF4-061D37D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B0FEF-4777-4465-ACFF-E8A4AF4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03A7E-6C2F-41F5-8755-2ECA7CD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B598E-19CC-4FDA-8380-EA228FC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84A07-5731-4AF1-8A1B-A044CCA0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E89E6-D93A-4750-8F21-720568B5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74ED46-55B4-4F54-8922-DE247703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45E300-3AE2-4948-B68A-E046984E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845B1-FD5D-4D54-BE04-728DCAE7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3A8A0-A3D5-4CAF-82A4-78392DCD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E4394-EF7B-4040-959C-64EA48E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A94B-C1AA-4B62-B679-1A2CF63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80280-60D0-40B9-A0C9-BE10D65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D8EE4-FA28-4151-AA58-37CE268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63943-1722-4334-960A-517F332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698BD-01BC-42D5-B39A-C6D5A7C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731B2-B9CB-445F-B9B3-D14FA91F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E0ED74-AE28-48CD-85CC-D05B6E38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E4E5A-21CA-4555-9CCA-A41CC95B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0C419-A4BC-4976-91B5-093163BC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C9B67-537A-47DC-9AA0-2B6BF97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98DBF9-DC92-4EA6-B4BB-D3B24704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CDC1-B219-48B6-B20A-8950D61C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DE28-549E-4DEA-AECC-C2722256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796F-370F-4998-AE10-F11C6D0F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E46-507D-4AD1-9872-183FED4F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EA8-11AE-4E0E-BE73-7745D32A0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02F0-C172-4E1C-B42D-290DEC11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066-8360-4EAF-9548-BFD0C004D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3DA6-EA2A-4924-80AD-05CFC1FC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EF8-5913-458D-BD3F-A4E36DC9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83E-3650-4EA5-9AA2-0C17BC72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57AB-F6DF-4173-BA0C-8528FDBE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68A6-D8CE-4309-8279-76859534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-Gram Model Formul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rule of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-gram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1569960" y="1930320"/>
                <a:ext cx="168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5"/>
              <p:cNvSpPr txBox="1"/>
              <p:nvPr/>
            </p:nvSpPr>
            <p:spPr>
              <a:xfrm>
                <a:off x="1120680" y="3030480"/>
                <a:ext cx="753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1859040" y="5413320"/>
                <a:ext cx="3024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887480" y="4211640"/>
                <a:ext cx="2763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Viterbi Sco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CF8-71F1-47E1-A4C4-4DC2A662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382840" y="1936800"/>
                <a:ext cx="4911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608040" y="3098880"/>
                <a:ext cx="8378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4"/>
              <p:cNvSpPr txBox="1"/>
              <p:nvPr/>
            </p:nvSpPr>
            <p:spPr>
              <a:xfrm>
                <a:off x="2036880" y="4910040"/>
                <a:ext cx="49863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0" name="TextBox 7"/>
          <p:cNvSpPr/>
          <p:nvPr/>
        </p:nvSpPr>
        <p:spPr>
          <a:xfrm>
            <a:off x="509400" y="6135840"/>
            <a:ext cx="85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nalogous to Forward algorithm except take </a:t>
            </a:r>
            <a:r>
              <a:rPr b="1" i="1" lang="en-US" sz="2400" spc="-1" strike="noStrike">
                <a:solidFill>
                  <a:srgbClr val="00b05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instead of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Viterbi Backpoin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DFA-5579-42D6-BF43-FDC87ACF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"/>
              <p:cNvSpPr txBox="1"/>
              <p:nvPr/>
            </p:nvSpPr>
            <p:spPr>
              <a:xfrm>
                <a:off x="2887560" y="1954080"/>
                <a:ext cx="3900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79200" y="3086280"/>
                <a:ext cx="9064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4"/>
              <p:cNvSpPr txBox="1"/>
              <p:nvPr/>
            </p:nvSpPr>
            <p:spPr>
              <a:xfrm>
                <a:off x="1611360" y="4873680"/>
                <a:ext cx="5815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7" name="TextBox 7"/>
          <p:cNvSpPr/>
          <p:nvPr/>
        </p:nvSpPr>
        <p:spPr>
          <a:xfrm>
            <a:off x="733320" y="5811840"/>
            <a:ext cx="74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Final state in the most probable state sequence. Fo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backpointers to initial state to construct ful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pervised Parameter Estim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80960" y="1371600"/>
            <a:ext cx="8121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state transition probabilities based on tag bigram and unigram statistics in the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observation probabilities based on tag/word co-occurrence statistics in the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smoothing if training data is s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8636-9DF9-4503-962D-5B71B665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2"/>
              <p:cNvSpPr txBox="1"/>
              <p:nvPr/>
            </p:nvSpPr>
            <p:spPr>
              <a:xfrm>
                <a:off x="2583000" y="2200320"/>
                <a:ext cx="35208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2422440" y="4179960"/>
                <a:ext cx="3635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C367-5572-437A-8012-F7F408E4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Artificial Neuron Model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Linear Threshold Unit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587" name="Oval 5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6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Oval 8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Oval 9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10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3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5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6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7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8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9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0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1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2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23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4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5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124920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0" name="Text Box 28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3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12" name="Line 30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7562520" y="5951520"/>
            <a:ext cx="46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4994640" y="4325760"/>
            <a:ext cx="315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4"/>
          <p:cNvSpPr/>
          <p:nvPr/>
        </p:nvSpPr>
        <p:spPr>
          <a:xfrm>
            <a:off x="6533280" y="594036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5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005080" y="5757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7"/>
          <p:cNvSpPr/>
          <p:nvPr/>
        </p:nvSpPr>
        <p:spPr>
          <a:xfrm>
            <a:off x="4997160" y="4849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8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9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0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1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57C-1F49-4601-80B1-46CFD8126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2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02E-6E3D-434A-90DA-59072DFC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489C-A89E-4881-A892-5D3FD33E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gram conditional probabilities can be estimated from raw text based o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wor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ave a consistent probabilistic model, append a unique start (&lt;s&gt;) and end (&lt;/s&gt;) symbol to every sentence and treat these as additional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"/>
              <p:cNvSpPr txBox="1"/>
              <p:nvPr/>
            </p:nvSpPr>
            <p:spPr>
              <a:xfrm>
                <a:off x="3881520" y="2593800"/>
                <a:ext cx="2911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5"/>
              <p:cNvSpPr txBox="1"/>
              <p:nvPr/>
            </p:nvSpPr>
            <p:spPr>
              <a:xfrm>
                <a:off x="3922560" y="3497400"/>
                <a:ext cx="338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Text Box 6"/>
          <p:cNvSpPr/>
          <p:nvPr/>
        </p:nvSpPr>
        <p:spPr>
          <a:xfrm>
            <a:off x="2202480" y="27320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195280" y="3689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how well a model “fits” the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probability that the model assigns to the test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s for the number of words in the test corpus and takes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"/>
              <p:cNvSpPr txBox="1"/>
              <p:nvPr/>
            </p:nvSpPr>
            <p:spPr>
              <a:xfrm>
                <a:off x="2535120" y="3576600"/>
                <a:ext cx="327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6" name="Rectangle 5"/>
          <p:cNvSpPr/>
          <p:nvPr/>
        </p:nvSpPr>
        <p:spPr>
          <a:xfrm>
            <a:off x="666720" y="4767120"/>
            <a:ext cx="77724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weighted average branching factor in predicting the next word (lower is bet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(Add-One) 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40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ucinate” additional training data in which each possible N-gram occurs exactly once and adjust estimates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otal number of possible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-grams (i.e. the vocabulary size for a bigram mode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3873600" y="2471760"/>
                <a:ext cx="3244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916440" y="3289320"/>
                <a:ext cx="3711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2372400" y="2633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354040" y="3481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765000" y="5086440"/>
            <a:ext cx="80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eassign too much mass to unseen events, so can be adjusted to add 0&l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 (normaliz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po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ly combine estimates of N-gram models of increas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66720" y="4255920"/>
            <a:ext cx="7772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roper value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raining to (approximately) maximize the likelihood of an independen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.k.a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rp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5"/>
              <p:cNvSpPr txBox="1"/>
              <p:nvPr/>
            </p:nvSpPr>
            <p:spPr>
              <a:xfrm>
                <a:off x="963720" y="2943360"/>
                <a:ext cx="7448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6"/>
          <p:cNvSpPr/>
          <p:nvPr/>
        </p:nvSpPr>
        <p:spPr>
          <a:xfrm>
            <a:off x="998640" y="25858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d Trigram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7"/>
              <p:cNvSpPr txBox="1"/>
              <p:nvPr/>
            </p:nvSpPr>
            <p:spPr>
              <a:xfrm>
                <a:off x="3049560" y="3598920"/>
                <a:ext cx="113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 Box 8"/>
          <p:cNvSpPr/>
          <p:nvPr/>
        </p:nvSpPr>
        <p:spPr>
          <a:xfrm>
            <a:off x="2090520" y="36338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0B0-7814-4750-9B54-92822EE2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Definition of an HM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0320" y="1384200"/>
            <a:ext cx="8248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stinguished start state: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stinguished final state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observ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 transition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 probability distribution for each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rameter se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4"/>
              <p:cNvSpPr txBox="1"/>
              <p:nvPr/>
            </p:nvSpPr>
            <p:spPr>
              <a:xfrm>
                <a:off x="1138320" y="3495600"/>
                <a:ext cx="7621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857160" y="5635800"/>
                <a:ext cx="74869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</m:t>
                    </m:r>
                    <m:r>
                      <m:t xml:space="preserve">t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1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9"/>
              <p:cNvSpPr txBox="1"/>
              <p:nvPr/>
            </p:nvSpPr>
            <p:spPr>
              <a:xfrm>
                <a:off x="1136520" y="3963960"/>
                <a:ext cx="3430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ward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62040" y="1757160"/>
            <a:ext cx="77724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probability of being in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seeing the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servations (by summing over all initial paths leading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9DA-184E-42DA-A1B3-781EEF61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"/>
              <p:cNvSpPr txBox="1"/>
              <p:nvPr/>
            </p:nvSpPr>
            <p:spPr>
              <a:xfrm>
                <a:off x="1782720" y="3597120"/>
                <a:ext cx="5668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the Forward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9C6-052B-49F8-BF4C-1EC6698B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2333520" y="1936800"/>
                <a:ext cx="498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476280" y="3154320"/>
                <a:ext cx="8667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1611360" y="4821120"/>
                <a:ext cx="5815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terbi Sco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 compute the probability of the most likely subsequence of states that accounts for the fir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servations and ends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3718-C2BA-449E-9632-E2623394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747720" y="2970360"/>
                <a:ext cx="805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Content Placeholder 2"/>
          <p:cNvSpPr/>
          <p:nvPr/>
        </p:nvSpPr>
        <p:spPr>
          <a:xfrm>
            <a:off x="609480" y="3870360"/>
            <a:ext cx="78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cord “backpointers” that subsequently allow backtracing the most probable state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tores the state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that maximizes the probability that system was in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the observed sequ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2-23T18:11:06Z</dcterms:modified>
  <cp:revision>390</cp:revision>
  <dc:subject/>
  <dc:title>Intelligent Information Retrieval and Web Search</dc:title>
</cp:coreProperties>
</file>