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121-32AD-4386-BC7E-0CBFF84A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D5F7-172B-480C-9D97-CE682C27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B1E-2653-47E3-A40E-EC37D8EFB5A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2DF7-1B84-47C3-A84F-EC01D8DE1E2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C39-67BF-4648-A881-A207CA02C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C1B7-F781-472C-8933-DD4A1A81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B254-F58C-41D6-8FCF-D8438983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C8C-7ACC-4342-9966-E6923F00E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B136-DC51-48B7-9A15-BE725A018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9BC3-7F66-4DBB-B43D-8BE4B9355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9422-28F8-4A80-AD54-844DBCDC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48A6-FFF4-4335-AAA6-AA3B8445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DFA-07D7-4A1C-A8D4-4EAD7AA59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0FD7-812D-415B-A891-9B51F87F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5CE-762D-4B8C-AB6E-EA5A159DE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CDE-62B4-4753-B24B-357674C2D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7DEE-B4D1-4BAA-A714-87A475DD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EB3B-7A5D-4339-910E-C2A2DB2BF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8C1A-8062-4F70-866B-14A95763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DB00-F954-4654-9E43-F7125F434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A23E-D9AE-4D1B-BD84-692B8467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A28A-ECE2-4F91-BB3A-CEF228A5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4608-4406-4103-BC37-38499550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531-9BA4-4CC1-B9BC-6097DB7CC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8F1B-CBEC-4D82-A5A5-A105C20D0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B99-3EE7-4DC2-8E18-EAF01EEF0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1727-9341-4583-95EB-2B69D8FF2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FA15-7590-4A92-834D-CA2B3601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F159-47F7-4F6D-BC3B-61F1766B0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D12C-6521-48C9-A5EC-53FD0AF7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D06F-A894-4F69-BD12-78FCA913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BDE-07AC-4C2C-963D-8932F3CAD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34A9-0B09-4953-8464-B4C1E795D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0A17-7EF0-41AE-B9C5-A5ADF048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F1D4-1BEB-4F50-B653-8FFE4CE6B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3797-7D3B-47EA-B861-E5E93A980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ECB4-A57F-4DD6-9089-583DED0C7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C26E-97D8-4B7E-9E15-8E90E6AF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2710-7285-468E-AEC7-EFA534D7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BD81-113B-4F89-BA47-49299420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0BF-653E-4A46-851E-F3A6C2C04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311-E7E3-4589-A424-F745C1A4A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3E2F-1ED9-48E0-A72D-340A23A55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D165-83A8-4C1F-82E2-D4E97F86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0C7-20AF-4E4C-803C-4F9AE2ED5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74D2-9AD3-4A7E-AD4D-F6E26AD4A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0D93-28D3-4747-B8EB-6BA98B04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AEFE-ADED-489C-BEE3-26C7CB00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462-7F89-4562-A66B-7D68CFD6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7FF-9D4A-4EDC-B95E-6625D42B5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473-8DDA-45E0-8136-1DD4A30FA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92A9-47FF-4D95-9092-D9AE8E1E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DA54-B1AF-44C6-8D8A-FF2422096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9E92-8D43-442A-ADC8-60A38713F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A54E-1562-4228-8D54-662DD133F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A3C-11C6-4312-9287-7C10414F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E5DA-D96E-47C6-907B-A625E8470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7F8-B2A2-4BB1-80D0-97DC17872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77AB-DBD8-4366-A85E-33611E6D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975-267F-4A9F-A1C2-3A982A27B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6CA3-8B58-49E1-A90E-9941F944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897-C50A-4534-BB7F-D9D64706D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116A-8B41-4783-BABA-9A95BEB3F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95E0-E37F-4B62-AC26-BC15B2D8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0CDD-0319-41C1-A41A-D41F6E6DD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DD3A-E097-4E3D-BBA7-A714AEB9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CEE5-0BCC-4423-82FC-DD380CBF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A92C-E585-4EFD-A4E6-82460AAAA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6BE7-D3B3-45EF-95FF-4BB676B3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5B29-B723-4777-9257-314CF31BE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7C2-62FB-45B0-9396-0768E2E2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A1FC-CDE4-4EF1-BDC8-2B6D436A1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F041-4FC2-4E12-9925-6BA10291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E6F7-3FAF-43A6-A702-7483679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FF942-2038-4AD1-A3BD-82D580C8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05B4D-4978-43C6-8A47-65D69E5F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2282E-8AF8-4071-80F8-A9755CB4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19048-B186-4F81-BB79-BE417E45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E83F15-4864-4F6E-BDD1-EFAFED74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2DB01E-17E4-4020-A422-F3542352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2A2C44-7642-44CC-9DC5-0223498A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48E21-B59B-4650-87EF-D0E16742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AF2E51-B004-4281-8805-B13105DC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39661D-CB74-4ED1-B11A-A42EF189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A4DC-76A6-44B9-ACB4-234E42A1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75A74A-BF72-44DA-A149-D484A7FA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C671A6-1918-4167-9326-4DBD5264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739C11-DF85-445F-9DA1-6A2C2D9E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2A58E6-0100-45B3-8AD7-2A037DB7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CB9039-C07A-4CC3-B529-C4003E1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90C28B-0D17-4BC2-8688-FFBFC06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31062A-DBE1-4C21-9EE6-00E5F8A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93C367-6B6E-4CDE-84BA-C1E7A48A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A5B801-8055-49C4-B474-26FC82DE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C43FD-00C5-4469-ADAC-ABF96361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45C8-B1CB-4409-97D7-53CE1A95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E829B-1D74-4F3A-B5B6-55E58C56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D473BC-010B-4B0C-90F4-A99FB422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73658D-3B42-46BF-8E6B-2FE4EF31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DB6D98-F3E3-4BB2-82CF-94F9473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472A19-4033-4337-B8FE-2CD11876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0B874D-315F-4EAC-A656-E5929372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BA97A-F329-4736-83B2-9D849B29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8A7DA5-93F6-41F6-A027-CBEE941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188FA3-1D7D-440C-B707-0A15A98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2EAE0B-711E-4E33-8988-00350CC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85FE2-5C20-4B59-8DFC-D9FED8E8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C2B419-FE4D-4ACF-91F5-2781AD9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FFCA65-8A5A-4420-9664-B4418546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994810-83D8-4BE0-ADE4-51F4B424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5341DA-8AB7-4113-B6D3-33FACF8A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9F4BEF-120E-41EE-B552-D9302091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4EF0FD-CF2A-43B1-BB46-CE57F8CD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C491C7-B476-4D42-9D48-7B9676A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D607C8-3165-42C5-BF7A-E4BCB943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0B9EE8-ED96-4C01-9F0E-323C39A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5B8C63-01C3-4757-9652-1DF2DB8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E91F9-79AF-46E2-9DF9-5CE111DD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B0F720-EF61-4E65-87B3-CDF3DF0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509E62-9518-4C40-8BA7-54EE2208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BC4BCB-A835-4F15-AA55-1F55471A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4DC57E-CC46-4BF3-A66C-C7E1275D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2A1F68-B47E-4F3F-B407-C50ED1A9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DE5AEA-95A7-4CC7-9BBA-6E0A4B8F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0E5BE7-64B6-4EEC-AF0A-1A3BECC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80852A-5376-4E0A-AD90-2991979A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ACA60A-8DAA-4845-9D13-DDB55D8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2D304F-C9AD-42A7-9A40-7DA1D00C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D1005-136C-4D3D-BF5B-5123F98F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391728-3AE9-4A92-8CDD-13EC3D99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833718-35B4-4193-A2A9-76F7BFBA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08DFC4-1B58-4189-AB47-AE309C81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BFBAE-ACE7-4AF8-8722-708463A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B6A05E-0F60-4378-BDCC-1CF2A761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FFE4EC-704F-4A82-8B31-DDC7737D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35DC6A-60DC-4FBE-914B-1FCB6AF3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239FAF-CF4A-41F6-8F9C-F580A0E5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42811E-AB6F-4EAE-B9F3-1EBABDAE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7F2289-8113-4BD9-B498-BD07EB7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E3CA1-0C43-478F-9EC1-191F53B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3B3567-B783-4D74-A505-C12A9098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4202C6-B711-493D-B496-1A088236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708D6F-837C-4885-BD2C-32FE9328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69E7F4-9070-4DD9-9677-A33A8F48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FA6F2A-A847-4C2C-B433-931D7AD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77D00F-AF26-473B-9B8F-0AE72FE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A32029-4CE8-4F08-9467-1A59E5A6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B78B00-EF2A-4A1A-A913-26737D7B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60FFCF-8566-473D-8497-EFF1A5E7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278C7-A9E1-446D-A5A2-68C6ACF6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B7498-8992-4959-8D0F-CC1DFE86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DA478-6EDB-4DC3-B356-D15D8F5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01AE-CB4A-4E4D-B6F9-03C79B1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0F75E-6DFE-4AFB-A8DD-010B12E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60D7-C073-49AF-96AF-6060CF9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C241E-EECC-4F19-8362-AC53A65A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A372-C6B9-45AD-B7EE-D873AB16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9FA6-4B01-4931-B9B7-1F059349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D321A-3C5E-47D5-A11C-992FCA1F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BF67C-43BA-4870-833D-002065AF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BDB14-7693-40F2-A51A-F1A7D22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4E146-4EB5-4961-80C8-9B4E4D4B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CADFE-BDA2-4391-A489-1D306D4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62F5-8825-49E2-A886-881A0DA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4892F-1F05-4BFC-BD50-0CEA633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40619-219E-4CF0-93C6-FD90BCA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6180C-8483-4F30-A976-B3434FCF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B6E99-2E33-4B75-AAC6-89E86FB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4FCD9-8039-40AA-8FED-AF75962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4E447-EAAE-4CF4-ADC8-7C99022D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A1810-1522-45FB-A402-16C3985F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B16A8-9F27-4D6A-84EE-CC607887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1B352-D05D-40A6-B325-72B86899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C149C-F81F-4EB2-A4FA-CC23452B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A09A-9F4B-4349-A559-E7DB2D9C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AB0EF-2F10-444C-BD15-D12CE898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C5484-C602-4805-944B-A957F730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E67E2-D0AB-4424-8F35-96DE08D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C005C-F948-413B-9FB2-2ACE42C8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5EB34-95F0-4D38-B3D7-FCD7B08F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643CD-B59D-4571-A1D4-E6BAF67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2E368-9DC9-45CE-98A8-9AA4C09F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25E27-3761-41CD-AFCB-658DAB34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5A5E8-AEB8-4A0D-9D28-87641FF7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3AFD6-CB78-46E0-9BA7-30F9D024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5FB9-B7DC-4BC9-BBF3-E2A3E43A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4BC97-C662-4585-A077-9FB834B8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60003-8A7C-49B3-B243-15EBC8D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F3868-E933-4F47-A3BF-14417EB3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CF9E4-F481-464F-866E-532B5EA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98595-4583-4A3B-8418-B837653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2C474-E96E-4D35-942A-4DE816B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465D8-A0F1-4340-939E-2C8E08F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266AB-AF0D-4CE7-B763-27F30C98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12F6A-B0DB-417A-8BA7-DF4A7FCA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F8B30-B031-489C-9DCB-EC57CAC7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D911-ECCA-4F88-94C5-03BF895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03096-CA65-41B6-B8F9-4903D651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F1FB3-A89F-498C-BFAA-90F0D939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85DEE-0F2B-46C1-BE05-5334FDA3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81776-11E5-4D24-9979-E577BA2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A920C-6C68-4E70-8C32-AD0ABB7A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84768-2004-4F82-AFF0-99202D8C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ACE24-3FF9-4369-8F4E-7269A1E5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4A0C0-B320-484E-B9BE-CC8716EB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9110B-5BF1-4131-9E60-0B718371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B9983-97A7-4A4F-BA78-0A036BC0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B34A-B193-4D26-BD8D-1EF066C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86DB3-3DBA-4C66-BFDF-73895139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BEAC0-6773-41E9-98CF-F959D410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B84EE-52BC-4E9C-B4DB-6EB31EE2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25403-085D-48DC-82D0-A95CCAFB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6FB60-FD39-4EE0-BD5A-50F08319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90ED8-1058-49E7-B69A-27A176CC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1AE2F-7FCB-425D-8716-A85EAE3F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4510F-7614-4AC3-907A-7BD2E2DC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CB33C-FE48-4647-9CA4-DF47146B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B51B9-C192-4C5D-A8CD-B8E3180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79AB-1DEB-46E4-A67C-E6C154A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2F733-E0CC-428C-8D82-B1728EF5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55EE6-D7F9-4EA5-9B4C-2ED9149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79852-231F-477B-8E43-33811BBE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141B7-7D77-46BE-9709-7492B7E4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938A0-8D52-4B22-A733-B246494E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DD0EE3-C128-4E42-B7D7-415ED78F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62DF1F-55E3-46E2-A807-CFE4F975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56A96-F48F-4A8D-916D-C02B6391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0767E7-FAF4-41C9-A73C-EF7BB75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EBAF4-F863-4F5D-ABCA-397418CC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8784-D8E5-48B9-89A8-09A7B8E4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DBF1C-537B-46F2-9FAB-1BE55EE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77EB88-FA84-4356-BD56-CB8469FB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0BACA-0D8D-4F5D-A619-2963812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A238E-F594-41EA-B370-F040B821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2DDE6-75F8-4BDC-A5FF-23337862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B525B-892F-4CF1-9616-DD3C5CD0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FD329A-DA62-45F3-8ACA-5E4275E9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A5501-C62D-4969-8722-8EDD1BD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355862-94D6-4EF9-A85B-158BFBC5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BC00A-48A7-4442-B421-85A5EA4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B87-4744-4890-8E9A-32ED49BAA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3D1-39A8-4815-9FE6-5014C4DE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B58F-0C65-44B7-B705-953DAA5E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70C6-8818-416E-A4E5-B4FED55A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E6CA-F4DD-43FD-922C-C86891B2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4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054A-6FCA-4E46-8F00-559F2748B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3AA4-4A61-4AB8-A84C-93D1C4778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A2A-3404-40EF-90C9-75AA1E8A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05C8-A550-459D-B30F-777E9BA49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9CA3-704C-4532-A836-B4DB7953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2F63-950F-42F6-B947-6817E31F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F15E-18DA-44E3-99AA-A28F00EB4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87C-DAD4-4BD3-B55D-55107AA9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455C-C053-4A30-A283-17A68769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8F61-D193-4DE0-A38F-BFCE3952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9FCC-9905-46E9-861E-BEACC77114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89A7-F52F-4622-9594-AB65408C5E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Machine Transla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lexical reordering does not adequately handle more dramatic reordering such as that required to translate from an SVO to an SOV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yntactic transfer rules that map parse tree for one language into one for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glish to Spanish: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P → Adj Nom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NP → Nom ADJ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glish to Japanese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P → V NP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VP → NP V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P → P NP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PP → NP P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C391-A992-4BE4-B395-7C3561CEF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1371600"/>
            <a:ext cx="7880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ransfer requires semantic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roles can determine how to properly express information in another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hinese, PPs that express a goal, destination, or benefactor occu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verb but those expressing  a recipient occu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glish to Chine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P → V PP[+benefactor]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VP → PP[+benefactor] V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ED20-0970-4BA7-8576-14BC10E61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encoding comprehensive bilingual lexicons and transfer rules is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T acquires knowledge needed for translation from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arallel corp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i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contains the same set of documents in two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nadian Hansards (parliamentary proceedings in French and English) is a well-known parallel corpu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lign the sentences in the corpus based on simple methods that use coarse cues like sentence length to give bilingual sentence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43E8-9D8B-46E1-8F72-D1A1C0C6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icking a Good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3712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translation should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aithfu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rrectly convey the information and tone of the original sourc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translation should also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lu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grammatically well structured and readable in the target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obj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C89-2FF6-464D-91D1-3F4C31CC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1297080" y="5267160"/>
                <a:ext cx="6194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Target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faithfulnes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luenc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isy Channel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685800" y="1371600"/>
            <a:ext cx="77724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ogy to information-theoretic model used to decode messages transmitted via a communication channel that adds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source sentence was generated by a “noisy” transformation of some target language sentence and then use Bayesian analysis to recover  the most likely target sentence that generated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8DE3-107E-4982-9190-37198AC1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Box 5"/>
          <p:cNvSpPr/>
          <p:nvPr/>
        </p:nvSpPr>
        <p:spPr>
          <a:xfrm>
            <a:off x="653760" y="4908600"/>
            <a:ext cx="8169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ranslate foreign language sentenc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to 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nglish sentenc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Ȇ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that maximizes P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Analysis of Noisy Chann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DBFE-D7CC-4E55-8E48-58F02E5A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81160" y="1771560"/>
                <a:ext cx="3233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nglish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3"/>
              <p:cNvSpPr txBox="1"/>
              <p:nvPr/>
            </p:nvSpPr>
            <p:spPr>
              <a:xfrm>
                <a:off x="1467000" y="2536920"/>
                <a:ext cx="37400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f>
                            <m:num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E</m:t>
                              </m:r>
                              <m:r>
                                <m:t xml:space="preserve">)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mr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|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97" name="TextBox 6"/>
          <p:cNvSpPr/>
          <p:nvPr/>
        </p:nvSpPr>
        <p:spPr>
          <a:xfrm>
            <a:off x="1677600" y="466884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lation Model    Language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eft Brace 9"/>
          <p:cNvSpPr/>
          <p:nvPr/>
        </p:nvSpPr>
        <p:spPr>
          <a:xfrm rot="16200000">
            <a:off x="3504960" y="3612960"/>
            <a:ext cx="372960" cy="1182600"/>
          </a:xfrm>
          <a:custGeom>
            <a:avLst/>
            <a:gdLst>
              <a:gd name="textAreaLeft" fmla="*/ 238320 w 372960"/>
              <a:gd name="textAreaRight" fmla="*/ 373320 w 372960"/>
              <a:gd name="textAreaTop" fmla="*/ 9360 h 1182600"/>
              <a:gd name="textAreaBottom" fmla="*/ 1173240 h 11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7"/>
                </a:cubicBezTo>
                <a:lnTo>
                  <a:pt x="10800" y="10233"/>
                </a:lnTo>
                <a:cubicBezTo>
                  <a:pt x="10800" y="10517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7"/>
                </a:cubicBezTo>
                <a:lnTo>
                  <a:pt x="10800" y="21033"/>
                </a:lnTo>
                <a:cubicBezTo>
                  <a:pt x="10800" y="213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eft Brace 10"/>
          <p:cNvSpPr/>
          <p:nvPr/>
        </p:nvSpPr>
        <p:spPr>
          <a:xfrm rot="16200000">
            <a:off x="4544280" y="3853440"/>
            <a:ext cx="372960" cy="717840"/>
          </a:xfrm>
          <a:custGeom>
            <a:avLst/>
            <a:gdLst>
              <a:gd name="textAreaLeft" fmla="*/ 238320 w 372960"/>
              <a:gd name="textAreaRight" fmla="*/ 373320 w 372960"/>
              <a:gd name="textAreaTop" fmla="*/ 9720 h 717840"/>
              <a:gd name="textAreaBottom" fmla="*/ 708120 h 7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12"/>
          <p:cNvSpPr/>
          <p:nvPr/>
        </p:nvSpPr>
        <p:spPr>
          <a:xfrm flipH="1">
            <a:off x="2935080" y="4390920"/>
            <a:ext cx="75564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traight Connector 14"/>
          <p:cNvSpPr/>
          <p:nvPr/>
        </p:nvSpPr>
        <p:spPr>
          <a:xfrm>
            <a:off x="4730040" y="4398840"/>
            <a:ext cx="51444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Box 15"/>
          <p:cNvSpPr/>
          <p:nvPr/>
        </p:nvSpPr>
        <p:spPr>
          <a:xfrm>
            <a:off x="1157760" y="5340240"/>
            <a:ext cx="63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od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termines the most proba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3344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standa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 language model for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rained on a large, unsupervised mono-lingual corpus for the target 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use a more sophisticated PCFG language model to capture long-distance depend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abytes of web data have been used to build a large 5-gram model of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48DC-7834-40AD-8DD6-AE5D812A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constructing phrase alignments is difficult, so rely on first constructing word al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earn to align from supervised word alignments, but human-aligned bitexts are rare and expensive to constr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use an unsupervised EM-based approach to compute a word alignment from unannotated parallel corp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77F9-6C8B-43AA-A7E0-85CB6296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ne to Many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implify the problem, typically assume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gns to 1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ut assume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generate more than one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d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be generated by the NULL el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alignment can be specified by a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ing, for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index of the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generated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20A1-3687-4400-A176-823E4803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4"/>
          <p:cNvSpPr/>
          <p:nvPr/>
        </p:nvSpPr>
        <p:spPr>
          <a:xfrm>
            <a:off x="701640" y="5138640"/>
            <a:ext cx="744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 no dió una bofetada a la bruja 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traight Connector 6"/>
          <p:cNvSpPr/>
          <p:nvPr/>
        </p:nvSpPr>
        <p:spPr>
          <a:xfrm flipH="1">
            <a:off x="1852200" y="558324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traight Connector 7"/>
          <p:cNvSpPr/>
          <p:nvPr/>
        </p:nvSpPr>
        <p:spPr>
          <a:xfrm flipH="1">
            <a:off x="2630160" y="556740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traight Connector 8"/>
          <p:cNvSpPr/>
          <p:nvPr/>
        </p:nvSpPr>
        <p:spPr>
          <a:xfrm flipH="1">
            <a:off x="3079800" y="5551560"/>
            <a:ext cx="66528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traight Connector 10"/>
          <p:cNvSpPr/>
          <p:nvPr/>
        </p:nvSpPr>
        <p:spPr>
          <a:xfrm flipH="1">
            <a:off x="3777840" y="5499000"/>
            <a:ext cx="11160" cy="72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13"/>
          <p:cNvSpPr/>
          <p:nvPr/>
        </p:nvSpPr>
        <p:spPr>
          <a:xfrm>
            <a:off x="3813120" y="5535720"/>
            <a:ext cx="72252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18"/>
          <p:cNvSpPr/>
          <p:nvPr/>
        </p:nvSpPr>
        <p:spPr>
          <a:xfrm>
            <a:off x="4559400" y="5570640"/>
            <a:ext cx="128736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21"/>
          <p:cNvSpPr/>
          <p:nvPr/>
        </p:nvSpPr>
        <p:spPr>
          <a:xfrm>
            <a:off x="5208480" y="5546880"/>
            <a:ext cx="23115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23"/>
          <p:cNvSpPr/>
          <p:nvPr/>
        </p:nvSpPr>
        <p:spPr>
          <a:xfrm>
            <a:off x="6063480" y="5546880"/>
            <a:ext cx="276120" cy="66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16"/>
          <p:cNvSpPr/>
          <p:nvPr/>
        </p:nvSpPr>
        <p:spPr>
          <a:xfrm>
            <a:off x="1130400" y="5583240"/>
            <a:ext cx="442728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7"/>
          <p:cNvSpPr/>
          <p:nvPr/>
        </p:nvSpPr>
        <p:spPr>
          <a:xfrm>
            <a:off x="956880" y="4981680"/>
            <a:ext cx="52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18"/>
          <p:cNvSpPr/>
          <p:nvPr/>
        </p:nvSpPr>
        <p:spPr>
          <a:xfrm>
            <a:off x="1543320" y="6311880"/>
            <a:ext cx="61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2         3      3               3           0    4       6        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BM Model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20480" y="1371600"/>
            <a:ext cx="8218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odel proposed in seminal paper by Br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1993 as part of CANDIDE, the first complete SM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following simple generative model of produc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length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ntence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a 1 to many alignmen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each position in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generate a wor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from the aligned word in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2C9-4D30-4EE7-8864-80194A4BA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translate one natural language in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81E-0112-4284-B2F2-DC3D26285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1069560" y="2924280"/>
            <a:ext cx="682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 no dió una bofetada a la bruja 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own Arrow 5"/>
          <p:cNvSpPr/>
          <p:nvPr/>
        </p:nvSpPr>
        <p:spPr>
          <a:xfrm>
            <a:off x="3778200" y="3500280"/>
            <a:ext cx="349200" cy="40968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Box 63"/>
          <p:cNvSpPr/>
          <p:nvPr/>
        </p:nvSpPr>
        <p:spPr>
          <a:xfrm>
            <a:off x="6861600" y="315900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Box 15"/>
          <p:cNvSpPr/>
          <p:nvPr/>
        </p:nvSpPr>
        <p:spPr>
          <a:xfrm>
            <a:off x="1517760" y="3544920"/>
            <a:ext cx="59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2        3      3                3         0   4       6        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IBM Model 1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910560" y="3633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F2E-A472-411C-9675-6CA6C1AF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4"/>
          <p:cNvSpPr/>
          <p:nvPr/>
        </p:nvSpPr>
        <p:spPr>
          <a:xfrm>
            <a:off x="660600" y="2370240"/>
            <a:ext cx="60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"/>
          <p:cNvSpPr/>
          <p:nvPr/>
        </p:nvSpPr>
        <p:spPr>
          <a:xfrm flipH="1">
            <a:off x="1828440" y="281628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7"/>
          <p:cNvSpPr/>
          <p:nvPr/>
        </p:nvSpPr>
        <p:spPr>
          <a:xfrm flipH="1">
            <a:off x="2606400" y="280044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8"/>
          <p:cNvSpPr/>
          <p:nvPr/>
        </p:nvSpPr>
        <p:spPr>
          <a:xfrm flipH="1">
            <a:off x="3055680" y="2784600"/>
            <a:ext cx="66492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10"/>
          <p:cNvSpPr/>
          <p:nvPr/>
        </p:nvSpPr>
        <p:spPr>
          <a:xfrm flipH="1">
            <a:off x="3754080" y="2732040"/>
            <a:ext cx="11160" cy="72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traight Connector 13"/>
          <p:cNvSpPr/>
          <p:nvPr/>
        </p:nvSpPr>
        <p:spPr>
          <a:xfrm>
            <a:off x="3789360" y="2768760"/>
            <a:ext cx="72216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traight Connector 18"/>
          <p:cNvSpPr/>
          <p:nvPr/>
        </p:nvSpPr>
        <p:spPr>
          <a:xfrm>
            <a:off x="4535640" y="2803680"/>
            <a:ext cx="128736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21"/>
          <p:cNvSpPr/>
          <p:nvPr/>
        </p:nvSpPr>
        <p:spPr>
          <a:xfrm>
            <a:off x="5160960" y="2754360"/>
            <a:ext cx="23115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23"/>
          <p:cNvSpPr/>
          <p:nvPr/>
        </p:nvSpPr>
        <p:spPr>
          <a:xfrm>
            <a:off x="6039720" y="2779560"/>
            <a:ext cx="27612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traight Connector 13"/>
          <p:cNvSpPr/>
          <p:nvPr/>
        </p:nvSpPr>
        <p:spPr>
          <a:xfrm>
            <a:off x="1106640" y="2814480"/>
            <a:ext cx="4427280" cy="59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14"/>
          <p:cNvSpPr/>
          <p:nvPr/>
        </p:nvSpPr>
        <p:spPr>
          <a:xfrm>
            <a:off x="933120" y="2214720"/>
            <a:ext cx="52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077120" y="31766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44"/>
          <p:cNvSpPr/>
          <p:nvPr/>
        </p:nvSpPr>
        <p:spPr>
          <a:xfrm>
            <a:off x="2157120" y="3176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46"/>
          <p:cNvGrpSpPr/>
          <p:nvPr/>
        </p:nvGrpSpPr>
        <p:grpSpPr>
          <a:xfrm>
            <a:off x="1119240" y="3225960"/>
            <a:ext cx="6881760" cy="407880"/>
            <a:chOff x="1119240" y="3225960"/>
            <a:chExt cx="6881760" cy="407880"/>
          </a:xfrm>
        </p:grpSpPr>
        <p:sp>
          <p:nvSpPr>
            <p:cNvPr id="745" name="Rectangle 47"/>
            <p:cNvSpPr/>
            <p:nvPr/>
          </p:nvSpPr>
          <p:spPr>
            <a:xfrm>
              <a:off x="1119240" y="3249000"/>
              <a:ext cx="6881760" cy="371880"/>
            </a:xfrm>
            <a:prstGeom prst="rect">
              <a:avLst/>
            </a:pr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Straight Connector 48"/>
            <p:cNvSpPr/>
            <p:nvPr/>
          </p:nvSpPr>
          <p:spPr>
            <a:xfrm flipH="1">
              <a:off x="2201040" y="324972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Straight Connector 49"/>
            <p:cNvSpPr/>
            <p:nvPr/>
          </p:nvSpPr>
          <p:spPr>
            <a:xfrm flipH="1">
              <a:off x="2694240" y="323784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Straight Connector 50"/>
            <p:cNvSpPr/>
            <p:nvPr/>
          </p:nvSpPr>
          <p:spPr>
            <a:xfrm flipH="1">
              <a:off x="3247920" y="326196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Straight Connector 51"/>
            <p:cNvSpPr/>
            <p:nvPr/>
          </p:nvSpPr>
          <p:spPr>
            <a:xfrm flipH="1">
              <a:off x="3873600" y="324972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Straight Connector 52"/>
            <p:cNvSpPr/>
            <p:nvPr/>
          </p:nvSpPr>
          <p:spPr>
            <a:xfrm flipH="1">
              <a:off x="5329440" y="324972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Straight Connector 53"/>
            <p:cNvSpPr/>
            <p:nvPr/>
          </p:nvSpPr>
          <p:spPr>
            <a:xfrm flipH="1">
              <a:off x="5569920" y="3249720"/>
              <a:ext cx="1440" cy="3481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Straight Connector 54"/>
            <p:cNvSpPr/>
            <p:nvPr/>
          </p:nvSpPr>
          <p:spPr>
            <a:xfrm flipH="1">
              <a:off x="5942880" y="324972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Straight Connector 55"/>
            <p:cNvSpPr/>
            <p:nvPr/>
          </p:nvSpPr>
          <p:spPr>
            <a:xfrm flipH="1">
              <a:off x="6893640" y="3225960"/>
              <a:ext cx="1440" cy="3841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TextBox 56"/>
          <p:cNvSpPr/>
          <p:nvPr/>
        </p:nvSpPr>
        <p:spPr>
          <a:xfrm>
            <a:off x="2659320" y="3173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57"/>
          <p:cNvSpPr/>
          <p:nvPr/>
        </p:nvSpPr>
        <p:spPr>
          <a:xfrm>
            <a:off x="3173400" y="31813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Box 58"/>
          <p:cNvSpPr/>
          <p:nvPr/>
        </p:nvSpPr>
        <p:spPr>
          <a:xfrm>
            <a:off x="3822480" y="31892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59"/>
          <p:cNvSpPr/>
          <p:nvPr/>
        </p:nvSpPr>
        <p:spPr>
          <a:xfrm>
            <a:off x="5244840" y="317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Box 60"/>
          <p:cNvSpPr/>
          <p:nvPr/>
        </p:nvSpPr>
        <p:spPr>
          <a:xfrm>
            <a:off x="5528880" y="31813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5901840" y="31654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P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|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 in IBM Model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3712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ome length distribution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ll alignments are equally likely. Since there ar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align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44B7-9A18-4A6A-B62E-78EE2E64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2"/>
              <p:cNvSpPr txBox="1"/>
              <p:nvPr/>
            </p:nvSpPr>
            <p:spPr>
              <a:xfrm>
                <a:off x="3138480" y="2714760"/>
                <a:ext cx="27795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4" name="Content Placeholder 2"/>
          <p:cNvSpPr/>
          <p:nvPr/>
        </p:nvSpPr>
        <p:spPr>
          <a:xfrm>
            <a:off x="717480" y="3652920"/>
            <a:ext cx="7772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probability of transl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for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Object 3"/>
              <p:cNvSpPr txBox="1"/>
              <p:nvPr/>
            </p:nvSpPr>
            <p:spPr>
              <a:xfrm>
                <a:off x="3290760" y="4272120"/>
                <a:ext cx="35370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6" name="Content Placeholder 2"/>
          <p:cNvSpPr/>
          <p:nvPr/>
        </p:nvSpPr>
        <p:spPr>
          <a:xfrm>
            <a:off x="601560" y="5213520"/>
            <a:ext cx="81457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mming over all alignments: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4"/>
              <p:cNvSpPr txBox="1"/>
              <p:nvPr/>
            </p:nvSpPr>
            <p:spPr>
              <a:xfrm>
                <a:off x="673200" y="5691240"/>
                <a:ext cx="7797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</m:e>
                    </m:nary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oding for IBM Model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85800" y="13716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find the most probable alignment given a parameterized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1429-8D09-4AFA-A4EA-D26C319B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2"/>
              <p:cNvSpPr txBox="1"/>
              <p:nvPr/>
            </p:nvSpPr>
            <p:spPr>
              <a:xfrm>
                <a:off x="2379600" y="2433600"/>
                <a:ext cx="34066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4"/>
              <p:cNvSpPr txBox="1"/>
              <p:nvPr/>
            </p:nvSpPr>
            <p:spPr>
              <a:xfrm>
                <a:off x="2671920" y="2995560"/>
                <a:ext cx="43606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den>
                    </m:f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4"/>
              <p:cNvSpPr txBox="1"/>
              <p:nvPr/>
            </p:nvSpPr>
            <p:spPr>
              <a:xfrm>
                <a:off x="2676600" y="3954600"/>
                <a:ext cx="31399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4" name="TextBox 8"/>
          <p:cNvSpPr/>
          <p:nvPr/>
        </p:nvSpPr>
        <p:spPr>
          <a:xfrm>
            <a:off x="734760" y="4884840"/>
            <a:ext cx="73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ranslation choice for each 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dependent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duct is maximized by maximizing each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6"/>
              <p:cNvSpPr txBox="1"/>
              <p:nvPr/>
            </p:nvSpPr>
            <p:spPr>
              <a:xfrm>
                <a:off x="1757520" y="5803920"/>
                <a:ext cx="48164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lim>
                          </m:limLow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63800" y="4600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MM-Based Word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Model 1 assumes all alignments are equally likely and does not take into accoun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c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wo words appear together in one language, then their translations are likely to appear together in the result in the other langu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model of word alignment based on an HMM mode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unt for locality by making longer jumps in switching from translating one word to another less lik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MM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the hidden state is the specific word occurr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ly being translated (i.e.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, one for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the observations from these hidden states are the possible trans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consists of moving to the init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d to be translated, generating a translation, moving to the next word to be translated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1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6"/>
          <p:cNvSpPr/>
          <p:nvPr/>
        </p:nvSpPr>
        <p:spPr>
          <a:xfrm>
            <a:off x="1085760" y="184140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7"/>
          <p:cNvSpPr/>
          <p:nvPr/>
        </p:nvSpPr>
        <p:spPr>
          <a:xfrm>
            <a:off x="2036880" y="2425680"/>
            <a:ext cx="88920" cy="646200"/>
          </a:xfrm>
          <a:prstGeom prst="downArrow">
            <a:avLst>
              <a:gd name="adj1" fmla="val 50000"/>
              <a:gd name="adj2" fmla="val 18168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7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14"/>
          <p:cNvSpPr/>
          <p:nvPr/>
        </p:nvSpPr>
        <p:spPr>
          <a:xfrm>
            <a:off x="2087640" y="166068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15"/>
          <p:cNvSpPr/>
          <p:nvPr/>
        </p:nvSpPr>
        <p:spPr>
          <a:xfrm>
            <a:off x="2865600" y="2414520"/>
            <a:ext cx="88560" cy="646200"/>
          </a:xfrm>
          <a:prstGeom prst="downArrow">
            <a:avLst>
              <a:gd name="adj1" fmla="val 50000"/>
              <a:gd name="adj2" fmla="val 18241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4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4"/>
          <p:cNvSpPr/>
          <p:nvPr/>
        </p:nvSpPr>
        <p:spPr>
          <a:xfrm>
            <a:off x="3013200" y="164772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15"/>
          <p:cNvSpPr/>
          <p:nvPr/>
        </p:nvSpPr>
        <p:spPr>
          <a:xfrm>
            <a:off x="2865600" y="2414520"/>
            <a:ext cx="88560" cy="646200"/>
          </a:xfrm>
          <a:prstGeom prst="downArrow">
            <a:avLst>
              <a:gd name="adj1" fmla="val 50000"/>
              <a:gd name="adj2" fmla="val 18241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7"/>
          <p:cNvSpPr/>
          <p:nvPr/>
        </p:nvSpPr>
        <p:spPr>
          <a:xfrm flipH="1">
            <a:off x="3597120" y="2378160"/>
            <a:ext cx="206640" cy="682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3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4"/>
          <p:cNvSpPr/>
          <p:nvPr/>
        </p:nvSpPr>
        <p:spPr>
          <a:xfrm>
            <a:off x="3755880" y="1623960"/>
            <a:ext cx="341280" cy="290520"/>
          </a:xfrm>
          <a:custGeom>
            <a:avLst/>
            <a:gdLst>
              <a:gd name="textAreaLeft" fmla="*/ 59760 w 341280"/>
              <a:gd name="textAreaRight" fmla="*/ 247680 w 3412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6"/>
          <p:cNvSpPr/>
          <p:nvPr/>
        </p:nvSpPr>
        <p:spPr>
          <a:xfrm>
            <a:off x="3863880" y="2389320"/>
            <a:ext cx="306360" cy="671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2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14"/>
          <p:cNvSpPr/>
          <p:nvPr/>
        </p:nvSpPr>
        <p:spPr>
          <a:xfrm>
            <a:off x="3755880" y="1623960"/>
            <a:ext cx="341280" cy="290520"/>
          </a:xfrm>
          <a:custGeom>
            <a:avLst/>
            <a:gdLst>
              <a:gd name="textAreaLeft" fmla="*/ 59760 w 341280"/>
              <a:gd name="textAreaRight" fmla="*/ 247680 w 3412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5"/>
          <p:cNvSpPr/>
          <p:nvPr/>
        </p:nvSpPr>
        <p:spPr>
          <a:xfrm>
            <a:off x="3863880" y="2389320"/>
            <a:ext cx="116064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047-766E-40DA-9D0A-3D4E9866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mbiguity Resolution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 Required for Transl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and semantic ambiguities must be properly resolved for correct 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lays the guitar.”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“John toca la guitarra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John plays soccer.” → “John juega el fútbol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pocryphal story is that an early MT system gave the following results when translating from English to Russian and then back to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spirit is willing but the flesh is weak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“The liquor is good but the meat is spoiled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ut of sight, out of mind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“Invisible idiot.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14"/>
          <p:cNvSpPr/>
          <p:nvPr/>
        </p:nvSpPr>
        <p:spPr>
          <a:xfrm>
            <a:off x="3816360" y="1623960"/>
            <a:ext cx="878040" cy="277920"/>
          </a:xfrm>
          <a:custGeom>
            <a:avLst/>
            <a:gdLst>
              <a:gd name="textAreaLeft" fmla="*/ 153720 w 878040"/>
              <a:gd name="textAreaRight" fmla="*/ 636840 w 87804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4473720" y="2389320"/>
            <a:ext cx="1576080" cy="6969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3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4387680" y="1673280"/>
            <a:ext cx="281160" cy="277920"/>
          </a:xfrm>
          <a:custGeom>
            <a:avLst/>
            <a:gdLst>
              <a:gd name="textAreaLeft" fmla="*/ 48960 w 281160"/>
              <a:gd name="textAreaRight" fmla="*/ 203760 w 28116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5"/>
          <p:cNvSpPr/>
          <p:nvPr/>
        </p:nvSpPr>
        <p:spPr>
          <a:xfrm>
            <a:off x="4510080" y="2389320"/>
            <a:ext cx="180828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5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62"/>
          <p:cNvSpPr/>
          <p:nvPr/>
        </p:nvSpPr>
        <p:spPr>
          <a:xfrm>
            <a:off x="6507360" y="2871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4351320" y="1503360"/>
            <a:ext cx="2182680" cy="387360"/>
          </a:xfrm>
          <a:custGeom>
            <a:avLst/>
            <a:gdLst>
              <a:gd name="textAreaLeft" fmla="*/ 381960 w 2182680"/>
              <a:gd name="textAreaRight" fmla="*/ 1582560 w 2182680"/>
              <a:gd name="textAreaTop" fmla="*/ 51840 h 387360"/>
              <a:gd name="textAreaBottom" fmla="*/ 335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15"/>
          <p:cNvSpPr/>
          <p:nvPr/>
        </p:nvSpPr>
        <p:spPr>
          <a:xfrm>
            <a:off x="6180120" y="2376360"/>
            <a:ext cx="857160" cy="709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8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Box 63"/>
          <p:cNvSpPr/>
          <p:nvPr/>
        </p:nvSpPr>
        <p:spPr>
          <a:xfrm>
            <a:off x="7417440" y="288936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6507360" y="2871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4"/>
          <p:cNvSpPr/>
          <p:nvPr/>
        </p:nvSpPr>
        <p:spPr>
          <a:xfrm flipH="1">
            <a:off x="5033880" y="1528920"/>
            <a:ext cx="1254240" cy="411120"/>
          </a:xfrm>
          <a:custGeom>
            <a:avLst/>
            <a:gdLst>
              <a:gd name="textAreaLeft" fmla="*/ 219600 w 1254240"/>
              <a:gd name="textAreaRight" fmla="*/ 909720 w 125424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5"/>
          <p:cNvSpPr/>
          <p:nvPr/>
        </p:nvSpPr>
        <p:spPr>
          <a:xfrm>
            <a:off x="5241960" y="2363760"/>
            <a:ext cx="2625840" cy="711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2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Box 63"/>
          <p:cNvSpPr/>
          <p:nvPr/>
        </p:nvSpPr>
        <p:spPr>
          <a:xfrm>
            <a:off x="7417440" y="288936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Box 62"/>
          <p:cNvSpPr/>
          <p:nvPr/>
        </p:nvSpPr>
        <p:spPr>
          <a:xfrm>
            <a:off x="6507360" y="2871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MM Paramet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 and observation parameters of states for HMMs for all possible source sentences are “tied” to reduce the number of free parameters that have to be estim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tion probabi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for all states representing an occurrence of the same English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transition probabi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 same for all transitions that involve the sam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ump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nd direc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P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|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 in the HMM Model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85800" y="154260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observation and state-transition probabilities,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observation likelihood) can be computed using the standar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rward 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HM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FCCD-4E59-47B3-9847-897388A1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oding for the HMM Model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85800" y="1579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tandar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terbi 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fficiently compute the most likely alignment (i.e. most likely state sequenc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7CF-C6BA-466E-AE81-5FB00A0E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ing Word Alignment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the IBM model 1 and HMM model can be trained on a parallel corpus to set the required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(hand-aligned) training data, parameters can be estimated directly using frequency 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nsupervised training data, EM can be used to estimate parameters, e.g. Baum-Welch for the HMM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6F0A-93C6-485C-A997-CA3BA0EB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ketch of EM Algorithm fo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Alignment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257040" y="1682640"/>
            <a:ext cx="8886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set model parameter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king sure they represent legal distribution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onverge (i.e. parameters no longer change) d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tep: Compute the probability of all possible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ments of the training data using the curren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tep: Use these alignment probability estimates t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estimate values for all of the parameter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1060920" y="54640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te: Use dynamic programming (as in Baum-Welc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o avoid explicitly enumerating all possible align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mapping between words in one language and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CCF7-35A4-4ECC-A20F-C102C8CD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4"/>
          <p:cNvSpPr/>
          <p:nvPr/>
        </p:nvSpPr>
        <p:spPr>
          <a:xfrm>
            <a:off x="1069560" y="2924280"/>
            <a:ext cx="682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 no dió una bofetada a la bruja 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traight Connector 6"/>
          <p:cNvSpPr/>
          <p:nvPr/>
        </p:nvSpPr>
        <p:spPr>
          <a:xfrm flipH="1">
            <a:off x="1660680" y="3344760"/>
            <a:ext cx="204480" cy="60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traight Connector 7"/>
          <p:cNvSpPr/>
          <p:nvPr/>
        </p:nvSpPr>
        <p:spPr>
          <a:xfrm flipH="1">
            <a:off x="2437920" y="332892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traight Connector 8"/>
          <p:cNvSpPr/>
          <p:nvPr/>
        </p:nvSpPr>
        <p:spPr>
          <a:xfrm flipH="1">
            <a:off x="2887560" y="3313080"/>
            <a:ext cx="66528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traight Connector 10"/>
          <p:cNvSpPr/>
          <p:nvPr/>
        </p:nvSpPr>
        <p:spPr>
          <a:xfrm flipH="1">
            <a:off x="3586320" y="3260880"/>
            <a:ext cx="10800" cy="72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traight Connector 13"/>
          <p:cNvSpPr/>
          <p:nvPr/>
        </p:nvSpPr>
        <p:spPr>
          <a:xfrm>
            <a:off x="3621240" y="3297240"/>
            <a:ext cx="72216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traight Connector 17"/>
          <p:cNvSpPr/>
          <p:nvPr/>
        </p:nvSpPr>
        <p:spPr>
          <a:xfrm>
            <a:off x="3597120" y="3284640"/>
            <a:ext cx="1744920" cy="67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traight Connector 18"/>
          <p:cNvSpPr/>
          <p:nvPr/>
        </p:nvSpPr>
        <p:spPr>
          <a:xfrm>
            <a:off x="4367160" y="3332160"/>
            <a:ext cx="1287360" cy="6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traight Connector 21"/>
          <p:cNvSpPr/>
          <p:nvPr/>
        </p:nvSpPr>
        <p:spPr>
          <a:xfrm>
            <a:off x="5016600" y="3308400"/>
            <a:ext cx="231120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traight Connector 23"/>
          <p:cNvSpPr/>
          <p:nvPr/>
        </p:nvSpPr>
        <p:spPr>
          <a:xfrm>
            <a:off x="5871600" y="3308400"/>
            <a:ext cx="27612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EM Trace for Alignment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IBM Model 1 with no NULL Generation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2930040" y="151452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 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a ver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5082480" y="1484280"/>
            <a:ext cx="120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c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6"/>
          <p:cNvSpPr/>
          <p:nvPr/>
        </p:nvSpPr>
        <p:spPr>
          <a:xfrm>
            <a:off x="1469520" y="147636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rp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3086280" y="2630520"/>
          <a:ext cx="3132000" cy="119520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  <a:gridCol w="104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02" name="Group 45"/>
          <p:cNvGrpSpPr/>
          <p:nvPr/>
        </p:nvGrpSpPr>
        <p:grpSpPr>
          <a:xfrm>
            <a:off x="2287080" y="2251080"/>
            <a:ext cx="3508200" cy="1564200"/>
            <a:chOff x="2287080" y="2251080"/>
            <a:chExt cx="3508200" cy="1564200"/>
          </a:xfrm>
        </p:grpSpPr>
        <p:sp>
          <p:nvSpPr>
            <p:cNvPr id="903" name="Text Box 30"/>
            <p:cNvSpPr/>
            <p:nvPr/>
          </p:nvSpPr>
          <p:spPr>
            <a:xfrm>
              <a:off x="2287080" y="259884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2291400" y="30067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32"/>
            <p:cNvSpPr/>
            <p:nvPr/>
          </p:nvSpPr>
          <p:spPr>
            <a:xfrm>
              <a:off x="2517120" y="34164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33"/>
            <p:cNvSpPr/>
            <p:nvPr/>
          </p:nvSpPr>
          <p:spPr>
            <a:xfrm>
              <a:off x="3188520" y="225108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Text Box 44"/>
          <p:cNvSpPr/>
          <p:nvPr/>
        </p:nvSpPr>
        <p:spPr>
          <a:xfrm>
            <a:off x="462600" y="293364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46"/>
          <p:cNvSpPr/>
          <p:nvPr/>
        </p:nvSpPr>
        <p:spPr>
          <a:xfrm>
            <a:off x="6336720" y="2855880"/>
            <a:ext cx="22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e unifo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65"/>
          <p:cNvGrpSpPr/>
          <p:nvPr/>
        </p:nvGrpSpPr>
        <p:grpSpPr>
          <a:xfrm>
            <a:off x="2410920" y="4552920"/>
            <a:ext cx="1476000" cy="703800"/>
            <a:chOff x="2410920" y="4552920"/>
            <a:chExt cx="1476000" cy="703800"/>
          </a:xfrm>
        </p:grpSpPr>
        <p:sp>
          <p:nvSpPr>
            <p:cNvPr id="910" name="Text Box 47"/>
            <p:cNvSpPr/>
            <p:nvPr/>
          </p:nvSpPr>
          <p:spPr>
            <a:xfrm>
              <a:off x="2410920" y="455292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51"/>
            <p:cNvSpPr/>
            <p:nvPr/>
          </p:nvSpPr>
          <p:spPr>
            <a:xfrm>
              <a:off x="2803680" y="4840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52"/>
            <p:cNvSpPr/>
            <p:nvPr/>
          </p:nvSpPr>
          <p:spPr>
            <a:xfrm>
              <a:off x="3328920" y="485316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66"/>
          <p:cNvGrpSpPr/>
          <p:nvPr/>
        </p:nvGrpSpPr>
        <p:grpSpPr>
          <a:xfrm>
            <a:off x="4087080" y="4552920"/>
            <a:ext cx="1476000" cy="703800"/>
            <a:chOff x="4087080" y="4552920"/>
            <a:chExt cx="1476000" cy="703800"/>
          </a:xfrm>
        </p:grpSpPr>
        <p:sp>
          <p:nvSpPr>
            <p:cNvPr id="914" name="Text Box 49"/>
            <p:cNvSpPr/>
            <p:nvPr/>
          </p:nvSpPr>
          <p:spPr>
            <a:xfrm>
              <a:off x="4087080" y="455292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53"/>
            <p:cNvSpPr/>
            <p:nvPr/>
          </p:nvSpPr>
          <p:spPr>
            <a:xfrm>
              <a:off x="4462560" y="482904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54"/>
            <p:cNvSpPr/>
            <p:nvPr/>
          </p:nvSpPr>
          <p:spPr>
            <a:xfrm flipH="1">
              <a:off x="4425480" y="482904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Group 67"/>
          <p:cNvGrpSpPr/>
          <p:nvPr/>
        </p:nvGrpSpPr>
        <p:grpSpPr>
          <a:xfrm>
            <a:off x="5873040" y="4552920"/>
            <a:ext cx="1207800" cy="703800"/>
            <a:chOff x="5873040" y="4552920"/>
            <a:chExt cx="1207800" cy="703800"/>
          </a:xfrm>
        </p:grpSpPr>
        <p:sp>
          <p:nvSpPr>
            <p:cNvPr id="918" name="Text Box 50"/>
            <p:cNvSpPr/>
            <p:nvPr/>
          </p:nvSpPr>
          <p:spPr>
            <a:xfrm>
              <a:off x="5873040" y="455292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55"/>
            <p:cNvSpPr/>
            <p:nvPr/>
          </p:nvSpPr>
          <p:spPr>
            <a:xfrm>
              <a:off x="6083280" y="480384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56"/>
            <p:cNvSpPr/>
            <p:nvPr/>
          </p:nvSpPr>
          <p:spPr>
            <a:xfrm>
              <a:off x="6546960" y="484020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Group 68"/>
          <p:cNvGrpSpPr/>
          <p:nvPr/>
        </p:nvGrpSpPr>
        <p:grpSpPr>
          <a:xfrm>
            <a:off x="7306560" y="4552920"/>
            <a:ext cx="1207800" cy="703800"/>
            <a:chOff x="7306560" y="4552920"/>
            <a:chExt cx="1207800" cy="703800"/>
          </a:xfrm>
        </p:grpSpPr>
        <p:sp>
          <p:nvSpPr>
            <p:cNvPr id="922" name="Text Box 48"/>
            <p:cNvSpPr/>
            <p:nvPr/>
          </p:nvSpPr>
          <p:spPr>
            <a:xfrm>
              <a:off x="7306560" y="455292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57"/>
            <p:cNvSpPr/>
            <p:nvPr/>
          </p:nvSpPr>
          <p:spPr>
            <a:xfrm>
              <a:off x="7570800" y="4816440"/>
              <a:ext cx="33012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58"/>
            <p:cNvSpPr/>
            <p:nvPr/>
          </p:nvSpPr>
          <p:spPr>
            <a:xfrm flipH="1">
              <a:off x="7497360" y="481644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Text Box 59"/>
          <p:cNvSpPr/>
          <p:nvPr/>
        </p:nvSpPr>
        <p:spPr>
          <a:xfrm>
            <a:off x="346680" y="4303800"/>
            <a:ext cx="156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mpu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lign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, F |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60"/>
          <p:cNvSpPr/>
          <p:nvPr/>
        </p:nvSpPr>
        <p:spPr>
          <a:xfrm>
            <a:off x="240840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61"/>
          <p:cNvSpPr/>
          <p:nvPr/>
        </p:nvSpPr>
        <p:spPr>
          <a:xfrm>
            <a:off x="402300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62"/>
          <p:cNvSpPr/>
          <p:nvPr/>
        </p:nvSpPr>
        <p:spPr>
          <a:xfrm>
            <a:off x="563724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63"/>
          <p:cNvSpPr/>
          <p:nvPr/>
        </p:nvSpPr>
        <p:spPr>
          <a:xfrm>
            <a:off x="725184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9"/>
          <p:cNvSpPr/>
          <p:nvPr/>
        </p:nvSpPr>
        <p:spPr>
          <a:xfrm>
            <a:off x="401400" y="5630760"/>
            <a:ext cx="13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rmaliz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g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 | F,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Object 71"/>
              <p:cNvSpPr txBox="1"/>
              <p:nvPr/>
            </p:nvSpPr>
            <p:spPr>
              <a:xfrm>
                <a:off x="2779560" y="5865840"/>
                <a:ext cx="91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72"/>
              <p:cNvSpPr txBox="1"/>
              <p:nvPr/>
            </p:nvSpPr>
            <p:spPr>
              <a:xfrm>
                <a:off x="4406760" y="5872320"/>
                <a:ext cx="91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74"/>
              <p:cNvSpPr txBox="1"/>
              <p:nvPr/>
            </p:nvSpPr>
            <p:spPr>
              <a:xfrm>
                <a:off x="6100920" y="5811840"/>
                <a:ext cx="9111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75"/>
              <p:cNvSpPr txBox="1"/>
              <p:nvPr/>
            </p:nvSpPr>
            <p:spPr>
              <a:xfrm>
                <a:off x="7421400" y="5794200"/>
                <a:ext cx="91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1558440" y="1481040"/>
            <a:ext cx="1476000" cy="703800"/>
            <a:chOff x="1558440" y="1481040"/>
            <a:chExt cx="1476000" cy="703800"/>
          </a:xfrm>
        </p:grpSpPr>
        <p:sp>
          <p:nvSpPr>
            <p:cNvPr id="937" name="Text Box 5"/>
            <p:cNvSpPr/>
            <p:nvPr/>
          </p:nvSpPr>
          <p:spPr>
            <a:xfrm>
              <a:off x="1558440" y="148104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6"/>
            <p:cNvSpPr/>
            <p:nvPr/>
          </p:nvSpPr>
          <p:spPr>
            <a:xfrm>
              <a:off x="1951200" y="176832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7"/>
            <p:cNvSpPr/>
            <p:nvPr/>
          </p:nvSpPr>
          <p:spPr>
            <a:xfrm>
              <a:off x="2476440" y="178128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8"/>
          <p:cNvGrpSpPr/>
          <p:nvPr/>
        </p:nvGrpSpPr>
        <p:grpSpPr>
          <a:xfrm>
            <a:off x="3234600" y="1481040"/>
            <a:ext cx="1476000" cy="703800"/>
            <a:chOff x="3234600" y="1481040"/>
            <a:chExt cx="1476000" cy="703800"/>
          </a:xfrm>
        </p:grpSpPr>
        <p:sp>
          <p:nvSpPr>
            <p:cNvPr id="941" name="Text Box 9"/>
            <p:cNvSpPr/>
            <p:nvPr/>
          </p:nvSpPr>
          <p:spPr>
            <a:xfrm>
              <a:off x="3234600" y="148104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10"/>
            <p:cNvSpPr/>
            <p:nvPr/>
          </p:nvSpPr>
          <p:spPr>
            <a:xfrm>
              <a:off x="3610080" y="175716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11"/>
            <p:cNvSpPr/>
            <p:nvPr/>
          </p:nvSpPr>
          <p:spPr>
            <a:xfrm flipH="1">
              <a:off x="3573000" y="175716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Group 12"/>
          <p:cNvGrpSpPr/>
          <p:nvPr/>
        </p:nvGrpSpPr>
        <p:grpSpPr>
          <a:xfrm>
            <a:off x="5020560" y="1481040"/>
            <a:ext cx="1207800" cy="703800"/>
            <a:chOff x="5020560" y="1481040"/>
            <a:chExt cx="1207800" cy="703800"/>
          </a:xfrm>
        </p:grpSpPr>
        <p:sp>
          <p:nvSpPr>
            <p:cNvPr id="945" name="Text Box 13"/>
            <p:cNvSpPr/>
            <p:nvPr/>
          </p:nvSpPr>
          <p:spPr>
            <a:xfrm>
              <a:off x="5020560" y="148104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4"/>
            <p:cNvSpPr/>
            <p:nvPr/>
          </p:nvSpPr>
          <p:spPr>
            <a:xfrm>
              <a:off x="5230800" y="173196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5"/>
            <p:cNvSpPr/>
            <p:nvPr/>
          </p:nvSpPr>
          <p:spPr>
            <a:xfrm>
              <a:off x="5694480" y="176832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16"/>
          <p:cNvGrpSpPr/>
          <p:nvPr/>
        </p:nvGrpSpPr>
        <p:grpSpPr>
          <a:xfrm>
            <a:off x="6454080" y="1481040"/>
            <a:ext cx="1207800" cy="703800"/>
            <a:chOff x="6454080" y="1481040"/>
            <a:chExt cx="1207800" cy="703800"/>
          </a:xfrm>
        </p:grpSpPr>
        <p:sp>
          <p:nvSpPr>
            <p:cNvPr id="949" name="Text Box 17"/>
            <p:cNvSpPr/>
            <p:nvPr/>
          </p:nvSpPr>
          <p:spPr>
            <a:xfrm>
              <a:off x="6454080" y="148104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18"/>
            <p:cNvSpPr/>
            <p:nvPr/>
          </p:nvSpPr>
          <p:spPr>
            <a:xfrm>
              <a:off x="6718320" y="1744560"/>
              <a:ext cx="33012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9"/>
            <p:cNvSpPr/>
            <p:nvPr/>
          </p:nvSpPr>
          <p:spPr>
            <a:xfrm flipH="1">
              <a:off x="6644880" y="174456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Text Box 20"/>
          <p:cNvSpPr/>
          <p:nvPr/>
        </p:nvSpPr>
        <p:spPr>
          <a:xfrm>
            <a:off x="1969200" y="2087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3682080" y="2117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5272560" y="20988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6790320" y="20923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462960" y="2876400"/>
            <a:ext cx="143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mpu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eight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ranslatio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u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3135240" y="2959200"/>
          <a:ext cx="3486240" cy="1195200"/>
        </p:xfrm>
        <a:graphic>
          <a:graphicData uri="http://schemas.openxmlformats.org/drawingml/2006/table">
            <a:tbl>
              <a:tblPr/>
              <a:tblGrid>
                <a:gridCol w="1162080"/>
                <a:gridCol w="1162080"/>
                <a:gridCol w="116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+ 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8" name="Group 43"/>
          <p:cNvGrpSpPr/>
          <p:nvPr/>
        </p:nvGrpSpPr>
        <p:grpSpPr>
          <a:xfrm>
            <a:off x="2336400" y="2579760"/>
            <a:ext cx="3508200" cy="1564200"/>
            <a:chOff x="2336400" y="2579760"/>
            <a:chExt cx="3508200" cy="1564200"/>
          </a:xfrm>
        </p:grpSpPr>
        <p:sp>
          <p:nvSpPr>
            <p:cNvPr id="959" name="Text Box 44"/>
            <p:cNvSpPr/>
            <p:nvPr/>
          </p:nvSpPr>
          <p:spPr>
            <a:xfrm>
              <a:off x="2336400" y="29275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45"/>
            <p:cNvSpPr/>
            <p:nvPr/>
          </p:nvSpPr>
          <p:spPr>
            <a:xfrm>
              <a:off x="2340720" y="33354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Text Box 46"/>
            <p:cNvSpPr/>
            <p:nvPr/>
          </p:nvSpPr>
          <p:spPr>
            <a:xfrm>
              <a:off x="2566440" y="3745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Text Box 47"/>
            <p:cNvSpPr/>
            <p:nvPr/>
          </p:nvSpPr>
          <p:spPr>
            <a:xfrm>
              <a:off x="3237840" y="257976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50"/>
          <p:cNvSpPr/>
          <p:nvPr/>
        </p:nvSpPr>
        <p:spPr>
          <a:xfrm>
            <a:off x="539280" y="4637160"/>
            <a:ext cx="185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rmaliz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ws to sum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one t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stimate P(f |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3191040" y="4745160"/>
          <a:ext cx="3485880" cy="1195200"/>
        </p:xfrm>
        <a:graphic>
          <a:graphicData uri="http://schemas.openxmlformats.org/drawingml/2006/table">
            <a:tbl>
              <a:tblPr/>
              <a:tblGrid>
                <a:gridCol w="1161720"/>
                <a:gridCol w="1162080"/>
                <a:gridCol w="116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5" name="Group 69"/>
          <p:cNvGrpSpPr/>
          <p:nvPr/>
        </p:nvGrpSpPr>
        <p:grpSpPr>
          <a:xfrm>
            <a:off x="2415600" y="4352760"/>
            <a:ext cx="3508200" cy="1564200"/>
            <a:chOff x="2415600" y="4352760"/>
            <a:chExt cx="3508200" cy="1564200"/>
          </a:xfrm>
        </p:grpSpPr>
        <p:sp>
          <p:nvSpPr>
            <p:cNvPr id="966" name="Text Box 70"/>
            <p:cNvSpPr/>
            <p:nvPr/>
          </p:nvSpPr>
          <p:spPr>
            <a:xfrm>
              <a:off x="2415600" y="47005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71"/>
            <p:cNvSpPr/>
            <p:nvPr/>
          </p:nvSpPr>
          <p:spPr>
            <a:xfrm>
              <a:off x="2419920" y="51084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72"/>
            <p:cNvSpPr/>
            <p:nvPr/>
          </p:nvSpPr>
          <p:spPr>
            <a:xfrm>
              <a:off x="2645640" y="5518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73"/>
            <p:cNvSpPr/>
            <p:nvPr/>
          </p:nvSpPr>
          <p:spPr>
            <a:xfrm>
              <a:off x="3317040" y="435276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71" name="Group 3"/>
          <p:cNvGrpSpPr/>
          <p:nvPr/>
        </p:nvGrpSpPr>
        <p:grpSpPr>
          <a:xfrm>
            <a:off x="1607400" y="3260880"/>
            <a:ext cx="1476000" cy="703800"/>
            <a:chOff x="1607400" y="3260880"/>
            <a:chExt cx="1476000" cy="703800"/>
          </a:xfrm>
        </p:grpSpPr>
        <p:sp>
          <p:nvSpPr>
            <p:cNvPr id="972" name="Text Box 4"/>
            <p:cNvSpPr/>
            <p:nvPr/>
          </p:nvSpPr>
          <p:spPr>
            <a:xfrm>
              <a:off x="1607400" y="326088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5"/>
            <p:cNvSpPr/>
            <p:nvPr/>
          </p:nvSpPr>
          <p:spPr>
            <a:xfrm>
              <a:off x="2000160" y="354816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"/>
            <p:cNvSpPr/>
            <p:nvPr/>
          </p:nvSpPr>
          <p:spPr>
            <a:xfrm>
              <a:off x="2525400" y="356112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Group 7"/>
          <p:cNvGrpSpPr/>
          <p:nvPr/>
        </p:nvGrpSpPr>
        <p:grpSpPr>
          <a:xfrm>
            <a:off x="3283920" y="3260880"/>
            <a:ext cx="1476000" cy="703800"/>
            <a:chOff x="3283920" y="3260880"/>
            <a:chExt cx="1476000" cy="703800"/>
          </a:xfrm>
        </p:grpSpPr>
        <p:sp>
          <p:nvSpPr>
            <p:cNvPr id="976" name="Text Box 8"/>
            <p:cNvSpPr/>
            <p:nvPr/>
          </p:nvSpPr>
          <p:spPr>
            <a:xfrm>
              <a:off x="3283920" y="326088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9"/>
            <p:cNvSpPr/>
            <p:nvPr/>
          </p:nvSpPr>
          <p:spPr>
            <a:xfrm>
              <a:off x="3659400" y="353700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10"/>
            <p:cNvSpPr/>
            <p:nvPr/>
          </p:nvSpPr>
          <p:spPr>
            <a:xfrm flipH="1">
              <a:off x="3622320" y="353700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11"/>
          <p:cNvGrpSpPr/>
          <p:nvPr/>
        </p:nvGrpSpPr>
        <p:grpSpPr>
          <a:xfrm>
            <a:off x="5069880" y="3260880"/>
            <a:ext cx="1207800" cy="703800"/>
            <a:chOff x="5069880" y="3260880"/>
            <a:chExt cx="1207800" cy="703800"/>
          </a:xfrm>
        </p:grpSpPr>
        <p:sp>
          <p:nvSpPr>
            <p:cNvPr id="980" name="Text Box 12"/>
            <p:cNvSpPr/>
            <p:nvPr/>
          </p:nvSpPr>
          <p:spPr>
            <a:xfrm>
              <a:off x="5069880" y="326088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13"/>
            <p:cNvSpPr/>
            <p:nvPr/>
          </p:nvSpPr>
          <p:spPr>
            <a:xfrm>
              <a:off x="5280120" y="351180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14"/>
            <p:cNvSpPr/>
            <p:nvPr/>
          </p:nvSpPr>
          <p:spPr>
            <a:xfrm>
              <a:off x="5743800" y="354816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15"/>
          <p:cNvGrpSpPr/>
          <p:nvPr/>
        </p:nvGrpSpPr>
        <p:grpSpPr>
          <a:xfrm>
            <a:off x="6503400" y="3260880"/>
            <a:ext cx="1207800" cy="703800"/>
            <a:chOff x="6503400" y="3260880"/>
            <a:chExt cx="1207800" cy="703800"/>
          </a:xfrm>
        </p:grpSpPr>
        <p:sp>
          <p:nvSpPr>
            <p:cNvPr id="984" name="Text Box 16"/>
            <p:cNvSpPr/>
            <p:nvPr/>
          </p:nvSpPr>
          <p:spPr>
            <a:xfrm>
              <a:off x="6503400" y="326088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17"/>
            <p:cNvSpPr/>
            <p:nvPr/>
          </p:nvSpPr>
          <p:spPr>
            <a:xfrm>
              <a:off x="6767640" y="3524400"/>
              <a:ext cx="33012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18"/>
            <p:cNvSpPr/>
            <p:nvPr/>
          </p:nvSpPr>
          <p:spPr>
            <a:xfrm flipH="1">
              <a:off x="6694200" y="352440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Text Box 19"/>
          <p:cNvSpPr/>
          <p:nvPr/>
        </p:nvSpPr>
        <p:spPr>
          <a:xfrm>
            <a:off x="1564560" y="39146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4=1/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3043080" y="1746360"/>
          <a:ext cx="3486240" cy="1195200"/>
        </p:xfrm>
        <a:graphic>
          <a:graphicData uri="http://schemas.openxmlformats.org/drawingml/2006/table">
            <a:tbl>
              <a:tblPr/>
              <a:tblGrid>
                <a:gridCol w="1162080"/>
                <a:gridCol w="1162080"/>
                <a:gridCol w="116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89" name="Group 66"/>
          <p:cNvGrpSpPr/>
          <p:nvPr/>
        </p:nvGrpSpPr>
        <p:grpSpPr>
          <a:xfrm>
            <a:off x="2268000" y="1353960"/>
            <a:ext cx="3508200" cy="1564200"/>
            <a:chOff x="2268000" y="1353960"/>
            <a:chExt cx="3508200" cy="1564200"/>
          </a:xfrm>
        </p:grpSpPr>
        <p:sp>
          <p:nvSpPr>
            <p:cNvPr id="990" name="Text Box 67"/>
            <p:cNvSpPr/>
            <p:nvPr/>
          </p:nvSpPr>
          <p:spPr>
            <a:xfrm>
              <a:off x="2268000" y="17017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Text Box 68"/>
            <p:cNvSpPr/>
            <p:nvPr/>
          </p:nvSpPr>
          <p:spPr>
            <a:xfrm>
              <a:off x="2272320" y="21096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69"/>
            <p:cNvSpPr/>
            <p:nvPr/>
          </p:nvSpPr>
          <p:spPr>
            <a:xfrm>
              <a:off x="2498040" y="25192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70"/>
            <p:cNvSpPr/>
            <p:nvPr/>
          </p:nvSpPr>
          <p:spPr>
            <a:xfrm>
              <a:off x="3169440" y="135396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Text Box 71"/>
          <p:cNvSpPr/>
          <p:nvPr/>
        </p:nvSpPr>
        <p:spPr>
          <a:xfrm>
            <a:off x="-2520" y="3048120"/>
            <a:ext cx="156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compu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lign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, F |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72"/>
          <p:cNvSpPr/>
          <p:nvPr/>
        </p:nvSpPr>
        <p:spPr>
          <a:xfrm>
            <a:off x="3253680" y="390852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2=1/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3"/>
          <p:cNvSpPr/>
          <p:nvPr/>
        </p:nvSpPr>
        <p:spPr>
          <a:xfrm>
            <a:off x="4929840" y="39020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2=1/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74"/>
          <p:cNvSpPr/>
          <p:nvPr/>
        </p:nvSpPr>
        <p:spPr>
          <a:xfrm>
            <a:off x="6520680" y="390852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4=1/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76"/>
          <p:cNvSpPr/>
          <p:nvPr/>
        </p:nvSpPr>
        <p:spPr>
          <a:xfrm>
            <a:off x="152280" y="4562640"/>
            <a:ext cx="13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rmaliz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g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 | F,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Object 77"/>
              <p:cNvSpPr txBox="1"/>
              <p:nvPr/>
            </p:nvSpPr>
            <p:spPr>
              <a:xfrm>
                <a:off x="2050920" y="476892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8"/>
              <p:cNvSpPr txBox="1"/>
              <p:nvPr/>
            </p:nvSpPr>
            <p:spPr>
              <a:xfrm>
                <a:off x="3594240" y="4768920"/>
                <a:ext cx="890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9"/>
              <p:cNvSpPr txBox="1"/>
              <p:nvPr/>
            </p:nvSpPr>
            <p:spPr>
              <a:xfrm>
                <a:off x="5295960" y="476892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80"/>
              <p:cNvSpPr txBox="1"/>
              <p:nvPr/>
            </p:nvSpPr>
            <p:spPr>
              <a:xfrm>
                <a:off x="6726240" y="476892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3" name="Oval 81"/>
          <p:cNvSpPr/>
          <p:nvPr/>
        </p:nvSpPr>
        <p:spPr>
          <a:xfrm>
            <a:off x="3182760" y="3279600"/>
            <a:ext cx="162108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82"/>
          <p:cNvSpPr/>
          <p:nvPr/>
        </p:nvSpPr>
        <p:spPr>
          <a:xfrm>
            <a:off x="4884840" y="3273480"/>
            <a:ext cx="141264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3"/>
          <p:cNvSpPr/>
          <p:nvPr/>
        </p:nvSpPr>
        <p:spPr>
          <a:xfrm>
            <a:off x="2357640" y="5702400"/>
            <a:ext cx="54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ntinue EM iterations until trans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parameters conver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4"/>
          <p:cNvSpPr/>
          <p:nvPr/>
        </p:nvSpPr>
        <p:spPr>
          <a:xfrm>
            <a:off x="606960" y="187488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o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85800" y="13716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find a translation that maximizes the product of the translation and language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3FBB-8DDA-4552-83AF-3FC51A70A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3"/>
              <p:cNvSpPr txBox="1"/>
              <p:nvPr/>
            </p:nvSpPr>
            <p:spPr>
              <a:xfrm>
                <a:off x="2712960" y="1849320"/>
                <a:ext cx="33908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</m:mr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|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11" name="Content Placeholder 2"/>
          <p:cNvSpPr/>
          <p:nvPr/>
        </p:nvSpPr>
        <p:spPr>
          <a:xfrm>
            <a:off x="741240" y="3232080"/>
            <a:ext cx="77724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licitly enumerate and test the combinatorial space of all possible translation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timal decoding problem for all reasonable model’s (e.g. IBM model 1) is NP-comple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ally search the space of translations using A*, beam-search, etc. to approximate the solution to this difficult optimization proble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subjective evaluation is the best but is time-consuming and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evaluation comparing the output to multiple human reference translations is cheaper and correlates with human judg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D409-7926-4684-A52B-5E34F8E3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of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humans to estimate MT output on several dimen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luenc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Is the result grammatical, understandable, and readable in the target languag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idelit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oes the result correctly convey  the information in the original source langu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dequac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:  Human judgment on a fixed scale.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ingual judges given source and target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lingual judges given reference translation and MT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formativenes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: Monolingual judges must answer questions about the source sentence given only the MT translation (task-based evaluation)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7D3B-22F6-4A0A-BFA8-8186F5A4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er-Aided Translatio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dit 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easure the number of changes that a human translator must make to correct the MT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umber of words chang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mount of time taken to edi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umber of keystrokes needed to edi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8AE-8F83-488A-8B4B-4A1A9543E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Evaluation of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one or more human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reference trans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MT output to these reference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 result based on similarity to the reference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LEU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TE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437C-D92A-4001-BC5C-9B198D1D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numb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s of various sizes that the MT output shares with the reference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 modified precision measur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s in MT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FCA3-544F-4CBF-9E3C-E9E4FA3C6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6CE2-9171-4541-8660-DE19EEB1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6"/>
          <p:cNvSpPr/>
          <p:nvPr/>
        </p:nvSpPr>
        <p:spPr>
          <a:xfrm>
            <a:off x="1359000" y="1720800"/>
            <a:ext cx="711000" cy="276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7"/>
          <p:cNvSpPr/>
          <p:nvPr/>
        </p:nvSpPr>
        <p:spPr>
          <a:xfrm>
            <a:off x="1127160" y="2703600"/>
            <a:ext cx="709560" cy="276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1135080" y="3035160"/>
            <a:ext cx="709560" cy="277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9"/>
          <p:cNvSpPr/>
          <p:nvPr/>
        </p:nvSpPr>
        <p:spPr>
          <a:xfrm>
            <a:off x="1155600" y="3332160"/>
            <a:ext cx="709560" cy="277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0"/>
          <p:cNvSpPr/>
          <p:nvPr/>
        </p:nvSpPr>
        <p:spPr>
          <a:xfrm>
            <a:off x="2081160" y="1731960"/>
            <a:ext cx="336600" cy="26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5"/>
          <p:cNvSpPr/>
          <p:nvPr/>
        </p:nvSpPr>
        <p:spPr>
          <a:xfrm>
            <a:off x="2417760" y="1731960"/>
            <a:ext cx="506520" cy="264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6"/>
          <p:cNvSpPr/>
          <p:nvPr/>
        </p:nvSpPr>
        <p:spPr>
          <a:xfrm>
            <a:off x="2679840" y="2727360"/>
            <a:ext cx="504720" cy="264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7"/>
          <p:cNvSpPr/>
          <p:nvPr/>
        </p:nvSpPr>
        <p:spPr>
          <a:xfrm>
            <a:off x="2916360" y="1736640"/>
            <a:ext cx="36828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8"/>
          <p:cNvSpPr/>
          <p:nvPr/>
        </p:nvSpPr>
        <p:spPr>
          <a:xfrm>
            <a:off x="3200400" y="2730600"/>
            <a:ext cx="368280" cy="261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9"/>
          <p:cNvSpPr/>
          <p:nvPr/>
        </p:nvSpPr>
        <p:spPr>
          <a:xfrm>
            <a:off x="3460680" y="3040200"/>
            <a:ext cx="37008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3"/>
          <p:cNvSpPr/>
          <p:nvPr/>
        </p:nvSpPr>
        <p:spPr>
          <a:xfrm>
            <a:off x="3998880" y="1736640"/>
            <a:ext cx="64440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4"/>
          <p:cNvSpPr/>
          <p:nvPr/>
        </p:nvSpPr>
        <p:spPr>
          <a:xfrm>
            <a:off x="3597120" y="2719440"/>
            <a:ext cx="6462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5"/>
          <p:cNvSpPr/>
          <p:nvPr/>
        </p:nvSpPr>
        <p:spPr>
          <a:xfrm>
            <a:off x="3857760" y="3040200"/>
            <a:ext cx="64584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6"/>
          <p:cNvSpPr/>
          <p:nvPr/>
        </p:nvSpPr>
        <p:spPr>
          <a:xfrm>
            <a:off x="3228840" y="3360600"/>
            <a:ext cx="64476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27"/>
          <p:cNvSpPr/>
          <p:nvPr/>
        </p:nvSpPr>
        <p:spPr>
          <a:xfrm>
            <a:off x="3332160" y="1731960"/>
            <a:ext cx="6462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28"/>
          <p:cNvSpPr/>
          <p:nvPr/>
        </p:nvSpPr>
        <p:spPr>
          <a:xfrm>
            <a:off x="4267080" y="2703600"/>
            <a:ext cx="6462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29"/>
          <p:cNvSpPr/>
          <p:nvPr/>
        </p:nvSpPr>
        <p:spPr>
          <a:xfrm>
            <a:off x="4516560" y="3048120"/>
            <a:ext cx="6444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Box 4"/>
          <p:cNvSpPr/>
          <p:nvPr/>
        </p:nvSpPr>
        <p:spPr>
          <a:xfrm>
            <a:off x="52020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Box 30"/>
          <p:cNvSpPr/>
          <p:nvPr/>
        </p:nvSpPr>
        <p:spPr>
          <a:xfrm>
            <a:off x="1485720" y="421164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1 Unigram Precision:  5/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lation Qua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5920" y="1371600"/>
            <a:ext cx="8240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ing literary quality translation i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MT systems can generate rough translations that frequently at least convey the gist of a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quality translations possible when specialized to narrow domains, e.g. weather for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T systems used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uter-aided trans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 bilingual human post-edits the output to produce more readable accurate trans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ly used to ai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ca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oftware interfaces and documentation to adapt them to other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35C-7DF1-49C7-A811-ED9967C5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12"/>
          <p:cNvSpPr/>
          <p:nvPr/>
        </p:nvSpPr>
        <p:spPr>
          <a:xfrm>
            <a:off x="3308400" y="1684440"/>
            <a:ext cx="1324080" cy="325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10"/>
          <p:cNvSpPr/>
          <p:nvPr/>
        </p:nvSpPr>
        <p:spPr>
          <a:xfrm>
            <a:off x="2935440" y="1689120"/>
            <a:ext cx="102708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8"/>
          <p:cNvSpPr/>
          <p:nvPr/>
        </p:nvSpPr>
        <p:spPr>
          <a:xfrm>
            <a:off x="2414520" y="1681200"/>
            <a:ext cx="878040" cy="323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434-30B9-437B-862E-8738F5B1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6"/>
          <p:cNvSpPr/>
          <p:nvPr/>
        </p:nvSpPr>
        <p:spPr>
          <a:xfrm>
            <a:off x="1407960" y="1697040"/>
            <a:ext cx="100980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2104920" y="1684440"/>
            <a:ext cx="879480" cy="325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Box 17"/>
          <p:cNvSpPr/>
          <p:nvPr/>
        </p:nvSpPr>
        <p:spPr>
          <a:xfrm>
            <a:off x="1636560" y="4363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1 Bigram Precision:  1/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8"/>
          <p:cNvSpPr/>
          <p:nvPr/>
        </p:nvSpPr>
        <p:spPr>
          <a:xfrm>
            <a:off x="2711520" y="2698920"/>
            <a:ext cx="877680" cy="325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Box 4"/>
          <p:cNvSpPr/>
          <p:nvPr/>
        </p:nvSpPr>
        <p:spPr>
          <a:xfrm>
            <a:off x="44964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D964-B5B1-4C45-BDF0-47859F055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8"/>
          <p:cNvSpPr/>
          <p:nvPr/>
        </p:nvSpPr>
        <p:spPr>
          <a:xfrm>
            <a:off x="1371600" y="1996920"/>
            <a:ext cx="6858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9"/>
          <p:cNvSpPr/>
          <p:nvPr/>
        </p:nvSpPr>
        <p:spPr>
          <a:xfrm>
            <a:off x="1163520" y="2714760"/>
            <a:ext cx="68580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20"/>
          <p:cNvSpPr/>
          <p:nvPr/>
        </p:nvSpPr>
        <p:spPr>
          <a:xfrm>
            <a:off x="1158840" y="3035160"/>
            <a:ext cx="6858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1"/>
          <p:cNvSpPr/>
          <p:nvPr/>
        </p:nvSpPr>
        <p:spPr>
          <a:xfrm>
            <a:off x="1155600" y="3357720"/>
            <a:ext cx="685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22"/>
          <p:cNvSpPr/>
          <p:nvPr/>
        </p:nvSpPr>
        <p:spPr>
          <a:xfrm>
            <a:off x="2077920" y="1994040"/>
            <a:ext cx="4366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23"/>
          <p:cNvSpPr/>
          <p:nvPr/>
        </p:nvSpPr>
        <p:spPr>
          <a:xfrm>
            <a:off x="1881360" y="2722680"/>
            <a:ext cx="4363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876320" y="3032280"/>
            <a:ext cx="4381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873080" y="3340080"/>
            <a:ext cx="4366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27"/>
          <p:cNvSpPr/>
          <p:nvPr/>
        </p:nvSpPr>
        <p:spPr>
          <a:xfrm>
            <a:off x="2502000" y="1996920"/>
            <a:ext cx="4381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28"/>
          <p:cNvSpPr/>
          <p:nvPr/>
        </p:nvSpPr>
        <p:spPr>
          <a:xfrm>
            <a:off x="2306520" y="2714760"/>
            <a:ext cx="43668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9"/>
          <p:cNvSpPr/>
          <p:nvPr/>
        </p:nvSpPr>
        <p:spPr>
          <a:xfrm>
            <a:off x="2314440" y="3035160"/>
            <a:ext cx="4366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30"/>
          <p:cNvSpPr/>
          <p:nvPr/>
        </p:nvSpPr>
        <p:spPr>
          <a:xfrm>
            <a:off x="2322360" y="3357720"/>
            <a:ext cx="4366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1"/>
          <p:cNvSpPr/>
          <p:nvPr/>
        </p:nvSpPr>
        <p:spPr>
          <a:xfrm>
            <a:off x="2948040" y="1996920"/>
            <a:ext cx="457200" cy="30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32"/>
          <p:cNvSpPr/>
          <p:nvPr/>
        </p:nvSpPr>
        <p:spPr>
          <a:xfrm>
            <a:off x="3416400" y="1996920"/>
            <a:ext cx="2286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33"/>
          <p:cNvSpPr/>
          <p:nvPr/>
        </p:nvSpPr>
        <p:spPr>
          <a:xfrm>
            <a:off x="3003480" y="3328920"/>
            <a:ext cx="22860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34"/>
          <p:cNvSpPr/>
          <p:nvPr/>
        </p:nvSpPr>
        <p:spPr>
          <a:xfrm>
            <a:off x="3657600" y="1996920"/>
            <a:ext cx="70956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35"/>
          <p:cNvSpPr/>
          <p:nvPr/>
        </p:nvSpPr>
        <p:spPr>
          <a:xfrm>
            <a:off x="2738520" y="3027240"/>
            <a:ext cx="7110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36"/>
          <p:cNvSpPr/>
          <p:nvPr/>
        </p:nvSpPr>
        <p:spPr>
          <a:xfrm>
            <a:off x="4367160" y="1996920"/>
            <a:ext cx="276120" cy="30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38"/>
          <p:cNvSpPr/>
          <p:nvPr/>
        </p:nvSpPr>
        <p:spPr>
          <a:xfrm>
            <a:off x="4627440" y="1994040"/>
            <a:ext cx="19692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Box 39"/>
          <p:cNvSpPr/>
          <p:nvPr/>
        </p:nvSpPr>
        <p:spPr>
          <a:xfrm>
            <a:off x="2419200" y="4006800"/>
            <a:ext cx="528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p match count of  eac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m to maximu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nt of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m in any single refer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40"/>
          <p:cNvSpPr/>
          <p:nvPr/>
        </p:nvSpPr>
        <p:spPr>
          <a:xfrm>
            <a:off x="4824360" y="199692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41"/>
          <p:cNvSpPr/>
          <p:nvPr/>
        </p:nvSpPr>
        <p:spPr>
          <a:xfrm>
            <a:off x="3605040" y="2703600"/>
            <a:ext cx="6382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42"/>
          <p:cNvSpPr/>
          <p:nvPr/>
        </p:nvSpPr>
        <p:spPr>
          <a:xfrm>
            <a:off x="3833640" y="302724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43"/>
          <p:cNvSpPr/>
          <p:nvPr/>
        </p:nvSpPr>
        <p:spPr>
          <a:xfrm>
            <a:off x="3276720" y="3360600"/>
            <a:ext cx="6379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44"/>
          <p:cNvSpPr/>
          <p:nvPr/>
        </p:nvSpPr>
        <p:spPr>
          <a:xfrm>
            <a:off x="5457960" y="1994040"/>
            <a:ext cx="6379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45"/>
          <p:cNvSpPr/>
          <p:nvPr/>
        </p:nvSpPr>
        <p:spPr>
          <a:xfrm>
            <a:off x="4262400" y="2711520"/>
            <a:ext cx="6382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46"/>
          <p:cNvSpPr/>
          <p:nvPr/>
        </p:nvSpPr>
        <p:spPr>
          <a:xfrm>
            <a:off x="4487760" y="301932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Box 4"/>
          <p:cNvSpPr/>
          <p:nvPr/>
        </p:nvSpPr>
        <p:spPr>
          <a:xfrm>
            <a:off x="44964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Box 48"/>
          <p:cNvSpPr/>
          <p:nvPr/>
        </p:nvSpPr>
        <p:spPr>
          <a:xfrm>
            <a:off x="2532960" y="52704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2 Unigram Precision:  7/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1"/>
          <p:cNvSpPr/>
          <p:nvPr/>
        </p:nvSpPr>
        <p:spPr>
          <a:xfrm>
            <a:off x="4648320" y="2013120"/>
            <a:ext cx="83808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6"/>
          <p:cNvSpPr/>
          <p:nvPr/>
        </p:nvSpPr>
        <p:spPr>
          <a:xfrm>
            <a:off x="1432080" y="2009880"/>
            <a:ext cx="105876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3241-B2DD-40E0-8855-AD70ED96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1211400" y="2679840"/>
            <a:ext cx="105876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8"/>
          <p:cNvSpPr/>
          <p:nvPr/>
        </p:nvSpPr>
        <p:spPr>
          <a:xfrm>
            <a:off x="1206360" y="3024360"/>
            <a:ext cx="10591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1203480" y="3368520"/>
            <a:ext cx="105876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4821120" y="1994040"/>
            <a:ext cx="1279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13"/>
          <p:cNvSpPr/>
          <p:nvPr/>
        </p:nvSpPr>
        <p:spPr>
          <a:xfrm>
            <a:off x="1897200" y="2682720"/>
            <a:ext cx="7984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14"/>
          <p:cNvSpPr/>
          <p:nvPr/>
        </p:nvSpPr>
        <p:spPr>
          <a:xfrm>
            <a:off x="1892160" y="3016080"/>
            <a:ext cx="79848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15"/>
          <p:cNvSpPr/>
          <p:nvPr/>
        </p:nvSpPr>
        <p:spPr>
          <a:xfrm>
            <a:off x="1889280" y="3360600"/>
            <a:ext cx="7984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17"/>
          <p:cNvSpPr/>
          <p:nvPr/>
        </p:nvSpPr>
        <p:spPr>
          <a:xfrm>
            <a:off x="2900520" y="2009880"/>
            <a:ext cx="72072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8"/>
          <p:cNvSpPr/>
          <p:nvPr/>
        </p:nvSpPr>
        <p:spPr>
          <a:xfrm>
            <a:off x="3449520" y="1994040"/>
            <a:ext cx="9176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19"/>
          <p:cNvSpPr/>
          <p:nvPr/>
        </p:nvSpPr>
        <p:spPr>
          <a:xfrm>
            <a:off x="3649680" y="2001960"/>
            <a:ext cx="98280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0"/>
          <p:cNvSpPr/>
          <p:nvPr/>
        </p:nvSpPr>
        <p:spPr>
          <a:xfrm>
            <a:off x="4367160" y="2009880"/>
            <a:ext cx="45720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22"/>
          <p:cNvSpPr/>
          <p:nvPr/>
        </p:nvSpPr>
        <p:spPr>
          <a:xfrm>
            <a:off x="3056040" y="3344760"/>
            <a:ext cx="83808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23"/>
          <p:cNvSpPr/>
          <p:nvPr/>
        </p:nvSpPr>
        <p:spPr>
          <a:xfrm>
            <a:off x="3865680" y="3024360"/>
            <a:ext cx="127944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4"/>
          <p:cNvSpPr/>
          <p:nvPr/>
        </p:nvSpPr>
        <p:spPr>
          <a:xfrm>
            <a:off x="3573360" y="2695680"/>
            <a:ext cx="1279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25"/>
          <p:cNvSpPr/>
          <p:nvPr/>
        </p:nvSpPr>
        <p:spPr>
          <a:xfrm>
            <a:off x="2637720" y="431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2 Bigram Precision:  4/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12"/>
          <p:cNvSpPr/>
          <p:nvPr/>
        </p:nvSpPr>
        <p:spPr>
          <a:xfrm>
            <a:off x="2104920" y="2013120"/>
            <a:ext cx="79848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16"/>
          <p:cNvSpPr/>
          <p:nvPr/>
        </p:nvSpPr>
        <p:spPr>
          <a:xfrm>
            <a:off x="2494080" y="2025720"/>
            <a:ext cx="91116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Box 4"/>
          <p:cNvSpPr/>
          <p:nvPr/>
        </p:nvSpPr>
        <p:spPr>
          <a:xfrm>
            <a:off x="44964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dified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Gram Prec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37124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 precision ove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s up to siz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ypically 4) using geometric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1F16-6F81-46E4-9A91-C99AD71C6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Object 2"/>
              <p:cNvSpPr txBox="1"/>
              <p:nvPr/>
            </p:nvSpPr>
            <p:spPr>
              <a:xfrm>
                <a:off x="958680" y="3019320"/>
                <a:ext cx="45421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rpu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u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i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rpu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un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Object 3"/>
              <p:cNvSpPr txBox="1"/>
              <p:nvPr/>
            </p:nvSpPr>
            <p:spPr>
              <a:xfrm>
                <a:off x="6392880" y="3090960"/>
                <a:ext cx="15843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Object 4"/>
              <p:cNvSpPr txBox="1"/>
              <p:nvPr/>
            </p:nvSpPr>
            <p:spPr>
              <a:xfrm>
                <a:off x="3639960" y="4638600"/>
                <a:ext cx="2192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TextBox 7"/>
          <p:cNvSpPr/>
          <p:nvPr/>
        </p:nvSpPr>
        <p:spPr>
          <a:xfrm>
            <a:off x="2257920" y="48848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1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Box 8"/>
          <p:cNvSpPr/>
          <p:nvPr/>
        </p:nvSpPr>
        <p:spPr>
          <a:xfrm>
            <a:off x="2289600" y="57704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2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Object 5"/>
              <p:cNvSpPr txBox="1"/>
              <p:nvPr/>
            </p:nvSpPr>
            <p:spPr>
              <a:xfrm>
                <a:off x="3587760" y="5549760"/>
                <a:ext cx="24192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revity Penal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93200" y="1371600"/>
            <a:ext cx="81219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asy to compute recall to complement precision since there are multiple alternative gold-standard references and don’t need to match all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a penalty for translations that are shorter than the reference trans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effective reference leng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ach sentence as the length of the reference sentence with the largest numb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ram matches.  Le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ndidate sentence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528-930C-437F-B497-AF55FABF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2"/>
              <p:cNvSpPr txBox="1"/>
              <p:nvPr/>
            </p:nvSpPr>
            <p:spPr>
              <a:xfrm>
                <a:off x="2502000" y="5402160"/>
                <a:ext cx="34797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     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r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c</m:t>
                                            </m:r>
                                          </m:den>
                                        </m:f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Score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80960" y="1418760"/>
            <a:ext cx="825336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BLEU Score:  BLEU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and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ry no slap the witch g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est Re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Mary did not slap the green witch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and 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 not give a smack to a green witch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est Re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Mary did not smack the green witch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EFD-50AF-43E4-8E0F-A3CDCED2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2"/>
              <p:cNvSpPr txBox="1"/>
              <p:nvPr/>
            </p:nvSpPr>
            <p:spPr>
              <a:xfrm>
                <a:off x="1862280" y="3025800"/>
                <a:ext cx="5322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Object 3"/>
              <p:cNvSpPr txBox="1"/>
              <p:nvPr/>
            </p:nvSpPr>
            <p:spPr>
              <a:xfrm>
                <a:off x="1785960" y="3540240"/>
                <a:ext cx="45306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LE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866960" y="5181480"/>
                <a:ext cx="3498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5"/>
              <p:cNvSpPr txBox="1"/>
              <p:nvPr/>
            </p:nvSpPr>
            <p:spPr>
              <a:xfrm>
                <a:off x="1795320" y="5762520"/>
                <a:ext cx="3832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LE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Score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U has been shown to correlate with human evaluation when comparing outputs from different SMT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it is does not correlate with human judgments when comparing SMT systems with manually developed MT (Systran) or MT with human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T evaluation metrics have been proposed that claim to overcome some of the limitations of BLE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BC5-1370-4A62-AB68-EF2A8235D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yntax-Based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tatistical Machine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685800" y="19177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SMT methods have adopted a syntactic transfer approa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results demonstrated for translating between more distant language pairs, e.g. Chinese/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42FF-4863-4F9E-99BE-64B172A0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8927-FCA7-4E1C-B55F-041A928EF1CC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chronous Gramma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ultiple parse tre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single der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Chiang, 2005; Galley et al., 200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hierarchical struct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entence and its translation, and also the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correspo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eir sub-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499-55F9-48F7-98B8-7DBB839A1C65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4"/>
          <p:cNvSpPr/>
          <p:nvPr/>
        </p:nvSpPr>
        <p:spPr>
          <a:xfrm>
            <a:off x="3124080" y="3795840"/>
            <a:ext cx="152424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5"/>
          <p:cNvSpPr/>
          <p:nvPr/>
        </p:nvSpPr>
        <p:spPr>
          <a:xfrm>
            <a:off x="5029200" y="3795840"/>
            <a:ext cx="175248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6"/>
          <p:cNvSpPr/>
          <p:nvPr/>
        </p:nvSpPr>
        <p:spPr>
          <a:xfrm>
            <a:off x="2286000" y="3809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X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PMingLiU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7"/>
          <p:cNvSpPr/>
          <p:nvPr/>
        </p:nvSpPr>
        <p:spPr>
          <a:xfrm>
            <a:off x="3091320" y="34290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hines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8"/>
          <p:cNvSpPr/>
          <p:nvPr/>
        </p:nvSpPr>
        <p:spPr>
          <a:xfrm>
            <a:off x="4984560" y="34290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reeform 9"/>
          <p:cNvSpPr/>
          <p:nvPr/>
        </p:nvSpPr>
        <p:spPr>
          <a:xfrm>
            <a:off x="3352680" y="4329000"/>
            <a:ext cx="3200400" cy="763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440" h="48">
                <a:moveTo>
                  <a:pt x="0" y="0"/>
                </a:moveTo>
                <a:lnTo>
                  <a:pt x="0" y="48"/>
                </a:lnTo>
                <a:lnTo>
                  <a:pt x="1440" y="48"/>
                </a:lnTo>
                <a:lnTo>
                  <a:pt x="1440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chronous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wo RHSs, one for each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guistic Issues Making MT Difficul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phological issues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gglutin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olysynth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s with complex word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variation betwe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V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English)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Hindi),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Arabic) 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O languages use preposi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OV languages use postposi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-dro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regularly omit subjects that must be infe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79B3-AB67-4832-8CA7-1A0173D60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3B61-06DA-4731-83E7-3A7D15FF241C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5" name="Text Box 39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991-0FCC-4D3F-9971-6E60067C5968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8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Freeform 27"/>
          <p:cNvSpPr/>
          <p:nvPr/>
        </p:nvSpPr>
        <p:spPr>
          <a:xfrm>
            <a:off x="2895480" y="2362320"/>
            <a:ext cx="3200400" cy="759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8"/>
          <p:cNvSpPr/>
          <p:nvPr/>
        </p:nvSpPr>
        <p:spPr>
          <a:xfrm>
            <a:off x="916560" y="5478480"/>
            <a:ext cx="267696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E73-A697-4889-B04D-0297A98999DD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28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29"/>
          <p:cNvSpPr/>
          <p:nvPr/>
        </p:nvSpPr>
        <p:spPr>
          <a:xfrm>
            <a:off x="2438280" y="3048120"/>
            <a:ext cx="4114800" cy="759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2"/>
          <p:cNvSpPr/>
          <p:nvPr/>
        </p:nvSpPr>
        <p:spPr>
          <a:xfrm>
            <a:off x="5029200" y="550872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What i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reeform 42"/>
          <p:cNvSpPr/>
          <p:nvPr/>
        </p:nvSpPr>
        <p:spPr>
          <a:xfrm>
            <a:off x="5715000" y="5867280"/>
            <a:ext cx="2057400" cy="7632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A05F-8590-4094-9A0E-9A16083D9C95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8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28"/>
          <p:cNvSpPr/>
          <p:nvPr/>
        </p:nvSpPr>
        <p:spPr>
          <a:xfrm>
            <a:off x="916560" y="5478480"/>
            <a:ext cx="267696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Freeform 30"/>
          <p:cNvSpPr/>
          <p:nvPr/>
        </p:nvSpPr>
        <p:spPr>
          <a:xfrm>
            <a:off x="1981080" y="3733920"/>
            <a:ext cx="5181840" cy="75960"/>
          </a:xfrm>
          <a:custGeom>
            <a:avLst/>
            <a:gdLst>
              <a:gd name="textAreaLeft" fmla="*/ 0 w 5181840"/>
              <a:gd name="textAreaRight" fmla="*/ 5182200 w 5181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32"/>
          <p:cNvSpPr/>
          <p:nvPr/>
        </p:nvSpPr>
        <p:spPr>
          <a:xfrm>
            <a:off x="5029200" y="5508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the capital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Freeform 33"/>
          <p:cNvSpPr/>
          <p:nvPr/>
        </p:nvSpPr>
        <p:spPr>
          <a:xfrm>
            <a:off x="5715000" y="5867280"/>
            <a:ext cx="2133720" cy="763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DD1-3046-4B02-B6F2-1B2C806D1124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6646680" y="406224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1477440" y="40784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8"/>
          <p:cNvSpPr/>
          <p:nvPr/>
        </p:nvSpPr>
        <p:spPr>
          <a:xfrm>
            <a:off x="916560" y="5478480"/>
            <a:ext cx="267696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Freeform 31"/>
          <p:cNvSpPr/>
          <p:nvPr/>
        </p:nvSpPr>
        <p:spPr>
          <a:xfrm>
            <a:off x="1676520" y="4419720"/>
            <a:ext cx="5790960" cy="75960"/>
          </a:xfrm>
          <a:custGeom>
            <a:avLst/>
            <a:gdLst>
              <a:gd name="textAreaLeft" fmla="*/ 0 w 5790960"/>
              <a:gd name="textAreaRight" fmla="*/ 5791320 w 5790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32"/>
          <p:cNvSpPr/>
          <p:nvPr/>
        </p:nvSpPr>
        <p:spPr>
          <a:xfrm>
            <a:off x="5029200" y="5508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of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reeform 33"/>
          <p:cNvSpPr/>
          <p:nvPr/>
        </p:nvSpPr>
        <p:spPr>
          <a:xfrm>
            <a:off x="5715000" y="5867280"/>
            <a:ext cx="990720" cy="76320"/>
          </a:xfrm>
          <a:custGeom>
            <a:avLst/>
            <a:gdLst>
              <a:gd name="textAreaLeft" fmla="*/ 0 w 990720"/>
              <a:gd name="textAreaRight" fmla="*/ 991080 w 990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1B79-62D5-41DE-9D1B-EBCDC1B53B8F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6"/>
          <p:cNvSpPr/>
          <p:nvPr/>
        </p:nvSpPr>
        <p:spPr>
          <a:xfrm>
            <a:off x="6646680" y="406224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7156080" y="4732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4"/>
          <p:cNvSpPr/>
          <p:nvPr/>
        </p:nvSpPr>
        <p:spPr>
          <a:xfrm>
            <a:off x="748656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6"/>
          <p:cNvSpPr/>
          <p:nvPr/>
        </p:nvSpPr>
        <p:spPr>
          <a:xfrm>
            <a:off x="1265400" y="4770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17"/>
          <p:cNvSpPr/>
          <p:nvPr/>
        </p:nvSpPr>
        <p:spPr>
          <a:xfrm>
            <a:off x="165744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4"/>
          <p:cNvSpPr/>
          <p:nvPr/>
        </p:nvSpPr>
        <p:spPr>
          <a:xfrm>
            <a:off x="1477440" y="40784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8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32"/>
          <p:cNvSpPr/>
          <p:nvPr/>
        </p:nvSpPr>
        <p:spPr>
          <a:xfrm>
            <a:off x="5029200" y="5508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Oh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24D-241D-438E-ACF3-E723566DEB84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6"/>
          <p:cNvSpPr/>
          <p:nvPr/>
        </p:nvSpPr>
        <p:spPr>
          <a:xfrm>
            <a:off x="6646680" y="406224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7"/>
          <p:cNvSpPr/>
          <p:nvPr/>
        </p:nvSpPr>
        <p:spPr>
          <a:xfrm>
            <a:off x="7156080" y="4732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14"/>
          <p:cNvSpPr/>
          <p:nvPr/>
        </p:nvSpPr>
        <p:spPr>
          <a:xfrm>
            <a:off x="748656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16"/>
          <p:cNvSpPr/>
          <p:nvPr/>
        </p:nvSpPr>
        <p:spPr>
          <a:xfrm>
            <a:off x="1265400" y="4770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17"/>
          <p:cNvSpPr/>
          <p:nvPr/>
        </p:nvSpPr>
        <p:spPr>
          <a:xfrm>
            <a:off x="165744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24"/>
          <p:cNvSpPr/>
          <p:nvPr/>
        </p:nvSpPr>
        <p:spPr>
          <a:xfrm>
            <a:off x="1477440" y="40784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27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28"/>
          <p:cNvSpPr/>
          <p:nvPr/>
        </p:nvSpPr>
        <p:spPr>
          <a:xfrm>
            <a:off x="4876920" y="5460840"/>
            <a:ext cx="42670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Out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What is the capital of Ohio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chronous Deriva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Translation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80600" y="1371600"/>
            <a:ext cx="80852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make a probabilistic version of synchronous grammars to create a translation model for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ynchronous production rule is given a weigh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used in a maximum-entropy (log linear)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are learned to maximize the conditional log-likelihood of the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A3F4-83C2-4239-A56A-9DD9379DC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Picture 7" descr="Slide475_Picture 6"/>
          <p:cNvPicPr/>
          <p:nvPr/>
        </p:nvPicPr>
        <p:blipFill>
          <a:blip r:embed="rId1"/>
          <a:stretch/>
        </p:blipFill>
        <p:spPr>
          <a:xfrm>
            <a:off x="1906560" y="5678640"/>
            <a:ext cx="526428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Machine Translation (NM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685800" y="1371600"/>
            <a:ext cx="777240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er/Decoder framework maps sentence in source language to a "deep vector" then another LSTM maps this vector to a sentence in the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E2EA-8DB1-46CA-97CF-97CAE994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Box 4"/>
          <p:cNvSpPr/>
          <p:nvPr/>
        </p:nvSpPr>
        <p:spPr>
          <a:xfrm>
            <a:off x="352440" y="371484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…,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5"/>
          <p:cNvSpPr/>
          <p:nvPr/>
        </p:nvSpPr>
        <p:spPr>
          <a:xfrm>
            <a:off x="2698920" y="3600360"/>
            <a:ext cx="1031040" cy="7038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S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Box 7"/>
          <p:cNvSpPr/>
          <p:nvPr/>
        </p:nvSpPr>
        <p:spPr>
          <a:xfrm>
            <a:off x="5592600" y="371484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…,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Box 8"/>
          <p:cNvSpPr/>
          <p:nvPr/>
        </p:nvSpPr>
        <p:spPr>
          <a:xfrm>
            <a:off x="2963880" y="368604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9"/>
          <p:cNvSpPr/>
          <p:nvPr/>
        </p:nvSpPr>
        <p:spPr>
          <a:xfrm>
            <a:off x="4843080" y="3600360"/>
            <a:ext cx="1044720" cy="7038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S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Arrow: Right 10"/>
          <p:cNvSpPr/>
          <p:nvPr/>
        </p:nvSpPr>
        <p:spPr>
          <a:xfrm>
            <a:off x="3735360" y="3886200"/>
            <a:ext cx="447840" cy="114480"/>
          </a:xfrm>
          <a:prstGeom prst="rightArrow">
            <a:avLst>
              <a:gd name="adj1" fmla="val 50000"/>
              <a:gd name="adj2" fmla="val 49841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rrow: Right 11"/>
          <p:cNvSpPr/>
          <p:nvPr/>
        </p:nvSpPr>
        <p:spPr>
          <a:xfrm>
            <a:off x="4535640" y="3857760"/>
            <a:ext cx="307800" cy="114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Arrow: Right 12"/>
          <p:cNvSpPr/>
          <p:nvPr/>
        </p:nvSpPr>
        <p:spPr>
          <a:xfrm>
            <a:off x="2390760" y="3905280"/>
            <a:ext cx="309600" cy="114120"/>
          </a:xfrm>
          <a:prstGeom prst="rightArrow">
            <a:avLst>
              <a:gd name="adj1" fmla="val 50000"/>
              <a:gd name="adj2" fmla="val 5030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Arrow: Right 13"/>
          <p:cNvSpPr/>
          <p:nvPr/>
        </p:nvSpPr>
        <p:spPr>
          <a:xfrm>
            <a:off x="5888160" y="3886200"/>
            <a:ext cx="307800" cy="114480"/>
          </a:xfrm>
          <a:prstGeom prst="rightArrow">
            <a:avLst>
              <a:gd name="adj1" fmla="val 50000"/>
              <a:gd name="adj2" fmla="val 4985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Content Placeholder 2"/>
          <p:cNvSpPr/>
          <p:nvPr/>
        </p:nvSpPr>
        <p:spPr>
          <a:xfrm>
            <a:off x="685800" y="4467240"/>
            <a:ext cx="777240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odel "end to end" on sentence-aligned parallel corpu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MT with Languag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85800" y="1371240"/>
            <a:ext cx="7772400" cy="21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illa LSTM approach does not use a language model so does not exploit monolingual data for the target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tegrate an LSTM language model using “deep fus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A805-ACE2-416F-9518-B7C93692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Shape 2177" descr="lm_fusion.png"/>
          <p:cNvPicPr/>
          <p:nvPr/>
        </p:nvPicPr>
        <p:blipFill>
          <a:blip r:embed="rId1"/>
          <a:srcRect l="50548" t="0" r="0" b="0"/>
          <a:stretch/>
        </p:blipFill>
        <p:spPr>
          <a:xfrm>
            <a:off x="4621320" y="3500280"/>
            <a:ext cx="4044960" cy="30657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7"/>
          <p:cNvSpPr/>
          <p:nvPr/>
        </p:nvSpPr>
        <p:spPr>
          <a:xfrm>
            <a:off x="5460840" y="5783400"/>
            <a:ext cx="816120" cy="36828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7005600" y="5770440"/>
            <a:ext cx="816120" cy="36828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Content Placeholder 2"/>
          <p:cNvSpPr/>
          <p:nvPr/>
        </p:nvSpPr>
        <p:spPr>
          <a:xfrm>
            <a:off x="635040" y="3732120"/>
            <a:ext cx="40273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der predicts the next word from a concatenation of the hidden states of both the translation and language LSTM mode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Shape 2178"/>
          <p:cNvSpPr/>
          <p:nvPr/>
        </p:nvSpPr>
        <p:spPr>
          <a:xfrm>
            <a:off x="5033880" y="3914640"/>
            <a:ext cx="8892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ma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Shape 2179"/>
          <p:cNvSpPr/>
          <p:nvPr/>
        </p:nvSpPr>
        <p:spPr>
          <a:xfrm>
            <a:off x="5346720" y="4437000"/>
            <a:ext cx="1332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aten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 Gap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words in one language do not have a corresponding term in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ivi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ère (river that flows into ocean) and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leuve (river that does not flow into ocean) in French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chedenfraude (feeling good about another’s pain) in German.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yakoko (filial piety) in Japanes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980-F476-45C6-9554-730CC071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69800" y="1299960"/>
            <a:ext cx="8204400" cy="46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 methods can usefully exploit various amounts of syntactic and semantic processing along the Vauquois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MT methods can automatically learn a translation system from a parallel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a noisy-channel model to exploit both a bilingual translation model and a monolingual languag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al LSTM methods are currently the state-of-the-a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965-0B01-4B77-8425-64F0DFD2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uquois Triang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2E62-0B8C-47FF-9376-04039FA1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4"/>
          <p:cNvSpPr/>
          <p:nvPr/>
        </p:nvSpPr>
        <p:spPr>
          <a:xfrm>
            <a:off x="3465360" y="1409760"/>
            <a:ext cx="2068560" cy="563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ingu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5"/>
          <p:cNvSpPr/>
          <p:nvPr/>
        </p:nvSpPr>
        <p:spPr>
          <a:xfrm>
            <a:off x="1873080" y="2441520"/>
            <a:ext cx="1797120" cy="994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6"/>
          <p:cNvSpPr/>
          <p:nvPr/>
        </p:nvSpPr>
        <p:spPr>
          <a:xfrm>
            <a:off x="5153040" y="2441520"/>
            <a:ext cx="1797120" cy="994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1206360" y="3892680"/>
            <a:ext cx="1797120" cy="99540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5967360" y="3892680"/>
            <a:ext cx="1797120" cy="99540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9"/>
          <p:cNvSpPr/>
          <p:nvPr/>
        </p:nvSpPr>
        <p:spPr>
          <a:xfrm>
            <a:off x="693720" y="5353200"/>
            <a:ext cx="1555920" cy="563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10"/>
          <p:cNvSpPr/>
          <p:nvPr/>
        </p:nvSpPr>
        <p:spPr>
          <a:xfrm>
            <a:off x="6881760" y="5353200"/>
            <a:ext cx="1555920" cy="563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11"/>
          <p:cNvSpPr/>
          <p:nvPr/>
        </p:nvSpPr>
        <p:spPr>
          <a:xfrm>
            <a:off x="414720" y="618480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rce Langu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6620400" y="615636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get Langu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Straight Arrow Connector 14"/>
          <p:cNvCxnSpPr>
            <a:endCxn id="637" idx="4"/>
          </p:cNvCxnSpPr>
          <p:nvPr/>
        </p:nvCxnSpPr>
        <p:spPr>
          <a:xfrm flipV="1">
            <a:off x="1455840" y="5917320"/>
            <a:ext cx="16560" cy="43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19"/>
          <p:cNvCxnSpPr/>
          <p:nvPr/>
        </p:nvCxnSpPr>
        <p:spPr>
          <a:xfrm flipV="1">
            <a:off x="7674480" y="5925600"/>
            <a:ext cx="108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643" name="Straight Arrow Connector 21"/>
          <p:cNvCxnSpPr>
            <a:endCxn id="635" idx="4"/>
          </p:cNvCxnSpPr>
          <p:nvPr/>
        </p:nvCxnSpPr>
        <p:spPr>
          <a:xfrm flipV="1">
            <a:off x="1554120" y="4890600"/>
            <a:ext cx="55152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23"/>
          <p:cNvCxnSpPr/>
          <p:nvPr/>
        </p:nvCxnSpPr>
        <p:spPr>
          <a:xfrm flipV="1">
            <a:off x="2214720" y="3404880"/>
            <a:ext cx="55152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5" name="Straight Arrow Connector 24"/>
          <p:cNvCxnSpPr>
            <a:endCxn id="632" idx="3"/>
          </p:cNvCxnSpPr>
          <p:nvPr/>
        </p:nvCxnSpPr>
        <p:spPr>
          <a:xfrm flipV="1">
            <a:off x="3160440" y="1891800"/>
            <a:ext cx="60876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Straight Arrow Connector 26"/>
          <p:cNvCxnSpPr/>
          <p:nvPr/>
        </p:nvCxnSpPr>
        <p:spPr>
          <a:xfrm flipH="1" flipV="1">
            <a:off x="7157160" y="4847760"/>
            <a:ext cx="523080" cy="52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647" name="Straight Arrow Connector 28"/>
          <p:cNvCxnSpPr/>
          <p:nvPr/>
        </p:nvCxnSpPr>
        <p:spPr>
          <a:xfrm flipH="1" flipV="1">
            <a:off x="6186240" y="3401280"/>
            <a:ext cx="52272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648" name="Straight Arrow Connector 29"/>
          <p:cNvCxnSpPr>
            <a:endCxn id="632" idx="5"/>
          </p:cNvCxnSpPr>
          <p:nvPr/>
        </p:nvCxnSpPr>
        <p:spPr>
          <a:xfrm flipH="1" flipV="1">
            <a:off x="5230800" y="1891440"/>
            <a:ext cx="621000" cy="561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649" name="TextBox 31"/>
          <p:cNvSpPr/>
          <p:nvPr/>
        </p:nvSpPr>
        <p:spPr>
          <a:xfrm>
            <a:off x="1238040" y="3247920"/>
            <a:ext cx="9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RL &amp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S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32"/>
          <p:cNvSpPr/>
          <p:nvPr/>
        </p:nvSpPr>
        <p:spPr>
          <a:xfrm>
            <a:off x="854640" y="4856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33"/>
          <p:cNvSpPr/>
          <p:nvPr/>
        </p:nvSpPr>
        <p:spPr>
          <a:xfrm>
            <a:off x="2371320" y="16686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34"/>
          <p:cNvSpPr/>
          <p:nvPr/>
        </p:nvSpPr>
        <p:spPr>
          <a:xfrm>
            <a:off x="7480440" y="269892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cti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traight Connector 43"/>
          <p:cNvSpPr/>
          <p:nvPr/>
        </p:nvSpPr>
        <p:spPr>
          <a:xfrm>
            <a:off x="5594400" y="2093760"/>
            <a:ext cx="205740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Straight Arrow Connector 45"/>
          <p:cNvCxnSpPr/>
          <p:nvPr/>
        </p:nvCxnSpPr>
        <p:spPr>
          <a:xfrm flipH="1">
            <a:off x="6557760" y="3187800"/>
            <a:ext cx="854640" cy="434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55" name="Straight Connector 49"/>
          <p:cNvSpPr/>
          <p:nvPr/>
        </p:nvSpPr>
        <p:spPr>
          <a:xfrm flipH="1">
            <a:off x="7590960" y="3476520"/>
            <a:ext cx="709560" cy="15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ight Arrow 52"/>
          <p:cNvSpPr/>
          <p:nvPr/>
        </p:nvSpPr>
        <p:spPr>
          <a:xfrm>
            <a:off x="3079800" y="4403880"/>
            <a:ext cx="2851200" cy="23940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ight Arrow 53"/>
          <p:cNvSpPr/>
          <p:nvPr/>
        </p:nvSpPr>
        <p:spPr>
          <a:xfrm>
            <a:off x="2322360" y="5462640"/>
            <a:ext cx="4499280" cy="239760"/>
          </a:xfrm>
          <a:prstGeom prst="rightArrow">
            <a:avLst>
              <a:gd name="adj1" fmla="val 50000"/>
              <a:gd name="adj2" fmla="val 50216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Box 54"/>
          <p:cNvSpPr/>
          <p:nvPr/>
        </p:nvSpPr>
        <p:spPr>
          <a:xfrm>
            <a:off x="3577320" y="521028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rect 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55"/>
          <p:cNvSpPr/>
          <p:nvPr/>
        </p:nvSpPr>
        <p:spPr>
          <a:xfrm>
            <a:off x="3420000" y="408636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ctic Transf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Box 56"/>
          <p:cNvSpPr/>
          <p:nvPr/>
        </p:nvSpPr>
        <p:spPr>
          <a:xfrm>
            <a:off x="3344400" y="233856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 Transf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ight Arrow 57"/>
          <p:cNvSpPr/>
          <p:nvPr/>
        </p:nvSpPr>
        <p:spPr>
          <a:xfrm>
            <a:off x="3705120" y="2840040"/>
            <a:ext cx="1420920" cy="203040"/>
          </a:xfrm>
          <a:prstGeom prst="rightArrow">
            <a:avLst>
              <a:gd name="adj1" fmla="val 50000"/>
              <a:gd name="adj2" fmla="val 50413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olog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y didn’t slap the green witch. →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y DO:PAST not slap the green wit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y DO:PAST not slap the green wit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ia no dar:PAST una bofetada a la verde bruj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Re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ia no dar:PAST una bofetada a la bruja verd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ologica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ia no dió una bofetada a la bruja verd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4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E53E-F18F-4192-9DE3-44EED362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24"/>
          <p:cNvSpPr/>
          <p:nvPr/>
        </p:nvSpPr>
        <p:spPr>
          <a:xfrm>
            <a:off x="6485040" y="4908600"/>
            <a:ext cx="672840" cy="336600"/>
          </a:xfrm>
          <a:custGeom>
            <a:avLst/>
            <a:gdLst/>
            <a:ahLst/>
            <a:rect l="l" t="t" r="r" b="b"/>
            <a:pathLst>
              <a:path w="673768" h="336884">
                <a:moveTo>
                  <a:pt x="0" y="336884"/>
                </a:moveTo>
                <a:cubicBezTo>
                  <a:pt x="100263" y="168442"/>
                  <a:pt x="200526" y="0"/>
                  <a:pt x="312821" y="0"/>
                </a:cubicBezTo>
                <a:cubicBezTo>
                  <a:pt x="425116" y="0"/>
                  <a:pt x="549442" y="168442"/>
                  <a:pt x="673768" y="3368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Straight Arrow Connector 36"/>
          <p:cNvCxnSpPr/>
          <p:nvPr/>
        </p:nvCxnSpPr>
        <p:spPr>
          <a:xfrm flipH="1">
            <a:off x="1899360" y="3669840"/>
            <a:ext cx="2520" cy="63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Straight Arrow Connector 42"/>
          <p:cNvCxnSpPr/>
          <p:nvPr/>
        </p:nvCxnSpPr>
        <p:spPr>
          <a:xfrm flipH="1">
            <a:off x="2466720" y="3645000"/>
            <a:ext cx="1335600" cy="638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Straight Arrow Connector 44"/>
          <p:cNvCxnSpPr/>
          <p:nvPr/>
        </p:nvCxnSpPr>
        <p:spPr>
          <a:xfrm flipH="1">
            <a:off x="2490480" y="3657240"/>
            <a:ext cx="28944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9" name="Straight Arrow Connector 46"/>
          <p:cNvCxnSpPr/>
          <p:nvPr/>
        </p:nvCxnSpPr>
        <p:spPr>
          <a:xfrm flipH="1">
            <a:off x="4161600" y="3621240"/>
            <a:ext cx="242280" cy="67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0" name="Straight Arrow Connector 48"/>
          <p:cNvCxnSpPr/>
          <p:nvPr/>
        </p:nvCxnSpPr>
        <p:spPr>
          <a:xfrm>
            <a:off x="4426560" y="3645000"/>
            <a:ext cx="337320" cy="614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Straight Arrow Connector 50"/>
          <p:cNvCxnSpPr/>
          <p:nvPr/>
        </p:nvCxnSpPr>
        <p:spPr>
          <a:xfrm>
            <a:off x="4427640" y="3610080"/>
            <a:ext cx="126432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52"/>
          <p:cNvCxnSpPr/>
          <p:nvPr/>
        </p:nvCxnSpPr>
        <p:spPr>
          <a:xfrm>
            <a:off x="4824000" y="3620880"/>
            <a:ext cx="109620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Straight Arrow Connector 54"/>
          <p:cNvCxnSpPr/>
          <p:nvPr/>
        </p:nvCxnSpPr>
        <p:spPr>
          <a:xfrm>
            <a:off x="5473440" y="3633480"/>
            <a:ext cx="975240" cy="649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Straight Arrow Connector 56"/>
          <p:cNvCxnSpPr/>
          <p:nvPr/>
        </p:nvCxnSpPr>
        <p:spPr>
          <a:xfrm>
            <a:off x="6208200" y="3633480"/>
            <a:ext cx="902520" cy="662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Straight Arrow Connector 60"/>
          <p:cNvCxnSpPr/>
          <p:nvPr/>
        </p:nvCxnSpPr>
        <p:spPr>
          <a:xfrm flipH="1">
            <a:off x="3270960" y="3632760"/>
            <a:ext cx="1132920" cy="63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7-04-06T21:14:50Z</dcterms:modified>
  <cp:revision>500</cp:revision>
  <dc:subject/>
  <dc:title>Intelligent Information Retrieval and Web Search</dc:title>
</cp:coreProperties>
</file>