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D1F-1353-4ADF-AE44-722317121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CC7-389E-4748-A1C5-0DABA2F18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834-DD3C-4BA2-AE19-42D43358230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5A5-171D-4ECF-A856-F2C398F12D1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18A-1FDB-44C1-87CD-B18C8A56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CDC-765C-490F-9848-29D5D7A2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526-B759-432C-86E5-3E246983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052-AB79-40D5-8EEF-351A7C37B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2A48-20FF-4C17-9C3C-642F2E08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A40-2691-4ED7-BC6F-B98173C5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C7D0-0EEB-4632-BF19-7AACC76E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7421-58CF-436E-BDE6-924F1AE8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0674-7AD0-4ABE-AD01-B1CA6052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DC4D-F590-4CD0-9009-AA6D1F19B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E9C-C5C3-4F23-B69A-C8B3BBCC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DFE5-4E08-420B-8810-80FA27815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EF25-3032-4F1E-809C-262F62801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5E6-9C98-42B0-B0CB-F7EE90BF7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203-C538-4C66-AB9D-C642559D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3E3-3A01-403C-93F0-116CD3C53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503-DE60-4A29-BEE1-F0C27B14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409-AAD8-43AC-8505-716C21E24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086-890C-41EC-8899-218AE50C4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520-9CAD-403C-88FF-FBF07080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EA4-A81B-47C0-AC50-9FCA22B8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41C-C624-4E8B-BBB1-3C85A9622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D0B5-1DE2-4BAF-9E23-BBEB26DB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A1E-959C-453E-9042-8CFB2DCA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ECA1-6395-4332-A24D-2A6DB7759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A84-6771-4B12-9CFA-6B9403E0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6AC-FFBF-40AC-AD6B-2E726B7F5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78E-1D68-46C7-B9D2-CEBEB843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167-BA9F-4D3F-BEEA-798D8AEA9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DB7-87E9-46EF-A06E-995320A54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359-11CA-43A5-9BFD-9A45D2BFB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440-1220-4913-98B4-65029ABE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8C1-FAD2-495C-AD7B-DEBCB53A3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B3E-40A4-451C-A6EB-019FA0B8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73E-316A-4E2C-8B2E-92F3B11C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1B8-FA08-421D-AD20-83F8EA50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229-0C57-42D7-8705-CFD618133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F48-2C68-4A4D-BDBB-3A5C2FB2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D51-7718-46E1-9CCD-248DB794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681A-AE67-4EB0-9947-B0A7B15D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A2D8-1BDB-4915-9CAA-450A0821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57B-0AE3-404A-B57A-0C5B6438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9B0-5B50-4ED2-BFEF-C99C3A72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F9F6-8480-4E92-A927-743412B1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6F15-8BEB-483C-85A0-F42BC6CA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4DE7-6316-4D9F-83AB-36AD4437B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6AF-D6AB-40D6-B7A6-DB1953544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959-51A9-4644-9E33-B55F5E418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293-0372-4404-AF67-844D787F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157-5BBE-4305-9EFA-E60604CE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56F-66AE-433F-8EBB-858E693CC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B1F-A7E5-4528-9349-3A72F3DB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7B7-FD9F-490D-AAB4-09EDEC36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D3E-626A-42A0-99A8-6B8D729C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4E9-FB6F-44B8-9FC1-FBC3DD08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D8E-F6DC-49CB-A729-80C13AA05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8C6-7178-4740-9FDE-98665010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1B0-AF97-45A4-B050-668D6263A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C0E-7AFE-4D48-8E41-FA896C752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6EC-829D-4053-BDB0-2A4435D2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ABDB-B905-4CFD-B402-2AD2EBDF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2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6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100-868A-4467-B7C8-9ABC895D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92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0875-2C11-4504-86F5-B25FD308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18D-3535-4F99-A067-15B1D355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B2B-1B19-4449-9319-8799C6E0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5E6-D6D1-4E03-AAE4-DEB38D34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D63E-1142-4951-B695-1D3756AD0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F9DF-5F02-4A65-B7A5-7FECDB83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6465-197A-468C-80AF-5A4D9062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C299-39D3-457F-B71B-C4CE70EA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2C99C-B9D9-4F8B-BD97-FF7BE5A8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FF6217-087E-4BC6-B38C-01B81A5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7CC82-ADAB-4CF2-8C86-90A4D17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6DD77-0254-4F2C-AF6E-911927B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000D3-D18A-4965-A773-9FF2C01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E9B59-BD9E-445B-96AE-4CF7F1F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196DB-244D-4BE5-A443-FB8503A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A32B3-83B5-4A02-9853-BFA592D9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16298-18D6-4724-9EAD-8BAC1CB8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98F6E-1CFF-42B3-B454-417DE2F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974C-383C-4E45-9FAB-4091AC76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42EE1-9B47-4E17-B471-159566A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3CE653-6AA2-49B1-8E3A-E9EAED9F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6D1F8-6683-4972-A960-2D02FE0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73407-3011-483B-9553-61278D1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8C2B8-A91A-4B50-BB27-AA4E762C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8C1BF-A6AC-4501-B386-6E4B41A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2B2682-F203-487A-A889-2CDB8CE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A3BEB7-87E5-4AAA-889C-66341FB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928D7-CFE5-4D0E-BB30-71B7CE9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8F1CA-DF6D-4F9A-BE5C-F6F0F33C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89E9-A66D-4837-88CC-915DA63A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6C157-A9C6-4D1B-BB09-F43464E9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7799C9-9848-4B12-8F74-C6F3056B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A27D5-1B42-4A07-911A-10034AF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42F012-E926-4603-9176-908740F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8EA2BF-CE40-42E0-95E9-1502959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41CA83-9BEE-4387-B5D5-1A5ABBE1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00189-6015-4977-A6BF-18B9A205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E9ED79-5976-4E56-BC7F-CB612E0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185BB-A50C-4E82-BCCE-21E16C3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8B9B57-66ED-4DF8-8226-2B4496E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192D-3116-4D06-B495-0E1C49AD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B8F0C1-3B9C-4EB0-82CD-F90D6FA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809ABE-FF83-4943-8BBF-62A52F81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DD5F72-9405-4BEB-A0B9-D6E1128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7659D7-94DF-4D4D-9B73-DB9BBD95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99A7EC-0112-409D-8A86-B222D71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D8EB37-DF9F-4759-9302-33120E06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D2F07B-8D53-4DEB-884E-7481DE5F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8C36D8-ADD3-4F5E-83A7-74CE8FA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B5B2C3-8D43-4605-89E2-61383FD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3C00C8-FCC8-4212-A685-5FC8DD4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B791-1A3B-4A18-AC25-C3A9936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4F213-CFF2-4978-9842-A085D59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21DC81-04DA-476F-9F5D-DDC33B4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3D3B42-EC0F-4144-A4A6-6DAE33D8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4B840C-AF37-4024-B941-D70DA433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FC08E5-F3DB-4718-A595-4DD4626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637120-404A-4641-95CE-965B0F0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50944E-13BD-4712-866C-7E1B0832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2DD5E-01AF-451E-8CFC-CBA70B2C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DC68E-BFC1-443E-AF21-B6950AA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381A42-7764-44B1-A771-3AC8BA7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9905-8E50-4AFC-B4A5-8FD937A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B7DDC0-9FF5-43BA-877F-2D8514D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249821-E708-40AB-BF90-BB9F72D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A8AE4E-631C-4ABF-8F7E-B89E7B6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FFB993-6BFE-406E-B0D1-56045ED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7C0B1-17D8-47CA-AEC1-BA837913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F8DFC7-EE8D-4229-A291-581D88E0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213D7-CAB3-4A95-AA1A-20DE8238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DDDF86-C941-401D-BE54-F58E1AF5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F8CF71-867C-4733-BA6E-23A4E297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2C5E70-E0AE-47CD-9776-A276CF95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07BC6-043E-4861-978B-8C605AB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074C83-B647-4C95-AAC3-6D5E197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15B01D-E356-477A-BC5F-C6B78F59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52BD62-654A-4DD8-B046-A6D11FB5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3E97FB-9D69-4BBB-B3FD-8457DB2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95ED6E-A65D-4E1B-9268-C04745D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75931A-63AB-43E3-BBE5-4F47C19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99D9E3-68A7-4DAD-A3D2-C0D723EA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70AD15-80E5-46F5-AC54-29DEAF8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3C9A6C-AEF2-4210-8210-7E41F18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0AD12-FC16-42F6-A65A-CED47A0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2DE7C-71D1-478B-A70D-0351E3C0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E540-16A7-467F-BF50-53B05FE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D55A-6515-4C70-90AD-BF1E96D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3B84-E794-4D93-AC10-3B9CB7C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96A26-D132-4BB5-82E9-357CAE5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66E11-1ED8-452D-82CF-23ACE09A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2C30-51E7-4599-A664-92B1362B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3A9E8-0553-4507-B6C8-13A85A5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F9AFF-ED68-467E-B1E4-B287E350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AF878-F4FD-4322-9A39-197BBE0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18B0C-83FB-43E8-86A2-02C92FF1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BA58D-0DA2-447B-AADF-9AAD59B2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F700-6D08-4F80-9F35-474A87EF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32EB-2369-4F38-BE13-E89AC5C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4279-6CB5-4387-963F-7885BDA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82A24-7016-4D60-9411-5F5A50E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1909C-5B80-42AA-B536-3F1A783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2760F-A7BC-4847-ADB7-5A779AB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57825-3C3C-4CF7-8F83-8CF21BA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D7BC5-57E4-429D-BCBB-C412DEDA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05EB8-3963-4C61-93D1-7BE1D7FE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DCFA9-ABBF-4769-8E2E-2567412A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7A92F-5AFC-4972-A801-AEBBB1BD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ECA08-203E-48BC-8578-733D889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253B-03DB-4FE5-873E-9317781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36110-9378-4C1D-90D4-B505B11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DD48C-FD83-4293-95F1-2A2CE1C1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71CA4-B9EF-480B-9FC6-BB1E06A1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F48F6-37AC-4AC0-B4A5-2A55D10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7D09B-5C31-4AD7-A876-B5933C9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29F92-7808-4E63-B18E-CB105D9B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5A2D0-5685-45CF-8FC2-0CF6A5C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A8C25-62D4-43FB-9619-50C8CE6B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07F68-8227-4A6B-9D7F-5F4BE18C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B88D5-60A9-46B2-984F-6965B11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235C-8366-41A7-825A-E179771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AA39F-9244-48AB-8E35-A982644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44E86-26A7-4A13-B38F-9A479CA4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26711-3F60-46CF-9AFA-18D6AEBA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EB06D-4EFD-4C89-AA6C-DB4EC8F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0F64C-7B09-4708-B341-1C98589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E2629-0DC8-4A11-A789-0BC3D0C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E1C81-EF75-4876-AEE5-CD76C0D6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A2F83-75B6-4DB0-85F2-53C1CD3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90B16-72DB-4E5E-B062-D292F7F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F92F6-01D4-4095-B6A3-B9376127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EDFE-C93D-4E9C-89EE-B386104E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B1711-54D2-419E-877E-7D2E2D14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7383E-0CC6-42DE-A09A-35AC0319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7582E-1AE2-4515-8B62-E635777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3224E-D696-48B1-8BC8-D1C118D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64079-4221-4705-8E5B-2AD45FB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790EC-8D2D-4F04-B586-FAF09EC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C4273-0A4B-45F0-BB9A-D48FE08C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CAD26-2597-4023-B1E1-182261D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7D7B6-90B6-4E35-8DD5-2F9405C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77104-8254-4B5D-A954-C61D9C6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FE82-7B04-4DD5-A802-0280E750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648DE-9125-43A2-82F6-5434491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C8A8D-0F01-48A9-BC65-9CE578F7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A5251-2160-4EF8-8F66-0ABBE16C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28271-D9B0-4045-BE51-0E0C0B9C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A1B7F-0CE1-4D02-950C-7A288036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D334E-344B-4B77-8641-51B8B4AE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02C7E-BE7F-4A1C-965B-2EBF460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FA89D-3185-44D8-964A-C4AFCB2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09EFE-5C72-43B8-A96F-A963B91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329AE-277A-4A7C-AF32-BEFA5711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C549-E149-42C1-A75B-8E5CF7F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BE27F-86A5-4092-BEC5-FEDCEB9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8A76C-1E89-4324-A843-C688A9AD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45619-78BE-432A-836D-3AE8E18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F8A5E-F09C-43C5-9A7C-0903DF7D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5CDE6-B570-4F6D-9C82-613A521A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075F4-5947-49F0-B7D3-96115E74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7B300-39A0-424C-BD5D-A589588D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93F77-5BAF-4A85-BDA2-971D63BA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66C83-7A59-43AB-B216-E06FA9B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8A300-F1FD-46A1-B66F-A9958DE0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AA06-57DB-4B7F-8DE5-5F840AA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3C58B-4F95-446F-90AC-B17E81A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50656-E529-40C9-847E-3B41D2D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E5967-1E60-40B5-A8CC-3B4F9B5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BE289-AAFB-4626-9A97-7D38046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6503F9-A0DD-46D8-B4FC-FAC06D2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AABDA-DF10-46D8-9A9F-9148FF92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12361-8194-43F1-891C-D90492FC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8DEBE-C43D-4E35-BF74-0ADD6FAA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15EF39-9B76-455E-9DA3-35D5912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A2E41-6397-488F-8D58-3F99CC4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EBF-979E-458D-8A89-A19C3D85D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42C9-2FAE-4235-90F9-9FAB8851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FA7-EE07-41C9-A642-041401C4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08C-1F0C-4590-91DA-31698B48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234-D156-438F-9179-09FCCD74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2EE-D545-4D82-89AD-2A61AE38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D32-E00D-4FB0-A7A5-9AFECAC5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F74-1D7C-4D94-B86C-A012BAD9E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72E-FCBE-41BA-BCAD-F7DFB220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CBA-7AE8-457C-902D-2D499EB6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1EEC-F561-491B-80A8-6983EF55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46E-B378-495E-A1E3-B7947E11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1965-0347-4774-A579-A7FB133B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30EC-FCB3-4B76-B35C-53D572A7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CF8-8258-4DE7-9A36-429279AC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793B-664B-4CE0-BCF1-D1C1160706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59C-3A55-4DB1-8EA7-10EEFF07FD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achine Transla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lexical reordering does not adequately handle more dramatic reordering such as that required to translate from an SVO to an SOV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yntactic transfer rules that map parse tree for one language into one for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Spanish: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P → Adj Nom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NP → Nom ADJ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Japanese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P → V NP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VP → NP V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P → P NP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PP → NP P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299D-B279-4D5F-AE72-A291644C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antic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371600"/>
            <a:ext cx="7880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fer requires semantic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roles can determine how to properly express information in an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inese, PPs that express a goal, destination, or benefactor occu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verb but those expressing  a recipient occu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lish to Chine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P → V PP[+benefactor]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VP → PP[+benefactor] V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C18-D6D8-4A91-8F16-23256D2E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encoding comprehensive bilingual lexicons and transfer rules is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T acquires knowledge needed for translation from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arallel corp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i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ontains the same set of documents in two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nadian Hansards (parliamentary proceedings in French and English) is a well-known parallel corp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lign the sentences in the corpus based on simple methods that use coarse cues like sentence length to give bilingual sentence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D6B-79F1-4B75-A08E-B4BBF0C0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icking a Good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3712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translation should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ithfu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rrectly convey the information and tone of the original sourc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translation should also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lu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grammatically well structured and readable in the targe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obj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FC24-2FA0-4CE8-B873-B371CB04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1297080" y="5267160"/>
                <a:ext cx="6194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Target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faithfulnes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luenc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isy Channel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685800" y="137160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ogy to information-theoretic model used to decode messages transmitted via a communication channel that adds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source sentence was generated by a “noisy” transformation of some target language sentence and then use Bayesian analysis to recover  the most likely target sentence that gener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781-B860-4579-A2BE-D1F9C37D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Box 5"/>
          <p:cNvSpPr/>
          <p:nvPr/>
        </p:nvSpPr>
        <p:spPr>
          <a:xfrm>
            <a:off x="653760" y="4908600"/>
            <a:ext cx="8169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late foreign language sentenc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to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nglish sentenc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Ȇ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that maximizes P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Analysis of Noisy Chann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AEF-14FB-4583-B699-0BDDF0FE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81160" y="1771560"/>
                <a:ext cx="3233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nglish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3"/>
              <p:cNvSpPr txBox="1"/>
              <p:nvPr/>
            </p:nvSpPr>
            <p:spPr>
              <a:xfrm>
                <a:off x="1467000" y="2536920"/>
                <a:ext cx="37400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|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97" name="TextBox 6"/>
          <p:cNvSpPr/>
          <p:nvPr/>
        </p:nvSpPr>
        <p:spPr>
          <a:xfrm>
            <a:off x="1677600" y="466884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lation Model    Language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eft Brace 9"/>
          <p:cNvSpPr/>
          <p:nvPr/>
        </p:nvSpPr>
        <p:spPr>
          <a:xfrm rot="16200000">
            <a:off x="3504960" y="3612960"/>
            <a:ext cx="372960" cy="1182600"/>
          </a:xfrm>
          <a:custGeom>
            <a:avLst/>
            <a:gdLst>
              <a:gd name="textAreaLeft" fmla="*/ 238320 w 372960"/>
              <a:gd name="textAreaRight" fmla="*/ 373320 w 372960"/>
              <a:gd name="textAreaTop" fmla="*/ 9360 h 1182600"/>
              <a:gd name="textAreaBottom" fmla="*/ 1173240 h 11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7"/>
                </a:cubicBezTo>
                <a:lnTo>
                  <a:pt x="10800" y="10233"/>
                </a:lnTo>
                <a:cubicBezTo>
                  <a:pt x="10800" y="10517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7"/>
                </a:cubicBezTo>
                <a:lnTo>
                  <a:pt x="10800" y="21033"/>
                </a:lnTo>
                <a:cubicBezTo>
                  <a:pt x="10800" y="213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eft Brace 10"/>
          <p:cNvSpPr/>
          <p:nvPr/>
        </p:nvSpPr>
        <p:spPr>
          <a:xfrm rot="16200000">
            <a:off x="4544280" y="3853440"/>
            <a:ext cx="372960" cy="717840"/>
          </a:xfrm>
          <a:custGeom>
            <a:avLst/>
            <a:gdLst>
              <a:gd name="textAreaLeft" fmla="*/ 238320 w 372960"/>
              <a:gd name="textAreaRight" fmla="*/ 373320 w 372960"/>
              <a:gd name="textAreaTop" fmla="*/ 9720 h 717840"/>
              <a:gd name="textAreaBottom" fmla="*/ 708120 h 7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12"/>
          <p:cNvSpPr/>
          <p:nvPr/>
        </p:nvSpPr>
        <p:spPr>
          <a:xfrm flipH="1">
            <a:off x="2935080" y="4390920"/>
            <a:ext cx="7556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14"/>
          <p:cNvSpPr/>
          <p:nvPr/>
        </p:nvSpPr>
        <p:spPr>
          <a:xfrm>
            <a:off x="4730040" y="4398840"/>
            <a:ext cx="51444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Box 15"/>
          <p:cNvSpPr/>
          <p:nvPr/>
        </p:nvSpPr>
        <p:spPr>
          <a:xfrm>
            <a:off x="1157760" y="5340240"/>
            <a:ext cx="63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o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termines the most proba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3344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 language model for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rained on a large, unsupervised mono-lingual corpus for the target 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use a more sophisticated PCFG language model to capture long-distance dep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abytes of web data have been used to build a large 5-gram model of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71E0-F0A1-4752-8C4E-B20CE07B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constructing phrase alignments is difficult, so rely on first constructing word al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earn to align from supervised word alignments, but human-aligned bitexts are rare and expensive to constr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use an unsupervised EM-based approach to compute a word alignment from unannotated parallel corp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9B1-5787-4E04-A1BF-0B1B6E6F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ne to Many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implify the problem, typically assume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gns to 1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ut assume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generate more than one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d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generated by the NULL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alignment can be specified by a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ing, for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dex of the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generated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8F0-277D-4BE9-83E8-0FB71DA9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4"/>
          <p:cNvSpPr/>
          <p:nvPr/>
        </p:nvSpPr>
        <p:spPr>
          <a:xfrm>
            <a:off x="701640" y="5138640"/>
            <a:ext cx="744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traight Connector 6"/>
          <p:cNvSpPr/>
          <p:nvPr/>
        </p:nvSpPr>
        <p:spPr>
          <a:xfrm flipH="1">
            <a:off x="1852200" y="55832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traight Connector 7"/>
          <p:cNvSpPr/>
          <p:nvPr/>
        </p:nvSpPr>
        <p:spPr>
          <a:xfrm flipH="1">
            <a:off x="2630160" y="556740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traight Connector 8"/>
          <p:cNvSpPr/>
          <p:nvPr/>
        </p:nvSpPr>
        <p:spPr>
          <a:xfrm flipH="1">
            <a:off x="3079800" y="5551560"/>
            <a:ext cx="665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traight Connector 10"/>
          <p:cNvSpPr/>
          <p:nvPr/>
        </p:nvSpPr>
        <p:spPr>
          <a:xfrm flipH="1">
            <a:off x="3777840" y="549900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3"/>
          <p:cNvSpPr/>
          <p:nvPr/>
        </p:nvSpPr>
        <p:spPr>
          <a:xfrm>
            <a:off x="3813120" y="5535720"/>
            <a:ext cx="72252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8"/>
          <p:cNvSpPr/>
          <p:nvPr/>
        </p:nvSpPr>
        <p:spPr>
          <a:xfrm>
            <a:off x="4559400" y="557064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21"/>
          <p:cNvSpPr/>
          <p:nvPr/>
        </p:nvSpPr>
        <p:spPr>
          <a:xfrm>
            <a:off x="5208480" y="554688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23"/>
          <p:cNvSpPr/>
          <p:nvPr/>
        </p:nvSpPr>
        <p:spPr>
          <a:xfrm>
            <a:off x="6063480" y="5546880"/>
            <a:ext cx="276120" cy="66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16"/>
          <p:cNvSpPr/>
          <p:nvPr/>
        </p:nvSpPr>
        <p:spPr>
          <a:xfrm>
            <a:off x="1130400" y="5583240"/>
            <a:ext cx="442728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7"/>
          <p:cNvSpPr/>
          <p:nvPr/>
        </p:nvSpPr>
        <p:spPr>
          <a:xfrm>
            <a:off x="956880" y="498168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18"/>
          <p:cNvSpPr/>
          <p:nvPr/>
        </p:nvSpPr>
        <p:spPr>
          <a:xfrm>
            <a:off x="1543320" y="631188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2         3      3               3           0    4       6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20480" y="1371600"/>
            <a:ext cx="8218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odel proposed in seminal paper by Br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1993 as part of CANDIDE, the first complete SM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following simple generative model of produc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length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ntence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a 1 to many alignmen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each position 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generate a wor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from the aligned word in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793-6227-4607-B67C-B2BD38B7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nslate one natural language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B1C-26D9-4F44-B650-A674D001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1069560" y="2924280"/>
            <a:ext cx="682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own Arrow 5"/>
          <p:cNvSpPr/>
          <p:nvPr/>
        </p:nvSpPr>
        <p:spPr>
          <a:xfrm>
            <a:off x="3778200" y="3500280"/>
            <a:ext cx="349200" cy="40968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63"/>
          <p:cNvSpPr/>
          <p:nvPr/>
        </p:nvSpPr>
        <p:spPr>
          <a:xfrm>
            <a:off x="6861600" y="31590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Box 15"/>
          <p:cNvSpPr/>
          <p:nvPr/>
        </p:nvSpPr>
        <p:spPr>
          <a:xfrm>
            <a:off x="1517760" y="3544920"/>
            <a:ext cx="59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2        3      3                3         0   4       6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IBM Model 1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910560" y="3633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A13-6411-4445-81DF-C4564253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"/>
          <p:cNvSpPr/>
          <p:nvPr/>
        </p:nvSpPr>
        <p:spPr>
          <a:xfrm>
            <a:off x="660600" y="2370240"/>
            <a:ext cx="60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"/>
          <p:cNvSpPr/>
          <p:nvPr/>
        </p:nvSpPr>
        <p:spPr>
          <a:xfrm flipH="1">
            <a:off x="1828440" y="281628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7"/>
          <p:cNvSpPr/>
          <p:nvPr/>
        </p:nvSpPr>
        <p:spPr>
          <a:xfrm flipH="1">
            <a:off x="2606400" y="28004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8"/>
          <p:cNvSpPr/>
          <p:nvPr/>
        </p:nvSpPr>
        <p:spPr>
          <a:xfrm flipH="1">
            <a:off x="3055680" y="2784600"/>
            <a:ext cx="66492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10"/>
          <p:cNvSpPr/>
          <p:nvPr/>
        </p:nvSpPr>
        <p:spPr>
          <a:xfrm flipH="1">
            <a:off x="3754080" y="273204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traight Connector 13"/>
          <p:cNvSpPr/>
          <p:nvPr/>
        </p:nvSpPr>
        <p:spPr>
          <a:xfrm>
            <a:off x="3789360" y="276876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traight Connector 18"/>
          <p:cNvSpPr/>
          <p:nvPr/>
        </p:nvSpPr>
        <p:spPr>
          <a:xfrm>
            <a:off x="4535640" y="280368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21"/>
          <p:cNvSpPr/>
          <p:nvPr/>
        </p:nvSpPr>
        <p:spPr>
          <a:xfrm>
            <a:off x="5160960" y="275436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23"/>
          <p:cNvSpPr/>
          <p:nvPr/>
        </p:nvSpPr>
        <p:spPr>
          <a:xfrm>
            <a:off x="6039720" y="2779560"/>
            <a:ext cx="2761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traight Connector 13"/>
          <p:cNvSpPr/>
          <p:nvPr/>
        </p:nvSpPr>
        <p:spPr>
          <a:xfrm>
            <a:off x="1106640" y="2814480"/>
            <a:ext cx="4427280" cy="59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14"/>
          <p:cNvSpPr/>
          <p:nvPr/>
        </p:nvSpPr>
        <p:spPr>
          <a:xfrm>
            <a:off x="933120" y="221472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          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077120" y="31766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44"/>
          <p:cNvSpPr/>
          <p:nvPr/>
        </p:nvSpPr>
        <p:spPr>
          <a:xfrm>
            <a:off x="2157120" y="3176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46"/>
          <p:cNvGrpSpPr/>
          <p:nvPr/>
        </p:nvGrpSpPr>
        <p:grpSpPr>
          <a:xfrm>
            <a:off x="1119240" y="3225960"/>
            <a:ext cx="6881760" cy="407880"/>
            <a:chOff x="1119240" y="3225960"/>
            <a:chExt cx="6881760" cy="407880"/>
          </a:xfrm>
        </p:grpSpPr>
        <p:sp>
          <p:nvSpPr>
            <p:cNvPr id="745" name="Rectangle 47"/>
            <p:cNvSpPr/>
            <p:nvPr/>
          </p:nvSpPr>
          <p:spPr>
            <a:xfrm>
              <a:off x="1119240" y="3249000"/>
              <a:ext cx="6881760" cy="371880"/>
            </a:xfrm>
            <a:prstGeom prst="rect">
              <a:avLst/>
            </a:pr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Straight Connector 48"/>
            <p:cNvSpPr/>
            <p:nvPr/>
          </p:nvSpPr>
          <p:spPr>
            <a:xfrm flipH="1">
              <a:off x="220104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Straight Connector 49"/>
            <p:cNvSpPr/>
            <p:nvPr/>
          </p:nvSpPr>
          <p:spPr>
            <a:xfrm flipH="1">
              <a:off x="2694240" y="323784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Straight Connector 50"/>
            <p:cNvSpPr/>
            <p:nvPr/>
          </p:nvSpPr>
          <p:spPr>
            <a:xfrm flipH="1">
              <a:off x="3247920" y="326196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Straight Connector 51"/>
            <p:cNvSpPr/>
            <p:nvPr/>
          </p:nvSpPr>
          <p:spPr>
            <a:xfrm flipH="1">
              <a:off x="387360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Straight Connector 52"/>
            <p:cNvSpPr/>
            <p:nvPr/>
          </p:nvSpPr>
          <p:spPr>
            <a:xfrm flipH="1">
              <a:off x="5329440" y="324972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Straight Connector 53"/>
            <p:cNvSpPr/>
            <p:nvPr/>
          </p:nvSpPr>
          <p:spPr>
            <a:xfrm flipH="1">
              <a:off x="5569920" y="3249720"/>
              <a:ext cx="1440" cy="348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Straight Connector 54"/>
            <p:cNvSpPr/>
            <p:nvPr/>
          </p:nvSpPr>
          <p:spPr>
            <a:xfrm flipH="1">
              <a:off x="5942880" y="324972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Straight Connector 55"/>
            <p:cNvSpPr/>
            <p:nvPr/>
          </p:nvSpPr>
          <p:spPr>
            <a:xfrm flipH="1">
              <a:off x="6893640" y="3225960"/>
              <a:ext cx="1440" cy="384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TextBox 56"/>
          <p:cNvSpPr/>
          <p:nvPr/>
        </p:nvSpPr>
        <p:spPr>
          <a:xfrm>
            <a:off x="2659320" y="3173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57"/>
          <p:cNvSpPr/>
          <p:nvPr/>
        </p:nvSpPr>
        <p:spPr>
          <a:xfrm>
            <a:off x="3173400" y="31813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Box 58"/>
          <p:cNvSpPr/>
          <p:nvPr/>
        </p:nvSpPr>
        <p:spPr>
          <a:xfrm>
            <a:off x="3822480" y="31892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59"/>
          <p:cNvSpPr/>
          <p:nvPr/>
        </p:nvSpPr>
        <p:spPr>
          <a:xfrm>
            <a:off x="5244840" y="317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60"/>
          <p:cNvSpPr/>
          <p:nvPr/>
        </p:nvSpPr>
        <p:spPr>
          <a:xfrm>
            <a:off x="5528880" y="31813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5901840" y="31654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P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 in 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3712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ome length distribution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ll alignments are equally likely. Since there ar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align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5F4-9AC3-4CB0-82AF-FD52F15D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2"/>
              <p:cNvSpPr txBox="1"/>
              <p:nvPr/>
            </p:nvSpPr>
            <p:spPr>
              <a:xfrm>
                <a:off x="3138480" y="2714760"/>
                <a:ext cx="27795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Content Placeholder 2"/>
          <p:cNvSpPr/>
          <p:nvPr/>
        </p:nvSpPr>
        <p:spPr>
          <a:xfrm>
            <a:off x="717480" y="3652920"/>
            <a:ext cx="7772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transl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fo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3290760" y="4272120"/>
                <a:ext cx="35370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6" name="Content Placeholder 2"/>
          <p:cNvSpPr/>
          <p:nvPr/>
        </p:nvSpPr>
        <p:spPr>
          <a:xfrm>
            <a:off x="601560" y="5213520"/>
            <a:ext cx="8145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mming over all alignments: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4"/>
              <p:cNvSpPr txBox="1"/>
              <p:nvPr/>
            </p:nvSpPr>
            <p:spPr>
              <a:xfrm>
                <a:off x="673200" y="5691240"/>
                <a:ext cx="7797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</m:e>
                    </m:nary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 for IBM Model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85800" y="13716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find the most probable alignment given a parameterized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60BC-F1D9-4A4A-A1FA-932226E1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"/>
              <p:cNvSpPr txBox="1"/>
              <p:nvPr/>
            </p:nvSpPr>
            <p:spPr>
              <a:xfrm>
                <a:off x="2379600" y="2433600"/>
                <a:ext cx="34066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2671920" y="2995560"/>
                <a:ext cx="43606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4"/>
              <p:cNvSpPr txBox="1"/>
              <p:nvPr/>
            </p:nvSpPr>
            <p:spPr>
              <a:xfrm>
                <a:off x="2676600" y="3954600"/>
                <a:ext cx="31399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TextBox 8"/>
          <p:cNvSpPr/>
          <p:nvPr/>
        </p:nvSpPr>
        <p:spPr>
          <a:xfrm>
            <a:off x="734760" y="4884840"/>
            <a:ext cx="73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ranslation choice for each 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dependent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duct is maximized by maximizing each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6"/>
              <p:cNvSpPr txBox="1"/>
              <p:nvPr/>
            </p:nvSpPr>
            <p:spPr>
              <a:xfrm>
                <a:off x="1757520" y="5803920"/>
                <a:ext cx="4816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lim>
                          </m:limLow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63800" y="4600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-Based 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Model 1 assumes all alignments are equally likely and does not take into accoun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c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wo words appear together in one language, then their translations are likely to appear together in the result in the other langu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model of word alignment based on an HMM mod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unt for locality by making longer jumps in switching from translating one word to another less lik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e hidden state is the specific word occur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ly being translated (i.e.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, one for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e observations from these hidden states are the possible trans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consists of moving to the init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d to be translated, generating a translation, moving to the next word to be translated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6"/>
          <p:cNvSpPr/>
          <p:nvPr/>
        </p:nvSpPr>
        <p:spPr>
          <a:xfrm>
            <a:off x="1085760" y="184140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7"/>
          <p:cNvSpPr/>
          <p:nvPr/>
        </p:nvSpPr>
        <p:spPr>
          <a:xfrm>
            <a:off x="2036880" y="2425680"/>
            <a:ext cx="88920" cy="646200"/>
          </a:xfrm>
          <a:prstGeom prst="downArrow">
            <a:avLst>
              <a:gd name="adj1" fmla="val 50000"/>
              <a:gd name="adj2" fmla="val 18168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14"/>
          <p:cNvSpPr/>
          <p:nvPr/>
        </p:nvSpPr>
        <p:spPr>
          <a:xfrm>
            <a:off x="2087640" y="166068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4"/>
          <p:cNvSpPr/>
          <p:nvPr/>
        </p:nvSpPr>
        <p:spPr>
          <a:xfrm>
            <a:off x="3013200" y="164772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7"/>
          <p:cNvSpPr/>
          <p:nvPr/>
        </p:nvSpPr>
        <p:spPr>
          <a:xfrm flipH="1">
            <a:off x="3597120" y="2378160"/>
            <a:ext cx="206640" cy="682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3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6"/>
          <p:cNvSpPr/>
          <p:nvPr/>
        </p:nvSpPr>
        <p:spPr>
          <a:xfrm>
            <a:off x="3863880" y="2389320"/>
            <a:ext cx="306360" cy="671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>
            <a:off x="3863880" y="2389320"/>
            <a:ext cx="116064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EF1E-0CAF-4D45-BD26-47F2E9D2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mbiguity Resolution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 Required for Transl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and semantic ambiguities must be properly resolved for correct 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lays the guitar.”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“John toca la guitarra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ohn plays soccer.” → “John juega el fútbol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ocryphal story is that an early MT system gave the following results when translating from English to Russian and then back to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spirit is willing but the flesh is weak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“The liquor is good but the meat is spoil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ut of sight, out of mind.”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“Invisible idiot.”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14"/>
          <p:cNvSpPr/>
          <p:nvPr/>
        </p:nvSpPr>
        <p:spPr>
          <a:xfrm>
            <a:off x="3816360" y="1623960"/>
            <a:ext cx="878040" cy="277920"/>
          </a:xfrm>
          <a:custGeom>
            <a:avLst/>
            <a:gdLst>
              <a:gd name="textAreaLeft" fmla="*/ 153720 w 878040"/>
              <a:gd name="textAreaRight" fmla="*/ 636840 w 878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4473720" y="2389320"/>
            <a:ext cx="1576080" cy="696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3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4387680" y="1673280"/>
            <a:ext cx="281160" cy="277920"/>
          </a:xfrm>
          <a:custGeom>
            <a:avLst/>
            <a:gdLst>
              <a:gd name="textAreaLeft" fmla="*/ 48960 w 281160"/>
              <a:gd name="textAreaRight" fmla="*/ 203760 w 28116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5"/>
          <p:cNvSpPr/>
          <p:nvPr/>
        </p:nvSpPr>
        <p:spPr>
          <a:xfrm>
            <a:off x="4510080" y="2389320"/>
            <a:ext cx="180828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4351320" y="1503360"/>
            <a:ext cx="2182680" cy="387360"/>
          </a:xfrm>
          <a:custGeom>
            <a:avLst/>
            <a:gdLst>
              <a:gd name="textAreaLeft" fmla="*/ 381960 w 2182680"/>
              <a:gd name="textAreaRight" fmla="*/ 1582560 w 2182680"/>
              <a:gd name="textAreaTop" fmla="*/ 51840 h 387360"/>
              <a:gd name="textAreaBottom" fmla="*/ 335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5"/>
          <p:cNvSpPr/>
          <p:nvPr/>
        </p:nvSpPr>
        <p:spPr>
          <a:xfrm>
            <a:off x="6180120" y="2376360"/>
            <a:ext cx="857160" cy="709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Box 63"/>
          <p:cNvSpPr/>
          <p:nvPr/>
        </p:nvSpPr>
        <p:spPr>
          <a:xfrm>
            <a:off x="7417440" y="28893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4"/>
          <p:cNvSpPr/>
          <p:nvPr/>
        </p:nvSpPr>
        <p:spPr>
          <a:xfrm flipH="1">
            <a:off x="5033880" y="1528920"/>
            <a:ext cx="1254240" cy="411120"/>
          </a:xfrm>
          <a:custGeom>
            <a:avLst/>
            <a:gdLst>
              <a:gd name="textAreaLeft" fmla="*/ 219600 w 1254240"/>
              <a:gd name="textAreaRight" fmla="*/ 909720 w 125424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"/>
          <p:cNvSpPr/>
          <p:nvPr/>
        </p:nvSpPr>
        <p:spPr>
          <a:xfrm>
            <a:off x="5241960" y="2363760"/>
            <a:ext cx="2625840" cy="711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MM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2" name="TextBox 4"/>
          <p:cNvSpPr/>
          <p:nvPr/>
        </p:nvSpPr>
        <p:spPr>
          <a:xfrm>
            <a:off x="1409400" y="1990800"/>
            <a:ext cx="53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63"/>
          <p:cNvSpPr/>
          <p:nvPr/>
        </p:nvSpPr>
        <p:spPr>
          <a:xfrm>
            <a:off x="7417440" y="28893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35"/>
          <p:cNvSpPr/>
          <p:nvPr/>
        </p:nvSpPr>
        <p:spPr>
          <a:xfrm>
            <a:off x="1461240" y="29084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Box 44"/>
          <p:cNvSpPr/>
          <p:nvPr/>
        </p:nvSpPr>
        <p:spPr>
          <a:xfrm>
            <a:off x="2641320" y="2895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6"/>
          <p:cNvSpPr/>
          <p:nvPr/>
        </p:nvSpPr>
        <p:spPr>
          <a:xfrm>
            <a:off x="3242880" y="28908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57"/>
          <p:cNvSpPr/>
          <p:nvPr/>
        </p:nvSpPr>
        <p:spPr>
          <a:xfrm>
            <a:off x="3814920" y="288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58"/>
          <p:cNvSpPr/>
          <p:nvPr/>
        </p:nvSpPr>
        <p:spPr>
          <a:xfrm>
            <a:off x="4451040" y="28828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59"/>
          <p:cNvSpPr/>
          <p:nvPr/>
        </p:nvSpPr>
        <p:spPr>
          <a:xfrm>
            <a:off x="5887800" y="286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6149520" y="28638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Box 62"/>
          <p:cNvSpPr/>
          <p:nvPr/>
        </p:nvSpPr>
        <p:spPr>
          <a:xfrm>
            <a:off x="6507360" y="2871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17"/>
          <p:cNvSpPr/>
          <p:nvPr/>
        </p:nvSpPr>
        <p:spPr>
          <a:xfrm>
            <a:off x="1507320" y="181116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MM Parame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 and observation parameters of states for HMMs for all possible source sentences are “tied” to reduce the number of free parameters that have to be estim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for all states representing an occurrence of the same English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transi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 same for all transitions that involve the sam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mp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d dire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P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 in the HMM Mode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85800" y="15426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observation and state-transition probabilities,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observation likelihood) can be computed using the standar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rward 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HM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357-0FD0-40E8-BD60-EE8A7E5B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 for the HMM Model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85800" y="1579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tandar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terbi 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fficiently compute the most likely alignment (i.e. most likely state sequenc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5D6-C3FF-4407-83F8-6549C050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Word Alignment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IBM model 1 and HMM model can be trained on a parallel corpus to set the required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(hand-aligned) training data, parameters can be estimated directly using frequency 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nsupervised training data, EM can be used to estimate parameters, e.g. Baum-Welch for the HMM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7A2-3344-4B10-950D-641EE4B32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ketch of EM Algorithm fo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Alignment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257040" y="1682640"/>
            <a:ext cx="888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set model parameter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king sure they represent legal distribution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onverge (i.e. parameters no longer change) d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 Compute the probability of all possible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s of the training data using the curren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 Use these alignment probability estimates t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estimate values for all of the parameter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1060920" y="54640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te: Use dynamic programming (as in Baum-Welc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o avoid explicitly enumerating all possible align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 Align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mapping between words in one language and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9CCB-279C-40E2-AE53-BF169672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4"/>
          <p:cNvSpPr/>
          <p:nvPr/>
        </p:nvSpPr>
        <p:spPr>
          <a:xfrm>
            <a:off x="1069560" y="2924280"/>
            <a:ext cx="682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a la bruja ver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traight Connector 6"/>
          <p:cNvSpPr/>
          <p:nvPr/>
        </p:nvSpPr>
        <p:spPr>
          <a:xfrm flipH="1">
            <a:off x="1660680" y="3344760"/>
            <a:ext cx="204480" cy="60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traight Connector 7"/>
          <p:cNvSpPr/>
          <p:nvPr/>
        </p:nvSpPr>
        <p:spPr>
          <a:xfrm flipH="1">
            <a:off x="2437920" y="332892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traight Connector 8"/>
          <p:cNvSpPr/>
          <p:nvPr/>
        </p:nvSpPr>
        <p:spPr>
          <a:xfrm flipH="1">
            <a:off x="2887560" y="3313080"/>
            <a:ext cx="665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traight Connector 10"/>
          <p:cNvSpPr/>
          <p:nvPr/>
        </p:nvSpPr>
        <p:spPr>
          <a:xfrm flipH="1">
            <a:off x="3586320" y="3260880"/>
            <a:ext cx="108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traight Connector 13"/>
          <p:cNvSpPr/>
          <p:nvPr/>
        </p:nvSpPr>
        <p:spPr>
          <a:xfrm>
            <a:off x="3621240" y="329724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traight Connector 17"/>
          <p:cNvSpPr/>
          <p:nvPr/>
        </p:nvSpPr>
        <p:spPr>
          <a:xfrm>
            <a:off x="3597120" y="3284640"/>
            <a:ext cx="1744920" cy="67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traight Connector 18"/>
          <p:cNvSpPr/>
          <p:nvPr/>
        </p:nvSpPr>
        <p:spPr>
          <a:xfrm>
            <a:off x="4367160" y="3332160"/>
            <a:ext cx="1287360" cy="61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traight Connector 21"/>
          <p:cNvSpPr/>
          <p:nvPr/>
        </p:nvSpPr>
        <p:spPr>
          <a:xfrm>
            <a:off x="5016600" y="3308400"/>
            <a:ext cx="231120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traight Connector 23"/>
          <p:cNvSpPr/>
          <p:nvPr/>
        </p:nvSpPr>
        <p:spPr>
          <a:xfrm>
            <a:off x="5871600" y="3308400"/>
            <a:ext cx="2761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EM Trace for Alignment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IBM Model 1 with no NULL Generation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2930040" y="151452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 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a ver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5082480" y="1484280"/>
            <a:ext cx="120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c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"/>
          <p:cNvSpPr/>
          <p:nvPr/>
        </p:nvSpPr>
        <p:spPr>
          <a:xfrm>
            <a:off x="1469520" y="147636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rp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086280" y="2630520"/>
          <a:ext cx="3132000" cy="119520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  <a:gridCol w="104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02" name="Group 45"/>
          <p:cNvGrpSpPr/>
          <p:nvPr/>
        </p:nvGrpSpPr>
        <p:grpSpPr>
          <a:xfrm>
            <a:off x="2287080" y="2251080"/>
            <a:ext cx="3508200" cy="1564200"/>
            <a:chOff x="2287080" y="2251080"/>
            <a:chExt cx="3508200" cy="1564200"/>
          </a:xfrm>
        </p:grpSpPr>
        <p:sp>
          <p:nvSpPr>
            <p:cNvPr id="903" name="Text Box 30"/>
            <p:cNvSpPr/>
            <p:nvPr/>
          </p:nvSpPr>
          <p:spPr>
            <a:xfrm>
              <a:off x="2287080" y="259884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2291400" y="30067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32"/>
            <p:cNvSpPr/>
            <p:nvPr/>
          </p:nvSpPr>
          <p:spPr>
            <a:xfrm>
              <a:off x="2517120" y="34164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33"/>
            <p:cNvSpPr/>
            <p:nvPr/>
          </p:nvSpPr>
          <p:spPr>
            <a:xfrm>
              <a:off x="3188520" y="225108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Text Box 44"/>
          <p:cNvSpPr/>
          <p:nvPr/>
        </p:nvSpPr>
        <p:spPr>
          <a:xfrm>
            <a:off x="462600" y="293364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46"/>
          <p:cNvSpPr/>
          <p:nvPr/>
        </p:nvSpPr>
        <p:spPr>
          <a:xfrm>
            <a:off x="6336720" y="2855880"/>
            <a:ext cx="22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 uni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65"/>
          <p:cNvGrpSpPr/>
          <p:nvPr/>
        </p:nvGrpSpPr>
        <p:grpSpPr>
          <a:xfrm>
            <a:off x="2410920" y="4552920"/>
            <a:ext cx="1476000" cy="703800"/>
            <a:chOff x="2410920" y="4552920"/>
            <a:chExt cx="1476000" cy="703800"/>
          </a:xfrm>
        </p:grpSpPr>
        <p:sp>
          <p:nvSpPr>
            <p:cNvPr id="910" name="Text Box 47"/>
            <p:cNvSpPr/>
            <p:nvPr/>
          </p:nvSpPr>
          <p:spPr>
            <a:xfrm>
              <a:off x="2410920" y="455292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1"/>
            <p:cNvSpPr/>
            <p:nvPr/>
          </p:nvSpPr>
          <p:spPr>
            <a:xfrm>
              <a:off x="2803680" y="4840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52"/>
            <p:cNvSpPr/>
            <p:nvPr/>
          </p:nvSpPr>
          <p:spPr>
            <a:xfrm>
              <a:off x="3328920" y="485316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66"/>
          <p:cNvGrpSpPr/>
          <p:nvPr/>
        </p:nvGrpSpPr>
        <p:grpSpPr>
          <a:xfrm>
            <a:off x="4087080" y="4552920"/>
            <a:ext cx="1476000" cy="703800"/>
            <a:chOff x="4087080" y="4552920"/>
            <a:chExt cx="1476000" cy="703800"/>
          </a:xfrm>
        </p:grpSpPr>
        <p:sp>
          <p:nvSpPr>
            <p:cNvPr id="914" name="Text Box 49"/>
            <p:cNvSpPr/>
            <p:nvPr/>
          </p:nvSpPr>
          <p:spPr>
            <a:xfrm>
              <a:off x="4087080" y="455292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53"/>
            <p:cNvSpPr/>
            <p:nvPr/>
          </p:nvSpPr>
          <p:spPr>
            <a:xfrm>
              <a:off x="4462560" y="482904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54"/>
            <p:cNvSpPr/>
            <p:nvPr/>
          </p:nvSpPr>
          <p:spPr>
            <a:xfrm flipH="1">
              <a:off x="4425480" y="482904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67"/>
          <p:cNvGrpSpPr/>
          <p:nvPr/>
        </p:nvGrpSpPr>
        <p:grpSpPr>
          <a:xfrm>
            <a:off x="5873040" y="4552920"/>
            <a:ext cx="1207800" cy="703800"/>
            <a:chOff x="5873040" y="4552920"/>
            <a:chExt cx="1207800" cy="703800"/>
          </a:xfrm>
        </p:grpSpPr>
        <p:sp>
          <p:nvSpPr>
            <p:cNvPr id="918" name="Text Box 50"/>
            <p:cNvSpPr/>
            <p:nvPr/>
          </p:nvSpPr>
          <p:spPr>
            <a:xfrm>
              <a:off x="5873040" y="455292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55"/>
            <p:cNvSpPr/>
            <p:nvPr/>
          </p:nvSpPr>
          <p:spPr>
            <a:xfrm>
              <a:off x="6083280" y="480384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56"/>
            <p:cNvSpPr/>
            <p:nvPr/>
          </p:nvSpPr>
          <p:spPr>
            <a:xfrm>
              <a:off x="6546960" y="484020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Group 68"/>
          <p:cNvGrpSpPr/>
          <p:nvPr/>
        </p:nvGrpSpPr>
        <p:grpSpPr>
          <a:xfrm>
            <a:off x="7306560" y="4552920"/>
            <a:ext cx="1207800" cy="703800"/>
            <a:chOff x="7306560" y="4552920"/>
            <a:chExt cx="1207800" cy="703800"/>
          </a:xfrm>
        </p:grpSpPr>
        <p:sp>
          <p:nvSpPr>
            <p:cNvPr id="922" name="Text Box 48"/>
            <p:cNvSpPr/>
            <p:nvPr/>
          </p:nvSpPr>
          <p:spPr>
            <a:xfrm>
              <a:off x="7306560" y="455292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57"/>
            <p:cNvSpPr/>
            <p:nvPr/>
          </p:nvSpPr>
          <p:spPr>
            <a:xfrm>
              <a:off x="7570800" y="481644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58"/>
            <p:cNvSpPr/>
            <p:nvPr/>
          </p:nvSpPr>
          <p:spPr>
            <a:xfrm flipH="1">
              <a:off x="7497360" y="481644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Text Box 59"/>
          <p:cNvSpPr/>
          <p:nvPr/>
        </p:nvSpPr>
        <p:spPr>
          <a:xfrm>
            <a:off x="346680" y="4303800"/>
            <a:ext cx="156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u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, 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60"/>
          <p:cNvSpPr/>
          <p:nvPr/>
        </p:nvSpPr>
        <p:spPr>
          <a:xfrm>
            <a:off x="240840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61"/>
          <p:cNvSpPr/>
          <p:nvPr/>
        </p:nvSpPr>
        <p:spPr>
          <a:xfrm>
            <a:off x="402300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2"/>
          <p:cNvSpPr/>
          <p:nvPr/>
        </p:nvSpPr>
        <p:spPr>
          <a:xfrm>
            <a:off x="563724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63"/>
          <p:cNvSpPr/>
          <p:nvPr/>
        </p:nvSpPr>
        <p:spPr>
          <a:xfrm>
            <a:off x="7251840" y="5245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9"/>
          <p:cNvSpPr/>
          <p:nvPr/>
        </p:nvSpPr>
        <p:spPr>
          <a:xfrm>
            <a:off x="401400" y="563076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 | F,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Object 71"/>
              <p:cNvSpPr txBox="1"/>
              <p:nvPr/>
            </p:nvSpPr>
            <p:spPr>
              <a:xfrm>
                <a:off x="2779560" y="586584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72"/>
              <p:cNvSpPr txBox="1"/>
              <p:nvPr/>
            </p:nvSpPr>
            <p:spPr>
              <a:xfrm>
                <a:off x="4406760" y="587232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74"/>
              <p:cNvSpPr txBox="1"/>
              <p:nvPr/>
            </p:nvSpPr>
            <p:spPr>
              <a:xfrm>
                <a:off x="6100920" y="5811840"/>
                <a:ext cx="9111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75"/>
              <p:cNvSpPr txBox="1"/>
              <p:nvPr/>
            </p:nvSpPr>
            <p:spPr>
              <a:xfrm>
                <a:off x="7421400" y="5794200"/>
                <a:ext cx="9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1558440" y="1481040"/>
            <a:ext cx="1476000" cy="703800"/>
            <a:chOff x="1558440" y="1481040"/>
            <a:chExt cx="1476000" cy="703800"/>
          </a:xfrm>
        </p:grpSpPr>
        <p:sp>
          <p:nvSpPr>
            <p:cNvPr id="937" name="Text Box 5"/>
            <p:cNvSpPr/>
            <p:nvPr/>
          </p:nvSpPr>
          <p:spPr>
            <a:xfrm>
              <a:off x="1558440" y="148104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6"/>
            <p:cNvSpPr/>
            <p:nvPr/>
          </p:nvSpPr>
          <p:spPr>
            <a:xfrm>
              <a:off x="1951200" y="176832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7"/>
            <p:cNvSpPr/>
            <p:nvPr/>
          </p:nvSpPr>
          <p:spPr>
            <a:xfrm>
              <a:off x="2476440" y="178128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8"/>
          <p:cNvGrpSpPr/>
          <p:nvPr/>
        </p:nvGrpSpPr>
        <p:grpSpPr>
          <a:xfrm>
            <a:off x="3234600" y="1481040"/>
            <a:ext cx="1476000" cy="703800"/>
            <a:chOff x="3234600" y="1481040"/>
            <a:chExt cx="1476000" cy="703800"/>
          </a:xfrm>
        </p:grpSpPr>
        <p:sp>
          <p:nvSpPr>
            <p:cNvPr id="941" name="Text Box 9"/>
            <p:cNvSpPr/>
            <p:nvPr/>
          </p:nvSpPr>
          <p:spPr>
            <a:xfrm>
              <a:off x="3234600" y="148104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10"/>
            <p:cNvSpPr/>
            <p:nvPr/>
          </p:nvSpPr>
          <p:spPr>
            <a:xfrm>
              <a:off x="3610080" y="175716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1"/>
            <p:cNvSpPr/>
            <p:nvPr/>
          </p:nvSpPr>
          <p:spPr>
            <a:xfrm flipH="1">
              <a:off x="3573000" y="175716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12"/>
          <p:cNvGrpSpPr/>
          <p:nvPr/>
        </p:nvGrpSpPr>
        <p:grpSpPr>
          <a:xfrm>
            <a:off x="5020560" y="1481040"/>
            <a:ext cx="1207800" cy="703800"/>
            <a:chOff x="5020560" y="1481040"/>
            <a:chExt cx="1207800" cy="703800"/>
          </a:xfrm>
        </p:grpSpPr>
        <p:sp>
          <p:nvSpPr>
            <p:cNvPr id="945" name="Text Box 13"/>
            <p:cNvSpPr/>
            <p:nvPr/>
          </p:nvSpPr>
          <p:spPr>
            <a:xfrm>
              <a:off x="5020560" y="148104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4"/>
            <p:cNvSpPr/>
            <p:nvPr/>
          </p:nvSpPr>
          <p:spPr>
            <a:xfrm>
              <a:off x="5230800" y="173196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5"/>
            <p:cNvSpPr/>
            <p:nvPr/>
          </p:nvSpPr>
          <p:spPr>
            <a:xfrm>
              <a:off x="5694480" y="176832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16"/>
          <p:cNvGrpSpPr/>
          <p:nvPr/>
        </p:nvGrpSpPr>
        <p:grpSpPr>
          <a:xfrm>
            <a:off x="6454080" y="1481040"/>
            <a:ext cx="1207800" cy="703800"/>
            <a:chOff x="6454080" y="1481040"/>
            <a:chExt cx="1207800" cy="703800"/>
          </a:xfrm>
        </p:grpSpPr>
        <p:sp>
          <p:nvSpPr>
            <p:cNvPr id="949" name="Text Box 17"/>
            <p:cNvSpPr/>
            <p:nvPr/>
          </p:nvSpPr>
          <p:spPr>
            <a:xfrm>
              <a:off x="6454080" y="148104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8"/>
            <p:cNvSpPr/>
            <p:nvPr/>
          </p:nvSpPr>
          <p:spPr>
            <a:xfrm>
              <a:off x="6718320" y="174456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9"/>
            <p:cNvSpPr/>
            <p:nvPr/>
          </p:nvSpPr>
          <p:spPr>
            <a:xfrm flipH="1">
              <a:off x="6644880" y="174456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Text Box 20"/>
          <p:cNvSpPr/>
          <p:nvPr/>
        </p:nvSpPr>
        <p:spPr>
          <a:xfrm>
            <a:off x="1969200" y="2087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3682080" y="2117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5272560" y="20988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6790320" y="20923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462960" y="2876400"/>
            <a:ext cx="143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mpu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eight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u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3135240" y="2959200"/>
          <a:ext cx="3486240" cy="1195200"/>
        </p:xfrm>
        <a:graphic>
          <a:graphicData uri="http://schemas.openxmlformats.org/drawingml/2006/table">
            <a:tbl>
              <a:tblPr/>
              <a:tblGrid>
                <a:gridCol w="116208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+ 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8" name="Group 43"/>
          <p:cNvGrpSpPr/>
          <p:nvPr/>
        </p:nvGrpSpPr>
        <p:grpSpPr>
          <a:xfrm>
            <a:off x="2336400" y="2579760"/>
            <a:ext cx="3508200" cy="1564200"/>
            <a:chOff x="2336400" y="2579760"/>
            <a:chExt cx="3508200" cy="1564200"/>
          </a:xfrm>
        </p:grpSpPr>
        <p:sp>
          <p:nvSpPr>
            <p:cNvPr id="959" name="Text Box 44"/>
            <p:cNvSpPr/>
            <p:nvPr/>
          </p:nvSpPr>
          <p:spPr>
            <a:xfrm>
              <a:off x="2336400" y="29275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45"/>
            <p:cNvSpPr/>
            <p:nvPr/>
          </p:nvSpPr>
          <p:spPr>
            <a:xfrm>
              <a:off x="2340720" y="33354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46"/>
            <p:cNvSpPr/>
            <p:nvPr/>
          </p:nvSpPr>
          <p:spPr>
            <a:xfrm>
              <a:off x="2566440" y="3745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Text Box 47"/>
            <p:cNvSpPr/>
            <p:nvPr/>
          </p:nvSpPr>
          <p:spPr>
            <a:xfrm>
              <a:off x="3237840" y="25797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50"/>
          <p:cNvSpPr/>
          <p:nvPr/>
        </p:nvSpPr>
        <p:spPr>
          <a:xfrm>
            <a:off x="539280" y="4637160"/>
            <a:ext cx="185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ws to sum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one t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stimate P(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3191040" y="4745160"/>
          <a:ext cx="3485880" cy="1195200"/>
        </p:xfrm>
        <a:graphic>
          <a:graphicData uri="http://schemas.openxmlformats.org/drawingml/2006/table">
            <a:tbl>
              <a:tblPr/>
              <a:tblGrid>
                <a:gridCol w="116172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5" name="Group 69"/>
          <p:cNvGrpSpPr/>
          <p:nvPr/>
        </p:nvGrpSpPr>
        <p:grpSpPr>
          <a:xfrm>
            <a:off x="2415600" y="4352760"/>
            <a:ext cx="3508200" cy="1564200"/>
            <a:chOff x="2415600" y="4352760"/>
            <a:chExt cx="3508200" cy="1564200"/>
          </a:xfrm>
        </p:grpSpPr>
        <p:sp>
          <p:nvSpPr>
            <p:cNvPr id="966" name="Text Box 70"/>
            <p:cNvSpPr/>
            <p:nvPr/>
          </p:nvSpPr>
          <p:spPr>
            <a:xfrm>
              <a:off x="2415600" y="47005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71"/>
            <p:cNvSpPr/>
            <p:nvPr/>
          </p:nvSpPr>
          <p:spPr>
            <a:xfrm>
              <a:off x="2419920" y="51084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72"/>
            <p:cNvSpPr/>
            <p:nvPr/>
          </p:nvSpPr>
          <p:spPr>
            <a:xfrm>
              <a:off x="2645640" y="5518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73"/>
            <p:cNvSpPr/>
            <p:nvPr/>
          </p:nvSpPr>
          <p:spPr>
            <a:xfrm>
              <a:off x="3317040" y="43527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71" name="Group 3"/>
          <p:cNvGrpSpPr/>
          <p:nvPr/>
        </p:nvGrpSpPr>
        <p:grpSpPr>
          <a:xfrm>
            <a:off x="1607400" y="3260880"/>
            <a:ext cx="1476000" cy="703800"/>
            <a:chOff x="1607400" y="3260880"/>
            <a:chExt cx="1476000" cy="703800"/>
          </a:xfrm>
        </p:grpSpPr>
        <p:sp>
          <p:nvSpPr>
            <p:cNvPr id="972" name="Text Box 4"/>
            <p:cNvSpPr/>
            <p:nvPr/>
          </p:nvSpPr>
          <p:spPr>
            <a:xfrm>
              <a:off x="1607400" y="326088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5"/>
            <p:cNvSpPr/>
            <p:nvPr/>
          </p:nvSpPr>
          <p:spPr>
            <a:xfrm>
              <a:off x="2000160" y="354816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"/>
            <p:cNvSpPr/>
            <p:nvPr/>
          </p:nvSpPr>
          <p:spPr>
            <a:xfrm>
              <a:off x="2525400" y="356112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Group 7"/>
          <p:cNvGrpSpPr/>
          <p:nvPr/>
        </p:nvGrpSpPr>
        <p:grpSpPr>
          <a:xfrm>
            <a:off x="3283920" y="3260880"/>
            <a:ext cx="1476000" cy="703800"/>
            <a:chOff x="3283920" y="3260880"/>
            <a:chExt cx="1476000" cy="703800"/>
          </a:xfrm>
        </p:grpSpPr>
        <p:sp>
          <p:nvSpPr>
            <p:cNvPr id="976" name="Text Box 8"/>
            <p:cNvSpPr/>
            <p:nvPr/>
          </p:nvSpPr>
          <p:spPr>
            <a:xfrm>
              <a:off x="3283920" y="3260880"/>
              <a:ext cx="14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9"/>
            <p:cNvSpPr/>
            <p:nvPr/>
          </p:nvSpPr>
          <p:spPr>
            <a:xfrm>
              <a:off x="3659400" y="353700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10"/>
            <p:cNvSpPr/>
            <p:nvPr/>
          </p:nvSpPr>
          <p:spPr>
            <a:xfrm flipH="1">
              <a:off x="3622320" y="353700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11"/>
          <p:cNvGrpSpPr/>
          <p:nvPr/>
        </p:nvGrpSpPr>
        <p:grpSpPr>
          <a:xfrm>
            <a:off x="5069880" y="3260880"/>
            <a:ext cx="1207800" cy="703800"/>
            <a:chOff x="5069880" y="3260880"/>
            <a:chExt cx="1207800" cy="703800"/>
          </a:xfrm>
        </p:grpSpPr>
        <p:sp>
          <p:nvSpPr>
            <p:cNvPr id="980" name="Text Box 12"/>
            <p:cNvSpPr/>
            <p:nvPr/>
          </p:nvSpPr>
          <p:spPr>
            <a:xfrm>
              <a:off x="5069880" y="326088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13"/>
            <p:cNvSpPr/>
            <p:nvPr/>
          </p:nvSpPr>
          <p:spPr>
            <a:xfrm>
              <a:off x="5280120" y="351180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4"/>
            <p:cNvSpPr/>
            <p:nvPr/>
          </p:nvSpPr>
          <p:spPr>
            <a:xfrm>
              <a:off x="5743800" y="354816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5"/>
          <p:cNvGrpSpPr/>
          <p:nvPr/>
        </p:nvGrpSpPr>
        <p:grpSpPr>
          <a:xfrm>
            <a:off x="6503400" y="3260880"/>
            <a:ext cx="1207800" cy="703800"/>
            <a:chOff x="6503400" y="3260880"/>
            <a:chExt cx="1207800" cy="703800"/>
          </a:xfrm>
        </p:grpSpPr>
        <p:sp>
          <p:nvSpPr>
            <p:cNvPr id="984" name="Text Box 16"/>
            <p:cNvSpPr/>
            <p:nvPr/>
          </p:nvSpPr>
          <p:spPr>
            <a:xfrm>
              <a:off x="6503400" y="3260880"/>
              <a:ext cx="120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17"/>
            <p:cNvSpPr/>
            <p:nvPr/>
          </p:nvSpPr>
          <p:spPr>
            <a:xfrm>
              <a:off x="6767640" y="352440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18"/>
            <p:cNvSpPr/>
            <p:nvPr/>
          </p:nvSpPr>
          <p:spPr>
            <a:xfrm flipH="1">
              <a:off x="6694200" y="352440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Text Box 19"/>
          <p:cNvSpPr/>
          <p:nvPr/>
        </p:nvSpPr>
        <p:spPr>
          <a:xfrm>
            <a:off x="1564560" y="3914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4=1/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3043080" y="1746360"/>
          <a:ext cx="3486240" cy="1195200"/>
        </p:xfrm>
        <a:graphic>
          <a:graphicData uri="http://schemas.openxmlformats.org/drawingml/2006/table">
            <a:tbl>
              <a:tblPr/>
              <a:tblGrid>
                <a:gridCol w="1162080"/>
                <a:gridCol w="1162080"/>
                <a:gridCol w="116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9" name="Group 66"/>
          <p:cNvGrpSpPr/>
          <p:nvPr/>
        </p:nvGrpSpPr>
        <p:grpSpPr>
          <a:xfrm>
            <a:off x="2268000" y="1353960"/>
            <a:ext cx="3508200" cy="1564200"/>
            <a:chOff x="2268000" y="1353960"/>
            <a:chExt cx="3508200" cy="1564200"/>
          </a:xfrm>
        </p:grpSpPr>
        <p:sp>
          <p:nvSpPr>
            <p:cNvPr id="990" name="Text Box 67"/>
            <p:cNvSpPr/>
            <p:nvPr/>
          </p:nvSpPr>
          <p:spPr>
            <a:xfrm>
              <a:off x="2268000" y="17017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Text Box 68"/>
            <p:cNvSpPr/>
            <p:nvPr/>
          </p:nvSpPr>
          <p:spPr>
            <a:xfrm>
              <a:off x="2272320" y="21096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69"/>
            <p:cNvSpPr/>
            <p:nvPr/>
          </p:nvSpPr>
          <p:spPr>
            <a:xfrm>
              <a:off x="2498040" y="25192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70"/>
            <p:cNvSpPr/>
            <p:nvPr/>
          </p:nvSpPr>
          <p:spPr>
            <a:xfrm>
              <a:off x="3169440" y="1353960"/>
              <a:ext cx="26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de       casa           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Text Box 71"/>
          <p:cNvSpPr/>
          <p:nvPr/>
        </p:nvSpPr>
        <p:spPr>
          <a:xfrm>
            <a:off x="-2520" y="3048120"/>
            <a:ext cx="156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compu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, F |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72"/>
          <p:cNvSpPr/>
          <p:nvPr/>
        </p:nvSpPr>
        <p:spPr>
          <a:xfrm>
            <a:off x="3253680" y="3908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2=1/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3"/>
          <p:cNvSpPr/>
          <p:nvPr/>
        </p:nvSpPr>
        <p:spPr>
          <a:xfrm>
            <a:off x="4929840" y="39020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2=1/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74"/>
          <p:cNvSpPr/>
          <p:nvPr/>
        </p:nvSpPr>
        <p:spPr>
          <a:xfrm>
            <a:off x="6520680" y="390852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X 1/4=1/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76"/>
          <p:cNvSpPr/>
          <p:nvPr/>
        </p:nvSpPr>
        <p:spPr>
          <a:xfrm>
            <a:off x="152280" y="456264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(A | F, 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Object 77"/>
              <p:cNvSpPr txBox="1"/>
              <p:nvPr/>
            </p:nvSpPr>
            <p:spPr>
              <a:xfrm>
                <a:off x="205092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8"/>
              <p:cNvSpPr txBox="1"/>
              <p:nvPr/>
            </p:nvSpPr>
            <p:spPr>
              <a:xfrm>
                <a:off x="3594240" y="4768920"/>
                <a:ext cx="890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9"/>
              <p:cNvSpPr txBox="1"/>
              <p:nvPr/>
            </p:nvSpPr>
            <p:spPr>
              <a:xfrm>
                <a:off x="529596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80"/>
              <p:cNvSpPr txBox="1"/>
              <p:nvPr/>
            </p:nvSpPr>
            <p:spPr>
              <a:xfrm>
                <a:off x="6726240" y="476892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3" name="Oval 81"/>
          <p:cNvSpPr/>
          <p:nvPr/>
        </p:nvSpPr>
        <p:spPr>
          <a:xfrm>
            <a:off x="3182760" y="3279600"/>
            <a:ext cx="162108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82"/>
          <p:cNvSpPr/>
          <p:nvPr/>
        </p:nvSpPr>
        <p:spPr>
          <a:xfrm>
            <a:off x="4884840" y="3273480"/>
            <a:ext cx="141264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3"/>
          <p:cNvSpPr/>
          <p:nvPr/>
        </p:nvSpPr>
        <p:spPr>
          <a:xfrm>
            <a:off x="2357640" y="5702400"/>
            <a:ext cx="54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ntinue EM iterations until trans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parameters conver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4"/>
          <p:cNvSpPr/>
          <p:nvPr/>
        </p:nvSpPr>
        <p:spPr>
          <a:xfrm>
            <a:off x="606960" y="187488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o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85800" y="13716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find a translation that maximizes the product of the translation and language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B7C-3EE0-4D0F-9294-054EC4A2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3"/>
              <p:cNvSpPr txBox="1"/>
              <p:nvPr/>
            </p:nvSpPr>
            <p:spPr>
              <a:xfrm>
                <a:off x="2712960" y="1849320"/>
                <a:ext cx="33908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|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11" name="Content Placeholder 2"/>
          <p:cNvSpPr/>
          <p:nvPr/>
        </p:nvSpPr>
        <p:spPr>
          <a:xfrm>
            <a:off x="741240" y="3232080"/>
            <a:ext cx="77724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licitly enumerate and test the combinatorial space of all possible translatio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al decoding problem for all reasonable model’s (e.g. IBM model 1) is NP-comple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ally search the space of translations using A*, beam-search, etc. to approximate the solution to this difficult optimization proble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subjective evaluation is the best but is time-consuming and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evaluation comparing the output to multiple human reference translations is cheaper and correlates with human judg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FA3-D1F4-49CB-A769-7E41ADC7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of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humans to estimate MT output on several dimen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luenc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Is the result grammatical, understandable, and readable in the target languag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ideli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Does the result correctly convey  the information in the original source langua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dequac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  Human judgment on a fixed scale.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ingual judges given source and target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lingual judges given reference translation and MT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formativenes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 Monolingual judges must answer questions about the source sentence given only the MT translation (task-based evaluation)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9A9C-728E-42B1-907F-8A9FA811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er-Aided Translatio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dit 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easure the number of changes that a human translator must make to correct the MT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umber of words chang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mount of time taken to edi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umber of keystrokes needed to edi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377-7DDF-4491-91BD-929EB24F6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utomatic Evaluation of M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one or more human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reference trans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MT output to thes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 result based on similarity to th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EU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TE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5944-0EE5-4890-AE65-21942A9A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of various sizes that the MT output shares with the reference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 modified precision measur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in MT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A05-F28E-4935-B950-8B1D31B9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2A8-5A33-4EA2-B7E8-C4FC5588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6"/>
          <p:cNvSpPr/>
          <p:nvPr/>
        </p:nvSpPr>
        <p:spPr>
          <a:xfrm>
            <a:off x="1359000" y="1720800"/>
            <a:ext cx="711000" cy="276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1127160" y="2703600"/>
            <a:ext cx="709560" cy="276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1135080" y="3035160"/>
            <a:ext cx="709560" cy="27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9"/>
          <p:cNvSpPr/>
          <p:nvPr/>
        </p:nvSpPr>
        <p:spPr>
          <a:xfrm>
            <a:off x="1155600" y="3332160"/>
            <a:ext cx="709560" cy="27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2081160" y="1731960"/>
            <a:ext cx="336600" cy="26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5"/>
          <p:cNvSpPr/>
          <p:nvPr/>
        </p:nvSpPr>
        <p:spPr>
          <a:xfrm>
            <a:off x="2417760" y="1731960"/>
            <a:ext cx="506520" cy="264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6"/>
          <p:cNvSpPr/>
          <p:nvPr/>
        </p:nvSpPr>
        <p:spPr>
          <a:xfrm>
            <a:off x="2679840" y="2727360"/>
            <a:ext cx="504720" cy="264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7"/>
          <p:cNvSpPr/>
          <p:nvPr/>
        </p:nvSpPr>
        <p:spPr>
          <a:xfrm>
            <a:off x="2916360" y="1736640"/>
            <a:ext cx="3682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8"/>
          <p:cNvSpPr/>
          <p:nvPr/>
        </p:nvSpPr>
        <p:spPr>
          <a:xfrm>
            <a:off x="3200400" y="2730600"/>
            <a:ext cx="368280" cy="26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9"/>
          <p:cNvSpPr/>
          <p:nvPr/>
        </p:nvSpPr>
        <p:spPr>
          <a:xfrm>
            <a:off x="3460680" y="3040200"/>
            <a:ext cx="3700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3"/>
          <p:cNvSpPr/>
          <p:nvPr/>
        </p:nvSpPr>
        <p:spPr>
          <a:xfrm>
            <a:off x="3998880" y="1736640"/>
            <a:ext cx="64440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4"/>
          <p:cNvSpPr/>
          <p:nvPr/>
        </p:nvSpPr>
        <p:spPr>
          <a:xfrm>
            <a:off x="3597120" y="271944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5"/>
          <p:cNvSpPr/>
          <p:nvPr/>
        </p:nvSpPr>
        <p:spPr>
          <a:xfrm>
            <a:off x="3857760" y="3040200"/>
            <a:ext cx="64584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6"/>
          <p:cNvSpPr/>
          <p:nvPr/>
        </p:nvSpPr>
        <p:spPr>
          <a:xfrm>
            <a:off x="3228840" y="3360600"/>
            <a:ext cx="64476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27"/>
          <p:cNvSpPr/>
          <p:nvPr/>
        </p:nvSpPr>
        <p:spPr>
          <a:xfrm>
            <a:off x="3332160" y="173196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28"/>
          <p:cNvSpPr/>
          <p:nvPr/>
        </p:nvSpPr>
        <p:spPr>
          <a:xfrm>
            <a:off x="4267080" y="270360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29"/>
          <p:cNvSpPr/>
          <p:nvPr/>
        </p:nvSpPr>
        <p:spPr>
          <a:xfrm>
            <a:off x="4516560" y="3048120"/>
            <a:ext cx="6444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Box 4"/>
          <p:cNvSpPr/>
          <p:nvPr/>
        </p:nvSpPr>
        <p:spPr>
          <a:xfrm>
            <a:off x="52020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Box 30"/>
          <p:cNvSpPr/>
          <p:nvPr/>
        </p:nvSpPr>
        <p:spPr>
          <a:xfrm>
            <a:off x="1485720" y="421164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 Unigram Precision:  5/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lation Qua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5920" y="1371600"/>
            <a:ext cx="8240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ing literary quality translation i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MT systems can generate rough translations that frequently at least convey the gist of a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quality translations possible when specialized to narrow domains, e.g. weather for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T systems used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uter-aided trans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 bilingual human post-edits the output to produce more readable accurate trans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 used to ai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ftware interfaces and documentation to adapt them to oth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BF80-1F4D-40C9-84F4-B11364DF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12"/>
          <p:cNvSpPr/>
          <p:nvPr/>
        </p:nvSpPr>
        <p:spPr>
          <a:xfrm>
            <a:off x="3308400" y="1684440"/>
            <a:ext cx="13240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0"/>
          <p:cNvSpPr/>
          <p:nvPr/>
        </p:nvSpPr>
        <p:spPr>
          <a:xfrm>
            <a:off x="2935440" y="1689120"/>
            <a:ext cx="10270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8"/>
          <p:cNvSpPr/>
          <p:nvPr/>
        </p:nvSpPr>
        <p:spPr>
          <a:xfrm>
            <a:off x="2414520" y="1681200"/>
            <a:ext cx="878040" cy="323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BD84-1B9E-48DC-A4EF-BA0CC1B3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6"/>
          <p:cNvSpPr/>
          <p:nvPr/>
        </p:nvSpPr>
        <p:spPr>
          <a:xfrm>
            <a:off x="1407960" y="1697040"/>
            <a:ext cx="10098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2104920" y="1684440"/>
            <a:ext cx="8794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Box 17"/>
          <p:cNvSpPr/>
          <p:nvPr/>
        </p:nvSpPr>
        <p:spPr>
          <a:xfrm>
            <a:off x="1636560" y="4363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 Bigram Precision:  1/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8"/>
          <p:cNvSpPr/>
          <p:nvPr/>
        </p:nvSpPr>
        <p:spPr>
          <a:xfrm>
            <a:off x="2711520" y="2698920"/>
            <a:ext cx="877680" cy="325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E74-9462-4D33-844F-1D2631FE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8"/>
          <p:cNvSpPr/>
          <p:nvPr/>
        </p:nvSpPr>
        <p:spPr>
          <a:xfrm>
            <a:off x="1371600" y="199692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9"/>
          <p:cNvSpPr/>
          <p:nvPr/>
        </p:nvSpPr>
        <p:spPr>
          <a:xfrm>
            <a:off x="1163520" y="2714760"/>
            <a:ext cx="68580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20"/>
          <p:cNvSpPr/>
          <p:nvPr/>
        </p:nvSpPr>
        <p:spPr>
          <a:xfrm>
            <a:off x="1158840" y="303516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1"/>
          <p:cNvSpPr/>
          <p:nvPr/>
        </p:nvSpPr>
        <p:spPr>
          <a:xfrm>
            <a:off x="1155600" y="3357720"/>
            <a:ext cx="685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22"/>
          <p:cNvSpPr/>
          <p:nvPr/>
        </p:nvSpPr>
        <p:spPr>
          <a:xfrm>
            <a:off x="2077920" y="199404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3"/>
          <p:cNvSpPr/>
          <p:nvPr/>
        </p:nvSpPr>
        <p:spPr>
          <a:xfrm>
            <a:off x="1881360" y="2722680"/>
            <a:ext cx="4363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876320" y="3032280"/>
            <a:ext cx="438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873080" y="334008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27"/>
          <p:cNvSpPr/>
          <p:nvPr/>
        </p:nvSpPr>
        <p:spPr>
          <a:xfrm>
            <a:off x="2502000" y="1996920"/>
            <a:ext cx="4381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28"/>
          <p:cNvSpPr/>
          <p:nvPr/>
        </p:nvSpPr>
        <p:spPr>
          <a:xfrm>
            <a:off x="2306520" y="2714760"/>
            <a:ext cx="4366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9"/>
          <p:cNvSpPr/>
          <p:nvPr/>
        </p:nvSpPr>
        <p:spPr>
          <a:xfrm>
            <a:off x="2314440" y="303516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0"/>
          <p:cNvSpPr/>
          <p:nvPr/>
        </p:nvSpPr>
        <p:spPr>
          <a:xfrm>
            <a:off x="2322360" y="335772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1"/>
          <p:cNvSpPr/>
          <p:nvPr/>
        </p:nvSpPr>
        <p:spPr>
          <a:xfrm>
            <a:off x="2948040" y="1996920"/>
            <a:ext cx="45720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32"/>
          <p:cNvSpPr/>
          <p:nvPr/>
        </p:nvSpPr>
        <p:spPr>
          <a:xfrm>
            <a:off x="3416400" y="1996920"/>
            <a:ext cx="2286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33"/>
          <p:cNvSpPr/>
          <p:nvPr/>
        </p:nvSpPr>
        <p:spPr>
          <a:xfrm>
            <a:off x="3003480" y="3328920"/>
            <a:ext cx="22860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34"/>
          <p:cNvSpPr/>
          <p:nvPr/>
        </p:nvSpPr>
        <p:spPr>
          <a:xfrm>
            <a:off x="3657600" y="1996920"/>
            <a:ext cx="7095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2738520" y="3027240"/>
            <a:ext cx="7110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36"/>
          <p:cNvSpPr/>
          <p:nvPr/>
        </p:nvSpPr>
        <p:spPr>
          <a:xfrm>
            <a:off x="4367160" y="1996920"/>
            <a:ext cx="27612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38"/>
          <p:cNvSpPr/>
          <p:nvPr/>
        </p:nvSpPr>
        <p:spPr>
          <a:xfrm>
            <a:off x="4627440" y="1994040"/>
            <a:ext cx="1969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Box 39"/>
          <p:cNvSpPr/>
          <p:nvPr/>
        </p:nvSpPr>
        <p:spPr>
          <a:xfrm>
            <a:off x="2419200" y="4006800"/>
            <a:ext cx="528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p match count of  eac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m to maximu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nt of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m in any single refer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40"/>
          <p:cNvSpPr/>
          <p:nvPr/>
        </p:nvSpPr>
        <p:spPr>
          <a:xfrm>
            <a:off x="4824360" y="19969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41"/>
          <p:cNvSpPr/>
          <p:nvPr/>
        </p:nvSpPr>
        <p:spPr>
          <a:xfrm>
            <a:off x="3605040" y="2703600"/>
            <a:ext cx="6382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42"/>
          <p:cNvSpPr/>
          <p:nvPr/>
        </p:nvSpPr>
        <p:spPr>
          <a:xfrm>
            <a:off x="3833640" y="302724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43"/>
          <p:cNvSpPr/>
          <p:nvPr/>
        </p:nvSpPr>
        <p:spPr>
          <a:xfrm>
            <a:off x="3276720" y="3360600"/>
            <a:ext cx="6379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44"/>
          <p:cNvSpPr/>
          <p:nvPr/>
        </p:nvSpPr>
        <p:spPr>
          <a:xfrm>
            <a:off x="5457960" y="1994040"/>
            <a:ext cx="6379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45"/>
          <p:cNvSpPr/>
          <p:nvPr/>
        </p:nvSpPr>
        <p:spPr>
          <a:xfrm>
            <a:off x="4262400" y="2711520"/>
            <a:ext cx="6382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46"/>
          <p:cNvSpPr/>
          <p:nvPr/>
        </p:nvSpPr>
        <p:spPr>
          <a:xfrm>
            <a:off x="4487760" y="30193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Box 48"/>
          <p:cNvSpPr/>
          <p:nvPr/>
        </p:nvSpPr>
        <p:spPr>
          <a:xfrm>
            <a:off x="2532960" y="52704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 Unigram Precision:  7/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1"/>
          <p:cNvSpPr/>
          <p:nvPr/>
        </p:nvSpPr>
        <p:spPr>
          <a:xfrm>
            <a:off x="4648320" y="2013120"/>
            <a:ext cx="8380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6"/>
          <p:cNvSpPr/>
          <p:nvPr/>
        </p:nvSpPr>
        <p:spPr>
          <a:xfrm>
            <a:off x="1432080" y="2009880"/>
            <a:ext cx="105876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BEF-1213-46C2-A59B-B85317AC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1211400" y="2679840"/>
            <a:ext cx="105876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1206360" y="3024360"/>
            <a:ext cx="1059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1203480" y="3368520"/>
            <a:ext cx="10587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4821120" y="1994040"/>
            <a:ext cx="1279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3"/>
          <p:cNvSpPr/>
          <p:nvPr/>
        </p:nvSpPr>
        <p:spPr>
          <a:xfrm>
            <a:off x="1897200" y="268272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14"/>
          <p:cNvSpPr/>
          <p:nvPr/>
        </p:nvSpPr>
        <p:spPr>
          <a:xfrm>
            <a:off x="1892160" y="3016080"/>
            <a:ext cx="79848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5"/>
          <p:cNvSpPr/>
          <p:nvPr/>
        </p:nvSpPr>
        <p:spPr>
          <a:xfrm>
            <a:off x="1889280" y="336060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17"/>
          <p:cNvSpPr/>
          <p:nvPr/>
        </p:nvSpPr>
        <p:spPr>
          <a:xfrm>
            <a:off x="2900520" y="2009880"/>
            <a:ext cx="7207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8"/>
          <p:cNvSpPr/>
          <p:nvPr/>
        </p:nvSpPr>
        <p:spPr>
          <a:xfrm>
            <a:off x="3449520" y="1994040"/>
            <a:ext cx="9176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19"/>
          <p:cNvSpPr/>
          <p:nvPr/>
        </p:nvSpPr>
        <p:spPr>
          <a:xfrm>
            <a:off x="3649680" y="2001960"/>
            <a:ext cx="9828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0"/>
          <p:cNvSpPr/>
          <p:nvPr/>
        </p:nvSpPr>
        <p:spPr>
          <a:xfrm>
            <a:off x="4367160" y="2009880"/>
            <a:ext cx="45720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22"/>
          <p:cNvSpPr/>
          <p:nvPr/>
        </p:nvSpPr>
        <p:spPr>
          <a:xfrm>
            <a:off x="3056040" y="3344760"/>
            <a:ext cx="83808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23"/>
          <p:cNvSpPr/>
          <p:nvPr/>
        </p:nvSpPr>
        <p:spPr>
          <a:xfrm>
            <a:off x="3865680" y="3024360"/>
            <a:ext cx="127944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4"/>
          <p:cNvSpPr/>
          <p:nvPr/>
        </p:nvSpPr>
        <p:spPr>
          <a:xfrm>
            <a:off x="3573360" y="2695680"/>
            <a:ext cx="1279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9720" y="26668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25"/>
          <p:cNvSpPr/>
          <p:nvPr/>
        </p:nvSpPr>
        <p:spPr>
          <a:xfrm>
            <a:off x="2637720" y="431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 Bigram Precision:  4/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2104920" y="2013120"/>
            <a:ext cx="7984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16"/>
          <p:cNvSpPr/>
          <p:nvPr/>
        </p:nvSpPr>
        <p:spPr>
          <a:xfrm>
            <a:off x="2494080" y="2025720"/>
            <a:ext cx="9111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Box 4"/>
          <p:cNvSpPr/>
          <p:nvPr/>
        </p:nvSpPr>
        <p:spPr>
          <a:xfrm>
            <a:off x="449640" y="16365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dified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Gram Prec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37124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 precision ove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grams up to s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ypically 4) using geometric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8C7-46B1-479E-9E7A-A527EA53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Object 2"/>
              <p:cNvSpPr txBox="1"/>
              <p:nvPr/>
            </p:nvSpPr>
            <p:spPr>
              <a:xfrm>
                <a:off x="958680" y="3019320"/>
                <a:ext cx="45421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u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i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Object 3"/>
              <p:cNvSpPr txBox="1"/>
              <p:nvPr/>
            </p:nvSpPr>
            <p:spPr>
              <a:xfrm>
                <a:off x="6392880" y="3090960"/>
                <a:ext cx="15843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Object 4"/>
              <p:cNvSpPr txBox="1"/>
              <p:nvPr/>
            </p:nvSpPr>
            <p:spPr>
              <a:xfrm>
                <a:off x="3639960" y="4638600"/>
                <a:ext cx="2192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TextBox 7"/>
          <p:cNvSpPr/>
          <p:nvPr/>
        </p:nvSpPr>
        <p:spPr>
          <a:xfrm>
            <a:off x="2257920" y="48848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1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Box 8"/>
          <p:cNvSpPr/>
          <p:nvPr/>
        </p:nvSpPr>
        <p:spPr>
          <a:xfrm>
            <a:off x="2289600" y="57704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d 2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Object 5"/>
              <p:cNvSpPr txBox="1"/>
              <p:nvPr/>
            </p:nvSpPr>
            <p:spPr>
              <a:xfrm>
                <a:off x="3587760" y="5549760"/>
                <a:ext cx="24192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revity Penal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93200" y="1371600"/>
            <a:ext cx="81219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asy to compute recall to complement precision since there are multiple alternative gold-standard references and don’t need to match all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a penalty for translations that are shorter than the reference trans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ffective reference leng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sentence as the length of the reference sentence with the largest numb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ram matches.  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ndidate sentenc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395-5765-466C-8A8B-F138DAC6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2"/>
              <p:cNvSpPr txBox="1"/>
              <p:nvPr/>
            </p:nvSpPr>
            <p:spPr>
              <a:xfrm>
                <a:off x="2502000" y="5402160"/>
                <a:ext cx="3479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     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r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c</m:t>
                                            </m:r>
                                          </m:den>
                                        </m:f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Score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80960" y="1418760"/>
            <a:ext cx="825336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BLEU Score:  BLEU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and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ry no slap the witch g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est Re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Mary did not slap the green witch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and 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 not give a smack to a green witch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est Ref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Mary did not smack the green witch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E7C4-D7FA-46EC-9222-9F4A4C437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2"/>
              <p:cNvSpPr txBox="1"/>
              <p:nvPr/>
            </p:nvSpPr>
            <p:spPr>
              <a:xfrm>
                <a:off x="1862280" y="3025800"/>
                <a:ext cx="532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Object 3"/>
              <p:cNvSpPr txBox="1"/>
              <p:nvPr/>
            </p:nvSpPr>
            <p:spPr>
              <a:xfrm>
                <a:off x="1785960" y="3540240"/>
                <a:ext cx="4530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866960" y="5181480"/>
                <a:ext cx="3498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5"/>
              <p:cNvSpPr txBox="1"/>
              <p:nvPr/>
            </p:nvSpPr>
            <p:spPr>
              <a:xfrm>
                <a:off x="1795320" y="5762520"/>
                <a:ext cx="3832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EU Score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U has been shown to correlate with human evaluation when comparing outputs from different SMT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t is does not correlate with human judgments when comparing SMT systems with manually developed MT (Systran) or MT with human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T evaluation metrics have been proposed that claim to overcome some of the limitations of BLE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AD24-2A35-4506-BED5-2500172E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yntax-Based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tatistical Machine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685800" y="19177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SMT methods have adopted a syntactic transfer approa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results demonstrated for translating between more distant language pairs, e.g. Chinese/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49A-2954-4568-8809-1C5D600B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608-92CE-42FD-A1DC-2EAD11651B4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Gram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ultiple parse tr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Chiang, 2005; Galley et al., 200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hierarchical struc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entence and its translation, and also the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correspo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eir sub-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43B3-9FFC-4609-9FDD-71EC62F8418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4"/>
          <p:cNvSpPr/>
          <p:nvPr/>
        </p:nvSpPr>
        <p:spPr>
          <a:xfrm>
            <a:off x="3124080" y="3795840"/>
            <a:ext cx="152424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5"/>
          <p:cNvSpPr/>
          <p:nvPr/>
        </p:nvSpPr>
        <p:spPr>
          <a:xfrm>
            <a:off x="5029200" y="3795840"/>
            <a:ext cx="175248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6"/>
          <p:cNvSpPr/>
          <p:nvPr/>
        </p:nvSpPr>
        <p:spPr>
          <a:xfrm>
            <a:off x="228600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PMingLiU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7"/>
          <p:cNvSpPr/>
          <p:nvPr/>
        </p:nvSpPr>
        <p:spPr>
          <a:xfrm>
            <a:off x="3091320" y="342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hines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8"/>
          <p:cNvSpPr/>
          <p:nvPr/>
        </p:nvSpPr>
        <p:spPr>
          <a:xfrm>
            <a:off x="4984560" y="3429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9"/>
          <p:cNvSpPr/>
          <p:nvPr/>
        </p:nvSpPr>
        <p:spPr>
          <a:xfrm>
            <a:off x="3352680" y="4329000"/>
            <a:ext cx="3200400" cy="76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0" h="48">
                <a:moveTo>
                  <a:pt x="0" y="0"/>
                </a:moveTo>
                <a:lnTo>
                  <a:pt x="0" y="48"/>
                </a:lnTo>
                <a:lnTo>
                  <a:pt x="1440" y="48"/>
                </a:lnTo>
                <a:lnTo>
                  <a:pt x="1440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wo RHSs, one for each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guistic Issues Making MT Diffic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phological issues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gluti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lysynth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s with complex word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variation betwe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V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English)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Hindi),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Arabic) 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O languages use prepos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OV languages use postposi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-dro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regularly omit subjects that must be infe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15F-7124-4735-9088-773EA2EC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B360-8FDE-4BED-A6DC-18E723F5EC4B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BA6A-92AE-461D-A73B-8C432DD3464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27"/>
          <p:cNvSpPr/>
          <p:nvPr/>
        </p:nvSpPr>
        <p:spPr>
          <a:xfrm>
            <a:off x="2895480" y="2362320"/>
            <a:ext cx="3200400" cy="75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B5E-3B89-4575-9FCA-4FB694F089BE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28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29"/>
          <p:cNvSpPr/>
          <p:nvPr/>
        </p:nvSpPr>
        <p:spPr>
          <a:xfrm>
            <a:off x="2438280" y="3048120"/>
            <a:ext cx="4114800" cy="759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2"/>
          <p:cNvSpPr/>
          <p:nvPr/>
        </p:nvSpPr>
        <p:spPr>
          <a:xfrm>
            <a:off x="5029200" y="55087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What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42"/>
          <p:cNvSpPr/>
          <p:nvPr/>
        </p:nvSpPr>
        <p:spPr>
          <a:xfrm>
            <a:off x="5715000" y="5867280"/>
            <a:ext cx="2057400" cy="7632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D84-22C0-438C-81CA-4BC74267C55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8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30"/>
          <p:cNvSpPr/>
          <p:nvPr/>
        </p:nvSpPr>
        <p:spPr>
          <a:xfrm>
            <a:off x="1981080" y="3733920"/>
            <a:ext cx="5181840" cy="75960"/>
          </a:xfrm>
          <a:custGeom>
            <a:avLst/>
            <a:gdLst>
              <a:gd name="textAreaLeft" fmla="*/ 0 w 5181840"/>
              <a:gd name="textAreaRight" fmla="*/ 5182200 w 5181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2"/>
          <p:cNvSpPr/>
          <p:nvPr/>
        </p:nvSpPr>
        <p:spPr>
          <a:xfrm>
            <a:off x="5029200" y="5508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the capital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Freeform 33"/>
          <p:cNvSpPr/>
          <p:nvPr/>
        </p:nvSpPr>
        <p:spPr>
          <a:xfrm>
            <a:off x="5715000" y="5867280"/>
            <a:ext cx="2133720" cy="763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F8B-153E-4C78-92C5-DC8AB5603858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8"/>
          <p:cNvSpPr/>
          <p:nvPr/>
        </p:nvSpPr>
        <p:spPr>
          <a:xfrm>
            <a:off x="916560" y="5478480"/>
            <a:ext cx="267696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Freeform 31"/>
          <p:cNvSpPr/>
          <p:nvPr/>
        </p:nvSpPr>
        <p:spPr>
          <a:xfrm>
            <a:off x="1676520" y="4419720"/>
            <a:ext cx="5790960" cy="75960"/>
          </a:xfrm>
          <a:custGeom>
            <a:avLst/>
            <a:gdLst>
              <a:gd name="textAreaLeft" fmla="*/ 0 w 5790960"/>
              <a:gd name="textAreaRight" fmla="*/ 5791320 w 5790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32"/>
          <p:cNvSpPr/>
          <p:nvPr/>
        </p:nvSpPr>
        <p:spPr>
          <a:xfrm>
            <a:off x="5029200" y="5508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33"/>
          <p:cNvSpPr/>
          <p:nvPr/>
        </p:nvSpPr>
        <p:spPr>
          <a:xfrm>
            <a:off x="5715000" y="5867280"/>
            <a:ext cx="990720" cy="76320"/>
          </a:xfrm>
          <a:custGeom>
            <a:avLst/>
            <a:gdLst>
              <a:gd name="textAreaLeft" fmla="*/ 0 w 990720"/>
              <a:gd name="textAreaRight" fmla="*/ 991080 w 990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4F3-B506-4C2A-B956-FCEE45362271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7156080" y="4732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6"/>
          <p:cNvSpPr/>
          <p:nvPr/>
        </p:nvSpPr>
        <p:spPr>
          <a:xfrm>
            <a:off x="1265400" y="4770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8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32"/>
          <p:cNvSpPr/>
          <p:nvPr/>
        </p:nvSpPr>
        <p:spPr>
          <a:xfrm>
            <a:off x="5029200" y="5508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3FF-9B55-4391-BA63-CE25698DE738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x-Based MT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1851840" y="339264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5074200" y="2690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5"/>
          <p:cNvSpPr/>
          <p:nvPr/>
        </p:nvSpPr>
        <p:spPr>
          <a:xfrm>
            <a:off x="5312880" y="33764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6"/>
          <p:cNvSpPr/>
          <p:nvPr/>
        </p:nvSpPr>
        <p:spPr>
          <a:xfrm>
            <a:off x="6646680" y="406224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7156080" y="4732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8"/>
          <p:cNvSpPr/>
          <p:nvPr/>
        </p:nvSpPr>
        <p:spPr>
          <a:xfrm>
            <a:off x="5929560" y="200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16"/>
          <p:cNvSpPr/>
          <p:nvPr/>
        </p:nvSpPr>
        <p:spPr>
          <a:xfrm>
            <a:off x="1265400" y="4770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18"/>
          <p:cNvSpPr/>
          <p:nvPr/>
        </p:nvSpPr>
        <p:spPr>
          <a:xfrm>
            <a:off x="26974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9"/>
          <p:cNvSpPr/>
          <p:nvPr/>
        </p:nvSpPr>
        <p:spPr>
          <a:xfrm>
            <a:off x="2309400" y="2706840"/>
            <a:ext cx="13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24"/>
          <p:cNvSpPr/>
          <p:nvPr/>
        </p:nvSpPr>
        <p:spPr>
          <a:xfrm>
            <a:off x="1477440" y="40784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27"/>
          <p:cNvSpPr/>
          <p:nvPr/>
        </p:nvSpPr>
        <p:spPr>
          <a:xfrm>
            <a:off x="883800" y="5478480"/>
            <a:ext cx="27424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28"/>
          <p:cNvSpPr/>
          <p:nvPr/>
        </p:nvSpPr>
        <p:spPr>
          <a:xfrm>
            <a:off x="4876920" y="5460840"/>
            <a:ext cx="4267080" cy="3988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2dff"/>
                </a:solidFill>
                <a:latin typeface="Times New Roman"/>
              </a:rPr>
              <a:t>Out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the capital of Ohio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chronous Deriva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Translati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80600" y="1371600"/>
            <a:ext cx="8085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make a probabilistic version of synchronous grammars to create a translation model for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ynchronous production rule is given a weigh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used in a maximum-entropy (log linear)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are learned to maximize the conditional log-likelihood of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CE89-0506-4433-8A6F-8FE89926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Picture 7" descr="Slide475_Picture 6"/>
          <p:cNvPicPr/>
          <p:nvPr/>
        </p:nvPicPr>
        <p:blipFill>
          <a:blip r:embed="rId1"/>
          <a:stretch/>
        </p:blipFill>
        <p:spPr>
          <a:xfrm>
            <a:off x="1906560" y="5678640"/>
            <a:ext cx="526428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Machine Translation (NM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685800" y="1371600"/>
            <a:ext cx="777240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/Decoder framework maps sentence in source language to a "deep vector" then another LSTM maps this vector to a sentence in the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E4D5-4987-4905-ACF2-77B1DC6E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Box 4"/>
          <p:cNvSpPr/>
          <p:nvPr/>
        </p:nvSpPr>
        <p:spPr>
          <a:xfrm>
            <a:off x="352440" y="37148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"/>
          <p:cNvSpPr/>
          <p:nvPr/>
        </p:nvSpPr>
        <p:spPr>
          <a:xfrm>
            <a:off x="2698920" y="3600360"/>
            <a:ext cx="1031040" cy="7038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S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Box 7"/>
          <p:cNvSpPr/>
          <p:nvPr/>
        </p:nvSpPr>
        <p:spPr>
          <a:xfrm>
            <a:off x="5592600" y="37148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Box 8"/>
          <p:cNvSpPr/>
          <p:nvPr/>
        </p:nvSpPr>
        <p:spPr>
          <a:xfrm>
            <a:off x="2963880" y="368604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9"/>
          <p:cNvSpPr/>
          <p:nvPr/>
        </p:nvSpPr>
        <p:spPr>
          <a:xfrm>
            <a:off x="4843080" y="3600360"/>
            <a:ext cx="1044720" cy="7038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S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Arrow: Right 10"/>
          <p:cNvSpPr/>
          <p:nvPr/>
        </p:nvSpPr>
        <p:spPr>
          <a:xfrm>
            <a:off x="3735360" y="3886200"/>
            <a:ext cx="447840" cy="114480"/>
          </a:xfrm>
          <a:prstGeom prst="rightArrow">
            <a:avLst>
              <a:gd name="adj1" fmla="val 50000"/>
              <a:gd name="adj2" fmla="val 49841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rrow: Right 11"/>
          <p:cNvSpPr/>
          <p:nvPr/>
        </p:nvSpPr>
        <p:spPr>
          <a:xfrm>
            <a:off x="4535640" y="3857760"/>
            <a:ext cx="307800" cy="114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rrow: Right 12"/>
          <p:cNvSpPr/>
          <p:nvPr/>
        </p:nvSpPr>
        <p:spPr>
          <a:xfrm>
            <a:off x="2390760" y="3905280"/>
            <a:ext cx="309600" cy="114120"/>
          </a:xfrm>
          <a:prstGeom prst="rightArrow">
            <a:avLst>
              <a:gd name="adj1" fmla="val 50000"/>
              <a:gd name="adj2" fmla="val 5030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Arrow: Right 13"/>
          <p:cNvSpPr/>
          <p:nvPr/>
        </p:nvSpPr>
        <p:spPr>
          <a:xfrm>
            <a:off x="5888160" y="3886200"/>
            <a:ext cx="307800" cy="114480"/>
          </a:xfrm>
          <a:prstGeom prst="rightArrow">
            <a:avLst>
              <a:gd name="adj1" fmla="val 50000"/>
              <a:gd name="adj2" fmla="val 4985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Content Placeholder 2"/>
          <p:cNvSpPr/>
          <p:nvPr/>
        </p:nvSpPr>
        <p:spPr>
          <a:xfrm>
            <a:off x="685800" y="4467240"/>
            <a:ext cx="777240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odel "end to end" on sentence-aligned parallel corp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MT with Languag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1371240"/>
            <a:ext cx="7772400" cy="21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illa LSTM approach does not use a language model so does not exploit monolingual data for the target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tegrate an LSTM language model using “deep fus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42F2-3185-46B7-A644-186E6E36D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Shape 2177" descr="lm_fusion.png"/>
          <p:cNvPicPr/>
          <p:nvPr/>
        </p:nvPicPr>
        <p:blipFill>
          <a:blip r:embed="rId1"/>
          <a:srcRect l="50548" t="0" r="0" b="0"/>
          <a:stretch/>
        </p:blipFill>
        <p:spPr>
          <a:xfrm>
            <a:off x="4621320" y="3500280"/>
            <a:ext cx="4044960" cy="30657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7"/>
          <p:cNvSpPr/>
          <p:nvPr/>
        </p:nvSpPr>
        <p:spPr>
          <a:xfrm>
            <a:off x="5460840" y="5783400"/>
            <a:ext cx="816120" cy="36828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7005600" y="5770440"/>
            <a:ext cx="816120" cy="36828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Content Placeholder 2"/>
          <p:cNvSpPr/>
          <p:nvPr/>
        </p:nvSpPr>
        <p:spPr>
          <a:xfrm>
            <a:off x="635040" y="3732120"/>
            <a:ext cx="40273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der predicts the next word from a concatenation of the hidden states of both the translation and language LSTM mode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hape 2178"/>
          <p:cNvSpPr/>
          <p:nvPr/>
        </p:nvSpPr>
        <p:spPr>
          <a:xfrm>
            <a:off x="5033880" y="3914640"/>
            <a:ext cx="889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ma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Shape 2179"/>
          <p:cNvSpPr/>
          <p:nvPr/>
        </p:nvSpPr>
        <p:spPr>
          <a:xfrm>
            <a:off x="5346720" y="4437000"/>
            <a:ext cx="1332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aten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Ga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ords in one language do not have a corresponding term in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ivi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ère (river that flows into ocean) and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leuve (river that does not flow into ocean) in French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chedenfraude (feeling good about another’s pain) in German.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yakoko (filial piety) in Japanes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D37-70FA-4B15-A693-9D3D47B4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69800" y="1299960"/>
            <a:ext cx="8204400" cy="46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 methods can usefully exploit various amounts of syntactic and semantic processing along the Vauquois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MT methods can automatically learn a translation system from a parallel cor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a noisy-channel model to exploit both a bilingual translation model and a monolingual languag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al LSTM methods are currently the state-of-the-a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DBFC-9D81-43D3-8D4D-8B83E690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uquois Triang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C92-E91D-4DC2-B1CF-9B5AFF18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4"/>
          <p:cNvSpPr/>
          <p:nvPr/>
        </p:nvSpPr>
        <p:spPr>
          <a:xfrm>
            <a:off x="3465360" y="1409760"/>
            <a:ext cx="206856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ingu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5"/>
          <p:cNvSpPr/>
          <p:nvPr/>
        </p:nvSpPr>
        <p:spPr>
          <a:xfrm>
            <a:off x="1873080" y="2441520"/>
            <a:ext cx="1797120" cy="994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6"/>
          <p:cNvSpPr/>
          <p:nvPr/>
        </p:nvSpPr>
        <p:spPr>
          <a:xfrm>
            <a:off x="5153040" y="2441520"/>
            <a:ext cx="1797120" cy="994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1206360" y="3892680"/>
            <a:ext cx="1797120" cy="99540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5967360" y="3892680"/>
            <a:ext cx="1797120" cy="99540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9"/>
          <p:cNvSpPr/>
          <p:nvPr/>
        </p:nvSpPr>
        <p:spPr>
          <a:xfrm>
            <a:off x="693720" y="5353200"/>
            <a:ext cx="155592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10"/>
          <p:cNvSpPr/>
          <p:nvPr/>
        </p:nvSpPr>
        <p:spPr>
          <a:xfrm>
            <a:off x="6881760" y="5353200"/>
            <a:ext cx="1555920" cy="563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11"/>
          <p:cNvSpPr/>
          <p:nvPr/>
        </p:nvSpPr>
        <p:spPr>
          <a:xfrm>
            <a:off x="414720" y="618480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rce Langu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6620400" y="615636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get Langu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Straight Arrow Connector 14"/>
          <p:cNvCxnSpPr>
            <a:endCxn id="637" idx="4"/>
          </p:cNvCxnSpPr>
          <p:nvPr/>
        </p:nvCxnSpPr>
        <p:spPr>
          <a:xfrm flipV="1">
            <a:off x="1455840" y="5917320"/>
            <a:ext cx="16560" cy="43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19"/>
          <p:cNvCxnSpPr/>
          <p:nvPr/>
        </p:nvCxnSpPr>
        <p:spPr>
          <a:xfrm flipV="1">
            <a:off x="7674480" y="5925600"/>
            <a:ext cx="108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3" name="Straight Arrow Connector 21"/>
          <p:cNvCxnSpPr>
            <a:endCxn id="635" idx="4"/>
          </p:cNvCxnSpPr>
          <p:nvPr/>
        </p:nvCxnSpPr>
        <p:spPr>
          <a:xfrm flipV="1">
            <a:off x="1554120" y="4890600"/>
            <a:ext cx="55152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23"/>
          <p:cNvCxnSpPr/>
          <p:nvPr/>
        </p:nvCxnSpPr>
        <p:spPr>
          <a:xfrm flipV="1">
            <a:off x="2214720" y="3404880"/>
            <a:ext cx="551520" cy="496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Straight Arrow Connector 24"/>
          <p:cNvCxnSpPr>
            <a:endCxn id="632" idx="3"/>
          </p:cNvCxnSpPr>
          <p:nvPr/>
        </p:nvCxnSpPr>
        <p:spPr>
          <a:xfrm flipV="1">
            <a:off x="3160440" y="1891800"/>
            <a:ext cx="60876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Straight Arrow Connector 26"/>
          <p:cNvCxnSpPr/>
          <p:nvPr/>
        </p:nvCxnSpPr>
        <p:spPr>
          <a:xfrm flipH="1" flipV="1">
            <a:off x="7157160" y="4847760"/>
            <a:ext cx="523080" cy="52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7" name="Straight Arrow Connector 28"/>
          <p:cNvCxnSpPr/>
          <p:nvPr/>
        </p:nvCxnSpPr>
        <p:spPr>
          <a:xfrm flipH="1" flipV="1">
            <a:off x="6186240" y="3401280"/>
            <a:ext cx="52272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648" name="Straight Arrow Connector 29"/>
          <p:cNvCxnSpPr>
            <a:endCxn id="632" idx="5"/>
          </p:cNvCxnSpPr>
          <p:nvPr/>
        </p:nvCxnSpPr>
        <p:spPr>
          <a:xfrm flipH="1" flipV="1">
            <a:off x="5230800" y="1891440"/>
            <a:ext cx="621000" cy="56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649" name="TextBox 31"/>
          <p:cNvSpPr/>
          <p:nvPr/>
        </p:nvSpPr>
        <p:spPr>
          <a:xfrm>
            <a:off x="1238040" y="3247920"/>
            <a:ext cx="9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RL &a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S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32"/>
          <p:cNvSpPr/>
          <p:nvPr/>
        </p:nvSpPr>
        <p:spPr>
          <a:xfrm>
            <a:off x="854640" y="4856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33"/>
          <p:cNvSpPr/>
          <p:nvPr/>
        </p:nvSpPr>
        <p:spPr>
          <a:xfrm>
            <a:off x="2371320" y="16686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34"/>
          <p:cNvSpPr/>
          <p:nvPr/>
        </p:nvSpPr>
        <p:spPr>
          <a:xfrm>
            <a:off x="7480440" y="269892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cti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traight Connector 43"/>
          <p:cNvSpPr/>
          <p:nvPr/>
        </p:nvSpPr>
        <p:spPr>
          <a:xfrm>
            <a:off x="5594400" y="2093760"/>
            <a:ext cx="205740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Straight Arrow Connector 45"/>
          <p:cNvCxnSpPr/>
          <p:nvPr/>
        </p:nvCxnSpPr>
        <p:spPr>
          <a:xfrm flipH="1">
            <a:off x="6557760" y="3187800"/>
            <a:ext cx="854640" cy="434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55" name="Straight Connector 49"/>
          <p:cNvSpPr/>
          <p:nvPr/>
        </p:nvSpPr>
        <p:spPr>
          <a:xfrm flipH="1">
            <a:off x="7590960" y="3476520"/>
            <a:ext cx="709560" cy="15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ight Arrow 52"/>
          <p:cNvSpPr/>
          <p:nvPr/>
        </p:nvSpPr>
        <p:spPr>
          <a:xfrm>
            <a:off x="3079800" y="4403880"/>
            <a:ext cx="2851200" cy="23940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ight Arrow 53"/>
          <p:cNvSpPr/>
          <p:nvPr/>
        </p:nvSpPr>
        <p:spPr>
          <a:xfrm>
            <a:off x="2322360" y="5462640"/>
            <a:ext cx="4499280" cy="239760"/>
          </a:xfrm>
          <a:prstGeom prst="rightArrow">
            <a:avLst>
              <a:gd name="adj1" fmla="val 50000"/>
              <a:gd name="adj2" fmla="val 50216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54"/>
          <p:cNvSpPr/>
          <p:nvPr/>
        </p:nvSpPr>
        <p:spPr>
          <a:xfrm>
            <a:off x="3577320" y="521028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ct trans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55"/>
          <p:cNvSpPr/>
          <p:nvPr/>
        </p:nvSpPr>
        <p:spPr>
          <a:xfrm>
            <a:off x="3420000" y="408636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ctic Trans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56"/>
          <p:cNvSpPr/>
          <p:nvPr/>
        </p:nvSpPr>
        <p:spPr>
          <a:xfrm>
            <a:off x="3344400" y="233856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 Trans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ight Arrow 57"/>
          <p:cNvSpPr/>
          <p:nvPr/>
        </p:nvSpPr>
        <p:spPr>
          <a:xfrm>
            <a:off x="3705120" y="2840040"/>
            <a:ext cx="1420920" cy="203040"/>
          </a:xfrm>
          <a:prstGeom prst="rightArrow">
            <a:avLst>
              <a:gd name="adj1" fmla="val 50000"/>
              <a:gd name="adj2" fmla="val 50413"/>
            </a:avLst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olog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idn’t slap the green witch. →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O:PAST not slap the green wit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y DO:PAST not slap the green witch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ar:PAST una bofetada a la verde bruj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Re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ar:PAST una bofetada a la bruja verd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ologica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ia no dió una bofetada a la bruja verd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F1D-4762-4C8A-8C02-1FF524689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24"/>
          <p:cNvSpPr/>
          <p:nvPr/>
        </p:nvSpPr>
        <p:spPr>
          <a:xfrm>
            <a:off x="6485040" y="4908600"/>
            <a:ext cx="672840" cy="336600"/>
          </a:xfrm>
          <a:custGeom>
            <a:avLst/>
            <a:gdLst/>
            <a:ahLst/>
            <a:rect l="l" t="t" r="r" b="b"/>
            <a:pathLst>
              <a:path w="673768" h="336884">
                <a:moveTo>
                  <a:pt x="0" y="336884"/>
                </a:moveTo>
                <a:cubicBezTo>
                  <a:pt x="100263" y="168442"/>
                  <a:pt x="200526" y="0"/>
                  <a:pt x="312821" y="0"/>
                </a:cubicBezTo>
                <a:cubicBezTo>
                  <a:pt x="425116" y="0"/>
                  <a:pt x="549442" y="168442"/>
                  <a:pt x="673768" y="3368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Straight Arrow Connector 36"/>
          <p:cNvCxnSpPr/>
          <p:nvPr/>
        </p:nvCxnSpPr>
        <p:spPr>
          <a:xfrm flipH="1">
            <a:off x="1899360" y="3669840"/>
            <a:ext cx="2520" cy="63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Straight Arrow Connector 42"/>
          <p:cNvCxnSpPr/>
          <p:nvPr/>
        </p:nvCxnSpPr>
        <p:spPr>
          <a:xfrm flipH="1">
            <a:off x="2466720" y="3645000"/>
            <a:ext cx="1335600" cy="638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Straight Arrow Connector 44"/>
          <p:cNvCxnSpPr/>
          <p:nvPr/>
        </p:nvCxnSpPr>
        <p:spPr>
          <a:xfrm flipH="1">
            <a:off x="2490480" y="3657240"/>
            <a:ext cx="28944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Straight Arrow Connector 46"/>
          <p:cNvCxnSpPr/>
          <p:nvPr/>
        </p:nvCxnSpPr>
        <p:spPr>
          <a:xfrm flipH="1">
            <a:off x="4161600" y="3621240"/>
            <a:ext cx="242280" cy="67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Straight Arrow Connector 48"/>
          <p:cNvCxnSpPr/>
          <p:nvPr/>
        </p:nvCxnSpPr>
        <p:spPr>
          <a:xfrm>
            <a:off x="4426560" y="3645000"/>
            <a:ext cx="337320" cy="614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Straight Arrow Connector 50"/>
          <p:cNvCxnSpPr/>
          <p:nvPr/>
        </p:nvCxnSpPr>
        <p:spPr>
          <a:xfrm>
            <a:off x="4427640" y="3610080"/>
            <a:ext cx="126432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52"/>
          <p:cNvCxnSpPr/>
          <p:nvPr/>
        </p:nvCxnSpPr>
        <p:spPr>
          <a:xfrm>
            <a:off x="4824000" y="3620880"/>
            <a:ext cx="109620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Straight Arrow Connector 54"/>
          <p:cNvCxnSpPr/>
          <p:nvPr/>
        </p:nvCxnSpPr>
        <p:spPr>
          <a:xfrm>
            <a:off x="5473440" y="3633480"/>
            <a:ext cx="975240" cy="649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Straight Arrow Connector 56"/>
          <p:cNvCxnSpPr/>
          <p:nvPr/>
        </p:nvCxnSpPr>
        <p:spPr>
          <a:xfrm>
            <a:off x="6208200" y="3633480"/>
            <a:ext cx="902520" cy="6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Straight Arrow Connector 60"/>
          <p:cNvCxnSpPr/>
          <p:nvPr/>
        </p:nvCxnSpPr>
        <p:spPr>
          <a:xfrm flipH="1">
            <a:off x="3270960" y="3632760"/>
            <a:ext cx="1132920" cy="63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4-06T21:14:50Z</dcterms:modified>
  <cp:revision>500</cp:revision>
  <dc:subject/>
  <dc:title>Intelligent Information Retrieval and Web Search</dc:title>
</cp:coreProperties>
</file>