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847200" cy="93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31"/>
          </p:nvPr>
        </p:nvSpPr>
        <p:spPr>
          <a:xfrm>
            <a:off x="387828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1074240" y="704520"/>
            <a:ext cx="4697640" cy="35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2"/>
          </p:nvPr>
        </p:nvSpPr>
        <p:spPr>
          <a:xfrm>
            <a:off x="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33"/>
          </p:nvPr>
        </p:nvSpPr>
        <p:spPr>
          <a:xfrm>
            <a:off x="387828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6323-FCD0-486C-87AB-6EFAFB174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A0B8-BBC5-45F7-91E7-5D18D0EC4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AB44-DC08-4CC0-A5AD-00EDA62AB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E24F-1122-46E8-B5CC-FDDE0D65E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3AF5-F6FB-4F79-BA5C-45A499499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06A7-D801-4380-9EA6-5B2313449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FBC9-22D8-4EA5-A95B-3CF9F2E37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F7B1-6ECE-498C-87FB-C1FB8A380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155B-AA24-4BEE-8A7A-42FD93694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B04C-3058-4C44-AD55-591C61D21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7F50-17E8-4D8B-B826-398328157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0A60-55BF-4180-A8D9-E735BFFCE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C02C-0684-4704-9A11-2511B5944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2A03-C64D-47BD-A2D4-AB5DDCB93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A728-2FBB-476E-A55B-3A7C5DE59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CED1-B6A1-423F-BB89-B8F62877C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4F1C-092B-4BC0-95DE-E4C06DE62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D404-1A26-4E40-A3D5-2ECAAF6CF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0BE7-EE50-4C0F-AA66-77D7D94FA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1B94-EB45-451B-B0C0-87993A0E0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13F0-AF85-4CD2-B01B-4C3244A5C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B72D-7384-428C-A30F-7524F805B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DBF8-26AF-48C9-AC3F-7CF0F8915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BA10-4F98-4DD4-8800-791802CD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DD21-6091-4D72-8752-716B5287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EACFAD-15F4-400E-B71A-2B330D7B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FD0F1C-EE66-4B1A-B83D-1F4B82B1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58FE50-D9B8-4CBA-BA36-54E6C44F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99B25F-BB3D-4D64-B866-0F78BC0B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634658-03BD-4D6C-8ED1-196BBBAD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4A06BE-2877-4686-BA92-70333B8C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7056F3-0D42-4640-94CB-F1BDD97A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D0E510-BAFD-4645-97DB-6A252F56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A70DE0-C651-4E55-96ED-3933BC60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EDEC57-9859-4E29-9F8B-A6AF8C04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4048-0917-42A7-9E46-7F86DA54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E601A1-D164-466A-AF27-68FE369C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3E5DC2-08C7-4E9E-9063-751AB579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56C8FE-CD8F-4721-A014-72925115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063E40-2F00-4E7E-8E21-018E09DD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6BBBA0-C211-4081-B8B6-CE378878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655FE7-2583-4823-9F98-BF1CA70B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C515D5-3DD8-48AA-BE5D-BF6AA124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45B96C-7E2D-4BCD-BC7E-8925E96D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13CE16-2679-40B2-9B9E-28A4AE50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CB170D-541D-4D13-B28E-8CBC8C34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0CFB-8E3C-4ECF-8C55-EA55FA4F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BAD6DB-05BE-49E8-88B1-BBB1717A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6E25F-E18B-42A9-BF13-8BFB396C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F253B-5CC5-46A4-AE1D-62205DFF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E7DED-B67F-41B2-AFC3-F65565D7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350D2-ED15-4F19-8917-5CCFF0C5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F659A-A0CE-4E12-A451-DCF253E2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3E69B-5327-440E-AE75-D6048DE3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6D40E-AAD1-4D83-A189-258B8218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13003-C289-40A3-B35A-D97EC110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D03D5-AC6A-46E6-BDCD-DF02B5E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6066A-897F-4A92-892D-07B2DEDC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8A487-0CD5-40D5-A789-9C4BB2AA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F793F-80D3-4CF9-BB86-1CF37182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0CD7F-5607-4689-9AE6-E215619F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11115-8E4E-4664-8CEC-1740497E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8BAB6-042C-4DE2-8F0B-B73F05D2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3A1DD-6E2D-48F3-A3D5-B6FFF0A1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AE714-B447-4337-957C-10A861D2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2258F-E195-4051-89CD-F58A35E6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2137F-3FF4-455B-B1C3-09E580E3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CCC57-3D40-40BB-AE22-D5E617A5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D369A-E049-4437-B9E1-61D1295F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71637-2EB7-47D3-8C55-22FDA016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FBDD2-498F-4677-80C2-8739783C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BE897-04A2-4999-8473-ABB0D1D2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2859B-7941-4F71-A742-E7E62A66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6979B-68FD-435C-A9BA-B142A06C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6A806-90DC-43D8-B01A-B9539EDC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460A5-C60E-4FA1-8B42-FCA0B081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6CFAE-BDEE-4CAA-B822-51D34AF1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0536-8489-4A51-9DF8-91FFAA89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DB27A6-7E3E-464B-8575-525DDC5A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21C34D-736B-4610-8514-7C77B39C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42B90C-51D2-46DE-B5B8-039D14CC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5BF5B-E6BA-46D2-9BCC-81E649DE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40AFF-152B-408B-8805-597B1981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53D24-3113-4901-94EC-3DC44B4E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84261D-0784-4AEC-92B0-8F845CC9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1D338F-E781-4A53-8D7D-77BDB65F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F07935-21F2-4EAC-8543-8827E5F3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1FA21-C1DA-4A04-B4B9-E49A408F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9A633-8243-4594-BD32-C0EA87A3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3C440-1CEC-4764-9E4D-F9C6AFD2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190D1-A8E5-4ED9-A112-E10A9DE9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C34CF-621C-4864-A637-BF29D84F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58CEF-BB19-4AAD-9091-FAF5AD8B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4DA382-2865-4435-B054-DB8BFC02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F903B1-9F67-4A48-BABC-6F38E172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C4A7F-318A-4DA9-9AF0-F739EA45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2245E-C785-4727-AFF2-379C41E0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4C3D4-9599-42C5-A59F-583A618B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7A7BB-27C7-4E10-8641-A00B2E73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1E7A-0EFE-4012-93F5-B7D0F0BE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B922EE-E000-49B2-B484-AFC7FA9A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191337-681A-4A38-BF05-716B5390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5A4B9-238C-4724-AED7-0D41515D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58D8A-F559-415F-AE65-D247BAB7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F8806-1F09-431D-B07A-8E67E1AE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F97FC5-1FFC-43C1-99A2-16EDEAAD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B6C3D-05CE-452C-A936-6082E1D1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ED292-9D23-4601-85E0-18A834CE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57792-5D68-4EFF-B05C-7C39E4E7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E032B1-7161-4CD3-9088-73816A74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309C2-DCE8-4CDE-9591-0793DB3B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E85448-09E6-45E7-B3CF-FDFC11A0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6EC9B-6C5E-482D-A808-BC81D199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494D1-6254-4EDD-BC8C-6C65A397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6779C8-D49F-4ED4-8FB6-63FF70C0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A137A-28B4-44CA-8C27-AAEB697A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CA3AB-F9E1-478B-8710-A8A35434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08C672-2407-4BF4-AEB4-25CBD299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C3445-47EF-473F-A55C-40C12C77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281FB-F0AF-4E39-96FF-D70E5E5B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A25C7-5908-437C-B2A8-9EA80627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75E85-2F70-40AC-A258-C6C800EC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9F180-E721-47FB-A7BA-7707721E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0FA2F3-EA0E-4B8C-97D1-E146B4A6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9575B-57D1-451A-B020-08DD641F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1B274-A2DF-4B7D-B7C9-72499079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64D46-2D05-4D92-AB14-7DDC8E0B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CBA898-A902-4ED0-9728-D78ACDDE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CB3E12-3D39-4410-B927-5C309C3B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FCCAEF-60E7-4341-84E1-7B5CA95E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69E0D4-B56C-425D-B8C0-C3761CBD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ADF4F3-58F0-47C5-A498-EA746B30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BEB7-7EF2-48A3-A228-6FA82246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9FE8FF-EE6F-4379-8E61-0C4B69CD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EE981D-11BA-49FA-B29D-939337AC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768D95-3F47-4AF6-9930-763C2B92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CB62E3-4CB8-48C9-84E7-A6A2DCA8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EDA071-0BFD-4515-8983-9BCFC4EC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CB9EDD-D606-455A-8DED-131942C9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85355C-D156-4465-A24D-E115CFFD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37FFA8-3812-422D-BE40-69A10C46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475B19-3415-4B49-BC4C-0289F7F2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BA39EA-B5BA-41F8-AFCF-596880E9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7988-58CE-45BD-B00D-4FE9E9560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173F-26F0-4FF7-B199-5F49F214E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32CA-D27D-431F-9F0C-B55B01407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245E-053F-4360-BD28-2BCCA8317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5CC0-7868-4529-8058-E5FD21633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6DE0-8B78-4161-A62E-514707167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EF83-32A9-4C91-B418-615AA7FA1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E9A1-E1AF-47A8-9F9F-266195F45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DEA8-6073-4F08-9546-AF2228D64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8040-CBF9-4965-BB4A-354A66E1C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B508-2C8C-49AB-BFBE-63E98C7B3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88: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:</a:t>
            </a:r>
            <a:br>
              <a:rPr sz="3600"/>
            </a:b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N-Gram Language Models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in and Test Corpor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nguage model must be trained on a large corpus of text to estimate good paramet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be evaluated based on its ability to predict a high probability for a disjoint (held-out) test corpus (testing on the training corpus would give an optimistically biased estim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ly, the training (and test) corpus should be representative of the actual application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da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general model to a small amount of new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-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ata by adding highly weighted small corpus to original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nknown Wor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handle words in the test corpus that did not occur in the training data, i.e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ut of vocabula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OV) wor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 a model that includes an explicit symbol for an unknown word (&lt;UNK&gt;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hoose a vocabulary in advance and replace other words in the training corpus with &lt;UNK&gt;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place the first occurrence of each word in the training data with &lt;UNK&gt;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on of Language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ly, evaluate use of model in end application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trins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viv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alistic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ensiv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on ability to model test corpu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trins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ess realistic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hea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y at least once that intrinsic evaluation correlates with an extrinsic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3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of how well a model “fits” the test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he probability that the model assigns to the test corp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es for the number of words in the test corpus and takes the inve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4"/>
              <p:cNvSpPr txBox="1"/>
              <p:nvPr/>
            </p:nvSpPr>
            <p:spPr>
              <a:xfrm>
                <a:off x="2535120" y="3576600"/>
                <a:ext cx="32752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6" name="Rectangle 5"/>
          <p:cNvSpPr/>
          <p:nvPr/>
        </p:nvSpPr>
        <p:spPr>
          <a:xfrm>
            <a:off x="666720" y="4767120"/>
            <a:ext cx="77724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s the weighted average branching factor in predicting the next word (lower is bet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Perplexity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trained on 38 million words from the Wall Street Journal (WSJ) using a 19,979 word vocabul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on a disjoint set of 1.5 million WSJ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231920" y="4421160"/>
          <a:ext cx="6388200" cy="1041480"/>
        </p:xfrm>
        <a:graphic>
          <a:graphicData uri="http://schemas.openxmlformats.org/drawingml/2006/table">
            <a:tbl>
              <a:tblPr/>
              <a:tblGrid>
                <a:gridCol w="1682640"/>
                <a:gridCol w="1511280"/>
                <a:gridCol w="1596960"/>
                <a:gridCol w="1597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plex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re are a combinatorial number of possible word sequences, many rare (but not impossible) combinations never occur in training, so MLE incorrectly assigns zero to many parameters (a.k.a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parse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new combination occurs during testing, it is given a probability of zero and the entire sequence gets a probability of zero (i.e. infinite perplexit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, parameters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mooth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.k.a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gulariz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reassign some probability mass to unseen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dding probability mass to unseen events requires removing it from seen ones 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iscount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in order to maintain a joint distribution that sums to 1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place (Add-One) 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40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llucinate” additional training data in which each possible N-gram occurs exactly once and adjust estimates according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otal number of possible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-grams (i.e. the vocabulary size for a bigram mode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3873600" y="2471760"/>
                <a:ext cx="3244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3916440" y="3289320"/>
                <a:ext cx="3711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6" name="Text Box 6"/>
          <p:cNvSpPr/>
          <p:nvPr/>
        </p:nvSpPr>
        <p:spPr>
          <a:xfrm>
            <a:off x="2372400" y="2633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2354040" y="3481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-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765000" y="5086440"/>
            <a:ext cx="80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ds to reassign too much mass to unseen events, so can be adjusted to add 0&l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 (normalized b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dvanced 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dvanced techniques have been developed to improve smoothing for language mod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ood-Tu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terpol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ckoff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neser-Ne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lass-based (cluster) N-gra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del Combin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N increases, the power (expressiveness) of an N-gram model increases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ability to estimate accurate parameters from sparse data decreases (i.e. the smoothing problem gets wor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approach is to combine the results of multiple N-gram models of increasing complexity (i.e. increasing 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terpo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ly combine estimates of N-gram models of increasing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666720" y="4255920"/>
            <a:ext cx="77724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proper values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raining to (approximately) maximize the likelihood of an independen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.k.a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u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rp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5"/>
              <p:cNvSpPr txBox="1"/>
              <p:nvPr/>
            </p:nvSpPr>
            <p:spPr>
              <a:xfrm>
                <a:off x="963720" y="2943360"/>
                <a:ext cx="7448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Text Box 6"/>
          <p:cNvSpPr/>
          <p:nvPr/>
        </p:nvSpPr>
        <p:spPr>
          <a:xfrm>
            <a:off x="998640" y="258588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olated Trigram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7"/>
              <p:cNvSpPr txBox="1"/>
              <p:nvPr/>
            </p:nvSpPr>
            <p:spPr>
              <a:xfrm>
                <a:off x="3049560" y="3598920"/>
                <a:ext cx="1138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9" name="Text Box 8"/>
          <p:cNvSpPr/>
          <p:nvPr/>
        </p:nvSpPr>
        <p:spPr>
          <a:xfrm>
            <a:off x="2090520" y="36338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nguage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 grammars (e.g. regular, context free) give a hard “binary” model of the legal  sentences in a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NLP,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obabilis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l of a language that gives a probability that a string is a member of a language is more use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pecify a correct probability distribution, the probability of all sentences in a language must sum to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ckoff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use lower-order model when data for higher-order model is unavailable (i.e. count is zer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 back-off to weaker models until data is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1279440" y="3521160"/>
                <a:ext cx="66423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atz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P</m:t>
                                    </m:r>
                                    <m:r>
                                      <m:t xml:space="preserve">∗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f 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α</m:t>
                                    </m:r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atz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therwis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3" name="Text Box 6"/>
          <p:cNvSpPr/>
          <p:nvPr/>
        </p:nvSpPr>
        <p:spPr>
          <a:xfrm>
            <a:off x="1104840" y="4987800"/>
            <a:ext cx="715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* is a discounted probability estimate to reserve mass for unseen events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are back-off weights (see text for detail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 Problem for N-Grams: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Long Distance Dependenci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imes local context does not provide the most useful predictive clues, which instead are provid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ong-distance dependen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yntactic dependenc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ma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next to the large oak tree near the grocery store on the corner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tall.”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me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next to the large oak tree near the grocery store on the corner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ar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tall.”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mantic dependenc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bird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next to the large oak tree near the grocery store on the corner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lie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rapidly.”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ma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next to the large oak tree near the grocery store on the corner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alk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rapidly.”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plex models of language are needed to handle such depend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models assign a probability that a sentence is a legal string in a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useful as a component of many NLP systems, such as ASR, OCR, and M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N-gram models are easy to train on unsupervised corpora and can provide useful estimates of sentence likelih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LE gives inaccurate parameters for models trained on spars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othing techniques adjust parameter estimates to account for unseen (but not impossible)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es of Language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0320" y="1371600"/>
            <a:ext cx="81262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ate a cherry” is a more likely sentence than “Eye eight uh Jerry”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R &amp; Handwriting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ore probable sentences are more likely correct reading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ore likely sentences are probably better translation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ore likely sentences are probably better NL generations.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 sensitive spelling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ir are problems wit this sentence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tion Predi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43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nguage model also supports predicting the completion of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lease turn off your cell _____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Your program does not ______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ive text 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ystems can guess what you are typing and give choices on how to comple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-Gram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58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robability of each word given prior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phone | Please turn off your cell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arameters required grows exponentially with the number of words of prior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N-gram model uses only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words of prior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nigram:  P(phone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igram:  P(phone | cell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igram:  P(phone | your cell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rkov assum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presumption that the future behavior of a dynamical system only depends on its recent history.  In particular, in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th-order Markov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next state only depends o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st recent states, therefore an N-gram model is a (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-order Markov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-Gram Model Formula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n rule of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ram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-gram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1569960" y="1930320"/>
                <a:ext cx="1689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5"/>
              <p:cNvSpPr txBox="1"/>
              <p:nvPr/>
            </p:nvSpPr>
            <p:spPr>
              <a:xfrm>
                <a:off x="1120680" y="3030480"/>
                <a:ext cx="7537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6"/>
              <p:cNvSpPr txBox="1"/>
              <p:nvPr/>
            </p:nvSpPr>
            <p:spPr>
              <a:xfrm>
                <a:off x="1859040" y="5413320"/>
                <a:ext cx="30240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7"/>
              <p:cNvSpPr txBox="1"/>
              <p:nvPr/>
            </p:nvSpPr>
            <p:spPr>
              <a:xfrm>
                <a:off x="1887480" y="4211640"/>
                <a:ext cx="2763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stimating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-gram conditional probabilities can be estimated from raw text based o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lative frequenc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word sequ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ave a consistent probabilistic model, append a unique start (&lt;s&gt;) and end (&lt;/s&gt;) symbol to every sentence and treat these as additional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3881520" y="2593800"/>
                <a:ext cx="29113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5"/>
              <p:cNvSpPr txBox="1"/>
              <p:nvPr/>
            </p:nvSpPr>
            <p:spPr>
              <a:xfrm>
                <a:off x="3922560" y="3497400"/>
                <a:ext cx="33800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8" name="Text Box 6"/>
          <p:cNvSpPr/>
          <p:nvPr/>
        </p:nvSpPr>
        <p:spPr>
          <a:xfrm>
            <a:off x="2202480" y="27320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2195280" y="36892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-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tive Model &amp; M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N-gram model can be seen as a probabilistic automata for generating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frequency estimates can be proven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ximum likelihood estimat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LE) since they maximize the probability that the mod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generate the training corp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422360" y="2403360"/>
            <a:ext cx="731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 sentence with 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&lt;s&gt;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&lt;/s&gt; is generated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pick the next word based on the conditional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 of each word given the previous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wor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5"/>
              <p:cNvSpPr txBox="1"/>
              <p:nvPr/>
            </p:nvSpPr>
            <p:spPr>
              <a:xfrm>
                <a:off x="2732040" y="5737320"/>
                <a:ext cx="36846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λ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from Textboo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&lt;s&gt; i want english food &lt;/s&gt;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P(i | &lt;s&gt;) P(want | i) P(english | want)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food | english) P(&lt;/s&gt; | 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.25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33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0011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5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68 = .0000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704880" y="3865680"/>
            <a:ext cx="777240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&lt;s&gt; i want chinese food &lt;/s&gt;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P(i | &lt;s&gt;) P(want | i) P(chinese | want)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food | chinese) P(&lt;/s&gt; | 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.25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33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0065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52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68 = .000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12-02-05T19:18:08Z</dcterms:modified>
  <cp:revision>386</cp:revision>
  <dc:subject/>
  <dc:title>Intelligent Information Retrieval and Web Search</dc:title>
</cp:coreProperties>
</file>