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0"/>
            <a:ext cx="6847200" cy="93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71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dt" idx="31"/>
          </p:nvPr>
        </p:nvSpPr>
        <p:spPr>
          <a:xfrm>
            <a:off x="3878280" y="-360"/>
            <a:ext cx="29671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Img"/>
          </p:nvPr>
        </p:nvSpPr>
        <p:spPr>
          <a:xfrm>
            <a:off x="1074240" y="704520"/>
            <a:ext cx="4697640" cy="352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2"/>
          </p:nvPr>
        </p:nvSpPr>
        <p:spPr>
          <a:xfrm>
            <a:off x="0" y="8926200"/>
            <a:ext cx="29671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 type="sldNum" idx="33"/>
          </p:nvPr>
        </p:nvSpPr>
        <p:spPr>
          <a:xfrm>
            <a:off x="3878280" y="8926200"/>
            <a:ext cx="29671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CA35-3075-4DB7-8FB8-5A40D597E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DF48-6968-4CBA-B34D-2EBBF27B8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3645-9C05-4C37-9C05-6CBF010F1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AF9F-567A-4C88-961B-57013539A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6F3F-D4BC-43AB-8C3F-DCBF56E0E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1153-206A-49F1-938F-E9EBA349E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AC94-B6DF-4AAA-9441-1486B698B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D00D-2DB6-409F-826C-AC7956CD3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165A-6D34-4622-981A-D8F35A781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4B27-97A6-4095-B337-4480CB8E3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84D9-0E83-4663-8989-30C714465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134B-D2D4-4006-AC94-2767609C9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2D68-3E3D-4476-B7B6-799F3152E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495B-B166-4325-817A-137B6119B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66E0-3D26-42CB-BED6-240547896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7AAA-D5C0-43C8-B671-134227C32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BC28-F7FC-4D38-AE57-C60C1B38F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9CB6-3E62-46CF-85CE-F6D60380C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5F1E-735A-4CC2-AC79-BC4A36F79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97DB-A3CC-4A45-9868-EDE7EB245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D081-757D-40AB-B298-8B0ACF796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79B2-CE25-417E-A578-4EF7DE93F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DBD8-83D9-4DD2-8D1C-A65D654F9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2117C-53E9-4835-BFED-87E9D8397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FEDD0-FCE0-41D8-A515-7516FA2A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02E642-64AB-4B99-A135-4386EB29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63676B-CDC7-4E94-9279-1D1527DF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DA8788-11D9-4F33-A39A-9A1423CC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6E502E-4D18-4431-AFD1-D86ABCBA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BAC380-1D0F-4BA3-86E5-A7A1D7C0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3310F3-1A4A-4D58-A9F4-221108A7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815FCA-AB2C-4D7F-90B6-482F928A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1A1CA4-2724-4E54-B4E6-BF7FE365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EC25E0-FB24-43BD-A949-D03FCC2DB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8C52FE-3C9B-4147-ABE0-F95DD1C05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C8796-513D-4932-8C2D-E210EB259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40726D-1ABF-4B0D-826C-B4FE3400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55CF14-A099-45C9-9E6A-00458F74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A19DAB-E8BA-4708-AFD6-CB6A4749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017082-DF99-4DB3-9CD8-759007B3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AD6C14-30AC-4621-8473-CCE45B53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50719B-344F-4866-9969-7C7C7733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F6C3FF-11F9-46DF-954D-42071212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128BC5-C065-4002-9B10-F2536A63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287DAC-14D2-4413-839B-CCF93AA1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E800FE-770A-4306-A4F8-FAB5AE905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DA0D4-AB12-4667-92FB-2FAEE6F13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E5F267-C571-4A3C-BF72-A76775125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EB1B1-55BC-415D-BAE2-908D0720A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2E4B5-F0A0-4F98-A4FA-5BF4FC80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FA0DB-E489-4948-B222-C594C87D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FD4CC-8B2B-45D1-B533-57C7D393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D8C2D-55B6-4177-B359-EB013E1E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EC2E7-7A3A-4349-AE5F-A5EEBA52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A1D35-45B9-43C8-8DAC-D1347817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13257-DDC1-4E92-8616-EA25649C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4A575-EF6E-4E71-B834-211ED5ED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83127-010D-4A3F-BFA4-D0DD80B2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5320F-9FD8-4817-8967-2235E1ED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BA5990-593E-4234-8B8F-D9E5D8B70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B8889-28AC-4D14-9963-D8C10BFA4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4B096C-2E0E-47AC-9824-EF4103552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A890BC-300B-4C80-8B2A-6B1A8AA2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690FCC-A256-40B8-83D0-1B68AC14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974C7D-C32A-4270-8D23-5AD2C585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F8FA18-57DC-470C-8E50-4D766FC4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B4A6F-E432-440C-A8D1-8161D4CA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49CEDA-9CEB-4218-BA32-7E547500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D2DCAC-83DC-43DE-8C26-FD49FBFD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65B6BE-844C-47ED-9BB8-A4B247E4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357908-509A-486D-A8E6-93D01E8D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2F9230-540F-41E4-B76B-0EFE1AE4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D95682-E405-4FB6-9386-313EDF9DC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38E43C-2E0B-4A8C-8D62-146F2A07C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03550C-EA31-45CB-BF60-071FA83AB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679852-9CF1-448B-BC15-7CCDCF16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4B93BF-F4A2-4DE8-89C8-AF2AA02F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74D41-D063-4B79-9EFF-4FAFD98B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EC757A-66D0-4B6A-9206-57C84788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37EF9D-DB3B-4586-AE7D-0D932F72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FB6664-12AB-433F-8D1B-38D0449A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3DCBD6-346F-449C-A97E-3336E3E6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1BBDE5-FFF0-4F6D-823E-DB9109D3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285C29-6E50-47CF-9012-F0E09D66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315566-5336-4903-8AA7-FFCB7BEB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A70A3F-831B-4998-9F0A-691404220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D2911A-3BED-4C5A-8141-DD71E7B13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206787-C73C-4518-BA1B-C096501F6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58542-B089-4866-A153-10ACA483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402F4D-ACA8-46DD-A4CA-27670F09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3551E5-702B-42FF-9091-A6479714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DD3F82-9824-4417-A3FF-9676F723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C158CF-1E27-4678-AFBC-0312F83B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AE7E2B-5315-46EA-B37D-58318A9D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7ED03C-1BBB-41A6-8550-2A539AE8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D32E91-4001-4E1D-AFF6-B9CF3074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1DB984-4453-453D-80F2-13782625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F95603-24F6-440A-B6A7-964CE65C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847052-136E-4511-A532-C9891AAD5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EAFF5-C376-436D-BDFA-7C471C5C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66405C-9E5F-4C00-908C-2F37AC24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93F181-174F-4865-A150-4A11C1C02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DD75F2-286A-49CD-A0CF-BF0D484C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CDC32F-650A-4BA4-A28D-B309BD4B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BDDD9D-7548-4B85-AC94-B47FB8CB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E10FB9-8320-4607-8053-8BC77B09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E2CBBE-BF58-4E38-AD32-AE807C5E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ECCBB1-046D-436C-885D-37C8A8A4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C8355E-4960-4C47-BED4-A84723EC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1E111F-997C-40E5-A083-F43FAAC3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AB2D8-585D-4ACA-B5EC-43C4FC15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116345-6BF3-4C5B-B298-3D702E99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7B283E-9746-46E6-87CA-BFFFF6351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D44816-98BB-47C8-9592-B0778380F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6CE6FC-4BF1-444B-A634-545EC85F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91767F-2C93-4A49-AC2F-BEBF0C63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A88AD7-EB63-49DA-8D1F-0A703141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2BD42F-8FD4-453B-BE32-028B0654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F69033-40A1-4223-803F-21E870B7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72E3CF-45BB-4B2B-91D7-67179BC4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CA1F6A-FF0C-457E-8135-BDB437FD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9B281-A46A-44BC-A583-F90E511D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D26132-0B42-4F5D-AB3D-FED9EA2F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E991B6-4316-4982-AAE0-104C8195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FBD493-4B89-40B3-8196-F6ECAD45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774125-7B6C-4FA3-9B0A-5FEF338BD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1DA4F4-9473-424B-ACA1-3D8562DB5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400669-A4DB-4E18-9EEB-E7BBA2B6F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AEA192-97B0-4DA7-A31A-A0997C02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6D9C16-0CA2-4D41-A25F-AF8AC118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2390CA-A62A-4BB0-991A-03A14520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200E2B-48B9-45E2-8D28-54B819F6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AF1E2-B1DE-475B-9011-59A057E4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B360EA-8F93-47C9-8845-ABB184A6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CE58E5-A606-470A-928B-554C3A37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23CB0A-97F4-4E09-B96B-075A9D7E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F637BB-5E66-4F58-8EAC-3084F240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D4ACB4-139C-4209-8B62-BDF5A3D8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320273-71D9-4CA0-8548-949711C08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99AE7E-7CE1-4E9E-AE31-441056404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681E11-AA17-463C-B8E2-4FCA0FF5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111420-5400-48FD-B89E-1D5B444B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97F1EA-BEEE-4654-A45E-B0681247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B6A3-6DC3-477E-AAE7-10A2D8494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E38D-F777-4073-BD90-A6DD5E176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3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62F5-FF7E-4F1F-B60F-184CE924A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D2AE-19A6-467C-9B13-7EE54F118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8F80-0AC0-40DA-905D-CFA4761C2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D1F2-D2B2-4F48-B619-AA4D1AC57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4522-D516-467D-893B-6717161A7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2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B46F-FD46-4458-8C60-F1552E8D9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0700-AEC3-46F8-9629-2080E7712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3698-FEAF-4F0D-B6BE-69301347E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5C8E-9A0E-41B3-954E-622749202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S 388: 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Natural Language Processing:</a:t>
            </a:r>
            <a:br>
              <a:rPr sz="3600"/>
            </a:br>
            <a:r>
              <a:rPr b="1" lang="en-US" sz="4000" spc="-1" strike="noStrike">
                <a:solidFill>
                  <a:srgbClr val="336600"/>
                </a:solidFill>
                <a:latin typeface="Times New Roman"/>
              </a:rPr>
              <a:t>N-Gram Language Models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324080" y="4849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aymond J. Mo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Texas at Aus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rain and Test Corpora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anguage model must be trained on a large corpus of text to estimate good parameter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can be evaluated based on its ability to predict a high probability for a disjoint (held-out) test corpus (testing on the training corpus would give an optimistically biased estimat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lly, the training (and test) corpus should be representative of the actual application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need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dap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general model to a small amount of new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-do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data by adding highly weighted small corpus to original training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Unknown Word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handle words in the test corpus that did not occur in the training data, i.e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ut of vocabula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OOV) word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n a model that includes an explicit symbol for an unknown word (&lt;UNK&gt;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hoose a vocabulary in advance and replace other words in the training corpus with &lt;UNK&gt;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eplace the first occurrence of each word in the training data with &lt;UNK&gt;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valuation of Language Model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lly, evaluate use of model in end application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xtrins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 viv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ealistic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xpensiv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on ability to model test corpus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trins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ess realistic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heap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ify at least once that intrinsic evaluation correlates with an extrinsic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erplex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3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 of how well a model “fits” the test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the probability that the model assigns to the test corp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izes for the number of words in the test corpus and takes the inve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4"/>
              <p:cNvSpPr txBox="1"/>
              <p:nvPr/>
            </p:nvSpPr>
            <p:spPr>
              <a:xfrm>
                <a:off x="2535120" y="3576600"/>
                <a:ext cx="327528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66" name="Rectangle 5"/>
          <p:cNvSpPr/>
          <p:nvPr/>
        </p:nvSpPr>
        <p:spPr>
          <a:xfrm>
            <a:off x="666720" y="4767120"/>
            <a:ext cx="7772400" cy="16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s the weighted average branching factor in predicting the next word (lower is bette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Perplexity Evalu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6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trained on 38 million words from the Wall Street Journal (WSJ) using a 19,979 word vocabul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e on a disjoint set of 1.5 million WSJ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1231920" y="4421160"/>
          <a:ext cx="6388200" cy="1041480"/>
        </p:xfrm>
        <a:graphic>
          <a:graphicData uri="http://schemas.openxmlformats.org/drawingml/2006/table">
            <a:tbl>
              <a:tblPr/>
              <a:tblGrid>
                <a:gridCol w="1682640"/>
                <a:gridCol w="1511280"/>
                <a:gridCol w="1596960"/>
                <a:gridCol w="1597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gr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gr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gr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plex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mooth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there are a combinatorial number of possible word sequences, many rare (but not impossible) combinations never occur in training, so MLE incorrectly assigns zero to many parameters (a.k.a.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parse 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new combination occurs during testing, it is given a probability of zero and the entire sequence gets a probability of zero (i.e. infinite perplexit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ractice, parameters a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mooth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.k.a.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gulariz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reassign some probability mass to unseen ev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dding probability mass to unseen events requires removing it from seen ones (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discounting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 in order to maintain a joint distribution that sums to 1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aplace (Add-One) Smooth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4060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llucinate” additional training data in which each possible N-gram occurs exactly once and adjust estimates according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total number of possible 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-grams (i.e. the vocabulary size for a bigram mode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4"/>
              <p:cNvSpPr txBox="1"/>
              <p:nvPr/>
            </p:nvSpPr>
            <p:spPr>
              <a:xfrm>
                <a:off x="3873600" y="2471760"/>
                <a:ext cx="32446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5"/>
              <p:cNvSpPr txBox="1"/>
              <p:nvPr/>
            </p:nvSpPr>
            <p:spPr>
              <a:xfrm>
                <a:off x="3916440" y="3289320"/>
                <a:ext cx="37116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6" name="Text Box 6"/>
          <p:cNvSpPr/>
          <p:nvPr/>
        </p:nvSpPr>
        <p:spPr>
          <a:xfrm>
            <a:off x="2372400" y="26337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7"/>
          <p:cNvSpPr/>
          <p:nvPr/>
        </p:nvSpPr>
        <p:spPr>
          <a:xfrm>
            <a:off x="2354040" y="348156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-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8"/>
          <p:cNvSpPr/>
          <p:nvPr/>
        </p:nvSpPr>
        <p:spPr>
          <a:xfrm>
            <a:off x="765000" y="5086440"/>
            <a:ext cx="80409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ds to reassign too much mass to unseen events, so can be adjusted to add 0&lt;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1 (normalized b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stea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dvanced Smooth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advanced techniques have been developed to improve smoothing for language mod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Good-Tur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nterpolatio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ackoff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Kneser-Ney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lass-based (cluster) N-gram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odel Combin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N increases, the power (expressiveness) of an N-gram model increases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ability to estimate accurate parameters from sparse data decreases (i.e. the smoothing problem gets wors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approach is to combine the results of multiple N-gram models of increasing complexity (i.e. increasing 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terpol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ly combine estimates of N-gram models of increasing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4"/>
          <p:cNvSpPr/>
          <p:nvPr/>
        </p:nvSpPr>
        <p:spPr>
          <a:xfrm>
            <a:off x="666720" y="4255920"/>
            <a:ext cx="77724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proper values f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training to (approximately) maximize the likelihood of an independen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a.k.a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u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rp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5"/>
              <p:cNvSpPr txBox="1"/>
              <p:nvPr/>
            </p:nvSpPr>
            <p:spPr>
              <a:xfrm>
                <a:off x="963720" y="2943360"/>
                <a:ext cx="74484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7" name="Text Box 6"/>
          <p:cNvSpPr/>
          <p:nvPr/>
        </p:nvSpPr>
        <p:spPr>
          <a:xfrm>
            <a:off x="998640" y="2585880"/>
            <a:ext cx="31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polated Trigram Mod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Object 7"/>
              <p:cNvSpPr txBox="1"/>
              <p:nvPr/>
            </p:nvSpPr>
            <p:spPr>
              <a:xfrm>
                <a:off x="3049560" y="3598920"/>
                <a:ext cx="11383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9" name="Text Box 8"/>
          <p:cNvSpPr/>
          <p:nvPr/>
        </p:nvSpPr>
        <p:spPr>
          <a:xfrm>
            <a:off x="2090520" y="363384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anguage Model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l grammars (e.g. regular, context free) give a hard “binary” model of the legal  sentences in a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NLP, 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robabilis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del of a language that gives a probability that a string is a member of a language is more use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pecify a correct probability distribution, the probability of all sentences in a language must sum to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ackoff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use lower-order model when data for higher-order model is unavailable (i.e. count is zer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vely back-off to weaker models until data is avail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2" name="Object 5"/>
              <p:cNvSpPr txBox="1"/>
              <p:nvPr/>
            </p:nvSpPr>
            <p:spPr>
              <a:xfrm>
                <a:off x="1279440" y="3521160"/>
                <a:ext cx="664236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atz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P</m:t>
                                    </m:r>
                                    <m:r>
                                      <m:t xml:space="preserve">∗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|</m:t>
                                    </m:r>
                                    <m:sSubSup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f </m:t>
                                    </m:r>
                                    <m:r>
                                      <m:t xml:space="preserve">C</m:t>
                                    </m:r>
                                    <m:r>
                                      <m:t xml:space="preserve">(</m:t>
                                    </m:r>
                                    <m:sSubSup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  <m:r>
                                      <m:t xml:space="preserve">&gt;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α</m:t>
                                    </m:r>
                                    <m:r>
                                      <m:t xml:space="preserve">(</m:t>
                                    </m:r>
                                    <m:sSubSup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atz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|</m:t>
                                    </m:r>
                                    <m:sSubSup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therwise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3" name="Text Box 6"/>
          <p:cNvSpPr/>
          <p:nvPr/>
        </p:nvSpPr>
        <p:spPr>
          <a:xfrm>
            <a:off x="1104840" y="4987800"/>
            <a:ext cx="715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P* is a discounted probability estimate to reserve mass for unseen events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are back-off weights (see text for detail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A Problem for N-Grams: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Long Distance Dependencies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times local context does not provide the most useful predictive clues, which instead are provid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ong-distance dependenc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yntactic dependenci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he </a:t>
            </a:r>
            <a:r>
              <a:rPr b="1" i="1" lang="en-US" sz="2000" spc="-1" strike="noStrike">
                <a:solidFill>
                  <a:srgbClr val="006600"/>
                </a:solidFill>
                <a:latin typeface="Times New Roman"/>
              </a:rPr>
              <a:t>man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next to the large oak tree near the grocery store on the corner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is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tall.”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he </a:t>
            </a:r>
            <a:r>
              <a:rPr b="1" i="1" lang="en-US" sz="2000" spc="-1" strike="noStrike">
                <a:solidFill>
                  <a:srgbClr val="006600"/>
                </a:solidFill>
                <a:latin typeface="Times New Roman"/>
              </a:rPr>
              <a:t>men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next to the large oak tree near the grocery store on the corner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are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tall.”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emantic dependenci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he </a:t>
            </a:r>
            <a:r>
              <a:rPr b="1" i="1" lang="en-US" sz="2000" spc="-1" strike="noStrike">
                <a:solidFill>
                  <a:srgbClr val="006600"/>
                </a:solidFill>
                <a:latin typeface="Times New Roman"/>
              </a:rPr>
              <a:t>bird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next to the large oak tree near the grocery store on the corner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flies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rapidly.”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he </a:t>
            </a:r>
            <a:r>
              <a:rPr b="1" i="1" lang="en-US" sz="2000" spc="-1" strike="noStrike">
                <a:solidFill>
                  <a:srgbClr val="006600"/>
                </a:solidFill>
                <a:latin typeface="Times New Roman"/>
              </a:rPr>
              <a:t>man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next to the large oak tree near the grocery store on the corner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talks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rapidly.”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complex models of language are needed to handle such dependen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guage models assign a probability that a sentence is a legal string in a langu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are useful as a component of many NLP systems, such as ASR, OCR, and M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N-gram models are easy to train on unsupervised corpora and can provide useful estimates of sentence likelih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LE gives inaccurate parameters for models trained on sparse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oothing techniques adjust parameter estimates to account for unseen (but not impossible) ev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Uses of Language Model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90320" y="1371600"/>
            <a:ext cx="812628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 ate a cherry” is a more likely sentence than “Eye eight uh Jerry”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R &amp; Handwriting recog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ore probable sentences are more likely correct reading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ine trans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ore likely sentences are probably better translation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ore likely sentences are probably better NL generations. 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xt sensitive spelling cor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eir are problems wit this sentence.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letion Predic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9437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anguage model also supports predicting the completion of a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lease turn off your cell _____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Your program does not ______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ive text inp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ystems can guess what you are typing and give choices on how to complete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-Gram Model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58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robability of each word given prior con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(phone | Please turn off your cell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arameters required grows exponentially with the number of words of prior con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N-gram model uses only 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words of prior con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Unigram:  P(phone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Bigram:  P(phone | cell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igram:  P(phone | your cell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rkov assum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presumption that the future behavior of a dynamical system only depends on its recent history.  In particular, in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th-order Markov 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next state only depends o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st recent states, therefore an N-gram model is a (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-order Markov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-Gram Model Formula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sequ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in rule of prob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gram approx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-gram approx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4"/>
              <p:cNvSpPr txBox="1"/>
              <p:nvPr/>
            </p:nvSpPr>
            <p:spPr>
              <a:xfrm>
                <a:off x="1569960" y="1930320"/>
                <a:ext cx="16891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5"/>
              <p:cNvSpPr txBox="1"/>
              <p:nvPr/>
            </p:nvSpPr>
            <p:spPr>
              <a:xfrm>
                <a:off x="1120680" y="3030480"/>
                <a:ext cx="75376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|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|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6"/>
              <p:cNvSpPr txBox="1"/>
              <p:nvPr/>
            </p:nvSpPr>
            <p:spPr>
              <a:xfrm>
                <a:off x="1859040" y="5413320"/>
                <a:ext cx="30240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|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7"/>
              <p:cNvSpPr txBox="1"/>
              <p:nvPr/>
            </p:nvSpPr>
            <p:spPr>
              <a:xfrm>
                <a:off x="1887480" y="4211640"/>
                <a:ext cx="27637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stimating Probabiliti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-gram conditional probabilities can be estimated from raw text based on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lative frequenc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word sequ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have a consistent probabilistic model, append a unique start (&lt;s&gt;) and end (&lt;/s&gt;) symbol to every sentence and treat these as additional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3881520" y="2593800"/>
                <a:ext cx="291132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5"/>
              <p:cNvSpPr txBox="1"/>
              <p:nvPr/>
            </p:nvSpPr>
            <p:spPr>
              <a:xfrm>
                <a:off x="3922560" y="3497400"/>
                <a:ext cx="338004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8" name="Text Box 6"/>
          <p:cNvSpPr/>
          <p:nvPr/>
        </p:nvSpPr>
        <p:spPr>
          <a:xfrm>
            <a:off x="2202480" y="273204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7"/>
          <p:cNvSpPr/>
          <p:nvPr/>
        </p:nvSpPr>
        <p:spPr>
          <a:xfrm>
            <a:off x="2195280" y="36892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-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enerative Model &amp; M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N-gram model can be seen as a probabilistic automata for generating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e frequency estimates can be proven to b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ximum likelihood estimat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MLE) since they maximize the probability that the mode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generate the training corpu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1422360" y="2403360"/>
            <a:ext cx="7313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ize sentence with 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&lt;s&gt; symb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til &lt;/s&gt; is generated 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pick the next word based on the conditional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ability of each word given the previous 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wor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5"/>
              <p:cNvSpPr txBox="1"/>
              <p:nvPr/>
            </p:nvSpPr>
            <p:spPr>
              <a:xfrm>
                <a:off x="2732040" y="5737320"/>
                <a:ext cx="368460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λ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λ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|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from Textbook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(&lt;s&gt; i want english food &lt;/s&gt;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P(i | &lt;s&gt;) P(want | i) P(english | want)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(food | english) P(&lt;/s&gt; | fo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.25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33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0011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5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68 = .0000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4"/>
          <p:cNvSpPr/>
          <p:nvPr/>
        </p:nvSpPr>
        <p:spPr>
          <a:xfrm>
            <a:off x="704880" y="3865680"/>
            <a:ext cx="777240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(&lt;s&gt; i want chinese food &lt;/s&gt;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P(i | &lt;s&gt;) P(want | i) P(chinese | want)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(food | chinese) P(&lt;/s&gt; | fo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.25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33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0065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52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68 = .000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Ray Mooney</cp:lastModifiedBy>
  <dcterms:modified xsi:type="dcterms:W3CDTF">2012-02-05T19:18:08Z</dcterms:modified>
  <cp:revision>386</cp:revision>
  <dc:subject/>
  <dc:title>Intelligent Information Retrieval and Web Search</dc:title>
</cp:coreProperties>
</file>