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89B-FCF5-4FE3-AFA7-228A0B9C4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4D5-D8EF-4B42-B03D-ECEE1C73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B8F-3A31-4B7D-93C5-2FD8DA4D02F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299-9599-4465-AF29-2F0B77B58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228F-28EC-419F-8499-ED5CF280B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3A2-41D3-4991-8AED-259C6E42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867B-C190-4614-91A1-AF929A67D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F03-8C35-4B14-9741-20BBA252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C4AD-79EB-4520-9C33-D961478A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991-2AC7-46F9-BF0D-B66E8D56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F14D-5A02-481E-9E41-1C5CFF70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FC92-6F11-457D-9683-1E28EF4E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DF8-6696-47C6-A0BE-F85BE3DA7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B19-B856-45DB-8F16-C7F631423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8DDD-A6EB-4A87-9246-E9AF792E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0D5-0FEB-4D41-85E6-5AC26154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81F-9B22-46D8-8B9E-2B48883C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EB5-712A-40C4-92DC-F9F39465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97F6-81B7-4569-9E45-F2652C1D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AD5-93D2-4DFD-9B74-4C578860E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2630-F7E8-4872-B81D-3164F95E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317-8B01-45ED-9C67-4189F896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514-4117-4753-8198-708117304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04B1-5E20-40FA-B000-F4C91F779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942-A3E5-4597-8342-1960FF551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1D0A-C31D-4E3C-8238-B6528381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76A-E8E1-4FAD-A6CD-47C7F5C04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8BA-F031-4BFD-B8FD-708FABF3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012-7615-4AA9-A37F-1B6D8ECC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FAA-2D54-46A2-A630-5E16B2F5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B956-F3F9-4B04-BCA0-0D535876B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6D58-EDA2-4F47-95DF-73B7C87B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D5F9-B38A-4901-8F8F-F18A261F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8850-8F83-4AA1-837B-97DA255F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843E-EDE9-4CB0-B898-29F80D4E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7974A3-4D4A-4D7B-93F9-52B9F726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1C573-0490-41E1-B9B1-9FBB514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265E0-4712-4A30-A98A-560ECCF4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88273-A57E-4B44-A229-C80089A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F3A21-E1AF-4772-B1A4-A117DF6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F829D-5CB4-4A0A-A144-1937F76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F8395B-6FE2-4FC7-A4E5-168BA74F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197707-892D-4ADD-9857-F4F6D6FA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587DB-2E6C-4673-86C9-270A5D89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9D5B7-EC84-4910-954D-0E3D7222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D1E4-F460-4462-AEAF-19104CAD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54AB7E-6347-489D-A71E-CBE66BE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A7F19-7B67-4AAE-BAC6-CEE9160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9C35FA-58C0-48C9-BC89-1761B13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6BE917-3A96-466D-8FA3-48FE8C3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7CE9F5-BC3A-4042-AF93-FE4070A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1B2C7F-BF87-4A3C-8385-E6C1F3E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20EB4C-2D62-40E3-A547-5BBABE5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D5EC20-9C8E-4062-ACF3-582B7B2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834229-8497-4120-8E81-488FD4F1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320846-83DC-4573-BC05-D6B5EEE5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4ABF-A975-4243-8C39-37408D8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8C763-F40F-483B-9ED0-EC789EB2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7F55D-E492-403A-9CAC-F47DFC39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7C99CA-9289-49A6-9879-5771F26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58956F-4D49-40B9-A8F1-1321300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ACDE64-A6FC-4638-AE98-CF13D3C7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61B38-01FC-4430-B3BC-5E8A9B3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A6CDF-BA35-4478-9E54-9C8C051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2B1334-FB1E-47DC-9EA9-191A8BF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FD32B-1842-4F1B-BE45-576BC1B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3770E8-5479-4C02-8E6F-ED3016F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66BC1-A243-490A-9E9C-033F3A3C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C0EF31-2892-44BC-B2CD-8B5CECC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4FEAD7-5343-4FF3-BE1E-02F17469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6CF5E-1C57-454C-8715-5A02483E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FCCCE5-2D0E-4761-B3EC-951391E7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EFF835-FEBD-473F-8E89-4237852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0C7B56-B65F-4F4F-BCBD-DF7B996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63FE97-53A4-4717-A7ED-01EBBBD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F8FA86-2761-4B3E-A635-66C06D68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30A341-06CC-44C4-A0F0-A295325C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22020C-42FD-4813-8E70-524216D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ABD8-B59A-43A9-BBB4-04D814B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CB8BEF-E47F-4578-9753-B3529B3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95AA5B-AAB0-48C4-951F-0EED9A0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24BF9E-0843-4845-A006-6A2E78DF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E68891-5813-4A8F-A616-FFB89ECF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8D11C-5FF5-4C90-B828-55662866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18F997-2A36-43BF-8635-AD73708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254C1-5BB2-493A-AD79-5D9C097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36346-1D8C-4AD8-B51C-9D25211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C5D4B5-5EAE-4F83-A9CD-DB712BF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2AA655-BD11-4BBC-8E16-3C50128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BC5D0-15D2-4C43-90D4-16C951A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040356-C6DF-429E-865C-3BE2C920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2D422D-1240-4822-86AA-B6BC064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B22856-F413-4917-9278-F544BA0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7EB88-9F40-44C4-BE64-A34D2D7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603544-72D9-4433-8E13-77268E8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6468DA-366B-4670-9A37-0AFF74AF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7E3EE1-3BE9-4FB7-B8E8-1C9ACB0A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0C1EA3-95E0-4585-8250-FC182115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9C67A7-BF8C-4698-ABEE-483DDDF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3B4104-9B44-43DB-8F24-7673220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8ED00-4976-46BE-86B5-2CFDBE1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119D24-5DD1-42E9-A6D3-4D3E1800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1FE8C6-5768-4EB6-968D-10249747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3E2C8E-26A7-44CB-BAC6-2D1ECDBD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52D429-680E-4A00-BE26-74B49485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974455-1B68-46E3-9FE6-DA6AEBA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4E9898-C878-41CF-91B7-39C6FB9C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21F4F5-27CC-48A8-8813-4D01BED6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63A491-C876-4DF4-A184-545F9083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F772AD-4F12-46A8-9F95-D89FF795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41D6-EE10-4101-B8C8-C35639C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585A-EDF4-4CCE-93A4-DFA8E9F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9033E-8F90-40BB-8540-1785FCC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F1AC-CA66-4E40-B7F2-5B050EA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E203-8153-4179-8918-3101E0C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639CD-3C19-4153-A97F-C8E96E3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6FA2-E3B9-4CA2-9149-69160B9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EBDB5-1E4F-4DD2-B3D7-79C2D24D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1796F-044B-4241-80EC-AD59D00A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1B53A-2C8F-4AE7-B3EA-52510F2D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51DD2-65ED-4F2E-83F5-7206003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AB954-3A6B-4300-BC1D-3B987F3C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B4267-D18E-497D-B1FE-8EB7A256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8589A-4937-4A03-92D5-04D9166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E7F8-786C-47BC-B595-14E3B51C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4E1F7-22C1-450E-BC82-926D25E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B9653-ADC0-4705-9CD1-2C55A14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B630-FBAA-4847-8D63-F6029B5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1707-98D7-425A-A068-DE46C88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7F290-D7F1-4E45-8B58-56C0E42D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FA955-BBA5-4146-8E88-77D467B0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5EF81-AE1E-41AF-9F3D-A222D7AA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8D974-C91D-493B-A7D0-EB846C2D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2A89A-37C7-4698-AC21-6758F2B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F05EB-E81D-45E3-8BBB-B5A214F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2A9E-1102-41FF-AA37-DD590F40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D70D5-DF30-4706-896B-FE96A4E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1319B-05CC-47C6-BB2A-03ADC86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1C118-A34A-4915-94AB-41D754DC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57205-382F-424F-A159-CC05927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B7BBD-543F-43D1-9A23-FB63D3F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B3A0C-9457-48DE-BB9D-BEB5ED8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ADC64-8B10-47C0-BCFE-F1EB8E7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D7923-4BB8-4244-A3AB-A00E17D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E00A2-48ED-4831-80BF-166E6E3A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0EA92-0579-41C8-9BF5-9BA83C37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E3D8-1000-412B-808F-2C44259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74D34-7C2C-4C27-8E0F-35B5F32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39E1A-4191-4E50-9C82-340B6791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168F2-94D4-4AFD-A9A4-8BA5A83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92CD4-C692-48D5-845F-02444899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85290-B5F5-4B06-8EEB-D5C4F81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E6B0C-6EB7-4952-A2A0-0454771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8083E-8630-40E2-ACDF-7DCDFE35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2D34B-F567-41D9-B837-F259833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43961-EC1B-4DD4-B9BF-E1B3295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95D1D-90B7-4485-B347-E51F87D0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3721-5D20-4701-AC82-E46B4BE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BCC71-BC39-4265-8F15-7E9DA457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EC834-7C9A-4F42-9EBC-517F5847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CA15E-DAFB-4BFA-966E-15F8272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FAD83-EA60-458E-8258-E9F014F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52C07-8E08-4268-9020-2B549CD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167A8-50C1-48FE-993C-049B9FA5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74824-2BE1-4934-91D2-6CF9094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467B8-EA86-4885-9679-78DD81E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65141-C7F3-4E24-BF78-13C3ED2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F5449-FDC9-4B07-905B-AB75F38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A445-EFA9-42CF-B82F-48B240D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91E9E-AFC8-404E-871D-D1AF1B3F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CBB3C-B32D-4FCF-B87A-414E8078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2B858-F3B6-4EC9-A303-1572DA72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9F97F-7765-4648-9CC4-0B38B641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9527A-1B8D-4AEB-8EEF-96D3548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0F46F-83E5-4A3E-8060-343284D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1D397-EE7B-4D47-8DBD-826CB610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43B83-E616-44F7-8F04-CB20D7A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1C15A-8FC9-4137-9A7A-207D1E9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AD7D1-C3A5-4AC8-8D28-542528C1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31F0-6CC8-4FAE-A7D8-C2F92F4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16160-9EA8-4224-84D8-EB94041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2BE84-71A1-45F8-8272-2AACFDB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553EB-03C2-49DB-A425-1A5BD94E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DA123-0EA4-497D-87E5-8D152F77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A8533-4ED3-4E99-BDF5-FBC9E39A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EE587-6F2B-4BA7-A36F-77BFA8A1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95316C-1D9B-43F8-AD28-F251D26F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7C377-1D1A-41EB-BBF8-7510BEDF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8EE332-91FD-4E44-89D7-EC057D4F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C722C-5382-48C9-9BA4-9FCA9DD1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4790-AD25-475C-8F2C-563243A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EAA6A-2245-4A4A-813D-5E4F4327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A0008-9CCF-4504-8AAE-BF84606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F15E5-B5B3-4A68-AA98-8F2FC5DE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57D0F-D1F5-4539-A7DE-1614F7E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18474-0EFD-4AEF-A025-732635B6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207C0-2C5B-4F40-A061-011B4E4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6E7A2-2FFF-40CF-B680-D3B6F840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ECA126-0CC9-4A42-9ACE-920B37A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2E059-B319-43FD-8ABA-2E92B56B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0E2BE-3530-4A62-9F17-7E7DACF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91A-89DB-4EE3-AD33-AB1E5174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C59F-B36E-4765-A794-89FA9B34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9AF8-9E6C-47C4-A82A-7105AEE6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2B2-F011-4ACA-830E-12CD0DA4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FB6-4234-4A56-8FCD-2E23118E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E045-A723-4E77-B02B-FCFD500D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DA9-9EF8-40F8-A691-138FFF3C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230-9A99-4AE7-9D55-D48D5EDF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1F41-2E49-44B0-AE80-4F93E857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529-EF6A-41CC-9F31-C430A2F8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0D3-AFB4-4168-9D45-B36CFD4A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956-F719-4DCD-A1D7-5F8F53C5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B51-9B45-466A-87DE-552C4EB5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1AC6-70F1-4031-8FCC-A9AD7DC49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01A-C6D2-45F9-BF41-FEA5A870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890-25A5-401F-8345-68CA2C1450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emantic Rol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7B3-6ADB-48AE-B658-56BEB1AD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al Method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acquire all of the selectional restrictions and taxonomic knowledge needed for S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efficiently and effectively apply knowledge in an integrated fashion to simultaneously determine correct parse trees, word senses, and semantic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/empirical methods can be used to automatically acquire and apply the knowledge needed for effective and efficient S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B03C-BA1C-440B-9977-E869E9AB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s Sequenc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can be treated as an sequence labeling 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verb, try to extract a value for each of the possible semantic roles for that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 any of the standard sequence labe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ken classific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M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F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AC61-C382-42BB-BA14-312A93D3C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with Parse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rees help identify semantic roles through exploiting syntactic clues like “the agent is usually the subject of the verb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ree is needed to identify the tru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431240" y="318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222720" y="3589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g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2233080" y="412596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     N        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3555000" y="4664160"/>
            <a:ext cx="195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         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142000" y="471168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    ma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683880" y="52578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    the store near the 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198040" y="42260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 the app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1"/>
          <p:cNvSpPr/>
          <p:nvPr/>
        </p:nvSpPr>
        <p:spPr>
          <a:xfrm flipH="1">
            <a:off x="3375000" y="3527280"/>
            <a:ext cx="119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4557600" y="3527280"/>
            <a:ext cx="11462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H="1">
            <a:off x="2619000" y="3965400"/>
            <a:ext cx="69372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4"/>
          <p:cNvSpPr/>
          <p:nvPr/>
        </p:nvSpPr>
        <p:spPr>
          <a:xfrm>
            <a:off x="3301920" y="3965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3289320" y="3978360"/>
            <a:ext cx="82872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 flipH="1">
            <a:off x="2351160" y="4478400"/>
            <a:ext cx="17136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7"/>
          <p:cNvSpPr/>
          <p:nvPr/>
        </p:nvSpPr>
        <p:spPr>
          <a:xfrm flipH="1">
            <a:off x="3142800" y="4465800"/>
            <a:ext cx="109800" cy="36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8"/>
          <p:cNvSpPr/>
          <p:nvPr/>
        </p:nvSpPr>
        <p:spPr>
          <a:xfrm flipH="1">
            <a:off x="3911400" y="4454640"/>
            <a:ext cx="1825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9"/>
          <p:cNvSpPr/>
          <p:nvPr/>
        </p:nvSpPr>
        <p:spPr>
          <a:xfrm>
            <a:off x="4106880" y="4465800"/>
            <a:ext cx="88884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0"/>
          <p:cNvSpPr/>
          <p:nvPr/>
        </p:nvSpPr>
        <p:spPr>
          <a:xfrm>
            <a:off x="3875040" y="501480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1"/>
          <p:cNvSpPr/>
          <p:nvPr/>
        </p:nvSpPr>
        <p:spPr>
          <a:xfrm flipH="1">
            <a:off x="4300200" y="5064120"/>
            <a:ext cx="7570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2"/>
          <p:cNvSpPr/>
          <p:nvPr/>
        </p:nvSpPr>
        <p:spPr>
          <a:xfrm>
            <a:off x="4300560" y="534348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3"/>
          <p:cNvSpPr/>
          <p:nvPr/>
        </p:nvSpPr>
        <p:spPr>
          <a:xfrm>
            <a:off x="5045040" y="5038560"/>
            <a:ext cx="143208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4"/>
          <p:cNvSpPr/>
          <p:nvPr/>
        </p:nvSpPr>
        <p:spPr>
          <a:xfrm flipH="1">
            <a:off x="5435280" y="3965400"/>
            <a:ext cx="32868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5"/>
          <p:cNvSpPr/>
          <p:nvPr/>
        </p:nvSpPr>
        <p:spPr>
          <a:xfrm>
            <a:off x="5435640" y="4332240"/>
            <a:ext cx="10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6"/>
          <p:cNvSpPr/>
          <p:nvPr/>
        </p:nvSpPr>
        <p:spPr>
          <a:xfrm>
            <a:off x="5764320" y="3941640"/>
            <a:ext cx="7808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1125360" y="5600880"/>
            <a:ext cx="721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 by the store near the dog ate an apple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man” is the agent of “ate” not “the dog”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A5CD-F6E7-4064-80B9-29F98C26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with Parse Tre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a syntactic parse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redicate (verb), label each node in the parse tree as either not-a-role or one of the possible semantic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964120" y="2971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4744800" y="3251160"/>
            <a:ext cx="2652840" cy="727920"/>
            <a:chOff x="4744800" y="3251160"/>
            <a:chExt cx="2652840" cy="727920"/>
          </a:xfrm>
        </p:grpSpPr>
        <p:sp>
          <p:nvSpPr>
            <p:cNvPr id="661" name="Text Box 6"/>
            <p:cNvSpPr/>
            <p:nvPr/>
          </p:nvSpPr>
          <p:spPr>
            <a:xfrm>
              <a:off x="4744800" y="3519360"/>
              <a:ext cx="26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"/>
            <p:cNvSpPr/>
            <p:nvPr/>
          </p:nvSpPr>
          <p:spPr>
            <a:xfrm flipH="1">
              <a:off x="5100120" y="3251160"/>
              <a:ext cx="98748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6087960" y="3274920"/>
              <a:ext cx="952560" cy="37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9"/>
          <p:cNvGrpSpPr/>
          <p:nvPr/>
        </p:nvGrpSpPr>
        <p:grpSpPr>
          <a:xfrm>
            <a:off x="4349160" y="3871800"/>
            <a:ext cx="1558440" cy="761040"/>
            <a:chOff x="4349160" y="3871800"/>
            <a:chExt cx="1558440" cy="761040"/>
          </a:xfrm>
        </p:grpSpPr>
        <p:sp>
          <p:nvSpPr>
            <p:cNvPr id="665" name="Text Box 10"/>
            <p:cNvSpPr/>
            <p:nvPr/>
          </p:nvSpPr>
          <p:spPr>
            <a:xfrm>
              <a:off x="4349160" y="4233960"/>
              <a:ext cx="15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      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 flipH="1">
              <a:off x="4603680" y="3871800"/>
              <a:ext cx="326880" cy="45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4943520" y="3871800"/>
              <a:ext cx="79200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13"/>
          <p:cNvGrpSpPr/>
          <p:nvPr/>
        </p:nvGrpSpPr>
        <p:grpSpPr>
          <a:xfrm>
            <a:off x="3703320" y="5091120"/>
            <a:ext cx="577080" cy="765360"/>
            <a:chOff x="3703320" y="5091120"/>
            <a:chExt cx="577080" cy="765360"/>
          </a:xfrm>
        </p:grpSpPr>
        <p:sp>
          <p:nvSpPr>
            <p:cNvPr id="669" name="Text Box 14"/>
            <p:cNvSpPr/>
            <p:nvPr/>
          </p:nvSpPr>
          <p:spPr>
            <a:xfrm>
              <a:off x="3703320" y="54576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H="1">
              <a:off x="4017960" y="5091120"/>
              <a:ext cx="23004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6"/>
          <p:cNvGrpSpPr/>
          <p:nvPr/>
        </p:nvGrpSpPr>
        <p:grpSpPr>
          <a:xfrm>
            <a:off x="5387400" y="4530600"/>
            <a:ext cx="1166760" cy="735480"/>
            <a:chOff x="5387400" y="4530600"/>
            <a:chExt cx="1166760" cy="735480"/>
          </a:xfrm>
        </p:grpSpPr>
        <p:sp>
          <p:nvSpPr>
            <p:cNvPr id="672" name="Text Box 17"/>
            <p:cNvSpPr/>
            <p:nvPr/>
          </p:nvSpPr>
          <p:spPr>
            <a:xfrm>
              <a:off x="5387400" y="486720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   N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 flipH="1">
              <a:off x="5613480" y="4530600"/>
              <a:ext cx="727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5686200" y="4530600"/>
              <a:ext cx="622440" cy="42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20"/>
          <p:cNvGrpSpPr/>
          <p:nvPr/>
        </p:nvGrpSpPr>
        <p:grpSpPr>
          <a:xfrm>
            <a:off x="5388840" y="5141880"/>
            <a:ext cx="633240" cy="692640"/>
            <a:chOff x="5388840" y="5141880"/>
            <a:chExt cx="633240" cy="692640"/>
          </a:xfrm>
        </p:grpSpPr>
        <p:sp>
          <p:nvSpPr>
            <p:cNvPr id="676" name="Text Box 21"/>
            <p:cNvSpPr/>
            <p:nvPr/>
          </p:nvSpPr>
          <p:spPr>
            <a:xfrm>
              <a:off x="5388840" y="54356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2"/>
            <p:cNvSpPr/>
            <p:nvPr/>
          </p:nvSpPr>
          <p:spPr>
            <a:xfrm>
              <a:off x="5688000" y="514188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23"/>
          <p:cNvGrpSpPr/>
          <p:nvPr/>
        </p:nvGrpSpPr>
        <p:grpSpPr>
          <a:xfrm>
            <a:off x="5967000" y="5762520"/>
            <a:ext cx="491760" cy="711720"/>
            <a:chOff x="5967000" y="5762520"/>
            <a:chExt cx="491760" cy="711720"/>
          </a:xfrm>
        </p:grpSpPr>
        <p:sp>
          <p:nvSpPr>
            <p:cNvPr id="679" name="Text Box 24"/>
            <p:cNvSpPr/>
            <p:nvPr/>
          </p:nvSpPr>
          <p:spPr>
            <a:xfrm>
              <a:off x="5967000" y="60753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5"/>
            <p:cNvSpPr/>
            <p:nvPr/>
          </p:nvSpPr>
          <p:spPr>
            <a:xfrm>
              <a:off x="6137280" y="576252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26"/>
          <p:cNvGrpSpPr/>
          <p:nvPr/>
        </p:nvGrpSpPr>
        <p:grpSpPr>
          <a:xfrm>
            <a:off x="6613560" y="3860640"/>
            <a:ext cx="1282680" cy="825120"/>
            <a:chOff x="6613560" y="3860640"/>
            <a:chExt cx="1282680" cy="825120"/>
          </a:xfrm>
        </p:grpSpPr>
        <p:sp>
          <p:nvSpPr>
            <p:cNvPr id="682" name="Text Box 27"/>
            <p:cNvSpPr/>
            <p:nvPr/>
          </p:nvSpPr>
          <p:spPr>
            <a:xfrm>
              <a:off x="6613560" y="42260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        </a:t>
              </a: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N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8"/>
            <p:cNvSpPr/>
            <p:nvPr/>
          </p:nvSpPr>
          <p:spPr>
            <a:xfrm flipH="1">
              <a:off x="6796080" y="3860640"/>
              <a:ext cx="30456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9"/>
            <p:cNvSpPr/>
            <p:nvPr/>
          </p:nvSpPr>
          <p:spPr>
            <a:xfrm>
              <a:off x="7100640" y="3860640"/>
              <a:ext cx="451080" cy="5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30"/>
          <p:cNvGrpSpPr/>
          <p:nvPr/>
        </p:nvGrpSpPr>
        <p:grpSpPr>
          <a:xfrm>
            <a:off x="6608160" y="4592520"/>
            <a:ext cx="448920" cy="643320"/>
            <a:chOff x="6608160" y="4592520"/>
            <a:chExt cx="448920" cy="643320"/>
          </a:xfrm>
        </p:grpSpPr>
        <p:sp>
          <p:nvSpPr>
            <p:cNvPr id="686" name="Text Box 31"/>
            <p:cNvSpPr/>
            <p:nvPr/>
          </p:nvSpPr>
          <p:spPr>
            <a:xfrm>
              <a:off x="6608160" y="48369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32"/>
            <p:cNvSpPr/>
            <p:nvPr/>
          </p:nvSpPr>
          <p:spPr>
            <a:xfrm>
              <a:off x="6796080" y="4592520"/>
              <a:ext cx="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33"/>
          <p:cNvGrpSpPr/>
          <p:nvPr/>
        </p:nvGrpSpPr>
        <p:grpSpPr>
          <a:xfrm>
            <a:off x="7167600" y="5116680"/>
            <a:ext cx="293400" cy="670320"/>
            <a:chOff x="7167600" y="5116680"/>
            <a:chExt cx="293400" cy="670320"/>
          </a:xfrm>
        </p:grpSpPr>
        <p:sp>
          <p:nvSpPr>
            <p:cNvPr id="689" name="Text Box 34"/>
            <p:cNvSpPr/>
            <p:nvPr/>
          </p:nvSpPr>
          <p:spPr>
            <a:xfrm>
              <a:off x="7167600" y="53881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5"/>
            <p:cNvSpPr/>
            <p:nvPr/>
          </p:nvSpPr>
          <p:spPr>
            <a:xfrm>
              <a:off x="7321320" y="511668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36"/>
          <p:cNvGrpSpPr/>
          <p:nvPr/>
        </p:nvGrpSpPr>
        <p:grpSpPr>
          <a:xfrm>
            <a:off x="4221720" y="5776920"/>
            <a:ext cx="506880" cy="733680"/>
            <a:chOff x="4221720" y="5776920"/>
            <a:chExt cx="506880" cy="733680"/>
          </a:xfrm>
        </p:grpSpPr>
        <p:sp>
          <p:nvSpPr>
            <p:cNvPr id="692" name="Line 37"/>
            <p:cNvSpPr/>
            <p:nvPr/>
          </p:nvSpPr>
          <p:spPr>
            <a:xfrm>
              <a:off x="4492440" y="5776920"/>
              <a:ext cx="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38"/>
            <p:cNvSpPr/>
            <p:nvPr/>
          </p:nvSpPr>
          <p:spPr>
            <a:xfrm>
              <a:off x="4221720" y="6111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39"/>
          <p:cNvGrpSpPr/>
          <p:nvPr/>
        </p:nvGrpSpPr>
        <p:grpSpPr>
          <a:xfrm>
            <a:off x="4908600" y="5067360"/>
            <a:ext cx="564840" cy="752760"/>
            <a:chOff x="4908600" y="5067360"/>
            <a:chExt cx="564840" cy="752760"/>
          </a:xfrm>
        </p:grpSpPr>
        <p:sp>
          <p:nvSpPr>
            <p:cNvPr id="695" name="Line 40"/>
            <p:cNvSpPr/>
            <p:nvPr/>
          </p:nvSpPr>
          <p:spPr>
            <a:xfrm>
              <a:off x="5076720" y="5067360"/>
              <a:ext cx="122040" cy="5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1"/>
            <p:cNvSpPr/>
            <p:nvPr/>
          </p:nvSpPr>
          <p:spPr>
            <a:xfrm>
              <a:off x="4908600" y="54212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42"/>
          <p:cNvGrpSpPr/>
          <p:nvPr/>
        </p:nvGrpSpPr>
        <p:grpSpPr>
          <a:xfrm>
            <a:off x="7782480" y="5146560"/>
            <a:ext cx="534240" cy="657360"/>
            <a:chOff x="7782480" y="5146560"/>
            <a:chExt cx="534240" cy="657360"/>
          </a:xfrm>
        </p:grpSpPr>
        <p:sp>
          <p:nvSpPr>
            <p:cNvPr id="698" name="Line 43"/>
            <p:cNvSpPr/>
            <p:nvPr/>
          </p:nvSpPr>
          <p:spPr>
            <a:xfrm flipH="1">
              <a:off x="8061120" y="5146560"/>
              <a:ext cx="1116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44"/>
            <p:cNvSpPr/>
            <p:nvPr/>
          </p:nvSpPr>
          <p:spPr>
            <a:xfrm>
              <a:off x="7782480" y="5405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r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45"/>
          <p:cNvGrpSpPr/>
          <p:nvPr/>
        </p:nvGrpSpPr>
        <p:grpSpPr>
          <a:xfrm>
            <a:off x="6654960" y="5737320"/>
            <a:ext cx="564840" cy="716040"/>
            <a:chOff x="6654960" y="5737320"/>
            <a:chExt cx="564840" cy="716040"/>
          </a:xfrm>
        </p:grpSpPr>
        <p:sp>
          <p:nvSpPr>
            <p:cNvPr id="701" name="Line 46"/>
            <p:cNvSpPr/>
            <p:nvPr/>
          </p:nvSpPr>
          <p:spPr>
            <a:xfrm>
              <a:off x="6869160" y="5737320"/>
              <a:ext cx="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47"/>
            <p:cNvSpPr/>
            <p:nvPr/>
          </p:nvSpPr>
          <p:spPr>
            <a:xfrm>
              <a:off x="6654960" y="6054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y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7015320" y="4567320"/>
            <a:ext cx="1172880" cy="652680"/>
            <a:chOff x="7015320" y="4567320"/>
            <a:chExt cx="1172880" cy="652680"/>
          </a:xfrm>
        </p:grpSpPr>
        <p:sp>
          <p:nvSpPr>
            <p:cNvPr id="704" name="Text Box 49"/>
            <p:cNvSpPr/>
            <p:nvPr/>
          </p:nvSpPr>
          <p:spPr>
            <a:xfrm>
              <a:off x="7015320" y="482112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50"/>
            <p:cNvSpPr/>
            <p:nvPr/>
          </p:nvSpPr>
          <p:spPr>
            <a:xfrm flipH="1">
              <a:off x="7297200" y="456732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51"/>
            <p:cNvSpPr/>
            <p:nvPr/>
          </p:nvSpPr>
          <p:spPr>
            <a:xfrm>
              <a:off x="7467480" y="456732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2"/>
            <p:cNvSpPr/>
            <p:nvPr/>
          </p:nvSpPr>
          <p:spPr>
            <a:xfrm>
              <a:off x="7478640" y="457992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53"/>
          <p:cNvGrpSpPr/>
          <p:nvPr/>
        </p:nvGrpSpPr>
        <p:grpSpPr>
          <a:xfrm>
            <a:off x="4035600" y="4535640"/>
            <a:ext cx="1172880" cy="652680"/>
            <a:chOff x="4035600" y="4535640"/>
            <a:chExt cx="1172880" cy="652680"/>
          </a:xfrm>
        </p:grpSpPr>
        <p:sp>
          <p:nvSpPr>
            <p:cNvPr id="709" name="Text Box 54"/>
            <p:cNvSpPr/>
            <p:nvPr/>
          </p:nvSpPr>
          <p:spPr>
            <a:xfrm>
              <a:off x="4035600" y="478944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55"/>
            <p:cNvSpPr/>
            <p:nvPr/>
          </p:nvSpPr>
          <p:spPr>
            <a:xfrm flipH="1">
              <a:off x="4317480" y="453564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56"/>
            <p:cNvSpPr/>
            <p:nvPr/>
          </p:nvSpPr>
          <p:spPr>
            <a:xfrm>
              <a:off x="4487760" y="453564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57"/>
            <p:cNvSpPr/>
            <p:nvPr/>
          </p:nvSpPr>
          <p:spPr>
            <a:xfrm>
              <a:off x="4498920" y="454824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58"/>
          <p:cNvGrpSpPr/>
          <p:nvPr/>
        </p:nvGrpSpPr>
        <p:grpSpPr>
          <a:xfrm>
            <a:off x="7531200" y="5127480"/>
            <a:ext cx="287280" cy="657720"/>
            <a:chOff x="7531200" y="5127480"/>
            <a:chExt cx="287280" cy="657720"/>
          </a:xfrm>
        </p:grpSpPr>
        <p:sp>
          <p:nvSpPr>
            <p:cNvPr id="714" name="Text Box 59"/>
            <p:cNvSpPr/>
            <p:nvPr/>
          </p:nvSpPr>
          <p:spPr>
            <a:xfrm>
              <a:off x="7531200" y="5386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60"/>
            <p:cNvSpPr/>
            <p:nvPr/>
          </p:nvSpPr>
          <p:spPr>
            <a:xfrm>
              <a:off x="7697880" y="5127480"/>
              <a:ext cx="144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61"/>
          <p:cNvGrpSpPr/>
          <p:nvPr/>
        </p:nvGrpSpPr>
        <p:grpSpPr>
          <a:xfrm>
            <a:off x="4219920" y="5091120"/>
            <a:ext cx="811800" cy="743400"/>
            <a:chOff x="4219920" y="5091120"/>
            <a:chExt cx="811800" cy="743400"/>
          </a:xfrm>
        </p:grpSpPr>
        <p:sp>
          <p:nvSpPr>
            <p:cNvPr id="717" name="Text Box 62"/>
            <p:cNvSpPr/>
            <p:nvPr/>
          </p:nvSpPr>
          <p:spPr>
            <a:xfrm>
              <a:off x="4219920" y="543564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j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63"/>
            <p:cNvSpPr/>
            <p:nvPr/>
          </p:nvSpPr>
          <p:spPr>
            <a:xfrm flipH="1">
              <a:off x="4516200" y="5091120"/>
              <a:ext cx="169920" cy="4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64"/>
            <p:cNvSpPr/>
            <p:nvPr/>
          </p:nvSpPr>
          <p:spPr>
            <a:xfrm>
              <a:off x="4674960" y="5103720"/>
              <a:ext cx="1699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65"/>
          <p:cNvGrpSpPr/>
          <p:nvPr/>
        </p:nvGrpSpPr>
        <p:grpSpPr>
          <a:xfrm>
            <a:off x="4695840" y="5827680"/>
            <a:ext cx="287280" cy="657360"/>
            <a:chOff x="4695840" y="5827680"/>
            <a:chExt cx="287280" cy="657360"/>
          </a:xfrm>
        </p:grpSpPr>
        <p:sp>
          <p:nvSpPr>
            <p:cNvPr id="721" name="Text Box 66"/>
            <p:cNvSpPr/>
            <p:nvPr/>
          </p:nvSpPr>
          <p:spPr>
            <a:xfrm>
              <a:off x="4695840" y="608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67"/>
            <p:cNvSpPr/>
            <p:nvPr/>
          </p:nvSpPr>
          <p:spPr>
            <a:xfrm>
              <a:off x="4862520" y="582768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68"/>
          <p:cNvGrpSpPr/>
          <p:nvPr/>
        </p:nvGrpSpPr>
        <p:grpSpPr>
          <a:xfrm>
            <a:off x="5881680" y="5175360"/>
            <a:ext cx="1172880" cy="652680"/>
            <a:chOff x="5881680" y="5175360"/>
            <a:chExt cx="1172880" cy="652680"/>
          </a:xfrm>
        </p:grpSpPr>
        <p:sp>
          <p:nvSpPr>
            <p:cNvPr id="724" name="Text Box 69"/>
            <p:cNvSpPr/>
            <p:nvPr/>
          </p:nvSpPr>
          <p:spPr>
            <a:xfrm>
              <a:off x="5881680" y="542916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0"/>
            <p:cNvSpPr/>
            <p:nvPr/>
          </p:nvSpPr>
          <p:spPr>
            <a:xfrm flipH="1">
              <a:off x="6163560" y="517536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71"/>
            <p:cNvSpPr/>
            <p:nvPr/>
          </p:nvSpPr>
          <p:spPr>
            <a:xfrm>
              <a:off x="6333840" y="517536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72"/>
            <p:cNvSpPr/>
            <p:nvPr/>
          </p:nvSpPr>
          <p:spPr>
            <a:xfrm>
              <a:off x="6345000" y="518796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73"/>
          <p:cNvGrpSpPr/>
          <p:nvPr/>
        </p:nvGrpSpPr>
        <p:grpSpPr>
          <a:xfrm>
            <a:off x="6383160" y="5772240"/>
            <a:ext cx="287280" cy="657360"/>
            <a:chOff x="6383160" y="5772240"/>
            <a:chExt cx="287280" cy="657360"/>
          </a:xfrm>
        </p:grpSpPr>
        <p:sp>
          <p:nvSpPr>
            <p:cNvPr id="729" name="Text Box 74"/>
            <p:cNvSpPr/>
            <p:nvPr/>
          </p:nvSpPr>
          <p:spPr>
            <a:xfrm>
              <a:off x="6383160" y="60307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75"/>
            <p:cNvSpPr/>
            <p:nvPr/>
          </p:nvSpPr>
          <p:spPr>
            <a:xfrm>
              <a:off x="6549840" y="577224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76"/>
          <p:cNvSpPr/>
          <p:nvPr/>
        </p:nvSpPr>
        <p:spPr>
          <a:xfrm>
            <a:off x="1109160" y="3355920"/>
            <a:ext cx="2045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lor Co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-a-ro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benefici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78"/>
          <p:cNvSpPr/>
          <p:nvPr/>
        </p:nvSpPr>
        <p:spPr>
          <a:xfrm>
            <a:off x="6499080" y="47307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FB4-B77D-40DA-9BC9-1C71B54A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s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roblem as classifying parse-tree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any machine-learning classifica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issue is engineering the right set of features for the classifier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29D-3F13-4A54-9967-B321509D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hras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yntactic label of the candidate role filler (e.g. N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se tre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th in the parse tree between the predicate and the candidate role fi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F07-8793-4341-9891-9D286D05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 Path Feature: 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6443640" y="186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5223960" y="24652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7"/>
          <p:cNvSpPr/>
          <p:nvPr/>
        </p:nvSpPr>
        <p:spPr>
          <a:xfrm flipH="1">
            <a:off x="5579640" y="2147760"/>
            <a:ext cx="987480" cy="4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6567480" y="2171880"/>
            <a:ext cx="95256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4828680" y="313056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1"/>
          <p:cNvSpPr/>
          <p:nvPr/>
        </p:nvSpPr>
        <p:spPr>
          <a:xfrm flipH="1">
            <a:off x="5083200" y="2768760"/>
            <a:ext cx="32688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5423040" y="2768760"/>
            <a:ext cx="792000" cy="47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4"/>
          <p:cNvSpPr/>
          <p:nvPr/>
        </p:nvSpPr>
        <p:spPr>
          <a:xfrm>
            <a:off x="4182840" y="4354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5"/>
          <p:cNvSpPr/>
          <p:nvPr/>
        </p:nvSpPr>
        <p:spPr>
          <a:xfrm flipH="1">
            <a:off x="4497120" y="3987720"/>
            <a:ext cx="23004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5866920" y="3763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6093000" y="3427560"/>
            <a:ext cx="727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9"/>
          <p:cNvSpPr/>
          <p:nvPr/>
        </p:nvSpPr>
        <p:spPr>
          <a:xfrm>
            <a:off x="6165720" y="3427560"/>
            <a:ext cx="62244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1"/>
          <p:cNvSpPr/>
          <p:nvPr/>
        </p:nvSpPr>
        <p:spPr>
          <a:xfrm>
            <a:off x="5868360" y="43322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2"/>
          <p:cNvSpPr/>
          <p:nvPr/>
        </p:nvSpPr>
        <p:spPr>
          <a:xfrm>
            <a:off x="6167520" y="403848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6446160" y="49719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5"/>
          <p:cNvSpPr/>
          <p:nvPr/>
        </p:nvSpPr>
        <p:spPr>
          <a:xfrm>
            <a:off x="6616800" y="4659480"/>
            <a:ext cx="0" cy="41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7"/>
          <p:cNvSpPr/>
          <p:nvPr/>
        </p:nvSpPr>
        <p:spPr>
          <a:xfrm>
            <a:off x="7092360" y="317196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8"/>
          <p:cNvSpPr/>
          <p:nvPr/>
        </p:nvSpPr>
        <p:spPr>
          <a:xfrm flipH="1">
            <a:off x="7275600" y="2757600"/>
            <a:ext cx="3045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9"/>
          <p:cNvSpPr/>
          <p:nvPr/>
        </p:nvSpPr>
        <p:spPr>
          <a:xfrm>
            <a:off x="7580160" y="2757600"/>
            <a:ext cx="45108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7087680" y="3733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32"/>
          <p:cNvSpPr/>
          <p:nvPr/>
        </p:nvSpPr>
        <p:spPr>
          <a:xfrm>
            <a:off x="7275600" y="348948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7647120" y="4284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35"/>
          <p:cNvSpPr/>
          <p:nvPr/>
        </p:nvSpPr>
        <p:spPr>
          <a:xfrm>
            <a:off x="7800840" y="401328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37"/>
          <p:cNvSpPr/>
          <p:nvPr/>
        </p:nvSpPr>
        <p:spPr>
          <a:xfrm>
            <a:off x="4971960" y="4673520"/>
            <a:ext cx="0" cy="4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8"/>
          <p:cNvSpPr/>
          <p:nvPr/>
        </p:nvSpPr>
        <p:spPr>
          <a:xfrm>
            <a:off x="4701240" y="500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40"/>
          <p:cNvSpPr/>
          <p:nvPr/>
        </p:nvSpPr>
        <p:spPr>
          <a:xfrm>
            <a:off x="5556240" y="3963960"/>
            <a:ext cx="1224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1"/>
          <p:cNvSpPr/>
          <p:nvPr/>
        </p:nvSpPr>
        <p:spPr>
          <a:xfrm>
            <a:off x="5388120" y="4317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8540280" y="4043520"/>
            <a:ext cx="1116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4"/>
          <p:cNvSpPr/>
          <p:nvPr/>
        </p:nvSpPr>
        <p:spPr>
          <a:xfrm>
            <a:off x="8262000" y="430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46"/>
          <p:cNvSpPr/>
          <p:nvPr/>
        </p:nvSpPr>
        <p:spPr>
          <a:xfrm>
            <a:off x="7348680" y="46339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7"/>
          <p:cNvSpPr/>
          <p:nvPr/>
        </p:nvSpPr>
        <p:spPr>
          <a:xfrm>
            <a:off x="7134480" y="4951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49"/>
          <p:cNvSpPr/>
          <p:nvPr/>
        </p:nvSpPr>
        <p:spPr>
          <a:xfrm>
            <a:off x="7494840" y="3718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50"/>
          <p:cNvSpPr/>
          <p:nvPr/>
        </p:nvSpPr>
        <p:spPr>
          <a:xfrm flipH="1">
            <a:off x="7776720" y="3463920"/>
            <a:ext cx="18108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51"/>
          <p:cNvSpPr/>
          <p:nvPr/>
        </p:nvSpPr>
        <p:spPr>
          <a:xfrm>
            <a:off x="7947000" y="346392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52"/>
          <p:cNvSpPr/>
          <p:nvPr/>
        </p:nvSpPr>
        <p:spPr>
          <a:xfrm>
            <a:off x="7958160" y="3476520"/>
            <a:ext cx="1951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54"/>
          <p:cNvSpPr/>
          <p:nvPr/>
        </p:nvSpPr>
        <p:spPr>
          <a:xfrm>
            <a:off x="4515120" y="36860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55"/>
          <p:cNvSpPr/>
          <p:nvPr/>
        </p:nvSpPr>
        <p:spPr>
          <a:xfrm flipH="1">
            <a:off x="4797000" y="343224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56"/>
          <p:cNvSpPr/>
          <p:nvPr/>
        </p:nvSpPr>
        <p:spPr>
          <a:xfrm>
            <a:off x="4967280" y="343224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57"/>
          <p:cNvSpPr/>
          <p:nvPr/>
        </p:nvSpPr>
        <p:spPr>
          <a:xfrm>
            <a:off x="4978440" y="344484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9"/>
          <p:cNvSpPr/>
          <p:nvPr/>
        </p:nvSpPr>
        <p:spPr>
          <a:xfrm>
            <a:off x="8010360" y="4282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0"/>
          <p:cNvSpPr/>
          <p:nvPr/>
        </p:nvSpPr>
        <p:spPr>
          <a:xfrm>
            <a:off x="8177040" y="40244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62"/>
          <p:cNvSpPr/>
          <p:nvPr/>
        </p:nvSpPr>
        <p:spPr>
          <a:xfrm>
            <a:off x="4699440" y="43322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63"/>
          <p:cNvSpPr/>
          <p:nvPr/>
        </p:nvSpPr>
        <p:spPr>
          <a:xfrm flipH="1">
            <a:off x="4995720" y="398772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64"/>
          <p:cNvSpPr/>
          <p:nvPr/>
        </p:nvSpPr>
        <p:spPr>
          <a:xfrm>
            <a:off x="5154480" y="4000680"/>
            <a:ext cx="1699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6"/>
          <p:cNvSpPr/>
          <p:nvPr/>
        </p:nvSpPr>
        <p:spPr>
          <a:xfrm>
            <a:off x="5175360" y="49831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7"/>
          <p:cNvSpPr/>
          <p:nvPr/>
        </p:nvSpPr>
        <p:spPr>
          <a:xfrm>
            <a:off x="5342040" y="47242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69"/>
          <p:cNvSpPr/>
          <p:nvPr/>
        </p:nvSpPr>
        <p:spPr>
          <a:xfrm>
            <a:off x="6361200" y="4325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70"/>
          <p:cNvSpPr/>
          <p:nvPr/>
        </p:nvSpPr>
        <p:spPr>
          <a:xfrm flipH="1">
            <a:off x="6643800" y="4071960"/>
            <a:ext cx="18072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71"/>
          <p:cNvSpPr/>
          <p:nvPr/>
        </p:nvSpPr>
        <p:spPr>
          <a:xfrm>
            <a:off x="6813720" y="40719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72"/>
          <p:cNvSpPr/>
          <p:nvPr/>
        </p:nvSpPr>
        <p:spPr>
          <a:xfrm>
            <a:off x="6824520" y="4084560"/>
            <a:ext cx="19548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4"/>
          <p:cNvSpPr/>
          <p:nvPr/>
        </p:nvSpPr>
        <p:spPr>
          <a:xfrm>
            <a:off x="6862680" y="4927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75"/>
          <p:cNvSpPr/>
          <p:nvPr/>
        </p:nvSpPr>
        <p:spPr>
          <a:xfrm>
            <a:off x="7029360" y="46688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6"/>
          <p:cNvSpPr/>
          <p:nvPr/>
        </p:nvSpPr>
        <p:spPr>
          <a:xfrm>
            <a:off x="6978600" y="36273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77"/>
          <p:cNvSpPr/>
          <p:nvPr/>
        </p:nvSpPr>
        <p:spPr>
          <a:xfrm>
            <a:off x="5129280" y="2341440"/>
            <a:ext cx="67320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78"/>
          <p:cNvSpPr/>
          <p:nvPr/>
        </p:nvSpPr>
        <p:spPr>
          <a:xfrm>
            <a:off x="559440" y="2046240"/>
            <a:ext cx="325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h Feature Valu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VP ↑ S ↓ N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300D-EDB7-49AE-9A48-6895F736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 Path Feature: 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6443640" y="186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5223960" y="24652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5"/>
          <p:cNvSpPr/>
          <p:nvPr/>
        </p:nvSpPr>
        <p:spPr>
          <a:xfrm flipH="1">
            <a:off x="5579640" y="2147760"/>
            <a:ext cx="987480" cy="4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"/>
          <p:cNvSpPr/>
          <p:nvPr/>
        </p:nvSpPr>
        <p:spPr>
          <a:xfrm>
            <a:off x="6567480" y="2171880"/>
            <a:ext cx="95256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4829040" y="3130560"/>
            <a:ext cx="15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8"/>
          <p:cNvSpPr/>
          <p:nvPr/>
        </p:nvSpPr>
        <p:spPr>
          <a:xfrm flipH="1">
            <a:off x="5083200" y="2768760"/>
            <a:ext cx="32688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5423040" y="2768760"/>
            <a:ext cx="792000" cy="47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4182840" y="4354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"/>
          <p:cNvSpPr/>
          <p:nvPr/>
        </p:nvSpPr>
        <p:spPr>
          <a:xfrm flipH="1">
            <a:off x="4497120" y="3987720"/>
            <a:ext cx="23004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5866920" y="37638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6093000" y="3427560"/>
            <a:ext cx="727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4"/>
          <p:cNvSpPr/>
          <p:nvPr/>
        </p:nvSpPr>
        <p:spPr>
          <a:xfrm>
            <a:off x="6165720" y="3427560"/>
            <a:ext cx="622440" cy="42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5"/>
          <p:cNvSpPr/>
          <p:nvPr/>
        </p:nvSpPr>
        <p:spPr>
          <a:xfrm>
            <a:off x="5868360" y="43322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6"/>
          <p:cNvSpPr/>
          <p:nvPr/>
        </p:nvSpPr>
        <p:spPr>
          <a:xfrm>
            <a:off x="6167520" y="403848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7"/>
          <p:cNvSpPr/>
          <p:nvPr/>
        </p:nvSpPr>
        <p:spPr>
          <a:xfrm>
            <a:off x="6446160" y="49719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8"/>
          <p:cNvSpPr/>
          <p:nvPr/>
        </p:nvSpPr>
        <p:spPr>
          <a:xfrm>
            <a:off x="6616800" y="4659480"/>
            <a:ext cx="0" cy="41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9"/>
          <p:cNvSpPr/>
          <p:nvPr/>
        </p:nvSpPr>
        <p:spPr>
          <a:xfrm>
            <a:off x="7092360" y="317196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0"/>
          <p:cNvSpPr/>
          <p:nvPr/>
        </p:nvSpPr>
        <p:spPr>
          <a:xfrm flipH="1">
            <a:off x="7275600" y="2757600"/>
            <a:ext cx="3045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21"/>
          <p:cNvSpPr/>
          <p:nvPr/>
        </p:nvSpPr>
        <p:spPr>
          <a:xfrm>
            <a:off x="7580160" y="2757600"/>
            <a:ext cx="45108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2"/>
          <p:cNvSpPr/>
          <p:nvPr/>
        </p:nvSpPr>
        <p:spPr>
          <a:xfrm>
            <a:off x="7087680" y="3733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3"/>
          <p:cNvSpPr/>
          <p:nvPr/>
        </p:nvSpPr>
        <p:spPr>
          <a:xfrm>
            <a:off x="7275600" y="348948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4"/>
          <p:cNvSpPr/>
          <p:nvPr/>
        </p:nvSpPr>
        <p:spPr>
          <a:xfrm>
            <a:off x="7647120" y="4284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5"/>
          <p:cNvSpPr/>
          <p:nvPr/>
        </p:nvSpPr>
        <p:spPr>
          <a:xfrm>
            <a:off x="7800840" y="401328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6"/>
          <p:cNvSpPr/>
          <p:nvPr/>
        </p:nvSpPr>
        <p:spPr>
          <a:xfrm>
            <a:off x="4971960" y="4673520"/>
            <a:ext cx="0" cy="4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7"/>
          <p:cNvSpPr/>
          <p:nvPr/>
        </p:nvSpPr>
        <p:spPr>
          <a:xfrm>
            <a:off x="4701240" y="500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8"/>
          <p:cNvSpPr/>
          <p:nvPr/>
        </p:nvSpPr>
        <p:spPr>
          <a:xfrm>
            <a:off x="5556240" y="3963960"/>
            <a:ext cx="1224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5388120" y="4317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30"/>
          <p:cNvSpPr/>
          <p:nvPr/>
        </p:nvSpPr>
        <p:spPr>
          <a:xfrm flipH="1">
            <a:off x="8540280" y="4043520"/>
            <a:ext cx="1116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8262000" y="430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32"/>
          <p:cNvSpPr/>
          <p:nvPr/>
        </p:nvSpPr>
        <p:spPr>
          <a:xfrm>
            <a:off x="7348680" y="46339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7134480" y="4951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4"/>
          <p:cNvSpPr/>
          <p:nvPr/>
        </p:nvSpPr>
        <p:spPr>
          <a:xfrm>
            <a:off x="7494840" y="3718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35"/>
          <p:cNvSpPr/>
          <p:nvPr/>
        </p:nvSpPr>
        <p:spPr>
          <a:xfrm flipH="1">
            <a:off x="7776720" y="3463920"/>
            <a:ext cx="18108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36"/>
          <p:cNvSpPr/>
          <p:nvPr/>
        </p:nvSpPr>
        <p:spPr>
          <a:xfrm>
            <a:off x="7947000" y="346392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37"/>
          <p:cNvSpPr/>
          <p:nvPr/>
        </p:nvSpPr>
        <p:spPr>
          <a:xfrm>
            <a:off x="7958160" y="3476520"/>
            <a:ext cx="1951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8"/>
          <p:cNvSpPr/>
          <p:nvPr/>
        </p:nvSpPr>
        <p:spPr>
          <a:xfrm>
            <a:off x="4515120" y="36860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39"/>
          <p:cNvSpPr/>
          <p:nvPr/>
        </p:nvSpPr>
        <p:spPr>
          <a:xfrm flipH="1">
            <a:off x="4797000" y="343224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40"/>
          <p:cNvSpPr/>
          <p:nvPr/>
        </p:nvSpPr>
        <p:spPr>
          <a:xfrm>
            <a:off x="4967280" y="343224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41"/>
          <p:cNvSpPr/>
          <p:nvPr/>
        </p:nvSpPr>
        <p:spPr>
          <a:xfrm>
            <a:off x="4978440" y="344484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2"/>
          <p:cNvSpPr/>
          <p:nvPr/>
        </p:nvSpPr>
        <p:spPr>
          <a:xfrm>
            <a:off x="8010360" y="4282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43"/>
          <p:cNvSpPr/>
          <p:nvPr/>
        </p:nvSpPr>
        <p:spPr>
          <a:xfrm>
            <a:off x="8177040" y="40244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44"/>
          <p:cNvSpPr/>
          <p:nvPr/>
        </p:nvSpPr>
        <p:spPr>
          <a:xfrm>
            <a:off x="4699440" y="43322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45"/>
          <p:cNvSpPr/>
          <p:nvPr/>
        </p:nvSpPr>
        <p:spPr>
          <a:xfrm flipH="1">
            <a:off x="4995720" y="398772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46"/>
          <p:cNvSpPr/>
          <p:nvPr/>
        </p:nvSpPr>
        <p:spPr>
          <a:xfrm>
            <a:off x="5154480" y="4000680"/>
            <a:ext cx="1699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47"/>
          <p:cNvSpPr/>
          <p:nvPr/>
        </p:nvSpPr>
        <p:spPr>
          <a:xfrm>
            <a:off x="5175360" y="49831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48"/>
          <p:cNvSpPr/>
          <p:nvPr/>
        </p:nvSpPr>
        <p:spPr>
          <a:xfrm>
            <a:off x="5342040" y="47242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49"/>
          <p:cNvSpPr/>
          <p:nvPr/>
        </p:nvSpPr>
        <p:spPr>
          <a:xfrm>
            <a:off x="6361200" y="4325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0"/>
          <p:cNvSpPr/>
          <p:nvPr/>
        </p:nvSpPr>
        <p:spPr>
          <a:xfrm flipH="1">
            <a:off x="6643800" y="4071960"/>
            <a:ext cx="18072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51"/>
          <p:cNvSpPr/>
          <p:nvPr/>
        </p:nvSpPr>
        <p:spPr>
          <a:xfrm>
            <a:off x="6813720" y="40719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52"/>
          <p:cNvSpPr/>
          <p:nvPr/>
        </p:nvSpPr>
        <p:spPr>
          <a:xfrm>
            <a:off x="6824520" y="4084560"/>
            <a:ext cx="19548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53"/>
          <p:cNvSpPr/>
          <p:nvPr/>
        </p:nvSpPr>
        <p:spPr>
          <a:xfrm>
            <a:off x="6862680" y="4927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54"/>
          <p:cNvSpPr/>
          <p:nvPr/>
        </p:nvSpPr>
        <p:spPr>
          <a:xfrm>
            <a:off x="7029360" y="46688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55"/>
          <p:cNvSpPr/>
          <p:nvPr/>
        </p:nvSpPr>
        <p:spPr>
          <a:xfrm>
            <a:off x="6978600" y="36273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56"/>
          <p:cNvSpPr/>
          <p:nvPr/>
        </p:nvSpPr>
        <p:spPr>
          <a:xfrm>
            <a:off x="6450120" y="3678120"/>
            <a:ext cx="67284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57"/>
          <p:cNvSpPr/>
          <p:nvPr/>
        </p:nvSpPr>
        <p:spPr>
          <a:xfrm>
            <a:off x="374760" y="2017800"/>
            <a:ext cx="426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h Feature Valu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VP ↑ S ↓ NP ↓ PP ↓ N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A46-3D13-4F57-8EC7-2EAA81E9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hras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yntactic label of the candidate role filler (e.g. N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se tre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th in the parse tree between the predicate and the candidate role fi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oes candidate role fille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prece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foll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in the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s the predicate an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 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at is the head word of the candidate role fill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E33-B401-4629-8772-C89233F8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d Word Feature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 syntactic rules for determining which word in a phrase is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42040" y="301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4121640" y="3611520"/>
            <a:ext cx="26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          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 flipH="1">
            <a:off x="4478040" y="3294000"/>
            <a:ext cx="98748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>
            <a:off x="5465880" y="3317760"/>
            <a:ext cx="9525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3727440" y="427680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1"/>
          <p:cNvSpPr/>
          <p:nvPr/>
        </p:nvSpPr>
        <p:spPr>
          <a:xfrm flipH="1">
            <a:off x="3981600" y="3914640"/>
            <a:ext cx="326880" cy="45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2"/>
          <p:cNvSpPr/>
          <p:nvPr/>
        </p:nvSpPr>
        <p:spPr>
          <a:xfrm>
            <a:off x="4321080" y="3914640"/>
            <a:ext cx="79236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4"/>
          <p:cNvSpPr/>
          <p:nvPr/>
        </p:nvSpPr>
        <p:spPr>
          <a:xfrm>
            <a:off x="3080880" y="5500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5"/>
          <p:cNvSpPr/>
          <p:nvPr/>
        </p:nvSpPr>
        <p:spPr>
          <a:xfrm flipH="1">
            <a:off x="3395520" y="5133960"/>
            <a:ext cx="23040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4764960" y="49100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8"/>
          <p:cNvSpPr/>
          <p:nvPr/>
        </p:nvSpPr>
        <p:spPr>
          <a:xfrm flipH="1">
            <a:off x="4990680" y="4573440"/>
            <a:ext cx="7308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064120" y="4573440"/>
            <a:ext cx="622440" cy="42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4766400" y="54784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>
            <a:off x="5065560" y="51847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4"/>
          <p:cNvSpPr/>
          <p:nvPr/>
        </p:nvSpPr>
        <p:spPr>
          <a:xfrm>
            <a:off x="5344560" y="61182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5"/>
          <p:cNvSpPr/>
          <p:nvPr/>
        </p:nvSpPr>
        <p:spPr>
          <a:xfrm>
            <a:off x="5514840" y="580536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990400" y="431784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8"/>
          <p:cNvSpPr/>
          <p:nvPr/>
        </p:nvSpPr>
        <p:spPr>
          <a:xfrm flipH="1">
            <a:off x="6173280" y="3903840"/>
            <a:ext cx="304920" cy="52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6478560" y="3903840"/>
            <a:ext cx="45072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5986080" y="48798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32"/>
          <p:cNvSpPr/>
          <p:nvPr/>
        </p:nvSpPr>
        <p:spPr>
          <a:xfrm>
            <a:off x="6173640" y="463536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4"/>
          <p:cNvSpPr/>
          <p:nvPr/>
        </p:nvSpPr>
        <p:spPr>
          <a:xfrm>
            <a:off x="6545160" y="54309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35"/>
          <p:cNvSpPr/>
          <p:nvPr/>
        </p:nvSpPr>
        <p:spPr>
          <a:xfrm>
            <a:off x="6699240" y="515952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3870360" y="5819760"/>
            <a:ext cx="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3599640" y="6154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0"/>
          <p:cNvSpPr/>
          <p:nvPr/>
        </p:nvSpPr>
        <p:spPr>
          <a:xfrm>
            <a:off x="4454640" y="5110200"/>
            <a:ext cx="122040" cy="50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41"/>
          <p:cNvSpPr/>
          <p:nvPr/>
        </p:nvSpPr>
        <p:spPr>
          <a:xfrm>
            <a:off x="4286880" y="54640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7438680" y="5189400"/>
            <a:ext cx="11160" cy="38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4"/>
          <p:cNvSpPr/>
          <p:nvPr/>
        </p:nvSpPr>
        <p:spPr>
          <a:xfrm>
            <a:off x="7160040" y="5448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46"/>
          <p:cNvSpPr/>
          <p:nvPr/>
        </p:nvSpPr>
        <p:spPr>
          <a:xfrm>
            <a:off x="6246720" y="578016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032520" y="6097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9"/>
          <p:cNvSpPr/>
          <p:nvPr/>
        </p:nvSpPr>
        <p:spPr>
          <a:xfrm>
            <a:off x="6392880" y="48639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50"/>
          <p:cNvSpPr/>
          <p:nvPr/>
        </p:nvSpPr>
        <p:spPr>
          <a:xfrm flipH="1">
            <a:off x="6675120" y="461016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51"/>
          <p:cNvSpPr/>
          <p:nvPr/>
        </p:nvSpPr>
        <p:spPr>
          <a:xfrm>
            <a:off x="6845400" y="46101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52"/>
          <p:cNvSpPr/>
          <p:nvPr/>
        </p:nvSpPr>
        <p:spPr>
          <a:xfrm>
            <a:off x="6856560" y="462276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54"/>
          <p:cNvSpPr/>
          <p:nvPr/>
        </p:nvSpPr>
        <p:spPr>
          <a:xfrm>
            <a:off x="3413160" y="48322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55"/>
          <p:cNvSpPr/>
          <p:nvPr/>
        </p:nvSpPr>
        <p:spPr>
          <a:xfrm flipH="1">
            <a:off x="3695400" y="457848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56"/>
          <p:cNvSpPr/>
          <p:nvPr/>
        </p:nvSpPr>
        <p:spPr>
          <a:xfrm>
            <a:off x="3865680" y="4578480"/>
            <a:ext cx="5490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7"/>
          <p:cNvSpPr/>
          <p:nvPr/>
        </p:nvSpPr>
        <p:spPr>
          <a:xfrm>
            <a:off x="3876840" y="459108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9"/>
          <p:cNvSpPr/>
          <p:nvPr/>
        </p:nvSpPr>
        <p:spPr>
          <a:xfrm>
            <a:off x="6908760" y="54291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60"/>
          <p:cNvSpPr/>
          <p:nvPr/>
        </p:nvSpPr>
        <p:spPr>
          <a:xfrm>
            <a:off x="7075440" y="5170320"/>
            <a:ext cx="1800" cy="40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2"/>
          <p:cNvSpPr/>
          <p:nvPr/>
        </p:nvSpPr>
        <p:spPr>
          <a:xfrm>
            <a:off x="3597840" y="54784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63"/>
          <p:cNvSpPr/>
          <p:nvPr/>
        </p:nvSpPr>
        <p:spPr>
          <a:xfrm flipH="1">
            <a:off x="3894120" y="513396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64"/>
          <p:cNvSpPr/>
          <p:nvPr/>
        </p:nvSpPr>
        <p:spPr>
          <a:xfrm>
            <a:off x="4052880" y="5146560"/>
            <a:ext cx="16992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66"/>
          <p:cNvSpPr/>
          <p:nvPr/>
        </p:nvSpPr>
        <p:spPr>
          <a:xfrm>
            <a:off x="4073400" y="612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67"/>
          <p:cNvSpPr/>
          <p:nvPr/>
        </p:nvSpPr>
        <p:spPr>
          <a:xfrm>
            <a:off x="4240080" y="587052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9"/>
          <p:cNvSpPr/>
          <p:nvPr/>
        </p:nvSpPr>
        <p:spPr>
          <a:xfrm>
            <a:off x="5259600" y="54720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70"/>
          <p:cNvSpPr/>
          <p:nvPr/>
        </p:nvSpPr>
        <p:spPr>
          <a:xfrm flipH="1">
            <a:off x="5541480" y="521820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71"/>
          <p:cNvSpPr/>
          <p:nvPr/>
        </p:nvSpPr>
        <p:spPr>
          <a:xfrm>
            <a:off x="5711760" y="521820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72"/>
          <p:cNvSpPr/>
          <p:nvPr/>
        </p:nvSpPr>
        <p:spPr>
          <a:xfrm>
            <a:off x="5722920" y="523080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74"/>
          <p:cNvSpPr/>
          <p:nvPr/>
        </p:nvSpPr>
        <p:spPr>
          <a:xfrm>
            <a:off x="5761080" y="6073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75"/>
          <p:cNvSpPr/>
          <p:nvPr/>
        </p:nvSpPr>
        <p:spPr>
          <a:xfrm>
            <a:off x="5927760" y="58150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76"/>
          <p:cNvSpPr/>
          <p:nvPr/>
        </p:nvSpPr>
        <p:spPr>
          <a:xfrm>
            <a:off x="4011480" y="3533760"/>
            <a:ext cx="67320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77"/>
          <p:cNvSpPr/>
          <p:nvPr/>
        </p:nvSpPr>
        <p:spPr>
          <a:xfrm>
            <a:off x="481680" y="361476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Head Wor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779D-8195-494D-9DB7-DE1F1B66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mantic Role Labeling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RL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clause, determine the semantic role played by each noun phrase that is an argument to the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rov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Mar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usti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alla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his Toyota Priu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The hamm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rok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the wind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ferred to a “case role analysis,” “thematic analysis,” and “shallow semantic pars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CC6-5BB2-4C51-B64B-D48900C0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SRL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41760" y="134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5"/>
          <p:cNvGrpSpPr/>
          <p:nvPr/>
        </p:nvGrpSpPr>
        <p:grpSpPr>
          <a:xfrm>
            <a:off x="3323160" y="1627200"/>
            <a:ext cx="2635920" cy="727920"/>
            <a:chOff x="3323160" y="1627200"/>
            <a:chExt cx="2635920" cy="727920"/>
          </a:xfrm>
        </p:grpSpPr>
        <p:sp>
          <p:nvSpPr>
            <p:cNvPr id="917" name="Text Box 6"/>
            <p:cNvSpPr/>
            <p:nvPr/>
          </p:nvSpPr>
          <p:spPr>
            <a:xfrm>
              <a:off x="3323160" y="1895400"/>
              <a:ext cx="26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"/>
            <p:cNvSpPr/>
            <p:nvPr/>
          </p:nvSpPr>
          <p:spPr>
            <a:xfrm flipH="1">
              <a:off x="3677760" y="1627200"/>
              <a:ext cx="98748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8"/>
            <p:cNvSpPr/>
            <p:nvPr/>
          </p:nvSpPr>
          <p:spPr>
            <a:xfrm>
              <a:off x="4665600" y="1650960"/>
              <a:ext cx="952560" cy="37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9"/>
          <p:cNvGrpSpPr/>
          <p:nvPr/>
        </p:nvGrpSpPr>
        <p:grpSpPr>
          <a:xfrm>
            <a:off x="2926800" y="2247840"/>
            <a:ext cx="1558440" cy="761040"/>
            <a:chOff x="2926800" y="2247840"/>
            <a:chExt cx="1558440" cy="761040"/>
          </a:xfrm>
        </p:grpSpPr>
        <p:sp>
          <p:nvSpPr>
            <p:cNvPr id="921" name="Text Box 10"/>
            <p:cNvSpPr/>
            <p:nvPr/>
          </p:nvSpPr>
          <p:spPr>
            <a:xfrm>
              <a:off x="2926800" y="2610000"/>
              <a:ext cx="15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      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H="1">
              <a:off x="3181320" y="2247840"/>
              <a:ext cx="326880" cy="45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2"/>
            <p:cNvSpPr/>
            <p:nvPr/>
          </p:nvSpPr>
          <p:spPr>
            <a:xfrm>
              <a:off x="3521160" y="2247840"/>
              <a:ext cx="79200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13"/>
          <p:cNvGrpSpPr/>
          <p:nvPr/>
        </p:nvGrpSpPr>
        <p:grpSpPr>
          <a:xfrm>
            <a:off x="2280960" y="3467160"/>
            <a:ext cx="577080" cy="765360"/>
            <a:chOff x="2280960" y="3467160"/>
            <a:chExt cx="577080" cy="765360"/>
          </a:xfrm>
        </p:grpSpPr>
        <p:sp>
          <p:nvSpPr>
            <p:cNvPr id="925" name="Text Box 14"/>
            <p:cNvSpPr/>
            <p:nvPr/>
          </p:nvSpPr>
          <p:spPr>
            <a:xfrm>
              <a:off x="2280960" y="383364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5"/>
            <p:cNvSpPr/>
            <p:nvPr/>
          </p:nvSpPr>
          <p:spPr>
            <a:xfrm flipH="1">
              <a:off x="2595600" y="3467160"/>
              <a:ext cx="23004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Group 16"/>
          <p:cNvGrpSpPr/>
          <p:nvPr/>
        </p:nvGrpSpPr>
        <p:grpSpPr>
          <a:xfrm>
            <a:off x="3965040" y="2906640"/>
            <a:ext cx="1166760" cy="735120"/>
            <a:chOff x="3965040" y="2906640"/>
            <a:chExt cx="1166760" cy="735120"/>
          </a:xfrm>
        </p:grpSpPr>
        <p:sp>
          <p:nvSpPr>
            <p:cNvPr id="928" name="Text Box 17"/>
            <p:cNvSpPr/>
            <p:nvPr/>
          </p:nvSpPr>
          <p:spPr>
            <a:xfrm>
              <a:off x="3965040" y="3242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   N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8"/>
            <p:cNvSpPr/>
            <p:nvPr/>
          </p:nvSpPr>
          <p:spPr>
            <a:xfrm flipH="1">
              <a:off x="4191120" y="2906640"/>
              <a:ext cx="72720" cy="46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9"/>
            <p:cNvSpPr/>
            <p:nvPr/>
          </p:nvSpPr>
          <p:spPr>
            <a:xfrm>
              <a:off x="4263840" y="2906640"/>
              <a:ext cx="622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20"/>
          <p:cNvGrpSpPr/>
          <p:nvPr/>
        </p:nvGrpSpPr>
        <p:grpSpPr>
          <a:xfrm>
            <a:off x="3966480" y="3517920"/>
            <a:ext cx="633240" cy="692640"/>
            <a:chOff x="3966480" y="3517920"/>
            <a:chExt cx="633240" cy="692640"/>
          </a:xfrm>
        </p:grpSpPr>
        <p:sp>
          <p:nvSpPr>
            <p:cNvPr id="932" name="Text Box 21"/>
            <p:cNvSpPr/>
            <p:nvPr/>
          </p:nvSpPr>
          <p:spPr>
            <a:xfrm>
              <a:off x="3966480" y="38116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2"/>
            <p:cNvSpPr/>
            <p:nvPr/>
          </p:nvSpPr>
          <p:spPr>
            <a:xfrm>
              <a:off x="4265640" y="351792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23"/>
          <p:cNvGrpSpPr/>
          <p:nvPr/>
        </p:nvGrpSpPr>
        <p:grpSpPr>
          <a:xfrm>
            <a:off x="4544640" y="4138560"/>
            <a:ext cx="491760" cy="711720"/>
            <a:chOff x="4544640" y="4138560"/>
            <a:chExt cx="491760" cy="711720"/>
          </a:xfrm>
        </p:grpSpPr>
        <p:sp>
          <p:nvSpPr>
            <p:cNvPr id="935" name="Text Box 24"/>
            <p:cNvSpPr/>
            <p:nvPr/>
          </p:nvSpPr>
          <p:spPr>
            <a:xfrm>
              <a:off x="4544640" y="445140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5"/>
            <p:cNvSpPr/>
            <p:nvPr/>
          </p:nvSpPr>
          <p:spPr>
            <a:xfrm>
              <a:off x="4714920" y="413856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26"/>
          <p:cNvGrpSpPr/>
          <p:nvPr/>
        </p:nvGrpSpPr>
        <p:grpSpPr>
          <a:xfrm>
            <a:off x="5191560" y="2236680"/>
            <a:ext cx="1266120" cy="825120"/>
            <a:chOff x="5191560" y="2236680"/>
            <a:chExt cx="1266120" cy="825120"/>
          </a:xfrm>
        </p:grpSpPr>
        <p:sp>
          <p:nvSpPr>
            <p:cNvPr id="938" name="Text Box 27"/>
            <p:cNvSpPr/>
            <p:nvPr/>
          </p:nvSpPr>
          <p:spPr>
            <a:xfrm>
              <a:off x="5191560" y="2602080"/>
              <a:ext cx="126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8"/>
            <p:cNvSpPr/>
            <p:nvPr/>
          </p:nvSpPr>
          <p:spPr>
            <a:xfrm flipH="1">
              <a:off x="5373720" y="2236680"/>
              <a:ext cx="30456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9"/>
            <p:cNvSpPr/>
            <p:nvPr/>
          </p:nvSpPr>
          <p:spPr>
            <a:xfrm>
              <a:off x="5678280" y="2236680"/>
              <a:ext cx="451080" cy="5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Group 30"/>
          <p:cNvGrpSpPr/>
          <p:nvPr/>
        </p:nvGrpSpPr>
        <p:grpSpPr>
          <a:xfrm>
            <a:off x="5185800" y="2968560"/>
            <a:ext cx="448920" cy="643320"/>
            <a:chOff x="5185800" y="2968560"/>
            <a:chExt cx="448920" cy="643320"/>
          </a:xfrm>
        </p:grpSpPr>
        <p:sp>
          <p:nvSpPr>
            <p:cNvPr id="942" name="Text Box 31"/>
            <p:cNvSpPr/>
            <p:nvPr/>
          </p:nvSpPr>
          <p:spPr>
            <a:xfrm>
              <a:off x="5185800" y="32130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32"/>
            <p:cNvSpPr/>
            <p:nvPr/>
          </p:nvSpPr>
          <p:spPr>
            <a:xfrm>
              <a:off x="5373720" y="2968560"/>
              <a:ext cx="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33"/>
          <p:cNvGrpSpPr/>
          <p:nvPr/>
        </p:nvGrpSpPr>
        <p:grpSpPr>
          <a:xfrm>
            <a:off x="5745240" y="3492360"/>
            <a:ext cx="293400" cy="670320"/>
            <a:chOff x="5745240" y="3492360"/>
            <a:chExt cx="293400" cy="670320"/>
          </a:xfrm>
        </p:grpSpPr>
        <p:sp>
          <p:nvSpPr>
            <p:cNvPr id="945" name="Text Box 34"/>
            <p:cNvSpPr/>
            <p:nvPr/>
          </p:nvSpPr>
          <p:spPr>
            <a:xfrm>
              <a:off x="5745240" y="3763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35"/>
            <p:cNvSpPr/>
            <p:nvPr/>
          </p:nvSpPr>
          <p:spPr>
            <a:xfrm>
              <a:off x="5898960" y="349236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36"/>
          <p:cNvGrpSpPr/>
          <p:nvPr/>
        </p:nvGrpSpPr>
        <p:grpSpPr>
          <a:xfrm>
            <a:off x="2799360" y="4152960"/>
            <a:ext cx="506880" cy="733680"/>
            <a:chOff x="2799360" y="4152960"/>
            <a:chExt cx="506880" cy="733680"/>
          </a:xfrm>
        </p:grpSpPr>
        <p:sp>
          <p:nvSpPr>
            <p:cNvPr id="948" name="Line 37"/>
            <p:cNvSpPr/>
            <p:nvPr/>
          </p:nvSpPr>
          <p:spPr>
            <a:xfrm>
              <a:off x="3070080" y="4152960"/>
              <a:ext cx="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38"/>
            <p:cNvSpPr/>
            <p:nvPr/>
          </p:nvSpPr>
          <p:spPr>
            <a:xfrm>
              <a:off x="2799360" y="44877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39"/>
          <p:cNvGrpSpPr/>
          <p:nvPr/>
        </p:nvGrpSpPr>
        <p:grpSpPr>
          <a:xfrm>
            <a:off x="3486240" y="3443400"/>
            <a:ext cx="564840" cy="752760"/>
            <a:chOff x="3486240" y="3443400"/>
            <a:chExt cx="564840" cy="752760"/>
          </a:xfrm>
        </p:grpSpPr>
        <p:sp>
          <p:nvSpPr>
            <p:cNvPr id="951" name="Line 40"/>
            <p:cNvSpPr/>
            <p:nvPr/>
          </p:nvSpPr>
          <p:spPr>
            <a:xfrm>
              <a:off x="3654360" y="3443400"/>
              <a:ext cx="122040" cy="5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41"/>
            <p:cNvSpPr/>
            <p:nvPr/>
          </p:nvSpPr>
          <p:spPr>
            <a:xfrm>
              <a:off x="3486240" y="3797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42"/>
          <p:cNvGrpSpPr/>
          <p:nvPr/>
        </p:nvGrpSpPr>
        <p:grpSpPr>
          <a:xfrm>
            <a:off x="6360120" y="3522600"/>
            <a:ext cx="534240" cy="657360"/>
            <a:chOff x="6360120" y="3522600"/>
            <a:chExt cx="534240" cy="657360"/>
          </a:xfrm>
        </p:grpSpPr>
        <p:sp>
          <p:nvSpPr>
            <p:cNvPr id="954" name="Line 43"/>
            <p:cNvSpPr/>
            <p:nvPr/>
          </p:nvSpPr>
          <p:spPr>
            <a:xfrm flipH="1">
              <a:off x="6638760" y="3522600"/>
              <a:ext cx="1116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44"/>
            <p:cNvSpPr/>
            <p:nvPr/>
          </p:nvSpPr>
          <p:spPr>
            <a:xfrm>
              <a:off x="6360120" y="3781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r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Group 45"/>
          <p:cNvGrpSpPr/>
          <p:nvPr/>
        </p:nvGrpSpPr>
        <p:grpSpPr>
          <a:xfrm>
            <a:off x="5232600" y="4113360"/>
            <a:ext cx="564840" cy="716040"/>
            <a:chOff x="5232600" y="4113360"/>
            <a:chExt cx="564840" cy="716040"/>
          </a:xfrm>
        </p:grpSpPr>
        <p:sp>
          <p:nvSpPr>
            <p:cNvPr id="957" name="Line 46"/>
            <p:cNvSpPr/>
            <p:nvPr/>
          </p:nvSpPr>
          <p:spPr>
            <a:xfrm>
              <a:off x="5446800" y="4113360"/>
              <a:ext cx="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47"/>
            <p:cNvSpPr/>
            <p:nvPr/>
          </p:nvSpPr>
          <p:spPr>
            <a:xfrm>
              <a:off x="5232600" y="44305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y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Group 48"/>
          <p:cNvGrpSpPr/>
          <p:nvPr/>
        </p:nvGrpSpPr>
        <p:grpSpPr>
          <a:xfrm>
            <a:off x="5592960" y="2943360"/>
            <a:ext cx="1172880" cy="652680"/>
            <a:chOff x="5592960" y="2943360"/>
            <a:chExt cx="1172880" cy="652680"/>
          </a:xfrm>
        </p:grpSpPr>
        <p:sp>
          <p:nvSpPr>
            <p:cNvPr id="960" name="Text Box 49"/>
            <p:cNvSpPr/>
            <p:nvPr/>
          </p:nvSpPr>
          <p:spPr>
            <a:xfrm>
              <a:off x="5592960" y="319716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50"/>
            <p:cNvSpPr/>
            <p:nvPr/>
          </p:nvSpPr>
          <p:spPr>
            <a:xfrm flipH="1">
              <a:off x="5874840" y="294336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1"/>
            <p:cNvSpPr/>
            <p:nvPr/>
          </p:nvSpPr>
          <p:spPr>
            <a:xfrm>
              <a:off x="6045120" y="294336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52"/>
            <p:cNvSpPr/>
            <p:nvPr/>
          </p:nvSpPr>
          <p:spPr>
            <a:xfrm>
              <a:off x="6056280" y="295596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3"/>
          <p:cNvGrpSpPr/>
          <p:nvPr/>
        </p:nvGrpSpPr>
        <p:grpSpPr>
          <a:xfrm>
            <a:off x="2613240" y="2911320"/>
            <a:ext cx="1172880" cy="652680"/>
            <a:chOff x="2613240" y="2911320"/>
            <a:chExt cx="1172880" cy="652680"/>
          </a:xfrm>
        </p:grpSpPr>
        <p:sp>
          <p:nvSpPr>
            <p:cNvPr id="965" name="Text Box 54"/>
            <p:cNvSpPr/>
            <p:nvPr/>
          </p:nvSpPr>
          <p:spPr>
            <a:xfrm>
              <a:off x="2613240" y="316512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55"/>
            <p:cNvSpPr/>
            <p:nvPr/>
          </p:nvSpPr>
          <p:spPr>
            <a:xfrm flipH="1">
              <a:off x="2895120" y="291132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56"/>
            <p:cNvSpPr/>
            <p:nvPr/>
          </p:nvSpPr>
          <p:spPr>
            <a:xfrm>
              <a:off x="3065400" y="291132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57"/>
            <p:cNvSpPr/>
            <p:nvPr/>
          </p:nvSpPr>
          <p:spPr>
            <a:xfrm>
              <a:off x="3076560" y="292392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Group 58"/>
          <p:cNvGrpSpPr/>
          <p:nvPr/>
        </p:nvGrpSpPr>
        <p:grpSpPr>
          <a:xfrm>
            <a:off x="6108840" y="3503520"/>
            <a:ext cx="287280" cy="657360"/>
            <a:chOff x="6108840" y="3503520"/>
            <a:chExt cx="287280" cy="657360"/>
          </a:xfrm>
        </p:grpSpPr>
        <p:sp>
          <p:nvSpPr>
            <p:cNvPr id="970" name="Text Box 59"/>
            <p:cNvSpPr/>
            <p:nvPr/>
          </p:nvSpPr>
          <p:spPr>
            <a:xfrm>
              <a:off x="6108840" y="3762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0"/>
            <p:cNvSpPr/>
            <p:nvPr/>
          </p:nvSpPr>
          <p:spPr>
            <a:xfrm>
              <a:off x="6275520" y="350352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Group 61"/>
          <p:cNvGrpSpPr/>
          <p:nvPr/>
        </p:nvGrpSpPr>
        <p:grpSpPr>
          <a:xfrm>
            <a:off x="2797560" y="3467160"/>
            <a:ext cx="811800" cy="743400"/>
            <a:chOff x="2797560" y="3467160"/>
            <a:chExt cx="811800" cy="743400"/>
          </a:xfrm>
        </p:grpSpPr>
        <p:sp>
          <p:nvSpPr>
            <p:cNvPr id="973" name="Text Box 62"/>
            <p:cNvSpPr/>
            <p:nvPr/>
          </p:nvSpPr>
          <p:spPr>
            <a:xfrm>
              <a:off x="2797560" y="381168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j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3"/>
            <p:cNvSpPr/>
            <p:nvPr/>
          </p:nvSpPr>
          <p:spPr>
            <a:xfrm flipH="1">
              <a:off x="3093840" y="3467160"/>
              <a:ext cx="169920" cy="4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64"/>
            <p:cNvSpPr/>
            <p:nvPr/>
          </p:nvSpPr>
          <p:spPr>
            <a:xfrm>
              <a:off x="3252600" y="3479760"/>
              <a:ext cx="1699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65"/>
          <p:cNvGrpSpPr/>
          <p:nvPr/>
        </p:nvGrpSpPr>
        <p:grpSpPr>
          <a:xfrm>
            <a:off x="3273480" y="4203720"/>
            <a:ext cx="287280" cy="657360"/>
            <a:chOff x="3273480" y="4203720"/>
            <a:chExt cx="287280" cy="657360"/>
          </a:xfrm>
        </p:grpSpPr>
        <p:sp>
          <p:nvSpPr>
            <p:cNvPr id="977" name="Text Box 66"/>
            <p:cNvSpPr/>
            <p:nvPr/>
          </p:nvSpPr>
          <p:spPr>
            <a:xfrm>
              <a:off x="3273480" y="4462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67"/>
            <p:cNvSpPr/>
            <p:nvPr/>
          </p:nvSpPr>
          <p:spPr>
            <a:xfrm>
              <a:off x="3440160" y="420372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68"/>
          <p:cNvGrpSpPr/>
          <p:nvPr/>
        </p:nvGrpSpPr>
        <p:grpSpPr>
          <a:xfrm>
            <a:off x="4459320" y="3551400"/>
            <a:ext cx="1172880" cy="652680"/>
            <a:chOff x="4459320" y="3551400"/>
            <a:chExt cx="1172880" cy="652680"/>
          </a:xfrm>
        </p:grpSpPr>
        <p:sp>
          <p:nvSpPr>
            <p:cNvPr id="980" name="Text Box 69"/>
            <p:cNvSpPr/>
            <p:nvPr/>
          </p:nvSpPr>
          <p:spPr>
            <a:xfrm>
              <a:off x="4459320" y="380520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70"/>
            <p:cNvSpPr/>
            <p:nvPr/>
          </p:nvSpPr>
          <p:spPr>
            <a:xfrm flipH="1">
              <a:off x="4741200" y="355140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71"/>
            <p:cNvSpPr/>
            <p:nvPr/>
          </p:nvSpPr>
          <p:spPr>
            <a:xfrm>
              <a:off x="4911480" y="355140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72"/>
            <p:cNvSpPr/>
            <p:nvPr/>
          </p:nvSpPr>
          <p:spPr>
            <a:xfrm>
              <a:off x="4922640" y="356400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73"/>
          <p:cNvGrpSpPr/>
          <p:nvPr/>
        </p:nvGrpSpPr>
        <p:grpSpPr>
          <a:xfrm>
            <a:off x="4960800" y="4148280"/>
            <a:ext cx="287280" cy="657360"/>
            <a:chOff x="4960800" y="4148280"/>
            <a:chExt cx="287280" cy="657360"/>
          </a:xfrm>
        </p:grpSpPr>
        <p:sp>
          <p:nvSpPr>
            <p:cNvPr id="985" name="Text Box 74"/>
            <p:cNvSpPr/>
            <p:nvPr/>
          </p:nvSpPr>
          <p:spPr>
            <a:xfrm>
              <a:off x="4960800" y="44067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75"/>
            <p:cNvSpPr/>
            <p:nvPr/>
          </p:nvSpPr>
          <p:spPr>
            <a:xfrm>
              <a:off x="5127480" y="414828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Oval 76"/>
          <p:cNvSpPr/>
          <p:nvPr/>
        </p:nvSpPr>
        <p:spPr>
          <a:xfrm>
            <a:off x="5076720" y="310680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77"/>
          <p:cNvSpPr/>
          <p:nvPr/>
        </p:nvSpPr>
        <p:spPr>
          <a:xfrm>
            <a:off x="3241800" y="1863720"/>
            <a:ext cx="67284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542880" y="4962600"/>
          <a:ext cx="7772400" cy="1724040"/>
        </p:xfrm>
        <a:graphic>
          <a:graphicData uri="http://schemas.openxmlformats.org/drawingml/2006/table">
            <a:tbl>
              <a:tblPr/>
              <a:tblGrid>
                <a:gridCol w="1554120"/>
                <a:gridCol w="1851120"/>
                <a:gridCol w="1258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ra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yp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r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t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i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a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↑VP↑S↓N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ed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BD6C-16F2-4837-BED5-2B30DE7F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 useful feature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parse-tree path goes through a PP, what is the preposition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may violate constraints like “an action has at most one agent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some method to enforce constraints when making final decisions. i.e. determine the most likely assignment of roles that also satisfies a set of known constrain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errors in syntactic parsing, the parse tree is likely to be in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y multiple top-ranked parse trees and somehow combine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grate syntactic parsing and SR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0394-F15D-4D5B-B475-7AA15EF7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Issues in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labeling into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rst decide if node is an argument or no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f it is an argument, determine the typ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DFD3-8CC9-4204-B0F9-7540B49B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Data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Ne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. of California at Berkele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ed on notion of Fram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Ba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. of Pennsylvani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ed on elaborating their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ersität des Saarland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rman version of FrameN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D48C-128B-4F60-9CF0-B189EC2E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ame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at UC Berkeley led by Chuck Fillmore for developing a databas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eneral semantic concepts with an associated set of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are specific to frames, which are “invoked” by multiple words, both verbs and no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DGEMENT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nvoked by: V: blame, praise, admire; N: fault, admir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les: J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UDG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E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VALUE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and R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ASON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frames chosen, and then sentences that employed these frames selected from the British National Corpus and annotated by linguists for semantic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version: 67 frames, 1,462 target words,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49,013 sentences, 99,232 role fi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C6A-6C4A-465F-8BC3-1F00E6A7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ameNet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ldea and Jurafsky (2002) performed SRL experiments with initial FrameNe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d correct frames were identified and the task was to fill their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produced syntactic analyses using Collins (1997) statistica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imple Bayesian method with smoothing to classify pars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d 80.4% correct role assignment. Increased to 82.1% when frame-specific roles were collapsed to 16 general thematic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AB4-F83D-4A25-9E49-72EDA36B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B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42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at U Penn lead by Martha Palmer to add semantic roles to the Penn tree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s (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pecific to each individual verb to avoid having to agree on a universal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rg0 basically “agen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rg1 basically “patien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tated over 1M words of Wall Street Journal text with existing gold-standard parse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3,594 sentences       99,265 propositions (verbs + rol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,324 unique verbs    262,281 role assig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B86-07CC-434A-AED5-B6008E1B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NL SRL Shared Tas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LL (Conference on Computational Natural Language Learning) is the annual meeting for the SIGNLL (Special Interest Group on Natural Language Learning) of A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year, CONLL has a “Shared Task”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Bank semantic role labeling was used as the Shared Task for CONLL-04 and CONLL-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LL-05, 19 teams particip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249-302D-469D-AA69-27AB93F6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LL-05 Learning Approach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02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entropy (8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M (7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(1 team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semble of enhanced Percep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 (1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Boost (2 team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semble of decision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CRF (1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 of approaches (2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E59-9DD7-4FD8-8BBB-94397BB1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LL 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28400" y="1371600"/>
            <a:ext cx="8321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ed on 39,832 WSJ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d on 2,416 WSJ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tested on 426 Brown corpus sentences to test generalizing beyond financial n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# roles correctly assigned) / (# roles assigned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# roles correctly assigned) / (total # of rol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-measu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26D-8CFB-4347-A954-AE27A1F7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Ro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in the linguistic notion of case (Fillmore, 196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ety of semantic role labels have been proposed, common o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gent: Actor of an 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ient: Entity affected by the 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strument: Tool used in performing ac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neficiary: Entity for whom action is perform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urce: Origin of the affected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tination: Destination of the affected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6151-54A9-4E30-B12D-999C2662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st Result from CONLL-05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. of Illinois system based on SNoW with global constraints enforced using Integer Linear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892080" y="3921120"/>
          <a:ext cx="7358040" cy="1104840"/>
        </p:xfrm>
        <a:graphic>
          <a:graphicData uri="http://schemas.openxmlformats.org/drawingml/2006/table">
            <a:tbl>
              <a:tblPr/>
              <a:tblGrid>
                <a:gridCol w="1227240"/>
                <a:gridCol w="1225440"/>
                <a:gridCol w="1227240"/>
                <a:gridCol w="1225440"/>
                <a:gridCol w="1227240"/>
                <a:gridCol w="12254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7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3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7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1" name=""/>
          <p:cNvGraphicFramePr/>
          <p:nvPr/>
        </p:nvGraphicFramePr>
        <p:xfrm>
          <a:off x="885960" y="3328920"/>
          <a:ext cx="7364160" cy="576360"/>
        </p:xfrm>
        <a:graphic>
          <a:graphicData uri="http://schemas.openxmlformats.org/drawingml/2006/table">
            <a:tbl>
              <a:tblPr/>
              <a:tblGrid>
                <a:gridCol w="3682800"/>
                <a:gridCol w="3681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SJ T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rown T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53D7-4626-46DD-ADE9-F3E164BD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perly integrate syntactic parsing, WSD, and role assignment so they all aid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RL be used to aid end-use 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xt Mi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4D1-6CA0-4ED7-8850-A3D57E5C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 of Semantic Ro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15520" y="1371240"/>
            <a:ext cx="8442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roles are useful for various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o” questions usually use Ag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at” question usually  use Pati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” and “with what” questions usually use Instru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” questions frequently use Sources and Destin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whom” questions usually use Beneficia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whom” questions usually use Destina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roles are usually expressed using particular, distinct syntactic constructions in different languag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C572-E9D1-4EDD-884E-EAA62A99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nd Syntactic Cu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2640" y="1371600"/>
            <a:ext cx="81187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semantic role is indicated by a particular syntactic position (e.g. object of a particular preposi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gent:  subj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ient: direct obj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strument: object of “with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neficiary: object of “for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: object of “from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stination: object of “to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se are preferences at b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hammer hit the window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book was given to Mary by Joh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went to the movie with Mar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bought the car for $21K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went to work by bu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150-2D6C-401E-B72C-7E58A6BC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ectional Restri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ional restr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raints that certain verbs place on the filler of certain semantic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gents should be animat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neficiaries should be animat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struments should be too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ients of “eat” should be edi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s and Destinations of “go” should be plac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s and Destinations of “give” should be animat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anomic abstraction hierarchies or ontologies (e.g. hypernym links in WordNet) can be used to determine if such constraints are 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” is a “Human” which is a “Mammal” which is a “Vertebrate” which is an “Animate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413-4C1F-47E4-BD94-EE4DE21A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 of Sectional Restri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al restrictions can help rule in or out certain semantic role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bought the car for $21K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eneficiaries should be Animat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of a “buy” should be Money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went to the movie with Mary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should be Inanimat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drove Mary to school in the van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drove the van to work with Mary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of a “drive” should be a Vehicle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160-BA1E-492C-938C-52DE92452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lectional Restrictions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Ambiguity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yntactic ambiguities like PP attachment can be resolved using selectional restr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ate the spaghetti with meatball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ate the spaghetti with chopstick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s should be tool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tients of “eat” must be edibl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hit the man with a dog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hit the man with a hammer.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s should be tools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7FF8-EF9E-4D16-BF06-CAE67C388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lectional Restrictions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lexical ambiguities can be resolved using selectional restr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ous 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wrote it with a pen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nstruments of “write” should be WritingImplements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bat ate the bug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gents (particularly of “eat”) should be animat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“eat” should be edibl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ous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fired the secretary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fired the rifl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DischargeWeapon should be Weapons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CeaseEmploment should be Hum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11-02T15:08:33Z</dcterms:modified>
  <cp:revision>281</cp:revision>
  <dc:subject/>
  <dc:title>Intelligent Information Retrieval and Web Search</dc:title>
</cp:coreProperties>
</file>