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3DA1-E814-4761-833F-26CCD5428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762A-EFD2-4BCA-9849-BF81CCD5A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5438-9AB2-46B8-9DF6-1C05CEA210C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4ABE-CFAA-47B4-BEB2-D9C5194FC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5476-DD61-43D3-A2F7-8B76DEDCA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C1F8-FA86-45B1-BD1C-D1512F550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B383-113A-4AA7-A098-6C523EE9D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D76D-7DDE-4962-B988-8CAEA35DF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A931-18EC-4584-B839-FA5F11F03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7B27-B8D6-4528-9C52-075BB50B4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40DD-7806-4EAD-B540-1D3B7B58D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B9DA-A4B3-4D8E-A3D0-45E2DD0F5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1D32-0734-4366-A64F-BA3B46756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0C70-DB91-45AD-9648-4FC83901F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2AB7-85C0-410D-9018-C36C42FBA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0E22-13EB-45E2-9B49-B2FC94E8D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2A58-071D-4CC1-BAE7-BB99F0382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8C30-CF62-4151-91F9-786931B33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9935-CCC5-4F37-B58A-555700DB5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97F7-ACE7-43EE-8B82-B15455B31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5357-0DEE-4D01-8B22-5F502EEDA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5E1E-27AA-4D1F-8CBD-79FCA55BF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200D-1DC1-4F46-A278-3F6EAB44F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8141-F7E2-4607-8ECD-DF26919F9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E3DD-68E6-432D-A48F-D3F132323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5F37-2ECB-4A78-B7E4-753641AF2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77CE-635D-4137-A875-2675FD868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82B7-DA86-4B06-8865-8FD1B2257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3295-74DF-42EE-A0A9-56E14ECAA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514B-423B-438D-8E16-856F154AE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FF0B-60C4-4582-BB8E-62CAB573D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CD8A-9C6C-4EBE-B76F-35C64C75E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3380-E585-4192-AB93-7BEB8CD83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F0D8-5965-422D-8682-9B2CEBE5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2007-0350-40E3-BB0F-4D19D6F7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536F76-46C8-4A66-A735-7B47E296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80EB64-610E-4E91-A72C-191DE76E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966861-6218-44B8-8449-8569AC54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1A497D-5B29-4E1B-BC74-C3563A44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435212-7698-48A7-8158-4F344169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9AA01B-0C4F-48DF-891F-F3E05AB0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F65292-0503-4FDC-9E0B-8EA4382D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95FEF5-2D67-4010-BEFD-78DFA849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F2D47E-998F-45AC-97DD-1CD8D425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EC2DF7-0B2B-4ABB-9FD3-81874490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1A12-3061-47FE-B2BC-EDFBFFE3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73143C-8566-40F0-9817-0218EC0A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737225-2F6B-4E4A-9DB8-9207DE31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96F5ED-8BEA-464B-9CB4-6F21C764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2C3BC9-0AEC-4CB3-9413-AB2711BD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7105EF-2004-4A58-AE4C-2968ECF7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24F635-8EC8-459E-9517-5FDEA31F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8FE76B-778D-4077-9C89-21FFDF67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FD82FD-109B-4A24-82D6-62208A2F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2F3E8F-8389-403D-B151-6169C5FA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699122-7597-4269-89D7-85656917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14BE-FDD0-4DC1-8461-ADCD85F3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0719DC-7551-4405-AC2B-79D68F5E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A48D91-26BC-4A5F-B9F2-9D86CD5B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5A862B-D712-4221-A1D9-01108F6E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46B57E-A541-4E7C-9E0C-3A9C3BBC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C82428-EC83-4CEB-BEA7-2200765D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29C963-1E5B-4A29-898E-6068A10D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7C26FA-DF42-4639-82A6-9007AC55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8B1602-4359-4AAE-9DA8-4BED1354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10CF1B-AA68-41C3-866A-193C1D07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F6E05E-BBAC-4F11-BF29-C8609481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CD32A-00AB-4AFF-8277-B5EBB6C6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30155C-1E07-46EB-8A1B-68265674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08B56C-61A9-4651-A389-D7590DBB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717312-E82D-4B33-B435-6E35A744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6C6BE7-7E9C-4CB9-B802-893FB768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EE1D8D-A47F-4F9B-A2A7-5E599C62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52B875-D390-4BEA-9923-ABCF0623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D03F90-943C-4344-ACB6-8A6958FC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40D963-C7CE-413B-AFB9-087C5BA1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5A20FD-8826-421A-A0CD-5FA1CDB7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69AA9D-A5CB-47F0-BA30-2161D643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1AC8F-641B-4E34-BADA-497B0BA3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DD2AA7-ABDD-4DB0-87CE-B88F93D1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CFC61E-0140-462C-BBA5-ACFCF395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821491-3747-453B-8F69-7E3E5B01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630CBA-4F9C-4A55-A449-64DFD7E6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D08472-26B1-4208-9DE8-AAAB2B01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A22583-6F44-4098-960D-05DB0626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68671F-4DCE-4616-9655-36BD99BA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270460-2E0D-4875-BC00-CECE4690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CF3B22-C8D2-4250-996B-F5D8F786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1F017A-96E1-4A17-8BA5-7C7FE20D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729EA-5BDC-4990-A488-7B83DECD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F141E7-59DC-4CBF-9178-6DBD3374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791910-862A-471D-BC8F-0F67789C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5EE631-5F7F-4292-96B0-D789436E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60478A-8578-4CF7-910F-696BCCE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FE9D03-5CDD-4F41-976C-74D95F9D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CBB282-F25F-437F-A5B6-40B96543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5E425F-811F-4FED-B0F8-76142AE8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CA8874-1702-49EC-BD3B-AA9C60F2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A32880-CE43-4245-9A8B-933CB9D6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A5E37C-FA8C-42BA-9553-2987CBE3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A33B1-F704-4602-AE21-785A315B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B8608B-6FE6-4B41-9094-9C8E67AF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6F1607-C717-48BC-A013-63FFD2FF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174D2B-0102-42E1-87A7-C427446F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CACFF2-8572-4D8C-8545-42102B8D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376751-2CF0-457E-B934-C6966A45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EE66AF-D0EA-490A-8F8D-7D4DB983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92302B-E5E8-4421-990C-ED6D7572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53060E-D67E-4EA2-A3F7-227EB95A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6C3CB9-0B31-4385-A547-66849131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964A9-C8F0-43F9-BF39-F550249C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6B4D8-D211-4C92-B6E5-E729E90B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EF91F-215D-423C-B6BB-F2094CC0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1D10-2EA3-4998-9A30-53BB2D0D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7CC11-131C-46FB-A153-40B41CB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BAC30-75C2-4C4F-AC0F-9304A585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B8DFC-04CB-4600-BDEA-1BA2B2A4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036EF-7865-431A-A82A-C64616EE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3CA2F-B73F-4E88-872A-59F9536C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EC853-DC73-4351-8B5A-C3108C70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8A6F2-75E8-417B-8181-859AA92A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CF540-9217-4B6E-B6DA-F74142E1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BA443-02B3-44D0-B957-6FB88A72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178A4-40E9-43EB-8679-C28E8BBD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A6D0-C87A-4748-8A70-2BED0ECF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06D8D-9966-4194-8363-2AEE9ACE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1284D-28AC-4118-99E3-C15691FF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9610D-F589-4D24-949F-CC74D7F4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5A714-173F-4391-AD92-E7EA0284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028AA-0E5B-40FD-A2BC-43961360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B4FE2-D630-46B2-9946-69F1EEED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ADF6A-65C1-4E31-8637-CA0F206D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EA5590-FC7E-4146-AE0D-BA6AC5CB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BD5F0-2075-4FB0-B03D-CE62A7B4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304718-5E9F-420E-8827-34C1A37E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59DA-260E-43F2-8087-654A2902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F7CE4-A809-4181-A3C3-93D594B5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51BB8-BA4E-428E-BFE8-29427B37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5C6544-31EC-4178-A5F5-7813E5FC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A7C12-3409-46E9-B3E5-7FF94702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EF0A4-FB69-403B-9CB9-3411B084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50360-2EF2-4F01-B157-0428B34E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85D59-1B94-4691-8760-4D15CF46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EDEC3-42D6-4A34-B454-B5ABB291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B3ADB-1805-48DC-AEB1-6E6ABED4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76B62-D9A1-41C9-8905-4E64BC0D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60D2-EA13-477A-AF22-73C44E25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81915-4858-48AF-A8DF-AA2F5FDA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6A922-A934-433F-9659-94B4969E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4B31B-0445-433A-8D58-A0D29490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690B9-8BF4-4E59-8C11-A35E50EB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700BC-4699-4A43-8229-DF39949A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48734-C5FD-4FD8-9BA7-B138F58D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FE247-CDDC-4882-9F90-A35F3D84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2CDFE-A4D9-4D41-A71B-31B1D55E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A11E8-818E-4551-8DC0-67A3038A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D0CFE-A506-4321-A873-A1573A49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B369-2ACC-4EAB-87A0-E53A351C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0C3D7-EF70-45AB-B9C8-B6C36166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BFC69-4621-4E6D-B95C-40095539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DF568-E735-4D60-85C3-19D392F3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52C9E-F866-4274-B0D8-2AA34BC8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DB9E40-4E19-4D26-8143-A75DACBD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478D6-04C0-4E3F-9468-7F968D75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3C4B3-C227-4089-BA99-5AFAEE10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7E092-5310-4BD8-BE5A-2B1F22EE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83568-7491-48D4-BEA2-888D8259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224E76-95E3-42FC-8BB6-62F1213A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6540A-B2ED-4A45-A5C7-604C68A9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037DA-C88C-45C3-9B50-27AB7276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00351-9C2D-48D7-8DDE-99FF5B89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FB0AC-8A0D-4F2A-A091-4B9D64C5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A45962-7B9D-49B7-843C-3E1241BC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08FA8-CAEA-4CFA-8651-EB60143E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3FE2E-E282-47D0-8BD2-1BA1EE15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FD310-0C9E-4015-B73D-755EE9E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C95785-7332-4ABD-B166-648E3E59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32B5B-0039-478A-87CE-B618135E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8B522-CBD2-4360-9BAF-4A5CFA48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F1B5D-B67E-40EF-9E0A-704D7EB5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DBED2-9DA7-4987-A583-D1C33BCB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72A8A0-4DBA-44D0-BFD6-3FE0B507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91A5FF-0F9F-40A1-9B06-F6C7E2F0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843750-55FC-42CF-93B7-BFE5C7CA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E16E6-4839-402D-95F3-24DBD95D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5A9E26-A960-47B7-A53F-597D6CE2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3C2AE3-FC43-4CE3-8CD2-2992E98B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415E8C-E2CC-4055-AC54-49276C20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8C3CAD-EFD2-4AFA-8073-99FB6FC8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998681-E27F-4EE4-827B-72C67569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7686-B523-4623-9692-210CFA83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684314-F826-4A3C-AFE4-8BAE3A5D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B1CDE-0BF4-4F39-B8D2-26D7B24F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B4B014-9B8C-416C-A306-A5A99AA8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040650-26F3-42B4-B83E-56239853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4C2B65-4602-4E66-AFD8-A190E60E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2F87B1-F77C-4F49-9A9B-849D40F6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C0A623-9A4D-404B-9AB4-1301B240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BEE2EA-0D71-44E7-8457-6E5598C8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97F578-1FC1-451C-A7DC-F1BA5B05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7C67B7-33D6-43AE-89CA-1CCB64D6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71EC-A4F7-46E5-9765-8594C1645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1B8A-F833-4ACC-B52D-D087D2B94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0F81-E621-4B8B-8A62-7140D9AAB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9B18-F517-4A88-90F9-4E5531484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D80E-6D73-4C3B-95AD-4DB8DF6A0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4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B67-0C48-4261-AC4D-E6094E0CA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4994-3B7A-425B-9F35-4EA84F573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CD98-ECBA-4EC8-A73A-AAF064A0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E92B-1536-4BEC-BC88-8EC53F396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5F42-462B-441A-8B06-C70747982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20A9-6672-4805-A708-3D05EA17C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0949-6B8A-4657-AB92-E6C02F6B8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6329-EBCB-4014-BE84-E864DA66A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9CA0-91FE-411E-9E68-D9C7E79A7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8D73-4C18-4C96-8138-6E9ADA3F9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1494-5735-4A63-AA82-9EA76C1FDCE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88: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emantic Role Label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E5E7-D56C-421C-97A8-98E0D5E57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pirical Methods for SR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acquire all of the selectional restrictions and taxonomic knowledge needed for S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efficiently and effectively apply knowledge in an integrated fashion to simultaneously determine correct parse trees, word senses, and semantic r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/empirical methods can be used to automatically acquire and apply the knowledge needed for effective and efficient S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111E-9434-4B6A-B886-8562B3FEC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as Sequence Label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L can be treated as an sequence labeling 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verb, try to extract a value for each of the possible semantic roles for that ver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 any of the standard sequence label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ken classific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M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RF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3BD6-2BF8-4908-A788-BBA1E79DE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with Parse Tre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trees help identify semantic roles through exploiting syntactic clues like “the agent is usually the subject of the verb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tree is needed to identify the tru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431240" y="318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3222720" y="35892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g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2233080" y="412596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     N        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3555000" y="4664160"/>
            <a:ext cx="195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         N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2142000" y="4711680"/>
            <a:ext cx="13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    ma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3683880" y="52578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    the store near the do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5198040" y="422604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 the appl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1"/>
          <p:cNvSpPr/>
          <p:nvPr/>
        </p:nvSpPr>
        <p:spPr>
          <a:xfrm flipH="1">
            <a:off x="3375000" y="3527280"/>
            <a:ext cx="119376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12"/>
          <p:cNvSpPr/>
          <p:nvPr/>
        </p:nvSpPr>
        <p:spPr>
          <a:xfrm>
            <a:off x="4557600" y="3527280"/>
            <a:ext cx="114624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13"/>
          <p:cNvSpPr/>
          <p:nvPr/>
        </p:nvSpPr>
        <p:spPr>
          <a:xfrm flipH="1">
            <a:off x="2619000" y="3965400"/>
            <a:ext cx="69372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4"/>
          <p:cNvSpPr/>
          <p:nvPr/>
        </p:nvSpPr>
        <p:spPr>
          <a:xfrm>
            <a:off x="3301920" y="3965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5"/>
          <p:cNvSpPr/>
          <p:nvPr/>
        </p:nvSpPr>
        <p:spPr>
          <a:xfrm>
            <a:off x="3289320" y="3978360"/>
            <a:ext cx="82872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16"/>
          <p:cNvSpPr/>
          <p:nvPr/>
        </p:nvSpPr>
        <p:spPr>
          <a:xfrm flipH="1">
            <a:off x="2351160" y="4478400"/>
            <a:ext cx="17136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7"/>
          <p:cNvSpPr/>
          <p:nvPr/>
        </p:nvSpPr>
        <p:spPr>
          <a:xfrm flipH="1">
            <a:off x="3142800" y="4465800"/>
            <a:ext cx="109800" cy="36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8"/>
          <p:cNvSpPr/>
          <p:nvPr/>
        </p:nvSpPr>
        <p:spPr>
          <a:xfrm flipH="1">
            <a:off x="3911400" y="4454640"/>
            <a:ext cx="1825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9"/>
          <p:cNvSpPr/>
          <p:nvPr/>
        </p:nvSpPr>
        <p:spPr>
          <a:xfrm>
            <a:off x="4106880" y="4465800"/>
            <a:ext cx="888840" cy="31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20"/>
          <p:cNvSpPr/>
          <p:nvPr/>
        </p:nvSpPr>
        <p:spPr>
          <a:xfrm>
            <a:off x="3875040" y="501480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21"/>
          <p:cNvSpPr/>
          <p:nvPr/>
        </p:nvSpPr>
        <p:spPr>
          <a:xfrm flipH="1">
            <a:off x="4300200" y="5064120"/>
            <a:ext cx="75708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22"/>
          <p:cNvSpPr/>
          <p:nvPr/>
        </p:nvSpPr>
        <p:spPr>
          <a:xfrm>
            <a:off x="4300560" y="5343480"/>
            <a:ext cx="22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23"/>
          <p:cNvSpPr/>
          <p:nvPr/>
        </p:nvSpPr>
        <p:spPr>
          <a:xfrm>
            <a:off x="5045040" y="5038560"/>
            <a:ext cx="143208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24"/>
          <p:cNvSpPr/>
          <p:nvPr/>
        </p:nvSpPr>
        <p:spPr>
          <a:xfrm flipH="1">
            <a:off x="5435280" y="3965400"/>
            <a:ext cx="328680" cy="3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25"/>
          <p:cNvSpPr/>
          <p:nvPr/>
        </p:nvSpPr>
        <p:spPr>
          <a:xfrm>
            <a:off x="5435640" y="4332240"/>
            <a:ext cx="109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26"/>
          <p:cNvSpPr/>
          <p:nvPr/>
        </p:nvSpPr>
        <p:spPr>
          <a:xfrm>
            <a:off x="5764320" y="3941640"/>
            <a:ext cx="78084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7"/>
          <p:cNvSpPr/>
          <p:nvPr/>
        </p:nvSpPr>
        <p:spPr>
          <a:xfrm>
            <a:off x="1125360" y="5600880"/>
            <a:ext cx="721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n by the store near the dog ate an apple.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man” is the agent of “ate” not “the dog”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88C1-ADCA-4267-9ED1-F4EDE7E1E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with Parse Tre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a syntactic parse i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predicate (verb), label each node in the parse tree as either not-a-role or one of the possible semantic r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5964120" y="2971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5"/>
          <p:cNvGrpSpPr/>
          <p:nvPr/>
        </p:nvGrpSpPr>
        <p:grpSpPr>
          <a:xfrm>
            <a:off x="4744800" y="3251160"/>
            <a:ext cx="2652840" cy="727920"/>
            <a:chOff x="4744800" y="3251160"/>
            <a:chExt cx="2652840" cy="727920"/>
          </a:xfrm>
        </p:grpSpPr>
        <p:sp>
          <p:nvSpPr>
            <p:cNvPr id="661" name="Text Box 6"/>
            <p:cNvSpPr/>
            <p:nvPr/>
          </p:nvSpPr>
          <p:spPr>
            <a:xfrm>
              <a:off x="4744800" y="3519360"/>
              <a:ext cx="26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7"/>
            <p:cNvSpPr/>
            <p:nvPr/>
          </p:nvSpPr>
          <p:spPr>
            <a:xfrm flipH="1">
              <a:off x="5100120" y="3251160"/>
              <a:ext cx="98748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8"/>
            <p:cNvSpPr/>
            <p:nvPr/>
          </p:nvSpPr>
          <p:spPr>
            <a:xfrm>
              <a:off x="6087960" y="3274920"/>
              <a:ext cx="952560" cy="37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9"/>
          <p:cNvGrpSpPr/>
          <p:nvPr/>
        </p:nvGrpSpPr>
        <p:grpSpPr>
          <a:xfrm>
            <a:off x="4349160" y="3871800"/>
            <a:ext cx="1558440" cy="761040"/>
            <a:chOff x="4349160" y="3871800"/>
            <a:chExt cx="1558440" cy="761040"/>
          </a:xfrm>
        </p:grpSpPr>
        <p:sp>
          <p:nvSpPr>
            <p:cNvPr id="665" name="Text Box 10"/>
            <p:cNvSpPr/>
            <p:nvPr/>
          </p:nvSpPr>
          <p:spPr>
            <a:xfrm>
              <a:off x="4349160" y="4233960"/>
              <a:ext cx="155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      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 flipH="1">
              <a:off x="4603680" y="3871800"/>
              <a:ext cx="326880" cy="45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12"/>
            <p:cNvSpPr/>
            <p:nvPr/>
          </p:nvSpPr>
          <p:spPr>
            <a:xfrm>
              <a:off x="4943520" y="3871800"/>
              <a:ext cx="792000" cy="4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13"/>
          <p:cNvGrpSpPr/>
          <p:nvPr/>
        </p:nvGrpSpPr>
        <p:grpSpPr>
          <a:xfrm>
            <a:off x="3703320" y="5091120"/>
            <a:ext cx="577080" cy="765360"/>
            <a:chOff x="3703320" y="5091120"/>
            <a:chExt cx="577080" cy="765360"/>
          </a:xfrm>
        </p:grpSpPr>
        <p:sp>
          <p:nvSpPr>
            <p:cNvPr id="669" name="Text Box 14"/>
            <p:cNvSpPr/>
            <p:nvPr/>
          </p:nvSpPr>
          <p:spPr>
            <a:xfrm>
              <a:off x="3703320" y="545760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5"/>
            <p:cNvSpPr/>
            <p:nvPr/>
          </p:nvSpPr>
          <p:spPr>
            <a:xfrm flipH="1">
              <a:off x="4017960" y="5091120"/>
              <a:ext cx="230040" cy="49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16"/>
          <p:cNvGrpSpPr/>
          <p:nvPr/>
        </p:nvGrpSpPr>
        <p:grpSpPr>
          <a:xfrm>
            <a:off x="5387400" y="4530600"/>
            <a:ext cx="1166760" cy="735480"/>
            <a:chOff x="5387400" y="4530600"/>
            <a:chExt cx="1166760" cy="735480"/>
          </a:xfrm>
        </p:grpSpPr>
        <p:sp>
          <p:nvSpPr>
            <p:cNvPr id="672" name="Text Box 17"/>
            <p:cNvSpPr/>
            <p:nvPr/>
          </p:nvSpPr>
          <p:spPr>
            <a:xfrm>
              <a:off x="5387400" y="486720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p   N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8"/>
            <p:cNvSpPr/>
            <p:nvPr/>
          </p:nvSpPr>
          <p:spPr>
            <a:xfrm flipH="1">
              <a:off x="5613480" y="4530600"/>
              <a:ext cx="72720" cy="46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9"/>
            <p:cNvSpPr/>
            <p:nvPr/>
          </p:nvSpPr>
          <p:spPr>
            <a:xfrm>
              <a:off x="5686200" y="4530600"/>
              <a:ext cx="622440" cy="42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20"/>
          <p:cNvGrpSpPr/>
          <p:nvPr/>
        </p:nvGrpSpPr>
        <p:grpSpPr>
          <a:xfrm>
            <a:off x="5388840" y="5141880"/>
            <a:ext cx="633240" cy="692640"/>
            <a:chOff x="5388840" y="5141880"/>
            <a:chExt cx="633240" cy="692640"/>
          </a:xfrm>
        </p:grpSpPr>
        <p:sp>
          <p:nvSpPr>
            <p:cNvPr id="676" name="Text Box 21"/>
            <p:cNvSpPr/>
            <p:nvPr/>
          </p:nvSpPr>
          <p:spPr>
            <a:xfrm>
              <a:off x="5388840" y="543564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2"/>
            <p:cNvSpPr/>
            <p:nvPr/>
          </p:nvSpPr>
          <p:spPr>
            <a:xfrm>
              <a:off x="5688000" y="5141880"/>
              <a:ext cx="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23"/>
          <p:cNvGrpSpPr/>
          <p:nvPr/>
        </p:nvGrpSpPr>
        <p:grpSpPr>
          <a:xfrm>
            <a:off x="5967000" y="5762520"/>
            <a:ext cx="491760" cy="711720"/>
            <a:chOff x="5967000" y="5762520"/>
            <a:chExt cx="491760" cy="711720"/>
          </a:xfrm>
        </p:grpSpPr>
        <p:sp>
          <p:nvSpPr>
            <p:cNvPr id="679" name="Text Box 24"/>
            <p:cNvSpPr/>
            <p:nvPr/>
          </p:nvSpPr>
          <p:spPr>
            <a:xfrm>
              <a:off x="5967000" y="607536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25"/>
            <p:cNvSpPr/>
            <p:nvPr/>
          </p:nvSpPr>
          <p:spPr>
            <a:xfrm>
              <a:off x="6137280" y="5762520"/>
              <a:ext cx="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26"/>
          <p:cNvGrpSpPr/>
          <p:nvPr/>
        </p:nvGrpSpPr>
        <p:grpSpPr>
          <a:xfrm>
            <a:off x="6613560" y="3860640"/>
            <a:ext cx="1282680" cy="825120"/>
            <a:chOff x="6613560" y="3860640"/>
            <a:chExt cx="1282680" cy="825120"/>
          </a:xfrm>
        </p:grpSpPr>
        <p:sp>
          <p:nvSpPr>
            <p:cNvPr id="682" name="Text Box 27"/>
            <p:cNvSpPr/>
            <p:nvPr/>
          </p:nvSpPr>
          <p:spPr>
            <a:xfrm>
              <a:off x="6613560" y="42260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        </a:t>
              </a: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N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28"/>
            <p:cNvSpPr/>
            <p:nvPr/>
          </p:nvSpPr>
          <p:spPr>
            <a:xfrm flipH="1">
              <a:off x="6796080" y="3860640"/>
              <a:ext cx="304560" cy="5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29"/>
            <p:cNvSpPr/>
            <p:nvPr/>
          </p:nvSpPr>
          <p:spPr>
            <a:xfrm>
              <a:off x="7100640" y="3860640"/>
              <a:ext cx="451080" cy="5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Group 30"/>
          <p:cNvGrpSpPr/>
          <p:nvPr/>
        </p:nvGrpSpPr>
        <p:grpSpPr>
          <a:xfrm>
            <a:off x="6608160" y="4592520"/>
            <a:ext cx="448920" cy="643320"/>
            <a:chOff x="6608160" y="4592520"/>
            <a:chExt cx="448920" cy="643320"/>
          </a:xfrm>
        </p:grpSpPr>
        <p:sp>
          <p:nvSpPr>
            <p:cNvPr id="686" name="Text Box 31"/>
            <p:cNvSpPr/>
            <p:nvPr/>
          </p:nvSpPr>
          <p:spPr>
            <a:xfrm>
              <a:off x="6608160" y="483696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32"/>
            <p:cNvSpPr/>
            <p:nvPr/>
          </p:nvSpPr>
          <p:spPr>
            <a:xfrm>
              <a:off x="6796080" y="4592520"/>
              <a:ext cx="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Group 33"/>
          <p:cNvGrpSpPr/>
          <p:nvPr/>
        </p:nvGrpSpPr>
        <p:grpSpPr>
          <a:xfrm>
            <a:off x="7167600" y="5116680"/>
            <a:ext cx="293400" cy="670320"/>
            <a:chOff x="7167600" y="5116680"/>
            <a:chExt cx="293400" cy="670320"/>
          </a:xfrm>
        </p:grpSpPr>
        <p:sp>
          <p:nvSpPr>
            <p:cNvPr id="689" name="Text Box 34"/>
            <p:cNvSpPr/>
            <p:nvPr/>
          </p:nvSpPr>
          <p:spPr>
            <a:xfrm>
              <a:off x="7167600" y="53881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35"/>
            <p:cNvSpPr/>
            <p:nvPr/>
          </p:nvSpPr>
          <p:spPr>
            <a:xfrm>
              <a:off x="7321320" y="511668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36"/>
          <p:cNvGrpSpPr/>
          <p:nvPr/>
        </p:nvGrpSpPr>
        <p:grpSpPr>
          <a:xfrm>
            <a:off x="4221720" y="5776920"/>
            <a:ext cx="506880" cy="733680"/>
            <a:chOff x="4221720" y="5776920"/>
            <a:chExt cx="506880" cy="733680"/>
          </a:xfrm>
        </p:grpSpPr>
        <p:sp>
          <p:nvSpPr>
            <p:cNvPr id="692" name="Line 37"/>
            <p:cNvSpPr/>
            <p:nvPr/>
          </p:nvSpPr>
          <p:spPr>
            <a:xfrm>
              <a:off x="4492440" y="5776920"/>
              <a:ext cx="0" cy="45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38"/>
            <p:cNvSpPr/>
            <p:nvPr/>
          </p:nvSpPr>
          <p:spPr>
            <a:xfrm>
              <a:off x="4221720" y="61117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39"/>
          <p:cNvGrpSpPr/>
          <p:nvPr/>
        </p:nvGrpSpPr>
        <p:grpSpPr>
          <a:xfrm>
            <a:off x="4908600" y="5067360"/>
            <a:ext cx="564840" cy="752760"/>
            <a:chOff x="4908600" y="5067360"/>
            <a:chExt cx="564840" cy="752760"/>
          </a:xfrm>
        </p:grpSpPr>
        <p:sp>
          <p:nvSpPr>
            <p:cNvPr id="695" name="Line 40"/>
            <p:cNvSpPr/>
            <p:nvPr/>
          </p:nvSpPr>
          <p:spPr>
            <a:xfrm>
              <a:off x="5076720" y="5067360"/>
              <a:ext cx="122040" cy="5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1"/>
            <p:cNvSpPr/>
            <p:nvPr/>
          </p:nvSpPr>
          <p:spPr>
            <a:xfrm>
              <a:off x="4908600" y="54212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Group 42"/>
          <p:cNvGrpSpPr/>
          <p:nvPr/>
        </p:nvGrpSpPr>
        <p:grpSpPr>
          <a:xfrm>
            <a:off x="7782480" y="5146560"/>
            <a:ext cx="534240" cy="657360"/>
            <a:chOff x="7782480" y="5146560"/>
            <a:chExt cx="534240" cy="657360"/>
          </a:xfrm>
        </p:grpSpPr>
        <p:sp>
          <p:nvSpPr>
            <p:cNvPr id="698" name="Line 43"/>
            <p:cNvSpPr/>
            <p:nvPr/>
          </p:nvSpPr>
          <p:spPr>
            <a:xfrm flipH="1">
              <a:off x="8061120" y="5146560"/>
              <a:ext cx="1116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Text Box 44"/>
            <p:cNvSpPr/>
            <p:nvPr/>
          </p:nvSpPr>
          <p:spPr>
            <a:xfrm>
              <a:off x="7782480" y="54050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ir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Group 45"/>
          <p:cNvGrpSpPr/>
          <p:nvPr/>
        </p:nvGrpSpPr>
        <p:grpSpPr>
          <a:xfrm>
            <a:off x="6654960" y="5737320"/>
            <a:ext cx="564840" cy="716040"/>
            <a:chOff x="6654960" y="5737320"/>
            <a:chExt cx="564840" cy="716040"/>
          </a:xfrm>
        </p:grpSpPr>
        <p:sp>
          <p:nvSpPr>
            <p:cNvPr id="701" name="Line 46"/>
            <p:cNvSpPr/>
            <p:nvPr/>
          </p:nvSpPr>
          <p:spPr>
            <a:xfrm>
              <a:off x="6869160" y="5737320"/>
              <a:ext cx="0" cy="41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Text Box 47"/>
            <p:cNvSpPr/>
            <p:nvPr/>
          </p:nvSpPr>
          <p:spPr>
            <a:xfrm>
              <a:off x="6654960" y="60544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y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Group 48"/>
          <p:cNvGrpSpPr/>
          <p:nvPr/>
        </p:nvGrpSpPr>
        <p:grpSpPr>
          <a:xfrm>
            <a:off x="7015320" y="4567320"/>
            <a:ext cx="1172880" cy="652680"/>
            <a:chOff x="7015320" y="4567320"/>
            <a:chExt cx="1172880" cy="652680"/>
          </a:xfrm>
        </p:grpSpPr>
        <p:sp>
          <p:nvSpPr>
            <p:cNvPr id="704" name="Text Box 49"/>
            <p:cNvSpPr/>
            <p:nvPr/>
          </p:nvSpPr>
          <p:spPr>
            <a:xfrm>
              <a:off x="7015320" y="482112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  A  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50"/>
            <p:cNvSpPr/>
            <p:nvPr/>
          </p:nvSpPr>
          <p:spPr>
            <a:xfrm flipH="1">
              <a:off x="7297200" y="4567320"/>
              <a:ext cx="181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51"/>
            <p:cNvSpPr/>
            <p:nvPr/>
          </p:nvSpPr>
          <p:spPr>
            <a:xfrm>
              <a:off x="7467480" y="4567320"/>
              <a:ext cx="54936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2"/>
            <p:cNvSpPr/>
            <p:nvPr/>
          </p:nvSpPr>
          <p:spPr>
            <a:xfrm>
              <a:off x="7478640" y="4579920"/>
              <a:ext cx="19512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53"/>
          <p:cNvGrpSpPr/>
          <p:nvPr/>
        </p:nvGrpSpPr>
        <p:grpSpPr>
          <a:xfrm>
            <a:off x="4035600" y="4535640"/>
            <a:ext cx="1172880" cy="652680"/>
            <a:chOff x="4035600" y="4535640"/>
            <a:chExt cx="1172880" cy="652680"/>
          </a:xfrm>
        </p:grpSpPr>
        <p:sp>
          <p:nvSpPr>
            <p:cNvPr id="709" name="Text Box 54"/>
            <p:cNvSpPr/>
            <p:nvPr/>
          </p:nvSpPr>
          <p:spPr>
            <a:xfrm>
              <a:off x="4035600" y="478944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  A  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55"/>
            <p:cNvSpPr/>
            <p:nvPr/>
          </p:nvSpPr>
          <p:spPr>
            <a:xfrm flipH="1">
              <a:off x="4317480" y="4535640"/>
              <a:ext cx="181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56"/>
            <p:cNvSpPr/>
            <p:nvPr/>
          </p:nvSpPr>
          <p:spPr>
            <a:xfrm>
              <a:off x="4487760" y="4535640"/>
              <a:ext cx="54936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57"/>
            <p:cNvSpPr/>
            <p:nvPr/>
          </p:nvSpPr>
          <p:spPr>
            <a:xfrm>
              <a:off x="4498920" y="4548240"/>
              <a:ext cx="19512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58"/>
          <p:cNvGrpSpPr/>
          <p:nvPr/>
        </p:nvGrpSpPr>
        <p:grpSpPr>
          <a:xfrm>
            <a:off x="7531200" y="5127480"/>
            <a:ext cx="287280" cy="657720"/>
            <a:chOff x="7531200" y="5127480"/>
            <a:chExt cx="287280" cy="657720"/>
          </a:xfrm>
        </p:grpSpPr>
        <p:sp>
          <p:nvSpPr>
            <p:cNvPr id="714" name="Text Box 59"/>
            <p:cNvSpPr/>
            <p:nvPr/>
          </p:nvSpPr>
          <p:spPr>
            <a:xfrm>
              <a:off x="7531200" y="5386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60"/>
            <p:cNvSpPr/>
            <p:nvPr/>
          </p:nvSpPr>
          <p:spPr>
            <a:xfrm>
              <a:off x="7697880" y="5127480"/>
              <a:ext cx="1440" cy="40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Group 61"/>
          <p:cNvGrpSpPr/>
          <p:nvPr/>
        </p:nvGrpSpPr>
        <p:grpSpPr>
          <a:xfrm>
            <a:off x="4219920" y="5091120"/>
            <a:ext cx="811800" cy="743400"/>
            <a:chOff x="4219920" y="5091120"/>
            <a:chExt cx="811800" cy="743400"/>
          </a:xfrm>
        </p:grpSpPr>
        <p:sp>
          <p:nvSpPr>
            <p:cNvPr id="717" name="Text Box 62"/>
            <p:cNvSpPr/>
            <p:nvPr/>
          </p:nvSpPr>
          <p:spPr>
            <a:xfrm>
              <a:off x="4219920" y="543564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j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63"/>
            <p:cNvSpPr/>
            <p:nvPr/>
          </p:nvSpPr>
          <p:spPr>
            <a:xfrm flipH="1">
              <a:off x="4516200" y="5091120"/>
              <a:ext cx="169920" cy="48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64"/>
            <p:cNvSpPr/>
            <p:nvPr/>
          </p:nvSpPr>
          <p:spPr>
            <a:xfrm>
              <a:off x="4674960" y="5103720"/>
              <a:ext cx="169920" cy="46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Group 65"/>
          <p:cNvGrpSpPr/>
          <p:nvPr/>
        </p:nvGrpSpPr>
        <p:grpSpPr>
          <a:xfrm>
            <a:off x="4695840" y="5827680"/>
            <a:ext cx="287280" cy="657360"/>
            <a:chOff x="4695840" y="5827680"/>
            <a:chExt cx="287280" cy="657360"/>
          </a:xfrm>
        </p:grpSpPr>
        <p:sp>
          <p:nvSpPr>
            <p:cNvPr id="721" name="Text Box 66"/>
            <p:cNvSpPr/>
            <p:nvPr/>
          </p:nvSpPr>
          <p:spPr>
            <a:xfrm>
              <a:off x="4695840" y="608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67"/>
            <p:cNvSpPr/>
            <p:nvPr/>
          </p:nvSpPr>
          <p:spPr>
            <a:xfrm>
              <a:off x="4862520" y="5827680"/>
              <a:ext cx="1440" cy="40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68"/>
          <p:cNvGrpSpPr/>
          <p:nvPr/>
        </p:nvGrpSpPr>
        <p:grpSpPr>
          <a:xfrm>
            <a:off x="5881680" y="5175360"/>
            <a:ext cx="1172880" cy="652680"/>
            <a:chOff x="5881680" y="5175360"/>
            <a:chExt cx="1172880" cy="652680"/>
          </a:xfrm>
        </p:grpSpPr>
        <p:sp>
          <p:nvSpPr>
            <p:cNvPr id="724" name="Text Box 69"/>
            <p:cNvSpPr/>
            <p:nvPr/>
          </p:nvSpPr>
          <p:spPr>
            <a:xfrm>
              <a:off x="5881680" y="542916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  A  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70"/>
            <p:cNvSpPr/>
            <p:nvPr/>
          </p:nvSpPr>
          <p:spPr>
            <a:xfrm flipH="1">
              <a:off x="6163560" y="5175360"/>
              <a:ext cx="181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71"/>
            <p:cNvSpPr/>
            <p:nvPr/>
          </p:nvSpPr>
          <p:spPr>
            <a:xfrm>
              <a:off x="6333840" y="5175360"/>
              <a:ext cx="54936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72"/>
            <p:cNvSpPr/>
            <p:nvPr/>
          </p:nvSpPr>
          <p:spPr>
            <a:xfrm>
              <a:off x="6345000" y="5187960"/>
              <a:ext cx="19512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Group 73"/>
          <p:cNvGrpSpPr/>
          <p:nvPr/>
        </p:nvGrpSpPr>
        <p:grpSpPr>
          <a:xfrm>
            <a:off x="6383160" y="5772240"/>
            <a:ext cx="287280" cy="657360"/>
            <a:chOff x="6383160" y="5772240"/>
            <a:chExt cx="287280" cy="657360"/>
          </a:xfrm>
        </p:grpSpPr>
        <p:sp>
          <p:nvSpPr>
            <p:cNvPr id="729" name="Text Box 74"/>
            <p:cNvSpPr/>
            <p:nvPr/>
          </p:nvSpPr>
          <p:spPr>
            <a:xfrm>
              <a:off x="6383160" y="60307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75"/>
            <p:cNvSpPr/>
            <p:nvPr/>
          </p:nvSpPr>
          <p:spPr>
            <a:xfrm>
              <a:off x="6549840" y="5772240"/>
              <a:ext cx="1440" cy="40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Text Box 76"/>
          <p:cNvSpPr/>
          <p:nvPr/>
        </p:nvSpPr>
        <p:spPr>
          <a:xfrm>
            <a:off x="1109160" y="3355920"/>
            <a:ext cx="20458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lor Co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-a-ro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g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t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sour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destin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Times New Roman"/>
              </a:rPr>
              <a:t>instru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benefici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78"/>
          <p:cNvSpPr/>
          <p:nvPr/>
        </p:nvSpPr>
        <p:spPr>
          <a:xfrm>
            <a:off x="6499080" y="4730760"/>
            <a:ext cx="673200" cy="63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5BDC-0826-4D48-A313-489FC7269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as Parse Node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roblem as classifying parse-tree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any machine-learning classificatio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issue is engineering the right set of features for the classifier to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7723-EE5C-49F2-BF02-271960AAE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eatures for SR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hrase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syntactic label of the candidate role filler (e.g. N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se tree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th in the parse tree between the predicate and the candidate role fi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57FB-E63B-4F7A-9D46-3C66A13D0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e Tree Path Feature: Example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6443640" y="186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5223960" y="246528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7"/>
          <p:cNvSpPr/>
          <p:nvPr/>
        </p:nvSpPr>
        <p:spPr>
          <a:xfrm flipH="1">
            <a:off x="5579640" y="2147760"/>
            <a:ext cx="987480" cy="41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6567480" y="2171880"/>
            <a:ext cx="95256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0"/>
          <p:cNvSpPr/>
          <p:nvPr/>
        </p:nvSpPr>
        <p:spPr>
          <a:xfrm>
            <a:off x="4828680" y="313056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  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1"/>
          <p:cNvSpPr/>
          <p:nvPr/>
        </p:nvSpPr>
        <p:spPr>
          <a:xfrm flipH="1">
            <a:off x="5083200" y="2768760"/>
            <a:ext cx="32688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2"/>
          <p:cNvSpPr/>
          <p:nvPr/>
        </p:nvSpPr>
        <p:spPr>
          <a:xfrm>
            <a:off x="5423040" y="2768760"/>
            <a:ext cx="792000" cy="47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4"/>
          <p:cNvSpPr/>
          <p:nvPr/>
        </p:nvSpPr>
        <p:spPr>
          <a:xfrm>
            <a:off x="4182840" y="43545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5"/>
          <p:cNvSpPr/>
          <p:nvPr/>
        </p:nvSpPr>
        <p:spPr>
          <a:xfrm flipH="1">
            <a:off x="4497120" y="3987720"/>
            <a:ext cx="230040" cy="49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7"/>
          <p:cNvSpPr/>
          <p:nvPr/>
        </p:nvSpPr>
        <p:spPr>
          <a:xfrm>
            <a:off x="5866920" y="3763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18"/>
          <p:cNvSpPr/>
          <p:nvPr/>
        </p:nvSpPr>
        <p:spPr>
          <a:xfrm flipH="1">
            <a:off x="6093000" y="3427560"/>
            <a:ext cx="7272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19"/>
          <p:cNvSpPr/>
          <p:nvPr/>
        </p:nvSpPr>
        <p:spPr>
          <a:xfrm>
            <a:off x="6165720" y="3427560"/>
            <a:ext cx="62244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21"/>
          <p:cNvSpPr/>
          <p:nvPr/>
        </p:nvSpPr>
        <p:spPr>
          <a:xfrm>
            <a:off x="5868360" y="43322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22"/>
          <p:cNvSpPr/>
          <p:nvPr/>
        </p:nvSpPr>
        <p:spPr>
          <a:xfrm>
            <a:off x="6167520" y="403848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6446160" y="497196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25"/>
          <p:cNvSpPr/>
          <p:nvPr/>
        </p:nvSpPr>
        <p:spPr>
          <a:xfrm>
            <a:off x="6616800" y="4659480"/>
            <a:ext cx="0" cy="41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27"/>
          <p:cNvSpPr/>
          <p:nvPr/>
        </p:nvSpPr>
        <p:spPr>
          <a:xfrm>
            <a:off x="7092360" y="3171960"/>
            <a:ext cx="12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28"/>
          <p:cNvSpPr/>
          <p:nvPr/>
        </p:nvSpPr>
        <p:spPr>
          <a:xfrm flipH="1">
            <a:off x="7275600" y="2757600"/>
            <a:ext cx="304560" cy="52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9"/>
          <p:cNvSpPr/>
          <p:nvPr/>
        </p:nvSpPr>
        <p:spPr>
          <a:xfrm>
            <a:off x="7580160" y="2757600"/>
            <a:ext cx="451080" cy="5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1"/>
          <p:cNvSpPr/>
          <p:nvPr/>
        </p:nvSpPr>
        <p:spPr>
          <a:xfrm>
            <a:off x="7087680" y="37339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32"/>
          <p:cNvSpPr/>
          <p:nvPr/>
        </p:nvSpPr>
        <p:spPr>
          <a:xfrm>
            <a:off x="7275600" y="3489480"/>
            <a:ext cx="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7647120" y="4284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35"/>
          <p:cNvSpPr/>
          <p:nvPr/>
        </p:nvSpPr>
        <p:spPr>
          <a:xfrm>
            <a:off x="7800840" y="4013280"/>
            <a:ext cx="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37"/>
          <p:cNvSpPr/>
          <p:nvPr/>
        </p:nvSpPr>
        <p:spPr>
          <a:xfrm>
            <a:off x="4971960" y="4673520"/>
            <a:ext cx="0" cy="4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8"/>
          <p:cNvSpPr/>
          <p:nvPr/>
        </p:nvSpPr>
        <p:spPr>
          <a:xfrm>
            <a:off x="4701240" y="50086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40"/>
          <p:cNvSpPr/>
          <p:nvPr/>
        </p:nvSpPr>
        <p:spPr>
          <a:xfrm>
            <a:off x="5556240" y="3963960"/>
            <a:ext cx="12240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1"/>
          <p:cNvSpPr/>
          <p:nvPr/>
        </p:nvSpPr>
        <p:spPr>
          <a:xfrm>
            <a:off x="5388120" y="4317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43"/>
          <p:cNvSpPr/>
          <p:nvPr/>
        </p:nvSpPr>
        <p:spPr>
          <a:xfrm flipH="1">
            <a:off x="8540280" y="4043520"/>
            <a:ext cx="11160" cy="38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4"/>
          <p:cNvSpPr/>
          <p:nvPr/>
        </p:nvSpPr>
        <p:spPr>
          <a:xfrm>
            <a:off x="8262000" y="4302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46"/>
          <p:cNvSpPr/>
          <p:nvPr/>
        </p:nvSpPr>
        <p:spPr>
          <a:xfrm>
            <a:off x="7348680" y="463392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7"/>
          <p:cNvSpPr/>
          <p:nvPr/>
        </p:nvSpPr>
        <p:spPr>
          <a:xfrm>
            <a:off x="7134480" y="4951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49"/>
          <p:cNvSpPr/>
          <p:nvPr/>
        </p:nvSpPr>
        <p:spPr>
          <a:xfrm>
            <a:off x="7494840" y="371808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50"/>
          <p:cNvSpPr/>
          <p:nvPr/>
        </p:nvSpPr>
        <p:spPr>
          <a:xfrm flipH="1">
            <a:off x="7776720" y="3463920"/>
            <a:ext cx="18108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51"/>
          <p:cNvSpPr/>
          <p:nvPr/>
        </p:nvSpPr>
        <p:spPr>
          <a:xfrm>
            <a:off x="7947000" y="3463920"/>
            <a:ext cx="54936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52"/>
          <p:cNvSpPr/>
          <p:nvPr/>
        </p:nvSpPr>
        <p:spPr>
          <a:xfrm>
            <a:off x="7958160" y="3476520"/>
            <a:ext cx="195120" cy="3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54"/>
          <p:cNvSpPr/>
          <p:nvPr/>
        </p:nvSpPr>
        <p:spPr>
          <a:xfrm>
            <a:off x="4515120" y="368604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55"/>
          <p:cNvSpPr/>
          <p:nvPr/>
        </p:nvSpPr>
        <p:spPr>
          <a:xfrm flipH="1">
            <a:off x="4797000" y="3432240"/>
            <a:ext cx="18108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56"/>
          <p:cNvSpPr/>
          <p:nvPr/>
        </p:nvSpPr>
        <p:spPr>
          <a:xfrm>
            <a:off x="4967280" y="3432240"/>
            <a:ext cx="54936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57"/>
          <p:cNvSpPr/>
          <p:nvPr/>
        </p:nvSpPr>
        <p:spPr>
          <a:xfrm>
            <a:off x="4978440" y="3444840"/>
            <a:ext cx="19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59"/>
          <p:cNvSpPr/>
          <p:nvPr/>
        </p:nvSpPr>
        <p:spPr>
          <a:xfrm>
            <a:off x="8010360" y="4282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60"/>
          <p:cNvSpPr/>
          <p:nvPr/>
        </p:nvSpPr>
        <p:spPr>
          <a:xfrm>
            <a:off x="8177040" y="4024440"/>
            <a:ext cx="1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62"/>
          <p:cNvSpPr/>
          <p:nvPr/>
        </p:nvSpPr>
        <p:spPr>
          <a:xfrm>
            <a:off x="4699440" y="433224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63"/>
          <p:cNvSpPr/>
          <p:nvPr/>
        </p:nvSpPr>
        <p:spPr>
          <a:xfrm flipH="1">
            <a:off x="4995720" y="3987720"/>
            <a:ext cx="16992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64"/>
          <p:cNvSpPr/>
          <p:nvPr/>
        </p:nvSpPr>
        <p:spPr>
          <a:xfrm>
            <a:off x="5154480" y="4000680"/>
            <a:ext cx="16992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6"/>
          <p:cNvSpPr/>
          <p:nvPr/>
        </p:nvSpPr>
        <p:spPr>
          <a:xfrm>
            <a:off x="5175360" y="49831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67"/>
          <p:cNvSpPr/>
          <p:nvPr/>
        </p:nvSpPr>
        <p:spPr>
          <a:xfrm>
            <a:off x="5342040" y="4724280"/>
            <a:ext cx="144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69"/>
          <p:cNvSpPr/>
          <p:nvPr/>
        </p:nvSpPr>
        <p:spPr>
          <a:xfrm>
            <a:off x="6361200" y="43257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70"/>
          <p:cNvSpPr/>
          <p:nvPr/>
        </p:nvSpPr>
        <p:spPr>
          <a:xfrm flipH="1">
            <a:off x="6643800" y="4071960"/>
            <a:ext cx="18072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71"/>
          <p:cNvSpPr/>
          <p:nvPr/>
        </p:nvSpPr>
        <p:spPr>
          <a:xfrm>
            <a:off x="6813720" y="4071960"/>
            <a:ext cx="54900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72"/>
          <p:cNvSpPr/>
          <p:nvPr/>
        </p:nvSpPr>
        <p:spPr>
          <a:xfrm>
            <a:off x="6824520" y="4084560"/>
            <a:ext cx="19548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74"/>
          <p:cNvSpPr/>
          <p:nvPr/>
        </p:nvSpPr>
        <p:spPr>
          <a:xfrm>
            <a:off x="6862680" y="49276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75"/>
          <p:cNvSpPr/>
          <p:nvPr/>
        </p:nvSpPr>
        <p:spPr>
          <a:xfrm>
            <a:off x="7029360" y="4668840"/>
            <a:ext cx="1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76"/>
          <p:cNvSpPr/>
          <p:nvPr/>
        </p:nvSpPr>
        <p:spPr>
          <a:xfrm>
            <a:off x="6978600" y="3627360"/>
            <a:ext cx="673200" cy="63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Oval 77"/>
          <p:cNvSpPr/>
          <p:nvPr/>
        </p:nvSpPr>
        <p:spPr>
          <a:xfrm>
            <a:off x="5129280" y="2341440"/>
            <a:ext cx="673200" cy="6350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78"/>
          <p:cNvSpPr/>
          <p:nvPr/>
        </p:nvSpPr>
        <p:spPr>
          <a:xfrm>
            <a:off x="559440" y="2046240"/>
            <a:ext cx="325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th Feature Valu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VP ↑ S ↓ N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2EC8-3403-4AE8-BA4D-FC207CED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e Tree Path Feature: Example 2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8" name="Text Box 3"/>
          <p:cNvSpPr/>
          <p:nvPr/>
        </p:nvSpPr>
        <p:spPr>
          <a:xfrm>
            <a:off x="6443640" y="186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5223960" y="246528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5"/>
          <p:cNvSpPr/>
          <p:nvPr/>
        </p:nvSpPr>
        <p:spPr>
          <a:xfrm flipH="1">
            <a:off x="5579640" y="2147760"/>
            <a:ext cx="987480" cy="41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6"/>
          <p:cNvSpPr/>
          <p:nvPr/>
        </p:nvSpPr>
        <p:spPr>
          <a:xfrm>
            <a:off x="6567480" y="2171880"/>
            <a:ext cx="95256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4829040" y="3130560"/>
            <a:ext cx="15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8"/>
          <p:cNvSpPr/>
          <p:nvPr/>
        </p:nvSpPr>
        <p:spPr>
          <a:xfrm flipH="1">
            <a:off x="5083200" y="2768760"/>
            <a:ext cx="32688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9"/>
          <p:cNvSpPr/>
          <p:nvPr/>
        </p:nvSpPr>
        <p:spPr>
          <a:xfrm>
            <a:off x="5423040" y="2768760"/>
            <a:ext cx="792000" cy="47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0"/>
          <p:cNvSpPr/>
          <p:nvPr/>
        </p:nvSpPr>
        <p:spPr>
          <a:xfrm>
            <a:off x="4182840" y="43545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1"/>
          <p:cNvSpPr/>
          <p:nvPr/>
        </p:nvSpPr>
        <p:spPr>
          <a:xfrm flipH="1">
            <a:off x="4497120" y="3987720"/>
            <a:ext cx="230040" cy="49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2"/>
          <p:cNvSpPr/>
          <p:nvPr/>
        </p:nvSpPr>
        <p:spPr>
          <a:xfrm>
            <a:off x="5866920" y="376380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3"/>
          <p:cNvSpPr/>
          <p:nvPr/>
        </p:nvSpPr>
        <p:spPr>
          <a:xfrm flipH="1">
            <a:off x="6093000" y="3427560"/>
            <a:ext cx="7272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14"/>
          <p:cNvSpPr/>
          <p:nvPr/>
        </p:nvSpPr>
        <p:spPr>
          <a:xfrm>
            <a:off x="6165720" y="3427560"/>
            <a:ext cx="622440" cy="42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5"/>
          <p:cNvSpPr/>
          <p:nvPr/>
        </p:nvSpPr>
        <p:spPr>
          <a:xfrm>
            <a:off x="5868360" y="43322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6"/>
          <p:cNvSpPr/>
          <p:nvPr/>
        </p:nvSpPr>
        <p:spPr>
          <a:xfrm>
            <a:off x="6167520" y="403848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7"/>
          <p:cNvSpPr/>
          <p:nvPr/>
        </p:nvSpPr>
        <p:spPr>
          <a:xfrm>
            <a:off x="6446160" y="497196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8"/>
          <p:cNvSpPr/>
          <p:nvPr/>
        </p:nvSpPr>
        <p:spPr>
          <a:xfrm>
            <a:off x="6616800" y="4659480"/>
            <a:ext cx="0" cy="41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9"/>
          <p:cNvSpPr/>
          <p:nvPr/>
        </p:nvSpPr>
        <p:spPr>
          <a:xfrm>
            <a:off x="7092360" y="3171960"/>
            <a:ext cx="12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20"/>
          <p:cNvSpPr/>
          <p:nvPr/>
        </p:nvSpPr>
        <p:spPr>
          <a:xfrm flipH="1">
            <a:off x="7275600" y="2757600"/>
            <a:ext cx="304560" cy="52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21"/>
          <p:cNvSpPr/>
          <p:nvPr/>
        </p:nvSpPr>
        <p:spPr>
          <a:xfrm>
            <a:off x="7580160" y="2757600"/>
            <a:ext cx="451080" cy="5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22"/>
          <p:cNvSpPr/>
          <p:nvPr/>
        </p:nvSpPr>
        <p:spPr>
          <a:xfrm>
            <a:off x="7087680" y="37339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23"/>
          <p:cNvSpPr/>
          <p:nvPr/>
        </p:nvSpPr>
        <p:spPr>
          <a:xfrm>
            <a:off x="7275600" y="3489480"/>
            <a:ext cx="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4"/>
          <p:cNvSpPr/>
          <p:nvPr/>
        </p:nvSpPr>
        <p:spPr>
          <a:xfrm>
            <a:off x="7647120" y="4284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25"/>
          <p:cNvSpPr/>
          <p:nvPr/>
        </p:nvSpPr>
        <p:spPr>
          <a:xfrm>
            <a:off x="7800840" y="4013280"/>
            <a:ext cx="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26"/>
          <p:cNvSpPr/>
          <p:nvPr/>
        </p:nvSpPr>
        <p:spPr>
          <a:xfrm>
            <a:off x="4971960" y="4673520"/>
            <a:ext cx="0" cy="45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7"/>
          <p:cNvSpPr/>
          <p:nvPr/>
        </p:nvSpPr>
        <p:spPr>
          <a:xfrm>
            <a:off x="4701240" y="50086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28"/>
          <p:cNvSpPr/>
          <p:nvPr/>
        </p:nvSpPr>
        <p:spPr>
          <a:xfrm>
            <a:off x="5556240" y="3963960"/>
            <a:ext cx="12240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5388120" y="4317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30"/>
          <p:cNvSpPr/>
          <p:nvPr/>
        </p:nvSpPr>
        <p:spPr>
          <a:xfrm flipH="1">
            <a:off x="8540280" y="4043520"/>
            <a:ext cx="11160" cy="38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31"/>
          <p:cNvSpPr/>
          <p:nvPr/>
        </p:nvSpPr>
        <p:spPr>
          <a:xfrm>
            <a:off x="8262000" y="4302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32"/>
          <p:cNvSpPr/>
          <p:nvPr/>
        </p:nvSpPr>
        <p:spPr>
          <a:xfrm>
            <a:off x="7348680" y="463392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3"/>
          <p:cNvSpPr/>
          <p:nvPr/>
        </p:nvSpPr>
        <p:spPr>
          <a:xfrm>
            <a:off x="7134480" y="4951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4"/>
          <p:cNvSpPr/>
          <p:nvPr/>
        </p:nvSpPr>
        <p:spPr>
          <a:xfrm>
            <a:off x="7494840" y="371808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35"/>
          <p:cNvSpPr/>
          <p:nvPr/>
        </p:nvSpPr>
        <p:spPr>
          <a:xfrm flipH="1">
            <a:off x="7776720" y="3463920"/>
            <a:ext cx="18108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36"/>
          <p:cNvSpPr/>
          <p:nvPr/>
        </p:nvSpPr>
        <p:spPr>
          <a:xfrm>
            <a:off x="7947000" y="3463920"/>
            <a:ext cx="54936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37"/>
          <p:cNvSpPr/>
          <p:nvPr/>
        </p:nvSpPr>
        <p:spPr>
          <a:xfrm>
            <a:off x="7958160" y="3476520"/>
            <a:ext cx="195120" cy="3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8"/>
          <p:cNvSpPr/>
          <p:nvPr/>
        </p:nvSpPr>
        <p:spPr>
          <a:xfrm>
            <a:off x="4515120" y="368604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39"/>
          <p:cNvSpPr/>
          <p:nvPr/>
        </p:nvSpPr>
        <p:spPr>
          <a:xfrm flipH="1">
            <a:off x="4797000" y="3432240"/>
            <a:ext cx="18108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40"/>
          <p:cNvSpPr/>
          <p:nvPr/>
        </p:nvSpPr>
        <p:spPr>
          <a:xfrm>
            <a:off x="4967280" y="3432240"/>
            <a:ext cx="54936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41"/>
          <p:cNvSpPr/>
          <p:nvPr/>
        </p:nvSpPr>
        <p:spPr>
          <a:xfrm>
            <a:off x="4978440" y="3444840"/>
            <a:ext cx="19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42"/>
          <p:cNvSpPr/>
          <p:nvPr/>
        </p:nvSpPr>
        <p:spPr>
          <a:xfrm>
            <a:off x="8010360" y="4282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43"/>
          <p:cNvSpPr/>
          <p:nvPr/>
        </p:nvSpPr>
        <p:spPr>
          <a:xfrm>
            <a:off x="8177040" y="4024440"/>
            <a:ext cx="1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44"/>
          <p:cNvSpPr/>
          <p:nvPr/>
        </p:nvSpPr>
        <p:spPr>
          <a:xfrm>
            <a:off x="4699440" y="433224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45"/>
          <p:cNvSpPr/>
          <p:nvPr/>
        </p:nvSpPr>
        <p:spPr>
          <a:xfrm flipH="1">
            <a:off x="4995720" y="3987720"/>
            <a:ext cx="16992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46"/>
          <p:cNvSpPr/>
          <p:nvPr/>
        </p:nvSpPr>
        <p:spPr>
          <a:xfrm>
            <a:off x="5154480" y="4000680"/>
            <a:ext cx="16992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47"/>
          <p:cNvSpPr/>
          <p:nvPr/>
        </p:nvSpPr>
        <p:spPr>
          <a:xfrm>
            <a:off x="5175360" y="49831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48"/>
          <p:cNvSpPr/>
          <p:nvPr/>
        </p:nvSpPr>
        <p:spPr>
          <a:xfrm>
            <a:off x="5342040" y="4724280"/>
            <a:ext cx="144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49"/>
          <p:cNvSpPr/>
          <p:nvPr/>
        </p:nvSpPr>
        <p:spPr>
          <a:xfrm>
            <a:off x="6361200" y="43257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50"/>
          <p:cNvSpPr/>
          <p:nvPr/>
        </p:nvSpPr>
        <p:spPr>
          <a:xfrm flipH="1">
            <a:off x="6643800" y="4071960"/>
            <a:ext cx="18072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51"/>
          <p:cNvSpPr/>
          <p:nvPr/>
        </p:nvSpPr>
        <p:spPr>
          <a:xfrm>
            <a:off x="6813720" y="4071960"/>
            <a:ext cx="54900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52"/>
          <p:cNvSpPr/>
          <p:nvPr/>
        </p:nvSpPr>
        <p:spPr>
          <a:xfrm>
            <a:off x="6824520" y="4084560"/>
            <a:ext cx="19548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53"/>
          <p:cNvSpPr/>
          <p:nvPr/>
        </p:nvSpPr>
        <p:spPr>
          <a:xfrm>
            <a:off x="6862680" y="49276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54"/>
          <p:cNvSpPr/>
          <p:nvPr/>
        </p:nvSpPr>
        <p:spPr>
          <a:xfrm>
            <a:off x="7029360" y="4668840"/>
            <a:ext cx="1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55"/>
          <p:cNvSpPr/>
          <p:nvPr/>
        </p:nvSpPr>
        <p:spPr>
          <a:xfrm>
            <a:off x="6978600" y="3627360"/>
            <a:ext cx="673200" cy="63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56"/>
          <p:cNvSpPr/>
          <p:nvPr/>
        </p:nvSpPr>
        <p:spPr>
          <a:xfrm>
            <a:off x="6450120" y="3678120"/>
            <a:ext cx="672840" cy="6350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57"/>
          <p:cNvSpPr/>
          <p:nvPr/>
        </p:nvSpPr>
        <p:spPr>
          <a:xfrm>
            <a:off x="374760" y="2017800"/>
            <a:ext cx="426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th Feature Valu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VP ↑ S ↓ NP ↓ PP ↓ N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DB85-F6EE-43DF-8445-379F66024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eatures for SR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hrase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syntactic label of the candidate role filler (e.g. N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se tree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th in the parse tree between the predicate and the candidate role fi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oes candidate role filler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prece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foll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dicate in the sent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o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s the predicate an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 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at is the head word of the candidate role fill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3170-5A3E-44AA-A483-091C0E8FE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ead Word Feature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tandard syntactic rules for determining which word in a phrase is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5342040" y="301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4121640" y="3611520"/>
            <a:ext cx="262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                            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7"/>
          <p:cNvSpPr/>
          <p:nvPr/>
        </p:nvSpPr>
        <p:spPr>
          <a:xfrm flipH="1">
            <a:off x="4478040" y="3294000"/>
            <a:ext cx="98748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8"/>
          <p:cNvSpPr/>
          <p:nvPr/>
        </p:nvSpPr>
        <p:spPr>
          <a:xfrm>
            <a:off x="5465880" y="3317760"/>
            <a:ext cx="95256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3727440" y="4276800"/>
            <a:ext cx="15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11"/>
          <p:cNvSpPr/>
          <p:nvPr/>
        </p:nvSpPr>
        <p:spPr>
          <a:xfrm flipH="1">
            <a:off x="3981600" y="3914640"/>
            <a:ext cx="326880" cy="45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2"/>
          <p:cNvSpPr/>
          <p:nvPr/>
        </p:nvSpPr>
        <p:spPr>
          <a:xfrm>
            <a:off x="4321080" y="3914640"/>
            <a:ext cx="79236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4"/>
          <p:cNvSpPr/>
          <p:nvPr/>
        </p:nvSpPr>
        <p:spPr>
          <a:xfrm>
            <a:off x="3080880" y="5500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5"/>
          <p:cNvSpPr/>
          <p:nvPr/>
        </p:nvSpPr>
        <p:spPr>
          <a:xfrm flipH="1">
            <a:off x="3395520" y="5133960"/>
            <a:ext cx="230400" cy="49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7"/>
          <p:cNvSpPr/>
          <p:nvPr/>
        </p:nvSpPr>
        <p:spPr>
          <a:xfrm>
            <a:off x="4764960" y="491004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18"/>
          <p:cNvSpPr/>
          <p:nvPr/>
        </p:nvSpPr>
        <p:spPr>
          <a:xfrm flipH="1">
            <a:off x="4990680" y="4573440"/>
            <a:ext cx="73080" cy="46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9"/>
          <p:cNvSpPr/>
          <p:nvPr/>
        </p:nvSpPr>
        <p:spPr>
          <a:xfrm>
            <a:off x="5064120" y="4573440"/>
            <a:ext cx="622440" cy="42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1"/>
          <p:cNvSpPr/>
          <p:nvPr/>
        </p:nvSpPr>
        <p:spPr>
          <a:xfrm>
            <a:off x="4766400" y="547848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22"/>
          <p:cNvSpPr/>
          <p:nvPr/>
        </p:nvSpPr>
        <p:spPr>
          <a:xfrm>
            <a:off x="5065560" y="518472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4"/>
          <p:cNvSpPr/>
          <p:nvPr/>
        </p:nvSpPr>
        <p:spPr>
          <a:xfrm>
            <a:off x="5344560" y="61182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25"/>
          <p:cNvSpPr/>
          <p:nvPr/>
        </p:nvSpPr>
        <p:spPr>
          <a:xfrm>
            <a:off x="5514840" y="580536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990400" y="431784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   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28"/>
          <p:cNvSpPr/>
          <p:nvPr/>
        </p:nvSpPr>
        <p:spPr>
          <a:xfrm flipH="1">
            <a:off x="6173280" y="3903840"/>
            <a:ext cx="304920" cy="52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29"/>
          <p:cNvSpPr/>
          <p:nvPr/>
        </p:nvSpPr>
        <p:spPr>
          <a:xfrm>
            <a:off x="6478560" y="3903840"/>
            <a:ext cx="450720" cy="5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5986080" y="48798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32"/>
          <p:cNvSpPr/>
          <p:nvPr/>
        </p:nvSpPr>
        <p:spPr>
          <a:xfrm>
            <a:off x="6173640" y="4635360"/>
            <a:ext cx="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4"/>
          <p:cNvSpPr/>
          <p:nvPr/>
        </p:nvSpPr>
        <p:spPr>
          <a:xfrm>
            <a:off x="6545160" y="54309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35"/>
          <p:cNvSpPr/>
          <p:nvPr/>
        </p:nvSpPr>
        <p:spPr>
          <a:xfrm>
            <a:off x="6699240" y="5159520"/>
            <a:ext cx="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7"/>
          <p:cNvSpPr/>
          <p:nvPr/>
        </p:nvSpPr>
        <p:spPr>
          <a:xfrm>
            <a:off x="3870360" y="5819760"/>
            <a:ext cx="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8"/>
          <p:cNvSpPr/>
          <p:nvPr/>
        </p:nvSpPr>
        <p:spPr>
          <a:xfrm>
            <a:off x="3599640" y="61545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40"/>
          <p:cNvSpPr/>
          <p:nvPr/>
        </p:nvSpPr>
        <p:spPr>
          <a:xfrm>
            <a:off x="4454640" y="5110200"/>
            <a:ext cx="122040" cy="50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41"/>
          <p:cNvSpPr/>
          <p:nvPr/>
        </p:nvSpPr>
        <p:spPr>
          <a:xfrm>
            <a:off x="4286880" y="546408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o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3"/>
          <p:cNvSpPr/>
          <p:nvPr/>
        </p:nvSpPr>
        <p:spPr>
          <a:xfrm flipH="1">
            <a:off x="7438680" y="5189400"/>
            <a:ext cx="11160" cy="38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44"/>
          <p:cNvSpPr/>
          <p:nvPr/>
        </p:nvSpPr>
        <p:spPr>
          <a:xfrm>
            <a:off x="7160040" y="5448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46"/>
          <p:cNvSpPr/>
          <p:nvPr/>
        </p:nvSpPr>
        <p:spPr>
          <a:xfrm>
            <a:off x="6246720" y="578016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7"/>
          <p:cNvSpPr/>
          <p:nvPr/>
        </p:nvSpPr>
        <p:spPr>
          <a:xfrm>
            <a:off x="6032520" y="6097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9"/>
          <p:cNvSpPr/>
          <p:nvPr/>
        </p:nvSpPr>
        <p:spPr>
          <a:xfrm>
            <a:off x="6392880" y="48639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50"/>
          <p:cNvSpPr/>
          <p:nvPr/>
        </p:nvSpPr>
        <p:spPr>
          <a:xfrm flipH="1">
            <a:off x="6675120" y="4610160"/>
            <a:ext cx="18108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51"/>
          <p:cNvSpPr/>
          <p:nvPr/>
        </p:nvSpPr>
        <p:spPr>
          <a:xfrm>
            <a:off x="6845400" y="4610160"/>
            <a:ext cx="54900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52"/>
          <p:cNvSpPr/>
          <p:nvPr/>
        </p:nvSpPr>
        <p:spPr>
          <a:xfrm>
            <a:off x="6856560" y="4622760"/>
            <a:ext cx="19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54"/>
          <p:cNvSpPr/>
          <p:nvPr/>
        </p:nvSpPr>
        <p:spPr>
          <a:xfrm>
            <a:off x="3413160" y="483228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55"/>
          <p:cNvSpPr/>
          <p:nvPr/>
        </p:nvSpPr>
        <p:spPr>
          <a:xfrm flipH="1">
            <a:off x="3695400" y="4578480"/>
            <a:ext cx="18108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56"/>
          <p:cNvSpPr/>
          <p:nvPr/>
        </p:nvSpPr>
        <p:spPr>
          <a:xfrm>
            <a:off x="3865680" y="4578480"/>
            <a:ext cx="54900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57"/>
          <p:cNvSpPr/>
          <p:nvPr/>
        </p:nvSpPr>
        <p:spPr>
          <a:xfrm>
            <a:off x="3876840" y="4591080"/>
            <a:ext cx="19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9"/>
          <p:cNvSpPr/>
          <p:nvPr/>
        </p:nvSpPr>
        <p:spPr>
          <a:xfrm>
            <a:off x="6908760" y="54291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60"/>
          <p:cNvSpPr/>
          <p:nvPr/>
        </p:nvSpPr>
        <p:spPr>
          <a:xfrm>
            <a:off x="7075440" y="5170320"/>
            <a:ext cx="1800" cy="40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62"/>
          <p:cNvSpPr/>
          <p:nvPr/>
        </p:nvSpPr>
        <p:spPr>
          <a:xfrm>
            <a:off x="3597840" y="547848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63"/>
          <p:cNvSpPr/>
          <p:nvPr/>
        </p:nvSpPr>
        <p:spPr>
          <a:xfrm flipH="1">
            <a:off x="3894120" y="5133960"/>
            <a:ext cx="16992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64"/>
          <p:cNvSpPr/>
          <p:nvPr/>
        </p:nvSpPr>
        <p:spPr>
          <a:xfrm>
            <a:off x="4052880" y="5146560"/>
            <a:ext cx="169920" cy="46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66"/>
          <p:cNvSpPr/>
          <p:nvPr/>
        </p:nvSpPr>
        <p:spPr>
          <a:xfrm>
            <a:off x="4073400" y="612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67"/>
          <p:cNvSpPr/>
          <p:nvPr/>
        </p:nvSpPr>
        <p:spPr>
          <a:xfrm>
            <a:off x="4240080" y="5870520"/>
            <a:ext cx="1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69"/>
          <p:cNvSpPr/>
          <p:nvPr/>
        </p:nvSpPr>
        <p:spPr>
          <a:xfrm>
            <a:off x="5259600" y="547200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  A 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70"/>
          <p:cNvSpPr/>
          <p:nvPr/>
        </p:nvSpPr>
        <p:spPr>
          <a:xfrm flipH="1">
            <a:off x="5541480" y="5218200"/>
            <a:ext cx="181080" cy="37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71"/>
          <p:cNvSpPr/>
          <p:nvPr/>
        </p:nvSpPr>
        <p:spPr>
          <a:xfrm>
            <a:off x="5711760" y="5218200"/>
            <a:ext cx="54936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72"/>
          <p:cNvSpPr/>
          <p:nvPr/>
        </p:nvSpPr>
        <p:spPr>
          <a:xfrm>
            <a:off x="5722920" y="5230800"/>
            <a:ext cx="19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74"/>
          <p:cNvSpPr/>
          <p:nvPr/>
        </p:nvSpPr>
        <p:spPr>
          <a:xfrm>
            <a:off x="5761080" y="60739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75"/>
          <p:cNvSpPr/>
          <p:nvPr/>
        </p:nvSpPr>
        <p:spPr>
          <a:xfrm>
            <a:off x="5927760" y="5815080"/>
            <a:ext cx="144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76"/>
          <p:cNvSpPr/>
          <p:nvPr/>
        </p:nvSpPr>
        <p:spPr>
          <a:xfrm>
            <a:off x="4011480" y="3533760"/>
            <a:ext cx="673200" cy="6350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77"/>
          <p:cNvSpPr/>
          <p:nvPr/>
        </p:nvSpPr>
        <p:spPr>
          <a:xfrm>
            <a:off x="481680" y="3614760"/>
            <a:ext cx="208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Head Word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1A6C-B0A1-4769-95E5-4176D2148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emantic Role Labeling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SRL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clause, determine the semantic role played by each noun phrase that is an argument to the ver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gent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atien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ourc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destin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cc3399"/>
                </a:solidFill>
                <a:latin typeface="Times New Roman"/>
              </a:rPr>
              <a:t>instrume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oh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drove </a:t>
            </a:r>
            <a:r>
              <a:rPr b="0" lang="en-US" sz="2800" spc="-1" strike="noStrike">
                <a:solidFill>
                  <a:srgbClr val="e97c05"/>
                </a:solidFill>
                <a:latin typeface="Times New Roman"/>
              </a:rPr>
              <a:t>Mar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usti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Dalla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cc3399"/>
                </a:solidFill>
                <a:latin typeface="Times New Roman"/>
              </a:rPr>
              <a:t>his Toyota Priu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Times New Roman"/>
              </a:rPr>
              <a:t>The hamme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broke </a:t>
            </a:r>
            <a:r>
              <a:rPr b="0" lang="en-US" sz="2800" spc="-1" strike="noStrike">
                <a:solidFill>
                  <a:srgbClr val="e97c05"/>
                </a:solidFill>
                <a:latin typeface="Times New Roman"/>
              </a:rPr>
              <a:t>the window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referred to a “case role analysis,” “thematic analysis,” and “shallow semantic pars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F338-6290-4A94-9055-76CF0775A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SRL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41760" y="134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Group 5"/>
          <p:cNvGrpSpPr/>
          <p:nvPr/>
        </p:nvGrpSpPr>
        <p:grpSpPr>
          <a:xfrm>
            <a:off x="3323160" y="1627200"/>
            <a:ext cx="2635920" cy="727920"/>
            <a:chOff x="3323160" y="1627200"/>
            <a:chExt cx="2635920" cy="727920"/>
          </a:xfrm>
        </p:grpSpPr>
        <p:sp>
          <p:nvSpPr>
            <p:cNvPr id="917" name="Text Box 6"/>
            <p:cNvSpPr/>
            <p:nvPr/>
          </p:nvSpPr>
          <p:spPr>
            <a:xfrm>
              <a:off x="3323160" y="1895400"/>
              <a:ext cx="263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P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7"/>
            <p:cNvSpPr/>
            <p:nvPr/>
          </p:nvSpPr>
          <p:spPr>
            <a:xfrm flipH="1">
              <a:off x="3677760" y="1627200"/>
              <a:ext cx="98748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8"/>
            <p:cNvSpPr/>
            <p:nvPr/>
          </p:nvSpPr>
          <p:spPr>
            <a:xfrm>
              <a:off x="4665600" y="1650960"/>
              <a:ext cx="952560" cy="37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Group 9"/>
          <p:cNvGrpSpPr/>
          <p:nvPr/>
        </p:nvGrpSpPr>
        <p:grpSpPr>
          <a:xfrm>
            <a:off x="2926800" y="2247840"/>
            <a:ext cx="1558440" cy="761040"/>
            <a:chOff x="2926800" y="2247840"/>
            <a:chExt cx="1558440" cy="761040"/>
          </a:xfrm>
        </p:grpSpPr>
        <p:sp>
          <p:nvSpPr>
            <p:cNvPr id="921" name="Text Box 10"/>
            <p:cNvSpPr/>
            <p:nvPr/>
          </p:nvSpPr>
          <p:spPr>
            <a:xfrm>
              <a:off x="2926800" y="2610000"/>
              <a:ext cx="155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            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1"/>
            <p:cNvSpPr/>
            <p:nvPr/>
          </p:nvSpPr>
          <p:spPr>
            <a:xfrm flipH="1">
              <a:off x="3181320" y="2247840"/>
              <a:ext cx="326880" cy="45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2"/>
            <p:cNvSpPr/>
            <p:nvPr/>
          </p:nvSpPr>
          <p:spPr>
            <a:xfrm>
              <a:off x="3521160" y="2247840"/>
              <a:ext cx="792000" cy="4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Group 13"/>
          <p:cNvGrpSpPr/>
          <p:nvPr/>
        </p:nvGrpSpPr>
        <p:grpSpPr>
          <a:xfrm>
            <a:off x="2280960" y="3467160"/>
            <a:ext cx="577080" cy="765360"/>
            <a:chOff x="2280960" y="3467160"/>
            <a:chExt cx="577080" cy="765360"/>
          </a:xfrm>
        </p:grpSpPr>
        <p:sp>
          <p:nvSpPr>
            <p:cNvPr id="925" name="Text Box 14"/>
            <p:cNvSpPr/>
            <p:nvPr/>
          </p:nvSpPr>
          <p:spPr>
            <a:xfrm>
              <a:off x="2280960" y="383364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15"/>
            <p:cNvSpPr/>
            <p:nvPr/>
          </p:nvSpPr>
          <p:spPr>
            <a:xfrm flipH="1">
              <a:off x="2595600" y="3467160"/>
              <a:ext cx="230040" cy="49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Group 16"/>
          <p:cNvGrpSpPr/>
          <p:nvPr/>
        </p:nvGrpSpPr>
        <p:grpSpPr>
          <a:xfrm>
            <a:off x="3965040" y="2906640"/>
            <a:ext cx="1166760" cy="735120"/>
            <a:chOff x="3965040" y="2906640"/>
            <a:chExt cx="1166760" cy="735120"/>
          </a:xfrm>
        </p:grpSpPr>
        <p:sp>
          <p:nvSpPr>
            <p:cNvPr id="928" name="Text Box 17"/>
            <p:cNvSpPr/>
            <p:nvPr/>
          </p:nvSpPr>
          <p:spPr>
            <a:xfrm>
              <a:off x="3965040" y="3242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p   N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8"/>
            <p:cNvSpPr/>
            <p:nvPr/>
          </p:nvSpPr>
          <p:spPr>
            <a:xfrm flipH="1">
              <a:off x="4191120" y="2906640"/>
              <a:ext cx="72720" cy="46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9"/>
            <p:cNvSpPr/>
            <p:nvPr/>
          </p:nvSpPr>
          <p:spPr>
            <a:xfrm>
              <a:off x="4263840" y="2906640"/>
              <a:ext cx="622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Group 20"/>
          <p:cNvGrpSpPr/>
          <p:nvPr/>
        </p:nvGrpSpPr>
        <p:grpSpPr>
          <a:xfrm>
            <a:off x="3966480" y="3517920"/>
            <a:ext cx="633240" cy="692640"/>
            <a:chOff x="3966480" y="3517920"/>
            <a:chExt cx="633240" cy="692640"/>
          </a:xfrm>
        </p:grpSpPr>
        <p:sp>
          <p:nvSpPr>
            <p:cNvPr id="932" name="Text Box 21"/>
            <p:cNvSpPr/>
            <p:nvPr/>
          </p:nvSpPr>
          <p:spPr>
            <a:xfrm>
              <a:off x="3966480" y="381168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22"/>
            <p:cNvSpPr/>
            <p:nvPr/>
          </p:nvSpPr>
          <p:spPr>
            <a:xfrm>
              <a:off x="4265640" y="3517920"/>
              <a:ext cx="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Group 23"/>
          <p:cNvGrpSpPr/>
          <p:nvPr/>
        </p:nvGrpSpPr>
        <p:grpSpPr>
          <a:xfrm>
            <a:off x="4544640" y="4138560"/>
            <a:ext cx="491760" cy="711720"/>
            <a:chOff x="4544640" y="4138560"/>
            <a:chExt cx="491760" cy="711720"/>
          </a:xfrm>
        </p:grpSpPr>
        <p:sp>
          <p:nvSpPr>
            <p:cNvPr id="935" name="Text Box 24"/>
            <p:cNvSpPr/>
            <p:nvPr/>
          </p:nvSpPr>
          <p:spPr>
            <a:xfrm>
              <a:off x="4544640" y="445140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5"/>
            <p:cNvSpPr/>
            <p:nvPr/>
          </p:nvSpPr>
          <p:spPr>
            <a:xfrm>
              <a:off x="4714920" y="4138560"/>
              <a:ext cx="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Group 26"/>
          <p:cNvGrpSpPr/>
          <p:nvPr/>
        </p:nvGrpSpPr>
        <p:grpSpPr>
          <a:xfrm>
            <a:off x="5191560" y="2236680"/>
            <a:ext cx="1266120" cy="825120"/>
            <a:chOff x="5191560" y="2236680"/>
            <a:chExt cx="1266120" cy="825120"/>
          </a:xfrm>
        </p:grpSpPr>
        <p:sp>
          <p:nvSpPr>
            <p:cNvPr id="938" name="Text Box 27"/>
            <p:cNvSpPr/>
            <p:nvPr/>
          </p:nvSpPr>
          <p:spPr>
            <a:xfrm>
              <a:off x="5191560" y="2602080"/>
              <a:ext cx="126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8"/>
            <p:cNvSpPr/>
            <p:nvPr/>
          </p:nvSpPr>
          <p:spPr>
            <a:xfrm flipH="1">
              <a:off x="5373720" y="2236680"/>
              <a:ext cx="304560" cy="5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9"/>
            <p:cNvSpPr/>
            <p:nvPr/>
          </p:nvSpPr>
          <p:spPr>
            <a:xfrm>
              <a:off x="5678280" y="2236680"/>
              <a:ext cx="451080" cy="5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Group 30"/>
          <p:cNvGrpSpPr/>
          <p:nvPr/>
        </p:nvGrpSpPr>
        <p:grpSpPr>
          <a:xfrm>
            <a:off x="5185800" y="2968560"/>
            <a:ext cx="448920" cy="643320"/>
            <a:chOff x="5185800" y="2968560"/>
            <a:chExt cx="448920" cy="643320"/>
          </a:xfrm>
        </p:grpSpPr>
        <p:sp>
          <p:nvSpPr>
            <p:cNvPr id="942" name="Text Box 31"/>
            <p:cNvSpPr/>
            <p:nvPr/>
          </p:nvSpPr>
          <p:spPr>
            <a:xfrm>
              <a:off x="5185800" y="32130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32"/>
            <p:cNvSpPr/>
            <p:nvPr/>
          </p:nvSpPr>
          <p:spPr>
            <a:xfrm>
              <a:off x="5373720" y="2968560"/>
              <a:ext cx="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Group 33"/>
          <p:cNvGrpSpPr/>
          <p:nvPr/>
        </p:nvGrpSpPr>
        <p:grpSpPr>
          <a:xfrm>
            <a:off x="5745240" y="3492360"/>
            <a:ext cx="293400" cy="670320"/>
            <a:chOff x="5745240" y="3492360"/>
            <a:chExt cx="293400" cy="670320"/>
          </a:xfrm>
        </p:grpSpPr>
        <p:sp>
          <p:nvSpPr>
            <p:cNvPr id="945" name="Text Box 34"/>
            <p:cNvSpPr/>
            <p:nvPr/>
          </p:nvSpPr>
          <p:spPr>
            <a:xfrm>
              <a:off x="5745240" y="37638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35"/>
            <p:cNvSpPr/>
            <p:nvPr/>
          </p:nvSpPr>
          <p:spPr>
            <a:xfrm>
              <a:off x="5898960" y="349236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Group 36"/>
          <p:cNvGrpSpPr/>
          <p:nvPr/>
        </p:nvGrpSpPr>
        <p:grpSpPr>
          <a:xfrm>
            <a:off x="2799360" y="4152960"/>
            <a:ext cx="506880" cy="733680"/>
            <a:chOff x="2799360" y="4152960"/>
            <a:chExt cx="506880" cy="733680"/>
          </a:xfrm>
        </p:grpSpPr>
        <p:sp>
          <p:nvSpPr>
            <p:cNvPr id="948" name="Line 37"/>
            <p:cNvSpPr/>
            <p:nvPr/>
          </p:nvSpPr>
          <p:spPr>
            <a:xfrm>
              <a:off x="3070080" y="4152960"/>
              <a:ext cx="0" cy="45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Text Box 38"/>
            <p:cNvSpPr/>
            <p:nvPr/>
          </p:nvSpPr>
          <p:spPr>
            <a:xfrm>
              <a:off x="2799360" y="448776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Group 39"/>
          <p:cNvGrpSpPr/>
          <p:nvPr/>
        </p:nvGrpSpPr>
        <p:grpSpPr>
          <a:xfrm>
            <a:off x="3486240" y="3443400"/>
            <a:ext cx="564840" cy="752760"/>
            <a:chOff x="3486240" y="3443400"/>
            <a:chExt cx="564840" cy="752760"/>
          </a:xfrm>
        </p:grpSpPr>
        <p:sp>
          <p:nvSpPr>
            <p:cNvPr id="951" name="Line 40"/>
            <p:cNvSpPr/>
            <p:nvPr/>
          </p:nvSpPr>
          <p:spPr>
            <a:xfrm>
              <a:off x="3654360" y="3443400"/>
              <a:ext cx="122040" cy="5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41"/>
            <p:cNvSpPr/>
            <p:nvPr/>
          </p:nvSpPr>
          <p:spPr>
            <a:xfrm>
              <a:off x="3486240" y="37972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Group 42"/>
          <p:cNvGrpSpPr/>
          <p:nvPr/>
        </p:nvGrpSpPr>
        <p:grpSpPr>
          <a:xfrm>
            <a:off x="6360120" y="3522600"/>
            <a:ext cx="534240" cy="657360"/>
            <a:chOff x="6360120" y="3522600"/>
            <a:chExt cx="534240" cy="657360"/>
          </a:xfrm>
        </p:grpSpPr>
        <p:sp>
          <p:nvSpPr>
            <p:cNvPr id="954" name="Line 43"/>
            <p:cNvSpPr/>
            <p:nvPr/>
          </p:nvSpPr>
          <p:spPr>
            <a:xfrm flipH="1">
              <a:off x="6638760" y="3522600"/>
              <a:ext cx="1116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Text Box 44"/>
            <p:cNvSpPr/>
            <p:nvPr/>
          </p:nvSpPr>
          <p:spPr>
            <a:xfrm>
              <a:off x="6360120" y="37810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ir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Group 45"/>
          <p:cNvGrpSpPr/>
          <p:nvPr/>
        </p:nvGrpSpPr>
        <p:grpSpPr>
          <a:xfrm>
            <a:off x="5232600" y="4113360"/>
            <a:ext cx="564840" cy="716040"/>
            <a:chOff x="5232600" y="4113360"/>
            <a:chExt cx="564840" cy="716040"/>
          </a:xfrm>
        </p:grpSpPr>
        <p:sp>
          <p:nvSpPr>
            <p:cNvPr id="957" name="Line 46"/>
            <p:cNvSpPr/>
            <p:nvPr/>
          </p:nvSpPr>
          <p:spPr>
            <a:xfrm>
              <a:off x="5446800" y="4113360"/>
              <a:ext cx="0" cy="41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47"/>
            <p:cNvSpPr/>
            <p:nvPr/>
          </p:nvSpPr>
          <p:spPr>
            <a:xfrm>
              <a:off x="5232600" y="44305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y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Group 48"/>
          <p:cNvGrpSpPr/>
          <p:nvPr/>
        </p:nvGrpSpPr>
        <p:grpSpPr>
          <a:xfrm>
            <a:off x="5592960" y="2943360"/>
            <a:ext cx="1172880" cy="652680"/>
            <a:chOff x="5592960" y="2943360"/>
            <a:chExt cx="1172880" cy="652680"/>
          </a:xfrm>
        </p:grpSpPr>
        <p:sp>
          <p:nvSpPr>
            <p:cNvPr id="960" name="Text Box 49"/>
            <p:cNvSpPr/>
            <p:nvPr/>
          </p:nvSpPr>
          <p:spPr>
            <a:xfrm>
              <a:off x="5592960" y="319716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  A  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50"/>
            <p:cNvSpPr/>
            <p:nvPr/>
          </p:nvSpPr>
          <p:spPr>
            <a:xfrm flipH="1">
              <a:off x="5874840" y="2943360"/>
              <a:ext cx="181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51"/>
            <p:cNvSpPr/>
            <p:nvPr/>
          </p:nvSpPr>
          <p:spPr>
            <a:xfrm>
              <a:off x="6045120" y="2943360"/>
              <a:ext cx="54936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52"/>
            <p:cNvSpPr/>
            <p:nvPr/>
          </p:nvSpPr>
          <p:spPr>
            <a:xfrm>
              <a:off x="6056280" y="2955960"/>
              <a:ext cx="19512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53"/>
          <p:cNvGrpSpPr/>
          <p:nvPr/>
        </p:nvGrpSpPr>
        <p:grpSpPr>
          <a:xfrm>
            <a:off x="2613240" y="2911320"/>
            <a:ext cx="1172880" cy="652680"/>
            <a:chOff x="2613240" y="2911320"/>
            <a:chExt cx="1172880" cy="652680"/>
          </a:xfrm>
        </p:grpSpPr>
        <p:sp>
          <p:nvSpPr>
            <p:cNvPr id="965" name="Text Box 54"/>
            <p:cNvSpPr/>
            <p:nvPr/>
          </p:nvSpPr>
          <p:spPr>
            <a:xfrm>
              <a:off x="2613240" y="316512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  A  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55"/>
            <p:cNvSpPr/>
            <p:nvPr/>
          </p:nvSpPr>
          <p:spPr>
            <a:xfrm flipH="1">
              <a:off x="2895120" y="2911320"/>
              <a:ext cx="181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56"/>
            <p:cNvSpPr/>
            <p:nvPr/>
          </p:nvSpPr>
          <p:spPr>
            <a:xfrm>
              <a:off x="3065400" y="2911320"/>
              <a:ext cx="54936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57"/>
            <p:cNvSpPr/>
            <p:nvPr/>
          </p:nvSpPr>
          <p:spPr>
            <a:xfrm>
              <a:off x="3076560" y="2923920"/>
              <a:ext cx="19512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Group 58"/>
          <p:cNvGrpSpPr/>
          <p:nvPr/>
        </p:nvGrpSpPr>
        <p:grpSpPr>
          <a:xfrm>
            <a:off x="6108840" y="3503520"/>
            <a:ext cx="287280" cy="657360"/>
            <a:chOff x="6108840" y="3503520"/>
            <a:chExt cx="287280" cy="657360"/>
          </a:xfrm>
        </p:grpSpPr>
        <p:sp>
          <p:nvSpPr>
            <p:cNvPr id="970" name="Text Box 59"/>
            <p:cNvSpPr/>
            <p:nvPr/>
          </p:nvSpPr>
          <p:spPr>
            <a:xfrm>
              <a:off x="6108840" y="37620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60"/>
            <p:cNvSpPr/>
            <p:nvPr/>
          </p:nvSpPr>
          <p:spPr>
            <a:xfrm>
              <a:off x="6275520" y="3503520"/>
              <a:ext cx="1440" cy="40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Group 61"/>
          <p:cNvGrpSpPr/>
          <p:nvPr/>
        </p:nvGrpSpPr>
        <p:grpSpPr>
          <a:xfrm>
            <a:off x="2797560" y="3467160"/>
            <a:ext cx="811800" cy="743400"/>
            <a:chOff x="2797560" y="3467160"/>
            <a:chExt cx="811800" cy="743400"/>
          </a:xfrm>
        </p:grpSpPr>
        <p:sp>
          <p:nvSpPr>
            <p:cNvPr id="973" name="Text Box 62"/>
            <p:cNvSpPr/>
            <p:nvPr/>
          </p:nvSpPr>
          <p:spPr>
            <a:xfrm>
              <a:off x="2797560" y="381168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j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63"/>
            <p:cNvSpPr/>
            <p:nvPr/>
          </p:nvSpPr>
          <p:spPr>
            <a:xfrm flipH="1">
              <a:off x="3093840" y="3467160"/>
              <a:ext cx="169920" cy="48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64"/>
            <p:cNvSpPr/>
            <p:nvPr/>
          </p:nvSpPr>
          <p:spPr>
            <a:xfrm>
              <a:off x="3252600" y="3479760"/>
              <a:ext cx="169920" cy="46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Group 65"/>
          <p:cNvGrpSpPr/>
          <p:nvPr/>
        </p:nvGrpSpPr>
        <p:grpSpPr>
          <a:xfrm>
            <a:off x="3273480" y="4203720"/>
            <a:ext cx="287280" cy="657360"/>
            <a:chOff x="3273480" y="4203720"/>
            <a:chExt cx="287280" cy="657360"/>
          </a:xfrm>
        </p:grpSpPr>
        <p:sp>
          <p:nvSpPr>
            <p:cNvPr id="977" name="Text Box 66"/>
            <p:cNvSpPr/>
            <p:nvPr/>
          </p:nvSpPr>
          <p:spPr>
            <a:xfrm>
              <a:off x="3273480" y="44622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67"/>
            <p:cNvSpPr/>
            <p:nvPr/>
          </p:nvSpPr>
          <p:spPr>
            <a:xfrm>
              <a:off x="3440160" y="4203720"/>
              <a:ext cx="1440" cy="40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Group 68"/>
          <p:cNvGrpSpPr/>
          <p:nvPr/>
        </p:nvGrpSpPr>
        <p:grpSpPr>
          <a:xfrm>
            <a:off x="4459320" y="3551400"/>
            <a:ext cx="1172880" cy="652680"/>
            <a:chOff x="4459320" y="3551400"/>
            <a:chExt cx="1172880" cy="652680"/>
          </a:xfrm>
        </p:grpSpPr>
        <p:sp>
          <p:nvSpPr>
            <p:cNvPr id="980" name="Text Box 69"/>
            <p:cNvSpPr/>
            <p:nvPr/>
          </p:nvSpPr>
          <p:spPr>
            <a:xfrm>
              <a:off x="4459320" y="380520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  A  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70"/>
            <p:cNvSpPr/>
            <p:nvPr/>
          </p:nvSpPr>
          <p:spPr>
            <a:xfrm flipH="1">
              <a:off x="4741200" y="3551400"/>
              <a:ext cx="181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71"/>
            <p:cNvSpPr/>
            <p:nvPr/>
          </p:nvSpPr>
          <p:spPr>
            <a:xfrm>
              <a:off x="4911480" y="3551400"/>
              <a:ext cx="54936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72"/>
            <p:cNvSpPr/>
            <p:nvPr/>
          </p:nvSpPr>
          <p:spPr>
            <a:xfrm>
              <a:off x="4922640" y="3564000"/>
              <a:ext cx="19512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Group 73"/>
          <p:cNvGrpSpPr/>
          <p:nvPr/>
        </p:nvGrpSpPr>
        <p:grpSpPr>
          <a:xfrm>
            <a:off x="4960800" y="4148280"/>
            <a:ext cx="287280" cy="657360"/>
            <a:chOff x="4960800" y="4148280"/>
            <a:chExt cx="287280" cy="657360"/>
          </a:xfrm>
        </p:grpSpPr>
        <p:sp>
          <p:nvSpPr>
            <p:cNvPr id="985" name="Text Box 74"/>
            <p:cNvSpPr/>
            <p:nvPr/>
          </p:nvSpPr>
          <p:spPr>
            <a:xfrm>
              <a:off x="4960800" y="44067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75"/>
            <p:cNvSpPr/>
            <p:nvPr/>
          </p:nvSpPr>
          <p:spPr>
            <a:xfrm>
              <a:off x="5127480" y="4148280"/>
              <a:ext cx="1440" cy="40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Oval 76"/>
          <p:cNvSpPr/>
          <p:nvPr/>
        </p:nvSpPr>
        <p:spPr>
          <a:xfrm>
            <a:off x="5076720" y="3106800"/>
            <a:ext cx="673200" cy="63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77"/>
          <p:cNvSpPr/>
          <p:nvPr/>
        </p:nvSpPr>
        <p:spPr>
          <a:xfrm>
            <a:off x="3241800" y="1863720"/>
            <a:ext cx="672840" cy="6350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542880" y="4962600"/>
          <a:ext cx="7772400" cy="1724040"/>
        </p:xfrm>
        <a:graphic>
          <a:graphicData uri="http://schemas.openxmlformats.org/drawingml/2006/table">
            <a:tbl>
              <a:tblPr/>
              <a:tblGrid>
                <a:gridCol w="1554120"/>
                <a:gridCol w="1851120"/>
                <a:gridCol w="1258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ras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yp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rs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t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osi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oi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ea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wor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↑VP↑S↓N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ed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258D-3257-4DD5-87CE-54F77DAF3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Parse Node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ther useful features have been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he parse-tree path goes through a PP, what is the preposition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may violate constraints like “an action has at most one agent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 some method to enforce constraints when making final decisions. i.e. determine the most likely assignment of roles that also satisfies a set of known constrain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o errors in syntactic parsing, the parse tree is likely to be incor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y multiple top-ranked parse trees and somehow combine resul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tegrate syntactic parsing and SR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19D0-9499-4F00-8C38-182E4A02C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re Issues in Parse Node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labeling into two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rst decide if node is an argument or no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f it is an argument, determine the typ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A3AD-18E1-4446-9EB2-DA19E723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Datas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Ne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veloped at Univ. of California at Berkele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ed on notion of Fram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Ban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veloped at Univ. of Pennsylvania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ed on elaborating their Tree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veloped at Universität des Saarland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erman version of FrameN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0FCA-C502-47D0-AC4D-FC1F54BD9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rameN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at UC Berkeley led by Chuck Fillmore for developing a database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eneral semantic concepts with an associated set of r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 are specific to frames, which are “invoked” by multiple words, both verbs and no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DGEMENT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Invoked by: V: blame, praise, admire; N: fault, admiratio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les: J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UDG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 E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VALUE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 and R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EASON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frames chosen, and then sentences that employed these frames selected from the British National Corpus and annotated by linguists for semantic r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version: 67 frames, 1,462 target words,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49,013 sentences, 99,232 role fi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9DE2-CACA-4157-A62E-554AA5BC6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rameNet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ldea and Jurafsky (2002) performed SRL experiments with initial FrameNe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d correct frames were identified and the task was to fill their r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produced syntactic analyses using Collins (1997) statistical par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simple Bayesian method with smoothing to classify parse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ieved 80.4% correct role assignment. Increased to 82.1% when frame-specific roles were collapsed to 16 general thematic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7F3D-7E8E-4B25-881A-FBC7526EB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pBan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42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at U Penn lead by Martha Palmer to add semantic roles to the Penn tree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s (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pecific to each individual verb to avoid having to agree on a universal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rg0 basically “agent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rg1 basically “patient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tated over 1M words of Wall Street Journal text with existing gold-standard parse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3,594 sentences       99,265 propositions (verbs + roles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3,324 unique verbs    262,281 role assignm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A2BA-F530-43C0-B6E6-52A92323F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NL SRL Shared Tas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LL (Conference on Computational Natural Language Learning) is the annual meeting for the SIGNLL (Special Interest Group on Natural Language Learning) of A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year, CONLL has a “Shared Task” compet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Bank semantic role labeling was used as the Shared Task for CONLL-04 and CONLL-0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LL-05, 19 teams particip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B296-1DB9-4144-A399-AC1A36F89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LL-05 Learning Approach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06440" y="1371600"/>
            <a:ext cx="8502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entropy (8 te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M (7 te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oW (1 team)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semble of enhanced Percep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Trees (1 te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Boost (2 team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semble of decision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est neighb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 te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CRF (1 te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ation of approaches (2 te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79D5-BB25-49C3-932B-3DEB6B9D5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LL Experimental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28400" y="1371600"/>
            <a:ext cx="8321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ed on 39,832 WSJ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ed on 2,416 WSJ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tested on 426 Brown corpus sentences to test generalizing beyond financial ne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r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ecis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# roles correctly assigned) / (# roles assigned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call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# roles correctly assigned) / (total # of roles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-measur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rmonic mean of precision and rec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F80C-2500-4AAE-9591-2BFEF1839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antic Ro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s in the linguistic notion of case (Fillmore, 196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ety of semantic role labels have been proposed, common on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gent: Actor of an ac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tient: Entity affected by the ac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strument: Tool used in performing actio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eneficiary: Entity for whom action is perform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ource: Origin of the affected enti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stination: Destination of the affected enti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D08C-5646-4837-936A-E1D46F1C8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est Result from CONLL-05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32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. of Illinois system based on SNoW with global constraints enforced using Integer Linear Program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892080" y="3921120"/>
          <a:ext cx="7358040" cy="1104840"/>
        </p:xfrm>
        <a:graphic>
          <a:graphicData uri="http://schemas.openxmlformats.org/drawingml/2006/table">
            <a:tbl>
              <a:tblPr/>
              <a:tblGrid>
                <a:gridCol w="1227240"/>
                <a:gridCol w="1225440"/>
                <a:gridCol w="1227240"/>
                <a:gridCol w="1225440"/>
                <a:gridCol w="1227240"/>
                <a:gridCol w="12254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(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(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F(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(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(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F(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.7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4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.3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9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7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1" name=""/>
          <p:cNvGraphicFramePr/>
          <p:nvPr/>
        </p:nvGraphicFramePr>
        <p:xfrm>
          <a:off x="885960" y="3328920"/>
          <a:ext cx="7364160" cy="576360"/>
        </p:xfrm>
        <a:graphic>
          <a:graphicData uri="http://schemas.openxmlformats.org/drawingml/2006/table">
            <a:tbl>
              <a:tblPr/>
              <a:tblGrid>
                <a:gridCol w="3682800"/>
                <a:gridCol w="3681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SJ Tes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rown Tes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5C1D-E949-433D-9A92-CAB1D751B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SR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perly integrate syntactic parsing, WSD, and role assignment so they all aid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SRL be used to aid end-use 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stion answ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chine Transl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xt Min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7283-6761-48F3-BE8E-10C0FCA06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e of Semantic Ro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15520" y="1371240"/>
            <a:ext cx="8442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roles are useful for various tas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Answ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o” questions usually use Ag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at” question usually  use Pati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ow” and “with what” questions usually use Instrum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ere” questions frequently use Sources and Destinatio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whom” questions usually use Beneficiar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 whom” questions usually use Destinati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Translatio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mantic roles are usually expressed using particular, distinct syntactic constructions in different languag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E168-D3E7-472C-9C4E-A14D5A3F9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and Syntactic Cu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2640" y="1371600"/>
            <a:ext cx="811872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ly semantic role is indicated by a particular syntactic position (e.g. object of a particular preposi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gent:  subj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atient: direct obj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strument: object of “with” P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neficiary: object of “for” P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ource: object of “from” P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stination: object of “to” P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se are preferences at b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hammer hit the window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book was given to Mary by John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n went to the movie with Mar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n bought the car for $21K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n went to work by bu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B4D7-332E-43CD-A0A6-0596C4B69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lectional Restri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lectional restri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raints that certain verbs place on the filler of certain semantic r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gents should be animat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neficiaries should be animat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struments should be tool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atients of “eat” should be edibl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ources and Destinations of “go” should be place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ources and Destinations of “give” should be animat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anomic abstraction hierarchies or ontologies (e.g. hypernym links in WordNet) can be used to determine if such constraints are m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n” is a “Human” which is a “Mammal” which is a “Vertebrate” which is an “Animate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3BB0-9B02-4F35-ACC5-D0B40691A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e of Sectional Restri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al restrictions can help rule in or out certain semantic role assig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bought the car for $21K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eneficiaries should be Animat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strument of a “buy” should be Money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went to the movie with Mary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strument should be Inanimat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drove Mary to school in the van”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drove the van to work with Mary.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strument of a “drive” should be a Vehicle 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164E-6CF4-40EA-8B8E-DEBB3766D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electional Restrictions and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yntactic Ambiguity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yntactic ambiguities like PP attachment can be resolved using selectional restri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ate the spaghetti with meatballs.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ate the spaghetti with chopsticks.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struments should be tool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tients of “eat” must be edible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hit the man with a dog.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hn hit the man with a hammer.”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struments should be tools 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F178-7D5C-4693-B098-0B83FFA9D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electional Restrictions and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ord Sense Disambiguat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375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lexical ambiguities can be resolved using selectional restri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guous 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wrote it with a pen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Instruments of “write” should be WritingImplements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bat ate the bug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gents (particularly of “eat”) should be animate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tients of “eat” should be edible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guous ve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fired the secretary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fired the rifle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tients of DischargeWeapon should be Weapons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tients of CeaseEmploment should be Huma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8-11-02T15:08:33Z</dcterms:modified>
  <cp:revision>281</cp:revision>
  <dc:subject/>
  <dc:title>Intelligent Information Retrieval and Web Search</dc:title>
</cp:coreProperties>
</file>