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E7D-54E2-441E-B8A0-24036524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9D26-4636-40E4-9B55-91A048BF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355-02FD-48D4-A138-CD41E0D7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163-A8F2-48A8-A425-7F8BB000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4AF-B5A9-4B5F-B5DC-E4E2A7EC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8A0-029E-4036-AFCC-EFC94C2C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85C-4A24-4BEC-ACE5-2C4C07FB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AEE-0468-4959-A744-90B09DC3E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D38-F774-4C85-8651-F4A8F6274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5FB-AA42-4C5A-9F49-D8066B0A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E972-78E5-4530-A2E9-178B7769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02A-37BC-43EE-BEB1-B9D3AFA86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C28-7E43-4001-9D4B-14424243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F7B4-82C6-4545-8764-294D94A4A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DEF-2986-4D61-AC91-16815B827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BDC-0B6C-4293-8531-988D05ED9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907-0A85-4F45-8CA9-F69006C7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B00-55D4-4EC8-B63B-E539F26C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75D-471D-4FD6-99F9-20A67C0D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ACA-E9DA-4FF2-9553-6038D01B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575-3EA3-4E25-8E27-3E3DB31C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31DB-7FCA-4BCA-8088-60A1A810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5EA-DC36-4577-8610-75B1E2C9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8AAB-EFBA-4987-BE65-A30270941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199-D9FE-4034-83CE-516908B2C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AAF-26ED-467F-B778-8FBC1668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3486-6F1C-4676-8968-E39F2C83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033-C5CE-428A-A3FD-7A593FC0E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220-76ED-4F99-8F31-ED9FE294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37E-0CE7-4387-AA3B-B3DCE871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4E2-DD1E-48C0-983F-B26B7DC5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150C-17F1-4B18-B9E1-95FC024A4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00A-2783-4237-9C64-B372D10C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C615-4A04-490C-9652-8C1CE5EC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3E68-D122-4F2C-8E32-1DFFA3B7A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E71-1CE0-419F-AF7F-7F4F105C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C58-24A4-4E3E-A45D-8680B574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7E5C-4454-44B2-B34B-B2E49CF6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C369-A39F-4DC7-BD54-C3CB11140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88C-093D-4FEA-82F6-1806588D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7D74-6C1B-4111-BE90-551FE783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6F7-2F84-4AFE-A7CA-61ADE3F0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445-68CD-4130-A5F9-6ED0A59F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7F9-4D28-411A-B3F6-DEBCBB26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DEF5-3DD7-4A5F-892A-C5BC41D83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14C1-E1EB-4AF9-B3B0-2E6B32C0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394-CA69-45A6-A674-EECD8B51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256B-02FE-40FA-89F7-7BB2E0EC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6E81-893C-42E9-9F9F-C72B0D29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324-7101-4847-95F3-54D84614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704-131A-437B-A7B9-A80A5BAF6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C12-DF38-4076-90A4-B0EE8518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A233-8757-4F39-BC03-206BD19D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1D3-D7C3-4EF6-B59E-40348207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6BC-6A79-4405-BD2E-5475C5EB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955F-B502-4DB9-9CD4-651C4D1E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C63-FF7C-4C9E-9CFE-FBE64CE9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D19-EE2D-42C8-A2F2-6C1C1598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164-2A42-446F-B4E6-D3D0637B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CC2B-33BB-4221-9843-245F276C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BFD-7FDA-47C2-A5F9-1D7B06AC9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A32-966D-4734-9D19-6676BE0BD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1F1E-08DE-45A1-8264-F6CC02FF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4AC-7AB5-467B-BC8E-0E29549B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B94-70BE-481F-85AA-E251F0AD5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65D-97C8-41F6-8AB7-C3F8C1E18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E3D-C4AD-4572-B58A-E2503858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5A3C-5254-442E-9B9E-C3F4E321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232-7352-4CEB-82F7-0F83F9B5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E7F-85B0-460A-9255-2B2B264B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24C-B2BE-4EE3-B9D0-FB5074CF7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DA85-2E52-4930-8CE0-CB42357F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26E7-DB3A-42CF-9B45-D760D656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2FD-6439-4FF8-B9D8-F0059C6E7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BAA-6C1A-44C3-B569-67686223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524B-1B5B-4EF4-90ED-08F394FE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F10-7BC1-44A0-96E9-AB102734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372-B5B3-4F54-A836-1B4D19EA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27A6-6B1F-4ACE-B783-257E46E3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E32-2397-4D39-B109-D17D54E2D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3D6-9560-4D02-9256-C5206C0E9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523B-9543-469F-BAA4-EDA7435E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E08-356A-4E04-83D8-A597A6A5E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78E-5EA2-4507-A449-782A75B7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4BB-20A6-4E7A-8B00-6033DCE5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601-7793-48BA-8FED-4C585F6F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C524-F94D-43D8-B3A6-9E32177B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5174-8261-42F6-96B7-69C9FE1A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C7B2B-4C5A-4352-90A5-C564DD09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5AF72-2E20-49D7-AA0C-C8CE8A9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868CA-75B4-42F7-87EB-8DA14B3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02335-A8C9-41E0-BB98-2B74331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A4A64-54F0-4E79-9D63-3C8588D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81066-D0BB-4065-B32E-E428910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2081A-7E78-484E-BA83-30298C9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CA51B-8609-43A5-B39F-2D45D345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99532-F637-409E-A76A-640A1FF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2F20EB-40D5-410D-8D87-673B4C90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1D4A-C1C8-4A03-880A-0E438B8F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F29363-4EB4-4B53-894E-CF82877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26F879-98CF-4527-81E4-BF15DF81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B6FC4-45B3-4E81-9996-6CCC7B6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27A5D-BAC1-4B96-8BFA-CBEE4557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1A914-A68E-495A-959B-82EAB24A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5D522-65F5-4B76-B561-61419A6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28519-7638-4599-B8C0-2837151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B1B7F-D783-4354-9415-58E3507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D1F3E-CFBB-4FD8-9AD9-830BC135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DA2DC0-505B-4D41-8F1F-F393305B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1422-31AB-4F2F-ABE1-680EE8FD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3F85A-1007-49CA-8635-8AA36656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45C4FF-AC4E-42FF-9FCD-DCDE0018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EB251F-F442-421E-A690-12DB283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9C0553-2AC8-46DE-A5C4-8C1A5B1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1D9E76-9E45-468E-BB92-1AA3F8C3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ABBF69-1ADF-42DD-A4EC-DAF7A39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EC3999-E9CB-4794-A1D3-1FC2C2C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435CAF-3E9E-4332-850B-A86FF89F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7DF541-C83E-4B8C-8AD0-5019A00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7E5793-F796-4261-99AF-57CD4852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4F5DE-CD01-44B6-8D2F-4D9CD9A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ECA046-1998-4DB1-BCF3-B9591E60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03E878-39C5-4526-9733-78E8F22C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C4C12B-F625-4C9F-85A6-824D388A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E414A4-ACC1-40AC-8B38-4708D721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8F972F-89B3-4091-98BC-9D39EC9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DF1369-8040-4BAF-A7C2-22B42466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3D566-24A2-46D7-9603-D38ACA6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184A63-6C1E-471C-A8DC-D9F33FCB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25090D-F5B9-4EDB-B854-1C07CEC0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4B3FE-A0B6-41E4-A393-4DF8D5A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C72F6-2C1F-45CD-9E8B-68CB5C9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C402BA-4D40-475A-AA7A-C4FF4D7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DD4A44-F4EF-488D-88AB-236580A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AD9F9B-2188-4082-A5FD-F5D6F3B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A37983-95AF-4297-AF25-5101AF7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9354F3-E4BE-4722-910E-97B83043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E4568E-5A91-4F8F-B575-AFCEA70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F666D9-F283-499D-BF90-B5BCC9F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E0DEF-F520-452B-AD1A-73277AC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204199-24A1-431F-9FB5-C3B328C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258046-1099-4855-8996-8A3A7E3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D4C6-C29F-4349-96DD-9D67EE2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D279A0-B59E-45DF-B814-CDA205FD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7E291-700B-47CB-8C08-5771A75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B806CC-99A1-4863-94BE-2E35230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95B02-204F-46E9-8D77-50F1DCB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E9BD8B-0D20-4B2F-A12E-91823F0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97B58-56E0-4156-9BF2-FFE50DD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B136D-E128-4430-9010-10A09A4F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F85F-6295-48A1-AF79-0FDB1D6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78F3-542E-4D95-A1DC-A076E27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0DC4-AFB2-4053-8F68-BA969A0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17EA8-DFFE-4FEB-9729-DC8392CA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1832-E6EC-4974-8F35-CF0262F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3F2E-5FF5-4CBB-B7E4-74CB88E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DBAD-174B-4A1E-8DFE-0B9A5518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5800-67B7-4855-86B0-FC19D7E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929DC-40ED-4DDB-ABB2-12C2534D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90EDF-581D-46BF-B48C-6253D00D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636EB-8B67-420F-976C-DC6274DD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02150-EED0-43AA-A312-89C02EF0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9F3AF-464F-4A6B-A6F8-0C80BCF0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CD205-8660-44D4-A3FD-FD0ED83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9A175-EEE6-49D8-88DC-A689566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86FD-71D7-46EE-8296-45D3306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A71EC-85D3-4A8A-86E0-AE31B3A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5672B-2815-46C7-BE0A-0A52F44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8F875-6EF5-4776-AC74-F009DAA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7D514-B117-403F-A1D4-E3A8B6E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0171F-2B33-4398-897C-A6285119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67536-9290-4C55-BC1E-BCC5F3A4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9ED5E-D285-44E7-BE44-04C3D12D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23952-6D18-45D1-868B-CB671334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F3130-522B-436B-8897-E4A4C4E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2C749-2916-49DD-A358-3C5B7A2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6B2E-5AB6-4457-85F0-9AB8E8D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35E33-F0AE-441F-8293-F875624E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5035B-413A-4F37-B258-2ED03323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A87B2-1530-4F3F-8611-BD97856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58E3F-C160-4D60-898E-F1B428C4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4137D-E0F6-4C9E-B7EE-3A4ACB2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98E2C-42F6-4961-9A68-6F18CED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FC48E-CC6A-4949-9825-6FB3780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CD0CE-594F-4B32-9192-DA42E073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7A15F-373B-40EB-95F4-16D6E604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1DD35-0E94-45DF-AF11-68CBC00D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410A-0AF4-4415-9038-A80EDD30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7DF73-0460-46CF-98E8-D46DF65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5D15A-EA9A-42E4-A216-78D41D7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87D1F-672B-4B5D-9B14-6D26A069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C1948-D031-4B60-8484-72BE9BE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0F87B-D9EB-43AA-9FBB-ABEBB1A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816A7-A50E-47E5-940E-6C5DF22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AA9D7-173F-4D56-8467-A8C31C7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96A80-2B81-47A5-8EA0-94BAD2A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6F07C-5E79-4012-9A6C-33A0A027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46FA6-3008-4062-9012-B2AAEF7E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9D2C-CAFC-4318-A274-05DB420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DA6D4-28A4-41DB-BC87-7FBFB8D3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75D9E-661C-4A01-9FA6-3D9E390B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FD206-C237-4FE5-87A1-0B0D5E95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EAD18-7965-40A8-9784-110EE93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FA4FE-0A68-41E0-B04C-566F60DB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79044-92B9-4F58-B934-A74BED30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C2A0B-4775-4F47-B149-19A78426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437CC-DA8F-4195-9E23-6B15BAD1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A6496-A042-44C8-8C02-147C506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317F8-856C-4E15-A1A4-DCCFA5D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2245-9912-4A4D-9FB3-39B4F3D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FF749-73FE-4A0A-96E5-5D163637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EF11D-DF74-494D-B5EF-7AD22D34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BE9F8-B8D1-4613-B0BC-E691A952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34D65-CB01-4BB8-ADC0-6B5D20FA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4AE8B-6CB0-4C48-B446-9E05F743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F758F-571C-4BD7-BF8D-99E3845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5D12C-FE6F-4E37-BFC6-BF1805DC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F0C71-2459-43C4-A0D3-D05AE3C9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4A2EA-4EBF-4A54-AC9B-990ABA6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BC5AA-7394-46D8-A325-70E0C19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E8F1-7144-49AB-A6A9-428B3B5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00C1E-CDE1-4645-9C9A-AA192E5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8A81D-C56C-44F7-9729-86D81E8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5BA6A-73D8-4A02-8D71-7D6CD0D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E15B7-27A3-4A43-9496-928C2A04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99E4C-A2D3-486F-B16B-EBCDC33E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D85BF-951E-4654-B510-5AE378D8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AECB9-5059-4C90-B002-E5CBE0F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16326-27A3-4231-935D-38C7F56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44111-0BCD-43B1-997F-7CB2CB3C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89B7F-164D-4D72-850B-8603294B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3ED6-47F6-49E1-816E-EDC3C59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1BA6A-5C3D-476D-8915-598D5E3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8F7DE-5E41-41D1-97AC-D840A8D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7B45B-A55D-4E4F-BF83-E3B06FB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B8BF0-DF77-40F5-BA27-CD36909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E1C34E-8ADD-4BBF-ABFD-4C807A1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D0352-2233-49F6-A763-DFE72592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80C9D-6125-4679-810C-9DD4CF3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CADEB-3631-406D-889A-EB6E4D25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12C77-4AD3-41A5-B29E-67E018F2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C2B05-AF2E-49C2-AE4B-1232D2B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2700-4F55-44E6-A8E2-ADEB8646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8F9E-1081-4EDC-BF98-D62E9E81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B9C-448B-444C-A811-FCE467DF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B46-16A5-4B23-8B21-04F72A93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DD2-37D2-4A93-8057-AB6B448B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5FC-93CE-4261-B6D8-DDFD803B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E0D-122F-4FF2-B712-768C32FC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DCB-E57A-4F5F-A8DC-C2886B9E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25F-22E3-48DC-8357-D2EB7A46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B08-8EB6-45B9-BFEE-2226489B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D16-A10D-449E-84EF-C82D3324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C536-6A1F-4325-8D01-D755A297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AC8-6F0D-4D2B-B013-F62C066A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5C6-07BD-464A-AFB5-E2639118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5AE-422D-4814-9947-914A40EB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88: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atural Language Process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tring of terminals and a CFG, determine if the string can be generated by the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 parse tree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return all possible parse trees for the st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arch space of derivations for one that derives the given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p-Down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ing space of derivations for the start symbo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tart search space of reverse deivations from the terminal symbols in the str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5512320" y="173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"/>
          <p:cNvSpPr/>
          <p:nvPr/>
        </p:nvSpPr>
        <p:spPr>
          <a:xfrm>
            <a:off x="5343120" y="2478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traight Connector 9"/>
          <p:cNvSpPr/>
          <p:nvPr/>
        </p:nvSpPr>
        <p:spPr>
          <a:xfrm flipH="1">
            <a:off x="5667120" y="2131920"/>
            <a:ext cx="6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4999320" y="32241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4971960" y="40910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traight Connector 21"/>
          <p:cNvSpPr/>
          <p:nvPr/>
        </p:nvSpPr>
        <p:spPr>
          <a:xfrm>
            <a:off x="5338080" y="35766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traight Connector 14"/>
          <p:cNvSpPr/>
          <p:nvPr/>
        </p:nvSpPr>
        <p:spPr>
          <a:xfrm flipH="1">
            <a:off x="5401800" y="2878200"/>
            <a:ext cx="26532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traight Connector 17"/>
          <p:cNvSpPr/>
          <p:nvPr/>
        </p:nvSpPr>
        <p:spPr>
          <a:xfrm>
            <a:off x="5666760" y="2878200"/>
            <a:ext cx="3474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5852880" y="407844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traight Connector 13"/>
          <p:cNvSpPr/>
          <p:nvPr/>
        </p:nvSpPr>
        <p:spPr>
          <a:xfrm>
            <a:off x="6040440" y="3586320"/>
            <a:ext cx="7128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traight Connector 18"/>
          <p:cNvSpPr/>
          <p:nvPr/>
        </p:nvSpPr>
        <p:spPr>
          <a:xfrm>
            <a:off x="6040440" y="3537000"/>
            <a:ext cx="8301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5848920" y="494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20"/>
          <p:cNvSpPr/>
          <p:nvPr/>
        </p:nvSpPr>
        <p:spPr>
          <a:xfrm>
            <a:off x="6159600" y="444024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6"/>
          <p:cNvSpPr/>
          <p:nvPr/>
        </p:nvSpPr>
        <p:spPr>
          <a:xfrm>
            <a:off x="6633000" y="49579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23"/>
          <p:cNvSpPr/>
          <p:nvPr/>
        </p:nvSpPr>
        <p:spPr>
          <a:xfrm flipH="1">
            <a:off x="6905520" y="4390920"/>
            <a:ext cx="1296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22"/>
          <p:cNvSpPr/>
          <p:nvPr/>
        </p:nvSpPr>
        <p:spPr>
          <a:xfrm>
            <a:off x="6619320" y="5823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7000560" y="535788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24"/>
          <p:cNvSpPr/>
          <p:nvPr/>
        </p:nvSpPr>
        <p:spPr>
          <a:xfrm>
            <a:off x="1303560" y="362124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that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ight Arrow 26"/>
          <p:cNvSpPr/>
          <p:nvPr/>
        </p:nvSpPr>
        <p:spPr>
          <a:xfrm>
            <a:off x="3368520" y="3670200"/>
            <a:ext cx="1468440" cy="276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4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Box 5"/>
          <p:cNvSpPr/>
          <p:nvPr/>
        </p:nvSpPr>
        <p:spPr>
          <a:xfrm>
            <a:off x="3360240" y="3236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50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TextBox 5"/>
          <p:cNvSpPr/>
          <p:nvPr/>
        </p:nvSpPr>
        <p:spPr>
          <a:xfrm>
            <a:off x="3360240" y="3236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10"/>
          <p:cNvGrpSpPr/>
          <p:nvPr/>
        </p:nvGrpSpPr>
        <p:grpSpPr>
          <a:xfrm>
            <a:off x="3624480" y="3610080"/>
            <a:ext cx="720360" cy="927720"/>
            <a:chOff x="3624480" y="3610080"/>
            <a:chExt cx="720360" cy="927720"/>
          </a:xfrm>
        </p:grpSpPr>
        <p:sp>
          <p:nvSpPr>
            <p:cNvPr id="656" name="TextBox 11"/>
            <p:cNvSpPr/>
            <p:nvPr/>
          </p:nvSpPr>
          <p:spPr>
            <a:xfrm>
              <a:off x="3624480" y="41389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6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Box 5"/>
          <p:cNvSpPr/>
          <p:nvPr/>
        </p:nvSpPr>
        <p:spPr>
          <a:xfrm>
            <a:off x="3361320" y="32367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70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TextBox 5"/>
          <p:cNvSpPr/>
          <p:nvPr/>
        </p:nvSpPr>
        <p:spPr>
          <a:xfrm>
            <a:off x="3361320" y="32367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12"/>
          <p:cNvSpPr/>
          <p:nvPr/>
        </p:nvSpPr>
        <p:spPr>
          <a:xfrm flipH="1">
            <a:off x="3814920" y="2840040"/>
            <a:ext cx="2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5"/>
          <p:cNvGrpSpPr/>
          <p:nvPr/>
        </p:nvGrpSpPr>
        <p:grpSpPr>
          <a:xfrm>
            <a:off x="3624480" y="3610080"/>
            <a:ext cx="720360" cy="927720"/>
            <a:chOff x="3624480" y="3610080"/>
            <a:chExt cx="720360" cy="927720"/>
          </a:xfrm>
        </p:grpSpPr>
        <p:sp>
          <p:nvSpPr>
            <p:cNvPr id="676" name="TextBox 10"/>
            <p:cNvSpPr/>
            <p:nvPr/>
          </p:nvSpPr>
          <p:spPr>
            <a:xfrm>
              <a:off x="3624480" y="41389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Straight Connector 13"/>
            <p:cNvSpPr/>
            <p:nvPr/>
          </p:nvSpPr>
          <p:spPr>
            <a:xfrm>
              <a:off x="3969720" y="361008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Box 14"/>
            <p:cNvSpPr/>
            <p:nvPr/>
          </p:nvSpPr>
          <p:spPr>
            <a:xfrm>
              <a:off x="3744720" y="361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82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TextBox 5"/>
          <p:cNvSpPr/>
          <p:nvPr/>
        </p:nvSpPr>
        <p:spPr>
          <a:xfrm>
            <a:off x="3169440" y="3247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0"/>
          <p:cNvGrpSpPr/>
          <p:nvPr/>
        </p:nvGrpSpPr>
        <p:grpSpPr>
          <a:xfrm>
            <a:off x="3606120" y="2216160"/>
            <a:ext cx="1244520" cy="648720"/>
            <a:chOff x="3606120" y="2216160"/>
            <a:chExt cx="1244520" cy="648720"/>
          </a:xfrm>
        </p:grpSpPr>
        <p:sp>
          <p:nvSpPr>
            <p:cNvPr id="691" name="TextBox 4"/>
            <p:cNvSpPr/>
            <p:nvPr/>
          </p:nvSpPr>
          <p:spPr>
            <a:xfrm>
              <a:off x="3606120" y="24660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P      V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Straight Connector 7"/>
            <p:cNvSpPr/>
            <p:nvPr/>
          </p:nvSpPr>
          <p:spPr>
            <a:xfrm flipH="1">
              <a:off x="3826080" y="2216160"/>
              <a:ext cx="39204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Straight Connector 9"/>
            <p:cNvSpPr/>
            <p:nvPr/>
          </p:nvSpPr>
          <p:spPr>
            <a:xfrm>
              <a:off x="4218840" y="2216160"/>
              <a:ext cx="353520" cy="33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Box 5"/>
          <p:cNvSpPr/>
          <p:nvPr/>
        </p:nvSpPr>
        <p:spPr>
          <a:xfrm>
            <a:off x="3170160" y="32479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traight Connector 12"/>
          <p:cNvSpPr/>
          <p:nvPr/>
        </p:nvSpPr>
        <p:spPr>
          <a:xfrm flipH="1">
            <a:off x="3489480" y="2840040"/>
            <a:ext cx="3492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traight Connector 13"/>
          <p:cNvSpPr/>
          <p:nvPr/>
        </p:nvSpPr>
        <p:spPr>
          <a:xfrm>
            <a:off x="3838680" y="2851200"/>
            <a:ext cx="37296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10"/>
          <p:cNvGrpSpPr/>
          <p:nvPr/>
        </p:nvGrpSpPr>
        <p:grpSpPr>
          <a:xfrm>
            <a:off x="3046320" y="3549600"/>
            <a:ext cx="720360" cy="927720"/>
            <a:chOff x="3046320" y="3549600"/>
            <a:chExt cx="720360" cy="927720"/>
          </a:xfrm>
        </p:grpSpPr>
        <p:sp>
          <p:nvSpPr>
            <p:cNvPr id="698" name="TextBox 11"/>
            <p:cNvSpPr/>
            <p:nvPr/>
          </p:nvSpPr>
          <p:spPr>
            <a:xfrm>
              <a:off x="3046320" y="40784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4"/>
            <p:cNvSpPr/>
            <p:nvPr/>
          </p:nvSpPr>
          <p:spPr>
            <a:xfrm>
              <a:off x="3391560" y="3549600"/>
              <a:ext cx="1404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5"/>
            <p:cNvSpPr/>
            <p:nvPr/>
          </p:nvSpPr>
          <p:spPr>
            <a:xfrm>
              <a:off x="3166560" y="3549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295080" y="25020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3295080" y="25020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     NP     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traight Connector 7"/>
          <p:cNvSpPr/>
          <p:nvPr/>
        </p:nvSpPr>
        <p:spPr>
          <a:xfrm flipH="1">
            <a:off x="3825720" y="2216160"/>
            <a:ext cx="39240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traight Connector 9"/>
          <p:cNvSpPr/>
          <p:nvPr/>
        </p:nvSpPr>
        <p:spPr>
          <a:xfrm>
            <a:off x="4218120" y="2216160"/>
            <a:ext cx="1173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14"/>
          <p:cNvSpPr/>
          <p:nvPr/>
        </p:nvSpPr>
        <p:spPr>
          <a:xfrm>
            <a:off x="4217400" y="2216160"/>
            <a:ext cx="83484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8"/>
          <p:cNvGrpSpPr/>
          <p:nvPr/>
        </p:nvGrpSpPr>
        <p:grpSpPr>
          <a:xfrm>
            <a:off x="3239280" y="2814480"/>
            <a:ext cx="720360" cy="928800"/>
            <a:chOff x="3239280" y="2814480"/>
            <a:chExt cx="720360" cy="928800"/>
          </a:xfrm>
        </p:grpSpPr>
        <p:sp>
          <p:nvSpPr>
            <p:cNvPr id="714" name="TextBox 10"/>
            <p:cNvSpPr/>
            <p:nvPr/>
          </p:nvSpPr>
          <p:spPr>
            <a:xfrm>
              <a:off x="3239280" y="334440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Straight Connector 11"/>
            <p:cNvSpPr/>
            <p:nvPr/>
          </p:nvSpPr>
          <p:spPr>
            <a:xfrm>
              <a:off x="3584520" y="2814480"/>
              <a:ext cx="1404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Box 12"/>
            <p:cNvSpPr/>
            <p:nvPr/>
          </p:nvSpPr>
          <p:spPr>
            <a:xfrm>
              <a:off x="3359880" y="2814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non-recursive noun phrases (NPs) and verb phrases (VPs) in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VP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he  spaghet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[PP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 [NP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eatb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]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ckons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he 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VP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will narrow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nly 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PP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[N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Sept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2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8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Box 19"/>
          <p:cNvSpPr/>
          <p:nvPr/>
        </p:nvSpPr>
        <p:spPr>
          <a:xfrm>
            <a:off x="3853080" y="416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12"/>
          <p:cNvSpPr/>
          <p:nvPr/>
        </p:nvSpPr>
        <p:spPr>
          <a:xfrm>
            <a:off x="3842640" y="32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>
            <a:off x="4208040" y="2962440"/>
            <a:ext cx="32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19"/>
          <p:cNvSpPr/>
          <p:nvPr/>
        </p:nvSpPr>
        <p:spPr>
          <a:xfrm>
            <a:off x="3853080" y="4162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traight Connector 21"/>
          <p:cNvSpPr/>
          <p:nvPr/>
        </p:nvSpPr>
        <p:spPr>
          <a:xfrm>
            <a:off x="4207680" y="368460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4840200" y="3741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11"/>
          <p:cNvSpPr/>
          <p:nvPr/>
        </p:nvSpPr>
        <p:spPr>
          <a:xfrm>
            <a:off x="5058720" y="3789360"/>
            <a:ext cx="46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66400" y="4186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Box 10"/>
          <p:cNvSpPr/>
          <p:nvPr/>
        </p:nvSpPr>
        <p:spPr>
          <a:xfrm>
            <a:off x="4394160" y="4162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4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394160" y="4162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13"/>
          <p:cNvSpPr/>
          <p:nvPr/>
        </p:nvSpPr>
        <p:spPr>
          <a:xfrm>
            <a:off x="4583880" y="3670200"/>
            <a:ext cx="37476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Group 23"/>
          <p:cNvGrpSpPr/>
          <p:nvPr/>
        </p:nvGrpSpPr>
        <p:grpSpPr>
          <a:xfrm>
            <a:off x="4694760" y="4500000"/>
            <a:ext cx="621000" cy="1024920"/>
            <a:chOff x="4694760" y="4500000"/>
            <a:chExt cx="621000" cy="1024920"/>
          </a:xfrm>
        </p:grpSpPr>
        <p:sp>
          <p:nvSpPr>
            <p:cNvPr id="785" name="TextBox 24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Straight Connector 25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Box 26"/>
            <p:cNvSpPr/>
            <p:nvPr/>
          </p:nvSpPr>
          <p:spPr>
            <a:xfrm>
              <a:off x="4694760" y="512604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9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4395600" y="41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0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10"/>
          <p:cNvSpPr/>
          <p:nvPr/>
        </p:nvSpPr>
        <p:spPr>
          <a:xfrm>
            <a:off x="4395600" y="41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traight Connector 13"/>
          <p:cNvSpPr/>
          <p:nvPr/>
        </p:nvSpPr>
        <p:spPr>
          <a:xfrm>
            <a:off x="4584600" y="3670200"/>
            <a:ext cx="5810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15"/>
          <p:cNvGrpSpPr/>
          <p:nvPr/>
        </p:nvGrpSpPr>
        <p:grpSpPr>
          <a:xfrm>
            <a:off x="4694760" y="4500000"/>
            <a:ext cx="621000" cy="1024920"/>
            <a:chOff x="4694760" y="4500000"/>
            <a:chExt cx="621000" cy="1024920"/>
          </a:xfrm>
        </p:grpSpPr>
        <p:sp>
          <p:nvSpPr>
            <p:cNvPr id="811" name="TextBox 16"/>
            <p:cNvSpPr/>
            <p:nvPr/>
          </p:nvSpPr>
          <p:spPr>
            <a:xfrm>
              <a:off x="4791960" y="450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Straight Connector 18"/>
            <p:cNvSpPr/>
            <p:nvPr/>
          </p:nvSpPr>
          <p:spPr>
            <a:xfrm flipH="1">
              <a:off x="5017320" y="450000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4694760" y="512604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rase Chunking as Sequence Label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440" y="1371600"/>
            <a:ext cx="791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individual words with one of 3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 (Begin) word starts new target phra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 (Inside) word is part of target phrase but not the first w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 (Other) word is not part of target phra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for NP chu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kon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rrent account defic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arrow 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# 1.8 bill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pt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B6E-79A8-44B8-BC59-89BA9D54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2318040" y="5546880"/>
            <a:ext cx="41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sid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5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1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Box 16"/>
          <p:cNvSpPr/>
          <p:nvPr/>
        </p:nvSpPr>
        <p:spPr>
          <a:xfrm>
            <a:off x="5177520" y="5041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7" name="TextBox 2"/>
          <p:cNvSpPr/>
          <p:nvPr/>
        </p:nvSpPr>
        <p:spPr>
          <a:xfrm>
            <a:off x="4056480" y="18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Box 4"/>
          <p:cNvSpPr/>
          <p:nvPr/>
        </p:nvSpPr>
        <p:spPr>
          <a:xfrm>
            <a:off x="3887280" y="2562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traight Connector 9"/>
          <p:cNvSpPr/>
          <p:nvPr/>
        </p:nvSpPr>
        <p:spPr>
          <a:xfrm flipH="1">
            <a:off x="4211640" y="2216160"/>
            <a:ext cx="648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3543480" y="3308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19"/>
          <p:cNvSpPr/>
          <p:nvPr/>
        </p:nvSpPr>
        <p:spPr>
          <a:xfrm>
            <a:off x="3516480" y="41752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traight Connector 21"/>
          <p:cNvSpPr/>
          <p:nvPr/>
        </p:nvSpPr>
        <p:spPr>
          <a:xfrm>
            <a:off x="3882240" y="366084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traight Connector 14"/>
          <p:cNvSpPr/>
          <p:nvPr/>
        </p:nvSpPr>
        <p:spPr>
          <a:xfrm flipH="1">
            <a:off x="3946680" y="2962440"/>
            <a:ext cx="264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traight Connector 17"/>
          <p:cNvSpPr/>
          <p:nvPr/>
        </p:nvSpPr>
        <p:spPr>
          <a:xfrm>
            <a:off x="4211640" y="2962440"/>
            <a:ext cx="347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10"/>
          <p:cNvSpPr/>
          <p:nvPr/>
        </p:nvSpPr>
        <p:spPr>
          <a:xfrm>
            <a:off x="4397400" y="416232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traight Connector 13"/>
          <p:cNvSpPr/>
          <p:nvPr/>
        </p:nvSpPr>
        <p:spPr>
          <a:xfrm>
            <a:off x="4583880" y="3670200"/>
            <a:ext cx="7164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traight Connector 18"/>
          <p:cNvSpPr/>
          <p:nvPr/>
        </p:nvSpPr>
        <p:spPr>
          <a:xfrm>
            <a:off x="4584600" y="3621240"/>
            <a:ext cx="83052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15"/>
          <p:cNvSpPr/>
          <p:nvPr/>
        </p:nvSpPr>
        <p:spPr>
          <a:xfrm>
            <a:off x="4393080" y="50292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20"/>
          <p:cNvSpPr/>
          <p:nvPr/>
        </p:nvSpPr>
        <p:spPr>
          <a:xfrm>
            <a:off x="4703760" y="45244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Box 16"/>
          <p:cNvSpPr/>
          <p:nvPr/>
        </p:nvSpPr>
        <p:spPr>
          <a:xfrm>
            <a:off x="5177520" y="5041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traight Connector 23"/>
          <p:cNvSpPr/>
          <p:nvPr/>
        </p:nvSpPr>
        <p:spPr>
          <a:xfrm flipH="1">
            <a:off x="5449680" y="447516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5163480" y="5907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traight Connector 25"/>
          <p:cNvSpPr/>
          <p:nvPr/>
        </p:nvSpPr>
        <p:spPr>
          <a:xfrm flipH="1">
            <a:off x="5544720" y="5442120"/>
            <a:ext cx="2052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A38-D3A3-4B8E-8C9E-51AFC789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D256-7717-4052-AB6E-33F8A907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41E-6E28-42B7-AAD2-97428E3B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Box 12"/>
          <p:cNvSpPr/>
          <p:nvPr/>
        </p:nvSpPr>
        <p:spPr>
          <a:xfrm>
            <a:off x="2891880" y="3597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D7E-92E3-4496-B79E-15F45D70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12"/>
          <p:cNvSpPr/>
          <p:nvPr/>
        </p:nvSpPr>
        <p:spPr>
          <a:xfrm>
            <a:off x="2894040" y="3597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2841-5EED-4E4C-B58C-E2A96CD4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12"/>
          <p:cNvSpPr/>
          <p:nvPr/>
        </p:nvSpPr>
        <p:spPr>
          <a:xfrm>
            <a:off x="2894040" y="3597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3"/>
          <p:cNvGrpSpPr/>
          <p:nvPr/>
        </p:nvGrpSpPr>
        <p:grpSpPr>
          <a:xfrm>
            <a:off x="4393800" y="4006800"/>
            <a:ext cx="474840" cy="1347840"/>
            <a:chOff x="4393800" y="4006800"/>
            <a:chExt cx="474840" cy="1347840"/>
          </a:xfrm>
        </p:grpSpPr>
        <p:sp>
          <p:nvSpPr>
            <p:cNvPr id="910" name="TextBox 15"/>
            <p:cNvSpPr/>
            <p:nvPr/>
          </p:nvSpPr>
          <p:spPr>
            <a:xfrm>
              <a:off x="4393800" y="40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Straight Connector 16"/>
            <p:cNvSpPr/>
            <p:nvPr/>
          </p:nvSpPr>
          <p:spPr>
            <a:xfrm flipH="1">
              <a:off x="4619160" y="4006800"/>
              <a:ext cx="11880" cy="13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FE4A-3190-42A7-BA78-0062162C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Box 5"/>
          <p:cNvSpPr/>
          <p:nvPr/>
        </p:nvSpPr>
        <p:spPr>
          <a:xfrm>
            <a:off x="3012120" y="4608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7"/>
          <p:cNvSpPr/>
          <p:nvPr/>
        </p:nvSpPr>
        <p:spPr>
          <a:xfrm>
            <a:off x="3399840" y="5008680"/>
            <a:ext cx="4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9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Chu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37160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token accuracy does not evaluate finding correct full chunks. Instead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B3A2-7386-412A-B993-A0540AFA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1719360" y="2327400"/>
                <a:ext cx="64278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correct chunks f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chunks fou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1814400" y="3344760"/>
                <a:ext cx="5988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correct chunks f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actual chunk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Content Placeholder 2"/>
          <p:cNvSpPr/>
          <p:nvPr/>
        </p:nvSpPr>
        <p:spPr>
          <a:xfrm>
            <a:off x="825480" y="4398840"/>
            <a:ext cx="77724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armonic mean to produce a single evaluation metric called F measu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5"/>
              <p:cNvSpPr txBox="1"/>
              <p:nvPr/>
            </p:nvSpPr>
            <p:spPr>
              <a:xfrm>
                <a:off x="1724040" y="5432400"/>
                <a:ext cx="2233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6"/>
              <p:cNvSpPr txBox="1"/>
              <p:nvPr/>
            </p:nvSpPr>
            <p:spPr>
              <a:xfrm>
                <a:off x="4314960" y="5237280"/>
                <a:ext cx="3422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8454-39A4-4C90-8BBD-098DD972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5DB-9840-45EB-A019-A6411C0D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4"/>
          <p:cNvSpPr/>
          <p:nvPr/>
        </p:nvSpPr>
        <p:spPr>
          <a:xfrm>
            <a:off x="2989800" y="52578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   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997-66BD-4E7E-A9A2-E4BE6C3F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C72D-7340-4B89-A722-5A82FC5C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6FE-C62F-41F9-ADFC-A5EB9D3D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Box 27"/>
          <p:cNvSpPr/>
          <p:nvPr/>
        </p:nvSpPr>
        <p:spPr>
          <a:xfrm>
            <a:off x="6572880" y="4151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01A-0B2D-4F65-8F1B-3630C1211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5729760" y="34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Box 27"/>
          <p:cNvSpPr/>
          <p:nvPr/>
        </p:nvSpPr>
        <p:spPr>
          <a:xfrm>
            <a:off x="6572880" y="4151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29"/>
          <p:cNvSpPr/>
          <p:nvPr/>
        </p:nvSpPr>
        <p:spPr>
          <a:xfrm flipH="1">
            <a:off x="5316480" y="3876840"/>
            <a:ext cx="5745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traight Connector 31"/>
          <p:cNvSpPr/>
          <p:nvPr/>
        </p:nvSpPr>
        <p:spPr>
          <a:xfrm>
            <a:off x="5890320" y="3876840"/>
            <a:ext cx="94140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28"/>
          <p:cNvGrpSpPr/>
          <p:nvPr/>
        </p:nvGrpSpPr>
        <p:grpSpPr>
          <a:xfrm>
            <a:off x="6593040" y="4440240"/>
            <a:ext cx="561600" cy="708840"/>
            <a:chOff x="6593040" y="4440240"/>
            <a:chExt cx="561600" cy="708840"/>
          </a:xfrm>
        </p:grpSpPr>
        <p:sp>
          <p:nvSpPr>
            <p:cNvPr id="1034" name="TextBox 30"/>
            <p:cNvSpPr/>
            <p:nvPr/>
          </p:nvSpPr>
          <p:spPr>
            <a:xfrm>
              <a:off x="6679800" y="4524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Straight Connector 32"/>
            <p:cNvSpPr/>
            <p:nvPr/>
          </p:nvSpPr>
          <p:spPr>
            <a:xfrm flipH="1">
              <a:off x="6905160" y="4511520"/>
              <a:ext cx="11880" cy="63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Box 33"/>
            <p:cNvSpPr/>
            <p:nvPr/>
          </p:nvSpPr>
          <p:spPr>
            <a:xfrm>
              <a:off x="6593040" y="44402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C45F-DF45-4F3A-A5F6-7E25D625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3008520" y="4608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Straight Connector 7"/>
          <p:cNvSpPr/>
          <p:nvPr/>
        </p:nvSpPr>
        <p:spPr>
          <a:xfrm>
            <a:off x="3429000" y="500544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Box 12"/>
          <p:cNvSpPr/>
          <p:nvPr/>
        </p:nvSpPr>
        <p:spPr>
          <a:xfrm>
            <a:off x="2885400" y="359712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Box 8"/>
          <p:cNvSpPr/>
          <p:nvPr/>
        </p:nvSpPr>
        <p:spPr>
          <a:xfrm>
            <a:off x="3561840" y="2824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Straight Connector 11"/>
          <p:cNvSpPr/>
          <p:nvPr/>
        </p:nvSpPr>
        <p:spPr>
          <a:xfrm flipH="1">
            <a:off x="3500280" y="3224160"/>
            <a:ext cx="619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traight Connector 14"/>
          <p:cNvSpPr/>
          <p:nvPr/>
        </p:nvSpPr>
        <p:spPr>
          <a:xfrm>
            <a:off x="4119480" y="3224160"/>
            <a:ext cx="5493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0"/>
          <p:cNvSpPr/>
          <p:nvPr/>
        </p:nvSpPr>
        <p:spPr>
          <a:xfrm flipH="1">
            <a:off x="4559040" y="3962520"/>
            <a:ext cx="145800" cy="706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31"/>
          <p:cNvSpPr/>
          <p:nvPr/>
        </p:nvSpPr>
        <p:spPr>
          <a:xfrm>
            <a:off x="4767120" y="3962520"/>
            <a:ext cx="487440" cy="218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Box 30"/>
          <p:cNvSpPr/>
          <p:nvPr/>
        </p:nvSpPr>
        <p:spPr>
          <a:xfrm>
            <a:off x="4581360" y="3683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79B-06A6-4156-9AE4-5206D056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Box 4"/>
          <p:cNvSpPr/>
          <p:nvPr/>
        </p:nvSpPr>
        <p:spPr>
          <a:xfrm>
            <a:off x="2977200" y="52578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4BAD-81D7-4BED-B484-5CA1C827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Box 4"/>
          <p:cNvSpPr/>
          <p:nvPr/>
        </p:nvSpPr>
        <p:spPr>
          <a:xfrm>
            <a:off x="2977920" y="52578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715-3517-40C9-AA1E-0FB469F0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Box 4"/>
          <p:cNvSpPr/>
          <p:nvPr/>
        </p:nvSpPr>
        <p:spPr>
          <a:xfrm>
            <a:off x="2977560" y="525780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Chunking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system for NP chunking: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9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results for finding range of chunk types (CONLL 2000 shared task: NP, VP, PP, ADV, SBAR, ADJP) is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92−9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7B0-5ACA-4BEE-A0B0-E62C393FD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79F-CD41-44F8-A89E-7CE0A72A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Box 4"/>
          <p:cNvSpPr/>
          <p:nvPr/>
        </p:nvSpPr>
        <p:spPr>
          <a:xfrm>
            <a:off x="2977560" y="525780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Box 8"/>
          <p:cNvSpPr/>
          <p:nvPr/>
        </p:nvSpPr>
        <p:spPr>
          <a:xfrm>
            <a:off x="323892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traight Connector 11"/>
          <p:cNvSpPr/>
          <p:nvPr/>
        </p:nvSpPr>
        <p:spPr>
          <a:xfrm>
            <a:off x="3400560" y="3468600"/>
            <a:ext cx="288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Box 15"/>
          <p:cNvSpPr/>
          <p:nvPr/>
        </p:nvSpPr>
        <p:spPr>
          <a:xfrm>
            <a:off x="4244760" y="370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33"/>
          <p:cNvSpPr/>
          <p:nvPr/>
        </p:nvSpPr>
        <p:spPr>
          <a:xfrm>
            <a:off x="6593040" y="4440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4"/>
          <p:cNvSpPr/>
          <p:nvPr/>
        </p:nvSpPr>
        <p:spPr>
          <a:xfrm flipH="1">
            <a:off x="4438800" y="4170240"/>
            <a:ext cx="47520" cy="2923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25"/>
          <p:cNvSpPr/>
          <p:nvPr/>
        </p:nvSpPr>
        <p:spPr>
          <a:xfrm>
            <a:off x="4608360" y="4121280"/>
            <a:ext cx="328680" cy="133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598-25D5-4A99-AA80-6FC939F2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Box 8"/>
          <p:cNvSpPr/>
          <p:nvPr/>
        </p:nvSpPr>
        <p:spPr>
          <a:xfrm>
            <a:off x="3781440" y="3008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Box 14"/>
          <p:cNvSpPr/>
          <p:nvPr/>
        </p:nvSpPr>
        <p:spPr>
          <a:xfrm>
            <a:off x="4214880" y="38736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222-C2C0-43F1-A35D-48382166D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143880" y="3873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traight Connector 9"/>
          <p:cNvSpPr/>
          <p:nvPr/>
        </p:nvSpPr>
        <p:spPr>
          <a:xfrm flipH="1">
            <a:off x="3398400" y="4273560"/>
            <a:ext cx="468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Box 8"/>
          <p:cNvSpPr/>
          <p:nvPr/>
        </p:nvSpPr>
        <p:spPr>
          <a:xfrm>
            <a:off x="3781440" y="3008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11"/>
          <p:cNvSpPr/>
          <p:nvPr/>
        </p:nvSpPr>
        <p:spPr>
          <a:xfrm flipH="1">
            <a:off x="3403080" y="3408480"/>
            <a:ext cx="6382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traight Connector 13"/>
          <p:cNvSpPr/>
          <p:nvPr/>
        </p:nvSpPr>
        <p:spPr>
          <a:xfrm flipH="1">
            <a:off x="3392280" y="3993480"/>
            <a:ext cx="1260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4214880" y="38736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traight Connector 16"/>
          <p:cNvSpPr/>
          <p:nvPr/>
        </p:nvSpPr>
        <p:spPr>
          <a:xfrm>
            <a:off x="4041720" y="3408480"/>
            <a:ext cx="4190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Box 35"/>
          <p:cNvSpPr/>
          <p:nvPr/>
        </p:nvSpPr>
        <p:spPr>
          <a:xfrm>
            <a:off x="4209840" y="4051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Box 37"/>
          <p:cNvSpPr/>
          <p:nvPr/>
        </p:nvSpPr>
        <p:spPr>
          <a:xfrm>
            <a:off x="4122720" y="40384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traight Connector 39"/>
          <p:cNvSpPr/>
          <p:nvPr/>
        </p:nvSpPr>
        <p:spPr>
          <a:xfrm>
            <a:off x="4571280" y="4102200"/>
            <a:ext cx="20520" cy="554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Straight Connector 41"/>
          <p:cNvSpPr/>
          <p:nvPr/>
        </p:nvSpPr>
        <p:spPr>
          <a:xfrm>
            <a:off x="4608360" y="4091040"/>
            <a:ext cx="517680" cy="120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F44-1FFE-4F1C-81BA-A41F15CC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40"/>
          <p:cNvSpPr/>
          <p:nvPr/>
        </p:nvSpPr>
        <p:spPr>
          <a:xfrm>
            <a:off x="3403440" y="4154400"/>
            <a:ext cx="78264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Box 42"/>
          <p:cNvSpPr/>
          <p:nvPr/>
        </p:nvSpPr>
        <p:spPr>
          <a:xfrm>
            <a:off x="3889440" y="44038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74EF-E33C-4AC5-B393-4844BF9C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 Up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D48-580B-429E-A859-FD205404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Box 4"/>
          <p:cNvSpPr/>
          <p:nvPr/>
        </p:nvSpPr>
        <p:spPr>
          <a:xfrm>
            <a:off x="2988360" y="52578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      that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Box 5"/>
          <p:cNvSpPr/>
          <p:nvPr/>
        </p:nvSpPr>
        <p:spPr>
          <a:xfrm>
            <a:off x="3000600" y="46083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Straight Connector 7"/>
          <p:cNvSpPr/>
          <p:nvPr/>
        </p:nvSpPr>
        <p:spPr>
          <a:xfrm>
            <a:off x="3398760" y="50086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Box 6"/>
          <p:cNvSpPr/>
          <p:nvPr/>
        </p:nvSpPr>
        <p:spPr>
          <a:xfrm>
            <a:off x="3143880" y="3754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traight Connector 9"/>
          <p:cNvSpPr/>
          <p:nvPr/>
        </p:nvSpPr>
        <p:spPr>
          <a:xfrm flipH="1">
            <a:off x="3398400" y="4154400"/>
            <a:ext cx="46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15"/>
          <p:cNvSpPr/>
          <p:nvPr/>
        </p:nvSpPr>
        <p:spPr>
          <a:xfrm>
            <a:off x="4310280" y="4656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traight Connector 18"/>
          <p:cNvSpPr/>
          <p:nvPr/>
        </p:nvSpPr>
        <p:spPr>
          <a:xfrm flipH="1">
            <a:off x="4595400" y="5016600"/>
            <a:ext cx="12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Box 17"/>
          <p:cNvSpPr/>
          <p:nvPr/>
        </p:nvSpPr>
        <p:spPr>
          <a:xfrm>
            <a:off x="5056920" y="4102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Box 19"/>
          <p:cNvSpPr/>
          <p:nvPr/>
        </p:nvSpPr>
        <p:spPr>
          <a:xfrm>
            <a:off x="5430600" y="46432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Straight Connector 21"/>
          <p:cNvSpPr/>
          <p:nvPr/>
        </p:nvSpPr>
        <p:spPr>
          <a:xfrm flipH="1">
            <a:off x="4632480" y="4502160"/>
            <a:ext cx="684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23"/>
          <p:cNvSpPr/>
          <p:nvPr/>
        </p:nvSpPr>
        <p:spPr>
          <a:xfrm>
            <a:off x="5315760" y="4502160"/>
            <a:ext cx="61452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Box 20"/>
          <p:cNvSpPr/>
          <p:nvPr/>
        </p:nvSpPr>
        <p:spPr>
          <a:xfrm>
            <a:off x="5512680" y="5931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Box 22"/>
          <p:cNvSpPr/>
          <p:nvPr/>
        </p:nvSpPr>
        <p:spPr>
          <a:xfrm>
            <a:off x="5586840" y="5294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traight Connector 25"/>
          <p:cNvSpPr/>
          <p:nvPr/>
        </p:nvSpPr>
        <p:spPr>
          <a:xfrm>
            <a:off x="5902200" y="5657760"/>
            <a:ext cx="2880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Straight Connector 26"/>
          <p:cNvSpPr/>
          <p:nvPr/>
        </p:nvSpPr>
        <p:spPr>
          <a:xfrm flipH="1">
            <a:off x="5975280" y="5041800"/>
            <a:ext cx="158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traight Connector 40"/>
          <p:cNvSpPr/>
          <p:nvPr/>
        </p:nvSpPr>
        <p:spPr>
          <a:xfrm>
            <a:off x="3403440" y="4154400"/>
            <a:ext cx="1649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Box 28"/>
          <p:cNvSpPr/>
          <p:nvPr/>
        </p:nvSpPr>
        <p:spPr>
          <a:xfrm>
            <a:off x="3258720" y="29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traight Connector 35"/>
          <p:cNvSpPr/>
          <p:nvPr/>
        </p:nvSpPr>
        <p:spPr>
          <a:xfrm flipH="1">
            <a:off x="3403080" y="3319560"/>
            <a:ext cx="1620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 Down vs. Bottom U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never explores options that will not lead to a full parse, but can explore many options that never connect to the actual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 never explores options that do not connect to the actual sentence but can explore options that can never lead to a full p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amounts of wasted search depend on how much the grammar branches in each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1CD-EC47-4A7C-804E-797C7A18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ynamic Programming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extensive repeated work, must cache intermediate results, i.e. completed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ing (memoizing) critical to obtaining a polynomial time parsing (recognition) algorithm for CF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 algorithms based on both top-down and bottom-up search can achieve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recognition time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373-277F-44A2-B4E4-5F55A0FB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ynamic Programming Parsing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cke-Kasami-Younger) algorithm based on bottom-up parsing and requires first normalizing the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rley pars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based on top-down parsing and does not require normalizing grammar but is more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ly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rt pars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completed phrases in a chart and can combine top-down and bottom-up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0339-E1F3-4E43-9D82-4E9C152E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rammar must be converted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omsky normal form (CNF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productions must have either exactly 2 non-terminal symbols on the RHS or 1 terminal symbol (lexicon ru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bottom-up storing phrases formed from all substrings in a triangular table (cha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7541-B677-4108-B7A3-F4C52D26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the correct syntactic parse tree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322200" y="2565360"/>
            <a:ext cx="8821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TIS English Grammar Conver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41320" y="1924200"/>
            <a:ext cx="36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7"/>
          <p:cNvSpPr/>
          <p:nvPr/>
        </p:nvSpPr>
        <p:spPr>
          <a:xfrm>
            <a:off x="1056240" y="13320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riginal Gramm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8"/>
          <p:cNvSpPr/>
          <p:nvPr/>
        </p:nvSpPr>
        <p:spPr>
          <a:xfrm>
            <a:off x="4905360" y="13492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homsky Normal 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4651200" y="1908000"/>
            <a:ext cx="399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→ X1 V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1 → Aux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book | include | pref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I  | he | she | 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Houston | NW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book | flight | meal | mon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book | include | pref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4"/>
          <p:cNvSpPr/>
          <p:nvPr/>
        </p:nvSpPr>
        <p:spPr>
          <a:xfrm>
            <a:off x="1808280" y="2238480"/>
            <a:ext cx="96336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95"/>
          <p:cNvSpPr/>
          <p:nvPr/>
        </p:nvSpPr>
        <p:spPr>
          <a:xfrm>
            <a:off x="276696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96"/>
          <p:cNvSpPr/>
          <p:nvPr/>
        </p:nvSpPr>
        <p:spPr>
          <a:xfrm>
            <a:off x="372600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97"/>
          <p:cNvSpPr/>
          <p:nvPr/>
        </p:nvSpPr>
        <p:spPr>
          <a:xfrm>
            <a:off x="468468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8"/>
          <p:cNvSpPr/>
          <p:nvPr/>
        </p:nvSpPr>
        <p:spPr>
          <a:xfrm>
            <a:off x="5643720" y="223848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99"/>
          <p:cNvSpPr/>
          <p:nvPr/>
        </p:nvSpPr>
        <p:spPr>
          <a:xfrm>
            <a:off x="2774880" y="3087720"/>
            <a:ext cx="9637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100"/>
          <p:cNvSpPr/>
          <p:nvPr/>
        </p:nvSpPr>
        <p:spPr>
          <a:xfrm>
            <a:off x="373392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101"/>
          <p:cNvSpPr/>
          <p:nvPr/>
        </p:nvSpPr>
        <p:spPr>
          <a:xfrm>
            <a:off x="469260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102"/>
          <p:cNvSpPr/>
          <p:nvPr/>
        </p:nvSpPr>
        <p:spPr>
          <a:xfrm>
            <a:off x="5651640" y="308772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103"/>
          <p:cNvSpPr/>
          <p:nvPr/>
        </p:nvSpPr>
        <p:spPr>
          <a:xfrm>
            <a:off x="374184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104"/>
          <p:cNvSpPr/>
          <p:nvPr/>
        </p:nvSpPr>
        <p:spPr>
          <a:xfrm>
            <a:off x="470052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105"/>
          <p:cNvSpPr/>
          <p:nvPr/>
        </p:nvSpPr>
        <p:spPr>
          <a:xfrm>
            <a:off x="5659560" y="3938760"/>
            <a:ext cx="9619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06"/>
          <p:cNvSpPr/>
          <p:nvPr/>
        </p:nvSpPr>
        <p:spPr>
          <a:xfrm>
            <a:off x="4708440" y="4788000"/>
            <a:ext cx="96228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107"/>
          <p:cNvSpPr/>
          <p:nvPr/>
        </p:nvSpPr>
        <p:spPr>
          <a:xfrm>
            <a:off x="5667480" y="4788000"/>
            <a:ext cx="9619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108"/>
          <p:cNvSpPr/>
          <p:nvPr/>
        </p:nvSpPr>
        <p:spPr>
          <a:xfrm>
            <a:off x="5675400" y="5638680"/>
            <a:ext cx="961920" cy="84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46"/>
          <p:cNvSpPr/>
          <p:nvPr/>
        </p:nvSpPr>
        <p:spPr>
          <a:xfrm>
            <a:off x="1824120" y="2230560"/>
            <a:ext cx="96336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47"/>
          <p:cNvSpPr/>
          <p:nvPr/>
        </p:nvSpPr>
        <p:spPr>
          <a:xfrm>
            <a:off x="2782800" y="2230560"/>
            <a:ext cx="9637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48"/>
          <p:cNvSpPr/>
          <p:nvPr/>
        </p:nvSpPr>
        <p:spPr>
          <a:xfrm>
            <a:off x="374184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49"/>
          <p:cNvSpPr/>
          <p:nvPr/>
        </p:nvSpPr>
        <p:spPr>
          <a:xfrm>
            <a:off x="470052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5659560" y="22305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2790720" y="3079800"/>
            <a:ext cx="9637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52"/>
          <p:cNvSpPr/>
          <p:nvPr/>
        </p:nvSpPr>
        <p:spPr>
          <a:xfrm>
            <a:off x="3749760" y="307980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53"/>
          <p:cNvSpPr/>
          <p:nvPr/>
        </p:nvSpPr>
        <p:spPr>
          <a:xfrm>
            <a:off x="4708440" y="3079800"/>
            <a:ext cx="96228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54"/>
          <p:cNvSpPr/>
          <p:nvPr/>
        </p:nvSpPr>
        <p:spPr>
          <a:xfrm>
            <a:off x="5667480" y="307980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55"/>
          <p:cNvSpPr/>
          <p:nvPr/>
        </p:nvSpPr>
        <p:spPr>
          <a:xfrm>
            <a:off x="3757680" y="3930480"/>
            <a:ext cx="96192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56"/>
          <p:cNvSpPr/>
          <p:nvPr/>
        </p:nvSpPr>
        <p:spPr>
          <a:xfrm>
            <a:off x="4716360" y="3930480"/>
            <a:ext cx="96228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57"/>
          <p:cNvSpPr/>
          <p:nvPr/>
        </p:nvSpPr>
        <p:spPr>
          <a:xfrm>
            <a:off x="5675400" y="3930480"/>
            <a:ext cx="961920" cy="84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58"/>
          <p:cNvSpPr/>
          <p:nvPr/>
        </p:nvSpPr>
        <p:spPr>
          <a:xfrm>
            <a:off x="4724280" y="4780080"/>
            <a:ext cx="96228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59"/>
          <p:cNvSpPr/>
          <p:nvPr/>
        </p:nvSpPr>
        <p:spPr>
          <a:xfrm>
            <a:off x="5683320" y="4780080"/>
            <a:ext cx="961920" cy="84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60"/>
          <p:cNvSpPr/>
          <p:nvPr/>
        </p:nvSpPr>
        <p:spPr>
          <a:xfrm>
            <a:off x="5691240" y="5630760"/>
            <a:ext cx="961920" cy="841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F87C-7B6A-48A3-BC6C-E041F19A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Box 5"/>
          <p:cNvSpPr/>
          <p:nvPr/>
        </p:nvSpPr>
        <p:spPr>
          <a:xfrm>
            <a:off x="1839960" y="151596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Box 110"/>
          <p:cNvSpPr/>
          <p:nvPr/>
        </p:nvSpPr>
        <p:spPr>
          <a:xfrm>
            <a:off x="1434960" y="2128680"/>
            <a:ext cx="39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Box 111"/>
          <p:cNvSpPr/>
          <p:nvPr/>
        </p:nvSpPr>
        <p:spPr>
          <a:xfrm>
            <a:off x="1927080" y="1828800"/>
            <a:ext cx="44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= 1           2              3             4        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Box 112"/>
          <p:cNvSpPr/>
          <p:nvPr/>
        </p:nvSpPr>
        <p:spPr>
          <a:xfrm>
            <a:off x="6735240" y="2370240"/>
            <a:ext cx="22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a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itu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ing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1 throug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5EE-9746-4893-9DE7-38C809F1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Straight Arrow Connector 33"/>
          <p:cNvCxnSpPr>
            <a:stCxn id="1324" idx="2"/>
          </p:cNvCxnSpPr>
          <p:nvPr/>
        </p:nvCxnSpPr>
        <p:spPr>
          <a:xfrm flipH="1">
            <a:off x="3055320" y="3625920"/>
            <a:ext cx="918360" cy="92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6" name="Straight Arrow Connector 35"/>
          <p:cNvCxnSpPr>
            <a:stCxn id="1324" idx="2"/>
          </p:cNvCxnSpPr>
          <p:nvPr/>
        </p:nvCxnSpPr>
        <p:spPr>
          <a:xfrm flipH="1">
            <a:off x="3945960" y="3625560"/>
            <a:ext cx="2772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C1F-FD02-435B-8C95-3953382B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Group 43"/>
          <p:cNvGrpSpPr/>
          <p:nvPr/>
        </p:nvGrpSpPr>
        <p:grpSpPr>
          <a:xfrm>
            <a:off x="2561400" y="2442600"/>
            <a:ext cx="1546920" cy="962640"/>
            <a:chOff x="2561400" y="2442600"/>
            <a:chExt cx="1546920" cy="962640"/>
          </a:xfrm>
        </p:grpSpPr>
        <p:sp>
          <p:nvSpPr>
            <p:cNvPr id="1350" name="TextBox 32"/>
            <p:cNvSpPr/>
            <p:nvPr/>
          </p:nvSpPr>
          <p:spPr>
            <a:xfrm>
              <a:off x="3724920" y="247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1" name="Straight Arrow Connector 40"/>
            <p:cNvCxnSpPr>
              <a:stCxn id="1350" idx="2"/>
            </p:cNvCxnSpPr>
            <p:nvPr/>
          </p:nvCxnSpPr>
          <p:spPr>
            <a:xfrm flipH="1" flipV="1">
              <a:off x="2561400" y="2442600"/>
              <a:ext cx="13554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52" name="Straight Arrow Connector 42"/>
            <p:cNvCxnSpPr>
              <a:stCxn id="1350" idx="2"/>
            </p:cNvCxnSpPr>
            <p:nvPr/>
          </p:nvCxnSpPr>
          <p:spPr>
            <a:xfrm>
              <a:off x="3916800" y="2747880"/>
              <a:ext cx="30240" cy="65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4A6-2B95-40BC-81ED-3F07C255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Group 43"/>
          <p:cNvGrpSpPr/>
          <p:nvPr/>
        </p:nvGrpSpPr>
        <p:grpSpPr>
          <a:xfrm>
            <a:off x="2585520" y="2382840"/>
            <a:ext cx="1522800" cy="1022760"/>
            <a:chOff x="2585520" y="2382840"/>
            <a:chExt cx="1522800" cy="1022760"/>
          </a:xfrm>
        </p:grpSpPr>
        <p:sp>
          <p:nvSpPr>
            <p:cNvPr id="1376" name="TextBox 32"/>
            <p:cNvSpPr/>
            <p:nvPr/>
          </p:nvSpPr>
          <p:spPr>
            <a:xfrm>
              <a:off x="3724920" y="2471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7" name="Straight Arrow Connector 40"/>
            <p:cNvCxnSpPr/>
            <p:nvPr/>
          </p:nvCxnSpPr>
          <p:spPr>
            <a:xfrm flipH="1">
              <a:off x="2585520" y="2394720"/>
              <a:ext cx="1301040" cy="36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8" name="Straight Arrow Connector 42"/>
            <p:cNvCxnSpPr/>
            <p:nvPr/>
          </p:nvCxnSpPr>
          <p:spPr>
            <a:xfrm>
              <a:off x="3897000" y="2382840"/>
              <a:ext cx="48600" cy="1023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79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35B-713D-4551-A45D-DFE7267D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186C-6513-4DD3-8873-938EF216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861-BF5C-4CAA-A5EA-86219C3E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2" name="Straight Arrow Connector 44"/>
          <p:cNvCxnSpPr/>
          <p:nvPr/>
        </p:nvCxnSpPr>
        <p:spPr>
          <a:xfrm flipH="1" flipV="1">
            <a:off x="5015880" y="5328360"/>
            <a:ext cx="819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3" name="Straight Arrow Connector 46"/>
          <p:cNvCxnSpPr/>
          <p:nvPr/>
        </p:nvCxnSpPr>
        <p:spPr>
          <a:xfrm flipH="1">
            <a:off x="5846400" y="5378040"/>
            <a:ext cx="2160" cy="470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73C-B460-4295-823A-7726AC74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5" name="Straight Arrow Connector 47"/>
          <p:cNvCxnSpPr>
            <a:stCxn id="1494" idx="1"/>
          </p:cNvCxnSpPr>
          <p:nvPr/>
        </p:nvCxnSpPr>
        <p:spPr>
          <a:xfrm flipH="1" flipV="1">
            <a:off x="4355640" y="4295160"/>
            <a:ext cx="1364400" cy="130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6" name="Straight Arrow Connector 49"/>
          <p:cNvCxnSpPr>
            <a:stCxn id="1494" idx="2"/>
            <a:endCxn id="1493" idx="0"/>
          </p:cNvCxnSpPr>
          <p:nvPr/>
        </p:nvCxnSpPr>
        <p:spPr>
          <a:xfrm flipH="1">
            <a:off x="5873040" y="4563720"/>
            <a:ext cx="221400" cy="654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AAB-B03A-487B-89DA-D6DB9A04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Straight Arrow Connector 46"/>
          <p:cNvCxnSpPr>
            <a:stCxn id="1528" idx="2"/>
          </p:cNvCxnSpPr>
          <p:nvPr/>
        </p:nvCxnSpPr>
        <p:spPr>
          <a:xfrm flipH="1">
            <a:off x="3031560" y="3573360"/>
            <a:ext cx="2842200" cy="13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Straight Arrow Connector 50"/>
          <p:cNvCxnSpPr>
            <a:stCxn id="1528" idx="2"/>
          </p:cNvCxnSpPr>
          <p:nvPr/>
        </p:nvCxnSpPr>
        <p:spPr>
          <a:xfrm>
            <a:off x="5873760" y="3573000"/>
            <a:ext cx="70200" cy="747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ext Free Grammars (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76000" y="137160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sjoin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 is a non-terminal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ing of symbols from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 designated non-terminal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FF7-1438-48EA-BCF7-C08F7EE2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4" name="Straight Arrow Connector 52"/>
          <p:cNvCxnSpPr/>
          <p:nvPr/>
        </p:nvCxnSpPr>
        <p:spPr>
          <a:xfrm flipH="1" flipV="1">
            <a:off x="2634480" y="2442600"/>
            <a:ext cx="3188520" cy="565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5" name="Straight Arrow Connector 54"/>
          <p:cNvCxnSpPr/>
          <p:nvPr/>
        </p:nvCxnSpPr>
        <p:spPr>
          <a:xfrm flipH="1">
            <a:off x="5822640" y="2984400"/>
            <a:ext cx="2160" cy="434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859-715A-4BCF-90B4-10B0D48E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0" name="Straight Arrow Connector 52"/>
          <p:cNvCxnSpPr>
            <a:stCxn id="1598" idx="1"/>
          </p:cNvCxnSpPr>
          <p:nvPr/>
        </p:nvCxnSpPr>
        <p:spPr>
          <a:xfrm flipH="1" flipV="1">
            <a:off x="2634480" y="2442960"/>
            <a:ext cx="3072600" cy="33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1" name="Straight Arrow Connector 54"/>
          <p:cNvCxnSpPr/>
          <p:nvPr/>
        </p:nvCxnSpPr>
        <p:spPr>
          <a:xfrm flipH="1">
            <a:off x="5822280" y="2790720"/>
            <a:ext cx="13320" cy="627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506-F086-4BE2-B30A-8567CF4A4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7" name="Straight Arrow Connector 52"/>
          <p:cNvCxnSpPr>
            <a:stCxn id="1634" idx="1"/>
          </p:cNvCxnSpPr>
          <p:nvPr/>
        </p:nvCxnSpPr>
        <p:spPr>
          <a:xfrm flipH="1" flipV="1">
            <a:off x="4006440" y="2550240"/>
            <a:ext cx="1713600" cy="5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8" name="Straight Arrow Connector 54"/>
          <p:cNvCxnSpPr>
            <a:stCxn id="1635" idx="0"/>
            <a:endCxn id="1631" idx="0"/>
          </p:cNvCxnSpPr>
          <p:nvPr/>
        </p:nvCxnSpPr>
        <p:spPr>
          <a:xfrm>
            <a:off x="5842080" y="2638440"/>
            <a:ext cx="32400" cy="258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8B8A-9C85-44E9-B9D1-1DD0895B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4" name="Straight Arrow Connector 52"/>
          <p:cNvCxnSpPr>
            <a:stCxn id="1675" idx="1"/>
          </p:cNvCxnSpPr>
          <p:nvPr/>
        </p:nvCxnSpPr>
        <p:spPr>
          <a:xfrm flipH="1">
            <a:off x="4006440" y="2388240"/>
            <a:ext cx="1721520" cy="16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6" name="Straight Arrow Connector 54"/>
          <p:cNvCxnSpPr>
            <a:endCxn id="1668" idx="0"/>
          </p:cNvCxnSpPr>
          <p:nvPr/>
        </p:nvCxnSpPr>
        <p:spPr>
          <a:xfrm>
            <a:off x="5859360" y="2406600"/>
            <a:ext cx="15120" cy="281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5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6CD-244F-49BE-9186-D370FB76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Box 46"/>
          <p:cNvSpPr/>
          <p:nvPr/>
        </p:nvSpPr>
        <p:spPr>
          <a:xfrm>
            <a:off x="7403760" y="207000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4" name="Straight Arrow Connector 51"/>
          <p:cNvCxnSpPr>
            <a:endCxn id="1712" idx="3"/>
          </p:cNvCxnSpPr>
          <p:nvPr/>
        </p:nvCxnSpPr>
        <p:spPr>
          <a:xfrm flipH="1">
            <a:off x="5995800" y="2322360"/>
            <a:ext cx="1380240" cy="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5" name="Straight Arrow Connector 57"/>
          <p:cNvCxnSpPr/>
          <p:nvPr/>
        </p:nvCxnSpPr>
        <p:spPr>
          <a:xfrm flipH="1">
            <a:off x="4006440" y="2388240"/>
            <a:ext cx="1721520" cy="16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6" name="Straight Arrow Connector 58"/>
          <p:cNvCxnSpPr/>
          <p:nvPr/>
        </p:nvCxnSpPr>
        <p:spPr>
          <a:xfrm>
            <a:off x="5859360" y="2406600"/>
            <a:ext cx="15120" cy="281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7" name="Straight Arrow Connector 60"/>
          <p:cNvCxnSpPr/>
          <p:nvPr/>
        </p:nvCxnSpPr>
        <p:spPr>
          <a:xfrm flipH="1" flipV="1">
            <a:off x="2598480" y="2429640"/>
            <a:ext cx="1240560" cy="18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8" name="Straight Arrow Connector 62"/>
          <p:cNvCxnSpPr>
            <a:stCxn id="1699" idx="2"/>
          </p:cNvCxnSpPr>
          <p:nvPr/>
        </p:nvCxnSpPr>
        <p:spPr>
          <a:xfrm flipH="1">
            <a:off x="3909600" y="2747520"/>
            <a:ext cx="7200" cy="64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9" name="Straight Arrow Connector 64"/>
          <p:cNvCxnSpPr/>
          <p:nvPr/>
        </p:nvCxnSpPr>
        <p:spPr>
          <a:xfrm flipH="1">
            <a:off x="3018960" y="3488400"/>
            <a:ext cx="928080" cy="21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0" name="Straight Arrow Connector 67"/>
          <p:cNvCxnSpPr>
            <a:stCxn id="1698" idx="2"/>
          </p:cNvCxnSpPr>
          <p:nvPr/>
        </p:nvCxnSpPr>
        <p:spPr>
          <a:xfrm>
            <a:off x="3972600" y="3625560"/>
            <a:ext cx="20880" cy="646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1" name="Straight Arrow Connector 69"/>
          <p:cNvCxnSpPr>
            <a:stCxn id="1706" idx="1"/>
          </p:cNvCxnSpPr>
          <p:nvPr/>
        </p:nvCxnSpPr>
        <p:spPr>
          <a:xfrm flipH="1" flipV="1">
            <a:off x="5089320" y="5328360"/>
            <a:ext cx="597600" cy="2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2" name="Straight Arrow Connector 71"/>
          <p:cNvCxnSpPr>
            <a:stCxn id="1706" idx="2"/>
          </p:cNvCxnSpPr>
          <p:nvPr/>
        </p:nvCxnSpPr>
        <p:spPr>
          <a:xfrm flipH="1">
            <a:off x="5822280" y="5494320"/>
            <a:ext cx="51480" cy="40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KY Pars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43E-9715-4C12-A0C2-9815E65B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Box 5"/>
          <p:cNvSpPr/>
          <p:nvPr/>
        </p:nvSpPr>
        <p:spPr>
          <a:xfrm>
            <a:off x="1876320" y="166068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      the        flight    through  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11"/>
          <p:cNvSpPr/>
          <p:nvPr/>
        </p:nvSpPr>
        <p:spPr>
          <a:xfrm>
            <a:off x="178128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12"/>
          <p:cNvSpPr/>
          <p:nvPr/>
        </p:nvSpPr>
        <p:spPr>
          <a:xfrm>
            <a:off x="2738520" y="2233440"/>
            <a:ext cx="96336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13"/>
          <p:cNvSpPr/>
          <p:nvPr/>
        </p:nvSpPr>
        <p:spPr>
          <a:xfrm>
            <a:off x="3697200" y="223344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14"/>
          <p:cNvSpPr/>
          <p:nvPr/>
        </p:nvSpPr>
        <p:spPr>
          <a:xfrm>
            <a:off x="465624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15"/>
          <p:cNvSpPr/>
          <p:nvPr/>
        </p:nvSpPr>
        <p:spPr>
          <a:xfrm>
            <a:off x="5614920" y="223344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18"/>
          <p:cNvSpPr/>
          <p:nvPr/>
        </p:nvSpPr>
        <p:spPr>
          <a:xfrm>
            <a:off x="274788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20"/>
          <p:cNvSpPr/>
          <p:nvPr/>
        </p:nvSpPr>
        <p:spPr>
          <a:xfrm>
            <a:off x="4664160" y="3084480"/>
            <a:ext cx="9619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Rectangle 21"/>
          <p:cNvSpPr/>
          <p:nvPr/>
        </p:nvSpPr>
        <p:spPr>
          <a:xfrm>
            <a:off x="5622840" y="308448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24"/>
          <p:cNvSpPr/>
          <p:nvPr/>
        </p:nvSpPr>
        <p:spPr>
          <a:xfrm>
            <a:off x="3713040" y="3933720"/>
            <a:ext cx="9637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25"/>
          <p:cNvSpPr/>
          <p:nvPr/>
        </p:nvSpPr>
        <p:spPr>
          <a:xfrm>
            <a:off x="4672080" y="3933720"/>
            <a:ext cx="96192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26"/>
          <p:cNvSpPr/>
          <p:nvPr/>
        </p:nvSpPr>
        <p:spPr>
          <a:xfrm>
            <a:off x="5630760" y="393372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30"/>
          <p:cNvSpPr/>
          <p:nvPr/>
        </p:nvSpPr>
        <p:spPr>
          <a:xfrm>
            <a:off x="4680000" y="4784760"/>
            <a:ext cx="96372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31"/>
          <p:cNvSpPr/>
          <p:nvPr/>
        </p:nvSpPr>
        <p:spPr>
          <a:xfrm>
            <a:off x="5638680" y="4784760"/>
            <a:ext cx="962280" cy="8413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36"/>
          <p:cNvSpPr/>
          <p:nvPr/>
        </p:nvSpPr>
        <p:spPr>
          <a:xfrm>
            <a:off x="5646600" y="5634000"/>
            <a:ext cx="962280" cy="843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Box 37"/>
          <p:cNvSpPr/>
          <p:nvPr/>
        </p:nvSpPr>
        <p:spPr>
          <a:xfrm>
            <a:off x="1770480" y="2298600"/>
            <a:ext cx="98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VP, Verb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Box 38"/>
          <p:cNvSpPr/>
          <p:nvPr/>
        </p:nvSpPr>
        <p:spPr>
          <a:xfrm>
            <a:off x="2766960" y="359424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Box 39"/>
          <p:cNvSpPr/>
          <p:nvPr/>
        </p:nvSpPr>
        <p:spPr>
          <a:xfrm>
            <a:off x="3701880" y="3975120"/>
            <a:ext cx="7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Box 28"/>
          <p:cNvSpPr/>
          <p:nvPr/>
        </p:nvSpPr>
        <p:spPr>
          <a:xfrm>
            <a:off x="2810520" y="2735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29"/>
          <p:cNvSpPr/>
          <p:nvPr/>
        </p:nvSpPr>
        <p:spPr>
          <a:xfrm>
            <a:off x="3781080" y="316404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Box 32"/>
          <p:cNvSpPr/>
          <p:nvPr/>
        </p:nvSpPr>
        <p:spPr>
          <a:xfrm>
            <a:off x="3724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Box 27"/>
          <p:cNvSpPr/>
          <p:nvPr/>
        </p:nvSpPr>
        <p:spPr>
          <a:xfrm>
            <a:off x="3767400" y="22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Box 33"/>
          <p:cNvSpPr/>
          <p:nvPr/>
        </p:nvSpPr>
        <p:spPr>
          <a:xfrm>
            <a:off x="4659480" y="4813200"/>
            <a:ext cx="49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Box 34"/>
          <p:cNvSpPr/>
          <p:nvPr/>
        </p:nvSpPr>
        <p:spPr>
          <a:xfrm>
            <a:off x="4719600" y="4367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Box 35"/>
          <p:cNvSpPr/>
          <p:nvPr/>
        </p:nvSpPr>
        <p:spPr>
          <a:xfrm>
            <a:off x="4691880" y="3521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Box 40"/>
          <p:cNvSpPr/>
          <p:nvPr/>
        </p:nvSpPr>
        <p:spPr>
          <a:xfrm>
            <a:off x="4664160" y="267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Box 41"/>
          <p:cNvSpPr/>
          <p:nvPr/>
        </p:nvSpPr>
        <p:spPr>
          <a:xfrm>
            <a:off x="5607360" y="5807160"/>
            <a:ext cx="99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Nou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Box 42"/>
          <p:cNvSpPr/>
          <p:nvPr/>
        </p:nvSpPr>
        <p:spPr>
          <a:xfrm>
            <a:off x="5690520" y="5218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Box 43"/>
          <p:cNvSpPr/>
          <p:nvPr/>
        </p:nvSpPr>
        <p:spPr>
          <a:xfrm>
            <a:off x="5723280" y="4287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Box 44"/>
          <p:cNvSpPr/>
          <p:nvPr/>
        </p:nvSpPr>
        <p:spPr>
          <a:xfrm>
            <a:off x="5681880" y="3297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Box 47"/>
          <p:cNvSpPr/>
          <p:nvPr/>
        </p:nvSpPr>
        <p:spPr>
          <a:xfrm>
            <a:off x="5722560" y="24703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Box 48"/>
          <p:cNvSpPr/>
          <p:nvPr/>
        </p:nvSpPr>
        <p:spPr>
          <a:xfrm>
            <a:off x="5708880" y="26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49"/>
          <p:cNvSpPr/>
          <p:nvPr/>
        </p:nvSpPr>
        <p:spPr>
          <a:xfrm>
            <a:off x="5706000" y="2827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45"/>
          <p:cNvSpPr/>
          <p:nvPr/>
        </p:nvSpPr>
        <p:spPr>
          <a:xfrm>
            <a:off x="5728680" y="224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Box 46"/>
          <p:cNvSpPr/>
          <p:nvPr/>
        </p:nvSpPr>
        <p:spPr>
          <a:xfrm>
            <a:off x="7403760" y="207000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0" name="Straight Arrow Connector 51"/>
          <p:cNvCxnSpPr>
            <a:endCxn id="1756" idx="3"/>
          </p:cNvCxnSpPr>
          <p:nvPr/>
        </p:nvCxnSpPr>
        <p:spPr>
          <a:xfrm flipH="1">
            <a:off x="5976360" y="2322360"/>
            <a:ext cx="139932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1" name="Straight Arrow Connector 57"/>
          <p:cNvCxnSpPr>
            <a:stCxn id="1756" idx="1"/>
          </p:cNvCxnSpPr>
          <p:nvPr/>
        </p:nvCxnSpPr>
        <p:spPr>
          <a:xfrm flipH="1" flipV="1">
            <a:off x="2598480" y="2406240"/>
            <a:ext cx="310896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2" name="Straight Arrow Connector 58"/>
          <p:cNvCxnSpPr>
            <a:endCxn id="1754" idx="0"/>
          </p:cNvCxnSpPr>
          <p:nvPr/>
        </p:nvCxnSpPr>
        <p:spPr>
          <a:xfrm>
            <a:off x="5821920" y="2790360"/>
            <a:ext cx="51480" cy="506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3" name="Straight Arrow Connector 69"/>
          <p:cNvCxnSpPr>
            <a:stCxn id="1752" idx="1"/>
          </p:cNvCxnSpPr>
          <p:nvPr/>
        </p:nvCxnSpPr>
        <p:spPr>
          <a:xfrm flipH="1" flipV="1">
            <a:off x="5089320" y="5328360"/>
            <a:ext cx="597600" cy="2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4" name="Straight Arrow Connector 71"/>
          <p:cNvCxnSpPr>
            <a:stCxn id="1752" idx="2"/>
          </p:cNvCxnSpPr>
          <p:nvPr/>
        </p:nvCxnSpPr>
        <p:spPr>
          <a:xfrm flipH="1">
            <a:off x="5822280" y="5494320"/>
            <a:ext cx="51480" cy="40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5" name="Straight Arrow Connector 56"/>
          <p:cNvCxnSpPr>
            <a:stCxn id="1754" idx="1"/>
            <a:endCxn id="1741" idx="3"/>
          </p:cNvCxnSpPr>
          <p:nvPr/>
        </p:nvCxnSpPr>
        <p:spPr>
          <a:xfrm flipH="1">
            <a:off x="3177720" y="3435480"/>
            <a:ext cx="2501280" cy="297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6" name="Straight Arrow Connector 66"/>
          <p:cNvCxnSpPr>
            <a:stCxn id="1754" idx="2"/>
          </p:cNvCxnSpPr>
          <p:nvPr/>
        </p:nvCxnSpPr>
        <p:spPr>
          <a:xfrm flipH="1">
            <a:off x="5859000" y="3573000"/>
            <a:ext cx="15120" cy="723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7" name="Straight Arrow Connector 70"/>
          <p:cNvCxnSpPr>
            <a:stCxn id="1753" idx="1"/>
            <a:endCxn id="1742" idx="3"/>
          </p:cNvCxnSpPr>
          <p:nvPr/>
        </p:nvCxnSpPr>
        <p:spPr>
          <a:xfrm flipH="1" flipV="1">
            <a:off x="4483800" y="4296600"/>
            <a:ext cx="1235880" cy="129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8" name="Straight Arrow Connector 73"/>
          <p:cNvCxnSpPr>
            <a:endCxn id="1752" idx="0"/>
          </p:cNvCxnSpPr>
          <p:nvPr/>
        </p:nvCxnSpPr>
        <p:spPr>
          <a:xfrm>
            <a:off x="5872320" y="448740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CKY (recognitio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/2) =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ing each cell requires looking at every possible split point between the two non-terminals needed to introduce a new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ssible split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complexity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ED39-FCC0-41B4-BB91-50278461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CKY (all parse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analysis assumes the number of phrase labels in each cell is fixed by the size of the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mpute all derivations for each non-terminal, the number of cell entries can expand combinatori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number of parses can be exponential, so is the complexity of finding all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F7AC-D771-4553-BEB3-F1D078ED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ffect of CNF on Parse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trees are for CNF grammar not the original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-process can repair the parse tree to return a parse tree for the original gram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93B-7AF2-4E2F-874B-79E0DC0D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ntactic Ambigu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produces all possible parse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the important issue of ambiguity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D8E-EAEE-4D0A-9BB5-561B4392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e CFG for ATIS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841320" y="1900080"/>
            <a:ext cx="362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P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→ Aux NP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→ 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Pro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Proper-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 → Det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minal 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→ Nominal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er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erb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 → VP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 → Prep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4481640" y="1979640"/>
            <a:ext cx="431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→ the | a | that |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 → book | flight | meal | mone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→ book | include | pref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un → I | he | she | 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-Noun → Houston | NW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 → do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 → from | to | on | near | throu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1455480" y="145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4889160" y="1457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xi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with CFG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ing some grammatical constraints requires complex CFGs that do no compactly encode the given regula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spects of natural language syntax may not be captured at all by CFGs and require context-sensitivity (productions with more than one symbol on the LH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453-280C-481C-9F10-68AF1402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re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s must agree with their verbs on person and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am cold.   You are cold.  He is col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* I are cold   * You is cold.   *He am col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eparate productions for each comb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 → NP1stPersonSing VP1stPerson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 → NP2ndPersonSing VP2ndPersonS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P1st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P1st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P2nd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P2ndPersonSing →  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31E-804D-45C5-A9A0-D9FE4B25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Agreement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685440" y="1371600"/>
            <a:ext cx="7869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have case (e.g. nominative, accusative) that must agree with their syntactic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gave him the book.    * I gave he the boo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 gave me the book.  * Him gave me the boo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languages have gender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s Angeles     * Las Ange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s Vegas         * Los Vegas     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B3ED-741E-446E-9D9D-42DFFEAF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b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504360" y="1239840"/>
            <a:ext cx="8302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verbs take some types of arguments but not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nsitive verb:  “found” requires a direct obj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found the ring.   * John found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ransitive verb:  “disappeared” cannot take on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disappeared.   * John disappeared the ring. 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ave” takes both a direct and indirect obj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gave Mary the ring.   * John gave Mary.   * John gave the ring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nt” takes an NP, or non-finite VP or 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John wants a car.   John wants to buy a car.  John wants Mary to take the ring.   * John want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bcategorization fra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range of argument types that a given verb can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6C0A-936C-484F-A279-94DD4C63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parse trees specify the syntactic structure of a sentence that helps determin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hn ate the spaghetti with meatballs with chopstick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ow did John eat the spaghetti?                               What did John eat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Gs can be used to define the grammar of a natur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algorithms allow computing a single parse tree in cubic time or all parse trees in exponenti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9E89-98E3-4335-A23C-97C6B451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ntence Gener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generated by recursively rewriting the start symbol using the productions until only terminals symbols re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01796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9132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3305880" y="374508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b      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4076640" y="42400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    Nomin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866120" y="483228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minal     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335400" y="42559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5737680" y="534996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           N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547600" y="58183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6831360" y="62690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674760" y="580068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-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236480" y="48420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673160" y="58183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4170240" y="298764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7"/>
          <p:cNvSpPr/>
          <p:nvPr/>
        </p:nvSpPr>
        <p:spPr>
          <a:xfrm flipH="1">
            <a:off x="3706920" y="3511440"/>
            <a:ext cx="4507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4157640" y="3524400"/>
            <a:ext cx="828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3645000" y="4059360"/>
            <a:ext cx="1260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0"/>
          <p:cNvSpPr/>
          <p:nvPr/>
        </p:nvSpPr>
        <p:spPr>
          <a:xfrm flipH="1">
            <a:off x="4704840" y="4035600"/>
            <a:ext cx="257400" cy="31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4962600" y="4048200"/>
            <a:ext cx="536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2"/>
          <p:cNvSpPr/>
          <p:nvPr/>
        </p:nvSpPr>
        <p:spPr>
          <a:xfrm flipH="1">
            <a:off x="4498560" y="4535640"/>
            <a:ext cx="1825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3"/>
          <p:cNvSpPr/>
          <p:nvPr/>
        </p:nvSpPr>
        <p:spPr>
          <a:xfrm flipH="1">
            <a:off x="5339880" y="4559400"/>
            <a:ext cx="182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24"/>
          <p:cNvSpPr/>
          <p:nvPr/>
        </p:nvSpPr>
        <p:spPr>
          <a:xfrm>
            <a:off x="5522760" y="4572000"/>
            <a:ext cx="804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5"/>
          <p:cNvSpPr/>
          <p:nvPr/>
        </p:nvSpPr>
        <p:spPr>
          <a:xfrm>
            <a:off x="4718880" y="53560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6"/>
          <p:cNvSpPr/>
          <p:nvPr/>
        </p:nvSpPr>
        <p:spPr>
          <a:xfrm flipH="1">
            <a:off x="5132520" y="5157720"/>
            <a:ext cx="1713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5084640" y="566892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8"/>
          <p:cNvSpPr/>
          <p:nvPr/>
        </p:nvSpPr>
        <p:spPr>
          <a:xfrm flipH="1">
            <a:off x="6108480" y="5121360"/>
            <a:ext cx="2314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6340320" y="5121360"/>
            <a:ext cx="8416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6046920" y="565776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7182000" y="5645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7242120" y="6156360"/>
            <a:ext cx="25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6751800" y="304956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Deriv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Parse T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2-02-26T15:32:25Z</dcterms:modified>
  <cp:revision>474</cp:revision>
  <dc:subject/>
  <dc:title>Intelligent Information Retrieval and Web Search</dc:title>
</cp:coreProperties>
</file>