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C7AE-97A0-4B0F-ACAA-35E3B7C2C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3F60-FD7C-4206-BD08-A03FCE892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E7E9-B090-4BE6-9A4B-22C0E29EA26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9696-0F12-47AA-AD7A-9A88AAF61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3E50-31C1-474F-8806-1DC0129E9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DD6E-1445-4847-AD71-23BD9648C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4699-E198-47EB-B2B4-5895A6807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B092-09BA-4567-B576-27234222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9F03-13DB-4D19-9FB1-F92542E3F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DFAA-B963-48B2-AE07-A688B553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78A1-34DA-475B-9268-2B513AA74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52C9-10F1-4A7A-A27D-42D93D67E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B772-AFC3-469C-9623-4E655AFD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7728-1DE1-477D-8330-F819E78A9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98C4-5503-448F-952A-4FAEB2C54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BA01-EBD9-4C5A-8E6C-A836F9231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4753-0530-4DFC-9E2C-4F0E4E7F7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A0E1-3E89-4FC8-87E9-724ADB30D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A971-162D-4383-B33C-EA92BB4AE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444B-88C5-450E-81AD-505E67B01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38E4-501B-49EB-8C66-605859E43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26A1-2D46-49D7-BB8B-F74341943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A4C2-CA21-4E55-A33F-557044487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F3EB-B964-49F5-A747-F7A9EABBF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0175-D4C9-4872-A9E9-86B7BBA24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2F9C-3417-453A-BD81-263B0DAB0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22A3-1043-47B5-8077-C22723137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47C8-3291-4BA1-AEC6-B43BFAF5F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F8B1-F649-40FF-9FBF-E0CB0EFD2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B833-693E-4950-A8B1-F540DFC6F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C784-86F5-4D2A-A5D8-0591180BB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5334-5785-40C4-9C45-0754844B2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38C1-2D3B-4A53-8D94-2AC4AAF0A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42ED-0403-445B-A441-57941DAE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6536-8333-4C44-8A92-CDEAF051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1F1A93-9BBB-4B4D-91FE-926FB1C5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EE269-8BD8-4918-A6D8-FD1924D9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24DCFF-B907-45ED-8CEC-E282CBCC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C17D4-B6AE-496C-AA8A-1D8EB62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77C93B-EA3C-44EB-BDF6-0EEBEC1B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2A94AC-C61F-416F-9026-C2D6D8A9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6D31B8-6EFB-4363-A903-14878931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1AB72A-F2C9-4321-B973-77FA9A93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2E86B-817A-46D1-AB38-AF943F04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235814-926C-41A8-B2B4-D80B5411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5B4A-C882-45BF-8BCF-DD957077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0D58A7-0720-4828-A1DF-26D1595A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D94823-3717-4D37-98A2-C4C4E5B8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D96325-D9D3-4773-B35E-49B18BB5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724823-503C-4D2C-AE42-0C7E46DD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0EFBAC-9EAD-49C0-8EDD-340FD388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12142B-920E-4BD7-AE3D-6C2C553D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C9D969-6D93-41CD-99EE-ED1FE3EE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9438D2-6BB3-4DC4-9993-1BBE3A93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568D34-EE36-4C18-A9F3-EDA68342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F51B5B-D931-4D67-A97B-71DE0DBB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484F-3841-4B98-B1D8-8E90B548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AA4C3A-F15F-45F6-9ED4-6F0AA665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6D4940-0B2A-4B83-B89A-169AE4A0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521077-8F0B-4172-B328-F8A671BB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636A53-FB6C-45A7-8C60-C44FFDE9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95377A-3710-4395-8FA8-E96A642B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6F4EE1-B9EB-4EF7-9804-1F71B8B8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CE1805-4037-4C55-ADFD-3863BF64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54B340-2A46-4A0C-A6E9-D3007D0B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26BE28-3020-46D0-83D0-B5B9288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C4030B-E04C-4145-9E15-4252E1AC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1744D-F2A8-4F79-9092-F7DAACF7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42AC26-EF40-47A9-967D-0DC37E80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7141F3-FA14-4BB0-90E0-0E792D99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FD451A-716A-41DC-8A7E-3F9CE07B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237A0B-2849-4CB0-8476-006FDAD9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2B01F1-A9EC-4F12-8918-1066F237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67D46D-5C20-494D-9775-5570D1E0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8C67DB-4DFA-47E5-A20D-BCB07E89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782AB2-8335-4A89-A55A-88C8B5FB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49B5A9-9458-4DF5-93AE-D5BF39F9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107D85-F921-4DC0-AC95-BB16416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7A6C6-6F7B-4562-93FA-05B5BE4B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BE4429-87DA-4CD5-8FFB-15DF47A5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58C5D5-D7DE-4CEB-B931-24003ABF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765460-9B2B-46D3-92C7-3F745783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641461-BBD6-492C-8D3D-D57B43F2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B66D3A-9419-4703-ACA3-08260EB3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130179-C6C5-4A01-B431-8D7FE980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DE93BF-47CE-45D4-A77F-793096EA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B2FEDD-61C7-4480-8784-4415BD1A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ED466A-F7E9-425D-8DD5-980D1838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C82C68-1BF4-4369-BAAE-E8E6B48F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E48E5-4F96-4890-8CA8-D9CE8A34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B71991-14E8-49B0-B88B-EE3C2ED7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B221D4-2F62-4EFB-8045-334014EB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3F49AD-E7B4-4FAC-A514-E750AE1F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EC9A4B-21E3-4F16-AD35-A0572468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51137A-F517-47D8-8B0B-C1D5F279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422BC3-12FC-490A-8444-D7833474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E674D3-A281-472B-9681-9376D456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268F9-2245-4F89-8F3A-0042DC29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7BA07-4049-4637-9B38-86BA7C54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5F407-748E-45F3-AFAC-38EC2E79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7C587-97AA-4F7B-BD20-705A8EBD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2B1A-9C74-4E67-A29B-00C7ACE5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86768-1A4A-4C78-BF48-FDE670D4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E704A-3E6A-434F-B59E-EF11534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2B31D-E412-4D5A-8EBD-B4AE6BDA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6CAE7-93A4-4E83-B7A2-27CE3206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AA11C-0FD3-46A4-8A32-CFA49087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101B5-1920-4289-A5F8-8C3B5C28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40C2D-DC03-472E-B91C-EE871F96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60062-F474-4DBF-B0FD-FFD134A3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2DE16-5384-4E26-B2FA-90CE056B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C9492-C630-4ED5-986E-3DD0632B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61D5-9A66-4BBE-A3CE-BC381118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98CF2-217C-493F-989B-B60884E5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81DC0-5B6B-482D-8244-D9229B3A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81D61-5B36-4AF7-967C-4A6860F5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832C1-2F44-4DAE-8145-67F2F099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107AE-93BE-45E7-9420-4E0EFDF2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1ABF9-4D8C-4A7B-B181-E887FA91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A89E4-3279-4797-9F56-D1B358CC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58ABF-7D34-4A68-AF43-59886319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605B7-0556-4851-8D17-1F262BD9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930A6-343A-4585-9079-47420CDA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1007-B933-4CC9-9C69-430DC7E2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D6229-3D75-419B-BFEA-543FE738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688D5-CE94-49C1-AF12-70B8F543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E8238-630B-405C-8BDD-FB7C1513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BE2B0-613F-41B2-B8D4-75233FCE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28135-DDAA-4475-982B-4D3ECA67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8C893-B910-4F47-9616-5B0AE4A8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37068-1AC1-4BC8-BC2F-48394AE4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CDF76-39F5-4ACE-B09E-72F53A93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B135C-B794-45B6-9B7F-9133C586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F635B-1971-47A5-B0A6-08D2EB48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789D3-D516-408B-B4FA-3DC65802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60204-6D47-4168-B4D4-BAF2D2F3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0770C-0C1B-45B0-B661-65A89C5F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0B3FE-45C8-4980-B86F-66FA53CA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4852D-E898-4269-AC3A-26C81C8B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FA3CA-D2F3-4606-89F0-C6F6C9B8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E45D6-3E5E-4A84-A8FE-4A47B34C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4EF79-7715-427C-AA76-42553C6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911CE-C30B-48C4-B629-720D245E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A5093-F7CB-41D3-8542-2DC5C8E5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05BC8-ACCA-42AF-B339-0527F133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8FAD-B82B-4FE2-B80E-1DAABB6A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688C4-20A4-482F-9FB9-5FA50CE1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0B167-451C-46DE-8454-869F43ED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2421D-D302-4D6B-9E2E-1511337F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8AFF8-521A-4779-BDC4-34AEE7DA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52359-947C-421D-BB6D-D09BDD59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4C309-7613-4CCE-AD2E-56149059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1AE9D-AB0E-4456-B0E6-AA755466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1DE50-46D7-4BEF-ACCE-AC064963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92E54-3659-4269-BF6A-1A0DE863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E3157-4B46-463A-B35C-A7981DE4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0003-ECF6-4EF3-BA58-FC9E1198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E2256-F8E4-4EA2-95A5-3268F044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53867-68DA-4413-AAD7-A52E6FC7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4529CE-68E8-483D-A18E-18176C7B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0C932-B0E5-48FF-900C-BDF876FE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5C734-65A6-491B-9311-25BDDAC3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D2BAB-2EAF-4B75-AC7D-95552A75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860CD1-0D19-4A51-87D4-E3F80C69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53FDE-492E-4F56-847B-F685EE56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D7212-5916-4CD0-902B-388E4991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4399E-904E-42BE-B424-79E95CAF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AB88-360F-4829-A7CB-B3CA8FB2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D1DB7-FF9C-4F47-A5F6-4301946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386E4-439E-4BEC-9F5B-FFFA74E0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C6944-C7E2-4A5A-A93A-391427C0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99DEC7-6624-4826-8242-F6A352B6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EB9BD-B3F3-48D9-83A2-341F1EE2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60C0D0-482A-4EA8-8EFE-7BE618EF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CF90D-FE33-470F-82E8-D0BDD7FC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8052DE-63E6-4DC1-B92C-F935DDF3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DAA889-DC81-467C-8489-E67967B4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CBED83-4077-4688-9D83-8AA017EC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2DFC-0438-4384-A573-F18CB9F0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B82B11-A3E5-4238-9A55-264EA55E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D50103-1CE6-4390-83D2-D02E9E53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3C30FC-8C0E-4C0F-A0C6-81EC3BB2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295FDD-B234-4E65-84A7-48A8E771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58BB8-23F1-4F4A-AF9C-13BAF2E9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2E7D9-8F27-4A19-A65E-A81194B1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C73665-68DF-4E02-BF6F-243AB168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435ED0-F889-4DC2-B5F9-77D8D3F1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9BB20D-8912-4A61-A79F-F00F7A24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C6A91C-F7D3-4E2A-8DDB-EAFF1F4A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8A4-40DD-44A1-AD4F-8B67A2D3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19EF-14B3-49E1-A8B3-768F8AE8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4B3-464D-465C-8FD4-792B5FF7E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287E-C6BD-4883-A0DF-A425F0A8F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29F9-141A-4EA5-930F-B34B6C4C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29EB-A1A6-42F4-AC5A-6EB74A2C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D5B-2364-4548-8C37-F78E7A567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186D-52DA-4A09-90AB-BD9670B51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6EC3-A6A2-4674-8A8D-E9288BE3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26D0-5050-4893-AD73-A8F1A585B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5CBD-6EB2-4FFB-8E04-EAE89817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80C8-D08B-448F-9D60-BBAE35C78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8506-81B5-481A-B1A9-CD30124E2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D6E2-0F10-447B-82BD-60C70660B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F963-0462-434D-A0A1-5FD7E5BC6B9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Word Sense Disambig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9F29-611D-425E-9563-1E63A8638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WS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part-of-speech (POS), e.g. noun, verb, adjective, for the target word is determ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as a classification problem with the appropriate potential senses for the target word given its POS as the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context using a set of features to be used for disambig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 a classifier on labeled data encoded using these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trained classifier to disambiguate future instances of the target word given their contextual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5C1C-3BC1-477B-9FFF-4CABD6795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eature Engine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ccess of machine learning requires instances to be represented using an effective set of features that are correlated with the categorie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 engineering can be a laborious process that requires substantial human expertise and knowledge of the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NLP it is common to extract many (even thousands of) potentially features and use a learning algorithm that works well with many relevant and irrelevant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B832-D39E-40B7-8769-8EFB861ED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xtual Featur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ing bag of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 of neighboring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col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826920" y="4049640"/>
            <a:ext cx="772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xperimental  evaluations indicate that all of these features are useful; and the best results comes from integrating all of these cues in the disambiguation proces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7AB9-DEF8-40F1-8AD3-0F7CDF491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rrounding Bag of 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rdered individual words near the ambiguous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in the sam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include words in the previous sentence or surrounding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s general topical cues of the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use feature selection to determine a smaller set of words that help discriminate possible s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just remove common “stop words” such as articles, preposi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1DF4-6093-4BC7-9A63-0C5516950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OS of Neighboring 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437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art-of-speech of immediately neighboring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evidence of local syntactic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-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OS of the w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sitions to the left of the target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OS of the w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sitions to the right of the target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to include features f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2177-A440-4019-8A51-7F2B549D4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cal Collo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567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lexical context immediately adjacent to the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o determine if “interest” as a noun refers to “readiness to give attention” or “money paid for the use of money”, the following collocations are usefu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 the interest of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 interest in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terest rate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ccrued interest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feature of the sequence of words from local 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the target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2,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for “in the interest of” is “in the of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to includ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gle word context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: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1,-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,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2,-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2,2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wo word context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2,-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1,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ree word context: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3,-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2,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1,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,3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8757-F3AB-4864-ABA6-2481C247A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yntactic Relation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Ambiguous Verbs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ambiguous verb, it is very useful to know its direct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game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guitar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risky and long-lasting card game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beautiful and expensive guitar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big brass tuba at the football game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game listening to the drums and the tuba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be useful to know its sub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game was played while the band played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game that included a drum and a tuba was played on Friday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4009-279A-469F-9913-F6E887641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yntactic Relation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Ambiguous Nouns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ambiguous noun, it is useful to know what verb it is an object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layed the piano and the horn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ounded by the rhinoceros’ horn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lso be useful to know what verb it is the subject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bank near the river loaned him $100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bank is eroding and the bank has given the city the money to repair it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7348-F01C-4DAD-8650-E2FA6C8C1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yntactic Relation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Ambiguous Adjectives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ambiguous adjective, it useful to know the noun it is modif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brilliant young man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brilliant yellow light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wooden writing desk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wooden acting performance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AB19-02DD-4FFA-A48B-FB242A3F2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Syntax in WS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77360" y="1371600"/>
            <a:ext cx="8137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a parse tree for a sentence using a syntactic par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mbiguous verbs, use the head word of its direct object and of its subject as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mbiguous nouns, use verbs for which it is the object and the subject as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mbiguous adjectives, use the head word (noun) of its NP as a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28"/>
          <p:cNvGrpSpPr/>
          <p:nvPr/>
        </p:nvGrpSpPr>
        <p:grpSpPr>
          <a:xfrm>
            <a:off x="3313800" y="1940040"/>
            <a:ext cx="2971080" cy="2104200"/>
            <a:chOff x="3313800" y="1940040"/>
            <a:chExt cx="2971080" cy="2104200"/>
          </a:xfrm>
        </p:grpSpPr>
        <p:sp>
          <p:nvSpPr>
            <p:cNvPr id="613" name="Text Box 4"/>
            <p:cNvSpPr/>
            <p:nvPr/>
          </p:nvSpPr>
          <p:spPr>
            <a:xfrm>
              <a:off x="3390480" y="3294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5"/>
            <p:cNvSpPr/>
            <p:nvPr/>
          </p:nvSpPr>
          <p:spPr>
            <a:xfrm>
              <a:off x="3313800" y="278136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per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6"/>
            <p:cNvSpPr/>
            <p:nvPr/>
          </p:nvSpPr>
          <p:spPr>
            <a:xfrm>
              <a:off x="3872160" y="235440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7"/>
            <p:cNvSpPr/>
            <p:nvPr/>
          </p:nvSpPr>
          <p:spPr>
            <a:xfrm>
              <a:off x="4338720" y="1940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8"/>
            <p:cNvSpPr/>
            <p:nvPr/>
          </p:nvSpPr>
          <p:spPr>
            <a:xfrm>
              <a:off x="4602240" y="235440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9"/>
            <p:cNvSpPr/>
            <p:nvPr/>
          </p:nvSpPr>
          <p:spPr>
            <a:xfrm>
              <a:off x="4434120" y="2781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10"/>
            <p:cNvSpPr/>
            <p:nvPr/>
          </p:nvSpPr>
          <p:spPr>
            <a:xfrm>
              <a:off x="4073760" y="32943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ye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11"/>
            <p:cNvSpPr/>
            <p:nvPr/>
          </p:nvSpPr>
          <p:spPr>
            <a:xfrm>
              <a:off x="5089680" y="27813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4968360" y="329436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13"/>
            <p:cNvSpPr/>
            <p:nvPr/>
          </p:nvSpPr>
          <p:spPr>
            <a:xfrm>
              <a:off x="5713560" y="3294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>
              <a:off x="5006520" y="3706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15"/>
            <p:cNvSpPr/>
            <p:nvPr/>
          </p:nvSpPr>
          <p:spPr>
            <a:xfrm>
              <a:off x="5618160" y="369576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iano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6"/>
            <p:cNvSpPr/>
            <p:nvPr/>
          </p:nvSpPr>
          <p:spPr>
            <a:xfrm flipH="1">
              <a:off x="4157640" y="2195640"/>
              <a:ext cx="23184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7"/>
            <p:cNvSpPr/>
            <p:nvPr/>
          </p:nvSpPr>
          <p:spPr>
            <a:xfrm>
              <a:off x="4511880" y="2183040"/>
              <a:ext cx="27936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8"/>
            <p:cNvSpPr/>
            <p:nvPr/>
          </p:nvSpPr>
          <p:spPr>
            <a:xfrm flipH="1">
              <a:off x="3839760" y="2622960"/>
              <a:ext cx="220680" cy="25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9"/>
            <p:cNvSpPr/>
            <p:nvPr/>
          </p:nvSpPr>
          <p:spPr>
            <a:xfrm flipH="1">
              <a:off x="4644720" y="2633760"/>
              <a:ext cx="15876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0"/>
            <p:cNvSpPr/>
            <p:nvPr/>
          </p:nvSpPr>
          <p:spPr>
            <a:xfrm>
              <a:off x="4853160" y="2622960"/>
              <a:ext cx="43812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1"/>
            <p:cNvSpPr/>
            <p:nvPr/>
          </p:nvSpPr>
          <p:spPr>
            <a:xfrm>
              <a:off x="3767040" y="3061080"/>
              <a:ext cx="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2"/>
            <p:cNvSpPr/>
            <p:nvPr/>
          </p:nvSpPr>
          <p:spPr>
            <a:xfrm flipH="1">
              <a:off x="4486320" y="3048120"/>
              <a:ext cx="85680" cy="37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3"/>
            <p:cNvSpPr/>
            <p:nvPr/>
          </p:nvSpPr>
          <p:spPr>
            <a:xfrm flipH="1">
              <a:off x="5230440" y="3048120"/>
              <a:ext cx="73080" cy="34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4"/>
            <p:cNvSpPr/>
            <p:nvPr/>
          </p:nvSpPr>
          <p:spPr>
            <a:xfrm>
              <a:off x="5353200" y="3048120"/>
              <a:ext cx="49824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5"/>
            <p:cNvSpPr/>
            <p:nvPr/>
          </p:nvSpPr>
          <p:spPr>
            <a:xfrm>
              <a:off x="5241960" y="3561120"/>
              <a:ext cx="0" cy="25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7"/>
            <p:cNvSpPr/>
            <p:nvPr/>
          </p:nvSpPr>
          <p:spPr>
            <a:xfrm>
              <a:off x="5877000" y="3537360"/>
              <a:ext cx="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1A38-B62B-4E64-9092-4C9D37F97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xical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ords in natural languages have multiple possible mean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en” (nou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dog is in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ink is in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n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ke” (verb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ak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one pill every morning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ak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the first right past the stoplight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helps distinguish meanings for different parts of speech of an ambiguous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uct” (noun or verb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’s conduct in class is unacceptabl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 will conduct the orchestra on Thursday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E132-BD85-4A16-A330-2CA0717AA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on of WS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77720" y="1371600"/>
            <a:ext cx="844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itro”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rpus developed in which one or more ambiguous words are labeled with explicit sense tags according to some sense inventor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rpus used for training and testing WSD and evaluated using accuracy (percentage of labeled words correctly disambiguated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Use most common sense selection as a baselin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ivo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corporate WSD system into some larger application system, such as machine translation, information retrieval, or question answer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valuate relative contribution of different WSD methods by measuring performance impact on the overall system on final task (accuracy of MT, IR, or QA results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63B1-3721-47B3-A58B-ACF3BBD02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xical Sample vs. All Word Tagg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al s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oose one or more ambiguous words each with a sense inventor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om a larger corpus, assemble sample occurrences of these word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ve humans mark each occurrence with a sense ta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lect a corpus of sentenc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each ambiguous word in the corpus, have humans mark it with a sense tag from an broad-coverage lexical database (e.g. WordNet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5906-8F24-448B-9290-9F870E2E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Eva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international “competition” on WS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by the Association for Computational Linguistics (ACL) Special Interest Group on the Lexicon (SIGLE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007, evolved in broader “SemEval”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D560-CB8C-4675-9F23-60B92DAE5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1: 1998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glis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rench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talia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sample in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u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accident, behavior, bet, disability, excess, float, giant, knee, onion, promise, rabbit, sack, scrap, shirt, stee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Verb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amaze, bet, bother, bury, calculate, consumer, derive, float, invade, promise, sack, scrap, siez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djectiv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brilliant, deaf, floating, generous, giant, modest, slight, wood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determinat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band, bitter, hurdle, sanction, shak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number of ambiguous English words tagged: 8,4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4F7B-AA0B-49A3-BE91-079183F0B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1 English Sense Inven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s from the HECTOR lexicography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evels of gran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arse grained (avg. 7.2 senses per word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ne grained (avg. 10.4 senses per word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2216-9F65-4769-B0CB-57694A2BB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training and test sets, same for each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an decline to provide a sense tag for a word if it is sufficiently unc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quant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: number of words assigned sen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: number of words assigned correct sen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: total number of test word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cision = C/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call = C/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47A6-1104-452E-98D7-F6B74256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1 Overall English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596960" y="2055960"/>
          <a:ext cx="6096240" cy="4116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e grain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sion (recall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 grain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sion (recall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 Lexicographe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%  (96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%  (97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 comm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se baselin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% (50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% (56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 syste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 (77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% (81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693B-4979-48B4-A23D-8B4C5F425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2: 200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languages: Chinese, Danish, Dutch, Czech, Basque, Estonian, Italian, Korean, Spanish, Swedish, Japanese,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n “all-words” task as well as lexical s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 “translation” task for Japanese, where senses correspond to distinct translations of a word into another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 teams competed with over 90 systems ent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536A-CF92-4A2D-9A72-F64A932F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2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62" name="Picture 5" descr="senseval2-eng-results"/>
          <p:cNvPicPr/>
          <p:nvPr/>
        </p:nvPicPr>
        <p:blipFill>
          <a:blip r:embed="rId1"/>
          <a:stretch/>
        </p:blipFill>
        <p:spPr>
          <a:xfrm>
            <a:off x="438120" y="1382760"/>
            <a:ext cx="80852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0302-5789-49FB-A0E6-20B1F49E0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2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65" name="Picture 4" descr="senseval2-all-eng"/>
          <p:cNvPicPr/>
          <p:nvPr/>
        </p:nvPicPr>
        <p:blipFill>
          <a:blip r:embed="rId1"/>
          <a:stretch/>
        </p:blipFill>
        <p:spPr>
          <a:xfrm>
            <a:off x="76320" y="1447920"/>
            <a:ext cx="84391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161F-218D-4F66-B724-253EB579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otivation for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ord Sense Disambiguation (WSD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asks in natural language processing require disambiguation of ambiguous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uestion Answ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formation Retriev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chine Transl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xt Mi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hone Help Syste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how people disambiguate words is an interesting problem that can provide insight in psycholingu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F28C-805F-41BD-81B0-3E28BDE70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2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68" name="Picture 4" descr="senseval2-spanish-results"/>
          <p:cNvPicPr/>
          <p:nvPr/>
        </p:nvPicPr>
        <p:blipFill>
          <a:blip r:embed="rId1"/>
          <a:stretch/>
        </p:blipFill>
        <p:spPr>
          <a:xfrm>
            <a:off x="0" y="1343160"/>
            <a:ext cx="837720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33E1-660C-4482-88A9-7E952608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WS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right granularity of a sense inven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ng WSD with other NLP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ntactic pars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mantic role labe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mantic pars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WSD actually improve performance on some real end-user tas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formation retriev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formation extra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chine transl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uestion answ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D86-4CE9-47B4-8167-CE24E1A07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 Inven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“sense” of a wo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monyms (disconnected meanings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ank: financial institu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ank: sloping land next to a river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lysemes (related meanings with joint etymology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ank: financial institution as corpora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ank: a building housing such an institu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 of sense inven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ctionar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xical databa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E88F-E1F7-40D2-8E16-B033AE9C6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tailed database of semantic relationships between English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famous cognitive psychologist George Miller and a team at Princeton Un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144,000 English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, adjectives, verbs, and adverbs grouped into about 109,000 synonym set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ns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BEB1-2830-458C-9333-BCCC37163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 Synset Relationship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nt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ro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nevole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od (noun to adj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ertai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phabetic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phabet (adjective to no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imi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nquestion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ki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ntail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rea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ol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ap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xt (part to wh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r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mpu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pu (whole to p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ypony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(speci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yperny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uit (gener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B759-33AE-4CBA-9E1C-52518BC04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uroWordN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Net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ut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talia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panis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erma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en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ze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stonia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7D60-FF56-4641-B633-84B0B02E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 Sen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Nets senses (like many dictionary senses) tend to be very fine-gr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” as a verb has 35 senses, incl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y a role or part: “Gielgud played Hamlet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etend to have certain qualities or state of mind: “John played dead.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disambiguate to this level for people and computers. Only expert lexicographers are perhaps able to reliably differentiate s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lear such fine-grained senses are useful for N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proposals for grouping senses into coarser, easier to identify senses (e.g. homonyms on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0EDE-B609-43CD-B1F2-1BED386F5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s Based on Needs of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distinguish senses that are translate to different words in some other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: tocar vs. jug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know: conocer vs. sab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: ser vs. est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ave: salir vs dej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ke: llevar vs. tomar vs. sac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ill require overly fine-grained s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iver in French is either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leuve: flows into the ocea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ivi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ère: does not flow into the ocea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7-03-01T16:47:10Z</dcterms:modified>
  <cp:revision>210</cp:revision>
  <dc:subject/>
  <dc:title>Intelligent Information Retrieval and Web Search</dc:title>
</cp:coreProperties>
</file>