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ftr" idx="41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 type="sldNum" idx="42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5FAD-5A46-4716-A20F-A115C3683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E767-8FDA-4C51-928F-245062116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35C9-493D-4E6C-AE0E-8BB236FB7486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DABB-ED02-45A8-8E2F-035911ED2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E622-CA43-4BC8-9381-48239D983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C8F6-A21F-474D-9625-4D6810669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EE0D-8DE7-4762-A8FC-154DB4068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97BF-4BB6-4BA7-8AF9-9FA1484D6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AAAB-D79F-45DF-99B7-E6E4FC8A2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E5EE-A0E0-426A-A34E-64054F358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9394-88FB-47BF-9E21-B8208B40D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2C6C-B97A-435F-A50C-6CD6BA241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841F-C922-48B1-9F58-96F46C645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6ED0-897B-4802-B529-A445AFF60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E959-F19C-4C64-8527-AE0E106FB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46F3-228C-40E8-9C7B-65243D499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ADAF-3121-4661-8392-2B5B090E6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9196-F93F-4B8E-935D-FC9F1C425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6498-F830-4482-B03F-ED9AD0F19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5904-5B9E-442C-BCC2-D01179CEA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2816-DF2B-4265-A860-FD31E6998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99F0-7774-44EE-A889-8954AE675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EFC1-5A76-47B8-BD11-C9C131DB5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2992-8042-4A67-AAC4-61C3A1502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1EDF-197F-43E5-B6BA-F9F5314F0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E2BB-A851-4405-A3D7-2AB869595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21EC-C6D1-4052-861B-C89DC86BE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F01C-4583-4AEB-871A-367DF3169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2D28-4428-44D1-8FA0-7FA012A65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A1D1-79D3-492F-922A-B9571E90C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0B00-B756-4659-A1C2-6F6777733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F7CF-3413-4A78-8144-6DE8F8721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46B2-B4CC-415B-A8A4-192CCE343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F71D3-8412-4FEB-866B-510A0441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3C562-0B9C-46CB-B9D1-C5C98E52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7A2EAB-B31A-45EF-9B9E-76786697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D3C217-2240-4B7E-81C0-417EBAA4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F13B06-A177-4B70-8AB9-C0444260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5ED87D-203A-4790-8E2C-39CDD467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F19414-277F-49EF-964E-9BEEE00C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80A4FE-BB0E-4C22-A5C8-DFA73E7B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08C970-BC8F-402F-8026-4EBC44CF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1C54F6-F3AD-4F9C-9DDA-809FBBBBD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254DBE-850A-490F-BF9F-31755A343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C8A927-E22B-4FF1-9B2A-D80988920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35C6B-4A89-4656-A594-9419F7507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29C3ED-9CDF-479E-947C-2BB2B10D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AB2E9B-BF20-4CCD-825C-F104DAAC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E44100-EF44-450B-8970-627F9C83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742367-904F-47FC-A6BD-413DED94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7B70FB-2950-42FA-802F-07CE0CB3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08E2E4-D542-4BF2-8B94-DCF6E9E4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69DC27-3635-49BC-B6CD-1BCA137E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284D36-A503-4A0E-81E4-41C91699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144661-B001-4E3F-9DB3-23B8158B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9F0CB4-C28F-4112-89EA-B10426D86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1E252-796F-45F0-9E90-AD0EF67EA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801616-D4E4-442D-9FE5-C82101D13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F7AA45-23AF-472C-A7A2-977614F1A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F03CA06-8D33-40CB-9555-637938CD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82D3C7-B428-4D16-B720-4F783BBB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C121CE-48CB-41F6-9F27-10E9B7E5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4391DC9-35D3-4CF0-8DD6-A42319C4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EF35599-51EF-41E3-8D10-B1EC4B8F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D4D92F-24C9-45AC-8E0A-9A88D763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5232B5-A6F9-4640-82EE-A821111B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BCEBDAD-0FEB-47EA-87A3-C70B848A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DBDC83-557A-4A8A-8338-1A370DF92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318EB4-ACBD-4A22-8EA3-F59AA2F5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DFA2AC-BA42-4000-A746-9CADB3A5A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DDDCC6-91F4-46F2-A45B-F971AC885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01D11E1-278A-4212-BBF7-AA9F56144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2DFA6D1-5003-451B-908C-7F83CD22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7F3020B-1C59-43C4-95EC-529EDB2B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EBD51C2-E0DA-41AD-A598-E44F7969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D96DAF1-0708-447A-8092-4BCB0AEA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5516205-CC6C-4F39-92B9-527F46A7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2B56EDD-192B-43C7-878F-00B5E12D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1AADD-74C5-472E-A7E3-0F699CE8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107F569-059D-495B-8B35-0EF479D9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E392F2A-9906-41D1-8FC9-04272002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A402A3-7303-45F3-B3FF-2112AF6A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F6EC1DF-CF42-46BE-9983-CD559D151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2CA1BAB-1529-4C68-840B-747FA3A28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3E5809-821F-4F39-B989-786CD2914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1F2F031-D489-4227-BDCC-240633B2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CA4294-ECBD-410E-8CB2-A93D100E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9E02FD-0D22-4567-B7EB-1C75C233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19AD69-7CA4-4D91-88AF-1B0DEE84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5F845-3DC3-4B31-A975-B191A4D7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6F74DB-6C5E-4316-B046-60214310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0354B6-973F-4468-84DD-BA2779BA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45DF0C-0BC1-47B1-86E8-CF21D7C9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8BB1A3-1D39-4FB3-AD0D-0EEB4519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478504-18C5-4325-8D7E-CAA35145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831B47-7683-49D9-99A5-63F16ED95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C4E485-7124-4F4F-AD0B-EBB0C30B8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C7FEA-C0A1-418C-ABFF-E22C74E5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20B31-780C-4AB9-B0D2-2A6920D9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06285-9815-477A-895A-2AC061AC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FD045-7A69-42E0-A449-84F7451F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08748-F557-4A18-9E96-F6A5CAA7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AD481-5E26-45A9-A0B5-DF10CCC5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340DD-CA51-4AC0-A783-7917683F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9E65B-0538-4069-9E0D-B984EF30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89ECD-FEE7-4A74-873E-CE16A8BA0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188D8-8948-4E19-9347-8512D21C6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74EB5A-80EC-44F6-A0BD-63FF63E94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8A1DF2-566A-4750-9224-53F8DBBB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61DE87-83FC-4086-8228-D1F21F71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2BEA13-A960-471C-AD92-E2FE4C07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201FB2-00FC-44DC-97C7-69D33A5A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BC4B9-FDE4-4547-A9A4-58A7E797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0DEAEC-FB46-453D-B911-5D71C16E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43E034-D797-4EF0-9195-3ED9B6C4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66DCED-8F79-4FCB-B6D3-86A5EA7F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590C0F-5E51-4A81-969D-874881BB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349815-6DC0-485A-8563-BD1428B8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93A70B-305C-449E-B777-3151A7F3E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D56165-8960-4467-B2F7-80F00E664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0F1C48-42B8-4717-A462-A2AC4A182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A063AF-C62A-4DCD-90F0-C01B8FF7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6B45A2-6B16-4D31-8B6A-5AE1227B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4FE1D-6FC2-4231-AAC8-F5E035BD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A91D3E-EF22-486F-B7E2-1199E794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39DFEB-2A98-45AA-B724-57F73E30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AEA905-5AA3-4B82-B657-E9A0F3CF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1E557E-F31D-4844-8E45-BEC24D98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735573-17E2-44CF-AF01-07999195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11E56E-8622-4561-8754-478669C0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EF3CCD-A60F-4FD0-B563-B853A274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CDA308-D0A9-44E8-A725-1DAD056F6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B8E42A-C721-4461-BA1A-FF5DE8E26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37CF3C-C529-48C3-9401-6783883A2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1E317-C662-49BF-A39D-86A41BCB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E73AFF-326A-4783-908F-7DB4E2FE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432D9F-D301-400F-8CC5-1944F6C3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83B05E-2812-4F2B-8C30-FBE82F70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2DF84B-3849-45B6-8127-A1B2559C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EF1595-9602-47A0-B01C-CD71B3E8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38E248-AC13-4466-945B-D13429B7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418A7B-9C58-4378-AFC2-D3961DA9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996031-364B-47A1-9327-F6215D6C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E26710-AAE1-4925-A4AA-696C2210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7B834B-2C39-48F3-8EF8-D68B4F6B4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5C7DA-53E7-4F76-985E-668C8B4B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A048DD-CE6C-4E21-A87D-D27211A50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4CE505-05FA-41A4-9964-7EC94F6E6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B94FF9-80D9-4A68-AE8D-6EE2E921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88200B-36D1-421F-8C64-97B6B0A7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881834-5827-4C4F-B2DE-7D274077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E54FC3-C655-4779-9EE5-3AF46BA9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AFF8A3-9F3D-4758-A5E0-69D354B2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11C838-7176-4641-88BC-1EFF3207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AEAEBA-578C-4C84-8DF1-96060F1A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DB5070-2802-456B-A9FC-4273164F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734CC-77AE-4193-8A1E-A97BB59A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910F0D-3A10-48BD-BD19-21F40EFF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B41D6D-3BE7-462E-B42B-DF370C7C8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3FBC83-1D3C-471F-B1B2-60C43A47A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0D686D-27EE-42A4-AD0C-4A4DFBDBF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B9F297-FA78-4D72-AD05-347ACC6E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EA09E6-C76D-47A9-A65E-6370EE02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E07CF4-FA4C-47C0-9F1C-2A92B62F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3EB930-6FDD-45C4-BE05-2D10C314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FAF04B-AF7A-4EFB-A0A3-27BAA677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C22C70-88A8-480C-A5A4-63BEA9B2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154BE-E557-4C79-9582-D887F7F0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06F095-58B3-467C-B6B9-450929C2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03EF14-354C-499D-ADE2-6E6AD1E5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A6193B-F28D-4309-853C-44D92117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F02A04-5CAC-4FB2-879B-54C7EFBA4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C689E7-6C23-4E04-A4BF-BFA126970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A71DF4-80BD-4BC3-84BC-986E2E29F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9F724F-21AD-4F01-A50B-B4EF9472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1B0FF0-414D-4AF0-B578-BB8C94E3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EAC0C1-D8C4-4ECC-8FAE-D9108D43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F4A547-9826-468B-8C91-984129FD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80A76-D266-4D1F-9241-C8FAD7EC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9C889D-13BA-4A0F-85D9-CD02D364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AAA2EF-7312-44B1-ADB0-0B16D3E2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1097B0-F24D-4E01-849B-177A1092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ED3ACD-42AC-476A-A677-3AEF8BCC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FCE108-B74F-479A-B35D-33EBA016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E1459B-AC07-45A7-A98D-B93D65276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5F957F-0EBB-4E29-8CFA-51943D033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D1772B-E674-46FB-BBE9-D0DA39F99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EC2888-1D1B-4B68-A444-C7C48E51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50B61A-7DAB-47EE-B66B-55BE2DB2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CA90-48D9-4A56-AEF8-781601ADE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0EA7-83EF-404B-B17B-439464316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3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3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B05F-3BB3-44AC-80E6-C73A3156B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3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BC12-9633-40EF-9BDF-D5AA67C9C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sldNum" idx="3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A590-EA0E-4653-869B-4E1510197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A3FE-397B-4A1F-8418-78D3D27C7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7218-A02F-44CA-A5D9-949491FBA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83DF-2DF6-486C-875C-1706F95EB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7987-87C2-4305-A57B-8CD08C353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F0C8-1D00-45C6-B4DD-A19FD40CD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2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73FF-E9B9-446A-9F29-A62E37073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2824-E912-4113-BFA3-A445FC198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97C1-6649-4377-9310-B86F36E64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5419-CC3E-4F4D-B787-6408CD0FA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BDC2-7196-4CB8-8C49-0D49A92A10B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S 388: 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Natural Language Processing: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Word Sense Disambigu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324080" y="4849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aymond J. Mo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Texas at Aus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729B-CC8A-4FE2-BE39-6E1F6DF2D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for WS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part-of-speech (POS), e.g. noun, verb, adjective, for the target word is determ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 as a classification problem with the appropriate potential senses for the target word given its POS as the catego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de context using a set of features to be used for disambig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 a classifier on labeled data encoded using these fea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trained classifier to disambiguate future instances of the target word given their contextual fea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1F04-2DA1-4240-B530-6921A874D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eature Engine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ccess of machine learning requires instances to be represented using an effective set of features that are correlated with the categories of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ature engineering can be a laborious process that requires substantial human expertise and knowledge of the dom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NLP it is common to extract many (even thousands of) potentially features and use a learning algorithm that works well with many relevant and irrelevant fea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C295-57BE-4A17-9E65-1272E9421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textual Featur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rounding bag of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 of neighboring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collo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ctic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826920" y="4049640"/>
            <a:ext cx="7728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Experimental  evaluations indicate that all of these features are useful; and the best results comes from integrating all of these cues in the disambiguation proces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5B39-66B6-4207-8818-D6D3D640A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urrounding Bag of Word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ordered individual words near the ambiguous 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in the same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include words in the previous sentence or surrounding para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s general topical cues of the contex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use feature selection to determine a smaller set of words that help discriminate possible sen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just remove common “stop words” such as articles, preposition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6C3A-9B68-4DB4-B50F-F03442395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OS of Neighboring Word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94376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part-of-speech of immediately neighboring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evidence of local syntactic con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-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POS of the wor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sitions to the left of the target wo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POS of the wor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sitions to the right of the target wo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 to include features fo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2D08-26EE-4570-B68C-888BF903F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ocal Colloca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95672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 lexical context immediately adjacent to the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to determine if “interest” as a noun refers to “readiness to give attention” or “money paid for the use of money”, the following collocations are usefu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in the interest of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n interest in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interest rate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ccrued interest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feature of the sequence of words from local posi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the target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-2,1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for “in the interest of” is “in the of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 to includ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ingle word context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: 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-1,-1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1,1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-2,-2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2,2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wo word context: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-2,-1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-1,1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1,2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hree word context: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 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-3,-1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-2,1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-1,2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1,3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A0CC-6D25-4DD1-86AD-C74A38159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Syntactic Relations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(Ambiguous Verbs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 ambiguous verb, it is very useful to know its direct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layed the game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layed the guitar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layed the risky and long-lasting card game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layed the beautiful and expensive guitar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layed the big brass tuba at the football game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layed the game listening to the drums and the tubas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also be useful to know its subje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e game was played while the band played.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e game that included a drum and a tuba was played on Friday.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DCFB-1764-47BB-B843-D8AE1ACFA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Syntactic Relations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(Ambiguous Nouns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ambiguous noun, it is useful to know what verb it is an object 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layed the piano and the horn”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ounded by the rhinoceros’ horn”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also be useful to know what verb it is the subject 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he bank near the river loaned him $100”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he bank is eroding and the bank has given the city the money to repair it”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222B-EDA3-4778-854E-F33E1F9B6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Syntactic Relations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(Ambiguous Adjectives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ambiguous adjective, it useful to know the noun it is modify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 brilliant young man”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 brilliant yellow light”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 wooden writing desk”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 wooden acting performance”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B741-94C1-4A8B-AD55-884A880AA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Using Syntax in WS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77360" y="1371600"/>
            <a:ext cx="81378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 a parse tree for a sentence using a syntactic par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mbiguous verbs, use the head word of its direct object and of its subject as fea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mbiguous nouns, use verbs for which it is the object and the subject as fea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mbiguous adjectives, use the head word (noun) of its NP as a fe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Group 28"/>
          <p:cNvGrpSpPr/>
          <p:nvPr/>
        </p:nvGrpSpPr>
        <p:grpSpPr>
          <a:xfrm>
            <a:off x="3313800" y="1940040"/>
            <a:ext cx="2971080" cy="2104200"/>
            <a:chOff x="3313800" y="1940040"/>
            <a:chExt cx="2971080" cy="2104200"/>
          </a:xfrm>
        </p:grpSpPr>
        <p:sp>
          <p:nvSpPr>
            <p:cNvPr id="613" name="Text Box 4"/>
            <p:cNvSpPr/>
            <p:nvPr/>
          </p:nvSpPr>
          <p:spPr>
            <a:xfrm>
              <a:off x="3390480" y="329436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John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Text Box 5"/>
            <p:cNvSpPr/>
            <p:nvPr/>
          </p:nvSpPr>
          <p:spPr>
            <a:xfrm>
              <a:off x="3313800" y="2781360"/>
              <a:ext cx="9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operN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Text Box 6"/>
            <p:cNvSpPr/>
            <p:nvPr/>
          </p:nvSpPr>
          <p:spPr>
            <a:xfrm>
              <a:off x="3872160" y="235440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Text Box 7"/>
            <p:cNvSpPr/>
            <p:nvPr/>
          </p:nvSpPr>
          <p:spPr>
            <a:xfrm>
              <a:off x="4338720" y="1940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8"/>
            <p:cNvSpPr/>
            <p:nvPr/>
          </p:nvSpPr>
          <p:spPr>
            <a:xfrm>
              <a:off x="4602240" y="235440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V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Text Box 9"/>
            <p:cNvSpPr/>
            <p:nvPr/>
          </p:nvSpPr>
          <p:spPr>
            <a:xfrm>
              <a:off x="4434120" y="27813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Text Box 10"/>
            <p:cNvSpPr/>
            <p:nvPr/>
          </p:nvSpPr>
          <p:spPr>
            <a:xfrm>
              <a:off x="4073760" y="329436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layed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11"/>
            <p:cNvSpPr/>
            <p:nvPr/>
          </p:nvSpPr>
          <p:spPr>
            <a:xfrm>
              <a:off x="5089680" y="278136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Text Box 12"/>
            <p:cNvSpPr/>
            <p:nvPr/>
          </p:nvSpPr>
          <p:spPr>
            <a:xfrm>
              <a:off x="4968360" y="329436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T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Text Box 13"/>
            <p:cNvSpPr/>
            <p:nvPr/>
          </p:nvSpPr>
          <p:spPr>
            <a:xfrm>
              <a:off x="5713560" y="32943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Text Box 14"/>
            <p:cNvSpPr/>
            <p:nvPr/>
          </p:nvSpPr>
          <p:spPr>
            <a:xfrm>
              <a:off x="5006520" y="37069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Text Box 15"/>
            <p:cNvSpPr/>
            <p:nvPr/>
          </p:nvSpPr>
          <p:spPr>
            <a:xfrm>
              <a:off x="5618160" y="3695760"/>
              <a:ext cx="66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iano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16"/>
            <p:cNvSpPr/>
            <p:nvPr/>
          </p:nvSpPr>
          <p:spPr>
            <a:xfrm flipH="1">
              <a:off x="4157640" y="2195640"/>
              <a:ext cx="231840" cy="21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17"/>
            <p:cNvSpPr/>
            <p:nvPr/>
          </p:nvSpPr>
          <p:spPr>
            <a:xfrm>
              <a:off x="4511880" y="2183040"/>
              <a:ext cx="279360" cy="21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18"/>
            <p:cNvSpPr/>
            <p:nvPr/>
          </p:nvSpPr>
          <p:spPr>
            <a:xfrm flipH="1">
              <a:off x="3839760" y="2622960"/>
              <a:ext cx="220680" cy="255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19"/>
            <p:cNvSpPr/>
            <p:nvPr/>
          </p:nvSpPr>
          <p:spPr>
            <a:xfrm flipH="1">
              <a:off x="4644720" y="2633760"/>
              <a:ext cx="158760" cy="24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20"/>
            <p:cNvSpPr/>
            <p:nvPr/>
          </p:nvSpPr>
          <p:spPr>
            <a:xfrm>
              <a:off x="4853160" y="2622960"/>
              <a:ext cx="438120" cy="21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21"/>
            <p:cNvSpPr/>
            <p:nvPr/>
          </p:nvSpPr>
          <p:spPr>
            <a:xfrm>
              <a:off x="3767040" y="3061080"/>
              <a:ext cx="0" cy="36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22"/>
            <p:cNvSpPr/>
            <p:nvPr/>
          </p:nvSpPr>
          <p:spPr>
            <a:xfrm flipH="1">
              <a:off x="4486320" y="3048120"/>
              <a:ext cx="85680" cy="37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23"/>
            <p:cNvSpPr/>
            <p:nvPr/>
          </p:nvSpPr>
          <p:spPr>
            <a:xfrm flipH="1">
              <a:off x="5230440" y="3048120"/>
              <a:ext cx="73080" cy="34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24"/>
            <p:cNvSpPr/>
            <p:nvPr/>
          </p:nvSpPr>
          <p:spPr>
            <a:xfrm>
              <a:off x="5353200" y="3048120"/>
              <a:ext cx="498240" cy="317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25"/>
            <p:cNvSpPr/>
            <p:nvPr/>
          </p:nvSpPr>
          <p:spPr>
            <a:xfrm>
              <a:off x="5241960" y="3561120"/>
              <a:ext cx="0" cy="25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27"/>
            <p:cNvSpPr/>
            <p:nvPr/>
          </p:nvSpPr>
          <p:spPr>
            <a:xfrm>
              <a:off x="5877000" y="3537360"/>
              <a:ext cx="0" cy="24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5C7F-896D-404C-9D34-F588A4271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xical Ambigu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words in natural languages have multiple possible mean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en” (noun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he dog is in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en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he ink is in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en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ake” (verb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ake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one pill every morning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ake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the first right past the stoplight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ax helps distinguish meanings for different parts of speech of an ambiguous 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nduct” (noun or verb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John’s conduct in class is unacceptable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John will conduct the orchestra on Thursday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9C83-4E6C-4E81-B508-29CE28492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valuation of WS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77720" y="1371600"/>
            <a:ext cx="844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vitro”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rpus developed in which one or more ambiguous words are labeled with explicit sense tags according to some sense inventory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rpus used for training and testing WSD and evaluated using accuracy (percentage of labeled words correctly disambiguated)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Use most common sense selection as a baseline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vivo”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corporate WSD system into some larger application system, such as machine translation, information retrieval, or question answering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valuate relative contribution of different WSD methods by measuring performance impact on the overall system on final task (accuracy of MT, IR, or QA results)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8F8A-D596-41CA-B3F2-9999DCA5B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xical Sample vs. All Word Tagg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xical sample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hoose one or more ambiguous words each with a sense inventory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rom a larger corpus, assemble sample occurrences of these word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ave humans mark each occurrence with a sense tag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wor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elect a corpus of sentence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or each ambiguous word in the corpus, have humans mark it with a sense tag from an broad-coverage lexical database (e.g. WordNet)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A3A5-B652-4BAB-AD00-BCF805794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nseEva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ized international “competition” on WS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ed by the Association for Computational Linguistics (ACL) Special Interest Group on the Lexicon (SIGLEX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2007, evolved in broader “SemEval” compet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B199-735F-4B10-A488-8283A733B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nseval 1: 1998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nglis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French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Italia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xical sample in 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un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: accident, behavior, bet, disability, excess, float, giant, knee, onion, promise, rabbit, sack, scrap, shirt, steer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Verb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: amaze, bet, bother, bury, calculate, consumer, derive, float, invade, promise, sack, scrap, siez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djective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: brilliant, deaf, floating, generous, giant, modest, slight, woode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determinate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: band, bitter, hurdle, sanction, shak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number of ambiguous English words tagged: 8,4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0081-65B2-4C4A-904D-1619FFA45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nseval 1 English Sense Inventor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ses from the HECTOR lexicography pro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levels of granula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arse grained (avg. 7.2 senses per word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ine grained (avg. 10.4 senses per word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D194-237E-42B0-B528-8EE50EC54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nseval Metri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ed training and test sets, same for each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 can decline to provide a sense tag for a word if it is sufficiently uncert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d quant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: number of words assigned sens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: number of words assigned correct sens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: total number of test word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r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cision = C/A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ecall = C/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CDF6-7595-4913-B016-B65219C70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nseval 1 Overall English Resul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1596960" y="2055960"/>
          <a:ext cx="6096240" cy="41162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01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e graine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cision (recall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rse graine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cision (recall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man Lexicographe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reeme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%  (96%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%  (97%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st common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nse baselin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% (50%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% (56%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st syste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% (77%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% (81%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AF49-316B-4CE1-AEA1-4510CD737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nseval 2: 2001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languages: Chinese, Danish, Dutch, Czech, Basque, Estonian, Italian, Korean, Spanish, Swedish, Japanese, Eng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s an “all-words” task as well as lexical sam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s a “translation” task for Japanese, where senses correspond to distinct translations of a word into another langu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5 teams competed with over 90 systems ente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466D-F848-45BB-95B7-AC40FF53D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nseval 2 Resul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662" name="Picture 5" descr="senseval2-eng-results"/>
          <p:cNvPicPr/>
          <p:nvPr/>
        </p:nvPicPr>
        <p:blipFill>
          <a:blip r:embed="rId1"/>
          <a:stretch/>
        </p:blipFill>
        <p:spPr>
          <a:xfrm>
            <a:off x="438120" y="1382760"/>
            <a:ext cx="808524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A8A1-D212-4678-8E48-CC9232E04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nseval 2 Resul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665" name="Picture 4" descr="senseval2-all-eng"/>
          <p:cNvPicPr/>
          <p:nvPr/>
        </p:nvPicPr>
        <p:blipFill>
          <a:blip r:embed="rId1"/>
          <a:stretch/>
        </p:blipFill>
        <p:spPr>
          <a:xfrm>
            <a:off x="76320" y="1447920"/>
            <a:ext cx="8439120" cy="51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77F1-C4CE-4842-8ED2-84769AE99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Motivation for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Word Sense Disambiguation (WSD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tasks in natural language processing require disambiguation of ambiguous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Question Answe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formation Retrieva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achine Translatio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ext Min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hone Help System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anding how people disambiguate words is an interesting problem that can provide insight in psycholinguist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4AE6-B199-46E3-85D2-60F10FD9E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nseval 2 Resul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668" name="Picture 4" descr="senseval2-spanish-results"/>
          <p:cNvPicPr/>
          <p:nvPr/>
        </p:nvPicPr>
        <p:blipFill>
          <a:blip r:embed="rId1"/>
          <a:stretch/>
        </p:blipFill>
        <p:spPr>
          <a:xfrm>
            <a:off x="0" y="1343160"/>
            <a:ext cx="8377200" cy="51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A948-E0A4-4D35-B8F4-3EE8284B3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ssues in WS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right granularity of a sense invent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ing WSD with other NLP 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yntactic pars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emantic role label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emantic pars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WSD actually improve performance on some real end-user tas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formation retrieva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formation extractio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achine translatio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Question answe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E5B1-BCE9-42B8-A3B2-80F665762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nse Inventor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a “sense” of a wo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omonyms (disconnected meanings)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ank: financial institution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ank: sloping land next to a river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olysemes (related meanings with joint etymology)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ank: financial institution as corporation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ank: a building housing such an institution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s of sense inven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ictionari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exical databas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FC36-AEED-4733-A2E8-DB95018E3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ordNe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etailed database of semantic relationships between English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ed by famous cognitive psychologist George Miller and a team at Princeton Univers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144,000 English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uns, adjectives, verbs, and adverbs grouped into about 109,000 synonym sets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nse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789B-5355-4F31-A239-D7809F82F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ordNet Synset Relationship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ntony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ro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ttrib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benevole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ood (noun to adjec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Pertainy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lphabetica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phabet (adjective to nou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Simil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unquestion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bsol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Ca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kil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Entail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breat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h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Holony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chapt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ext (part to who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Merony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comput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pu (whole to pa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Hyponym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ee (specializ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Hyperny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p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uit (generaliz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017F-1932-457D-84C6-121635BD1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uroWordNe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Net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utch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talia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panish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Germa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rench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zech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stonia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E659-001E-45CD-BA0B-5621BD2A3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ordNet Sens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Nets senses (like many dictionary senses) tend to be very fine-gra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y” as a verb has 35 senses, inclu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lay a role or part: “Gielgud played Hamlet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retend to have certain qualities or state of mind: “John played dead.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icult to disambiguate to this level for people and computers. Only expert lexicographers are perhaps able to reliably differentiate sen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clear such fine-grained senses are useful for NL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al proposals for grouping senses into coarser, easier to identify senses (e.g. homonyms onl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4DF2-28AB-4569-9081-AD63EFCDA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nses Based on Needs of Transl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distinguish senses that are translate to different words in some other langu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lay: tocar vs. juga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know: conocer vs. sab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e: ser vs. esta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eave: salir vs deja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ake: llevar vs. tomar vs. saca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still require overly fine-grained sen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iver in French is either: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leuve: flows into the ocean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ivi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ère: does not flow into the ocean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mooney</cp:lastModifiedBy>
  <dcterms:modified xsi:type="dcterms:W3CDTF">2017-03-01T16:47:10Z</dcterms:modified>
  <cp:revision>210</cp:revision>
  <dc:subject/>
  <dc:title>Intelligent Information Retrieval and Web Search</dc:title>
</cp:coreProperties>
</file>