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1297-D295-429F-A1D5-7FD7C2D1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7D10-82A3-4106-8AFC-ADE14BF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57EF-2B51-4745-85FC-0BBDE4D6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48D9-7DA6-40D6-9D67-69B92AED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E538-5712-48B2-9322-63CC20D9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C7B3-AD7D-4938-AE95-34459B39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4A97-7E04-407A-863D-87EECF0C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C9C8-C24F-4BC7-BC77-437B564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4A79-97F2-4AAE-868E-59FF43F7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A9F1-79A6-4C95-BBB8-0C61D2D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4B69-936A-4FD8-92AD-0C58A68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3E70-0649-4A5F-833E-2BC86F63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38B8-E6FA-4791-9FDE-D5937ADE7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4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putational Learning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BD51-B69A-4756-8AFB-A8C5BC6623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mal Definition of PAC-Learnab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concept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d over an instanc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ing instance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a learne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sing a hypothesis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C-learn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istribu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5, 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5;  learn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ampling random examples from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ll with probability at least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a hypothes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ime polynomial in 1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iz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instances described by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binary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junctive descriptions over these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conjunctive descriptions over these featur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most-specific conjunctive generalization algorithm (Find-S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ze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the number of literals in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(i.e. length of the conjunction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7453-E225-486B-AE9E-00CEFDEB0C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of PAC Learnabil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utational limitation also imposes a polynomial constraint on the training set size, since a learner can process at most polynomial data in polynomi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prove PAC learn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rst prove sample complexity of learning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using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polynomia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prove that the learner can train on a polynomial-sized data set in polynomial 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PAC-learnable, there must be a hypothesi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rbitrarily small error for every concep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ener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4262-62E6-416D-B55F-8A5926C7B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sistent Learn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arn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a hypothes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raining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a consistent learner if it always outputs a hypothesis with zero error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e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such a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a consistent learner must produce a hypothesis in the version spa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to bound the number of examples needed by a consistent learner, we just need to bound the number of examples needed to ensure that the version-space contains no hypotheses with unacceptably high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AF29-49FA-40BB-B1F4-55A0CF3BE1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ε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-Exhausted Version Spa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0440" y="1371600"/>
            <a:ext cx="80168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sion space, V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b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ε-exhaus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f every hypothesis in it has true error less than or equal to 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there are enough training examples to guarantee than any consistent hypothesis has error at most 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an never be sure that the version-space i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hausted, but one can bound the probability that it i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orem 7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ussler, 1988): If the hypothesis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inite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que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dependent random examples for some target concep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for any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the probability that the version sp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hausted is less than or equal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7CF6-BF73-48F5-AF58-F487E076F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of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7600" y="1371600"/>
            <a:ext cx="8321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be the subset of H with error &gt; ε.  The VS is not ε-exhausted if any of these are consistent with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istent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istent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ependent random examples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sistent with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05160" y="3228840"/>
                <a:ext cx="3311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19480" y="4527720"/>
                <a:ext cx="344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6640" y="5853240"/>
                <a:ext cx="7648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69CD-6B5C-4534-8E3D-1954521EAD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of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probability of a disjunction of events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m of the probabilities of the individual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:  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an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25600" y="2230560"/>
                <a:ext cx="4494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d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89120" y="3638520"/>
                <a:ext cx="375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nsis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ε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885120" y="44640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.E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9624-AFC5-48BF-81F7-E72BC5784E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omplexity Analysi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upper bound on the probability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usting the version space. 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84280" y="2217600"/>
                <a:ext cx="5703840" cy="44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is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d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m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δ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m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r>
                          <m:t xml:space="preserve">−</m:t>
                        </m:r>
                        <m:r>
                          <m:t xml:space="preserve">εm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lip inequalit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4EC7-1FF5-46CC-A04F-897DED697E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Complexity Resul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any consistent learner, given at le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will produce a result that is P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need to determine the size of a hypothesis space to instantiate this result for learning specific classes of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ive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 of examples for PAC learning, bu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.  Several approximations like that used to bound the probability of a disjunction make this a gross over-estimate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36760" y="1903320"/>
                <a:ext cx="215424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E3DE-0E03-4D7D-8EF9-730BDAD7C4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Complexity of Conjunction Learning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njunctions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olean features. There are 3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se since each feature can appear positively, appear negatively, or not appear in a given conjunction.  Therefore |H|= 3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a sufficient number of examples to learn a PAC concep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280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0.01, 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312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1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1,560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1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50 gives 5,954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holds for any consistent learner, including Fi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56000" y="2635200"/>
                <a:ext cx="367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3452-8BEB-4B9A-A25B-48C0C13089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Complexity of Learning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rbitrary Boolean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y boolean function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oolean features such as the hypothesis space of DNF or decision trees. There ar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^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se, so a sufficient number of examples to learn a PAC concep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10 gives 14,256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20 gives 14,536,410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δ=ε=0.05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=50 gives 1.561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x10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urier New"/>
              </a:rPr>
              <a:t>1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exampl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49440" y="2440080"/>
                <a:ext cx="3882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CF52-096E-4FD2-991D-9D124F72DF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s that characterize classes of learning problems or specific algorithms in terms of computational complexity 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ampl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.e. the number of training examples necessary or sufficient to learn hypotheses of a given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 of a learning problem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ze or expressiveness of the hypothesis sp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ccuracy to which target concept must be approximated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bability with which the learner must produce a successful hypothesi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nner in which training examples are presented, e.g. randomly or by query to an oracl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A157-7EAA-40CE-974D-562EBFB1B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ther Concept Clas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53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rm DNF: Disjunctions of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bounded conjunctiv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NF: Disjunctions of any number of  terms each limited to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ause CNF: Conjunctions of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bounded disjunc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NF: Conjunctions of any number of clauses each limited to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n(|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|)=O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457440" y="1716120"/>
                <a:ext cx="1776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00280" y="2771640"/>
                <a:ext cx="5167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⋯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⋯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521160" y="3843360"/>
                <a:ext cx="1971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⋯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519360" y="4910040"/>
                <a:ext cx="5167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⋯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152360" y="5792760"/>
            <a:ext cx="68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fore, all of these classes have polynomial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xity given a fixed value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E1A7-D02F-4ECD-B0A6-BFEFFFD95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sic Combinatorics Coun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60560" y="1469880"/>
          <a:ext cx="5378400" cy="1100160"/>
        </p:xfrm>
        <a:graphic>
          <a:graphicData uri="http://schemas.openxmlformats.org/drawingml/2006/table">
            <a:tbl>
              <a:tblPr/>
              <a:tblGrid>
                <a:gridCol w="1797120"/>
                <a:gridCol w="156528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ups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ups not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rder relev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u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rder irrelev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03320" y="2665440"/>
          <a:ext cx="5548320" cy="1833480"/>
        </p:xfrm>
        <a:graphic>
          <a:graphicData uri="http://schemas.openxmlformats.org/drawingml/2006/table">
            <a:tbl>
              <a:tblPr/>
              <a:tblGrid>
                <a:gridCol w="1033560"/>
                <a:gridCol w="1647720"/>
                <a:gridCol w="1198800"/>
                <a:gridCol w="1668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mu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78440" y="3086280"/>
            <a:ext cx="13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2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a,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73320" y="4772160"/>
                <a:ext cx="2047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samples:  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03360" y="5207040"/>
                <a:ext cx="33336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permutations: 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14680" y="4589640"/>
                <a:ext cx="42847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selections: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400640" y="5415120"/>
                <a:ext cx="38606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-combinations: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576600" y="6192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All O(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8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DF0F-163D-42BF-BA44-E26F3D8BED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 of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determining whether or not there exist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ause CNF formula consistent with a given training set is NP-hard.  Therefore, these classes are not PAC-learnable due to computational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polynomial time algorithms for lear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NF. Construct all possible disjunctive clauses (conjunctive terms) of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erals (there are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f these), add each as a new constructed feature, and then use FIND-S (FIND-G) to find a purely conjunctive (disjunctive) concept in terms of these complex fe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5640" y="4513320"/>
            <a:ext cx="1270080" cy="1071360"/>
            <a:chOff x="485640" y="4513320"/>
            <a:chExt cx="1270080" cy="1071360"/>
          </a:xfrm>
        </p:grpSpPr>
        <p:sp>
          <p:nvSpPr>
            <p:cNvPr id="197" name=""/>
            <p:cNvSpPr/>
            <p:nvPr/>
          </p:nvSpPr>
          <p:spPr>
            <a:xfrm>
              <a:off x="485640" y="4513320"/>
              <a:ext cx="1270080" cy="107136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720" y="4608360"/>
              <a:ext cx="1003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N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68320" y="4534920"/>
            <a:ext cx="2028960" cy="916920"/>
            <a:chOff x="1768320" y="4534920"/>
            <a:chExt cx="2028960" cy="916920"/>
          </a:xfrm>
        </p:grpSpPr>
        <p:sp>
          <p:nvSpPr>
            <p:cNvPr id="200" name=""/>
            <p:cNvSpPr/>
            <p:nvPr/>
          </p:nvSpPr>
          <p:spPr>
            <a:xfrm>
              <a:off x="2173320" y="4534920"/>
              <a:ext cx="1623960" cy="9169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truct 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j. 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k liter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8320" y="4962600"/>
              <a:ext cx="451080" cy="88920"/>
            </a:xfrm>
            <a:prstGeom prst="rightArrow">
              <a:avLst>
                <a:gd name="adj1" fmla="val 50000"/>
                <a:gd name="adj2" fmla="val 126822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786120" y="4422600"/>
            <a:ext cx="2077200" cy="1071720"/>
            <a:chOff x="3786120" y="4422600"/>
            <a:chExt cx="2077200" cy="1071720"/>
          </a:xfrm>
        </p:grpSpPr>
        <p:sp>
          <p:nvSpPr>
            <p:cNvPr id="203" name=""/>
            <p:cNvSpPr/>
            <p:nvPr/>
          </p:nvSpPr>
          <p:spPr>
            <a:xfrm>
              <a:off x="4138560" y="4422600"/>
              <a:ext cx="1635120" cy="107172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4491000"/>
              <a:ext cx="163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and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with O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6120" y="4932360"/>
              <a:ext cx="366840" cy="101520"/>
            </a:xfrm>
            <a:prstGeom prst="rightArrow">
              <a:avLst>
                <a:gd name="adj1" fmla="val 50000"/>
                <a:gd name="adj2" fmla="val 90337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67560" y="4777560"/>
            <a:ext cx="1231200" cy="368280"/>
            <a:chOff x="5767560" y="4777560"/>
            <a:chExt cx="1231200" cy="368280"/>
          </a:xfrm>
        </p:grpSpPr>
        <p:sp>
          <p:nvSpPr>
            <p:cNvPr id="207" name=""/>
            <p:cNvSpPr/>
            <p:nvPr/>
          </p:nvSpPr>
          <p:spPr>
            <a:xfrm>
              <a:off x="6196320" y="4777560"/>
              <a:ext cx="802440" cy="368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d-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67560" y="4889520"/>
              <a:ext cx="415800" cy="101520"/>
            </a:xfrm>
            <a:prstGeom prst="rightArrow">
              <a:avLst>
                <a:gd name="adj1" fmla="val 50000"/>
                <a:gd name="adj2" fmla="val 102394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993000" y="4519440"/>
            <a:ext cx="1345320" cy="889200"/>
            <a:chOff x="6993000" y="4519440"/>
            <a:chExt cx="1345320" cy="889200"/>
          </a:xfrm>
        </p:grpSpPr>
        <p:sp>
          <p:nvSpPr>
            <p:cNvPr id="210" name=""/>
            <p:cNvSpPr/>
            <p:nvPr/>
          </p:nvSpPr>
          <p:spPr>
            <a:xfrm>
              <a:off x="7431120" y="4519440"/>
              <a:ext cx="890640" cy="88920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2200" y="4610160"/>
              <a:ext cx="906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m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3000" y="4896000"/>
              <a:ext cx="415800" cy="101520"/>
            </a:xfrm>
            <a:prstGeom prst="rightArrow">
              <a:avLst>
                <a:gd name="adj1" fmla="val 50000"/>
                <a:gd name="adj2" fmla="val 102394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149840" y="5832360"/>
            <a:ext cx="72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ample complexity of learning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-DNF and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-CNF are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Training on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 examples with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 features takes O(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9FD3-BBA6-4081-8972-71E08B9A6E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nlarging the Hypothesis Space to Make Training Computation Tractabl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the langua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is a superset of the langua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-DNF since an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-DNF formula can be rewritten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formula by distributing AND over 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 can be learned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as the hypothesis space, but it is intractable to learn the concept in the form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 formula (als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algorithm might learn a close approxim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NF that is not actually expressibl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rm DN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n gain an exponential decrease in computational complexity with only a polynomial increase in sample complexity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result holds for lear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ause CNF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NF as the hypothesis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46200" y="4551480"/>
            <a:ext cx="1647720" cy="1009440"/>
            <a:chOff x="1546200" y="4551480"/>
            <a:chExt cx="1647720" cy="1009440"/>
          </a:xfrm>
        </p:grpSpPr>
        <p:sp>
          <p:nvSpPr>
            <p:cNvPr id="217" name=""/>
            <p:cNvSpPr/>
            <p:nvPr/>
          </p:nvSpPr>
          <p:spPr>
            <a:xfrm>
              <a:off x="1546200" y="4551480"/>
              <a:ext cx="1647720" cy="100944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3400" y="4584600"/>
              <a:ext cx="13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term DN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219480" y="4696920"/>
            <a:ext cx="1369080" cy="642600"/>
            <a:chOff x="3219480" y="4696920"/>
            <a:chExt cx="1369080" cy="642600"/>
          </a:xfrm>
        </p:grpSpPr>
        <p:sp>
          <p:nvSpPr>
            <p:cNvPr id="220" name=""/>
            <p:cNvSpPr/>
            <p:nvPr/>
          </p:nvSpPr>
          <p:spPr>
            <a:xfrm>
              <a:off x="3694680" y="4696920"/>
              <a:ext cx="893880" cy="6426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-C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19480" y="4987800"/>
              <a:ext cx="450720" cy="88920"/>
            </a:xfrm>
            <a:prstGeom prst="rightArrow">
              <a:avLst>
                <a:gd name="adj1" fmla="val 50000"/>
                <a:gd name="adj2" fmla="val 126721"/>
              </a:avLst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967280" y="4591080"/>
            <a:ext cx="1635120" cy="769680"/>
            <a:chOff x="4967280" y="4591080"/>
            <a:chExt cx="1635120" cy="769680"/>
          </a:xfrm>
        </p:grpSpPr>
        <p:sp>
          <p:nvSpPr>
            <p:cNvPr id="223" name=""/>
            <p:cNvSpPr/>
            <p:nvPr/>
          </p:nvSpPr>
          <p:spPr>
            <a:xfrm>
              <a:off x="4967280" y="4606920"/>
              <a:ext cx="1635120" cy="75384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18760" y="4591080"/>
              <a:ext cx="15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roxi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91080" y="4957920"/>
            <a:ext cx="366840" cy="101520"/>
          </a:xfrm>
          <a:prstGeom prst="rightArrow">
            <a:avLst>
              <a:gd name="adj1" fmla="val 50000"/>
              <a:gd name="adj2" fmla="val 9033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9DC9-2A53-4851-ACCF-3657B10183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PAC learnability only requires an approximate answer wit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igh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probabilistic algorithm that only halts and returns a consistent hypothesis in polynomial time with a high-probability is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t is generally assumed that NP complete problems cannot be solved even with high probability by a probabilistic polynomial-time algorithm, i.e. R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given this assumption, classes 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erm DNF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lause CNF are not PAC learnable in tha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A5A2-BE8E-4C60-B3DE-F96BDE0C7B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finite Hypothesis Spac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ceding analysis was restricted to finite hypothesis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finite hypothesis spaces (such as those including real-valued thresholds or parameters) are more expressive than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mpare a rule allowing one threshold on a continuous feature (length&lt;3cm) vs one allowing two thresholds (1cm&lt;length&lt;3cm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some measure of the expressiveness of infinite hypothesis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apnik-Chervonenk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dim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just such a measure, denoted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agous to ln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, there are bounds for sample complexity using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370D-B390-4E93-836F-0B56313ED9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896000" y="3259080"/>
            <a:ext cx="104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 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hattering Instanc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ypothesis space is said to shatter a set of instances iff for every partition of the instances into positive and negative, there is a hypothesis that produces that par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onsider 2 instances described using a single real-valued feature being shattered by interv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362124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81360" y="346248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60640" y="348156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87120" y="3232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300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9800" y="3624120"/>
            <a:ext cx="1133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8400" y="3367080"/>
            <a:ext cx="0" cy="14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60680" y="4565520"/>
            <a:ext cx="1625760" cy="334800"/>
            <a:chOff x="2560680" y="4565520"/>
            <a:chExt cx="1625760" cy="334800"/>
          </a:xfrm>
        </p:grpSpPr>
        <p:sp>
          <p:nvSpPr>
            <p:cNvPr id="241" name=""/>
            <p:cNvSpPr/>
            <p:nvPr/>
          </p:nvSpPr>
          <p:spPr>
            <a:xfrm>
              <a:off x="2560680" y="457200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0680" y="4717800"/>
              <a:ext cx="159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6440" y="456552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298600" y="3646440"/>
            <a:ext cx="322200" cy="334800"/>
            <a:chOff x="2298600" y="3646440"/>
            <a:chExt cx="322200" cy="334800"/>
          </a:xfrm>
        </p:grpSpPr>
        <p:sp>
          <p:nvSpPr>
            <p:cNvPr id="245" name=""/>
            <p:cNvSpPr/>
            <p:nvPr/>
          </p:nvSpPr>
          <p:spPr>
            <a:xfrm>
              <a:off x="2298600" y="365292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8600" y="3798720"/>
              <a:ext cx="31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0800" y="364644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85880" y="3981600"/>
            <a:ext cx="590400" cy="334800"/>
            <a:chOff x="2585880" y="3981600"/>
            <a:chExt cx="590400" cy="334800"/>
          </a:xfrm>
        </p:grpSpPr>
        <p:sp>
          <p:nvSpPr>
            <p:cNvPr id="249" name=""/>
            <p:cNvSpPr/>
            <p:nvPr/>
          </p:nvSpPr>
          <p:spPr>
            <a:xfrm>
              <a:off x="2585880" y="39880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85880" y="4133880"/>
              <a:ext cx="57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6280" y="39816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494160" y="4195800"/>
            <a:ext cx="590040" cy="334800"/>
            <a:chOff x="3494160" y="4195800"/>
            <a:chExt cx="590040" cy="334800"/>
          </a:xfrm>
        </p:grpSpPr>
        <p:sp>
          <p:nvSpPr>
            <p:cNvPr id="253" name=""/>
            <p:cNvSpPr/>
            <p:nvPr/>
          </p:nvSpPr>
          <p:spPr>
            <a:xfrm>
              <a:off x="3494160" y="42022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94160" y="4348080"/>
              <a:ext cx="57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4200" y="41958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0871-2322-47AF-9433-E6C068492B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992840" y="1879560"/>
            <a:ext cx="1461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x,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  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      x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   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,z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,z 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     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z       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hattering Instances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3 instances cannot be shattered by a singl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76400" y="225432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62120" y="209556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41760" y="2114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68240" y="1865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23760" y="1847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8480" y="2244600"/>
            <a:ext cx="1133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683320" y="1987560"/>
            <a:ext cx="23760" cy="269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341440" y="3198960"/>
            <a:ext cx="1625760" cy="334800"/>
            <a:chOff x="2341440" y="3198960"/>
            <a:chExt cx="1625760" cy="334800"/>
          </a:xfrm>
        </p:grpSpPr>
        <p:sp>
          <p:nvSpPr>
            <p:cNvPr id="267" name=""/>
            <p:cNvSpPr/>
            <p:nvPr/>
          </p:nvSpPr>
          <p:spPr>
            <a:xfrm>
              <a:off x="2341440" y="32054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41440" y="3351240"/>
              <a:ext cx="159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7200" y="3198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079720" y="2279520"/>
            <a:ext cx="322200" cy="334800"/>
            <a:chOff x="2079720" y="2279520"/>
            <a:chExt cx="322200" cy="334800"/>
          </a:xfrm>
        </p:grpSpPr>
        <p:sp>
          <p:nvSpPr>
            <p:cNvPr id="271" name=""/>
            <p:cNvSpPr/>
            <p:nvPr/>
          </p:nvSpPr>
          <p:spPr>
            <a:xfrm>
              <a:off x="2079720" y="228600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79720" y="2431800"/>
              <a:ext cx="31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01920" y="227952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367000" y="2614680"/>
            <a:ext cx="590040" cy="334800"/>
            <a:chOff x="2367000" y="2614680"/>
            <a:chExt cx="590040" cy="334800"/>
          </a:xfrm>
        </p:grpSpPr>
        <p:sp>
          <p:nvSpPr>
            <p:cNvPr id="275" name=""/>
            <p:cNvSpPr/>
            <p:nvPr/>
          </p:nvSpPr>
          <p:spPr>
            <a:xfrm>
              <a:off x="2367000" y="262116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7000" y="2766960"/>
              <a:ext cx="57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57040" y="26146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74920" y="2828880"/>
            <a:ext cx="590400" cy="334800"/>
            <a:chOff x="3274920" y="2828880"/>
            <a:chExt cx="590400" cy="334800"/>
          </a:xfrm>
        </p:grpSpPr>
        <p:sp>
          <p:nvSpPr>
            <p:cNvPr id="279" name=""/>
            <p:cNvSpPr/>
            <p:nvPr/>
          </p:nvSpPr>
          <p:spPr>
            <a:xfrm>
              <a:off x="3274920" y="283536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4920" y="2981160"/>
              <a:ext cx="57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65320" y="2828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587840" y="211932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81360" y="1841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359080" y="3510000"/>
            <a:ext cx="2527920" cy="334800"/>
            <a:chOff x="2359080" y="3510000"/>
            <a:chExt cx="2527920" cy="334800"/>
          </a:xfrm>
        </p:grpSpPr>
        <p:sp>
          <p:nvSpPr>
            <p:cNvPr id="285" name=""/>
            <p:cNvSpPr/>
            <p:nvPr/>
          </p:nvSpPr>
          <p:spPr>
            <a:xfrm>
              <a:off x="2359080" y="35164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9080" y="3662280"/>
              <a:ext cx="248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87000" y="35100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73480" y="3790800"/>
            <a:ext cx="1662120" cy="334800"/>
            <a:chOff x="3273480" y="3790800"/>
            <a:chExt cx="1662120" cy="334800"/>
          </a:xfrm>
        </p:grpSpPr>
        <p:sp>
          <p:nvSpPr>
            <p:cNvPr id="289" name=""/>
            <p:cNvSpPr/>
            <p:nvPr/>
          </p:nvSpPr>
          <p:spPr>
            <a:xfrm>
              <a:off x="3273480" y="37972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3480" y="3943080"/>
              <a:ext cx="163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5600" y="37908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341960" y="4065480"/>
            <a:ext cx="626400" cy="334800"/>
            <a:chOff x="4341960" y="4065480"/>
            <a:chExt cx="626400" cy="334800"/>
          </a:xfrm>
        </p:grpSpPr>
        <p:sp>
          <p:nvSpPr>
            <p:cNvPr id="293" name=""/>
            <p:cNvSpPr/>
            <p:nvPr/>
          </p:nvSpPr>
          <p:spPr>
            <a:xfrm>
              <a:off x="4341960" y="407196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1960" y="4217760"/>
              <a:ext cx="61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68360" y="40654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907000" y="434196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not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4800" y="507204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re ar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itio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ances, in orde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hatter instances: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C3A5-EEFD-4579-AFAA-47630EE46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C Dimen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9360" y="1371600"/>
            <a:ext cx="83696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biased hypothesis space shatters the entire instance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be shattered, the more expressive the hypothesis space is, i.e. the less 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pnik-Chervonenkis dimension,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of hypothesis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d over instanc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ze of the largest finite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tter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arbitrarily large finite subs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shattered then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exists at least one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n be shattered then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f no subset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shattered, 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single intervals on the real line, all sets of 2 instances can be shattered, but no set of 3 instances can, s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shatter m instanc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E07A-35B5-45C0-A0DE-953956ADBD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C Dimens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xis-parallel rectangles in the real-plane, i.e. conjunctions of intervals on two real-valued features. Some 4 instances can be shat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49200" y="2381400"/>
            <a:ext cx="708120" cy="631800"/>
            <a:chOff x="1249200" y="2381400"/>
            <a:chExt cx="708120" cy="631800"/>
          </a:xfrm>
        </p:grpSpPr>
        <p:sp>
          <p:nvSpPr>
            <p:cNvPr id="303" name=""/>
            <p:cNvSpPr/>
            <p:nvPr/>
          </p:nvSpPr>
          <p:spPr>
            <a:xfrm flipH="1">
              <a:off x="126180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4920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876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736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7624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1452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96920" y="2381400"/>
            <a:ext cx="708120" cy="631800"/>
            <a:chOff x="1996920" y="2381400"/>
            <a:chExt cx="708120" cy="631800"/>
          </a:xfrm>
        </p:grpSpPr>
        <p:sp>
          <p:nvSpPr>
            <p:cNvPr id="310" name=""/>
            <p:cNvSpPr/>
            <p:nvPr/>
          </p:nvSpPr>
          <p:spPr>
            <a:xfrm flipH="1">
              <a:off x="200952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9692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648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0508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2396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6224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754360" y="2381400"/>
            <a:ext cx="708120" cy="631800"/>
            <a:chOff x="2754360" y="2381400"/>
            <a:chExt cx="708120" cy="631800"/>
          </a:xfrm>
        </p:grpSpPr>
        <p:sp>
          <p:nvSpPr>
            <p:cNvPr id="317" name=""/>
            <p:cNvSpPr/>
            <p:nvPr/>
          </p:nvSpPr>
          <p:spPr>
            <a:xfrm flipH="1">
              <a:off x="276696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5436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3392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252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8140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1968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02080" y="2381400"/>
            <a:ext cx="708120" cy="631800"/>
            <a:chOff x="3502080" y="2381400"/>
            <a:chExt cx="708120" cy="631800"/>
          </a:xfrm>
        </p:grpSpPr>
        <p:sp>
          <p:nvSpPr>
            <p:cNvPr id="324" name=""/>
            <p:cNvSpPr/>
            <p:nvPr/>
          </p:nvSpPr>
          <p:spPr>
            <a:xfrm flipH="1">
              <a:off x="351468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208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64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1024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912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6740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280040" y="2381400"/>
            <a:ext cx="707760" cy="631800"/>
            <a:chOff x="4280040" y="2381400"/>
            <a:chExt cx="707760" cy="631800"/>
          </a:xfrm>
        </p:grpSpPr>
        <p:sp>
          <p:nvSpPr>
            <p:cNvPr id="331" name=""/>
            <p:cNvSpPr/>
            <p:nvPr/>
          </p:nvSpPr>
          <p:spPr>
            <a:xfrm flipH="1">
              <a:off x="4291920" y="23814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0040" y="30099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9240" y="26625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87840" y="28339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6720" y="26290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5000" y="24768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027760" y="2381400"/>
            <a:ext cx="707760" cy="631800"/>
            <a:chOff x="5027760" y="2381400"/>
            <a:chExt cx="707760" cy="631800"/>
          </a:xfrm>
        </p:grpSpPr>
        <p:sp>
          <p:nvSpPr>
            <p:cNvPr id="338" name=""/>
            <p:cNvSpPr/>
            <p:nvPr/>
          </p:nvSpPr>
          <p:spPr>
            <a:xfrm flipH="1">
              <a:off x="5039640" y="23814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7760" y="30099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6960" y="26625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560" y="28339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4440" y="26290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92720" y="24768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84840" y="2381400"/>
            <a:ext cx="708120" cy="631800"/>
            <a:chOff x="5784840" y="2381400"/>
            <a:chExt cx="708120" cy="631800"/>
          </a:xfrm>
        </p:grpSpPr>
        <p:sp>
          <p:nvSpPr>
            <p:cNvPr id="345" name=""/>
            <p:cNvSpPr/>
            <p:nvPr/>
          </p:nvSpPr>
          <p:spPr>
            <a:xfrm flipH="1">
              <a:off x="579744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8484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440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300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1188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5016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532560" y="2381400"/>
            <a:ext cx="708120" cy="631800"/>
            <a:chOff x="6532560" y="2381400"/>
            <a:chExt cx="708120" cy="631800"/>
          </a:xfrm>
        </p:grpSpPr>
        <p:sp>
          <p:nvSpPr>
            <p:cNvPr id="352" name=""/>
            <p:cNvSpPr/>
            <p:nvPr/>
          </p:nvSpPr>
          <p:spPr>
            <a:xfrm flipH="1">
              <a:off x="6545160" y="23814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32560" y="30099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12120" y="26625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0720" y="28339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59600" y="26290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97880" y="247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233360" y="3240000"/>
            <a:ext cx="708120" cy="631800"/>
            <a:chOff x="1233360" y="3240000"/>
            <a:chExt cx="708120" cy="631800"/>
          </a:xfrm>
        </p:grpSpPr>
        <p:sp>
          <p:nvSpPr>
            <p:cNvPr id="359" name=""/>
            <p:cNvSpPr/>
            <p:nvPr/>
          </p:nvSpPr>
          <p:spPr>
            <a:xfrm flipH="1">
              <a:off x="124596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3336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292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152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6040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9868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981080" y="3240000"/>
            <a:ext cx="708120" cy="631800"/>
            <a:chOff x="1981080" y="3240000"/>
            <a:chExt cx="708120" cy="631800"/>
          </a:xfrm>
        </p:grpSpPr>
        <p:sp>
          <p:nvSpPr>
            <p:cNvPr id="366" name=""/>
            <p:cNvSpPr/>
            <p:nvPr/>
          </p:nvSpPr>
          <p:spPr>
            <a:xfrm flipH="1">
              <a:off x="199368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6064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8924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0812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4640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738520" y="3240000"/>
            <a:ext cx="708120" cy="631800"/>
            <a:chOff x="2738520" y="3240000"/>
            <a:chExt cx="708120" cy="631800"/>
          </a:xfrm>
        </p:grpSpPr>
        <p:sp>
          <p:nvSpPr>
            <p:cNvPr id="373" name=""/>
            <p:cNvSpPr/>
            <p:nvPr/>
          </p:nvSpPr>
          <p:spPr>
            <a:xfrm flipH="1">
              <a:off x="275112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3852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1808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668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6556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0384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86240" y="3240000"/>
            <a:ext cx="707760" cy="631800"/>
            <a:chOff x="3486240" y="3240000"/>
            <a:chExt cx="707760" cy="631800"/>
          </a:xfrm>
        </p:grpSpPr>
        <p:sp>
          <p:nvSpPr>
            <p:cNvPr id="380" name=""/>
            <p:cNvSpPr/>
            <p:nvPr/>
          </p:nvSpPr>
          <p:spPr>
            <a:xfrm flipH="1">
              <a:off x="3498120" y="32400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240" y="38685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65440" y="35211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94040" y="36925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12920" y="34876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51200" y="33354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264200" y="3240000"/>
            <a:ext cx="707760" cy="631800"/>
            <a:chOff x="4264200" y="3240000"/>
            <a:chExt cx="707760" cy="631800"/>
          </a:xfrm>
        </p:grpSpPr>
        <p:sp>
          <p:nvSpPr>
            <p:cNvPr id="387" name=""/>
            <p:cNvSpPr/>
            <p:nvPr/>
          </p:nvSpPr>
          <p:spPr>
            <a:xfrm flipH="1">
              <a:off x="4276080" y="3240000"/>
              <a:ext cx="468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64200" y="38685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352116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369252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90880" y="348768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9160" y="3335400"/>
              <a:ext cx="550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011560" y="3240000"/>
            <a:ext cx="708120" cy="631800"/>
            <a:chOff x="5011560" y="3240000"/>
            <a:chExt cx="708120" cy="631800"/>
          </a:xfrm>
        </p:grpSpPr>
        <p:sp>
          <p:nvSpPr>
            <p:cNvPr id="394" name=""/>
            <p:cNvSpPr/>
            <p:nvPr/>
          </p:nvSpPr>
          <p:spPr>
            <a:xfrm flipH="1">
              <a:off x="502416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156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9112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1972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3860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7688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769000" y="3240000"/>
            <a:ext cx="708120" cy="631800"/>
            <a:chOff x="5769000" y="3240000"/>
            <a:chExt cx="708120" cy="631800"/>
          </a:xfrm>
        </p:grpSpPr>
        <p:sp>
          <p:nvSpPr>
            <p:cNvPr id="401" name=""/>
            <p:cNvSpPr/>
            <p:nvPr/>
          </p:nvSpPr>
          <p:spPr>
            <a:xfrm flipH="1">
              <a:off x="578160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6900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4856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7716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9604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3432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16720" y="3240000"/>
            <a:ext cx="708120" cy="631800"/>
            <a:chOff x="6516720" y="3240000"/>
            <a:chExt cx="708120" cy="631800"/>
          </a:xfrm>
        </p:grpSpPr>
        <p:sp>
          <p:nvSpPr>
            <p:cNvPr id="408" name=""/>
            <p:cNvSpPr/>
            <p:nvPr/>
          </p:nvSpPr>
          <p:spPr>
            <a:xfrm flipH="1">
              <a:off x="6529320" y="3240000"/>
              <a:ext cx="504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6720" y="3868560"/>
              <a:ext cx="70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96280" y="352116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880" y="369252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43760" y="3487680"/>
              <a:ext cx="55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2040" y="3335400"/>
              <a:ext cx="5544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281240" y="2581200"/>
            <a:ext cx="147600" cy="2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14720" y="2400480"/>
            <a:ext cx="147600" cy="1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19480" y="2552760"/>
            <a:ext cx="147600" cy="1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57680" y="2766960"/>
            <a:ext cx="147600" cy="2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19640" y="243360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263376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240516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96080" y="2604960"/>
            <a:ext cx="35712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6200" y="3443400"/>
            <a:ext cx="581040" cy="18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0600" y="3271680"/>
            <a:ext cx="219240" cy="54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00440" y="3295800"/>
            <a:ext cx="36648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29080" y="3300480"/>
            <a:ext cx="63324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00560" y="3457440"/>
            <a:ext cx="609480" cy="31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14960" y="3267000"/>
            <a:ext cx="399960" cy="52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10200" y="3476520"/>
            <a:ext cx="176400" cy="14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76840" y="3286080"/>
            <a:ext cx="581040" cy="50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7520" y="43308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4 instances cannot be shatte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49400" y="4995720"/>
            <a:ext cx="1158480" cy="876240"/>
            <a:chOff x="1949400" y="4995720"/>
            <a:chExt cx="1158480" cy="876240"/>
          </a:xfrm>
        </p:grpSpPr>
        <p:sp>
          <p:nvSpPr>
            <p:cNvPr id="432" name=""/>
            <p:cNvSpPr/>
            <p:nvPr/>
          </p:nvSpPr>
          <p:spPr>
            <a:xfrm flipH="1">
              <a:off x="1969920" y="4995720"/>
              <a:ext cx="792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9400" y="5868000"/>
              <a:ext cx="115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38720" y="5352480"/>
              <a:ext cx="9036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53400" y="5623200"/>
              <a:ext cx="9036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1600" y="5339160"/>
              <a:ext cx="9108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83200" y="5127840"/>
              <a:ext cx="90360" cy="70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36040" y="5108040"/>
              <a:ext cx="584280" cy="60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821A-AC48-41E2-A3BC-7103151E74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ypes of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ing in the li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s the learner guaranteed to converge to the correct hypothesis in the limit as the number of training examples increases indefini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many training examples are needed for a learner to construct (with high probability) a highly accurate concep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ational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much computational resources (time and space) are needed for a learner to construct (with high probability) a highly accurate concep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igh sample complexity implies high computational complexity, since learner at least needs to read the input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stake B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earning incrementally, how many training examples will the learner misclassify before constructing a highly accurate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F8AA-C6D5-431C-893E-D66AAF3FC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C Dimension Example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ve instances can be shattered since there can be at most 4 distinct extreme points (min and max on each of the 2 dimensions) and these 4 cannot be included without including any possibl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s to axis-parallel hyper-rectangles (conjunctions of interval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s):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61640" y="2984400"/>
            <a:ext cx="9720" cy="1033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40040" y="4013280"/>
            <a:ext cx="12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82960" y="3444840"/>
            <a:ext cx="982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92280" y="3724200"/>
            <a:ext cx="9864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84320" y="3389400"/>
            <a:ext cx="9864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14520" y="3139920"/>
            <a:ext cx="1000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49440" y="3400560"/>
            <a:ext cx="9864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71800" y="3133800"/>
            <a:ext cx="903240" cy="68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9686-0601-40F6-85D8-ECB590E7C1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Upper Bound on Sample Complexity with VC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VC dimension as a measure of expressiveness, the following number of examples have been shown to be sufficient for PAC Learning (Blum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198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the previous result using ln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, this bound has some extra constants and an extra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actor. Si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, this can provide a tighter upper bound on the number of examples needed for PAC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08400" y="2554200"/>
                <a:ext cx="44877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F5E7-CFD7-4DE7-96C5-5946123170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njunctive Learning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ith Continuous Featur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learning axis-parallel hyper-rectangles, conjunctions on interval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inuou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lengt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10.5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2.4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weigh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≤ 5.7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mplexit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most-specific conjunctive algorithm can easily find the tightest interval along each dimension that covers all of the positive instanc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runs in linear time, O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-parallel hyper-rectangles are PAC lear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401920" y="2979720"/>
                <a:ext cx="3500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D928-7D16-4BCF-BDA4-AB8EB49E04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ple Complexity Lower Bound with VC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93480" y="1371240"/>
            <a:ext cx="8321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lso a general lower bound on the minimum number of examples necessary for PAC learning (Ehrenfeuch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198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y concept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2 any learn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/8, 0&l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/100. Then there exists a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arget concep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serves fewer th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, then with probability at leas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s a hypothesis having error greater tha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ing constant factors, this lower bound is the same as the upper bound except for the extra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actor in the upper b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843200" y="3498840"/>
                <a:ext cx="3333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ε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E2DD-41F0-48B7-B4AD-D88D7A18AB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alyzing a Preference Bia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9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how to apply previous results to an algorithm with a preference bias such as simplest decisions tree or simplest D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ze of the correct concep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algorithm is guaranteed to return the minimum sized hypothesis consistent with the training data, then the algorithm will always return a hypothesis of size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effective hypothesis space is all hypotheses of size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or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hypotheses of size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sample complex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82720" y="3876840"/>
            <a:ext cx="3218040" cy="80460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88080" y="4168800"/>
            <a:ext cx="98280" cy="84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19760" y="4049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94400" y="4011480"/>
            <a:ext cx="547560" cy="511200"/>
          </a:xfrm>
          <a:prstGeom prst="ellipse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79520" y="362268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ll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668920" y="3925800"/>
            <a:ext cx="34128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4013280"/>
            <a:ext cx="171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Hypothes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ze at most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05240" y="4243320"/>
            <a:ext cx="90360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23A1-8977-443D-8EC9-694EA2227E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mputational Complexity and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Preference Bia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9840" y="13716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finding a minimum size hypothesis for most languages is computationally intrac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has an approximation algorithm that can bound the size of the constructed hypothesis to some polynomial funct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f the minimum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can use this to define the effective hypothesis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no worst case approximation bounds are known for practical learning algorithms (e.g. ID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0160" y="3584520"/>
            <a:ext cx="3218040" cy="80496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37200" y="3757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11480" y="3719520"/>
            <a:ext cx="547920" cy="511200"/>
          </a:xfrm>
          <a:prstGeom prst="ellipse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96960" y="333072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ll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986360" y="3633840"/>
            <a:ext cx="34128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29440" y="3720960"/>
            <a:ext cx="171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Hypothes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ze at most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22680" y="3951360"/>
            <a:ext cx="90324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41880" y="3876840"/>
            <a:ext cx="98280" cy="83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14840" y="3701880"/>
            <a:ext cx="1063440" cy="54324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71720" y="4341960"/>
            <a:ext cx="21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ypotheses of si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 most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57680" y="4133880"/>
            <a:ext cx="12240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D6EC-F8C3-4964-9A61-B4C6CAE70F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ccam’s Razor” Result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Blumer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et al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., 1987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a concept can be represented using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in some representation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raining set, assume the learner returns the consistent hypothesis representable with the least number of bits in this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the effective hypothesis space is all concepts representable wi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code for at most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otheses, |H|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sample complexity if bound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sult can be extended to approximation algorithms that can bound the size of the constructed hypothesis to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some fixed cons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ust repla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673360" y="4565520"/>
                <a:ext cx="369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B8E8-6DB8-46D3-BD92-DC56E6E2DB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terpretation of “Occam’s Razor” Resul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encoding is unconstrained it fails to provide any meaningful definition of “simplici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s space could be any sufficiently small space, such as “the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lex boolean functions, where the complexity of a function is the size of its smallest DNF represen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at the correct concept (or a close approximation) is actually in the hypothesis space, so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the concept is si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provide a theoretical justification of Occam’s Razor as it is normally interpr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B164-E042-48D2-BA20-0BD0953BFD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T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 framework provides a theoretical framework for analyzing the effectiveness of learning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complexity for any consistent learner using some hypothesis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be determined from a measure of its expressiveness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or V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quantifying bias and relating it to genera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ample complexity is tractable, then the computational complexity of finding a consistent hypothes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verns its PAC learn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factors are more important in sample complexity than in computational complexity, since our ability to gather data is generally not growing exponent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 suggest that theoretical sample complexity bounds over-estimate the number of training instances needed in practice since they are worst-case upper b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2440-03E7-4023-944F-6F24FF5011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LT Conclusions (cont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results produced for analyz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with quer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with noisy dat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erage case sample complexity given assumptions about the data distributio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finite automat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neural network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ing practical algorithms that use a preference bias is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ffective practical algorithms motivated by theoretical 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ost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upport Vector Machines (SVM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E487-0AE1-425B-AF72-7C8ACE9596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in the Limi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continuous stream of examples where the learner predicts whether each one is a member of the concept or not and is then is told the correct answer, does the learner eventually converge to a correct concept and never make a mistak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the number of examples required or computational demands, but must eventually learn the concept exactly, although do not need to explicitly recognize this convergenc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imple enumeration, concepts from any known finite hypothesis space are learnable in the limit, although typically requires an exponential (or doubly exponential) number of examples and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of total recursive (Turing computable) functions is not learnable in the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6415-C289-4158-BBAF-2521580E78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Unlearnabl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the function underlying an ordered sequence of natural number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uessing the next number in the sequence and then being told the correct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y given learning algorith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hat it cannot learn in the lim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7120" y="2746440"/>
            <a:ext cx="55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the learning algorith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Turing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30520" y="3244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084560" y="3220920"/>
            <a:ext cx="500040" cy="412560"/>
            <a:chOff x="4084560" y="3220920"/>
            <a:chExt cx="500040" cy="412560"/>
          </a:xfrm>
        </p:grpSpPr>
        <p:sp>
          <p:nvSpPr>
            <p:cNvPr id="55" name=""/>
            <p:cNvSpPr/>
            <p:nvPr/>
          </p:nvSpPr>
          <p:spPr>
            <a:xfrm>
              <a:off x="4084560" y="3267000"/>
              <a:ext cx="500040" cy="36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74920" y="32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758840" y="3220920"/>
            <a:ext cx="6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3760" y="346248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1080" y="344664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4400" y="3695760"/>
            <a:ext cx="38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a function it cannot lear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160" y="4549680"/>
            <a:ext cx="5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86320" y="4051440"/>
            <a:ext cx="21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,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226120" y="4605480"/>
            <a:ext cx="500040" cy="412560"/>
            <a:chOff x="5226120" y="4605480"/>
            <a:chExt cx="500040" cy="412560"/>
          </a:xfrm>
        </p:grpSpPr>
        <p:sp>
          <p:nvSpPr>
            <p:cNvPr id="64" name=""/>
            <p:cNvSpPr/>
            <p:nvPr/>
          </p:nvSpPr>
          <p:spPr>
            <a:xfrm>
              <a:off x="5226120" y="4651560"/>
              <a:ext cx="500040" cy="36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16480" y="4605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265720" y="5167440"/>
            <a:ext cx="10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62640" y="4402080"/>
            <a:ext cx="12600" cy="23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1720" y="5018040"/>
            <a:ext cx="12600" cy="23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480" y="523224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6160" y="475632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xample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2440" y="555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1520" y="523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1400" y="523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3200" y="555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617840" y="6051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911600" y="60483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8000" y="555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6320" y="523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2219400" y="6053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8000" y="5554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6440" y="5854680"/>
            <a:ext cx="19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4760" y="5232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71880" y="3751200"/>
            <a:ext cx="766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71400" y="5170320"/>
            <a:ext cx="7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38C9-7833-4629-8B94-ADCDF6D0F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ing in the Limit vs.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AC Mod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in the limit model is too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learning correct exact concep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in the limit model is too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ows unlimited data and computational resourc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nly requires learning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obably Approximately Correc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ncept: Learn a decent approximation most of the 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quires polynomial sample complexity and computational complexit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E7C8-2C94-4163-B0C6-EED65F0C64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248520" y="50626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291360" y="2038320"/>
            <a:ext cx="954000" cy="2023560"/>
            <a:chOff x="6291360" y="2038320"/>
            <a:chExt cx="954000" cy="20235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291360" y="2038320"/>
              <a:ext cx="9540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705720" y="3452760"/>
              <a:ext cx="135000" cy="609120"/>
            </a:xfrm>
            <a:prstGeom prst="downArrow">
              <a:avLst>
                <a:gd name="adj1" fmla="val 50000"/>
                <a:gd name="adj2" fmla="val 1128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303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annot Learn Exact Concept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rom Limited Data, Only Approxima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340080" y="3754440"/>
            <a:ext cx="2146320" cy="1036440"/>
            <a:chOff x="3340080" y="3754440"/>
            <a:chExt cx="2146320" cy="1036440"/>
          </a:xfrm>
        </p:grpSpPr>
        <p:sp>
          <p:nvSpPr>
            <p:cNvPr id="93" name=""/>
            <p:cNvSpPr/>
            <p:nvPr/>
          </p:nvSpPr>
          <p:spPr>
            <a:xfrm>
              <a:off x="4023000" y="3754440"/>
              <a:ext cx="1463400" cy="10364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64120" y="40608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0080" y="4206960"/>
              <a:ext cx="682920" cy="133200"/>
            </a:xfrm>
            <a:prstGeom prst="rightArrow">
              <a:avLst>
                <a:gd name="adj1" fmla="val 50000"/>
                <a:gd name="adj2" fmla="val 128176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492880" y="4043880"/>
            <a:ext cx="1828800" cy="398880"/>
            <a:chOff x="5492880" y="4043880"/>
            <a:chExt cx="1828800" cy="398880"/>
          </a:xfrm>
        </p:grpSpPr>
        <p:sp>
          <p:nvSpPr>
            <p:cNvPr id="97" name=""/>
            <p:cNvSpPr/>
            <p:nvPr/>
          </p:nvSpPr>
          <p:spPr>
            <a:xfrm>
              <a:off x="5492880" y="4163760"/>
              <a:ext cx="682560" cy="133560"/>
            </a:xfrm>
            <a:prstGeom prst="rightArrow">
              <a:avLst>
                <a:gd name="adj1" fmla="val 50000"/>
                <a:gd name="adj2" fmla="val 127763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67160" y="4043880"/>
              <a:ext cx="1154520" cy="39888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210360" y="2697120"/>
            <a:ext cx="1009440" cy="1339920"/>
            <a:chOff x="6210360" y="2697120"/>
            <a:chExt cx="1009440" cy="13399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6210360" y="2697120"/>
              <a:ext cx="10094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03920" y="3427200"/>
              <a:ext cx="135000" cy="609840"/>
            </a:xfrm>
            <a:prstGeom prst="downArrow">
              <a:avLst>
                <a:gd name="adj1" fmla="val 50000"/>
                <a:gd name="adj2" fmla="val 112933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4400" y="1660680"/>
            <a:ext cx="2571840" cy="2401560"/>
            <a:chOff x="644400" y="1660680"/>
            <a:chExt cx="2571840" cy="2401560"/>
          </a:xfrm>
        </p:grpSpPr>
        <p:grpSp>
          <p:nvGrpSpPr>
            <p:cNvPr id="103" name=""/>
            <p:cNvGrpSpPr/>
            <p:nvPr/>
          </p:nvGrpSpPr>
          <p:grpSpPr>
            <a:xfrm>
              <a:off x="644400" y="2087640"/>
              <a:ext cx="2571840" cy="1974600"/>
              <a:chOff x="644400" y="2087640"/>
              <a:chExt cx="2571840" cy="19746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040" y="2087640"/>
                <a:ext cx="1152360" cy="95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400" y="3043080"/>
                <a:ext cx="1000080" cy="10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2119320"/>
                <a:ext cx="124776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4360" y="2998800"/>
                <a:ext cx="1361880" cy="93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1468080" y="16606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7960" y="4216320"/>
            <a:ext cx="2673360" cy="2457360"/>
            <a:chOff x="507960" y="4216320"/>
            <a:chExt cx="2673360" cy="2457360"/>
          </a:xfrm>
        </p:grpSpPr>
        <p:sp>
          <p:nvSpPr>
            <p:cNvPr id="110" name=""/>
            <p:cNvSpPr/>
            <p:nvPr/>
          </p:nvSpPr>
          <p:spPr>
            <a:xfrm>
              <a:off x="1390680" y="42163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738360" y="4765680"/>
              <a:ext cx="105696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1917720" y="4624560"/>
              <a:ext cx="12384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9"/>
            <a:stretch/>
          </p:blipFill>
          <p:spPr>
            <a:xfrm>
              <a:off x="507960" y="5557680"/>
              <a:ext cx="11811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0"/>
            <a:stretch/>
          </p:blipFill>
          <p:spPr>
            <a:xfrm>
              <a:off x="1819440" y="5654520"/>
              <a:ext cx="136188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684840" y="4456080"/>
            <a:ext cx="135000" cy="609480"/>
          </a:xfrm>
          <a:prstGeom prst="downArrow">
            <a:avLst>
              <a:gd name="adj1" fmla="val 50000"/>
              <a:gd name="adj2" fmla="val 112867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50608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32680" y="5707080"/>
            <a:ext cx="99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ght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37200" y="5603760"/>
            <a:ext cx="1362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ong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009F-D9F0-47F1-8A8C-4C17F2360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8240" y="303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annot Learn Even Approximate Concepts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rom Pathological Training Set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40080" y="3754440"/>
            <a:ext cx="2146320" cy="1036440"/>
            <a:chOff x="3340080" y="3754440"/>
            <a:chExt cx="2146320" cy="1036440"/>
          </a:xfrm>
        </p:grpSpPr>
        <p:sp>
          <p:nvSpPr>
            <p:cNvPr id="121" name=""/>
            <p:cNvSpPr/>
            <p:nvPr/>
          </p:nvSpPr>
          <p:spPr>
            <a:xfrm>
              <a:off x="4023000" y="3754440"/>
              <a:ext cx="1463400" cy="10364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64120" y="40608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0080" y="4206960"/>
              <a:ext cx="682920" cy="133200"/>
            </a:xfrm>
            <a:prstGeom prst="rightArrow">
              <a:avLst>
                <a:gd name="adj1" fmla="val 50000"/>
                <a:gd name="adj2" fmla="val 128176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492880" y="4043880"/>
            <a:ext cx="1828800" cy="398880"/>
            <a:chOff x="5492880" y="4043880"/>
            <a:chExt cx="1828800" cy="398880"/>
          </a:xfrm>
        </p:grpSpPr>
        <p:sp>
          <p:nvSpPr>
            <p:cNvPr id="125" name=""/>
            <p:cNvSpPr/>
            <p:nvPr/>
          </p:nvSpPr>
          <p:spPr>
            <a:xfrm>
              <a:off x="5492880" y="4163760"/>
              <a:ext cx="682560" cy="133560"/>
            </a:xfrm>
            <a:prstGeom prst="rightArrow">
              <a:avLst>
                <a:gd name="adj1" fmla="val 50000"/>
                <a:gd name="adj2" fmla="val 127763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7160" y="4043880"/>
              <a:ext cx="1154520" cy="39888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7960" y="4216320"/>
            <a:ext cx="2673360" cy="2457360"/>
            <a:chOff x="507960" y="4216320"/>
            <a:chExt cx="2673360" cy="2457360"/>
          </a:xfrm>
        </p:grpSpPr>
        <p:sp>
          <p:nvSpPr>
            <p:cNvPr id="128" name=""/>
            <p:cNvSpPr/>
            <p:nvPr/>
          </p:nvSpPr>
          <p:spPr>
            <a:xfrm>
              <a:off x="1390680" y="42163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38360" y="4765680"/>
              <a:ext cx="105696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917720" y="4624560"/>
              <a:ext cx="12384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07960" y="5557680"/>
              <a:ext cx="11811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1819440" y="5654520"/>
              <a:ext cx="136188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1079640" y="1514520"/>
            <a:ext cx="1552320" cy="2759040"/>
            <a:chOff x="1079640" y="1514520"/>
            <a:chExt cx="1552320" cy="2759040"/>
          </a:xfrm>
        </p:grpSpPr>
        <p:sp>
          <p:nvSpPr>
            <p:cNvPr id="134" name=""/>
            <p:cNvSpPr/>
            <p:nvPr/>
          </p:nvSpPr>
          <p:spPr>
            <a:xfrm>
              <a:off x="1493640" y="151452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1096920" y="2039760"/>
              <a:ext cx="7477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1079640" y="3151080"/>
              <a:ext cx="7477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1878120" y="2001960"/>
              <a:ext cx="74772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1884240" y="3129120"/>
              <a:ext cx="747720" cy="112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216480" y="2446200"/>
            <a:ext cx="1000440" cy="1019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72240" y="3395520"/>
            <a:ext cx="135000" cy="609840"/>
          </a:xfrm>
          <a:prstGeom prst="downArrow">
            <a:avLst>
              <a:gd name="adj1" fmla="val 50000"/>
              <a:gd name="adj2" fmla="val 11293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53160" y="4451400"/>
            <a:ext cx="135000" cy="609480"/>
          </a:xfrm>
          <a:prstGeom prst="downArrow">
            <a:avLst>
              <a:gd name="adj1" fmla="val 50000"/>
              <a:gd name="adj2" fmla="val 112867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23320" y="50608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0880" y="505476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89840" y="5756400"/>
            <a:ext cx="1361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ong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6022800" y="2239920"/>
            <a:ext cx="1390680" cy="11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EF02-4012-4850-8EF2-20E10937E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C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reasonable expectation of a learner is that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igh prob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learn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ose approxi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target conc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 model, we specify two small parameters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require that with probability at least (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system learn a concept with error at mos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D266-F692-4CAE-BD57-9725D8247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7-10-22T18:10:41Z</dcterms:modified>
  <cp:revision>422</cp:revision>
  <dc:subject/>
  <dc:title>Intelligent Information Retrieval and Web Search</dc:title>
</cp:coreProperties>
</file>