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10BF-6DD2-4AC4-AB3B-61CD1F67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66CE-D25D-450C-8820-0CA2DDB6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7B7A-D97D-4ED4-88A0-E574C022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9E7B-E149-43AC-983B-E5D3665E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A762-EF9A-4FD3-8E9D-038BC918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1DB4-4847-4475-BCA4-B0109418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57C3-499E-4E47-A816-AEACC329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B6A1-7FF8-4104-A7D9-A28866E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3100-5C2F-4C5D-828C-64F6F227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6145-8A0A-4705-9257-098D534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AAD8-5BFC-433C-8C86-C9405D3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6CCD-DE4A-48AB-A8DB-AB7B9C9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5AAE-2F0C-4A86-8DD5-29E180B5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ecision Tre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9B93-7E24-4747-A87F-74851B0023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ormation Gai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4640" y="129852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formation gain of a feat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expected reduction in entropy resulting from splitting on this fe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ubse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ing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feat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of each resulting subset weighted by its relative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&lt;big, red, circle&gt;: +          &lt;small, red, circle&gt;: +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&lt;small, red, square&gt;: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 &lt;big, blue, circle&gt;: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065320" y="2071800"/>
                <a:ext cx="4614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alue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26520" y="4532400"/>
            <a:ext cx="2769840" cy="2101680"/>
            <a:chOff x="326520" y="4532400"/>
            <a:chExt cx="2769840" cy="2101680"/>
          </a:xfrm>
        </p:grpSpPr>
        <p:sp>
          <p:nvSpPr>
            <p:cNvPr id="174" name=""/>
            <p:cNvSpPr/>
            <p:nvPr/>
          </p:nvSpPr>
          <p:spPr>
            <a:xfrm>
              <a:off x="1058400" y="4532400"/>
              <a:ext cx="129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 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2480" y="5449680"/>
              <a:ext cx="154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g          sm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1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=1       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176480" y="5095800"/>
              <a:ext cx="40320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73200" y="5102280"/>
              <a:ext cx="41292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6520" y="6265800"/>
              <a:ext cx="276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ain=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0.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+ 0.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)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31360" y="4483080"/>
            <a:ext cx="2533680" cy="2376000"/>
            <a:chOff x="3231360" y="4483080"/>
            <a:chExt cx="2533680" cy="2376000"/>
          </a:xfrm>
        </p:grpSpPr>
        <p:sp>
          <p:nvSpPr>
            <p:cNvPr id="180" name=""/>
            <p:cNvSpPr/>
            <p:nvPr/>
          </p:nvSpPr>
          <p:spPr>
            <a:xfrm>
              <a:off x="3953520" y="4483080"/>
              <a:ext cx="13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 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: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60560" y="5400360"/>
              <a:ext cx="152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          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0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=0.918   E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071600" y="5046480"/>
              <a:ext cx="40284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68680" y="5052960"/>
              <a:ext cx="41256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31360" y="6216480"/>
              <a:ext cx="25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ain=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0.7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918 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) = 0.3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90480" y="4462560"/>
            <a:ext cx="2533680" cy="2396520"/>
            <a:chOff x="6090480" y="4462560"/>
            <a:chExt cx="2533680" cy="2396520"/>
          </a:xfrm>
        </p:grpSpPr>
        <p:sp>
          <p:nvSpPr>
            <p:cNvPr id="186" name=""/>
            <p:cNvSpPr/>
            <p:nvPr/>
          </p:nvSpPr>
          <p:spPr>
            <a:xfrm>
              <a:off x="6812640" y="4462560"/>
              <a:ext cx="1358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 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E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04920" y="5400360"/>
              <a:ext cx="163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      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0+,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=0.918   E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30720" y="5046480"/>
              <a:ext cx="402840" cy="46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27800" y="5052960"/>
              <a:ext cx="412560" cy="45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0480" y="6216480"/>
              <a:ext cx="25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ain=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0.7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918 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) = 0.3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62F2-C4BD-4C8F-B080-8CE43F93A2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ypothesis Space 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ear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processes all training instances at once rather tha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cremental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updates a hypothesis after each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s hill-climbing (greedy search) that may only find a locally-optimal solution. Guaranteed to find a tree consistent with any conflict-free training set (i.e. identical feature vectors always assigned the same class), but not necessarily the simplest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s a single discrete hypothesis, so there is no way to provide confidences or create useful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8D47-55D1-42C3-8339-F71B5EAEAD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ias in Decision-Tree In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-gain gives a bias for trees with minimal dep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s a search (preference) bias instead of a language (restriction) b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6122-0707-4FB2-9F61-0364D07AD6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Decision-Tree Research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 and colleagues use exhaustive search decision-tree methods (CLS) to model human concept learning in the 1960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e 70’s, Quinlan developed ID3 with the information gain heuristic to learn expert systems from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aneously, Breiman and Friedman and colleagues develop CART (Classification and Regression Trees), similar to ID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980’s a variety of improvements are introduced to handle noise, continuous features, missing features, and improved splitting criteria. Various expert-system development tool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lan’s updated decision-tree package (C4.5) released in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ka includes Java version of C4.5 called J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289E-EB2C-4306-B5B3-4CE2DF633F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ka J48 Trace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4640" y="1525680"/>
            <a:ext cx="678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&gt; java weka.classifiers.trees.J48 -t figure.arff -T figure.arff -U -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s: -U -M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48 unpruned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= blu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=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shape = circle: positive (2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shape = squar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shape = triangle: positive (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= green: positive (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Leaves  :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the tree :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build model: 0.03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test model on training data: 0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7375-4B0D-4A1B-8F93-0963447A2D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ka J48 Trace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2800" y="1476360"/>
            <a:ext cx="700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&gt; java weka.classifiers.trees.J48 -t figure3.arff -T figure3.arff -U -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s: -U -M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48 unpruned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 =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color = blu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color = red: positive (2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  color = green: posi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 = square: positive (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 = triangle: negative (1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Leaves  :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the tree :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build model: 0.02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aken to test model on training data: 0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60A3-37E5-41FD-AC44-3AEBFE2E45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eka J48 Trace 3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960" y="1503360"/>
            <a:ext cx="3771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&gt; java weka.classifiers.trees.J48 -t contact-lenses.arf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48 prune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-prod-rate = reduced: none (12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-prod-rate =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astigmatism = no: soft (6.0/1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astigmatism = 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|   spectacle-prescrip = myope: hard (3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   |   spectacle-prescrip = hypermetrope: none (3.0/1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eaves  :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tree :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aken to build model: 0.03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aken to test model on training data: 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Error on training data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Classified Instances          22               91.666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ly Classified Instances         2                8.333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pa statistic                          0.84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absolute error                      0.0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ean squared error                  0.20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bsolute error                 22.625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relative squared error             48.122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Instances               24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4360" y="1428840"/>
            <a:ext cx="3771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Confusion Matrix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b  c   &lt;-- classifi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 0  0 |  a = 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3  1 |  b =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0 14 |  c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Stratified cross-validation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Classified Instances          20               83.333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ly Classified Instances         4               16.666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pa statistic                          0.7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absolute error                      0.1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mean squared error                  0.32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bsolute error                 39.705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relative squared error             74.389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Instances               24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 Confusion Matrix 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b  c   &lt;-- classifi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 0  0 |  a = 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3  1 |  b =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2 12 |  c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EB2D-C977-425A-8423-6BDB646222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t case builds a complete tree where every path test every feature. 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leve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tree, must examine the rem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for each instance at the level to calculate info g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learned tree is rarely complete (number of leaves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practice, complexity is linear in both number of featur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number of training exampl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412720" y="2073240"/>
            <a:ext cx="695520" cy="447840"/>
            <a:chOff x="2412720" y="2073240"/>
            <a:chExt cx="695520" cy="447840"/>
          </a:xfrm>
        </p:grpSpPr>
        <p:sp>
          <p:nvSpPr>
            <p:cNvPr id="207" name=""/>
            <p:cNvSpPr/>
            <p:nvPr/>
          </p:nvSpPr>
          <p:spPr>
            <a:xfrm>
              <a:off x="2766960" y="2073240"/>
              <a:ext cx="3412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412720" y="2082960"/>
              <a:ext cx="35244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222640" y="2506680"/>
            <a:ext cx="371160" cy="447120"/>
            <a:chOff x="2222640" y="2506680"/>
            <a:chExt cx="371160" cy="447120"/>
          </a:xfrm>
        </p:grpSpPr>
        <p:sp>
          <p:nvSpPr>
            <p:cNvPr id="210" name=""/>
            <p:cNvSpPr/>
            <p:nvPr/>
          </p:nvSpPr>
          <p:spPr>
            <a:xfrm>
              <a:off x="2411640" y="2506680"/>
              <a:ext cx="1821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222640" y="2516040"/>
              <a:ext cx="1879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912760" y="2468520"/>
            <a:ext cx="371520" cy="447840"/>
            <a:chOff x="2912760" y="2468520"/>
            <a:chExt cx="371520" cy="447840"/>
          </a:xfrm>
        </p:grpSpPr>
        <p:sp>
          <p:nvSpPr>
            <p:cNvPr id="213" name=""/>
            <p:cNvSpPr/>
            <p:nvPr/>
          </p:nvSpPr>
          <p:spPr>
            <a:xfrm>
              <a:off x="3102120" y="2468520"/>
              <a:ext cx="18216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912760" y="2478240"/>
              <a:ext cx="18828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074680" y="2949480"/>
            <a:ext cx="281160" cy="447840"/>
            <a:chOff x="2074680" y="2949480"/>
            <a:chExt cx="281160" cy="447840"/>
          </a:xfrm>
        </p:grpSpPr>
        <p:sp>
          <p:nvSpPr>
            <p:cNvPr id="216" name=""/>
            <p:cNvSpPr/>
            <p:nvPr/>
          </p:nvSpPr>
          <p:spPr>
            <a:xfrm>
              <a:off x="2217960" y="2949480"/>
              <a:ext cx="1378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074680" y="2959200"/>
              <a:ext cx="1422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446200" y="2901960"/>
            <a:ext cx="280800" cy="447840"/>
            <a:chOff x="2446200" y="2901960"/>
            <a:chExt cx="280800" cy="447840"/>
          </a:xfrm>
        </p:grpSpPr>
        <p:sp>
          <p:nvSpPr>
            <p:cNvPr id="219" name=""/>
            <p:cNvSpPr/>
            <p:nvPr/>
          </p:nvSpPr>
          <p:spPr>
            <a:xfrm>
              <a:off x="2589120" y="2901960"/>
              <a:ext cx="1378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46200" y="2911680"/>
              <a:ext cx="142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69840" y="2916360"/>
            <a:ext cx="281160" cy="447120"/>
            <a:chOff x="2769840" y="2916360"/>
            <a:chExt cx="281160" cy="447120"/>
          </a:xfrm>
        </p:grpSpPr>
        <p:sp>
          <p:nvSpPr>
            <p:cNvPr id="222" name=""/>
            <p:cNvSpPr/>
            <p:nvPr/>
          </p:nvSpPr>
          <p:spPr>
            <a:xfrm>
              <a:off x="2913120" y="2916360"/>
              <a:ext cx="13788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769840" y="2925720"/>
              <a:ext cx="14220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132000" y="2859120"/>
            <a:ext cx="280800" cy="447120"/>
            <a:chOff x="3132000" y="2859120"/>
            <a:chExt cx="280800" cy="447120"/>
          </a:xfrm>
        </p:grpSpPr>
        <p:sp>
          <p:nvSpPr>
            <p:cNvPr id="225" name=""/>
            <p:cNvSpPr/>
            <p:nvPr/>
          </p:nvSpPr>
          <p:spPr>
            <a:xfrm>
              <a:off x="3274920" y="2859120"/>
              <a:ext cx="13788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132000" y="2868480"/>
              <a:ext cx="14256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910600" y="189540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1600" y="2719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6960" y="183204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18600" y="195120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99600" y="205596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42440" y="218448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13720" y="232236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97400" y="2257560"/>
            <a:ext cx="41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amples spread a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odes at each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75000" y="4226040"/>
                <a:ext cx="215424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FBDD-A1FB-4C81-9145-40BBF587B5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7720" y="1371600"/>
            <a:ext cx="81648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 tree that classifies the training data perfectly may not lead to the tree with the best generalization to unse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re may be noise in the training data that the tree is erroneously fitting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algorithm may be making poor decisions towards the leaves of the tree that are based on very little data and may not reflect reliable trend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ypothesi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said to overfit the training data is there exists another hypothesis which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less error th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on the training data but greater error on independent test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93880" y="473076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82720" y="641340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32080" y="63658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is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896120" y="53895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693880" y="4708440"/>
            <a:ext cx="5356080" cy="1278000"/>
            <a:chOff x="2693880" y="4708440"/>
            <a:chExt cx="5356080" cy="1278000"/>
          </a:xfrm>
        </p:grpSpPr>
        <p:sp>
          <p:nvSpPr>
            <p:cNvPr id="243" name=""/>
            <p:cNvSpPr/>
            <p:nvPr/>
          </p:nvSpPr>
          <p:spPr>
            <a:xfrm>
              <a:off x="2693880" y="4956120"/>
              <a:ext cx="3584520" cy="1030320"/>
            </a:xfrm>
            <a:custGeom>
              <a:avLst/>
              <a:gdLst/>
              <a:ahLst/>
              <a:rect l="l" t="t" r="r" b="b"/>
              <a:pathLst>
                <a:path w="2258" h="649">
                  <a:moveTo>
                    <a:pt x="0" y="649"/>
                  </a:moveTo>
                  <a:cubicBezTo>
                    <a:pt x="98" y="561"/>
                    <a:pt x="197" y="473"/>
                    <a:pt x="292" y="403"/>
                  </a:cubicBezTo>
                  <a:cubicBezTo>
                    <a:pt x="387" y="333"/>
                    <a:pt x="472" y="281"/>
                    <a:pt x="569" y="226"/>
                  </a:cubicBezTo>
                  <a:cubicBezTo>
                    <a:pt x="666" y="171"/>
                    <a:pt x="763" y="109"/>
                    <a:pt x="876" y="73"/>
                  </a:cubicBezTo>
                  <a:cubicBezTo>
                    <a:pt x="989" y="37"/>
                    <a:pt x="1087" y="22"/>
                    <a:pt x="1244" y="11"/>
                  </a:cubicBezTo>
                  <a:cubicBezTo>
                    <a:pt x="1401" y="0"/>
                    <a:pt x="1651" y="5"/>
                    <a:pt x="1820" y="4"/>
                  </a:cubicBezTo>
                  <a:cubicBezTo>
                    <a:pt x="1989" y="3"/>
                    <a:pt x="2123" y="3"/>
                    <a:pt x="2258" y="4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69040" y="470844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training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93880" y="5114880"/>
            <a:ext cx="4911480" cy="871560"/>
            <a:chOff x="2693880" y="5114880"/>
            <a:chExt cx="4911480" cy="871560"/>
          </a:xfrm>
        </p:grpSpPr>
        <p:sp>
          <p:nvSpPr>
            <p:cNvPr id="246" name=""/>
            <p:cNvSpPr/>
            <p:nvPr/>
          </p:nvSpPr>
          <p:spPr>
            <a:xfrm>
              <a:off x="2693880" y="5114880"/>
              <a:ext cx="3584520" cy="871560"/>
            </a:xfrm>
            <a:custGeom>
              <a:avLst/>
              <a:gdLst/>
              <a:ahLst/>
              <a:rect l="l" t="t" r="r" b="b"/>
              <a:pathLst>
                <a:path w="2258" h="549">
                  <a:moveTo>
                    <a:pt x="0" y="549"/>
                  </a:moveTo>
                  <a:cubicBezTo>
                    <a:pt x="130" y="433"/>
                    <a:pt x="261" y="317"/>
                    <a:pt x="377" y="234"/>
                  </a:cubicBezTo>
                  <a:cubicBezTo>
                    <a:pt x="493" y="151"/>
                    <a:pt x="612" y="88"/>
                    <a:pt x="699" y="50"/>
                  </a:cubicBezTo>
                  <a:cubicBezTo>
                    <a:pt x="786" y="12"/>
                    <a:pt x="829" y="8"/>
                    <a:pt x="899" y="4"/>
                  </a:cubicBezTo>
                  <a:cubicBezTo>
                    <a:pt x="969" y="0"/>
                    <a:pt x="1062" y="16"/>
                    <a:pt x="1122" y="27"/>
                  </a:cubicBezTo>
                  <a:cubicBezTo>
                    <a:pt x="1182" y="38"/>
                    <a:pt x="1173" y="51"/>
                    <a:pt x="1260" y="73"/>
                  </a:cubicBezTo>
                  <a:cubicBezTo>
                    <a:pt x="1347" y="95"/>
                    <a:pt x="1478" y="139"/>
                    <a:pt x="1644" y="157"/>
                  </a:cubicBezTo>
                  <a:cubicBezTo>
                    <a:pt x="1810" y="175"/>
                    <a:pt x="2034" y="177"/>
                    <a:pt x="2258" y="180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4720" y="521496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test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4476-B8D6-458B-AB98-5D7DA342C3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66960" y="190332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66960" y="407340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19560" y="402588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1911960" y="29836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90880" y="13302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sting Ohms Law: V = IR   (I = (1/R)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55800" y="4011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17880" y="3749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35733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178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87720" y="3281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21160" y="3030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62640" y="260820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98880" y="27097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51600" y="22510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02240" y="2305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07200" y="581832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hm was wrong, we have found a more accurate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9200" y="1901880"/>
            <a:ext cx="5895720" cy="3497760"/>
            <a:chOff x="2059200" y="1901880"/>
            <a:chExt cx="5895720" cy="3497760"/>
          </a:xfrm>
        </p:grpSpPr>
        <p:sp>
          <p:nvSpPr>
            <p:cNvPr id="266" name=""/>
            <p:cNvSpPr/>
            <p:nvPr/>
          </p:nvSpPr>
          <p:spPr>
            <a:xfrm>
              <a:off x="2792520" y="1901880"/>
              <a:ext cx="3717720" cy="2157480"/>
            </a:xfrm>
            <a:custGeom>
              <a:avLst/>
              <a:gdLst/>
              <a:ahLst/>
              <a:rect l="l" t="t" r="r" b="b"/>
              <a:pathLst>
                <a:path w="2342" h="1359">
                  <a:moveTo>
                    <a:pt x="0" y="1359"/>
                  </a:moveTo>
                  <a:cubicBezTo>
                    <a:pt x="62" y="1304"/>
                    <a:pt x="125" y="1249"/>
                    <a:pt x="176" y="1183"/>
                  </a:cubicBezTo>
                  <a:cubicBezTo>
                    <a:pt x="227" y="1117"/>
                    <a:pt x="263" y="977"/>
                    <a:pt x="307" y="960"/>
                  </a:cubicBezTo>
                  <a:cubicBezTo>
                    <a:pt x="351" y="943"/>
                    <a:pt x="403" y="1043"/>
                    <a:pt x="437" y="1083"/>
                  </a:cubicBezTo>
                  <a:cubicBezTo>
                    <a:pt x="471" y="1123"/>
                    <a:pt x="482" y="1242"/>
                    <a:pt x="514" y="1198"/>
                  </a:cubicBezTo>
                  <a:cubicBezTo>
                    <a:pt x="546" y="1154"/>
                    <a:pt x="596" y="921"/>
                    <a:pt x="629" y="822"/>
                  </a:cubicBezTo>
                  <a:cubicBezTo>
                    <a:pt x="662" y="723"/>
                    <a:pt x="688" y="592"/>
                    <a:pt x="714" y="607"/>
                  </a:cubicBezTo>
                  <a:cubicBezTo>
                    <a:pt x="740" y="622"/>
                    <a:pt x="741" y="833"/>
                    <a:pt x="783" y="914"/>
                  </a:cubicBezTo>
                  <a:cubicBezTo>
                    <a:pt x="825" y="995"/>
                    <a:pt x="921" y="1120"/>
                    <a:pt x="967" y="1091"/>
                  </a:cubicBezTo>
                  <a:cubicBezTo>
                    <a:pt x="1013" y="1062"/>
                    <a:pt x="1029" y="843"/>
                    <a:pt x="1060" y="737"/>
                  </a:cubicBezTo>
                  <a:cubicBezTo>
                    <a:pt x="1091" y="631"/>
                    <a:pt x="1120" y="535"/>
                    <a:pt x="1152" y="453"/>
                  </a:cubicBezTo>
                  <a:cubicBezTo>
                    <a:pt x="1184" y="371"/>
                    <a:pt x="1218" y="229"/>
                    <a:pt x="1252" y="246"/>
                  </a:cubicBezTo>
                  <a:cubicBezTo>
                    <a:pt x="1286" y="263"/>
                    <a:pt x="1321" y="487"/>
                    <a:pt x="1359" y="553"/>
                  </a:cubicBezTo>
                  <a:cubicBezTo>
                    <a:pt x="1397" y="619"/>
                    <a:pt x="1456" y="699"/>
                    <a:pt x="1482" y="645"/>
                  </a:cubicBezTo>
                  <a:cubicBezTo>
                    <a:pt x="1508" y="591"/>
                    <a:pt x="1482" y="336"/>
                    <a:pt x="1513" y="230"/>
                  </a:cubicBezTo>
                  <a:cubicBezTo>
                    <a:pt x="1544" y="124"/>
                    <a:pt x="1628" y="0"/>
                    <a:pt x="1666" y="8"/>
                  </a:cubicBezTo>
                  <a:cubicBezTo>
                    <a:pt x="1704" y="16"/>
                    <a:pt x="1716" y="170"/>
                    <a:pt x="1743" y="277"/>
                  </a:cubicBezTo>
                  <a:cubicBezTo>
                    <a:pt x="1770" y="384"/>
                    <a:pt x="1728" y="628"/>
                    <a:pt x="1828" y="653"/>
                  </a:cubicBezTo>
                  <a:cubicBezTo>
                    <a:pt x="1928" y="678"/>
                    <a:pt x="2258" y="467"/>
                    <a:pt x="2342" y="430"/>
                  </a:cubicBez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59200" y="4695840"/>
              <a:ext cx="589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ect fit to training data with an 9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egree polynom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can fi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oints exactly with 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 degree polynomi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18240" y="1989000"/>
            <a:ext cx="20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1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440" y="3036960"/>
            <a:ext cx="19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 a curve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DD87-F1D1-49FC-A27F-8DAD81876C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ision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-based classifiers for instances represented as feature-vectors.  Nodes test features, there is one branch for each value of the feature, and leaves specify the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present arbitrary conjunction and disjunction. Can represent any classification function over discrete feature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rewritten as a set of rules, i.e. disjunctive normal form (DN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circl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po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circl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lue → B;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quar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B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reen → C;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triangle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05560" y="2111400"/>
            <a:ext cx="2839680" cy="1890720"/>
            <a:chOff x="1105560" y="2111400"/>
            <a:chExt cx="2839680" cy="1890720"/>
          </a:xfrm>
        </p:grpSpPr>
        <p:grpSp>
          <p:nvGrpSpPr>
            <p:cNvPr id="47" name=""/>
            <p:cNvGrpSpPr/>
            <p:nvPr/>
          </p:nvGrpSpPr>
          <p:grpSpPr>
            <a:xfrm>
              <a:off x="1427040" y="2255760"/>
              <a:ext cx="2288160" cy="1471320"/>
              <a:chOff x="1427040" y="2255760"/>
              <a:chExt cx="2288160" cy="1471320"/>
            </a:xfrm>
          </p:grpSpPr>
          <p:sp>
            <p:nvSpPr>
              <p:cNvPr id="48" name=""/>
              <p:cNvSpPr/>
              <p:nvPr/>
            </p:nvSpPr>
            <p:spPr>
              <a:xfrm>
                <a:off x="2095200" y="296172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87920" y="29325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601080" y="29325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2164680" y="2343960"/>
                <a:ext cx="721440" cy="61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94040" y="2307600"/>
                <a:ext cx="16200" cy="61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22760" y="231516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824560" y="22557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27040" y="361944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72960" y="361944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886120" y="361944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1512360" y="3030480"/>
                <a:ext cx="657720" cy="61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79080" y="2994480"/>
                <a:ext cx="1620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90880" y="300168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920680" y="21114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9120" y="24829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9040" y="25750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55480" y="2460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52240" y="28256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05560" y="32115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93520" y="32925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15040" y="325116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4160" y="29638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86160" y="295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1040" y="36338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47240" y="3603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74440" y="3608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21680" y="2068560"/>
            <a:ext cx="2840040" cy="1890360"/>
            <a:chOff x="4621680" y="2068560"/>
            <a:chExt cx="2840040" cy="1890360"/>
          </a:xfrm>
        </p:grpSpPr>
        <p:grpSp>
          <p:nvGrpSpPr>
            <p:cNvPr id="75" name=""/>
            <p:cNvGrpSpPr/>
            <p:nvPr/>
          </p:nvGrpSpPr>
          <p:grpSpPr>
            <a:xfrm>
              <a:off x="4943520" y="2212560"/>
              <a:ext cx="2288880" cy="1470960"/>
              <a:chOff x="4943520" y="2212560"/>
              <a:chExt cx="2288880" cy="1470960"/>
            </a:xfrm>
          </p:grpSpPr>
          <p:sp>
            <p:nvSpPr>
              <p:cNvPr id="76" name=""/>
              <p:cNvSpPr/>
              <p:nvPr/>
            </p:nvSpPr>
            <p:spPr>
              <a:xfrm>
                <a:off x="5611680" y="291852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04760" y="288900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17920" y="288900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681160" y="2300760"/>
                <a:ext cx="72144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10880" y="2264400"/>
                <a:ext cx="1620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39240" y="227196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41040" y="221256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43520" y="3575880"/>
                <a:ext cx="11448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89440" y="357588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02960" y="3575880"/>
                <a:ext cx="11376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029200" y="2987280"/>
                <a:ext cx="658080" cy="61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95560" y="2950920"/>
                <a:ext cx="16200" cy="61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07360" y="2958480"/>
                <a:ext cx="784440" cy="63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437160" y="20685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5960" y="24397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5880" y="25318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71960" y="24174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69080" y="27824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1680" y="31683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0360" y="32493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31520" y="320796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00280" y="2920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01920" y="29142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7160" y="359064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63720" y="35604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90920" y="35650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721F-590A-4812-9BF9-4912D3F45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6960" y="190332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66960" y="407340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19560" y="402588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1911960" y="29836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0880" y="13302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sting Ohms Law: V = IR   (I = (1/R)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55800" y="4011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17880" y="3749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51320" y="35733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8600" y="3178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87720" y="3281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21160" y="30304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62640" y="260820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98880" y="27097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51600" y="225108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02240" y="23050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792520" y="1743120"/>
            <a:ext cx="3327120" cy="23162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41000" y="4964040"/>
            <a:ext cx="45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generalization with a line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fits training data less accur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4774-F74E-4F6E-B035-6BDEDA5A7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Noise in Decision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or feature noise can easily cause over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d noisy instance &lt;medium, blue, circle&gt;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t real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29336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27320" y="35910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3240" y="359100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13000" y="3002040"/>
            <a:ext cx="6588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9720" y="2965320"/>
            <a:ext cx="15840" cy="6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0800" y="2973240"/>
            <a:ext cx="78588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52520" y="27972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480" y="31827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3800" y="32637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5320" y="32227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11320" y="358128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7880" y="355140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5080" y="355608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08280" y="3551400"/>
            <a:ext cx="114480" cy="10764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75240" y="2965320"/>
            <a:ext cx="11412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7680" y="2965320"/>
            <a:ext cx="11448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951280" y="2376360"/>
            <a:ext cx="72072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79920" y="2340000"/>
            <a:ext cx="1728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08280" y="2347920"/>
            <a:ext cx="785880" cy="6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1520" y="22874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2600" y="29448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06560" y="2143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35360" y="2514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92200" y="25448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33240" y="2627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11680" y="36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9680" y="3595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56360" y="3586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86240" y="2943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54480" y="2917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73C9-D6BB-4ACC-8986-30F025975B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verfitting Noise in Decision Tre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or feature noise can easily cause overf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d noisy instance &lt;medium, blue, circle&gt;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t real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29336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7320" y="35910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73240" y="359100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13000" y="3002040"/>
            <a:ext cx="6588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9720" y="2965320"/>
            <a:ext cx="15840" cy="6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0800" y="2973240"/>
            <a:ext cx="78588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52520" y="27972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480" y="31827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3800" y="32637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5320" y="32227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11320" y="358128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7880" y="355140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75080" y="355608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08280" y="3551400"/>
            <a:ext cx="114480" cy="10764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75240" y="2965320"/>
            <a:ext cx="11412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87680" y="2965320"/>
            <a:ext cx="114480" cy="106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951280" y="2376360"/>
            <a:ext cx="72072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79920" y="2340000"/>
            <a:ext cx="1728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08280" y="2347920"/>
            <a:ext cx="785880" cy="6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11520" y="2287440"/>
            <a:ext cx="11448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2600" y="2944800"/>
            <a:ext cx="114120" cy="1080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6560" y="2143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5360" y="2514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2200" y="25448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3240" y="2627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11680" y="36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9680" y="3595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56360" y="3586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86240" y="2943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12840" y="2635200"/>
            <a:ext cx="22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medium, blue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145040" y="3060720"/>
            <a:ext cx="2090880" cy="915840"/>
            <a:chOff x="4145040" y="3060720"/>
            <a:chExt cx="2090880" cy="915840"/>
          </a:xfrm>
        </p:grpSpPr>
        <p:grpSp>
          <p:nvGrpSpPr>
            <p:cNvPr id="353" name=""/>
            <p:cNvGrpSpPr/>
            <p:nvPr/>
          </p:nvGrpSpPr>
          <p:grpSpPr>
            <a:xfrm>
              <a:off x="4179240" y="3060720"/>
              <a:ext cx="1873800" cy="682560"/>
              <a:chOff x="4179240" y="3060720"/>
              <a:chExt cx="1873800" cy="682560"/>
            </a:xfrm>
          </p:grpSpPr>
          <p:sp>
            <p:nvSpPr>
              <p:cNvPr id="354" name=""/>
              <p:cNvSpPr/>
              <p:nvPr/>
            </p:nvSpPr>
            <p:spPr>
              <a:xfrm>
                <a:off x="4392720" y="3611520"/>
                <a:ext cx="114120" cy="10800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213520" y="3629160"/>
                <a:ext cx="114120" cy="10764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938920" y="3635280"/>
                <a:ext cx="114120" cy="10800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79240" y="321480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ma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95560" y="320976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22760" y="317988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i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438800" y="306072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38800" y="3071880"/>
                <a:ext cx="815760" cy="5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62560" y="3073320"/>
                <a:ext cx="1536480" cy="58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023080" y="36036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5040" y="3589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24360" y="3608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704880" y="4060800"/>
            <a:ext cx="777240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can also cause different instances of the same feature vector to have different classes.  Impossible to fit this data and must label leaf with the majority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&lt;big, red, circle&gt;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t real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ing examples can also arise if the features are incomplete and inadequate to determine the class or if the target concept is non-determin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020E-DF69-4DE5-9899-8002D3B1BB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verfitting Prevention (Pruning) Method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sic approaches for decisi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reprunin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Stop growing tree as some point during top-down construction when there is no longer sufficient data to make reliable decision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ostpruning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Grow the full tree, then remove subtrees that do not have sufficient eviden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leaf resulting from pruning with the majority class of the remaining data, or a class probability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for determining which subtrees to pr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ross-validatio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Reserve some training data as a hold-out set 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validation se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uning se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o evaluate utility of subtre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atistical tes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Use a statistical test on the training data to determine if any observed regularity can be dismisses as likely due to random chan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Minimum description length (MDL)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ermine if the additional complexity of the hypothesis is less complex than just explicitly remembering any exceptions resulting from pruning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00D4-3936-41EF-ACDF-E486F80E08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duced Error Pru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t-pruning, cross-validation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1360" y="2170080"/>
            <a:ext cx="8613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training data in “grow” and “validation” 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a complete tree from the “grow”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accuracy on validation set decreases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non-leaf node, n, in the tree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rily prune the subtree below n and replace it wit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labeled with the current majority class at that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and record the accuracy of the pruned tree on the validation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anently prune the node that results in the greatest increase in accuracy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idation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D74D-1826-4595-8A15-E88CBD4B0F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with Reduced Error Pru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with this approach is that it potentially “wastes” training data on the validation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ity of this problem depends where we are on the learning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54320" y="3768840"/>
            <a:ext cx="0" cy="168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43160" y="545148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1248840" y="4377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28760" y="3970440"/>
            <a:ext cx="3610080" cy="1249200"/>
          </a:xfrm>
          <a:custGeom>
            <a:avLst/>
            <a:gdLst/>
            <a:ahLst/>
            <a:rect l="l" t="t" r="r" b="b"/>
            <a:pathLst>
              <a:path w="2258" h="649">
                <a:moveTo>
                  <a:pt x="0" y="649"/>
                </a:moveTo>
                <a:cubicBezTo>
                  <a:pt x="98" y="561"/>
                  <a:pt x="197" y="473"/>
                  <a:pt x="292" y="403"/>
                </a:cubicBezTo>
                <a:cubicBezTo>
                  <a:pt x="387" y="333"/>
                  <a:pt x="472" y="281"/>
                  <a:pt x="569" y="226"/>
                </a:cubicBezTo>
                <a:cubicBezTo>
                  <a:pt x="666" y="171"/>
                  <a:pt x="763" y="109"/>
                  <a:pt x="876" y="73"/>
                </a:cubicBezTo>
                <a:cubicBezTo>
                  <a:pt x="989" y="37"/>
                  <a:pt x="1087" y="22"/>
                  <a:pt x="1244" y="11"/>
                </a:cubicBezTo>
                <a:cubicBezTo>
                  <a:pt x="1401" y="0"/>
                  <a:pt x="1651" y="5"/>
                  <a:pt x="1820" y="4"/>
                </a:cubicBezTo>
                <a:cubicBezTo>
                  <a:pt x="1989" y="3"/>
                  <a:pt x="2123" y="3"/>
                  <a:pt x="2258" y="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02240" y="54640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train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02000" y="3681360"/>
            <a:ext cx="0" cy="17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995560" y="3676680"/>
            <a:ext cx="406440" cy="1779480"/>
            <a:chOff x="2995560" y="3676680"/>
            <a:chExt cx="406440" cy="1779480"/>
          </a:xfrm>
        </p:grpSpPr>
        <p:sp>
          <p:nvSpPr>
            <p:cNvPr id="381" name=""/>
            <p:cNvSpPr/>
            <p:nvPr/>
          </p:nvSpPr>
          <p:spPr>
            <a:xfrm>
              <a:off x="2995560" y="3676680"/>
              <a:ext cx="0" cy="17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998800" y="4376880"/>
              <a:ext cx="403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554800" y="3664080"/>
            <a:ext cx="0" cy="17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38800" y="3670200"/>
            <a:ext cx="1108080" cy="1779840"/>
            <a:chOff x="4438800" y="3670200"/>
            <a:chExt cx="1108080" cy="1779840"/>
          </a:xfrm>
        </p:grpSpPr>
        <p:sp>
          <p:nvSpPr>
            <p:cNvPr id="385" name=""/>
            <p:cNvSpPr/>
            <p:nvPr/>
          </p:nvSpPr>
          <p:spPr>
            <a:xfrm>
              <a:off x="4452840" y="3670200"/>
              <a:ext cx="0" cy="177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438800" y="4059360"/>
              <a:ext cx="11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EEAB-2FC4-409A-84F7-5CEE12DDF1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ross-Validating without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osing Training Data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lgorithm is modified to grow trees breadth-first rather than depth-first, we can stop growing after reaching any specified tree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run several trials of reduced error-pruning using different random splits of grow and validation se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the complexity of the pruned tree learned in each trial.  Le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average pruned-tree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a final tree breadth-first from all the training data but stop when the complexity reach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cross-validation approach can be used to set arbitrary algorithm parameters in ge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41E0-6FEB-41ED-BFC7-BEED1D604B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ditional Decision Tree Iss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splitting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formation gain prefers features with many valu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ng a real-valued function (regression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featur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wit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lassific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D4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D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large databases that do not fit in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408A-D61A-4964-8FCC-5BD6F8D758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erties of Decision Tre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(real-valued) features can be handled by allowing nodes to split a real valued feature into two ranges based on a threshold (e.g. length &lt; 3 and l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trees have discrete class labels at the leaves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gression t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real-valued outputs at the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 for finding consistent trees are efficient for processing large amounts of training data for data mining t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developed for handling noisy training data (both class and feature noi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developed for handling missing featur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F2AD-2C99-48E7-9D74-D86A5DCC7E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Decision Tree In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build a tree top-down by divide and conqu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5400" y="1940040"/>
            <a:ext cx="395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328920" y="2514600"/>
            <a:ext cx="1896120" cy="928800"/>
            <a:chOff x="3328920" y="2514600"/>
            <a:chExt cx="1896120" cy="928800"/>
          </a:xfrm>
        </p:grpSpPr>
        <p:sp>
          <p:nvSpPr>
            <p:cNvPr id="108" name=""/>
            <p:cNvSpPr/>
            <p:nvPr/>
          </p:nvSpPr>
          <p:spPr>
            <a:xfrm>
              <a:off x="41688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816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444840" y="2747880"/>
              <a:ext cx="72072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3480" y="2711520"/>
              <a:ext cx="176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02200" y="2719440"/>
              <a:ext cx="785880" cy="63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05440" y="26589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6160" y="331632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00120" y="25146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28920" y="2886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58840" y="29782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35280" y="2863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31920" y="3444840"/>
            <a:ext cx="215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4FD36-3E67-4A6D-AF20-BFFA1E110B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399400" y="3168720"/>
            <a:ext cx="2391120" cy="1181160"/>
            <a:chOff x="2399400" y="3168720"/>
            <a:chExt cx="2391120" cy="1181160"/>
          </a:xfrm>
        </p:grpSpPr>
        <p:sp>
          <p:nvSpPr>
            <p:cNvPr id="121" name=""/>
            <p:cNvSpPr/>
            <p:nvPr/>
          </p:nvSpPr>
          <p:spPr>
            <a:xfrm>
              <a:off x="3389040" y="33051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20880" y="3962520"/>
              <a:ext cx="113760" cy="10764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6800" y="3962520"/>
              <a:ext cx="114120" cy="10764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806200" y="3373560"/>
              <a:ext cx="6584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3280" y="3336840"/>
              <a:ext cx="1548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84360" y="3344760"/>
              <a:ext cx="78552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5720" y="31687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9400" y="35542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87360" y="36352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880" y="359424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4880" y="395280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1440" y="392256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8640" y="3927600"/>
              <a:ext cx="180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01840" y="39225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p-Down Decision Tree In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build a tree top-down by divide and conqu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5400" y="1940040"/>
            <a:ext cx="395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0080" y="3078000"/>
            <a:ext cx="215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28920" y="2514600"/>
            <a:ext cx="1896120" cy="928800"/>
            <a:chOff x="3328920" y="2514600"/>
            <a:chExt cx="1896120" cy="928800"/>
          </a:xfrm>
        </p:grpSpPr>
        <p:sp>
          <p:nvSpPr>
            <p:cNvPr id="140" name=""/>
            <p:cNvSpPr/>
            <p:nvPr/>
          </p:nvSpPr>
          <p:spPr>
            <a:xfrm>
              <a:off x="41688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81600" y="3336840"/>
              <a:ext cx="114120" cy="106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44840" y="2747880"/>
              <a:ext cx="72072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73480" y="2711520"/>
              <a:ext cx="176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02200" y="2719440"/>
              <a:ext cx="785880" cy="63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05440" y="265896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6160" y="3316320"/>
              <a:ext cx="114120" cy="10800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0120" y="25146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co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28920" y="2886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8840" y="297828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5280" y="2863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158480" y="4205160"/>
            <a:ext cx="21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red, circle&gt;: +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circle&gt;: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5240" y="3975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3200" y="4227480"/>
            <a:ext cx="21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mall, red, squar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3240" y="3967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49920" y="3957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3160" y="347832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ig, blue, circle&gt;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3314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8040" y="32893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95CE-3E7D-4830-B11E-F5E816C727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cision Tree Induction Pseudoco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8600" y="198900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360" y="1611360"/>
            <a:ext cx="853848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re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turns 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n one category, return a leaf node with that category la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if the se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mpty, return a leaf node with the category label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ost common in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pick a feat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reate a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ossibl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the subset of examples that hav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n out-going ed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beled with th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attach a leaf node to ed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beled with the category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ost comm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call DTre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) and attach the resu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 as the subtree under ed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subtree rooted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2C50-6C32-4C0F-97B4-180464622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icking a Good Split Fea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is to have the resulting tree be as small as possible, per Occam’s raz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a minimal decision tree (nodes, leaves, or depth) is an NP-hard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down divide-and-conquer method does a greedy search for a simple tree but does not guarantee to find the small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ral lesson in ML:  “Greed is good.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pick a feature that creates subsets of examples that are relatively “pure” in a single class so they are “closer” to being leaf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a variety of heuristics for picking a good test, a popular one is based on information gain that originated with the ID3 system of Quinlan (197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13CA-F233-434B-9721-41C08E3FBF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trop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58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(disorder, impurity) of a set of examples, S, relative to a binary classification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raction of positive examples in 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raction of neg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examples are in one category, entropy is zero (we define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0)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xamples are equally mixe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5), entropy is a maximum of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can be viewed as the number of bits required on average to encode the class of an exampl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data compression (e.g. Huffman coding) is used to give shorter codes to more likely c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ulti-class problems with c categories, entropy generalize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23920" y="2014560"/>
                <a:ext cx="4564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340000" y="5335560"/>
                <a:ext cx="3406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0D18-7432-41B2-AF33-3980CA9FF1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ntropy Plot for Binary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62160" y="1509840"/>
            <a:ext cx="663264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23DA-5D90-44A7-8C3E-B4B301874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08-31T22:28:53Z</dcterms:modified>
  <cp:revision>264</cp:revision>
  <dc:subject/>
  <dc:title>Intelligent Information Retrieval and Web Search</dc:title>
</cp:coreProperties>
</file>