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2290-614F-4C6E-8ACB-D5A4C03D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6195-7446-4ADA-A477-2140E9D9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15A1-9765-4D68-9B46-96A0BEE9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184D-AB14-4CFD-822B-6EA053D2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912FC-F137-44E5-BAAB-FE9321A96E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A7B32-DEC2-42CF-935F-85E4CA780B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69CDD-8021-4453-B0A0-A2BF10454D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78402-8AD7-4AB2-B830-A362A7635A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6A05A-1DC0-4573-B1EB-22B3473CBB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14EFA-D9E3-4638-B72C-8CA041599C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E0FB9-63FB-4552-B91F-5F5E759391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030A-5F27-4043-864F-B594BE31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0DB15-8AC1-4F1B-A9AF-D40EA8E722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FBF8D-A463-4F68-B969-8915140A1F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1F778-87A8-4938-988B-F9D3729209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4374D-4C46-4431-8F0D-8D2D59CD75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E26EB-5BDE-47CE-8F2A-71B99051EC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9D9B2-91E7-438D-B69E-B822CA34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87A68-9FFE-469F-9922-B6AE796A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EB765-2C05-4390-880D-1CDEE5F7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F56A1-CB75-4C34-963B-79462083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9F5DE-6EC4-45CE-8FBA-93FA4A07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B32C-A989-4C26-A240-BE312E47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C3D6F-BA78-40DF-8CC2-030CD7C1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F73DB-ED30-4958-A805-2880E38A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7D610-9E34-455D-89F3-3D553C63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09941-C570-4251-A29F-205E5C7A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E6936-2BD9-4D0C-BAC7-765745A3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B5BF4-AA3D-4743-AB0E-4BBDF36F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CB40A-2DFA-40E9-962D-D3943C54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9D61-8FA7-4791-9132-174FBA27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706D-175E-4095-A29E-DC2B620D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5F1D-3521-4904-A231-E26F7986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7FC4-5954-47DC-8AC6-B89E246E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F697B-1CB4-4B86-BDE2-F2FCA185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13BE-554F-4914-A57B-25C27E09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32E1-BC6B-47BA-BC84-97DA78BB7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B08-2DA6-4313-A9F5-0C8C66FE8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E3C9-8888-47C4-B532-F60913D63DA3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15400" cy="660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D16B-AF49-4D7D-8CB9-B0380ECCD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507000"/>
            <a:ext cx="2438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06200"/>
            <a:ext cx="2057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209680"/>
            <a:ext cx="7770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14800" y="5181480"/>
            <a:ext cx="985680" cy="976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57680" y="4038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chine Learn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4419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partment of Computer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57680" y="48006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nsemb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8CB0-0448-4795-951A-38CD4EDACC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perimental Results on Ensembles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Freund &amp; Schapire, 1996; Quinlan, 1996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mbles have been used to improve generalization accuracy on a wide variety of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verage, Boosting provides a larger increase in accuracy than Bag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sting on rare occasions can degrade accu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gging more consistently provides a modest impr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sting is particularly subject to over-fitting when there is significant noise in the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A078-87BE-4C72-BB2F-01D7A3DF39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CORATE</a:t>
            </a: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Melville &amp; Mooney, 2003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raining data by adding new artificial training examples that encourage diversity in the resulting ensem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s accuracy when the training set is small, and therefore resampling and reweighting the training set has limited ability to generate diverse alternative hypoth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7365-6079-4989-B6AB-F9BC765A16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581280"/>
            <a:ext cx="152424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3809880"/>
            <a:ext cx="152424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038480"/>
            <a:ext cx="152424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267080"/>
            <a:ext cx="152424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495680"/>
            <a:ext cx="15242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2362320"/>
            <a:ext cx="152424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590920"/>
            <a:ext cx="1524240" cy="228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2819520"/>
            <a:ext cx="152424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048120"/>
            <a:ext cx="152424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133720"/>
            <a:ext cx="1524240" cy="228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905120"/>
            <a:ext cx="2514600" cy="304776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047760"/>
              <a:gd name="textAreaBottom" fmla="*/ 2925000 h 3047760"/>
            </a:gdLst>
            <a:ahLst/>
            <a:rect l="textAreaLeft" t="textAreaTop" r="textAreaRight" b="textAreaBottom"/>
            <a:pathLst>
              <a:path w="21600" h="26179">
                <a:moveTo>
                  <a:pt x="3600" y="0"/>
                </a:moveTo>
                <a:arcTo wR="3600" hR="3600" stAng="16200000" swAng="-5400000"/>
                <a:lnTo>
                  <a:pt x="0" y="22579"/>
                </a:lnTo>
                <a:arcTo wR="3600" hR="3600" stAng="10800000" swAng="-5400000"/>
                <a:lnTo>
                  <a:pt x="18000" y="261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72080" y="3200400"/>
            <a:ext cx="15620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se Lea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56720" y="228600"/>
            <a:ext cx="40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verview of D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C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5480" y="181440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i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5760" y="47102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rtificial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9640" y="152388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rrent 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057400" y="3581280"/>
            <a:ext cx="304920" cy="1143000"/>
            <a:chOff x="2057400" y="3581280"/>
            <a:chExt cx="304920" cy="1143000"/>
          </a:xfrm>
        </p:grpSpPr>
        <p:sp>
          <p:nvSpPr>
            <p:cNvPr id="234" name=""/>
            <p:cNvSpPr/>
            <p:nvPr/>
          </p:nvSpPr>
          <p:spPr>
            <a:xfrm>
              <a:off x="2057400" y="35812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57400" y="38098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7400" y="40384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57400" y="42670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57400" y="44956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057400" y="25909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3623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21337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28195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30481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334120" y="2286000"/>
            <a:ext cx="2590560" cy="1143000"/>
            <a:chOff x="5334120" y="2286000"/>
            <a:chExt cx="2590560" cy="1143000"/>
          </a:xfrm>
        </p:grpSpPr>
        <p:sp>
          <p:nvSpPr>
            <p:cNvPr id="245" name=""/>
            <p:cNvSpPr/>
            <p:nvPr/>
          </p:nvSpPr>
          <p:spPr>
            <a:xfrm>
              <a:off x="6553080" y="2286000"/>
              <a:ext cx="13716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334120" y="2514600"/>
              <a:ext cx="1218960" cy="9144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590920" y="1981080"/>
            <a:ext cx="1143000" cy="1447920"/>
            <a:chOff x="2590920" y="1981080"/>
            <a:chExt cx="1143000" cy="1447920"/>
          </a:xfrm>
        </p:grpSpPr>
        <p:sp>
          <p:nvSpPr>
            <p:cNvPr id="248" name=""/>
            <p:cNvSpPr/>
            <p:nvPr/>
          </p:nvSpPr>
          <p:spPr>
            <a:xfrm>
              <a:off x="2590920" y="1981080"/>
              <a:ext cx="380880" cy="14479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8120" y="2743200"/>
              <a:ext cx="68580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600200" y="3581280"/>
            <a:ext cx="5715000" cy="2362320"/>
            <a:chOff x="1600200" y="3581280"/>
            <a:chExt cx="5715000" cy="2362320"/>
          </a:xfrm>
        </p:grpSpPr>
        <p:grpSp>
          <p:nvGrpSpPr>
            <p:cNvPr id="251" name=""/>
            <p:cNvGrpSpPr/>
            <p:nvPr/>
          </p:nvGrpSpPr>
          <p:grpSpPr>
            <a:xfrm>
              <a:off x="1600200" y="5181120"/>
              <a:ext cx="5715000" cy="762480"/>
              <a:chOff x="1600200" y="5181120"/>
              <a:chExt cx="5715000" cy="762480"/>
            </a:xfrm>
          </p:grpSpPr>
          <p:sp>
            <p:nvSpPr>
              <p:cNvPr id="252" name=""/>
              <p:cNvSpPr/>
              <p:nvPr/>
            </p:nvSpPr>
            <p:spPr>
              <a:xfrm>
                <a:off x="1600200" y="5257800"/>
                <a:ext cx="5715000" cy="685800"/>
              </a:xfrm>
              <a:custGeom>
                <a:avLst/>
                <a:gdLst/>
                <a:ahLst/>
                <a:rect l="l" t="t" r="r" b="b"/>
                <a:pathLst>
                  <a:path w="4176" h="624">
                    <a:moveTo>
                      <a:pt x="4176" y="0"/>
                    </a:moveTo>
                    <a:lnTo>
                      <a:pt x="4176" y="624"/>
                    </a:lnTo>
                    <a:lnTo>
                      <a:pt x="0" y="624"/>
                    </a:lnTo>
                    <a:lnTo>
                      <a:pt x="0" y="0"/>
                    </a:lnTo>
                  </a:path>
                </a:pathLst>
              </a:custGeom>
              <a:noFill/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1600200" y="5181120"/>
                <a:ext cx="0" cy="22860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2057400" y="3581280"/>
              <a:ext cx="304920" cy="1143000"/>
              <a:chOff x="2057400" y="3581280"/>
              <a:chExt cx="304920" cy="1143000"/>
            </a:xfrm>
          </p:grpSpPr>
          <p:sp>
            <p:nvSpPr>
              <p:cNvPr id="255" name=""/>
              <p:cNvSpPr/>
              <p:nvPr/>
            </p:nvSpPr>
            <p:spPr>
              <a:xfrm>
                <a:off x="2057400" y="358128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57400" y="380988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57400" y="403848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57400" y="426708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57400" y="449568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1905120" y="3505320"/>
            <a:ext cx="6094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76CE-1468-4104-8F5C-3FC4BAC1CAC9}" type="slidenum">
              <a:t>12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581280"/>
            <a:ext cx="152424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3809880"/>
            <a:ext cx="152424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4038480"/>
            <a:ext cx="152424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4267080"/>
            <a:ext cx="152424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495680"/>
            <a:ext cx="15242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2362320"/>
            <a:ext cx="152424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2590920"/>
            <a:ext cx="1524240" cy="228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2819520"/>
            <a:ext cx="152424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574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3048120"/>
            <a:ext cx="152424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1524240" cy="228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1905120"/>
            <a:ext cx="2514600" cy="304776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047760"/>
              <a:gd name="textAreaBottom" fmla="*/ 2925000 h 3047760"/>
            </a:gdLst>
            <a:ahLst/>
            <a:rect l="textAreaLeft" t="textAreaTop" r="textAreaRight" b="textAreaBottom"/>
            <a:pathLst>
              <a:path w="21600" h="26179">
                <a:moveTo>
                  <a:pt x="3600" y="0"/>
                </a:moveTo>
                <a:arcTo wR="3600" hR="3600" stAng="16200000" swAng="-5400000"/>
                <a:lnTo>
                  <a:pt x="0" y="22579"/>
                </a:lnTo>
                <a:arcTo wR="3600" hR="3600" stAng="10800000" swAng="-5400000"/>
                <a:lnTo>
                  <a:pt x="18000" y="261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286000"/>
            <a:ext cx="13716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72080" y="3200400"/>
            <a:ext cx="15620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se Lea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56720" y="228600"/>
            <a:ext cx="40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verview of D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C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5480" y="181440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i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5760" y="47102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rtificial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9640" y="152388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rrent 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90920" y="1981080"/>
            <a:ext cx="1143000" cy="2895840"/>
            <a:chOff x="2590920" y="1981080"/>
            <a:chExt cx="1143000" cy="2895840"/>
          </a:xfrm>
        </p:grpSpPr>
        <p:sp>
          <p:nvSpPr>
            <p:cNvPr id="290" name=""/>
            <p:cNvSpPr/>
            <p:nvPr/>
          </p:nvSpPr>
          <p:spPr>
            <a:xfrm>
              <a:off x="2590920" y="1981080"/>
              <a:ext cx="380880" cy="2895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75240 h 2895840"/>
                <a:gd name="textAreaBottom" fmla="*/ 282060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24080" y="335268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057400" y="3581280"/>
            <a:ext cx="304920" cy="1143000"/>
            <a:chOff x="2057400" y="3581280"/>
            <a:chExt cx="304920" cy="1143000"/>
          </a:xfrm>
        </p:grpSpPr>
        <p:sp>
          <p:nvSpPr>
            <p:cNvPr id="293" name=""/>
            <p:cNvSpPr/>
            <p:nvPr/>
          </p:nvSpPr>
          <p:spPr>
            <a:xfrm>
              <a:off x="2057400" y="35812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7400" y="38098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403848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57400" y="42670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57400" y="449568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057400" y="25909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23623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57400" y="21337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28195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7400" y="30481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334120" y="3200400"/>
            <a:ext cx="2590560" cy="457200"/>
            <a:chOff x="5334120" y="3200400"/>
            <a:chExt cx="2590560" cy="457200"/>
          </a:xfrm>
        </p:grpSpPr>
        <p:sp>
          <p:nvSpPr>
            <p:cNvPr id="304" name=""/>
            <p:cNvSpPr/>
            <p:nvPr/>
          </p:nvSpPr>
          <p:spPr>
            <a:xfrm>
              <a:off x="6553080" y="3200400"/>
              <a:ext cx="1371600" cy="457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4120" y="3429000"/>
              <a:ext cx="1218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600200" y="3581280"/>
            <a:ext cx="5715000" cy="2362320"/>
            <a:chOff x="1600200" y="3581280"/>
            <a:chExt cx="5715000" cy="2362320"/>
          </a:xfrm>
        </p:grpSpPr>
        <p:grpSp>
          <p:nvGrpSpPr>
            <p:cNvPr id="307" name=""/>
            <p:cNvGrpSpPr/>
            <p:nvPr/>
          </p:nvGrpSpPr>
          <p:grpSpPr>
            <a:xfrm>
              <a:off x="1600200" y="5181120"/>
              <a:ext cx="5715000" cy="762480"/>
              <a:chOff x="1600200" y="5181120"/>
              <a:chExt cx="5715000" cy="762480"/>
            </a:xfrm>
          </p:grpSpPr>
          <p:sp>
            <p:nvSpPr>
              <p:cNvPr id="308" name=""/>
              <p:cNvSpPr/>
              <p:nvPr/>
            </p:nvSpPr>
            <p:spPr>
              <a:xfrm>
                <a:off x="1600200" y="5257800"/>
                <a:ext cx="5715000" cy="685800"/>
              </a:xfrm>
              <a:custGeom>
                <a:avLst/>
                <a:gdLst/>
                <a:ahLst/>
                <a:rect l="l" t="t" r="r" b="b"/>
                <a:pathLst>
                  <a:path w="4176" h="624">
                    <a:moveTo>
                      <a:pt x="4176" y="0"/>
                    </a:moveTo>
                    <a:lnTo>
                      <a:pt x="4176" y="624"/>
                    </a:lnTo>
                    <a:lnTo>
                      <a:pt x="0" y="624"/>
                    </a:lnTo>
                    <a:lnTo>
                      <a:pt x="0" y="0"/>
                    </a:lnTo>
                  </a:path>
                </a:pathLst>
              </a:custGeom>
              <a:noFill/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1600200" y="5181120"/>
                <a:ext cx="0" cy="22860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057400" y="3581280"/>
              <a:ext cx="304920" cy="1143000"/>
              <a:chOff x="2057400" y="3581280"/>
              <a:chExt cx="304920" cy="1143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057400" y="358128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057400" y="380988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057400" y="403848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57400" y="426708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057400" y="449568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1905120" y="3505320"/>
            <a:ext cx="6094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3505320"/>
            <a:ext cx="6094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8E75-F47C-43E5-B358-E956801EACDB}" type="slidenum">
              <a:t>13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3581280"/>
            <a:ext cx="152424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3809880"/>
            <a:ext cx="152424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4038480"/>
            <a:ext cx="152424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74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4267080"/>
            <a:ext cx="152424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4495680"/>
            <a:ext cx="15242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362320"/>
            <a:ext cx="152424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74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2590920"/>
            <a:ext cx="1524240" cy="228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2819520"/>
            <a:ext cx="152424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048120"/>
            <a:ext cx="152424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57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2133720"/>
            <a:ext cx="1524240" cy="228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1905120"/>
            <a:ext cx="2514600" cy="304776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047760"/>
              <a:gd name="textAreaBottom" fmla="*/ 2925000 h 3047760"/>
            </a:gdLst>
            <a:ahLst/>
            <a:rect l="textAreaLeft" t="textAreaTop" r="textAreaRight" b="textAreaBottom"/>
            <a:pathLst>
              <a:path w="21600" h="26179">
                <a:moveTo>
                  <a:pt x="3600" y="0"/>
                </a:moveTo>
                <a:arcTo wR="3600" hR="3600" stAng="16200000" swAng="-5400000"/>
                <a:lnTo>
                  <a:pt x="0" y="22579"/>
                </a:lnTo>
                <a:arcTo wR="3600" hR="3600" stAng="10800000" swAng="-5400000"/>
                <a:lnTo>
                  <a:pt x="18000" y="261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286000"/>
            <a:ext cx="13716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3080" y="3200400"/>
            <a:ext cx="13716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72080" y="3200400"/>
            <a:ext cx="15620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se Lea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56720" y="228600"/>
            <a:ext cx="40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verview of D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C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5480" y="181440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i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5760" y="47102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rtificial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9640" y="152388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rrent 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90920" y="1981080"/>
            <a:ext cx="1143000" cy="2895840"/>
            <a:chOff x="2590920" y="1981080"/>
            <a:chExt cx="1143000" cy="2895840"/>
          </a:xfrm>
        </p:grpSpPr>
        <p:sp>
          <p:nvSpPr>
            <p:cNvPr id="348" name=""/>
            <p:cNvSpPr/>
            <p:nvPr/>
          </p:nvSpPr>
          <p:spPr>
            <a:xfrm>
              <a:off x="2590920" y="1981080"/>
              <a:ext cx="380880" cy="2895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75240 h 2895840"/>
                <a:gd name="textAreaBottom" fmla="*/ 282060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4080" y="335268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057400" y="3581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380988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403848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26708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44956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25909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23623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21337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28195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30481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34120" y="3429000"/>
            <a:ext cx="2666880" cy="1143000"/>
            <a:chOff x="5334120" y="3429000"/>
            <a:chExt cx="2666880" cy="1143000"/>
          </a:xfrm>
        </p:grpSpPr>
        <p:sp>
          <p:nvSpPr>
            <p:cNvPr id="361" name=""/>
            <p:cNvSpPr/>
            <p:nvPr/>
          </p:nvSpPr>
          <p:spPr>
            <a:xfrm>
              <a:off x="6629400" y="4114800"/>
              <a:ext cx="1371600" cy="4572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34120" y="3429000"/>
              <a:ext cx="1295280" cy="9144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05120" y="3505320"/>
            <a:ext cx="6094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45F1-E676-4263-AFFA-DE45A4E7EE92}" type="slidenum">
              <a:t>14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nsembles and Activ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can be used to actively select good new training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he unlabeled example that causes the most disagreement amongst the members of the ensem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ble to any ensemble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ryByBagg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ryByBoost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tive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CORAT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E68F-831D-4305-821C-4655C85D78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514600" y="3581280"/>
            <a:ext cx="15620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0800" y="131760"/>
            <a:ext cx="35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ctive-D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C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7080" y="281952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i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6858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22240" y="228600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rrent 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200400"/>
            <a:ext cx="406440" cy="1143000"/>
          </a:xfrm>
          <a:custGeom>
            <a:avLst/>
            <a:gdLst>
              <a:gd name="textAreaLeft" fmla="*/ 0 w 406440"/>
              <a:gd name="textAreaRight" fmla="*/ 146880 w 4064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1295280"/>
            <a:ext cx="152388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1523880"/>
            <a:ext cx="15238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1752480"/>
            <a:ext cx="15238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1981080"/>
            <a:ext cx="15238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29600" y="1295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705720" y="1066680"/>
            <a:ext cx="1828800" cy="228600"/>
            <a:chOff x="6705720" y="1066680"/>
            <a:chExt cx="1828800" cy="228600"/>
          </a:xfrm>
        </p:grpSpPr>
        <p:sp>
          <p:nvSpPr>
            <p:cNvPr id="378" name=""/>
            <p:cNvSpPr/>
            <p:nvPr/>
          </p:nvSpPr>
          <p:spPr>
            <a:xfrm>
              <a:off x="6705720" y="1066680"/>
              <a:ext cx="152388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29600" y="106668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8229600" y="15238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29600" y="17524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229600" y="19810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80880" y="3200400"/>
            <a:ext cx="1524240" cy="1143000"/>
            <a:chOff x="380880" y="3200400"/>
            <a:chExt cx="1524240" cy="1143000"/>
          </a:xfrm>
        </p:grpSpPr>
        <p:sp>
          <p:nvSpPr>
            <p:cNvPr id="384" name=""/>
            <p:cNvSpPr/>
            <p:nvPr/>
          </p:nvSpPr>
          <p:spPr>
            <a:xfrm>
              <a:off x="380880" y="3429000"/>
              <a:ext cx="152424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880" y="3657600"/>
              <a:ext cx="152424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3886200"/>
              <a:ext cx="152424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0880" y="4114800"/>
              <a:ext cx="152424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880" y="3200400"/>
              <a:ext cx="152424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00200" y="36576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00200" y="342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00200" y="32004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00200" y="38862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00200" y="41148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572000" y="2743200"/>
            <a:ext cx="1523880" cy="20574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057400"/>
              <a:gd name="textAreaBottom" fmla="*/ 1983240 h 2057400"/>
            </a:gdLst>
            <a:ahLst/>
            <a:rect l="textAreaLeft" t="textAreaTop" r="textAreaRight" b="textAreaBottom"/>
            <a:pathLst>
              <a:path w="21600" h="29161">
                <a:moveTo>
                  <a:pt x="3600" y="0"/>
                </a:moveTo>
                <a:arcTo wR="3600" hR="3600" stAng="16200000" swAng="-5400000"/>
                <a:lnTo>
                  <a:pt x="0" y="25561"/>
                </a:lnTo>
                <a:arcTo wR="3600" hR="3600" stAng="10800000" swAng="-5400000"/>
                <a:lnTo>
                  <a:pt x="18000" y="29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2936880"/>
            <a:ext cx="901800" cy="33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89520" y="3386160"/>
            <a:ext cx="901800" cy="3380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89520" y="3836880"/>
            <a:ext cx="901800" cy="336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89520" y="4286160"/>
            <a:ext cx="901800" cy="338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73400" y="3733920"/>
            <a:ext cx="498600" cy="152280"/>
          </a:xfrm>
          <a:prstGeom prst="rightArrow">
            <a:avLst>
              <a:gd name="adj1" fmla="val 50000"/>
              <a:gd name="adj2" fmla="val 818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79" idx="3"/>
          </p:cNvCxnSpPr>
          <p:nvPr/>
        </p:nvCxnSpPr>
        <p:spPr>
          <a:xfrm flipH="1">
            <a:off x="7467120" y="1181160"/>
            <a:ext cx="1067760" cy="1791360"/>
          </a:xfrm>
          <a:prstGeom prst="bentConnector4">
            <a:avLst>
              <a:gd name="adj1" fmla="val -21416"/>
              <a:gd name="adj2" fmla="val 73386"/>
            </a:avLst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5694840" y="10206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y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705720" y="2971800"/>
            <a:ext cx="1828800" cy="1600200"/>
            <a:chOff x="6705720" y="2971800"/>
            <a:chExt cx="1828800" cy="1600200"/>
          </a:xfrm>
        </p:grpSpPr>
        <p:grpSp>
          <p:nvGrpSpPr>
            <p:cNvPr id="403" name=""/>
            <p:cNvGrpSpPr/>
            <p:nvPr/>
          </p:nvGrpSpPr>
          <p:grpSpPr>
            <a:xfrm>
              <a:off x="6705720" y="3429000"/>
              <a:ext cx="1828800" cy="228600"/>
              <a:chOff x="6705720" y="3429000"/>
              <a:chExt cx="1828800" cy="228600"/>
            </a:xfrm>
          </p:grpSpPr>
          <p:sp>
            <p:nvSpPr>
              <p:cNvPr id="404" name=""/>
              <p:cNvSpPr/>
              <p:nvPr/>
            </p:nvSpPr>
            <p:spPr>
              <a:xfrm>
                <a:off x="6705720" y="3429000"/>
                <a:ext cx="1523880" cy="22860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229600" y="34290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705720" y="2971800"/>
              <a:ext cx="1828800" cy="228600"/>
              <a:chOff x="6705720" y="2971800"/>
              <a:chExt cx="1828800" cy="228600"/>
            </a:xfrm>
          </p:grpSpPr>
          <p:sp>
            <p:nvSpPr>
              <p:cNvPr id="407" name=""/>
              <p:cNvSpPr/>
              <p:nvPr/>
            </p:nvSpPr>
            <p:spPr>
              <a:xfrm>
                <a:off x="6705720" y="2971800"/>
                <a:ext cx="1523880" cy="2286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229600" y="297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705720" y="3886200"/>
              <a:ext cx="1828800" cy="228600"/>
              <a:chOff x="6705720" y="3886200"/>
              <a:chExt cx="1828800" cy="228600"/>
            </a:xfrm>
          </p:grpSpPr>
          <p:sp>
            <p:nvSpPr>
              <p:cNvPr id="410" name=""/>
              <p:cNvSpPr/>
              <p:nvPr/>
            </p:nvSpPr>
            <p:spPr>
              <a:xfrm>
                <a:off x="6705720" y="3886200"/>
                <a:ext cx="1523880" cy="22860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229600" y="38862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6705720" y="4343400"/>
              <a:ext cx="1828800" cy="228600"/>
              <a:chOff x="6705720" y="4343400"/>
              <a:chExt cx="1828800" cy="228600"/>
            </a:xfrm>
          </p:grpSpPr>
          <p:sp>
            <p:nvSpPr>
              <p:cNvPr id="413" name=""/>
              <p:cNvSpPr/>
              <p:nvPr/>
            </p:nvSpPr>
            <p:spPr>
              <a:xfrm>
                <a:off x="6705720" y="4343400"/>
                <a:ext cx="1523880" cy="22860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229600" y="4343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5943600" y="2819520"/>
            <a:ext cx="2743200" cy="1904760"/>
            <a:chOff x="5943600" y="2819520"/>
            <a:chExt cx="2743200" cy="1904760"/>
          </a:xfrm>
        </p:grpSpPr>
        <p:sp>
          <p:nvSpPr>
            <p:cNvPr id="416" name=""/>
            <p:cNvSpPr/>
            <p:nvPr/>
          </p:nvSpPr>
          <p:spPr>
            <a:xfrm>
              <a:off x="5943600" y="3048120"/>
              <a:ext cx="650880" cy="66600"/>
            </a:xfrm>
            <a:prstGeom prst="rightArrow">
              <a:avLst>
                <a:gd name="adj1" fmla="val 50000"/>
                <a:gd name="adj2" fmla="val 24432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229600" y="29718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29600" y="34290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43600" y="3514680"/>
              <a:ext cx="650880" cy="66600"/>
            </a:xfrm>
            <a:prstGeom prst="rightArrow">
              <a:avLst>
                <a:gd name="adj1" fmla="val 50000"/>
                <a:gd name="adj2" fmla="val 24432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43600" y="3962520"/>
              <a:ext cx="650880" cy="66600"/>
            </a:xfrm>
            <a:prstGeom prst="rightArrow">
              <a:avLst>
                <a:gd name="adj1" fmla="val 50000"/>
                <a:gd name="adj2" fmla="val 24432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43600" y="4429080"/>
              <a:ext cx="650880" cy="66600"/>
            </a:xfrm>
            <a:prstGeom prst="rightArrow">
              <a:avLst>
                <a:gd name="adj1" fmla="val 50000"/>
                <a:gd name="adj2" fmla="val 24432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77320" y="2819520"/>
              <a:ext cx="609480" cy="1904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29600" y="38862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29600" y="43434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F9039-6794-4446-A100-417044DB0C07}" type="slidenum">
              <a:t>16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514600" y="3581280"/>
            <a:ext cx="15620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70800" y="131760"/>
            <a:ext cx="35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ctive-D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C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7080" y="281952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i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31920" y="6858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22240" y="228600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rrent 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81080" y="3200400"/>
            <a:ext cx="406440" cy="1143000"/>
          </a:xfrm>
          <a:custGeom>
            <a:avLst/>
            <a:gdLst>
              <a:gd name="textAreaLeft" fmla="*/ 0 w 406440"/>
              <a:gd name="textAreaRight" fmla="*/ 146880 w 4064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05720" y="1295280"/>
            <a:ext cx="152388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05720" y="1523880"/>
            <a:ext cx="15238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1752480"/>
            <a:ext cx="15238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1981080"/>
            <a:ext cx="15238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29600" y="1295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705720" y="1066680"/>
            <a:ext cx="1828800" cy="228600"/>
            <a:chOff x="6705720" y="1066680"/>
            <a:chExt cx="1828800" cy="228600"/>
          </a:xfrm>
        </p:grpSpPr>
        <p:sp>
          <p:nvSpPr>
            <p:cNvPr id="437" name=""/>
            <p:cNvSpPr/>
            <p:nvPr/>
          </p:nvSpPr>
          <p:spPr>
            <a:xfrm>
              <a:off x="6705720" y="1066680"/>
              <a:ext cx="152388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29600" y="106668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8229600" y="15238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29600" y="17524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229600" y="19810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80880" y="3200400"/>
            <a:ext cx="1524240" cy="1143000"/>
            <a:chOff x="380880" y="3200400"/>
            <a:chExt cx="1524240" cy="1143000"/>
          </a:xfrm>
        </p:grpSpPr>
        <p:sp>
          <p:nvSpPr>
            <p:cNvPr id="443" name=""/>
            <p:cNvSpPr/>
            <p:nvPr/>
          </p:nvSpPr>
          <p:spPr>
            <a:xfrm>
              <a:off x="380880" y="3429000"/>
              <a:ext cx="152424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880" y="3657600"/>
              <a:ext cx="152424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880" y="3886200"/>
              <a:ext cx="152424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880" y="4114800"/>
              <a:ext cx="152424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880" y="3200400"/>
              <a:ext cx="152424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36576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00200" y="342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00200" y="32004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00200" y="38862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00200" y="41148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572000" y="2743200"/>
            <a:ext cx="1523880" cy="20574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057400"/>
              <a:gd name="textAreaBottom" fmla="*/ 1983240 h 2057400"/>
            </a:gdLst>
            <a:ahLst/>
            <a:rect l="textAreaLeft" t="textAreaTop" r="textAreaRight" b="textAreaBottom"/>
            <a:pathLst>
              <a:path w="21600" h="29161">
                <a:moveTo>
                  <a:pt x="3600" y="0"/>
                </a:moveTo>
                <a:arcTo wR="3600" hR="3600" stAng="16200000" swAng="-5400000"/>
                <a:lnTo>
                  <a:pt x="0" y="25561"/>
                </a:lnTo>
                <a:arcTo wR="3600" hR="3600" stAng="10800000" swAng="-5400000"/>
                <a:lnTo>
                  <a:pt x="18000" y="29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89520" y="2936880"/>
            <a:ext cx="901800" cy="33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89520" y="3386160"/>
            <a:ext cx="901800" cy="3380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89520" y="3836880"/>
            <a:ext cx="901800" cy="336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705720" y="2971800"/>
            <a:ext cx="1828800" cy="1600200"/>
            <a:chOff x="6705720" y="2971800"/>
            <a:chExt cx="1828800" cy="1600200"/>
          </a:xfrm>
        </p:grpSpPr>
        <p:sp>
          <p:nvSpPr>
            <p:cNvPr id="458" name=""/>
            <p:cNvSpPr/>
            <p:nvPr/>
          </p:nvSpPr>
          <p:spPr>
            <a:xfrm>
              <a:off x="6705720" y="2971800"/>
              <a:ext cx="1523880" cy="228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05720" y="3429000"/>
              <a:ext cx="1523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05720" y="3886200"/>
              <a:ext cx="1523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05720" y="4343400"/>
              <a:ext cx="1523880" cy="228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8229600" y="2971800"/>
              <a:ext cx="304920" cy="1600200"/>
              <a:chOff x="8229600" y="2971800"/>
              <a:chExt cx="304920" cy="1600200"/>
            </a:xfrm>
          </p:grpSpPr>
          <p:sp>
            <p:nvSpPr>
              <p:cNvPr id="463" name=""/>
              <p:cNvSpPr/>
              <p:nvPr/>
            </p:nvSpPr>
            <p:spPr>
              <a:xfrm>
                <a:off x="8229600" y="29718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229600" y="342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229600" y="3886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229600" y="43434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4889520" y="4286160"/>
            <a:ext cx="901800" cy="338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73400" y="3733920"/>
            <a:ext cx="498600" cy="152280"/>
          </a:xfrm>
          <a:prstGeom prst="rightArrow">
            <a:avLst>
              <a:gd name="adj1" fmla="val 50000"/>
              <a:gd name="adj2" fmla="val 818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600" y="2819520"/>
            <a:ext cx="2743200" cy="1904760"/>
            <a:chOff x="5943600" y="2819520"/>
            <a:chExt cx="2743200" cy="1904760"/>
          </a:xfrm>
        </p:grpSpPr>
        <p:grpSp>
          <p:nvGrpSpPr>
            <p:cNvPr id="470" name=""/>
            <p:cNvGrpSpPr/>
            <p:nvPr/>
          </p:nvGrpSpPr>
          <p:grpSpPr>
            <a:xfrm>
              <a:off x="5943600" y="2971800"/>
              <a:ext cx="2590920" cy="1600200"/>
              <a:chOff x="5943600" y="2971800"/>
              <a:chExt cx="2590920" cy="1600200"/>
            </a:xfrm>
          </p:grpSpPr>
          <p:sp>
            <p:nvSpPr>
              <p:cNvPr id="471" name=""/>
              <p:cNvSpPr/>
              <p:nvPr/>
            </p:nvSpPr>
            <p:spPr>
              <a:xfrm>
                <a:off x="5943600" y="3048120"/>
                <a:ext cx="650880" cy="66600"/>
              </a:xfrm>
              <a:prstGeom prst="rightArrow">
                <a:avLst>
                  <a:gd name="adj1" fmla="val 50000"/>
                  <a:gd name="adj2" fmla="val 2443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9600" y="297180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229600" y="342900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9600" y="3886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29600" y="43434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43600" y="3514680"/>
                <a:ext cx="650880" cy="66600"/>
              </a:xfrm>
              <a:prstGeom prst="rightArrow">
                <a:avLst>
                  <a:gd name="adj1" fmla="val 50000"/>
                  <a:gd name="adj2" fmla="val 2443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943600" y="3962520"/>
                <a:ext cx="650880" cy="66600"/>
              </a:xfrm>
              <a:prstGeom prst="rightArrow">
                <a:avLst>
                  <a:gd name="adj1" fmla="val 50000"/>
                  <a:gd name="adj2" fmla="val 2443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943600" y="4429080"/>
                <a:ext cx="650880" cy="66600"/>
              </a:xfrm>
              <a:prstGeom prst="rightArrow">
                <a:avLst>
                  <a:gd name="adj1" fmla="val 50000"/>
                  <a:gd name="adj2" fmla="val 2443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8077320" y="2819520"/>
              <a:ext cx="609480" cy="1904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"/>
          <p:cNvCxnSpPr>
            <a:stCxn id="435" idx="3"/>
            <a:endCxn id="458" idx="0"/>
          </p:cNvCxnSpPr>
          <p:nvPr/>
        </p:nvCxnSpPr>
        <p:spPr>
          <a:xfrm flipH="1">
            <a:off x="7467120" y="1409400"/>
            <a:ext cx="1067760" cy="1562760"/>
          </a:xfrm>
          <a:prstGeom prst="bentConnector4">
            <a:avLst>
              <a:gd name="adj1" fmla="val -21416"/>
              <a:gd name="adj2" fmla="val 69493"/>
            </a:avLst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5694840" y="10206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y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49960" y="12492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49960" y="1477800"/>
            <a:ext cx="371160" cy="779760"/>
            <a:chOff x="6249960" y="1477800"/>
            <a:chExt cx="371160" cy="779760"/>
          </a:xfrm>
        </p:grpSpPr>
        <p:sp>
          <p:nvSpPr>
            <p:cNvPr id="484" name=""/>
            <p:cNvSpPr/>
            <p:nvPr/>
          </p:nvSpPr>
          <p:spPr>
            <a:xfrm>
              <a:off x="6249960" y="147780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49960" y="175248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49960" y="198108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981080" y="3200400"/>
            <a:ext cx="406440" cy="1371600"/>
          </a:xfrm>
          <a:custGeom>
            <a:avLst/>
            <a:gdLst>
              <a:gd name="textAreaLeft" fmla="*/ 0 w 406440"/>
              <a:gd name="textAreaRight" fmla="*/ 146880 w 4064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80880" y="4343400"/>
            <a:ext cx="2209680" cy="1219320"/>
            <a:chOff x="380880" y="4343400"/>
            <a:chExt cx="2209680" cy="1219320"/>
          </a:xfrm>
        </p:grpSpPr>
        <p:sp>
          <p:nvSpPr>
            <p:cNvPr id="489" name=""/>
            <p:cNvSpPr/>
            <p:nvPr/>
          </p:nvSpPr>
          <p:spPr>
            <a:xfrm>
              <a:off x="380880" y="4343400"/>
              <a:ext cx="1270080" cy="228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00200" y="43434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"/>
            <p:cNvCxnSpPr>
              <a:stCxn id="492" idx="1"/>
              <a:endCxn id="489" idx="2"/>
            </p:cNvCxnSpPr>
            <p:nvPr/>
          </p:nvCxnSpPr>
          <p:spPr>
            <a:xfrm rot="10800000">
              <a:off x="1015200" y="4571280"/>
              <a:ext cx="1575720" cy="991440"/>
            </a:xfrm>
            <a:prstGeom prst="bentConnector2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</p:cxnSp>
      </p:grpSp>
      <p:grpSp>
        <p:nvGrpSpPr>
          <p:cNvPr id="493" name=""/>
          <p:cNvGrpSpPr/>
          <p:nvPr/>
        </p:nvGrpSpPr>
        <p:grpSpPr>
          <a:xfrm>
            <a:off x="2590920" y="1428840"/>
            <a:ext cx="6171840" cy="4819680"/>
            <a:chOff x="2590920" y="1428840"/>
            <a:chExt cx="6171840" cy="4819680"/>
          </a:xfrm>
        </p:grpSpPr>
        <p:cxnSp>
          <p:nvCxnSpPr>
            <p:cNvPr id="494" name=""/>
            <p:cNvCxnSpPr>
              <a:stCxn id="435" idx="3"/>
              <a:endCxn id="492" idx="3"/>
            </p:cNvCxnSpPr>
            <p:nvPr/>
          </p:nvCxnSpPr>
          <p:spPr>
            <a:xfrm flipH="1">
              <a:off x="3885840" y="1428840"/>
              <a:ext cx="4649040" cy="4153680"/>
            </a:xfrm>
            <a:prstGeom prst="bentConnector3">
              <a:avLst>
                <a:gd name="adj1" fmla="val -4909"/>
              </a:avLst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2590920" y="5124600"/>
              <a:ext cx="129528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93440" y="474336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cquire Lab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15"/>
            <a:stretch/>
          </p:blipFill>
          <p:spPr>
            <a:xfrm>
              <a:off x="2971800" y="5124600"/>
              <a:ext cx="46656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865B3-2BD6-48F7-826A-F6603602D26C}" type="slidenum">
              <a:t>17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Ensemb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ism in Ensembles: Bagging is easily parallelized, Boosting is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ts of Boosting to handle noisy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“weak” should a base-learner for Boosting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heoretical explanation of boosting’s ability to improve general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ly how does the diversity of ensembles affect their generalization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Boosting and Bagg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57FA-C09D-4772-B1C0-07B539ED20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Ensemb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multiple alternative definitions of a concept using different training data or different learning algorit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decisions of multiple definitions, e.g. using weighted v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93832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498840" y="2705040"/>
            <a:ext cx="1938240" cy="596880"/>
            <a:chOff x="3498840" y="2705040"/>
            <a:chExt cx="1938240" cy="596880"/>
          </a:xfrm>
        </p:grpSpPr>
        <p:sp>
          <p:nvSpPr>
            <p:cNvPr id="140" name=""/>
            <p:cNvSpPr/>
            <p:nvPr/>
          </p:nvSpPr>
          <p:spPr>
            <a:xfrm>
              <a:off x="3662640" y="2806560"/>
              <a:ext cx="160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ining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98840" y="2705040"/>
              <a:ext cx="1938240" cy="596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36640" y="3233520"/>
            <a:ext cx="5437440" cy="811440"/>
            <a:chOff x="1736640" y="3233520"/>
            <a:chExt cx="5437440" cy="811440"/>
          </a:xfrm>
        </p:grpSpPr>
        <p:grpSp>
          <p:nvGrpSpPr>
            <p:cNvPr id="143" name=""/>
            <p:cNvGrpSpPr/>
            <p:nvPr/>
          </p:nvGrpSpPr>
          <p:grpSpPr>
            <a:xfrm>
              <a:off x="1736640" y="3522600"/>
              <a:ext cx="1047960" cy="522360"/>
              <a:chOff x="1736640" y="3522600"/>
              <a:chExt cx="1047960" cy="522360"/>
            </a:xfrm>
          </p:grpSpPr>
          <p:sp>
            <p:nvSpPr>
              <p:cNvPr id="144" name=""/>
              <p:cNvSpPr/>
              <p:nvPr/>
            </p:nvSpPr>
            <p:spPr>
              <a:xfrm>
                <a:off x="1859760" y="355464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736640" y="3522600"/>
                <a:ext cx="1047960" cy="5223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126120" y="3522600"/>
              <a:ext cx="1047960" cy="522360"/>
              <a:chOff x="6126120" y="3522600"/>
              <a:chExt cx="1047960" cy="522360"/>
            </a:xfrm>
          </p:grpSpPr>
          <p:sp>
            <p:nvSpPr>
              <p:cNvPr id="147" name=""/>
              <p:cNvSpPr/>
              <p:nvPr/>
            </p:nvSpPr>
            <p:spPr>
              <a:xfrm>
                <a:off x="6248880" y="3554640"/>
                <a:ext cx="92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 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26120" y="3522600"/>
                <a:ext cx="1047960" cy="5223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132000" y="3522600"/>
              <a:ext cx="1047960" cy="522360"/>
              <a:chOff x="3132000" y="3522600"/>
              <a:chExt cx="1047960" cy="522360"/>
            </a:xfrm>
          </p:grpSpPr>
          <p:sp>
            <p:nvSpPr>
              <p:cNvPr id="150" name=""/>
              <p:cNvSpPr/>
              <p:nvPr/>
            </p:nvSpPr>
            <p:spPr>
              <a:xfrm>
                <a:off x="3255120" y="355464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32000" y="3522600"/>
                <a:ext cx="1047960" cy="5223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738600" y="3357720"/>
              <a:ext cx="287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1" idx="3"/>
              <a:endCxn id="145" idx="7"/>
            </p:cNvCxnSpPr>
            <p:nvPr/>
          </p:nvCxnSpPr>
          <p:spPr>
            <a:xfrm flipH="1">
              <a:off x="2630160" y="3233520"/>
              <a:ext cx="1152720" cy="346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1" idx="4"/>
              <a:endCxn id="151" idx="7"/>
            </p:cNvCxnSpPr>
            <p:nvPr/>
          </p:nvCxnSpPr>
          <p:spPr>
            <a:xfrm flipH="1">
              <a:off x="4025520" y="3320640"/>
              <a:ext cx="443520" cy="259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1" idx="5"/>
              <a:endCxn id="148" idx="1"/>
            </p:cNvCxnSpPr>
            <p:nvPr/>
          </p:nvCxnSpPr>
          <p:spPr>
            <a:xfrm>
              <a:off x="5152680" y="3233520"/>
              <a:ext cx="1127880" cy="346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1718640" y="4063680"/>
            <a:ext cx="5553000" cy="834120"/>
            <a:chOff x="1718640" y="4063680"/>
            <a:chExt cx="5553000" cy="834120"/>
          </a:xfrm>
        </p:grpSpPr>
        <p:sp>
          <p:nvSpPr>
            <p:cNvPr id="157" name=""/>
            <p:cNvSpPr/>
            <p:nvPr/>
          </p:nvSpPr>
          <p:spPr>
            <a:xfrm>
              <a:off x="1718640" y="4452840"/>
              <a:ext cx="1101240" cy="398880"/>
            </a:xfrm>
            <a:prstGeom prst="rect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15800" y="4433760"/>
              <a:ext cx="1101240" cy="398880"/>
            </a:xfrm>
            <a:prstGeom prst="rect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36480" y="4403880"/>
              <a:ext cx="1235160" cy="398880"/>
            </a:xfrm>
            <a:prstGeom prst="rect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45" idx="4"/>
              <a:endCxn id="157" idx="0"/>
            </p:cNvCxnSpPr>
            <p:nvPr/>
          </p:nvCxnSpPr>
          <p:spPr>
            <a:xfrm>
              <a:off x="2260080" y="4063680"/>
              <a:ext cx="10440" cy="37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1" idx="4"/>
              <a:endCxn id="158" idx="0"/>
            </p:cNvCxnSpPr>
            <p:nvPr/>
          </p:nvCxnSpPr>
          <p:spPr>
            <a:xfrm>
              <a:off x="3656160" y="4064040"/>
              <a:ext cx="11520" cy="35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48" idx="4"/>
              <a:endCxn id="159" idx="0"/>
            </p:cNvCxnSpPr>
            <p:nvPr/>
          </p:nvCxnSpPr>
          <p:spPr>
            <a:xfrm>
              <a:off x="6649920" y="4063680"/>
              <a:ext cx="5760" cy="32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3683160" y="4316400"/>
              <a:ext cx="287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754280" y="4857480"/>
            <a:ext cx="5554080" cy="839880"/>
            <a:chOff x="1754280" y="4857480"/>
            <a:chExt cx="5554080" cy="839880"/>
          </a:xfrm>
        </p:grpSpPr>
        <p:grpSp>
          <p:nvGrpSpPr>
            <p:cNvPr id="165" name=""/>
            <p:cNvGrpSpPr/>
            <p:nvPr/>
          </p:nvGrpSpPr>
          <p:grpSpPr>
            <a:xfrm>
              <a:off x="1754280" y="5175360"/>
              <a:ext cx="1047600" cy="522000"/>
              <a:chOff x="1754280" y="5175360"/>
              <a:chExt cx="1047600" cy="522000"/>
            </a:xfrm>
          </p:grpSpPr>
          <p:sp>
            <p:nvSpPr>
              <p:cNvPr id="166" name=""/>
              <p:cNvSpPr/>
              <p:nvPr/>
            </p:nvSpPr>
            <p:spPr>
              <a:xfrm>
                <a:off x="1814760" y="5206680"/>
                <a:ext cx="97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odel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54280" y="5175360"/>
                <a:ext cx="1047600" cy="52200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138480" y="5175360"/>
              <a:ext cx="1047600" cy="522000"/>
              <a:chOff x="3138480" y="5175360"/>
              <a:chExt cx="1047600" cy="522000"/>
            </a:xfrm>
          </p:grpSpPr>
          <p:sp>
            <p:nvSpPr>
              <p:cNvPr id="169" name=""/>
              <p:cNvSpPr/>
              <p:nvPr/>
            </p:nvSpPr>
            <p:spPr>
              <a:xfrm>
                <a:off x="3198960" y="5206680"/>
                <a:ext cx="97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odel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38480" y="5175360"/>
                <a:ext cx="1047600" cy="52200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19640" y="5175360"/>
              <a:ext cx="1188720" cy="522000"/>
              <a:chOff x="6119640" y="5175360"/>
              <a:chExt cx="1188720" cy="522000"/>
            </a:xfrm>
          </p:grpSpPr>
          <p:sp>
            <p:nvSpPr>
              <p:cNvPr id="172" name=""/>
              <p:cNvSpPr/>
              <p:nvPr/>
            </p:nvSpPr>
            <p:spPr>
              <a:xfrm>
                <a:off x="6187320" y="5206680"/>
                <a:ext cx="110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odel 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19640" y="5175360"/>
                <a:ext cx="1188720" cy="52200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4" name=""/>
            <p:cNvCxnSpPr>
              <a:stCxn id="157" idx="2"/>
              <a:endCxn id="167" idx="0"/>
            </p:cNvCxnSpPr>
            <p:nvPr/>
          </p:nvCxnSpPr>
          <p:spPr>
            <a:xfrm>
              <a:off x="2270160" y="4906440"/>
              <a:ext cx="8640" cy="250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8" idx="2"/>
              <a:endCxn id="170" idx="0"/>
            </p:cNvCxnSpPr>
            <p:nvPr/>
          </p:nvCxnSpPr>
          <p:spPr>
            <a:xfrm flipH="1">
              <a:off x="3661560" y="4887720"/>
              <a:ext cx="5400" cy="268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59" idx="2"/>
              <a:endCxn id="173" idx="0"/>
            </p:cNvCxnSpPr>
            <p:nvPr/>
          </p:nvCxnSpPr>
          <p:spPr>
            <a:xfrm>
              <a:off x="6654600" y="4857480"/>
              <a:ext cx="60840" cy="29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3687840" y="5030640"/>
              <a:ext cx="287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277720" y="5716440"/>
            <a:ext cx="4437360" cy="695880"/>
            <a:chOff x="2277720" y="5716440"/>
            <a:chExt cx="4437360" cy="695880"/>
          </a:xfrm>
        </p:grpSpPr>
        <p:sp>
          <p:nvSpPr>
            <p:cNvPr id="179" name=""/>
            <p:cNvSpPr/>
            <p:nvPr/>
          </p:nvSpPr>
          <p:spPr>
            <a:xfrm>
              <a:off x="3215520" y="6013440"/>
              <a:ext cx="1928880" cy="398880"/>
            </a:xfrm>
            <a:prstGeom prst="rect">
              <a:avLst/>
            </a:prstGeom>
            <a:noFill/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 Combi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67" idx="4"/>
              <a:endCxn id="179" idx="0"/>
            </p:cNvCxnSpPr>
            <p:nvPr/>
          </p:nvCxnSpPr>
          <p:spPr>
            <a:xfrm>
              <a:off x="2277720" y="5716440"/>
              <a:ext cx="1902600" cy="27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0" idx="4"/>
              <a:endCxn id="179" idx="0"/>
            </p:cNvCxnSpPr>
            <p:nvPr/>
          </p:nvCxnSpPr>
          <p:spPr>
            <a:xfrm>
              <a:off x="3662280" y="5716440"/>
              <a:ext cx="518400" cy="27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73" idx="4"/>
              <a:endCxn id="179" idx="0"/>
            </p:cNvCxnSpPr>
            <p:nvPr/>
          </p:nvCxnSpPr>
          <p:spPr>
            <a:xfrm flipH="1">
              <a:off x="4179600" y="5716440"/>
              <a:ext cx="2535840" cy="27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3" name=""/>
          <p:cNvGrpSpPr/>
          <p:nvPr/>
        </p:nvGrpSpPr>
        <p:grpSpPr>
          <a:xfrm>
            <a:off x="5178240" y="5962680"/>
            <a:ext cx="2814480" cy="522360"/>
            <a:chOff x="5178240" y="5962680"/>
            <a:chExt cx="2814480" cy="522360"/>
          </a:xfrm>
        </p:grpSpPr>
        <p:grpSp>
          <p:nvGrpSpPr>
            <p:cNvPr id="184" name=""/>
            <p:cNvGrpSpPr/>
            <p:nvPr/>
          </p:nvGrpSpPr>
          <p:grpSpPr>
            <a:xfrm>
              <a:off x="6080040" y="5962680"/>
              <a:ext cx="1912680" cy="522360"/>
              <a:chOff x="6080040" y="5962680"/>
              <a:chExt cx="1912680" cy="522360"/>
            </a:xfrm>
          </p:grpSpPr>
          <p:sp>
            <p:nvSpPr>
              <p:cNvPr id="185" name=""/>
              <p:cNvSpPr/>
              <p:nvPr/>
            </p:nvSpPr>
            <p:spPr>
              <a:xfrm>
                <a:off x="6192720" y="599436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nal 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80040" y="5962680"/>
                <a:ext cx="1912680" cy="52236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7" name=""/>
            <p:cNvCxnSpPr>
              <a:stCxn id="179" idx="3"/>
              <a:endCxn id="186" idx="2"/>
            </p:cNvCxnSpPr>
            <p:nvPr/>
          </p:nvCxnSpPr>
          <p:spPr>
            <a:xfrm flipV="1">
              <a:off x="5178240" y="6224040"/>
              <a:ext cx="88308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C0ED-2FD9-4AD3-A372-8CD84C7378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lue of Ensemb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ombing multipl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di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 each of which is at least more accurate than random guessing, random errors cancel each other out, correct decisions are reinfor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ensembles are demonstrably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ow many jelly beans in the jar?: Individual estimates vs. group averag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o Wants to be a Millionaire: Expert friend vs. audience vot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DBF3-D634-4AAF-B9FF-F26F295325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omogenous Ensemb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single, arbitrary learning algorithm but manipulate training data to make it learn multiple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1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Data2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Data 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arner1 = Learner2 = … = Learner 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ethods for changing training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agging: Resample training 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osting: Reweight training 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CORATE: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d additional artificial training 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se are calle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ta-learn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y take a learning algorithm as an argument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ase lear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create a new learning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6D91-ACFA-4118-9AA1-A5D0B06569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gg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ensembles by repeatedly randomly resampling the training data (Brieman, 199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raining set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re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draw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from the original data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replac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ach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ootstrap sampl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will on average contain 63.2% of the unique training examples, the rest are replicat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ulting models using simple majority vo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error by decreasing the variance in the results due 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unstable learn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lgorithms (like decision trees) whose output can change dramatically when the training data is slightly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FB46-7A54-476E-A08F-2926186C52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os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developed by computational learning theorists to guarantee performance improvements on fitting training data for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eak lear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only needs to generate a hypothesis with a training accuracy greater than 0.5 (Schapire, 199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ed to be a practical algorithm, AdaBoost, for building ensembles that empirically improves generalization performance (Freund &amp; Shapire, 199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re given weights. At each iteration, a new hypothesis is learned and the examples are reweighted to focus the system on examples that the most recently learned classifier got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DA16-E624-473E-93F8-A7EE27528E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osting: Basic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7360" y="1371600"/>
            <a:ext cx="8248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Lo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t all examples to have equal uniform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from 1 to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arn a hypothesis,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, from the weighte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ecrease the weights of examples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classifies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(weak) learner must focus on correctly classifying the most highly weighted examples while strongly avoiding over-fi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esting, each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ypotheses get a weighted vote proportional to their accuracy on the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0C19-30E9-4367-8374-D7DD7E7B0B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aBoost Pseudoco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6680" y="1279440"/>
            <a:ext cx="8509680" cy="59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AdaBoost(D, BaseLea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ex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t its weigh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/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an empty set of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1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 a hypothesi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om the weighted example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BaseLearn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error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f the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 total sum weight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that it classifies in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.5 then exit loop, else contin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/ (1 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 the weights of the examples that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ifies correctly by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cale the weights of all of the examples so the total sum weight remains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AdaBoos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each hypothe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ote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classification with weight log(1/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class with the highest weighted vote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D49A-B9A1-464A-9314-DED5F968A8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with Weighted 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approach is to replicate examples in the training set proportional to their weights (e.g. 10 replicates of an example with a weight of 0.01 and 100 for one with weight 0.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lgorithms can be enhanced to efficiently incorporate weights directly in the learning algorithm so that the effect is the same (e.g. implement the WeightedInstancesHandler interface in 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cision trees, for calculating information gain, when counting examp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imply increment the corresponding count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ther than by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01215-3A22-4DA1-8211-403FA53623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6-09-01T22:44:06Z</dcterms:modified>
  <cp:revision>289</cp:revision>
  <dc:subject/>
  <dc:title>Intelligent Information Retrieval and Web Search</dc:title>
</cp:coreProperties>
</file>