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6754-6E87-4CD6-AEF2-329BDD1E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7C08-3706-419C-A5ED-2BE59A96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AA2F-9928-4CAB-B012-48175FF7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5C13-3953-40E8-858C-EBC2EFD1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FAB1C-3D62-4A5A-9C76-F162067A6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40377-66C2-4E35-AC76-5677EF201C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AE551-C76D-482F-AA48-6AD08FF49D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9C451-A2EC-4855-B15F-DDA787B05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1FA7-2982-4E68-B503-25D82BE842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15DBC-03B5-41A1-B3D1-CEFBC8A897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96D2-0737-4244-944B-D7F37E37E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8D05-DE31-424D-8B3D-66966470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7F70-76DE-4818-AEC6-6356814A81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6301-5737-48D8-B522-3F447FA2C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90042-787B-4C10-91A1-30C61BA05A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D1DDA-0CAE-4486-B395-C091B9C27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E8CC-8792-43F5-A520-306B4D5AAA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EFFBF-AAA7-44F4-9D69-08684887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42CCD-94C3-48F9-85E4-5BC1265D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AC86C-2F72-4B70-A027-C592318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D12AF-CE6C-42D0-969C-CFA50DD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85C60-56FA-4BEB-824F-354EF006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E82F-5BF4-496E-9FE1-2D1D6CD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92233-A058-4092-850F-31F5BCD6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41C1C-150F-46EE-8D2F-BCE8209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52A75-5908-4284-9A2D-B4EA3BE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14281-834F-4193-B06F-9A90228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92F72-773D-46D6-8193-01D0C99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2B3C6-D516-4F4C-9D6D-D932C5F6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9A884-ABD9-4B04-9C65-A542921A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9329-B573-4663-AEFD-063742C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5D48-4A04-4262-8429-E792BFC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242D-AD06-4EB8-B002-D5B6EE3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C550-A39B-4EAA-B439-166799C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6C75-C97B-4241-B2F7-98A30A4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B34B-3033-4A14-9C70-5D987D4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81F-F295-4E09-8EFF-4517B448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B79F-791B-4719-A643-2D550C37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9CF-BD4F-41B1-98ED-20BC695EB25D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15400" cy="660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6C2-4A67-4480-9361-E83DF407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507000"/>
            <a:ext cx="243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06200"/>
            <a:ext cx="2057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14800" y="51814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5768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57680" y="48006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971800"/>
            <a:ext cx="647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FA2C-26C4-4CB1-9BF5-78337F9DB0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perimental Results on Ensembles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Freund &amp; Schapire, 1996; Quinlan, 1996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s have been used to improve generalization accuracy on a wide variety of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Boosting provides a larger increase in accuracy than Bag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sting on rare occasions can degrade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ging more consistently provides a modest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sting is particularly subject to over-fitting when there is significant noise in the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4B8E-3258-4CB5-AB58-31F17FF41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CORATE</a:t>
            </a: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Melville &amp; Mooney, 2003)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raining data by adding new artificial training examples that encourage diversity in the resulting ensem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accuracy when the training set is small, and therefore resampling and reweighting the training set has limited ability to generate diverse alternative hypo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8EAE-398F-4961-9950-E4405D0A5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057400" y="3581280"/>
            <a:ext cx="304920" cy="1143000"/>
            <a:chOff x="2057400" y="3581280"/>
            <a:chExt cx="304920" cy="1143000"/>
          </a:xfrm>
        </p:grpSpPr>
        <p:sp>
          <p:nvSpPr>
            <p:cNvPr id="234" name=""/>
            <p:cNvSpPr/>
            <p:nvPr/>
          </p:nvSpPr>
          <p:spPr>
            <a:xfrm>
              <a:off x="2057400" y="35812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7400" y="3809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7400" y="40384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7400" y="42670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7400" y="44956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4120" y="2286000"/>
            <a:ext cx="2590560" cy="1143000"/>
            <a:chOff x="5334120" y="2286000"/>
            <a:chExt cx="2590560" cy="1143000"/>
          </a:xfrm>
        </p:grpSpPr>
        <p:sp>
          <p:nvSpPr>
            <p:cNvPr id="245" name=""/>
            <p:cNvSpPr/>
            <p:nvPr/>
          </p:nvSpPr>
          <p:spPr>
            <a:xfrm>
              <a:off x="6553080" y="2286000"/>
              <a:ext cx="13716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334120" y="2514600"/>
              <a:ext cx="1218960" cy="9144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90920" y="1981080"/>
            <a:ext cx="1143000" cy="1447920"/>
            <a:chOff x="2590920" y="1981080"/>
            <a:chExt cx="1143000" cy="1447920"/>
          </a:xfrm>
        </p:grpSpPr>
        <p:sp>
          <p:nvSpPr>
            <p:cNvPr id="248" name=""/>
            <p:cNvSpPr/>
            <p:nvPr/>
          </p:nvSpPr>
          <p:spPr>
            <a:xfrm>
              <a:off x="2590920" y="1981080"/>
              <a:ext cx="380880" cy="1447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2743200"/>
              <a:ext cx="68580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600200" y="3581280"/>
            <a:ext cx="5715000" cy="2362320"/>
            <a:chOff x="1600200" y="3581280"/>
            <a:chExt cx="5715000" cy="2362320"/>
          </a:xfrm>
        </p:grpSpPr>
        <p:grpSp>
          <p:nvGrpSpPr>
            <p:cNvPr id="251" name=""/>
            <p:cNvGrpSpPr/>
            <p:nvPr/>
          </p:nvGrpSpPr>
          <p:grpSpPr>
            <a:xfrm>
              <a:off x="1600200" y="5181120"/>
              <a:ext cx="5715000" cy="762480"/>
              <a:chOff x="1600200" y="5181120"/>
              <a:chExt cx="5715000" cy="762480"/>
            </a:xfrm>
          </p:grpSpPr>
          <p:sp>
            <p:nvSpPr>
              <p:cNvPr id="252" name=""/>
              <p:cNvSpPr/>
              <p:nvPr/>
            </p:nvSpPr>
            <p:spPr>
              <a:xfrm>
                <a:off x="1600200" y="5257800"/>
                <a:ext cx="5715000" cy="685800"/>
              </a:xfrm>
              <a:custGeom>
                <a:avLst/>
                <a:gdLst/>
                <a:ahLst/>
                <a:rect l="l" t="t" r="r" b="b"/>
                <a:pathLst>
                  <a:path w="4176" h="624">
                    <a:moveTo>
                      <a:pt x="4176" y="0"/>
                    </a:moveTo>
                    <a:lnTo>
                      <a:pt x="4176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600200" y="5181120"/>
                <a:ext cx="0" cy="2286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057400" y="3581280"/>
              <a:ext cx="304920" cy="1143000"/>
              <a:chOff x="2057400" y="3581280"/>
              <a:chExt cx="304920" cy="1143000"/>
            </a:xfrm>
          </p:grpSpPr>
          <p:sp>
            <p:nvSpPr>
              <p:cNvPr id="255" name=""/>
              <p:cNvSpPr/>
              <p:nvPr/>
            </p:nvSpPr>
            <p:spPr>
              <a:xfrm>
                <a:off x="2057400" y="35812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38098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57400" y="40384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400" y="42670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57400" y="44956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FCE5-C655-4911-8AD3-8CC02887CBAF}" type="slidenum">
              <a:t>1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286000"/>
            <a:ext cx="1371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981080"/>
            <a:ext cx="1143000" cy="2895840"/>
            <a:chOff x="2590920" y="1981080"/>
            <a:chExt cx="1143000" cy="2895840"/>
          </a:xfrm>
        </p:grpSpPr>
        <p:sp>
          <p:nvSpPr>
            <p:cNvPr id="290" name=""/>
            <p:cNvSpPr/>
            <p:nvPr/>
          </p:nvSpPr>
          <p:spPr>
            <a:xfrm>
              <a:off x="2590920" y="1981080"/>
              <a:ext cx="380880" cy="2895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24080" y="3352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57400" y="3581280"/>
            <a:ext cx="304920" cy="1143000"/>
            <a:chOff x="2057400" y="3581280"/>
            <a:chExt cx="304920" cy="1143000"/>
          </a:xfrm>
        </p:grpSpPr>
        <p:sp>
          <p:nvSpPr>
            <p:cNvPr id="293" name=""/>
            <p:cNvSpPr/>
            <p:nvPr/>
          </p:nvSpPr>
          <p:spPr>
            <a:xfrm>
              <a:off x="2057400" y="35812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3809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403848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400" y="42670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7400" y="449568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334120" y="3200400"/>
            <a:ext cx="2590560" cy="457200"/>
            <a:chOff x="5334120" y="3200400"/>
            <a:chExt cx="2590560" cy="457200"/>
          </a:xfrm>
        </p:grpSpPr>
        <p:sp>
          <p:nvSpPr>
            <p:cNvPr id="304" name=""/>
            <p:cNvSpPr/>
            <p:nvPr/>
          </p:nvSpPr>
          <p:spPr>
            <a:xfrm>
              <a:off x="6553080" y="3200400"/>
              <a:ext cx="1371600" cy="457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3429000"/>
              <a:ext cx="1218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00200" y="3581280"/>
            <a:ext cx="5715000" cy="2362320"/>
            <a:chOff x="1600200" y="3581280"/>
            <a:chExt cx="5715000" cy="2362320"/>
          </a:xfrm>
        </p:grpSpPr>
        <p:grpSp>
          <p:nvGrpSpPr>
            <p:cNvPr id="307" name=""/>
            <p:cNvGrpSpPr/>
            <p:nvPr/>
          </p:nvGrpSpPr>
          <p:grpSpPr>
            <a:xfrm>
              <a:off x="1600200" y="5181120"/>
              <a:ext cx="5715000" cy="762480"/>
              <a:chOff x="1600200" y="5181120"/>
              <a:chExt cx="5715000" cy="762480"/>
            </a:xfrm>
          </p:grpSpPr>
          <p:sp>
            <p:nvSpPr>
              <p:cNvPr id="308" name=""/>
              <p:cNvSpPr/>
              <p:nvPr/>
            </p:nvSpPr>
            <p:spPr>
              <a:xfrm>
                <a:off x="1600200" y="5257800"/>
                <a:ext cx="5715000" cy="685800"/>
              </a:xfrm>
              <a:custGeom>
                <a:avLst/>
                <a:gdLst/>
                <a:ahLst/>
                <a:rect l="l" t="t" r="r" b="b"/>
                <a:pathLst>
                  <a:path w="4176" h="624">
                    <a:moveTo>
                      <a:pt x="4176" y="0"/>
                    </a:moveTo>
                    <a:lnTo>
                      <a:pt x="4176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1600200" y="5181120"/>
                <a:ext cx="0" cy="2286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057400" y="3581280"/>
              <a:ext cx="304920" cy="1143000"/>
              <a:chOff x="2057400" y="3581280"/>
              <a:chExt cx="304920" cy="1143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057400" y="35812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057400" y="38098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57400" y="40384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7400" y="426708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57400" y="449568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5D3A-EAEA-4619-AF82-87DAB5D472CB}" type="slidenum">
              <a:t>13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3581280"/>
            <a:ext cx="1524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809880"/>
            <a:ext cx="15242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038480"/>
            <a:ext cx="15242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4267080"/>
            <a:ext cx="15242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4495680"/>
            <a:ext cx="15242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362320"/>
            <a:ext cx="15242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590920"/>
            <a:ext cx="15242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819520"/>
            <a:ext cx="1524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8120"/>
            <a:ext cx="1524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2133720"/>
            <a:ext cx="152424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1905120"/>
            <a:ext cx="2514600" cy="304776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047760"/>
              <a:gd name="textAreaBottom" fmla="*/ 2925000 h 3047760"/>
            </a:gdLst>
            <a:ahLst/>
            <a:rect l="textAreaLeft" t="textAreaTop" r="textAreaRight" b="textAreaBottom"/>
            <a:pathLst>
              <a:path w="21600" h="26179">
                <a:moveTo>
                  <a:pt x="3600" y="0"/>
                </a:moveTo>
                <a:arcTo wR="3600" hR="3600" stAng="16200000" swAng="-5400000"/>
                <a:lnTo>
                  <a:pt x="0" y="22579"/>
                </a:lnTo>
                <a:arcTo wR="3600" hR="3600" stAng="10800000" swAng="-5400000"/>
                <a:lnTo>
                  <a:pt x="18000" y="26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286000"/>
            <a:ext cx="1371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3200400"/>
            <a:ext cx="13716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72080" y="320040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se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6720" y="22860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verview of 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5480" y="181440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5760" y="47102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rtificial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9640" y="15238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920" y="1981080"/>
            <a:ext cx="1143000" cy="2895840"/>
            <a:chOff x="2590920" y="1981080"/>
            <a:chExt cx="1143000" cy="2895840"/>
          </a:xfrm>
        </p:grpSpPr>
        <p:sp>
          <p:nvSpPr>
            <p:cNvPr id="348" name=""/>
            <p:cNvSpPr/>
            <p:nvPr/>
          </p:nvSpPr>
          <p:spPr>
            <a:xfrm>
              <a:off x="2590920" y="1981080"/>
              <a:ext cx="380880" cy="2895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4080" y="3352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057400" y="3581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38098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0384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26708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4495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21337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8195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304812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34120" y="3429000"/>
            <a:ext cx="2666880" cy="1143000"/>
            <a:chOff x="5334120" y="3429000"/>
            <a:chExt cx="2666880" cy="1143000"/>
          </a:xfrm>
        </p:grpSpPr>
        <p:sp>
          <p:nvSpPr>
            <p:cNvPr id="361" name=""/>
            <p:cNvSpPr/>
            <p:nvPr/>
          </p:nvSpPr>
          <p:spPr>
            <a:xfrm>
              <a:off x="6629400" y="4114800"/>
              <a:ext cx="1371600" cy="4572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4120" y="3429000"/>
              <a:ext cx="1295280" cy="9144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05120" y="3505320"/>
            <a:ext cx="6094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F1E2-A8C4-4C8D-A3AC-21E8167DCB58}" type="slidenum">
              <a:t>1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sembles and Activ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can be used to actively select good new training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unlabeled example that causes the most disagreement amongst the members of the ensem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ble to any ensemble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ByBagg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ueryByBoost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tiv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CORAT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2E49-1EF2-4FE0-848B-2630D220A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514600" y="358128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0800" y="131760"/>
            <a:ext cx="35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ctive-D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7080" y="281952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6858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22240" y="2286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200400"/>
            <a:ext cx="406440" cy="1143000"/>
          </a:xfrm>
          <a:custGeom>
            <a:avLst/>
            <a:gdLst>
              <a:gd name="textAreaLeft" fmla="*/ 0 w 406440"/>
              <a:gd name="textAreaRight" fmla="*/ 146880 w 4064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1295280"/>
            <a:ext cx="15238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1523880"/>
            <a:ext cx="1523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1752480"/>
            <a:ext cx="15238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1981080"/>
            <a:ext cx="1523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29600" y="1295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705720" y="1066680"/>
            <a:ext cx="1828800" cy="228600"/>
            <a:chOff x="6705720" y="1066680"/>
            <a:chExt cx="1828800" cy="228600"/>
          </a:xfrm>
        </p:grpSpPr>
        <p:sp>
          <p:nvSpPr>
            <p:cNvPr id="378" name=""/>
            <p:cNvSpPr/>
            <p:nvPr/>
          </p:nvSpPr>
          <p:spPr>
            <a:xfrm>
              <a:off x="6705720" y="1066680"/>
              <a:ext cx="152388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9600" y="106668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8229600" y="15238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17524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29600" y="1981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3200400"/>
            <a:ext cx="1524240" cy="1143000"/>
            <a:chOff x="380880" y="3200400"/>
            <a:chExt cx="1524240" cy="1143000"/>
          </a:xfrm>
        </p:grpSpPr>
        <p:sp>
          <p:nvSpPr>
            <p:cNvPr id="384" name=""/>
            <p:cNvSpPr/>
            <p:nvPr/>
          </p:nvSpPr>
          <p:spPr>
            <a:xfrm>
              <a:off x="380880" y="3429000"/>
              <a:ext cx="152424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3657600"/>
              <a:ext cx="152424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3886200"/>
              <a:ext cx="152424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0880" y="4114800"/>
              <a:ext cx="1524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880" y="3200400"/>
              <a:ext cx="1524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00200" y="36576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00200" y="342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00200" y="3200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00200" y="41148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572000" y="2743200"/>
            <a:ext cx="1523880" cy="20574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057400"/>
              <a:gd name="textAreaBottom" fmla="*/ 1983240 h 2057400"/>
            </a:gdLst>
            <a:ahLst/>
            <a:rect l="textAreaLeft" t="textAreaTop" r="textAreaRight" b="textAreaBottom"/>
            <a:pathLst>
              <a:path w="21600" h="29161">
                <a:moveTo>
                  <a:pt x="3600" y="0"/>
                </a:moveTo>
                <a:arcTo wR="3600" hR="3600" stAng="16200000" swAng="-5400000"/>
                <a:lnTo>
                  <a:pt x="0" y="25561"/>
                </a:lnTo>
                <a:arcTo wR="3600" hR="3600" stAng="10800000" swAng="-5400000"/>
                <a:lnTo>
                  <a:pt x="18000" y="29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2936880"/>
            <a:ext cx="90180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89520" y="3386160"/>
            <a:ext cx="901800" cy="3380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89520" y="3836880"/>
            <a:ext cx="901800" cy="336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9520" y="4286160"/>
            <a:ext cx="901800" cy="338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73400" y="3733920"/>
            <a:ext cx="498600" cy="152280"/>
          </a:xfrm>
          <a:prstGeom prst="rightArrow">
            <a:avLst>
              <a:gd name="adj1" fmla="val 50000"/>
              <a:gd name="adj2" fmla="val 81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79" idx="3"/>
          </p:cNvCxnSpPr>
          <p:nvPr/>
        </p:nvCxnSpPr>
        <p:spPr>
          <a:xfrm flipH="1">
            <a:off x="7467120" y="1181160"/>
            <a:ext cx="1067760" cy="1791360"/>
          </a:xfrm>
          <a:prstGeom prst="bentConnector4">
            <a:avLst>
              <a:gd name="adj1" fmla="val -21416"/>
              <a:gd name="adj2" fmla="val 73386"/>
            </a:avLst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5694840" y="1020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705720" y="2971800"/>
            <a:ext cx="1828800" cy="1600200"/>
            <a:chOff x="6705720" y="2971800"/>
            <a:chExt cx="1828800" cy="1600200"/>
          </a:xfrm>
        </p:grpSpPr>
        <p:grpSp>
          <p:nvGrpSpPr>
            <p:cNvPr id="403" name=""/>
            <p:cNvGrpSpPr/>
            <p:nvPr/>
          </p:nvGrpSpPr>
          <p:grpSpPr>
            <a:xfrm>
              <a:off x="6705720" y="3429000"/>
              <a:ext cx="1828800" cy="228600"/>
              <a:chOff x="6705720" y="3429000"/>
              <a:chExt cx="1828800" cy="228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705720" y="3429000"/>
                <a:ext cx="1523880" cy="2286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705720" y="2971800"/>
              <a:ext cx="1828800" cy="228600"/>
              <a:chOff x="6705720" y="2971800"/>
              <a:chExt cx="1828800" cy="228600"/>
            </a:xfrm>
          </p:grpSpPr>
          <p:sp>
            <p:nvSpPr>
              <p:cNvPr id="407" name=""/>
              <p:cNvSpPr/>
              <p:nvPr/>
            </p:nvSpPr>
            <p:spPr>
              <a:xfrm>
                <a:off x="6705720" y="2971800"/>
                <a:ext cx="1523880" cy="2286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705720" y="3886200"/>
              <a:ext cx="1828800" cy="228600"/>
              <a:chOff x="6705720" y="3886200"/>
              <a:chExt cx="1828800" cy="228600"/>
            </a:xfrm>
          </p:grpSpPr>
          <p:sp>
            <p:nvSpPr>
              <p:cNvPr id="410" name=""/>
              <p:cNvSpPr/>
              <p:nvPr/>
            </p:nvSpPr>
            <p:spPr>
              <a:xfrm>
                <a:off x="6705720" y="3886200"/>
                <a:ext cx="1523880" cy="2286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705720" y="4343400"/>
              <a:ext cx="1828800" cy="228600"/>
              <a:chOff x="6705720" y="4343400"/>
              <a:chExt cx="1828800" cy="228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705720" y="4343400"/>
                <a:ext cx="1523880" cy="2286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5943600" y="2819520"/>
            <a:ext cx="2743200" cy="1904760"/>
            <a:chOff x="5943600" y="2819520"/>
            <a:chExt cx="2743200" cy="1904760"/>
          </a:xfrm>
        </p:grpSpPr>
        <p:sp>
          <p:nvSpPr>
            <p:cNvPr id="416" name=""/>
            <p:cNvSpPr/>
            <p:nvPr/>
          </p:nvSpPr>
          <p:spPr>
            <a:xfrm>
              <a:off x="5943600" y="304812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29600" y="29718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29600" y="34290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600" y="351468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3600" y="396252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4429080"/>
              <a:ext cx="650880" cy="66600"/>
            </a:xfrm>
            <a:prstGeom prst="rightArrow">
              <a:avLst>
                <a:gd name="adj1" fmla="val 50000"/>
                <a:gd name="adj2" fmla="val 2443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77320" y="2819520"/>
              <a:ext cx="609480" cy="1904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296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4343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D78E-9054-4253-BC7B-77445912B424}" type="slidenum">
              <a:t>16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514600" y="3581280"/>
            <a:ext cx="15620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70800" y="131760"/>
            <a:ext cx="35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ctive-D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C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7080" y="281952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i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31920" y="6858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22240" y="2286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En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3200400"/>
            <a:ext cx="406440" cy="1143000"/>
          </a:xfrm>
          <a:custGeom>
            <a:avLst/>
            <a:gdLst>
              <a:gd name="textAreaLeft" fmla="*/ 0 w 406440"/>
              <a:gd name="textAreaRight" fmla="*/ 146880 w 4064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1295280"/>
            <a:ext cx="15238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523880"/>
            <a:ext cx="1523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1752480"/>
            <a:ext cx="15238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1981080"/>
            <a:ext cx="1523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29600" y="1295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705720" y="1066680"/>
            <a:ext cx="1828800" cy="228600"/>
            <a:chOff x="6705720" y="1066680"/>
            <a:chExt cx="1828800" cy="228600"/>
          </a:xfrm>
        </p:grpSpPr>
        <p:sp>
          <p:nvSpPr>
            <p:cNvPr id="437" name=""/>
            <p:cNvSpPr/>
            <p:nvPr/>
          </p:nvSpPr>
          <p:spPr>
            <a:xfrm>
              <a:off x="6705720" y="1066680"/>
              <a:ext cx="152388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29600" y="106668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8229600" y="15238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17524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9600" y="1981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880" y="3200400"/>
            <a:ext cx="1524240" cy="1143000"/>
            <a:chOff x="380880" y="3200400"/>
            <a:chExt cx="1524240" cy="1143000"/>
          </a:xfrm>
        </p:grpSpPr>
        <p:sp>
          <p:nvSpPr>
            <p:cNvPr id="443" name=""/>
            <p:cNvSpPr/>
            <p:nvPr/>
          </p:nvSpPr>
          <p:spPr>
            <a:xfrm>
              <a:off x="380880" y="3429000"/>
              <a:ext cx="152424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880" y="3657600"/>
              <a:ext cx="152424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3886200"/>
              <a:ext cx="152424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880" y="4114800"/>
              <a:ext cx="1524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3200400"/>
              <a:ext cx="1524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36576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00200" y="342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3200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00200" y="38862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00200" y="41148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572000" y="2743200"/>
            <a:ext cx="1523880" cy="20574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057400"/>
              <a:gd name="textAreaBottom" fmla="*/ 1983240 h 2057400"/>
            </a:gdLst>
            <a:ahLst/>
            <a:rect l="textAreaLeft" t="textAreaTop" r="textAreaRight" b="textAreaBottom"/>
            <a:pathLst>
              <a:path w="21600" h="29161">
                <a:moveTo>
                  <a:pt x="3600" y="0"/>
                </a:moveTo>
                <a:arcTo wR="3600" hR="3600" stAng="16200000" swAng="-5400000"/>
                <a:lnTo>
                  <a:pt x="0" y="25561"/>
                </a:lnTo>
                <a:arcTo wR="3600" hR="3600" stAng="10800000" swAng="-5400000"/>
                <a:lnTo>
                  <a:pt x="18000" y="29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89520" y="2936880"/>
            <a:ext cx="90180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89520" y="3386160"/>
            <a:ext cx="901800" cy="3380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89520" y="3836880"/>
            <a:ext cx="901800" cy="336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705720" y="2971800"/>
            <a:ext cx="1828800" cy="1600200"/>
            <a:chOff x="6705720" y="2971800"/>
            <a:chExt cx="1828800" cy="1600200"/>
          </a:xfrm>
        </p:grpSpPr>
        <p:sp>
          <p:nvSpPr>
            <p:cNvPr id="458" name=""/>
            <p:cNvSpPr/>
            <p:nvPr/>
          </p:nvSpPr>
          <p:spPr>
            <a:xfrm>
              <a:off x="6705720" y="2971800"/>
              <a:ext cx="152388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05720" y="3429000"/>
              <a:ext cx="1523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05720" y="3886200"/>
              <a:ext cx="1523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05720" y="4343400"/>
              <a:ext cx="152388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8229600" y="2971800"/>
              <a:ext cx="304920" cy="1600200"/>
              <a:chOff x="8229600" y="2971800"/>
              <a:chExt cx="304920" cy="1600200"/>
            </a:xfrm>
          </p:grpSpPr>
          <p:sp>
            <p:nvSpPr>
              <p:cNvPr id="463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4889520" y="4286160"/>
            <a:ext cx="901800" cy="338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3400" y="3733920"/>
            <a:ext cx="498600" cy="152280"/>
          </a:xfrm>
          <a:prstGeom prst="rightArrow">
            <a:avLst>
              <a:gd name="adj1" fmla="val 50000"/>
              <a:gd name="adj2" fmla="val 81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600" y="2819520"/>
            <a:ext cx="2743200" cy="1904760"/>
            <a:chOff x="5943600" y="2819520"/>
            <a:chExt cx="2743200" cy="1904760"/>
          </a:xfrm>
        </p:grpSpPr>
        <p:grpSp>
          <p:nvGrpSpPr>
            <p:cNvPr id="470" name=""/>
            <p:cNvGrpSpPr/>
            <p:nvPr/>
          </p:nvGrpSpPr>
          <p:grpSpPr>
            <a:xfrm>
              <a:off x="5943600" y="2971800"/>
              <a:ext cx="2590920" cy="1600200"/>
              <a:chOff x="5943600" y="2971800"/>
              <a:chExt cx="2590920" cy="1600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943600" y="304812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9600" y="297180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29600" y="3429000"/>
                <a:ext cx="304920" cy="22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9600" y="3886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29600" y="43434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43600" y="351468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43600" y="396252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43600" y="4429080"/>
                <a:ext cx="650880" cy="66600"/>
              </a:xfrm>
              <a:prstGeom prst="rightArrow">
                <a:avLst>
                  <a:gd name="adj1" fmla="val 50000"/>
                  <a:gd name="adj2" fmla="val 2443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8077320" y="2819520"/>
              <a:ext cx="609480" cy="1904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"/>
          <p:cNvCxnSpPr>
            <a:stCxn id="435" idx="3"/>
            <a:endCxn id="458" idx="0"/>
          </p:cNvCxnSpPr>
          <p:nvPr/>
        </p:nvCxnSpPr>
        <p:spPr>
          <a:xfrm flipH="1">
            <a:off x="7467120" y="1409400"/>
            <a:ext cx="1067760" cy="1562760"/>
          </a:xfrm>
          <a:prstGeom prst="bentConnector4">
            <a:avLst>
              <a:gd name="adj1" fmla="val -21416"/>
              <a:gd name="adj2" fmla="val 69493"/>
            </a:avLst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5694840" y="1020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9960" y="12492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49960" y="1477800"/>
            <a:ext cx="371160" cy="779760"/>
            <a:chOff x="6249960" y="1477800"/>
            <a:chExt cx="371160" cy="779760"/>
          </a:xfrm>
        </p:grpSpPr>
        <p:sp>
          <p:nvSpPr>
            <p:cNvPr id="484" name=""/>
            <p:cNvSpPr/>
            <p:nvPr/>
          </p:nvSpPr>
          <p:spPr>
            <a:xfrm>
              <a:off x="6249960" y="14778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49960" y="175248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49960" y="198108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981080" y="3200400"/>
            <a:ext cx="406440" cy="1371600"/>
          </a:xfrm>
          <a:custGeom>
            <a:avLst/>
            <a:gdLst>
              <a:gd name="textAreaLeft" fmla="*/ 0 w 406440"/>
              <a:gd name="textAreaRight" fmla="*/ 146880 w 406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80880" y="4343400"/>
            <a:ext cx="2209680" cy="1219320"/>
            <a:chOff x="380880" y="4343400"/>
            <a:chExt cx="2209680" cy="1219320"/>
          </a:xfrm>
        </p:grpSpPr>
        <p:sp>
          <p:nvSpPr>
            <p:cNvPr id="489" name=""/>
            <p:cNvSpPr/>
            <p:nvPr/>
          </p:nvSpPr>
          <p:spPr>
            <a:xfrm>
              <a:off x="380880" y="4343400"/>
              <a:ext cx="127008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4343400"/>
              <a:ext cx="3049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"/>
            <p:cNvCxnSpPr>
              <a:stCxn id="492" idx="1"/>
              <a:endCxn id="489" idx="2"/>
            </p:cNvCxnSpPr>
            <p:nvPr/>
          </p:nvCxnSpPr>
          <p:spPr>
            <a:xfrm rot="10800000">
              <a:off x="1015200" y="4571280"/>
              <a:ext cx="1575720" cy="991440"/>
            </a:xfrm>
            <a:prstGeom prst="bentConnector2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</p:cxnSp>
      </p:grpSp>
      <p:grpSp>
        <p:nvGrpSpPr>
          <p:cNvPr id="493" name=""/>
          <p:cNvGrpSpPr/>
          <p:nvPr/>
        </p:nvGrpSpPr>
        <p:grpSpPr>
          <a:xfrm>
            <a:off x="2590920" y="1428840"/>
            <a:ext cx="6171840" cy="4819680"/>
            <a:chOff x="2590920" y="1428840"/>
            <a:chExt cx="6171840" cy="4819680"/>
          </a:xfrm>
        </p:grpSpPr>
        <p:cxnSp>
          <p:nvCxnSpPr>
            <p:cNvPr id="494" name=""/>
            <p:cNvCxnSpPr>
              <a:stCxn id="435" idx="3"/>
              <a:endCxn id="492" idx="3"/>
            </p:cNvCxnSpPr>
            <p:nvPr/>
          </p:nvCxnSpPr>
          <p:spPr>
            <a:xfrm flipH="1">
              <a:off x="3885840" y="1428840"/>
              <a:ext cx="4649040" cy="4153680"/>
            </a:xfrm>
            <a:prstGeom prst="bentConnector3">
              <a:avLst>
                <a:gd name="adj1" fmla="val -4909"/>
              </a:avLst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2590920" y="5124600"/>
              <a:ext cx="129528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3440" y="474336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cquire 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15"/>
            <a:stretch/>
          </p:blipFill>
          <p:spPr>
            <a:xfrm>
              <a:off x="2971800" y="5124600"/>
              <a:ext cx="46656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CD5AE-FB06-4659-9246-12ABD61D0B1C}" type="slidenum">
              <a:t>17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ism in Ensembles: Bagging is easily parallelized, Boosting i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s of Boosting to handle noisy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“weak” should a base-learner for Boosting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heoretical explanation of boosting’s ability to improve general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how does the diversity of ensembles affect their generalization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Boosting and Bagg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D4E0-1FEA-48FF-A393-B360E88C95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multiple alternative definitions of a concept using different training data or different learning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decisions of multiple definitions, e.g. using weighted v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93832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98840" y="2705040"/>
            <a:ext cx="1938240" cy="596880"/>
            <a:chOff x="3498840" y="2705040"/>
            <a:chExt cx="1938240" cy="596880"/>
          </a:xfrm>
        </p:grpSpPr>
        <p:sp>
          <p:nvSpPr>
            <p:cNvPr id="140" name=""/>
            <p:cNvSpPr/>
            <p:nvPr/>
          </p:nvSpPr>
          <p:spPr>
            <a:xfrm>
              <a:off x="3662640" y="280656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8840" y="2705040"/>
              <a:ext cx="1938240" cy="596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36640" y="3233520"/>
            <a:ext cx="5437440" cy="811440"/>
            <a:chOff x="1736640" y="3233520"/>
            <a:chExt cx="5437440" cy="811440"/>
          </a:xfrm>
        </p:grpSpPr>
        <p:grpSp>
          <p:nvGrpSpPr>
            <p:cNvPr id="143" name=""/>
            <p:cNvGrpSpPr/>
            <p:nvPr/>
          </p:nvGrpSpPr>
          <p:grpSpPr>
            <a:xfrm>
              <a:off x="1736640" y="3522600"/>
              <a:ext cx="1047960" cy="522360"/>
              <a:chOff x="1736640" y="3522600"/>
              <a:chExt cx="1047960" cy="522360"/>
            </a:xfrm>
          </p:grpSpPr>
          <p:sp>
            <p:nvSpPr>
              <p:cNvPr id="144" name=""/>
              <p:cNvSpPr/>
              <p:nvPr/>
            </p:nvSpPr>
            <p:spPr>
              <a:xfrm>
                <a:off x="1859760" y="35546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3664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126120" y="3522600"/>
              <a:ext cx="1047960" cy="522360"/>
              <a:chOff x="6126120" y="3522600"/>
              <a:chExt cx="1047960" cy="522360"/>
            </a:xfrm>
          </p:grpSpPr>
          <p:sp>
            <p:nvSpPr>
              <p:cNvPr id="147" name=""/>
              <p:cNvSpPr/>
              <p:nvPr/>
            </p:nvSpPr>
            <p:spPr>
              <a:xfrm>
                <a:off x="6248880" y="3554640"/>
                <a:ext cx="92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 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2612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132000" y="3522600"/>
              <a:ext cx="1047960" cy="522360"/>
              <a:chOff x="3132000" y="3522600"/>
              <a:chExt cx="1047960" cy="522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255120" y="35546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32000" y="3522600"/>
                <a:ext cx="1047960" cy="5223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738600" y="335772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1" idx="3"/>
              <a:endCxn id="145" idx="7"/>
            </p:cNvCxnSpPr>
            <p:nvPr/>
          </p:nvCxnSpPr>
          <p:spPr>
            <a:xfrm flipH="1">
              <a:off x="2630160" y="3233520"/>
              <a:ext cx="1152720" cy="34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1" idx="4"/>
              <a:endCxn id="151" idx="7"/>
            </p:cNvCxnSpPr>
            <p:nvPr/>
          </p:nvCxnSpPr>
          <p:spPr>
            <a:xfrm flipH="1">
              <a:off x="4025520" y="3320640"/>
              <a:ext cx="443520" cy="259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1" idx="5"/>
              <a:endCxn id="148" idx="1"/>
            </p:cNvCxnSpPr>
            <p:nvPr/>
          </p:nvCxnSpPr>
          <p:spPr>
            <a:xfrm>
              <a:off x="5152680" y="3233520"/>
              <a:ext cx="1127880" cy="34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1718640" y="4063680"/>
            <a:ext cx="5553000" cy="834120"/>
            <a:chOff x="1718640" y="4063680"/>
            <a:chExt cx="5553000" cy="834120"/>
          </a:xfrm>
        </p:grpSpPr>
        <p:sp>
          <p:nvSpPr>
            <p:cNvPr id="157" name=""/>
            <p:cNvSpPr/>
            <p:nvPr/>
          </p:nvSpPr>
          <p:spPr>
            <a:xfrm>
              <a:off x="1718640" y="4452840"/>
              <a:ext cx="110124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15800" y="4433760"/>
              <a:ext cx="110124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36480" y="4403880"/>
              <a:ext cx="1235160" cy="39888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er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45" idx="4"/>
              <a:endCxn id="157" idx="0"/>
            </p:cNvCxnSpPr>
            <p:nvPr/>
          </p:nvCxnSpPr>
          <p:spPr>
            <a:xfrm>
              <a:off x="2260080" y="4063680"/>
              <a:ext cx="10440" cy="37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1" idx="4"/>
              <a:endCxn id="158" idx="0"/>
            </p:cNvCxnSpPr>
            <p:nvPr/>
          </p:nvCxnSpPr>
          <p:spPr>
            <a:xfrm>
              <a:off x="3656160" y="4064040"/>
              <a:ext cx="1152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48" idx="4"/>
              <a:endCxn id="159" idx="0"/>
            </p:cNvCxnSpPr>
            <p:nvPr/>
          </p:nvCxnSpPr>
          <p:spPr>
            <a:xfrm>
              <a:off x="6649920" y="4063680"/>
              <a:ext cx="5760" cy="32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3683160" y="431640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754280" y="4857480"/>
            <a:ext cx="5554080" cy="839880"/>
            <a:chOff x="1754280" y="4857480"/>
            <a:chExt cx="5554080" cy="839880"/>
          </a:xfrm>
        </p:grpSpPr>
        <p:grpSp>
          <p:nvGrpSpPr>
            <p:cNvPr id="165" name=""/>
            <p:cNvGrpSpPr/>
            <p:nvPr/>
          </p:nvGrpSpPr>
          <p:grpSpPr>
            <a:xfrm>
              <a:off x="1754280" y="5175360"/>
              <a:ext cx="1047600" cy="522000"/>
              <a:chOff x="1754280" y="5175360"/>
              <a:chExt cx="1047600" cy="522000"/>
            </a:xfrm>
          </p:grpSpPr>
          <p:sp>
            <p:nvSpPr>
              <p:cNvPr id="166" name=""/>
              <p:cNvSpPr/>
              <p:nvPr/>
            </p:nvSpPr>
            <p:spPr>
              <a:xfrm>
                <a:off x="1814760" y="520668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54280" y="5175360"/>
                <a:ext cx="104760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138480" y="5175360"/>
              <a:ext cx="1047600" cy="522000"/>
              <a:chOff x="3138480" y="5175360"/>
              <a:chExt cx="1047600" cy="522000"/>
            </a:xfrm>
          </p:grpSpPr>
          <p:sp>
            <p:nvSpPr>
              <p:cNvPr id="169" name=""/>
              <p:cNvSpPr/>
              <p:nvPr/>
            </p:nvSpPr>
            <p:spPr>
              <a:xfrm>
                <a:off x="3198960" y="520668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38480" y="5175360"/>
                <a:ext cx="104760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19640" y="5175360"/>
              <a:ext cx="1188720" cy="522000"/>
              <a:chOff x="6119640" y="5175360"/>
              <a:chExt cx="1188720" cy="5220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87320" y="5206680"/>
                <a:ext cx="110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del 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19640" y="5175360"/>
                <a:ext cx="1188720" cy="5220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4" name=""/>
            <p:cNvCxnSpPr>
              <a:stCxn id="157" idx="2"/>
              <a:endCxn id="167" idx="0"/>
            </p:cNvCxnSpPr>
            <p:nvPr/>
          </p:nvCxnSpPr>
          <p:spPr>
            <a:xfrm>
              <a:off x="2270160" y="4906440"/>
              <a:ext cx="8640" cy="250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8" idx="2"/>
              <a:endCxn id="170" idx="0"/>
            </p:cNvCxnSpPr>
            <p:nvPr/>
          </p:nvCxnSpPr>
          <p:spPr>
            <a:xfrm flipH="1">
              <a:off x="3661560" y="4887720"/>
              <a:ext cx="5400" cy="26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9" idx="2"/>
              <a:endCxn id="173" idx="0"/>
            </p:cNvCxnSpPr>
            <p:nvPr/>
          </p:nvCxnSpPr>
          <p:spPr>
            <a:xfrm>
              <a:off x="6654600" y="4857480"/>
              <a:ext cx="60840" cy="29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3687840" y="5030640"/>
              <a:ext cx="28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277720" y="5716440"/>
            <a:ext cx="4437360" cy="695880"/>
            <a:chOff x="2277720" y="5716440"/>
            <a:chExt cx="4437360" cy="695880"/>
          </a:xfrm>
        </p:grpSpPr>
        <p:sp>
          <p:nvSpPr>
            <p:cNvPr id="179" name=""/>
            <p:cNvSpPr/>
            <p:nvPr/>
          </p:nvSpPr>
          <p:spPr>
            <a:xfrm>
              <a:off x="3215520" y="6013440"/>
              <a:ext cx="1928880" cy="398880"/>
            </a:xfrm>
            <a:prstGeom prst="rect">
              <a:avLst/>
            </a:prstGeom>
            <a:noFill/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Combi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67" idx="4"/>
              <a:endCxn id="179" idx="0"/>
            </p:cNvCxnSpPr>
            <p:nvPr/>
          </p:nvCxnSpPr>
          <p:spPr>
            <a:xfrm>
              <a:off x="2277720" y="5716440"/>
              <a:ext cx="190260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0" idx="4"/>
              <a:endCxn id="179" idx="0"/>
            </p:cNvCxnSpPr>
            <p:nvPr/>
          </p:nvCxnSpPr>
          <p:spPr>
            <a:xfrm>
              <a:off x="3662280" y="5716440"/>
              <a:ext cx="51840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73" idx="4"/>
              <a:endCxn id="179" idx="0"/>
            </p:cNvCxnSpPr>
            <p:nvPr/>
          </p:nvCxnSpPr>
          <p:spPr>
            <a:xfrm flipH="1">
              <a:off x="4179600" y="5716440"/>
              <a:ext cx="2535840" cy="27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5178240" y="5962680"/>
            <a:ext cx="2814480" cy="522360"/>
            <a:chOff x="5178240" y="5962680"/>
            <a:chExt cx="2814480" cy="522360"/>
          </a:xfrm>
        </p:grpSpPr>
        <p:grpSp>
          <p:nvGrpSpPr>
            <p:cNvPr id="184" name=""/>
            <p:cNvGrpSpPr/>
            <p:nvPr/>
          </p:nvGrpSpPr>
          <p:grpSpPr>
            <a:xfrm>
              <a:off x="6080040" y="5962680"/>
              <a:ext cx="1912680" cy="522360"/>
              <a:chOff x="6080040" y="5962680"/>
              <a:chExt cx="1912680" cy="522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192720" y="599436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nal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80040" y="5962680"/>
                <a:ext cx="1912680" cy="52236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7" name=""/>
            <p:cNvCxnSpPr>
              <a:stCxn id="179" idx="3"/>
              <a:endCxn id="186" idx="2"/>
            </p:cNvCxnSpPr>
            <p:nvPr/>
          </p:nvCxnSpPr>
          <p:spPr>
            <a:xfrm flipV="1">
              <a:off x="5178240" y="6224040"/>
              <a:ext cx="88308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6F14-51F6-48BE-948D-51EC1012F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lue of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mbing multipl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di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each of which is at least more accurate than random guessing, random errors cancel each other out, correct decisions are reinfor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ensembles are demonstrably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ow many jelly beans in the jar?: Individual estimates vs. group averag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o Wants to be a Millionaire: Expert friend vs. audience vot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775A-502A-4309-A733-98B433D03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mogenous Ensemb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single, arbitrary learning algorithm but manipulate training data to make it learn multiple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ata2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ata 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rner1 = Learner2 = … = Learner 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ethods for changing training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agging: Resample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osting: Reweight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CORATE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 additional artificial training 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se are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ta-learn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y take a learning algorithm as an argument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ase lear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create a new learning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436E-C307-4CD4-A854-C105B8AEC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gg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ensembles by repeatedly randomly resampling the training data (Brieman, 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raining set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e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draw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from the original data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re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ch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ootstrap sampl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will on average contain 63.2% of the unique training examples, the rest are replicat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ing models using simple majority vo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error by decreasing the variance in the results due 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stable lear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gorithms (like decision trees) whose output can change dramatically when the training data is slightly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90E5-77DF-4342-AB79-BF709CBD2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veloped by computational learning theorists to guarantee performance improvements on fitting training data for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eak lear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only needs to generate a hypothesis with a training accuracy greater than 0.5 (Schapire, 19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d to be a practical algorithm, AdaBoost, for building ensembles that empirically improves generalization performance (Freund &amp; Shapire, 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re given weights. At each iteration, a new hypothesis is learned and the examples are reweighted to focus the system on examples that the most recently learned classifier got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5679-0596-4B66-919B-8E438A4A6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oosting: Basi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248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 all examples to have equal uniform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arn a hypothesis,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, from the weight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ecrease the weights of examples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classifies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(weak) learner must focus on correctly classifying the most highly weighted examples while strongly avoiding over-fi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esting, each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ypotheses get a weighted vote proportional to their accuracy on the train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264B-5C24-4007-908F-2385DBFB3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aBoost Pseudoco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6680" y="1279440"/>
            <a:ext cx="850968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AdaBoost(D, BaseLea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t its we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/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n empty set of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a hypothesi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the weighted exampl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BaseLear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rror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th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total sum weigh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that it classifies in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5 then exit loop, else contin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(1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the weights of the examples that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ifies correctly by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cale the weights of all of the examples so the total sum weight remains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AdaBoo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ach hypoth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te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lassification with weight log(1/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lass with the highest weighted vote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735C-69B2-42F2-8103-1C14F77BF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with Weighted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approach is to replicate examples in the training set proportional to their weights (e.g. 10 replicates of an example with a weight of 0.01 and 100 for one with weight 0.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lgorithms can be enhanced to efficiently incorporate weights directly in the learning algorithm so that the effect is the same (e.g. implement the WeightedInstancesHandler interface in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cision trees, for calculating information gain, when counting exam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mply increment the corresponding count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her than by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8F7F-BF2A-46B8-B38B-8DF77F6FE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9-01T22:44:06Z</dcterms:modified>
  <cp:revision>289</cp:revision>
  <dc:subject/>
  <dc:title>Intelligent Information Retrieval and Web Search</dc:title>
</cp:coreProperties>
</file>