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7412-0312-4C85-9E95-A2FEF10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0A6D-1D4D-4949-8E4B-8667ADB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75CE-E833-4F2F-9F7D-973F4BEB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5FC9-2B5C-41F0-BFF3-AA5C9DDC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23D6-4D57-479F-91C5-B1290B6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2B93-F0EA-4987-90DB-DE725314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CE66-94E7-4259-B33E-DC921350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F7C9-B507-4AFB-B952-033A8DC6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E9D7-F042-4F1D-8240-5F253A5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375F-AB67-41C4-9518-F3624C1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C592-61EF-4911-BD53-2CA1C77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EB30-049F-4A4B-ABDC-D419F14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491-82B8-4E3D-A150-A6311EB1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cs.uci.edu/~mlearn/MLRepository.html" TargetMode="External"/><Relationship Id="rId2" Type="http://schemas.openxmlformats.org/officeDocument/2006/relationships/hyperlink" Target="http://www.kdnuggets.com/datasets/kddcup.html" TargetMode="External"/><Relationship Id="rId3" Type="http://schemas.openxmlformats.org/officeDocument/2006/relationships/hyperlink" Target="http://www.ifarm.nl/signll/conl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74E4-52C3-4FFA-AEBA-CAE7558729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Z-Score Test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20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we test two hypotheses on different test sets of size 100 and obse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66720" y="2155680"/>
                <a:ext cx="5303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61960" y="2771640"/>
                <a:ext cx="523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24160" y="3338640"/>
                <a:ext cx="60814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87520" y="4908600"/>
                <a:ext cx="2554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437840" y="571968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two-tailed test: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one-tailed test: (1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90)/2)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35D0-1E10-4943-888C-E4A123B8D8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Z-Score Test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20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we test two hypotheses on different test sets of size 100 and obse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66720" y="2155680"/>
                <a:ext cx="5303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08240" y="2771640"/>
                <a:ext cx="554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24160" y="3338640"/>
                <a:ext cx="60814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77800" y="4908600"/>
                <a:ext cx="257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437840" y="571968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two-tailed test: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one-tailed test: (1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50)/2) =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1DE0-2973-4C0B-B722-F6433229F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-Score Test Assump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 can be tested on different test sets; if same test set used, stronger conclusions might be war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s have at least 30 independently drawn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 were constructed from  independent training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mpares two specific hypotheses regardless of the methods used to construct them. Does not compare the underlying learning methods in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4EC8-CEC5-4729-8031-687392625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Learning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the average accuracy of hypotheses produced by two different learning systems is more difficult since we need to average over multiple training sets. Ideally, we want to mea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presents the hypothesis learned by meth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raining da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curately estimate this, we need to average over multiple, independent training and test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ince labeled data is limited, generally must average over multiple splits of the overall data set into training and test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1480" y="2803680"/>
                <a:ext cx="5521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⊂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BE85-2E2A-4959-8F37-F44D87235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Fold Cross Valid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600" y="1560600"/>
            <a:ext cx="81421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artition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joint equal-siz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test set and remaining data fo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average difference in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11400" y="5359320"/>
                <a:ext cx="1674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A0E1-F84D-4A80-9E72-BCFF717700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Fold Cross Validation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ample gets used as a test example once and as a training exam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est sets are independent; however, training sets overlap significa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accuracy of hypothesis generated for [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D| training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method is 10-f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ow, not sufficient number of train/test trials;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high, test set is small and test variance is high and run time is in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|D|, method is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ve-one-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 vali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EBAF-15E5-4ACA-B467-ADD68A076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gnificance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30, so not sufficient trials for a z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udent’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t-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s more accurate when number of trials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test, which can determine smaller differences to be significant when the training/sets sets are the same for both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oth z and t test’s assume the trials are independent. Not tr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ld cross vali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st sets are independ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ining sets ar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depend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atistical tests have been proposed, such as McNemar’s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 test is perfect when data is limited and independent trials are not practical, some statistical test that accounts for variance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16D5-6806-4370-A399-F8689D6C52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Experimental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6160" y="2581200"/>
          <a:ext cx="3400200" cy="3867120"/>
        </p:xfrm>
        <a:graphic>
          <a:graphicData uri="http://schemas.openxmlformats.org/drawingml/2006/table">
            <a:tbl>
              <a:tblPr/>
              <a:tblGrid>
                <a:gridCol w="1133280"/>
                <a:gridCol w="1133280"/>
                <a:gridCol w="11336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47440" y="195912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peri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40120" y="2560680"/>
          <a:ext cx="3400560" cy="388152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364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451120" y="194796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peri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44920" y="2571840"/>
          <a:ext cx="792000" cy="38671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8169120" y="2573280"/>
          <a:ext cx="792000" cy="386100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78480" y="1477800"/>
            <a:ext cx="90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hich experiment provides better evidence that SystemA is better than System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F5C9-D592-4132-A8F7-83A91AF341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accuracy vs. size of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maximum accuracy (Bayes optimal) nearly been reached or will more examples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system better when training data is limi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earners eventually converge to Bayes optimal given sufficient training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8840" y="399744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8840" y="6167520"/>
            <a:ext cx="42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1513080" y="4967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7800" y="61196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in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87600" y="41814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49320" y="3963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1240" y="41832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yes opt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98760" y="5839920"/>
            <a:ext cx="244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0000" y="4475160"/>
            <a:ext cx="4241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10000" y="4486320"/>
            <a:ext cx="4192560" cy="1353960"/>
          </a:xfrm>
          <a:custGeom>
            <a:avLst/>
            <a:gdLst/>
            <a:ahLst/>
            <a:rect l="l" t="t" r="r" b="b"/>
            <a:pathLst>
              <a:path w="2641" h="853">
                <a:moveTo>
                  <a:pt x="0" y="853"/>
                </a:moveTo>
                <a:cubicBezTo>
                  <a:pt x="14" y="788"/>
                  <a:pt x="29" y="723"/>
                  <a:pt x="61" y="653"/>
                </a:cubicBezTo>
                <a:cubicBezTo>
                  <a:pt x="93" y="583"/>
                  <a:pt x="136" y="503"/>
                  <a:pt x="192" y="430"/>
                </a:cubicBezTo>
                <a:cubicBezTo>
                  <a:pt x="248" y="357"/>
                  <a:pt x="312" y="269"/>
                  <a:pt x="399" y="215"/>
                </a:cubicBezTo>
                <a:cubicBezTo>
                  <a:pt x="486" y="161"/>
                  <a:pt x="525" y="135"/>
                  <a:pt x="714" y="108"/>
                </a:cubicBezTo>
                <a:cubicBezTo>
                  <a:pt x="903" y="81"/>
                  <a:pt x="1215" y="72"/>
                  <a:pt x="1536" y="54"/>
                </a:cubicBezTo>
                <a:cubicBezTo>
                  <a:pt x="1857" y="36"/>
                  <a:pt x="2459" y="9"/>
                  <a:pt x="2641" y="0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4498920"/>
            <a:ext cx="4230720" cy="1341360"/>
          </a:xfrm>
          <a:custGeom>
            <a:avLst/>
            <a:gdLst/>
            <a:ahLst/>
            <a:rect l="l" t="t" r="r" b="b"/>
            <a:pathLst>
              <a:path w="2665" h="845">
                <a:moveTo>
                  <a:pt x="0" y="845"/>
                </a:moveTo>
                <a:cubicBezTo>
                  <a:pt x="49" y="774"/>
                  <a:pt x="99" y="704"/>
                  <a:pt x="169" y="630"/>
                </a:cubicBezTo>
                <a:cubicBezTo>
                  <a:pt x="239" y="556"/>
                  <a:pt x="341" y="462"/>
                  <a:pt x="422" y="399"/>
                </a:cubicBezTo>
                <a:cubicBezTo>
                  <a:pt x="503" y="336"/>
                  <a:pt x="561" y="293"/>
                  <a:pt x="653" y="253"/>
                </a:cubicBezTo>
                <a:cubicBezTo>
                  <a:pt x="745" y="213"/>
                  <a:pt x="772" y="194"/>
                  <a:pt x="975" y="161"/>
                </a:cubicBezTo>
                <a:cubicBezTo>
                  <a:pt x="1178" y="128"/>
                  <a:pt x="1592" y="81"/>
                  <a:pt x="1874" y="54"/>
                </a:cubicBezTo>
                <a:cubicBezTo>
                  <a:pt x="2156" y="27"/>
                  <a:pt x="2410" y="13"/>
                  <a:pt x="2665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34640" y="56214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 gu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BC1B-65AA-493B-AD1E-87C814185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 Validation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320" y="1405080"/>
            <a:ext cx="8419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data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ri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ti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esting and the union of all other partitions for trai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desired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learning curve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learning syst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fir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mples of the training set and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time, training accuracy, and learned concept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test set, recording testing time and test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verage for each performance statistic acro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curves for any desired performance statistic versus training se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paired t-test to determine significance of any differences between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ystems for a given training se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BED9-979A-4B01-828A-BD452447DE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Inductive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of hypotheses on training data is obviously biased since the hypothesis was constructed to fit thi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must be evaluated on an independent (usually disjoint) tes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test set is, the more accurate the measured accuracy and the lower the variance observed across different test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7A6A-4637-4B20-9231-8EECE7648A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is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accuracy versus noise level to determine relative resistance to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ficially add category or feature noise by randomly replacing some specified fraction of category or feature values with random valu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8840" y="399744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8840" y="6167520"/>
            <a:ext cx="42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1513080" y="4967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3960" y="616896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nois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7600" y="41814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9320" y="3963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4440" y="4462560"/>
            <a:ext cx="3022560" cy="1206360"/>
          </a:xfrm>
          <a:custGeom>
            <a:avLst/>
            <a:gdLst/>
            <a:ahLst/>
            <a:rect l="l" t="t" r="r" b="b"/>
            <a:pathLst>
              <a:path w="1459" h="760">
                <a:moveTo>
                  <a:pt x="0" y="0"/>
                </a:moveTo>
                <a:cubicBezTo>
                  <a:pt x="93" y="36"/>
                  <a:pt x="187" y="72"/>
                  <a:pt x="307" y="146"/>
                </a:cubicBezTo>
                <a:cubicBezTo>
                  <a:pt x="427" y="220"/>
                  <a:pt x="621" y="370"/>
                  <a:pt x="722" y="445"/>
                </a:cubicBezTo>
                <a:cubicBezTo>
                  <a:pt x="823" y="520"/>
                  <a:pt x="846" y="558"/>
                  <a:pt x="914" y="599"/>
                </a:cubicBezTo>
                <a:cubicBezTo>
                  <a:pt x="982" y="640"/>
                  <a:pt x="1038" y="664"/>
                  <a:pt x="1129" y="691"/>
                </a:cubicBezTo>
                <a:cubicBezTo>
                  <a:pt x="1220" y="718"/>
                  <a:pt x="1404" y="750"/>
                  <a:pt x="1459" y="760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4475160"/>
            <a:ext cx="3011760" cy="1230480"/>
          </a:xfrm>
          <a:custGeom>
            <a:avLst/>
            <a:gdLst/>
            <a:ahLst/>
            <a:rect l="l" t="t" r="r" b="b"/>
            <a:pathLst>
              <a:path w="1451" h="775">
                <a:moveTo>
                  <a:pt x="0" y="0"/>
                </a:moveTo>
                <a:cubicBezTo>
                  <a:pt x="86" y="61"/>
                  <a:pt x="172" y="123"/>
                  <a:pt x="253" y="215"/>
                </a:cubicBezTo>
                <a:cubicBezTo>
                  <a:pt x="334" y="307"/>
                  <a:pt x="387" y="466"/>
                  <a:pt x="484" y="553"/>
                </a:cubicBezTo>
                <a:cubicBezTo>
                  <a:pt x="581" y="640"/>
                  <a:pt x="676" y="700"/>
                  <a:pt x="837" y="737"/>
                </a:cubicBezTo>
                <a:cubicBezTo>
                  <a:pt x="998" y="774"/>
                  <a:pt x="1224" y="774"/>
                  <a:pt x="1451" y="775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E435-2107-44CA-8556-3C8D16E4F3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xperimental methodology is important to evaluating learn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test on a variety of domains to demonstrate a general bias that is useful for a variety of problems. Testing on 20+ data set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ty of freely available 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UCI Machine Learning Repository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ics.uci.edu/~mlearn/MLRepository.htm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KDD Cup  (large data sets for data mining)                  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kdnuggets.com/datasets/kddcup.htm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NLL Shared Task  (natural language problems)                        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ifarm.nl/signll/conl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or real problems is preferable to artificial problems to demonstrate a useful bias for real-worl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vailable datasets have been subjected to significant feature engineering to make them lear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073F-CC62-4496-ACB7-77C2541B72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ance in Test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note the percentage of examples in an independently sampled test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 incorrectly classified by 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note the true error rate for the overall data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t least 30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sures that the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different random samples will be closely approximated by a normal (Guassian)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9720" y="410688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9720" y="627696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784880" y="5072040"/>
            <a:ext cx="140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88720" y="6203880"/>
            <a:ext cx="109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741560" y="6119640"/>
            <a:ext cx="1260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5800" y="6289560"/>
            <a:ext cx="112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693880" y="4903920"/>
            <a:ext cx="3966840" cy="1325520"/>
            <a:chOff x="2693880" y="4903920"/>
            <a:chExt cx="3966840" cy="1325520"/>
          </a:xfrm>
        </p:grpSpPr>
        <p:sp>
          <p:nvSpPr>
            <p:cNvPr id="55" name=""/>
            <p:cNvSpPr/>
            <p:nvPr/>
          </p:nvSpPr>
          <p:spPr>
            <a:xfrm>
              <a:off x="2693880" y="49132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72800" y="49039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13EE-3E9B-4DBE-8B60-D1E2E51AA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Two Learned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valuating two hypotheses, their observed ordering with respect to accuracy may or may not reflect the ordering of their true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0760" y="377676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0760" y="5946840"/>
            <a:ext cx="636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18560" y="4589640"/>
            <a:ext cx="1403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75480" y="5923080"/>
            <a:ext cx="109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74920" y="4573440"/>
            <a:ext cx="3966840" cy="1325520"/>
            <a:chOff x="1474920" y="4573440"/>
            <a:chExt cx="3966840" cy="1325520"/>
          </a:xfrm>
        </p:grpSpPr>
        <p:sp>
          <p:nvSpPr>
            <p:cNvPr id="64" name=""/>
            <p:cNvSpPr/>
            <p:nvPr/>
          </p:nvSpPr>
          <p:spPr>
            <a:xfrm>
              <a:off x="1474920" y="458280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453840" y="457344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70240" y="4592520"/>
            <a:ext cx="3966840" cy="1325520"/>
            <a:chOff x="2370240" y="4592520"/>
            <a:chExt cx="3966840" cy="1325520"/>
          </a:xfrm>
        </p:grpSpPr>
        <p:sp>
          <p:nvSpPr>
            <p:cNvPr id="67" name=""/>
            <p:cNvSpPr/>
            <p:nvPr/>
          </p:nvSpPr>
          <p:spPr>
            <a:xfrm>
              <a:off x="2370240" y="46018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349160" y="45925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89320" y="4210200"/>
            <a:ext cx="13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72120" y="416736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06480" y="4645080"/>
            <a:ext cx="4680" cy="13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64080" y="4638600"/>
            <a:ext cx="4680" cy="13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09160" y="5962680"/>
            <a:ext cx="3566880" cy="710640"/>
            <a:chOff x="2909160" y="5962680"/>
            <a:chExt cx="3566880" cy="710640"/>
          </a:xfrm>
        </p:grpSpPr>
        <p:sp>
          <p:nvSpPr>
            <p:cNvPr id="74" name=""/>
            <p:cNvSpPr/>
            <p:nvPr/>
          </p:nvSpPr>
          <p:spPr>
            <a:xfrm>
              <a:off x="2909160" y="6232680"/>
              <a:ext cx="356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serv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re accurate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57600" y="5962680"/>
              <a:ext cx="463680" cy="388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133520" y="5973840"/>
              <a:ext cx="352440" cy="379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BE3A-DFC1-4337-9198-5158901D6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Two Learned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valuating two hypotheses, their observed ordering with respect to accuracy may or may not reflect the ordering of their true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90760" y="377676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0760" y="5946840"/>
            <a:ext cx="636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18560" y="4589640"/>
            <a:ext cx="1403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75480" y="5923080"/>
            <a:ext cx="109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74920" y="4573440"/>
            <a:ext cx="3966840" cy="1325520"/>
            <a:chOff x="1474920" y="4573440"/>
            <a:chExt cx="3966840" cy="1325520"/>
          </a:xfrm>
        </p:grpSpPr>
        <p:sp>
          <p:nvSpPr>
            <p:cNvPr id="84" name=""/>
            <p:cNvSpPr/>
            <p:nvPr/>
          </p:nvSpPr>
          <p:spPr>
            <a:xfrm>
              <a:off x="1474920" y="458280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453840" y="457344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70240" y="4592520"/>
            <a:ext cx="3966840" cy="1325520"/>
            <a:chOff x="2370240" y="4592520"/>
            <a:chExt cx="3966840" cy="1325520"/>
          </a:xfrm>
        </p:grpSpPr>
        <p:sp>
          <p:nvSpPr>
            <p:cNvPr id="87" name=""/>
            <p:cNvSpPr/>
            <p:nvPr/>
          </p:nvSpPr>
          <p:spPr>
            <a:xfrm>
              <a:off x="2370240" y="46018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49160" y="45925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389320" y="4210200"/>
            <a:ext cx="13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2120" y="416736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6320" y="5473800"/>
            <a:ext cx="0" cy="476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34960" y="5345280"/>
            <a:ext cx="3240" cy="60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691000" y="5950080"/>
            <a:ext cx="3423600" cy="724680"/>
            <a:chOff x="2691000" y="5950080"/>
            <a:chExt cx="3423600" cy="724680"/>
          </a:xfrm>
        </p:grpSpPr>
        <p:sp>
          <p:nvSpPr>
            <p:cNvPr id="94" name=""/>
            <p:cNvSpPr/>
            <p:nvPr/>
          </p:nvSpPr>
          <p:spPr>
            <a:xfrm>
              <a:off x="2691000" y="6234120"/>
              <a:ext cx="3423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serv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less accurate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4520" y="5950080"/>
              <a:ext cx="231840" cy="4014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804840" y="5961240"/>
              <a:ext cx="327240" cy="379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8EAC-108C-43C0-AB7B-19CDDA61B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Hypothesis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probability that an empirically observed difference in a statistic could be due purely to random chance assuming there is no true underlying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tests for determining the significance of the difference between two means computed from two samples gathered under differen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the probability of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ull hypo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he two samples were actually drawn from the same underlying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cientific convention, w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ject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ay the difference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atis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probability of the null hypothesis is less than 5% (p &lt; 0.05) or alternatively we accept that the difference is due to an underlying cause with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(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FABE-2CEA-456E-91FB-ECEBD9BEB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ne-sided vs Two-sided Tes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sided test assumes you expected a difference in one direction (A is better than B) and the observed difference is consistent with that assum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ided test does not assume an expected difference in either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ided test is more conservative, since it requires a larger difference to conclude that the difference is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81A2-F2DE-4125-9501-90C21B842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-Score Test for Compar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ed Hypothes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ested on test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ested on test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difference between the accurac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standard deviation of the sample estimate of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z-score for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84440" y="2994120"/>
                <a:ext cx="3873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81080" y="4438800"/>
                <a:ext cx="7191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762360" y="5737320"/>
                <a:ext cx="11541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8CD6-7D45-4BA7-992A-B0B0EFF25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-Score Test for Compar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ed Hypotheses (continued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onfidence in the difference by looking up the highest confide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the given z-score in a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ives the confidence for a two-tailed test, for a one tailed test, increase the confidence half way towards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00120" y="2982960"/>
          <a:ext cx="6119640" cy="1101600"/>
        </p:xfrm>
        <a:graphic>
          <a:graphicData uri="http://schemas.openxmlformats.org/drawingml/2006/table">
            <a:tbl>
              <a:tblPr/>
              <a:tblGrid>
                <a:gridCol w="1341360"/>
                <a:gridCol w="693720"/>
                <a:gridCol w="669960"/>
                <a:gridCol w="658800"/>
                <a:gridCol w="682560"/>
                <a:gridCol w="708120"/>
                <a:gridCol w="669960"/>
                <a:gridCol w="695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11560" y="5668920"/>
                <a:ext cx="3241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14B0-EF96-497E-8079-FB06C720F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7-04-10T01:57:14Z</dcterms:modified>
  <cp:revision>343</cp:revision>
  <dc:subject/>
  <dc:title>Intelligent Information Retrieval and Web Search</dc:title>
</cp:coreProperties>
</file>