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B46B-78F5-43F2-97DE-2AF1EC4F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1B9C-E301-48B0-B9D5-B52C1DBD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45EE-774E-4C31-8F41-CC885F28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FC30-1598-445E-9D21-ACD4AACB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A432-C8C3-4259-AA4E-60515379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21AE-CA2D-4343-9C28-DB69734C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801B-6725-49FD-BD26-ECCCF185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2469-D5D9-468A-B893-B1B36E92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F344-75E0-4204-B6B6-7C794271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6BEF-86E5-45DE-B5A5-CC1F8FB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0E4D-C8C6-45CB-B3F9-B88EA6B1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76A5-31CB-4667-B27A-5552645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051-FD5F-4CE9-9E9F-D1DBBDC55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cs.uci.edu/~mlearn/MLRepository.html" TargetMode="External"/><Relationship Id="rId2" Type="http://schemas.openxmlformats.org/officeDocument/2006/relationships/hyperlink" Target="http://www.kdnuggets.com/datasets/kddcup.html" TargetMode="External"/><Relationship Id="rId3" Type="http://schemas.openxmlformats.org/officeDocument/2006/relationships/hyperlink" Target="http://www.ifarm.nl/signll/conll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S 391L: Machine Learning: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xperimental Evalu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4080" y="484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aymond J. Mo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9584-814E-4E4A-B91B-B2249E7A70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Z-Score Test 1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6200" y="1371600"/>
            <a:ext cx="799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we test two hypotheses on different test sets of size 100 and obser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566720" y="2155680"/>
                <a:ext cx="5303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61960" y="2771640"/>
                <a:ext cx="5235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24160" y="3338640"/>
                <a:ext cx="608148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87520" y="4908600"/>
                <a:ext cx="2554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437840" y="5719680"/>
            <a:ext cx="61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for two-tailed test: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for one-tailed test: (1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90)/2)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7754-6E49-487E-83C4-D32D6A5D7A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Z-Score Test 2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6200" y="1371600"/>
            <a:ext cx="7991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we test two hypotheses on different test sets of size 100 and obser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66720" y="2155680"/>
                <a:ext cx="5303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08240" y="2771640"/>
                <a:ext cx="5545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24160" y="3338640"/>
                <a:ext cx="608148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ror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8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77800" y="4908600"/>
                <a:ext cx="257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8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437840" y="5719680"/>
            <a:ext cx="61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for two-tailed test: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for one-tailed test: (1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50)/2) =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EDB5-B4F6-4B35-9328-380D358DDF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Z-Score Test Assump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es can be tested on different test sets; if same test set used, stronger conclusions might be warra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ts have at least 30 independently drawn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es were constructed from  independent training 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ompares two specific hypotheses regardless of the methods used to construct them. Does not compare the underlying learning methods in ge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5B7C-09E8-405B-ABA2-944414164F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aring Learning Algo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the average accuracy of hypotheses produced by two different learning systems is more difficult since we need to average over multiple training sets. Ideally, we want to meas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epresents the hypothesis learned by meth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raining da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curately estimate this, we need to average over multiple, independent training and test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since labeled data is limited, generally must average over multiple splits of the overall data set into training and test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71480" y="2803680"/>
                <a:ext cx="5521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⊂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DA89-55EE-4E43-9CE8-D4DFE0BECD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Fold Cross Valid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600" y="1560600"/>
            <a:ext cx="8142120" cy="47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partition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joint equal-siz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1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test set and remaining data fo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average difference in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11400" y="5359320"/>
                <a:ext cx="16747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BD09-AE3E-466C-BFA8-1F4E9F74D0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Fold Cross Validation Com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xample gets used as a test example once and as a training examp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est sets are independent; however, training sets overlap significa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accuracy of hypothesis generated for [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D| training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method is 10-f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ow, not sufficient number of train/test trials;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high, test set is small and test variance is high and run time is incr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|D|, method is calle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ave-one-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 vali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B532-87C5-4F78-9E85-F8465DCCF6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gnificance Te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30, so not sufficient trials for a z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udent’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t-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is more accurate when number of trials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a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test, which can determine smaller differences to be significant when the training/sets sets are the same for both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oth z and t test’s assume the trials are independent. Not tr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old cross vali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est sets are independe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ining sets are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ndepende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statistical tests have been proposed, such as McNemar’s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no test is perfect when data is limited and independent trials are not practical, some statistical test that accounts for variance is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864B-49AB-4CC0-93F1-63A42E3061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ample Experimental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6160" y="2581200"/>
          <a:ext cx="3400200" cy="3867120"/>
        </p:xfrm>
        <a:graphic>
          <a:graphicData uri="http://schemas.openxmlformats.org/drawingml/2006/table">
            <a:tbl>
              <a:tblPr/>
              <a:tblGrid>
                <a:gridCol w="1133280"/>
                <a:gridCol w="1133280"/>
                <a:gridCol w="11336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47440" y="195912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peri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740120" y="2560680"/>
          <a:ext cx="3400560" cy="3881520"/>
        </p:xfrm>
        <a:graphic>
          <a:graphicData uri="http://schemas.openxmlformats.org/drawingml/2006/table">
            <a:tbl>
              <a:tblPr/>
              <a:tblGrid>
                <a:gridCol w="1133640"/>
                <a:gridCol w="1133280"/>
                <a:gridCol w="113364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al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451120" y="194796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peri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44920" y="2571840"/>
          <a:ext cx="792000" cy="38671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8169120" y="2573280"/>
          <a:ext cx="792000" cy="386100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78480" y="1477800"/>
            <a:ext cx="90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hich experiment provides better evidence that SystemA is better than SystemB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43AD-BCBC-4305-8B5E-83C7892E61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accuracy vs. size of training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maximum accuracy (Bayes optimal) nearly been reached or will more examples hel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ne system better when training data is limi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earners eventually converge to Bayes optimal given sufficient training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8840" y="399744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8840" y="6167520"/>
            <a:ext cx="424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1513080" y="49672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87800" y="61196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Training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87600" y="418140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49320" y="3963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11240" y="41832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yes opt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98760" y="5839920"/>
            <a:ext cx="244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0000" y="4475160"/>
            <a:ext cx="4241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10000" y="4486320"/>
            <a:ext cx="4192560" cy="1353960"/>
          </a:xfrm>
          <a:custGeom>
            <a:avLst/>
            <a:gdLst/>
            <a:ahLst/>
            <a:rect l="l" t="t" r="r" b="b"/>
            <a:pathLst>
              <a:path w="2641" h="853">
                <a:moveTo>
                  <a:pt x="0" y="853"/>
                </a:moveTo>
                <a:cubicBezTo>
                  <a:pt x="14" y="788"/>
                  <a:pt x="29" y="723"/>
                  <a:pt x="61" y="653"/>
                </a:cubicBezTo>
                <a:cubicBezTo>
                  <a:pt x="93" y="583"/>
                  <a:pt x="136" y="503"/>
                  <a:pt x="192" y="430"/>
                </a:cubicBezTo>
                <a:cubicBezTo>
                  <a:pt x="248" y="357"/>
                  <a:pt x="312" y="269"/>
                  <a:pt x="399" y="215"/>
                </a:cubicBezTo>
                <a:cubicBezTo>
                  <a:pt x="486" y="161"/>
                  <a:pt x="525" y="135"/>
                  <a:pt x="714" y="108"/>
                </a:cubicBezTo>
                <a:cubicBezTo>
                  <a:pt x="903" y="81"/>
                  <a:pt x="1215" y="72"/>
                  <a:pt x="1536" y="54"/>
                </a:cubicBezTo>
                <a:cubicBezTo>
                  <a:pt x="1857" y="36"/>
                  <a:pt x="2459" y="9"/>
                  <a:pt x="2641" y="0"/>
                </a:cubicBezTo>
              </a:path>
            </a:pathLst>
          </a:custGeom>
          <a:noFill/>
          <a:ln w="190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7040" y="4498920"/>
            <a:ext cx="4230720" cy="1341360"/>
          </a:xfrm>
          <a:custGeom>
            <a:avLst/>
            <a:gdLst/>
            <a:ahLst/>
            <a:rect l="l" t="t" r="r" b="b"/>
            <a:pathLst>
              <a:path w="2665" h="845">
                <a:moveTo>
                  <a:pt x="0" y="845"/>
                </a:moveTo>
                <a:cubicBezTo>
                  <a:pt x="49" y="774"/>
                  <a:pt x="99" y="704"/>
                  <a:pt x="169" y="630"/>
                </a:cubicBezTo>
                <a:cubicBezTo>
                  <a:pt x="239" y="556"/>
                  <a:pt x="341" y="462"/>
                  <a:pt x="422" y="399"/>
                </a:cubicBezTo>
                <a:cubicBezTo>
                  <a:pt x="503" y="336"/>
                  <a:pt x="561" y="293"/>
                  <a:pt x="653" y="253"/>
                </a:cubicBezTo>
                <a:cubicBezTo>
                  <a:pt x="745" y="213"/>
                  <a:pt x="772" y="194"/>
                  <a:pt x="975" y="161"/>
                </a:cubicBezTo>
                <a:cubicBezTo>
                  <a:pt x="1178" y="128"/>
                  <a:pt x="1592" y="81"/>
                  <a:pt x="1874" y="54"/>
                </a:cubicBezTo>
                <a:cubicBezTo>
                  <a:pt x="2156" y="27"/>
                  <a:pt x="2410" y="13"/>
                  <a:pt x="2665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34640" y="56214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 gu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4868-387F-4BB5-B532-90FB929CFD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ross Validation Learning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320" y="1405080"/>
            <a:ext cx="8419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data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al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ria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arti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esting and the union of all other partitions for trai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desired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learning curve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learning syste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fir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amples of the training set and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time, training accuracy, and learned concept complex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test set, recording testing time and test accu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verage for each performance statistic acro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curves for any desired performance statistic versus training set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paired t-test to determine significance of any differences between 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ystems for a given training set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3C74-27B8-48FA-BB63-222CF86202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aluating Inductive Hypothe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 of hypotheses on training data is obviously biased since the hypothesis was constructed to fit thi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 must be evaluated on an independent (usually disjoint) test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r the test set is, the more accurate the measured accuracy and the lower the variance observed across different test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767B-1DCF-4447-9256-E473BEAD8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ise Curv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accuracy versus noise level to determine relative resistance to noisy trai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ficially add category or feature noise by randomly replacing some specified fraction of category or feature values with random valu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8840" y="399744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8840" y="6167520"/>
            <a:ext cx="424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1513080" y="49672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83960" y="616896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nois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7600" y="418140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9320" y="3963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4440" y="4462560"/>
            <a:ext cx="3022560" cy="1206360"/>
          </a:xfrm>
          <a:custGeom>
            <a:avLst/>
            <a:gdLst/>
            <a:ahLst/>
            <a:rect l="l" t="t" r="r" b="b"/>
            <a:pathLst>
              <a:path w="1459" h="760">
                <a:moveTo>
                  <a:pt x="0" y="0"/>
                </a:moveTo>
                <a:cubicBezTo>
                  <a:pt x="93" y="36"/>
                  <a:pt x="187" y="72"/>
                  <a:pt x="307" y="146"/>
                </a:cubicBezTo>
                <a:cubicBezTo>
                  <a:pt x="427" y="220"/>
                  <a:pt x="621" y="370"/>
                  <a:pt x="722" y="445"/>
                </a:cubicBezTo>
                <a:cubicBezTo>
                  <a:pt x="823" y="520"/>
                  <a:pt x="846" y="558"/>
                  <a:pt x="914" y="599"/>
                </a:cubicBezTo>
                <a:cubicBezTo>
                  <a:pt x="982" y="640"/>
                  <a:pt x="1038" y="664"/>
                  <a:pt x="1129" y="691"/>
                </a:cubicBezTo>
                <a:cubicBezTo>
                  <a:pt x="1220" y="718"/>
                  <a:pt x="1404" y="750"/>
                  <a:pt x="1459" y="760"/>
                </a:cubicBezTo>
              </a:path>
            </a:pathLst>
          </a:custGeom>
          <a:noFill/>
          <a:ln w="1908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4475160"/>
            <a:ext cx="3011760" cy="1230480"/>
          </a:xfrm>
          <a:custGeom>
            <a:avLst/>
            <a:gdLst/>
            <a:ahLst/>
            <a:rect l="l" t="t" r="r" b="b"/>
            <a:pathLst>
              <a:path w="1451" h="775">
                <a:moveTo>
                  <a:pt x="0" y="0"/>
                </a:moveTo>
                <a:cubicBezTo>
                  <a:pt x="86" y="61"/>
                  <a:pt x="172" y="123"/>
                  <a:pt x="253" y="215"/>
                </a:cubicBezTo>
                <a:cubicBezTo>
                  <a:pt x="334" y="307"/>
                  <a:pt x="387" y="466"/>
                  <a:pt x="484" y="553"/>
                </a:cubicBezTo>
                <a:cubicBezTo>
                  <a:pt x="581" y="640"/>
                  <a:pt x="676" y="700"/>
                  <a:pt x="837" y="737"/>
                </a:cubicBezTo>
                <a:cubicBezTo>
                  <a:pt x="998" y="774"/>
                  <a:pt x="1224" y="774"/>
                  <a:pt x="1451" y="775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BE03-B8E7-4B8D-98CF-53F70F2D52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rimental Evaluation Conclus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xperimental methodology is important to evaluating learning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test on a variety of domains to demonstrate a general bias that is useful for a variety of problems. Testing on 20+ data sets is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ty of freely available data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UCI Machine Learning Repository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ics.uci.edu/~mlearn/MLRepository.htm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KDD Cup  (large data sets for data mining)                      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www.kdnuggets.com/datasets/kddcup.htm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NLL Shared Task  (natural language problems)                            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www.ifarm.nl/signll/conll/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or real problems is preferable to artificial problems to demonstrate a useful bias for real-worl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available datasets have been subjected to significant feature engineering to make them lear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7677-4BE9-4048-87CD-B314ADF066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riance in Test Accurac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0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enote the percentage of examples in an independently sampled test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re incorrectly classified by  hypothes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enote the true error rate for the overall data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t least 30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sures that the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different random samples will be closely approximated by a normal (Guassian)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09720" y="410688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9720" y="6276960"/>
            <a:ext cx="424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784880" y="5072040"/>
            <a:ext cx="140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88720" y="6203880"/>
            <a:ext cx="109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741560" y="6119640"/>
            <a:ext cx="1260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5800" y="6289560"/>
            <a:ext cx="112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693880" y="4903920"/>
            <a:ext cx="3966840" cy="1325520"/>
            <a:chOff x="2693880" y="4903920"/>
            <a:chExt cx="3966840" cy="1325520"/>
          </a:xfrm>
        </p:grpSpPr>
        <p:sp>
          <p:nvSpPr>
            <p:cNvPr id="55" name=""/>
            <p:cNvSpPr/>
            <p:nvPr/>
          </p:nvSpPr>
          <p:spPr>
            <a:xfrm>
              <a:off x="2693880" y="491328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672800" y="490392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B930-E9A6-49C0-B4B7-393E241507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aring Two Learned Hypothe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valuating two hypotheses, their observed ordering with respect to accuracy may or may not reflect the ordering of their true accura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ested on test s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ested on test s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0760" y="377676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90760" y="5946840"/>
            <a:ext cx="636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18560" y="4589640"/>
            <a:ext cx="1403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75480" y="5923080"/>
            <a:ext cx="109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74920" y="4573440"/>
            <a:ext cx="3966840" cy="1325520"/>
            <a:chOff x="1474920" y="4573440"/>
            <a:chExt cx="3966840" cy="1325520"/>
          </a:xfrm>
        </p:grpSpPr>
        <p:sp>
          <p:nvSpPr>
            <p:cNvPr id="64" name=""/>
            <p:cNvSpPr/>
            <p:nvPr/>
          </p:nvSpPr>
          <p:spPr>
            <a:xfrm>
              <a:off x="1474920" y="458280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453840" y="457344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70240" y="4592520"/>
            <a:ext cx="3966840" cy="1325520"/>
            <a:chOff x="2370240" y="4592520"/>
            <a:chExt cx="3966840" cy="1325520"/>
          </a:xfrm>
        </p:grpSpPr>
        <p:sp>
          <p:nvSpPr>
            <p:cNvPr id="67" name=""/>
            <p:cNvSpPr/>
            <p:nvPr/>
          </p:nvSpPr>
          <p:spPr>
            <a:xfrm>
              <a:off x="2370240" y="460188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349160" y="459252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389320" y="4210200"/>
            <a:ext cx="131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72120" y="4167360"/>
            <a:ext cx="134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06480" y="4645080"/>
            <a:ext cx="4680" cy="13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64080" y="4638600"/>
            <a:ext cx="4680" cy="13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09160" y="5962680"/>
            <a:ext cx="3566880" cy="710640"/>
            <a:chOff x="2909160" y="5962680"/>
            <a:chExt cx="3566880" cy="710640"/>
          </a:xfrm>
        </p:grpSpPr>
        <p:sp>
          <p:nvSpPr>
            <p:cNvPr id="74" name=""/>
            <p:cNvSpPr/>
            <p:nvPr/>
          </p:nvSpPr>
          <p:spPr>
            <a:xfrm>
              <a:off x="2909160" y="6232680"/>
              <a:ext cx="356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serv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re accurate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57600" y="5962680"/>
              <a:ext cx="463680" cy="3888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133520" y="5973840"/>
              <a:ext cx="352440" cy="379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E73B-DDAC-4C29-8606-120CD8FA2A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aring Two Learned Hypothe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valuating two hypotheses, their observed ordering with respect to accuracy may or may not reflect the ordering of their true accura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ested on test s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is tested on test s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of siz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90760" y="3776760"/>
            <a:ext cx="11160" cy="217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0760" y="5946840"/>
            <a:ext cx="636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18560" y="4589640"/>
            <a:ext cx="1403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75480" y="5923080"/>
            <a:ext cx="109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74920" y="4573440"/>
            <a:ext cx="3966840" cy="1325520"/>
            <a:chOff x="1474920" y="4573440"/>
            <a:chExt cx="3966840" cy="1325520"/>
          </a:xfrm>
        </p:grpSpPr>
        <p:sp>
          <p:nvSpPr>
            <p:cNvPr id="84" name=""/>
            <p:cNvSpPr/>
            <p:nvPr/>
          </p:nvSpPr>
          <p:spPr>
            <a:xfrm>
              <a:off x="1474920" y="458280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453840" y="457344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370240" y="4592520"/>
            <a:ext cx="3966840" cy="1325520"/>
            <a:chOff x="2370240" y="4592520"/>
            <a:chExt cx="3966840" cy="1325520"/>
          </a:xfrm>
        </p:grpSpPr>
        <p:sp>
          <p:nvSpPr>
            <p:cNvPr id="87" name=""/>
            <p:cNvSpPr/>
            <p:nvPr/>
          </p:nvSpPr>
          <p:spPr>
            <a:xfrm>
              <a:off x="2370240" y="4601880"/>
              <a:ext cx="1987560" cy="131616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349160" y="4592520"/>
              <a:ext cx="1987560" cy="1315800"/>
            </a:xfrm>
            <a:custGeom>
              <a:avLst/>
              <a:gdLst/>
              <a:ahLst/>
              <a:rect l="l" t="t" r="r" b="b"/>
              <a:pathLst>
                <a:path w="1252" h="829">
                  <a:moveTo>
                    <a:pt x="0" y="829"/>
                  </a:moveTo>
                  <a:cubicBezTo>
                    <a:pt x="150" y="810"/>
                    <a:pt x="300" y="792"/>
                    <a:pt x="392" y="776"/>
                  </a:cubicBezTo>
                  <a:cubicBezTo>
                    <a:pt x="484" y="760"/>
                    <a:pt x="485" y="772"/>
                    <a:pt x="553" y="730"/>
                  </a:cubicBezTo>
                  <a:cubicBezTo>
                    <a:pt x="621" y="688"/>
                    <a:pt x="739" y="592"/>
                    <a:pt x="799" y="522"/>
                  </a:cubicBezTo>
                  <a:cubicBezTo>
                    <a:pt x="859" y="452"/>
                    <a:pt x="881" y="368"/>
                    <a:pt x="914" y="307"/>
                  </a:cubicBezTo>
                  <a:cubicBezTo>
                    <a:pt x="947" y="246"/>
                    <a:pt x="968" y="196"/>
                    <a:pt x="999" y="154"/>
                  </a:cubicBezTo>
                  <a:cubicBezTo>
                    <a:pt x="1030" y="112"/>
                    <a:pt x="1057" y="80"/>
                    <a:pt x="1099" y="54"/>
                  </a:cubicBezTo>
                  <a:cubicBezTo>
                    <a:pt x="1141" y="28"/>
                    <a:pt x="1196" y="14"/>
                    <a:pt x="12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389320" y="4210200"/>
            <a:ext cx="131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72120" y="4167360"/>
            <a:ext cx="134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6320" y="5473800"/>
            <a:ext cx="0" cy="476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34960" y="5345280"/>
            <a:ext cx="3240" cy="60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691000" y="5950080"/>
            <a:ext cx="3423600" cy="724680"/>
            <a:chOff x="2691000" y="5950080"/>
            <a:chExt cx="3423600" cy="724680"/>
          </a:xfrm>
        </p:grpSpPr>
        <p:sp>
          <p:nvSpPr>
            <p:cNvPr id="94" name=""/>
            <p:cNvSpPr/>
            <p:nvPr/>
          </p:nvSpPr>
          <p:spPr>
            <a:xfrm>
              <a:off x="2691000" y="6234120"/>
              <a:ext cx="3423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serv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less accurate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4520" y="5950080"/>
              <a:ext cx="231840" cy="4014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804840" y="5961240"/>
              <a:ext cx="327240" cy="3790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5ADD-FA6B-4499-90BF-B3EAEAAE8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atistical Hypothesis Test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probability that an empirically observed difference in a statistic could be due purely to random chance assuming there is no true underlying dif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tests for determining the significance of the difference between two means computed from two samples gathered under different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the probability of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ull hypo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at the two samples were actually drawn from the same underlying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cientific convention, w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ject the null hypo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ay the difference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atist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gnific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probability of the null hypothesis is less than 5% (p &lt; 0.05) or alternatively we accept that the difference is due to an underlying cause with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nfi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(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D818-F242-49EE-93C6-F0E159E7C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ne-sided vs Two-sided Tes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sided test assumes you expected a difference in one direction (A is better than B) and the observed difference is consistent with that assum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ided test does not assume an expected difference in either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ided test is more conservative, since it requires a larger difference to conclude that the difference is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DBE2-3219-4661-8ABC-220CB107A9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Z-Score Test for Comparing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earned Hypothes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ested on test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ested on test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difference between the accurac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standard deviation of the sample estimate of the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z-score for the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84440" y="2994120"/>
                <a:ext cx="3873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81080" y="4438800"/>
                <a:ext cx="7191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ro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ro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ro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ro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762360" y="5737320"/>
                <a:ext cx="11541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0C5D-4D80-4D8B-BB10-EAF86C1FD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Z-Score Test for Comparing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earned Hypotheses (continued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onfidence in the difference by looking up the highest confiden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the given z-score in a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ives the confidence for a two-tailed test, for a one tailed test, increase the confidence half way towards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00120" y="2982960"/>
          <a:ext cx="6119640" cy="1101600"/>
        </p:xfrm>
        <a:graphic>
          <a:graphicData uri="http://schemas.openxmlformats.org/drawingml/2006/table">
            <a:tbl>
              <a:tblPr/>
              <a:tblGrid>
                <a:gridCol w="1341360"/>
                <a:gridCol w="693720"/>
                <a:gridCol w="669960"/>
                <a:gridCol w="658800"/>
                <a:gridCol w="682560"/>
                <a:gridCol w="708120"/>
                <a:gridCol w="669960"/>
                <a:gridCol w="6951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d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11560" y="5668920"/>
                <a:ext cx="3241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1F26-62DA-439C-9970-994C32DAFB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Raymond J. Mooney</cp:lastModifiedBy>
  <dcterms:modified xsi:type="dcterms:W3CDTF">2007-04-10T01:57:14Z</dcterms:modified>
  <cp:revision>343</cp:revision>
  <dc:subject/>
  <dc:title>Intelligent Information Retrieval and Web Search</dc:title>
</cp:coreProperties>
</file>