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FDDB-B1CB-4A6A-89B7-A92BF773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2727-E973-4AF4-B476-659596BF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5742-45C2-4DA0-8026-C21D303E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950C-BD21-453F-AF8F-96BE5A4C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CA4E-3615-4CCD-B764-6A4F144C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6CA0-4496-4EBD-9C58-BAEC7F92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EB94-DFF2-401F-B6B0-2C6FB6E2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DBA1-7766-4A28-8F3D-EB699FE6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4FBAC-59A5-4FFB-91B2-19C7A3BB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084C-98F9-4316-B328-D995C005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0C8C-6F42-4485-B562-2031A0FF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00650-3293-41FC-BFA6-3F83DC03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9441-2A70-4720-950D-F87F6AA69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S 391L: Machine Learning: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Instance Based Learning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BA155-77A7-4600-BE55-E967690DA2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eature Relevance and Weigh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istance metrics weight each feature equally when determining simil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blematic if many features are irrelevant, since similarity along many irrelevant examples could mislead the classification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can be weighted by some measure that indicates their ability to discriminate the category of an example, such as information 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, instance-based methods favor global similarity over concept simpl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59920" y="4633920"/>
            <a:ext cx="5628600" cy="1049760"/>
            <a:chOff x="1159920" y="4633920"/>
            <a:chExt cx="5628600" cy="1049760"/>
          </a:xfrm>
        </p:grpSpPr>
        <p:sp>
          <p:nvSpPr>
            <p:cNvPr id="89" name=""/>
            <p:cNvSpPr/>
            <p:nvPr/>
          </p:nvSpPr>
          <p:spPr>
            <a:xfrm>
              <a:off x="2560680" y="4767120"/>
              <a:ext cx="3352680" cy="182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08680" y="4775040"/>
              <a:ext cx="268560" cy="18252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46880" y="46339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59920" y="4805280"/>
              <a:ext cx="1122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in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4560" y="5102280"/>
              <a:ext cx="3352680" cy="182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02560" y="5097240"/>
              <a:ext cx="268200" cy="18288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72080" y="4944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41600" y="5432400"/>
              <a:ext cx="3353040" cy="182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89600" y="5427720"/>
              <a:ext cx="268560" cy="18252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64520" y="5284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86240" y="5924520"/>
            <a:ext cx="6051240" cy="425880"/>
            <a:chOff x="786240" y="5924520"/>
            <a:chExt cx="6051240" cy="425880"/>
          </a:xfrm>
        </p:grpSpPr>
        <p:sp>
          <p:nvSpPr>
            <p:cNvPr id="100" name=""/>
            <p:cNvSpPr/>
            <p:nvPr/>
          </p:nvSpPr>
          <p:spPr>
            <a:xfrm>
              <a:off x="786240" y="5951520"/>
              <a:ext cx="153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st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60680" y="6048360"/>
              <a:ext cx="3352680" cy="182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08680" y="6054840"/>
              <a:ext cx="268200" cy="1825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31040" y="592452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?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1BA1-69AA-492C-A9F2-F8DE01FBF6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ules and Instances in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Human Learning Bias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492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logical experiments show that people from different cultures exhibit distinct  categorization bi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stern” subjects favor simple rules (straight stem) and classify the target object in group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an” subjects favor global similarity and classify the target object in group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51600" y="1428840"/>
            <a:ext cx="3489120" cy="47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AE951-95CB-423F-BBB3-89D2B868D7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Iss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duce storage of training instances to a small set of representative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upport vectors in an SVM are somewhat analogou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hybridize with rule-based methods or neural-net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adial basis functions in neural nets and Gaussian kernels in SVMs are similar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for more complex relational or grap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milarity computation is complex since it involves some sort of graph isomorphism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in problems other than class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ase-based plann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ase-based reasoning in law and busines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CD3C-F6E0-4C77-A5D2-46A5C68215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L methods classify test instances based on similarity to specific training instances rather than forming explicit generaliz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trade decreased training time for increased testing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6E40-E017-48F4-97C3-C27A7F3A17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stance-Based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other learning algorithms, does not involve construction of an explicit abstract generalization but classifies new instances based on direct comparison and similarity to known training in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can be very easy, just memorizing training in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can be very expensive, requiring detailed comparison to all past training in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know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ase-based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xemplar-base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earest Neighbo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emory-base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zy Learn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D0775-1A39-46EE-9809-13730B6699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ilarity/Distance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-based methods assume a function for determining the similarity or distance between any two in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ntinuous feature vectors, Euclidian distance is the generic cho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840040" y="2975040"/>
                <a:ext cx="3284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176840" y="3720960"/>
            <a:ext cx="5863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the value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 feature of in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6040" y="4181400"/>
            <a:ext cx="77724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iscrete features, assume distance between two values is 0 if they are the same and 1 if they are different (e.g. Hamming distance for bit vecto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ensate for difference in units across features, scale all continuous values to the interval [0,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9B7C-C6D7-45BC-9773-8A468DC5D5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Distance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halanobis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cale-invariant metric that normalizes for varianc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ine Simi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sine of the angle between the two vecto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d in text and other high-dimensional d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arson cor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andard statistical correlation coeffici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d for bioinformatics d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d to measure distance between unbounded length string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d in text and bioinformatic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91447-D0E3-48D6-95A4-7E494B1328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Nearest Neighbo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distance between a test point and every training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osest training examples and assign the test instance to the most common category amongst these nearest neighb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ing multiple neighbors helps decrease susceptibility to noi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use odd value fo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void 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B1617-4047-4E01-A3BB-D3CF0DF017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5-Nearest Neighbor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70080" y="1925640"/>
            <a:ext cx="0" cy="379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57480" y="5718240"/>
            <a:ext cx="568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79560" y="246204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81600" y="2846520"/>
            <a:ext cx="96840" cy="889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97080" y="3705120"/>
            <a:ext cx="96840" cy="889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6040" y="357660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95760" y="4462560"/>
            <a:ext cx="96840" cy="889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415440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6120" y="5052960"/>
            <a:ext cx="96840" cy="889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5600" y="4253040"/>
            <a:ext cx="96840" cy="889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75160" y="267984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34160" y="390672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28880" y="540072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99040" y="4754520"/>
            <a:ext cx="96840" cy="889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97120" y="3997440"/>
            <a:ext cx="96840" cy="8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33720" y="3427560"/>
            <a:ext cx="1195560" cy="115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95680" y="3997440"/>
            <a:ext cx="96840" cy="889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25720" y="4911840"/>
            <a:ext cx="96840" cy="889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32600" y="317016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31040" y="243360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219708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EFA71-9490-4A80-8836-8A089177E0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mplicit Classification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it is not necessary to explicitly calculate it, the learned classification rule is based on regions of the feature space closest to each training ex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1-nearest neighbor with Euclidian distance, the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oronoi dia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s the complex polyhedra segmenting the space into the regions closest to each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138480" y="4402080"/>
            <a:ext cx="2212920" cy="2260800"/>
            <a:chOff x="3138480" y="4402080"/>
            <a:chExt cx="2212920" cy="226080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3138480" y="4415040"/>
              <a:ext cx="2209680" cy="22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146400" y="4402080"/>
              <a:ext cx="2205000" cy="224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40B1B-F078-4B6E-91B3-016218CC9F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fficient Index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search to find the nearest neighbors is not efficient for large training 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ing structures can be built to speed t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uclidian distance, a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kd-tr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built that reduces the expected time to find the nearest neighbor to 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 the number of training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des branch on threshold tests on individual features and leaves terminate at nearest neighbo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indexing structures possible for other metrics or str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verted index for text retrieva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0845E-AD46-4AD1-A61E-8A63EBDFE0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arest Neighbor Vari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to estimate the value of a real-valued function (regression) by taking the average function valu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arest neighbors to an input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raining examples can be used to help classify a test instance by giving every training example a vote that is weighted by the inverse square of its distance from the test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0F0A-E135-4D55-8058-A086472D40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J. Mooney</cp:lastModifiedBy>
  <dcterms:modified xsi:type="dcterms:W3CDTF">2006-11-13T23:45:28Z</dcterms:modified>
  <cp:revision>258</cp:revision>
  <dc:subject/>
  <dc:title>Intelligent Information Retrieval and Web Search</dc:title>
</cp:coreProperties>
</file>