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2DAC-DD6D-4898-AFDE-B9CB713A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C9D4-CFC2-4915-869D-66FCFC6C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E5B8-8969-4B99-82CD-B62CDDE1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FF88-19BA-480B-B19F-F18B8C23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BA0A-5E37-4C37-8B5C-5DD82E5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C0D8-B79A-459E-ADB9-C68B5BD7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33DC-6EAB-4001-9C81-C3E82112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6410-8C3E-4DCF-92E8-FA32604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168F-8055-48ED-BA92-28B1E77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0F18-EC2F-4790-95A9-8E27A88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2A8A-C5DA-4F0B-BDCD-8FB43E8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B9F3-7309-483E-A4E4-C954FFD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7F4A-4886-4603-B73D-1E800ED6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CBDC-CA2C-4477-BB7A-8C2ACD38B2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ng the Learning Tas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8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mprove on task, T, with respec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erformance metric, P, based on experience,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5040" y="2851200"/>
            <a:ext cx="7665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69840" y="2281320"/>
            <a:ext cx="748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85760" y="2440080"/>
            <a:ext cx="712008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Playing chec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Percentage of games won against an arbitrary oppon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: Playing practice games against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Recognizing hand-writte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Percentage of words correctly class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: Database of human-labeled images of handwritte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Driving on four-lane highways using visio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Average distance traveled before a human-judge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: A sequence of images and steering commands recorded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ing a human dri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Categorize email messages as spam or legiti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Percentage of email messages correctly class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: Database of emails, some with human-given lab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7104-2946-4F3A-88AC-3C3CB4289B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signing a Learning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e train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exactly what is too be learned, i.e.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arget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how to represent the targe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learning algorithm to infer the target function from the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9920" y="4824720"/>
            <a:ext cx="2238120" cy="994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3520" y="4354920"/>
            <a:ext cx="1993680" cy="398880"/>
          </a:xfrm>
          <a:prstGeom prst="rect">
            <a:avLst/>
          </a:prstGeom>
          <a:solidFill>
            <a:srgbClr val="00cc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6"/>
          </p:cNvCxnSpPr>
          <p:nvPr/>
        </p:nvCxnSpPr>
        <p:spPr>
          <a:xfrm flipV="1">
            <a:off x="3811680" y="4521960"/>
            <a:ext cx="1334160" cy="80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265360" y="5088600"/>
            <a:ext cx="1918800" cy="563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977440"/>
            <a:ext cx="1994040" cy="703800"/>
          </a:xfrm>
          <a:prstGeom prst="rect">
            <a:avLst/>
          </a:prstGeom>
          <a:solidFill>
            <a:srgbClr val="00cc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3" idx="2"/>
            <a:endCxn id="75" idx="0"/>
          </p:cNvCxnSpPr>
          <p:nvPr/>
        </p:nvCxnSpPr>
        <p:spPr>
          <a:xfrm>
            <a:off x="6210360" y="4758840"/>
            <a:ext cx="1512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4"/>
            <a:endCxn id="76" idx="0"/>
          </p:cNvCxnSpPr>
          <p:nvPr/>
        </p:nvCxnSpPr>
        <p:spPr>
          <a:xfrm flipH="1">
            <a:off x="6215760" y="5638680"/>
            <a:ext cx="9000" cy="33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2" idx="6"/>
            <a:endCxn id="76" idx="1"/>
          </p:cNvCxnSpPr>
          <p:nvPr/>
        </p:nvCxnSpPr>
        <p:spPr>
          <a:xfrm>
            <a:off x="3811320" y="5322960"/>
            <a:ext cx="1408680" cy="1007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3561-F64E-4D38-8F42-65A687B349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ing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play checkers from self-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develop an approach analogous to that used in the  first machine learning system developed by Arthur Samuels at IBM in 195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3E8A-D8C1-4E7C-BC07-66C8EBC690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ining Exper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rect exper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iven sample input and output pairs for a useful targe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ecker boards labeled with the correct move, e.g. extracted from record of expert pla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direct exper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iven feedback which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 I/O pairs for a useful targe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tentially arbitrary sequences of game moves and their final game resul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redit/Blame Assignment 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to assign credit blame to individual moves given only indirect feedbac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9653-301B-4C2E-8598-491EB2E609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urce of Training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random examples outside of the learner’s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gative examples available or only positive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training examples selected by a “benevolent teach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ar miss” exampl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 can query an oracle about class of an unlabeled example in the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 can construct an arbitrary example and query an oracle for its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 can  design and run experiments directly in the environment without any human guid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0220-5013-411A-A5CC-3272D8FD7C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ining vs. Test Distrib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assume that the training and test examples are independently drawn from the same overall distribution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ID: Independently and identically distribut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xamples are not independent, requir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llective class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est distribution is different, requir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ansfer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EB0C-ED1C-4AE1-BF7A-24F4A7EC61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hoosing a Targe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126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unction is to be learned and how will it be used by the performance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heckers, assume we are given a function for generating the legal moves for a given board position and want to decide the best 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uld learn a function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ooseMove(board, legal-moves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best-mo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 could learn a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valuation func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ard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that gives each board position a score for how favorable it is.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an be used to pick a move by applying each legal move, scoring the resulting board position, and choosing the move that results in the highest scoring board positi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1C21-1B64-417D-9E6A-5CFF4BA1D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deal Definition of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07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inal winning board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inal losing board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inal draw board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highest scoring final board position that is achieved starting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laying optimally until the end of the game (assuming the opponent plays optimally as wel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be computed using complete mini-max search of the finite game tre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EEB9-2F70-4599-B8DE-D48B816B5F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roximating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intractable since it involves searching the complete exponential gam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is definition is said to b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on-opera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pera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can be computed in reasonable (polynomial)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learn an operation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ideal evalu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827F-4F70-4275-9D86-6F02D6E38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presenting the Targe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function can be represented in many ways: lookup table, symbolic rules, numerical function, neural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trade-off between the expressiveness of a representation and the ease of lear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expressive a representation, the better it will be at approximating an arbitrary function; however, the more examples will be needed to learn an accurat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8CDE-FF4A-47FE-8C2C-63B699D5B6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at is Learning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ert Simon: “Learning is any process by which a system improves performance from experie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blem solving / planning / contro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E0F1-F0ED-4653-A1AE-A2BC359A8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ear Function for Representing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18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heckers, use a linear approximation of the evalu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black pieces on board 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red pieces on board 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black kings on board b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red kings on board 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black pieces threatened (i.e. which can be immediately taken by red on its next tur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red pieces threaten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8840" y="2386080"/>
                <a:ext cx="8564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2B34-7962-4C42-9383-F995AE78AF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btaining Training Val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supervision may be available for the target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&gt;,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100&gt;          (win for black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indirect feedback, training values can be estimated us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mporal difference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sed i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inforcement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supervision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elayed rew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7791-A963-496C-BA77-A3DBF1B21B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mporal Differenc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45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raining values for intermediate (non-terminal) board positions by the estimated value of their successor in an actual game tr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uccessor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next board position where it is the program’s move in actual 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towards the end of the game are initially more accurate and continued training slowly “backs up” accurate values to earlier board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35280" y="2749680"/>
                <a:ext cx="3608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ccesso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D200-D605-421A-B006-105747F142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21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raining values for the target function to induce a hypothesized definition that fits these examples and hopefully generalizes to unseen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tatistics, learning to approximate a continuous function is calle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s to minimize some measure of error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ss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quared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682720" y="5062680"/>
                <a:ext cx="350856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3874-B506-4BB3-90C4-9E66C2DC6F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st Mean Squares (LMS)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81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adient descent algorithm that incrementally updates the weights of a linear function in an attempt to minimize the mean square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weights conver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ompute the absolute err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For each board featu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pdate its weigh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small constant (learning rate)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0200" y="4033800"/>
                <a:ext cx="356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90800" y="4956120"/>
                <a:ext cx="3335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25C1-7ACD-4E9C-8B1C-D4526263A8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MS Discus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, LMS executes the following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output for an example is correct, make no chan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output is too high, lower the weights proportional to the values of their corresponding features, so the overall output decrea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output is too low, increase the weights proportional to the values of their corresponding features, so the overall output increas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proper weak assumptions, LMS can be proven to eventetually converge to a set of weights that minimizes the mean squared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33B1-8735-42F8-835D-13AB6E69ED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ssons Learned about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an be viewed as using direct or indirect experience to approximate a chosen targe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pproximation can be viewed as a search through a space of hypotheses (representations of functions) for one that best fits a set of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learning methods assume different hypothesis spaces (representation languages) and/or employ different search techn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F0D2-DFBB-4375-9C21-41EF3B0F37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rious Function Represen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ic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inear regres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eural netwo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upport vector mach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ic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ecision tre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ules in propositional log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ules in first-order predicate log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-bas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earest-neighb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ase-base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aïve Bay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Bayesian netwo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idden-Markov Models  (HMM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robabilistic Context Free Grammars (PCFG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arkov netwo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BC85-D577-4799-B85D-9B922AAEB4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rious Search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ceptr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MM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CFG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and Con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ision tree induc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ule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ary 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tic Algorithms (GAs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tic Programming (GP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euro-evolu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ED43-A6A0-44E5-A765-D32C657219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on of Learning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uct controlled cross-validation experiments to compare various methods on a variety of benchmark datase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ather data on their performance, e.g. test accuracy, training-time, testing-tim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alyze differences for statistical significa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alyze algorithms mathematically and prove theorems about their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utational complexity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bility to fit training data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ample complexity (number of training examples needed to learn an accurate function)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33CB-E031-47C4-B19B-D0CDB62301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object/event to one of a given finite set of categ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dical diagnosi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redit card applications or transactio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raud detection in e-commerc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m detection in network packe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 in emai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ed articles in a newspap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ed books, movies, music, or jok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inancial investmen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NA sequenc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oken wor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andwritten letter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tronomical imag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1ACE-4623-4A36-983D-DC9EAA61C0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Machin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86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amuel’s checker play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elfridge’s Pandemon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0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eural networks: Perceptr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attern recognitio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earning in the limit theory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sky and Papert prove limitations of Perceptr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0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ymbolic concept induc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nston’s arch lear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xpert systems and the knowledge acquisition bottlenec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Quinlan’s ID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chalski’s AQ and soybean diagnos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cientific discovery with BAC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athematical discovery with A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79B4-E917-4D5F-9ED2-E2D2FCDBD4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Machine Learning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0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dvanced decision tree and rule learn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xplanation-based Learning (EB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earning and planning and problem solv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Utility probl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nalogy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gnitive architectur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urgence of neural networks (connectionism, backpropagatio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Valiant’s PAC Learning Theory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Focus on experimental methodology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ata min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daptive software agents and web applicatio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ext learn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inforcement learning (R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nductive Logic Programming (ILP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nsembles: Bagging, Boosting, and Stack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Bayes Net learn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120B-EEF1-4671-8758-2DDFF27DC5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Machine Learning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upport vector machi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ernel metho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raphical model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atistical relational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fer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quence label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llective classification and structured outpu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mputer Systems Applicatio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ilers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bugg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Graphics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ecurity (intrusion, virus, and worm detection)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il manageme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assistants that lear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in robotics and vis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B1EA0-5420-446A-90A4-73CADC3C94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 Solving / Planning / Contro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actions in an environment in order to achieve a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olving calculus probl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ing checkers, chess, or backgamm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alancing a po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riving a car or a jee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lying a plane, helicopter, or rock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rolling an elevato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rolling a character in a video gam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rolling a mobile robo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E333-F1C0-48A2-B413-9B61CF137E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asuring Perform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quality (length, efficie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6A68-D848-42AB-AEAC-E67740DD87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hy Study Machine Learning?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ngineering Better Computing System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systems that are too difficult/expensive to construct manually because they require specific detailed skills or knowledge tuned to a specific task 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nowledge engineering bottlen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systems that can automatically adapt and customize themselves to individual use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news or mai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tuto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 new knowledge from large databases 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ata m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rket basket analysis (e.g. diapers and beer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dical text mining (e.g. migraines to calcium channel blockers to magnesium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4368-A26F-496F-91EB-A7732D5FB2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hy Study Machine Learning?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gnitive Scienc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8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studies of learning may help us understand learning in humans and other biological org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bbian neural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eurons that fire together, wire together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uman’s relative difficulty of learning disjunctive concepts vs. conjunctive on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wer law of practi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21240" y="4413240"/>
            <a:ext cx="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21240" y="5888160"/>
            <a:ext cx="237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28520" y="58896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# training tri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2487960" y="4935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perf.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4559400"/>
            <a:ext cx="1633320" cy="9763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FCF8-8528-417E-9D62-A1DC91AEE4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hy Study Machine Learning?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 Time is Rip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basic effective and efficient algorithms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amounts of on-line data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amounts of computational resources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2E8A-9442-440D-895B-D6CBCE7DAD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ed Disciplin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and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complexit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 (adap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 (developmental, cogn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184D-5F95-483D-89AA-78F2C18BD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6-09-08T15:41:45Z</dcterms:modified>
  <cp:revision>205</cp:revision>
  <dc:subject/>
  <dc:title>Intelligent Information Retrieval and Web Search</dc:title>
</cp:coreProperties>
</file>