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F4FB-0E14-4654-B337-6686BF36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F4EB-A253-4D7D-BDEE-A53BA52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681E-3930-4460-A9C9-0B3FB989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CB5F-D285-427D-9711-1BFC0288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6450-1E93-487F-9FAF-4F2B585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1F54-AFAD-4AB7-A081-250527E8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2957-0F1E-4723-A3FE-472CBE7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56D6-E9C1-4FAD-93B4-641F65B4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0602-00C2-4464-BE5E-0BA2307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0CD2-C927-4451-98B5-CCAF239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2458-F2E1-4477-A427-B993096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B2D1-0EFB-4195-95DB-D12EDF3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1AB2-8E64-4DAC-A4BE-2853F7D4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2115-0678-4A67-8F32-AEA7AD75A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ng the Learning Task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8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mprove on task, T, with respec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rformance metric, P, based on experience,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5040" y="2851200"/>
            <a:ext cx="766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69840" y="2281320"/>
            <a:ext cx="748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5760" y="2440080"/>
            <a:ext cx="712008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Playing chec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games won against an arbitrary oppon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Playing practice games against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Recognizing hand-writte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words correctly class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Database of human-labeled images of handwritte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Driving on four-lane highways using visio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Average distance traveled before a human-judg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A sequence of images and steering commands recorded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ing a human d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Categorize email messages as spam or legit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Percentage of email messages correctly class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: Database of emails, some with human-given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9A1C-801C-4EFC-BBB6-EEE1A61C5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signing a Learning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trai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exactly what is too be learned, i.e.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arget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how to represent the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learning algorithm to infer the target function from the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9920" y="4824720"/>
            <a:ext cx="2238120" cy="994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3520" y="4354920"/>
            <a:ext cx="1993680" cy="398880"/>
          </a:xfrm>
          <a:prstGeom prst="rect">
            <a:avLst/>
          </a:prstGeom>
          <a:solidFill>
            <a:srgbClr val="00cc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6"/>
          </p:cNvCxnSpPr>
          <p:nvPr/>
        </p:nvCxnSpPr>
        <p:spPr>
          <a:xfrm flipV="1">
            <a:off x="3811680" y="4521960"/>
            <a:ext cx="1334160" cy="80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265360" y="5088600"/>
            <a:ext cx="1918800" cy="563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977440"/>
            <a:ext cx="1994040" cy="703800"/>
          </a:xfrm>
          <a:prstGeom prst="rect">
            <a:avLst/>
          </a:prstGeom>
          <a:solidFill>
            <a:srgbClr val="00cc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3" idx="2"/>
            <a:endCxn id="75" idx="0"/>
          </p:cNvCxnSpPr>
          <p:nvPr/>
        </p:nvCxnSpPr>
        <p:spPr>
          <a:xfrm>
            <a:off x="6210360" y="4758840"/>
            <a:ext cx="1512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4"/>
            <a:endCxn id="76" idx="0"/>
          </p:cNvCxnSpPr>
          <p:nvPr/>
        </p:nvCxnSpPr>
        <p:spPr>
          <a:xfrm flipH="1">
            <a:off x="6215760" y="5638680"/>
            <a:ext cx="900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2" idx="6"/>
            <a:endCxn id="76" idx="1"/>
          </p:cNvCxnSpPr>
          <p:nvPr/>
        </p:nvCxnSpPr>
        <p:spPr>
          <a:xfrm>
            <a:off x="3811320" y="5322960"/>
            <a:ext cx="1408680" cy="100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3BF0-6218-4F64-8221-9ED621BC2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Learning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play checkers from self-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develop an approach analogous to that used in the  first machine learning system developed by Arthur Samuels at IBM in 195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3E88-FA08-4F9D-9063-2FF737D86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Experi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rect 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sample input and output pairs for a useful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ecker boards labeled with the correct move, e.g. extracted from record of expert pla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irect 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feedback which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I/O pairs for a useful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tentially arbitrary sequences of game moves and their final game resul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redit/Blame Assignment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to assign credit blame to individual moves given only indirect feedbac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7B9E-FF02-467E-94ED-28078FA56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urce of Training Dat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random examples outside of the learner’s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gative examples available or only positive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raining examples selected by a “benevolent teach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ar miss” exampl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query an oracle about class of an unlabeled example in the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construct an arbitrary example and query an oracle for its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 can  design and run experiments directly in the environment without any human guid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E4FE-199D-45B5-B5F2-8B121BFBC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aining vs. Tes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ssume that the training and test examples are independently drawn from the same overall distribution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ID: Independently and identically distribute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xamples are not independent, requir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lective class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est distribution is different, requir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ansfer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9F49-6245-4CDB-B565-28CBB558F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oosing a Targe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126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unction is to be learned and how will it be used by the performanc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heckers, assume we are given a function for generating the legal moves for a given board position and want to decide the bes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ld learn a function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hooseMove(board, legal-moves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best-mov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 could learn a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valuation func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ard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that gives each board position a score for how favorable it is.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an be used to pick a move by applying each legal move, scoring the resulting board position, and choosing the move that results in the highest scoring board posi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7379-C184-4B3E-BCD4-79F5D0891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deal Definition of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07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winning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losing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al draw board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highest scoring final board position that is achieved starting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laying optimally until the end of the game (assuming the opponent plays optimally as wel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be computed using complete mini-max search of the finite game tre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407D-1653-4B8C-8AC0-20B31550F3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roximating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intractable since it involves searching the complete exponential gam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is definition is said to b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on-opera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pera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can be computed in reasonable (polynomial)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learn an opera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deal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0F50-FA94-4577-978F-9BA50DAB20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presenting the Target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function can be represented in many ways: lookup table, symbolic rules, numerical function, neural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trade-off between the expressiveness of a representation and the ease of lear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expressive a representation, the better it will be at approximating an arbitrary function; however, the more examples will be needed to learn an accurat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DAFD-EC67-4E70-9919-27C20E4407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hat is Learning?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ert Simon: “Learning is any process by which a system improves performance from experie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blem solving / planning / contro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83EA-0A5D-4163-ACC7-F66ADA5DF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inear Function for Representing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918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eckers, use a linear approximation of the evalu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piece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piece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kings on board b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kings on board 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black pieces threatened (i.e. which can be immediately taken by red on its next turn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number of red pieces threaten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8840" y="2386080"/>
                <a:ext cx="8564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E824-A499-483B-85DE-380A6F3A2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taining Training Valu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upervision may be available for the target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&gt;,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100&gt;          (win for black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indirect feedback, training values can be estimated using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mporal difference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sed i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inforcement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supervision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layed re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B6D1-F677-4BFA-9D68-921B13419E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mporal Differenc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raining values for intermediate (non-terminal) board positions by the estimated value of their successor in an actual game tr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uccessor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next board position where it is the program’s move in actual 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towards the end of the game are initially more accurate and continued training slowly “backs up” accurate values to earlier board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35280" y="2749680"/>
                <a:ext cx="3608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cess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BCE4-CC40-4431-AB71-972B6F3A4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21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raining values for the target function to induce a hypothesized definition that fits these examples and hopefully generalizes to unseen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tatistics, learning to approximate a continuous function is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minimize some measure of error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ss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quared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82720" y="5062680"/>
                <a:ext cx="350856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9F4E-374B-4CAC-92AF-212DA02453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st Mean Squares (LMS)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81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dient descent algorithm that incrementally updates the weights of a linear function in an attempt to minimize the mean square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weights conver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aining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ompute the absolute err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For each board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date its weigh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small constant (learning rate)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0200" y="4033800"/>
                <a:ext cx="356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0800" y="4956120"/>
                <a:ext cx="3335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EFD3-048C-436E-831B-F0B8954D9A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MS Discuss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LMS executes the following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for an example is correct, make no chang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is too high, lower the weights proportional to the values of their corresponding features, so the overall output decrea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the output is too low, increase the weights proportional to the values of their corresponding features, so the overall output increas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proper weak assumptions, LMS can be proven to eventetually converge to a set of weights that minimizes the mean squared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45F4-FA0E-488E-B277-11CFA5C449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ssons Learned about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an be viewed as using direct or indirect experience to approximate a chosen targe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pproximation can be viewed as a search through a space of hypotheses (representations of functions) for one that best fits a set of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learning methods assume different hypothesis spaces (representation languages) and/or employ different search techn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43F0-2C98-4B19-A2F8-BF10D1A4AC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ous Function Represent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inear regress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ural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upport vector mach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cision tre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ules in propositional log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ules in first-order predicate logi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-bas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arest-neighbo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se-base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aïve Bay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ayesian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idden-Markov Models  (HMM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robabilistic Context Free Grammars (PCFGs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arkov network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1267-5990-4A92-BF26-B7EA95A12F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ous Search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ceptr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MM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CFG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ision tree induc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ule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tic Algorithms (GAs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tic Programming (GP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euro-evolu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48B6-8ADF-4329-A0FF-F4DD62E4F0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on of Learning Syst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uct controlled cross-validation experiments to compare various methods on a variety of benchmark dataset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ather data on their performance, e.g. test accuracy, training-time, testing-tim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alyze differences for statistical significanc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alyze algorithms mathematically and prove theorems about their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utational complexity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bility to fit training data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ample complexity (number of training examples needed to learn an accurate function)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EB48-18BE-4B91-ABB8-64B50C81ED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object/event to one of a given finite set of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redit card applications or transac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aud detection in e-commerc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m detection in network packe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m filtering in emai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ed articles in a newspap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commended books, movies, music, or jok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inancial investm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NA sequ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oken wor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andwritten lett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tronomical imag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DC93-721F-4D09-9454-E2E4558B3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amuel’s checker play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elfridge’s Pandemoniu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0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eural networks: Perceptr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attern recognitio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earning in the limit theor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sky and Papert prove limitations of Perceptr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0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ymbolic concept induc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nston’s arch lear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ert systems and the knowledge acquisition bottleneck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Quinlan’s ID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chalski’s AQ and soybean diagnosi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cientific discovery with BAC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athematical discovery with A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42B9-DEFD-4C4A-9595-2581CC73F5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0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vanced decision tree and rule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lanation-based Learning (EB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earning and planning and problem solv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Utility probl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nalog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gnitive architectur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urgence of neural networks (connectionism, backpropagation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aliant’s PAC Learning Theor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ocus on experimental methodology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ata mi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aptive software agents and web application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ext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inforcement learning (R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ductive Logic Programming (ILP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nsembles: Bagging, Boosting, and Stack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ayes Net learni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2694-4D6B-40FC-A997-D02355FC0F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story of Machine Learning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upport vector machi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ernel metho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raphical model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atistical relational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fer lear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quence label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llective classification and structured outpu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mputer Systems Applica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ilers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bugg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Graphics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ecurity (intrusion, virus, and worm detection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il managem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assistants that lear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arning in robotics and vis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0DA2-BD8D-40BF-9DD6-124D6120FE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lem Solving / Planning / Contro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actions in an environment in order to achieve a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olving calculus proble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ying checkers, chess, or backgamm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alancing a po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riving a car or a jee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lying a plane, helicopter, or roc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n elevato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 character in a video ga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ling a mobile robo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BCF1-2EEA-4C66-A761-D35E681D2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easuring Performa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quality (length, effici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C3A5-A686-4FF8-AFA6-16B3A148A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ngineering Better Computing System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ystems that are too difficult/expensive to construct manually because they require specific detailed skills or knowledge tuned to a specific task 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nowledge engineering bottlen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ystems that can automatically adapt and customize themselves to individual us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news or mai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rsonalized tuto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new knowledge from large databases 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ata m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ket basket analysis (e.g. diapers and beer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dical text mining (e.g. migraines to calcium channel blockers to magnesium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73B8-1CDC-48C8-A5CD-9E8363BBB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gnitive Scienc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studies of learning may help us understand learning in humans and other biological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bbian neural lear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eurons that fire together, wire together.”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man’s relative difficulty of learning disjunctive concepts vs. conjunctive on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wer law of practi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21240" y="4413240"/>
            <a:ext cx="0" cy="14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21240" y="5888160"/>
            <a:ext cx="237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8520" y="58896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# training tri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2487960" y="4935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perf.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4559400"/>
            <a:ext cx="1633320" cy="9763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37C0-3DFF-4E89-A35C-558D31F624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y Study Machine Learning?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 Time is Rip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asic effective and efficient algorithm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mounts of on-line data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mounts of computational resource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7569-50B9-4922-B013-CFA17D80B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lated Disciplin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an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mplex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 (adap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 (developmental, cogn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564A-493C-4518-BFE2-1AF7053E1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6-09-08T15:41:45Z</dcterms:modified>
  <cp:revision>205</cp:revision>
  <dc:subject/>
  <dc:title>Intelligent Information Retrieval and Web Search</dc:title>
</cp:coreProperties>
</file>