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5AD41-305B-4C74-A38E-AF9064714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B2F54-0A92-46C7-9150-6D00B32C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ED746-5FD9-4E06-9899-AF955FEB2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D9C0D-0697-41B2-9826-F98E14155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AEF6D-97DD-4E32-9132-9DBF5832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C8742-2CA3-4C75-9D0B-79458196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CAFB0-0372-46DE-8ABC-73A08CBD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ABF07-8B10-4099-89B8-97C3C9C8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3C744-2B60-4D85-B390-712D4F53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F57B1-76F5-4416-80E1-EA7FE99F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53120-870F-43AD-BDB6-5B185CAF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805B8-B8D7-4940-85D5-83CE0B42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7B99-F711-477D-B60B-E72D3EE53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CS 391L: Machine Learning:</a:t>
            </a:r>
            <a:br>
              <a:rPr sz="3200"/>
            </a:b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Bayesian Learning:</a:t>
            </a:r>
            <a:br>
              <a:rPr sz="3200"/>
            </a:b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Naïve Baye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24080" y="4849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aymond J. Mo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Texas at Aus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5D819-2211-404B-AA0B-F472C40F0AE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enerative Probabilistic Model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3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a simple (usually unrealistic) probabilistic method by which the data was gener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ategorization, each category has a different parameterized generative model that characterizes that categ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ai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Use the data for each category to estimate the parameters of the generative model for that catego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aximum Likelihood Estimation (MLE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Set parameters to maximize the probability that the model produced the given training data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M</a:t>
            </a:r>
            <a:r>
              <a:rPr b="0" i="1" lang="el-GR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λ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denotes a model with parameter values λ and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is the training data for the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h class, find model parameters for class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(λ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 that maximize the likelihood of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es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Use Bayesian analysis to determine the category model that most likely generated a specific test in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079800" y="5229360"/>
                <a:ext cx="321948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limLow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λ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EF6A7-B167-4197-8217-AC27C2F1A8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Generative Mode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04800" y="4802040"/>
            <a:ext cx="3304800" cy="1512000"/>
            <a:chOff x="604800" y="4802040"/>
            <a:chExt cx="3304800" cy="1512000"/>
          </a:xfrm>
        </p:grpSpPr>
        <p:grpSp>
          <p:nvGrpSpPr>
            <p:cNvPr id="102" name=""/>
            <p:cNvGrpSpPr/>
            <p:nvPr/>
          </p:nvGrpSpPr>
          <p:grpSpPr>
            <a:xfrm>
              <a:off x="604800" y="4802040"/>
              <a:ext cx="3304800" cy="1142280"/>
              <a:chOff x="604800" y="4802040"/>
              <a:chExt cx="3304800" cy="114228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604800" y="4817160"/>
                <a:ext cx="1105920" cy="1127160"/>
                <a:chOff x="604800" y="4817160"/>
                <a:chExt cx="1105920" cy="112716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604800" y="4823280"/>
                  <a:ext cx="552960" cy="1121040"/>
                </a:xfrm>
                <a:custGeom>
                  <a:avLst/>
                  <a:gdLst/>
                  <a:ahLst/>
                  <a:rect l="l" t="t" r="r" b="b"/>
                  <a:pathLst>
                    <a:path w="549" h="1235">
                      <a:moveTo>
                        <a:pt x="157" y="0"/>
                      </a:moveTo>
                      <a:cubicBezTo>
                        <a:pt x="212" y="33"/>
                        <a:pt x="268" y="66"/>
                        <a:pt x="295" y="108"/>
                      </a:cubicBezTo>
                      <a:cubicBezTo>
                        <a:pt x="322" y="150"/>
                        <a:pt x="326" y="209"/>
                        <a:pt x="318" y="254"/>
                      </a:cubicBezTo>
                      <a:cubicBezTo>
                        <a:pt x="310" y="299"/>
                        <a:pt x="287" y="336"/>
                        <a:pt x="249" y="377"/>
                      </a:cubicBezTo>
                      <a:cubicBezTo>
                        <a:pt x="211" y="418"/>
                        <a:pt x="126" y="453"/>
                        <a:pt x="88" y="500"/>
                      </a:cubicBezTo>
                      <a:cubicBezTo>
                        <a:pt x="50" y="547"/>
                        <a:pt x="30" y="601"/>
                        <a:pt x="19" y="661"/>
                      </a:cubicBezTo>
                      <a:cubicBezTo>
                        <a:pt x="8" y="721"/>
                        <a:pt x="0" y="796"/>
                        <a:pt x="19" y="861"/>
                      </a:cubicBezTo>
                      <a:cubicBezTo>
                        <a:pt x="38" y="926"/>
                        <a:pt x="97" y="996"/>
                        <a:pt x="134" y="1053"/>
                      </a:cubicBezTo>
                      <a:cubicBezTo>
                        <a:pt x="171" y="1110"/>
                        <a:pt x="172" y="1177"/>
                        <a:pt x="241" y="1206"/>
                      </a:cubicBezTo>
                      <a:cubicBezTo>
                        <a:pt x="310" y="1235"/>
                        <a:pt x="498" y="1227"/>
                        <a:pt x="549" y="1229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H="1">
                  <a:off x="1157760" y="4819680"/>
                  <a:ext cx="552960" cy="1121040"/>
                </a:xfrm>
                <a:custGeom>
                  <a:avLst/>
                  <a:gdLst/>
                  <a:ahLst/>
                  <a:rect l="l" t="t" r="r" b="b"/>
                  <a:pathLst>
                    <a:path w="549" h="1235">
                      <a:moveTo>
                        <a:pt x="157" y="0"/>
                      </a:moveTo>
                      <a:cubicBezTo>
                        <a:pt x="212" y="33"/>
                        <a:pt x="268" y="66"/>
                        <a:pt x="295" y="108"/>
                      </a:cubicBezTo>
                      <a:cubicBezTo>
                        <a:pt x="322" y="150"/>
                        <a:pt x="326" y="209"/>
                        <a:pt x="318" y="254"/>
                      </a:cubicBezTo>
                      <a:cubicBezTo>
                        <a:pt x="310" y="299"/>
                        <a:pt x="287" y="336"/>
                        <a:pt x="249" y="377"/>
                      </a:cubicBezTo>
                      <a:cubicBezTo>
                        <a:pt x="211" y="418"/>
                        <a:pt x="126" y="453"/>
                        <a:pt x="88" y="500"/>
                      </a:cubicBezTo>
                      <a:cubicBezTo>
                        <a:pt x="50" y="547"/>
                        <a:pt x="30" y="601"/>
                        <a:pt x="19" y="661"/>
                      </a:cubicBezTo>
                      <a:cubicBezTo>
                        <a:pt x="8" y="721"/>
                        <a:pt x="0" y="796"/>
                        <a:pt x="19" y="861"/>
                      </a:cubicBezTo>
                      <a:cubicBezTo>
                        <a:pt x="38" y="926"/>
                        <a:pt x="97" y="996"/>
                        <a:pt x="134" y="1053"/>
                      </a:cubicBezTo>
                      <a:cubicBezTo>
                        <a:pt x="171" y="1110"/>
                        <a:pt x="172" y="1177"/>
                        <a:pt x="241" y="1206"/>
                      </a:cubicBezTo>
                      <a:cubicBezTo>
                        <a:pt x="310" y="1235"/>
                        <a:pt x="498" y="1227"/>
                        <a:pt x="549" y="1229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V="1">
                  <a:off x="779040" y="4817160"/>
                  <a:ext cx="765720" cy="7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1703160" y="4810680"/>
                <a:ext cx="1105920" cy="1127160"/>
                <a:chOff x="1703160" y="4810680"/>
                <a:chExt cx="1105920" cy="11271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1703160" y="4816800"/>
                  <a:ext cx="552960" cy="1121040"/>
                </a:xfrm>
                <a:custGeom>
                  <a:avLst/>
                  <a:gdLst/>
                  <a:ahLst/>
                  <a:rect l="l" t="t" r="r" b="b"/>
                  <a:pathLst>
                    <a:path w="549" h="1235">
                      <a:moveTo>
                        <a:pt x="157" y="0"/>
                      </a:moveTo>
                      <a:cubicBezTo>
                        <a:pt x="212" y="33"/>
                        <a:pt x="268" y="66"/>
                        <a:pt x="295" y="108"/>
                      </a:cubicBezTo>
                      <a:cubicBezTo>
                        <a:pt x="322" y="150"/>
                        <a:pt x="326" y="209"/>
                        <a:pt x="318" y="254"/>
                      </a:cubicBezTo>
                      <a:cubicBezTo>
                        <a:pt x="310" y="299"/>
                        <a:pt x="287" y="336"/>
                        <a:pt x="249" y="377"/>
                      </a:cubicBezTo>
                      <a:cubicBezTo>
                        <a:pt x="211" y="418"/>
                        <a:pt x="126" y="453"/>
                        <a:pt x="88" y="500"/>
                      </a:cubicBezTo>
                      <a:cubicBezTo>
                        <a:pt x="50" y="547"/>
                        <a:pt x="30" y="601"/>
                        <a:pt x="19" y="661"/>
                      </a:cubicBezTo>
                      <a:cubicBezTo>
                        <a:pt x="8" y="721"/>
                        <a:pt x="0" y="796"/>
                        <a:pt x="19" y="861"/>
                      </a:cubicBezTo>
                      <a:cubicBezTo>
                        <a:pt x="38" y="926"/>
                        <a:pt x="97" y="996"/>
                        <a:pt x="134" y="1053"/>
                      </a:cubicBezTo>
                      <a:cubicBezTo>
                        <a:pt x="171" y="1110"/>
                        <a:pt x="172" y="1177"/>
                        <a:pt x="241" y="1206"/>
                      </a:cubicBezTo>
                      <a:cubicBezTo>
                        <a:pt x="310" y="1235"/>
                        <a:pt x="498" y="1227"/>
                        <a:pt x="549" y="1229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flipH="1">
                  <a:off x="2256120" y="4813200"/>
                  <a:ext cx="552960" cy="1121040"/>
                </a:xfrm>
                <a:custGeom>
                  <a:avLst/>
                  <a:gdLst/>
                  <a:ahLst/>
                  <a:rect l="l" t="t" r="r" b="b"/>
                  <a:pathLst>
                    <a:path w="549" h="1235">
                      <a:moveTo>
                        <a:pt x="157" y="0"/>
                      </a:moveTo>
                      <a:cubicBezTo>
                        <a:pt x="212" y="33"/>
                        <a:pt x="268" y="66"/>
                        <a:pt x="295" y="108"/>
                      </a:cubicBezTo>
                      <a:cubicBezTo>
                        <a:pt x="322" y="150"/>
                        <a:pt x="326" y="209"/>
                        <a:pt x="318" y="254"/>
                      </a:cubicBezTo>
                      <a:cubicBezTo>
                        <a:pt x="310" y="299"/>
                        <a:pt x="287" y="336"/>
                        <a:pt x="249" y="377"/>
                      </a:cubicBezTo>
                      <a:cubicBezTo>
                        <a:pt x="211" y="418"/>
                        <a:pt x="126" y="453"/>
                        <a:pt x="88" y="500"/>
                      </a:cubicBezTo>
                      <a:cubicBezTo>
                        <a:pt x="50" y="547"/>
                        <a:pt x="30" y="601"/>
                        <a:pt x="19" y="661"/>
                      </a:cubicBezTo>
                      <a:cubicBezTo>
                        <a:pt x="8" y="721"/>
                        <a:pt x="0" y="796"/>
                        <a:pt x="19" y="861"/>
                      </a:cubicBezTo>
                      <a:cubicBezTo>
                        <a:pt x="38" y="926"/>
                        <a:pt x="97" y="996"/>
                        <a:pt x="134" y="1053"/>
                      </a:cubicBezTo>
                      <a:cubicBezTo>
                        <a:pt x="171" y="1110"/>
                        <a:pt x="172" y="1177"/>
                        <a:pt x="241" y="1206"/>
                      </a:cubicBezTo>
                      <a:cubicBezTo>
                        <a:pt x="310" y="1235"/>
                        <a:pt x="498" y="1227"/>
                        <a:pt x="549" y="1229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V="1">
                  <a:off x="1877400" y="4810680"/>
                  <a:ext cx="765720" cy="7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2803680" y="4802040"/>
                <a:ext cx="1105920" cy="1127160"/>
                <a:chOff x="2803680" y="4802040"/>
                <a:chExt cx="1105920" cy="112716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2803680" y="4808160"/>
                  <a:ext cx="552960" cy="1121040"/>
                </a:xfrm>
                <a:custGeom>
                  <a:avLst/>
                  <a:gdLst/>
                  <a:ahLst/>
                  <a:rect l="l" t="t" r="r" b="b"/>
                  <a:pathLst>
                    <a:path w="549" h="1235">
                      <a:moveTo>
                        <a:pt x="157" y="0"/>
                      </a:moveTo>
                      <a:cubicBezTo>
                        <a:pt x="212" y="33"/>
                        <a:pt x="268" y="66"/>
                        <a:pt x="295" y="108"/>
                      </a:cubicBezTo>
                      <a:cubicBezTo>
                        <a:pt x="322" y="150"/>
                        <a:pt x="326" y="209"/>
                        <a:pt x="318" y="254"/>
                      </a:cubicBezTo>
                      <a:cubicBezTo>
                        <a:pt x="310" y="299"/>
                        <a:pt x="287" y="336"/>
                        <a:pt x="249" y="377"/>
                      </a:cubicBezTo>
                      <a:cubicBezTo>
                        <a:pt x="211" y="418"/>
                        <a:pt x="126" y="453"/>
                        <a:pt x="88" y="500"/>
                      </a:cubicBezTo>
                      <a:cubicBezTo>
                        <a:pt x="50" y="547"/>
                        <a:pt x="30" y="601"/>
                        <a:pt x="19" y="661"/>
                      </a:cubicBezTo>
                      <a:cubicBezTo>
                        <a:pt x="8" y="721"/>
                        <a:pt x="0" y="796"/>
                        <a:pt x="19" y="861"/>
                      </a:cubicBezTo>
                      <a:cubicBezTo>
                        <a:pt x="38" y="926"/>
                        <a:pt x="97" y="996"/>
                        <a:pt x="134" y="1053"/>
                      </a:cubicBezTo>
                      <a:cubicBezTo>
                        <a:pt x="171" y="1110"/>
                        <a:pt x="172" y="1177"/>
                        <a:pt x="241" y="1206"/>
                      </a:cubicBezTo>
                      <a:cubicBezTo>
                        <a:pt x="310" y="1235"/>
                        <a:pt x="498" y="1227"/>
                        <a:pt x="549" y="1229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H="1">
                  <a:off x="3356640" y="4804560"/>
                  <a:ext cx="552960" cy="1121040"/>
                </a:xfrm>
                <a:custGeom>
                  <a:avLst/>
                  <a:gdLst/>
                  <a:ahLst/>
                  <a:rect l="l" t="t" r="r" b="b"/>
                  <a:pathLst>
                    <a:path w="549" h="1235">
                      <a:moveTo>
                        <a:pt x="157" y="0"/>
                      </a:moveTo>
                      <a:cubicBezTo>
                        <a:pt x="212" y="33"/>
                        <a:pt x="268" y="66"/>
                        <a:pt x="295" y="108"/>
                      </a:cubicBezTo>
                      <a:cubicBezTo>
                        <a:pt x="322" y="150"/>
                        <a:pt x="326" y="209"/>
                        <a:pt x="318" y="254"/>
                      </a:cubicBezTo>
                      <a:cubicBezTo>
                        <a:pt x="310" y="299"/>
                        <a:pt x="287" y="336"/>
                        <a:pt x="249" y="377"/>
                      </a:cubicBezTo>
                      <a:cubicBezTo>
                        <a:pt x="211" y="418"/>
                        <a:pt x="126" y="453"/>
                        <a:pt x="88" y="500"/>
                      </a:cubicBezTo>
                      <a:cubicBezTo>
                        <a:pt x="50" y="547"/>
                        <a:pt x="30" y="601"/>
                        <a:pt x="19" y="661"/>
                      </a:cubicBezTo>
                      <a:cubicBezTo>
                        <a:pt x="8" y="721"/>
                        <a:pt x="0" y="796"/>
                        <a:pt x="19" y="861"/>
                      </a:cubicBezTo>
                      <a:cubicBezTo>
                        <a:pt x="38" y="926"/>
                        <a:pt x="97" y="996"/>
                        <a:pt x="134" y="1053"/>
                      </a:cubicBezTo>
                      <a:cubicBezTo>
                        <a:pt x="171" y="1110"/>
                        <a:pt x="172" y="1177"/>
                        <a:pt x="241" y="1206"/>
                      </a:cubicBezTo>
                      <a:cubicBezTo>
                        <a:pt x="310" y="1235"/>
                        <a:pt x="498" y="1227"/>
                        <a:pt x="549" y="1229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V="1">
                  <a:off x="2977920" y="4802040"/>
                  <a:ext cx="765360" cy="7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5" name=""/>
            <p:cNvSpPr/>
            <p:nvPr/>
          </p:nvSpPr>
          <p:spPr>
            <a:xfrm>
              <a:off x="792360" y="5915160"/>
              <a:ext cx="303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ize          Color        Shap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3280" y="4813200"/>
            <a:ext cx="1105920" cy="1127160"/>
            <a:chOff x="5183280" y="4813200"/>
            <a:chExt cx="1105920" cy="1127160"/>
          </a:xfrm>
        </p:grpSpPr>
        <p:sp>
          <p:nvSpPr>
            <p:cNvPr id="117" name=""/>
            <p:cNvSpPr/>
            <p:nvPr/>
          </p:nvSpPr>
          <p:spPr>
            <a:xfrm>
              <a:off x="5183280" y="4819320"/>
              <a:ext cx="552960" cy="112104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5736240" y="4815720"/>
              <a:ext cx="552960" cy="112104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5357520" y="4813200"/>
              <a:ext cx="765720" cy="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281640" y="4807080"/>
            <a:ext cx="1106280" cy="1127160"/>
            <a:chOff x="6281640" y="4807080"/>
            <a:chExt cx="1106280" cy="1127160"/>
          </a:xfrm>
        </p:grpSpPr>
        <p:sp>
          <p:nvSpPr>
            <p:cNvPr id="121" name=""/>
            <p:cNvSpPr/>
            <p:nvPr/>
          </p:nvSpPr>
          <p:spPr>
            <a:xfrm>
              <a:off x="6281640" y="4813200"/>
              <a:ext cx="553320" cy="112104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6834240" y="4809600"/>
              <a:ext cx="553320" cy="112104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6455880" y="4807080"/>
              <a:ext cx="766080" cy="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7381800" y="4797360"/>
            <a:ext cx="1106280" cy="1127160"/>
            <a:chOff x="7381800" y="4797360"/>
            <a:chExt cx="1106280" cy="1127160"/>
          </a:xfrm>
        </p:grpSpPr>
        <p:sp>
          <p:nvSpPr>
            <p:cNvPr id="125" name=""/>
            <p:cNvSpPr/>
            <p:nvPr/>
          </p:nvSpPr>
          <p:spPr>
            <a:xfrm>
              <a:off x="7381800" y="4803480"/>
              <a:ext cx="553320" cy="112104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7934400" y="4799880"/>
              <a:ext cx="553320" cy="112104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7556040" y="4797360"/>
              <a:ext cx="766080" cy="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5370480" y="5910120"/>
            <a:ext cx="30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         Color        Sha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970440" y="2027160"/>
            <a:ext cx="1105920" cy="1127160"/>
            <a:chOff x="3970440" y="2027160"/>
            <a:chExt cx="1105920" cy="1127160"/>
          </a:xfrm>
        </p:grpSpPr>
        <p:sp>
          <p:nvSpPr>
            <p:cNvPr id="130" name=""/>
            <p:cNvSpPr/>
            <p:nvPr/>
          </p:nvSpPr>
          <p:spPr>
            <a:xfrm>
              <a:off x="3970440" y="2033280"/>
              <a:ext cx="552960" cy="112104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523400" y="2029680"/>
              <a:ext cx="552960" cy="112104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144680" y="2027160"/>
              <a:ext cx="765720" cy="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476360" y="62434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14320" y="622476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82760" y="233028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78320" y="252108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64000" y="235728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08240" y="254808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60880" y="270036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06840" y="269712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8880" y="21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01360" y="558324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2600" y="527220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200" y="540072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38320" y="517536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88640" y="55706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36240" y="54054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2040" y="510696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23400" y="495468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66960" y="539604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29680" y="48704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28120" y="52293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13600" y="52610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83440" y="5511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96280" y="561672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47960" y="507672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10040" y="545004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98720" y="52484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89440" y="557064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49760" y="53323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24440" y="483876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75000" y="51991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94440" y="549756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47680" y="51148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46120" y="50356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33880" y="535140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056800" y="53802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437240" y="518940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78040" y="55753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91440" y="483228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08120" y="524016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87480" y="50641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86560" y="538020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19320" y="51656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39200" y="553248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0" y="543384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31040" y="561168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93400" y="486252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50040" y="52214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27880" y="501480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48640" y="5573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23840" y="54118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15080" y="51832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96080" y="538020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86720" y="484344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61800" y="55926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930800" y="55864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454880" y="539100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60080" y="50832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942320" y="51973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778520" y="534816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81240" y="30970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5DC68-0FF5-4C68-9261-CFC9B8C566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2 0.03168 C 0.0033 0.000230000000000001 -0.00642 -0.03122 -0.01094 -0.05366 C -0.01545 -0.07609 -0.01684 -0.09089 -0.01354 -0.10338 C -0.01024 -0.11587 -0.0059 -0.12142 0.0092 -0.12813 C 0.02431 -0.13483 0.05729 -0.14663 0.07709 -0.14408 C 0.09688 -0.14154 0.11528 -0.12512 0.12778 -0.11217 C 0.14028 -0.09922 0.14809 -0.07355 0.15174 -0.06591 E">
                                      <p:cBhvr>
                                        <p:cTn id="6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" dur="250" autoRev="1" fill="hold"/>
                                        <p:tgtEl>
                                          <p:spTgt spid="1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1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250" autoRev="1" fill="hold"/>
                                        <p:tgtEl>
                                          <p:spTgt spid="1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250" autoRev="1" fill="hold"/>
                                        <p:tgtEl>
                                          <p:spTgt spid="1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250" autoRev="1" fill="hold"/>
                                        <p:tgtEl>
                                          <p:spTgt spid="1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250" autoRev="1" fill="hold"/>
                                        <p:tgtEl>
                                          <p:spTgt spid="1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250" autoRev="1" fill="hold"/>
                                        <p:tgtEl>
                                          <p:spTgt spid="1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250" autoRev="1" fill="hold"/>
                                        <p:tgtEl>
                                          <p:spTgt spid="1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250" autoRev="1" fill="hold"/>
                                        <p:tgtEl>
                                          <p:spTgt spid="1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250" autoRev="1" fill="hold"/>
                                        <p:tgtEl>
                                          <p:spTgt spid="1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250" autoRev="1" fill="hold"/>
                                        <p:tgtEl>
                                          <p:spTgt spid="1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250" autoRev="1" fill="hold"/>
                                        <p:tgtEl>
                                          <p:spTgt spid="1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250" autoRev="1" fill="hold"/>
                                        <p:tgtEl>
                                          <p:spTgt spid="1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250" autoRev="1" fill="hold"/>
                                        <p:tgtEl>
                                          <p:spTgt spid="1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250" autoRev="1" fill="hold"/>
                                        <p:tgtEl>
                                          <p:spTgt spid="1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250" autoRev="1" fill="hold"/>
                                        <p:tgtEl>
                                          <p:spTgt spid="1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25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250" autoRev="1" fill="hold"/>
                                        <p:tgtEl>
                                          <p:spTgt spid="1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250" autoRev="1" fill="hold"/>
                                        <p:tgtEl>
                                          <p:spTgt spid="1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250" autoRev="1" fill="hold"/>
                                        <p:tgtEl>
                                          <p:spTgt spid="1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25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250" autoRev="1" fill="hold"/>
                                        <p:tgtEl>
                                          <p:spTgt spid="1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" autoRev="1" fill="hold"/>
                                        <p:tgtEl>
                                          <p:spTgt spid="1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25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250" autoRev="1" fill="hold"/>
                                        <p:tgtEl>
                                          <p:spTgt spid="1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25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250" autoRev="1" fill="hold"/>
                                        <p:tgtEl>
                                          <p:spTgt spid="1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03 -0.03076 C 0.00364 -0.06105 0.00243 -0.09112 0.00243 -0.10892 C 0.00243 -0.12673 0.00173 -0.12673 0.00503 -0.13737 C 0.00833 -0.14801 0.01527 -0.1635 0.02239 -0.17299 C 0.02951 -0.18247 0.03854 -0.18848 0.04774 -0.19426 E">
                                      <p:cBhvr>
                                        <p:cTn id="93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92 -0.05042 -0.0184 -0.1006 -0.02136 -0.13136 C -0.02431 -0.16212 -0.01892 -0.17137 -0.01736 -0.18479 C -0.0158 -0.1982 -0.01302 -0.20676 -0.01198 -0.21138 E">
                                      <p:cBhvr>
                                        <p:cTn id="97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042 -0.0222 -0.02066 -0.04417 -0.02396 -0.06406 C -0.02726 -0.08395 -0.0217 -0.10638 -0.01997 -0.1191 C -0.01823 -0.13182 -0.00695 -0.12974 -0.01337 -0.14038 C -0.01979 -0.15102 -0.03924 -0.16697 -0.05868 -0.18293 E">
                                      <p:cBhvr>
                                        <p:cTn id="101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Inference Probl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04800" y="4802040"/>
            <a:ext cx="3304800" cy="1512000"/>
            <a:chOff x="604800" y="4802040"/>
            <a:chExt cx="3304800" cy="1512000"/>
          </a:xfrm>
        </p:grpSpPr>
        <p:grpSp>
          <p:nvGrpSpPr>
            <p:cNvPr id="195" name=""/>
            <p:cNvGrpSpPr/>
            <p:nvPr/>
          </p:nvGrpSpPr>
          <p:grpSpPr>
            <a:xfrm>
              <a:off x="604800" y="4802040"/>
              <a:ext cx="3304800" cy="1142280"/>
              <a:chOff x="604800" y="4802040"/>
              <a:chExt cx="3304800" cy="114228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04800" y="4817160"/>
                <a:ext cx="1105920" cy="1127160"/>
                <a:chOff x="604800" y="4817160"/>
                <a:chExt cx="1105920" cy="112716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604800" y="4823280"/>
                  <a:ext cx="552960" cy="1121040"/>
                </a:xfrm>
                <a:custGeom>
                  <a:avLst/>
                  <a:gdLst/>
                  <a:ahLst/>
                  <a:rect l="l" t="t" r="r" b="b"/>
                  <a:pathLst>
                    <a:path w="549" h="1235">
                      <a:moveTo>
                        <a:pt x="157" y="0"/>
                      </a:moveTo>
                      <a:cubicBezTo>
                        <a:pt x="212" y="33"/>
                        <a:pt x="268" y="66"/>
                        <a:pt x="295" y="108"/>
                      </a:cubicBezTo>
                      <a:cubicBezTo>
                        <a:pt x="322" y="150"/>
                        <a:pt x="326" y="209"/>
                        <a:pt x="318" y="254"/>
                      </a:cubicBezTo>
                      <a:cubicBezTo>
                        <a:pt x="310" y="299"/>
                        <a:pt x="287" y="336"/>
                        <a:pt x="249" y="377"/>
                      </a:cubicBezTo>
                      <a:cubicBezTo>
                        <a:pt x="211" y="418"/>
                        <a:pt x="126" y="453"/>
                        <a:pt x="88" y="500"/>
                      </a:cubicBezTo>
                      <a:cubicBezTo>
                        <a:pt x="50" y="547"/>
                        <a:pt x="30" y="601"/>
                        <a:pt x="19" y="661"/>
                      </a:cubicBezTo>
                      <a:cubicBezTo>
                        <a:pt x="8" y="721"/>
                        <a:pt x="0" y="796"/>
                        <a:pt x="19" y="861"/>
                      </a:cubicBezTo>
                      <a:cubicBezTo>
                        <a:pt x="38" y="926"/>
                        <a:pt x="97" y="996"/>
                        <a:pt x="134" y="1053"/>
                      </a:cubicBezTo>
                      <a:cubicBezTo>
                        <a:pt x="171" y="1110"/>
                        <a:pt x="172" y="1177"/>
                        <a:pt x="241" y="1206"/>
                      </a:cubicBezTo>
                      <a:cubicBezTo>
                        <a:pt x="310" y="1235"/>
                        <a:pt x="498" y="1227"/>
                        <a:pt x="549" y="1229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H="1">
                  <a:off x="1157760" y="4819680"/>
                  <a:ext cx="552960" cy="1121040"/>
                </a:xfrm>
                <a:custGeom>
                  <a:avLst/>
                  <a:gdLst/>
                  <a:ahLst/>
                  <a:rect l="l" t="t" r="r" b="b"/>
                  <a:pathLst>
                    <a:path w="549" h="1235">
                      <a:moveTo>
                        <a:pt x="157" y="0"/>
                      </a:moveTo>
                      <a:cubicBezTo>
                        <a:pt x="212" y="33"/>
                        <a:pt x="268" y="66"/>
                        <a:pt x="295" y="108"/>
                      </a:cubicBezTo>
                      <a:cubicBezTo>
                        <a:pt x="322" y="150"/>
                        <a:pt x="326" y="209"/>
                        <a:pt x="318" y="254"/>
                      </a:cubicBezTo>
                      <a:cubicBezTo>
                        <a:pt x="310" y="299"/>
                        <a:pt x="287" y="336"/>
                        <a:pt x="249" y="377"/>
                      </a:cubicBezTo>
                      <a:cubicBezTo>
                        <a:pt x="211" y="418"/>
                        <a:pt x="126" y="453"/>
                        <a:pt x="88" y="500"/>
                      </a:cubicBezTo>
                      <a:cubicBezTo>
                        <a:pt x="50" y="547"/>
                        <a:pt x="30" y="601"/>
                        <a:pt x="19" y="661"/>
                      </a:cubicBezTo>
                      <a:cubicBezTo>
                        <a:pt x="8" y="721"/>
                        <a:pt x="0" y="796"/>
                        <a:pt x="19" y="861"/>
                      </a:cubicBezTo>
                      <a:cubicBezTo>
                        <a:pt x="38" y="926"/>
                        <a:pt x="97" y="996"/>
                        <a:pt x="134" y="1053"/>
                      </a:cubicBezTo>
                      <a:cubicBezTo>
                        <a:pt x="171" y="1110"/>
                        <a:pt x="172" y="1177"/>
                        <a:pt x="241" y="1206"/>
                      </a:cubicBezTo>
                      <a:cubicBezTo>
                        <a:pt x="310" y="1235"/>
                        <a:pt x="498" y="1227"/>
                        <a:pt x="549" y="1229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V="1">
                  <a:off x="779040" y="4817160"/>
                  <a:ext cx="765720" cy="7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1703160" y="4810680"/>
                <a:ext cx="1105920" cy="1127160"/>
                <a:chOff x="1703160" y="4810680"/>
                <a:chExt cx="1105920" cy="1127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1703160" y="4816800"/>
                  <a:ext cx="552960" cy="1121040"/>
                </a:xfrm>
                <a:custGeom>
                  <a:avLst/>
                  <a:gdLst/>
                  <a:ahLst/>
                  <a:rect l="l" t="t" r="r" b="b"/>
                  <a:pathLst>
                    <a:path w="549" h="1235">
                      <a:moveTo>
                        <a:pt x="157" y="0"/>
                      </a:moveTo>
                      <a:cubicBezTo>
                        <a:pt x="212" y="33"/>
                        <a:pt x="268" y="66"/>
                        <a:pt x="295" y="108"/>
                      </a:cubicBezTo>
                      <a:cubicBezTo>
                        <a:pt x="322" y="150"/>
                        <a:pt x="326" y="209"/>
                        <a:pt x="318" y="254"/>
                      </a:cubicBezTo>
                      <a:cubicBezTo>
                        <a:pt x="310" y="299"/>
                        <a:pt x="287" y="336"/>
                        <a:pt x="249" y="377"/>
                      </a:cubicBezTo>
                      <a:cubicBezTo>
                        <a:pt x="211" y="418"/>
                        <a:pt x="126" y="453"/>
                        <a:pt x="88" y="500"/>
                      </a:cubicBezTo>
                      <a:cubicBezTo>
                        <a:pt x="50" y="547"/>
                        <a:pt x="30" y="601"/>
                        <a:pt x="19" y="661"/>
                      </a:cubicBezTo>
                      <a:cubicBezTo>
                        <a:pt x="8" y="721"/>
                        <a:pt x="0" y="796"/>
                        <a:pt x="19" y="861"/>
                      </a:cubicBezTo>
                      <a:cubicBezTo>
                        <a:pt x="38" y="926"/>
                        <a:pt x="97" y="996"/>
                        <a:pt x="134" y="1053"/>
                      </a:cubicBezTo>
                      <a:cubicBezTo>
                        <a:pt x="171" y="1110"/>
                        <a:pt x="172" y="1177"/>
                        <a:pt x="241" y="1206"/>
                      </a:cubicBezTo>
                      <a:cubicBezTo>
                        <a:pt x="310" y="1235"/>
                        <a:pt x="498" y="1227"/>
                        <a:pt x="549" y="1229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>
                  <a:off x="2256120" y="4813200"/>
                  <a:ext cx="552960" cy="1121040"/>
                </a:xfrm>
                <a:custGeom>
                  <a:avLst/>
                  <a:gdLst/>
                  <a:ahLst/>
                  <a:rect l="l" t="t" r="r" b="b"/>
                  <a:pathLst>
                    <a:path w="549" h="1235">
                      <a:moveTo>
                        <a:pt x="157" y="0"/>
                      </a:moveTo>
                      <a:cubicBezTo>
                        <a:pt x="212" y="33"/>
                        <a:pt x="268" y="66"/>
                        <a:pt x="295" y="108"/>
                      </a:cubicBezTo>
                      <a:cubicBezTo>
                        <a:pt x="322" y="150"/>
                        <a:pt x="326" y="209"/>
                        <a:pt x="318" y="254"/>
                      </a:cubicBezTo>
                      <a:cubicBezTo>
                        <a:pt x="310" y="299"/>
                        <a:pt x="287" y="336"/>
                        <a:pt x="249" y="377"/>
                      </a:cubicBezTo>
                      <a:cubicBezTo>
                        <a:pt x="211" y="418"/>
                        <a:pt x="126" y="453"/>
                        <a:pt x="88" y="500"/>
                      </a:cubicBezTo>
                      <a:cubicBezTo>
                        <a:pt x="50" y="547"/>
                        <a:pt x="30" y="601"/>
                        <a:pt x="19" y="661"/>
                      </a:cubicBezTo>
                      <a:cubicBezTo>
                        <a:pt x="8" y="721"/>
                        <a:pt x="0" y="796"/>
                        <a:pt x="19" y="861"/>
                      </a:cubicBezTo>
                      <a:cubicBezTo>
                        <a:pt x="38" y="926"/>
                        <a:pt x="97" y="996"/>
                        <a:pt x="134" y="1053"/>
                      </a:cubicBezTo>
                      <a:cubicBezTo>
                        <a:pt x="171" y="1110"/>
                        <a:pt x="172" y="1177"/>
                        <a:pt x="241" y="1206"/>
                      </a:cubicBezTo>
                      <a:cubicBezTo>
                        <a:pt x="310" y="1235"/>
                        <a:pt x="498" y="1227"/>
                        <a:pt x="549" y="1229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V="1">
                  <a:off x="1877400" y="4810680"/>
                  <a:ext cx="765720" cy="7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2803680" y="4802040"/>
                <a:ext cx="1105920" cy="1127160"/>
                <a:chOff x="2803680" y="4802040"/>
                <a:chExt cx="1105920" cy="1127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2803680" y="4808160"/>
                  <a:ext cx="552960" cy="1121040"/>
                </a:xfrm>
                <a:custGeom>
                  <a:avLst/>
                  <a:gdLst/>
                  <a:ahLst/>
                  <a:rect l="l" t="t" r="r" b="b"/>
                  <a:pathLst>
                    <a:path w="549" h="1235">
                      <a:moveTo>
                        <a:pt x="157" y="0"/>
                      </a:moveTo>
                      <a:cubicBezTo>
                        <a:pt x="212" y="33"/>
                        <a:pt x="268" y="66"/>
                        <a:pt x="295" y="108"/>
                      </a:cubicBezTo>
                      <a:cubicBezTo>
                        <a:pt x="322" y="150"/>
                        <a:pt x="326" y="209"/>
                        <a:pt x="318" y="254"/>
                      </a:cubicBezTo>
                      <a:cubicBezTo>
                        <a:pt x="310" y="299"/>
                        <a:pt x="287" y="336"/>
                        <a:pt x="249" y="377"/>
                      </a:cubicBezTo>
                      <a:cubicBezTo>
                        <a:pt x="211" y="418"/>
                        <a:pt x="126" y="453"/>
                        <a:pt x="88" y="500"/>
                      </a:cubicBezTo>
                      <a:cubicBezTo>
                        <a:pt x="50" y="547"/>
                        <a:pt x="30" y="601"/>
                        <a:pt x="19" y="661"/>
                      </a:cubicBezTo>
                      <a:cubicBezTo>
                        <a:pt x="8" y="721"/>
                        <a:pt x="0" y="796"/>
                        <a:pt x="19" y="861"/>
                      </a:cubicBezTo>
                      <a:cubicBezTo>
                        <a:pt x="38" y="926"/>
                        <a:pt x="97" y="996"/>
                        <a:pt x="134" y="1053"/>
                      </a:cubicBezTo>
                      <a:cubicBezTo>
                        <a:pt x="171" y="1110"/>
                        <a:pt x="172" y="1177"/>
                        <a:pt x="241" y="1206"/>
                      </a:cubicBezTo>
                      <a:cubicBezTo>
                        <a:pt x="310" y="1235"/>
                        <a:pt x="498" y="1227"/>
                        <a:pt x="549" y="1229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>
                  <a:off x="3356640" y="4804560"/>
                  <a:ext cx="552960" cy="1121040"/>
                </a:xfrm>
                <a:custGeom>
                  <a:avLst/>
                  <a:gdLst/>
                  <a:ahLst/>
                  <a:rect l="l" t="t" r="r" b="b"/>
                  <a:pathLst>
                    <a:path w="549" h="1235">
                      <a:moveTo>
                        <a:pt x="157" y="0"/>
                      </a:moveTo>
                      <a:cubicBezTo>
                        <a:pt x="212" y="33"/>
                        <a:pt x="268" y="66"/>
                        <a:pt x="295" y="108"/>
                      </a:cubicBezTo>
                      <a:cubicBezTo>
                        <a:pt x="322" y="150"/>
                        <a:pt x="326" y="209"/>
                        <a:pt x="318" y="254"/>
                      </a:cubicBezTo>
                      <a:cubicBezTo>
                        <a:pt x="310" y="299"/>
                        <a:pt x="287" y="336"/>
                        <a:pt x="249" y="377"/>
                      </a:cubicBezTo>
                      <a:cubicBezTo>
                        <a:pt x="211" y="418"/>
                        <a:pt x="126" y="453"/>
                        <a:pt x="88" y="500"/>
                      </a:cubicBezTo>
                      <a:cubicBezTo>
                        <a:pt x="50" y="547"/>
                        <a:pt x="30" y="601"/>
                        <a:pt x="19" y="661"/>
                      </a:cubicBezTo>
                      <a:cubicBezTo>
                        <a:pt x="8" y="721"/>
                        <a:pt x="0" y="796"/>
                        <a:pt x="19" y="861"/>
                      </a:cubicBezTo>
                      <a:cubicBezTo>
                        <a:pt x="38" y="926"/>
                        <a:pt x="97" y="996"/>
                        <a:pt x="134" y="1053"/>
                      </a:cubicBezTo>
                      <a:cubicBezTo>
                        <a:pt x="171" y="1110"/>
                        <a:pt x="172" y="1177"/>
                        <a:pt x="241" y="1206"/>
                      </a:cubicBezTo>
                      <a:cubicBezTo>
                        <a:pt x="310" y="1235"/>
                        <a:pt x="498" y="1227"/>
                        <a:pt x="549" y="1229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2977920" y="4802040"/>
                  <a:ext cx="765360" cy="7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8" name=""/>
            <p:cNvSpPr/>
            <p:nvPr/>
          </p:nvSpPr>
          <p:spPr>
            <a:xfrm>
              <a:off x="792360" y="5915160"/>
              <a:ext cx="303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ize          Color        Shap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183280" y="4813200"/>
            <a:ext cx="1105920" cy="1127160"/>
            <a:chOff x="5183280" y="4813200"/>
            <a:chExt cx="1105920" cy="1127160"/>
          </a:xfrm>
        </p:grpSpPr>
        <p:sp>
          <p:nvSpPr>
            <p:cNvPr id="210" name=""/>
            <p:cNvSpPr/>
            <p:nvPr/>
          </p:nvSpPr>
          <p:spPr>
            <a:xfrm>
              <a:off x="5183280" y="4819320"/>
              <a:ext cx="552960" cy="112104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736240" y="4815720"/>
              <a:ext cx="552960" cy="112104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5357520" y="4813200"/>
              <a:ext cx="765720" cy="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6281640" y="4807080"/>
            <a:ext cx="1106280" cy="1127160"/>
            <a:chOff x="6281640" y="4807080"/>
            <a:chExt cx="1106280" cy="1127160"/>
          </a:xfrm>
        </p:grpSpPr>
        <p:sp>
          <p:nvSpPr>
            <p:cNvPr id="214" name=""/>
            <p:cNvSpPr/>
            <p:nvPr/>
          </p:nvSpPr>
          <p:spPr>
            <a:xfrm>
              <a:off x="6281640" y="4813200"/>
              <a:ext cx="553320" cy="112104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6834240" y="4809600"/>
              <a:ext cx="553320" cy="112104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6455880" y="4807080"/>
              <a:ext cx="766080" cy="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7381800" y="4797360"/>
            <a:ext cx="1106280" cy="1127160"/>
            <a:chOff x="7381800" y="4797360"/>
            <a:chExt cx="1106280" cy="1127160"/>
          </a:xfrm>
        </p:grpSpPr>
        <p:sp>
          <p:nvSpPr>
            <p:cNvPr id="218" name=""/>
            <p:cNvSpPr/>
            <p:nvPr/>
          </p:nvSpPr>
          <p:spPr>
            <a:xfrm>
              <a:off x="7381800" y="4803480"/>
              <a:ext cx="553320" cy="112104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7934400" y="4799880"/>
              <a:ext cx="553320" cy="112104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7556040" y="4797360"/>
              <a:ext cx="766080" cy="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370480" y="5910120"/>
            <a:ext cx="30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         Color        Sha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019400" y="3100320"/>
            <a:ext cx="1106280" cy="1127160"/>
            <a:chOff x="4019400" y="3100320"/>
            <a:chExt cx="1106280" cy="1127160"/>
          </a:xfrm>
        </p:grpSpPr>
        <p:sp>
          <p:nvSpPr>
            <p:cNvPr id="223" name=""/>
            <p:cNvSpPr/>
            <p:nvPr/>
          </p:nvSpPr>
          <p:spPr>
            <a:xfrm>
              <a:off x="4019400" y="3106440"/>
              <a:ext cx="553320" cy="112104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4572000" y="3102840"/>
              <a:ext cx="553320" cy="112104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4193640" y="3100320"/>
              <a:ext cx="766080" cy="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1476360" y="62434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14320" y="622476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32080" y="340344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27640" y="359424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12960" y="343044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57560" y="362124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209840" y="377352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56160" y="377028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17840" y="326376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01360" y="558324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2600" y="527220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54200" y="540072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38320" y="517536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88640" y="55706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36240" y="54054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52040" y="510696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23400" y="495468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66960" y="539604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29680" y="48704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328120" y="52293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3600" y="52610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83440" y="5511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96280" y="561672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47960" y="507672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10040" y="545004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98720" y="52484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89440" y="557064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49760" y="53323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4440" y="483876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75000" y="51991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94440" y="549756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47680" y="51148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46120" y="50356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33880" y="535140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056800" y="53802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437240" y="518940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78040" y="55753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91440" y="483228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08120" y="524016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87480" y="50641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86560" y="538020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19320" y="51656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839200" y="553248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0" y="543384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431040" y="561168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593400" y="486252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50040" y="52214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527880" y="501480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48640" y="5573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423840" y="54118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15080" y="51832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96080" y="538020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86720" y="484344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61800" y="55926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930800" y="55864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454880" y="539100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60080" y="50832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942320" y="51973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778520" y="534816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030560" y="417024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52720" y="200196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g  red cir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2682720" y="2206800"/>
            <a:ext cx="3638520" cy="1864800"/>
            <a:chOff x="2682720" y="2206800"/>
            <a:chExt cx="3638520" cy="1864800"/>
          </a:xfrm>
        </p:grpSpPr>
        <p:sp>
          <p:nvSpPr>
            <p:cNvPr id="288" name=""/>
            <p:cNvSpPr/>
            <p:nvPr/>
          </p:nvSpPr>
          <p:spPr>
            <a:xfrm flipV="1">
              <a:off x="2682720" y="2511000"/>
              <a:ext cx="1243080" cy="156060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5078160" y="2443320"/>
              <a:ext cx="1243080" cy="1560240"/>
            </a:xfrm>
            <a:prstGeom prst="line">
              <a:avLst/>
            </a:prstGeom>
            <a:ln w="76320">
              <a:solidFill>
                <a:srgbClr val="00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89440" y="2206800"/>
              <a:ext cx="125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??     ?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905D0-D8D2-448F-BA0E-65B03A91B4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ian Categoriz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features of an instance are independe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iven the 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onditionally 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, we then only need to know 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possible pair of a feature-value and a categ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binary, this requires specifying only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rame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true |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true) and P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true |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false) for each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false |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 = 1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–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true |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d to specifying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without any independence assump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195560" y="1944720"/>
                <a:ext cx="64530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Y</m:t>
                        </m:r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18247-7D2A-4C9D-829A-61277450E0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57200" y="1600200"/>
          <a:ext cx="4648320" cy="4038480"/>
        </p:xfrm>
        <a:graphic>
          <a:graphicData uri="http://schemas.openxmlformats.org/drawingml/2006/table">
            <a:tbl>
              <a:tblPr/>
              <a:tblGrid>
                <a:gridCol w="1549440"/>
                <a:gridCol w="1549440"/>
                <a:gridCol w="154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rob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pos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small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medium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larg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red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blu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green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squar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triangl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circl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"/>
          <p:cNvSpPr/>
          <p:nvPr/>
        </p:nvSpPr>
        <p:spPr>
          <a:xfrm>
            <a:off x="446040" y="2313000"/>
            <a:ext cx="4648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3429000"/>
            <a:ext cx="4648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9560" y="4519440"/>
            <a:ext cx="46483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642640" y="3124080"/>
            <a:ext cx="24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Inst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medium ,red, circ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18079-9612-4A81-8687-385D6EC75F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457200" y="1600200"/>
          <a:ext cx="4648320" cy="1838160"/>
        </p:xfrm>
        <a:graphic>
          <a:graphicData uri="http://schemas.openxmlformats.org/drawingml/2006/table">
            <a:tbl>
              <a:tblPr/>
              <a:tblGrid>
                <a:gridCol w="1549440"/>
                <a:gridCol w="1549440"/>
                <a:gridCol w="154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rob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pos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medium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red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circl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"/>
          <p:cNvSpPr/>
          <p:nvPr/>
        </p:nvSpPr>
        <p:spPr>
          <a:xfrm>
            <a:off x="446040" y="2313000"/>
            <a:ext cx="4648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33440" y="2697120"/>
            <a:ext cx="46483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1360" y="3056040"/>
            <a:ext cx="4648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5200" y="3581280"/>
            <a:ext cx="8730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(positive |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P(positive)*P(medium | positive)*P(red | positive)*P(circle | positive) / P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5        *               0.1              *        0.9            *        0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0.0405 / P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04840" y="4572000"/>
            <a:ext cx="9053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(negative |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P(negative)*P(medium | negative)*P(red | negative)*P(circle | negative) / P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5       *              0.2               *        0.3             *     0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0.009 / P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18160" y="5562720"/>
            <a:ext cx="62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(positive |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+ P(negative |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0.0405 / P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+ 0.009 / P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9880" y="6019920"/>
            <a:ext cx="33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(0.0405 + 0.009) = 0.049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72760" y="419112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0.0405 / 0.0495 = 0.81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96440" y="5181480"/>
            <a:ext cx="25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0.009 / 0.0495 = 0.18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667840" y="2587680"/>
            <a:ext cx="24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Inst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medium ,red, circ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BCC4B-6C4F-4832-BA15-698F167EEE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stimating Probabiliti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91856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ly, probabilities are estimated based on observed frequencies in the training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in categ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amples have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 value for featu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estimating such probabilities from small training sets is error-pr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ue only to chance, a rare featur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s always false in the training data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 then occurs in a test exampl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result is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0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503440" y="2708280"/>
                <a:ext cx="356256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D3992-8AF4-4DFE-A37B-CC36D05600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ability Estimation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425840" y="1487520"/>
          <a:ext cx="4572000" cy="40384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rob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pos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small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medium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larg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red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blu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green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squar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triangl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circl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0" y="1644480"/>
          <a:ext cx="4343400" cy="2867040"/>
        </p:xfrm>
        <a:graphic>
          <a:graphicData uri="http://schemas.openxmlformats.org/drawingml/2006/table">
            <a:tbl>
              <a:tblPr/>
              <a:tblGrid>
                <a:gridCol w="828720"/>
                <a:gridCol w="828720"/>
                <a:gridCol w="825480"/>
                <a:gridCol w="826920"/>
                <a:gridCol w="1033560"/>
              </a:tblGrid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o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ha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sm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cir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posi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lar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cir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posi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sm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triang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negi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lar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b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cir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negi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18" name=""/>
          <p:cNvGrpSpPr/>
          <p:nvPr/>
        </p:nvGrpSpPr>
        <p:grpSpPr>
          <a:xfrm>
            <a:off x="169920" y="4883040"/>
            <a:ext cx="5167440" cy="1719720"/>
            <a:chOff x="169920" y="4883040"/>
            <a:chExt cx="5167440" cy="1719720"/>
          </a:xfrm>
        </p:grpSpPr>
        <p:sp>
          <p:nvSpPr>
            <p:cNvPr id="319" name=""/>
            <p:cNvSpPr/>
            <p:nvPr/>
          </p:nvSpPr>
          <p:spPr>
            <a:xfrm>
              <a:off x="1384920" y="4883040"/>
              <a:ext cx="2448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st Instanc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medium, red, circle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10960" y="5744880"/>
              <a:ext cx="504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(positive |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 = 0.5 * 0.0 * 1.0 * 1.0 / P(X) =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69920" y="6203880"/>
              <a:ext cx="516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(negative |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 = 0.5 * 0.0 * 0.5 * 0.5 /  P(X) =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B91CF-4EB3-4C09-9D20-6662185371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mooth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ccount for estimation from small samples, probability estimates are adjuste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mooth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place smoothing using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estimate assumes that each feature is given a prior probability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at is assumed to have been previously observed in a “virtual” sample of s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binary feature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imply assumed to be 0.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187720" y="4038480"/>
                <a:ext cx="399096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2D103-2FF2-4F39-A5A4-E7738B6CAD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aplace Smothing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raining set contains 10 positive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4: smal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0: mediu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6: larg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 parameters as follows (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/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(small | positive) = (4 + 1/3) / (10 + 1) =     0.394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(medium | positive) = (0 + 1/3) / (10 + 1) = 0.03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(large | positive) = (6 + 1/3) / (10 + 1) =      0.576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(small or medium or large | positive) =        1.0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                                                                      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705720" y="502920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0740F-220D-4252-AD56-5325CC0F50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xioms of Probability Theor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robabilities between 0 and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 proposition has probability 1, false has probability 0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(true) = 1        P(false) = 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bability of  disjunction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676520" y="2057400"/>
                <a:ext cx="19875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447920" y="4800600"/>
                <a:ext cx="54100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2963880" y="5487840"/>
            <a:ext cx="16002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73360" y="5487840"/>
            <a:ext cx="175284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0200" y="5640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77280" y="5638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726000" y="5678640"/>
                <a:ext cx="76176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DC2B9-F743-4B29-A1AB-F0A54FB4EA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tinuous Attribut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continuous feature rather than a discrete one, need another way to calculate 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t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a Gaussian distribution whose mean and variance depends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training, for each combination of a continuous featu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 class value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stimate a mean,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and standard deviation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the values of featu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clas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training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testing, estimate 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a given example, using the Gaussian distribution defined by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1494000" y="5089680"/>
                <a:ext cx="6143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k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66661-7827-4B75-8536-1FE47B9989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ments on Naïve Bay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ds to work well despite strong assumption of conditional independ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s show it to be quite competitive with other classification methods on standard UCI datas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hough it does not produce accurate probability estimates when its independence assumptions are violated, it may still pick the correct maximum-probability class in many c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ble to learn conjunctive concepts in any cas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perform any search of the hypothesis space.  Directly constructs a hypothesis from parameter estimates that are easily calculated from the training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trong bia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guarantee consistency with training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handles noise well since it does not even focus on completely fitting the training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E7117-A807-4C91-865B-67CAF29D31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ditional Probability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the probability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iv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s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ll and only information kn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d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905120" y="3657600"/>
                <a:ext cx="281916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∧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819520" y="5105520"/>
            <a:ext cx="1600200" cy="99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5105520"/>
            <a:ext cx="1752480" cy="99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52578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32560" y="525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581280" y="5295960"/>
                <a:ext cx="76212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CC39C-4C6E-49A8-8657-30852DC2CA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dependen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depende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independ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447920" y="2057400"/>
                <a:ext cx="20574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447920" y="2590920"/>
                <a:ext cx="20574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371600" y="3809880"/>
                <a:ext cx="38242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∧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371600" y="4952880"/>
                <a:ext cx="35053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3614760" y="2224080"/>
            <a:ext cx="485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These two constraints are logically equival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BEDB0-266F-422E-B6D5-CB55874FFF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Joint Distribu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36480" y="1273320"/>
            <a:ext cx="7772400" cy="51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joint probability distribution for a set of random variable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ives the probability of every combination of values (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dimensional array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lues if all variables are discret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lues, a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lues must sum to 1): P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of all possible conjunctions (assignments of values to some subset of variables) can be calculated by summing the appropriate subset of values from the joint distribu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fore, all conditional probabilities can also be calcul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11280" y="2963880"/>
          <a:ext cx="2841480" cy="1100160"/>
        </p:xfrm>
        <a:graphic>
          <a:graphicData uri="http://schemas.openxmlformats.org/drawingml/2006/table">
            <a:tbl>
              <a:tblPr/>
              <a:tblGrid>
                <a:gridCol w="947520"/>
                <a:gridCol w="946080"/>
                <a:gridCol w="947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qu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713120" y="2946240"/>
          <a:ext cx="2841840" cy="1100160"/>
        </p:xfrm>
        <a:graphic>
          <a:graphicData uri="http://schemas.openxmlformats.org/drawingml/2006/table">
            <a:tbl>
              <a:tblPr/>
              <a:tblGrid>
                <a:gridCol w="947880"/>
                <a:gridCol w="946080"/>
                <a:gridCol w="947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qu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2532960" y="257328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67920" y="255420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328840" y="5010120"/>
                <a:ext cx="391320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ed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circle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762120" y="6019920"/>
                <a:ext cx="737388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ositive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red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circl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ositive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red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circle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d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circle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081160" y="5308560"/>
                <a:ext cx="431964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e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776D7-2485-403C-8246-78E90625EA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abilistic Classific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3680" y="1371600"/>
            <a:ext cx="846612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the random variable for the class which takes values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the random variable describing an instance consisting of a vector of values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eatures 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,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a possible value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possible value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lassification, we need to compute 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given no other assumptions, this requires a table giving the probability of each category for each possible instance in the instance space, which is impossible to accurately estimate from a reasonably-sized training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ssuming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and all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are binary, we need 2</a:t>
            </a:r>
            <a:r>
              <a:rPr b="0" i="1" lang="en-US" sz="2000" spc="-1" strike="noStrike" baseline="30000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ntries to specify      P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pos |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 for each of the 2</a:t>
            </a:r>
            <a:r>
              <a:rPr b="0" i="1" lang="en-US" sz="2000" spc="-1" strike="noStrike" baseline="30000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possible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’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ince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       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neg |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 = 1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–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pos |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ompared to 2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imes New Roman"/>
              </a:rPr>
              <a:t>+1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– 1 entries for the joint distribution P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,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…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4A2F3-89CB-4119-8AD9-2FA47C57A2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ayes Theor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proof from definition of conditional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295280" y="5562720"/>
                <a:ext cx="32004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371600" y="3276720"/>
                <a:ext cx="25146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∧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752480" y="4114800"/>
                <a:ext cx="25909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∧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752480" y="4952880"/>
                <a:ext cx="327672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∧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398880" y="56656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58640" y="338292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(Def. cond. prob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04760" y="428148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(Def. cond. prob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33520" y="1523880"/>
                <a:ext cx="325728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D2214-FC4E-4173-AD3D-BF9F0962F9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ayesian Categoriz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280" y="1371600"/>
            <a:ext cx="81694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category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determining for ea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=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can be determined since categories are complete and disj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525680" y="2130480"/>
                <a:ext cx="55926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265480" y="4379760"/>
                <a:ext cx="2127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343160" y="4344840"/>
                <a:ext cx="663732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265400" y="5240160"/>
                <a:ext cx="502416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CD7B1-A14C-4CE4-BB08-997C7228D6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ayesian Categorization (cont.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kno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iors: P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nditionals: P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re easily estimated from da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of the examples in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are in y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en P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 = 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/ |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D|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 many possible instances (e.g.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binary features) to estimate all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need to make some sort of independence assumptions about the features to make learning trac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31A60-48F1-4AC3-BD1F-C78AD3B3BE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 </cp:lastModifiedBy>
  <dcterms:modified xsi:type="dcterms:W3CDTF">2008-04-21T18:01:12Z</dcterms:modified>
  <cp:revision>180</cp:revision>
  <dc:subject/>
  <dc:title>Intelligent Information Retrieval and Web Search</dc:title>
</cp:coreProperties>
</file>