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B20A-60F3-43C0-BA99-B4688425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2937-25F4-47B2-8035-89645E7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2120-28C6-4219-8441-782DC235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8360-0824-4EAC-AC13-A97841A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22B8-F052-443B-8534-CCFF96F2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C4DD-D3D6-4178-A1C1-4FB75CD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2B97-81C7-4FEB-87FC-A01DB69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8AA7-EED3-4B94-B749-42744A6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8C3C-EAD3-4957-ACF2-B7AB3642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083B-006C-4FEF-BA9D-341F03E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95B9-173F-40F1-AB2E-E6904B7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F82D-1620-4DE2-AA92-6B9C76C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277-858B-4DE0-A672-2D5313242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ayesian Learning: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aïve Bay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D1EC-12B0-4078-B8E8-9FBF4F8E3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enerative Probabilistic Mode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 simple (usually unrealistic) probabilistic method by which the data was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ategorization, each category has a different parameterized generative model that characterizes that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data for each category to estimate the parameters of the generative model for that categ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ximum Likelihood Estimation (M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Set parameters to maximize the probability that the model produced the given training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denotes a model with parameter values λ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the training data for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 class, find model parameters for clas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λ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that maximize the likelihood o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Bayesian analysis to determine the category model that most likely generated a specific test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79800" y="5229360"/>
                <a:ext cx="32194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Low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37B0-1C09-4500-8A61-033F93785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Generative Model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102" name="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117" name="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121" name="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125" name="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70440" y="2027160"/>
            <a:ext cx="1105920" cy="1127160"/>
            <a:chOff x="3970440" y="2027160"/>
            <a:chExt cx="1105920" cy="1127160"/>
          </a:xfrm>
        </p:grpSpPr>
        <p:sp>
          <p:nvSpPr>
            <p:cNvPr id="130" name=""/>
            <p:cNvSpPr/>
            <p:nvPr/>
          </p:nvSpPr>
          <p:spPr>
            <a:xfrm>
              <a:off x="3970440" y="203328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23400" y="202968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44680" y="2027160"/>
              <a:ext cx="76572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82760" y="2330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78320" y="25210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64000" y="23572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08240" y="25480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0880" y="27003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6840" y="269712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8880" y="21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81240" y="3097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7BCF-BCF8-4B86-B357-11328319F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2 0.03168 C 0.0033 0.000230000000000001 -0.00642 -0.03122 -0.01094 -0.05366 C -0.01545 -0.07609 -0.01684 -0.09089 -0.01354 -0.10338 C -0.01024 -0.11587 -0.0059 -0.12142 0.0092 -0.12813 C 0.02431 -0.13483 0.05729 -0.14663 0.07709 -0.14408 C 0.09688 -0.14154 0.11528 -0.12512 0.12778 -0.11217 C 0.14028 -0.09922 0.14809 -0.07355 0.15174 -0.06591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-0.03076 C 0.00364 -0.06105 0.00243 -0.09112 0.00243 -0.10892 C 0.00243 -0.12673 0.00173 -0.12673 0.00503 -0.13737 C 0.00833 -0.14801 0.01527 -0.1635 0.02239 -0.17299 C 0.02951 -0.18247 0.03854 -0.18848 0.04774 -0.19426 E">
                                      <p:cBhvr>
                                        <p:cTn id="9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-0.05042 -0.0184 -0.1006 -0.02136 -0.13136 C -0.02431 -0.16212 -0.01892 -0.17137 -0.01736 -0.18479 C -0.0158 -0.1982 -0.01302 -0.20676 -0.01198 -0.21138 E">
                                      <p:cBhvr>
                                        <p:cTn id="9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42 -0.0222 -0.02066 -0.04417 -0.02396 -0.06406 C -0.02726 -0.08395 -0.0217 -0.10638 -0.01997 -0.1191 C -0.01823 -0.13182 -0.00695 -0.12974 -0.01337 -0.14038 C -0.01979 -0.15102 -0.03924 -0.16697 -0.05868 -0.18293 E">
                                      <p:cBhvr>
                                        <p:cTn id="10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Inference Probl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4800" y="4802040"/>
            <a:ext cx="3304800" cy="1512000"/>
            <a:chOff x="604800" y="4802040"/>
            <a:chExt cx="3304800" cy="1512000"/>
          </a:xfrm>
        </p:grpSpPr>
        <p:grpSp>
          <p:nvGrpSpPr>
            <p:cNvPr id="195" name=""/>
            <p:cNvGrpSpPr/>
            <p:nvPr/>
          </p:nvGrpSpPr>
          <p:grpSpPr>
            <a:xfrm>
              <a:off x="604800" y="4802040"/>
              <a:ext cx="3304800" cy="1142280"/>
              <a:chOff x="604800" y="4802040"/>
              <a:chExt cx="3304800" cy="1142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04800" y="4817160"/>
                <a:ext cx="1105920" cy="1127160"/>
                <a:chOff x="604800" y="4817160"/>
                <a:chExt cx="1105920" cy="1127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4800" y="48232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1157760" y="481968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779040" y="481716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703160" y="4810680"/>
                <a:ext cx="1105920" cy="1127160"/>
                <a:chOff x="1703160" y="4810680"/>
                <a:chExt cx="1105920" cy="1127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703160" y="48168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2256120" y="481320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1877400" y="4810680"/>
                  <a:ext cx="76572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803680" y="4802040"/>
                <a:ext cx="1105920" cy="1127160"/>
                <a:chOff x="2803680" y="4802040"/>
                <a:chExt cx="1105920" cy="112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803680" y="48081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3356640" y="4804560"/>
                  <a:ext cx="552960" cy="1121040"/>
                </a:xfrm>
                <a:custGeom>
                  <a:avLst/>
                  <a:gdLst/>
                  <a:ahLst/>
                  <a:rect l="l" t="t" r="r" b="b"/>
                  <a:pathLst>
                    <a:path w="549" h="1235">
                      <a:moveTo>
                        <a:pt x="157" y="0"/>
                      </a:moveTo>
                      <a:cubicBezTo>
                        <a:pt x="212" y="33"/>
                        <a:pt x="268" y="66"/>
                        <a:pt x="295" y="108"/>
                      </a:cubicBezTo>
                      <a:cubicBezTo>
                        <a:pt x="322" y="150"/>
                        <a:pt x="326" y="209"/>
                        <a:pt x="318" y="254"/>
                      </a:cubicBezTo>
                      <a:cubicBezTo>
                        <a:pt x="310" y="299"/>
                        <a:pt x="287" y="336"/>
                        <a:pt x="249" y="377"/>
                      </a:cubicBezTo>
                      <a:cubicBezTo>
                        <a:pt x="211" y="418"/>
                        <a:pt x="126" y="453"/>
                        <a:pt x="88" y="500"/>
                      </a:cubicBezTo>
                      <a:cubicBezTo>
                        <a:pt x="50" y="547"/>
                        <a:pt x="30" y="601"/>
                        <a:pt x="19" y="661"/>
                      </a:cubicBezTo>
                      <a:cubicBezTo>
                        <a:pt x="8" y="721"/>
                        <a:pt x="0" y="796"/>
                        <a:pt x="19" y="861"/>
                      </a:cubicBezTo>
                      <a:cubicBezTo>
                        <a:pt x="38" y="926"/>
                        <a:pt x="97" y="996"/>
                        <a:pt x="134" y="1053"/>
                      </a:cubicBezTo>
                      <a:cubicBezTo>
                        <a:pt x="171" y="1110"/>
                        <a:pt x="172" y="1177"/>
                        <a:pt x="241" y="1206"/>
                      </a:cubicBezTo>
                      <a:cubicBezTo>
                        <a:pt x="310" y="1235"/>
                        <a:pt x="498" y="1227"/>
                        <a:pt x="549" y="1229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2977920" y="4802040"/>
                  <a:ext cx="765360" cy="7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792360" y="5915160"/>
              <a:ext cx="30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ze          Color        Sha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83280" y="4813200"/>
            <a:ext cx="1105920" cy="1127160"/>
            <a:chOff x="5183280" y="4813200"/>
            <a:chExt cx="1105920" cy="1127160"/>
          </a:xfrm>
        </p:grpSpPr>
        <p:sp>
          <p:nvSpPr>
            <p:cNvPr id="210" name=""/>
            <p:cNvSpPr/>
            <p:nvPr/>
          </p:nvSpPr>
          <p:spPr>
            <a:xfrm>
              <a:off x="5183280" y="48193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736240" y="4815720"/>
              <a:ext cx="55296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57520" y="4813200"/>
              <a:ext cx="76572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81640" y="4807080"/>
            <a:ext cx="1106280" cy="1127160"/>
            <a:chOff x="6281640" y="4807080"/>
            <a:chExt cx="1106280" cy="1127160"/>
          </a:xfrm>
        </p:grpSpPr>
        <p:sp>
          <p:nvSpPr>
            <p:cNvPr id="214" name=""/>
            <p:cNvSpPr/>
            <p:nvPr/>
          </p:nvSpPr>
          <p:spPr>
            <a:xfrm>
              <a:off x="6281640" y="48132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34240" y="480960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455880" y="480708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81800" y="4797360"/>
            <a:ext cx="1106280" cy="1127160"/>
            <a:chOff x="7381800" y="4797360"/>
            <a:chExt cx="1106280" cy="1127160"/>
          </a:xfrm>
        </p:grpSpPr>
        <p:sp>
          <p:nvSpPr>
            <p:cNvPr id="218" name=""/>
            <p:cNvSpPr/>
            <p:nvPr/>
          </p:nvSpPr>
          <p:spPr>
            <a:xfrm>
              <a:off x="7381800" y="48034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34400" y="479988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556040" y="4797360"/>
              <a:ext cx="766080" cy="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370480" y="59101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         Color       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19400" y="3100320"/>
            <a:ext cx="1106280" cy="1127160"/>
            <a:chOff x="4019400" y="3100320"/>
            <a:chExt cx="1106280" cy="1127160"/>
          </a:xfrm>
        </p:grpSpPr>
        <p:sp>
          <p:nvSpPr>
            <p:cNvPr id="223" name=""/>
            <p:cNvSpPr/>
            <p:nvPr/>
          </p:nvSpPr>
          <p:spPr>
            <a:xfrm>
              <a:off x="4019400" y="310644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3102840"/>
              <a:ext cx="553320" cy="1121040"/>
            </a:xfrm>
            <a:custGeom>
              <a:avLst/>
              <a:gdLst/>
              <a:ahLst/>
              <a:rect l="l" t="t" r="r" b="b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193640" y="3100320"/>
              <a:ext cx="7660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76360" y="6243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14320" y="622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32080" y="3403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3594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12960" y="34304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57560" y="3621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09840" y="37735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6160" y="37702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7840" y="326376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1360" y="55832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2600" y="5272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200" y="54007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38320" y="517536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8640" y="5570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36240" y="54054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2040" y="5106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3400" y="4954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66960" y="539604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9680" y="48704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28120" y="52293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3600" y="526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3440" y="5511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96280" y="56167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47960" y="50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0040" y="54500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98720" y="524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9440" y="557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49760" y="5332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440" y="483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75000" y="519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94440" y="5497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47680" y="511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6120" y="5035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33880" y="5351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56800" y="5380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37240" y="5189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8040" y="55753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91440" y="48322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8120" y="5240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7480" y="5064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6560" y="538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9320" y="5165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39200" y="553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0" y="543384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1040" y="56116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3400" y="4862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50040" y="5221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27880" y="5014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8640" y="5573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23840" y="5411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5080" y="518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6080" y="53802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86720" y="484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61800" y="5592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30800" y="5586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54880" y="5391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0080" y="508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42320" y="5197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78520" y="5348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0560" y="4170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52720" y="20019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g  red ci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682720" y="2206800"/>
            <a:ext cx="3638520" cy="1864800"/>
            <a:chOff x="2682720" y="2206800"/>
            <a:chExt cx="3638520" cy="1864800"/>
          </a:xfrm>
        </p:grpSpPr>
        <p:sp>
          <p:nvSpPr>
            <p:cNvPr id="288" name=""/>
            <p:cNvSpPr/>
            <p:nvPr/>
          </p:nvSpPr>
          <p:spPr>
            <a:xfrm flipV="1">
              <a:off x="2682720" y="2511000"/>
              <a:ext cx="124308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078160" y="2443320"/>
              <a:ext cx="124308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9440" y="220680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333F-C91C-4501-B628-C4C854DA2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features of an instance are in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ditionally 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then only need to know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possible pair of a feature-value and a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nary, this requires specifying onl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) and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) for each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fals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true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to specifying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without any independence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195560" y="1944720"/>
                <a:ext cx="645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684E-8B7A-48CA-A358-0E2AE8556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4648320" cy="403848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429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9560" y="451944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42640" y="31240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814F-A320-4C23-93C8-CCE046E4A0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4648320" cy="183816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446040" y="231300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3440" y="2697120"/>
            <a:ext cx="464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360" y="3056040"/>
            <a:ext cx="464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5200" y="3581280"/>
            <a:ext cx="873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positive)*P(medium | positive)*P(red | positive)*P(circle | posi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 *               0.1              *        0.9            *       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4840" y="4572000"/>
            <a:ext cx="90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P(negative)*P(medium | negative)*P(red | negative)*P(circle | negative)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      *              0.2               *        0.3             *    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8160" y="5562720"/>
            <a:ext cx="62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posi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P(negative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0.0405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0.009 / 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9880" y="6019920"/>
            <a:ext cx="33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(0.0405 + 0.009) = 0.04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2760" y="4191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405 / 0.0495 = 0.81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6440" y="5181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009 / 0.0495 = 0.18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67840" y="2587680"/>
            <a:ext cx="24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dium ,red, cir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1074-7D1B-4385-896A-221BB1291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stimating Probabiliti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probabilities are estimated based on observed frequencies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 categ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ha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value for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estimating such probabilities from small training sets is error-pr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ue only to chance, a rare featu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lways false in the training dat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then occurs in a test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sult 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503440" y="2708280"/>
                <a:ext cx="356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BD5B-85F1-43C8-A4D1-4584BFA928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ty Estimation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425840" y="1487520"/>
          <a:ext cx="4572000" cy="4038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mall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medium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larg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red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blu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green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squar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riang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circle |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1644480"/>
          <a:ext cx="4343400" cy="2867040"/>
        </p:xfrm>
        <a:graphic>
          <a:graphicData uri="http://schemas.openxmlformats.org/drawingml/2006/table">
            <a:tbl>
              <a:tblPr/>
              <a:tblGrid>
                <a:gridCol w="828720"/>
                <a:gridCol w="828720"/>
                <a:gridCol w="825480"/>
                <a:gridCol w="826920"/>
                <a:gridCol w="1033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eg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169920" y="4883040"/>
            <a:ext cx="5167440" cy="1719720"/>
            <a:chOff x="169920" y="4883040"/>
            <a:chExt cx="5167440" cy="1719720"/>
          </a:xfrm>
        </p:grpSpPr>
        <p:sp>
          <p:nvSpPr>
            <p:cNvPr id="319" name=""/>
            <p:cNvSpPr/>
            <p:nvPr/>
          </p:nvSpPr>
          <p:spPr>
            <a:xfrm>
              <a:off x="1384920" y="4883040"/>
              <a:ext cx="24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In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medium, red, circ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0960" y="5744880"/>
              <a:ext cx="504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posi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1.0 * 1.0 /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920" y="6203880"/>
              <a:ext cx="51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negative |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0.5 * 0.0 * 0.5 * 0.5 /  P(X)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DD0F-6004-46E6-825E-731A35D35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mooth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ount for estimation from small samples, probability estimates are adjuste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oot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 smoothing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timate assumes that each feature is given a prior probabil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assumed to have been previously observed in a “virtual”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ply assumed to be 0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87720" y="4038480"/>
                <a:ext cx="3990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8B1D-B60D-452E-BE6D-8538CE0FB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place Smoth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raining set contains 10 positiv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: sm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: mediu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: lar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parameters as follows 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| positive) = (4 + 1/3) / (10 + 1) =     0.394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medium | positive) = (0 + 1/3) / (10 + 1) = 0.03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large | positive) = (6 + 1/3) / (10 + 1) =      0.576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(small or medium or large | positive) =        1.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F72C-6155-4ACF-AF0C-801ACECDC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xioms of Probability Theo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babilities between 0 an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proposition has probability 1, false has probability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true) = 1        P(false)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 disjunc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76520" y="205740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7920" y="480060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2963880" y="548784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3360" y="5487840"/>
            <a:ext cx="175284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0200" y="564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7280" y="56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726000" y="5678640"/>
                <a:ext cx="7617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11FB-0B5A-4F42-8A35-F3EE9DA9A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tinuous Attribu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inuous feature rather than a discrete one, need another way to 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Gaussian distribution whose mean and variance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raining, for each combination of a continuous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class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stimate a mea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standard devia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values of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esting, estim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 given example, using the Gaussian distribution defined by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94000" y="5089680"/>
                <a:ext cx="6143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A7DE-BA57-459C-9661-104B132209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ments on Naïve Bay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s to work well despite strong assumption of condition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show it to be quite competitive with other classification methods on standard UCI data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it does not produce accurate probability estimates when its independence assumptions are violated, it may still pick the correct maximum-probability class in many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ble to learn conjunctive concepts in any ca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perform any search of the hypothesis space.  Directly constructs a hypothesis from parameter estimates that are easily calculated from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rong bia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guarantee consistency with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handles noise well since it does not even focus on completely fitting the train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4CF7-2966-45B7-9823-7076DF7E2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ditional Probability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probab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l and only information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05120" y="3657600"/>
                <a:ext cx="2819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819520" y="5105520"/>
            <a:ext cx="160020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10552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32560" y="525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81280" y="5295960"/>
                <a:ext cx="76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5080-1F4C-4C78-AD71-DBA46C123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dependen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depend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47920" y="205740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2590920"/>
                <a:ext cx="2057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371600" y="3809880"/>
                <a:ext cx="3824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71600" y="4952880"/>
                <a:ext cx="3505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614760" y="222408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hese two constraints are logically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4F61-25D3-4740-869F-9555830F7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Joint Distrib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6480" y="1273320"/>
            <a:ext cx="77724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int probability distribution for a set of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the probability of every combination of values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array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f all variables are discre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,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must sum to 1):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of all possible conjunctions (assignments of values to some subset of variables) can be calculated by summing the appropriate subset of values from the joint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all conditional probabilities can also b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11280" y="2963880"/>
          <a:ext cx="2841480" cy="1100160"/>
        </p:xfrm>
        <a:graphic>
          <a:graphicData uri="http://schemas.openxmlformats.org/drawingml/2006/table">
            <a:tbl>
              <a:tblPr/>
              <a:tblGrid>
                <a:gridCol w="94752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713120" y="2946240"/>
          <a:ext cx="2841840" cy="11001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532960" y="2573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7920" y="2554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28840" y="5010120"/>
                <a:ext cx="3913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6019920"/>
                <a:ext cx="7373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sitiv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circl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ircl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81160" y="5308560"/>
                <a:ext cx="4319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9320-0E67-4528-B88A-34182331B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babilistic Classif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3680" y="1371600"/>
            <a:ext cx="84661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for the class which takes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andom variable describing an instance consisting of a vector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atures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possibl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, we need 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given no other assumptions, this requires a table giving the probability of each category for each possible instance in the instance space, which is impossible to accurately estimate from a reasonably-sized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ssuming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nd all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re binary, we need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ries to specify     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for each of the 2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possibl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’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c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neg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= 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pos |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pared to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imes New Roman"/>
              </a:rPr>
              <a:t>+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1 entries for the joint distribution P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5F14-FC24-424C-951C-1473959F0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roof from definition of conditional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95280" y="5562720"/>
                <a:ext cx="320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371600" y="3276720"/>
                <a:ext cx="251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2480" y="4114800"/>
                <a:ext cx="25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∧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52480" y="4952880"/>
                <a:ext cx="327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98880" y="56656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58640" y="3382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04760" y="42814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Def. cond. pro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520" y="1523880"/>
                <a:ext cx="3257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BB08-FCA5-4B82-A084-A21BBE6B2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169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categor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termining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determined since categories are complete and disj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25680" y="2130480"/>
                <a:ext cx="5592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65480" y="4379760"/>
                <a:ext cx="212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43160" y="4344840"/>
                <a:ext cx="6637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65400" y="5240160"/>
                <a:ext cx="5024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41A3-B8B2-41F1-9C46-A123EA1F4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ayesian Categorization (cont.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ior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als: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easily estimated from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the examples i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re in 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n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 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|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ossible instances (e.g.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inary features) to estimate all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make some sort of independence assumptions about the features to make learning tra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D367-38E2-45BC-9BAD-7387E09FBC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</cp:lastModifiedBy>
  <dcterms:modified xsi:type="dcterms:W3CDTF">2008-04-21T18:01:12Z</dcterms:modified>
  <cp:revision>180</cp:revision>
  <dc:subject/>
  <dc:title>Intelligent Information Retrieval and Web Search</dc:title>
</cp:coreProperties>
</file>