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8877-9D0F-4630-85D4-DC1019C7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47AD-2FB9-4BD3-B21D-FCED3C0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A0D3-31BA-4FEE-AD08-61658D14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3BF6-9BE6-4BBB-BFE5-B97D2361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94C2-E020-4EAD-8FDB-46F871C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17E0-96B5-41F7-90B2-D9275E2D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2FBA-D3D7-4884-BC54-ECF60F4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7957-BAA6-4EA7-9B46-0D8C5B41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340A-9DE8-4A69-8AD0-C88A6F4E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3C49-8B61-409E-8AA2-D23A6DF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B5C1-5F9F-43B2-8BB6-3DD11085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67A5-4819-43B9-9C20-23C8224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9588-4E59-49D0-887E-358BFC09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5C07-68DC-43FB-96E3-A628642130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upervised training examples giving the desired output for a unit given a set of known input act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synaptic weights so that unit produces the correct output for each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ron uses iterative update algorithm to learn a correct set of we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9622-80C8-40AD-853C-7B259B28D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8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igh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“learning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acher specified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correct do not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high, lower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low, increase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just threshold to compens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85840" y="1822320"/>
                <a:ext cx="3809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4840" y="5788080"/>
                <a:ext cx="3371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B3BD-88D3-46AB-B6C6-F44D24534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ly update weights until conver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ecution of the outer loop is typically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p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20" y="2060640"/>
            <a:ext cx="82688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weights to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outputs of all training exampl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pai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urrent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its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current output to target valu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ynaptic weights and threshol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B62A-6399-4111-BAEB-38AF447D3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a Linear Separ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85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erceptron uses linear threshold function, it is searching for a linear separator that discriminates the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34920" y="3079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280" y="6005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496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00040" y="4192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2680" y="4738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7144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3595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4080" y="46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85840" y="4281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4268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1936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008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1840" y="5716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4586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1840" y="50306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024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860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880" y="299736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81360" y="307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81160" y="3149280"/>
            <a:ext cx="266688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064120" y="2998800"/>
                <a:ext cx="3166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62160" y="2890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8200" y="5908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903920" y="3962520"/>
                <a:ext cx="34542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975040" y="326880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5400000">
            <a:off x="3784680" y="3408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6200000">
            <a:off x="869400" y="53107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1609560" y="5424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55400" y="3571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360" y="5415120"/>
            <a:ext cx="28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Or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hyperplane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dimensi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E908-4A5D-4BFA-BB74-62F3C61AB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ept Perceptron Cannot Lear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learn exclusive-or, or parity function in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800440" y="2944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5440" y="5870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6320" y="3014280"/>
            <a:ext cx="266724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7320" y="275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83360" y="5773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40200" y="313380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5400000">
            <a:off x="5650200" y="3273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6200000">
            <a:off x="2736000" y="5175720"/>
            <a:ext cx="463320" cy="18288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475080" y="5289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0920" y="3436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280" y="3241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57520" y="348624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7960" y="325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7640" y="57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55760" y="606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68520" y="5668920"/>
            <a:ext cx="1260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30720" y="330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3960" y="540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5375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CDE1-2FD7-41DA-8B33-8B644555A6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imi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bviously cannot learn concepts it cannot re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ksy and Papert (1969) wrote a book analyzing the perceptron and demonstrating many functions it could not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esults discouraged further research on neural nets; and symbolic AI became the dominate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0E2C-2932-4D41-8C46-E562DD84EF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erceptron Convergence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nd Cycling Theorem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onvergence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linearly separable and therefore a set of weights exist that are consistent with the data, then the Perceptron algorithm will eventually converge to a consistent set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ycling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not linearly separable, the Perceptron algorithm will eventually repeat a set of weights and threshold at the end of some epoch and therefore enter an infinit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y checking for repeated weights+threshold, one can guarantee termination with either a positive or negative resul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17D8-F439-4CAD-ADF4-5EC755B2D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Hill Climb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4280" y="1371600"/>
            <a:ext cx="826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ypothesis space being search is a set of weights and a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is to minimize classification error on the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effectively does hill-climbing (gradient descent) in this space, changing the weights a small amount at each point to decrease training se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ingle model neuron, the space is well behaved with a single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27240" y="4505400"/>
            <a:ext cx="1800" cy="20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894040" y="6443640"/>
            <a:ext cx="40482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39360" y="6378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7680" y="637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4200" y="468936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3800" y="4694400"/>
            <a:ext cx="3863880" cy="1760400"/>
          </a:xfrm>
          <a:custGeom>
            <a:avLst/>
            <a:gdLst/>
            <a:ahLst/>
            <a:rect l="l" t="t" r="r" b="b"/>
            <a:pathLst>
              <a:path w="2434" h="1109">
                <a:moveTo>
                  <a:pt x="0" y="31"/>
                </a:moveTo>
                <a:cubicBezTo>
                  <a:pt x="167" y="40"/>
                  <a:pt x="334" y="49"/>
                  <a:pt x="430" y="92"/>
                </a:cubicBezTo>
                <a:cubicBezTo>
                  <a:pt x="526" y="135"/>
                  <a:pt x="516" y="199"/>
                  <a:pt x="576" y="292"/>
                </a:cubicBezTo>
                <a:cubicBezTo>
                  <a:pt x="636" y="385"/>
                  <a:pt x="706" y="541"/>
                  <a:pt x="791" y="653"/>
                </a:cubicBezTo>
                <a:cubicBezTo>
                  <a:pt x="876" y="765"/>
                  <a:pt x="977" y="892"/>
                  <a:pt x="1083" y="967"/>
                </a:cubicBezTo>
                <a:cubicBezTo>
                  <a:pt x="1189" y="1042"/>
                  <a:pt x="1317" y="1103"/>
                  <a:pt x="1428" y="1106"/>
                </a:cubicBezTo>
                <a:cubicBezTo>
                  <a:pt x="1539" y="1109"/>
                  <a:pt x="1663" y="1044"/>
                  <a:pt x="1751" y="983"/>
                </a:cubicBezTo>
                <a:cubicBezTo>
                  <a:pt x="1839" y="922"/>
                  <a:pt x="1908" y="850"/>
                  <a:pt x="1958" y="737"/>
                </a:cubicBezTo>
                <a:cubicBezTo>
                  <a:pt x="2008" y="624"/>
                  <a:pt x="1971" y="430"/>
                  <a:pt x="2050" y="307"/>
                </a:cubicBezTo>
                <a:cubicBezTo>
                  <a:pt x="2129" y="184"/>
                  <a:pt x="2371" y="51"/>
                  <a:pt x="2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D963-BF3D-4ED2-98B3-5E3E2384F3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Perform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hreshold functions are restrictive (high bias) but still reasonably expressive; more general th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con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dis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-of-N  (at least M of a specified set of N features must be presen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converges fairly quickly for linearly separab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ffectively use even incompletely converged results when only a few outliers are misclass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ly, Perceptron does quite well on many benchmark data 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267A-3BEB-4C46-9274-EDC66DAFFB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Layer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ayer networks can represent arbitrary functions, but an effective learning algorithm for such networks was thought to b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multi-layer network consists of an input, hidden and output layer, each fully connected to the next, with activation feeding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ghts determine the function computed. Given an arbitrary number of hidden units, any boolean function can be computed with a single hidden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17760" y="3368520"/>
            <a:ext cx="2349720" cy="1423080"/>
            <a:chOff x="3317760" y="3368520"/>
            <a:chExt cx="2349720" cy="1423080"/>
          </a:xfrm>
        </p:grpSpPr>
        <p:sp>
          <p:nvSpPr>
            <p:cNvPr id="186" name=""/>
            <p:cNvSpPr/>
            <p:nvPr/>
          </p:nvSpPr>
          <p:spPr>
            <a:xfrm>
              <a:off x="4436640" y="33685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5800" y="388620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d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62600" y="43927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52680" y="4121280"/>
              <a:ext cx="14616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1440" y="4133880"/>
              <a:ext cx="1954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1440" y="4146480"/>
              <a:ext cx="5000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11440" y="4157640"/>
              <a:ext cx="86544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1440" y="4157640"/>
              <a:ext cx="121932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52680" y="4133880"/>
              <a:ext cx="5968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693960" y="4121280"/>
              <a:ext cx="2685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4108320"/>
              <a:ext cx="6012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5120" y="4121280"/>
              <a:ext cx="41436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75120" y="4157640"/>
              <a:ext cx="743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65640" y="4133880"/>
              <a:ext cx="102384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93600" y="4133880"/>
              <a:ext cx="6829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035600" y="4146480"/>
              <a:ext cx="366480" cy="47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52400" y="4108320"/>
              <a:ext cx="7308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3240" y="4121280"/>
              <a:ext cx="28116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511440" y="3621240"/>
              <a:ext cx="2556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0000" y="3621240"/>
              <a:ext cx="1825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7040" y="3621240"/>
              <a:ext cx="646200" cy="47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511080" y="3633840"/>
              <a:ext cx="66996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49560" y="3633840"/>
              <a:ext cx="23184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94000" y="3646440"/>
              <a:ext cx="20808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4591080"/>
              <a:ext cx="10980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4360" y="45846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0960" y="457848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7560" y="45720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4160" y="456552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65360" y="4060800"/>
              <a:ext cx="10980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176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780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1952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5296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933520" y="38671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3462480"/>
            <a:ext cx="255600" cy="1218960"/>
          </a:xfrm>
          <a:prstGeom prst="upArrow">
            <a:avLst>
              <a:gd name="adj1" fmla="val 50000"/>
              <a:gd name="adj2" fmla="val 119225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84B9-B1CC-43B6-B7B8-CD96322185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y to biological neural systems, the most robust learning systems we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understand natural biological systems through computational mod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ive parallelism allows for computational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understand “distributed” nature of neural representations (rather than “localist” representation) that allow robustness and graceful degra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behavior as an “emergent” property of large number of simple units rather than from explicitly encoded symbolic rules and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C4B4-1322-4562-813C-64F7ECF07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ll-Climbing in Multi-Layer N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“greed is good” perhaps hill-climbing can be used to learn multi-layer networks in practice although its theoretical limits are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o do gradient descent, we need the output of a unit to be a differentiable function of its input and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inear threshold function is not differentiable at the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19480" y="421812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19480" y="577836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9040" y="578016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880" y="415440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6720" y="576900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5640" y="56563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5000" y="5586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080" y="4678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10040" y="487656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19480" y="576540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24480" y="485136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06840" y="4821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9E71-06BB-4836-9717-87FC4EF5AC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fferentiable Outpu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on-linear output function to move beyond linear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 multi-layer linear network is still linear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olution is to use the non-linear, differentiable sigmoidal “logistic”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005440" y="354024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5440" y="51004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55000" y="510228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42680" y="509112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1600" y="497844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20960" y="4908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13040" y="40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96000" y="419868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461952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335640" y="411480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057320" y="3809880"/>
                <a:ext cx="288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716840" y="5842080"/>
            <a:ext cx="58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n also use tanh or Gaussian out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CD27-AB69-4FF3-883B-711F32A33B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dient Desc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9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bjective to minimize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training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output uni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, respectively, the teacher and current output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ative of a sigmoid unit with respect to net inpu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ule to change weights to minimize err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997360" y="1838160"/>
                <a:ext cx="3375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384720" y="4251240"/>
                <a:ext cx="2179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3480" y="5672160"/>
                <a:ext cx="1878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7DC6-5FE2-4A42-925D-47C6A3F410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eight chang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nstant called the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rrect teacher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rror measure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71680" y="1909800"/>
                <a:ext cx="2109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η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441440" y="2622600"/>
                <a:ext cx="6916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n output un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390680" y="3157560"/>
                <a:ext cx="6827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 hidden un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117C-DAE0-4F2C-8B43-82DD5E5469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443400" y="3171960"/>
            <a:ext cx="49824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alculate error of output units and use this to change the top layer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5280" y="2282760"/>
            <a:ext cx="27777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(1–0.2)(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=0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36880" y="305604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8360" y="3208320"/>
            <a:ext cx="35568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7200" y="3184560"/>
            <a:ext cx="1257120" cy="99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96600" y="3697200"/>
            <a:ext cx="2367720" cy="857160"/>
            <a:chOff x="696600" y="3697200"/>
            <a:chExt cx="2367720" cy="857160"/>
          </a:xfrm>
        </p:grpSpPr>
        <p:sp>
          <p:nvSpPr>
            <p:cNvPr id="302" name=""/>
            <p:cNvSpPr/>
            <p:nvPr/>
          </p:nvSpPr>
          <p:spPr>
            <a:xfrm>
              <a:off x="696600" y="369720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1130400" y="405612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800D-9A91-4F0B-A020-A4E92B40E6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calculate error for hidden units based on errors on the output units it feeds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2360" y="374652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H="1">
            <a:off x="3419640" y="3186000"/>
            <a:ext cx="498240" cy="104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81560" y="3173400"/>
            <a:ext cx="1303200" cy="101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8960" y="306072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62360" y="305424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AE96-A693-4718-8D70-AD674649C3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update bottom layer of weights based on errors calculated for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4400" y="3564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24080" y="4211640"/>
            <a:ext cx="284400" cy="10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264200"/>
            <a:ext cx="379080" cy="10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79760" y="4313160"/>
            <a:ext cx="9730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68600" y="4299120"/>
            <a:ext cx="1683000" cy="101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68600" y="4311720"/>
            <a:ext cx="2373480" cy="9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91720" y="4186080"/>
            <a:ext cx="2367720" cy="857160"/>
            <a:chOff x="891720" y="4186080"/>
            <a:chExt cx="2367720" cy="857160"/>
          </a:xfrm>
        </p:grpSpPr>
        <p:sp>
          <p:nvSpPr>
            <p:cNvPr id="392" name=""/>
            <p:cNvSpPr/>
            <p:nvPr/>
          </p:nvSpPr>
          <p:spPr>
            <a:xfrm>
              <a:off x="891720" y="418608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325520" y="454500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9337-DB84-4D8A-90ED-F0407528D0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525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he 3-layer network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dden units with full conn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ayers. Set weights to small random real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training examples produce the correct value (with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squared error ceases to decrease, or other termin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network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input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error between current output and correct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weights by backpropagating error an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B875-6205-4190-9EE6-5C5E0207CF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uaranteed to converge to zero training error, may converge to local optima or oscillate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practice, does converge to low error for many large networks on re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pochs (thousands) may be required, hours or days of training for large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local-minima problems, run several trials starting with different random weight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dom rest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 results of trial with lowest training set err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ild a committee of results from multiple trials (possibly weighting votes by training set accuracy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B580-3519-459C-B8AB-9AF2DEC37F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ational Pow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olean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olean function can be represented by a two-layer network with sufficient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inuous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unded continuous function can be approximated with arbitrarily small error by a two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gmoid functions can act as a set of basis functions for composing more complex functions, like sine waves in Fourier analysi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bitrary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function can be approximated to arbitrary accuracy by a three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5F72-F026-48D0-A00D-49216B35B0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Speed Constrai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have a “switching time” on the order of a few milliseconds, compared to nanoseconds for current computing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eural systems can perform complex cognitive tasks (vision, speech understanding) in tenths of a sec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ime for performing 100 serial steps in this time frame, compared to orders of magnitude more for current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exploiting “massive parallelis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brain ha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urons with an averag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19D7-88A1-4641-AE4B-02F5ACC1EB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ed XOR Networ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25527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7120" y="255888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330984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1240" y="3303720"/>
            <a:ext cx="328320" cy="3045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047840" y="2048040"/>
            <a:ext cx="35244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2048040"/>
            <a:ext cx="34128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053960" y="2822400"/>
            <a:ext cx="755640" cy="54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75120" y="284148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8640" y="2836800"/>
            <a:ext cx="87804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2360" y="284796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5400" y="168264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55600" y="21160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66680" y="21099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79840" y="2400480"/>
            <a:ext cx="1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1080" y="17859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75920" y="2500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1720" y="295596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1640" y="26686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520" y="29671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9800" y="31575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7120" y="25113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232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736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75400" y="3279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51280" y="250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89040" y="4129200"/>
            <a:ext cx="55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A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B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 represents: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13520" y="17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6730-7B12-4DED-8E3F-C99030A798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dden Unit Represen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d hidden units can be seen as newly constructed features that make the target concept linearly separable in the transformed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ny real domains, hidden units can be interpreted as representing meaningful features such as vowel detectors or edge detectors,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hidden layer can also become a distributed representation of the input in which each individual unit is not easily interpretable as a meaningful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96D8-5F1C-4E44-983D-50788ADA5E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-Training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oo many epochs can result in over-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hold-out validation set and test accuracy on it after every epoch. Stop training when additional epochs actually increase validatio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losing training data for vali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 internal 10-fold CV on the training set to compute the average number of epochs that maximizes generalization accurac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in final network on complete training set for this many epoch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33640" y="179388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22480" y="347652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1451520" y="21340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81920" y="3087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n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53480" y="24494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 te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71200" y="337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04640" y="34416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ining epo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22480" y="2011320"/>
            <a:ext cx="4133880" cy="1451160"/>
          </a:xfrm>
          <a:custGeom>
            <a:avLst/>
            <a:gdLst/>
            <a:ahLst/>
            <a:rect l="l" t="t" r="r" b="b"/>
            <a:pathLst>
              <a:path w="2604" h="914">
                <a:moveTo>
                  <a:pt x="0" y="0"/>
                </a:moveTo>
                <a:cubicBezTo>
                  <a:pt x="8" y="85"/>
                  <a:pt x="16" y="170"/>
                  <a:pt x="70" y="262"/>
                </a:cubicBezTo>
                <a:cubicBezTo>
                  <a:pt x="124" y="354"/>
                  <a:pt x="214" y="467"/>
                  <a:pt x="323" y="553"/>
                </a:cubicBezTo>
                <a:cubicBezTo>
                  <a:pt x="432" y="639"/>
                  <a:pt x="533" y="724"/>
                  <a:pt x="722" y="776"/>
                </a:cubicBezTo>
                <a:cubicBezTo>
                  <a:pt x="911" y="828"/>
                  <a:pt x="1212" y="850"/>
                  <a:pt x="1460" y="868"/>
                </a:cubicBezTo>
                <a:cubicBezTo>
                  <a:pt x="1708" y="886"/>
                  <a:pt x="2021" y="876"/>
                  <a:pt x="2212" y="884"/>
                </a:cubicBezTo>
                <a:cubicBezTo>
                  <a:pt x="2403" y="892"/>
                  <a:pt x="2543" y="914"/>
                  <a:pt x="2604" y="914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22480" y="2011320"/>
            <a:ext cx="4060800" cy="1182600"/>
          </a:xfrm>
          <a:custGeom>
            <a:avLst/>
            <a:gdLst/>
            <a:ahLst/>
            <a:rect l="l" t="t" r="r" b="b"/>
            <a:pathLst>
              <a:path w="2558" h="745">
                <a:moveTo>
                  <a:pt x="0" y="0"/>
                </a:moveTo>
                <a:cubicBezTo>
                  <a:pt x="33" y="99"/>
                  <a:pt x="66" y="199"/>
                  <a:pt x="139" y="277"/>
                </a:cubicBezTo>
                <a:cubicBezTo>
                  <a:pt x="212" y="355"/>
                  <a:pt x="288" y="399"/>
                  <a:pt x="438" y="469"/>
                </a:cubicBezTo>
                <a:cubicBezTo>
                  <a:pt x="588" y="539"/>
                  <a:pt x="869" y="655"/>
                  <a:pt x="1037" y="699"/>
                </a:cubicBezTo>
                <a:cubicBezTo>
                  <a:pt x="1205" y="743"/>
                  <a:pt x="1275" y="745"/>
                  <a:pt x="1444" y="730"/>
                </a:cubicBezTo>
                <a:cubicBezTo>
                  <a:pt x="1613" y="715"/>
                  <a:pt x="1903" y="648"/>
                  <a:pt x="2051" y="607"/>
                </a:cubicBezTo>
                <a:cubicBezTo>
                  <a:pt x="2199" y="566"/>
                  <a:pt x="2251" y="516"/>
                  <a:pt x="2335" y="484"/>
                </a:cubicBezTo>
                <a:cubicBezTo>
                  <a:pt x="2419" y="452"/>
                  <a:pt x="2525" y="430"/>
                  <a:pt x="2558" y="41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B30F-9DA2-4516-99E6-6D5619DFD8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termining the Best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umber of Hidden Unit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few hidden units prevents the network from adequately fitting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any hidden units can result in over-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ternal cross-validation to empirically determine an optimal number of hidden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06720" y="277020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95560" y="445284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1524240" y="31104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55000" y="40640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n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26560" y="34257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 te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44280" y="435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30720" y="441792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hidden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5560" y="2987640"/>
            <a:ext cx="4133880" cy="1451160"/>
          </a:xfrm>
          <a:custGeom>
            <a:avLst/>
            <a:gdLst/>
            <a:ahLst/>
            <a:rect l="l" t="t" r="r" b="b"/>
            <a:pathLst>
              <a:path w="2604" h="914">
                <a:moveTo>
                  <a:pt x="0" y="0"/>
                </a:moveTo>
                <a:cubicBezTo>
                  <a:pt x="8" y="85"/>
                  <a:pt x="16" y="170"/>
                  <a:pt x="70" y="262"/>
                </a:cubicBezTo>
                <a:cubicBezTo>
                  <a:pt x="124" y="354"/>
                  <a:pt x="214" y="467"/>
                  <a:pt x="323" y="553"/>
                </a:cubicBezTo>
                <a:cubicBezTo>
                  <a:pt x="432" y="639"/>
                  <a:pt x="533" y="724"/>
                  <a:pt x="722" y="776"/>
                </a:cubicBezTo>
                <a:cubicBezTo>
                  <a:pt x="911" y="828"/>
                  <a:pt x="1212" y="850"/>
                  <a:pt x="1460" y="868"/>
                </a:cubicBezTo>
                <a:cubicBezTo>
                  <a:pt x="1708" y="886"/>
                  <a:pt x="2021" y="876"/>
                  <a:pt x="2212" y="884"/>
                </a:cubicBezTo>
                <a:cubicBezTo>
                  <a:pt x="2403" y="892"/>
                  <a:pt x="2543" y="914"/>
                  <a:pt x="2604" y="914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95560" y="2987640"/>
            <a:ext cx="4060800" cy="1182600"/>
          </a:xfrm>
          <a:custGeom>
            <a:avLst/>
            <a:gdLst/>
            <a:ahLst/>
            <a:rect l="l" t="t" r="r" b="b"/>
            <a:pathLst>
              <a:path w="2558" h="745">
                <a:moveTo>
                  <a:pt x="0" y="0"/>
                </a:moveTo>
                <a:cubicBezTo>
                  <a:pt x="33" y="99"/>
                  <a:pt x="66" y="199"/>
                  <a:pt x="139" y="277"/>
                </a:cubicBezTo>
                <a:cubicBezTo>
                  <a:pt x="212" y="355"/>
                  <a:pt x="288" y="399"/>
                  <a:pt x="438" y="469"/>
                </a:cubicBezTo>
                <a:cubicBezTo>
                  <a:pt x="588" y="539"/>
                  <a:pt x="869" y="655"/>
                  <a:pt x="1037" y="699"/>
                </a:cubicBezTo>
                <a:cubicBezTo>
                  <a:pt x="1205" y="743"/>
                  <a:pt x="1275" y="745"/>
                  <a:pt x="1444" y="730"/>
                </a:cubicBezTo>
                <a:cubicBezTo>
                  <a:pt x="1613" y="715"/>
                  <a:pt x="1903" y="648"/>
                  <a:pt x="2051" y="607"/>
                </a:cubicBezTo>
                <a:cubicBezTo>
                  <a:pt x="2199" y="566"/>
                  <a:pt x="2251" y="516"/>
                  <a:pt x="2335" y="484"/>
                </a:cubicBezTo>
                <a:cubicBezTo>
                  <a:pt x="2419" y="452"/>
                  <a:pt x="2525" y="430"/>
                  <a:pt x="2558" y="41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CA11-A572-483F-BD96-DBFA421E02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ccessful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to Speech (Net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NC (eventually bought by Fair Isaac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villion Technolog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Veh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urogamm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DA93-8736-4B68-81F3-101E856E3B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Neural N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training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ickpro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jugate gradient (exploits 2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erivativ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proper network archit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w network until able to fit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ascade Correla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pstart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rink large network until unable to fit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ptimal Brain Damag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networks that use feedback and can learn finite state machines with “backpropagation through ti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2B5B-F915-4392-912D-F8FDBE55D3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Neural Nets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iologically plausible learning algorithms based on Hebbian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f-Organizing Feature Maps (SOM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ment Lear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equently used as function approximators for learning value function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6315-8EA3-41EF-B744-0DDF7C53FD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pproach based on modeling adaptation in biological neural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ceptr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itial algorithm for learning simple neural networks (single layer) developed in the 195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propa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ore complex algorithm for learning multi-layer neural networks developed in the 198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9716-59C5-4B14-8C3C-762C228A2E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ell bod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ndri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x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ynaptic terminal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35520" y="1409760"/>
            <a:ext cx="3763800" cy="5049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51280" y="2193840"/>
            <a:ext cx="303516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730600"/>
            <a:ext cx="2170080" cy="29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40160" y="2646000"/>
            <a:ext cx="878040" cy="268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3292560"/>
            <a:ext cx="5522760" cy="15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4000" y="3852720"/>
            <a:ext cx="1024200" cy="74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B9B9-AF7B-4206-B256-FA552F249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mun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016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potential across cell membrane exhibits spikes called action potent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ke originates in cell body, travels d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, and causes synaptic terminal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neuro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diffuses across synap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drites of other neu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tters can be excititor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t input of neurotransmitters to a neuron from other neurons is excititory and exceeds some threshold, it fires an action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03800" y="1922400"/>
            <a:ext cx="28576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2F44-53D2-4E7F-8D72-79F6A0559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s change size and strength wit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bbian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two connected neurons are firing at the same time, the strength of the synapse between them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that fire together, wire togeth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1271-6B32-45A3-870C-65F46B5B0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tificial Neuron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work as a graph with cells as nodes and synaptic connections as weighted edges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 input to c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outpu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37400" y="2147760"/>
            <a:ext cx="2192040" cy="1770120"/>
            <a:chOff x="5837400" y="2147760"/>
            <a:chExt cx="2192040" cy="1770120"/>
          </a:xfrm>
        </p:grpSpPr>
        <p:sp>
          <p:nvSpPr>
            <p:cNvPr id="66" name=""/>
            <p:cNvSpPr/>
            <p:nvPr/>
          </p:nvSpPr>
          <p:spPr>
            <a:xfrm>
              <a:off x="6827760" y="2511360"/>
              <a:ext cx="121680" cy="134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3064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9436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7532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5808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9600" y="214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32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9432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1336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3424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998680" y="2620800"/>
              <a:ext cx="82836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473160" y="2609640"/>
              <a:ext cx="377640" cy="792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597040"/>
              <a:ext cx="61560" cy="80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4600" y="2573280"/>
              <a:ext cx="48852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26040" y="2523960"/>
              <a:ext cx="950760" cy="8888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04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19080" y="306828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3680" y="30366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01640" y="288432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556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44520" y="3143160"/>
                <a:ext cx="209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188720" y="5599080"/>
            <a:ext cx="32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reshold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8360" y="4545000"/>
                <a:ext cx="2074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5376960" y="4389120"/>
            <a:ext cx="0" cy="15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6960" y="59500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6520" y="595152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77000" y="432576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14200" y="594036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2760" y="58276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2480" y="575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84560" y="484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67160" y="5047920"/>
            <a:ext cx="268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76960" y="5937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81960" y="5022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64320" y="499248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5A69-3016-4405-BD40-DF7A3926D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Collough and Pitts (1943) showed how such model neurons could compute logical functions and be used to construct finite-state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simulate logic g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here n is the number of input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R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OT: Let threshold be 0, single input with a negative weigh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ild arbitrary logic circuits, sequential machines, and computers with such 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negated inputs, two layer network can compute any boolean function using a two level AND-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E337-CF20-4279-B46C-D2E34B42B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10-23T21:34:51Z</dcterms:modified>
  <cp:revision>255</cp:revision>
  <dc:subject/>
  <dc:title>Intelligent Information Retrieval and Web Search</dc:title>
</cp:coreProperties>
</file>