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E9A72-E242-489E-98F1-E7953DF5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DEBF2-8B4D-42D4-B229-71E17AA7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BA655-E816-41CF-B3FE-2E4D9F15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3746C-9394-498B-89B0-0D175478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9696-2784-42D2-AB80-79BC3896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24314-A907-4F94-A659-560654A4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EA0F5-62C6-44CB-A6E4-C0916803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E6E84-87C4-44BB-8B20-17597A32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47EE8-0EB2-4A70-B382-ACC43B87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6E68D-553D-4AF8-9869-5EDAFC58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0B397-D645-4170-A73E-7F24C43B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9CE5C-DEAF-449A-88DB-3315566A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71E6-68AB-4F91-97CF-EEB92D0FA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91L: Machine Learning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eural Networ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509B8-12F1-47C4-A97C-BF79359604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Trai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upervised training examples giving the desired output for a unit given a set of known input activ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synaptic weights so that unit produces the correct output for each exa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ptron uses iterative update algorithm to learn a correct set of weigh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31C68-3EFF-4E75-AA4A-11100D0549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Learning Ru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028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weights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“learning ra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teacher specified output for un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output is correct do nothing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output is high, lower weights on active inpu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output is low, increase weights on active inpu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djust threshold to compens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85840" y="1822320"/>
                <a:ext cx="380988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374840" y="5788080"/>
                <a:ext cx="33717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η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9A05E-5F16-4C98-88C3-E8DB834A97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Learning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9185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vely update weights until converg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xecution of the outer loop is typically called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po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6720" y="2060640"/>
            <a:ext cx="826884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weights to random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outputs of all training examples are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raining pair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current outpu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iven its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current output to target valu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synaptic weights and threshold using learning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E7EC3-7DCE-494B-B3CB-ACE85C21BF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as a Linear Separato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850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perceptron uses linear threshold function, it is searching for a linear separator that discriminates the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34920" y="307944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280" y="6005520"/>
            <a:ext cx="408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4960" y="38354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00040" y="41925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52680" y="4738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71440" y="51958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04960" y="3595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1440" y="45100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24080" y="4662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85840" y="4281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4268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19360" y="5195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0080" y="5195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01840" y="57164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24280" y="45864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01840" y="50306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00240" y="54244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86040" y="4510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71880" y="299736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81360" y="30733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8040" y="38354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181160" y="3149280"/>
            <a:ext cx="2666880" cy="259092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064120" y="2998800"/>
                <a:ext cx="31669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62160" y="2890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18200" y="5908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903920" y="3962520"/>
                <a:ext cx="34542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975040" y="3268800"/>
            <a:ext cx="46332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rot="5400000">
            <a:off x="3784680" y="3408840"/>
            <a:ext cx="46332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16200000">
            <a:off x="869400" y="5310720"/>
            <a:ext cx="46368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1609560" y="5424120"/>
            <a:ext cx="46368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55400" y="3571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64360" y="5415120"/>
            <a:ext cx="281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Or 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hyperplane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-dimension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A3A42-F352-4BC2-9E18-FC2FCFE823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ept Perceptron Cannot Lear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learn exclusive-or, or parity function in gen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800440" y="294444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5440" y="5870520"/>
            <a:ext cx="408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046320" y="3014280"/>
            <a:ext cx="2667240" cy="259092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7320" y="275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83360" y="5773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40200" y="3133800"/>
            <a:ext cx="46368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rot="5400000">
            <a:off x="5650200" y="3273840"/>
            <a:ext cx="46332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rot="16200000">
            <a:off x="2736000" y="5175720"/>
            <a:ext cx="463320" cy="18288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3475080" y="5289120"/>
            <a:ext cx="463680" cy="182520"/>
          </a:xfrm>
          <a:custGeom>
            <a:avLst/>
            <a:gdLst/>
            <a:ahLst/>
            <a:rect l="l" t="t" r="r" b="b"/>
            <a:pathLst>
              <a:path w="292" h="115">
                <a:moveTo>
                  <a:pt x="292" y="115"/>
                </a:moveTo>
                <a:cubicBezTo>
                  <a:pt x="266" y="72"/>
                  <a:pt x="241" y="30"/>
                  <a:pt x="192" y="15"/>
                </a:cubicBezTo>
                <a:cubicBezTo>
                  <a:pt x="143" y="0"/>
                  <a:pt x="71" y="11"/>
                  <a:pt x="0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20920" y="3436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07280" y="3241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57520" y="3486240"/>
            <a:ext cx="24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07960" y="325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47640" y="57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55760" y="6067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68520" y="5668920"/>
            <a:ext cx="12600" cy="32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30720" y="3308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43960" y="5403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08360" y="5375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ED32A-271F-4969-B09D-3646FA4960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Limi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obviously cannot learn concepts it cannot repre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ksy and Papert (1969) wrote a book analyzing the perceptron and demonstrating many functions it could not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results discouraged further research on neural nets; and symbolic AI became the dominate paradig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B3D20-509E-4C20-A0D4-DD9F3EAEF7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erceptron Convergence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nd Cycling Theorem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erceptron convergence theor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the data is linearly separable and therefore a set of weights exist that are consistent with the data, then the Perceptron algorithm will eventually converge to a consistent set of weigh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erceptron cycling theor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the data is not linearly separable, the Perceptron algorithm will eventually repeat a set of weights and threshold at the end of some epoch and therefore enter an infinite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y checking for repeated weights+threshold, one can guarantee termination with either a positive or negative resul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119B1-7BEE-49D4-BB98-707DFBAC6A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as Hill Climb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4280" y="1371600"/>
            <a:ext cx="8261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ypothesis space being search is a set of weights and a thresh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is to minimize classification error on the training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ron effectively does hill-climbing (gradient descent) in this space, changing the weights a small amount at each point to decrease training set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single model neuron, the space is well behaved with a single mi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027240" y="4505400"/>
            <a:ext cx="1800" cy="201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894040" y="6443640"/>
            <a:ext cx="40482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39360" y="63784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77680" y="637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24200" y="4689360"/>
            <a:ext cx="116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33800" y="4694400"/>
            <a:ext cx="3863880" cy="1760400"/>
          </a:xfrm>
          <a:custGeom>
            <a:avLst/>
            <a:gdLst/>
            <a:ahLst/>
            <a:rect l="l" t="t" r="r" b="b"/>
            <a:pathLst>
              <a:path w="2434" h="1109">
                <a:moveTo>
                  <a:pt x="0" y="31"/>
                </a:moveTo>
                <a:cubicBezTo>
                  <a:pt x="167" y="40"/>
                  <a:pt x="334" y="49"/>
                  <a:pt x="430" y="92"/>
                </a:cubicBezTo>
                <a:cubicBezTo>
                  <a:pt x="526" y="135"/>
                  <a:pt x="516" y="199"/>
                  <a:pt x="576" y="292"/>
                </a:cubicBezTo>
                <a:cubicBezTo>
                  <a:pt x="636" y="385"/>
                  <a:pt x="706" y="541"/>
                  <a:pt x="791" y="653"/>
                </a:cubicBezTo>
                <a:cubicBezTo>
                  <a:pt x="876" y="765"/>
                  <a:pt x="977" y="892"/>
                  <a:pt x="1083" y="967"/>
                </a:cubicBezTo>
                <a:cubicBezTo>
                  <a:pt x="1189" y="1042"/>
                  <a:pt x="1317" y="1103"/>
                  <a:pt x="1428" y="1106"/>
                </a:cubicBezTo>
                <a:cubicBezTo>
                  <a:pt x="1539" y="1109"/>
                  <a:pt x="1663" y="1044"/>
                  <a:pt x="1751" y="983"/>
                </a:cubicBezTo>
                <a:cubicBezTo>
                  <a:pt x="1839" y="922"/>
                  <a:pt x="1908" y="850"/>
                  <a:pt x="1958" y="737"/>
                </a:cubicBezTo>
                <a:cubicBezTo>
                  <a:pt x="2008" y="624"/>
                  <a:pt x="1971" y="430"/>
                  <a:pt x="2050" y="307"/>
                </a:cubicBezTo>
                <a:cubicBezTo>
                  <a:pt x="2129" y="184"/>
                  <a:pt x="2371" y="51"/>
                  <a:pt x="243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A2389-C936-40F3-A444-F3CF18862E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ceptron Performa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threshold functions are restrictive (high bias) but still reasonably expressive; more general th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ure conjunctiv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ure disjunctiv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-of-N  (at least M of a specified set of N features must be present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converges fairly quickly for linearly separabl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effectively use even incompletely converged results when only a few outliers are misclass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ly, Perceptron does quite well on many benchmark data s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742F5-80F0-41C1-87EB-4CD62C7DD1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ulti-Layer Networ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layer networks can represent arbitrary functions, but an effective learning algorithm for such networks was thought to be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multi-layer network consists of an input, hidden and output layer, each fully connected to the next, with activation feeding for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eights determine the function computed. Given an arbitrary number of hidden units, any boolean function can be computed with a single hidden l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317760" y="3368520"/>
            <a:ext cx="2349720" cy="1423080"/>
            <a:chOff x="3317760" y="3368520"/>
            <a:chExt cx="2349720" cy="1423080"/>
          </a:xfrm>
        </p:grpSpPr>
        <p:sp>
          <p:nvSpPr>
            <p:cNvPr id="186" name=""/>
            <p:cNvSpPr/>
            <p:nvPr/>
          </p:nvSpPr>
          <p:spPr>
            <a:xfrm>
              <a:off x="4436640" y="3368520"/>
              <a:ext cx="83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55800" y="388620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dd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62600" y="43927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352680" y="4121280"/>
              <a:ext cx="146160" cy="52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11440" y="4133880"/>
              <a:ext cx="19548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11440" y="4146480"/>
              <a:ext cx="50004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11440" y="4157640"/>
              <a:ext cx="865440" cy="4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11440" y="4157640"/>
              <a:ext cx="121932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352680" y="4133880"/>
              <a:ext cx="59688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693960" y="4121280"/>
              <a:ext cx="26856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62520" y="4108320"/>
              <a:ext cx="60120" cy="51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75120" y="4121280"/>
              <a:ext cx="41436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75120" y="4157640"/>
              <a:ext cx="7430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365640" y="4133880"/>
              <a:ext cx="102384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693600" y="4133880"/>
              <a:ext cx="68292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035600" y="4146480"/>
              <a:ext cx="366480" cy="47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352400" y="4108320"/>
              <a:ext cx="73080" cy="51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13240" y="4121280"/>
              <a:ext cx="28116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511440" y="3621240"/>
              <a:ext cx="25560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80000" y="3621240"/>
              <a:ext cx="18252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67040" y="3621240"/>
              <a:ext cx="646200" cy="47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511080" y="3633840"/>
              <a:ext cx="669960" cy="4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949560" y="3633840"/>
              <a:ext cx="231840" cy="4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94000" y="3646440"/>
              <a:ext cx="20808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17760" y="4591080"/>
              <a:ext cx="109800" cy="1220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54360" y="4584600"/>
              <a:ext cx="10944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90960" y="4578480"/>
              <a:ext cx="109440" cy="1220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27560" y="4572000"/>
              <a:ext cx="10944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64160" y="4565520"/>
              <a:ext cx="10944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65360" y="4060800"/>
              <a:ext cx="10980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11760" y="4060800"/>
              <a:ext cx="10944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57800" y="4060800"/>
              <a:ext cx="109440" cy="1224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19520" y="3567240"/>
              <a:ext cx="109440" cy="1220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52960" y="3567240"/>
              <a:ext cx="109440" cy="1220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933520" y="386712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91320" y="3462480"/>
            <a:ext cx="255600" cy="1218960"/>
          </a:xfrm>
          <a:prstGeom prst="upArrow">
            <a:avLst>
              <a:gd name="adj1" fmla="val 50000"/>
              <a:gd name="adj2" fmla="val 119225"/>
            </a:avLst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9CB8A-41F3-4339-9569-F848E063B6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Network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y to biological neural systems, the most robust learning systems we k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 to understand natural biological systems through computational mode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ive parallelism allows for computational effici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understand “distributed” nature of neural representations (rather than “localist” representation) that allow robustness and graceful degrad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ligent behavior as an “emergent” property of large number of simple units rather than from explicitly encoded symbolic rules and algorith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02F8B-15D8-4211-A066-298DE1568B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ll-Climbing in Multi-Layer Ne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“greed is good” perhaps hill-climbing can be used to learn multi-layer networks in practice although its theoretical limits are cl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o do gradient descent, we need the output of a unit to be a differentiable function of its input and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linear threshold function is not differentiable at the thresh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219480" y="4218120"/>
            <a:ext cx="0" cy="15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19480" y="5778360"/>
            <a:ext cx="2803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69040" y="5780160"/>
            <a:ext cx="5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880" y="4154400"/>
            <a:ext cx="34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56720" y="576900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35640" y="565632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35000" y="5586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27080" y="4678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110040" y="4876560"/>
            <a:ext cx="2682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219480" y="5765400"/>
            <a:ext cx="1305000" cy="12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524480" y="485136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06840" y="4821120"/>
            <a:ext cx="1305000" cy="1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E04A7-F28D-48C3-A247-094FD6DF74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fferentiable Output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non-linear output function to move beyond linear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 multi-layer linear network is still linear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solution is to use the non-linear, differentiable sigmoidal “logistic”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005440" y="3540240"/>
            <a:ext cx="0" cy="15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05440" y="5100480"/>
            <a:ext cx="2803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55000" y="5102280"/>
            <a:ext cx="5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42680" y="509112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21600" y="497844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20960" y="4908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13040" y="4000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96000" y="4198680"/>
            <a:ext cx="2682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11560" y="4619520"/>
            <a:ext cx="1330560" cy="525600"/>
          </a:xfrm>
          <a:custGeom>
            <a:avLst/>
            <a:gdLst/>
            <a:ahLst/>
            <a:rect l="l" t="t" r="r" b="b"/>
            <a:pathLst>
              <a:path w="838" h="446">
                <a:moveTo>
                  <a:pt x="0" y="415"/>
                </a:moveTo>
                <a:cubicBezTo>
                  <a:pt x="280" y="430"/>
                  <a:pt x="560" y="446"/>
                  <a:pt x="699" y="377"/>
                </a:cubicBezTo>
                <a:cubicBezTo>
                  <a:pt x="838" y="308"/>
                  <a:pt x="837" y="154"/>
                  <a:pt x="83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6335640" y="4114800"/>
            <a:ext cx="1330560" cy="525600"/>
          </a:xfrm>
          <a:custGeom>
            <a:avLst/>
            <a:gdLst/>
            <a:ahLst/>
            <a:rect l="l" t="t" r="r" b="b"/>
            <a:pathLst>
              <a:path w="838" h="446">
                <a:moveTo>
                  <a:pt x="0" y="415"/>
                </a:moveTo>
                <a:cubicBezTo>
                  <a:pt x="280" y="430"/>
                  <a:pt x="560" y="446"/>
                  <a:pt x="699" y="377"/>
                </a:cubicBezTo>
                <a:cubicBezTo>
                  <a:pt x="838" y="308"/>
                  <a:pt x="837" y="154"/>
                  <a:pt x="83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057320" y="3809880"/>
                <a:ext cx="288612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e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1716840" y="5842080"/>
            <a:ext cx="58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an also use tanh or Gaussian outpu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A671F-AAC8-4087-8500-4AD5861782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dient Desc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9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bjective to minimize err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training exampl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output unit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, respectively, the teacher and current output for un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xamp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rivative of a sigmoid unit with respect to net input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rule to change weights to minimize error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997360" y="1838160"/>
                <a:ext cx="3375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d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d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d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384720" y="4251240"/>
                <a:ext cx="21794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273480" y="5672160"/>
                <a:ext cx="18781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η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5882-0256-461E-8B82-C55A49BEBC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ckpropagation Learning Ru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weight chang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onstant called the learning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correct teacher output for un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error measure for un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471680" y="1909800"/>
                <a:ext cx="21096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η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441440" y="2622600"/>
                <a:ext cx="69166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if 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is an output uni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390680" y="3157560"/>
                <a:ext cx="68277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  if 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is a hidden uni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BA491-B610-42C5-8852-FE796D9730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H="1">
            <a:off x="3425400" y="3165480"/>
            <a:ext cx="49860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443400" y="3171960"/>
            <a:ext cx="498240" cy="103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rror Backpropag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calculate error of output units and use this to change the top layer of weigh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92200" y="28814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92520" y="39844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57360" y="506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117600" y="4205160"/>
            <a:ext cx="284040" cy="10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5760" y="4232160"/>
            <a:ext cx="37944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5760" y="4259160"/>
            <a:ext cx="973080" cy="9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5760" y="4281480"/>
            <a:ext cx="1682640" cy="10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5760" y="4281480"/>
            <a:ext cx="237348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117960" y="4232160"/>
            <a:ext cx="11620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781080" y="4205160"/>
            <a:ext cx="5223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03800" y="4179960"/>
            <a:ext cx="117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27560" y="4205160"/>
            <a:ext cx="807840" cy="10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27560" y="4281480"/>
            <a:ext cx="144612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141720" y="4232160"/>
            <a:ext cx="19936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781440" y="4232160"/>
            <a:ext cx="13269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444560" y="4259160"/>
            <a:ext cx="714600" cy="9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062680" y="4179960"/>
            <a:ext cx="1425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4205160"/>
            <a:ext cx="546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48120" y="3165480"/>
            <a:ext cx="35568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24360" y="3165480"/>
            <a:ext cx="1257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425400" y="3191040"/>
            <a:ext cx="1303560" cy="10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280040" y="3191040"/>
            <a:ext cx="449280" cy="9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54520" y="3216240"/>
            <a:ext cx="4050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560" y="518328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03680" y="5172120"/>
            <a:ext cx="214200" cy="2538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59240" y="515772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13360" y="51451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67480" y="51307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36840" y="407988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30760" y="305100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73520" y="3051000"/>
            <a:ext cx="2145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35280" y="2282760"/>
            <a:ext cx="27777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output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 output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–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(1–0.2)(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)=0.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36880" y="3056040"/>
            <a:ext cx="212760" cy="253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78360" y="3208320"/>
            <a:ext cx="355680" cy="103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0372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7200" y="3184560"/>
            <a:ext cx="1257120" cy="992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7204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696600" y="3697200"/>
            <a:ext cx="2367720" cy="857160"/>
            <a:chOff x="696600" y="3697200"/>
            <a:chExt cx="2367720" cy="857160"/>
          </a:xfrm>
        </p:grpSpPr>
        <p:sp>
          <p:nvSpPr>
            <p:cNvPr id="302" name=""/>
            <p:cNvSpPr/>
            <p:nvPr/>
          </p:nvSpPr>
          <p:spPr>
            <a:xfrm>
              <a:off x="696600" y="3697200"/>
              <a:ext cx="23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pdate weights in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1130400" y="4056120"/>
                  <a:ext cx="163188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ηδ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36BD-E0AE-40A7-8CBF-B918DFAD7A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 flipH="1">
            <a:off x="3425400" y="3165480"/>
            <a:ext cx="49860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rror Backpropag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calculate error for hidden units based on errors on the output units it feeds i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92200" y="28814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92520" y="39844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57360" y="506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117600" y="4205160"/>
            <a:ext cx="284040" cy="10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5760" y="4232160"/>
            <a:ext cx="37944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5760" y="4259160"/>
            <a:ext cx="973080" cy="9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5760" y="4281480"/>
            <a:ext cx="1682640" cy="10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25760" y="4281480"/>
            <a:ext cx="237348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117960" y="4232160"/>
            <a:ext cx="11620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781080" y="4205160"/>
            <a:ext cx="5223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03800" y="4179960"/>
            <a:ext cx="117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27560" y="4205160"/>
            <a:ext cx="807840" cy="10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27560" y="4281480"/>
            <a:ext cx="144612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141720" y="4232160"/>
            <a:ext cx="19936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781440" y="4232160"/>
            <a:ext cx="13269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444560" y="4259160"/>
            <a:ext cx="714600" cy="9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062680" y="4179960"/>
            <a:ext cx="1425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81480" y="4205160"/>
            <a:ext cx="546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48120" y="3165480"/>
            <a:ext cx="35568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24360" y="3165480"/>
            <a:ext cx="1257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425400" y="3191040"/>
            <a:ext cx="1303560" cy="10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4280040" y="3191040"/>
            <a:ext cx="449280" cy="9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54520" y="3216240"/>
            <a:ext cx="4050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560" y="518328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03680" y="5172120"/>
            <a:ext cx="214200" cy="2538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59240" y="515772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13360" y="51451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67480" y="51307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36840" y="407988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36840" y="4067280"/>
            <a:ext cx="212760" cy="253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0372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7204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24040" y="3745080"/>
            <a:ext cx="18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22360" y="374652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 flipH="1">
            <a:off x="3419640" y="3186000"/>
            <a:ext cx="498240" cy="104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481560" y="3173400"/>
            <a:ext cx="1303200" cy="1014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73520" y="3051000"/>
            <a:ext cx="2145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30760" y="305100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28960" y="3060720"/>
            <a:ext cx="21276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62360" y="3054240"/>
            <a:ext cx="21276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0CA73-4566-42D1-B7DF-294C75C6A2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 flipH="1">
            <a:off x="3425400" y="3165480"/>
            <a:ext cx="49860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rror Backpropag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update bottom layer of weights based on errors calculated for hidden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92200" y="28814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92520" y="39844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57360" y="506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117600" y="4205160"/>
            <a:ext cx="284040" cy="10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25760" y="4232160"/>
            <a:ext cx="37944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25760" y="4259160"/>
            <a:ext cx="973080" cy="9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25760" y="4281480"/>
            <a:ext cx="1682640" cy="10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25760" y="4281480"/>
            <a:ext cx="237348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117960" y="4232160"/>
            <a:ext cx="11620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781080" y="4205160"/>
            <a:ext cx="5223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03800" y="4179960"/>
            <a:ext cx="117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27560" y="4205160"/>
            <a:ext cx="807840" cy="10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27560" y="4281480"/>
            <a:ext cx="144612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141720" y="4232160"/>
            <a:ext cx="19936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781440" y="4232160"/>
            <a:ext cx="132696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444560" y="4259160"/>
            <a:ext cx="714600" cy="9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062680" y="4179960"/>
            <a:ext cx="1425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81480" y="4205160"/>
            <a:ext cx="546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48120" y="3165480"/>
            <a:ext cx="35568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24360" y="3165480"/>
            <a:ext cx="125712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3425400" y="3191040"/>
            <a:ext cx="1303560" cy="10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4280040" y="3191040"/>
            <a:ext cx="449280" cy="9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754520" y="3216240"/>
            <a:ext cx="4050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36840" y="407988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36840" y="4067280"/>
            <a:ext cx="212760" cy="253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372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72040" y="4079880"/>
            <a:ext cx="21420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4040" y="3745080"/>
            <a:ext cx="18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44400" y="356400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4673520" y="3051000"/>
            <a:ext cx="2145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30760" y="305100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124080" y="4211640"/>
            <a:ext cx="284400" cy="1090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19640" y="4264200"/>
            <a:ext cx="379080" cy="1041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560" y="518328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03680" y="5172120"/>
            <a:ext cx="214200" cy="2538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479760" y="4313160"/>
            <a:ext cx="9730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68600" y="4299120"/>
            <a:ext cx="1683000" cy="1014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68600" y="4311720"/>
            <a:ext cx="2373480" cy="93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67480" y="51307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13360" y="5145120"/>
            <a:ext cx="214200" cy="255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359240" y="5157720"/>
            <a:ext cx="212760" cy="2541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891720" y="4186080"/>
            <a:ext cx="2367720" cy="857160"/>
            <a:chOff x="891720" y="4186080"/>
            <a:chExt cx="2367720" cy="857160"/>
          </a:xfrm>
        </p:grpSpPr>
        <p:sp>
          <p:nvSpPr>
            <p:cNvPr id="392" name=""/>
            <p:cNvSpPr/>
            <p:nvPr/>
          </p:nvSpPr>
          <p:spPr>
            <a:xfrm>
              <a:off x="891720" y="4186080"/>
              <a:ext cx="23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pdate weights in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1325520" y="4545000"/>
                  <a:ext cx="163188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ηδ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E669D-AE96-4926-96B2-26F72AF5A39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ckpropagation Training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15256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he 3-layer network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dden units with full conne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layers. Set weights to small random real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training examples produce the correct value (withi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squared error ceases to decrease, or other termination 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ep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raining examp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network output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input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error between current output and correct output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weights by backpropagating error and using learning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ep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1D2D1-1717-4DE3-A514-1A24758AA6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ments on Training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guaranteed to converge to zero training error, may converge to local optima or oscillate indefinit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in practice, does converge to low error for many large networks on real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pochs (thousands) may be required, hours or days of training for large net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void local-minima problems, run several trials starting with different random weight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andom rest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ake results of trial with lowest training set error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uild a committee of results from multiple trials (possibly weighting votes by training set accuracy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0B75E-8762-4DD9-96B2-523FE4E7F8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presentational Powe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oolean fun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y boolean function can be represented by a two-layer network with sufficient hidden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inuous fun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y bounded continuous function can be approximated with arbitrarily small error by a two-layer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gmoid functions can act as a set of basis functions for composing more complex functions, like sine waves in Fourier analysi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bitrary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y function can be approximated to arbitrary accuracy by a three-layer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8FC30-4A63-4A01-A881-2914309DB1D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Speed Constrai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ns have a “switching time” on the order of a few milliseconds, compared to nanoseconds for current computing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neural systems can perform complex cognitive tasks (vision, speech understanding) in tenths of a sec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ime for performing 100 serial steps in this time frame, compared to orders of magnitude more for current compu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exploiting “massive parallelism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brain has about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urons with an average of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s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10E50-CC9C-404C-8051-E47CCB787F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Learned XOR Networ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9880" y="2552760"/>
            <a:ext cx="328680" cy="30492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7120" y="2558880"/>
            <a:ext cx="328680" cy="30492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9880" y="3309840"/>
            <a:ext cx="328680" cy="30492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1240" y="3303720"/>
            <a:ext cx="328320" cy="30456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047840" y="2048040"/>
            <a:ext cx="352440" cy="51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2048040"/>
            <a:ext cx="341280" cy="51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4053960" y="2822400"/>
            <a:ext cx="755640" cy="54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75120" y="2841480"/>
            <a:ext cx="12600" cy="4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68640" y="2836800"/>
            <a:ext cx="878040" cy="50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32360" y="2847960"/>
            <a:ext cx="12600" cy="4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95400" y="168264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55600" y="211608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66680" y="210996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79840" y="2400480"/>
            <a:ext cx="18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321080" y="1785960"/>
            <a:ext cx="328680" cy="30492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75920" y="25002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01720" y="2955960"/>
            <a:ext cx="50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31640" y="266868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520" y="296712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69800" y="315756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27120" y="251136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2320" y="2513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07360" y="32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75400" y="3279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51280" y="250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89040" y="4129200"/>
            <a:ext cx="559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 Unit A represents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 Unit B represents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O represents: 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313520" y="1730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949D4-9A1D-42A3-91E6-F718FFEB96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dden Unit Represent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ed hidden units can be seen as newly constructed features that make the target concept linearly separable in the transformed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many real domains, hidden units can be interpreted as representing meaningful features such as vowel detectors or edge detectors, etc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 hidden layer can also become a distributed representation of the input in which each individual unit is not easily interpretable as a meaningful fe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3E914-B369-4327-92F4-BDD8188EDF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ver-Training Preven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too many epochs can result in over-fi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a hold-out validation set and test accuracy on it after every epoch. Stop training when additional epochs actually increase validation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losing training data for valid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se internal 10-fold CV on the training set to compute the average number of epochs that maximizes generalization accuracy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in final network on complete training set for this many epoch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33640" y="1793880"/>
            <a:ext cx="0" cy="1682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22480" y="3476520"/>
            <a:ext cx="4241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1451520" y="21340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81920" y="30877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n train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53480" y="24494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n tes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71200" y="3379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04640" y="344160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training epoc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22480" y="2011320"/>
            <a:ext cx="4133880" cy="1451160"/>
          </a:xfrm>
          <a:custGeom>
            <a:avLst/>
            <a:gdLst/>
            <a:ahLst/>
            <a:rect l="l" t="t" r="r" b="b"/>
            <a:pathLst>
              <a:path w="2604" h="914">
                <a:moveTo>
                  <a:pt x="0" y="0"/>
                </a:moveTo>
                <a:cubicBezTo>
                  <a:pt x="8" y="85"/>
                  <a:pt x="16" y="170"/>
                  <a:pt x="70" y="262"/>
                </a:cubicBezTo>
                <a:cubicBezTo>
                  <a:pt x="124" y="354"/>
                  <a:pt x="214" y="467"/>
                  <a:pt x="323" y="553"/>
                </a:cubicBezTo>
                <a:cubicBezTo>
                  <a:pt x="432" y="639"/>
                  <a:pt x="533" y="724"/>
                  <a:pt x="722" y="776"/>
                </a:cubicBezTo>
                <a:cubicBezTo>
                  <a:pt x="911" y="828"/>
                  <a:pt x="1212" y="850"/>
                  <a:pt x="1460" y="868"/>
                </a:cubicBezTo>
                <a:cubicBezTo>
                  <a:pt x="1708" y="886"/>
                  <a:pt x="2021" y="876"/>
                  <a:pt x="2212" y="884"/>
                </a:cubicBezTo>
                <a:cubicBezTo>
                  <a:pt x="2403" y="892"/>
                  <a:pt x="2543" y="914"/>
                  <a:pt x="2604" y="914"/>
                </a:cubicBezTo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22480" y="2011320"/>
            <a:ext cx="4060800" cy="1182600"/>
          </a:xfrm>
          <a:custGeom>
            <a:avLst/>
            <a:gdLst/>
            <a:ahLst/>
            <a:rect l="l" t="t" r="r" b="b"/>
            <a:pathLst>
              <a:path w="2558" h="745">
                <a:moveTo>
                  <a:pt x="0" y="0"/>
                </a:moveTo>
                <a:cubicBezTo>
                  <a:pt x="33" y="99"/>
                  <a:pt x="66" y="199"/>
                  <a:pt x="139" y="277"/>
                </a:cubicBezTo>
                <a:cubicBezTo>
                  <a:pt x="212" y="355"/>
                  <a:pt x="288" y="399"/>
                  <a:pt x="438" y="469"/>
                </a:cubicBezTo>
                <a:cubicBezTo>
                  <a:pt x="588" y="539"/>
                  <a:pt x="869" y="655"/>
                  <a:pt x="1037" y="699"/>
                </a:cubicBezTo>
                <a:cubicBezTo>
                  <a:pt x="1205" y="743"/>
                  <a:pt x="1275" y="745"/>
                  <a:pt x="1444" y="730"/>
                </a:cubicBezTo>
                <a:cubicBezTo>
                  <a:pt x="1613" y="715"/>
                  <a:pt x="1903" y="648"/>
                  <a:pt x="2051" y="607"/>
                </a:cubicBezTo>
                <a:cubicBezTo>
                  <a:pt x="2199" y="566"/>
                  <a:pt x="2251" y="516"/>
                  <a:pt x="2335" y="484"/>
                </a:cubicBezTo>
                <a:cubicBezTo>
                  <a:pt x="2419" y="452"/>
                  <a:pt x="2525" y="430"/>
                  <a:pt x="2558" y="41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34FF2-70A0-4ACD-B09B-236BEF5F20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Determining the Best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Number of Hidden Unit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few hidden units prevents the network from adequately fitting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any hidden units can result in over-fi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ternal cross-validation to empirically determine an optimal number of hidden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06720" y="2770200"/>
            <a:ext cx="0" cy="1682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95560" y="4452840"/>
            <a:ext cx="4241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1524240" y="311040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55000" y="406404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n train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26560" y="342576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n tes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44280" y="4356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330720" y="441792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hidden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95560" y="2987640"/>
            <a:ext cx="4133880" cy="1451160"/>
          </a:xfrm>
          <a:custGeom>
            <a:avLst/>
            <a:gdLst/>
            <a:ahLst/>
            <a:rect l="l" t="t" r="r" b="b"/>
            <a:pathLst>
              <a:path w="2604" h="914">
                <a:moveTo>
                  <a:pt x="0" y="0"/>
                </a:moveTo>
                <a:cubicBezTo>
                  <a:pt x="8" y="85"/>
                  <a:pt x="16" y="170"/>
                  <a:pt x="70" y="262"/>
                </a:cubicBezTo>
                <a:cubicBezTo>
                  <a:pt x="124" y="354"/>
                  <a:pt x="214" y="467"/>
                  <a:pt x="323" y="553"/>
                </a:cubicBezTo>
                <a:cubicBezTo>
                  <a:pt x="432" y="639"/>
                  <a:pt x="533" y="724"/>
                  <a:pt x="722" y="776"/>
                </a:cubicBezTo>
                <a:cubicBezTo>
                  <a:pt x="911" y="828"/>
                  <a:pt x="1212" y="850"/>
                  <a:pt x="1460" y="868"/>
                </a:cubicBezTo>
                <a:cubicBezTo>
                  <a:pt x="1708" y="886"/>
                  <a:pt x="2021" y="876"/>
                  <a:pt x="2212" y="884"/>
                </a:cubicBezTo>
                <a:cubicBezTo>
                  <a:pt x="2403" y="892"/>
                  <a:pt x="2543" y="914"/>
                  <a:pt x="2604" y="914"/>
                </a:cubicBezTo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95560" y="2987640"/>
            <a:ext cx="4060800" cy="1182600"/>
          </a:xfrm>
          <a:custGeom>
            <a:avLst/>
            <a:gdLst/>
            <a:ahLst/>
            <a:rect l="l" t="t" r="r" b="b"/>
            <a:pathLst>
              <a:path w="2558" h="745">
                <a:moveTo>
                  <a:pt x="0" y="0"/>
                </a:moveTo>
                <a:cubicBezTo>
                  <a:pt x="33" y="99"/>
                  <a:pt x="66" y="199"/>
                  <a:pt x="139" y="277"/>
                </a:cubicBezTo>
                <a:cubicBezTo>
                  <a:pt x="212" y="355"/>
                  <a:pt x="288" y="399"/>
                  <a:pt x="438" y="469"/>
                </a:cubicBezTo>
                <a:cubicBezTo>
                  <a:pt x="588" y="539"/>
                  <a:pt x="869" y="655"/>
                  <a:pt x="1037" y="699"/>
                </a:cubicBezTo>
                <a:cubicBezTo>
                  <a:pt x="1205" y="743"/>
                  <a:pt x="1275" y="745"/>
                  <a:pt x="1444" y="730"/>
                </a:cubicBezTo>
                <a:cubicBezTo>
                  <a:pt x="1613" y="715"/>
                  <a:pt x="1903" y="648"/>
                  <a:pt x="2051" y="607"/>
                </a:cubicBezTo>
                <a:cubicBezTo>
                  <a:pt x="2199" y="566"/>
                  <a:pt x="2251" y="516"/>
                  <a:pt x="2335" y="484"/>
                </a:cubicBezTo>
                <a:cubicBezTo>
                  <a:pt x="2419" y="452"/>
                  <a:pt x="2525" y="430"/>
                  <a:pt x="2558" y="41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2474-2185-40CF-8330-7D359644355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uccessful Applic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to Speech (NetTal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ud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NC (eventually bought by Fair Isaac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 Plant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villion Technolog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ed Veh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me Pl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urogamm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writing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52F6-9FEF-45CE-B8D9-1E7E3D3CB2C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in Neural Ne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efficient training 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uickprop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jugate gradient (exploits 2</a:t>
            </a: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derivative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proper network archite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row network until able to fit dat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ascade Correlation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Upstart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hrink large network until unable to fit dat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Optimal Brain Damage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networks that use feedback and can learn finite state machines with “backpropagation through ti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1E8AC-DB7E-4528-99AF-853F4A7D9BE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in Neural Nets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biologically plausible learning algorithms based on Hebbian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upervise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lf-Organizing Feature Maps (SOMs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forcement Lear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requently used as function approximators for learning value functions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624A6-38A2-4E8D-98AF-B63F8CE2F7F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Network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approach based on modeling adaptation in biological neural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erceptr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itial algorithm for learning simple neural networks (single layer) developed in the 1950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propag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More complex algorithm for learning multi-layer neural networks developed in the 1980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DB80-E84B-4ECE-9B27-A155178D83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al Neur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ell bod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ndrit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x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ynaptic terminal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35520" y="1409760"/>
            <a:ext cx="3763800" cy="5049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51280" y="2193840"/>
            <a:ext cx="3035160" cy="231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4560" y="2730600"/>
            <a:ext cx="2170080" cy="293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340160" y="2646000"/>
            <a:ext cx="878040" cy="268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01920" y="3292560"/>
            <a:ext cx="5522760" cy="156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4000" y="3852720"/>
            <a:ext cx="1024200" cy="743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50E5E-8817-4CC4-82DA-26824066BF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Commun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1000" y="1371600"/>
            <a:ext cx="80168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potential across cell membrane exhibits spikes called action potent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ke originates in cell body, travels d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on, and causes synaptic terminal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neurotransmi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diffuses across synaps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drites of other neu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otransmitters can be excititory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ibi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et input of neurotransmitters to a neuron from other neurons is excititory and exceeds some threshold, it fires an action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03800" y="1922400"/>
            <a:ext cx="285768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9D0B4-7235-458C-A8E6-D29A3EBE27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al Neural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apses change size and strength with exper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ebbian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en two connected neurons are firing at the same time, the strength of the synapse between them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ns that fire together, wire togeth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1839-D6A7-493D-AFED-2C3E9D0E6B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rtificial Neuron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328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network as a graph with cells as nodes and synaptic connections as weighted edges from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net input to cel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output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837400" y="2147760"/>
            <a:ext cx="2192040" cy="1770120"/>
            <a:chOff x="5837400" y="2147760"/>
            <a:chExt cx="2192040" cy="1770120"/>
          </a:xfrm>
        </p:grpSpPr>
        <p:sp>
          <p:nvSpPr>
            <p:cNvPr id="66" name=""/>
            <p:cNvSpPr/>
            <p:nvPr/>
          </p:nvSpPr>
          <p:spPr>
            <a:xfrm>
              <a:off x="6827760" y="2511360"/>
              <a:ext cx="121680" cy="1346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30640" y="3382560"/>
              <a:ext cx="12204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11600" y="3382560"/>
              <a:ext cx="12204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94360" y="3382560"/>
              <a:ext cx="12168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75320" y="3382560"/>
              <a:ext cx="12204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858080" y="3382560"/>
              <a:ext cx="121680" cy="1350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89600" y="2147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3240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9432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1336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34240" y="3549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998680" y="2620800"/>
              <a:ext cx="828360" cy="757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473160" y="2609640"/>
              <a:ext cx="377640" cy="7920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597040"/>
              <a:ext cx="61560" cy="804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24600" y="2573280"/>
              <a:ext cx="488520" cy="85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26040" y="2523960"/>
              <a:ext cx="950760" cy="8888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73040" y="275580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19080" y="306828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63680" y="303660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01640" y="288432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5560" y="2755800"/>
              <a:ext cx="46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244520" y="3143160"/>
                <a:ext cx="2092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1188720" y="5599080"/>
            <a:ext cx="321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reshold for un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38360" y="4545000"/>
                <a:ext cx="20746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t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≥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flipV="1">
            <a:off x="5376960" y="4389120"/>
            <a:ext cx="0" cy="1560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76960" y="5950080"/>
            <a:ext cx="2803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6520" y="5951520"/>
            <a:ext cx="5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77000" y="4325760"/>
            <a:ext cx="34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14200" y="594036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92760" y="582768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92480" y="5757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84560" y="4849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267160" y="5047920"/>
            <a:ext cx="2685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76960" y="5937120"/>
            <a:ext cx="1305000" cy="1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681960" y="50227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664320" y="4992480"/>
            <a:ext cx="1305000" cy="12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60EE-A803-4E0A-B493-8351BE7640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ural Comput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91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Collough and Pitts (1943) showed how such model neurons could compute logical functions and be used to construct finite-state mach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to simulate logic g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D: Let all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ji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n,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here n is the number of input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R: Let all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ji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NOT: Let threshold be 0, single input with a negative weight.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uild arbitrary logic circuits, sequential machines, and computers with such 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negated inputs, two layer network can compute any boolean function using a two level AND-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D22C6-4680-40C0-80D5-51EE69EBD5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 </cp:lastModifiedBy>
  <dcterms:modified xsi:type="dcterms:W3CDTF">2006-10-23T21:34:51Z</dcterms:modified>
  <cp:revision>255</cp:revision>
  <dc:subject/>
  <dc:title>Intelligent Information Retrieval and Web Search</dc:title>
</cp:coreProperties>
</file>