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91186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508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508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508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508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508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508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109E-A4D3-46D9-BD52-EFE239DD9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25AA-A2BA-4E3F-86B0-5EC65C07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ED13-00F6-41B7-8240-2072B02B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26EE-B030-47C7-AB52-46B7E849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58E7-65FA-45CA-AF5B-071F618A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FBC4-FBC7-42C7-905E-8D986C0E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508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315D-3305-4016-86DC-36414B7F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1508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0DE6-A89B-4244-9E7D-10DBECB6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508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BD7A-B646-4352-9A68-924AD8EE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1508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F075-E6B4-473B-BEF3-49DFF2AF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1508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1508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C040-4B8A-42CE-A4C4-FA4354124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1508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1508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1508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95E1-5283-42E4-9168-CBF04FAD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508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508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508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6320" y="152280"/>
            <a:ext cx="8991360" cy="65563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077320" y="6526080"/>
            <a:ext cx="304560" cy="33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AAE6-8A25-4FDA-9CB3-87DC204D54B3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6499080"/>
            <a:ext cx="213336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University of Texas at Aust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477120" y="76320"/>
            <a:ext cx="18288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Machine Learning Grou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6320" y="152280"/>
            <a:ext cx="8991360" cy="6556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65530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5540-C327-4DBA-9898-27852878C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6499080"/>
            <a:ext cx="213336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University of Texas at Aust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77120" y="76320"/>
            <a:ext cx="18288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Machine Learning Grou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2286000"/>
            <a:ext cx="746784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209680"/>
            <a:ext cx="777060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2971800"/>
            <a:ext cx="6475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114800" y="5195880"/>
            <a:ext cx="985680" cy="976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819520" y="3962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Machine Learn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42670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Department of Computer Sci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19520" y="457200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University of Texas at Aust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upport Vector Machin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ft Margin Classification 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f the training set is not linearly separab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lack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ξ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added to allow misclassification of difficult or noisy examples, resulting margin call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of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2530440" y="2787480"/>
            <a:ext cx="0" cy="304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395440" y="5713560"/>
            <a:ext cx="4081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570120" y="3543480"/>
            <a:ext cx="88920" cy="8856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995560" y="390060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47840" y="44467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66960" y="49039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300480" y="33037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766960" y="42181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919240" y="437040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681360" y="39895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83160" y="39765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14880" y="49039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05240" y="49039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97360" y="54244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19440" y="42940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51360" y="478800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95760" y="51325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81560" y="42181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67040" y="270504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376880" y="27813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43560" y="3543480"/>
            <a:ext cx="88920" cy="8856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55840" y="39877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976480" y="4694400"/>
            <a:ext cx="88920" cy="8856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165640" y="37735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995560" y="2704680"/>
            <a:ext cx="2143080" cy="288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4330440" y="3809880"/>
            <a:ext cx="253800" cy="184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06840" y="3924360"/>
            <a:ext cx="228600" cy="218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79720" y="4719600"/>
            <a:ext cx="228600" cy="21924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13320" y="3906720"/>
            <a:ext cx="228600" cy="2192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3706560" y="4624200"/>
            <a:ext cx="244440" cy="17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3758760" y="4061880"/>
            <a:ext cx="235080" cy="17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433680" y="2885760"/>
            <a:ext cx="2009880" cy="2693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786040" y="2523600"/>
            <a:ext cx="2067120" cy="2770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4325760" y="3208320"/>
            <a:ext cx="841680" cy="58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336840" y="4064040"/>
            <a:ext cx="809640" cy="577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789440" y="3603600"/>
            <a:ext cx="704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ξ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57640" y="4067280"/>
            <a:ext cx="704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ξ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92560" y="3708360"/>
            <a:ext cx="228600" cy="219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184560" y="3916440"/>
            <a:ext cx="228600" cy="21888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ft Margin Classification Mathematically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ld formul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d formulation incorporates slack variab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 be viewed as a way to control overfitting:  it “trades off” the relative importance of maximizing the margin and fitting the training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085760" y="1927080"/>
            <a:ext cx="6438960" cy="10504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b such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is minimiz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for all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.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085760" y="3890880"/>
            <a:ext cx="6438960" cy="119376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b such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ξ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minimiz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for all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.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ξ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,   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ξ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ft Margin Classification – Soluti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al problem is identical to separable case (woul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identical if the 2-norm penalty for slack variabl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ξ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as used in primal objective, we would need additional Lagrange multipliers for slack variables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ain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non-zero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be support vect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 to the dual problem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23920" y="2622600"/>
            <a:ext cx="6438960" cy="158220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Σ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maximized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 0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44600" y="5235480"/>
            <a:ext cx="4816440" cy="98280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= 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-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ξ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an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.t.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715000" y="5810400"/>
            <a:ext cx="2343240" cy="49140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591160" y="4772160"/>
            <a:ext cx="332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ain, we don’t need to comput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plicitly for classific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oretical Justification for Maximum Margin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6656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pnik has proved the follow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class of optimal linear separators has VC dimension h bounded from above 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margin, D is the diameter of the smallest sphere that can enclose all of the training examples, and 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dimensiona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uitively, this implies that regardless of dimensional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 minimize the VC dimension by maximizing the margin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s, complexity of the classifier is kept small regardless of dimensiona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3146400" y="2251080"/>
                <a:ext cx="224964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,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near SVMs:  Overview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656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lassifier is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parating hyperpla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“important” training points are support vectors; they define the hyperpla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dratic optimization algorithms can identify which training poin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support vectors with non-zero Lagrangian multipliers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in the dual formulation of the problem and in the solution training points appear only inside inner product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00280" y="5143680"/>
            <a:ext cx="4152600" cy="125244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Σ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s maximized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 0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905200" y="5457960"/>
            <a:ext cx="419040" cy="323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72280" y="5105520"/>
            <a:ext cx="2342880" cy="49140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638760" y="5219640"/>
            <a:ext cx="438480" cy="32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on-linear SVM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s that are linearly separable with some noise work out gr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what are we going to do if the dataset is just too hard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about… mapping data to a higher-dimensional sp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76520" y="2314440"/>
            <a:ext cx="39621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119320" y="227484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486240" y="225756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343320" y="231444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81120" y="22654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957400" y="227484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166920" y="227484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024440" y="22748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53040" y="22748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90880" y="22748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600360" y="2066760"/>
            <a:ext cx="0" cy="552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17800" y="2211480"/>
            <a:ext cx="228600" cy="218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103560" y="2201760"/>
            <a:ext cx="228600" cy="219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3928680" y="2037960"/>
            <a:ext cx="9720" cy="598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3214800" y="2037960"/>
            <a:ext cx="9360" cy="598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676520" y="3743280"/>
            <a:ext cx="39621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119320" y="37036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86240" y="36860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343320" y="374328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481120" y="36939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7400" y="37036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166920" y="37036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024440" y="37036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253040" y="37036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90880" y="37036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633920" y="37036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862520" y="37036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57880" y="36939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781280" y="6191280"/>
            <a:ext cx="39621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281320" y="51703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91000" y="61340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448080" y="616284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604960" y="564660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062160" y="5961240"/>
            <a:ext cx="88920" cy="8856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90760" y="60562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129200" y="597060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357800" y="57895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938760" y="6037200"/>
            <a:ext cx="8856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738680" y="54658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024520" y="51609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443560" y="46371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3591000" y="4743360"/>
            <a:ext cx="0" cy="1486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591000" y="45626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676840" y="6095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505480" y="36860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543640" y="22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952720" y="5048280"/>
            <a:ext cx="318132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2948040" y="4971960"/>
            <a:ext cx="3114720" cy="1284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3062160" y="5143320"/>
            <a:ext cx="3057480" cy="1245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675320" y="5402160"/>
            <a:ext cx="228600" cy="219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284720" y="5716440"/>
            <a:ext cx="228600" cy="2192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18040" y="5992920"/>
            <a:ext cx="228600" cy="218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on-linear SVMs:  Feature spac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 idea:   the original feature space can always be mapped to some higher-dimensional feature space where the training set is separab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2068560" y="2558880"/>
            <a:ext cx="0" cy="304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47840" y="4170240"/>
            <a:ext cx="3319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098800" y="339084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523880" y="37479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676520" y="42940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209680" y="47703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790640" y="34369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95280" y="40654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714680" y="4808520"/>
            <a:ext cx="8856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38368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111480" y="38242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971800" y="50371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3960" y="39513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235240" y="540540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45608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263600" y="51004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52560" y="46180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09800" y="3094200"/>
            <a:ext cx="88920" cy="8856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05240" y="4229280"/>
            <a:ext cx="88560" cy="8856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124000" y="43624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09840" y="31240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114560" y="3209760"/>
            <a:ext cx="1885680" cy="1905120"/>
          </a:xfrm>
          <a:prstGeom prst="ellipse">
            <a:avLst/>
          </a:prstGeom>
          <a:noFill/>
          <a:ln w="158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162080" y="32464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86280" y="3227400"/>
            <a:ext cx="8856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6107040" y="2311560"/>
            <a:ext cx="0" cy="20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076800" y="4398840"/>
            <a:ext cx="2347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375240" y="37623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00680" y="41194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181560" y="46753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000920" y="46753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067440" y="380844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276960" y="40845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505560" y="47131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486480" y="420840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093160" y="38433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953480" y="505620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477200" y="28083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483320" y="40719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182080" y="45799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007400" y="3519360"/>
            <a:ext cx="8856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10400" y="47512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400880" y="30178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010200" y="45244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629320" y="46576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391520" y="31431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943680" y="267480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067600" y="32464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4859280" y="4400640"/>
            <a:ext cx="1238400" cy="996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5880" y="3048120"/>
            <a:ext cx="1447920" cy="1333440"/>
          </a:xfrm>
          <a:prstGeom prst="line">
            <a:avLst/>
          </a:prstGeom>
          <a:ln w="158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6324480" y="4419720"/>
            <a:ext cx="1219320" cy="1218960"/>
          </a:xfrm>
          <a:prstGeom prst="line">
            <a:avLst/>
          </a:prstGeom>
          <a:ln w="158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4629240" y="3086280"/>
            <a:ext cx="1466640" cy="838080"/>
          </a:xfrm>
          <a:prstGeom prst="line">
            <a:avLst/>
          </a:prstGeom>
          <a:ln w="158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610160" y="3924360"/>
            <a:ext cx="1714320" cy="1695240"/>
          </a:xfrm>
          <a:prstGeom prst="line">
            <a:avLst/>
          </a:prstGeom>
          <a:ln w="158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591000" y="2486160"/>
            <a:ext cx="1638360" cy="457200"/>
          </a:xfrm>
          <a:custGeom>
            <a:avLst/>
            <a:gdLst>
              <a:gd name="textAreaLeft" fmla="*/ 286560 w 1638360"/>
              <a:gd name="textAreaRight" fmla="*/ 1188000 w 163836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591000" y="2886120"/>
            <a:ext cx="1679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“Kernel Trick”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inear classifier relies on inner product between vecto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every datapoint is mapped into high-dimensional space via some transformation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the inner product becom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ernel fun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function that is eqiuvalent to an inner product in some feature sp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-dimensional vector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;  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(1 +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show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(1 +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1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1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1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1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2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1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1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1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2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1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   where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1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us, a kernel functio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implicit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s data to a high-dimensional space (without the need to compute each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explicitl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at Functions are Kernels?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some function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checking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can be cumbersom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rcer’s theorem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very semi-positive definite symmetric function is a ker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mi-positive definite symmetric functions correspond to a semi-positive definite symmetric Gram matrix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2266920" y="3987720"/>
          <a:ext cx="5353200" cy="2254320"/>
        </p:xfrm>
        <a:graphic>
          <a:graphicData uri="http://schemas.openxmlformats.org/drawingml/2006/table">
            <a:tbl>
              <a:tblPr/>
              <a:tblGrid>
                <a:gridCol w="1069920"/>
                <a:gridCol w="1071720"/>
                <a:gridCol w="1069920"/>
                <a:gridCol w="1071720"/>
                <a:gridCol w="10699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6" name=""/>
          <p:cNvSpPr/>
          <p:nvPr/>
        </p:nvSpPr>
        <p:spPr>
          <a:xfrm>
            <a:off x="1647720" y="490536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xamples of Kernel Function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r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pping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where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se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ynomial of pow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 (1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pping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where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has           dimens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 (radial-basis function)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pping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where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inite-dimension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very point is mapped to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unc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 Gaussian); combination of functions for support vectors is the separa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-dimensional space still ha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insi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ensional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he mapping is no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but linear separators in it correspond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linea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arators in original sp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5324400" y="3652920"/>
                <a:ext cx="9511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5138640" y="3078000"/>
                <a:ext cx="56700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d</m:t>
                              </m:r>
                              <m:r>
                                <m:t xml:space="preserve">+</m:t>
                              </m:r>
                              <m:r>
                                <m:t xml:space="preserve">p</m:t>
                              </m:r>
                            </m:e>
                          </m:mr>
                          <m:mr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erceptron Revisited:  Linear Separators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04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classification can be viewed as the task of separating classes in feature spa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896760" y="3053880"/>
            <a:ext cx="0" cy="304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5979960"/>
            <a:ext cx="4081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36800" y="38098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62240" y="4167360"/>
            <a:ext cx="88560" cy="8856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14520" y="47131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33640" y="5170320"/>
            <a:ext cx="8856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66800" y="35701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33640" y="4484520"/>
            <a:ext cx="8856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85920" y="46371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48040" y="4255920"/>
            <a:ext cx="8856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9480" y="42433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81200" y="51703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71920" y="51703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63680" y="56912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86120" y="45608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63680" y="50054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62440" y="5398920"/>
            <a:ext cx="8856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48240" y="4484520"/>
            <a:ext cx="8856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209600" y="3036960"/>
            <a:ext cx="2438640" cy="266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297180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30481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38098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19440" y="26956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19440" y="32576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90520" y="3038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86240" y="4381560"/>
            <a:ext cx="29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on-linear SVMs Mathematically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al problem formul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olution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ization techniques for finding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remain the sam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914400" y="1971720"/>
            <a:ext cx="6438960" cy="158220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Σ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maximized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for all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76240" y="4267080"/>
            <a:ext cx="2781360" cy="49140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VM application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28600" y="1566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VMs were originally proposed by Boser, Guyon and Vapnik in 1992 and gained increasing popularity in late 1990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VMs are currently among the best performers for a number of classification tasks ranging from text to genomic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VMs can be applied to complex data types beyond feature vectors (e.g. graphs, sequences, relational data) by designing kernel functions for such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VM techniques have been extended to a number of tasks such as regression [Vapni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t al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’97], principal component analysis [S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kop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t al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99], et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popular optimization algorithms for SVMs 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composi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hill-climb over a subset o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at a time, e.g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O [Platt ’99] and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Joachims ’99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ning SVMs remains a black art:  selecting a specific kernel and parameters is usually done in a try-and-see mann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near Separator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04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of the linear separators is optimal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606760" y="2825280"/>
            <a:ext cx="0" cy="304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71760" y="5751360"/>
            <a:ext cx="4081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46440" y="35812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71880" y="3938760"/>
            <a:ext cx="88920" cy="8856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24160" y="44845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49417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76440" y="33415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43280" y="42559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95560" y="44085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57680" y="40273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59480" y="4014720"/>
            <a:ext cx="8856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90840" y="49417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81560" y="49417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73680" y="5462640"/>
            <a:ext cx="8856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95760" y="43322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73680" y="4776840"/>
            <a:ext cx="8856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72080" y="51703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57880" y="42559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919240" y="3048120"/>
            <a:ext cx="2676600" cy="2427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43360" y="274320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52840" y="28195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19880" y="35812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071880" y="2743200"/>
            <a:ext cx="2143080" cy="2884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700360" y="3048120"/>
            <a:ext cx="2971800" cy="228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233880" y="2819160"/>
            <a:ext cx="1828800" cy="28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005280" y="2742840"/>
            <a:ext cx="1828800" cy="28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852640" y="2895120"/>
            <a:ext cx="2667240" cy="259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 Margi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486080"/>
            <a:ext cx="8648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 from exampl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separator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closest to the hyperplane a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upport vec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r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separator is the distance between support ve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664000" y="3339720"/>
            <a:ext cx="0" cy="304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29000" y="6265800"/>
            <a:ext cx="4081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03680" y="40957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29120" y="445284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81400" y="49989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00520" y="54561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33680" y="38559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00520" y="47703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52800" y="4923000"/>
            <a:ext cx="88920" cy="8856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14920" y="45417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16360" y="45291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48080" y="54561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8800" y="54561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30560" y="59770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53000" y="48466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84560" y="53402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29320" y="56847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15120" y="47703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00600" y="325764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10080" y="333360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76760" y="40957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129120" y="3257640"/>
            <a:ext cx="2143080" cy="2884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81600" y="3340080"/>
            <a:ext cx="761760" cy="615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4464000" y="4362120"/>
            <a:ext cx="254160" cy="183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6242040" y="1365120"/>
                <a:ext cx="126036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4086360" y="3476520"/>
            <a:ext cx="49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40040" y="4476600"/>
            <a:ext cx="228600" cy="219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13280" y="5272200"/>
            <a:ext cx="228600" cy="21888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46520" y="4459320"/>
            <a:ext cx="228600" cy="218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3839760" y="5176440"/>
            <a:ext cx="244440" cy="17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3892680" y="4614840"/>
            <a:ext cx="234720" cy="17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567240" y="3438360"/>
            <a:ext cx="2009520" cy="269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919240" y="3076200"/>
            <a:ext cx="2067120" cy="2770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33800" y="3143160"/>
            <a:ext cx="552600" cy="419040"/>
          </a:xfrm>
          <a:prstGeom prst="line">
            <a:avLst/>
          </a:prstGeom>
          <a:ln w="9360">
            <a:solidFill>
              <a:srgbClr val="33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1012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aximum Margin Classificati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ing the margin is good according to intuition and PAC the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es that only support vectors matter; other training examples are ignor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664000" y="3339720"/>
            <a:ext cx="0" cy="304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29000" y="6265800"/>
            <a:ext cx="4081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03680" y="40957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129120" y="445284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81400" y="49989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00520" y="54561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33680" y="38559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900520" y="47703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52800" y="4923000"/>
            <a:ext cx="88920" cy="8856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14920" y="45417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16360" y="45291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348080" y="54561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38800" y="54561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030560" y="59770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53000" y="48466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84560" y="53402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729320" y="56847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15120" y="47703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00600" y="325764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10080" y="333360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76760" y="40957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3129120" y="3257640"/>
            <a:ext cx="2143080" cy="2884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4464000" y="4362120"/>
            <a:ext cx="254160" cy="183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40040" y="4476600"/>
            <a:ext cx="228600" cy="219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13280" y="5272200"/>
            <a:ext cx="228600" cy="21888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46520" y="4459320"/>
            <a:ext cx="228600" cy="218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3839760" y="5176440"/>
            <a:ext cx="244440" cy="17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3892680" y="4614840"/>
            <a:ext cx="234720" cy="17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567240" y="3438360"/>
            <a:ext cx="2009520" cy="269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919240" y="3076200"/>
            <a:ext cx="2067120" cy="2770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near SVM Mathematically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6760" y="1434960"/>
            <a:ext cx="8835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training set {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=1..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-1, 1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separated by a hyperplane wi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n for each training exa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very support vect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above inequality is an equality.    After rescal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e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e obtain that distance between eac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hyperplan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 margin can be expressed through (rescaled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b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17480" y="2425680"/>
            <a:ext cx="38102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-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608280" y="5457960"/>
                <a:ext cx="12812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6477120" y="4070520"/>
                <a:ext cx="22669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4905360" y="2622600"/>
            <a:ext cx="38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84640" y="2630520"/>
            <a:ext cx="7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near SVMs Mathematically (cont.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we can formulate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uadratic optimization problem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an be reformulated 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22400" y="2019240"/>
            <a:ext cx="5886360" cy="162252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maximiz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for all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397160" y="2457360"/>
                <a:ext cx="8078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1047600" y="4295880"/>
            <a:ext cx="6438960" cy="162252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||w|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s minimiz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for all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lving the Optimization Problem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32084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optimize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uadrati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subjec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nea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dratic optimization problems are a well-known class of mathematical programming problems for which several (non-trivial) algorithms ex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olution involves constructing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ual proble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agrange multipli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ssociated with every inequality constraint in the primal (original) probl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85760" y="1533600"/>
            <a:ext cx="6438960" cy="10504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b such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is minimiz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for all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.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76200" y="4816440"/>
            <a:ext cx="6438960" cy="158220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Σ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maximized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for all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Optimization Problem Soluti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solution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dual problem, solution to the primal 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non-zero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that correspond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support v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the classifying function is (note that we don’t ne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icitly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ce that it relies on 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ner 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tween the test poin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the support vector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we will return to this la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keep in mind that solving the optimization problem involved computing the inner produc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all training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76200" y="2184480"/>
            <a:ext cx="6438960" cy="49140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any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4076640"/>
            <a:ext cx="2342880" cy="49140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19:56:21Z</dcterms:created>
  <dc:creator>Mikhail Bilenko</dc:creator>
  <dc:description/>
  <dc:language>en-US</dc:language>
  <cp:lastModifiedBy>Mikhail Bilenko</cp:lastModifiedBy>
  <dcterms:modified xsi:type="dcterms:W3CDTF">2005-11-17T23:39:20Z</dcterms:modified>
  <cp:revision>22</cp:revision>
  <dc:subject/>
  <dc:title>Support Vector Machines</dc:title>
</cp:coreProperties>
</file>