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186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E0F-E06E-4CE9-A8CD-5A17681C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3E9-2028-4C4E-AB7F-4A5E39D0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810-E94D-4B39-9226-7A88421E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9BB-90C9-4E8A-87BC-E61B1D77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2B5-167B-4FD4-A94E-C842C788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ECE-7EDB-4212-813C-A308CC81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121-599B-42C7-9AA9-50F49F7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890-40FC-4210-B828-A0C6816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3FD-CD83-4FD3-8CF8-6C489824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6DD-0163-46A8-ACF7-B8DF2041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3FF-229F-4D77-ACD8-6B5BFE1C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511-412D-43F3-A1F2-72E0A37D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8991360" cy="6556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077320" y="6526080"/>
            <a:ext cx="3045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0B1-0C8F-497A-BB8D-0D0E1DCE4CB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49908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77120" y="7632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8991360" cy="6556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3543-4EBB-4F0C-9135-14A219C6A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49908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7632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971800"/>
            <a:ext cx="647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114800" y="51958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19520" y="3962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chine Learn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42670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partment of Computer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4572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iversity of Texas at Aus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pport Vector Machin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 Margin Classification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the training set is not linearly separ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lack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dded to allow misclassification of difficult or noisy examples, resulting margin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530440" y="2787480"/>
            <a:ext cx="0" cy="304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95440" y="5713560"/>
            <a:ext cx="408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70120" y="354348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95560" y="3900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47840" y="4446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66960" y="4903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00480" y="3303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66960" y="421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19240" y="43704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81360" y="398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83160" y="39765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4880" y="4903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05240" y="4903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97360" y="54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19440" y="429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1360" y="47880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95760" y="51325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81560" y="421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67040" y="27050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76880" y="2781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43560" y="354348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55840" y="3987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76480" y="46944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65640" y="3773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95560" y="2704680"/>
            <a:ext cx="2143080" cy="288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330440" y="3809880"/>
            <a:ext cx="253800" cy="18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06840" y="3924360"/>
            <a:ext cx="228600" cy="218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79720" y="4719600"/>
            <a:ext cx="228600" cy="21924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3320" y="3906720"/>
            <a:ext cx="228600" cy="219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3706560" y="4624200"/>
            <a:ext cx="24444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3758760" y="4061880"/>
            <a:ext cx="235080" cy="1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33680" y="2885760"/>
            <a:ext cx="2009880" cy="269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86040" y="2523600"/>
            <a:ext cx="2067120" cy="277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4325760" y="3208320"/>
            <a:ext cx="841680" cy="58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36840" y="4064040"/>
            <a:ext cx="809640" cy="577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89440" y="360360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7640" y="406728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92560" y="37083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84560" y="3916440"/>
            <a:ext cx="228600" cy="2188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 Margin Classification Mathematicall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ld formu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formulation incorporates slack varia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viewed as a way to control overfitting:  it “trades off” the relative importance of maximizing the margin and fitting the training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85760" y="1927080"/>
            <a:ext cx="6438960" cy="1050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minim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85760" y="3890880"/>
            <a:ext cx="6438960" cy="11937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minim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 Margin Classification – Solu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 problem is identical to separable case (wou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identical if the 2-norm penalty for slack variabl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s used in primal objective, we would need additional Lagrange multipliers for slack variable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non-zero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support v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to the dual problem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23920" y="2622600"/>
            <a:ext cx="643896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 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4600" y="5235480"/>
            <a:ext cx="4816440" cy="9828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=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n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t.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5810400"/>
            <a:ext cx="234324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91160" y="4772160"/>
            <a:ext cx="332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in, we don’t need to compu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licitly for class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oretical Justification for Maximum Margi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656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pnik has proved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class of optimal linear separators has VC dimension h bounded from above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argin, D is the diameter of the smallest sphere that can enclose all of the training examples, and 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dimension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itively, this implies that regardless of dimensional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minimize the VC dimension by maximizing the margin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complexity of the classifier is kept small regardless of dimension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146400" y="2251080"/>
                <a:ext cx="224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 SVMs:  Overview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656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ifier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parating hyper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“important” training points are support vectors; they define the hyper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atic optimization algorithms can identify which training poin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support vectors with non-zero Lagrangian multiplier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in the dual formulation of the problem and in the solution training points appear only inside inner produc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0280" y="5143680"/>
            <a:ext cx="4152600" cy="12524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 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05200" y="5457960"/>
            <a:ext cx="41904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72280" y="5105520"/>
            <a:ext cx="234288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38760" y="5219640"/>
            <a:ext cx="438480" cy="3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-linear SVM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s that are linearly separable with some noise work out gr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what are we going to do if the dataset is just too har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about… mapping data to a higher-dimensional sp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231444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1932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86240" y="22575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43320" y="231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81120" y="2265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5740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6692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2444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5304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9088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00360" y="2066760"/>
            <a:ext cx="0" cy="55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17800" y="221148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03560" y="22017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928680" y="2037960"/>
            <a:ext cx="9720" cy="598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214800" y="2037960"/>
            <a:ext cx="9360" cy="598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74328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193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86240" y="3686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43320" y="374328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81120" y="3693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740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669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2444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5304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9088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339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625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7880" y="3693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81280" y="619128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132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91000" y="6134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48080" y="61628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04960" y="5646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62160" y="596124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90760" y="6056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29200" y="5970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7800" y="578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38760" y="603720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38680" y="546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4520" y="5160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43560" y="463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591000" y="4743360"/>
            <a:ext cx="0" cy="1486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91000" y="4562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7684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05480" y="3686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43640" y="22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952720" y="5048280"/>
            <a:ext cx="318132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48040" y="4971960"/>
            <a:ext cx="3114720" cy="12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062160" y="5143320"/>
            <a:ext cx="3057480" cy="124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75320" y="54021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84720" y="5716440"/>
            <a:ext cx="228600" cy="219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18040" y="5992920"/>
            <a:ext cx="228600" cy="218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-linear SVMs:  Feature spac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idea:   the original feature space can always be mapped to some higher-dimensional feature space where the training set is sepa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068560" y="2558880"/>
            <a:ext cx="0" cy="304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7840" y="4170240"/>
            <a:ext cx="331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98800" y="339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3747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76520" y="429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0640" y="3436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4065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14680" y="48085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3836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11480" y="3824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5037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3960" y="3951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35240" y="54054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456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63600" y="5100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52560" y="4618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09800" y="309420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5240" y="4229280"/>
            <a:ext cx="8856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24000" y="4362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09840" y="312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14560" y="3209760"/>
            <a:ext cx="1885680" cy="19051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62080" y="3246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86280" y="322740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107040" y="2311560"/>
            <a:ext cx="0" cy="20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76800" y="4398840"/>
            <a:ext cx="23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5240" y="3762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00680" y="4119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81560" y="4675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00920" y="4675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67440" y="3808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76960" y="4084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05560" y="4713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86480" y="42084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3160" y="3843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953480" y="50562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77200" y="2808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83320" y="40719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82080" y="4579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07400" y="351936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10400" y="475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00880" y="3017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0200" y="45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29320" y="4657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91520" y="3143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43680" y="26748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67600" y="3246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859280" y="4400640"/>
            <a:ext cx="1238400" cy="99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3048120"/>
            <a:ext cx="1447920" cy="13334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324480" y="4419720"/>
            <a:ext cx="1219320" cy="121896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629240" y="3086280"/>
            <a:ext cx="1466640" cy="83808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0160" y="3924360"/>
            <a:ext cx="1714320" cy="16952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91000" y="2486160"/>
            <a:ext cx="1638360" cy="457200"/>
          </a:xfrm>
          <a:custGeom>
            <a:avLst/>
            <a:gdLst>
              <a:gd name="textAreaLeft" fmla="*/ 286560 w 1638360"/>
              <a:gd name="textAreaRight" fmla="*/ 1188000 w 16383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91000" y="2886120"/>
            <a:ext cx="16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“Kernel Trick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inear classifier relies on inner product between vecto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ry datapoint is mapped into high-dimensional space via some transformatio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e inner produc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ernel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function that is eqiuvalent to an inner product in some feature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dimensional vecto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;  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1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show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1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   wher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a kernel funct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mplicit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s data to a high-dimensional space (without the need to compute each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explicit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Functions are Kernels?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ome func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hecking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an be cumberso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er’s theorem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very semi-positive definite symmetric function is a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positive definite symmetric functions correspond to a semi-positive definite symmetric Gram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266920" y="3987720"/>
          <a:ext cx="5353200" cy="2254320"/>
        </p:xfrm>
        <a:graphic>
          <a:graphicData uri="http://schemas.openxmlformats.org/drawingml/2006/table">
            <a:tbl>
              <a:tblPr/>
              <a:tblGrid>
                <a:gridCol w="1069920"/>
                <a:gridCol w="1071720"/>
                <a:gridCol w="1069920"/>
                <a:gridCol w="1071720"/>
                <a:gridCol w="1069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1647720" y="49053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s of Kernel Func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where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nomial of po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(1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where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as           dimens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 (radial-basis function)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where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ite-dimensio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very point is mapped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n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Gaussian); combination of functions for support vectors is the separ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dimensional space still h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ins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al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mapping is no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but linear separators in it correspon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ors in original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324400" y="3652920"/>
                <a:ext cx="951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38640" y="3078000"/>
                <a:ext cx="567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ceptron Revisited:  Linear Separators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04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classification can be viewed as the task of separating classes in feature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96760" y="305388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7996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36800" y="3809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62240" y="4167360"/>
            <a:ext cx="8856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14520" y="4713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33640" y="51703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66800" y="3570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33640" y="44845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85920" y="463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8040" y="42559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9480" y="4243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7192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3680" y="5691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6120" y="456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3680" y="500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62440" y="539892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48240" y="448452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209600" y="3036960"/>
            <a:ext cx="243864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9718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04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809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19440" y="2695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19440" y="3257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90520" y="3038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86240" y="4381560"/>
            <a:ext cx="29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-linear SVMs Mathematicall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 problem formu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ution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ation techniques for finding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remain the sam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14400" y="1971720"/>
            <a:ext cx="643896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for all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240" y="4267080"/>
            <a:ext cx="278136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VM applica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566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s were originally proposed by Boser, Guyon and Vapnik in 1992 and gained increasing popularity in late 199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s are currently among the best performers for a number of classification tasks ranging from text to genomic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s can be applied to complex data types beyond feature vectors (e.g. graphs, sequences, relational data) by designing kernel functions for such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 techniques have been extended to a number of tasks such as regression [Vapni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’97], principal component analysis [S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kop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99]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opular optimization algorithms for SVMs 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composi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hill-climb over a subset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at a time, e.g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O [Platt ’99] and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Joachims ’9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ing SVMs remains a black art:  selecting a specific kernel and parameters is usually done in a try-and-see mann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 Separator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04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linear separators is optima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06760" y="282528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71760" y="575136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46440" y="358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71880" y="393876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4484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941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76440" y="3341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4255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95560" y="4408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7680" y="4027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59480" y="401472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90840" y="4941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81560" y="4941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73680" y="546264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95760" y="4332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73680" y="477684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7208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57880" y="4255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19240" y="3048120"/>
            <a:ext cx="2676600" cy="24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43360" y="27432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52840" y="281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19880" y="358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071880" y="2743200"/>
            <a:ext cx="2143080" cy="28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00360" y="3048120"/>
            <a:ext cx="297180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33880" y="2819160"/>
            <a:ext cx="182880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005280" y="2742840"/>
            <a:ext cx="182880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52640" y="2895120"/>
            <a:ext cx="266724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 Margi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486080"/>
            <a:ext cx="8648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examp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separator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closest to the hyperplan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port v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separator is the distance between support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664000" y="333972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29000" y="626580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368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9120" y="4452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81400" y="4998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0052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33680" y="3855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005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2800" y="49230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14920" y="45417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16360" y="4529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808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880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0560" y="5977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53000" y="4846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84560" y="5340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9320" y="5684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51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00600" y="32576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10080" y="3333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7676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29120" y="3257640"/>
            <a:ext cx="2143080" cy="28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81600" y="3340080"/>
            <a:ext cx="761760" cy="61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464000" y="4362120"/>
            <a:ext cx="254160" cy="183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242040" y="1365120"/>
                <a:ext cx="1260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086360" y="3476520"/>
            <a:ext cx="4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40040" y="447660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13280" y="5272200"/>
            <a:ext cx="228600" cy="2188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6520" y="445932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839760" y="5176440"/>
            <a:ext cx="24444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892680" y="4614840"/>
            <a:ext cx="234720" cy="1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67240" y="3438360"/>
            <a:ext cx="2009520" cy="269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9240" y="3076200"/>
            <a:ext cx="2067120" cy="277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3800" y="3143160"/>
            <a:ext cx="552600" cy="419040"/>
          </a:xfrm>
          <a:prstGeom prst="line">
            <a:avLst/>
          </a:prstGeom>
          <a:ln w="93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101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ximum Margin Classif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margin is good according to intuition and PAC the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that only support vectors matter; other training examples are ignor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64000" y="333972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29000" y="626580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368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9120" y="4452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81400" y="4998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0052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33680" y="3855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005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2800" y="49230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14920" y="45417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4529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4808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0560" y="5977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53000" y="4846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5340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9320" y="5684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151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00600" y="32576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10080" y="3333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7676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129120" y="3257640"/>
            <a:ext cx="2143080" cy="28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464000" y="4362120"/>
            <a:ext cx="254160" cy="183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40040" y="447660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13280" y="5272200"/>
            <a:ext cx="228600" cy="2188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6520" y="445932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839760" y="5176440"/>
            <a:ext cx="24444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3892680" y="4614840"/>
            <a:ext cx="234720" cy="1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567240" y="3438360"/>
            <a:ext cx="2009520" cy="269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19240" y="3076200"/>
            <a:ext cx="2067120" cy="277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 SVM Mathematicall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6760" y="1434960"/>
            <a:ext cx="8835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raining set {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-1, 1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eparated by a hyperplane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n for each training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support 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bove inequality is an equality.    After rescal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obtain that distance between 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hyperplan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margin can be expressed through (rescale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7480" y="2425680"/>
            <a:ext cx="3810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608280" y="5457960"/>
                <a:ext cx="1281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477120" y="4070520"/>
                <a:ext cx="22669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4905360" y="2622600"/>
            <a:ext cx="38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84640" y="26305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 SVMs Mathematically (cont.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we can formula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dratic optimization probl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an be reformulated 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2400" y="2019240"/>
            <a:ext cx="5886360" cy="16225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axim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397160" y="2457360"/>
                <a:ext cx="807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047600" y="4295880"/>
            <a:ext cx="6438960" cy="16225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||w|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minim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ving the Optimization Proble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208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optimize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dr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subj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n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atic optimization problems are a well-known class of mathematical programming problems for which several (non-trivial) algorithms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ution involves constructing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al probl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grange multipl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ssociated with every inequality constraint in the primal (original)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85760" y="1533600"/>
            <a:ext cx="6438960" cy="1050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minim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76200" y="4816440"/>
            <a:ext cx="643896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for all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Optimization Problem Solu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solution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dual problem, solution to the primal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n-zero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that correspond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support v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he classifying function is (note that we don’t ne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it relies on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ner 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the test poi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support vecto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we will return to this l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eep in mind that solving the optimization problem involved computing the inner produc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all training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76200" y="2184480"/>
            <a:ext cx="643896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n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076640"/>
            <a:ext cx="234288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9:56:21Z</dcterms:created>
  <dc:creator>Mikhail Bilenko</dc:creator>
  <dc:description/>
  <dc:language>en-US</dc:language>
  <cp:lastModifiedBy>Mikhail Bilenko</cp:lastModifiedBy>
  <dcterms:modified xsi:type="dcterms:W3CDTF">2005-11-17T23:39:20Z</dcterms:modified>
  <cp:revision>22</cp:revision>
  <dc:subject/>
  <dc:title>Support Vector Machines</dc:title>
</cp:coreProperties>
</file>