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7A33-48FE-4413-95C1-71D412FE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B53E-7574-4251-A48E-E3A4D18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0209-8D46-45F9-857C-1591F744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CF2C-1EFD-440E-A8B3-E3AF3811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BD6F-2A83-443A-902B-9466A55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9CC0-0D39-4AD9-80C5-F79C3CFE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1525-4464-456E-8892-F16E06AA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856C-CE69-4B04-A590-E12221B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B6BF-FBAB-4005-8ED3-1006461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8A89-FAC9-4207-A878-ACAFBC7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778B-2B16-4275-B1C4-514AF33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DCBD-F4EF-40B6-87FD-963CF7D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84EE-B4DE-4907-B45B-1B614911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ext Categoriza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7112-461D-474A-BDFF-E9F23B7E90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Posterior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results of naïve Bayes (the class with maximum posterior probability) are usually fairly accu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ue to the inadequacy of the conditional independence assumption, the actual posterior-probability numerical estimate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utput probabilities are generally very close to 0 or 1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6E97-7402-4125-905A-A3477DEFE8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ual Similarity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ing similarity of two texts is a well-studied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metrics are based on a “bag of words” model of a document that ignores word order and syntactic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volve removing common “stop words” and stemming to reduce words to their roo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-space model from Information Retrieval (IR) is the standard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metrics (e.g. edit-distance) are also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0F1F-6669-4F3D-B2DE-B6AEE49D86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he Vector-Space Model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tinct terms remain after preprocessing; call them index terms or the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“orthogonal” terms form a vect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imension =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= |vocabulary|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ter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 in a document or que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given a real-valued weigh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documents and queries are expressed as       t-dimensional ve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=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1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, 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2j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, …, 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t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3A46-2D29-4C67-A1A7-CC24A0D3C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Graphic Representa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453680"/>
            <a:ext cx="2519280" cy="152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79840" y="4419720"/>
            <a:ext cx="3597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87920" y="1828800"/>
            <a:ext cx="7010640" cy="4176720"/>
            <a:chOff x="1087920" y="1828800"/>
            <a:chExt cx="7010640" cy="4176720"/>
          </a:xfrm>
        </p:grpSpPr>
        <p:sp>
          <p:nvSpPr>
            <p:cNvPr id="170" name=""/>
            <p:cNvSpPr/>
            <p:nvPr/>
          </p:nvSpPr>
          <p:spPr>
            <a:xfrm>
              <a:off x="4882320" y="18432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1000" y="4405320"/>
              <a:ext cx="301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20840" y="4402080"/>
              <a:ext cx="251928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40120" y="182880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190760" y="4391280"/>
              <a:ext cx="115884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5320" y="5181840"/>
              <a:ext cx="753840" cy="1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191120" y="320040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190760" y="3047760"/>
              <a:ext cx="549000" cy="1306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34840" y="4419720"/>
              <a:ext cx="212580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690280" y="5722560"/>
              <a:ext cx="88596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11520" y="541008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93880" y="4384800"/>
              <a:ext cx="1127160" cy="105732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740120" y="3810240"/>
              <a:ext cx="0" cy="591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01480" y="43434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48600" y="5558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1920" y="3200400"/>
              <a:ext cx="208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=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+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5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7920" y="4800600"/>
              <a:ext cx="206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= 3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7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 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15000" y="3657600"/>
              <a:ext cx="207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 =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0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+ 2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90760" y="2743200"/>
              <a:ext cx="53316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3048120"/>
              <a:ext cx="457200" cy="165240"/>
            </a:xfrm>
            <a:custGeom>
              <a:avLst/>
              <a:gdLst/>
              <a:ahLst/>
              <a:rect l="l" t="t" r="r" b="b"/>
              <a:pathLst>
                <a:path w="288" h="104">
                  <a:moveTo>
                    <a:pt x="0" y="104"/>
                  </a:moveTo>
                  <a:cubicBezTo>
                    <a:pt x="8" y="60"/>
                    <a:pt x="16" y="16"/>
                    <a:pt x="48" y="8"/>
                  </a:cubicBezTo>
                  <a:cubicBezTo>
                    <a:pt x="80" y="0"/>
                    <a:pt x="152" y="48"/>
                    <a:pt x="192" y="56"/>
                  </a:cubicBezTo>
                  <a:cubicBezTo>
                    <a:pt x="232" y="64"/>
                    <a:pt x="260" y="60"/>
                    <a:pt x="288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0560" y="4997520"/>
              <a:ext cx="450720" cy="336600"/>
            </a:xfrm>
            <a:custGeom>
              <a:avLst/>
              <a:gdLst/>
              <a:ahLst/>
              <a:rect l="l" t="t" r="r" b="b"/>
              <a:pathLst>
                <a:path w="284" h="212">
                  <a:moveTo>
                    <a:pt x="0" y="13"/>
                  </a:moveTo>
                  <a:cubicBezTo>
                    <a:pt x="23" y="16"/>
                    <a:pt x="92" y="0"/>
                    <a:pt x="139" y="33"/>
                  </a:cubicBezTo>
                  <a:cubicBezTo>
                    <a:pt x="186" y="66"/>
                    <a:pt x="254" y="175"/>
                    <a:pt x="284" y="2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9720" y="5410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78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29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572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3333cc"/>
                  </a:solidFill>
                  <a:latin typeface="Times New Roman"/>
                  <a:ea typeface="新細明體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181480" y="4952880"/>
            <a:ext cx="3353040" cy="122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re similar to Q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measure the degree of similarity? Distance? Angle? Proje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B143-9B96-4D16-9BC4-A3BC49CC9F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ocument Collection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94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cuments can be represented in the vector space model by a term-document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ntry in the matrix corresponds 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weight” of a term in the doc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zero means the term has no significance in the document or it simply doesn’t exist in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95480" y="3505320"/>
            <a:ext cx="3352680" cy="2906280"/>
            <a:chOff x="2895480" y="3505320"/>
            <a:chExt cx="3352680" cy="2906280"/>
          </a:xfrm>
        </p:grpSpPr>
        <p:grpSp>
          <p:nvGrpSpPr>
            <p:cNvPr id="199" name=""/>
            <p:cNvGrpSpPr/>
            <p:nvPr/>
          </p:nvGrpSpPr>
          <p:grpSpPr>
            <a:xfrm>
              <a:off x="2895480" y="3505320"/>
              <a:ext cx="3319920" cy="2500200"/>
              <a:chOff x="2895480" y="3505320"/>
              <a:chExt cx="3319920" cy="2500200"/>
            </a:xfrm>
          </p:grpSpPr>
          <p:sp>
            <p:nvSpPr>
              <p:cNvPr id="200" name=""/>
              <p:cNvSpPr/>
              <p:nvPr/>
            </p:nvSpPr>
            <p:spPr>
              <a:xfrm>
                <a:off x="2895480" y="3505320"/>
                <a:ext cx="245880" cy="2500200"/>
              </a:xfrm>
              <a:custGeom>
                <a:avLst/>
                <a:gdLst>
                  <a:gd name="textAreaLeft" fmla="*/ 72360 w 245880"/>
                  <a:gd name="textAreaRight" fmla="*/ 246240 w 245880"/>
                  <a:gd name="textAreaTop" fmla="*/ 104040 h 2500200"/>
                  <a:gd name="textAreaBottom" fmla="*/ 2396160 h 25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33240" y="3505320"/>
                <a:ext cx="182160" cy="2484360"/>
              </a:xfrm>
              <a:custGeom>
                <a:avLst/>
                <a:gdLst>
                  <a:gd name="textAreaLeft" fmla="*/ 0 w 182160"/>
                  <a:gd name="textAreaRight" fmla="*/ 127800 w 182160"/>
                  <a:gd name="textAreaTop" fmla="*/ 118800 h 2484360"/>
                  <a:gd name="textAreaBottom" fmla="*/ 2365560 h 248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35"/>
                      <a:pt x="21600" y="2070"/>
                    </a:cubicBezTo>
                    <a:lnTo>
                      <a:pt x="21600" y="19530"/>
                    </a:lnTo>
                    <a:cubicBezTo>
                      <a:pt x="21600" y="20565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059280" y="3505320"/>
              <a:ext cx="318888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   ….      T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2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:      :          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   :      :          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  …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A290-3A7F-4A55-83BF-87EF510BA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erm Weights: Term Frequency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frequent terms in a document are more important, i.e. more indicative of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= frequency of term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in documen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 want to 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 by dividing by the frequency of the most common term in the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t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=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/ max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A7F3-8F64-441D-A8CA-79FE2CB73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345960"/>
            <a:ext cx="792468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rm Weights: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verse Document Frequency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ms that appear in m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er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cumen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ive of overall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number of documents containing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inverse document frequency of term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N: total number of doc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dication of a term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cr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g used to dampen the effect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81F2-36D8-498A-9FDD-9ED86928F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TF-IDF Weight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combined term importance indic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 weigh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w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i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=  t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j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og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N/ df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erm occurring frequently in the document but rarely in the rest of the collection is given hig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ther ways of determining term weight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erimental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f-i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found to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3174-E873-44FC-8107-5582E9A33A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Cosine Similarity Measure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ine similarity measures the cosine of the angle between two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ner product normalized by the vector 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419720"/>
            <a:ext cx="7924680" cy="113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5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10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4+9+25)(0+0+4) = 0.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7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 2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9+49+1)(0+0+4) = 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=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0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01280" y="1295280"/>
            <a:ext cx="2476440" cy="3152160"/>
            <a:chOff x="6101280" y="1295280"/>
            <a:chExt cx="2476440" cy="3152160"/>
          </a:xfrm>
        </p:grpSpPr>
        <p:sp>
          <p:nvSpPr>
            <p:cNvPr id="214" name=""/>
            <p:cNvSpPr/>
            <p:nvPr/>
          </p:nvSpPr>
          <p:spPr>
            <a:xfrm>
              <a:off x="6842520" y="299376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18880" y="13064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83240" y="3166920"/>
              <a:ext cx="11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93880" y="3163680"/>
              <a:ext cx="108108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375320" y="1295280"/>
              <a:ext cx="0" cy="18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894360" y="2392200"/>
              <a:ext cx="466560" cy="7682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790680" y="3151080"/>
              <a:ext cx="576360" cy="1164960"/>
            </a:xfrm>
            <a:prstGeom prst="line">
              <a:avLst/>
            </a:prstGeom>
            <a:ln w="57240">
              <a:solidFill>
                <a:srgbClr val="f83f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7375320" y="2543040"/>
              <a:ext cx="0" cy="62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52280" y="30985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01280" y="380484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2880" y="2500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0000" y="3854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41200" y="2671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3720" y="2516040"/>
              <a:ext cx="4521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4" y="782"/>
                  </a:moveTo>
                  <a:arcTo wR="10800" hR="10800" stAng="-6716565" swAng="6716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4" y="782"/>
                  </a:moveTo>
                  <a:arcTo wR="10800" hR="10800" stAng="-6716565" swAng="67165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126200" y="2803320"/>
              <a:ext cx="396000" cy="164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49080" y="2003040"/>
              <a:ext cx="38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zh-TW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68240" y="5562720"/>
            <a:ext cx="7842240" cy="7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6 times bet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ing cosine similarity but only 5 times better using inner pro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16120" y="2666880"/>
                <a:ext cx="3695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j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q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762120" y="3048120"/>
            <a:ext cx="24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Sim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97BD-3D4C-4091-A6AB-A02E7A1769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in I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nitial retrieval results are presented, allow the user to provide feedback on the relevance of one or more of the retrieved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feedback information to reformulate the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new results based on reformulated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ore interactive, multi-pas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AED0-3482-40E7-847F-08B7B934FF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Applic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Yahoo-like classifi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/Blog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ntiment analysis for marke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ioritizing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lderiz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vertising on G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7D34-BED6-4C2D-877A-4E4CC4BE4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evance Feedback Architectur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372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932040" cy="200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62520" y="2819520"/>
            <a:ext cx="2057400" cy="1066680"/>
          </a:xfrm>
          <a:prstGeom prst="rect">
            <a:avLst/>
          </a:prstGeom>
          <a:solidFill>
            <a:srgbClr val="98e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144792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997200" cy="8697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4114800" y="3886200"/>
            <a:ext cx="3124080" cy="1906200"/>
            <a:chOff x="4114800" y="3886200"/>
            <a:chExt cx="3124080" cy="1906200"/>
          </a:xfrm>
        </p:grpSpPr>
        <p:sp>
          <p:nvSpPr>
            <p:cNvPr id="245" name=""/>
            <p:cNvSpPr/>
            <p:nvPr/>
          </p:nvSpPr>
          <p:spPr>
            <a:xfrm>
              <a:off x="4114800" y="4343400"/>
              <a:ext cx="1752480" cy="990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019920" y="4419720"/>
              <a:ext cx="1218960" cy="1372680"/>
              <a:chOff x="6019920" y="4419720"/>
              <a:chExt cx="1218960" cy="1372680"/>
            </a:xfrm>
          </p:grpSpPr>
          <p:sp>
            <p:nvSpPr>
              <p:cNvPr id="248" name=""/>
              <p:cNvSpPr/>
              <p:nvPr/>
            </p:nvSpPr>
            <p:spPr>
              <a:xfrm>
                <a:off x="6019920" y="4419720"/>
                <a:ext cx="12189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360" y="4481640"/>
                <a:ext cx="8773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066680" y="5181480"/>
            <a:ext cx="3258720" cy="1447920"/>
            <a:chOff x="1066680" y="5181480"/>
            <a:chExt cx="3258720" cy="1447920"/>
          </a:xfrm>
        </p:grpSpPr>
        <p:grpSp>
          <p:nvGrpSpPr>
            <p:cNvPr id="251" name=""/>
            <p:cNvGrpSpPr/>
            <p:nvPr/>
          </p:nvGrpSpPr>
          <p:grpSpPr>
            <a:xfrm>
              <a:off x="2364480" y="5181480"/>
              <a:ext cx="1960920" cy="1447920"/>
              <a:chOff x="2364480" y="5181480"/>
              <a:chExt cx="1960920" cy="144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2819520" y="5181480"/>
                <a:ext cx="121896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64480" y="5257800"/>
                <a:ext cx="19609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1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2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3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066680" y="5791320"/>
              <a:ext cx="1676520" cy="685800"/>
              <a:chOff x="1066680" y="5791320"/>
              <a:chExt cx="1676520" cy="685800"/>
            </a:xfrm>
          </p:grpSpPr>
          <p:sp>
            <p:nvSpPr>
              <p:cNvPr id="255" name=""/>
              <p:cNvSpPr/>
              <p:nvPr/>
            </p:nvSpPr>
            <p:spPr>
              <a:xfrm>
                <a:off x="1066680" y="5791320"/>
                <a:ext cx="1676520" cy="685800"/>
              </a:xfrm>
              <a:prstGeom prst="wedgeRoundRectCallout">
                <a:avLst>
                  <a:gd name="adj1" fmla="val -53407"/>
                  <a:gd name="adj2" fmla="val -318055"/>
                  <a:gd name="adj3" fmla="val 16667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18600" y="586728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edb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523880" y="1523880"/>
            <a:ext cx="2438280" cy="1295640"/>
            <a:chOff x="1523880" y="1523880"/>
            <a:chExt cx="2438280" cy="1295640"/>
          </a:xfrm>
        </p:grpSpPr>
        <p:sp>
          <p:nvSpPr>
            <p:cNvPr id="258" name=""/>
            <p:cNvSpPr/>
            <p:nvPr/>
          </p:nvSpPr>
          <p:spPr>
            <a:xfrm>
              <a:off x="1523880" y="1523880"/>
              <a:ext cx="1480320" cy="914400"/>
            </a:xfrm>
            <a:prstGeom prst="wedgeRoundRectCallout">
              <a:avLst>
                <a:gd name="adj1" fmla="val -123282"/>
                <a:gd name="adj2" fmla="val 122916"/>
                <a:gd name="adj3" fmla="val 16667"/>
              </a:avLst>
            </a:prstGeom>
            <a:solidFill>
              <a:srgbClr val="11db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97760" y="1600200"/>
              <a:ext cx="1081440" cy="825480"/>
            </a:xfrm>
            <a:prstGeom prst="rect">
              <a:avLst/>
            </a:prstGeom>
            <a:solidFill>
              <a:srgbClr val="11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 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04200" y="1981080"/>
              <a:ext cx="957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52480" y="2395080"/>
            <a:ext cx="1581120" cy="1795680"/>
            <a:chOff x="1752480" y="2395080"/>
            <a:chExt cx="1581120" cy="1795680"/>
          </a:xfrm>
        </p:grpSpPr>
        <p:sp>
          <p:nvSpPr>
            <p:cNvPr id="262" name=""/>
            <p:cNvSpPr/>
            <p:nvPr/>
          </p:nvSpPr>
          <p:spPr>
            <a:xfrm>
              <a:off x="1752480" y="2395080"/>
              <a:ext cx="1581120" cy="1683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590920" y="38095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352680" y="3276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95880" y="2819520"/>
            <a:ext cx="2819520" cy="2439360"/>
            <a:chOff x="6095880" y="2819520"/>
            <a:chExt cx="2819520" cy="2439360"/>
          </a:xfrm>
        </p:grpSpPr>
        <p:sp>
          <p:nvSpPr>
            <p:cNvPr id="266" name=""/>
            <p:cNvSpPr/>
            <p:nvPr/>
          </p:nvSpPr>
          <p:spPr>
            <a:xfrm>
              <a:off x="7162920" y="2819520"/>
              <a:ext cx="1752480" cy="9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Ran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696080" y="3886200"/>
              <a:ext cx="1219320" cy="1372680"/>
              <a:chOff x="7696080" y="3886200"/>
              <a:chExt cx="1219320" cy="1372680"/>
            </a:xfrm>
          </p:grpSpPr>
          <p:sp>
            <p:nvSpPr>
              <p:cNvPr id="268" name=""/>
              <p:cNvSpPr/>
              <p:nvPr/>
            </p:nvSpPr>
            <p:spPr>
              <a:xfrm>
                <a:off x="7696080" y="3886200"/>
                <a:ext cx="121932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32880" y="3948120"/>
                <a:ext cx="8776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 Doc2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 Doc4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 Doc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095880" y="3276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00200" y="2362320"/>
            <a:ext cx="2514600" cy="3428640"/>
            <a:chOff x="1600200" y="2362320"/>
            <a:chExt cx="2514600" cy="3428640"/>
          </a:xfrm>
        </p:grpSpPr>
        <p:grpSp>
          <p:nvGrpSpPr>
            <p:cNvPr id="272" name=""/>
            <p:cNvGrpSpPr/>
            <p:nvPr/>
          </p:nvGrpSpPr>
          <p:grpSpPr>
            <a:xfrm>
              <a:off x="1749240" y="4191120"/>
              <a:ext cx="1962360" cy="914400"/>
              <a:chOff x="1749240" y="4191120"/>
              <a:chExt cx="1962360" cy="914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823760" y="4191120"/>
                <a:ext cx="18288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49240" y="4218120"/>
                <a:ext cx="19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form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2438280" y="5105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657600" y="4647960"/>
              <a:ext cx="457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600200" y="2362320"/>
              <a:ext cx="228600" cy="2286000"/>
              <a:chOff x="1600200" y="2362320"/>
              <a:chExt cx="228600" cy="2286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600200" y="2362320"/>
                <a:ext cx="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0200" y="4648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6DEC-FEBA-4955-82CF-493B3BBCF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sing Relevance Feedback (Rocchio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ce feedback methods can be adapted for text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ndard TF/IDF weighted vectors to represent text documents (normalized by maximum term frequ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compu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by summing the vectors of the training documents in the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est documents to the category with the closest prototype vector based on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E171-00BB-4219-B448-16DE087C58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Rocchio Text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976320" y="2514240"/>
            <a:ext cx="2604960" cy="325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976320" y="5210280"/>
            <a:ext cx="2655720" cy="57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4419720"/>
            <a:ext cx="598320" cy="528480"/>
          </a:xfrm>
          <a:custGeom>
            <a:avLst/>
            <a:gdLst/>
            <a:ahLst/>
            <a:rect l="l" t="t" r="r" b="b"/>
            <a:pathLst>
              <a:path w="425" h="285">
                <a:moveTo>
                  <a:pt x="0" y="0"/>
                </a:moveTo>
                <a:cubicBezTo>
                  <a:pt x="97" y="8"/>
                  <a:pt x="195" y="16"/>
                  <a:pt x="259" y="40"/>
                </a:cubicBezTo>
                <a:cubicBezTo>
                  <a:pt x="323" y="64"/>
                  <a:pt x="357" y="102"/>
                  <a:pt x="385" y="143"/>
                </a:cubicBezTo>
                <a:cubicBezTo>
                  <a:pt x="413" y="184"/>
                  <a:pt x="419" y="234"/>
                  <a:pt x="425" y="28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1760" y="5052960"/>
            <a:ext cx="185760" cy="371520"/>
          </a:xfrm>
          <a:custGeom>
            <a:avLst/>
            <a:gdLst/>
            <a:ahLst/>
            <a:rect l="l" t="t" r="r" b="b"/>
            <a:pathLst>
              <a:path w="138" h="249">
                <a:moveTo>
                  <a:pt x="0" y="0"/>
                </a:moveTo>
                <a:cubicBezTo>
                  <a:pt x="45" y="16"/>
                  <a:pt x="90" y="33"/>
                  <a:pt x="113" y="59"/>
                </a:cubicBezTo>
                <a:cubicBezTo>
                  <a:pt x="136" y="85"/>
                  <a:pt x="136" y="122"/>
                  <a:pt x="137" y="154"/>
                </a:cubicBezTo>
                <a:cubicBezTo>
                  <a:pt x="138" y="186"/>
                  <a:pt x="129" y="217"/>
                  <a:pt x="121" y="2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670D-4926-4352-A9D7-185B17C87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ing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5000" y="1905120"/>
            <a:ext cx="834516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set of categories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&lt;0, 0,…,0&gt;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init. prototype vect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requency normalized TF/IDF term vector for do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um all the document vectors in c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to get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5D77-1D6E-4E23-B17C-F17E94C001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Text Categorization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9120" y="1260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4680" y="1828800"/>
            <a:ext cx="66384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es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TF/IDF weighted term vecto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it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ximum cosSim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ompute similarity to prototype vec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update most similar class prototyp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A443-452D-4EAD-8626-6A75A74C3E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Propertie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uarantee a consistent hypo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 simple generalization of the examples in each class (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vector does not need to be averaged or otherwise normalized for length since cosine similarity is insensitive to vecto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is based on similarity to class proto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B06B-E116-41FC-ADA8-DC98837E27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occhio Anomoly  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models have problems with polymorphic (disjunctive)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2286000"/>
            <a:ext cx="7353360" cy="4046400"/>
            <a:chOff x="914400" y="2286000"/>
            <a:chExt cx="7353360" cy="4046400"/>
          </a:xfrm>
        </p:grpSpPr>
        <p:sp>
          <p:nvSpPr>
            <p:cNvPr id="307" name=""/>
            <p:cNvSpPr/>
            <p:nvPr/>
          </p:nvSpPr>
          <p:spPr>
            <a:xfrm flipV="1">
              <a:off x="916200" y="22860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633240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901800" y="476676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901800" y="511812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14400" y="550512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901800" y="548640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901800" y="574344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901800" y="603252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901800" y="4858920"/>
            <a:ext cx="1866960" cy="1467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01800" y="3432240"/>
            <a:ext cx="2943000" cy="29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76520" y="5257800"/>
            <a:ext cx="371520" cy="190440"/>
            <a:chOff x="1676520" y="5257800"/>
            <a:chExt cx="371520" cy="190440"/>
          </a:xfrm>
        </p:grpSpPr>
        <p:sp>
          <p:nvSpPr>
            <p:cNvPr id="319" name=""/>
            <p:cNvSpPr/>
            <p:nvPr/>
          </p:nvSpPr>
          <p:spPr>
            <a:xfrm>
              <a:off x="1676520" y="5389560"/>
              <a:ext cx="109440" cy="58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0" y="13"/>
                  </a:moveTo>
                  <a:cubicBezTo>
                    <a:pt x="18" y="6"/>
                    <a:pt x="37" y="0"/>
                    <a:pt x="48" y="4"/>
                  </a:cubicBezTo>
                  <a:cubicBezTo>
                    <a:pt x="59" y="8"/>
                    <a:pt x="64" y="22"/>
                    <a:pt x="69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00360" y="5257800"/>
              <a:ext cx="247680" cy="166680"/>
            </a:xfrm>
            <a:custGeom>
              <a:avLst/>
              <a:gdLst/>
              <a:ahLst/>
              <a:rect l="l" t="t" r="r" b="b"/>
              <a:pathLst>
                <a:path w="156" h="105">
                  <a:moveTo>
                    <a:pt x="18" y="0"/>
                  </a:moveTo>
                  <a:lnTo>
                    <a:pt x="0" y="21"/>
                  </a:lnTo>
                  <a:cubicBezTo>
                    <a:pt x="8" y="24"/>
                    <a:pt x="44" y="12"/>
                    <a:pt x="66" y="15"/>
                  </a:cubicBezTo>
                  <a:cubicBezTo>
                    <a:pt x="88" y="18"/>
                    <a:pt x="120" y="24"/>
                    <a:pt x="135" y="39"/>
                  </a:cubicBezTo>
                  <a:cubicBezTo>
                    <a:pt x="150" y="54"/>
                    <a:pt x="153" y="79"/>
                    <a:pt x="156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901800" y="5122440"/>
            <a:ext cx="1052280" cy="1190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D3C1-8F8C-4E8F-B6BF-41056ACB1D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llustration of 3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32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976320" y="4208400"/>
            <a:ext cx="501480" cy="156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965160" y="4822560"/>
            <a:ext cx="587520" cy="950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65160" y="4876920"/>
            <a:ext cx="1397160" cy="90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965160" y="5624280"/>
            <a:ext cx="1614600" cy="16164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965160" y="5361120"/>
            <a:ext cx="1163520" cy="4125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976320" y="4876920"/>
            <a:ext cx="18432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81000" y="4876920"/>
            <a:ext cx="1843200" cy="90936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38160" y="5178600"/>
            <a:ext cx="576360" cy="469800"/>
            <a:chOff x="1838160" y="5178600"/>
            <a:chExt cx="576360" cy="469800"/>
          </a:xfrm>
        </p:grpSpPr>
        <p:sp>
          <p:nvSpPr>
            <p:cNvPr id="334" name=""/>
            <p:cNvSpPr/>
            <p:nvPr/>
          </p:nvSpPr>
          <p:spPr>
            <a:xfrm>
              <a:off x="1838160" y="535788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0"/>
                  </a:moveTo>
                  <a:lnTo>
                    <a:pt x="12" y="18"/>
                  </a:lnTo>
                  <a:cubicBezTo>
                    <a:pt x="14" y="29"/>
                    <a:pt x="13" y="47"/>
                    <a:pt x="12" y="6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5120" y="51786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2"/>
                  </a:moveTo>
                  <a:cubicBezTo>
                    <a:pt x="14" y="1"/>
                    <a:pt x="28" y="0"/>
                    <a:pt x="39" y="5"/>
                  </a:cubicBezTo>
                  <a:cubicBezTo>
                    <a:pt x="50" y="10"/>
                    <a:pt x="60" y="19"/>
                    <a:pt x="63" y="29"/>
                  </a:cubicBezTo>
                  <a:cubicBezTo>
                    <a:pt x="66" y="39"/>
                    <a:pt x="61" y="52"/>
                    <a:pt x="57" y="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9680" y="5181480"/>
              <a:ext cx="204840" cy="466920"/>
            </a:xfrm>
            <a:custGeom>
              <a:avLst/>
              <a:gdLst/>
              <a:ahLst/>
              <a:rect l="l" t="t" r="r" b="b"/>
              <a:pathLst>
                <a:path w="129" h="294">
                  <a:moveTo>
                    <a:pt x="0" y="0"/>
                  </a:moveTo>
                  <a:cubicBezTo>
                    <a:pt x="30" y="11"/>
                    <a:pt x="61" y="22"/>
                    <a:pt x="81" y="42"/>
                  </a:cubicBezTo>
                  <a:cubicBezTo>
                    <a:pt x="101" y="62"/>
                    <a:pt x="117" y="94"/>
                    <a:pt x="123" y="123"/>
                  </a:cubicBezTo>
                  <a:cubicBezTo>
                    <a:pt x="129" y="152"/>
                    <a:pt x="123" y="188"/>
                    <a:pt x="117" y="216"/>
                  </a:cubicBezTo>
                  <a:cubicBezTo>
                    <a:pt x="111" y="244"/>
                    <a:pt x="97" y="269"/>
                    <a:pt x="84" y="2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6986-2A81-4217-AAA0-30DD8DCB34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Nearest Neighbor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240" y="1413000"/>
            <a:ext cx="8304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xampl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orresponding TF-IDF vect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insta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F-IDF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sSi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exampl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decreasing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D.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get most similar neighbors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 majority class of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63B7-5338-49B1-8E59-8C0788AEEF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 Nearest Neighbor Comparis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est Neighbor tends to handle polymorphic categorie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90720" y="2362320"/>
            <a:ext cx="7353360" cy="4046400"/>
            <a:chOff x="990720" y="2362320"/>
            <a:chExt cx="7353360" cy="4046400"/>
          </a:xfrm>
        </p:grpSpPr>
        <p:sp>
          <p:nvSpPr>
            <p:cNvPr id="342" name=""/>
            <p:cNvSpPr/>
            <p:nvPr/>
          </p:nvSpPr>
          <p:spPr>
            <a:xfrm flipV="1">
              <a:off x="992520" y="236232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640872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977760" y="4843080"/>
            <a:ext cx="414360" cy="1552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77760" y="5194440"/>
            <a:ext cx="565200" cy="120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90720" y="5581440"/>
            <a:ext cx="588960" cy="82692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977760" y="5562720"/>
            <a:ext cx="1309680" cy="8460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77760" y="5819760"/>
            <a:ext cx="1290600" cy="58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977760" y="6108840"/>
            <a:ext cx="161604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92160" y="5181480"/>
            <a:ext cx="1052640" cy="119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406520" y="5432400"/>
            <a:ext cx="376200" cy="458640"/>
            <a:chOff x="1406520" y="5432400"/>
            <a:chExt cx="376200" cy="458640"/>
          </a:xfrm>
        </p:grpSpPr>
        <p:sp>
          <p:nvSpPr>
            <p:cNvPr id="353" name=""/>
            <p:cNvSpPr/>
            <p:nvPr/>
          </p:nvSpPr>
          <p:spPr>
            <a:xfrm>
              <a:off x="1449360" y="57513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6"/>
                  </a:moveTo>
                  <a:cubicBezTo>
                    <a:pt x="6" y="8"/>
                    <a:pt x="13" y="0"/>
                    <a:pt x="18" y="1"/>
                  </a:cubicBezTo>
                  <a:cubicBezTo>
                    <a:pt x="23" y="2"/>
                    <a:pt x="28" y="12"/>
                    <a:pt x="33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58800" y="5719680"/>
              <a:ext cx="223920" cy="171360"/>
            </a:xfrm>
            <a:custGeom>
              <a:avLst/>
              <a:gdLst/>
              <a:ahLst/>
              <a:rect l="l" t="t" r="r" b="b"/>
              <a:pathLst>
                <a:path w="162" h="114">
                  <a:moveTo>
                    <a:pt x="0" y="3"/>
                  </a:moveTo>
                  <a:lnTo>
                    <a:pt x="24" y="6"/>
                  </a:lnTo>
                  <a:cubicBezTo>
                    <a:pt x="40" y="6"/>
                    <a:pt x="82" y="0"/>
                    <a:pt x="99" y="3"/>
                  </a:cubicBezTo>
                  <a:cubicBezTo>
                    <a:pt x="116" y="6"/>
                    <a:pt x="120" y="14"/>
                    <a:pt x="129" y="24"/>
                  </a:cubicBezTo>
                  <a:cubicBezTo>
                    <a:pt x="138" y="34"/>
                    <a:pt x="148" y="48"/>
                    <a:pt x="153" y="63"/>
                  </a:cubicBezTo>
                  <a:cubicBezTo>
                    <a:pt x="158" y="78"/>
                    <a:pt x="160" y="96"/>
                    <a:pt x="162" y="1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6520" y="5432400"/>
              <a:ext cx="276120" cy="14436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0" y="34"/>
                  </a:moveTo>
                  <a:cubicBezTo>
                    <a:pt x="29" y="21"/>
                    <a:pt x="58" y="8"/>
                    <a:pt x="81" y="4"/>
                  </a:cubicBezTo>
                  <a:cubicBezTo>
                    <a:pt x="104" y="0"/>
                    <a:pt x="125" y="2"/>
                    <a:pt x="141" y="7"/>
                  </a:cubicBezTo>
                  <a:cubicBezTo>
                    <a:pt x="157" y="12"/>
                    <a:pt x="171" y="20"/>
                    <a:pt x="180" y="34"/>
                  </a:cubicBezTo>
                  <a:cubicBezTo>
                    <a:pt x="189" y="48"/>
                    <a:pt x="192" y="69"/>
                    <a:pt x="195" y="9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F085-58E6-4A14-83B9-125DC3936F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ategorization Method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text are very high dimensional (one feature for each wor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s are sparse since most words are r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Zipf’s law and heavy-tailed distribu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bias algorithms that prevent overfitting in high-dimensional space ar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VMs maximize margin to avoid over-fitting in hi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st text categorization tasks, there are many irrelevant and many relevant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at sum evidence from many or all features (e.g. naïve Bayes, KNN, neural-net, SVM) tend to work better than ones that try to isolate just a few relevant features (decision-tree or rule indu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3B89-6FE6-4E21-92CC-A8358D602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ted Inde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earch through training texts is not sca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ex that points from words to documents that contain them allows more rapid retrieval of similar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top-words are eliminated, the remaining words are rare, so an inverted index narrows attention to a relatively small number of documents that share meaningful vocabulary with the test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DDB2-4E96-47EB-88A5-4DE5D21D23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portant applications of classification to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approach that works well with large, sparse features vectors, since typically each word is a feature and most words are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aïve Bay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NN with cosine similarit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C1DC-48B7-48F4-8A19-76600AD2EB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as generating a bag of words for a document in a given category by repeatedly sampling with replacement from a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e probabilities 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probability estimates with Laplace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timates assuming a uniform distribution over all word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quivalent to a virtual sample of seeing each word in each category exactly o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8AEC-43AD-4787-8A8A-0995DC8900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58920" y="54039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7840" y="51530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 for Tex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943600" y="4266720"/>
            <a:ext cx="1742760" cy="1971720"/>
            <a:chOff x="5943600" y="4266720"/>
            <a:chExt cx="1742760" cy="1971720"/>
          </a:xfrm>
        </p:grpSpPr>
        <p:sp>
          <p:nvSpPr>
            <p:cNvPr id="55" name=""/>
            <p:cNvSpPr/>
            <p:nvPr/>
          </p:nvSpPr>
          <p:spPr>
            <a:xfrm>
              <a:off x="5943600" y="427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814440" y="427176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218280" y="426672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143000" y="4266720"/>
            <a:ext cx="1742760" cy="1971720"/>
            <a:chOff x="1143000" y="4266720"/>
            <a:chExt cx="1742760" cy="1971720"/>
          </a:xfrm>
        </p:grpSpPr>
        <p:sp>
          <p:nvSpPr>
            <p:cNvPr id="59" name=""/>
            <p:cNvSpPr/>
            <p:nvPr/>
          </p:nvSpPr>
          <p:spPr>
            <a:xfrm>
              <a:off x="1143000" y="427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13840" y="427176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417680" y="42667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1360" y="614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0400" y="6176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431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63360" y="5646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3280" y="5397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90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05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4714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7360" y="500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3560" y="5818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52240" y="4995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83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64880" y="4716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86160" y="5246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40520" y="552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90720" y="4348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3080" y="4421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6960" y="5268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61320" y="551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664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1904760"/>
            <a:ext cx="1742760" cy="1971720"/>
            <a:chOff x="3581280" y="1904760"/>
            <a:chExt cx="1742760" cy="1971720"/>
          </a:xfrm>
        </p:grpSpPr>
        <p:sp>
          <p:nvSpPr>
            <p:cNvPr id="84" name=""/>
            <p:cNvSpPr/>
            <p:nvPr/>
          </p:nvSpPr>
          <p:spPr>
            <a:xfrm>
              <a:off x="3581280" y="19159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452120" y="19098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855960" y="1904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732480" y="2590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200" y="2895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8280" y="266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920" y="23623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7400" y="1981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960" y="29718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7760" y="342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460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4680" y="3836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1920" y="5648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8440" y="51674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27040" y="49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90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0EF7-F874-46E3-9051-7C4CC9E47A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052E-006 C -0.01059 -0.04579 -0.02101 -0.09134 -0.02709 -0.1311 C -0.03316 -0.17087 -0.01528 -0.21411 -0.03663 -0.23885 C -0.05799 -0.26359 -0.13577 -0.27214 -0.15556 -0.27908 E">
                                      <p:cBhvr>
                                        <p:cTn id="1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6.99422E-006 C 0.01337 -0.02405 0.02674 -0.04787 0.03021 -0.07608 C 0.03369 -0.10429 0.0283 -0.15076 0.02067 -0.16903 C 0.01303 -0.18729 -0.00972 -0.1829 -0.01579 -0.18614 E">
                                      <p:cBhvr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2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Classification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1560" y="555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50440" y="53197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0480" y="5305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4419360"/>
            <a:ext cx="1742760" cy="1971720"/>
            <a:chOff x="6095880" y="4419360"/>
            <a:chExt cx="1742760" cy="1971720"/>
          </a:xfrm>
        </p:grpSpPr>
        <p:sp>
          <p:nvSpPr>
            <p:cNvPr id="106" name=""/>
            <p:cNvSpPr/>
            <p:nvPr/>
          </p:nvSpPr>
          <p:spPr>
            <a:xfrm>
              <a:off x="6095880" y="44305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966720" y="44244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0560" y="4419360"/>
              <a:ext cx="1206720" cy="12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95280" y="4419360"/>
            <a:ext cx="1742760" cy="1971720"/>
            <a:chOff x="1295280" y="4419360"/>
            <a:chExt cx="1742760" cy="1971720"/>
          </a:xfrm>
        </p:grpSpPr>
        <p:sp>
          <p:nvSpPr>
            <p:cNvPr id="110" name=""/>
            <p:cNvSpPr/>
            <p:nvPr/>
          </p:nvSpPr>
          <p:spPr>
            <a:xfrm>
              <a:off x="1295280" y="443052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166120" y="44244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569960" y="44193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3640" y="6300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93040" y="632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9680" y="5129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597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16000" y="57992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5560" y="5549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05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207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4640" y="486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515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5840" y="5970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4520" y="5148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1600" y="593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1752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8440" y="5398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92800" y="5676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43000" y="4500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5360" y="4573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9240" y="542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13600" y="5670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81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135" name=""/>
            <p:cNvSpPr/>
            <p:nvPr/>
          </p:nvSpPr>
          <p:spPr>
            <a:xfrm>
              <a:off x="3657600" y="275400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28440" y="2747880"/>
              <a:ext cx="871560" cy="196056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0880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160" y="3733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5120" y="4038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4600" y="3505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33240" y="32004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3720" y="2819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1280" y="38098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080" y="4267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092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0640" y="4675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2560" y="152388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lotttery $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150" name="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2880" y="1828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C3EC-1004-4136-96BE-38246448E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rain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200" y="1600200"/>
            <a:ext cx="85885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vocabulary of all words in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subset of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concatenation of all the docum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otal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number of occurr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/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79D-0C72-42F5-88BC-2BA2DB47B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Naïve Bayes Algorithm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Tes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440" y="1676520"/>
            <a:ext cx="78307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test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umber of word occurrenc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he 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word occurr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posi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2895480"/>
                <a:ext cx="38098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4D66-41A7-46E4-8C13-D7294F1C01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derflow Preven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ing lots of probabilities, which are between 0 and 1 by definition, can result in floating-point under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it is better to perform all computations by summing logs of probabilities rather than multiplying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highest final un-normalized log probability score is still the most prob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772B-4FA8-44A8-9D75-B19C238B8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6-11-24T15:37:39Z</dcterms:modified>
  <cp:revision>54</cp:revision>
  <dc:subject/>
  <dc:title>Intelligent Information Retrieval and Web Search</dc:title>
</cp:coreProperties>
</file>