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78ED-9530-4697-9B7C-F30C49C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254D-3EB9-4921-8557-69FAC21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6B9E-2E69-4FC8-933C-10249F52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0B02-9545-442B-B267-D75AB25A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A5CD-F896-45D2-94FA-2467E51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1F9D-4EBC-4F53-A5F7-5AC010A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A5D1-A540-493D-9E1B-B76C53B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C752-7D71-42A4-A7AC-0415285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5F00-8FEB-403C-A011-A0EAA2F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8529-CF68-4477-96DF-502F708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F1F0-BD1B-4F3E-BA24-F883B1E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1E37-3188-4AB7-95AE-8DF7477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58D-A41F-404E-BCEC-5F2ADD61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3CD4-E4FF-44FB-9FF5-28D5C326A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Posterior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results of naïve Bayes (the class with maximum posterior probability) are usually fairly accu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ue to the inadequacy of the conditional independence assumption, the actual posterior-probability numerical estimate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utput probabilities are generally very close to 0 or 1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5F35-EF07-4E10-BA92-937CE9985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ual Similarity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ing similarity of two texts is a well-studi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etrics are based on a “bag of words” model of a document that ignores word order and syntactic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volve removing common “stop words” and stemming to reduce words to their roo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-space model from Information Retrieval (IR) is the standard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metrics (e.g. edit-distance) are also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9668-03E6-4729-A821-95E54D5C4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he Vector-Space Model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tinct terms remain after preprocessing; call them index terms or the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“orthogonal” terms form a vect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imension =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= |vocabulary|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 in a document or que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given a real-valued weigh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documents and queries are expressed as       t-dimensional ve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=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1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, 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2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, …, 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t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ECE6-FB23-4FA0-ABED-AC43DA139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Graphic Representa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453680"/>
            <a:ext cx="2519280" cy="152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79840" y="4419720"/>
            <a:ext cx="3597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87920" y="1828800"/>
            <a:ext cx="7010640" cy="4176720"/>
            <a:chOff x="1087920" y="1828800"/>
            <a:chExt cx="7010640" cy="4176720"/>
          </a:xfrm>
        </p:grpSpPr>
        <p:sp>
          <p:nvSpPr>
            <p:cNvPr id="170" name=""/>
            <p:cNvSpPr/>
            <p:nvPr/>
          </p:nvSpPr>
          <p:spPr>
            <a:xfrm>
              <a:off x="4882320" y="18432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1000" y="4405320"/>
              <a:ext cx="301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20840" y="4402080"/>
              <a:ext cx="251928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40120" y="182880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190760" y="4391280"/>
              <a:ext cx="115884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5320" y="5181840"/>
              <a:ext cx="753840" cy="1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191120" y="320040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190760" y="3047760"/>
              <a:ext cx="549000" cy="1306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34840" y="4419720"/>
              <a:ext cx="212580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690280" y="5722560"/>
              <a:ext cx="88596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11520" y="541008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93880" y="4384800"/>
              <a:ext cx="1127160" cy="105732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740120" y="3810240"/>
              <a:ext cx="0" cy="591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01480" y="43434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48600" y="5558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1920" y="3200400"/>
              <a:ext cx="208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=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+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5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7920" y="4800600"/>
              <a:ext cx="206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=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7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 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15000" y="3657600"/>
              <a:ext cx="207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 =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90760" y="2743200"/>
              <a:ext cx="53316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3048120"/>
              <a:ext cx="457200" cy="165240"/>
            </a:xfrm>
            <a:custGeom>
              <a:avLst/>
              <a:gdLst/>
              <a:ahLst/>
              <a:rect l="l" t="t" r="r" b="b"/>
              <a:pathLst>
                <a:path w="288" h="104">
                  <a:moveTo>
                    <a:pt x="0" y="104"/>
                  </a:moveTo>
                  <a:cubicBezTo>
                    <a:pt x="8" y="60"/>
                    <a:pt x="16" y="16"/>
                    <a:pt x="48" y="8"/>
                  </a:cubicBezTo>
                  <a:cubicBezTo>
                    <a:pt x="80" y="0"/>
                    <a:pt x="152" y="48"/>
                    <a:pt x="192" y="56"/>
                  </a:cubicBezTo>
                  <a:cubicBezTo>
                    <a:pt x="232" y="64"/>
                    <a:pt x="260" y="60"/>
                    <a:pt x="288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0560" y="4997520"/>
              <a:ext cx="450720" cy="336600"/>
            </a:xfrm>
            <a:custGeom>
              <a:avLst/>
              <a:gdLst/>
              <a:ahLst/>
              <a:rect l="l" t="t" r="r" b="b"/>
              <a:pathLst>
                <a:path w="284" h="212">
                  <a:moveTo>
                    <a:pt x="0" y="13"/>
                  </a:moveTo>
                  <a:cubicBezTo>
                    <a:pt x="23" y="16"/>
                    <a:pt x="92" y="0"/>
                    <a:pt x="139" y="33"/>
                  </a:cubicBezTo>
                  <a:cubicBezTo>
                    <a:pt x="186" y="66"/>
                    <a:pt x="254" y="175"/>
                    <a:pt x="284" y="2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9720" y="5410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78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29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572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181480" y="4952880"/>
            <a:ext cx="3353040" cy="122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re similar to Q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measure the degree of similarity? Distance? Angle? Proje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F9FD-B595-4597-8890-BC3F6C780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ocument Collec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94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cuments can be represented in the vector space model by a term-document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ntry in the matrix corresponds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weight” of a term in the doc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zero means the term has no significance in the document or it simply doesn’t exist in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95480" y="3505320"/>
            <a:ext cx="3352680" cy="2906280"/>
            <a:chOff x="2895480" y="3505320"/>
            <a:chExt cx="3352680" cy="2906280"/>
          </a:xfrm>
        </p:grpSpPr>
        <p:grpSp>
          <p:nvGrpSpPr>
            <p:cNvPr id="199" name=""/>
            <p:cNvGrpSpPr/>
            <p:nvPr/>
          </p:nvGrpSpPr>
          <p:grpSpPr>
            <a:xfrm>
              <a:off x="2895480" y="3505320"/>
              <a:ext cx="3319920" cy="2500200"/>
              <a:chOff x="2895480" y="3505320"/>
              <a:chExt cx="3319920" cy="2500200"/>
            </a:xfrm>
          </p:grpSpPr>
          <p:sp>
            <p:nvSpPr>
              <p:cNvPr id="200" name=""/>
              <p:cNvSpPr/>
              <p:nvPr/>
            </p:nvSpPr>
            <p:spPr>
              <a:xfrm>
                <a:off x="2895480" y="3505320"/>
                <a:ext cx="245880" cy="2500200"/>
              </a:xfrm>
              <a:custGeom>
                <a:avLst/>
                <a:gdLst>
                  <a:gd name="textAreaLeft" fmla="*/ 72360 w 245880"/>
                  <a:gd name="textAreaRight" fmla="*/ 246240 w 245880"/>
                  <a:gd name="textAreaTop" fmla="*/ 104040 h 2500200"/>
                  <a:gd name="textAreaBottom" fmla="*/ 2396160 h 25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33240" y="3505320"/>
                <a:ext cx="182160" cy="2484360"/>
              </a:xfrm>
              <a:custGeom>
                <a:avLst/>
                <a:gdLst>
                  <a:gd name="textAreaLeft" fmla="*/ 0 w 182160"/>
                  <a:gd name="textAreaRight" fmla="*/ 127800 w 182160"/>
                  <a:gd name="textAreaTop" fmla="*/ 118800 h 2484360"/>
                  <a:gd name="textAreaBottom" fmla="*/ 2365560 h 248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35"/>
                      <a:pt x="21600" y="2070"/>
                    </a:cubicBezTo>
                    <a:lnTo>
                      <a:pt x="21600" y="19530"/>
                    </a:lnTo>
                    <a:cubicBezTo>
                      <a:pt x="21600" y="20565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059280" y="3505320"/>
              <a:ext cx="318888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   ….   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:      :          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:      :          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6CBB-1A79-4410-B732-4F7F6DE3D6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erm Weights: Term Frequency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frequent terms in a document are more important, i.e. more indicative of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= frequency of term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 want to 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 by dividing by the frequency of the most common term in the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t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=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/ max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5904-36B9-460B-82C4-EACBADC9D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345960"/>
            <a:ext cx="792468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rm Weights: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verse Document Frequency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s that appear in m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er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ive of overall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number of documents containing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inverse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N: total number of doc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dication of a term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cr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g used to dampen the effect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94F4-40E0-4E11-A570-D46D40448E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F-IDF Weight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combined term importance indic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 weigh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erm occurring frequently in the document but rarely in the rest of the collection is given hig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ther ways of determining term weight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eriment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found to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811F-CBA7-467F-B28F-FE4537365C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Cosine Similarity Measure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ine similarity measures the cosine of the angle between two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er product normalized by the vector 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419720"/>
            <a:ext cx="7924680" cy="113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10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4+9+25)(0+0+4) = 0.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 2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9+49+1)(0+0+4) = 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01280" y="1295280"/>
            <a:ext cx="2476440" cy="3152160"/>
            <a:chOff x="6101280" y="1295280"/>
            <a:chExt cx="2476440" cy="3152160"/>
          </a:xfrm>
        </p:grpSpPr>
        <p:sp>
          <p:nvSpPr>
            <p:cNvPr id="214" name=""/>
            <p:cNvSpPr/>
            <p:nvPr/>
          </p:nvSpPr>
          <p:spPr>
            <a:xfrm>
              <a:off x="6842520" y="299376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18880" y="13064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83240" y="3166920"/>
              <a:ext cx="11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93880" y="3163680"/>
              <a:ext cx="108108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375320" y="1295280"/>
              <a:ext cx="0" cy="18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894360" y="2392200"/>
              <a:ext cx="466560" cy="7682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790680" y="3151080"/>
              <a:ext cx="576360" cy="116496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7375320" y="2543040"/>
              <a:ext cx="0" cy="62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52280" y="30985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01280" y="38048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2880" y="2500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0000" y="3854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41200" y="2671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3720" y="2516040"/>
              <a:ext cx="4521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4" y="782"/>
                  </a:moveTo>
                  <a:arcTo wR="10800" hR="10800" stAng="-6716565" swAng="6716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4" y="782"/>
                  </a:moveTo>
                  <a:arcTo wR="10800" hR="10800" stAng="-6716565" swAng="67165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126200" y="2803320"/>
              <a:ext cx="396000" cy="164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49080" y="200304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68240" y="5562720"/>
            <a:ext cx="7842240" cy="7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6 times bet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ing cosine similarity but only 5 times better using inner pro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16120" y="2666880"/>
                <a:ext cx="3695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j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q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762120" y="3048120"/>
            <a:ext cx="24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B235-969F-44C9-A4D3-5709D96AE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in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nitial retrieval results are presented, allow the user to provide feedback on the relevance of one or more of the retrieve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feedback information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new results based on reformulate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ore interactive, multi-pas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3CCE-7694-473E-80EB-53BB3E851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ahoo-like classifi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/Blog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timent analysis for marke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ioritizing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lderiz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vertising on G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F1E7-5871-46D8-8D26-077D59B41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245" name="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248" name="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066680" y="5181480"/>
            <a:ext cx="3258720" cy="1447920"/>
            <a:chOff x="1066680" y="5181480"/>
            <a:chExt cx="3258720" cy="1447920"/>
          </a:xfrm>
        </p:grpSpPr>
        <p:grpSp>
          <p:nvGrpSpPr>
            <p:cNvPr id="251" name=""/>
            <p:cNvGrpSpPr/>
            <p:nvPr/>
          </p:nvGrpSpPr>
          <p:grpSpPr>
            <a:xfrm>
              <a:off x="2364480" y="5181480"/>
              <a:ext cx="1960920" cy="1447920"/>
              <a:chOff x="2364480" y="5181480"/>
              <a:chExt cx="1960920" cy="144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28195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644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066680" y="5791320"/>
              <a:ext cx="1676520" cy="685800"/>
              <a:chOff x="1066680" y="5791320"/>
              <a:chExt cx="1676520" cy="685800"/>
            </a:xfrm>
          </p:grpSpPr>
          <p:sp>
            <p:nvSpPr>
              <p:cNvPr id="255" name=""/>
              <p:cNvSpPr/>
              <p:nvPr/>
            </p:nvSpPr>
            <p:spPr>
              <a:xfrm>
                <a:off x="1066680" y="5791320"/>
                <a:ext cx="1676520" cy="685800"/>
              </a:xfrm>
              <a:prstGeom prst="wedgeRoundRectCallout">
                <a:avLst>
                  <a:gd name="adj1" fmla="val -53407"/>
                  <a:gd name="adj2" fmla="val -318055"/>
                  <a:gd name="adj3" fmla="val 16667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18600" y="586728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edb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258" name="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52480" y="2395080"/>
            <a:ext cx="1581120" cy="1795680"/>
            <a:chOff x="1752480" y="2395080"/>
            <a:chExt cx="1581120" cy="1795680"/>
          </a:xfrm>
        </p:grpSpPr>
        <p:sp>
          <p:nvSpPr>
            <p:cNvPr id="262" name=""/>
            <p:cNvSpPr/>
            <p:nvPr/>
          </p:nvSpPr>
          <p:spPr>
            <a:xfrm>
              <a:off x="1752480" y="2395080"/>
              <a:ext cx="1581120" cy="1683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59092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266" name="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268" name="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272" name="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79A5-48E7-4A35-934F-6FA28AEDE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evance Feedback (Rocchio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ce feedback methods can be adapted for text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TF/IDF weighted vectors to represent text documents (normalized by maximum term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compu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by summing the vectors of the training documents in the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est documents to the category with the closest prototype vector based on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7A84-2B7B-4731-9D00-BACAC7130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Rocchio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976320" y="2514240"/>
            <a:ext cx="2604960" cy="325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976320" y="5210280"/>
            <a:ext cx="2655720" cy="57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4419720"/>
            <a:ext cx="598320" cy="528480"/>
          </a:xfrm>
          <a:custGeom>
            <a:avLst/>
            <a:gdLst/>
            <a:ahLst/>
            <a:rect l="l" t="t" r="r" b="b"/>
            <a:pathLst>
              <a:path w="425" h="285">
                <a:moveTo>
                  <a:pt x="0" y="0"/>
                </a:moveTo>
                <a:cubicBezTo>
                  <a:pt x="97" y="8"/>
                  <a:pt x="195" y="16"/>
                  <a:pt x="259" y="40"/>
                </a:cubicBezTo>
                <a:cubicBezTo>
                  <a:pt x="323" y="64"/>
                  <a:pt x="357" y="102"/>
                  <a:pt x="385" y="143"/>
                </a:cubicBezTo>
                <a:cubicBezTo>
                  <a:pt x="413" y="184"/>
                  <a:pt x="419" y="234"/>
                  <a:pt x="425" y="28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1760" y="5052960"/>
            <a:ext cx="185760" cy="371520"/>
          </a:xfrm>
          <a:custGeom>
            <a:avLst/>
            <a:gdLst/>
            <a:ahLst/>
            <a:rect l="l" t="t" r="r" b="b"/>
            <a:pathLst>
              <a:path w="138" h="249">
                <a:moveTo>
                  <a:pt x="0" y="0"/>
                </a:moveTo>
                <a:cubicBezTo>
                  <a:pt x="45" y="16"/>
                  <a:pt x="90" y="33"/>
                  <a:pt x="113" y="59"/>
                </a:cubicBezTo>
                <a:cubicBezTo>
                  <a:pt x="136" y="85"/>
                  <a:pt x="136" y="122"/>
                  <a:pt x="137" y="154"/>
                </a:cubicBezTo>
                <a:cubicBezTo>
                  <a:pt x="138" y="186"/>
                  <a:pt x="129" y="217"/>
                  <a:pt x="121" y="2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2D46-74EA-4684-9D50-A6F9B3A785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in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5000" y="1905120"/>
            <a:ext cx="834516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set of categories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&lt;0, 0,…,0&gt;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init. prototype vect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requency normalized TF/IDF term vector for do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um all the document vectors in c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to get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5B10-4982-471E-8085-D52DBE67A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9120" y="1260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4680" y="1828800"/>
            <a:ext cx="66384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es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TF/IDF weighted term vecto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it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ximum cosSi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mpute similarity to prototype vec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update most similar class prototyp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F690-B805-463A-A1F5-7B6CB28359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Properti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uarantee a consistent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 simple generalization of the examples in each class (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vector does not need to be averaged or otherwise normalized for length since cosine similarity is insensitive to vecto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is based on similarity to class proto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BBA8-8DB9-4E7F-8546-A0F7A0557D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Anomoly 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models have problems with polymorphic (disjunctive)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2286000"/>
            <a:ext cx="7353360" cy="4046400"/>
            <a:chOff x="914400" y="2286000"/>
            <a:chExt cx="7353360" cy="4046400"/>
          </a:xfrm>
        </p:grpSpPr>
        <p:sp>
          <p:nvSpPr>
            <p:cNvPr id="307" name=""/>
            <p:cNvSpPr/>
            <p:nvPr/>
          </p:nvSpPr>
          <p:spPr>
            <a:xfrm flipV="1">
              <a:off x="916200" y="22860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633240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901800" y="476676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901800" y="511812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14400" y="550512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901800" y="548640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901800" y="574344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901800" y="603252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901800" y="4858920"/>
            <a:ext cx="1866960" cy="1467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01800" y="3432240"/>
            <a:ext cx="2943000" cy="29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76520" y="5257800"/>
            <a:ext cx="371520" cy="190440"/>
            <a:chOff x="1676520" y="5257800"/>
            <a:chExt cx="371520" cy="190440"/>
          </a:xfrm>
        </p:grpSpPr>
        <p:sp>
          <p:nvSpPr>
            <p:cNvPr id="319" name=""/>
            <p:cNvSpPr/>
            <p:nvPr/>
          </p:nvSpPr>
          <p:spPr>
            <a:xfrm>
              <a:off x="1676520" y="5389560"/>
              <a:ext cx="109440" cy="58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0" y="13"/>
                  </a:moveTo>
                  <a:cubicBezTo>
                    <a:pt x="18" y="6"/>
                    <a:pt x="37" y="0"/>
                    <a:pt x="48" y="4"/>
                  </a:cubicBezTo>
                  <a:cubicBezTo>
                    <a:pt x="59" y="8"/>
                    <a:pt x="64" y="22"/>
                    <a:pt x="69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00360" y="5257800"/>
              <a:ext cx="247680" cy="166680"/>
            </a:xfrm>
            <a:custGeom>
              <a:avLst/>
              <a:gdLst/>
              <a:ahLst/>
              <a:rect l="l" t="t" r="r" b="b"/>
              <a:pathLst>
                <a:path w="156" h="105">
                  <a:moveTo>
                    <a:pt x="18" y="0"/>
                  </a:moveTo>
                  <a:lnTo>
                    <a:pt x="0" y="21"/>
                  </a:lnTo>
                  <a:cubicBezTo>
                    <a:pt x="8" y="24"/>
                    <a:pt x="44" y="12"/>
                    <a:pt x="66" y="15"/>
                  </a:cubicBezTo>
                  <a:cubicBezTo>
                    <a:pt x="88" y="18"/>
                    <a:pt x="120" y="24"/>
                    <a:pt x="135" y="39"/>
                  </a:cubicBezTo>
                  <a:cubicBezTo>
                    <a:pt x="150" y="54"/>
                    <a:pt x="153" y="79"/>
                    <a:pt x="156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29AE-A3A7-463A-B7BD-19759B72F4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3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2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38160" y="5178600"/>
            <a:ext cx="576360" cy="469800"/>
            <a:chOff x="1838160" y="5178600"/>
            <a:chExt cx="576360" cy="469800"/>
          </a:xfrm>
        </p:grpSpPr>
        <p:sp>
          <p:nvSpPr>
            <p:cNvPr id="334" name=""/>
            <p:cNvSpPr/>
            <p:nvPr/>
          </p:nvSpPr>
          <p:spPr>
            <a:xfrm>
              <a:off x="1838160" y="535788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0"/>
                  </a:moveTo>
                  <a:lnTo>
                    <a:pt x="12" y="18"/>
                  </a:lnTo>
                  <a:cubicBezTo>
                    <a:pt x="14" y="29"/>
                    <a:pt x="13" y="47"/>
                    <a:pt x="12" y="6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5120" y="51786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2"/>
                  </a:moveTo>
                  <a:cubicBezTo>
                    <a:pt x="14" y="1"/>
                    <a:pt x="28" y="0"/>
                    <a:pt x="39" y="5"/>
                  </a:cubicBezTo>
                  <a:cubicBezTo>
                    <a:pt x="50" y="10"/>
                    <a:pt x="60" y="19"/>
                    <a:pt x="63" y="29"/>
                  </a:cubicBezTo>
                  <a:cubicBezTo>
                    <a:pt x="66" y="39"/>
                    <a:pt x="61" y="52"/>
                    <a:pt x="57" y="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9680" y="5181480"/>
              <a:ext cx="204840" cy="466920"/>
            </a:xfrm>
            <a:custGeom>
              <a:avLst/>
              <a:gdLst/>
              <a:ahLst/>
              <a:rect l="l" t="t" r="r" b="b"/>
              <a:pathLst>
                <a:path w="129" h="294">
                  <a:moveTo>
                    <a:pt x="0" y="0"/>
                  </a:moveTo>
                  <a:cubicBezTo>
                    <a:pt x="30" y="11"/>
                    <a:pt x="61" y="22"/>
                    <a:pt x="81" y="42"/>
                  </a:cubicBezTo>
                  <a:cubicBezTo>
                    <a:pt x="101" y="62"/>
                    <a:pt x="117" y="94"/>
                    <a:pt x="123" y="123"/>
                  </a:cubicBezTo>
                  <a:cubicBezTo>
                    <a:pt x="129" y="152"/>
                    <a:pt x="123" y="188"/>
                    <a:pt x="117" y="216"/>
                  </a:cubicBezTo>
                  <a:cubicBezTo>
                    <a:pt x="111" y="244"/>
                    <a:pt x="97" y="269"/>
                    <a:pt x="84" y="2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E938-47D3-4EFF-8CEA-FB452581B4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240" y="1413000"/>
            <a:ext cx="8304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orresponding TF-IDF vect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insta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F-IDF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decreasing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D.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get most similar neighb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 majority class of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8ED1-4A23-4037-B428-8DC72B3EB2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Comparis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tends to handle polymorphic categorie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90720" y="2362320"/>
            <a:ext cx="7353360" cy="4046400"/>
            <a:chOff x="990720" y="2362320"/>
            <a:chExt cx="7353360" cy="4046400"/>
          </a:xfrm>
        </p:grpSpPr>
        <p:sp>
          <p:nvSpPr>
            <p:cNvPr id="342" name=""/>
            <p:cNvSpPr/>
            <p:nvPr/>
          </p:nvSpPr>
          <p:spPr>
            <a:xfrm flipV="1">
              <a:off x="992520" y="236232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640872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977760" y="484308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77760" y="519444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90720" y="558144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977760" y="556272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77760" y="581976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977760" y="610884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406520" y="5432400"/>
            <a:ext cx="376200" cy="458640"/>
            <a:chOff x="1406520" y="5432400"/>
            <a:chExt cx="376200" cy="458640"/>
          </a:xfrm>
        </p:grpSpPr>
        <p:sp>
          <p:nvSpPr>
            <p:cNvPr id="353" name=""/>
            <p:cNvSpPr/>
            <p:nvPr/>
          </p:nvSpPr>
          <p:spPr>
            <a:xfrm>
              <a:off x="1449360" y="57513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6"/>
                  </a:moveTo>
                  <a:cubicBezTo>
                    <a:pt x="6" y="8"/>
                    <a:pt x="13" y="0"/>
                    <a:pt x="18" y="1"/>
                  </a:cubicBezTo>
                  <a:cubicBezTo>
                    <a:pt x="23" y="2"/>
                    <a:pt x="28" y="12"/>
                    <a:pt x="33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58800" y="5719680"/>
              <a:ext cx="223920" cy="171360"/>
            </a:xfrm>
            <a:custGeom>
              <a:avLst/>
              <a:gdLst/>
              <a:ahLst/>
              <a:rect l="l" t="t" r="r" b="b"/>
              <a:pathLst>
                <a:path w="162" h="114">
                  <a:moveTo>
                    <a:pt x="0" y="3"/>
                  </a:moveTo>
                  <a:lnTo>
                    <a:pt x="24" y="6"/>
                  </a:lnTo>
                  <a:cubicBezTo>
                    <a:pt x="40" y="6"/>
                    <a:pt x="82" y="0"/>
                    <a:pt x="99" y="3"/>
                  </a:cubicBezTo>
                  <a:cubicBezTo>
                    <a:pt x="116" y="6"/>
                    <a:pt x="120" y="14"/>
                    <a:pt x="129" y="24"/>
                  </a:cubicBezTo>
                  <a:cubicBezTo>
                    <a:pt x="138" y="34"/>
                    <a:pt x="148" y="48"/>
                    <a:pt x="153" y="63"/>
                  </a:cubicBezTo>
                  <a:cubicBezTo>
                    <a:pt x="158" y="78"/>
                    <a:pt x="160" y="96"/>
                    <a:pt x="162" y="1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6520" y="5432400"/>
              <a:ext cx="276120" cy="1443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34"/>
                  </a:moveTo>
                  <a:cubicBezTo>
                    <a:pt x="29" y="21"/>
                    <a:pt x="58" y="8"/>
                    <a:pt x="81" y="4"/>
                  </a:cubicBezTo>
                  <a:cubicBezTo>
                    <a:pt x="104" y="0"/>
                    <a:pt x="125" y="2"/>
                    <a:pt x="141" y="7"/>
                  </a:cubicBezTo>
                  <a:cubicBezTo>
                    <a:pt x="157" y="12"/>
                    <a:pt x="171" y="20"/>
                    <a:pt x="180" y="34"/>
                  </a:cubicBezTo>
                  <a:cubicBezTo>
                    <a:pt x="189" y="48"/>
                    <a:pt x="192" y="69"/>
                    <a:pt x="195" y="9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0DA2-7BEE-4D53-9107-A5AECE6D68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text are very high dimensional (one feature for each wor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s are sparse since most words are r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Zipf’s law and heavy-tailed distribu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bias algorithms that prevent overfitting in high-dimensional space ar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s maximize margin to avoid over-fitting in hi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st text categorization tasks, there are many irrelevant and many relevant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at sum evidence from many or all features (e.g. naïve Bayes, KNN, neural-net, SVM) tend to work better than ones that try to isolate just a few relevant features (decision-tree or rule indu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506B-F5C4-49BC-86F6-8AA4ABDDA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ted Inde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earch through training texts is not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ex that points from words to documents that contain them allows more rapid retrieval of similar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top-words are eliminated, the remaining words are rare, so an inverted index narrows attention to a relatively small number of documents that share meaningful vocabulary with the test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5CC0-75F4-4DB3-ADD0-FFC6D43991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portant applications of classification to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approach that works well with large, sparse features vectors, since typically each word is a feature and most words are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aïve Bay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NN with cosine similarit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04D5-EF66-4111-A587-B9FBE1E1D3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4566-30A9-4B91-8715-0ED4186A23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55" name=""/>
            <p:cNvSpPr/>
            <p:nvPr/>
          </p:nvSpPr>
          <p:spPr>
            <a:xfrm>
              <a:off x="5943600" y="427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814440" y="427176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59" name=""/>
            <p:cNvSpPr/>
            <p:nvPr/>
          </p:nvSpPr>
          <p:spPr>
            <a:xfrm>
              <a:off x="1143000" y="427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13840" y="427176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84" name=""/>
            <p:cNvSpPr/>
            <p:nvPr/>
          </p:nvSpPr>
          <p:spPr>
            <a:xfrm>
              <a:off x="3581280" y="19159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452120" y="19098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B9F7-0516-48C8-81B1-ED5D55659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1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2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106" name=""/>
            <p:cNvSpPr/>
            <p:nvPr/>
          </p:nvSpPr>
          <p:spPr>
            <a:xfrm>
              <a:off x="6095880" y="44305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966720" y="44244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110" name=""/>
            <p:cNvSpPr/>
            <p:nvPr/>
          </p:nvSpPr>
          <p:spPr>
            <a:xfrm>
              <a:off x="1295280" y="44305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166120" y="44244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135" name=""/>
            <p:cNvSpPr/>
            <p:nvPr/>
          </p:nvSpPr>
          <p:spPr>
            <a:xfrm>
              <a:off x="3657600" y="27540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28440" y="274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150" name="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075D-AB4F-40F4-9EF6-E40CBA45E2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1690-7CB1-4B1B-B883-721F97FDDC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21D0-6F7E-4DBB-99CD-2F436004E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80DA-31D7-419E-B405-1F1DF15678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1-24T15:37:39Z</dcterms:modified>
  <cp:revision>54</cp:revision>
  <dc:subject/>
  <dc:title>Intelligent Information Retrieval and Web Search</dc:title>
</cp:coreProperties>
</file>