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11AD-BEC1-4877-8D94-2318A1D3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AB06-BD44-4E79-8263-35073F4D0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DDBB-C314-4CCB-B52B-60427ADC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D4A6-A97E-4DD4-8DBF-A08EC87EA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6E45-FDC4-44B6-8908-D5757D228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5C28-A8E1-4911-8A80-D663FE3A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B3D1-20E6-4100-BA44-EB74C20C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D08F-C7C3-40E5-9659-A794AF850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11CF-4333-46F1-9627-EB8B0B41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EC8B-8DD4-470F-A9D8-CF9CA8D6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DE19-DE21-4BDA-99E9-F5D32743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1E60-D2C3-4BC5-8C3B-FE1C2D57F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94F1-4A22-4771-9E87-FF2FB2336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A76E-558F-40A3-B8EB-6F0A460C1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A31E-63C5-40C5-A8D7-B0461910D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012D-D066-4291-A1C6-DEF38BBE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A39F-1252-4B87-9605-9F71945D0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A03F-613C-4AA3-9B0F-14A1AFBAF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54B-0504-4006-A336-399742E82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2553-0DB6-4707-8046-5561989FD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1E7C-4396-43EE-AB96-45FC9F16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178-C2E5-4ECB-889B-2C408DA2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2F2-6C0D-4F53-9A6B-546F6439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F55C-74B0-4A78-B2C4-894447B98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4EA-9BD3-40D1-806F-1707E50A4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A0E3-2409-480F-BD0B-59DF83EEF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A94B-0076-478D-ADD2-506A270B6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86E-C507-4FB7-B77F-50957F4F9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48D1-F6C9-464B-9E58-39DD68379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7B23-CC04-4C94-B41A-AB217EFCF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DE0B-F77F-43A8-B1ED-6A8E961E8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D43-F31B-4A09-BC7E-D290003A6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34F8-1146-4971-A33B-656375D27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AEDF-0F07-4223-8997-D3F0EBE9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DE2A-11A6-4FFE-8C77-4CF82AEDD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1F0E-9FC2-4BA1-A7A3-5F893B03A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8A7B-09A1-4259-A3D5-47784AF6C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B9C2-6559-415D-AB2D-9A1DD43B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981A-4821-4B12-A4C4-BC702083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EFCBFA-5089-42F6-8A68-7F1EA8E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826AF0-CDEB-47D7-B14A-944EF394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C57AA-4E94-4D7F-A2D9-A8F389C5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B7C11-946D-475E-9643-2C98CE1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23289-E782-4431-9D1D-377D8D3A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5F7175-FFFF-411F-8A34-6640BFA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C0C83-F81F-440E-8656-780965FE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E19F22-E615-4862-B59D-3FC62E79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26323C-579F-44B6-924A-2E5CDD03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72F978-B48A-4507-B0C9-BA92D643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3DF7-21D0-4481-A575-4541A0B9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A63B45-CCF7-45C8-9579-B5CDCD0A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9FA5C8-C5AF-4B7D-9FA2-69FA314E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04DFA2-B3E0-4726-8C48-AAFBAFE1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436961-FEA9-4945-9E6D-567A95F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469FB1-5F55-4B03-AC07-02B05BFF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EC3801-4ACE-4197-8DF3-25670A88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21D7D3-705B-4283-9D17-849A559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29DCE8-BF80-4F6C-B62D-DCD6AC8D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8BA984-2C48-42C6-9F08-098FE16B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E4448D-9FD1-4240-8B71-40E7F3A1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2A9C-E607-4D79-B23D-2F7938F2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B08C66-C884-4E25-A650-2A45ED45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6299F7-02F3-45C1-8F87-27200106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5EF1B2-49F7-416A-8F11-5CD498CB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F49B9F-B39C-40F8-98F8-2B257578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357EFB-BE8C-4D91-9220-D4AEA5C3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9B4D51-243E-4D40-A79E-FFB27143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2EB08D-E15F-4C81-8987-FAC2DD88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2B0F5E-54A3-45C9-A230-9182FEB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3D34C7-6278-45DF-B07A-0D88577D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A0FF4A-5AC0-4C92-A2DC-FBFFAABF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FF7C2-AC15-4BE0-8C68-E8A3DF92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EDFD82-88DC-42B2-9186-7247E02A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81943C-B1D5-4CA1-8EFF-D7EC4643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6D57F-08BB-43FF-9370-A0EDCFE6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3C9A54-4F01-4222-B803-44B6A587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2B6080-0123-44F7-9359-5D42305B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197129-55A9-4C67-8B99-B70EEC63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05F1D3-5C27-45C4-9A80-6D53E9CF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7BE3BD-4A1E-4B35-A3CF-A22BB9D5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839182-C70C-4D7D-8046-225A82B8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682D41-DA87-47CF-A4FE-EF08CCD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AD1C9-A39D-4FEC-8FB8-0228A8E8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79DCEA-B458-4891-AE42-8F94B71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8A117B-DE2B-43B6-82B9-5CB892D5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8F262D-5342-4EE8-864B-393F636E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CCD39C-3078-427A-BA84-BD75F36A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424309-D5A1-4742-BE77-0E49DB3B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2D51CE-36F2-4865-9914-6C7754F9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D1D146-D4E4-48CF-B31F-2B9C4047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7BD59F-00AB-43BF-B4C2-9C1BE82A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AA80B8-94CA-4B65-BE18-45A654D0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A478E9-2139-4DC8-9835-201C3C54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DE28F-DF15-41E7-93BB-08569795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789770-82EF-4DB2-BFB6-C46D6041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B109BF-274B-4DD6-AE4C-80CF889E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5F7DD9-F7EC-4B8B-9832-D0D69A6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F43C0D-2548-4FC7-930A-C0121FC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5AB578-BE3F-4395-82F2-00BF1F88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386784-3F66-46D0-B16C-012DDA81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D6959F-0F46-4E24-81C5-08A522D1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9C39C-0A45-4069-BAF3-83899EFA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039D5-8088-408B-9049-F254832D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2782B-7ED1-4C7C-B495-4AF56FE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C0D3F-6153-42EB-908A-0DDF4F5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F221-B3B3-4F0B-906D-10DC15AA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75FA3-D6FB-458F-9AE3-F7C5D882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69249-F14E-4E5C-ADEF-3C7306E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DBFF7-D93B-4614-A244-F6E24023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C69E7-D00B-4B86-8B30-5EF8964C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5FE96-535F-41C9-9A88-EBB9E7FA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BABEF-0AA7-4E50-A262-37D99352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AA9F3-FB62-4666-A7BE-E13F757C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32A4E-7603-4081-80A4-946411BA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A255A-A575-4E97-8FB6-673E6445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21F8E-A914-4379-9794-1CD00516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24F4-0E6D-4673-BD9E-E485F1DB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11038-1691-46E6-8FF9-C49AC127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1B579-FA2A-4F79-BD8B-3154C74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0CE02-5EAB-4FBB-B939-8B303F2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32681-2FBF-4E13-9E5E-AF73B30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9C640-BBCC-48EC-9532-B4B2ECEA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8947E-5C3E-4EB2-B2AD-7E44CD17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0135E-E36E-4B9F-BC4C-B9DBA7A7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D4F1B-D6B8-4728-B45D-3D8B51EC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15C39-F6FD-4000-9DE7-F84951F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64E64-73FE-4671-B057-1DC3F49F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30E7-D91E-4323-8C50-F129C95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EB9C8-91AF-4970-93E0-8082F6EB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6939C-6955-4E29-933F-10FC4680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254E5-09E5-4C76-9A74-9E2ACFE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3D710-C8D5-420D-9664-D15B46F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E9164-8279-481A-A5BC-CC68BE0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DD292-37FE-48FD-8DB5-70AA3A7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E5000-E88F-4DAE-9B61-F31BB925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B6F0D-3D88-4104-98E1-D52C3A1C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D2F83-1757-4D55-A34B-CF2D1D0A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37F88-EB7D-4047-A82F-C800201B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33C6-B750-45C8-A212-57F4D505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25FD1-F80D-4A42-AD94-A40B3093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8C94A-0841-4053-8AC5-25621955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DEF4F-5E41-4D0B-B4CE-AE6B3D88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9BC6A-E323-4203-93C9-4AEE6F5B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8452F-F260-44F9-8094-8580A65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792B4-8213-4ED8-B877-726A5553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B81E6-0E5A-453F-A7E3-59E37272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46BF4-ACB8-42AF-B5F1-716B00C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5A94C-647A-4424-A8B1-7BD42B8B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37C72-8E1F-47F2-98E7-08F15FF6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B000-7378-4D20-AD1F-76EE6CEF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2ED86-43F3-43E8-8195-92B5F92E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6E18F-6B6A-42FD-9150-360FAFC8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98EBE-4843-4E28-A4CC-ED5EC3DF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A222CB-5AD1-4FD0-9660-B399639B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DAA59-77D7-423B-8043-0588D765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4D8AD-DB4D-4174-AC27-B7DB083B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44911-78FF-4F0D-8337-B3DD925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C1CF7-405F-4F78-825A-FB104C2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6C81C-AD83-4646-9730-7F2C2DD5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8BF5A-E164-4372-A631-6A2D447D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B58B-23AF-447B-8611-90F029CE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237E3-9916-429F-9497-70336157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2B795-61A8-47B8-B2EF-251196AF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13598-03A5-432A-83E5-6C4A2CA6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53A99-CDC3-43AA-B420-89A77033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212F8-0FDE-4EFF-A4A5-C05EF500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701A6-72FA-49B9-9809-8F30F029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82C8B-8992-4B10-8462-9D23D53F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9056B-FA27-45A1-8B05-E02BE7FF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F12DF-0CEC-4D69-A87E-F3D282E2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1F620-8CEE-447C-8ABB-F344B03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F7CE-29D5-4D34-B601-5EFCE19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AB788-7E84-4EBD-A437-58F2F9FD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9DA6C-A2DC-4993-861C-6E2F425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E9DCA-5897-4A5A-9A8D-F67291C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444CF-586E-410C-BA2C-3FE0D29E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F88DD-12B7-43BB-9ADF-B087EDF5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380A2-65F5-44D4-85F7-4DDFD681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94954-1DBF-469A-BFB5-729BC9E2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879671-F21C-4AB5-AE59-F7EC3414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AE031-A30F-4081-BB15-9D611352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DA432-DDB6-4EB4-B19B-960D1107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A223-A887-4994-9DD6-6CFBFFB1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321748-D827-471C-834A-83E794ED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36155-E409-4175-AE66-8CA6F87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F08A4-EE04-4A99-9722-7A0ED44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CEB19F-1DA9-49C8-B1F0-98B620F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BEDE7-D985-440C-B731-D8B0C998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52E141-740F-4917-8409-032D1F40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C9774-0791-4F14-A9F5-5EF0FDA1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020430-9D5C-4E7A-8A07-A2B0EFB4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F83BB4-9F78-44E9-B497-AA67D249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11CCD5-0D0B-42F7-AC16-25763FCB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7922-C54C-4735-9D85-0DCFCDEB7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9135-1530-4989-9301-6F8E5962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6AF3-5215-415E-99C5-2ABBD0AF5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7731-93E6-4BB1-A060-670850AF1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8C1-AFCA-4C7F-A8F0-EC10D36FF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FA02-A71C-4368-8A9F-C215D6F58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493B-75D2-43AE-ABAA-42E20ACA7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8571-18CD-4CBD-8C8B-5CC2CE8BC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7FF9-451D-4CFF-BFCC-834A81962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9822-9C3F-4301-87B0-D373E514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A79C-D226-4019-A68B-52E5AD512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B7CE-32C8-4555-A7F0-4481B814C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88BF-EFC2-4632-ABF4-656B3696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A4F3-8946-4428-8F7F-319245DC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PMingLiU"/>
              </a:rPr>
              <a:t>Performance Evaluation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PMingLiU"/>
              </a:rPr>
              <a:t>of Information Retrieval Systems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Many slides in this section are adapted from Prof. Joydeep Ghosh (UT ECE) who in turn adapted them from Prof. Dik Lee (Univ. of Science and Tech, Hong K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F336-43B6-4B6A-B8B4-EAF8F40D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884760" y="3821040"/>
            <a:ext cx="2923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3/6=0.5;     P=3/4=0.75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6"/>
          <p:cNvSpPr/>
          <p:nvPr/>
        </p:nvSpPr>
        <p:spPr>
          <a:xfrm>
            <a:off x="3276720" y="3032280"/>
            <a:ext cx="609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Computing Recall/Precision Points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xample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620" name="Object 10"/>
          <p:cNvGraphicFramePr/>
          <p:nvPr/>
        </p:nvGraphicFramePr>
        <p:xfrm>
          <a:off x="990720" y="1447920"/>
          <a:ext cx="2282760" cy="49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228276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Text Box 11"/>
          <p:cNvSpPr/>
          <p:nvPr/>
        </p:nvSpPr>
        <p:spPr>
          <a:xfrm>
            <a:off x="3886200" y="16002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PMingLiU"/>
              </a:rPr>
              <a:t>Let total # of relevant docs = 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PMingLiU"/>
              </a:rPr>
              <a:t>Check each new recall point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884760" y="2589120"/>
            <a:ext cx="2771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1/6=0.167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1/1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4"/>
          <p:cNvSpPr/>
          <p:nvPr/>
        </p:nvSpPr>
        <p:spPr>
          <a:xfrm>
            <a:off x="3276720" y="1965240"/>
            <a:ext cx="622080" cy="72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3884760" y="3224160"/>
            <a:ext cx="2771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2/6=0.33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2/2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7"/>
          <p:cNvSpPr/>
          <p:nvPr/>
        </p:nvSpPr>
        <p:spPr>
          <a:xfrm>
            <a:off x="3276720" y="2346480"/>
            <a:ext cx="647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3886200" y="5775480"/>
            <a:ext cx="30639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5/6=0.83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5/13=0.38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0"/>
          <p:cNvSpPr/>
          <p:nvPr/>
        </p:nvSpPr>
        <p:spPr>
          <a:xfrm>
            <a:off x="3276720" y="600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5"/>
          <p:cNvSpPr/>
          <p:nvPr/>
        </p:nvSpPr>
        <p:spPr>
          <a:xfrm>
            <a:off x="3886200" y="4403880"/>
            <a:ext cx="3124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4/6=0.667; P=4/6=0.667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6"/>
          <p:cNvSpPr/>
          <p:nvPr/>
        </p:nvSpPr>
        <p:spPr>
          <a:xfrm>
            <a:off x="3276720" y="371808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7"/>
          <p:cNvSpPr/>
          <p:nvPr/>
        </p:nvSpPr>
        <p:spPr>
          <a:xfrm>
            <a:off x="6821280" y="4952880"/>
            <a:ext cx="213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Missing one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relevant documen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ever reac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100% reca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526D-6466-4267-869B-07801AB4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884760" y="3821040"/>
            <a:ext cx="2923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3/6=0.5;     P=3/5=0.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6"/>
          <p:cNvSpPr/>
          <p:nvPr/>
        </p:nvSpPr>
        <p:spPr>
          <a:xfrm>
            <a:off x="3276720" y="3200400"/>
            <a:ext cx="609480" cy="66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Computing Recall/Precision Points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xample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636" name="Object 2"/>
          <p:cNvGraphicFramePr/>
          <p:nvPr/>
        </p:nvGraphicFramePr>
        <p:xfrm>
          <a:off x="996840" y="1446120"/>
          <a:ext cx="22924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446120"/>
                    <a:ext cx="22924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Text Box 11"/>
          <p:cNvSpPr/>
          <p:nvPr/>
        </p:nvSpPr>
        <p:spPr>
          <a:xfrm>
            <a:off x="3886200" y="16002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PMingLiU"/>
              </a:rPr>
              <a:t>Let total # of relevant docs = 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PMingLiU"/>
              </a:rPr>
              <a:t>Check each new recall point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3884760" y="2589120"/>
            <a:ext cx="2771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1/6=0.167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1/1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4"/>
          <p:cNvSpPr/>
          <p:nvPr/>
        </p:nvSpPr>
        <p:spPr>
          <a:xfrm>
            <a:off x="3276720" y="1965240"/>
            <a:ext cx="622080" cy="72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3884760" y="3224160"/>
            <a:ext cx="30495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2/6=0.33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2/3=0.667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7"/>
          <p:cNvSpPr/>
          <p:nvPr/>
        </p:nvSpPr>
        <p:spPr>
          <a:xfrm>
            <a:off x="3276720" y="2590920"/>
            <a:ext cx="647640" cy="66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3886200" y="5943600"/>
            <a:ext cx="3200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6/6=1.0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6/14=0.429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20"/>
          <p:cNvSpPr/>
          <p:nvPr/>
        </p:nvSpPr>
        <p:spPr>
          <a:xfrm>
            <a:off x="3276720" y="6172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5"/>
          <p:cNvSpPr/>
          <p:nvPr/>
        </p:nvSpPr>
        <p:spPr>
          <a:xfrm>
            <a:off x="3886200" y="4403880"/>
            <a:ext cx="2895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4/6=0.667; P=4/8=0.5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26"/>
          <p:cNvSpPr/>
          <p:nvPr/>
        </p:nvSpPr>
        <p:spPr>
          <a:xfrm>
            <a:off x="3276720" y="4267080"/>
            <a:ext cx="609480" cy="13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5"/>
          <p:cNvSpPr/>
          <p:nvPr/>
        </p:nvSpPr>
        <p:spPr>
          <a:xfrm>
            <a:off x="3886200" y="4952880"/>
            <a:ext cx="3124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5/6=0.833; P=5/9=0.55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6"/>
          <p:cNvSpPr/>
          <p:nvPr/>
        </p:nvSpPr>
        <p:spPr>
          <a:xfrm>
            <a:off x="3276720" y="45720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C966-F542-457A-96FC-BCAA6FA5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rpolating a Recall/Precision Cur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olate a precision value 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 recall lev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{0.0, 0.1, 0.2, 0.3, 0.4, 0.5, 0.6, 0.7, 0.8, 0.9, 1.0}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= 0.0, r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= 0.1, …, r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1.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polated precision a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standard recall level is the maximum known precision at any recall level betwee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an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1)-th le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0"/>
              <p:cNvSpPr txBox="1"/>
              <p:nvPr/>
            </p:nvSpPr>
            <p:spPr>
              <a:xfrm>
                <a:off x="2514600" y="5410080"/>
                <a:ext cx="3733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r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2B9C-C270-4F3D-A093-7FD2F1F7B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Interpolating a Recall/Precision Curve: Example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365796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4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17328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8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8"/>
          <p:cNvSpPr/>
          <p:nvPr/>
        </p:nvSpPr>
        <p:spPr>
          <a:xfrm>
            <a:off x="1419120" y="1523880"/>
            <a:ext cx="0" cy="4052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 flipV="1">
            <a:off x="1415880" y="5562360"/>
            <a:ext cx="71186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0"/>
          <p:cNvSpPr/>
          <p:nvPr/>
        </p:nvSpPr>
        <p:spPr>
          <a:xfrm>
            <a:off x="266688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1"/>
          <p:cNvSpPr/>
          <p:nvPr/>
        </p:nvSpPr>
        <p:spPr>
          <a:xfrm>
            <a:off x="391464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2"/>
          <p:cNvSpPr/>
          <p:nvPr/>
        </p:nvSpPr>
        <p:spPr>
          <a:xfrm>
            <a:off x="52084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3"/>
          <p:cNvSpPr/>
          <p:nvPr/>
        </p:nvSpPr>
        <p:spPr>
          <a:xfrm>
            <a:off x="766296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4"/>
          <p:cNvSpPr/>
          <p:nvPr/>
        </p:nvSpPr>
        <p:spPr>
          <a:xfrm>
            <a:off x="642132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22"/>
          <p:cNvSpPr/>
          <p:nvPr/>
        </p:nvSpPr>
        <p:spPr>
          <a:xfrm>
            <a:off x="1905120" y="2209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25"/>
          <p:cNvSpPr/>
          <p:nvPr/>
        </p:nvSpPr>
        <p:spPr>
          <a:xfrm>
            <a:off x="2286000" y="2209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1371600" y="489096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1387440" y="423540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>
            <a:off x="1371600" y="355752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8"/>
          <p:cNvSpPr/>
          <p:nvPr/>
        </p:nvSpPr>
        <p:spPr>
          <a:xfrm>
            <a:off x="1384200" y="221616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9"/>
          <p:cNvSpPr/>
          <p:nvPr/>
        </p:nvSpPr>
        <p:spPr>
          <a:xfrm>
            <a:off x="1387440" y="28940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72"/>
          <p:cNvGrpSpPr/>
          <p:nvPr/>
        </p:nvGrpSpPr>
        <p:grpSpPr>
          <a:xfrm>
            <a:off x="915480" y="2057400"/>
            <a:ext cx="577800" cy="3062520"/>
            <a:chOff x="915480" y="2057400"/>
            <a:chExt cx="577800" cy="3062520"/>
          </a:xfrm>
        </p:grpSpPr>
        <p:sp>
          <p:nvSpPr>
            <p:cNvPr id="672" name="Text Box 44"/>
            <p:cNvSpPr/>
            <p:nvPr/>
          </p:nvSpPr>
          <p:spPr>
            <a:xfrm>
              <a:off x="931320" y="20574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.0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45"/>
            <p:cNvSpPr/>
            <p:nvPr/>
          </p:nvSpPr>
          <p:spPr>
            <a:xfrm>
              <a:off x="934200" y="2751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8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46"/>
            <p:cNvSpPr/>
            <p:nvPr/>
          </p:nvSpPr>
          <p:spPr>
            <a:xfrm>
              <a:off x="915480" y="33987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6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47"/>
            <p:cNvSpPr/>
            <p:nvPr/>
          </p:nvSpPr>
          <p:spPr>
            <a:xfrm>
              <a:off x="964800" y="4083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4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48"/>
            <p:cNvSpPr/>
            <p:nvPr/>
          </p:nvSpPr>
          <p:spPr>
            <a:xfrm>
              <a:off x="992520" y="47210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Text Box 49"/>
          <p:cNvSpPr/>
          <p:nvPr/>
        </p:nvSpPr>
        <p:spPr>
          <a:xfrm>
            <a:off x="236340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0"/>
          <p:cNvSpPr/>
          <p:nvPr/>
        </p:nvSpPr>
        <p:spPr>
          <a:xfrm>
            <a:off x="7391160" y="5562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1.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1"/>
          <p:cNvSpPr/>
          <p:nvPr/>
        </p:nvSpPr>
        <p:spPr>
          <a:xfrm>
            <a:off x="495396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62"/>
          <p:cNvSpPr/>
          <p:nvPr/>
        </p:nvSpPr>
        <p:spPr>
          <a:xfrm>
            <a:off x="7847640" y="571500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PMingLiU"/>
              </a:rPr>
              <a:t>Reca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63"/>
          <p:cNvSpPr/>
          <p:nvPr/>
        </p:nvSpPr>
        <p:spPr>
          <a:xfrm rot="16200000">
            <a:off x="277200" y="1993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PMingLiU"/>
              </a:rPr>
              <a:t>Precisio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70"/>
          <p:cNvSpPr/>
          <p:nvPr/>
        </p:nvSpPr>
        <p:spPr>
          <a:xfrm>
            <a:off x="19810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73"/>
          <p:cNvSpPr/>
          <p:nvPr/>
        </p:nvSpPr>
        <p:spPr>
          <a:xfrm>
            <a:off x="457200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74"/>
          <p:cNvSpPr/>
          <p:nvPr/>
        </p:nvSpPr>
        <p:spPr>
          <a:xfrm>
            <a:off x="58672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5"/>
          <p:cNvSpPr/>
          <p:nvPr/>
        </p:nvSpPr>
        <p:spPr>
          <a:xfrm>
            <a:off x="33526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76"/>
          <p:cNvSpPr/>
          <p:nvPr/>
        </p:nvSpPr>
        <p:spPr>
          <a:xfrm>
            <a:off x="708660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77"/>
          <p:cNvSpPr/>
          <p:nvPr/>
        </p:nvSpPr>
        <p:spPr>
          <a:xfrm>
            <a:off x="3429000" y="2209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81"/>
          <p:cNvSpPr/>
          <p:nvPr/>
        </p:nvSpPr>
        <p:spPr>
          <a:xfrm>
            <a:off x="5791320" y="44197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82"/>
          <p:cNvSpPr/>
          <p:nvPr/>
        </p:nvSpPr>
        <p:spPr>
          <a:xfrm>
            <a:off x="6400800" y="44197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83"/>
          <p:cNvSpPr/>
          <p:nvPr/>
        </p:nvSpPr>
        <p:spPr>
          <a:xfrm>
            <a:off x="7010280" y="548640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84"/>
          <p:cNvSpPr/>
          <p:nvPr/>
        </p:nvSpPr>
        <p:spPr>
          <a:xfrm>
            <a:off x="7620120" y="548640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85"/>
          <p:cNvSpPr/>
          <p:nvPr/>
        </p:nvSpPr>
        <p:spPr>
          <a:xfrm>
            <a:off x="6553080" y="441972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86"/>
          <p:cNvSpPr/>
          <p:nvPr/>
        </p:nvSpPr>
        <p:spPr>
          <a:xfrm>
            <a:off x="5486400" y="3352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87"/>
          <p:cNvSpPr/>
          <p:nvPr/>
        </p:nvSpPr>
        <p:spPr>
          <a:xfrm>
            <a:off x="4495680" y="304812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88"/>
          <p:cNvSpPr/>
          <p:nvPr/>
        </p:nvSpPr>
        <p:spPr>
          <a:xfrm>
            <a:off x="3276720" y="2209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89"/>
          <p:cNvSpPr/>
          <p:nvPr/>
        </p:nvSpPr>
        <p:spPr>
          <a:xfrm>
            <a:off x="3886200" y="31240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90"/>
          <p:cNvSpPr/>
          <p:nvPr/>
        </p:nvSpPr>
        <p:spPr>
          <a:xfrm>
            <a:off x="4495680" y="31240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91"/>
          <p:cNvSpPr/>
          <p:nvPr/>
        </p:nvSpPr>
        <p:spPr>
          <a:xfrm>
            <a:off x="5181480" y="3352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93"/>
          <p:cNvSpPr/>
          <p:nvPr/>
        </p:nvSpPr>
        <p:spPr>
          <a:xfrm>
            <a:off x="2590920" y="2209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94"/>
          <p:cNvSpPr/>
          <p:nvPr/>
        </p:nvSpPr>
        <p:spPr>
          <a:xfrm>
            <a:off x="1297080" y="221148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97"/>
          <p:cNvSpPr/>
          <p:nvPr/>
        </p:nvSpPr>
        <p:spPr>
          <a:xfrm>
            <a:off x="1371600" y="2209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8"/>
          <p:cNvSpPr/>
          <p:nvPr/>
        </p:nvSpPr>
        <p:spPr>
          <a:xfrm>
            <a:off x="3352680" y="220968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99"/>
          <p:cNvSpPr/>
          <p:nvPr/>
        </p:nvSpPr>
        <p:spPr>
          <a:xfrm>
            <a:off x="396252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00"/>
          <p:cNvSpPr/>
          <p:nvPr/>
        </p:nvSpPr>
        <p:spPr>
          <a:xfrm>
            <a:off x="4572000" y="312408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01"/>
          <p:cNvSpPr/>
          <p:nvPr/>
        </p:nvSpPr>
        <p:spPr>
          <a:xfrm>
            <a:off x="5257800" y="33526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02"/>
          <p:cNvSpPr/>
          <p:nvPr/>
        </p:nvSpPr>
        <p:spPr>
          <a:xfrm>
            <a:off x="58672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03"/>
          <p:cNvSpPr/>
          <p:nvPr/>
        </p:nvSpPr>
        <p:spPr>
          <a:xfrm>
            <a:off x="6477120" y="4419720"/>
            <a:ext cx="6094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04"/>
          <p:cNvSpPr/>
          <p:nvPr/>
        </p:nvSpPr>
        <p:spPr>
          <a:xfrm>
            <a:off x="7086600" y="55627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3489-F4FD-486B-A324-0290527C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Interpolating a Recall/Precision Curv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xample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365796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4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617328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8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8"/>
          <p:cNvSpPr/>
          <p:nvPr/>
        </p:nvSpPr>
        <p:spPr>
          <a:xfrm>
            <a:off x="1419120" y="1523880"/>
            <a:ext cx="0" cy="4052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9"/>
          <p:cNvSpPr/>
          <p:nvPr/>
        </p:nvSpPr>
        <p:spPr>
          <a:xfrm flipV="1">
            <a:off x="1415880" y="5562360"/>
            <a:ext cx="71186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0"/>
          <p:cNvSpPr/>
          <p:nvPr/>
        </p:nvSpPr>
        <p:spPr>
          <a:xfrm>
            <a:off x="266688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1"/>
          <p:cNvSpPr/>
          <p:nvPr/>
        </p:nvSpPr>
        <p:spPr>
          <a:xfrm>
            <a:off x="391464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2"/>
          <p:cNvSpPr/>
          <p:nvPr/>
        </p:nvSpPr>
        <p:spPr>
          <a:xfrm>
            <a:off x="52084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3"/>
          <p:cNvSpPr/>
          <p:nvPr/>
        </p:nvSpPr>
        <p:spPr>
          <a:xfrm>
            <a:off x="766296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4"/>
          <p:cNvSpPr/>
          <p:nvPr/>
        </p:nvSpPr>
        <p:spPr>
          <a:xfrm>
            <a:off x="642132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22"/>
          <p:cNvSpPr/>
          <p:nvPr/>
        </p:nvSpPr>
        <p:spPr>
          <a:xfrm>
            <a:off x="1905120" y="2209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25"/>
          <p:cNvSpPr/>
          <p:nvPr/>
        </p:nvSpPr>
        <p:spPr>
          <a:xfrm>
            <a:off x="2286000" y="2209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5"/>
          <p:cNvSpPr/>
          <p:nvPr/>
        </p:nvSpPr>
        <p:spPr>
          <a:xfrm>
            <a:off x="1371600" y="489096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6"/>
          <p:cNvSpPr/>
          <p:nvPr/>
        </p:nvSpPr>
        <p:spPr>
          <a:xfrm>
            <a:off x="1387440" y="423540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7"/>
          <p:cNvSpPr/>
          <p:nvPr/>
        </p:nvSpPr>
        <p:spPr>
          <a:xfrm>
            <a:off x="1371600" y="355752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8"/>
          <p:cNvSpPr/>
          <p:nvPr/>
        </p:nvSpPr>
        <p:spPr>
          <a:xfrm>
            <a:off x="1384200" y="221616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9"/>
          <p:cNvSpPr/>
          <p:nvPr/>
        </p:nvSpPr>
        <p:spPr>
          <a:xfrm>
            <a:off x="1387440" y="28940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72"/>
          <p:cNvGrpSpPr/>
          <p:nvPr/>
        </p:nvGrpSpPr>
        <p:grpSpPr>
          <a:xfrm>
            <a:off x="915480" y="2057400"/>
            <a:ext cx="577800" cy="3062520"/>
            <a:chOff x="915480" y="2057400"/>
            <a:chExt cx="577800" cy="3062520"/>
          </a:xfrm>
        </p:grpSpPr>
        <p:sp>
          <p:nvSpPr>
            <p:cNvPr id="728" name="Text Box 44"/>
            <p:cNvSpPr/>
            <p:nvPr/>
          </p:nvSpPr>
          <p:spPr>
            <a:xfrm>
              <a:off x="931320" y="20574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.0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45"/>
            <p:cNvSpPr/>
            <p:nvPr/>
          </p:nvSpPr>
          <p:spPr>
            <a:xfrm>
              <a:off x="934200" y="2751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8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46"/>
            <p:cNvSpPr/>
            <p:nvPr/>
          </p:nvSpPr>
          <p:spPr>
            <a:xfrm>
              <a:off x="915480" y="33987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6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47"/>
            <p:cNvSpPr/>
            <p:nvPr/>
          </p:nvSpPr>
          <p:spPr>
            <a:xfrm>
              <a:off x="964800" y="4083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4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48"/>
            <p:cNvSpPr/>
            <p:nvPr/>
          </p:nvSpPr>
          <p:spPr>
            <a:xfrm>
              <a:off x="992520" y="47210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49"/>
          <p:cNvSpPr/>
          <p:nvPr/>
        </p:nvSpPr>
        <p:spPr>
          <a:xfrm>
            <a:off x="236340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7391160" y="5562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1.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51"/>
          <p:cNvSpPr/>
          <p:nvPr/>
        </p:nvSpPr>
        <p:spPr>
          <a:xfrm>
            <a:off x="495396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62"/>
          <p:cNvSpPr/>
          <p:nvPr/>
        </p:nvSpPr>
        <p:spPr>
          <a:xfrm>
            <a:off x="7847640" y="571500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PMingLiU"/>
              </a:rPr>
              <a:t>Reca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63"/>
          <p:cNvSpPr/>
          <p:nvPr/>
        </p:nvSpPr>
        <p:spPr>
          <a:xfrm rot="16200000">
            <a:off x="277200" y="1993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PMingLiU"/>
              </a:rPr>
              <a:t>Precisio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70"/>
          <p:cNvSpPr/>
          <p:nvPr/>
        </p:nvSpPr>
        <p:spPr>
          <a:xfrm>
            <a:off x="19810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73"/>
          <p:cNvSpPr/>
          <p:nvPr/>
        </p:nvSpPr>
        <p:spPr>
          <a:xfrm>
            <a:off x="457200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74"/>
          <p:cNvSpPr/>
          <p:nvPr/>
        </p:nvSpPr>
        <p:spPr>
          <a:xfrm>
            <a:off x="58672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75"/>
          <p:cNvSpPr/>
          <p:nvPr/>
        </p:nvSpPr>
        <p:spPr>
          <a:xfrm>
            <a:off x="33526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76"/>
          <p:cNvSpPr/>
          <p:nvPr/>
        </p:nvSpPr>
        <p:spPr>
          <a:xfrm>
            <a:off x="708660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77"/>
          <p:cNvSpPr/>
          <p:nvPr/>
        </p:nvSpPr>
        <p:spPr>
          <a:xfrm>
            <a:off x="3505320" y="3352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81"/>
          <p:cNvSpPr/>
          <p:nvPr/>
        </p:nvSpPr>
        <p:spPr>
          <a:xfrm>
            <a:off x="5791320" y="37339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82"/>
          <p:cNvSpPr/>
          <p:nvPr/>
        </p:nvSpPr>
        <p:spPr>
          <a:xfrm>
            <a:off x="6324480" y="37339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83"/>
          <p:cNvSpPr/>
          <p:nvPr/>
        </p:nvSpPr>
        <p:spPr>
          <a:xfrm>
            <a:off x="7010280" y="411480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84"/>
          <p:cNvSpPr/>
          <p:nvPr/>
        </p:nvSpPr>
        <p:spPr>
          <a:xfrm>
            <a:off x="7620120" y="411480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85"/>
          <p:cNvSpPr/>
          <p:nvPr/>
        </p:nvSpPr>
        <p:spPr>
          <a:xfrm>
            <a:off x="6629400" y="373392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86"/>
          <p:cNvSpPr/>
          <p:nvPr/>
        </p:nvSpPr>
        <p:spPr>
          <a:xfrm>
            <a:off x="5562720" y="388620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87"/>
          <p:cNvSpPr/>
          <p:nvPr/>
        </p:nvSpPr>
        <p:spPr>
          <a:xfrm>
            <a:off x="4495680" y="350532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88"/>
          <p:cNvSpPr/>
          <p:nvPr/>
        </p:nvSpPr>
        <p:spPr>
          <a:xfrm>
            <a:off x="3276720" y="3352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89"/>
          <p:cNvSpPr/>
          <p:nvPr/>
        </p:nvSpPr>
        <p:spPr>
          <a:xfrm>
            <a:off x="3809880" y="35053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90"/>
          <p:cNvSpPr/>
          <p:nvPr/>
        </p:nvSpPr>
        <p:spPr>
          <a:xfrm>
            <a:off x="4495680" y="35812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91"/>
          <p:cNvSpPr/>
          <p:nvPr/>
        </p:nvSpPr>
        <p:spPr>
          <a:xfrm>
            <a:off x="5105520" y="37339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93"/>
          <p:cNvSpPr/>
          <p:nvPr/>
        </p:nvSpPr>
        <p:spPr>
          <a:xfrm>
            <a:off x="2590920" y="3352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94"/>
          <p:cNvSpPr/>
          <p:nvPr/>
        </p:nvSpPr>
        <p:spPr>
          <a:xfrm>
            <a:off x="1297080" y="221148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85"/>
          <p:cNvSpPr/>
          <p:nvPr/>
        </p:nvSpPr>
        <p:spPr>
          <a:xfrm>
            <a:off x="7620120" y="40384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traight Connector 68"/>
          <p:cNvSpPr/>
          <p:nvPr/>
        </p:nvSpPr>
        <p:spPr>
          <a:xfrm flipV="1">
            <a:off x="1371600" y="2249640"/>
            <a:ext cx="601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traight Connector 70"/>
          <p:cNvSpPr/>
          <p:nvPr/>
        </p:nvSpPr>
        <p:spPr>
          <a:xfrm>
            <a:off x="1980360" y="2284560"/>
            <a:ext cx="690840" cy="11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traight Connector 72"/>
          <p:cNvSpPr/>
          <p:nvPr/>
        </p:nvSpPr>
        <p:spPr>
          <a:xfrm flipV="1">
            <a:off x="2666160" y="3389040"/>
            <a:ext cx="63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traight Connector 74"/>
          <p:cNvSpPr/>
          <p:nvPr/>
        </p:nvSpPr>
        <p:spPr>
          <a:xfrm>
            <a:off x="3351960" y="3427560"/>
            <a:ext cx="54612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traight Connector 76"/>
          <p:cNvSpPr/>
          <p:nvPr/>
        </p:nvSpPr>
        <p:spPr>
          <a:xfrm>
            <a:off x="3938040" y="3568680"/>
            <a:ext cx="60948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traight Connector 79"/>
          <p:cNvSpPr/>
          <p:nvPr/>
        </p:nvSpPr>
        <p:spPr>
          <a:xfrm>
            <a:off x="4584600" y="3621240"/>
            <a:ext cx="54288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traight Connector 81"/>
          <p:cNvSpPr/>
          <p:nvPr/>
        </p:nvSpPr>
        <p:spPr>
          <a:xfrm>
            <a:off x="5234040" y="3760920"/>
            <a:ext cx="1166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traight Connector 85"/>
          <p:cNvSpPr/>
          <p:nvPr/>
        </p:nvSpPr>
        <p:spPr>
          <a:xfrm>
            <a:off x="6452640" y="3797280"/>
            <a:ext cx="63324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traight Connector 87"/>
          <p:cNvSpPr/>
          <p:nvPr/>
        </p:nvSpPr>
        <p:spPr>
          <a:xfrm flipV="1">
            <a:off x="7139160" y="4162320"/>
            <a:ext cx="5126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899A-7470-435F-8FDA-9E3E68DC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verage Recall/Precision Cur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verage performance over a larg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average precision at each standard recall level across all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ot average precision/recall curves to evaluate overall system performance on a document/query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AD69-4FDB-416D-A627-6FE7637B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Compare Two or More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42880" y="1460520"/>
            <a:ext cx="802008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 curve closest to the upper right-hand corner of the graph indicates the best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Object 4"/>
          <p:cNvGraphicFramePr/>
          <p:nvPr/>
        </p:nvGraphicFramePr>
        <p:xfrm>
          <a:off x="1498680" y="2486160"/>
          <a:ext cx="585144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2486160"/>
                    <a:ext cx="585144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8DA-CE58-46FE-8EBC-94025739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RP Curve for CF Corp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777" name="Picture 3" descr="rp"/>
          <p:cNvPicPr/>
          <p:nvPr/>
        </p:nvPicPr>
        <p:blipFill>
          <a:blip r:embed="rId1"/>
          <a:stretch/>
        </p:blipFill>
        <p:spPr>
          <a:xfrm>
            <a:off x="1066680" y="1351080"/>
            <a:ext cx="72392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ABB6-8BAC-4DDB-A02D-1CE0905A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- Prec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 at the R-th position in the ranking of results for a query that has R relevant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1" name="Object 1028"/>
          <p:cNvGraphicFramePr/>
          <p:nvPr/>
        </p:nvGraphicFramePr>
        <p:xfrm>
          <a:off x="1295280" y="2971800"/>
          <a:ext cx="161928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1619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Rectangle 1029"/>
          <p:cNvSpPr/>
          <p:nvPr/>
        </p:nvSpPr>
        <p:spPr>
          <a:xfrm>
            <a:off x="3540240" y="297180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PMingLiU"/>
              </a:rPr>
              <a:t>R = # of relevant docs = 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030"/>
          <p:cNvSpPr/>
          <p:nvPr/>
        </p:nvSpPr>
        <p:spPr>
          <a:xfrm>
            <a:off x="1066680" y="4648320"/>
            <a:ext cx="2286000" cy="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031"/>
          <p:cNvSpPr/>
          <p:nvPr/>
        </p:nvSpPr>
        <p:spPr>
          <a:xfrm>
            <a:off x="3578400" y="426708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-Precision = 4/6 = 0.67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E792-F61E-46B4-A8FA-6F71DEC4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-Meas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easure of performance that takes into account both recall and pr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mean of recall and preci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to arithmetic mean, both need to be high for harmonic mean to be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1028"/>
              <p:cNvSpPr txBox="1"/>
              <p:nvPr/>
            </p:nvSpPr>
            <p:spPr>
              <a:xfrm>
                <a:off x="2743200" y="3276720"/>
                <a:ext cx="30481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E2CC-557D-4086-8C3A-1C1E00F18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Why System Evaluation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re are many retrieval models/ algorithms/ systems, which one is the b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What is the best component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Ranking function (dot-product, cosine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PMingLiU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erm selection (stopword removal, stemm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PMingLiU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erm weighting (TF, TF-IDF,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PMingLiU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How far down the ranked list will a user need to look to find some/all relevant docu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8E98-8B25-4411-A30B-1DFF1F37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 Measure (parameterized F Measure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nt of F measure that allows weighting emphasis on precision over rec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rols trade-o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 1: Equally weight precision and recall (E=F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gt; 1: Weight recall mor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 1: Weight precision mor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024"/>
              <p:cNvSpPr txBox="1"/>
              <p:nvPr/>
            </p:nvSpPr>
            <p:spPr>
              <a:xfrm>
                <a:off x="2057400" y="2514600"/>
                <a:ext cx="46814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an Average Precis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MAP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28600" y="1371600"/>
            <a:ext cx="87631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Prec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verage of the precision values at the points at which each relevant document is retr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1: (1 + 1 + 0.75 + 0.667 + 0.38 + 0)/6 = 0.63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2: (1 + 0.667 + 0.6 + 0.5 + 0.556 + 0.429)/6 = 0.625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 Average Prec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verage of the average precision value for a set of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21BF-9B89-494A-B0D7-CFBA81A9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-Binary Relev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 are rarely entirely relevant or non-relevant to a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ourc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raded relevance jud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evance judgments on a 5-point sca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ltiple judg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ick distribution and deviation from expected levels (but click-through != relevance judgments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2BB-2D9B-4E63-A20B-F246363E1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mulative Gai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85800" y="1371600"/>
            <a:ext cx="4114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ed relevance judgments, we can comput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each 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mulative G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rank 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Wher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rel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the graded relevance of the document at position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i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05D-1C82-499C-8ABD-92969CC9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Object 1028"/>
          <p:cNvGraphicFramePr/>
          <p:nvPr/>
        </p:nvGraphicFramePr>
        <p:xfrm>
          <a:off x="4800600" y="1523880"/>
          <a:ext cx="4194000" cy="46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419400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Picture 1" descr="latex-image-1.pdf"/>
          <p:cNvPicPr/>
          <p:nvPr/>
        </p:nvPicPr>
        <p:blipFill>
          <a:blip r:embed="rId3"/>
          <a:stretch/>
        </p:blipFill>
        <p:spPr>
          <a:xfrm>
            <a:off x="1447920" y="4114800"/>
            <a:ext cx="2341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ounting Based on Posi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160" y="1371600"/>
            <a:ext cx="4267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care more about high-ranked documents, so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/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rank)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ounted Cumulative G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ED46-4B58-4971-9884-98A876D7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4" descr="latex-image-1.pdf"/>
          <p:cNvPicPr/>
          <p:nvPr/>
        </p:nvPicPr>
        <p:blipFill>
          <a:blip r:embed="rId1"/>
          <a:stretch/>
        </p:blipFill>
        <p:spPr>
          <a:xfrm>
            <a:off x="838080" y="4659480"/>
            <a:ext cx="3657600" cy="90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0" name="Object 7"/>
          <p:cNvGraphicFramePr/>
          <p:nvPr/>
        </p:nvGraphicFramePr>
        <p:xfrm>
          <a:off x="4710240" y="1447920"/>
          <a:ext cx="5805360" cy="581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0240" y="1447920"/>
                    <a:ext cx="5805360" cy="58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rmalized Discounted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mulative Gain (NDC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85800" y="13712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are DCGs, normalize values so that 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deal rank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hav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lized DC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 ran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108-E7F4-41B4-BB92-DD542419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Object 5"/>
          <p:cNvGraphicFramePr/>
          <p:nvPr/>
        </p:nvGraphicFramePr>
        <p:xfrm>
          <a:off x="619200" y="2819520"/>
          <a:ext cx="4790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2819520"/>
                    <a:ext cx="4790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4952880" y="2809800"/>
          <a:ext cx="4800600" cy="481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809800"/>
                    <a:ext cx="48006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Right Arrow 7"/>
          <p:cNvSpPr/>
          <p:nvPr/>
        </p:nvSpPr>
        <p:spPr>
          <a:xfrm>
            <a:off x="4267080" y="4114800"/>
            <a:ext cx="609840" cy="121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rmalized Discounted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Cumulative Gain (NDC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85800" y="1371600"/>
            <a:ext cx="3733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 by DCG of the ideal ran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DCG ≤ 1 at all r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DCG is comparable across different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6D5-6130-4878-9A0B-3A3969D7A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4" descr="latex-image-1.pdf"/>
          <p:cNvPicPr/>
          <p:nvPr/>
        </p:nvPicPr>
        <p:blipFill>
          <a:blip r:embed="rId1"/>
          <a:stretch/>
        </p:blipFill>
        <p:spPr>
          <a:xfrm>
            <a:off x="914400" y="2435400"/>
            <a:ext cx="3284640" cy="8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4" name="Object 5"/>
          <p:cNvGraphicFramePr/>
          <p:nvPr/>
        </p:nvGraphicFramePr>
        <p:xfrm>
          <a:off x="4572000" y="1523880"/>
          <a:ext cx="420048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2004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A7B5-34EB-4631-8EE5-B1CA90DB6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Issues with Relev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Marginal Relevance</a:t>
            </a: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Do later documents in the ranking add new information beyond what is already given in higher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Choice of retrieved set should encourag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diversity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and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 novelty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Coverage Rat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The proportion of relevant items retrieved out of the total relevant documen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to a user prior to the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Relevant when the user wants to locate documents which they have seen before (e.g., the budget report for Year 2000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6DBE-C138-4B8E-A7F4-608CC07CC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Other Factors to Consid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98400" y="1544400"/>
            <a:ext cx="7942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User eff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Work required from the user in formulating queries, conducting the search, and screening th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Response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Time interval between receipt of a user query and the presentation of system respo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Form of pres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Influence of search output format on the user’s ability to utilize the retrieved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Collection co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Extent to which any/all relevant items are included in the document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/B Testing in a Deployed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xploit an existing user base to provide useful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ly send a small fraction (1−10%) of incoming users to a variant of the system that includes a single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 effectiveness by measuring change i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through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age of users that click on the top result (or any result on the first page)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D9BE-78FC-4438-AFF1-479BD4E7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552A-882E-4D9B-AE71-E95997EEB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Difficulties in Evaluating IR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71680" y="1473120"/>
            <a:ext cx="8013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Effectiveness is related to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relev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of retrieved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Relevancy is not typically binary but continu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Even if relevancy is binary, it can be a difficult judgment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Relevancy, from a human standpoint,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ubjective: Depends upon a specific use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PMingLiU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 judg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ituational: Relates to use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PMingLiU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 current nee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Cognitive: Depends on human perception and behavio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Dynamic: Changes over tim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9D78-2D22-4570-9362-2A03F3C2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xperimental Setup for Benchmar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90400" y="1468080"/>
            <a:ext cx="791856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  <a:ea typeface="PMingLiU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naly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performance evaluation is difficult for document retrieval systems because many characteristics such as relevance, distribution of words, etc., are difficult to describe with mathematical pr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Performance is measured b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benchmar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. That is, the retrieval effectiveness of a system is evaluated o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given set of docu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que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relevance judg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Performance data is valid only for the environment under which the system is evalu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DB71-447F-43BC-BAA0-56D2203C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78760" cy="78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Benchma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407000" cy="27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A benchmark collection cont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A set of standard documents and queries/topic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810720" indent="-2826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A list of relevant documents for each que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Standard collections for traditional 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mart collection: ftp://ftp.cs.cornell.edu/pub/sma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810720" indent="-2826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TREC: http://trec.nist.gov/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1" name="Text Box 5"/>
          <p:cNvSpPr/>
          <p:nvPr/>
        </p:nvSpPr>
        <p:spPr>
          <a:xfrm>
            <a:off x="1066680" y="4469040"/>
            <a:ext cx="1371600" cy="71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Standard document collecti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6"/>
          <p:cNvSpPr/>
          <p:nvPr/>
        </p:nvSpPr>
        <p:spPr>
          <a:xfrm>
            <a:off x="1066680" y="5488560"/>
            <a:ext cx="1371600" cy="50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Standard queri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7"/>
          <p:cNvGrpSpPr/>
          <p:nvPr/>
        </p:nvGrpSpPr>
        <p:grpSpPr>
          <a:xfrm>
            <a:off x="3429000" y="4419720"/>
            <a:ext cx="1447920" cy="990360"/>
            <a:chOff x="3429000" y="4419720"/>
            <a:chExt cx="1447920" cy="990360"/>
          </a:xfrm>
        </p:grpSpPr>
        <p:sp>
          <p:nvSpPr>
            <p:cNvPr id="844" name="Oval 8"/>
            <p:cNvSpPr/>
            <p:nvPr/>
          </p:nvSpPr>
          <p:spPr>
            <a:xfrm>
              <a:off x="3429000" y="4419720"/>
              <a:ext cx="1447920" cy="9903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9"/>
            <p:cNvSpPr/>
            <p:nvPr/>
          </p:nvSpPr>
          <p:spPr>
            <a:xfrm>
              <a:off x="3581640" y="4650480"/>
              <a:ext cx="11430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DFKai-SB"/>
                </a:rPr>
                <a:t>Algorithm under test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10"/>
          <p:cNvGrpSpPr/>
          <p:nvPr/>
        </p:nvGrpSpPr>
        <p:grpSpPr>
          <a:xfrm>
            <a:off x="5638680" y="4419720"/>
            <a:ext cx="1447560" cy="990360"/>
            <a:chOff x="5638680" y="4419720"/>
            <a:chExt cx="1447560" cy="990360"/>
          </a:xfrm>
        </p:grpSpPr>
        <p:sp>
          <p:nvSpPr>
            <p:cNvPr id="847" name="Oval 11"/>
            <p:cNvSpPr/>
            <p:nvPr/>
          </p:nvSpPr>
          <p:spPr>
            <a:xfrm>
              <a:off x="5638680" y="4419720"/>
              <a:ext cx="1447560" cy="9903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12"/>
            <p:cNvSpPr/>
            <p:nvPr/>
          </p:nvSpPr>
          <p:spPr>
            <a:xfrm>
              <a:off x="5790960" y="4801320"/>
              <a:ext cx="11430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DFKai-SB"/>
                </a:rPr>
                <a:t>Evalua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Text Box 13"/>
          <p:cNvSpPr/>
          <p:nvPr/>
        </p:nvSpPr>
        <p:spPr>
          <a:xfrm>
            <a:off x="5715000" y="5640840"/>
            <a:ext cx="1371600" cy="50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Standard resul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Freeform 14"/>
          <p:cNvSpPr/>
          <p:nvPr/>
        </p:nvSpPr>
        <p:spPr>
          <a:xfrm>
            <a:off x="2440080" y="4815000"/>
            <a:ext cx="988920" cy="61920"/>
          </a:xfrm>
          <a:custGeom>
            <a:avLst/>
            <a:gdLst>
              <a:gd name="textAreaLeft" fmla="*/ 0 w 988920"/>
              <a:gd name="textAreaRight" fmla="*/ 988920 w 9889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623" h="39">
                <a:moveTo>
                  <a:pt x="0" y="0"/>
                </a:moveTo>
                <a:lnTo>
                  <a:pt x="623" y="3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reeform 15"/>
          <p:cNvSpPr/>
          <p:nvPr/>
        </p:nvSpPr>
        <p:spPr>
          <a:xfrm>
            <a:off x="2440080" y="5167440"/>
            <a:ext cx="1058760" cy="54108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67" h="341">
                <a:moveTo>
                  <a:pt x="0" y="341"/>
                </a:moveTo>
                <a:lnTo>
                  <a:pt x="6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6"/>
          <p:cNvSpPr/>
          <p:nvPr/>
        </p:nvSpPr>
        <p:spPr>
          <a:xfrm>
            <a:off x="48769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7"/>
          <p:cNvSpPr/>
          <p:nvPr/>
        </p:nvSpPr>
        <p:spPr>
          <a:xfrm>
            <a:off x="70866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18"/>
          <p:cNvSpPr/>
          <p:nvPr/>
        </p:nvSpPr>
        <p:spPr>
          <a:xfrm flipV="1">
            <a:off x="64008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9"/>
          <p:cNvSpPr/>
          <p:nvPr/>
        </p:nvSpPr>
        <p:spPr>
          <a:xfrm>
            <a:off x="4800600" y="4345560"/>
            <a:ext cx="1066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Retrieved resul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0"/>
          <p:cNvSpPr/>
          <p:nvPr/>
        </p:nvSpPr>
        <p:spPr>
          <a:xfrm>
            <a:off x="7010280" y="4269240"/>
            <a:ext cx="10670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Precision and reca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BC28-C8E3-4A09-B28F-C5B5745F8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Benchmarking </a:t>
            </a:r>
            <a:r>
              <a:rPr b="0" lang="en-US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 The Probl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Performance data is valid only for a particular bench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Building a benchmark corpus is a difficult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Representative corpora for web search are hard to make public due to privacy conce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Benchmark foreign-language corpora are 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8E53-B409-4C86-A408-11875622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4764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The TREC Benchmark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762120" y="1295280"/>
            <a:ext cx="77724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TREC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ex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trieva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onference (http://trec.nist.gov/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Originated from the TIPSTER program sponsored b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Defense Advanced Research Projects Agency (DARPA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Became an annual conference in 1992, co-sponsored by the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National Institute of Standards and Technology (NIST) and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DARP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Participants submit the P/R values for the final document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and query corpus and present their results at  the conference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5E03-E97F-4071-BD19-E87BB326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Characteristics of the TREC Collec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54120" y="1561680"/>
            <a:ext cx="78804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Both long and short documents (from a few hundred to over one thousand unique terms in a docum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Test documents consist of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WS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Wall Street Journal articles (1986-1992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550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AP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Associate Press Newswire (1989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514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Z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Computer Select Disks (Ziff-Davis Publishing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493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FR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Federal Regis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469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O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Abstracts from Department of Energy repor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190 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0FB6-5537-4C66-A4E3-79F6084A1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valu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41160" y="1409760"/>
            <a:ext cx="799452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Summary table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Number of topics, number of documents retrieved, number of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Recall-precision a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verage precision at 11 recall levels (0 to 1 at 0.1 increme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Document level a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verage precision when 5, 10, .., 100, … 1000 documents are retr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Average precision hist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Difference of the R-precision for each topic and the average R-precision of all systems for that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995B-56AF-4A5B-ABF1-5B4A7AA9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Picture 2" descr="F:\comp336\trec-result-rotate.gif"/>
          <p:cNvPicPr/>
          <p:nvPr/>
        </p:nvPicPr>
        <p:blipFill>
          <a:blip r:embed="rId1"/>
          <a:stretch/>
        </p:blipFill>
        <p:spPr>
          <a:xfrm>
            <a:off x="47520" y="361800"/>
            <a:ext cx="904896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0CF2-31E6-4CE9-80C1-C41DA568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ystic Fibrosis (CF) Coll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39 abstracts of medical journal articles on C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information requests (queries) in the form of complete English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t documents determined and rated by 4 separate medical experts on 0-2 sc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0: Not releva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: Marginally releva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2: Highly releva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B9DA-4196-4324-BCEC-A5B8B7236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F Document Fiel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LINE acce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su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or su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(or 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to other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ations to this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DFEE-27B0-4474-9DF8-595AFDC7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F Docu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1281240" y="1306440"/>
            <a:ext cx="18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6"/>
          <p:cNvSpPr/>
          <p:nvPr/>
        </p:nvSpPr>
        <p:spPr>
          <a:xfrm>
            <a:off x="685800" y="1371600"/>
            <a:ext cx="7772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74154352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 Burnell-R-H.  Robertson-E-F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 Cystic fibrosis in a patient with Kartagener syndrom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Am-J-Dis-Child. 1974 May. 127(5). P 746-7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J CYSTIC-FIBROSIS: co.  KARTAGENER-TRIAD: co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 CASE-REPORT.  CHLORIDES: an.  HUMAN.  INFANT.  LUNG: ra.  MAL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US-INVERSUS: co, ra.  SODIUM: an.  SWEAT: an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 A patient exhibited the features of both Kartagener syndrome an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stic fibrosis.  At most, to the authors' knowledge, thi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s the third such report of the combination.  Cystic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brosis should be excluded before a diagnosis of Kartagen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drome is mad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F 001   KARTAGENER M          BEITR KLIN TUBERK               83   489 933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2   SCHWARZ V             ARCH DIS CHILD                  43   695 96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3   MACE JW               CLIN PEDIATR                    10   285 97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…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   1   BOCHKOVA DN           GENETIKA (SOVIET GENETICS)      11   154 975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WOOD RE               AM REV RESPIR DIS              113   833 976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  MOSSBERG B            MT SINAI J MED                  44   837 977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5027-5DCC-4E5F-9631-E8AF8C309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Labeled Corpora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(Gold Standard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corpus of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a set of queries for this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one or more human experts exhaustively label the relevant documents for each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ssumes binary relevance judg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nsiderable human effort for large document/query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4C85-BF3F-4082-A5B1-E8B3A74B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F Quer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3" name="Text Box 3"/>
          <p:cNvSpPr/>
          <p:nvPr/>
        </p:nvSpPr>
        <p:spPr>
          <a:xfrm>
            <a:off x="838080" y="1447920"/>
            <a:ext cx="75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N 0000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 Can one distinguish between the effects of mucus hypersecretion an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ection on the submucosal glands of the respiratory tract in CF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 00007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  169 1000  434 1001  454 0100  498 1000  499 1000  592 0002  875 101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N 00004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 What is the lipid composition of CF respiratory secretions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 00009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  503 0001  538 0100  539 0100  540 0100  553 0001  604 2222  669 101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11 2122  876 222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4"/>
          <p:cNvSpPr/>
          <p:nvPr/>
        </p:nvSpPr>
        <p:spPr>
          <a:xfrm>
            <a:off x="1211040" y="4675320"/>
            <a:ext cx="67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R: Number of Relevant docu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RD: Relevant Docu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Ratings code:  Four 0-2 ratings, one from each expe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D2D8-62BB-4242-8168-C6F3280F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processing for VSR Experi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file for each document with j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jor and Minor Topic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bstract (Extract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 judgment made binary by assuming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cuments rated 1 or 2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rt were relev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58B4-F8F0-42EB-91CA-EB8CAC3FF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736560" y="4089240"/>
                <a:ext cx="6477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relevant documents retriev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relevant documen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3"/>
              <p:cNvSpPr txBox="1"/>
              <p:nvPr/>
            </p:nvSpPr>
            <p:spPr>
              <a:xfrm>
                <a:off x="609480" y="5257800"/>
                <a:ext cx="67820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 of relevant documents  retriev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documents  retriev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8" name="Group 33"/>
          <p:cNvGrpSpPr/>
          <p:nvPr/>
        </p:nvGrpSpPr>
        <p:grpSpPr>
          <a:xfrm>
            <a:off x="609480" y="1828800"/>
            <a:ext cx="4410000" cy="1752480"/>
            <a:chOff x="609480" y="1828800"/>
            <a:chExt cx="4410000" cy="1752480"/>
          </a:xfrm>
        </p:grpSpPr>
        <p:sp>
          <p:nvSpPr>
            <p:cNvPr id="569" name="Rectangle 6"/>
            <p:cNvSpPr/>
            <p:nvPr/>
          </p:nvSpPr>
          <p:spPr>
            <a:xfrm>
              <a:off x="666720" y="1828800"/>
              <a:ext cx="4352760" cy="175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>
              <a:off x="1981080" y="1971360"/>
              <a:ext cx="1581120" cy="15238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8"/>
            <p:cNvSpPr/>
            <p:nvPr/>
          </p:nvSpPr>
          <p:spPr>
            <a:xfrm>
              <a:off x="3047760" y="1895400"/>
              <a:ext cx="1600200" cy="159984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9"/>
            <p:cNvSpPr/>
            <p:nvPr/>
          </p:nvSpPr>
          <p:spPr>
            <a:xfrm>
              <a:off x="1828800" y="2125800"/>
              <a:ext cx="152388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Relevant document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1"/>
            <p:cNvSpPr/>
            <p:nvPr/>
          </p:nvSpPr>
          <p:spPr>
            <a:xfrm>
              <a:off x="3352680" y="2125800"/>
              <a:ext cx="13716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Retrieved document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2"/>
            <p:cNvSpPr/>
            <p:nvPr/>
          </p:nvSpPr>
          <p:spPr>
            <a:xfrm>
              <a:off x="609480" y="1896840"/>
              <a:ext cx="1752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Entire document collec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34"/>
          <p:cNvGrpSpPr/>
          <p:nvPr/>
        </p:nvGrpSpPr>
        <p:grpSpPr>
          <a:xfrm>
            <a:off x="5105520" y="1674720"/>
            <a:ext cx="3144240" cy="2225880"/>
            <a:chOff x="5105520" y="1674720"/>
            <a:chExt cx="3144240" cy="2225880"/>
          </a:xfrm>
        </p:grpSpPr>
        <p:grpSp>
          <p:nvGrpSpPr>
            <p:cNvPr id="576" name="Group 15"/>
            <p:cNvGrpSpPr/>
            <p:nvPr/>
          </p:nvGrpSpPr>
          <p:grpSpPr>
            <a:xfrm>
              <a:off x="5486400" y="1752480"/>
              <a:ext cx="2763360" cy="1771560"/>
              <a:chOff x="5486400" y="1752480"/>
              <a:chExt cx="2763360" cy="1771560"/>
            </a:xfrm>
          </p:grpSpPr>
          <p:sp>
            <p:nvSpPr>
              <p:cNvPr id="577" name="Rectangle 16"/>
              <p:cNvSpPr/>
              <p:nvPr/>
            </p:nvSpPr>
            <p:spPr>
              <a:xfrm>
                <a:off x="5486400" y="2798640"/>
                <a:ext cx="1198080" cy="725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retrieved &amp; releva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17"/>
              <p:cNvSpPr/>
              <p:nvPr/>
            </p:nvSpPr>
            <p:spPr>
              <a:xfrm>
                <a:off x="6684480" y="2798640"/>
                <a:ext cx="1565280" cy="725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not retrieved but releva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18"/>
              <p:cNvSpPr/>
              <p:nvPr/>
            </p:nvSpPr>
            <p:spPr>
              <a:xfrm>
                <a:off x="5486400" y="1752480"/>
                <a:ext cx="1198080" cy="104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retrieved &amp; irreleva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19"/>
              <p:cNvSpPr/>
              <p:nvPr/>
            </p:nvSpPr>
            <p:spPr>
              <a:xfrm>
                <a:off x="6684480" y="1752480"/>
                <a:ext cx="1565280" cy="104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Not retrieved &amp; irreleva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5577480" y="3532320"/>
              <a:ext cx="99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trieved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21"/>
            <p:cNvSpPr/>
            <p:nvPr/>
          </p:nvSpPr>
          <p:spPr>
            <a:xfrm>
              <a:off x="6792840" y="353232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not retrieved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22"/>
            <p:cNvSpPr/>
            <p:nvPr/>
          </p:nvSpPr>
          <p:spPr>
            <a:xfrm rot="16200000">
              <a:off x="4829760" y="301752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levan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23"/>
            <p:cNvSpPr/>
            <p:nvPr/>
          </p:nvSpPr>
          <p:spPr>
            <a:xfrm rot="16200000">
              <a:off x="4759560" y="202068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irrelevan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Precision and Recal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934-CDBA-4A7C-A551-BD47D0DC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Precision and Recal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66360" y="1504800"/>
            <a:ext cx="785484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he ability to retrieve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op-ranked documents that are mostly releva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Re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he ability of the search to find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al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of the relevant items in the corpu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A333-8168-4441-85FE-9A67EC59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termining Recall is Difficul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Total number of  relevant items is sometimes not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Sample across the database and perform relevance judgment on these item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Apply different retrieval algorithms to the same database for the same query. The aggregate of relevant items is taken as the total relevant se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E91B-811B-4FDB-9EC4-0033943F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421480" cy="8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Trade-off between Recall and Prec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2975040" y="2666880"/>
            <a:ext cx="2438280" cy="1752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reeform 6"/>
          <p:cNvSpPr/>
          <p:nvPr/>
        </p:nvSpPr>
        <p:spPr>
          <a:xfrm>
            <a:off x="3127320" y="2895480"/>
            <a:ext cx="2057400" cy="129564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296" h="816">
                <a:moveTo>
                  <a:pt x="0" y="0"/>
                </a:moveTo>
                <a:cubicBezTo>
                  <a:pt x="13" y="64"/>
                  <a:pt x="16" y="270"/>
                  <a:pt x="77" y="386"/>
                </a:cubicBezTo>
                <a:cubicBezTo>
                  <a:pt x="138" y="502"/>
                  <a:pt x="241" y="629"/>
                  <a:pt x="366" y="697"/>
                </a:cubicBezTo>
                <a:cubicBezTo>
                  <a:pt x="491" y="765"/>
                  <a:pt x="670" y="774"/>
                  <a:pt x="825" y="794"/>
                </a:cubicBezTo>
                <a:cubicBezTo>
                  <a:pt x="980" y="814"/>
                  <a:pt x="1198" y="812"/>
                  <a:pt x="1296" y="816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26719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6719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3584520" y="4419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Rec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0"/>
          <p:cNvSpPr/>
          <p:nvPr/>
        </p:nvSpPr>
        <p:spPr>
          <a:xfrm rot="16200000">
            <a:off x="2009160" y="3248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Precis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15"/>
          <p:cNvGrpSpPr/>
          <p:nvPr/>
        </p:nvGrpSpPr>
        <p:grpSpPr>
          <a:xfrm>
            <a:off x="4952880" y="1981080"/>
            <a:ext cx="1820520" cy="1143000"/>
            <a:chOff x="4952880" y="1981080"/>
            <a:chExt cx="1820520" cy="1143000"/>
          </a:xfrm>
        </p:grpSpPr>
        <p:sp>
          <p:nvSpPr>
            <p:cNvPr id="602" name="Oval 16"/>
            <p:cNvSpPr/>
            <p:nvPr/>
          </p:nvSpPr>
          <p:spPr>
            <a:xfrm>
              <a:off x="4952880" y="251460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5638680" y="1981080"/>
              <a:ext cx="11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The ideal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18"/>
            <p:cNvSpPr/>
            <p:nvPr/>
          </p:nvSpPr>
          <p:spPr>
            <a:xfrm>
              <a:off x="5410080" y="220968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92" h="192">
                  <a:moveTo>
                    <a:pt x="192" y="0"/>
                  </a:moveTo>
                  <a:cubicBezTo>
                    <a:pt x="160" y="8"/>
                    <a:pt x="128" y="16"/>
                    <a:pt x="96" y="48"/>
                  </a:cubicBezTo>
                  <a:cubicBezTo>
                    <a:pt x="64" y="80"/>
                    <a:pt x="32" y="136"/>
                    <a:pt x="0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19"/>
          <p:cNvGrpSpPr/>
          <p:nvPr/>
        </p:nvGrpSpPr>
        <p:grpSpPr>
          <a:xfrm>
            <a:off x="755280" y="1676520"/>
            <a:ext cx="3416040" cy="1447560"/>
            <a:chOff x="755280" y="1676520"/>
            <a:chExt cx="3416040" cy="1447560"/>
          </a:xfrm>
        </p:grpSpPr>
        <p:sp>
          <p:nvSpPr>
            <p:cNvPr id="606" name="Text Box 20"/>
            <p:cNvSpPr/>
            <p:nvPr/>
          </p:nvSpPr>
          <p:spPr>
            <a:xfrm>
              <a:off x="755280" y="1676520"/>
              <a:ext cx="34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turns relevant documents but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misses many useful ones too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2590920" y="251460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22"/>
            <p:cNvSpPr/>
            <p:nvPr/>
          </p:nvSpPr>
          <p:spPr>
            <a:xfrm>
              <a:off x="2044800" y="2362320"/>
              <a:ext cx="546120" cy="3808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44" h="240">
                  <a:moveTo>
                    <a:pt x="8" y="0"/>
                  </a:moveTo>
                  <a:cubicBezTo>
                    <a:pt x="4" y="28"/>
                    <a:pt x="0" y="56"/>
                    <a:pt x="56" y="96"/>
                  </a:cubicBezTo>
                  <a:cubicBezTo>
                    <a:pt x="112" y="136"/>
                    <a:pt x="228" y="188"/>
                    <a:pt x="344" y="24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11"/>
          <p:cNvGrpSpPr/>
          <p:nvPr/>
        </p:nvGrpSpPr>
        <p:grpSpPr>
          <a:xfrm>
            <a:off x="4952880" y="4114800"/>
            <a:ext cx="3879000" cy="1389600"/>
            <a:chOff x="4952880" y="4114800"/>
            <a:chExt cx="3879000" cy="1389600"/>
          </a:xfrm>
        </p:grpSpPr>
        <p:sp>
          <p:nvSpPr>
            <p:cNvPr id="610" name="Text Box 12"/>
            <p:cNvSpPr/>
            <p:nvPr/>
          </p:nvSpPr>
          <p:spPr>
            <a:xfrm>
              <a:off x="6243120" y="4495680"/>
              <a:ext cx="2588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turns most relevant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documents but include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lots of  junk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13"/>
            <p:cNvSpPr/>
            <p:nvPr/>
          </p:nvSpPr>
          <p:spPr>
            <a:xfrm>
              <a:off x="4952880" y="4114800"/>
              <a:ext cx="762120" cy="6094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4"/>
            <p:cNvSpPr/>
            <p:nvPr/>
          </p:nvSpPr>
          <p:spPr>
            <a:xfrm>
              <a:off x="5715000" y="434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84" h="144">
                  <a:moveTo>
                    <a:pt x="384" y="144"/>
                  </a:moveTo>
                  <a:cubicBezTo>
                    <a:pt x="368" y="108"/>
                    <a:pt x="352" y="72"/>
                    <a:pt x="288" y="48"/>
                  </a:cubicBezTo>
                  <a:cubicBezTo>
                    <a:pt x="224" y="24"/>
                    <a:pt x="112" y="1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E74B-17B0-405E-BB9B-1362F473F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Recall/Precision Poi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given query, produce the ranked list of retrie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ing a threshold on this ranked list produces different sets of retrieved documents, and therefore different recall/precision meas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 each document in the ranked list that is relevant according to the gold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 recall/precision pair for each position in the ranked list that contains a relevant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21-09-08T17:44:49Z</dcterms:modified>
  <cp:revision>91</cp:revision>
  <dc:subject/>
  <dc:title>Intelligent Information Retrieval and Web Search</dc:title>
</cp:coreProperties>
</file>