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CC0C-FA93-4183-95C5-2236EBA0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B06A-83D2-488E-833B-286629B96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6ED0-5964-4B0B-AC63-BAA4000A6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E0E0-CD3E-488C-B67D-89120E672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753F-0259-4E63-9AB4-B23F6143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2781-EFE3-4AC6-927D-D41006337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B7FF-464A-4362-8FCB-70BAAB1FE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D70C-E711-4114-924D-3CBD94BE7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3A25-B4F9-4AA3-8AD1-54B7B4BFF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156D-A1FE-417F-86EC-9BA7F870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9638-5AD7-4CBA-8AFB-910B2435D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6EEB-61F1-40FE-AFF7-75DA446D9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A37E-BC24-41E1-B437-03E9D5D18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DCAE-F400-4A53-97C2-5A34207CA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C834-1755-4C1A-9CCC-F466712DF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E22-6539-41A3-832B-306DE113C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6614-E0FE-4170-951F-CB624982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FEF8-B843-46DE-A69C-19ED4AB2B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C099-B775-4956-89F2-4D8DEEFD1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52DC-8E37-49A1-8666-DE91D923D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CD36-B58E-4CE1-BC4A-B7C32E302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FEDE-C59E-4FF6-9DA7-5489D66D4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EFA8-EA0F-4496-B5F8-4647329D9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4524-7605-4694-B03E-C8CFAAA05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1E22-48A7-46C8-9DE8-4C5C66CCD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595D-97C3-45AD-A4DD-561D0998C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06CA-C275-40C1-A808-77C5A0AA2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EA40-58F3-416C-AE37-51FDE353D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E5D5-D744-44E5-90D1-0C07DC6E3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124F-4641-4B58-8F20-CDA66DF57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467D-6947-4AE3-9D18-175A121FF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5B06-0C1B-41FF-B291-2F8C61755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A03-D888-4B5E-AF4B-F3FC2558A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3486-AE18-42DB-8575-2C27AB152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84F9-686E-42BF-B4C7-9BD9674F5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0921-8B72-459A-8688-1112437DB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377-7FAF-4697-BC2C-880BC1D88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84EA-5EA7-48DA-91E3-D329DF6D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8606-16B6-4B1A-BBD7-FE606777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86B99-EA40-4715-86B6-0879567F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7148CF-E88E-46DD-AA1E-684C9FAA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0312B1-707D-4F73-8178-594F7F53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565C8A-356E-46E9-9EF5-D66F77DC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BCCCE4-7E8F-444C-8EBB-A9A4C55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3F7CE-CC23-432F-B833-B02DC199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1D81D-398A-4D88-8F98-6A1EB55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F2D23F-5768-4CFF-98AD-1B9C571E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5E6E7-2794-4671-B94D-F738E8D6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AD1333-33B7-42AC-BCDB-11719926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EC4F-28A4-43C5-A32D-69B384CD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404BD2-F1A6-49D3-B94E-185ADBD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DCB8F9-A765-4EBA-86C8-194FB86A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2C0004-81FA-490E-A84B-A1A52A82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604260-C26E-4022-BA1E-87651C83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9A9D07-CD8B-4643-BF98-F84536B0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805FF6-421C-4B0E-BCF3-552B5A8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A5A2EF-8250-4670-8CFF-24E858D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8A7F2E-A07F-41D8-AF5B-B2F8F299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EC0D31-42B1-422F-831F-A774FE42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CE6340-21F4-4ED3-9790-3726E142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7A96-B761-4923-9709-C0DBA8C9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DD67EA-A5C1-49EA-8E95-7CBC9510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8AF9E8-717B-43AC-AE26-6F67566A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F89E41-B60E-485D-9832-7EBA84D6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D70A30-6AB2-4A27-B5C7-F0F4832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ECF3E3-9B78-43B8-A3D7-BB19722D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71FD24-9265-4AA0-8EDF-B90F084C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B6AFD2-1BE2-4F8E-A955-58FC2E0C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F515E5-7E25-4451-A8D9-10C2E038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53AA7C-D273-4C87-863A-A8BA85C2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5DA47E-EEFA-4716-89A5-335AF84F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321BF-D9DB-4BE6-8B64-40A3D59B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AFBB2A-781E-443B-A08D-15F337EC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A9AE04-699D-40D2-AF44-5AEC0923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96198A-09D3-4FF7-B7EF-6DDB5D68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7B7E97-1C7A-4725-A728-424AC152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32DE01-6E2B-48B2-B144-EB3123B0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A4CD19-5230-4007-86A8-DA0C034A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6BA729-C48F-47D0-B349-B3FAB5CF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02C67D-7C6C-45B1-99C4-E9A31145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DDD657-E033-4639-9AF7-E92602D2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66FD12-96BB-4A1F-946F-EED45470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8F0B1-6B13-4EB7-940B-EE194684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DE81BA-C052-45D4-B1CA-4428C5F4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7E0EA1-626E-419F-B440-8C2C210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6B0AE1-8C3F-4E02-99A7-2D405F70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A87547-A599-4FE1-BBDA-15F2B8B1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B6EF7A-C87D-4AFA-8C67-C9B398FF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F369A5-1565-4397-ADD0-23BA1259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B0167B-902E-4EE4-A5B1-7636C452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50F917-CDBF-4327-AD40-F52CB481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AD991B-81AE-4A8A-B117-31C5C88A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B797E6-6645-420C-934D-5D5F5644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FC99F-9C2C-4335-8CAD-80C4F5DC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E60A3B-57B1-4773-9565-C760A2E8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D3F9B1-4C42-4A01-8C12-4C5C10C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CEA6CA-619F-40E6-B95C-3DAA15B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30AC7-3851-42A0-9C89-97B2925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3311D9-3DAF-41FA-A951-EB94B00E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4C7FB4-4AB1-46E0-A1D6-B14564D9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295A87-2C27-42F3-B5D5-DBD7B3A0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372F8-6D38-49CB-BDD3-4976FF81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ED4E8-C6F4-47CB-B1FB-46A4EECC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E1C94-0F71-4443-8CF3-6406746E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958DE-6165-4312-AE10-7C01C888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60C9-E047-4223-A645-0FFD67EA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7C599-7137-4B75-B992-1C4A9AE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8441F-C2EE-4143-BD45-B52C45E8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3D8B1-59A4-4513-8E01-78F8F584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89AD5-04CA-4190-8C45-F8A8254B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05932-F9E2-48B5-981A-7E9F22A0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330B5-9415-40CF-91E3-8AD2455A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D9A99-28E1-4B5B-828A-0E20D77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4EFA4-D8EF-4BA4-AB54-9D7D16BC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80697-0DB0-42DC-B9A5-FA82CDDB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39A83-9332-4B62-99EF-0B6BE31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224F-CAF4-43AD-9AD1-4E0CEA57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3A5C5-512A-419D-8837-8723889C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55514-F509-453F-9CB4-A72232E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30936-C010-4CC9-A97B-883CE188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AEB20-74AA-4984-9B1A-7B264209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975A8-CCCC-4410-9019-E88BB1AC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037FC-A9A2-46E3-8050-DD93C9B2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72E2D-7439-473E-9EC4-4D372119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77DD8-E841-4C33-B6CC-CDA09173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54C19-2538-4B7C-9D79-3D20929E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E0888-140B-4AC9-A178-1FBA6F03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4290-B7F5-42F1-B34F-A5F4A21C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88746-1372-4545-B8AB-65DBE548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31C79-EB80-42DD-8219-78F24A0F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87E72-6AAC-4016-96E1-D40930F4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233A1-1233-422C-ABDC-636D4D0C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950BA-8D2A-4642-9334-4FE15152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2AF6C-A6EA-4560-9014-56C45DFA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1183A-C231-4118-B403-3FDA4A76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0BDE2-4FD2-4DEA-A9FD-B62B5D62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FCCCF-C847-468E-8419-52B40CFE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02892-AF2E-421E-BB3D-A637CD10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8A83-AF79-4D42-9129-E673056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39B29-5E05-416F-A74A-5FB745C2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2FE61-5635-48AB-958D-7CE1A1B1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E0CE2-0EDC-4557-A34B-176759BC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5FF83-99FD-4A47-997B-7302093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059FF-4805-4D96-91C3-65D5AC46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65DE1-F6AE-402D-91DA-9E8A4854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5C80D-5DEF-46D0-81C1-0BB014E6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D9DBF-FFBE-4625-82C8-A3282518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491A9-B8E9-495B-9154-CF0A4F8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37168-FAE6-4D0F-9661-BDAA468B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F235-626E-4ADB-AF1D-567CB20C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8E836-6205-4093-8EA0-5E40D928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EB0A3-0F77-4D99-B8EF-1500CB25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0FFEC-AFA7-49BD-AD55-8E1C397B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80681-3EA8-4FE0-AD68-66A64A3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381CE-8AB1-4DA0-8DB1-B09697E6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F929E-25C6-4A0D-B931-A77248A0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0A439-BAB2-402E-82B0-3E610CB1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C5932-1CC7-446A-A8EC-0B2F350F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2A9DF-346B-4F5F-A3ED-12E7C9B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6871E-10D2-4EDF-A1F0-1460915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4826-E922-4B96-88F4-657542F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4419D-CB72-40D4-9D4E-AE2C7C7B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C0F36-CD1C-48F1-A08C-2BD79CBD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AEBCB-C13C-4D90-8AF9-56AACF24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D04AA-DF43-4E15-904F-AE20AA1E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65C60-2859-470D-BCCE-07E5B8BA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1DDBD-8731-4222-85E2-08E37F12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BCD70-67D6-495F-A096-B0CCCAD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B699D6-1A12-4F98-9F30-B294E479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22475-E950-4522-B3DA-6A0F8887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FE15FC-5E96-45CA-8C65-7B41BA8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EB76-3D57-4264-826D-B16B41B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E6083-453F-4C14-A8D9-DA24937B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FACA9-15BB-4385-AAD9-CF03F12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52EBF-6F9A-48B8-9F12-091C3C1F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98C1C-80AC-45B2-87E2-667F405E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99FF1-1413-46AE-A9D2-2224F3A9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23814-094F-4566-A86B-6651E697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9A4CF6-6E20-4BA5-AD6B-42AE95ED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C7B43D-3400-4081-9568-1B547015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8F5F9-D3E3-479C-93CB-BB67ECFE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314A75-4317-4D5B-80EA-A0A131A7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2054-8EF2-4B0F-9D9C-6CA4E8B5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DCE84A-7A47-49EB-B165-EE7B2AA6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74846-AD65-4D41-833C-B273B027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532A50-8347-4F4A-B21D-318642A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3CE1B-DEC3-44D8-836F-C58D4329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43E0A8-9F23-4D8F-BC82-6C3058A0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7F70D-098A-4CAB-BAFA-64050A4D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26DFCF-8503-42ED-BF34-E8A0267F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E75A1-B434-492A-A9BA-1B149298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1D1EF-862A-48AE-B07A-738443B3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D0593A-615B-421F-95F0-873B8E70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7401-C5DF-4594-9A39-FA9A2B942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97B3-412B-4053-87FC-3767DA305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536-6A10-493B-82DA-8C5C5CD25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D624-3784-47F2-B5F5-03597242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4854-24D2-4AB2-A4E4-869BC3681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FEB5-D231-4DAA-97A0-5D173314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C54B-DC55-475E-80BA-E79266FE4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87C8-DD12-4747-9CA0-2A204FF5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E3D-F2E2-4047-9309-7E05A57F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5091-26BC-4678-A4D0-EA76189A3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744-6120-4CCE-837B-F01040A4E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E56C-25BF-4CD0-8364-BA73728FA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D79E-8728-49AD-AD06-76C3BC183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3B97-3FCA-4301-8AC0-D00B5703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PMingLiU"/>
              </a:rPr>
              <a:t>Performance Evaluation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PMingLiU"/>
              </a:rPr>
              <a:t>of Information Retrieval Systems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Many slides in this section are adapted from Prof. Joydeep Ghosh (UT ECE) who in turn adapted them from Prof. Dik Lee (Univ. of Science and Tech, Hong K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7C2B-AF81-4098-AE24-ED3E64BDC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3884760" y="3821040"/>
            <a:ext cx="2923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3/6=0.5;     P=3/4=0.75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6"/>
          <p:cNvSpPr/>
          <p:nvPr/>
        </p:nvSpPr>
        <p:spPr>
          <a:xfrm>
            <a:off x="3276720" y="3032280"/>
            <a:ext cx="609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Computing Recall/Precision Points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xample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620" name="Object 10"/>
          <p:cNvGraphicFramePr/>
          <p:nvPr/>
        </p:nvGraphicFramePr>
        <p:xfrm>
          <a:off x="990720" y="1447920"/>
          <a:ext cx="2282760" cy="49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228276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Text Box 11"/>
          <p:cNvSpPr/>
          <p:nvPr/>
        </p:nvSpPr>
        <p:spPr>
          <a:xfrm>
            <a:off x="3886200" y="16002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PMingLiU"/>
              </a:rPr>
              <a:t>Let total # of relevant docs = 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PMingLiU"/>
              </a:rPr>
              <a:t>Check each new recall point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884760" y="2589120"/>
            <a:ext cx="2771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1/6=0.167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1/1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4"/>
          <p:cNvSpPr/>
          <p:nvPr/>
        </p:nvSpPr>
        <p:spPr>
          <a:xfrm>
            <a:off x="3276720" y="1965240"/>
            <a:ext cx="622080" cy="72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3884760" y="3224160"/>
            <a:ext cx="2771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2/6=0.33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2/2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7"/>
          <p:cNvSpPr/>
          <p:nvPr/>
        </p:nvSpPr>
        <p:spPr>
          <a:xfrm>
            <a:off x="3276720" y="2346480"/>
            <a:ext cx="647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3886200" y="5775480"/>
            <a:ext cx="30639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5/6=0.83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5/13=0.38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0"/>
          <p:cNvSpPr/>
          <p:nvPr/>
        </p:nvSpPr>
        <p:spPr>
          <a:xfrm>
            <a:off x="3276720" y="600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5"/>
          <p:cNvSpPr/>
          <p:nvPr/>
        </p:nvSpPr>
        <p:spPr>
          <a:xfrm>
            <a:off x="3886200" y="4403880"/>
            <a:ext cx="3124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4/6=0.667; P=4/6=0.667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6"/>
          <p:cNvSpPr/>
          <p:nvPr/>
        </p:nvSpPr>
        <p:spPr>
          <a:xfrm>
            <a:off x="3276720" y="371808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7"/>
          <p:cNvSpPr/>
          <p:nvPr/>
        </p:nvSpPr>
        <p:spPr>
          <a:xfrm>
            <a:off x="6821280" y="4952880"/>
            <a:ext cx="213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Missing one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relevant documen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ever reac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100% reca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F6B4-7CB2-4502-BC2C-E424AA82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884760" y="3821040"/>
            <a:ext cx="2923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3/6=0.5;     P=3/5=0.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6"/>
          <p:cNvSpPr/>
          <p:nvPr/>
        </p:nvSpPr>
        <p:spPr>
          <a:xfrm>
            <a:off x="3276720" y="3200400"/>
            <a:ext cx="609480" cy="66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Computing Recall/Precision Points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xample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636" name="Object 2"/>
          <p:cNvGraphicFramePr/>
          <p:nvPr/>
        </p:nvGraphicFramePr>
        <p:xfrm>
          <a:off x="996840" y="1446120"/>
          <a:ext cx="22924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446120"/>
                    <a:ext cx="22924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Text Box 11"/>
          <p:cNvSpPr/>
          <p:nvPr/>
        </p:nvSpPr>
        <p:spPr>
          <a:xfrm>
            <a:off x="3886200" y="16002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PMingLiU"/>
              </a:rPr>
              <a:t>Let total # of relevant docs = 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PMingLiU"/>
              </a:rPr>
              <a:t>Check each new recall point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3884760" y="2589120"/>
            <a:ext cx="2771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1/6=0.167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1/1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4"/>
          <p:cNvSpPr/>
          <p:nvPr/>
        </p:nvSpPr>
        <p:spPr>
          <a:xfrm>
            <a:off x="3276720" y="1965240"/>
            <a:ext cx="622080" cy="72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6"/>
          <p:cNvSpPr/>
          <p:nvPr/>
        </p:nvSpPr>
        <p:spPr>
          <a:xfrm>
            <a:off x="3884760" y="3224160"/>
            <a:ext cx="30495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2/6=0.33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2/3=0.667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7"/>
          <p:cNvSpPr/>
          <p:nvPr/>
        </p:nvSpPr>
        <p:spPr>
          <a:xfrm>
            <a:off x="3276720" y="2590920"/>
            <a:ext cx="647640" cy="66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3886200" y="5943600"/>
            <a:ext cx="3200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6/6=1.0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=6/14=0.429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20"/>
          <p:cNvSpPr/>
          <p:nvPr/>
        </p:nvSpPr>
        <p:spPr>
          <a:xfrm>
            <a:off x="3276720" y="6172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5"/>
          <p:cNvSpPr/>
          <p:nvPr/>
        </p:nvSpPr>
        <p:spPr>
          <a:xfrm>
            <a:off x="3886200" y="4403880"/>
            <a:ext cx="2895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4/6=0.667; P=4/8=0.5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26"/>
          <p:cNvSpPr/>
          <p:nvPr/>
        </p:nvSpPr>
        <p:spPr>
          <a:xfrm>
            <a:off x="3276720" y="4267080"/>
            <a:ext cx="609480" cy="13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5"/>
          <p:cNvSpPr/>
          <p:nvPr/>
        </p:nvSpPr>
        <p:spPr>
          <a:xfrm>
            <a:off x="3886200" y="4952880"/>
            <a:ext cx="3124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=5/6=0.833; P=5/9=0.55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6"/>
          <p:cNvSpPr/>
          <p:nvPr/>
        </p:nvSpPr>
        <p:spPr>
          <a:xfrm>
            <a:off x="3276720" y="45720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D4B-229F-40CE-8918-EE39D5AAB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rpolating a Recall/Precision Cur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olate a precision value 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 recall lev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{0.0, 0.1, 0.2, 0.3, 0.4, 0.5, 0.6, 0.7, 0.8, 0.9, 1.0}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= 0.0, r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= 0.1, …, r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1.0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polated precision a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standard recall level is the maximum known precision at any recall level betwee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an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1)-th le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0"/>
              <p:cNvSpPr txBox="1"/>
              <p:nvPr/>
            </p:nvSpPr>
            <p:spPr>
              <a:xfrm>
                <a:off x="2514600" y="5410080"/>
                <a:ext cx="3733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r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39AF-70FB-442B-8436-5C37252DA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Interpolating a Recall/Precision Curve: Example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365796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4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17328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8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8"/>
          <p:cNvSpPr/>
          <p:nvPr/>
        </p:nvSpPr>
        <p:spPr>
          <a:xfrm>
            <a:off x="1419120" y="1523880"/>
            <a:ext cx="0" cy="4052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 flipV="1">
            <a:off x="1415880" y="5562360"/>
            <a:ext cx="71186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0"/>
          <p:cNvSpPr/>
          <p:nvPr/>
        </p:nvSpPr>
        <p:spPr>
          <a:xfrm>
            <a:off x="266688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1"/>
          <p:cNvSpPr/>
          <p:nvPr/>
        </p:nvSpPr>
        <p:spPr>
          <a:xfrm>
            <a:off x="391464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2"/>
          <p:cNvSpPr/>
          <p:nvPr/>
        </p:nvSpPr>
        <p:spPr>
          <a:xfrm>
            <a:off x="52084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3"/>
          <p:cNvSpPr/>
          <p:nvPr/>
        </p:nvSpPr>
        <p:spPr>
          <a:xfrm>
            <a:off x="766296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4"/>
          <p:cNvSpPr/>
          <p:nvPr/>
        </p:nvSpPr>
        <p:spPr>
          <a:xfrm>
            <a:off x="642132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22"/>
          <p:cNvSpPr/>
          <p:nvPr/>
        </p:nvSpPr>
        <p:spPr>
          <a:xfrm>
            <a:off x="1905120" y="2209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25"/>
          <p:cNvSpPr/>
          <p:nvPr/>
        </p:nvSpPr>
        <p:spPr>
          <a:xfrm>
            <a:off x="2286000" y="2209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1371600" y="489096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1387440" y="423540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>
            <a:off x="1371600" y="355752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8"/>
          <p:cNvSpPr/>
          <p:nvPr/>
        </p:nvSpPr>
        <p:spPr>
          <a:xfrm>
            <a:off x="1384200" y="221616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9"/>
          <p:cNvSpPr/>
          <p:nvPr/>
        </p:nvSpPr>
        <p:spPr>
          <a:xfrm>
            <a:off x="1387440" y="289404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72"/>
          <p:cNvGrpSpPr/>
          <p:nvPr/>
        </p:nvGrpSpPr>
        <p:grpSpPr>
          <a:xfrm>
            <a:off x="915480" y="2057400"/>
            <a:ext cx="577800" cy="3062520"/>
            <a:chOff x="915480" y="2057400"/>
            <a:chExt cx="577800" cy="3062520"/>
          </a:xfrm>
        </p:grpSpPr>
        <p:sp>
          <p:nvSpPr>
            <p:cNvPr id="672" name="Text Box 44"/>
            <p:cNvSpPr/>
            <p:nvPr/>
          </p:nvSpPr>
          <p:spPr>
            <a:xfrm>
              <a:off x="931320" y="20574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.0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45"/>
            <p:cNvSpPr/>
            <p:nvPr/>
          </p:nvSpPr>
          <p:spPr>
            <a:xfrm>
              <a:off x="934200" y="2751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8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46"/>
            <p:cNvSpPr/>
            <p:nvPr/>
          </p:nvSpPr>
          <p:spPr>
            <a:xfrm>
              <a:off x="915480" y="33987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6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47"/>
            <p:cNvSpPr/>
            <p:nvPr/>
          </p:nvSpPr>
          <p:spPr>
            <a:xfrm>
              <a:off x="964800" y="4083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4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48"/>
            <p:cNvSpPr/>
            <p:nvPr/>
          </p:nvSpPr>
          <p:spPr>
            <a:xfrm>
              <a:off x="992520" y="47210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Text Box 49"/>
          <p:cNvSpPr/>
          <p:nvPr/>
        </p:nvSpPr>
        <p:spPr>
          <a:xfrm>
            <a:off x="236340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0"/>
          <p:cNvSpPr/>
          <p:nvPr/>
        </p:nvSpPr>
        <p:spPr>
          <a:xfrm>
            <a:off x="7391160" y="55627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1.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1"/>
          <p:cNvSpPr/>
          <p:nvPr/>
        </p:nvSpPr>
        <p:spPr>
          <a:xfrm>
            <a:off x="495396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62"/>
          <p:cNvSpPr/>
          <p:nvPr/>
        </p:nvSpPr>
        <p:spPr>
          <a:xfrm>
            <a:off x="7847640" y="571500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PMingLiU"/>
              </a:rPr>
              <a:t>Reca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63"/>
          <p:cNvSpPr/>
          <p:nvPr/>
        </p:nvSpPr>
        <p:spPr>
          <a:xfrm rot="16200000">
            <a:off x="277200" y="19936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PMingLiU"/>
              </a:rPr>
              <a:t>Precisio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70"/>
          <p:cNvSpPr/>
          <p:nvPr/>
        </p:nvSpPr>
        <p:spPr>
          <a:xfrm>
            <a:off x="19810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73"/>
          <p:cNvSpPr/>
          <p:nvPr/>
        </p:nvSpPr>
        <p:spPr>
          <a:xfrm>
            <a:off x="457200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74"/>
          <p:cNvSpPr/>
          <p:nvPr/>
        </p:nvSpPr>
        <p:spPr>
          <a:xfrm>
            <a:off x="58672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5"/>
          <p:cNvSpPr/>
          <p:nvPr/>
        </p:nvSpPr>
        <p:spPr>
          <a:xfrm>
            <a:off x="33526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76"/>
          <p:cNvSpPr/>
          <p:nvPr/>
        </p:nvSpPr>
        <p:spPr>
          <a:xfrm>
            <a:off x="708660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77"/>
          <p:cNvSpPr/>
          <p:nvPr/>
        </p:nvSpPr>
        <p:spPr>
          <a:xfrm>
            <a:off x="3429000" y="2209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81"/>
          <p:cNvSpPr/>
          <p:nvPr/>
        </p:nvSpPr>
        <p:spPr>
          <a:xfrm>
            <a:off x="5791320" y="44197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82"/>
          <p:cNvSpPr/>
          <p:nvPr/>
        </p:nvSpPr>
        <p:spPr>
          <a:xfrm>
            <a:off x="6400800" y="44197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83"/>
          <p:cNvSpPr/>
          <p:nvPr/>
        </p:nvSpPr>
        <p:spPr>
          <a:xfrm>
            <a:off x="7010280" y="548640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84"/>
          <p:cNvSpPr/>
          <p:nvPr/>
        </p:nvSpPr>
        <p:spPr>
          <a:xfrm>
            <a:off x="7620120" y="548640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85"/>
          <p:cNvSpPr/>
          <p:nvPr/>
        </p:nvSpPr>
        <p:spPr>
          <a:xfrm>
            <a:off x="6553080" y="441972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86"/>
          <p:cNvSpPr/>
          <p:nvPr/>
        </p:nvSpPr>
        <p:spPr>
          <a:xfrm>
            <a:off x="5486400" y="3352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87"/>
          <p:cNvSpPr/>
          <p:nvPr/>
        </p:nvSpPr>
        <p:spPr>
          <a:xfrm>
            <a:off x="4495680" y="304812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88"/>
          <p:cNvSpPr/>
          <p:nvPr/>
        </p:nvSpPr>
        <p:spPr>
          <a:xfrm>
            <a:off x="3276720" y="2209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89"/>
          <p:cNvSpPr/>
          <p:nvPr/>
        </p:nvSpPr>
        <p:spPr>
          <a:xfrm>
            <a:off x="3886200" y="31240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90"/>
          <p:cNvSpPr/>
          <p:nvPr/>
        </p:nvSpPr>
        <p:spPr>
          <a:xfrm>
            <a:off x="4495680" y="31240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91"/>
          <p:cNvSpPr/>
          <p:nvPr/>
        </p:nvSpPr>
        <p:spPr>
          <a:xfrm>
            <a:off x="5181480" y="3352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93"/>
          <p:cNvSpPr/>
          <p:nvPr/>
        </p:nvSpPr>
        <p:spPr>
          <a:xfrm>
            <a:off x="2590920" y="2209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94"/>
          <p:cNvSpPr/>
          <p:nvPr/>
        </p:nvSpPr>
        <p:spPr>
          <a:xfrm>
            <a:off x="1297080" y="221148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97"/>
          <p:cNvSpPr/>
          <p:nvPr/>
        </p:nvSpPr>
        <p:spPr>
          <a:xfrm>
            <a:off x="1371600" y="22096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8"/>
          <p:cNvSpPr/>
          <p:nvPr/>
        </p:nvSpPr>
        <p:spPr>
          <a:xfrm>
            <a:off x="3352680" y="220968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99"/>
          <p:cNvSpPr/>
          <p:nvPr/>
        </p:nvSpPr>
        <p:spPr>
          <a:xfrm>
            <a:off x="396252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00"/>
          <p:cNvSpPr/>
          <p:nvPr/>
        </p:nvSpPr>
        <p:spPr>
          <a:xfrm>
            <a:off x="4572000" y="312408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01"/>
          <p:cNvSpPr/>
          <p:nvPr/>
        </p:nvSpPr>
        <p:spPr>
          <a:xfrm>
            <a:off x="5257800" y="33526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02"/>
          <p:cNvSpPr/>
          <p:nvPr/>
        </p:nvSpPr>
        <p:spPr>
          <a:xfrm>
            <a:off x="58672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03"/>
          <p:cNvSpPr/>
          <p:nvPr/>
        </p:nvSpPr>
        <p:spPr>
          <a:xfrm>
            <a:off x="6477120" y="4419720"/>
            <a:ext cx="6094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04"/>
          <p:cNvSpPr/>
          <p:nvPr/>
        </p:nvSpPr>
        <p:spPr>
          <a:xfrm>
            <a:off x="7086600" y="55627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A973-5BDB-42C0-B379-06BC53D7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Interpolating a Recall/Precision Curv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xample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365796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4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617328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8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8"/>
          <p:cNvSpPr/>
          <p:nvPr/>
        </p:nvSpPr>
        <p:spPr>
          <a:xfrm>
            <a:off x="1419120" y="1523880"/>
            <a:ext cx="0" cy="4052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9"/>
          <p:cNvSpPr/>
          <p:nvPr/>
        </p:nvSpPr>
        <p:spPr>
          <a:xfrm flipV="1">
            <a:off x="1415880" y="5562360"/>
            <a:ext cx="71186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0"/>
          <p:cNvSpPr/>
          <p:nvPr/>
        </p:nvSpPr>
        <p:spPr>
          <a:xfrm>
            <a:off x="266688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1"/>
          <p:cNvSpPr/>
          <p:nvPr/>
        </p:nvSpPr>
        <p:spPr>
          <a:xfrm>
            <a:off x="391464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2"/>
          <p:cNvSpPr/>
          <p:nvPr/>
        </p:nvSpPr>
        <p:spPr>
          <a:xfrm>
            <a:off x="52084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3"/>
          <p:cNvSpPr/>
          <p:nvPr/>
        </p:nvSpPr>
        <p:spPr>
          <a:xfrm>
            <a:off x="766296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4"/>
          <p:cNvSpPr/>
          <p:nvPr/>
        </p:nvSpPr>
        <p:spPr>
          <a:xfrm>
            <a:off x="6421320" y="55213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22"/>
          <p:cNvSpPr/>
          <p:nvPr/>
        </p:nvSpPr>
        <p:spPr>
          <a:xfrm>
            <a:off x="1905120" y="2209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25"/>
          <p:cNvSpPr/>
          <p:nvPr/>
        </p:nvSpPr>
        <p:spPr>
          <a:xfrm>
            <a:off x="2286000" y="2209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5"/>
          <p:cNvSpPr/>
          <p:nvPr/>
        </p:nvSpPr>
        <p:spPr>
          <a:xfrm>
            <a:off x="1371600" y="489096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6"/>
          <p:cNvSpPr/>
          <p:nvPr/>
        </p:nvSpPr>
        <p:spPr>
          <a:xfrm>
            <a:off x="1387440" y="423540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7"/>
          <p:cNvSpPr/>
          <p:nvPr/>
        </p:nvSpPr>
        <p:spPr>
          <a:xfrm>
            <a:off x="1371600" y="355752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8"/>
          <p:cNvSpPr/>
          <p:nvPr/>
        </p:nvSpPr>
        <p:spPr>
          <a:xfrm>
            <a:off x="1384200" y="221616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9"/>
          <p:cNvSpPr/>
          <p:nvPr/>
        </p:nvSpPr>
        <p:spPr>
          <a:xfrm>
            <a:off x="1387440" y="289404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72"/>
          <p:cNvGrpSpPr/>
          <p:nvPr/>
        </p:nvGrpSpPr>
        <p:grpSpPr>
          <a:xfrm>
            <a:off x="915480" y="2057400"/>
            <a:ext cx="577800" cy="3062520"/>
            <a:chOff x="915480" y="2057400"/>
            <a:chExt cx="577800" cy="3062520"/>
          </a:xfrm>
        </p:grpSpPr>
        <p:sp>
          <p:nvSpPr>
            <p:cNvPr id="728" name="Text Box 44"/>
            <p:cNvSpPr/>
            <p:nvPr/>
          </p:nvSpPr>
          <p:spPr>
            <a:xfrm>
              <a:off x="931320" y="20574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.0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45"/>
            <p:cNvSpPr/>
            <p:nvPr/>
          </p:nvSpPr>
          <p:spPr>
            <a:xfrm>
              <a:off x="934200" y="2751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8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46"/>
            <p:cNvSpPr/>
            <p:nvPr/>
          </p:nvSpPr>
          <p:spPr>
            <a:xfrm>
              <a:off x="915480" y="33987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6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47"/>
            <p:cNvSpPr/>
            <p:nvPr/>
          </p:nvSpPr>
          <p:spPr>
            <a:xfrm>
              <a:off x="964800" y="4083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4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48"/>
            <p:cNvSpPr/>
            <p:nvPr/>
          </p:nvSpPr>
          <p:spPr>
            <a:xfrm>
              <a:off x="992520" y="47210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.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49"/>
          <p:cNvSpPr/>
          <p:nvPr/>
        </p:nvSpPr>
        <p:spPr>
          <a:xfrm>
            <a:off x="236340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7391160" y="55627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1.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51"/>
          <p:cNvSpPr/>
          <p:nvPr/>
        </p:nvSpPr>
        <p:spPr>
          <a:xfrm>
            <a:off x="4953960" y="5638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0.6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62"/>
          <p:cNvSpPr/>
          <p:nvPr/>
        </p:nvSpPr>
        <p:spPr>
          <a:xfrm>
            <a:off x="7847640" y="571500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PMingLiU"/>
              </a:rPr>
              <a:t>Reca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63"/>
          <p:cNvSpPr/>
          <p:nvPr/>
        </p:nvSpPr>
        <p:spPr>
          <a:xfrm rot="16200000">
            <a:off x="277200" y="19936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PMingLiU"/>
              </a:rPr>
              <a:t>Precisio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70"/>
          <p:cNvSpPr/>
          <p:nvPr/>
        </p:nvSpPr>
        <p:spPr>
          <a:xfrm>
            <a:off x="19810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73"/>
          <p:cNvSpPr/>
          <p:nvPr/>
        </p:nvSpPr>
        <p:spPr>
          <a:xfrm>
            <a:off x="457200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74"/>
          <p:cNvSpPr/>
          <p:nvPr/>
        </p:nvSpPr>
        <p:spPr>
          <a:xfrm>
            <a:off x="58672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75"/>
          <p:cNvSpPr/>
          <p:nvPr/>
        </p:nvSpPr>
        <p:spPr>
          <a:xfrm>
            <a:off x="335268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76"/>
          <p:cNvSpPr/>
          <p:nvPr/>
        </p:nvSpPr>
        <p:spPr>
          <a:xfrm>
            <a:off x="7086600" y="5519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77"/>
          <p:cNvSpPr/>
          <p:nvPr/>
        </p:nvSpPr>
        <p:spPr>
          <a:xfrm>
            <a:off x="3505320" y="33526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81"/>
          <p:cNvSpPr/>
          <p:nvPr/>
        </p:nvSpPr>
        <p:spPr>
          <a:xfrm>
            <a:off x="5791320" y="37339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82"/>
          <p:cNvSpPr/>
          <p:nvPr/>
        </p:nvSpPr>
        <p:spPr>
          <a:xfrm>
            <a:off x="6324480" y="37339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83"/>
          <p:cNvSpPr/>
          <p:nvPr/>
        </p:nvSpPr>
        <p:spPr>
          <a:xfrm>
            <a:off x="7010280" y="411480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84"/>
          <p:cNvSpPr/>
          <p:nvPr/>
        </p:nvSpPr>
        <p:spPr>
          <a:xfrm>
            <a:off x="7620120" y="411480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85"/>
          <p:cNvSpPr/>
          <p:nvPr/>
        </p:nvSpPr>
        <p:spPr>
          <a:xfrm>
            <a:off x="6629400" y="373392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86"/>
          <p:cNvSpPr/>
          <p:nvPr/>
        </p:nvSpPr>
        <p:spPr>
          <a:xfrm>
            <a:off x="5562720" y="388620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87"/>
          <p:cNvSpPr/>
          <p:nvPr/>
        </p:nvSpPr>
        <p:spPr>
          <a:xfrm>
            <a:off x="4495680" y="3505320"/>
            <a:ext cx="1508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88"/>
          <p:cNvSpPr/>
          <p:nvPr/>
        </p:nvSpPr>
        <p:spPr>
          <a:xfrm>
            <a:off x="3276720" y="3352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89"/>
          <p:cNvSpPr/>
          <p:nvPr/>
        </p:nvSpPr>
        <p:spPr>
          <a:xfrm>
            <a:off x="3809880" y="35053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90"/>
          <p:cNvSpPr/>
          <p:nvPr/>
        </p:nvSpPr>
        <p:spPr>
          <a:xfrm>
            <a:off x="4495680" y="35812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91"/>
          <p:cNvSpPr/>
          <p:nvPr/>
        </p:nvSpPr>
        <p:spPr>
          <a:xfrm>
            <a:off x="5105520" y="373392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93"/>
          <p:cNvSpPr/>
          <p:nvPr/>
        </p:nvSpPr>
        <p:spPr>
          <a:xfrm>
            <a:off x="2590920" y="3352680"/>
            <a:ext cx="15084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94"/>
          <p:cNvSpPr/>
          <p:nvPr/>
        </p:nvSpPr>
        <p:spPr>
          <a:xfrm>
            <a:off x="1297080" y="2211480"/>
            <a:ext cx="1508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85"/>
          <p:cNvSpPr/>
          <p:nvPr/>
        </p:nvSpPr>
        <p:spPr>
          <a:xfrm>
            <a:off x="7620120" y="4038480"/>
            <a:ext cx="15084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traight Connector 68"/>
          <p:cNvSpPr/>
          <p:nvPr/>
        </p:nvSpPr>
        <p:spPr>
          <a:xfrm flipV="1">
            <a:off x="1371600" y="2249640"/>
            <a:ext cx="601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traight Connector 70"/>
          <p:cNvSpPr/>
          <p:nvPr/>
        </p:nvSpPr>
        <p:spPr>
          <a:xfrm>
            <a:off x="1980360" y="2284560"/>
            <a:ext cx="690840" cy="11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traight Connector 72"/>
          <p:cNvSpPr/>
          <p:nvPr/>
        </p:nvSpPr>
        <p:spPr>
          <a:xfrm flipV="1">
            <a:off x="2666160" y="3389040"/>
            <a:ext cx="63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traight Connector 74"/>
          <p:cNvSpPr/>
          <p:nvPr/>
        </p:nvSpPr>
        <p:spPr>
          <a:xfrm>
            <a:off x="3351960" y="3427560"/>
            <a:ext cx="54612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traight Connector 76"/>
          <p:cNvSpPr/>
          <p:nvPr/>
        </p:nvSpPr>
        <p:spPr>
          <a:xfrm>
            <a:off x="3938040" y="3568680"/>
            <a:ext cx="60948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traight Connector 79"/>
          <p:cNvSpPr/>
          <p:nvPr/>
        </p:nvSpPr>
        <p:spPr>
          <a:xfrm>
            <a:off x="4584600" y="3621240"/>
            <a:ext cx="54288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traight Connector 81"/>
          <p:cNvSpPr/>
          <p:nvPr/>
        </p:nvSpPr>
        <p:spPr>
          <a:xfrm>
            <a:off x="5234040" y="3760920"/>
            <a:ext cx="1166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traight Connector 85"/>
          <p:cNvSpPr/>
          <p:nvPr/>
        </p:nvSpPr>
        <p:spPr>
          <a:xfrm>
            <a:off x="6452640" y="3797280"/>
            <a:ext cx="63324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traight Connector 87"/>
          <p:cNvSpPr/>
          <p:nvPr/>
        </p:nvSpPr>
        <p:spPr>
          <a:xfrm flipV="1">
            <a:off x="7139160" y="4162320"/>
            <a:ext cx="5126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51F6-4847-4F56-A45B-AFC836418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verage Recall/Precision Cur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verage performance over a larg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average precision at each standard recall level across all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ot average precision/recall curves to evaluate overall system performance on a document/query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6D8-6538-48E0-B434-FE070ECBB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Compare Two or More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42880" y="1460520"/>
            <a:ext cx="802008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 curve closest to the upper right-hand corner of the graph indicates the best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Object 4"/>
          <p:cNvGraphicFramePr/>
          <p:nvPr/>
        </p:nvGraphicFramePr>
        <p:xfrm>
          <a:off x="1498680" y="2486160"/>
          <a:ext cx="5851440" cy="39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2486160"/>
                    <a:ext cx="5851440" cy="39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AA15-B479-428E-A144-02E4C16E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RP Curve for CF Corp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777" name="Picture 3" descr="rp"/>
          <p:cNvPicPr/>
          <p:nvPr/>
        </p:nvPicPr>
        <p:blipFill>
          <a:blip r:embed="rId1"/>
          <a:stretch/>
        </p:blipFill>
        <p:spPr>
          <a:xfrm>
            <a:off x="1066680" y="1351080"/>
            <a:ext cx="72392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B292-7C24-431E-8D51-0D40E74B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- Prec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 at the R-th position in the ranking of results for a query that has R relevant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1" name="Object 1028"/>
          <p:cNvGraphicFramePr/>
          <p:nvPr/>
        </p:nvGraphicFramePr>
        <p:xfrm>
          <a:off x="1295280" y="2971800"/>
          <a:ext cx="161928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1619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Rectangle 1029"/>
          <p:cNvSpPr/>
          <p:nvPr/>
        </p:nvSpPr>
        <p:spPr>
          <a:xfrm>
            <a:off x="3540240" y="297180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PMingLiU"/>
              </a:rPr>
              <a:t>R = # of relevant docs = 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030"/>
          <p:cNvSpPr/>
          <p:nvPr/>
        </p:nvSpPr>
        <p:spPr>
          <a:xfrm>
            <a:off x="1066680" y="4648320"/>
            <a:ext cx="2286000" cy="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031"/>
          <p:cNvSpPr/>
          <p:nvPr/>
        </p:nvSpPr>
        <p:spPr>
          <a:xfrm>
            <a:off x="3578400" y="426708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-Precision = 4/6 = 0.67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3D73-CCC8-430A-9069-82C378BE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-Meas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easure of performance that takes into account both recall and pr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mean of recall and preci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d to arithmetic mean, both need to be high for harmonic mean to be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1028"/>
              <p:cNvSpPr txBox="1"/>
              <p:nvPr/>
            </p:nvSpPr>
            <p:spPr>
              <a:xfrm>
                <a:off x="2743200" y="3276720"/>
                <a:ext cx="30481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277-7D11-4D3B-A76A-8985F577A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Why System Evaluation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re are many retrieval models/ algorithms/ systems, which one is the b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What is the best component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Ranking function (dot-product, cosine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PMingLiU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erm selection (stopword removal, stemm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PMingLiU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erm weighting (TF, TF-IDF,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PMingLiU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How far down the ranked list will a user need to look to find some/all relevant docu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453D-10EB-42EC-A5C9-16477B19E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 Measure (parameterized F Measure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nt of F measure that allows weighting emphasis on precision over rec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rols trade-o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 1: Equally weight precision and recall (E=F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gt; 1: Weight recall mor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 1: Weight precision mor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024"/>
              <p:cNvSpPr txBox="1"/>
              <p:nvPr/>
            </p:nvSpPr>
            <p:spPr>
              <a:xfrm>
                <a:off x="2057400" y="2514600"/>
                <a:ext cx="46814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an Average Precisio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MAP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28600" y="1371600"/>
            <a:ext cx="87631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Prec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verage of the precision values at the points at which each relevant document is retr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1: (1 + 1 + 0.75 + 0.667 + 0.38 + 0)/6 = 0.63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2: (1 + 0.667 + 0.6 + 0.5 + 0.556 + 0.429)/6 = 0.625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 Average Prec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verage of the average precision value for a set of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AB83-F747-4F6C-84B9-E7DE6C4A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n-Binary Relev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 are rarely entirely relevant or non-relevant to a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ourc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raded relevance jud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evance judgments on a 5-point sca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ltiple judg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ick distribution and deviation from expected levels (but click-through != relevance judgments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0659-C7F6-4636-860F-4AE0DBB2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mulative Gai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85800" y="1371600"/>
            <a:ext cx="4114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ed relevance judgments, we can comput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each r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mulative G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rank 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Wher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rel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the graded relevance of the document at position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i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5696-04E5-46C7-9968-247C2547A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Object 1028"/>
          <p:cNvGraphicFramePr/>
          <p:nvPr/>
        </p:nvGraphicFramePr>
        <p:xfrm>
          <a:off x="4800600" y="1523880"/>
          <a:ext cx="4194000" cy="46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419400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Picture 1" descr="latex-image-1.pdf"/>
          <p:cNvPicPr/>
          <p:nvPr/>
        </p:nvPicPr>
        <p:blipFill>
          <a:blip r:embed="rId3"/>
          <a:stretch/>
        </p:blipFill>
        <p:spPr>
          <a:xfrm>
            <a:off x="1447920" y="4114800"/>
            <a:ext cx="2341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ounting Based on Posi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160" y="1371600"/>
            <a:ext cx="42670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care more about high-ranked documents, so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/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rank)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ounted Cumulative G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2626-9FD4-45DB-89A7-02401455C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4" descr="latex-image-1.pdf"/>
          <p:cNvPicPr/>
          <p:nvPr/>
        </p:nvPicPr>
        <p:blipFill>
          <a:blip r:embed="rId1"/>
          <a:stretch/>
        </p:blipFill>
        <p:spPr>
          <a:xfrm>
            <a:off x="838080" y="4659480"/>
            <a:ext cx="3657600" cy="90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0" name="Object 7"/>
          <p:cNvGraphicFramePr/>
          <p:nvPr/>
        </p:nvGraphicFramePr>
        <p:xfrm>
          <a:off x="4710240" y="1447920"/>
          <a:ext cx="5805360" cy="581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0240" y="1447920"/>
                    <a:ext cx="5805360" cy="58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rmalized Discounted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mulative Gain (NDC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685800" y="13712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mpare DCGs, normalize values so that 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deal rank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hav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lized DC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 ran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64C7-901C-4C72-A24D-4E5BD5F7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Object 5"/>
          <p:cNvGraphicFramePr/>
          <p:nvPr/>
        </p:nvGraphicFramePr>
        <p:xfrm>
          <a:off x="619200" y="2819520"/>
          <a:ext cx="4790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2819520"/>
                    <a:ext cx="4790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4952880" y="2809800"/>
          <a:ext cx="4800600" cy="481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809800"/>
                    <a:ext cx="48006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Right Arrow 7"/>
          <p:cNvSpPr/>
          <p:nvPr/>
        </p:nvSpPr>
        <p:spPr>
          <a:xfrm>
            <a:off x="4267080" y="4114800"/>
            <a:ext cx="609840" cy="121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rmalized Discounted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Cumulative Gain (NDC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85800" y="1371600"/>
            <a:ext cx="3733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 by DCG of the ideal ran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DCG ≤ 1 at all r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DCG is comparable across different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5261-A479-4E3E-A0D1-032C8A844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4" descr="latex-image-1.pdf"/>
          <p:cNvPicPr/>
          <p:nvPr/>
        </p:nvPicPr>
        <p:blipFill>
          <a:blip r:embed="rId1"/>
          <a:stretch/>
        </p:blipFill>
        <p:spPr>
          <a:xfrm>
            <a:off x="914400" y="2435400"/>
            <a:ext cx="3284640" cy="8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4" name="Object 5"/>
          <p:cNvGraphicFramePr/>
          <p:nvPr/>
        </p:nvGraphicFramePr>
        <p:xfrm>
          <a:off x="4572000" y="1523880"/>
          <a:ext cx="420048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2004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F5AE-2CE8-4E27-A870-067F922B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Issues with Relev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Marginal Relevance</a:t>
            </a: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Do later documents in the ranking add new information beyond what is already given in higher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Choice of retrieved set should encourag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diversity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and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 novelty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Coverage Rat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The proportion of relevant items retrieved out of the total relevant documen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to a user prior to the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Relevant when the user wants to locate documents which they have seen before (e.g., the budget report for Year 2000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B151-E855-481F-BB4C-3FB520742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Other Factors to Consid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98400" y="1544400"/>
            <a:ext cx="7942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User eff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Work required from the user in formulating queries, conducting the search, and screening th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Response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Time interval between receipt of a user query and the presentation of system respo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Form of pres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Influence of search output format on the user’s ability to utilize the retrieved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21a32"/>
                </a:solidFill>
                <a:latin typeface="Times New Roman"/>
                <a:ea typeface="PMingLiU"/>
              </a:rPr>
              <a:t>Collection co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Extent to which any/all relevant items are included in the document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/B Testing in a Deployed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xploit an existing user base to provide useful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ly send a small fraction (1−10%) of incoming users to a variant of the system that includes a single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 effectiveness by measuring change i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through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age of users that click on the top result (or any result on the first page)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CAF2-3AB7-4F88-80AF-504038A1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601E-1DDC-4165-ADB6-3486AC6A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Difficulties in Evaluating IR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71680" y="1473120"/>
            <a:ext cx="80136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Effectiveness is related to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relev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of retrieved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Relevancy is not typically binary but continu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Even if relevancy is binary, it can be a difficult judgment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Relevancy, from a human standpoint,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ubjective: Depends upon a specific use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PMingLiU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 judg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ituational: Relates to use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PMingLiU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 current nee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Cognitive: Depends on human perception and behavio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Dynamic: Changes over tim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55AE-5BC1-40C2-A76E-EF14F9F66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xperimental Setup for Benchmar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90400" y="1468080"/>
            <a:ext cx="791856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  <a:ea typeface="PMingLiU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naly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performance evaluation is difficult for document retrieval systems because many characteristics such as relevance, distribution of words, etc., are difficult to describe with mathematical pr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Performance is measured b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benchmar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. That is, the retrieval effectiveness of a system is evaluated o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given set of docu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que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relevance judg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Performance data is valid only for the environment under which the system is evalu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0FC3-BCAE-43FC-9712-B8BCD43C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78760" cy="78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Benchma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407000" cy="27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A benchmark collection cont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A set of standard documents and queries/topic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810720" indent="-2826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A list of relevant documents for each que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Standard collections for traditional 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Smart collection: ftp://ftp.cs.cornell.edu/pub/sma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810720" indent="-2826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PMingLiU"/>
              </a:rPr>
              <a:t>TREC: http://trec.nist.gov/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1" name="Text Box 5"/>
          <p:cNvSpPr/>
          <p:nvPr/>
        </p:nvSpPr>
        <p:spPr>
          <a:xfrm>
            <a:off x="1066680" y="4469040"/>
            <a:ext cx="1371600" cy="71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Standard document collecti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6"/>
          <p:cNvSpPr/>
          <p:nvPr/>
        </p:nvSpPr>
        <p:spPr>
          <a:xfrm>
            <a:off x="1066680" y="5488560"/>
            <a:ext cx="1371600" cy="50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Standard queri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Group 7"/>
          <p:cNvGrpSpPr/>
          <p:nvPr/>
        </p:nvGrpSpPr>
        <p:grpSpPr>
          <a:xfrm>
            <a:off x="3429000" y="4419720"/>
            <a:ext cx="1447920" cy="990360"/>
            <a:chOff x="3429000" y="4419720"/>
            <a:chExt cx="1447920" cy="990360"/>
          </a:xfrm>
        </p:grpSpPr>
        <p:sp>
          <p:nvSpPr>
            <p:cNvPr id="844" name="Oval 8"/>
            <p:cNvSpPr/>
            <p:nvPr/>
          </p:nvSpPr>
          <p:spPr>
            <a:xfrm>
              <a:off x="3429000" y="4419720"/>
              <a:ext cx="1447920" cy="9903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Text Box 9"/>
            <p:cNvSpPr/>
            <p:nvPr/>
          </p:nvSpPr>
          <p:spPr>
            <a:xfrm>
              <a:off x="3581640" y="4650480"/>
              <a:ext cx="11430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DFKai-SB"/>
                </a:rPr>
                <a:t>Algorithm under test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10"/>
          <p:cNvGrpSpPr/>
          <p:nvPr/>
        </p:nvGrpSpPr>
        <p:grpSpPr>
          <a:xfrm>
            <a:off x="5638680" y="4419720"/>
            <a:ext cx="1447560" cy="990360"/>
            <a:chOff x="5638680" y="4419720"/>
            <a:chExt cx="1447560" cy="990360"/>
          </a:xfrm>
        </p:grpSpPr>
        <p:sp>
          <p:nvSpPr>
            <p:cNvPr id="847" name="Oval 11"/>
            <p:cNvSpPr/>
            <p:nvPr/>
          </p:nvSpPr>
          <p:spPr>
            <a:xfrm>
              <a:off x="5638680" y="4419720"/>
              <a:ext cx="1447560" cy="9903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Text Box 12"/>
            <p:cNvSpPr/>
            <p:nvPr/>
          </p:nvSpPr>
          <p:spPr>
            <a:xfrm>
              <a:off x="5790960" y="4801320"/>
              <a:ext cx="114300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DFKai-SB"/>
                </a:rPr>
                <a:t>Evaluatio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Text Box 13"/>
          <p:cNvSpPr/>
          <p:nvPr/>
        </p:nvSpPr>
        <p:spPr>
          <a:xfrm>
            <a:off x="5715000" y="5640840"/>
            <a:ext cx="1371600" cy="50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Standard resul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Freeform 14"/>
          <p:cNvSpPr/>
          <p:nvPr/>
        </p:nvSpPr>
        <p:spPr>
          <a:xfrm>
            <a:off x="2440080" y="4815000"/>
            <a:ext cx="988920" cy="61920"/>
          </a:xfrm>
          <a:custGeom>
            <a:avLst/>
            <a:gdLst>
              <a:gd name="textAreaLeft" fmla="*/ 0 w 988920"/>
              <a:gd name="textAreaRight" fmla="*/ 988920 w 9889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623" h="39">
                <a:moveTo>
                  <a:pt x="0" y="0"/>
                </a:moveTo>
                <a:lnTo>
                  <a:pt x="623" y="3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reeform 15"/>
          <p:cNvSpPr/>
          <p:nvPr/>
        </p:nvSpPr>
        <p:spPr>
          <a:xfrm>
            <a:off x="2440080" y="5167440"/>
            <a:ext cx="1058760" cy="54108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541080"/>
              <a:gd name="textAreaBottom" fmla="*/ 541080 h 541080"/>
            </a:gdLst>
            <a:ahLst/>
            <a:rect l="textAreaLeft" t="textAreaTop" r="textAreaRight" b="textAreaBottom"/>
            <a:pathLst>
              <a:path w="667" h="341">
                <a:moveTo>
                  <a:pt x="0" y="341"/>
                </a:moveTo>
                <a:lnTo>
                  <a:pt x="6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6"/>
          <p:cNvSpPr/>
          <p:nvPr/>
        </p:nvSpPr>
        <p:spPr>
          <a:xfrm>
            <a:off x="48769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7"/>
          <p:cNvSpPr/>
          <p:nvPr/>
        </p:nvSpPr>
        <p:spPr>
          <a:xfrm>
            <a:off x="70866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18"/>
          <p:cNvSpPr/>
          <p:nvPr/>
        </p:nvSpPr>
        <p:spPr>
          <a:xfrm flipV="1">
            <a:off x="64008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9"/>
          <p:cNvSpPr/>
          <p:nvPr/>
        </p:nvSpPr>
        <p:spPr>
          <a:xfrm>
            <a:off x="4800600" y="4345560"/>
            <a:ext cx="1066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Retrieved resul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0"/>
          <p:cNvSpPr/>
          <p:nvPr/>
        </p:nvSpPr>
        <p:spPr>
          <a:xfrm>
            <a:off x="7010280" y="4269240"/>
            <a:ext cx="10670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DFKai-SB"/>
              </a:rPr>
              <a:t>Precision and reca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6256-8DB3-4DDC-B712-13ADA797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Benchmarking </a:t>
            </a:r>
            <a:r>
              <a:rPr b="0" lang="en-US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 The Probl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Performance data is valid only for a particular bench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Building a benchmark corpus is a difficult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Representative corpora for web search are hard to make public due to privacy conce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Benchmark foreign-language corpora are 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11C8-1C06-403B-B951-87A75BDC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4764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The TREC Benchmark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762120" y="1295280"/>
            <a:ext cx="77724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TREC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ex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trieva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onference (http://trec.nist.gov/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Originated from the TIPSTER program sponsored b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Defense Advanced Research Projects Agency (DARPA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Became an annual conference in 1992, co-sponsored by the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National Institute of Standards and Technology (NIST) and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DARP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Participants submit the P/R values for the final document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and query corpus and present their results at  the conference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3FDA-46AF-49F4-9966-9141DDDB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Characteristics of the TREC Collec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54120" y="1561680"/>
            <a:ext cx="78804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Both long and short documents (from a few hundred to over one thousand unique terms in a docum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Test documents consist of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WS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Wall Street Journal articles (1986-1992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550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AP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Associate Press Newswire (1989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514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Z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Computer Select Disks (Ziff-Davis Publishing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493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FR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Federal Regis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469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O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Abstracts from Department of Energy repor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190 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BEDB-3C38-4C47-960E-9BA61F9F1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Evalu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41160" y="1409760"/>
            <a:ext cx="799452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Summary table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Number of topics, number of documents retrieved, number of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Recall-precision a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verage precision at 11 recall levels (0 to 1 at 0.1 increme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Document level a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verage precision when 5, 10, .., 100, … 1000 documents are retr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Average precision hist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Difference of the R-precision for each topic and the average R-precision of all systems for that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A906-8CC9-4618-BAFF-C012164A2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Picture 2" descr="F:\comp336\trec-result-rotate.gif"/>
          <p:cNvPicPr/>
          <p:nvPr/>
        </p:nvPicPr>
        <p:blipFill>
          <a:blip r:embed="rId1"/>
          <a:stretch/>
        </p:blipFill>
        <p:spPr>
          <a:xfrm>
            <a:off x="47520" y="361800"/>
            <a:ext cx="904896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21B1-CACD-4614-BE25-128489C3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ystic Fibrosis (CF) Coll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39 abstracts of medical journal articles on C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 information requests (queries) in the form of complete English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t documents determined and rated by 4 separate medical experts on 0-2 sc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0: Not releva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: Marginally releva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2: Highly releva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56B8-5D21-4EE1-91DF-1DD277CF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F Document Fiel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LINE acce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su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or su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(or 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to other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ations to this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4C0D-F791-44C4-B823-EEC483093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F Docu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1281240" y="1306440"/>
            <a:ext cx="18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6"/>
          <p:cNvSpPr/>
          <p:nvPr/>
        </p:nvSpPr>
        <p:spPr>
          <a:xfrm>
            <a:off x="685800" y="1371600"/>
            <a:ext cx="7772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74154352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 Burnell-R-H.  Robertson-E-F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 Cystic fibrosis in a patient with Kartagener syndrom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 Am-J-Dis-Child. 1974 May. 127(5). P 746-7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J CYSTIC-FIBROSIS: co.  KARTAGENER-TRIAD: co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 CASE-REPORT.  CHLORIDES: an.  HUMAN.  INFANT.  LUNG: ra.  MAL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US-INVERSUS: co, ra.  SODIUM: an.  SWEAT: an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 A patient exhibited the features of both Kartagener syndrome an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stic fibrosis.  At most, to the authors' knowledge, thi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s the third such report of the combination.  Cystic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brosis should be excluded before a diagnosis of Kartagen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drome is mad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F 001   KARTAGENER M          BEITR KLIN TUBERK               83   489 933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2   SCHWARZ V             ARCH DIS CHILD                  43   695 96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3   MACE JW               CLIN PEDIATR                    10   285 97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…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   1   BOCHKOVA DN           GENETIKA (SOVIET GENETICS)      11   154 975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WOOD RE               AM REV RESPIR DIS              113   833 976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  MOSSBERG B            MT SINAI J MED                  44   837 977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FCB4-BC9B-4E5C-BC37-A17AE37A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Labeled Corpora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(Gold Standard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corpus of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a set of queries for this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one or more human experts exhaustively label the relevant documents for each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ssumes binary relevance judg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nsiderable human effort for large document/query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0F5E-D12B-45DE-AB01-D6F97BB6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F Quer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3" name="Text Box 3"/>
          <p:cNvSpPr/>
          <p:nvPr/>
        </p:nvSpPr>
        <p:spPr>
          <a:xfrm>
            <a:off x="838080" y="1447920"/>
            <a:ext cx="75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N 0000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 Can one distinguish between the effects of mucus hypersecretion an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ection on the submucosal glands of the respiratory tract in CF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 00007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  169 1000  434 1001  454 0100  498 1000  499 1000  592 0002  875 1011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N 00004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 What is the lipid composition of CF respiratory secretions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 00009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  503 0001  538 0100  539 0100  540 0100  553 0001  604 2222  669 101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11 2122  876 222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4"/>
          <p:cNvSpPr/>
          <p:nvPr/>
        </p:nvSpPr>
        <p:spPr>
          <a:xfrm>
            <a:off x="1211040" y="4675320"/>
            <a:ext cx="67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NR: Number of Relevant docu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RD: Relevant Docu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Ratings code:  Four 0-2 ratings, one from each expe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7354-6137-467A-9366-EA22C3BEA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processing for VSR Experi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file for each document with j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h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it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jor and Minor Topic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bstract (Extract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 judgment made binary by assuming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cuments rated 1 or 2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ert were relev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42D2-801B-48E4-A2B5-113B3DF6E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736560" y="4089240"/>
                <a:ext cx="64771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relevant documents retriev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relevant documen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3"/>
              <p:cNvSpPr txBox="1"/>
              <p:nvPr/>
            </p:nvSpPr>
            <p:spPr>
              <a:xfrm>
                <a:off x="609480" y="5257800"/>
                <a:ext cx="67820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 of relevant documents  retriev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documents  retriev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8" name="Group 33"/>
          <p:cNvGrpSpPr/>
          <p:nvPr/>
        </p:nvGrpSpPr>
        <p:grpSpPr>
          <a:xfrm>
            <a:off x="609480" y="1828800"/>
            <a:ext cx="4410000" cy="1752480"/>
            <a:chOff x="609480" y="1828800"/>
            <a:chExt cx="4410000" cy="1752480"/>
          </a:xfrm>
        </p:grpSpPr>
        <p:sp>
          <p:nvSpPr>
            <p:cNvPr id="569" name="Rectangle 6"/>
            <p:cNvSpPr/>
            <p:nvPr/>
          </p:nvSpPr>
          <p:spPr>
            <a:xfrm>
              <a:off x="666720" y="1828800"/>
              <a:ext cx="4352760" cy="175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>
              <a:off x="1981080" y="1971360"/>
              <a:ext cx="1581120" cy="15238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8"/>
            <p:cNvSpPr/>
            <p:nvPr/>
          </p:nvSpPr>
          <p:spPr>
            <a:xfrm>
              <a:off x="3047760" y="1895400"/>
              <a:ext cx="1600200" cy="159984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9"/>
            <p:cNvSpPr/>
            <p:nvPr/>
          </p:nvSpPr>
          <p:spPr>
            <a:xfrm>
              <a:off x="1828800" y="2125800"/>
              <a:ext cx="152388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Relevant document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1"/>
            <p:cNvSpPr/>
            <p:nvPr/>
          </p:nvSpPr>
          <p:spPr>
            <a:xfrm>
              <a:off x="3352680" y="2125800"/>
              <a:ext cx="13716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Retrieved document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2"/>
            <p:cNvSpPr/>
            <p:nvPr/>
          </p:nvSpPr>
          <p:spPr>
            <a:xfrm>
              <a:off x="609480" y="1896840"/>
              <a:ext cx="1752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Entire document collectio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34"/>
          <p:cNvGrpSpPr/>
          <p:nvPr/>
        </p:nvGrpSpPr>
        <p:grpSpPr>
          <a:xfrm>
            <a:off x="5105520" y="1674720"/>
            <a:ext cx="3144240" cy="2225880"/>
            <a:chOff x="5105520" y="1674720"/>
            <a:chExt cx="3144240" cy="2225880"/>
          </a:xfrm>
        </p:grpSpPr>
        <p:grpSp>
          <p:nvGrpSpPr>
            <p:cNvPr id="576" name="Group 15"/>
            <p:cNvGrpSpPr/>
            <p:nvPr/>
          </p:nvGrpSpPr>
          <p:grpSpPr>
            <a:xfrm>
              <a:off x="5486400" y="1752480"/>
              <a:ext cx="2763360" cy="1771560"/>
              <a:chOff x="5486400" y="1752480"/>
              <a:chExt cx="2763360" cy="1771560"/>
            </a:xfrm>
          </p:grpSpPr>
          <p:sp>
            <p:nvSpPr>
              <p:cNvPr id="577" name="Rectangle 16"/>
              <p:cNvSpPr/>
              <p:nvPr/>
            </p:nvSpPr>
            <p:spPr>
              <a:xfrm>
                <a:off x="5486400" y="2798640"/>
                <a:ext cx="1198080" cy="725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retrieved &amp; releva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17"/>
              <p:cNvSpPr/>
              <p:nvPr/>
            </p:nvSpPr>
            <p:spPr>
              <a:xfrm>
                <a:off x="6684480" y="2798640"/>
                <a:ext cx="1565280" cy="725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not retrieved but releva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18"/>
              <p:cNvSpPr/>
              <p:nvPr/>
            </p:nvSpPr>
            <p:spPr>
              <a:xfrm>
                <a:off x="5486400" y="1752480"/>
                <a:ext cx="1198080" cy="104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retrieved &amp; irreleva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19"/>
              <p:cNvSpPr/>
              <p:nvPr/>
            </p:nvSpPr>
            <p:spPr>
              <a:xfrm>
                <a:off x="6684480" y="1752480"/>
                <a:ext cx="1565280" cy="104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Not retrieved &amp; irreleva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5577480" y="3532320"/>
              <a:ext cx="99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etrieved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21"/>
            <p:cNvSpPr/>
            <p:nvPr/>
          </p:nvSpPr>
          <p:spPr>
            <a:xfrm>
              <a:off x="6792840" y="353232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not retrieved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22"/>
            <p:cNvSpPr/>
            <p:nvPr/>
          </p:nvSpPr>
          <p:spPr>
            <a:xfrm rot="16200000">
              <a:off x="4829760" y="301752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elevan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23"/>
            <p:cNvSpPr/>
            <p:nvPr/>
          </p:nvSpPr>
          <p:spPr>
            <a:xfrm rot="16200000">
              <a:off x="4759560" y="202068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irrelevan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Precision and Recal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8BB8-E556-493A-9061-85AB54073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Precision and Recal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66360" y="1504800"/>
            <a:ext cx="785484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he ability to retrieve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op-ranked documents that are mostly releva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Re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he ability of the search to find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al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of the relevant items in the corpu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1EF-7DB3-403F-9A0A-025E23DCB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termining Recall is Difficul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Total number of  relevant items is sometimes not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Sample across the database and perform relevance judgment on these item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Apply different retrieval algorithms to the same database for the same query. The aggregate of relevant items is taken as the total relevant se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EE3B-404A-489D-9E78-31211B95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421480" cy="8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PMingLiU"/>
              </a:rPr>
              <a:t>Trade-off between Recall and Prec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2975040" y="2666880"/>
            <a:ext cx="2438280" cy="1752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reeform 6"/>
          <p:cNvSpPr/>
          <p:nvPr/>
        </p:nvSpPr>
        <p:spPr>
          <a:xfrm>
            <a:off x="3127320" y="2895480"/>
            <a:ext cx="2057400" cy="129564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296" h="816">
                <a:moveTo>
                  <a:pt x="0" y="0"/>
                </a:moveTo>
                <a:cubicBezTo>
                  <a:pt x="13" y="64"/>
                  <a:pt x="16" y="270"/>
                  <a:pt x="77" y="386"/>
                </a:cubicBezTo>
                <a:cubicBezTo>
                  <a:pt x="138" y="502"/>
                  <a:pt x="241" y="629"/>
                  <a:pt x="366" y="697"/>
                </a:cubicBezTo>
                <a:cubicBezTo>
                  <a:pt x="491" y="765"/>
                  <a:pt x="670" y="774"/>
                  <a:pt x="825" y="794"/>
                </a:cubicBezTo>
                <a:cubicBezTo>
                  <a:pt x="980" y="814"/>
                  <a:pt x="1198" y="812"/>
                  <a:pt x="1296" y="816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26719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6719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3584520" y="4419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Rec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0"/>
          <p:cNvSpPr/>
          <p:nvPr/>
        </p:nvSpPr>
        <p:spPr>
          <a:xfrm rot="16200000">
            <a:off x="2009160" y="3248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Precis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15"/>
          <p:cNvGrpSpPr/>
          <p:nvPr/>
        </p:nvGrpSpPr>
        <p:grpSpPr>
          <a:xfrm>
            <a:off x="4952880" y="1981080"/>
            <a:ext cx="1820520" cy="1143000"/>
            <a:chOff x="4952880" y="1981080"/>
            <a:chExt cx="1820520" cy="1143000"/>
          </a:xfrm>
        </p:grpSpPr>
        <p:sp>
          <p:nvSpPr>
            <p:cNvPr id="602" name="Oval 16"/>
            <p:cNvSpPr/>
            <p:nvPr/>
          </p:nvSpPr>
          <p:spPr>
            <a:xfrm>
              <a:off x="4952880" y="2514600"/>
              <a:ext cx="685800" cy="6094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7"/>
            <p:cNvSpPr/>
            <p:nvPr/>
          </p:nvSpPr>
          <p:spPr>
            <a:xfrm>
              <a:off x="5638680" y="1981080"/>
              <a:ext cx="11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The ideal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18"/>
            <p:cNvSpPr/>
            <p:nvPr/>
          </p:nvSpPr>
          <p:spPr>
            <a:xfrm>
              <a:off x="5410080" y="220968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92" h="192">
                  <a:moveTo>
                    <a:pt x="192" y="0"/>
                  </a:moveTo>
                  <a:cubicBezTo>
                    <a:pt x="160" y="8"/>
                    <a:pt x="128" y="16"/>
                    <a:pt x="96" y="48"/>
                  </a:cubicBezTo>
                  <a:cubicBezTo>
                    <a:pt x="64" y="80"/>
                    <a:pt x="32" y="136"/>
                    <a:pt x="0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19"/>
          <p:cNvGrpSpPr/>
          <p:nvPr/>
        </p:nvGrpSpPr>
        <p:grpSpPr>
          <a:xfrm>
            <a:off x="755280" y="1676520"/>
            <a:ext cx="3416040" cy="1447560"/>
            <a:chOff x="755280" y="1676520"/>
            <a:chExt cx="3416040" cy="1447560"/>
          </a:xfrm>
        </p:grpSpPr>
        <p:sp>
          <p:nvSpPr>
            <p:cNvPr id="606" name="Text Box 20"/>
            <p:cNvSpPr/>
            <p:nvPr/>
          </p:nvSpPr>
          <p:spPr>
            <a:xfrm>
              <a:off x="755280" y="1676520"/>
              <a:ext cx="34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eturns relevant documents but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misses many useful ones too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2590920" y="2514600"/>
              <a:ext cx="685800" cy="6094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22"/>
            <p:cNvSpPr/>
            <p:nvPr/>
          </p:nvSpPr>
          <p:spPr>
            <a:xfrm>
              <a:off x="2044800" y="2362320"/>
              <a:ext cx="546120" cy="3808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44" h="240">
                  <a:moveTo>
                    <a:pt x="8" y="0"/>
                  </a:moveTo>
                  <a:cubicBezTo>
                    <a:pt x="4" y="28"/>
                    <a:pt x="0" y="56"/>
                    <a:pt x="56" y="96"/>
                  </a:cubicBezTo>
                  <a:cubicBezTo>
                    <a:pt x="112" y="136"/>
                    <a:pt x="228" y="188"/>
                    <a:pt x="344" y="24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11"/>
          <p:cNvGrpSpPr/>
          <p:nvPr/>
        </p:nvGrpSpPr>
        <p:grpSpPr>
          <a:xfrm>
            <a:off x="4952880" y="4114800"/>
            <a:ext cx="3879000" cy="1389600"/>
            <a:chOff x="4952880" y="4114800"/>
            <a:chExt cx="3879000" cy="1389600"/>
          </a:xfrm>
        </p:grpSpPr>
        <p:sp>
          <p:nvSpPr>
            <p:cNvPr id="610" name="Text Box 12"/>
            <p:cNvSpPr/>
            <p:nvPr/>
          </p:nvSpPr>
          <p:spPr>
            <a:xfrm>
              <a:off x="6243120" y="4495680"/>
              <a:ext cx="2588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eturns most relevant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documents but include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lots of  junk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13"/>
            <p:cNvSpPr/>
            <p:nvPr/>
          </p:nvSpPr>
          <p:spPr>
            <a:xfrm>
              <a:off x="4952880" y="4114800"/>
              <a:ext cx="762120" cy="6094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14"/>
            <p:cNvSpPr/>
            <p:nvPr/>
          </p:nvSpPr>
          <p:spPr>
            <a:xfrm>
              <a:off x="5715000" y="434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84" h="144">
                  <a:moveTo>
                    <a:pt x="384" y="144"/>
                  </a:moveTo>
                  <a:cubicBezTo>
                    <a:pt x="368" y="108"/>
                    <a:pt x="352" y="72"/>
                    <a:pt x="288" y="48"/>
                  </a:cubicBezTo>
                  <a:cubicBezTo>
                    <a:pt x="224" y="24"/>
                    <a:pt x="112" y="1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EC7D-D091-4D7A-931D-C34E51BB5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Recall/Precision Poi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given query, produce the ranked list of retrie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ing a threshold on this ranked list produces different sets of retrieved documents, and therefore different recall/precision meas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 each document in the ranked list that is relevant according to the gold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 recall/precision pair for each position in the ranked list that contains a relevant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21-09-08T17:44:49Z</dcterms:modified>
  <cp:revision>91</cp:revision>
  <dc:subject/>
  <dc:title>Intelligent Information Retrieval and Web Search</dc:title>
</cp:coreProperties>
</file>