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44C9-5ADC-4EA4-A10D-CA6FFAAE3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4053-2F88-4A68-83BA-F9681F2D513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246B-A663-4B0D-A8D2-65906A7AE89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73EC-2C05-465E-8F5D-7F79B9C498E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A1D1-C5B8-4A21-B286-F710B97B876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8DFB-1758-489A-A02A-3399F7C3B06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BE38-B651-4460-A23D-5ADB1105BA6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5263-7060-4260-992C-8B1889D7E69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4CDA-D65A-4102-A496-5869AD9B189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331B-C0AA-4C68-AD7A-BFBC01C64F5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EA0E-61BD-4FFC-9BB3-2EE0044EBFE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BAB1-255A-4D92-AABC-C2F4F704B16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CFFC-343E-4A88-8BDF-6443B33DBC0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27ED-F74C-4E52-8A43-8BF4FF62157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4548-B58C-45C3-A946-DC6F364F750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FDBA-4862-403A-AC70-6677C6070CF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5F06-032E-4448-8FB5-3CC8DF7C0F7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9110-9556-4C1B-BA4B-E94D41D4BEA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03B8-D356-4265-A0A2-D8A8305119B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65C6-FEF5-4558-8D76-B289FCFC437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3560-FD83-4219-B7A8-D5E154C177B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E46D-5D90-4DA6-9344-9B14891C751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A233-9EB8-40C7-AE6E-E100A117167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9BB9-4A27-4ECD-8FE2-607076D4CC6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63F7-FC12-44A1-8CE9-F278DB88B84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E261-737A-441B-A5AD-B7BB18CB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112E5-08FC-4C73-8AA2-23E80188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916659-6A28-44A8-8A10-F08F6BD6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A2787B-371A-40EB-80F9-EFABCDD3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3F70CE-F4F8-4320-9155-E605290B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F5DC5E-19E4-4430-8DD9-855DC4B5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DB71DA-8AA2-4146-B026-EA13827B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592AA4-AEB1-4FF6-8C47-62AFC6F8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CADDD6-1658-44F2-B7A2-5C6B9A7F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F74AC8-7D09-43B5-92E4-92566D32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DCDC93-3ED7-43B0-94BF-7372CA7E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7F93C8-B50E-4684-97C0-B600D224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A8B3A-A7DA-4F0B-9D99-6FCB4C5E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364A55-FB0F-4290-A315-23A8A30A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65D52B-614B-4371-931C-E6F140D6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8EC1ED-34E3-44CA-8990-196C8BB7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D75075-EFF6-40DB-8120-8024055D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C5EA08-E038-406E-A991-5AA58D8C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17FD3C-3A0F-43BB-AEAE-0D1ACE93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3B2F3A-EC5F-41CD-A01C-F1650CF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870DA6-71A7-4656-A47F-2C7EB49B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A07F80-C67F-45A3-99E9-B77DCC6F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555EB0-5E33-47EE-88D8-9FC9F90F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818AC-7E66-46FA-853D-A9317CC3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F78A40-BA8E-4B55-9B0C-323B5D7C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160349-9892-4FAB-B7D5-3925730C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E8153F-9249-4E24-9814-799A6D08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FBCACF-C8CB-4388-BD7A-1423E2A8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A0E410-3DC7-43EB-8FAD-4F5B74D8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F11DED-3B61-454E-B4F5-84ECDB3E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E04D40-AFC5-4672-BF45-6391EAC8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87F403-C30B-4766-9FD6-214068C6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E0C38A-CEF6-4678-A3DB-8B24834D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654059-B40A-4225-B7B7-0A150C54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B8E4D-7FD0-4EBF-94FF-58121584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7D393E-AD9A-4FC6-B887-F9C8FEC3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0765FA-E907-4749-8487-3568E68D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958FAB-488C-401A-B917-BA04C0CD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0D3D43-93F7-4D12-BF52-5CC52AA6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5D9EE5-FA5E-405B-95E2-377508BB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127C0E-7F8A-4043-BA62-DF5D5531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1EE082-8C61-4042-9029-FE810D90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55AC77-56DC-484E-ACA9-DA023327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83A1F3-1129-45E8-82D9-C27743F0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AA60F1-4AA7-42AC-B1EA-3A67B06C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6306C-C5CA-42C8-A0AF-8068ACDC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9F0C60-A371-4193-BBBB-8E54E7D3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96FBF1-0605-4503-8A00-AE6C5A0E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414AAC-83BC-4F13-8C60-350D9220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083F43-F434-4142-8620-1E660B6B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C5BF6A-EFD4-4DEE-8088-9435958B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73D6F-F8D1-481A-B4CC-9A14EC60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9E612-85D1-4897-B0E9-4E9948AF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3C1A3-8050-445A-9329-0386B552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E9441-7749-4A6A-A714-11CD701F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4B9D1-F4A9-4F17-B957-87929C26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A979-12A4-4E24-B598-E915A7BA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9565C-1151-400E-8A4D-7701A88C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6E177-53FF-4AA6-BF0A-CB6C054B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2CE82-71BE-4D6E-B99B-093F827E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F95B8-65CA-495C-B5E1-CA440C8B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6C3CA-C848-4C93-A0E8-6EA542CB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ED58F-4232-4289-95BB-9659C264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7FBB6-CADA-467F-B3CC-026A5AB2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08D26-586A-4AB2-A283-87949C3E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4B9F3-A940-423C-893D-4AD65FB0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06FDD-42F9-43D9-83FC-5C91FF89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F147-C91D-4FED-818A-00579133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2104D-A95F-42AF-AC36-9D65336C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C767E-6A61-4AEB-A762-30D7C9EE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2BE54-870E-42B9-AF40-E826DAC0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E67A1-8F47-41DA-BBD2-3EF3E6C9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BF313-FFE1-467D-8028-9FAADF99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9DB4B-7EC1-4C6B-A47B-5B119F5E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5CBAD-22F7-4C8F-ADDC-28510540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BAA66F-0625-4C2D-93A9-8C1AA3E7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E1DAB2-9873-4591-9E1A-90BC5CC4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0C83F-9E96-499B-A203-48A2DC00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934BC-6DD6-4193-A4CF-18DB53C3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D1EE89-3B9F-49DE-AC52-3EFC6E7E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90444-3711-42EF-B7ED-190E6A9E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0800C-D76F-4730-A07A-A120C5B7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7B287-43F4-4908-BC5E-3E018731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17F57-F63F-456A-822A-98AA0D32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2D7C62-7839-487F-8D5C-32E1B553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C7847C-C6D5-47C5-93E6-97787DC9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A83021-5CE5-4811-BAA9-E7633AE6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CB1F0-21E9-449C-9E78-4F3F66F2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69EEB-878F-4E7F-A28A-FE11A248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A8409-6687-436B-A58A-D5F79972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2AB95-110D-4798-87F5-7F295BF8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B47C6-4009-4C19-97D6-5BEA3670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092B3-C21D-4D1A-85D6-3E2E7F3F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41211D-F0FE-425C-BE35-8836A1EE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9F183-C2F0-4537-9E8B-493C746A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4415E-25DA-4A37-ABE5-6F415442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6BF763-5769-4456-8DB0-3CDD888F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A6A70C-4D2A-41F5-8D23-E2E8888C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575F25-33F4-4961-9C44-85EAC57A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C92819-794C-4B43-A1C3-46DE44A1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E4F3-DB9F-4F17-9009-145A2968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3B1E6-EA65-48F9-B313-42697520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A18AF-3012-4979-A0AE-C06B1B35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709FD-6B09-49D2-A9FB-A2D99FEF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72E0A-77D6-4FD7-BC5D-5D86743C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7C50A-0018-428F-AC9A-3454C1E8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A87FF8-D042-4672-A6A2-1F1A3B42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E03B2-7CBA-40D3-A1BB-A7D697C3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EFF0D5-13A0-40F9-A237-C983840D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05B2B-33C0-4AD6-960E-5D28573D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BDD040-3786-4CF8-AA8C-26F07D15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D00E-340A-407B-B3C3-E4F6C540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7AB40-2DC6-4E65-A2CC-85CCD64B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C49FA9-ADEF-427A-89C8-B821095E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632FD8-9708-449D-887A-E77DCB3D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3E697-D5CA-4287-AEF8-4DBEAD21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B94BC1-B46C-4038-AE04-BEFB07C1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E56668-1344-4A9F-A9FD-83428819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60E156-D2D4-4679-831D-3E7276E8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40E77-4F64-40B4-B1CA-16BDA763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4CC0E-49F4-4018-9BA9-27A3FC45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61C11-EAA1-40FF-9F4B-3199706A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44B4-BEDC-4DFE-84FC-7DE48D56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103685-E989-468F-B35C-420B0A54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CEA214-86F8-4EE2-8EE3-7B8BAADF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EC9E4F-6A87-45EB-A4FE-63BC45C2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98FEE2-3E6B-4280-9AAB-38D2D337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D25BB-2094-44B7-A6F4-7FB44523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731439-74D6-47F6-ACE7-C453D36A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59E5D5-FD22-4570-BBCA-D68E21C3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47F71F-9D4F-4D0D-A85D-7BFAC46F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677093-8D7B-4CDA-9B9D-CA4E27CD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A89F0D-9473-4C2C-9CE6-36506F4D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7E21-B098-4435-8FD5-D532244A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826838-CE9B-4852-A43F-4C9D8615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909BFE-C98F-48D3-849B-86768876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BF1D27-ED25-4F49-BAD1-6108A661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2BB94F-EFB4-493B-95C0-639AF4AA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E52FE1-8FBA-4EC3-AA79-BC9FACCA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C4F0A9-2EE0-4902-94E8-FF3A292B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CBC8DF-1DDA-4825-8AB7-AF53A433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A82083-C4BA-4216-B2BC-54A89823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2037DA-BAF5-42A3-8F2A-9B251C24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4F75F9-0BC6-4100-AFA8-BD2D9F21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E862-2A8A-477D-85CF-4EEBF3867E4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C184-7A23-479D-9B45-37585813CDD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E1E7-6B5F-43FF-AE36-96D76BA5952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C92D-E357-4FA1-BEBB-A76D5EBFB13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91B1-3EA7-4463-A536-4E1FC334C14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09CC-2ED8-41F8-9215-802F28420995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7DA8-D6CE-440E-B13F-BAAD7290186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678F-AD48-4845-BD0E-966652E3EC9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2B63-B241-48AA-AE86-229579E6465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19F3-361B-41BC-8FF5-50CADC5D00C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4806-0863-4EF2-BD47-D6C58462E90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B9C4-9CCD-4260-BE54-E39753BD888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66FC-2721-4E4E-8EEF-47223378661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Boolean and Vector Space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etrieval Model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447560" y="36576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slides in this section are adapted from Prof. Joydeep Ghosh (UT ECE) who in turn adapted them from Prof. Dik Lee (Univ. of Science and Tech, Hong K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23AF-3EDA-4395-BD63-FCE81FAB8F2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Statistical Retrieval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rieval based 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simila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etween query and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put documents are ranked according to similarity to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ilarity based on occurre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equenc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keywords in query and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tomatic relevance feedback can be suppor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levant documents “added” to query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rrelevant documents “subtracted” from query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BCF7-01A8-4AF6-9433-14E96D8032E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Issues for Vector Space Model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to determine important words in a docu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Word sense?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Word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-grams (and phrases, idioms,…) 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term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to determine the degree of importance of a term within a document and within the entire colle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to determine the degree of similarity between a document and the que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case of the web, what is the collection and what are the effects of links, formatting information, etc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ED0F-A295-493C-BFBD-14A339CAE35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The Vector-Space Model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tinct terms remain after preprocessing; call them index terms or the vocabu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“orthogonal” terms form a vector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Dimensionality =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= |vocabulary|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term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 in a document or quer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is given a real-valued weight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documents and queries are expressed as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dimensional ve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 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d</a:t>
            </a:r>
            <a:r>
              <a:rPr b="0" i="1" lang="en-US" sz="24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= (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w</a:t>
            </a:r>
            <a:r>
              <a:rPr b="0" i="1" lang="en-US" sz="24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1j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, w</a:t>
            </a:r>
            <a:r>
              <a:rPr b="0" i="1" lang="en-US" sz="24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2j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, …, w</a:t>
            </a:r>
            <a:r>
              <a:rPr b="0" i="1" lang="en-US" sz="24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t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43BB-F1B6-426E-86EA-F9DB82D0C516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Graphic Representation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62120" y="1453680"/>
            <a:ext cx="2519280" cy="1528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2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3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5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3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7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 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 = 0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0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 2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4"/>
          <p:cNvSpPr/>
          <p:nvPr/>
        </p:nvSpPr>
        <p:spPr>
          <a:xfrm>
            <a:off x="4479840" y="4419720"/>
            <a:ext cx="3597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33"/>
          <p:cNvGrpSpPr/>
          <p:nvPr/>
        </p:nvGrpSpPr>
        <p:grpSpPr>
          <a:xfrm>
            <a:off x="1087920" y="1828800"/>
            <a:ext cx="7010640" cy="4176720"/>
            <a:chOff x="1087920" y="1828800"/>
            <a:chExt cx="7010640" cy="4176720"/>
          </a:xfrm>
        </p:grpSpPr>
        <p:sp>
          <p:nvSpPr>
            <p:cNvPr id="552" name="Text Box 6"/>
            <p:cNvSpPr/>
            <p:nvPr/>
          </p:nvSpPr>
          <p:spPr>
            <a:xfrm>
              <a:off x="4882320" y="184320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7"/>
            <p:cNvSpPr/>
            <p:nvPr/>
          </p:nvSpPr>
          <p:spPr>
            <a:xfrm>
              <a:off x="4761000" y="4405320"/>
              <a:ext cx="301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"/>
            <p:cNvSpPr/>
            <p:nvPr/>
          </p:nvSpPr>
          <p:spPr>
            <a:xfrm flipH="1">
              <a:off x="2220840" y="4402080"/>
              <a:ext cx="251928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9"/>
            <p:cNvSpPr/>
            <p:nvPr/>
          </p:nvSpPr>
          <p:spPr>
            <a:xfrm flipV="1">
              <a:off x="4740120" y="1828800"/>
              <a:ext cx="0" cy="25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0"/>
            <p:cNvSpPr/>
            <p:nvPr/>
          </p:nvSpPr>
          <p:spPr>
            <a:xfrm flipH="1">
              <a:off x="4190760" y="4391280"/>
              <a:ext cx="1158840" cy="79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1"/>
            <p:cNvSpPr/>
            <p:nvPr/>
          </p:nvSpPr>
          <p:spPr>
            <a:xfrm>
              <a:off x="3505320" y="5181840"/>
              <a:ext cx="753840" cy="1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2"/>
            <p:cNvSpPr/>
            <p:nvPr/>
          </p:nvSpPr>
          <p:spPr>
            <a:xfrm flipV="1">
              <a:off x="4191120" y="320040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3"/>
            <p:cNvSpPr/>
            <p:nvPr/>
          </p:nvSpPr>
          <p:spPr>
            <a:xfrm flipH="1" flipV="1">
              <a:off x="4190760" y="3047760"/>
              <a:ext cx="549000" cy="1306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4"/>
            <p:cNvSpPr/>
            <p:nvPr/>
          </p:nvSpPr>
          <p:spPr>
            <a:xfrm flipH="1">
              <a:off x="3534840" y="4419720"/>
              <a:ext cx="212580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5"/>
            <p:cNvSpPr/>
            <p:nvPr/>
          </p:nvSpPr>
          <p:spPr>
            <a:xfrm flipH="1" flipV="1">
              <a:off x="2690280" y="5722560"/>
              <a:ext cx="885960" cy="33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16"/>
            <p:cNvSpPr/>
            <p:nvPr/>
          </p:nvSpPr>
          <p:spPr>
            <a:xfrm flipV="1">
              <a:off x="3611520" y="5410080"/>
              <a:ext cx="0" cy="363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7"/>
            <p:cNvSpPr/>
            <p:nvPr/>
          </p:nvSpPr>
          <p:spPr>
            <a:xfrm flipH="1">
              <a:off x="3593880" y="4384800"/>
              <a:ext cx="1127160" cy="1057320"/>
            </a:xfrm>
            <a:prstGeom prst="line">
              <a:avLst/>
            </a:prstGeom>
            <a:ln w="57240">
              <a:solidFill>
                <a:srgbClr val="f83f2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18"/>
            <p:cNvSpPr/>
            <p:nvPr/>
          </p:nvSpPr>
          <p:spPr>
            <a:xfrm flipV="1">
              <a:off x="4740120" y="3810240"/>
              <a:ext cx="0" cy="5918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9"/>
            <p:cNvSpPr/>
            <p:nvPr/>
          </p:nvSpPr>
          <p:spPr>
            <a:xfrm>
              <a:off x="7701480" y="434340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20"/>
            <p:cNvSpPr/>
            <p:nvPr/>
          </p:nvSpPr>
          <p:spPr>
            <a:xfrm>
              <a:off x="1848600" y="555804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21"/>
            <p:cNvSpPr/>
            <p:nvPr/>
          </p:nvSpPr>
          <p:spPr>
            <a:xfrm>
              <a:off x="1771920" y="3200400"/>
              <a:ext cx="208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= 2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+ 3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+ 5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2"/>
            <p:cNvSpPr/>
            <p:nvPr/>
          </p:nvSpPr>
          <p:spPr>
            <a:xfrm>
              <a:off x="1087920" y="4800600"/>
              <a:ext cx="206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= 3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+ 7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+  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3"/>
            <p:cNvSpPr/>
            <p:nvPr/>
          </p:nvSpPr>
          <p:spPr>
            <a:xfrm>
              <a:off x="4815000" y="3657600"/>
              <a:ext cx="2077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 = 0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+ 0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+ 2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4"/>
            <p:cNvSpPr/>
            <p:nvPr/>
          </p:nvSpPr>
          <p:spPr>
            <a:xfrm flipH="1">
              <a:off x="4190760" y="2743200"/>
              <a:ext cx="533160" cy="333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26"/>
            <p:cNvSpPr/>
            <p:nvPr/>
          </p:nvSpPr>
          <p:spPr>
            <a:xfrm>
              <a:off x="3657600" y="3048120"/>
              <a:ext cx="457200" cy="1652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88" h="104">
                  <a:moveTo>
                    <a:pt x="0" y="104"/>
                  </a:moveTo>
                  <a:cubicBezTo>
                    <a:pt x="8" y="60"/>
                    <a:pt x="16" y="16"/>
                    <a:pt x="48" y="8"/>
                  </a:cubicBezTo>
                  <a:cubicBezTo>
                    <a:pt x="80" y="0"/>
                    <a:pt x="152" y="48"/>
                    <a:pt x="192" y="56"/>
                  </a:cubicBezTo>
                  <a:cubicBezTo>
                    <a:pt x="232" y="64"/>
                    <a:pt x="260" y="60"/>
                    <a:pt x="288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27"/>
            <p:cNvSpPr/>
            <p:nvPr/>
          </p:nvSpPr>
          <p:spPr>
            <a:xfrm>
              <a:off x="3130560" y="4997520"/>
              <a:ext cx="450720" cy="33660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84" h="212">
                  <a:moveTo>
                    <a:pt x="0" y="13"/>
                  </a:moveTo>
                  <a:cubicBezTo>
                    <a:pt x="23" y="16"/>
                    <a:pt x="92" y="0"/>
                    <a:pt x="139" y="33"/>
                  </a:cubicBezTo>
                  <a:cubicBezTo>
                    <a:pt x="186" y="66"/>
                    <a:pt x="254" y="175"/>
                    <a:pt x="284" y="2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8"/>
            <p:cNvSpPr/>
            <p:nvPr/>
          </p:nvSpPr>
          <p:spPr>
            <a:xfrm>
              <a:off x="2439720" y="54104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9"/>
            <p:cNvSpPr/>
            <p:nvPr/>
          </p:nvSpPr>
          <p:spPr>
            <a:xfrm>
              <a:off x="548784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518292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31"/>
            <p:cNvSpPr/>
            <p:nvPr/>
          </p:nvSpPr>
          <p:spPr>
            <a:xfrm>
              <a:off x="472572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32"/>
          <p:cNvSpPr/>
          <p:nvPr/>
        </p:nvSpPr>
        <p:spPr>
          <a:xfrm>
            <a:off x="5181480" y="4952880"/>
            <a:ext cx="3353040" cy="122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ore similar to Q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to measure the degree of similarity? Distance? Angle? Projection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DD5F-E700-43B6-9D3F-2272D676FBF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Document Collection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62948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cuments can be represented in the vector space model by a term-document matr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ntry in the matrix corresponds to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“weight” of a term in the docu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zero means the term has no significance in the document or it simply doesn’t exist in the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8"/>
          <p:cNvGrpSpPr/>
          <p:nvPr/>
        </p:nvGrpSpPr>
        <p:grpSpPr>
          <a:xfrm>
            <a:off x="2895480" y="3505320"/>
            <a:ext cx="3352680" cy="2906280"/>
            <a:chOff x="2895480" y="3505320"/>
            <a:chExt cx="3352680" cy="2906280"/>
          </a:xfrm>
        </p:grpSpPr>
        <p:grpSp>
          <p:nvGrpSpPr>
            <p:cNvPr id="582" name="Group 6"/>
            <p:cNvGrpSpPr/>
            <p:nvPr/>
          </p:nvGrpSpPr>
          <p:grpSpPr>
            <a:xfrm>
              <a:off x="2895480" y="3505320"/>
              <a:ext cx="3319920" cy="2500200"/>
              <a:chOff x="2895480" y="3505320"/>
              <a:chExt cx="3319920" cy="2500200"/>
            </a:xfrm>
          </p:grpSpPr>
          <p:sp>
            <p:nvSpPr>
              <p:cNvPr id="583" name="AutoShape 4"/>
              <p:cNvSpPr/>
              <p:nvPr/>
            </p:nvSpPr>
            <p:spPr>
              <a:xfrm>
                <a:off x="2895480" y="3505320"/>
                <a:ext cx="245880" cy="2500200"/>
              </a:xfrm>
              <a:custGeom>
                <a:avLst/>
                <a:gdLst>
                  <a:gd name="textAreaLeft" fmla="*/ 72360 w 245880"/>
                  <a:gd name="textAreaRight" fmla="*/ 246240 w 245880"/>
                  <a:gd name="textAreaTop" fmla="*/ 104040 h 2500200"/>
                  <a:gd name="textAreaBottom" fmla="*/ 2396160 h 25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AutoShape 5"/>
              <p:cNvSpPr/>
              <p:nvPr/>
            </p:nvSpPr>
            <p:spPr>
              <a:xfrm>
                <a:off x="6033240" y="3505320"/>
                <a:ext cx="182160" cy="2484360"/>
              </a:xfrm>
              <a:custGeom>
                <a:avLst/>
                <a:gdLst>
                  <a:gd name="textAreaLeft" fmla="*/ 0 w 182160"/>
                  <a:gd name="textAreaRight" fmla="*/ 127800 w 182160"/>
                  <a:gd name="textAreaTop" fmla="*/ 118800 h 2484360"/>
                  <a:gd name="textAreaBottom" fmla="*/ 2365560 h 248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035"/>
                      <a:pt x="21600" y="2070"/>
                    </a:cubicBezTo>
                    <a:lnTo>
                      <a:pt x="21600" y="19530"/>
                    </a:lnTo>
                    <a:cubicBezTo>
                      <a:pt x="21600" y="20565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Text Box 7"/>
            <p:cNvSpPr/>
            <p:nvPr/>
          </p:nvSpPr>
          <p:spPr>
            <a:xfrm>
              <a:off x="3059280" y="3505320"/>
              <a:ext cx="3188880" cy="29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  T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   ….      T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…  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…  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:      :               :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:      :               :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…  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n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BF44-A71A-4AB3-9D33-51F5F552B17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Term Weights: Term Frequency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 frequent terms in a document are more important, i.e. more indicative of the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= frequency of term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n document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y want to normal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rm frequ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 by dividing by the frequency of the most common term in the doc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t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=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/ max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{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4F72-DF15-47E9-A89E-ACA88CE01C07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345960"/>
            <a:ext cx="792468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Term Weights: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nverse Document Frequenc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rms that appear in m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ffer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cument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ive of overall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= document frequency of term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= number of documents containing term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= inverse document frequency of term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,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= log</a:t>
            </a:r>
            <a:r>
              <a:rPr b="0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2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(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N/ 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: total number of docu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dication of a term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crim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g used to dampen the effect relativ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97F3-E218-4D9B-B378-E42C232D83F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TF-IDF Weighting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ypical combined term importance indicator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-idf weigh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w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=  t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=  t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log</a:t>
            </a:r>
            <a:r>
              <a:rPr b="0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2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(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N/ 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erm occurring frequently in the document but rarely in the rest of the collection is given high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other ways of determining term weights have been propo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perimentall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-i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found to work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6D1F-FF45-42D7-9ACC-AA8670A6C10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Computing TF-IDF -- An Example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iven a document containing terms with given frequenc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A(3), B(2), C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 collection contains 10,000 document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cument frequencies of these term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A(50), B(1300), C(2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A:  tf = 3/3;  idf = log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10000/50) = 7.6;     tf-idf = 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B:  tf = 2/3;  idf = log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2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10000/1300) = 2.9; tf-idf =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C:  tf = 1/3;  idf = log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2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10000/250) = 5.3;   tf-idf =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2583-51DD-4725-827D-83AF85D8D0B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Query Vector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ery vector is typically treated as a document and also tf-idf weigh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ernative is for the user to supply weights for the given query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0E03-260B-40E4-8850-F07534F03DC6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Retrieval Model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retrieval model specifies the details 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Document represen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Query represen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Retrieval func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termines a notion of relev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ion of relevance can be binary or continuous (i.e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nked retriev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2A01-3187-4F55-A551-79F6DEF5E72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imilarity Measure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similarity mea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function that computes th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degree of simila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etween two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a similarity measure between the query and each doc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t is possible to rank the retrieved documents in the order of presumed relevance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t is possible to enforce a certain threshold so that the size of the retrieved set can be controlled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A590-E470-46F6-BC39-DC501BC88A9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imilarity Measure - Inner Product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ilarity between vectors for the docume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que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computed as the vector inner product (a.k.a. dot produc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where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w</a:t>
            </a:r>
            <a:r>
              <a:rPr b="0" i="1" lang="en-US" sz="20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s the weight of term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n documen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j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and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w</a:t>
            </a:r>
            <a:r>
              <a:rPr b="0" i="1" lang="en-US" sz="20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q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s the weight of term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n the que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binary vectors, the inner product is the number of matched query terms in the document (size of intersec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weighted term vectors, it is the sum of the products of the weights of the matched term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4"/>
              <p:cNvSpPr txBox="1"/>
              <p:nvPr/>
            </p:nvSpPr>
            <p:spPr>
              <a:xfrm>
                <a:off x="4267080" y="2438280"/>
                <a:ext cx="136044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0D79-84D0-448B-BA3B-10980E67F12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roperties of Inner Product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ner product is unbou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vors long documents with a large number of uniqu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asures how many terms matched but not how many term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9D5A-1A14-4107-9F99-9FAD0D32C59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Inner Product -- Example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in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D  =  1,    1,    1,   0,    1,    1,     0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Q  =  1,    0 ,   1,   0,    0,    1,     1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im(D, Q) = 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5" name="Text Box 8"/>
          <p:cNvSpPr/>
          <p:nvPr/>
        </p:nvSpPr>
        <p:spPr>
          <a:xfrm rot="19200000">
            <a:off x="1905480" y="1621080"/>
            <a:ext cx="9903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retriev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9"/>
          <p:cNvSpPr/>
          <p:nvPr/>
        </p:nvSpPr>
        <p:spPr>
          <a:xfrm rot="19200000">
            <a:off x="2286360" y="1621440"/>
            <a:ext cx="9907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databas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0"/>
          <p:cNvSpPr/>
          <p:nvPr/>
        </p:nvSpPr>
        <p:spPr>
          <a:xfrm rot="19200000">
            <a:off x="2666880" y="1524240"/>
            <a:ext cx="12906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architectur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1"/>
          <p:cNvSpPr/>
          <p:nvPr/>
        </p:nvSpPr>
        <p:spPr>
          <a:xfrm rot="19200000">
            <a:off x="3048120" y="1600920"/>
            <a:ext cx="10904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compute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2"/>
          <p:cNvSpPr/>
          <p:nvPr/>
        </p:nvSpPr>
        <p:spPr>
          <a:xfrm rot="19200000">
            <a:off x="3429360" y="1600920"/>
            <a:ext cx="9907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tex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3"/>
          <p:cNvSpPr/>
          <p:nvPr/>
        </p:nvSpPr>
        <p:spPr>
          <a:xfrm rot="19200000">
            <a:off x="3657600" y="1524600"/>
            <a:ext cx="13636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managemen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4"/>
          <p:cNvSpPr/>
          <p:nvPr/>
        </p:nvSpPr>
        <p:spPr>
          <a:xfrm rot="19200000">
            <a:off x="4115160" y="1524600"/>
            <a:ext cx="12492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informatio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16"/>
          <p:cNvSpPr/>
          <p:nvPr/>
        </p:nvSpPr>
        <p:spPr>
          <a:xfrm>
            <a:off x="4724280" y="2286000"/>
            <a:ext cx="3962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 of vector = size of vocabulary = 7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means corresponding term not found in document or query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7"/>
          <p:cNvSpPr/>
          <p:nvPr/>
        </p:nvSpPr>
        <p:spPr>
          <a:xfrm>
            <a:off x="838080" y="380988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ed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= 2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3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5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3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= 3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7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 1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3    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 = 0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0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 2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2*0 + 3*0 + 5*2  = 1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3*0 + 7*0 + 1*2  = 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9B5A-C0C1-4135-9457-F8959E88671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Cosine Similarity Measure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638680" cy="12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sine similarity measures the cosine of the angle between two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ner product normalized by the vector leng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762120" y="4419720"/>
            <a:ext cx="7924680" cy="113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2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3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5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3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Sim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+9+25)(0+0+4) = 0.8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3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7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1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3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Sim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 2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9+49+1)(0+0+4) = 0.13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 = 0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0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2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Group 22"/>
          <p:cNvGrpSpPr/>
          <p:nvPr/>
        </p:nvGrpSpPr>
        <p:grpSpPr>
          <a:xfrm>
            <a:off x="6101280" y="1295280"/>
            <a:ext cx="2476440" cy="3069000"/>
            <a:chOff x="6101280" y="1295280"/>
            <a:chExt cx="2476440" cy="3069000"/>
          </a:xfrm>
        </p:grpSpPr>
        <p:sp>
          <p:nvSpPr>
            <p:cNvPr id="629" name="Text Box 6"/>
            <p:cNvSpPr/>
            <p:nvPr/>
          </p:nvSpPr>
          <p:spPr>
            <a:xfrm>
              <a:off x="6842520" y="2993760"/>
              <a:ext cx="38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zh-TW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7"/>
            <p:cNvSpPr/>
            <p:nvPr/>
          </p:nvSpPr>
          <p:spPr>
            <a:xfrm>
              <a:off x="7418880" y="1306440"/>
              <a:ext cx="32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8"/>
            <p:cNvSpPr/>
            <p:nvPr/>
          </p:nvSpPr>
          <p:spPr>
            <a:xfrm>
              <a:off x="7383240" y="3166920"/>
              <a:ext cx="114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9"/>
            <p:cNvSpPr/>
            <p:nvPr/>
          </p:nvSpPr>
          <p:spPr>
            <a:xfrm flipH="1">
              <a:off x="6293880" y="3163680"/>
              <a:ext cx="1081080" cy="11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0"/>
            <p:cNvSpPr/>
            <p:nvPr/>
          </p:nvSpPr>
          <p:spPr>
            <a:xfrm flipV="1">
              <a:off x="7375320" y="1295280"/>
              <a:ext cx="0" cy="18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1"/>
            <p:cNvSpPr/>
            <p:nvPr/>
          </p:nvSpPr>
          <p:spPr>
            <a:xfrm flipH="1" flipV="1">
              <a:off x="6894360" y="2392200"/>
              <a:ext cx="466560" cy="76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2"/>
            <p:cNvSpPr/>
            <p:nvPr/>
          </p:nvSpPr>
          <p:spPr>
            <a:xfrm flipH="1">
              <a:off x="6790680" y="3151080"/>
              <a:ext cx="576360" cy="1164960"/>
            </a:xfrm>
            <a:prstGeom prst="line">
              <a:avLst/>
            </a:prstGeom>
            <a:ln w="57240">
              <a:solidFill>
                <a:srgbClr val="f83f2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3"/>
            <p:cNvSpPr/>
            <p:nvPr/>
          </p:nvSpPr>
          <p:spPr>
            <a:xfrm flipV="1">
              <a:off x="7375320" y="2543040"/>
              <a:ext cx="0" cy="62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14"/>
            <p:cNvSpPr/>
            <p:nvPr/>
          </p:nvSpPr>
          <p:spPr>
            <a:xfrm>
              <a:off x="8252280" y="3098520"/>
              <a:ext cx="32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 Box 15"/>
            <p:cNvSpPr/>
            <p:nvPr/>
          </p:nvSpPr>
          <p:spPr>
            <a:xfrm>
              <a:off x="6101280" y="3804840"/>
              <a:ext cx="32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6"/>
            <p:cNvSpPr/>
            <p:nvPr/>
          </p:nvSpPr>
          <p:spPr>
            <a:xfrm>
              <a:off x="6572880" y="2500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17"/>
            <p:cNvSpPr/>
            <p:nvPr/>
          </p:nvSpPr>
          <p:spPr>
            <a:xfrm>
              <a:off x="6930000" y="3854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Text Box 18"/>
            <p:cNvSpPr/>
            <p:nvPr/>
          </p:nvSpPr>
          <p:spPr>
            <a:xfrm>
              <a:off x="7441200" y="2671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Arc 19"/>
            <p:cNvSpPr/>
            <p:nvPr/>
          </p:nvSpPr>
          <p:spPr>
            <a:xfrm>
              <a:off x="7045200" y="2516040"/>
              <a:ext cx="311040" cy="1522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fill="none" w="29671" h="21600">
                  <a:moveTo>
                    <a:pt x="-1" y="1564"/>
                  </a:moveTo>
                  <a:cubicBezTo>
                    <a:pt x="2565" y="531"/>
                    <a:pt x="5305" y="-1"/>
                    <a:pt x="8071" y="0"/>
                  </a:cubicBezTo>
                  <a:cubicBezTo>
                    <a:pt x="20000" y="0"/>
                    <a:pt x="29671" y="9670"/>
                    <a:pt x="29671" y="21600"/>
                  </a:cubicBezTo>
                </a:path>
                <a:path stroke="0" w="29671" h="21600">
                  <a:moveTo>
                    <a:pt x="-1" y="1564"/>
                  </a:moveTo>
                  <a:cubicBezTo>
                    <a:pt x="2565" y="531"/>
                    <a:pt x="5305" y="-1"/>
                    <a:pt x="8071" y="0"/>
                  </a:cubicBezTo>
                  <a:cubicBezTo>
                    <a:pt x="20000" y="0"/>
                    <a:pt x="29671" y="9670"/>
                    <a:pt x="29671" y="21600"/>
                  </a:cubicBezTo>
                  <a:lnTo>
                    <a:pt x="8071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Arc 20"/>
            <p:cNvSpPr/>
            <p:nvPr/>
          </p:nvSpPr>
          <p:spPr>
            <a:xfrm flipH="1">
              <a:off x="7125480" y="2803320"/>
              <a:ext cx="198360" cy="822240"/>
            </a:xfrm>
            <a:custGeom>
              <a:avLst/>
              <a:gdLst>
                <a:gd name="textAreaLeft" fmla="*/ -360 w 198360"/>
                <a:gd name="textAreaRight" fmla="*/ 198360 w 19836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Text Box 21"/>
            <p:cNvSpPr/>
            <p:nvPr/>
          </p:nvSpPr>
          <p:spPr>
            <a:xfrm>
              <a:off x="6949080" y="2003040"/>
              <a:ext cx="38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zh-TW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Text Box 23"/>
          <p:cNvSpPr/>
          <p:nvPr/>
        </p:nvSpPr>
        <p:spPr>
          <a:xfrm>
            <a:off x="768240" y="5562720"/>
            <a:ext cx="7842240" cy="714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6 times bett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sing cosine similarity but only 5 times better using inner product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4"/>
              <p:cNvSpPr txBox="1"/>
              <p:nvPr/>
            </p:nvSpPr>
            <p:spPr>
              <a:xfrm>
                <a:off x="2616120" y="2666880"/>
                <a:ext cx="3695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j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q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  <m:e>
                                    <m:sSup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q</m:t>
                                            </m:r>
                                          </m:sub>
                                        </m:sSub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Rectangle 24"/>
          <p:cNvSpPr/>
          <p:nvPr/>
        </p:nvSpPr>
        <p:spPr>
          <a:xfrm>
            <a:off x="762120" y="3048120"/>
            <a:ext cx="243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Sim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29"/>
          <p:cNvSpPr/>
          <p:nvPr/>
        </p:nvSpPr>
        <p:spPr>
          <a:xfrm>
            <a:off x="5715000" y="4495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30"/>
          <p:cNvSpPr/>
          <p:nvPr/>
        </p:nvSpPr>
        <p:spPr>
          <a:xfrm>
            <a:off x="563868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1D7A-E117-44A0-A53C-79E7CEDC98E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Naïve Implementation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all documents in collection 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f-i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ighted vector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keyword vocabulary 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query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f-i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weighted vect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D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c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cosSim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documents by decreasing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 top ranked documents to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ime complexity:  O(|V|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|D|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d for large V &amp; D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V| = 10,000; |D| = 100,000; |V|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D| = 1,000,0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EEEB-95C3-4F07-BE81-DB35271EEC7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Comments on Vector Space Model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ple, mathematically based approa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s both local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and global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word occurrence frequ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vides partial matching and ranked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nds to work quite well in practice despite obvious weakn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ws efficient implementation for large document coll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685800" y="1447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8E0F-5F46-4784-9143-EE4F546F4AA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Problems with Vector Space Model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ssing semantic information (e.g. word sen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ssing syntactic information (e.g. phrase structure, word order, proximity inform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ption of term independence (e.g. ignores synonom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cks the control of a Boolean model (e.g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qui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term to appear in a docum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Given a two-term query “A B”, may prefer a document containing A frequently but not B, over a document that contains both A and B, but both less frequently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E66A-5FD3-413A-B2B0-287ABA46E05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Classes of Retrieval Model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olean models (set theoret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ctor space models (statistical/algebrai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Latent Semantic Index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51D7-B80F-4DBE-B262-A44557FEB05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Other Model Dimension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View of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dex term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ull tex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ull text + Structure (e.g. hypertext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triev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rows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7D73-5B70-468E-8699-4770707F6C3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Common Preprocessing Step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p unwanted characters/markup  (e.g. HTML tags, punctuation, numbers, etc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reak into tokens (keywords) on white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m tokens to “root” w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computational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compu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move common stopwords (e.g. a, the, it, etc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tect common phrases (possibly using a domain specific dictionar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ild inverted index (keywor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st of docs containing i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030B-1E40-425C-ACE2-FE339DEB4AD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Boolean Model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document is represented a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key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eries are Boolean expressions of keywords, connected by AND, OR, and NOT, including the use of brackets to indicate sc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[[Rio &amp; Brazil] | [Hilo &amp; Hawaii]] &amp; hotel &amp; !Hilton]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put: Document is relevant or not. No partial matches or ra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2999-9650-4CE1-966E-736F95C107D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85800" y="1782720"/>
            <a:ext cx="7772400" cy="427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pular retrieval model 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Easy to understand for simple queries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Clean formalism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olean models can be extended to include ra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sonably efficient implementations possible for normal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Boolean Retrieval Model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2076-55A7-4D95-85EF-353006844CF5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Boolean Models </a:t>
            </a:r>
            <a:r>
              <a:rPr b="0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 Problem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y rigid: AND means all; OR means 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fficult to express complex user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fficult to control the number of documents retrie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All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matched documents will be returned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fficult to rank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All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matched documents logically satisfy the query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fficult to perform relevance feed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f a document is identified by the user as relevant or irrelevant, how should the query be modified?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60C3-3460-4436-B623-DC0FEF88015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Statistical Model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document is typically represented by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bag of wo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unordered words with frequenci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g = set that allows multiple occurrences of the same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r specifies a set of desired terms with optional weigh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Weighted query terms: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Q =  &lt; database 0.5; text 0.8; information 0.2 &gt;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Unweighted query terms: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Q  =  &lt; database; text; information &gt;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No Boolean conditions specified in the query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09:24:32Z</dcterms:created>
  <dc:creator>GOGO</dc:creator>
  <dc:description/>
  <dc:language>en-US</dc:language>
  <cp:lastModifiedBy>mooney</cp:lastModifiedBy>
  <cp:lastPrinted>2000-02-18T04:20:58Z</cp:lastPrinted>
  <dcterms:modified xsi:type="dcterms:W3CDTF">2015-08-12T18:08:28Z</dcterms:modified>
  <cp:revision>229</cp:revision>
  <dc:subject/>
  <dc:title>No Slide Title</dc:title>
</cp:coreProperties>
</file>