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861C-C99A-468B-BFEA-5DB0AE75B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C014-951A-4D8F-9207-D4A6555807F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8EFD-E6A6-4BEF-811C-D2283CDC5C6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FF27-2CBB-4C07-811E-2B5145A4E5C1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3A92-ABC0-4E6C-BCEB-9251740E9F28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3BAE-141A-4FBF-9B95-F161F2483DD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520F-EB4D-4109-A06B-15581674AF6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25FE-899C-4837-8AC7-3476D4AC5E3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14E5-92B3-48E8-9A32-C42F8529220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E175-7EB3-41A7-8CD6-0C51A7F420A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F5D0-79C2-4661-87D3-98B3A5B71CF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BCFC-C228-471C-8FC3-A1D7E2E28158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3F21-7A44-429A-BF43-027557438F8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EE0D-D7AE-4A15-BD29-4FBC3A9E2A5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06FA-6549-4FC9-B11E-8FDDA113E91E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BDC8-0C5F-4807-853C-7E10D5439FF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1831-CEE5-49F4-8670-953FD554B6D6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D8FC-3773-4C02-87F9-1ACD000F3988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1B53-5952-40D4-B732-C75B6F565C3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8251-3066-4F5D-90CD-6CDEA2024BC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125F-2EA4-410B-A920-E4F6FA4AB57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5C10-A25D-46F8-B9A8-3B4626F876E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5876-25D6-4694-A437-799B8E1D029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0C6A-5789-49CA-859A-4C2DF6CA941F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5153-0647-4C9B-89D3-BEF7FDD645F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06A6B-6526-4BF2-BB09-045DE8F6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3029-F1CF-4ED3-8797-9A3DD441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690B78-5C3F-45A3-9394-36FA8A70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379620-E0C8-4FB7-820C-7F0BEDB2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34596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727C51-100C-4830-B479-EC8F8E33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2C1E04-637A-4977-8A24-221AF118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825DE2-3C2F-44A1-9175-997C3D2E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86571E-AE79-4A3A-8A2B-41AE856A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D25363-9C91-47C9-9CF6-5569B1B1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59DE01-0F8F-4AC5-8589-1A24B7E6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67691E-737E-4217-B625-6A172BCF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D7E42E-DC16-422B-8757-F117265E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472CB-471C-4DFF-83C9-62F1E591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312D39-1A57-486A-9352-C386E7D6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BC5355-4CD5-4CEF-9CBB-D1E686F3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8E7D4B-DE06-45B9-991B-9DF08FD2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0D5D82-41B9-4B5F-8212-F263B942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34596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7273CB-842D-438F-AD31-14EF771D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3C08D3-BD3E-4AF7-911F-99D669B4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FCC346-A1AA-4DC1-8EAE-7E93D647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B9F776-0D88-4705-83AA-945C2D1D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C2C441-9054-49C2-980E-C092B8F8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540932-DF4D-4DC6-9272-A9C2B0CC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A6946-322E-4EE4-9C28-28E21CF9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D9F09D-081C-42F7-897B-35BC5AA0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824954-6994-4EDE-91C3-52A6AC09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8CD040-49C1-4071-9D59-268D4457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6CC2F0-59C7-4EAD-A6F5-42E95A4B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EF8BAA-9D3F-42B4-A0E4-4536CF20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0A4DFC-5A92-4F83-9D6F-EF0E347C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34596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16D33D-BF9A-4D1E-B0A7-762B192B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69C370-D1EF-4404-B4C9-80467D88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F0A6FB-2580-4AD3-A175-DFF35B65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3A60D5-0501-4ED9-97A3-62CE2224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93E9A-40A5-45FF-83E7-3E7CB816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02B936-39FE-49C5-808E-42364929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31318F-90AB-454E-90EB-7A7FDFC5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47919B-BB5F-4EA2-BA0C-151852BB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548202-2969-44CB-81A3-178C1318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A82F32-0975-4DDD-834B-D310380D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11F708-74BB-430B-93A7-137835B3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30E957-AEA5-4D03-9BE6-F0DA9F49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220966-1881-4DDC-B545-0D91DB7F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34596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C49BB2-2E86-4E73-8E1E-D4991820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B2B0FF-37CA-454E-AAB2-3F0BC152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39AD5-DD59-49B9-B858-AAA3E6A6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6AA094-2814-4101-9B30-BC33684C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F98AE6-49EA-420C-99BB-67D09DFB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F2E31E-C2A0-4FE5-BFB6-7172173F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AF3A28-D0D5-4356-870A-3C5355B2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BD46C4-7743-4B2A-AB0C-5A74FC1D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2732E-076F-4B25-A717-F0770C32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9719A-AA5A-48E2-8431-A28C5119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79020-8397-4273-8E96-1B2D5982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4596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83EAF-E1BB-48F2-927F-A98529A1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F8F80-B5F2-413F-9DB2-C9BCFF8B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19A4D-8CCD-43E3-94C4-1CB3C5CC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97503-E62B-49D9-9E36-9E21DB25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EFDF5-2B5F-4458-9AED-361351BC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9B307-C433-4A23-B060-9952AF17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2BE66-0CFD-43B2-8711-BD614840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8089A-AEA6-434C-A774-BD737072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7022A-CB7F-4598-ABDA-FD6431AE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FC2F8-1AF7-4FED-9594-56114F87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5622E-5EEE-4E81-A6F1-ABE31529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F8218-033E-418D-844C-A8822561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5EF28-EDEF-454E-A057-C16DFFEB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B7C3F-826D-4216-92CF-4F1C964C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34596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3B1E7-0C61-4FD3-8D75-52722847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1A504-5191-4C0F-B673-B08A4592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02B87-3E55-49FC-AC92-046B2188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4E997-F7CC-4D76-8143-F8373E28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B255A-81D1-421C-9B91-C5B969A0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444054-B845-44F3-B758-C9EC4569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9CB45-C15A-4DDE-B59C-A5B15217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212574-7156-4067-966F-F7F49AB3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BEFA97-ABC0-4795-8D05-140A052A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A5BC1D-A83D-4CD5-8F63-E09923DA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13AC4-17FC-414D-B967-B8A509E2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F9FD07-67B6-4664-8AA1-71267B06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D760EB-DE35-460A-9948-0A9E9D1E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34596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E104A4-49DE-42AF-A36C-21C47849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0139BC-2040-4D49-9201-47D90C89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AF741E-96CE-48C2-B467-CE1B550D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0B38EC-4D8E-4DFE-8A2E-3C38D6CC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78317A-C28A-4B1C-A91A-C9A98A6B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C31178-BD35-4ED0-86BE-0F083B59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EEB1AE-DB5F-4DBE-9C9E-DCFAFE1C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5C8D93-FADD-4A44-A6DA-AE16561E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0DFE1-3FF6-4D26-B52C-5F83C382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641CC4-9593-4BB5-851E-D0AA3773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226A94-74F3-41F8-8242-5A509711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AC2FBA-E83B-46CC-9B11-7A025C11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6485B4-3A34-4B9C-A9B6-261C3EE7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34596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2B236B-506E-41CF-A62D-E6588ADB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DEF2AC-F199-4B8A-A434-F7877C02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9A7EEF-90C8-4474-A410-A6A45C9E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7F31F1-67C4-462C-B17E-38BF11A3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2641EC-DFA9-4D50-A5F7-531B65AE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B3EDD2-B0CC-49F0-890D-C8F9D740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4596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8E234-435B-4601-8324-199CF47F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90EAB8-AD19-41CC-9C56-D1CBAC7C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864A83-B17E-4038-9F00-7A9E595B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3F8349-82A4-4F72-885C-58427F73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A3544F-FCA6-4EE5-A2DF-4378D6B6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93B2AC-C38C-4B79-900C-C4E848ED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073E39-814C-43BC-B5D3-1D1B6C0D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34596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E9AABD-FC3A-48F2-AB88-B9475E85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F0279E-1CB2-45A1-B3D1-11437CC7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2D480-168C-4440-B7AC-F9F55B30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FFB704-08A1-440E-BC61-5518FC2A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74DDC-E94B-4186-8E0E-35CADEE5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A4FE3D-F3CD-45AE-ABA6-0F42AA34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8CA23-2CD8-42BA-BC4A-67D4D3F3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227D57-D08C-42FE-8D28-D597E9B7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D62080-71FE-49BD-9BEF-4BDFB3A7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6407AA-0791-4E88-A9DD-ACBE7FA0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141455-7BAC-44CA-A4C3-4E58E3F6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079563-0E75-4293-8510-5598DB43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9CBFF4-AB89-4105-8C3E-FCD9DC71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34596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CE1842-3A1A-4C28-9A23-2A7A8A8A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21FE03-AEF9-4373-AC52-008AC545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6B923-E64B-4EB8-A161-41619628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06524E-4D00-42A6-998D-A9654084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6E1BB8-C8D9-4E1D-B33F-489BEAC3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DD1080-2EDC-4437-84CF-1D073083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040EE3-861F-4CD4-9D0B-71FC2AFD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C4083A-5A92-4AD3-8F52-CDDC2E30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9CD4F4-8D80-4AB7-9F8F-678995E5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CB6757-9B3A-448C-B868-724899BB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AF2453-8961-437D-97F8-CA450ACD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DAA84E-CA1D-45EF-9B04-D1181D83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F55CAC-6BDB-4D02-A449-E92A3785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9E8F1-C31A-4776-876F-7EC78E7F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34596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F86617-3B56-4C2A-BB1B-E7E46ADD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D174CB-264E-47D9-A18B-E7079129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73B3E0-F6E1-4B29-A7C6-89D2162E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13A984-D23C-451F-A4B1-6A7F3660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079C2C-FBB9-4E72-9BA6-31A294BA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32E930-1AFB-45CB-8A5D-31F675F8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E20256-AB26-4C77-B9AF-5E4CB951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6C8F06-C2B5-476F-8345-1F779890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CE1199-D3AC-4449-9851-28DBCA5E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1C4B41-0E8D-477F-A4B9-5C128AF7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AC36-0E6A-4CC9-946E-23C050AAB028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16D5-FD95-49BA-9D1D-1B09D593A0C0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992E-860E-4B4A-8B8A-E41B8AE59F65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388D-AB36-48DC-BF57-DA500311506B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7575-815F-4FA1-B5AC-2E25DEB91DCF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C72C-76CA-4364-A9F0-7C0706C9673F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F1FA-373B-43F1-AB40-47BA7C72EE5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3BAC-2467-48C9-8F5F-FEA1A4ECD73D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F016-40B6-4663-A88F-D095953B93E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9C85-6804-47FD-987A-7E614A9DD38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DF13-C48B-4D0A-887A-BCF7328D252C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7850-ECED-430C-8747-60254F2270E4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8029-6FB8-4C20-80FC-147DE411EC0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Boolean and Vector Space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Retrieval Models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447560" y="3657600"/>
            <a:ext cx="6933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y slides in this section are adapted from Prof. Joydeep Ghosh (UT ECE) who in turn adapted them from Prof. Dik Lee (Univ. of Science and Tech, Hong Ko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CC51-B0DD-4522-8686-6FAF79A59827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Statistical Retrieval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trieval based o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similar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etween query and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tput documents are ranked according to similarity to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ilarity based on occurre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equenc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f keywords in query and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utomatic relevance feedback can be suppor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levant documents “added” to query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rrelevant documents “subtracted” from query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CA15-5191-40C3-BCF3-3B5B89C255C6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Issues for Vector Space Model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to determine important words in a docu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Word sense?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Word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n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-grams (and phrases, idioms,…) 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term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to determine the degree of importance of a term within a document and within the entire collec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to determine the degree of similarity between a document and the que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case of the web, what is the collection and what are the effects of links, formatting information, etc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78A9-11E4-4840-872F-6FD9BB20A943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The Vector-Space Model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stinct terms remain after preprocessing; call them index terms or the vocabu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“orthogonal” terms form a vector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 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Dimensionality =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t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= |vocabulary|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term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 in a document or quer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is given a real-valued weight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documents and queries are expressed as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dimensional ve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     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d</a:t>
            </a:r>
            <a:r>
              <a:rPr b="0" i="1" lang="en-US" sz="24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j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= (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w</a:t>
            </a:r>
            <a:r>
              <a:rPr b="0" i="1" lang="en-US" sz="24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1j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, w</a:t>
            </a:r>
            <a:r>
              <a:rPr b="0" i="1" lang="en-US" sz="24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2j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, …, w</a:t>
            </a:r>
            <a:r>
              <a:rPr b="0" i="1" lang="en-US" sz="24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tj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FEF3-FAA4-4B97-BD0E-85DB4590511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Graphic Representation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62120" y="1453680"/>
            <a:ext cx="2519280" cy="1528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2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3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5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3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7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 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 = 0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0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 2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4"/>
          <p:cNvSpPr/>
          <p:nvPr/>
        </p:nvSpPr>
        <p:spPr>
          <a:xfrm>
            <a:off x="4479840" y="4419720"/>
            <a:ext cx="3597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Group 33"/>
          <p:cNvGrpSpPr/>
          <p:nvPr/>
        </p:nvGrpSpPr>
        <p:grpSpPr>
          <a:xfrm>
            <a:off x="1087920" y="1828800"/>
            <a:ext cx="7010640" cy="4176720"/>
            <a:chOff x="1087920" y="1828800"/>
            <a:chExt cx="7010640" cy="4176720"/>
          </a:xfrm>
        </p:grpSpPr>
        <p:sp>
          <p:nvSpPr>
            <p:cNvPr id="552" name="Text Box 6"/>
            <p:cNvSpPr/>
            <p:nvPr/>
          </p:nvSpPr>
          <p:spPr>
            <a:xfrm>
              <a:off x="4882320" y="184320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7"/>
            <p:cNvSpPr/>
            <p:nvPr/>
          </p:nvSpPr>
          <p:spPr>
            <a:xfrm>
              <a:off x="4761000" y="4405320"/>
              <a:ext cx="301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"/>
            <p:cNvSpPr/>
            <p:nvPr/>
          </p:nvSpPr>
          <p:spPr>
            <a:xfrm flipH="1">
              <a:off x="2220840" y="4402080"/>
              <a:ext cx="251928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9"/>
            <p:cNvSpPr/>
            <p:nvPr/>
          </p:nvSpPr>
          <p:spPr>
            <a:xfrm flipV="1">
              <a:off x="4740120" y="1828800"/>
              <a:ext cx="0" cy="25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10"/>
            <p:cNvSpPr/>
            <p:nvPr/>
          </p:nvSpPr>
          <p:spPr>
            <a:xfrm flipH="1">
              <a:off x="4190760" y="4391280"/>
              <a:ext cx="1158840" cy="790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1"/>
            <p:cNvSpPr/>
            <p:nvPr/>
          </p:nvSpPr>
          <p:spPr>
            <a:xfrm>
              <a:off x="3505320" y="5181840"/>
              <a:ext cx="753840" cy="1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2"/>
            <p:cNvSpPr/>
            <p:nvPr/>
          </p:nvSpPr>
          <p:spPr>
            <a:xfrm flipV="1">
              <a:off x="4191120" y="320040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3"/>
            <p:cNvSpPr/>
            <p:nvPr/>
          </p:nvSpPr>
          <p:spPr>
            <a:xfrm flipH="1" flipV="1">
              <a:off x="4190760" y="3047760"/>
              <a:ext cx="549000" cy="1306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14"/>
            <p:cNvSpPr/>
            <p:nvPr/>
          </p:nvSpPr>
          <p:spPr>
            <a:xfrm flipH="1">
              <a:off x="3534840" y="4419720"/>
              <a:ext cx="212580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15"/>
            <p:cNvSpPr/>
            <p:nvPr/>
          </p:nvSpPr>
          <p:spPr>
            <a:xfrm flipH="1" flipV="1">
              <a:off x="2690280" y="5722560"/>
              <a:ext cx="885960" cy="33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16"/>
            <p:cNvSpPr/>
            <p:nvPr/>
          </p:nvSpPr>
          <p:spPr>
            <a:xfrm flipV="1">
              <a:off x="3611520" y="5410080"/>
              <a:ext cx="0" cy="363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7"/>
            <p:cNvSpPr/>
            <p:nvPr/>
          </p:nvSpPr>
          <p:spPr>
            <a:xfrm flipH="1">
              <a:off x="3593880" y="4384800"/>
              <a:ext cx="1127160" cy="1057320"/>
            </a:xfrm>
            <a:prstGeom prst="line">
              <a:avLst/>
            </a:prstGeom>
            <a:ln w="57240">
              <a:solidFill>
                <a:srgbClr val="f83f2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18"/>
            <p:cNvSpPr/>
            <p:nvPr/>
          </p:nvSpPr>
          <p:spPr>
            <a:xfrm flipV="1">
              <a:off x="4740120" y="3810240"/>
              <a:ext cx="0" cy="5918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9"/>
            <p:cNvSpPr/>
            <p:nvPr/>
          </p:nvSpPr>
          <p:spPr>
            <a:xfrm>
              <a:off x="7701480" y="434340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20"/>
            <p:cNvSpPr/>
            <p:nvPr/>
          </p:nvSpPr>
          <p:spPr>
            <a:xfrm>
              <a:off x="1848600" y="555804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21"/>
            <p:cNvSpPr/>
            <p:nvPr/>
          </p:nvSpPr>
          <p:spPr>
            <a:xfrm>
              <a:off x="1771920" y="3200400"/>
              <a:ext cx="208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= 2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+ 3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+ 5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22"/>
            <p:cNvSpPr/>
            <p:nvPr/>
          </p:nvSpPr>
          <p:spPr>
            <a:xfrm>
              <a:off x="1087920" y="4800600"/>
              <a:ext cx="206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= 3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+ 7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+  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3"/>
            <p:cNvSpPr/>
            <p:nvPr/>
          </p:nvSpPr>
          <p:spPr>
            <a:xfrm>
              <a:off x="4815000" y="3657600"/>
              <a:ext cx="2077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Q = 0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+ 0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+ 2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4"/>
            <p:cNvSpPr/>
            <p:nvPr/>
          </p:nvSpPr>
          <p:spPr>
            <a:xfrm flipH="1">
              <a:off x="4190760" y="2743200"/>
              <a:ext cx="533160" cy="333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26"/>
            <p:cNvSpPr/>
            <p:nvPr/>
          </p:nvSpPr>
          <p:spPr>
            <a:xfrm>
              <a:off x="3657600" y="3048120"/>
              <a:ext cx="457200" cy="1652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88" h="104">
                  <a:moveTo>
                    <a:pt x="0" y="104"/>
                  </a:moveTo>
                  <a:cubicBezTo>
                    <a:pt x="8" y="60"/>
                    <a:pt x="16" y="16"/>
                    <a:pt x="48" y="8"/>
                  </a:cubicBezTo>
                  <a:cubicBezTo>
                    <a:pt x="80" y="0"/>
                    <a:pt x="152" y="48"/>
                    <a:pt x="192" y="56"/>
                  </a:cubicBezTo>
                  <a:cubicBezTo>
                    <a:pt x="232" y="64"/>
                    <a:pt x="260" y="60"/>
                    <a:pt x="288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27"/>
            <p:cNvSpPr/>
            <p:nvPr/>
          </p:nvSpPr>
          <p:spPr>
            <a:xfrm>
              <a:off x="3130560" y="4997520"/>
              <a:ext cx="450720" cy="33660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284" h="212">
                  <a:moveTo>
                    <a:pt x="0" y="13"/>
                  </a:moveTo>
                  <a:cubicBezTo>
                    <a:pt x="23" y="16"/>
                    <a:pt x="92" y="0"/>
                    <a:pt x="139" y="33"/>
                  </a:cubicBezTo>
                  <a:cubicBezTo>
                    <a:pt x="186" y="66"/>
                    <a:pt x="254" y="175"/>
                    <a:pt x="284" y="2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8"/>
            <p:cNvSpPr/>
            <p:nvPr/>
          </p:nvSpPr>
          <p:spPr>
            <a:xfrm>
              <a:off x="2439720" y="54104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9"/>
            <p:cNvSpPr/>
            <p:nvPr/>
          </p:nvSpPr>
          <p:spPr>
            <a:xfrm>
              <a:off x="5487840" y="4114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5182920" y="4114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31"/>
            <p:cNvSpPr/>
            <p:nvPr/>
          </p:nvSpPr>
          <p:spPr>
            <a:xfrm>
              <a:off x="4725720" y="251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Text Box 32"/>
          <p:cNvSpPr/>
          <p:nvPr/>
        </p:nvSpPr>
        <p:spPr>
          <a:xfrm>
            <a:off x="5181480" y="4952880"/>
            <a:ext cx="3353040" cy="1228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ore similar to Q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to measure the degree of similarity? Distance? Angle? Projection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4894-725D-4CDB-9A73-66A879D58855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Document Collection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62948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8504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cuments can be represented in the vector space model by a term-document matri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ntry in the matrix corresponds to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“weight” of a term in the docu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zero means the term has no significance in the document or it simply doesn’t exist in the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Group 8"/>
          <p:cNvGrpSpPr/>
          <p:nvPr/>
        </p:nvGrpSpPr>
        <p:grpSpPr>
          <a:xfrm>
            <a:off x="2895480" y="3505320"/>
            <a:ext cx="3352680" cy="2906280"/>
            <a:chOff x="2895480" y="3505320"/>
            <a:chExt cx="3352680" cy="2906280"/>
          </a:xfrm>
        </p:grpSpPr>
        <p:grpSp>
          <p:nvGrpSpPr>
            <p:cNvPr id="582" name="Group 6"/>
            <p:cNvGrpSpPr/>
            <p:nvPr/>
          </p:nvGrpSpPr>
          <p:grpSpPr>
            <a:xfrm>
              <a:off x="2895480" y="3505320"/>
              <a:ext cx="3319920" cy="2500200"/>
              <a:chOff x="2895480" y="3505320"/>
              <a:chExt cx="3319920" cy="2500200"/>
            </a:xfrm>
          </p:grpSpPr>
          <p:sp>
            <p:nvSpPr>
              <p:cNvPr id="583" name="AutoShape 4"/>
              <p:cNvSpPr/>
              <p:nvPr/>
            </p:nvSpPr>
            <p:spPr>
              <a:xfrm>
                <a:off x="2895480" y="3505320"/>
                <a:ext cx="245880" cy="2500200"/>
              </a:xfrm>
              <a:custGeom>
                <a:avLst/>
                <a:gdLst>
                  <a:gd name="textAreaLeft" fmla="*/ 72360 w 245880"/>
                  <a:gd name="textAreaRight" fmla="*/ 246240 w 245880"/>
                  <a:gd name="textAreaTop" fmla="*/ 104040 h 2500200"/>
                  <a:gd name="textAreaBottom" fmla="*/ 2396160 h 25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AutoShape 5"/>
              <p:cNvSpPr/>
              <p:nvPr/>
            </p:nvSpPr>
            <p:spPr>
              <a:xfrm>
                <a:off x="6033240" y="3505320"/>
                <a:ext cx="182160" cy="2484360"/>
              </a:xfrm>
              <a:custGeom>
                <a:avLst/>
                <a:gdLst>
                  <a:gd name="textAreaLeft" fmla="*/ 0 w 182160"/>
                  <a:gd name="textAreaRight" fmla="*/ 127800 w 182160"/>
                  <a:gd name="textAreaTop" fmla="*/ 118800 h 2484360"/>
                  <a:gd name="textAreaBottom" fmla="*/ 2365560 h 248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035"/>
                      <a:pt x="21600" y="2070"/>
                    </a:cubicBezTo>
                    <a:lnTo>
                      <a:pt x="21600" y="19530"/>
                    </a:lnTo>
                    <a:cubicBezTo>
                      <a:pt x="21600" y="20565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Text Box 7"/>
            <p:cNvSpPr/>
            <p:nvPr/>
          </p:nvSpPr>
          <p:spPr>
            <a:xfrm>
              <a:off x="3059280" y="3505320"/>
              <a:ext cx="3188880" cy="29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   T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    ….      T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…   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…   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:      :               :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:      :               :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…   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n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0F3B-D16D-47F3-9CE5-E42B562AF8A5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Term Weights: Term Frequency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re frequent terms in a document are more important, i.e. more indicative of the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   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j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= frequency of term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in document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j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y want to normal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rm frequ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 by dividing by the frequency of the most common term in the doc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   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t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j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=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 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j 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/ max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{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j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E5B7-55AD-4151-BF47-6815F73B123F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345960"/>
            <a:ext cx="792468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Term Weights: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nverse Document Frequenc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rms that appear in man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ffer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cument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dicative of overall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d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 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= document frequency of term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= number of documents containing term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id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= inverse document frequency of term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i,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= log</a:t>
            </a:r>
            <a:r>
              <a:rPr b="0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2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(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N/ d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 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 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: total number of docu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dication of a term’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scrimin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g used to dampen the effect relativ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DA26-913D-42C9-8CB5-C544EE943617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TF-IDF Weighting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8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typical combined term importance indicator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f-idf weigh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w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j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=  t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j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id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 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=  t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j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log</a:t>
            </a:r>
            <a:r>
              <a:rPr b="0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2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(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N/ d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term occurring frequently in the document but rarely in the rest of the collection is given high w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y other ways of determining term weights have been propo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perimentall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f-i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been found to work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4439-CBB0-40B2-BF50-9DBA84BB7F5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Computing TF-IDF -- An Example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iven a document containing terms with given frequenc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A(3), B(2), C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 collection contains 10,000 document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cument frequencies of these term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A(50), B(1300), C(2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A:  tf = 3/3;  idf = log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10000/50) = 7.6;     tf-idf = 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B:  tf = 2/3;  idf = log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2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10000/1300) = 2.9; tf-idf =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C:  tf = 1/3;  idf = log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2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10000/250) = 5.3;   tf-idf =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B394-BDA9-4EF5-BF3A-934A0CD110B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Query Vector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uery vector is typically treated as a document and also tf-idf weigh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ernative is for the user to supply weights for the given query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A88B-F97A-4E1E-8D8B-08E753A12D5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Retrieval Models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retrieval model specifies the details 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Document represent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Query represent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Retrieval func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termines a notion of relev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ion of relevance can be binary or continuous (i.e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nked retriev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ADAC-434C-4C84-8225-AFE3F7447E5D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Similarity Measure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similarity mea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function that computes th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degree of similar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etween two ve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a similarity measure between the query and each doc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It is possible to rank the retrieved documents in the order of presumed relevance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It is possible to enforce a certain threshold so that the size of the retrieved set can be controlled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A6B5-4C04-45AE-B909-F9B7F375A714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Similarity Measure - Inner Product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ilarity between vectors for the docume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quer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computed as the vector inner product (a.k.a. dot produc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where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w</a:t>
            </a:r>
            <a:r>
              <a:rPr b="0" i="1" lang="en-US" sz="20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j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is the weight of term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in documen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j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and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w</a:t>
            </a:r>
            <a:r>
              <a:rPr b="0" i="1" lang="en-US" sz="20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q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is the weight of term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i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in the quer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binary vectors, the inner product is the number of matched query terms in the document (size of intersec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weighted term vectors, it is the sum of the products of the weights of the matched term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4"/>
              <p:cNvSpPr txBox="1"/>
              <p:nvPr/>
            </p:nvSpPr>
            <p:spPr>
              <a:xfrm>
                <a:off x="4267080" y="2438280"/>
                <a:ext cx="136044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500D-62F1-4535-8646-8077A0CB5CD9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roperties of Inner Product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inner product is unbou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vors long documents with a large number of uniqu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easures how many terms matched but not how many term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26F1-868B-410B-92CB-3457685A470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Inner Product -- Examples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in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D  =  1,    1,    1,   0,    1,    1,     0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Q  =  1,    0 ,   1,   0,    0,    1,     1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im(D, Q) = 3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5" name="Text Box 8"/>
          <p:cNvSpPr/>
          <p:nvPr/>
        </p:nvSpPr>
        <p:spPr>
          <a:xfrm rot="19200000">
            <a:off x="1905480" y="1621080"/>
            <a:ext cx="9903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標楷體"/>
              </a:rPr>
              <a:t>retriev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9"/>
          <p:cNvSpPr/>
          <p:nvPr/>
        </p:nvSpPr>
        <p:spPr>
          <a:xfrm rot="19200000">
            <a:off x="2286360" y="1621440"/>
            <a:ext cx="9907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標楷體"/>
              </a:rPr>
              <a:t>databas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0"/>
          <p:cNvSpPr/>
          <p:nvPr/>
        </p:nvSpPr>
        <p:spPr>
          <a:xfrm rot="19200000">
            <a:off x="2666880" y="1524240"/>
            <a:ext cx="12906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標楷體"/>
              </a:rPr>
              <a:t>architectur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1"/>
          <p:cNvSpPr/>
          <p:nvPr/>
        </p:nvSpPr>
        <p:spPr>
          <a:xfrm rot="19200000">
            <a:off x="3048120" y="1600920"/>
            <a:ext cx="10904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標楷體"/>
              </a:rPr>
              <a:t>compute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2"/>
          <p:cNvSpPr/>
          <p:nvPr/>
        </p:nvSpPr>
        <p:spPr>
          <a:xfrm rot="19200000">
            <a:off x="3429360" y="1600920"/>
            <a:ext cx="9907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標楷體"/>
              </a:rPr>
              <a:t>tex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3"/>
          <p:cNvSpPr/>
          <p:nvPr/>
        </p:nvSpPr>
        <p:spPr>
          <a:xfrm rot="19200000">
            <a:off x="3657600" y="1524600"/>
            <a:ext cx="13636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標楷體"/>
              </a:rPr>
              <a:t>managemen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14"/>
          <p:cNvSpPr/>
          <p:nvPr/>
        </p:nvSpPr>
        <p:spPr>
          <a:xfrm rot="19200000">
            <a:off x="4115160" y="1524600"/>
            <a:ext cx="12492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標楷體"/>
              </a:rPr>
              <a:t>informatio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16"/>
          <p:cNvSpPr/>
          <p:nvPr/>
        </p:nvSpPr>
        <p:spPr>
          <a:xfrm>
            <a:off x="4724280" y="2286000"/>
            <a:ext cx="3962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89000" indent="-189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ze of vector = size of vocabulary = 7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means corresponding term not found in document or query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17"/>
          <p:cNvSpPr/>
          <p:nvPr/>
        </p:nvSpPr>
        <p:spPr>
          <a:xfrm>
            <a:off x="838080" y="380988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ted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= 2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+ 3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+ 5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3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= 3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+ 7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+  1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3     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 = 0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+ 0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+  2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2*0 + 3*0 + 5*2  = 10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3*0 + 7*0 + 1*2  =  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5FC4-004E-4F32-B6A3-38AF5E0C006C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Cosine Similarity Measure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638680" cy="12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sine similarity measures the cosine of the angle between two 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ner product normalized by the vector leng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762120" y="4419720"/>
            <a:ext cx="7924680" cy="113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2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3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5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3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Sim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+9+25)(0+0+4) = 0.8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3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7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1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3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Sim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 2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9+49+1)(0+0+4) = 0.13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 = 0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0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2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Group 22"/>
          <p:cNvGrpSpPr/>
          <p:nvPr/>
        </p:nvGrpSpPr>
        <p:grpSpPr>
          <a:xfrm>
            <a:off x="6101280" y="1295280"/>
            <a:ext cx="2476440" cy="3069000"/>
            <a:chOff x="6101280" y="1295280"/>
            <a:chExt cx="2476440" cy="3069000"/>
          </a:xfrm>
        </p:grpSpPr>
        <p:sp>
          <p:nvSpPr>
            <p:cNvPr id="629" name="Text Box 6"/>
            <p:cNvSpPr/>
            <p:nvPr/>
          </p:nvSpPr>
          <p:spPr>
            <a:xfrm>
              <a:off x="6842520" y="2993760"/>
              <a:ext cx="387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zh-TW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7"/>
            <p:cNvSpPr/>
            <p:nvPr/>
          </p:nvSpPr>
          <p:spPr>
            <a:xfrm>
              <a:off x="7418880" y="1306440"/>
              <a:ext cx="32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8"/>
            <p:cNvSpPr/>
            <p:nvPr/>
          </p:nvSpPr>
          <p:spPr>
            <a:xfrm>
              <a:off x="7383240" y="3166920"/>
              <a:ext cx="114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9"/>
            <p:cNvSpPr/>
            <p:nvPr/>
          </p:nvSpPr>
          <p:spPr>
            <a:xfrm flipH="1">
              <a:off x="6293880" y="3163680"/>
              <a:ext cx="1081080" cy="11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10"/>
            <p:cNvSpPr/>
            <p:nvPr/>
          </p:nvSpPr>
          <p:spPr>
            <a:xfrm flipV="1">
              <a:off x="7375320" y="1295280"/>
              <a:ext cx="0" cy="18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11"/>
            <p:cNvSpPr/>
            <p:nvPr/>
          </p:nvSpPr>
          <p:spPr>
            <a:xfrm flipH="1" flipV="1">
              <a:off x="6894360" y="2392200"/>
              <a:ext cx="466560" cy="768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12"/>
            <p:cNvSpPr/>
            <p:nvPr/>
          </p:nvSpPr>
          <p:spPr>
            <a:xfrm flipH="1">
              <a:off x="6790680" y="3151080"/>
              <a:ext cx="576360" cy="1164960"/>
            </a:xfrm>
            <a:prstGeom prst="line">
              <a:avLst/>
            </a:prstGeom>
            <a:ln w="57240">
              <a:solidFill>
                <a:srgbClr val="f83f2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13"/>
            <p:cNvSpPr/>
            <p:nvPr/>
          </p:nvSpPr>
          <p:spPr>
            <a:xfrm flipV="1">
              <a:off x="7375320" y="2543040"/>
              <a:ext cx="0" cy="62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14"/>
            <p:cNvSpPr/>
            <p:nvPr/>
          </p:nvSpPr>
          <p:spPr>
            <a:xfrm>
              <a:off x="8252280" y="3098520"/>
              <a:ext cx="32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Text Box 15"/>
            <p:cNvSpPr/>
            <p:nvPr/>
          </p:nvSpPr>
          <p:spPr>
            <a:xfrm>
              <a:off x="6101280" y="3804840"/>
              <a:ext cx="32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16"/>
            <p:cNvSpPr/>
            <p:nvPr/>
          </p:nvSpPr>
          <p:spPr>
            <a:xfrm>
              <a:off x="6572880" y="2500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Text Box 17"/>
            <p:cNvSpPr/>
            <p:nvPr/>
          </p:nvSpPr>
          <p:spPr>
            <a:xfrm>
              <a:off x="6930000" y="3854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Text Box 18"/>
            <p:cNvSpPr/>
            <p:nvPr/>
          </p:nvSpPr>
          <p:spPr>
            <a:xfrm>
              <a:off x="7441200" y="2671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Arc 19"/>
            <p:cNvSpPr/>
            <p:nvPr/>
          </p:nvSpPr>
          <p:spPr>
            <a:xfrm>
              <a:off x="7045200" y="2516040"/>
              <a:ext cx="311040" cy="1522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fill="none" w="29671" h="21600">
                  <a:moveTo>
                    <a:pt x="-1" y="1564"/>
                  </a:moveTo>
                  <a:cubicBezTo>
                    <a:pt x="2565" y="531"/>
                    <a:pt x="5305" y="-1"/>
                    <a:pt x="8071" y="0"/>
                  </a:cubicBezTo>
                  <a:cubicBezTo>
                    <a:pt x="20000" y="0"/>
                    <a:pt x="29671" y="9670"/>
                    <a:pt x="29671" y="21600"/>
                  </a:cubicBezTo>
                </a:path>
                <a:path stroke="0" w="29671" h="21600">
                  <a:moveTo>
                    <a:pt x="-1" y="1564"/>
                  </a:moveTo>
                  <a:cubicBezTo>
                    <a:pt x="2565" y="531"/>
                    <a:pt x="5305" y="-1"/>
                    <a:pt x="8071" y="0"/>
                  </a:cubicBezTo>
                  <a:cubicBezTo>
                    <a:pt x="20000" y="0"/>
                    <a:pt x="29671" y="9670"/>
                    <a:pt x="29671" y="21600"/>
                  </a:cubicBezTo>
                  <a:lnTo>
                    <a:pt x="8071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Arc 20"/>
            <p:cNvSpPr/>
            <p:nvPr/>
          </p:nvSpPr>
          <p:spPr>
            <a:xfrm flipH="1">
              <a:off x="7125480" y="2803320"/>
              <a:ext cx="198360" cy="822240"/>
            </a:xfrm>
            <a:custGeom>
              <a:avLst/>
              <a:gdLst>
                <a:gd name="textAreaLeft" fmla="*/ -360 w 198360"/>
                <a:gd name="textAreaRight" fmla="*/ 198360 w 198360"/>
                <a:gd name="textAreaTop" fmla="*/ 0 h 822240"/>
                <a:gd name="textAreaBottom" fmla="*/ 822600 h 8222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Text Box 21"/>
            <p:cNvSpPr/>
            <p:nvPr/>
          </p:nvSpPr>
          <p:spPr>
            <a:xfrm>
              <a:off x="6949080" y="2003040"/>
              <a:ext cx="387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zh-TW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Text Box 23"/>
          <p:cNvSpPr/>
          <p:nvPr/>
        </p:nvSpPr>
        <p:spPr>
          <a:xfrm>
            <a:off x="768240" y="5562720"/>
            <a:ext cx="7842240" cy="714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6 times bett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sing cosine similarity but only 5 times better using inner product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4"/>
              <p:cNvSpPr txBox="1"/>
              <p:nvPr/>
            </p:nvSpPr>
            <p:spPr>
              <a:xfrm>
                <a:off x="2616120" y="2666880"/>
                <a:ext cx="3695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j</m:t>
                        </m:r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q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  <m:e>
                                    <m:sSup>
                                      <m:e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q</m:t>
                                            </m:r>
                                          </m:sub>
                                        </m:sSub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Rectangle 24"/>
          <p:cNvSpPr/>
          <p:nvPr/>
        </p:nvSpPr>
        <p:spPr>
          <a:xfrm>
            <a:off x="762120" y="3048120"/>
            <a:ext cx="243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Sim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29"/>
          <p:cNvSpPr/>
          <p:nvPr/>
        </p:nvSpPr>
        <p:spPr>
          <a:xfrm>
            <a:off x="5715000" y="4495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30"/>
          <p:cNvSpPr/>
          <p:nvPr/>
        </p:nvSpPr>
        <p:spPr>
          <a:xfrm>
            <a:off x="563868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F721-C9A5-40DB-AC7B-2A6CDB7EC397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Naïve Implementation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all documents in collection D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f-i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ighted vector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r keyword vocabulary 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query to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f-i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weighted vect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D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sc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cosSim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documents by decreasing s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 top ranked documents to the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ime complexity:  O(|V|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|D|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ad for large V &amp; D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V| = 10,000; |D| = 100,000; |V|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D| = 1,000,0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F6B5-C3E2-4132-A71E-9D133AB06BB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Comments on Vector Space Models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45368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ple, mathematically based approa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iders both local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and global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word occurrence frequ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vides partial matching and ranked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nds to work quite well in practice despite obvious weakn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ows efficient implementation for large document coll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685800" y="1447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4195-82ED-4696-BBB1-A9D12C7182AB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Problems with Vector Space Model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ssing semantic information (e.g. word sen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ssing syntactic information (e.g. phrase structure, word order, proximity inform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ption of term independence (e.g. ignores synonom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cks the control of a Boolean model (e.g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qui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term to appear in a docume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Given a two-term query “A B”, may prefer a document containing A frequently but not B, over a document that contains both A and B, but both less frequently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769F-2CEE-4A9D-BB7C-B65AFAE43973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Classes of Retrieval Models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olean models (set theoreti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ctor space models (statistical/algebrai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Latent Semantic Index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1714-D399-44A0-998F-47D949919EA9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Other Model Dimensions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View of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dex term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ull tex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ull text + Structure (e.g. hypertext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trieva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rowsin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797E-91AF-4469-A37C-304709C7C46E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Common Preprocessing Steps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ip unwanted characters/markup  (e.g. HTML tags, punctuation, numbers, etc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reak into tokens (keywords) on white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em tokens to “root” wo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computational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compu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move common stopwords (e.g. a, the, it, etc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tect common phrases (possibly using a domain specific dictionar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ild inverted index (keywor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st of docs containing i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B2FF-A8CB-485B-B3F9-8D1584242B1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Boolean Model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document is represented as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f key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ueries are Boolean expressions of keywords, connected by AND, OR, and NOT, including the use of brackets to indicate sco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[[Rio &amp; Brazil] | [Hilo &amp; Hawaii]] &amp; hotel &amp; !Hilton]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tput: Document is relevant or not. No partial matches or ran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45A8-7116-40D6-A90C-FDF0ADDE1C7B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685800" y="1782720"/>
            <a:ext cx="7772400" cy="427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pular retrieval model beca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Easy to understand for simple queries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Clean formalism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olean models can be extended to include ran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sonably efficient implementations possible for normal qu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Boolean Retrieval Model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3237-B6E7-4C91-8E24-B8A3A73B8EFC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Boolean Models </a:t>
            </a:r>
            <a:r>
              <a:rPr b="0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 Problems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ry rigid: AND means all; OR means 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fficult to express complex user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fficult to control the number of documents retrie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All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matched documents will be returned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fficult to rank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All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matched documents logically satisfy the query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fficult to perform relevance feed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If a document is identified by the user as relevant or irrelevant, how should the query be modified?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CF4C-7C57-4311-9F3A-BFD4E9733E4E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Statistical Models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document is typically represented by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bag of wor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unordered words with frequenci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g = set that allows multiple occurrences of the same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r specifies a set of desired terms with optional weigh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Weighted query terms: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Q =  &lt; database 0.5; text 0.8; information 0.2 &gt;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Unweighted query terms: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Q  =  &lt; database; text; information &gt;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No Boolean conditions specified in the query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09:24:32Z</dcterms:created>
  <dc:creator>GOGO</dc:creator>
  <dc:description/>
  <dc:language>en-US</dc:language>
  <cp:lastModifiedBy>mooney</cp:lastModifiedBy>
  <cp:lastPrinted>2000-02-18T04:20:58Z</cp:lastPrinted>
  <dcterms:modified xsi:type="dcterms:W3CDTF">2015-08-12T18:08:28Z</dcterms:modified>
  <cp:revision>229</cp:revision>
  <dc:subject/>
  <dc:title>No Slide Title</dc:title>
</cp:coreProperties>
</file>